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6.wmf" ContentType="image/x-wmf"/>
  <Override PartName="/ppt/media/image7.png" ContentType="image/png"/>
  <Override PartName="/ppt/media/image16.jpeg" ContentType="image/jpeg"/>
  <Override PartName="/ppt/media/image15.png" ContentType="image/png"/>
  <Override PartName="/ppt/media/image14.wmf" ContentType="image/x-wmf"/>
  <Override PartName="/ppt/media/image3.png" ContentType="image/png"/>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等线 Light"/>
              </a:rPr>
              <a:t>Click to move the slide</a:t>
            </a:r>
            <a:endParaRPr b="0" lang="en-US" sz="4400" spc="-1" strike="noStrike">
              <a:solidFill>
                <a:srgbClr val="262626"/>
              </a:solidFill>
              <a:latin typeface="等线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F570-74E3-437A-A590-509E725C3F0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685800" y="1143000"/>
            <a:ext cx="5486400" cy="3086280"/>
          </a:xfrm>
          <a:prstGeom prst="rect">
            <a:avLst/>
          </a:prstGeom>
          <a:ln w="0">
            <a:noFill/>
          </a:ln>
        </p:spPr>
      </p:sp>
      <p:sp>
        <p:nvSpPr>
          <p:cNvPr id="25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544A-3A75-4218-B147-3FB10F28F815}"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PlaceHolder 1"/>
          <p:cNvSpPr>
            <a:spLocks noGrp="1"/>
          </p:cNvSpPr>
          <p:nvPr>
            <p:ph type="sldImg"/>
          </p:nvPr>
        </p:nvSpPr>
        <p:spPr>
          <a:xfrm>
            <a:off x="685800" y="1143000"/>
            <a:ext cx="5486400" cy="3086280"/>
          </a:xfrm>
          <a:prstGeom prst="rect">
            <a:avLst/>
          </a:prstGeom>
          <a:ln w="0">
            <a:noFill/>
          </a:ln>
        </p:spPr>
      </p:sp>
      <p:sp>
        <p:nvSpPr>
          <p:cNvPr id="26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0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7B1C-2AEF-4660-B247-F5C2CE8D089B}"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685800" y="1143000"/>
            <a:ext cx="5486400" cy="3086280"/>
          </a:xfrm>
          <a:prstGeom prst="rect">
            <a:avLst/>
          </a:prstGeom>
          <a:ln w="0">
            <a:noFill/>
          </a:ln>
        </p:spPr>
      </p:sp>
      <p:sp>
        <p:nvSpPr>
          <p:cNvPr id="26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0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4FAE-8B0E-4F3F-886A-AEDFAFA050D8}"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685800" y="1143000"/>
            <a:ext cx="5486400" cy="3086280"/>
          </a:xfrm>
          <a:prstGeom prst="rect">
            <a:avLst/>
          </a:prstGeom>
          <a:ln w="0">
            <a:noFill/>
          </a:ln>
        </p:spPr>
      </p:sp>
      <p:sp>
        <p:nvSpPr>
          <p:cNvPr id="26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32AB-D4FE-43A2-8EDC-A896CAE5093A}"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PlaceHolder 1"/>
          <p:cNvSpPr>
            <a:spLocks noGrp="1"/>
          </p:cNvSpPr>
          <p:nvPr>
            <p:ph type="sldImg"/>
          </p:nvPr>
        </p:nvSpPr>
        <p:spPr>
          <a:xfrm>
            <a:off x="685800" y="1143000"/>
            <a:ext cx="5486400" cy="3086280"/>
          </a:xfrm>
          <a:prstGeom prst="rect">
            <a:avLst/>
          </a:prstGeom>
          <a:ln w="0">
            <a:noFill/>
          </a:ln>
        </p:spPr>
      </p:sp>
      <p:sp>
        <p:nvSpPr>
          <p:cNvPr id="2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1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9E47-BAEB-4773-B74B-5BD4376E7185}"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685800" y="1143000"/>
            <a:ext cx="5486400" cy="3086280"/>
          </a:xfrm>
          <a:prstGeom prst="rect">
            <a:avLst/>
          </a:prstGeom>
          <a:ln w="0">
            <a:noFill/>
          </a:ln>
        </p:spPr>
      </p:sp>
      <p:sp>
        <p:nvSpPr>
          <p:cNvPr id="26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5D3A-166B-4E17-A9CF-61CA3DDE8F9D}"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PlaceHolder 1"/>
          <p:cNvSpPr>
            <a:spLocks noGrp="1"/>
          </p:cNvSpPr>
          <p:nvPr>
            <p:ph type="sldImg"/>
          </p:nvPr>
        </p:nvSpPr>
        <p:spPr>
          <a:xfrm>
            <a:off x="685800" y="1143000"/>
            <a:ext cx="5486400" cy="3086280"/>
          </a:xfrm>
          <a:prstGeom prst="rect">
            <a:avLst/>
          </a:prstGeom>
          <a:ln w="0">
            <a:noFill/>
          </a:ln>
        </p:spPr>
      </p:sp>
      <p:sp>
        <p:nvSpPr>
          <p:cNvPr id="26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75C5-4EA9-470B-8D56-44505B8B6D60}"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sldImg"/>
          </p:nvPr>
        </p:nvSpPr>
        <p:spPr>
          <a:xfrm>
            <a:off x="685800" y="1143000"/>
            <a:ext cx="5486400" cy="3086280"/>
          </a:xfrm>
          <a:prstGeom prst="rect">
            <a:avLst/>
          </a:prstGeom>
          <a:ln w="0">
            <a:noFill/>
          </a:ln>
        </p:spPr>
      </p:sp>
      <p:sp>
        <p:nvSpPr>
          <p:cNvPr id="2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78FF-E887-40C7-9695-8192CE4D0DAA}"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PlaceHolder 1"/>
          <p:cNvSpPr>
            <a:spLocks noGrp="1"/>
          </p:cNvSpPr>
          <p:nvPr>
            <p:ph type="sldImg"/>
          </p:nvPr>
        </p:nvSpPr>
        <p:spPr>
          <a:xfrm>
            <a:off x="685800" y="1143000"/>
            <a:ext cx="5486400" cy="3086280"/>
          </a:xfrm>
          <a:prstGeom prst="rect">
            <a:avLst/>
          </a:prstGeom>
          <a:ln w="0">
            <a:noFill/>
          </a:ln>
        </p:spPr>
      </p:sp>
      <p:sp>
        <p:nvSpPr>
          <p:cNvPr id="26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0176-9228-4D21-AFB9-91A2C3976628}"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sldImg"/>
          </p:nvPr>
        </p:nvSpPr>
        <p:spPr>
          <a:xfrm>
            <a:off x="685800" y="1143000"/>
            <a:ext cx="5486400" cy="3086280"/>
          </a:xfrm>
          <a:prstGeom prst="rect">
            <a:avLst/>
          </a:prstGeom>
          <a:ln w="0">
            <a:noFill/>
          </a:ln>
        </p:spPr>
      </p:sp>
      <p:sp>
        <p:nvSpPr>
          <p:cNvPr id="26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4776-BFDE-4435-9CA5-2FBD87D35432}"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sldImg"/>
          </p:nvPr>
        </p:nvSpPr>
        <p:spPr>
          <a:xfrm>
            <a:off x="685800" y="1143000"/>
            <a:ext cx="5486400" cy="3086280"/>
          </a:xfrm>
          <a:prstGeom prst="rect">
            <a:avLst/>
          </a:prstGeom>
          <a:ln w="0">
            <a:noFill/>
          </a:ln>
        </p:spPr>
      </p:sp>
      <p:sp>
        <p:nvSpPr>
          <p:cNvPr id="26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00AC-E6E9-4448-87CB-20AD362BC8F2}"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sldImg"/>
          </p:nvPr>
        </p:nvSpPr>
        <p:spPr>
          <a:xfrm>
            <a:off x="685800" y="1143000"/>
            <a:ext cx="5486400" cy="3086280"/>
          </a:xfrm>
          <a:prstGeom prst="rect">
            <a:avLst/>
          </a:prstGeom>
          <a:ln w="0">
            <a:noFill/>
          </a:ln>
        </p:spPr>
      </p:sp>
      <p:sp>
        <p:nvSpPr>
          <p:cNvPr id="25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7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52D8-974A-4C16-A2EA-D8BC13E1165F}"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685800" y="1143000"/>
            <a:ext cx="5486400" cy="3086280"/>
          </a:xfrm>
          <a:prstGeom prst="rect">
            <a:avLst/>
          </a:prstGeom>
          <a:ln w="0">
            <a:noFill/>
          </a:ln>
        </p:spPr>
      </p:sp>
      <p:sp>
        <p:nvSpPr>
          <p:cNvPr id="26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3125-51EA-472D-BB9A-92357420B4A3}"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PlaceHolder 1"/>
          <p:cNvSpPr>
            <a:spLocks noGrp="1"/>
          </p:cNvSpPr>
          <p:nvPr>
            <p:ph type="sldImg"/>
          </p:nvPr>
        </p:nvSpPr>
        <p:spPr>
          <a:xfrm>
            <a:off x="685800" y="1143000"/>
            <a:ext cx="5486400" cy="3086280"/>
          </a:xfrm>
          <a:prstGeom prst="rect">
            <a:avLst/>
          </a:prstGeom>
          <a:ln w="0">
            <a:noFill/>
          </a:ln>
        </p:spPr>
      </p:sp>
      <p:sp>
        <p:nvSpPr>
          <p:cNvPr id="26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49AC-A4E8-489A-9C31-46D6D861C2D9}"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685800" y="1143000"/>
            <a:ext cx="5486400" cy="3086280"/>
          </a:xfrm>
          <a:prstGeom prst="rect">
            <a:avLst/>
          </a:prstGeom>
          <a:ln w="0">
            <a:noFill/>
          </a:ln>
        </p:spPr>
      </p:sp>
      <p:sp>
        <p:nvSpPr>
          <p:cNvPr id="26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F80A-10AB-407E-B925-B133ACF61C5D}"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sldImg"/>
          </p:nvPr>
        </p:nvSpPr>
        <p:spPr>
          <a:xfrm>
            <a:off x="685800" y="1143000"/>
            <a:ext cx="5486400" cy="3086280"/>
          </a:xfrm>
          <a:prstGeom prst="rect">
            <a:avLst/>
          </a:prstGeom>
          <a:ln w="0">
            <a:noFill/>
          </a:ln>
        </p:spPr>
      </p:sp>
      <p:sp>
        <p:nvSpPr>
          <p:cNvPr id="26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2E92-E23B-4C8B-B562-D746270BFACB}"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PlaceHolder 1"/>
          <p:cNvSpPr>
            <a:spLocks noGrp="1"/>
          </p:cNvSpPr>
          <p:nvPr>
            <p:ph type="sldImg"/>
          </p:nvPr>
        </p:nvSpPr>
        <p:spPr>
          <a:xfrm>
            <a:off x="685800" y="1143000"/>
            <a:ext cx="5486400" cy="3086280"/>
          </a:xfrm>
          <a:prstGeom prst="rect">
            <a:avLst/>
          </a:prstGeom>
          <a:ln w="0">
            <a:noFill/>
          </a:ln>
        </p:spPr>
      </p:sp>
      <p:sp>
        <p:nvSpPr>
          <p:cNvPr id="26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F7DF-D6EC-49F0-A8A9-ABD654CEB426}"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PlaceHolder 1"/>
          <p:cNvSpPr>
            <a:spLocks noGrp="1"/>
          </p:cNvSpPr>
          <p:nvPr>
            <p:ph type="sldImg"/>
          </p:nvPr>
        </p:nvSpPr>
        <p:spPr>
          <a:xfrm>
            <a:off x="685800" y="1143000"/>
            <a:ext cx="5486400" cy="3086280"/>
          </a:xfrm>
          <a:prstGeom prst="rect">
            <a:avLst/>
          </a:prstGeom>
          <a:ln w="0">
            <a:noFill/>
          </a:ln>
        </p:spPr>
      </p:sp>
      <p:sp>
        <p:nvSpPr>
          <p:cNvPr id="26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F68B-16C6-4FCE-8D8B-3EE746B746DC}"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8" name="PlaceHolder 1"/>
          <p:cNvSpPr>
            <a:spLocks noGrp="1"/>
          </p:cNvSpPr>
          <p:nvPr>
            <p:ph type="sldImg"/>
          </p:nvPr>
        </p:nvSpPr>
        <p:spPr>
          <a:xfrm>
            <a:off x="685800" y="1143000"/>
            <a:ext cx="5486400" cy="3086280"/>
          </a:xfrm>
          <a:prstGeom prst="rect">
            <a:avLst/>
          </a:prstGeom>
          <a:ln w="0">
            <a:noFill/>
          </a:ln>
        </p:spPr>
      </p:sp>
      <p:sp>
        <p:nvSpPr>
          <p:cNvPr id="26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D5E7-3FC4-494D-B402-714725B7ED24}"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type="sldImg"/>
          </p:nvPr>
        </p:nvSpPr>
        <p:spPr>
          <a:xfrm>
            <a:off x="685800" y="1143000"/>
            <a:ext cx="5486400" cy="3086280"/>
          </a:xfrm>
          <a:prstGeom prst="rect">
            <a:avLst/>
          </a:prstGeom>
          <a:ln w="0">
            <a:noFill/>
          </a:ln>
        </p:spPr>
      </p:sp>
      <p:sp>
        <p:nvSpPr>
          <p:cNvPr id="26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883D-61C6-465C-9FD4-33FD811D510F}"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PlaceHolder 1"/>
          <p:cNvSpPr>
            <a:spLocks noGrp="1"/>
          </p:cNvSpPr>
          <p:nvPr>
            <p:ph type="sldImg"/>
          </p:nvPr>
        </p:nvSpPr>
        <p:spPr>
          <a:xfrm>
            <a:off x="685800" y="1143000"/>
            <a:ext cx="5486400" cy="3086280"/>
          </a:xfrm>
          <a:prstGeom prst="rect">
            <a:avLst/>
          </a:prstGeom>
          <a:ln w="0">
            <a:noFill/>
          </a:ln>
        </p:spPr>
      </p:sp>
      <p:sp>
        <p:nvSpPr>
          <p:cNvPr id="26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8095-CE66-4EB5-8837-82B9986ACDE3}"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PlaceHolder 1"/>
          <p:cNvSpPr>
            <a:spLocks noGrp="1"/>
          </p:cNvSpPr>
          <p:nvPr>
            <p:ph type="sldImg"/>
          </p:nvPr>
        </p:nvSpPr>
        <p:spPr>
          <a:xfrm>
            <a:off x="685800" y="1143000"/>
            <a:ext cx="5486400" cy="3086280"/>
          </a:xfrm>
          <a:prstGeom prst="rect">
            <a:avLst/>
          </a:prstGeom>
          <a:ln w="0">
            <a:noFill/>
          </a:ln>
        </p:spPr>
      </p:sp>
      <p:sp>
        <p:nvSpPr>
          <p:cNvPr id="26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DE73-3A62-4A66-B08F-45ED237014F2}"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685800" y="1143000"/>
            <a:ext cx="5486400" cy="3086280"/>
          </a:xfrm>
          <a:prstGeom prst="rect">
            <a:avLst/>
          </a:prstGeom>
          <a:ln w="0">
            <a:noFill/>
          </a:ln>
        </p:spPr>
      </p:sp>
      <p:sp>
        <p:nvSpPr>
          <p:cNvPr id="25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8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FE23-D11B-4CA3-B86B-DA7034CFBFCF}"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PlaceHolder 1"/>
          <p:cNvSpPr>
            <a:spLocks noGrp="1"/>
          </p:cNvSpPr>
          <p:nvPr>
            <p:ph type="sldImg"/>
          </p:nvPr>
        </p:nvSpPr>
        <p:spPr>
          <a:xfrm>
            <a:off x="685800" y="1143000"/>
            <a:ext cx="5486400" cy="3086280"/>
          </a:xfrm>
          <a:prstGeom prst="rect">
            <a:avLst/>
          </a:prstGeom>
          <a:ln w="0">
            <a:noFill/>
          </a:ln>
        </p:spPr>
      </p:sp>
      <p:sp>
        <p:nvSpPr>
          <p:cNvPr id="26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B56D-2425-4D83-8B86-0D95FA27F766}"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PlaceHolder 1"/>
          <p:cNvSpPr>
            <a:spLocks noGrp="1"/>
          </p:cNvSpPr>
          <p:nvPr>
            <p:ph type="sldImg"/>
          </p:nvPr>
        </p:nvSpPr>
        <p:spPr>
          <a:xfrm>
            <a:off x="685800" y="1143000"/>
            <a:ext cx="5486400" cy="3086280"/>
          </a:xfrm>
          <a:prstGeom prst="rect">
            <a:avLst/>
          </a:prstGeom>
          <a:ln w="0">
            <a:noFill/>
          </a:ln>
        </p:spPr>
      </p:sp>
      <p:sp>
        <p:nvSpPr>
          <p:cNvPr id="26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C823-FC68-48EF-A024-D77DE6DCBB73}"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PlaceHolder 1"/>
          <p:cNvSpPr>
            <a:spLocks noGrp="1"/>
          </p:cNvSpPr>
          <p:nvPr>
            <p:ph type="sldImg"/>
          </p:nvPr>
        </p:nvSpPr>
        <p:spPr>
          <a:xfrm>
            <a:off x="685800" y="1143000"/>
            <a:ext cx="5486400" cy="3086280"/>
          </a:xfrm>
          <a:prstGeom prst="rect">
            <a:avLst/>
          </a:prstGeom>
          <a:ln w="0">
            <a:noFill/>
          </a:ln>
        </p:spPr>
      </p:sp>
      <p:sp>
        <p:nvSpPr>
          <p:cNvPr id="26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EDC9-FE9D-4155-A7D2-6009F12F26A3}"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PlaceHolder 1"/>
          <p:cNvSpPr>
            <a:spLocks noGrp="1"/>
          </p:cNvSpPr>
          <p:nvPr>
            <p:ph type="sldImg"/>
          </p:nvPr>
        </p:nvSpPr>
        <p:spPr>
          <a:xfrm>
            <a:off x="685800" y="1143000"/>
            <a:ext cx="5486400" cy="3086280"/>
          </a:xfrm>
          <a:prstGeom prst="rect">
            <a:avLst/>
          </a:prstGeom>
          <a:ln w="0">
            <a:noFill/>
          </a:ln>
        </p:spPr>
      </p:sp>
      <p:sp>
        <p:nvSpPr>
          <p:cNvPr id="26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6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3B2F-2929-43FB-AB90-18726B185DAE}"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PlaceHolder 1"/>
          <p:cNvSpPr>
            <a:spLocks noGrp="1"/>
          </p:cNvSpPr>
          <p:nvPr>
            <p:ph type="sldImg"/>
          </p:nvPr>
        </p:nvSpPr>
        <p:spPr>
          <a:xfrm>
            <a:off x="685800" y="1143000"/>
            <a:ext cx="5486400" cy="3086280"/>
          </a:xfrm>
          <a:prstGeom prst="rect">
            <a:avLst/>
          </a:prstGeom>
          <a:ln w="0">
            <a:noFill/>
          </a:ln>
        </p:spPr>
      </p:sp>
      <p:sp>
        <p:nvSpPr>
          <p:cNvPr id="25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175A-77EA-4440-B68B-F9D3AE510EED}"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sldImg"/>
          </p:nvPr>
        </p:nvSpPr>
        <p:spPr>
          <a:xfrm>
            <a:off x="685800" y="1143000"/>
            <a:ext cx="5486400" cy="3086280"/>
          </a:xfrm>
          <a:prstGeom prst="rect">
            <a:avLst/>
          </a:prstGeom>
          <a:ln w="0">
            <a:noFill/>
          </a:ln>
        </p:spPr>
      </p:sp>
      <p:sp>
        <p:nvSpPr>
          <p:cNvPr id="25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B7AD-1630-4289-A811-9E77845DABEB}"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sldImg"/>
          </p:nvPr>
        </p:nvSpPr>
        <p:spPr>
          <a:xfrm>
            <a:off x="685800" y="1143000"/>
            <a:ext cx="5486400" cy="3086280"/>
          </a:xfrm>
          <a:prstGeom prst="rect">
            <a:avLst/>
          </a:prstGeom>
          <a:ln w="0">
            <a:noFill/>
          </a:ln>
        </p:spPr>
      </p:sp>
      <p:sp>
        <p:nvSpPr>
          <p:cNvPr id="25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9005-4BAC-4C92-9922-5F2A278D0ED1}"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sldImg"/>
          </p:nvPr>
        </p:nvSpPr>
        <p:spPr>
          <a:xfrm>
            <a:off x="685800" y="1143000"/>
            <a:ext cx="5486400" cy="3086280"/>
          </a:xfrm>
          <a:prstGeom prst="rect">
            <a:avLst/>
          </a:prstGeom>
          <a:ln w="0">
            <a:noFill/>
          </a:ln>
        </p:spPr>
      </p:sp>
      <p:sp>
        <p:nvSpPr>
          <p:cNvPr id="25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B496-12EE-493D-A53E-77EF9B1CD891}"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sldImg"/>
          </p:nvPr>
        </p:nvSpPr>
        <p:spPr>
          <a:xfrm>
            <a:off x="685800" y="1143000"/>
            <a:ext cx="5486400" cy="3086280"/>
          </a:xfrm>
          <a:prstGeom prst="rect">
            <a:avLst/>
          </a:prstGeom>
          <a:ln w="0">
            <a:noFill/>
          </a:ln>
        </p:spPr>
      </p:sp>
      <p:sp>
        <p:nvSpPr>
          <p:cNvPr id="25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BC12-FDA6-405D-A5D8-059288585912}"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sldImg"/>
          </p:nvPr>
        </p:nvSpPr>
        <p:spPr>
          <a:xfrm>
            <a:off x="685800" y="1143000"/>
            <a:ext cx="5486400" cy="3086280"/>
          </a:xfrm>
          <a:prstGeom prst="rect">
            <a:avLst/>
          </a:prstGeom>
          <a:ln w="0">
            <a:noFill/>
          </a:ln>
        </p:spPr>
      </p:sp>
      <p:sp>
        <p:nvSpPr>
          <p:cNvPr id="25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259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6BC6-AEE8-498C-A917-B5AC6F77611B}" type="slidenum">
              <a:rPr b="0" lang="zh-CN" sz="1200" spc="-1" strike="noStrike">
                <a:solidFill>
                  <a:srgbClr val="262626"/>
                </a:solidFill>
                <a:latin typeface="等线"/>
                <a:ea typeface="等线"/>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059DC-F70B-41F4-BE5B-FA7384182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933D-586C-4906-9DD1-FDC621759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1050E-8DCA-47B5-999E-DE5985AFA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9ADE1-0ACC-4A68-A885-783382CC7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72B64-A123-4662-B751-3DE202523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FEECB-2431-453C-8255-5E6B433AD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21AFB-73F7-46F5-BDBA-668893759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47BEE-2A2F-49FB-A6A7-ED57B0069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EAEE9-502F-461D-A2F8-729BE6690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5655C-15D5-4AEF-8B08-341C4578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E807-A38C-4EE9-BD0A-F71457945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等线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C23EA-F5AF-4296-A123-A1DDA9651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d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等线 Light"/>
              </a:rPr>
              <a:t>Click to edit the title text format</a:t>
            </a:r>
            <a:endParaRPr b="0" lang="en-US" sz="4400" spc="-1" strike="noStrike">
              <a:solidFill>
                <a:srgbClr val="262626"/>
              </a:solidFill>
              <a:latin typeface="等线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等线"/>
              </a:rPr>
              <a:t>Click to edit the outline text format</a:t>
            </a:r>
            <a:endParaRPr b="0" lang="en-US" sz="2800" spc="-1" strike="noStrike">
              <a:solidFill>
                <a:srgbClr val="262626"/>
              </a:solidFill>
              <a:latin typeface="等线"/>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等线"/>
              </a:rPr>
              <a:t>Second Outline Level</a:t>
            </a:r>
            <a:endParaRPr b="0" lang="en-US" sz="2800" spc="-1" strike="noStrike">
              <a:solidFill>
                <a:srgbClr val="262626"/>
              </a:solidFill>
              <a:latin typeface="等线"/>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等线"/>
              </a:rPr>
              <a:t>Third Outline Level</a:t>
            </a:r>
            <a:endParaRPr b="0" lang="en-US" sz="2800" spc="-1" strike="noStrike">
              <a:solidFill>
                <a:srgbClr val="262626"/>
              </a:solidFill>
              <a:latin typeface="等线"/>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等线"/>
              </a:rPr>
              <a:t>Fourth Outline Level</a:t>
            </a:r>
            <a:endParaRPr b="0" lang="en-US" sz="2800" spc="-1" strike="noStrike">
              <a:solidFill>
                <a:srgbClr val="262626"/>
              </a:solidFill>
              <a:latin typeface="等线"/>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等线"/>
              </a:rPr>
              <a:t>Fifth Outline Level</a:t>
            </a:r>
            <a:endParaRPr b="0" lang="en-US" sz="2800" spc="-1" strike="noStrike">
              <a:solidFill>
                <a:srgbClr val="262626"/>
              </a:solidFill>
              <a:latin typeface="等线"/>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等线"/>
              </a:rPr>
              <a:t>Sixth Outline Level</a:t>
            </a:r>
            <a:endParaRPr b="0" lang="en-US" sz="2800" spc="-1" strike="noStrike">
              <a:solidFill>
                <a:srgbClr val="262626"/>
              </a:solidFill>
              <a:latin typeface="等线"/>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等线"/>
              </a:rPr>
              <a:t>Seventh Outline Level</a:t>
            </a:r>
            <a:endParaRPr b="0" lang="en-US" sz="2800" spc="-1" strike="noStrike">
              <a:solidFill>
                <a:srgbClr val="262626"/>
              </a:solidFill>
              <a:latin typeface="等线"/>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等线"/>
                <a:ea typeface="等线"/>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d8d8d"/>
                </a:solidFill>
                <a:latin typeface="等线"/>
                <a:ea typeface="等线"/>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630D-A395-433D-8457-58638474B06F}" type="slidenum">
              <a:rPr b="0" lang="zh-CN" sz="1200" spc="-1" strike="noStrike">
                <a:solidFill>
                  <a:srgbClr val="8d8d8d"/>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PA_组合 204"/>
          <p:cNvGrpSpPr/>
          <p:nvPr/>
        </p:nvGrpSpPr>
        <p:grpSpPr>
          <a:xfrm>
            <a:off x="0" y="133200"/>
            <a:ext cx="12192120" cy="6724800"/>
            <a:chOff x="0" y="133200"/>
            <a:chExt cx="12192120" cy="6724800"/>
          </a:xfrm>
        </p:grpSpPr>
        <p:sp>
          <p:nvSpPr>
            <p:cNvPr id="49" name="任意多边形: 形状 4"/>
            <p:cNvSpPr/>
            <p:nvPr/>
          </p:nvSpPr>
          <p:spPr>
            <a:xfrm>
              <a:off x="3712320" y="280080"/>
              <a:ext cx="2219040" cy="1994760"/>
            </a:xfrm>
            <a:custGeom>
              <a:avLst/>
              <a:gdLst>
                <a:gd name="textAreaLeft" fmla="*/ 0 w 2219040"/>
                <a:gd name="textAreaRight" fmla="*/ 2219400 w 2219040"/>
                <a:gd name="textAreaTop" fmla="*/ 0 h 1994760"/>
                <a:gd name="textAreaBottom" fmla="*/ 1995120 h 1994760"/>
              </a:gdLst>
              <a:ahLst/>
              <a:rect l="textAreaLeft" t="textAreaTop" r="textAreaRight" b="textAreaBottom"/>
              <a:pathLst>
                <a:path w="847725" h="762000">
                  <a:moveTo>
                    <a:pt x="641509" y="7144"/>
                  </a:moveTo>
                  <a:cubicBezTo>
                    <a:pt x="640556" y="10954"/>
                    <a:pt x="639604" y="20479"/>
                    <a:pt x="642461" y="24289"/>
                  </a:cubicBezTo>
                  <a:cubicBezTo>
                    <a:pt x="643414" y="25241"/>
                    <a:pt x="644366" y="26194"/>
                    <a:pt x="644366" y="27146"/>
                  </a:cubicBezTo>
                  <a:cubicBezTo>
                    <a:pt x="651034" y="26194"/>
                    <a:pt x="656749" y="30004"/>
                    <a:pt x="659606" y="35719"/>
                  </a:cubicBezTo>
                  <a:cubicBezTo>
                    <a:pt x="662464" y="43339"/>
                    <a:pt x="659606" y="51911"/>
                    <a:pt x="651034" y="55721"/>
                  </a:cubicBezTo>
                  <a:cubicBezTo>
                    <a:pt x="643414" y="58579"/>
                    <a:pt x="633889" y="55721"/>
                    <a:pt x="631031" y="48101"/>
                  </a:cubicBezTo>
                  <a:cubicBezTo>
                    <a:pt x="628174" y="42386"/>
                    <a:pt x="630079" y="35719"/>
                    <a:pt x="634841" y="30956"/>
                  </a:cubicBezTo>
                  <a:cubicBezTo>
                    <a:pt x="634841" y="28099"/>
                    <a:pt x="633889" y="20479"/>
                    <a:pt x="627221" y="15716"/>
                  </a:cubicBezTo>
                  <a:cubicBezTo>
                    <a:pt x="626269" y="15716"/>
                    <a:pt x="626269" y="14764"/>
                    <a:pt x="625316" y="14764"/>
                  </a:cubicBezTo>
                  <a:lnTo>
                    <a:pt x="591979" y="29051"/>
                  </a:lnTo>
                  <a:cubicBezTo>
                    <a:pt x="591026" y="32861"/>
                    <a:pt x="590074" y="42386"/>
                    <a:pt x="592931" y="46196"/>
                  </a:cubicBezTo>
                  <a:cubicBezTo>
                    <a:pt x="593884" y="47149"/>
                    <a:pt x="594836" y="48101"/>
                    <a:pt x="594836" y="49054"/>
                  </a:cubicBezTo>
                  <a:cubicBezTo>
                    <a:pt x="601504" y="48101"/>
                    <a:pt x="607219" y="51911"/>
                    <a:pt x="610076" y="57626"/>
                  </a:cubicBezTo>
                  <a:cubicBezTo>
                    <a:pt x="612934" y="65246"/>
                    <a:pt x="610076" y="73819"/>
                    <a:pt x="601504" y="77629"/>
                  </a:cubicBezTo>
                  <a:cubicBezTo>
                    <a:pt x="593884" y="80486"/>
                    <a:pt x="584359" y="77629"/>
                    <a:pt x="581501" y="70009"/>
                  </a:cubicBezTo>
                  <a:cubicBezTo>
                    <a:pt x="578644" y="64294"/>
                    <a:pt x="580549" y="57626"/>
                    <a:pt x="585311" y="52864"/>
                  </a:cubicBezTo>
                  <a:cubicBezTo>
                    <a:pt x="585311" y="49054"/>
                    <a:pt x="584359" y="42386"/>
                    <a:pt x="577691" y="37624"/>
                  </a:cubicBezTo>
                  <a:cubicBezTo>
                    <a:pt x="576739" y="37624"/>
                    <a:pt x="576739" y="36671"/>
                    <a:pt x="575786" y="36671"/>
                  </a:cubicBezTo>
                  <a:lnTo>
                    <a:pt x="542449" y="50959"/>
                  </a:lnTo>
                  <a:cubicBezTo>
                    <a:pt x="541496" y="54769"/>
                    <a:pt x="540544" y="64294"/>
                    <a:pt x="543401" y="68104"/>
                  </a:cubicBezTo>
                  <a:cubicBezTo>
                    <a:pt x="544354" y="69056"/>
                    <a:pt x="545306" y="70009"/>
                    <a:pt x="545306" y="70961"/>
                  </a:cubicBezTo>
                  <a:cubicBezTo>
                    <a:pt x="551974" y="70009"/>
                    <a:pt x="557689" y="73819"/>
                    <a:pt x="560546" y="79534"/>
                  </a:cubicBezTo>
                  <a:cubicBezTo>
                    <a:pt x="563404" y="87154"/>
                    <a:pt x="560546" y="95726"/>
                    <a:pt x="551974" y="99536"/>
                  </a:cubicBezTo>
                  <a:cubicBezTo>
                    <a:pt x="544354" y="102394"/>
                    <a:pt x="534829" y="99536"/>
                    <a:pt x="531971" y="91916"/>
                  </a:cubicBezTo>
                  <a:cubicBezTo>
                    <a:pt x="529114" y="86201"/>
                    <a:pt x="531019" y="79534"/>
                    <a:pt x="535781" y="74771"/>
                  </a:cubicBezTo>
                  <a:cubicBezTo>
                    <a:pt x="535781" y="71914"/>
                    <a:pt x="534829" y="64294"/>
                    <a:pt x="528161" y="59531"/>
                  </a:cubicBezTo>
                  <a:cubicBezTo>
                    <a:pt x="527209" y="58579"/>
                    <a:pt x="527209" y="58579"/>
                    <a:pt x="526256" y="58579"/>
                  </a:cubicBezTo>
                  <a:lnTo>
                    <a:pt x="492919" y="72866"/>
                  </a:lnTo>
                  <a:cubicBezTo>
                    <a:pt x="491966" y="76676"/>
                    <a:pt x="491014" y="86201"/>
                    <a:pt x="493871" y="90011"/>
                  </a:cubicBezTo>
                  <a:cubicBezTo>
                    <a:pt x="494824" y="90964"/>
                    <a:pt x="495776" y="91916"/>
                    <a:pt x="495776" y="92869"/>
                  </a:cubicBezTo>
                  <a:cubicBezTo>
                    <a:pt x="502444" y="91916"/>
                    <a:pt x="508159" y="95726"/>
                    <a:pt x="511016" y="101441"/>
                  </a:cubicBezTo>
                  <a:cubicBezTo>
                    <a:pt x="513874" y="109061"/>
                    <a:pt x="511016" y="117634"/>
                    <a:pt x="502444" y="121444"/>
                  </a:cubicBezTo>
                  <a:cubicBezTo>
                    <a:pt x="494824" y="124301"/>
                    <a:pt x="485299" y="121444"/>
                    <a:pt x="482441" y="113824"/>
                  </a:cubicBezTo>
                  <a:cubicBezTo>
                    <a:pt x="479584" y="108109"/>
                    <a:pt x="481489" y="101441"/>
                    <a:pt x="486251" y="96679"/>
                  </a:cubicBezTo>
                  <a:cubicBezTo>
                    <a:pt x="486251" y="93821"/>
                    <a:pt x="485299" y="86201"/>
                    <a:pt x="478631" y="81439"/>
                  </a:cubicBezTo>
                  <a:cubicBezTo>
                    <a:pt x="477679" y="81439"/>
                    <a:pt x="477679" y="80486"/>
                    <a:pt x="476726" y="80486"/>
                  </a:cubicBezTo>
                  <a:lnTo>
                    <a:pt x="443389" y="94774"/>
                  </a:lnTo>
                  <a:cubicBezTo>
                    <a:pt x="442436" y="98584"/>
                    <a:pt x="441484" y="108109"/>
                    <a:pt x="444341" y="111919"/>
                  </a:cubicBezTo>
                  <a:cubicBezTo>
                    <a:pt x="445294" y="112871"/>
                    <a:pt x="446246" y="113824"/>
                    <a:pt x="446246" y="114776"/>
                  </a:cubicBezTo>
                  <a:cubicBezTo>
                    <a:pt x="452914" y="113824"/>
                    <a:pt x="458629" y="117634"/>
                    <a:pt x="461486" y="123349"/>
                  </a:cubicBezTo>
                  <a:cubicBezTo>
                    <a:pt x="464344" y="130969"/>
                    <a:pt x="461486" y="139541"/>
                    <a:pt x="452914" y="143351"/>
                  </a:cubicBezTo>
                  <a:cubicBezTo>
                    <a:pt x="445294" y="146209"/>
                    <a:pt x="435769" y="143351"/>
                    <a:pt x="432911" y="135731"/>
                  </a:cubicBezTo>
                  <a:cubicBezTo>
                    <a:pt x="430054" y="130016"/>
                    <a:pt x="431959" y="123349"/>
                    <a:pt x="436721" y="118586"/>
                  </a:cubicBezTo>
                  <a:cubicBezTo>
                    <a:pt x="436721" y="115729"/>
                    <a:pt x="435769" y="108109"/>
                    <a:pt x="429101" y="103346"/>
                  </a:cubicBezTo>
                  <a:cubicBezTo>
                    <a:pt x="428149" y="103346"/>
                    <a:pt x="428149" y="102394"/>
                    <a:pt x="427196" y="102394"/>
                  </a:cubicBezTo>
                  <a:lnTo>
                    <a:pt x="393859" y="116681"/>
                  </a:lnTo>
                  <a:cubicBezTo>
                    <a:pt x="392906" y="120491"/>
                    <a:pt x="391954" y="130016"/>
                    <a:pt x="394811" y="133826"/>
                  </a:cubicBezTo>
                  <a:cubicBezTo>
                    <a:pt x="395764" y="134779"/>
                    <a:pt x="396716" y="135731"/>
                    <a:pt x="396716" y="136684"/>
                  </a:cubicBezTo>
                  <a:cubicBezTo>
                    <a:pt x="403384" y="135731"/>
                    <a:pt x="409099" y="139541"/>
                    <a:pt x="411956" y="145256"/>
                  </a:cubicBezTo>
                  <a:cubicBezTo>
                    <a:pt x="414814" y="152876"/>
                    <a:pt x="411956" y="161449"/>
                    <a:pt x="403384" y="165259"/>
                  </a:cubicBezTo>
                  <a:cubicBezTo>
                    <a:pt x="395764" y="168116"/>
                    <a:pt x="386239" y="165259"/>
                    <a:pt x="383381" y="157639"/>
                  </a:cubicBezTo>
                  <a:cubicBezTo>
                    <a:pt x="380524" y="151924"/>
                    <a:pt x="382429" y="145256"/>
                    <a:pt x="387191" y="140494"/>
                  </a:cubicBezTo>
                  <a:cubicBezTo>
                    <a:pt x="387191" y="137636"/>
                    <a:pt x="386239" y="130016"/>
                    <a:pt x="379571" y="125254"/>
                  </a:cubicBezTo>
                  <a:cubicBezTo>
                    <a:pt x="378619" y="125254"/>
                    <a:pt x="378619" y="124301"/>
                    <a:pt x="377666" y="124301"/>
                  </a:cubicBezTo>
                  <a:lnTo>
                    <a:pt x="344329" y="138589"/>
                  </a:lnTo>
                  <a:cubicBezTo>
                    <a:pt x="343376" y="142399"/>
                    <a:pt x="342424" y="151924"/>
                    <a:pt x="345281" y="155734"/>
                  </a:cubicBezTo>
                  <a:cubicBezTo>
                    <a:pt x="346234" y="156686"/>
                    <a:pt x="347186" y="157639"/>
                    <a:pt x="347186" y="158591"/>
                  </a:cubicBezTo>
                  <a:cubicBezTo>
                    <a:pt x="353854" y="157639"/>
                    <a:pt x="359569" y="161449"/>
                    <a:pt x="362426" y="167164"/>
                  </a:cubicBezTo>
                  <a:cubicBezTo>
                    <a:pt x="365284" y="174784"/>
                    <a:pt x="362426" y="183356"/>
                    <a:pt x="353854" y="187166"/>
                  </a:cubicBezTo>
                  <a:cubicBezTo>
                    <a:pt x="346234" y="190024"/>
                    <a:pt x="336709" y="187166"/>
                    <a:pt x="333851" y="179546"/>
                  </a:cubicBezTo>
                  <a:cubicBezTo>
                    <a:pt x="330994" y="173831"/>
                    <a:pt x="332899" y="167164"/>
                    <a:pt x="337661" y="162401"/>
                  </a:cubicBezTo>
                  <a:cubicBezTo>
                    <a:pt x="337661" y="159544"/>
                    <a:pt x="336709" y="151924"/>
                    <a:pt x="330041" y="147161"/>
                  </a:cubicBezTo>
                  <a:cubicBezTo>
                    <a:pt x="329089" y="147161"/>
                    <a:pt x="329089" y="146209"/>
                    <a:pt x="328136" y="146209"/>
                  </a:cubicBezTo>
                  <a:lnTo>
                    <a:pt x="294799" y="160496"/>
                  </a:lnTo>
                  <a:cubicBezTo>
                    <a:pt x="293846" y="164306"/>
                    <a:pt x="292894" y="173831"/>
                    <a:pt x="295751" y="177641"/>
                  </a:cubicBezTo>
                  <a:cubicBezTo>
                    <a:pt x="296704" y="178594"/>
                    <a:pt x="296704" y="179546"/>
                    <a:pt x="297656" y="180499"/>
                  </a:cubicBezTo>
                  <a:cubicBezTo>
                    <a:pt x="304324" y="179546"/>
                    <a:pt x="310039" y="183356"/>
                    <a:pt x="312896" y="189071"/>
                  </a:cubicBezTo>
                  <a:cubicBezTo>
                    <a:pt x="315754" y="196691"/>
                    <a:pt x="312896" y="205264"/>
                    <a:pt x="304324" y="209074"/>
                  </a:cubicBezTo>
                  <a:cubicBezTo>
                    <a:pt x="296704" y="211931"/>
                    <a:pt x="288131" y="209074"/>
                    <a:pt x="284321" y="201454"/>
                  </a:cubicBezTo>
                  <a:cubicBezTo>
                    <a:pt x="281464" y="195739"/>
                    <a:pt x="283369" y="189071"/>
                    <a:pt x="288131" y="184309"/>
                  </a:cubicBezTo>
                  <a:cubicBezTo>
                    <a:pt x="288131" y="181451"/>
                    <a:pt x="287179" y="173831"/>
                    <a:pt x="280511" y="169069"/>
                  </a:cubicBezTo>
                  <a:cubicBezTo>
                    <a:pt x="279559" y="169069"/>
                    <a:pt x="279559" y="168116"/>
                    <a:pt x="278606" y="168116"/>
                  </a:cubicBezTo>
                  <a:lnTo>
                    <a:pt x="245269" y="182404"/>
                  </a:lnTo>
                  <a:cubicBezTo>
                    <a:pt x="244316" y="186214"/>
                    <a:pt x="243364" y="195739"/>
                    <a:pt x="246221" y="199549"/>
                  </a:cubicBezTo>
                  <a:cubicBezTo>
                    <a:pt x="247174" y="200501"/>
                    <a:pt x="248126" y="201454"/>
                    <a:pt x="248126" y="202406"/>
                  </a:cubicBezTo>
                  <a:cubicBezTo>
                    <a:pt x="254794" y="201454"/>
                    <a:pt x="260509" y="205264"/>
                    <a:pt x="263366" y="210979"/>
                  </a:cubicBezTo>
                  <a:cubicBezTo>
                    <a:pt x="266224" y="218599"/>
                    <a:pt x="263366" y="227171"/>
                    <a:pt x="254794" y="230981"/>
                  </a:cubicBezTo>
                  <a:cubicBezTo>
                    <a:pt x="247174" y="233839"/>
                    <a:pt x="237649" y="230981"/>
                    <a:pt x="234791" y="223361"/>
                  </a:cubicBezTo>
                  <a:cubicBezTo>
                    <a:pt x="231934" y="217646"/>
                    <a:pt x="233839" y="210979"/>
                    <a:pt x="238601" y="206216"/>
                  </a:cubicBezTo>
                  <a:cubicBezTo>
                    <a:pt x="238601" y="203359"/>
                    <a:pt x="237649" y="195739"/>
                    <a:pt x="230981" y="190024"/>
                  </a:cubicBezTo>
                  <a:cubicBezTo>
                    <a:pt x="230029" y="190024"/>
                    <a:pt x="230029" y="189071"/>
                    <a:pt x="229076" y="189071"/>
                  </a:cubicBezTo>
                  <a:lnTo>
                    <a:pt x="195739" y="203359"/>
                  </a:lnTo>
                  <a:cubicBezTo>
                    <a:pt x="194786" y="207169"/>
                    <a:pt x="193834" y="216694"/>
                    <a:pt x="196691" y="220504"/>
                  </a:cubicBezTo>
                  <a:cubicBezTo>
                    <a:pt x="197644" y="221456"/>
                    <a:pt x="198596" y="222409"/>
                    <a:pt x="198596" y="223361"/>
                  </a:cubicBezTo>
                  <a:cubicBezTo>
                    <a:pt x="205264" y="222409"/>
                    <a:pt x="210979" y="226219"/>
                    <a:pt x="213836" y="231934"/>
                  </a:cubicBezTo>
                  <a:cubicBezTo>
                    <a:pt x="216694" y="239554"/>
                    <a:pt x="213836" y="248126"/>
                    <a:pt x="205264" y="251936"/>
                  </a:cubicBezTo>
                  <a:cubicBezTo>
                    <a:pt x="197644" y="254794"/>
                    <a:pt x="188119" y="251936"/>
                    <a:pt x="185261" y="244316"/>
                  </a:cubicBezTo>
                  <a:cubicBezTo>
                    <a:pt x="182404" y="238601"/>
                    <a:pt x="184309" y="231934"/>
                    <a:pt x="189071" y="227171"/>
                  </a:cubicBezTo>
                  <a:cubicBezTo>
                    <a:pt x="189071" y="223361"/>
                    <a:pt x="188119" y="216694"/>
                    <a:pt x="181451" y="211931"/>
                  </a:cubicBezTo>
                  <a:cubicBezTo>
                    <a:pt x="180499" y="211931"/>
                    <a:pt x="180499" y="210979"/>
                    <a:pt x="179546" y="210979"/>
                  </a:cubicBezTo>
                  <a:lnTo>
                    <a:pt x="146209" y="225266"/>
                  </a:lnTo>
                  <a:cubicBezTo>
                    <a:pt x="145256" y="229076"/>
                    <a:pt x="144304" y="238601"/>
                    <a:pt x="147161" y="242411"/>
                  </a:cubicBezTo>
                  <a:cubicBezTo>
                    <a:pt x="148114" y="243364"/>
                    <a:pt x="149066" y="244316"/>
                    <a:pt x="149066" y="245269"/>
                  </a:cubicBezTo>
                  <a:cubicBezTo>
                    <a:pt x="155734" y="244316"/>
                    <a:pt x="161449" y="248126"/>
                    <a:pt x="164306" y="253841"/>
                  </a:cubicBezTo>
                  <a:cubicBezTo>
                    <a:pt x="167164" y="261461"/>
                    <a:pt x="164306" y="270034"/>
                    <a:pt x="155734" y="273844"/>
                  </a:cubicBezTo>
                  <a:cubicBezTo>
                    <a:pt x="148114" y="276701"/>
                    <a:pt x="138589" y="273844"/>
                    <a:pt x="135731" y="266224"/>
                  </a:cubicBezTo>
                  <a:cubicBezTo>
                    <a:pt x="132874" y="260509"/>
                    <a:pt x="134779" y="253841"/>
                    <a:pt x="139541" y="249079"/>
                  </a:cubicBezTo>
                  <a:cubicBezTo>
                    <a:pt x="139541" y="246221"/>
                    <a:pt x="138589" y="238601"/>
                    <a:pt x="131921" y="233839"/>
                  </a:cubicBezTo>
                  <a:cubicBezTo>
                    <a:pt x="130969" y="233839"/>
                    <a:pt x="130969" y="232886"/>
                    <a:pt x="130016" y="232886"/>
                  </a:cubicBezTo>
                  <a:lnTo>
                    <a:pt x="96679" y="247174"/>
                  </a:lnTo>
                  <a:cubicBezTo>
                    <a:pt x="95726" y="250984"/>
                    <a:pt x="94774" y="260509"/>
                    <a:pt x="97631" y="264319"/>
                  </a:cubicBezTo>
                  <a:cubicBezTo>
                    <a:pt x="98584" y="265271"/>
                    <a:pt x="99536" y="266224"/>
                    <a:pt x="99536" y="267176"/>
                  </a:cubicBezTo>
                  <a:cubicBezTo>
                    <a:pt x="106204" y="266224"/>
                    <a:pt x="111919" y="270034"/>
                    <a:pt x="114776" y="275749"/>
                  </a:cubicBezTo>
                  <a:cubicBezTo>
                    <a:pt x="117634" y="283369"/>
                    <a:pt x="114776" y="291941"/>
                    <a:pt x="106204" y="295751"/>
                  </a:cubicBezTo>
                  <a:cubicBezTo>
                    <a:pt x="98584" y="298609"/>
                    <a:pt x="89059" y="295751"/>
                    <a:pt x="86201" y="288131"/>
                  </a:cubicBezTo>
                  <a:cubicBezTo>
                    <a:pt x="83344" y="282416"/>
                    <a:pt x="85249" y="275749"/>
                    <a:pt x="90011" y="270986"/>
                  </a:cubicBezTo>
                  <a:cubicBezTo>
                    <a:pt x="90011" y="268129"/>
                    <a:pt x="89059" y="260509"/>
                    <a:pt x="82391" y="255746"/>
                  </a:cubicBezTo>
                  <a:cubicBezTo>
                    <a:pt x="81439" y="254794"/>
                    <a:pt x="81439" y="254794"/>
                    <a:pt x="80486" y="254794"/>
                  </a:cubicBezTo>
                  <a:lnTo>
                    <a:pt x="47149" y="269081"/>
                  </a:lnTo>
                  <a:cubicBezTo>
                    <a:pt x="46196" y="272891"/>
                    <a:pt x="45244" y="282416"/>
                    <a:pt x="48101" y="286226"/>
                  </a:cubicBezTo>
                  <a:cubicBezTo>
                    <a:pt x="49054" y="287179"/>
                    <a:pt x="50006" y="288131"/>
                    <a:pt x="50006" y="289084"/>
                  </a:cubicBezTo>
                  <a:cubicBezTo>
                    <a:pt x="56674" y="288131"/>
                    <a:pt x="62389" y="291941"/>
                    <a:pt x="65246" y="297656"/>
                  </a:cubicBezTo>
                  <a:cubicBezTo>
                    <a:pt x="68104" y="305276"/>
                    <a:pt x="65246" y="313849"/>
                    <a:pt x="57626" y="317659"/>
                  </a:cubicBezTo>
                  <a:cubicBezTo>
                    <a:pt x="50006" y="320516"/>
                    <a:pt x="40481" y="317659"/>
                    <a:pt x="37624" y="310039"/>
                  </a:cubicBezTo>
                  <a:cubicBezTo>
                    <a:pt x="34766" y="304324"/>
                    <a:pt x="36671" y="297656"/>
                    <a:pt x="41434" y="292894"/>
                  </a:cubicBezTo>
                  <a:cubicBezTo>
                    <a:pt x="41434" y="290036"/>
                    <a:pt x="40481" y="282416"/>
                    <a:pt x="33814" y="277654"/>
                  </a:cubicBezTo>
                  <a:cubicBezTo>
                    <a:pt x="32861" y="277654"/>
                    <a:pt x="32861" y="276701"/>
                    <a:pt x="31909" y="276701"/>
                  </a:cubicBezTo>
                  <a:lnTo>
                    <a:pt x="7144" y="287179"/>
                  </a:lnTo>
                  <a:lnTo>
                    <a:pt x="210979" y="762476"/>
                  </a:lnTo>
                  <a:lnTo>
                    <a:pt x="849154" y="491966"/>
                  </a:lnTo>
                  <a:lnTo>
                    <a:pt x="645319" y="16669"/>
                  </a:lnTo>
                  <a:lnTo>
                    <a:pt x="641509" y="7144"/>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0" name="任意多边形: 形状 5"/>
            <p:cNvSpPr/>
            <p:nvPr/>
          </p:nvSpPr>
          <p:spPr>
            <a:xfrm>
              <a:off x="3802320" y="133200"/>
              <a:ext cx="2219040" cy="1969920"/>
            </a:xfrm>
            <a:custGeom>
              <a:avLst/>
              <a:gdLst>
                <a:gd name="textAreaLeft" fmla="*/ 0 w 2219040"/>
                <a:gd name="textAreaRight" fmla="*/ 2219400 w 2219040"/>
                <a:gd name="textAreaTop" fmla="*/ 0 h 1969920"/>
                <a:gd name="textAreaBottom" fmla="*/ 1970280 h 1969920"/>
              </a:gdLst>
              <a:ahLst/>
              <a:rect l="textAreaLeft" t="textAreaTop" r="textAreaRight" b="textAreaBottom"/>
              <a:pathLst>
                <a:path w="847725" h="752475">
                  <a:moveTo>
                    <a:pt x="465296" y="89059"/>
                  </a:moveTo>
                  <a:cubicBezTo>
                    <a:pt x="471964" y="93821"/>
                    <a:pt x="472916" y="101441"/>
                    <a:pt x="472916" y="104299"/>
                  </a:cubicBezTo>
                  <a:cubicBezTo>
                    <a:pt x="468154" y="108109"/>
                    <a:pt x="466249" y="115729"/>
                    <a:pt x="469106" y="121444"/>
                  </a:cubicBezTo>
                  <a:cubicBezTo>
                    <a:pt x="471964" y="129064"/>
                    <a:pt x="481489" y="132874"/>
                    <a:pt x="489109" y="129064"/>
                  </a:cubicBezTo>
                  <a:cubicBezTo>
                    <a:pt x="496729" y="126206"/>
                    <a:pt x="500539" y="116681"/>
                    <a:pt x="497681" y="109061"/>
                  </a:cubicBezTo>
                  <a:cubicBezTo>
                    <a:pt x="494824" y="103346"/>
                    <a:pt x="489109" y="99536"/>
                    <a:pt x="482441" y="100489"/>
                  </a:cubicBezTo>
                  <a:cubicBezTo>
                    <a:pt x="482441" y="99536"/>
                    <a:pt x="481489" y="98584"/>
                    <a:pt x="480536" y="97631"/>
                  </a:cubicBezTo>
                  <a:cubicBezTo>
                    <a:pt x="477679" y="93821"/>
                    <a:pt x="478631" y="85249"/>
                    <a:pt x="479584" y="80486"/>
                  </a:cubicBezTo>
                  <a:lnTo>
                    <a:pt x="512921" y="66199"/>
                  </a:lnTo>
                  <a:cubicBezTo>
                    <a:pt x="513874" y="66199"/>
                    <a:pt x="513874" y="67151"/>
                    <a:pt x="514826" y="67151"/>
                  </a:cubicBezTo>
                  <a:cubicBezTo>
                    <a:pt x="521494" y="71914"/>
                    <a:pt x="522446" y="79534"/>
                    <a:pt x="522446" y="82391"/>
                  </a:cubicBezTo>
                  <a:cubicBezTo>
                    <a:pt x="517684" y="86201"/>
                    <a:pt x="515779" y="92869"/>
                    <a:pt x="518636" y="99536"/>
                  </a:cubicBezTo>
                  <a:cubicBezTo>
                    <a:pt x="521494" y="107156"/>
                    <a:pt x="531019" y="110966"/>
                    <a:pt x="538639" y="107156"/>
                  </a:cubicBezTo>
                  <a:cubicBezTo>
                    <a:pt x="546259" y="104299"/>
                    <a:pt x="550069" y="94774"/>
                    <a:pt x="547211" y="87154"/>
                  </a:cubicBezTo>
                  <a:cubicBezTo>
                    <a:pt x="544354" y="81439"/>
                    <a:pt x="538639" y="77629"/>
                    <a:pt x="531971" y="78581"/>
                  </a:cubicBezTo>
                  <a:cubicBezTo>
                    <a:pt x="531971" y="77629"/>
                    <a:pt x="531019" y="77629"/>
                    <a:pt x="530066" y="75724"/>
                  </a:cubicBezTo>
                  <a:cubicBezTo>
                    <a:pt x="527209" y="71914"/>
                    <a:pt x="528161" y="63341"/>
                    <a:pt x="529114" y="58579"/>
                  </a:cubicBezTo>
                  <a:lnTo>
                    <a:pt x="562451" y="44291"/>
                  </a:lnTo>
                  <a:cubicBezTo>
                    <a:pt x="563404" y="44291"/>
                    <a:pt x="563404" y="45244"/>
                    <a:pt x="564356" y="45244"/>
                  </a:cubicBezTo>
                  <a:cubicBezTo>
                    <a:pt x="571024" y="50006"/>
                    <a:pt x="571976" y="57626"/>
                    <a:pt x="571976" y="60484"/>
                  </a:cubicBezTo>
                  <a:cubicBezTo>
                    <a:pt x="567214" y="64294"/>
                    <a:pt x="565309" y="71914"/>
                    <a:pt x="568166" y="77629"/>
                  </a:cubicBezTo>
                  <a:cubicBezTo>
                    <a:pt x="571024" y="85249"/>
                    <a:pt x="580549" y="89059"/>
                    <a:pt x="588169" y="85249"/>
                  </a:cubicBezTo>
                  <a:cubicBezTo>
                    <a:pt x="595789" y="82391"/>
                    <a:pt x="599599" y="72866"/>
                    <a:pt x="596741" y="65246"/>
                  </a:cubicBezTo>
                  <a:cubicBezTo>
                    <a:pt x="593884" y="59531"/>
                    <a:pt x="588169" y="55721"/>
                    <a:pt x="581501" y="56674"/>
                  </a:cubicBezTo>
                  <a:cubicBezTo>
                    <a:pt x="581501" y="55721"/>
                    <a:pt x="580549" y="54769"/>
                    <a:pt x="579596" y="53816"/>
                  </a:cubicBezTo>
                  <a:cubicBezTo>
                    <a:pt x="576739" y="50006"/>
                    <a:pt x="577691" y="41434"/>
                    <a:pt x="578644" y="36671"/>
                  </a:cubicBezTo>
                  <a:lnTo>
                    <a:pt x="611981" y="22384"/>
                  </a:lnTo>
                  <a:cubicBezTo>
                    <a:pt x="612934" y="22384"/>
                    <a:pt x="612934" y="23336"/>
                    <a:pt x="613886" y="23336"/>
                  </a:cubicBezTo>
                  <a:cubicBezTo>
                    <a:pt x="620554" y="28099"/>
                    <a:pt x="621506" y="35719"/>
                    <a:pt x="621506" y="38576"/>
                  </a:cubicBezTo>
                  <a:cubicBezTo>
                    <a:pt x="616744" y="42386"/>
                    <a:pt x="614839" y="50006"/>
                    <a:pt x="617696" y="55721"/>
                  </a:cubicBezTo>
                  <a:cubicBezTo>
                    <a:pt x="620554" y="63341"/>
                    <a:pt x="630079" y="67151"/>
                    <a:pt x="637699" y="63341"/>
                  </a:cubicBezTo>
                  <a:cubicBezTo>
                    <a:pt x="645319" y="60484"/>
                    <a:pt x="649129" y="50959"/>
                    <a:pt x="646271" y="43339"/>
                  </a:cubicBezTo>
                  <a:cubicBezTo>
                    <a:pt x="643414" y="37624"/>
                    <a:pt x="637699" y="33814"/>
                    <a:pt x="631031" y="34766"/>
                  </a:cubicBezTo>
                  <a:cubicBezTo>
                    <a:pt x="631031" y="33814"/>
                    <a:pt x="630079" y="32861"/>
                    <a:pt x="629126" y="31909"/>
                  </a:cubicBezTo>
                  <a:cubicBezTo>
                    <a:pt x="626269" y="28099"/>
                    <a:pt x="627221" y="19526"/>
                    <a:pt x="628174" y="14764"/>
                  </a:cubicBezTo>
                  <a:lnTo>
                    <a:pt x="645319" y="7144"/>
                  </a:lnTo>
                  <a:lnTo>
                    <a:pt x="849154" y="482441"/>
                  </a:lnTo>
                  <a:lnTo>
                    <a:pt x="210979" y="752951"/>
                  </a:lnTo>
                  <a:lnTo>
                    <a:pt x="7144" y="277654"/>
                  </a:lnTo>
                  <a:lnTo>
                    <a:pt x="31909" y="267176"/>
                  </a:lnTo>
                  <a:cubicBezTo>
                    <a:pt x="32861" y="267176"/>
                    <a:pt x="32861" y="268129"/>
                    <a:pt x="33814" y="268129"/>
                  </a:cubicBezTo>
                  <a:cubicBezTo>
                    <a:pt x="40481" y="272891"/>
                    <a:pt x="41434" y="280511"/>
                    <a:pt x="41434" y="283369"/>
                  </a:cubicBezTo>
                  <a:cubicBezTo>
                    <a:pt x="36671" y="287179"/>
                    <a:pt x="34766" y="294799"/>
                    <a:pt x="37624" y="300514"/>
                  </a:cubicBezTo>
                  <a:cubicBezTo>
                    <a:pt x="40481" y="308134"/>
                    <a:pt x="50006" y="311944"/>
                    <a:pt x="57626" y="308134"/>
                  </a:cubicBezTo>
                  <a:cubicBezTo>
                    <a:pt x="65246" y="305276"/>
                    <a:pt x="69056" y="295751"/>
                    <a:pt x="65246" y="288131"/>
                  </a:cubicBezTo>
                  <a:cubicBezTo>
                    <a:pt x="62389" y="282416"/>
                    <a:pt x="56674" y="278606"/>
                    <a:pt x="50006" y="279559"/>
                  </a:cubicBezTo>
                  <a:cubicBezTo>
                    <a:pt x="50006" y="278606"/>
                    <a:pt x="49054" y="277654"/>
                    <a:pt x="48101" y="276701"/>
                  </a:cubicBezTo>
                  <a:cubicBezTo>
                    <a:pt x="45244" y="272891"/>
                    <a:pt x="46196" y="264319"/>
                    <a:pt x="47149" y="259556"/>
                  </a:cubicBezTo>
                  <a:lnTo>
                    <a:pt x="80486" y="245269"/>
                  </a:lnTo>
                  <a:cubicBezTo>
                    <a:pt x="81439" y="245269"/>
                    <a:pt x="81439" y="246221"/>
                    <a:pt x="82391" y="246221"/>
                  </a:cubicBezTo>
                  <a:cubicBezTo>
                    <a:pt x="89059" y="250984"/>
                    <a:pt x="90011" y="258604"/>
                    <a:pt x="90011" y="261461"/>
                  </a:cubicBezTo>
                  <a:cubicBezTo>
                    <a:pt x="85249" y="265271"/>
                    <a:pt x="83344" y="271939"/>
                    <a:pt x="86201" y="278606"/>
                  </a:cubicBezTo>
                  <a:cubicBezTo>
                    <a:pt x="89059" y="286226"/>
                    <a:pt x="98584" y="290036"/>
                    <a:pt x="106204" y="286226"/>
                  </a:cubicBezTo>
                  <a:cubicBezTo>
                    <a:pt x="113824" y="283369"/>
                    <a:pt x="117634" y="273844"/>
                    <a:pt x="114776" y="266224"/>
                  </a:cubicBezTo>
                  <a:cubicBezTo>
                    <a:pt x="111919" y="260509"/>
                    <a:pt x="106204" y="256699"/>
                    <a:pt x="99536" y="257651"/>
                  </a:cubicBezTo>
                  <a:cubicBezTo>
                    <a:pt x="99536" y="256699"/>
                    <a:pt x="98584" y="256699"/>
                    <a:pt x="97631" y="254794"/>
                  </a:cubicBezTo>
                  <a:cubicBezTo>
                    <a:pt x="94774" y="250984"/>
                    <a:pt x="95726" y="242411"/>
                    <a:pt x="96679" y="237649"/>
                  </a:cubicBezTo>
                  <a:lnTo>
                    <a:pt x="130016" y="223361"/>
                  </a:lnTo>
                  <a:cubicBezTo>
                    <a:pt x="130969" y="223361"/>
                    <a:pt x="130969" y="224314"/>
                    <a:pt x="131921" y="224314"/>
                  </a:cubicBezTo>
                  <a:cubicBezTo>
                    <a:pt x="138589" y="229076"/>
                    <a:pt x="139541" y="236696"/>
                    <a:pt x="139541" y="239554"/>
                  </a:cubicBezTo>
                  <a:cubicBezTo>
                    <a:pt x="134779" y="243364"/>
                    <a:pt x="132874" y="250984"/>
                    <a:pt x="135731" y="256699"/>
                  </a:cubicBezTo>
                  <a:cubicBezTo>
                    <a:pt x="138589" y="264319"/>
                    <a:pt x="148114" y="268129"/>
                    <a:pt x="155734" y="264319"/>
                  </a:cubicBezTo>
                  <a:cubicBezTo>
                    <a:pt x="163354" y="261461"/>
                    <a:pt x="167164" y="251936"/>
                    <a:pt x="164306" y="244316"/>
                  </a:cubicBezTo>
                  <a:cubicBezTo>
                    <a:pt x="161449" y="238601"/>
                    <a:pt x="155734" y="234791"/>
                    <a:pt x="149066" y="235744"/>
                  </a:cubicBezTo>
                  <a:cubicBezTo>
                    <a:pt x="149066" y="234791"/>
                    <a:pt x="148114" y="233839"/>
                    <a:pt x="147161" y="232886"/>
                  </a:cubicBezTo>
                  <a:cubicBezTo>
                    <a:pt x="144304" y="229076"/>
                    <a:pt x="145256" y="220504"/>
                    <a:pt x="146209" y="215741"/>
                  </a:cubicBezTo>
                  <a:lnTo>
                    <a:pt x="179546" y="201454"/>
                  </a:lnTo>
                  <a:cubicBezTo>
                    <a:pt x="180499" y="201454"/>
                    <a:pt x="180499" y="202406"/>
                    <a:pt x="181451" y="202406"/>
                  </a:cubicBezTo>
                  <a:cubicBezTo>
                    <a:pt x="188119" y="207169"/>
                    <a:pt x="189071" y="214789"/>
                    <a:pt x="189071" y="217646"/>
                  </a:cubicBezTo>
                  <a:cubicBezTo>
                    <a:pt x="184309" y="221456"/>
                    <a:pt x="182404" y="229076"/>
                    <a:pt x="185261" y="234791"/>
                  </a:cubicBezTo>
                  <a:cubicBezTo>
                    <a:pt x="188119" y="242411"/>
                    <a:pt x="197644" y="246221"/>
                    <a:pt x="205264" y="242411"/>
                  </a:cubicBezTo>
                  <a:cubicBezTo>
                    <a:pt x="212884" y="239554"/>
                    <a:pt x="216694" y="230029"/>
                    <a:pt x="213836" y="222409"/>
                  </a:cubicBezTo>
                  <a:cubicBezTo>
                    <a:pt x="210979" y="216694"/>
                    <a:pt x="205264" y="212884"/>
                    <a:pt x="198596" y="213836"/>
                  </a:cubicBezTo>
                  <a:cubicBezTo>
                    <a:pt x="198596" y="212884"/>
                    <a:pt x="197644" y="211931"/>
                    <a:pt x="196691" y="210979"/>
                  </a:cubicBezTo>
                  <a:cubicBezTo>
                    <a:pt x="193834" y="207169"/>
                    <a:pt x="194786" y="198596"/>
                    <a:pt x="195739" y="193834"/>
                  </a:cubicBezTo>
                  <a:lnTo>
                    <a:pt x="229076" y="179546"/>
                  </a:lnTo>
                  <a:cubicBezTo>
                    <a:pt x="230029" y="179546"/>
                    <a:pt x="230029" y="180499"/>
                    <a:pt x="230981" y="180499"/>
                  </a:cubicBezTo>
                  <a:cubicBezTo>
                    <a:pt x="237649" y="185261"/>
                    <a:pt x="238601" y="192881"/>
                    <a:pt x="238601" y="196691"/>
                  </a:cubicBezTo>
                  <a:cubicBezTo>
                    <a:pt x="233839" y="200501"/>
                    <a:pt x="231934" y="208121"/>
                    <a:pt x="234791" y="213836"/>
                  </a:cubicBezTo>
                  <a:cubicBezTo>
                    <a:pt x="238601" y="221456"/>
                    <a:pt x="247174" y="225266"/>
                    <a:pt x="254794" y="221456"/>
                  </a:cubicBezTo>
                  <a:cubicBezTo>
                    <a:pt x="262414" y="218599"/>
                    <a:pt x="266224" y="209074"/>
                    <a:pt x="263366" y="201454"/>
                  </a:cubicBezTo>
                  <a:cubicBezTo>
                    <a:pt x="260509" y="195739"/>
                    <a:pt x="254794" y="191929"/>
                    <a:pt x="248126" y="192881"/>
                  </a:cubicBezTo>
                  <a:cubicBezTo>
                    <a:pt x="248126" y="191929"/>
                    <a:pt x="247174" y="191929"/>
                    <a:pt x="246221" y="190024"/>
                  </a:cubicBezTo>
                  <a:cubicBezTo>
                    <a:pt x="243364" y="186214"/>
                    <a:pt x="244316" y="177641"/>
                    <a:pt x="245269" y="172879"/>
                  </a:cubicBezTo>
                  <a:lnTo>
                    <a:pt x="278606" y="158591"/>
                  </a:lnTo>
                  <a:cubicBezTo>
                    <a:pt x="279559" y="158591"/>
                    <a:pt x="279559" y="159544"/>
                    <a:pt x="280511" y="159544"/>
                  </a:cubicBezTo>
                  <a:cubicBezTo>
                    <a:pt x="287179" y="164306"/>
                    <a:pt x="288131" y="171926"/>
                    <a:pt x="288131" y="174784"/>
                  </a:cubicBezTo>
                  <a:cubicBezTo>
                    <a:pt x="283369" y="179546"/>
                    <a:pt x="281464" y="186214"/>
                    <a:pt x="284321" y="191929"/>
                  </a:cubicBezTo>
                  <a:cubicBezTo>
                    <a:pt x="287179" y="199549"/>
                    <a:pt x="296704" y="203359"/>
                    <a:pt x="304324" y="199549"/>
                  </a:cubicBezTo>
                  <a:cubicBezTo>
                    <a:pt x="311944" y="196691"/>
                    <a:pt x="315754" y="187166"/>
                    <a:pt x="312896" y="179546"/>
                  </a:cubicBezTo>
                  <a:cubicBezTo>
                    <a:pt x="310039" y="173831"/>
                    <a:pt x="304324" y="170021"/>
                    <a:pt x="297656" y="170974"/>
                  </a:cubicBezTo>
                  <a:cubicBezTo>
                    <a:pt x="297656" y="170021"/>
                    <a:pt x="296704" y="170021"/>
                    <a:pt x="295751" y="168116"/>
                  </a:cubicBezTo>
                  <a:cubicBezTo>
                    <a:pt x="292894" y="164306"/>
                    <a:pt x="293846" y="155734"/>
                    <a:pt x="294799" y="150971"/>
                  </a:cubicBezTo>
                  <a:lnTo>
                    <a:pt x="328136" y="136684"/>
                  </a:lnTo>
                  <a:cubicBezTo>
                    <a:pt x="329089" y="136684"/>
                    <a:pt x="329089" y="137636"/>
                    <a:pt x="330041" y="137636"/>
                  </a:cubicBezTo>
                  <a:cubicBezTo>
                    <a:pt x="336709" y="142399"/>
                    <a:pt x="337661" y="150019"/>
                    <a:pt x="337661" y="152876"/>
                  </a:cubicBezTo>
                  <a:cubicBezTo>
                    <a:pt x="332899" y="156686"/>
                    <a:pt x="330994" y="164306"/>
                    <a:pt x="333851" y="170021"/>
                  </a:cubicBezTo>
                  <a:cubicBezTo>
                    <a:pt x="336709" y="177641"/>
                    <a:pt x="346234" y="181451"/>
                    <a:pt x="353854" y="177641"/>
                  </a:cubicBezTo>
                  <a:cubicBezTo>
                    <a:pt x="361474" y="174784"/>
                    <a:pt x="365284" y="165259"/>
                    <a:pt x="362426" y="157639"/>
                  </a:cubicBezTo>
                  <a:cubicBezTo>
                    <a:pt x="359569" y="151924"/>
                    <a:pt x="353854" y="148114"/>
                    <a:pt x="347186" y="149066"/>
                  </a:cubicBezTo>
                  <a:cubicBezTo>
                    <a:pt x="347186" y="148114"/>
                    <a:pt x="346234" y="147161"/>
                    <a:pt x="345281" y="146209"/>
                  </a:cubicBezTo>
                  <a:cubicBezTo>
                    <a:pt x="342424" y="142399"/>
                    <a:pt x="343376" y="133826"/>
                    <a:pt x="344329" y="129064"/>
                  </a:cubicBezTo>
                  <a:lnTo>
                    <a:pt x="377666" y="114776"/>
                  </a:lnTo>
                  <a:cubicBezTo>
                    <a:pt x="378619" y="114776"/>
                    <a:pt x="378619" y="115729"/>
                    <a:pt x="379571" y="115729"/>
                  </a:cubicBezTo>
                  <a:cubicBezTo>
                    <a:pt x="386239" y="120491"/>
                    <a:pt x="387191" y="128111"/>
                    <a:pt x="387191" y="130969"/>
                  </a:cubicBezTo>
                  <a:cubicBezTo>
                    <a:pt x="382429" y="134779"/>
                    <a:pt x="380524" y="142399"/>
                    <a:pt x="383381" y="148114"/>
                  </a:cubicBezTo>
                  <a:cubicBezTo>
                    <a:pt x="386239" y="155734"/>
                    <a:pt x="395764" y="159544"/>
                    <a:pt x="403384" y="155734"/>
                  </a:cubicBezTo>
                  <a:cubicBezTo>
                    <a:pt x="411004" y="152876"/>
                    <a:pt x="414814" y="143351"/>
                    <a:pt x="411956" y="135731"/>
                  </a:cubicBezTo>
                  <a:cubicBezTo>
                    <a:pt x="409099" y="130016"/>
                    <a:pt x="403384" y="126206"/>
                    <a:pt x="396716" y="127159"/>
                  </a:cubicBezTo>
                  <a:cubicBezTo>
                    <a:pt x="396716" y="126206"/>
                    <a:pt x="395764" y="125254"/>
                    <a:pt x="394811" y="124301"/>
                  </a:cubicBezTo>
                  <a:cubicBezTo>
                    <a:pt x="391954" y="120491"/>
                    <a:pt x="392906" y="111919"/>
                    <a:pt x="393859" y="107156"/>
                  </a:cubicBezTo>
                  <a:lnTo>
                    <a:pt x="427196" y="92869"/>
                  </a:lnTo>
                  <a:cubicBezTo>
                    <a:pt x="428149" y="92869"/>
                    <a:pt x="428149" y="93821"/>
                    <a:pt x="429101" y="93821"/>
                  </a:cubicBezTo>
                  <a:cubicBezTo>
                    <a:pt x="435769" y="98584"/>
                    <a:pt x="436721" y="106204"/>
                    <a:pt x="436721" y="109061"/>
                  </a:cubicBezTo>
                  <a:cubicBezTo>
                    <a:pt x="431959" y="112871"/>
                    <a:pt x="430054" y="119539"/>
                    <a:pt x="432911" y="126206"/>
                  </a:cubicBezTo>
                  <a:cubicBezTo>
                    <a:pt x="435769" y="133826"/>
                    <a:pt x="445294" y="137636"/>
                    <a:pt x="452914" y="133826"/>
                  </a:cubicBezTo>
                  <a:cubicBezTo>
                    <a:pt x="460534" y="130969"/>
                    <a:pt x="464344" y="121444"/>
                    <a:pt x="461486" y="113824"/>
                  </a:cubicBezTo>
                  <a:cubicBezTo>
                    <a:pt x="458629" y="108109"/>
                    <a:pt x="452914" y="104299"/>
                    <a:pt x="446246" y="105251"/>
                  </a:cubicBezTo>
                  <a:cubicBezTo>
                    <a:pt x="446246" y="104299"/>
                    <a:pt x="445294" y="104299"/>
                    <a:pt x="444341" y="102394"/>
                  </a:cubicBezTo>
                  <a:cubicBezTo>
                    <a:pt x="441484" y="98584"/>
                    <a:pt x="442436" y="90011"/>
                    <a:pt x="443389" y="85249"/>
                  </a:cubicBezTo>
                  <a:lnTo>
                    <a:pt x="476726" y="70961"/>
                  </a:lnTo>
                  <a:cubicBezTo>
                    <a:pt x="464344" y="88106"/>
                    <a:pt x="464344" y="89059"/>
                    <a:pt x="465296" y="89059"/>
                  </a:cubicBez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1" name="任意多边形: 形状 6"/>
            <p:cNvSpPr/>
            <p:nvPr/>
          </p:nvSpPr>
          <p:spPr>
            <a:xfrm>
              <a:off x="5380560" y="35244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7194"/>
                  </a:moveTo>
                  <a:lnTo>
                    <a:pt x="7144" y="9049"/>
                  </a:lnTo>
                  <a:lnTo>
                    <a:pt x="11906" y="7144"/>
                  </a:lnTo>
                  <a:lnTo>
                    <a:pt x="182404" y="405289"/>
                  </a:lnTo>
                  <a:lnTo>
                    <a:pt x="177641"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2" name="任意多边形: 形状 7"/>
            <p:cNvSpPr/>
            <p:nvPr/>
          </p:nvSpPr>
          <p:spPr>
            <a:xfrm>
              <a:off x="5253480" y="40500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8146"/>
                  </a:moveTo>
                  <a:lnTo>
                    <a:pt x="7144" y="9049"/>
                  </a:lnTo>
                  <a:lnTo>
                    <a:pt x="11906" y="7144"/>
                  </a:lnTo>
                  <a:lnTo>
                    <a:pt x="183356" y="405289"/>
                  </a:lnTo>
                  <a:lnTo>
                    <a:pt x="178594"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3" name="任意多边形: 形状 8"/>
            <p:cNvSpPr/>
            <p:nvPr/>
          </p:nvSpPr>
          <p:spPr>
            <a:xfrm>
              <a:off x="5126040" y="45972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7194"/>
                  </a:moveTo>
                  <a:lnTo>
                    <a:pt x="7144" y="9049"/>
                  </a:lnTo>
                  <a:lnTo>
                    <a:pt x="11906" y="7144"/>
                  </a:lnTo>
                  <a:lnTo>
                    <a:pt x="183356" y="405289"/>
                  </a:lnTo>
                  <a:lnTo>
                    <a:pt x="178594"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4" name="任意多边形: 形状 9"/>
            <p:cNvSpPr/>
            <p:nvPr/>
          </p:nvSpPr>
          <p:spPr>
            <a:xfrm>
              <a:off x="4998960" y="51192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8146"/>
                  </a:moveTo>
                  <a:lnTo>
                    <a:pt x="7144" y="9049"/>
                  </a:lnTo>
                  <a:lnTo>
                    <a:pt x="11906" y="7144"/>
                  </a:lnTo>
                  <a:lnTo>
                    <a:pt x="183356" y="405289"/>
                  </a:lnTo>
                  <a:lnTo>
                    <a:pt x="178594"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5" name="任意多边形: 形状 10"/>
            <p:cNvSpPr/>
            <p:nvPr/>
          </p:nvSpPr>
          <p:spPr>
            <a:xfrm>
              <a:off x="4874400" y="56700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7194"/>
                  </a:moveTo>
                  <a:lnTo>
                    <a:pt x="7144" y="9049"/>
                  </a:lnTo>
                  <a:lnTo>
                    <a:pt x="11906" y="7144"/>
                  </a:lnTo>
                  <a:lnTo>
                    <a:pt x="182404" y="405289"/>
                  </a:lnTo>
                  <a:lnTo>
                    <a:pt x="177641"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6" name="任意多边形: 形状 11"/>
            <p:cNvSpPr/>
            <p:nvPr/>
          </p:nvSpPr>
          <p:spPr>
            <a:xfrm>
              <a:off x="4747320" y="61920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8146"/>
                  </a:moveTo>
                  <a:lnTo>
                    <a:pt x="7144" y="9049"/>
                  </a:lnTo>
                  <a:lnTo>
                    <a:pt x="11906" y="7144"/>
                  </a:lnTo>
                  <a:lnTo>
                    <a:pt x="182404" y="405289"/>
                  </a:lnTo>
                  <a:lnTo>
                    <a:pt x="177641"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 name="任意多边形: 形状 12"/>
            <p:cNvSpPr/>
            <p:nvPr/>
          </p:nvSpPr>
          <p:spPr>
            <a:xfrm>
              <a:off x="4619880" y="67428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7194"/>
                  </a:moveTo>
                  <a:lnTo>
                    <a:pt x="7144" y="9049"/>
                  </a:lnTo>
                  <a:lnTo>
                    <a:pt x="11906" y="7144"/>
                  </a:lnTo>
                  <a:lnTo>
                    <a:pt x="183356" y="405289"/>
                  </a:lnTo>
                  <a:lnTo>
                    <a:pt x="178594"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8" name="任意多边形: 形状 13"/>
            <p:cNvSpPr/>
            <p:nvPr/>
          </p:nvSpPr>
          <p:spPr>
            <a:xfrm>
              <a:off x="4492800" y="72648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8146"/>
                  </a:moveTo>
                  <a:lnTo>
                    <a:pt x="7144" y="9049"/>
                  </a:lnTo>
                  <a:lnTo>
                    <a:pt x="11906" y="7144"/>
                  </a:lnTo>
                  <a:lnTo>
                    <a:pt x="183356" y="406241"/>
                  </a:lnTo>
                  <a:lnTo>
                    <a:pt x="178594"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9" name="任意多边形: 形状 14"/>
            <p:cNvSpPr/>
            <p:nvPr/>
          </p:nvSpPr>
          <p:spPr>
            <a:xfrm>
              <a:off x="4365720" y="78120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7194"/>
                  </a:moveTo>
                  <a:lnTo>
                    <a:pt x="7144" y="9049"/>
                  </a:lnTo>
                  <a:lnTo>
                    <a:pt x="11906" y="7144"/>
                  </a:lnTo>
                  <a:lnTo>
                    <a:pt x="183356" y="405289"/>
                  </a:lnTo>
                  <a:lnTo>
                    <a:pt x="178594"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0" name="任意多边形: 形状 15"/>
            <p:cNvSpPr/>
            <p:nvPr/>
          </p:nvSpPr>
          <p:spPr>
            <a:xfrm>
              <a:off x="4241160" y="83376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8146"/>
                  </a:moveTo>
                  <a:lnTo>
                    <a:pt x="7144" y="10001"/>
                  </a:lnTo>
                  <a:lnTo>
                    <a:pt x="11906" y="7144"/>
                  </a:lnTo>
                  <a:lnTo>
                    <a:pt x="182404" y="406241"/>
                  </a:lnTo>
                  <a:lnTo>
                    <a:pt x="177641"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1" name="任意多边形: 形状 16"/>
            <p:cNvSpPr/>
            <p:nvPr/>
          </p:nvSpPr>
          <p:spPr>
            <a:xfrm>
              <a:off x="4113720" y="88848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7194"/>
                  </a:moveTo>
                  <a:lnTo>
                    <a:pt x="7144" y="9049"/>
                  </a:lnTo>
                  <a:lnTo>
                    <a:pt x="11906" y="7144"/>
                  </a:lnTo>
                  <a:lnTo>
                    <a:pt x="182404" y="405289"/>
                  </a:lnTo>
                  <a:lnTo>
                    <a:pt x="177641"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2" name="任意多边形: 形状 17"/>
            <p:cNvSpPr/>
            <p:nvPr/>
          </p:nvSpPr>
          <p:spPr>
            <a:xfrm>
              <a:off x="3986640" y="94104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8146"/>
                  </a:moveTo>
                  <a:lnTo>
                    <a:pt x="7144" y="10001"/>
                  </a:lnTo>
                  <a:lnTo>
                    <a:pt x="11906" y="7144"/>
                  </a:lnTo>
                  <a:lnTo>
                    <a:pt x="183356" y="406241"/>
                  </a:lnTo>
                  <a:lnTo>
                    <a:pt x="178594"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3" name="任意多边形: 形状 18"/>
            <p:cNvSpPr/>
            <p:nvPr/>
          </p:nvSpPr>
          <p:spPr>
            <a:xfrm>
              <a:off x="4884120" y="691560"/>
              <a:ext cx="1944720" cy="1521000"/>
            </a:xfrm>
            <a:custGeom>
              <a:avLst/>
              <a:gdLst>
                <a:gd name="textAreaLeft" fmla="*/ 0 w 1944720"/>
                <a:gd name="textAreaRight" fmla="*/ 1945080 w 1944720"/>
                <a:gd name="textAreaTop" fmla="*/ 0 h 1521000"/>
                <a:gd name="textAreaBottom" fmla="*/ 1521360 h 1521000"/>
              </a:gdLst>
              <a:ahLst/>
              <a:rect l="textAreaLeft" t="textAreaTop" r="textAreaRight" b="textAreaBottom"/>
              <a:pathLst>
                <a:path w="742950" h="581025">
                  <a:moveTo>
                    <a:pt x="679609" y="12859"/>
                  </a:moveTo>
                  <a:cubicBezTo>
                    <a:pt x="677704" y="16669"/>
                    <a:pt x="673894" y="25241"/>
                    <a:pt x="675799" y="29051"/>
                  </a:cubicBezTo>
                  <a:cubicBezTo>
                    <a:pt x="675799" y="30004"/>
                    <a:pt x="676751" y="30956"/>
                    <a:pt x="676751" y="31909"/>
                  </a:cubicBezTo>
                  <a:cubicBezTo>
                    <a:pt x="683419" y="33814"/>
                    <a:pt x="688181" y="38576"/>
                    <a:pt x="688181" y="45244"/>
                  </a:cubicBezTo>
                  <a:cubicBezTo>
                    <a:pt x="689134" y="53816"/>
                    <a:pt x="682466" y="60484"/>
                    <a:pt x="673894" y="61436"/>
                  </a:cubicBezTo>
                  <a:cubicBezTo>
                    <a:pt x="665321" y="62389"/>
                    <a:pt x="657701" y="55721"/>
                    <a:pt x="657701" y="48101"/>
                  </a:cubicBezTo>
                  <a:cubicBezTo>
                    <a:pt x="656749" y="41434"/>
                    <a:pt x="660559" y="35719"/>
                    <a:pt x="666274" y="32861"/>
                  </a:cubicBezTo>
                  <a:cubicBezTo>
                    <a:pt x="667226" y="30004"/>
                    <a:pt x="669131" y="22384"/>
                    <a:pt x="664369" y="15716"/>
                  </a:cubicBezTo>
                  <a:cubicBezTo>
                    <a:pt x="664369" y="14764"/>
                    <a:pt x="663416" y="14764"/>
                    <a:pt x="663416" y="13811"/>
                  </a:cubicBezTo>
                  <a:lnTo>
                    <a:pt x="627221" y="16669"/>
                  </a:lnTo>
                  <a:cubicBezTo>
                    <a:pt x="625316" y="20479"/>
                    <a:pt x="621506" y="29051"/>
                    <a:pt x="623411" y="32861"/>
                  </a:cubicBezTo>
                  <a:cubicBezTo>
                    <a:pt x="624364" y="33814"/>
                    <a:pt x="624364" y="34766"/>
                    <a:pt x="624364" y="35719"/>
                  </a:cubicBezTo>
                  <a:cubicBezTo>
                    <a:pt x="631031" y="37624"/>
                    <a:pt x="635794" y="42386"/>
                    <a:pt x="635794" y="49054"/>
                  </a:cubicBezTo>
                  <a:cubicBezTo>
                    <a:pt x="636746" y="57626"/>
                    <a:pt x="630079" y="64294"/>
                    <a:pt x="621506" y="65246"/>
                  </a:cubicBezTo>
                  <a:cubicBezTo>
                    <a:pt x="612934" y="66199"/>
                    <a:pt x="605314" y="59531"/>
                    <a:pt x="605314" y="51911"/>
                  </a:cubicBezTo>
                  <a:cubicBezTo>
                    <a:pt x="604361" y="45244"/>
                    <a:pt x="608171" y="39529"/>
                    <a:pt x="613886" y="36671"/>
                  </a:cubicBezTo>
                  <a:cubicBezTo>
                    <a:pt x="614839" y="33814"/>
                    <a:pt x="616744" y="26194"/>
                    <a:pt x="611981" y="19526"/>
                  </a:cubicBezTo>
                  <a:cubicBezTo>
                    <a:pt x="611981" y="18574"/>
                    <a:pt x="611029" y="18574"/>
                    <a:pt x="611029" y="17621"/>
                  </a:cubicBezTo>
                  <a:lnTo>
                    <a:pt x="574834" y="20479"/>
                  </a:lnTo>
                  <a:cubicBezTo>
                    <a:pt x="572929" y="24289"/>
                    <a:pt x="569119" y="32861"/>
                    <a:pt x="571024" y="36671"/>
                  </a:cubicBezTo>
                  <a:cubicBezTo>
                    <a:pt x="571976" y="37624"/>
                    <a:pt x="571976" y="38576"/>
                    <a:pt x="571976" y="39529"/>
                  </a:cubicBezTo>
                  <a:cubicBezTo>
                    <a:pt x="578644" y="41434"/>
                    <a:pt x="583406" y="46196"/>
                    <a:pt x="583406" y="52864"/>
                  </a:cubicBezTo>
                  <a:cubicBezTo>
                    <a:pt x="584359" y="61436"/>
                    <a:pt x="577691" y="68104"/>
                    <a:pt x="569119" y="69056"/>
                  </a:cubicBezTo>
                  <a:cubicBezTo>
                    <a:pt x="560546" y="70009"/>
                    <a:pt x="552926" y="63341"/>
                    <a:pt x="552926" y="55721"/>
                  </a:cubicBezTo>
                  <a:cubicBezTo>
                    <a:pt x="551974" y="49054"/>
                    <a:pt x="555784" y="43339"/>
                    <a:pt x="561499" y="40481"/>
                  </a:cubicBezTo>
                  <a:cubicBezTo>
                    <a:pt x="562451" y="37624"/>
                    <a:pt x="564356" y="30004"/>
                    <a:pt x="559594" y="23336"/>
                  </a:cubicBezTo>
                  <a:cubicBezTo>
                    <a:pt x="558641" y="22384"/>
                    <a:pt x="558641" y="22384"/>
                    <a:pt x="558641" y="21431"/>
                  </a:cubicBezTo>
                  <a:lnTo>
                    <a:pt x="522446" y="24289"/>
                  </a:lnTo>
                  <a:cubicBezTo>
                    <a:pt x="520541" y="28099"/>
                    <a:pt x="516731" y="36671"/>
                    <a:pt x="517684" y="40481"/>
                  </a:cubicBezTo>
                  <a:cubicBezTo>
                    <a:pt x="518636" y="41434"/>
                    <a:pt x="518636" y="42386"/>
                    <a:pt x="518636" y="43339"/>
                  </a:cubicBezTo>
                  <a:cubicBezTo>
                    <a:pt x="525304" y="45244"/>
                    <a:pt x="530066" y="50006"/>
                    <a:pt x="530066" y="56674"/>
                  </a:cubicBezTo>
                  <a:cubicBezTo>
                    <a:pt x="531019" y="65246"/>
                    <a:pt x="524351" y="71914"/>
                    <a:pt x="515779" y="72866"/>
                  </a:cubicBezTo>
                  <a:cubicBezTo>
                    <a:pt x="507206" y="73819"/>
                    <a:pt x="499586" y="67151"/>
                    <a:pt x="499586" y="59531"/>
                  </a:cubicBezTo>
                  <a:cubicBezTo>
                    <a:pt x="498634" y="52864"/>
                    <a:pt x="502444" y="47149"/>
                    <a:pt x="509111" y="44291"/>
                  </a:cubicBezTo>
                  <a:cubicBezTo>
                    <a:pt x="510064" y="41434"/>
                    <a:pt x="511969" y="33814"/>
                    <a:pt x="507206" y="27146"/>
                  </a:cubicBezTo>
                  <a:cubicBezTo>
                    <a:pt x="506254" y="26194"/>
                    <a:pt x="506254" y="26194"/>
                    <a:pt x="506254" y="25241"/>
                  </a:cubicBezTo>
                  <a:lnTo>
                    <a:pt x="470059" y="28099"/>
                  </a:lnTo>
                  <a:cubicBezTo>
                    <a:pt x="468154" y="31909"/>
                    <a:pt x="464344" y="40481"/>
                    <a:pt x="466249" y="44291"/>
                  </a:cubicBezTo>
                  <a:cubicBezTo>
                    <a:pt x="467201" y="45244"/>
                    <a:pt x="467201" y="46196"/>
                    <a:pt x="467201" y="47149"/>
                  </a:cubicBezTo>
                  <a:cubicBezTo>
                    <a:pt x="473869" y="49054"/>
                    <a:pt x="478631" y="53816"/>
                    <a:pt x="478631" y="60484"/>
                  </a:cubicBezTo>
                  <a:cubicBezTo>
                    <a:pt x="479584" y="69056"/>
                    <a:pt x="472916" y="75724"/>
                    <a:pt x="464344" y="76676"/>
                  </a:cubicBezTo>
                  <a:cubicBezTo>
                    <a:pt x="455771" y="77629"/>
                    <a:pt x="448151" y="70961"/>
                    <a:pt x="448151" y="63341"/>
                  </a:cubicBezTo>
                  <a:cubicBezTo>
                    <a:pt x="447199" y="56674"/>
                    <a:pt x="451009" y="50959"/>
                    <a:pt x="457676" y="48101"/>
                  </a:cubicBezTo>
                  <a:cubicBezTo>
                    <a:pt x="458629" y="45244"/>
                    <a:pt x="460534" y="37624"/>
                    <a:pt x="455771" y="30956"/>
                  </a:cubicBezTo>
                  <a:cubicBezTo>
                    <a:pt x="455771" y="30004"/>
                    <a:pt x="454819" y="30004"/>
                    <a:pt x="454819" y="29051"/>
                  </a:cubicBezTo>
                  <a:lnTo>
                    <a:pt x="417671" y="33814"/>
                  </a:lnTo>
                  <a:cubicBezTo>
                    <a:pt x="415766" y="37624"/>
                    <a:pt x="411956" y="46196"/>
                    <a:pt x="413861" y="50006"/>
                  </a:cubicBezTo>
                  <a:cubicBezTo>
                    <a:pt x="413861" y="50959"/>
                    <a:pt x="414814" y="51911"/>
                    <a:pt x="414814" y="52864"/>
                  </a:cubicBezTo>
                  <a:cubicBezTo>
                    <a:pt x="420529" y="54769"/>
                    <a:pt x="426244" y="59531"/>
                    <a:pt x="426244" y="66199"/>
                  </a:cubicBezTo>
                  <a:cubicBezTo>
                    <a:pt x="427196" y="74771"/>
                    <a:pt x="420529" y="81439"/>
                    <a:pt x="411956" y="82391"/>
                  </a:cubicBezTo>
                  <a:cubicBezTo>
                    <a:pt x="403384" y="83344"/>
                    <a:pt x="395764" y="76676"/>
                    <a:pt x="395764" y="69056"/>
                  </a:cubicBezTo>
                  <a:cubicBezTo>
                    <a:pt x="394811" y="62389"/>
                    <a:pt x="398621" y="56674"/>
                    <a:pt x="404336" y="53816"/>
                  </a:cubicBezTo>
                  <a:cubicBezTo>
                    <a:pt x="405289" y="50959"/>
                    <a:pt x="407194" y="43339"/>
                    <a:pt x="402431" y="36671"/>
                  </a:cubicBezTo>
                  <a:cubicBezTo>
                    <a:pt x="402431" y="35719"/>
                    <a:pt x="401479" y="35719"/>
                    <a:pt x="401479" y="34766"/>
                  </a:cubicBezTo>
                  <a:lnTo>
                    <a:pt x="365284" y="37624"/>
                  </a:lnTo>
                  <a:cubicBezTo>
                    <a:pt x="363379" y="41434"/>
                    <a:pt x="359569" y="50006"/>
                    <a:pt x="360521" y="53816"/>
                  </a:cubicBezTo>
                  <a:cubicBezTo>
                    <a:pt x="361474" y="54769"/>
                    <a:pt x="361474" y="55721"/>
                    <a:pt x="361474" y="56674"/>
                  </a:cubicBezTo>
                  <a:cubicBezTo>
                    <a:pt x="368141" y="58579"/>
                    <a:pt x="372904" y="63341"/>
                    <a:pt x="372904" y="70009"/>
                  </a:cubicBezTo>
                  <a:cubicBezTo>
                    <a:pt x="373856" y="78581"/>
                    <a:pt x="367189" y="85249"/>
                    <a:pt x="358616" y="86201"/>
                  </a:cubicBezTo>
                  <a:cubicBezTo>
                    <a:pt x="350044" y="87154"/>
                    <a:pt x="342424" y="80486"/>
                    <a:pt x="342424" y="72866"/>
                  </a:cubicBezTo>
                  <a:cubicBezTo>
                    <a:pt x="341471" y="66199"/>
                    <a:pt x="345281" y="60484"/>
                    <a:pt x="350996" y="57626"/>
                  </a:cubicBezTo>
                  <a:cubicBezTo>
                    <a:pt x="351949" y="54769"/>
                    <a:pt x="353854" y="47149"/>
                    <a:pt x="349091" y="40481"/>
                  </a:cubicBezTo>
                  <a:cubicBezTo>
                    <a:pt x="349091" y="39529"/>
                    <a:pt x="348139" y="39529"/>
                    <a:pt x="348139" y="38576"/>
                  </a:cubicBezTo>
                  <a:lnTo>
                    <a:pt x="311944" y="41434"/>
                  </a:lnTo>
                  <a:cubicBezTo>
                    <a:pt x="310039" y="45244"/>
                    <a:pt x="306229" y="53816"/>
                    <a:pt x="308134" y="57626"/>
                  </a:cubicBezTo>
                  <a:cubicBezTo>
                    <a:pt x="309086" y="58579"/>
                    <a:pt x="309086" y="59531"/>
                    <a:pt x="309086" y="60484"/>
                  </a:cubicBezTo>
                  <a:cubicBezTo>
                    <a:pt x="315754" y="62389"/>
                    <a:pt x="320516" y="67151"/>
                    <a:pt x="320516" y="73819"/>
                  </a:cubicBezTo>
                  <a:cubicBezTo>
                    <a:pt x="321469" y="82391"/>
                    <a:pt x="314801" y="89059"/>
                    <a:pt x="306229" y="90011"/>
                  </a:cubicBezTo>
                  <a:cubicBezTo>
                    <a:pt x="297656" y="90964"/>
                    <a:pt x="290036" y="84296"/>
                    <a:pt x="290036" y="76676"/>
                  </a:cubicBezTo>
                  <a:cubicBezTo>
                    <a:pt x="289084" y="70009"/>
                    <a:pt x="292894" y="64294"/>
                    <a:pt x="298609" y="61436"/>
                  </a:cubicBezTo>
                  <a:cubicBezTo>
                    <a:pt x="299561" y="58579"/>
                    <a:pt x="301466" y="50959"/>
                    <a:pt x="296704" y="44291"/>
                  </a:cubicBezTo>
                  <a:cubicBezTo>
                    <a:pt x="295751" y="43339"/>
                    <a:pt x="295751" y="43339"/>
                    <a:pt x="295751" y="42386"/>
                  </a:cubicBezTo>
                  <a:lnTo>
                    <a:pt x="259556" y="45244"/>
                  </a:lnTo>
                  <a:cubicBezTo>
                    <a:pt x="257651" y="49054"/>
                    <a:pt x="253841" y="57626"/>
                    <a:pt x="255746" y="61436"/>
                  </a:cubicBezTo>
                  <a:cubicBezTo>
                    <a:pt x="256699" y="62389"/>
                    <a:pt x="256699" y="63341"/>
                    <a:pt x="256699" y="64294"/>
                  </a:cubicBezTo>
                  <a:cubicBezTo>
                    <a:pt x="263366" y="66199"/>
                    <a:pt x="268129" y="70961"/>
                    <a:pt x="268129" y="77629"/>
                  </a:cubicBezTo>
                  <a:cubicBezTo>
                    <a:pt x="269081" y="86201"/>
                    <a:pt x="262414" y="92869"/>
                    <a:pt x="253841" y="93821"/>
                  </a:cubicBezTo>
                  <a:cubicBezTo>
                    <a:pt x="245269" y="94774"/>
                    <a:pt x="237649" y="88106"/>
                    <a:pt x="237649" y="80486"/>
                  </a:cubicBezTo>
                  <a:cubicBezTo>
                    <a:pt x="236696" y="73819"/>
                    <a:pt x="240506" y="68104"/>
                    <a:pt x="247174" y="65246"/>
                  </a:cubicBezTo>
                  <a:cubicBezTo>
                    <a:pt x="248126" y="62389"/>
                    <a:pt x="250031" y="54769"/>
                    <a:pt x="245269" y="48101"/>
                  </a:cubicBezTo>
                  <a:cubicBezTo>
                    <a:pt x="245269" y="47149"/>
                    <a:pt x="244316" y="47149"/>
                    <a:pt x="244316" y="46196"/>
                  </a:cubicBezTo>
                  <a:lnTo>
                    <a:pt x="208121" y="49054"/>
                  </a:lnTo>
                  <a:cubicBezTo>
                    <a:pt x="206216" y="52864"/>
                    <a:pt x="202406" y="61436"/>
                    <a:pt x="204311" y="65246"/>
                  </a:cubicBezTo>
                  <a:cubicBezTo>
                    <a:pt x="205264" y="66199"/>
                    <a:pt x="205264" y="67151"/>
                    <a:pt x="205264" y="68104"/>
                  </a:cubicBezTo>
                  <a:cubicBezTo>
                    <a:pt x="210979" y="69056"/>
                    <a:pt x="216694" y="74771"/>
                    <a:pt x="216694" y="81439"/>
                  </a:cubicBezTo>
                  <a:cubicBezTo>
                    <a:pt x="217646" y="90011"/>
                    <a:pt x="210979" y="96679"/>
                    <a:pt x="202406" y="97631"/>
                  </a:cubicBezTo>
                  <a:cubicBezTo>
                    <a:pt x="193834" y="98584"/>
                    <a:pt x="186214" y="91916"/>
                    <a:pt x="186214" y="84296"/>
                  </a:cubicBezTo>
                  <a:cubicBezTo>
                    <a:pt x="185261" y="77629"/>
                    <a:pt x="189071" y="71914"/>
                    <a:pt x="194786" y="69056"/>
                  </a:cubicBezTo>
                  <a:cubicBezTo>
                    <a:pt x="195739" y="66199"/>
                    <a:pt x="197644" y="58579"/>
                    <a:pt x="192881" y="51911"/>
                  </a:cubicBezTo>
                  <a:cubicBezTo>
                    <a:pt x="192881" y="50959"/>
                    <a:pt x="191929" y="50959"/>
                    <a:pt x="191929" y="50006"/>
                  </a:cubicBezTo>
                  <a:lnTo>
                    <a:pt x="155734" y="52864"/>
                  </a:lnTo>
                  <a:cubicBezTo>
                    <a:pt x="153829" y="56674"/>
                    <a:pt x="150019" y="65246"/>
                    <a:pt x="151924" y="69056"/>
                  </a:cubicBezTo>
                  <a:cubicBezTo>
                    <a:pt x="152876" y="70009"/>
                    <a:pt x="152876" y="70961"/>
                    <a:pt x="152876" y="71914"/>
                  </a:cubicBezTo>
                  <a:cubicBezTo>
                    <a:pt x="159544" y="73819"/>
                    <a:pt x="164306" y="78581"/>
                    <a:pt x="164306" y="85249"/>
                  </a:cubicBezTo>
                  <a:cubicBezTo>
                    <a:pt x="165259" y="93821"/>
                    <a:pt x="158591" y="100489"/>
                    <a:pt x="150019" y="101441"/>
                  </a:cubicBezTo>
                  <a:cubicBezTo>
                    <a:pt x="141446" y="102394"/>
                    <a:pt x="133826" y="95726"/>
                    <a:pt x="133826" y="88106"/>
                  </a:cubicBezTo>
                  <a:cubicBezTo>
                    <a:pt x="132874" y="81439"/>
                    <a:pt x="136684" y="75724"/>
                    <a:pt x="142399" y="72866"/>
                  </a:cubicBezTo>
                  <a:cubicBezTo>
                    <a:pt x="143351" y="70009"/>
                    <a:pt x="145256" y="62389"/>
                    <a:pt x="140494" y="55721"/>
                  </a:cubicBezTo>
                  <a:cubicBezTo>
                    <a:pt x="140494" y="54769"/>
                    <a:pt x="139541" y="54769"/>
                    <a:pt x="139541" y="53816"/>
                  </a:cubicBezTo>
                  <a:lnTo>
                    <a:pt x="103346" y="56674"/>
                  </a:lnTo>
                  <a:cubicBezTo>
                    <a:pt x="101441" y="60484"/>
                    <a:pt x="97631" y="69056"/>
                    <a:pt x="98584" y="72866"/>
                  </a:cubicBezTo>
                  <a:cubicBezTo>
                    <a:pt x="99536" y="73819"/>
                    <a:pt x="99536" y="74771"/>
                    <a:pt x="99536" y="75724"/>
                  </a:cubicBezTo>
                  <a:cubicBezTo>
                    <a:pt x="106204" y="77629"/>
                    <a:pt x="110966" y="82391"/>
                    <a:pt x="110966" y="89059"/>
                  </a:cubicBezTo>
                  <a:cubicBezTo>
                    <a:pt x="111919" y="97631"/>
                    <a:pt x="105251" y="104299"/>
                    <a:pt x="96679" y="105251"/>
                  </a:cubicBezTo>
                  <a:cubicBezTo>
                    <a:pt x="88106" y="106204"/>
                    <a:pt x="80486" y="99536"/>
                    <a:pt x="80486" y="91916"/>
                  </a:cubicBezTo>
                  <a:cubicBezTo>
                    <a:pt x="79534" y="85249"/>
                    <a:pt x="83344" y="79534"/>
                    <a:pt x="89059" y="76676"/>
                  </a:cubicBezTo>
                  <a:cubicBezTo>
                    <a:pt x="90011" y="73819"/>
                    <a:pt x="91916" y="66199"/>
                    <a:pt x="87154" y="59531"/>
                  </a:cubicBezTo>
                  <a:cubicBezTo>
                    <a:pt x="87154" y="58579"/>
                    <a:pt x="86201" y="58579"/>
                    <a:pt x="86201" y="57626"/>
                  </a:cubicBezTo>
                  <a:lnTo>
                    <a:pt x="50006" y="60484"/>
                  </a:lnTo>
                  <a:cubicBezTo>
                    <a:pt x="48101" y="64294"/>
                    <a:pt x="44291" y="72866"/>
                    <a:pt x="46196" y="76676"/>
                  </a:cubicBezTo>
                  <a:cubicBezTo>
                    <a:pt x="47149" y="77629"/>
                    <a:pt x="47149" y="78581"/>
                    <a:pt x="47149" y="79534"/>
                  </a:cubicBezTo>
                  <a:cubicBezTo>
                    <a:pt x="53816" y="81439"/>
                    <a:pt x="58579" y="86201"/>
                    <a:pt x="58579" y="92869"/>
                  </a:cubicBezTo>
                  <a:cubicBezTo>
                    <a:pt x="59531" y="101441"/>
                    <a:pt x="52864" y="108109"/>
                    <a:pt x="44291" y="109061"/>
                  </a:cubicBezTo>
                  <a:cubicBezTo>
                    <a:pt x="35719" y="110014"/>
                    <a:pt x="28099" y="103346"/>
                    <a:pt x="28099" y="95726"/>
                  </a:cubicBezTo>
                  <a:cubicBezTo>
                    <a:pt x="27146" y="89059"/>
                    <a:pt x="30956" y="83344"/>
                    <a:pt x="36671" y="80486"/>
                  </a:cubicBezTo>
                  <a:cubicBezTo>
                    <a:pt x="37624" y="77629"/>
                    <a:pt x="39529" y="70009"/>
                    <a:pt x="34766" y="63341"/>
                  </a:cubicBezTo>
                  <a:cubicBezTo>
                    <a:pt x="33814" y="62389"/>
                    <a:pt x="33814" y="62389"/>
                    <a:pt x="33814" y="61436"/>
                  </a:cubicBezTo>
                  <a:lnTo>
                    <a:pt x="7144" y="63341"/>
                  </a:lnTo>
                  <a:lnTo>
                    <a:pt x="51911" y="578644"/>
                  </a:lnTo>
                  <a:lnTo>
                    <a:pt x="742474" y="522446"/>
                  </a:lnTo>
                  <a:lnTo>
                    <a:pt x="697706" y="7144"/>
                  </a:lnTo>
                  <a:lnTo>
                    <a:pt x="679609" y="12859"/>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4" name="任意多边形: 形状 19"/>
            <p:cNvSpPr/>
            <p:nvPr/>
          </p:nvSpPr>
          <p:spPr>
            <a:xfrm>
              <a:off x="4964040" y="611640"/>
              <a:ext cx="1944720" cy="1521000"/>
            </a:xfrm>
            <a:custGeom>
              <a:avLst/>
              <a:gdLst>
                <a:gd name="textAreaLeft" fmla="*/ 0 w 1944720"/>
                <a:gd name="textAreaRight" fmla="*/ 1945080 w 1944720"/>
                <a:gd name="textAreaTop" fmla="*/ 0 h 1521000"/>
                <a:gd name="textAreaBottom" fmla="*/ 1521360 h 1521000"/>
              </a:gdLst>
              <a:ahLst/>
              <a:rect l="textAreaLeft" t="textAreaTop" r="textAreaRight" b="textAreaBottom"/>
              <a:pathLst>
                <a:path w="742950" h="581025">
                  <a:moveTo>
                    <a:pt x="506254" y="23336"/>
                  </a:moveTo>
                  <a:cubicBezTo>
                    <a:pt x="511016" y="30004"/>
                    <a:pt x="510064" y="37624"/>
                    <a:pt x="508159" y="40481"/>
                  </a:cubicBezTo>
                  <a:cubicBezTo>
                    <a:pt x="502444" y="43339"/>
                    <a:pt x="498634" y="49054"/>
                    <a:pt x="498634" y="55721"/>
                  </a:cubicBezTo>
                  <a:cubicBezTo>
                    <a:pt x="499586" y="64294"/>
                    <a:pt x="507206" y="70009"/>
                    <a:pt x="514826" y="69056"/>
                  </a:cubicBezTo>
                  <a:cubicBezTo>
                    <a:pt x="523399" y="68104"/>
                    <a:pt x="529114" y="61436"/>
                    <a:pt x="529114" y="52864"/>
                  </a:cubicBezTo>
                  <a:cubicBezTo>
                    <a:pt x="528161" y="46196"/>
                    <a:pt x="523399" y="41434"/>
                    <a:pt x="517684" y="39529"/>
                  </a:cubicBezTo>
                  <a:cubicBezTo>
                    <a:pt x="517684" y="38576"/>
                    <a:pt x="517684" y="37624"/>
                    <a:pt x="516731" y="36671"/>
                  </a:cubicBezTo>
                  <a:cubicBezTo>
                    <a:pt x="514826" y="31909"/>
                    <a:pt x="518636" y="24289"/>
                    <a:pt x="521494" y="20479"/>
                  </a:cubicBezTo>
                  <a:lnTo>
                    <a:pt x="557689" y="17621"/>
                  </a:lnTo>
                  <a:cubicBezTo>
                    <a:pt x="557689" y="18574"/>
                    <a:pt x="558641" y="18574"/>
                    <a:pt x="558641" y="19526"/>
                  </a:cubicBezTo>
                  <a:cubicBezTo>
                    <a:pt x="563404" y="26194"/>
                    <a:pt x="562451" y="33814"/>
                    <a:pt x="560546" y="36671"/>
                  </a:cubicBezTo>
                  <a:cubicBezTo>
                    <a:pt x="554831" y="39529"/>
                    <a:pt x="551021" y="45244"/>
                    <a:pt x="551974" y="51911"/>
                  </a:cubicBezTo>
                  <a:cubicBezTo>
                    <a:pt x="552926" y="60484"/>
                    <a:pt x="560546" y="66199"/>
                    <a:pt x="568166" y="65246"/>
                  </a:cubicBezTo>
                  <a:cubicBezTo>
                    <a:pt x="576739" y="64294"/>
                    <a:pt x="582454" y="57626"/>
                    <a:pt x="582454" y="49054"/>
                  </a:cubicBezTo>
                  <a:cubicBezTo>
                    <a:pt x="581501" y="42386"/>
                    <a:pt x="576739" y="37624"/>
                    <a:pt x="571024" y="35719"/>
                  </a:cubicBezTo>
                  <a:cubicBezTo>
                    <a:pt x="571024" y="34766"/>
                    <a:pt x="571024" y="33814"/>
                    <a:pt x="570071" y="32861"/>
                  </a:cubicBezTo>
                  <a:cubicBezTo>
                    <a:pt x="568166" y="28099"/>
                    <a:pt x="571976" y="20479"/>
                    <a:pt x="573881" y="16669"/>
                  </a:cubicBezTo>
                  <a:lnTo>
                    <a:pt x="610076" y="13811"/>
                  </a:lnTo>
                  <a:cubicBezTo>
                    <a:pt x="610076" y="14764"/>
                    <a:pt x="611029" y="14764"/>
                    <a:pt x="611029" y="15716"/>
                  </a:cubicBezTo>
                  <a:cubicBezTo>
                    <a:pt x="615791" y="22384"/>
                    <a:pt x="614839" y="30004"/>
                    <a:pt x="612934" y="32861"/>
                  </a:cubicBezTo>
                  <a:cubicBezTo>
                    <a:pt x="607219" y="35719"/>
                    <a:pt x="603409" y="41434"/>
                    <a:pt x="604361" y="48101"/>
                  </a:cubicBezTo>
                  <a:cubicBezTo>
                    <a:pt x="605314" y="56674"/>
                    <a:pt x="612934" y="62389"/>
                    <a:pt x="620554" y="61436"/>
                  </a:cubicBezTo>
                  <a:cubicBezTo>
                    <a:pt x="629126" y="60484"/>
                    <a:pt x="634841" y="53816"/>
                    <a:pt x="634841" y="45244"/>
                  </a:cubicBezTo>
                  <a:cubicBezTo>
                    <a:pt x="633889" y="38576"/>
                    <a:pt x="629126" y="33814"/>
                    <a:pt x="623411" y="31909"/>
                  </a:cubicBezTo>
                  <a:cubicBezTo>
                    <a:pt x="623411" y="30956"/>
                    <a:pt x="623411" y="30004"/>
                    <a:pt x="622459" y="29051"/>
                  </a:cubicBezTo>
                  <a:cubicBezTo>
                    <a:pt x="620554" y="24289"/>
                    <a:pt x="624364" y="16669"/>
                    <a:pt x="626269" y="12859"/>
                  </a:cubicBezTo>
                  <a:lnTo>
                    <a:pt x="662464" y="10001"/>
                  </a:lnTo>
                  <a:cubicBezTo>
                    <a:pt x="662464" y="10954"/>
                    <a:pt x="663416" y="10954"/>
                    <a:pt x="663416" y="11906"/>
                  </a:cubicBezTo>
                  <a:cubicBezTo>
                    <a:pt x="668179" y="18574"/>
                    <a:pt x="667226" y="26194"/>
                    <a:pt x="665321" y="29051"/>
                  </a:cubicBezTo>
                  <a:cubicBezTo>
                    <a:pt x="659606" y="31909"/>
                    <a:pt x="655796" y="37624"/>
                    <a:pt x="656749" y="44291"/>
                  </a:cubicBezTo>
                  <a:cubicBezTo>
                    <a:pt x="657701" y="52864"/>
                    <a:pt x="665321" y="58579"/>
                    <a:pt x="672941" y="57626"/>
                  </a:cubicBezTo>
                  <a:cubicBezTo>
                    <a:pt x="681514" y="56674"/>
                    <a:pt x="687229" y="50006"/>
                    <a:pt x="687229" y="41434"/>
                  </a:cubicBezTo>
                  <a:cubicBezTo>
                    <a:pt x="686276" y="34766"/>
                    <a:pt x="681514" y="30004"/>
                    <a:pt x="675799" y="28099"/>
                  </a:cubicBezTo>
                  <a:cubicBezTo>
                    <a:pt x="675799" y="27146"/>
                    <a:pt x="675799" y="26194"/>
                    <a:pt x="674846" y="25241"/>
                  </a:cubicBezTo>
                  <a:cubicBezTo>
                    <a:pt x="672941" y="20479"/>
                    <a:pt x="676751" y="12859"/>
                    <a:pt x="678656" y="9049"/>
                  </a:cubicBezTo>
                  <a:lnTo>
                    <a:pt x="697706" y="7144"/>
                  </a:lnTo>
                  <a:lnTo>
                    <a:pt x="742474" y="522446"/>
                  </a:lnTo>
                  <a:lnTo>
                    <a:pt x="51911" y="578644"/>
                  </a:lnTo>
                  <a:lnTo>
                    <a:pt x="7144" y="63341"/>
                  </a:lnTo>
                  <a:lnTo>
                    <a:pt x="33814" y="61436"/>
                  </a:lnTo>
                  <a:cubicBezTo>
                    <a:pt x="33814" y="62389"/>
                    <a:pt x="34766" y="62389"/>
                    <a:pt x="34766" y="63341"/>
                  </a:cubicBezTo>
                  <a:cubicBezTo>
                    <a:pt x="39529" y="70009"/>
                    <a:pt x="38576" y="77629"/>
                    <a:pt x="36671" y="80486"/>
                  </a:cubicBezTo>
                  <a:cubicBezTo>
                    <a:pt x="30956" y="83344"/>
                    <a:pt x="27146" y="89059"/>
                    <a:pt x="28099" y="95726"/>
                  </a:cubicBezTo>
                  <a:cubicBezTo>
                    <a:pt x="29051" y="104299"/>
                    <a:pt x="36671" y="110014"/>
                    <a:pt x="44291" y="109061"/>
                  </a:cubicBezTo>
                  <a:cubicBezTo>
                    <a:pt x="52864" y="108109"/>
                    <a:pt x="58579" y="101441"/>
                    <a:pt x="58579" y="92869"/>
                  </a:cubicBezTo>
                  <a:cubicBezTo>
                    <a:pt x="57626" y="86201"/>
                    <a:pt x="52864" y="81439"/>
                    <a:pt x="47149" y="79534"/>
                  </a:cubicBezTo>
                  <a:cubicBezTo>
                    <a:pt x="47149" y="78581"/>
                    <a:pt x="47149" y="77629"/>
                    <a:pt x="46196" y="76676"/>
                  </a:cubicBezTo>
                  <a:cubicBezTo>
                    <a:pt x="44291" y="71914"/>
                    <a:pt x="48101" y="64294"/>
                    <a:pt x="50006" y="60484"/>
                  </a:cubicBezTo>
                  <a:lnTo>
                    <a:pt x="86201" y="57626"/>
                  </a:lnTo>
                  <a:cubicBezTo>
                    <a:pt x="86201" y="58579"/>
                    <a:pt x="87154" y="58579"/>
                    <a:pt x="87154" y="59531"/>
                  </a:cubicBezTo>
                  <a:cubicBezTo>
                    <a:pt x="91916" y="66199"/>
                    <a:pt x="90964" y="73819"/>
                    <a:pt x="89059" y="76676"/>
                  </a:cubicBezTo>
                  <a:cubicBezTo>
                    <a:pt x="83344" y="79534"/>
                    <a:pt x="79534" y="85249"/>
                    <a:pt x="80486" y="91916"/>
                  </a:cubicBezTo>
                  <a:cubicBezTo>
                    <a:pt x="81439" y="100489"/>
                    <a:pt x="88106" y="106204"/>
                    <a:pt x="96679" y="105251"/>
                  </a:cubicBezTo>
                  <a:cubicBezTo>
                    <a:pt x="105251" y="104299"/>
                    <a:pt x="110966" y="97631"/>
                    <a:pt x="110966" y="89059"/>
                  </a:cubicBezTo>
                  <a:cubicBezTo>
                    <a:pt x="110014" y="82391"/>
                    <a:pt x="105251" y="77629"/>
                    <a:pt x="99536" y="75724"/>
                  </a:cubicBezTo>
                  <a:cubicBezTo>
                    <a:pt x="99536" y="74771"/>
                    <a:pt x="99536" y="73819"/>
                    <a:pt x="98584" y="72866"/>
                  </a:cubicBezTo>
                  <a:cubicBezTo>
                    <a:pt x="96679" y="68104"/>
                    <a:pt x="100489" y="60484"/>
                    <a:pt x="103346" y="56674"/>
                  </a:cubicBezTo>
                  <a:lnTo>
                    <a:pt x="139541" y="53816"/>
                  </a:lnTo>
                  <a:cubicBezTo>
                    <a:pt x="139541" y="54769"/>
                    <a:pt x="140494" y="54769"/>
                    <a:pt x="140494" y="55721"/>
                  </a:cubicBezTo>
                  <a:cubicBezTo>
                    <a:pt x="145256" y="62389"/>
                    <a:pt x="144304" y="70009"/>
                    <a:pt x="142399" y="72866"/>
                  </a:cubicBezTo>
                  <a:cubicBezTo>
                    <a:pt x="136684" y="75724"/>
                    <a:pt x="132874" y="81439"/>
                    <a:pt x="133826" y="88106"/>
                  </a:cubicBezTo>
                  <a:cubicBezTo>
                    <a:pt x="134779" y="96679"/>
                    <a:pt x="141446" y="102394"/>
                    <a:pt x="150019" y="101441"/>
                  </a:cubicBezTo>
                  <a:cubicBezTo>
                    <a:pt x="158591" y="100489"/>
                    <a:pt x="164306" y="93821"/>
                    <a:pt x="164306" y="85249"/>
                  </a:cubicBezTo>
                  <a:cubicBezTo>
                    <a:pt x="163354" y="78581"/>
                    <a:pt x="158591" y="73819"/>
                    <a:pt x="152876" y="71914"/>
                  </a:cubicBezTo>
                  <a:cubicBezTo>
                    <a:pt x="152876" y="70961"/>
                    <a:pt x="152876" y="70009"/>
                    <a:pt x="151924" y="69056"/>
                  </a:cubicBezTo>
                  <a:cubicBezTo>
                    <a:pt x="150019" y="64294"/>
                    <a:pt x="153829" y="56674"/>
                    <a:pt x="155734" y="52864"/>
                  </a:cubicBezTo>
                  <a:lnTo>
                    <a:pt x="191929" y="50006"/>
                  </a:lnTo>
                  <a:cubicBezTo>
                    <a:pt x="191929" y="50959"/>
                    <a:pt x="192881" y="50959"/>
                    <a:pt x="192881" y="51911"/>
                  </a:cubicBezTo>
                  <a:cubicBezTo>
                    <a:pt x="197644" y="58579"/>
                    <a:pt x="196691" y="66199"/>
                    <a:pt x="194786" y="69056"/>
                  </a:cubicBezTo>
                  <a:cubicBezTo>
                    <a:pt x="189071" y="71914"/>
                    <a:pt x="185261" y="77629"/>
                    <a:pt x="186214" y="84296"/>
                  </a:cubicBezTo>
                  <a:cubicBezTo>
                    <a:pt x="187166" y="92869"/>
                    <a:pt x="193834" y="98584"/>
                    <a:pt x="202406" y="97631"/>
                  </a:cubicBezTo>
                  <a:cubicBezTo>
                    <a:pt x="210979" y="96679"/>
                    <a:pt x="216694" y="90011"/>
                    <a:pt x="216694" y="81439"/>
                  </a:cubicBezTo>
                  <a:cubicBezTo>
                    <a:pt x="215741" y="74771"/>
                    <a:pt x="210979" y="70009"/>
                    <a:pt x="205264" y="68104"/>
                  </a:cubicBezTo>
                  <a:cubicBezTo>
                    <a:pt x="205264" y="67151"/>
                    <a:pt x="205264" y="66199"/>
                    <a:pt x="204311" y="65246"/>
                  </a:cubicBezTo>
                  <a:cubicBezTo>
                    <a:pt x="202406" y="60484"/>
                    <a:pt x="206216" y="52864"/>
                    <a:pt x="208121" y="49054"/>
                  </a:cubicBezTo>
                  <a:lnTo>
                    <a:pt x="244316" y="46196"/>
                  </a:lnTo>
                  <a:cubicBezTo>
                    <a:pt x="244316" y="47149"/>
                    <a:pt x="245269" y="47149"/>
                    <a:pt x="245269" y="48101"/>
                  </a:cubicBezTo>
                  <a:cubicBezTo>
                    <a:pt x="250031" y="54769"/>
                    <a:pt x="249079" y="62389"/>
                    <a:pt x="247174" y="65246"/>
                  </a:cubicBezTo>
                  <a:cubicBezTo>
                    <a:pt x="241459" y="68104"/>
                    <a:pt x="237649" y="73819"/>
                    <a:pt x="237649" y="80486"/>
                  </a:cubicBezTo>
                  <a:cubicBezTo>
                    <a:pt x="238601" y="89059"/>
                    <a:pt x="246221" y="94774"/>
                    <a:pt x="253841" y="93821"/>
                  </a:cubicBezTo>
                  <a:cubicBezTo>
                    <a:pt x="262414" y="92869"/>
                    <a:pt x="268129" y="86201"/>
                    <a:pt x="268129" y="77629"/>
                  </a:cubicBezTo>
                  <a:cubicBezTo>
                    <a:pt x="267176" y="70961"/>
                    <a:pt x="262414" y="66199"/>
                    <a:pt x="256699" y="64294"/>
                  </a:cubicBezTo>
                  <a:cubicBezTo>
                    <a:pt x="256699" y="63341"/>
                    <a:pt x="256699" y="62389"/>
                    <a:pt x="255746" y="61436"/>
                  </a:cubicBezTo>
                  <a:cubicBezTo>
                    <a:pt x="253841" y="56674"/>
                    <a:pt x="257651" y="49054"/>
                    <a:pt x="259556" y="45244"/>
                  </a:cubicBezTo>
                  <a:lnTo>
                    <a:pt x="295751" y="42386"/>
                  </a:lnTo>
                  <a:cubicBezTo>
                    <a:pt x="295751" y="43339"/>
                    <a:pt x="296704" y="43339"/>
                    <a:pt x="296704" y="44291"/>
                  </a:cubicBezTo>
                  <a:cubicBezTo>
                    <a:pt x="301466" y="50959"/>
                    <a:pt x="299561" y="58579"/>
                    <a:pt x="298609" y="61436"/>
                  </a:cubicBezTo>
                  <a:cubicBezTo>
                    <a:pt x="292894" y="64294"/>
                    <a:pt x="289084" y="70009"/>
                    <a:pt x="290036" y="76676"/>
                  </a:cubicBezTo>
                  <a:cubicBezTo>
                    <a:pt x="290989" y="85249"/>
                    <a:pt x="298609" y="90964"/>
                    <a:pt x="306229" y="90011"/>
                  </a:cubicBezTo>
                  <a:cubicBezTo>
                    <a:pt x="314801" y="89059"/>
                    <a:pt x="320516" y="82391"/>
                    <a:pt x="320516" y="73819"/>
                  </a:cubicBezTo>
                  <a:cubicBezTo>
                    <a:pt x="319564" y="67151"/>
                    <a:pt x="314801" y="62389"/>
                    <a:pt x="309086" y="60484"/>
                  </a:cubicBezTo>
                  <a:cubicBezTo>
                    <a:pt x="309086" y="59531"/>
                    <a:pt x="309086" y="58579"/>
                    <a:pt x="308134" y="57626"/>
                  </a:cubicBezTo>
                  <a:cubicBezTo>
                    <a:pt x="306229" y="52864"/>
                    <a:pt x="310039" y="45244"/>
                    <a:pt x="311944" y="41434"/>
                  </a:cubicBezTo>
                  <a:lnTo>
                    <a:pt x="348139" y="38576"/>
                  </a:lnTo>
                  <a:cubicBezTo>
                    <a:pt x="348139" y="39529"/>
                    <a:pt x="349091" y="39529"/>
                    <a:pt x="349091" y="40481"/>
                  </a:cubicBezTo>
                  <a:cubicBezTo>
                    <a:pt x="353854" y="47149"/>
                    <a:pt x="352901" y="54769"/>
                    <a:pt x="350996" y="57626"/>
                  </a:cubicBezTo>
                  <a:cubicBezTo>
                    <a:pt x="345281" y="60484"/>
                    <a:pt x="341471" y="66199"/>
                    <a:pt x="342424" y="72866"/>
                  </a:cubicBezTo>
                  <a:cubicBezTo>
                    <a:pt x="343376" y="81439"/>
                    <a:pt x="350996" y="87154"/>
                    <a:pt x="358616" y="86201"/>
                  </a:cubicBezTo>
                  <a:cubicBezTo>
                    <a:pt x="367189" y="85249"/>
                    <a:pt x="372904" y="78581"/>
                    <a:pt x="372904" y="70009"/>
                  </a:cubicBezTo>
                  <a:cubicBezTo>
                    <a:pt x="371951" y="63341"/>
                    <a:pt x="367189" y="58579"/>
                    <a:pt x="361474" y="56674"/>
                  </a:cubicBezTo>
                  <a:cubicBezTo>
                    <a:pt x="361474" y="55721"/>
                    <a:pt x="361474" y="54769"/>
                    <a:pt x="360521" y="53816"/>
                  </a:cubicBezTo>
                  <a:cubicBezTo>
                    <a:pt x="358616" y="49054"/>
                    <a:pt x="362426" y="41434"/>
                    <a:pt x="365284" y="37624"/>
                  </a:cubicBezTo>
                  <a:lnTo>
                    <a:pt x="401479" y="34766"/>
                  </a:lnTo>
                  <a:cubicBezTo>
                    <a:pt x="401479" y="35719"/>
                    <a:pt x="402431" y="35719"/>
                    <a:pt x="402431" y="36671"/>
                  </a:cubicBezTo>
                  <a:cubicBezTo>
                    <a:pt x="407194" y="43339"/>
                    <a:pt x="406241" y="50959"/>
                    <a:pt x="404336" y="53816"/>
                  </a:cubicBezTo>
                  <a:cubicBezTo>
                    <a:pt x="398621" y="56674"/>
                    <a:pt x="394811" y="62389"/>
                    <a:pt x="395764" y="69056"/>
                  </a:cubicBezTo>
                  <a:cubicBezTo>
                    <a:pt x="396716" y="77629"/>
                    <a:pt x="404336" y="83344"/>
                    <a:pt x="411956" y="82391"/>
                  </a:cubicBezTo>
                  <a:cubicBezTo>
                    <a:pt x="420529" y="81439"/>
                    <a:pt x="426244" y="74771"/>
                    <a:pt x="426244" y="66199"/>
                  </a:cubicBezTo>
                  <a:cubicBezTo>
                    <a:pt x="425291" y="59531"/>
                    <a:pt x="420529" y="54769"/>
                    <a:pt x="414814" y="52864"/>
                  </a:cubicBezTo>
                  <a:cubicBezTo>
                    <a:pt x="414814" y="51911"/>
                    <a:pt x="414814" y="50959"/>
                    <a:pt x="413861" y="50006"/>
                  </a:cubicBezTo>
                  <a:cubicBezTo>
                    <a:pt x="411956" y="45244"/>
                    <a:pt x="415766" y="37624"/>
                    <a:pt x="417671" y="33814"/>
                  </a:cubicBezTo>
                  <a:lnTo>
                    <a:pt x="453866" y="30956"/>
                  </a:lnTo>
                  <a:cubicBezTo>
                    <a:pt x="453866" y="31909"/>
                    <a:pt x="454819" y="31909"/>
                    <a:pt x="454819" y="32861"/>
                  </a:cubicBezTo>
                  <a:cubicBezTo>
                    <a:pt x="459581" y="39529"/>
                    <a:pt x="458629" y="47149"/>
                    <a:pt x="456724" y="50006"/>
                  </a:cubicBezTo>
                  <a:cubicBezTo>
                    <a:pt x="451009" y="52864"/>
                    <a:pt x="447199" y="58579"/>
                    <a:pt x="447199" y="65246"/>
                  </a:cubicBezTo>
                  <a:cubicBezTo>
                    <a:pt x="448151" y="73819"/>
                    <a:pt x="455771" y="79534"/>
                    <a:pt x="463391" y="78581"/>
                  </a:cubicBezTo>
                  <a:cubicBezTo>
                    <a:pt x="471964" y="77629"/>
                    <a:pt x="477679" y="70961"/>
                    <a:pt x="477679" y="62389"/>
                  </a:cubicBezTo>
                  <a:cubicBezTo>
                    <a:pt x="476726" y="55721"/>
                    <a:pt x="471964" y="50959"/>
                    <a:pt x="466249" y="49054"/>
                  </a:cubicBezTo>
                  <a:cubicBezTo>
                    <a:pt x="466249" y="48101"/>
                    <a:pt x="466249" y="47149"/>
                    <a:pt x="465296" y="46196"/>
                  </a:cubicBezTo>
                  <a:cubicBezTo>
                    <a:pt x="463391" y="41434"/>
                    <a:pt x="467201" y="33814"/>
                    <a:pt x="469106" y="30004"/>
                  </a:cubicBezTo>
                  <a:lnTo>
                    <a:pt x="505301" y="27146"/>
                  </a:lnTo>
                  <a:cubicBezTo>
                    <a:pt x="505301" y="22384"/>
                    <a:pt x="505301" y="22384"/>
                    <a:pt x="506254" y="23336"/>
                  </a:cubicBez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5" name="任意多边形: 形状 20"/>
            <p:cNvSpPr/>
            <p:nvPr/>
          </p:nvSpPr>
          <p:spPr>
            <a:xfrm>
              <a:off x="6627240" y="7786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6" name="任意多边形: 形状 21"/>
            <p:cNvSpPr/>
            <p:nvPr/>
          </p:nvSpPr>
          <p:spPr>
            <a:xfrm>
              <a:off x="6490080" y="7912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1906"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7" name="任意多边形: 形状 22"/>
            <p:cNvSpPr/>
            <p:nvPr/>
          </p:nvSpPr>
          <p:spPr>
            <a:xfrm>
              <a:off x="6352920" y="801360"/>
              <a:ext cx="124560" cy="1146960"/>
            </a:xfrm>
            <a:custGeom>
              <a:avLst/>
              <a:gdLst>
                <a:gd name="textAreaLeft" fmla="*/ 0 w 124560"/>
                <a:gd name="textAreaRight" fmla="*/ 124920 w 124560"/>
                <a:gd name="textAreaTop" fmla="*/ 0 h 1146960"/>
                <a:gd name="textAreaBottom" fmla="*/ 1147320 h 1146960"/>
              </a:gdLst>
              <a:ahLst/>
              <a:rect l="textAreaLeft" t="textAreaTop" r="textAreaRight" b="textAreaBottom"/>
              <a:pathLst>
                <a:path w="47625"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8" name="任意多边形: 形状 23"/>
            <p:cNvSpPr/>
            <p:nvPr/>
          </p:nvSpPr>
          <p:spPr>
            <a:xfrm>
              <a:off x="6215760" y="81360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1906"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9" name="任意多边形: 形状 24"/>
            <p:cNvSpPr/>
            <p:nvPr/>
          </p:nvSpPr>
          <p:spPr>
            <a:xfrm>
              <a:off x="6078600" y="8236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 name="任意多边形: 形状 25"/>
            <p:cNvSpPr/>
            <p:nvPr/>
          </p:nvSpPr>
          <p:spPr>
            <a:xfrm>
              <a:off x="5941440" y="8362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1906"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 name="任意多边形: 形状 26"/>
            <p:cNvSpPr/>
            <p:nvPr/>
          </p:nvSpPr>
          <p:spPr>
            <a:xfrm>
              <a:off x="5804280" y="84636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 name="任意多边形: 形状 27"/>
            <p:cNvSpPr/>
            <p:nvPr/>
          </p:nvSpPr>
          <p:spPr>
            <a:xfrm>
              <a:off x="5666760" y="85644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7735" y="8146"/>
                  </a:moveTo>
                  <a:lnTo>
                    <a:pt x="12480" y="7735"/>
                  </a:lnTo>
                  <a:lnTo>
                    <a:pt x="49931" y="439519"/>
                  </a:lnTo>
                  <a:lnTo>
                    <a:pt x="45186" y="439930"/>
                  </a:lnTo>
                  <a:lnTo>
                    <a:pt x="7735" y="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3" name="任意多边形: 形状 28"/>
            <p:cNvSpPr/>
            <p:nvPr/>
          </p:nvSpPr>
          <p:spPr>
            <a:xfrm>
              <a:off x="5529960" y="8686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4" name="任意多边形: 形状 29"/>
            <p:cNvSpPr/>
            <p:nvPr/>
          </p:nvSpPr>
          <p:spPr>
            <a:xfrm>
              <a:off x="5392800" y="88092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1906"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5" name="任意多边形: 形状 30"/>
            <p:cNvSpPr/>
            <p:nvPr/>
          </p:nvSpPr>
          <p:spPr>
            <a:xfrm>
              <a:off x="5255640" y="89100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2859"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 name="任意多边形: 形状 31"/>
            <p:cNvSpPr/>
            <p:nvPr/>
          </p:nvSpPr>
          <p:spPr>
            <a:xfrm>
              <a:off x="5118840" y="90360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2859"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 name="任意多边形: 形状 32"/>
            <p:cNvSpPr/>
            <p:nvPr/>
          </p:nvSpPr>
          <p:spPr>
            <a:xfrm>
              <a:off x="0" y="3479400"/>
              <a:ext cx="3615120" cy="2692800"/>
            </a:xfrm>
            <a:custGeom>
              <a:avLst/>
              <a:gdLst>
                <a:gd name="textAreaLeft" fmla="*/ 0 w 3615120"/>
                <a:gd name="textAreaRight" fmla="*/ 3615480 w 3615120"/>
                <a:gd name="textAreaTop" fmla="*/ 0 h 2692800"/>
                <a:gd name="textAreaBottom" fmla="*/ 2693160 h 2692800"/>
              </a:gdLst>
              <a:ahLst/>
              <a:rect l="textAreaLeft" t="textAreaTop" r="textAreaRight" b="textAreaBottom"/>
              <a:pathLst>
                <a:path w="1381125" h="1028700">
                  <a:moveTo>
                    <a:pt x="651986" y="168116"/>
                  </a:moveTo>
                  <a:lnTo>
                    <a:pt x="586264" y="294799"/>
                  </a:lnTo>
                  <a:cubicBezTo>
                    <a:pt x="518636" y="279559"/>
                    <a:pt x="436721" y="273844"/>
                    <a:pt x="407194" y="325279"/>
                  </a:cubicBezTo>
                  <a:lnTo>
                    <a:pt x="384334" y="310991"/>
                  </a:lnTo>
                  <a:lnTo>
                    <a:pt x="407194" y="277654"/>
                  </a:lnTo>
                  <a:lnTo>
                    <a:pt x="336709" y="229076"/>
                  </a:lnTo>
                  <a:lnTo>
                    <a:pt x="7144" y="7144"/>
                  </a:lnTo>
                  <a:lnTo>
                    <a:pt x="7144" y="284321"/>
                  </a:lnTo>
                  <a:lnTo>
                    <a:pt x="203359" y="423386"/>
                  </a:lnTo>
                  <a:lnTo>
                    <a:pt x="202406" y="424339"/>
                  </a:lnTo>
                  <a:lnTo>
                    <a:pt x="272891" y="472916"/>
                  </a:lnTo>
                  <a:lnTo>
                    <a:pt x="287179" y="451961"/>
                  </a:lnTo>
                  <a:lnTo>
                    <a:pt x="316706" y="470059"/>
                  </a:lnTo>
                  <a:cubicBezTo>
                    <a:pt x="316706" y="470059"/>
                    <a:pt x="300514" y="502444"/>
                    <a:pt x="361474" y="533876"/>
                  </a:cubicBezTo>
                  <a:lnTo>
                    <a:pt x="439579" y="574834"/>
                  </a:lnTo>
                  <a:lnTo>
                    <a:pt x="367189" y="713899"/>
                  </a:lnTo>
                  <a:lnTo>
                    <a:pt x="967264" y="1025366"/>
                  </a:lnTo>
                  <a:lnTo>
                    <a:pt x="1150144" y="987266"/>
                  </a:lnTo>
                  <a:lnTo>
                    <a:pt x="1378744" y="546259"/>
                  </a:lnTo>
                  <a:lnTo>
                    <a:pt x="651986" y="168116"/>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8" name="任意多边形: 形状 33"/>
            <p:cNvSpPr/>
            <p:nvPr/>
          </p:nvSpPr>
          <p:spPr>
            <a:xfrm>
              <a:off x="944640" y="3778560"/>
              <a:ext cx="2667600" cy="2269080"/>
            </a:xfrm>
            <a:custGeom>
              <a:avLst/>
              <a:gdLst>
                <a:gd name="textAreaLeft" fmla="*/ 0 w 2667600"/>
                <a:gd name="textAreaRight" fmla="*/ 2667960 w 2667600"/>
                <a:gd name="textAreaTop" fmla="*/ 0 h 2269080"/>
                <a:gd name="textAreaBottom" fmla="*/ 2269440 h 2269080"/>
              </a:gdLst>
              <a:ahLst/>
              <a:rect l="textAreaLeft" t="textAreaTop" r="textAreaRight" b="textAreaBottom"/>
              <a:pathLst>
                <a:path w="1019175" h="866775">
                  <a:moveTo>
                    <a:pt x="7144" y="552926"/>
                  </a:moveTo>
                  <a:lnTo>
                    <a:pt x="290989" y="7144"/>
                  </a:lnTo>
                  <a:lnTo>
                    <a:pt x="1019651" y="385286"/>
                  </a:lnTo>
                  <a:lnTo>
                    <a:pt x="790099" y="827246"/>
                  </a:lnTo>
                  <a:lnTo>
                    <a:pt x="608171" y="865346"/>
                  </a:lnTo>
                  <a:lnTo>
                    <a:pt x="7144" y="552926"/>
                  </a:ln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9" name="任意多边形: 形状 34"/>
            <p:cNvSpPr/>
            <p:nvPr/>
          </p:nvSpPr>
          <p:spPr>
            <a:xfrm>
              <a:off x="2518200" y="5751000"/>
              <a:ext cx="498600" cy="299160"/>
            </a:xfrm>
            <a:custGeom>
              <a:avLst/>
              <a:gdLst>
                <a:gd name="textAreaLeft" fmla="*/ 0 w 498600"/>
                <a:gd name="textAreaRight" fmla="*/ 498960 w 498600"/>
                <a:gd name="textAreaTop" fmla="*/ 0 h 299160"/>
                <a:gd name="textAreaBottom" fmla="*/ 299520 h 299160"/>
              </a:gdLst>
              <a:ahLst/>
              <a:rect l="textAreaLeft" t="textAreaTop" r="textAreaRight" b="textAreaBottom"/>
              <a:pathLst>
                <a:path w="190500" h="114300">
                  <a:moveTo>
                    <a:pt x="189071" y="73819"/>
                  </a:moveTo>
                  <a:lnTo>
                    <a:pt x="7144" y="111919"/>
                  </a:lnTo>
                  <a:lnTo>
                    <a:pt x="60484" y="7144"/>
                  </a:lnTo>
                  <a:lnTo>
                    <a:pt x="189071" y="73819"/>
                  </a:lnTo>
                  <a:close/>
                </a:path>
              </a:pathLst>
            </a:custGeom>
            <a:solidFill>
              <a:srgbClr val="5fb5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0" name="任意多边形: 形状 35"/>
            <p:cNvSpPr/>
            <p:nvPr/>
          </p:nvSpPr>
          <p:spPr>
            <a:xfrm>
              <a:off x="2793600" y="4769640"/>
              <a:ext cx="573120" cy="972360"/>
            </a:xfrm>
            <a:custGeom>
              <a:avLst/>
              <a:gdLst>
                <a:gd name="textAreaLeft" fmla="*/ 0 w 573120"/>
                <a:gd name="textAreaRight" fmla="*/ 573480 w 573120"/>
                <a:gd name="textAreaTop" fmla="*/ 0 h 972360"/>
                <a:gd name="textAreaBottom" fmla="*/ 972720 h 972360"/>
              </a:gdLst>
              <a:ahLst/>
              <a:rect l="textAreaLeft" t="textAreaTop" r="textAreaRight" b="textAreaBottom"/>
              <a:pathLst>
                <a:path w="219075" h="371475">
                  <a:moveTo>
                    <a:pt x="9631" y="356261"/>
                  </a:moveTo>
                  <a:lnTo>
                    <a:pt x="189507" y="9631"/>
                  </a:lnTo>
                  <a:lnTo>
                    <a:pt x="214870" y="22793"/>
                  </a:lnTo>
                  <a:lnTo>
                    <a:pt x="34994" y="369423"/>
                  </a:lnTo>
                  <a:lnTo>
                    <a:pt x="9631" y="35626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1" name="任意多边形: 形状 36"/>
            <p:cNvSpPr/>
            <p:nvPr/>
          </p:nvSpPr>
          <p:spPr>
            <a:xfrm>
              <a:off x="2603880" y="4672080"/>
              <a:ext cx="573120" cy="972360"/>
            </a:xfrm>
            <a:custGeom>
              <a:avLst/>
              <a:gdLst>
                <a:gd name="textAreaLeft" fmla="*/ 0 w 573120"/>
                <a:gd name="textAreaRight" fmla="*/ 573480 w 573120"/>
                <a:gd name="textAreaTop" fmla="*/ 0 h 972360"/>
                <a:gd name="textAreaBottom" fmla="*/ 972720 h 972360"/>
              </a:gdLst>
              <a:ahLst/>
              <a:rect l="textAreaLeft" t="textAreaTop" r="textAreaRight" b="textAreaBottom"/>
              <a:pathLst>
                <a:path w="219075" h="371475">
                  <a:moveTo>
                    <a:pt x="9631" y="356261"/>
                  </a:moveTo>
                  <a:lnTo>
                    <a:pt x="189507" y="9631"/>
                  </a:lnTo>
                  <a:lnTo>
                    <a:pt x="214870" y="22793"/>
                  </a:lnTo>
                  <a:lnTo>
                    <a:pt x="34994" y="369423"/>
                  </a:lnTo>
                  <a:lnTo>
                    <a:pt x="9631" y="35626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2" name="任意多边形: 形状 37"/>
            <p:cNvSpPr/>
            <p:nvPr/>
          </p:nvSpPr>
          <p:spPr>
            <a:xfrm>
              <a:off x="1952280" y="4402080"/>
              <a:ext cx="972360" cy="1196640"/>
            </a:xfrm>
            <a:custGeom>
              <a:avLst/>
              <a:gdLst>
                <a:gd name="textAreaLeft" fmla="*/ 0 w 972360"/>
                <a:gd name="textAreaRight" fmla="*/ 972720 w 972360"/>
                <a:gd name="textAreaTop" fmla="*/ 0 h 1196640"/>
                <a:gd name="textAreaBottom" fmla="*/ 1197000 h 1196640"/>
              </a:gdLst>
              <a:ahLst/>
              <a:rect l="textAreaLeft" t="textAreaTop" r="textAreaRight" b="textAreaBottom"/>
              <a:pathLst>
                <a:path w="371475" h="457200">
                  <a:moveTo>
                    <a:pt x="7144" y="448151"/>
                  </a:moveTo>
                  <a:lnTo>
                    <a:pt x="235744" y="7144"/>
                  </a:lnTo>
                  <a:lnTo>
                    <a:pt x="371951" y="78581"/>
                  </a:lnTo>
                  <a:lnTo>
                    <a:pt x="365284" y="92869"/>
                  </a:lnTo>
                  <a:lnTo>
                    <a:pt x="242411" y="29051"/>
                  </a:lnTo>
                  <a:lnTo>
                    <a:pt x="21431" y="455771"/>
                  </a:lnTo>
                  <a:lnTo>
                    <a:pt x="7144" y="44815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3" name="任意多边形: 形状 38"/>
            <p:cNvSpPr/>
            <p:nvPr/>
          </p:nvSpPr>
          <p:spPr>
            <a:xfrm>
              <a:off x="2286360" y="4533480"/>
              <a:ext cx="448560" cy="1246680"/>
            </a:xfrm>
            <a:custGeom>
              <a:avLst/>
              <a:gdLst>
                <a:gd name="textAreaLeft" fmla="*/ 0 w 448560"/>
                <a:gd name="textAreaRight" fmla="*/ 448920 w 448560"/>
                <a:gd name="textAreaTop" fmla="*/ 0 h 1246680"/>
                <a:gd name="textAreaBottom" fmla="*/ 1247040 h 1246680"/>
              </a:gdLst>
              <a:ahLst/>
              <a:rect l="textAreaLeft" t="textAreaTop" r="textAreaRight" b="textAreaBottom"/>
              <a:pathLst>
                <a:path w="171450" h="476250">
                  <a:moveTo>
                    <a:pt x="30956" y="459821"/>
                  </a:moveTo>
                  <a:cubicBezTo>
                    <a:pt x="30004" y="397909"/>
                    <a:pt x="28099" y="336949"/>
                    <a:pt x="27146" y="275036"/>
                  </a:cubicBezTo>
                  <a:cubicBezTo>
                    <a:pt x="50959" y="276941"/>
                    <a:pt x="73819" y="278846"/>
                    <a:pt x="97631" y="280751"/>
                  </a:cubicBezTo>
                  <a:cubicBezTo>
                    <a:pt x="103346" y="280751"/>
                    <a:pt x="107156" y="275036"/>
                    <a:pt x="107156" y="270274"/>
                  </a:cubicBezTo>
                  <a:cubicBezTo>
                    <a:pt x="105251" y="224554"/>
                    <a:pt x="103346" y="179786"/>
                    <a:pt x="100489" y="134066"/>
                  </a:cubicBezTo>
                  <a:cubicBezTo>
                    <a:pt x="118586" y="135971"/>
                    <a:pt x="135731" y="137876"/>
                    <a:pt x="153829" y="139782"/>
                  </a:cubicBezTo>
                  <a:cubicBezTo>
                    <a:pt x="161449" y="140734"/>
                    <a:pt x="168116" y="135019"/>
                    <a:pt x="165259" y="126446"/>
                  </a:cubicBezTo>
                  <a:cubicBezTo>
                    <a:pt x="155734" y="89299"/>
                    <a:pt x="146209" y="51199"/>
                    <a:pt x="136684" y="14051"/>
                  </a:cubicBezTo>
                  <a:cubicBezTo>
                    <a:pt x="133826" y="1669"/>
                    <a:pt x="113824" y="7384"/>
                    <a:pt x="117634" y="19766"/>
                  </a:cubicBezTo>
                  <a:cubicBezTo>
                    <a:pt x="126206" y="52151"/>
                    <a:pt x="134779" y="85489"/>
                    <a:pt x="142399" y="117874"/>
                  </a:cubicBezTo>
                  <a:cubicBezTo>
                    <a:pt x="125254" y="115969"/>
                    <a:pt x="109061" y="114064"/>
                    <a:pt x="91916" y="112159"/>
                  </a:cubicBezTo>
                  <a:cubicBezTo>
                    <a:pt x="85249" y="111207"/>
                    <a:pt x="79534" y="115016"/>
                    <a:pt x="79534" y="122636"/>
                  </a:cubicBezTo>
                  <a:cubicBezTo>
                    <a:pt x="81439" y="168357"/>
                    <a:pt x="83344" y="213124"/>
                    <a:pt x="86201" y="258844"/>
                  </a:cubicBezTo>
                  <a:cubicBezTo>
                    <a:pt x="63341" y="256939"/>
                    <a:pt x="39529" y="255034"/>
                    <a:pt x="16669" y="253129"/>
                  </a:cubicBezTo>
                  <a:cubicBezTo>
                    <a:pt x="10954" y="253129"/>
                    <a:pt x="7144" y="258844"/>
                    <a:pt x="7144" y="263607"/>
                  </a:cubicBezTo>
                  <a:cubicBezTo>
                    <a:pt x="8096" y="329329"/>
                    <a:pt x="10001" y="394099"/>
                    <a:pt x="10954" y="459821"/>
                  </a:cubicBezTo>
                  <a:cubicBezTo>
                    <a:pt x="10001" y="474109"/>
                    <a:pt x="30956" y="473157"/>
                    <a:pt x="30956" y="459821"/>
                  </a:cubicBez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4" name="任意多边形: 形状 39"/>
            <p:cNvSpPr/>
            <p:nvPr/>
          </p:nvSpPr>
          <p:spPr>
            <a:xfrm>
              <a:off x="1728360" y="4282920"/>
              <a:ext cx="698040" cy="1221840"/>
            </a:xfrm>
            <a:custGeom>
              <a:avLst/>
              <a:gdLst>
                <a:gd name="textAreaLeft" fmla="*/ 0 w 698040"/>
                <a:gd name="textAreaRight" fmla="*/ 698400 w 698040"/>
                <a:gd name="textAreaTop" fmla="*/ 0 h 1221840"/>
                <a:gd name="textAreaBottom" fmla="*/ 1222200 h 1221840"/>
              </a:gdLst>
              <a:ahLst/>
              <a:rect l="textAreaLeft" t="textAreaTop" r="textAreaRight" b="textAreaBottom"/>
              <a:pathLst>
                <a:path w="266700" h="466725">
                  <a:moveTo>
                    <a:pt x="9631" y="450950"/>
                  </a:moveTo>
                  <a:lnTo>
                    <a:pt x="238644" y="9631"/>
                  </a:lnTo>
                  <a:lnTo>
                    <a:pt x="264007" y="22793"/>
                  </a:lnTo>
                  <a:lnTo>
                    <a:pt x="34994" y="464112"/>
                  </a:lnTo>
                  <a:lnTo>
                    <a:pt x="9631" y="450950"/>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5" name="任意多边形: 形状 40"/>
            <p:cNvSpPr/>
            <p:nvPr/>
          </p:nvSpPr>
          <p:spPr>
            <a:xfrm>
              <a:off x="1536480" y="4183920"/>
              <a:ext cx="698040" cy="1221840"/>
            </a:xfrm>
            <a:custGeom>
              <a:avLst/>
              <a:gdLst>
                <a:gd name="textAreaLeft" fmla="*/ 0 w 698040"/>
                <a:gd name="textAreaRight" fmla="*/ 698400 w 698040"/>
                <a:gd name="textAreaTop" fmla="*/ 0 h 1221840"/>
                <a:gd name="textAreaBottom" fmla="*/ 1222200 h 1221840"/>
              </a:gdLst>
              <a:ahLst/>
              <a:rect l="textAreaLeft" t="textAreaTop" r="textAreaRight" b="textAreaBottom"/>
              <a:pathLst>
                <a:path w="266700" h="466725">
                  <a:moveTo>
                    <a:pt x="9631" y="450950"/>
                  </a:moveTo>
                  <a:lnTo>
                    <a:pt x="238644" y="9631"/>
                  </a:lnTo>
                  <a:lnTo>
                    <a:pt x="264007" y="22793"/>
                  </a:lnTo>
                  <a:lnTo>
                    <a:pt x="34994" y="464112"/>
                  </a:lnTo>
                  <a:lnTo>
                    <a:pt x="9631" y="450950"/>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6" name="任意多边形: 形状 41"/>
            <p:cNvSpPr/>
            <p:nvPr/>
          </p:nvSpPr>
          <p:spPr>
            <a:xfrm>
              <a:off x="1344600" y="4084920"/>
              <a:ext cx="698040" cy="1221840"/>
            </a:xfrm>
            <a:custGeom>
              <a:avLst/>
              <a:gdLst>
                <a:gd name="textAreaLeft" fmla="*/ 0 w 698040"/>
                <a:gd name="textAreaRight" fmla="*/ 698400 w 698040"/>
                <a:gd name="textAreaTop" fmla="*/ 0 h 1221840"/>
                <a:gd name="textAreaBottom" fmla="*/ 1222200 h 1221840"/>
              </a:gdLst>
              <a:ahLst/>
              <a:rect l="textAreaLeft" t="textAreaTop" r="textAreaRight" b="textAreaBottom"/>
              <a:pathLst>
                <a:path w="266700" h="466725">
                  <a:moveTo>
                    <a:pt x="9631" y="450950"/>
                  </a:moveTo>
                  <a:lnTo>
                    <a:pt x="238644" y="9631"/>
                  </a:lnTo>
                  <a:lnTo>
                    <a:pt x="264007" y="22793"/>
                  </a:lnTo>
                  <a:lnTo>
                    <a:pt x="34994" y="464112"/>
                  </a:lnTo>
                  <a:lnTo>
                    <a:pt x="9631" y="450950"/>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7" name="任意多边形: 形状 42"/>
            <p:cNvSpPr/>
            <p:nvPr/>
          </p:nvSpPr>
          <p:spPr>
            <a:xfrm>
              <a:off x="1153800" y="3983760"/>
              <a:ext cx="698040" cy="1221840"/>
            </a:xfrm>
            <a:custGeom>
              <a:avLst/>
              <a:gdLst>
                <a:gd name="textAreaLeft" fmla="*/ 0 w 698040"/>
                <a:gd name="textAreaRight" fmla="*/ 698400 w 698040"/>
                <a:gd name="textAreaTop" fmla="*/ 0 h 1221840"/>
                <a:gd name="textAreaBottom" fmla="*/ 1222200 h 1221840"/>
              </a:gdLst>
              <a:ahLst/>
              <a:rect l="textAreaLeft" t="textAreaTop" r="textAreaRight" b="textAreaBottom"/>
              <a:pathLst>
                <a:path w="266700" h="466725">
                  <a:moveTo>
                    <a:pt x="9631" y="450950"/>
                  </a:moveTo>
                  <a:lnTo>
                    <a:pt x="238644" y="9631"/>
                  </a:lnTo>
                  <a:lnTo>
                    <a:pt x="264007" y="22793"/>
                  </a:lnTo>
                  <a:lnTo>
                    <a:pt x="34994" y="464112"/>
                  </a:lnTo>
                  <a:lnTo>
                    <a:pt x="9631" y="450950"/>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8" name="任意多边形: 形状 43"/>
            <p:cNvSpPr/>
            <p:nvPr/>
          </p:nvSpPr>
          <p:spPr>
            <a:xfrm>
              <a:off x="650520" y="4080960"/>
              <a:ext cx="1595520" cy="1022040"/>
            </a:xfrm>
            <a:custGeom>
              <a:avLst/>
              <a:gdLst>
                <a:gd name="textAreaLeft" fmla="*/ 0 w 1595520"/>
                <a:gd name="textAreaRight" fmla="*/ 1595880 w 1595520"/>
                <a:gd name="textAreaTop" fmla="*/ 0 h 1022040"/>
                <a:gd name="textAreaBottom" fmla="*/ 1022400 h 1022040"/>
              </a:gdLst>
              <a:ahLst/>
              <a:rect l="textAreaLeft" t="textAreaTop" r="textAreaRight" b="textAreaBottom"/>
              <a:pathLst>
                <a:path w="609600" h="390525">
                  <a:moveTo>
                    <a:pt x="7144" y="156465"/>
                  </a:moveTo>
                  <a:lnTo>
                    <a:pt x="68104" y="193613"/>
                  </a:lnTo>
                  <a:cubicBezTo>
                    <a:pt x="68104" y="193613"/>
                    <a:pt x="51911" y="225998"/>
                    <a:pt x="112871" y="257430"/>
                  </a:cubicBezTo>
                  <a:lnTo>
                    <a:pt x="341471" y="378398"/>
                  </a:lnTo>
                  <a:cubicBezTo>
                    <a:pt x="341471" y="378398"/>
                    <a:pt x="361474" y="387923"/>
                    <a:pt x="371951" y="366967"/>
                  </a:cubicBezTo>
                  <a:cubicBezTo>
                    <a:pt x="380524" y="350775"/>
                    <a:pt x="357664" y="337440"/>
                    <a:pt x="357664" y="337440"/>
                  </a:cubicBezTo>
                  <a:cubicBezTo>
                    <a:pt x="357664" y="337440"/>
                    <a:pt x="280511" y="292673"/>
                    <a:pt x="282416" y="288863"/>
                  </a:cubicBezTo>
                  <a:cubicBezTo>
                    <a:pt x="289084" y="278385"/>
                    <a:pt x="471011" y="379350"/>
                    <a:pt x="478631" y="383160"/>
                  </a:cubicBezTo>
                  <a:cubicBezTo>
                    <a:pt x="491014" y="388875"/>
                    <a:pt x="508159" y="390780"/>
                    <a:pt x="517684" y="372682"/>
                  </a:cubicBezTo>
                  <a:cubicBezTo>
                    <a:pt x="529114" y="350775"/>
                    <a:pt x="508159" y="338392"/>
                    <a:pt x="500539" y="333630"/>
                  </a:cubicBezTo>
                  <a:cubicBezTo>
                    <a:pt x="492919" y="328867"/>
                    <a:pt x="319564" y="233617"/>
                    <a:pt x="314801" y="225045"/>
                  </a:cubicBezTo>
                  <a:cubicBezTo>
                    <a:pt x="310039" y="216473"/>
                    <a:pt x="566261" y="334582"/>
                    <a:pt x="566261" y="334582"/>
                  </a:cubicBezTo>
                  <a:cubicBezTo>
                    <a:pt x="566261" y="334582"/>
                    <a:pt x="593884" y="350775"/>
                    <a:pt x="606266" y="324105"/>
                  </a:cubicBezTo>
                  <a:cubicBezTo>
                    <a:pt x="618649" y="296482"/>
                    <a:pt x="592931" y="288863"/>
                    <a:pt x="578644" y="282195"/>
                  </a:cubicBezTo>
                  <a:cubicBezTo>
                    <a:pt x="564356" y="275527"/>
                    <a:pt x="356711" y="173610"/>
                    <a:pt x="350044" y="166942"/>
                  </a:cubicBezTo>
                  <a:cubicBezTo>
                    <a:pt x="342424" y="159323"/>
                    <a:pt x="564356" y="243142"/>
                    <a:pt x="564356" y="243142"/>
                  </a:cubicBezTo>
                  <a:cubicBezTo>
                    <a:pt x="564356" y="243142"/>
                    <a:pt x="588169" y="254573"/>
                    <a:pt x="597694" y="232665"/>
                  </a:cubicBezTo>
                  <a:cubicBezTo>
                    <a:pt x="607219" y="209805"/>
                    <a:pt x="572929" y="196470"/>
                    <a:pt x="572929" y="196470"/>
                  </a:cubicBezTo>
                  <a:lnTo>
                    <a:pt x="382429" y="95505"/>
                  </a:lnTo>
                  <a:lnTo>
                    <a:pt x="452914" y="104077"/>
                  </a:lnTo>
                  <a:cubicBezTo>
                    <a:pt x="452914" y="104077"/>
                    <a:pt x="478631" y="107888"/>
                    <a:pt x="482441" y="85027"/>
                  </a:cubicBezTo>
                  <a:cubicBezTo>
                    <a:pt x="486251" y="63120"/>
                    <a:pt x="454819" y="55500"/>
                    <a:pt x="431006" y="46927"/>
                  </a:cubicBezTo>
                  <a:cubicBezTo>
                    <a:pt x="411956" y="40260"/>
                    <a:pt x="205264" y="-39750"/>
                    <a:pt x="154781" y="47880"/>
                  </a:cubicBezTo>
                  <a:lnTo>
                    <a:pt x="91916" y="9780"/>
                  </a:lnTo>
                  <a:lnTo>
                    <a:pt x="7144" y="156465"/>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9" name="任意多边形: 形状 44"/>
            <p:cNvSpPr/>
            <p:nvPr/>
          </p:nvSpPr>
          <p:spPr>
            <a:xfrm>
              <a:off x="1494360" y="495072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7672" y="-32675"/>
                  </a:moveTo>
                  <a:cubicBezTo>
                    <a:pt x="7672" y="-32675"/>
                    <a:pt x="32437" y="-14577"/>
                    <a:pt x="-24527" y="-29817"/>
                  </a:cubicBezTo>
                  <a:cubicBezTo>
                    <a:pt x="-15954" y="21431"/>
                    <a:pt x="29579" y="11906"/>
                    <a:pt x="21007" y="7144"/>
                  </a:cubicBezTo>
                  <a:cubicBezTo>
                    <a:pt x="21959" y="7144"/>
                    <a:pt x="3862" y="13811"/>
                    <a:pt x="7672" y="-32675"/>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0" name="任意多边形: 形状 45"/>
            <p:cNvSpPr/>
            <p:nvPr/>
          </p:nvSpPr>
          <p:spPr>
            <a:xfrm>
              <a:off x="1850760" y="493560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7796" y="-25055"/>
                  </a:moveTo>
                  <a:cubicBezTo>
                    <a:pt x="7796" y="-25055"/>
                    <a:pt x="-25355" y="-1242"/>
                    <a:pt x="-13925" y="-20292"/>
                  </a:cubicBezTo>
                  <a:cubicBezTo>
                    <a:pt x="-2495" y="26194"/>
                    <a:pt x="-29165" y="13811"/>
                    <a:pt x="25894" y="7144"/>
                  </a:cubicBezTo>
                  <a:cubicBezTo>
                    <a:pt x="25894" y="7144"/>
                    <a:pt x="3034" y="15716"/>
                    <a:pt x="7796" y="-25055"/>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1" name="任意多边形: 形状 46"/>
            <p:cNvSpPr/>
            <p:nvPr/>
          </p:nvSpPr>
          <p:spPr>
            <a:xfrm>
              <a:off x="2086920" y="481572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8095" y="-24043"/>
                  </a:moveTo>
                  <a:cubicBezTo>
                    <a:pt x="8095" y="-24043"/>
                    <a:pt x="-24104" y="-2135"/>
                    <a:pt x="-13626" y="-22138"/>
                  </a:cubicBezTo>
                  <a:cubicBezTo>
                    <a:pt x="-3149" y="23395"/>
                    <a:pt x="-29819" y="12918"/>
                    <a:pt x="24287" y="7203"/>
                  </a:cubicBezTo>
                  <a:cubicBezTo>
                    <a:pt x="24287" y="6251"/>
                    <a:pt x="2380" y="16728"/>
                    <a:pt x="8095" y="-24043"/>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 name="任意多边形: 形状 47"/>
            <p:cNvSpPr/>
            <p:nvPr/>
          </p:nvSpPr>
          <p:spPr>
            <a:xfrm>
              <a:off x="2064240" y="458136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8131" y="-25948"/>
                  </a:moveTo>
                  <a:cubicBezTo>
                    <a:pt x="8131" y="-25948"/>
                    <a:pt x="-25020" y="-5945"/>
                    <a:pt x="-15495" y="-24043"/>
                  </a:cubicBezTo>
                  <a:cubicBezTo>
                    <a:pt x="-5970" y="22443"/>
                    <a:pt x="-31687" y="12918"/>
                    <a:pt x="23371" y="7203"/>
                  </a:cubicBezTo>
                  <a:cubicBezTo>
                    <a:pt x="23371" y="6251"/>
                    <a:pt x="2416" y="16728"/>
                    <a:pt x="8131" y="-25948"/>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 name="任意多边形: 形状 48"/>
            <p:cNvSpPr/>
            <p:nvPr/>
          </p:nvSpPr>
          <p:spPr>
            <a:xfrm>
              <a:off x="1764000" y="421740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11327" y="45244"/>
                  </a:moveTo>
                  <a:cubicBezTo>
                    <a:pt x="11327" y="45244"/>
                    <a:pt x="49427" y="57626"/>
                    <a:pt x="54190" y="35719"/>
                  </a:cubicBezTo>
                  <a:cubicBezTo>
                    <a:pt x="58952" y="13811"/>
                    <a:pt x="30377" y="10001"/>
                    <a:pt x="17995" y="7144"/>
                  </a:cubicBezTo>
                  <a:cubicBezTo>
                    <a:pt x="17995" y="7144"/>
                    <a:pt x="-1055" y="22384"/>
                    <a:pt x="11327" y="452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 name="任意多边形: 形状 49"/>
            <p:cNvSpPr/>
            <p:nvPr/>
          </p:nvSpPr>
          <p:spPr>
            <a:xfrm>
              <a:off x="0" y="3357360"/>
              <a:ext cx="1072080" cy="1246680"/>
            </a:xfrm>
            <a:custGeom>
              <a:avLst/>
              <a:gdLst>
                <a:gd name="textAreaLeft" fmla="*/ 0 w 1072080"/>
                <a:gd name="textAreaRight" fmla="*/ 1072440 w 1072080"/>
                <a:gd name="textAreaTop" fmla="*/ 0 h 1246680"/>
                <a:gd name="textAreaBottom" fmla="*/ 1247040 h 1246680"/>
              </a:gdLst>
              <a:ahLst/>
              <a:rect l="textAreaLeft" t="textAreaTop" r="textAreaRight" b="textAreaBottom"/>
              <a:pathLst>
                <a:path w="409575" h="476250">
                  <a:moveTo>
                    <a:pt x="7144" y="7144"/>
                  </a:moveTo>
                  <a:lnTo>
                    <a:pt x="7144" y="284321"/>
                  </a:lnTo>
                  <a:lnTo>
                    <a:pt x="272891" y="472916"/>
                  </a:lnTo>
                  <a:lnTo>
                    <a:pt x="407194" y="277654"/>
                  </a:lnTo>
                  <a:lnTo>
                    <a:pt x="7144" y="7144"/>
                  </a:lnTo>
                  <a:close/>
                </a:path>
              </a:pathLst>
            </a:custGeom>
            <a:solidFill>
              <a:srgbClr val="f8c44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 name="任意多边形: 形状 50"/>
            <p:cNvSpPr/>
            <p:nvPr/>
          </p:nvSpPr>
          <p:spPr>
            <a:xfrm>
              <a:off x="504360" y="3934440"/>
              <a:ext cx="573120" cy="673200"/>
            </a:xfrm>
            <a:custGeom>
              <a:avLst/>
              <a:gdLst>
                <a:gd name="textAreaLeft" fmla="*/ 0 w 573120"/>
                <a:gd name="textAreaRight" fmla="*/ 573480 w 573120"/>
                <a:gd name="textAreaTop" fmla="*/ 0 h 673200"/>
                <a:gd name="textAreaBottom" fmla="*/ 673560 h 673200"/>
              </a:gdLst>
              <a:ahLst/>
              <a:rect l="textAreaLeft" t="textAreaTop" r="textAreaRight" b="textAreaBottom"/>
              <a:pathLst>
                <a:path w="219075" h="257175">
                  <a:moveTo>
                    <a:pt x="9930" y="204788"/>
                  </a:moveTo>
                  <a:lnTo>
                    <a:pt x="143442" y="9930"/>
                  </a:lnTo>
                  <a:lnTo>
                    <a:pt x="213371" y="57844"/>
                  </a:lnTo>
                  <a:lnTo>
                    <a:pt x="79859" y="252702"/>
                  </a:lnTo>
                  <a:lnTo>
                    <a:pt x="9930" y="204788"/>
                  </a:lnTo>
                  <a:close/>
                </a:path>
              </a:pathLst>
            </a:custGeom>
            <a:solidFill>
              <a:srgbClr val="f9a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6" name="任意多边形: 形状 51"/>
            <p:cNvSpPr/>
            <p:nvPr/>
          </p:nvSpPr>
          <p:spPr>
            <a:xfrm>
              <a:off x="858960" y="402948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30360" y="10411"/>
                  </a:moveTo>
                  <a:cubicBezTo>
                    <a:pt x="26603" y="4695"/>
                    <a:pt x="16126" y="6601"/>
                    <a:pt x="10411" y="15173"/>
                  </a:cubicBezTo>
                  <a:cubicBezTo>
                    <a:pt x="4696" y="23745"/>
                    <a:pt x="6601" y="-31313"/>
                    <a:pt x="15173" y="-25598"/>
                  </a:cubicBezTo>
                  <a:cubicBezTo>
                    <a:pt x="23746" y="-19883"/>
                    <a:pt x="-31313" y="-21788"/>
                    <a:pt x="-25598" y="-30360"/>
                  </a:cubicBezTo>
                  <a:cubicBezTo>
                    <a:pt x="-19883" y="26603"/>
                    <a:pt x="-22740" y="16126"/>
                    <a:pt x="-30360" y="10411"/>
                  </a:cubicBezTo>
                  <a:close/>
                </a:path>
              </a:pathLst>
            </a:custGeom>
            <a:solidFill>
              <a:srgbClr val="f8ff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 name="任意多边形: 形状 52"/>
            <p:cNvSpPr/>
            <p:nvPr/>
          </p:nvSpPr>
          <p:spPr>
            <a:xfrm>
              <a:off x="0" y="1083240"/>
              <a:ext cx="3216240" cy="1570680"/>
            </a:xfrm>
            <a:custGeom>
              <a:avLst/>
              <a:gdLst>
                <a:gd name="textAreaLeft" fmla="*/ 0 w 3216240"/>
                <a:gd name="textAreaRight" fmla="*/ 3216600 w 3216240"/>
                <a:gd name="textAreaTop" fmla="*/ 0 h 1570680"/>
                <a:gd name="textAreaBottom" fmla="*/ 1571040 h 1570680"/>
              </a:gdLst>
              <a:ahLst/>
              <a:rect l="textAreaLeft" t="textAreaTop" r="textAreaRight" b="textAreaBottom"/>
              <a:pathLst>
                <a:path w="1228725" h="600075">
                  <a:moveTo>
                    <a:pt x="211931" y="369094"/>
                  </a:moveTo>
                  <a:lnTo>
                    <a:pt x="211931" y="347186"/>
                  </a:lnTo>
                  <a:lnTo>
                    <a:pt x="256699" y="351949"/>
                  </a:lnTo>
                  <a:cubicBezTo>
                    <a:pt x="251936" y="391954"/>
                    <a:pt x="392906" y="435769"/>
                    <a:pt x="458629" y="452914"/>
                  </a:cubicBezTo>
                  <a:lnTo>
                    <a:pt x="458629" y="534829"/>
                  </a:lnTo>
                  <a:cubicBezTo>
                    <a:pt x="458629" y="569119"/>
                    <a:pt x="486251" y="596741"/>
                    <a:pt x="520541" y="596741"/>
                  </a:cubicBezTo>
                  <a:lnTo>
                    <a:pt x="1164431" y="596741"/>
                  </a:lnTo>
                  <a:cubicBezTo>
                    <a:pt x="1198721" y="596741"/>
                    <a:pt x="1226344" y="569119"/>
                    <a:pt x="1226344" y="534829"/>
                  </a:cubicBezTo>
                  <a:lnTo>
                    <a:pt x="1226344" y="69056"/>
                  </a:lnTo>
                  <a:cubicBezTo>
                    <a:pt x="1226344" y="34766"/>
                    <a:pt x="1198721" y="7144"/>
                    <a:pt x="1164431" y="7144"/>
                  </a:cubicBezTo>
                  <a:lnTo>
                    <a:pt x="519589" y="7144"/>
                  </a:lnTo>
                  <a:cubicBezTo>
                    <a:pt x="485299" y="7144"/>
                    <a:pt x="457676" y="34766"/>
                    <a:pt x="457676" y="69056"/>
                  </a:cubicBezTo>
                  <a:lnTo>
                    <a:pt x="457676" y="152876"/>
                  </a:lnTo>
                  <a:lnTo>
                    <a:pt x="313849" y="148114"/>
                  </a:lnTo>
                  <a:cubicBezTo>
                    <a:pt x="250984" y="146209"/>
                    <a:pt x="250031" y="178594"/>
                    <a:pt x="250031" y="178594"/>
                  </a:cubicBezTo>
                  <a:lnTo>
                    <a:pt x="210979" y="175736"/>
                  </a:lnTo>
                  <a:lnTo>
                    <a:pt x="210979" y="132874"/>
                  </a:lnTo>
                  <a:lnTo>
                    <a:pt x="126206" y="132874"/>
                  </a:lnTo>
                  <a:lnTo>
                    <a:pt x="7144" y="132874"/>
                  </a:lnTo>
                  <a:lnTo>
                    <a:pt x="7144" y="369094"/>
                  </a:lnTo>
                  <a:lnTo>
                    <a:pt x="126206" y="369094"/>
                  </a:lnTo>
                  <a:lnTo>
                    <a:pt x="211931" y="369094"/>
                  </a:lnTo>
                  <a:close/>
                  <a:moveTo>
                    <a:pt x="458629" y="395764"/>
                  </a:moveTo>
                  <a:lnTo>
                    <a:pt x="458629" y="395764"/>
                  </a:lnTo>
                  <a:lnTo>
                    <a:pt x="456724" y="395764"/>
                  </a:lnTo>
                  <a:lnTo>
                    <a:pt x="458629" y="395764"/>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 name="任意多边形: 形状 53"/>
            <p:cNvSpPr/>
            <p:nvPr/>
          </p:nvSpPr>
          <p:spPr>
            <a:xfrm>
              <a:off x="1179000" y="960840"/>
              <a:ext cx="2044440" cy="1570680"/>
            </a:xfrm>
            <a:custGeom>
              <a:avLst/>
              <a:gdLst>
                <a:gd name="textAreaLeft" fmla="*/ 0 w 2044440"/>
                <a:gd name="textAreaRight" fmla="*/ 2044800 w 2044440"/>
                <a:gd name="textAreaTop" fmla="*/ 0 h 1570680"/>
                <a:gd name="textAreaBottom" fmla="*/ 1571040 h 1570680"/>
              </a:gdLst>
              <a:ahLst/>
              <a:rect l="textAreaLeft" t="textAreaTop" r="textAreaRight" b="textAreaBottom"/>
              <a:pathLst>
                <a:path w="781050" h="600075">
                  <a:moveTo>
                    <a:pt x="69056" y="596741"/>
                  </a:moveTo>
                  <a:cubicBezTo>
                    <a:pt x="34766" y="596741"/>
                    <a:pt x="7144" y="569119"/>
                    <a:pt x="7144" y="534829"/>
                  </a:cubicBezTo>
                  <a:lnTo>
                    <a:pt x="7144" y="69056"/>
                  </a:lnTo>
                  <a:cubicBezTo>
                    <a:pt x="7144" y="34766"/>
                    <a:pt x="34766" y="7144"/>
                    <a:pt x="69056" y="7144"/>
                  </a:cubicBezTo>
                  <a:lnTo>
                    <a:pt x="712946" y="7144"/>
                  </a:lnTo>
                  <a:cubicBezTo>
                    <a:pt x="747236" y="7144"/>
                    <a:pt x="774859" y="34766"/>
                    <a:pt x="774859" y="69056"/>
                  </a:cubicBezTo>
                  <a:lnTo>
                    <a:pt x="774859" y="534829"/>
                  </a:lnTo>
                  <a:cubicBezTo>
                    <a:pt x="774859" y="569119"/>
                    <a:pt x="747236" y="596741"/>
                    <a:pt x="712946" y="596741"/>
                  </a:cubicBezTo>
                  <a:lnTo>
                    <a:pt x="69056" y="596741"/>
                  </a:lnTo>
                  <a:close/>
                </a:path>
              </a:pathLst>
            </a:custGeom>
            <a:solidFill>
              <a:srgbClr val="44546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9" name="任意多边形: 形状 54"/>
            <p:cNvSpPr/>
            <p:nvPr/>
          </p:nvSpPr>
          <p:spPr>
            <a:xfrm>
              <a:off x="1428480" y="1110600"/>
              <a:ext cx="1645560" cy="1271520"/>
            </a:xfrm>
            <a:custGeom>
              <a:avLst/>
              <a:gdLst>
                <a:gd name="textAreaLeft" fmla="*/ 0 w 1645560"/>
                <a:gd name="textAreaRight" fmla="*/ 1645920 w 1645560"/>
                <a:gd name="textAreaTop" fmla="*/ 0 h 1271520"/>
                <a:gd name="textAreaBottom" fmla="*/ 1271880 h 1271520"/>
              </a:gdLst>
              <a:ahLst/>
              <a:rect l="textAreaLeft" t="textAreaTop" r="textAreaRight" b="textAreaBottom"/>
              <a:pathLst>
                <a:path w="628650" h="485775">
                  <a:moveTo>
                    <a:pt x="69056" y="483394"/>
                  </a:moveTo>
                  <a:cubicBezTo>
                    <a:pt x="34766" y="483394"/>
                    <a:pt x="7144" y="455771"/>
                    <a:pt x="7144" y="421481"/>
                  </a:cubicBezTo>
                  <a:lnTo>
                    <a:pt x="7144" y="69056"/>
                  </a:lnTo>
                  <a:cubicBezTo>
                    <a:pt x="7144" y="34766"/>
                    <a:pt x="34766" y="7144"/>
                    <a:pt x="69056" y="7144"/>
                  </a:cubicBezTo>
                  <a:lnTo>
                    <a:pt x="564356" y="7144"/>
                  </a:lnTo>
                  <a:cubicBezTo>
                    <a:pt x="598646" y="7144"/>
                    <a:pt x="626269" y="34766"/>
                    <a:pt x="626269" y="69056"/>
                  </a:cubicBezTo>
                  <a:lnTo>
                    <a:pt x="626269" y="421481"/>
                  </a:lnTo>
                  <a:cubicBezTo>
                    <a:pt x="626269" y="455771"/>
                    <a:pt x="598646" y="483394"/>
                    <a:pt x="564356" y="483394"/>
                  </a:cubicBezTo>
                  <a:lnTo>
                    <a:pt x="69056" y="483394"/>
                  </a:ln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 name="任意多边形: 形状 55"/>
            <p:cNvSpPr/>
            <p:nvPr/>
          </p:nvSpPr>
          <p:spPr>
            <a:xfrm>
              <a:off x="1246320" y="167400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12672" y="30004"/>
                  </a:moveTo>
                  <a:cubicBezTo>
                    <a:pt x="-12672" y="-22907"/>
                    <a:pt x="-22907" y="-12672"/>
                    <a:pt x="30004" y="-12672"/>
                  </a:cubicBezTo>
                  <a:cubicBezTo>
                    <a:pt x="17378" y="-12672"/>
                    <a:pt x="7144" y="-22907"/>
                    <a:pt x="7144" y="30004"/>
                  </a:cubicBezTo>
                  <a:cubicBezTo>
                    <a:pt x="7144" y="17379"/>
                    <a:pt x="17378" y="7144"/>
                    <a:pt x="30004" y="7144"/>
                  </a:cubicBezTo>
                  <a:cubicBezTo>
                    <a:pt x="-22907" y="7144"/>
                    <a:pt x="-12672" y="17379"/>
                    <a:pt x="-12672" y="30004"/>
                  </a:cubicBez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1" name="任意多边形: 形状 56"/>
            <p:cNvSpPr/>
            <p:nvPr/>
          </p:nvSpPr>
          <p:spPr>
            <a:xfrm>
              <a:off x="2505600" y="1277640"/>
              <a:ext cx="423720" cy="922320"/>
            </a:xfrm>
            <a:custGeom>
              <a:avLst/>
              <a:gdLst>
                <a:gd name="textAreaLeft" fmla="*/ 0 w 423720"/>
                <a:gd name="textAreaRight" fmla="*/ 424080 w 423720"/>
                <a:gd name="textAreaTop" fmla="*/ 0 h 922320"/>
                <a:gd name="textAreaBottom" fmla="*/ 922680 h 922320"/>
              </a:gdLst>
              <a:ahLst/>
              <a:rect l="textAreaLeft" t="textAreaTop" r="textAreaRight" b="textAreaBottom"/>
              <a:pathLst>
                <a:path w="161925" h="352425">
                  <a:moveTo>
                    <a:pt x="7144" y="7144"/>
                  </a:moveTo>
                  <a:lnTo>
                    <a:pt x="160496" y="7144"/>
                  </a:lnTo>
                  <a:lnTo>
                    <a:pt x="160496" y="353854"/>
                  </a:lnTo>
                  <a:lnTo>
                    <a:pt x="7144" y="353854"/>
                  </a:lnTo>
                  <a:lnTo>
                    <a:pt x="7144" y="7144"/>
                  </a:lnTo>
                  <a:close/>
                </a:path>
              </a:pathLst>
            </a:custGeom>
            <a:solidFill>
              <a:srgbClr val="5fb5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2" name="任意多边形: 形状 57"/>
            <p:cNvSpPr/>
            <p:nvPr/>
          </p:nvSpPr>
          <p:spPr>
            <a:xfrm>
              <a:off x="228636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3" name="任意多边形: 形状 58"/>
            <p:cNvSpPr/>
            <p:nvPr/>
          </p:nvSpPr>
          <p:spPr>
            <a:xfrm>
              <a:off x="211680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4" name="任意多边形: 形状 59"/>
            <p:cNvSpPr/>
            <p:nvPr/>
          </p:nvSpPr>
          <p:spPr>
            <a:xfrm>
              <a:off x="194724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 name="任意多边形: 形状 60"/>
            <p:cNvSpPr/>
            <p:nvPr/>
          </p:nvSpPr>
          <p:spPr>
            <a:xfrm>
              <a:off x="177516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6" name="任意多边形: 形状 61"/>
            <p:cNvSpPr/>
            <p:nvPr/>
          </p:nvSpPr>
          <p:spPr>
            <a:xfrm>
              <a:off x="160560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7" name="任意多边形: 形状 62"/>
            <p:cNvSpPr/>
            <p:nvPr/>
          </p:nvSpPr>
          <p:spPr>
            <a:xfrm>
              <a:off x="446040" y="1329840"/>
              <a:ext cx="1371240" cy="847800"/>
            </a:xfrm>
            <a:custGeom>
              <a:avLst/>
              <a:gdLst>
                <a:gd name="textAreaLeft" fmla="*/ 0 w 1371240"/>
                <a:gd name="textAreaRight" fmla="*/ 1371600 w 1371240"/>
                <a:gd name="textAreaTop" fmla="*/ 0 h 847800"/>
                <a:gd name="textAreaBottom" fmla="*/ 848160 h 847800"/>
              </a:gdLst>
              <a:ahLst/>
              <a:rect l="textAreaLeft" t="textAreaTop" r="textAreaRight" b="textAreaBottom"/>
              <a:pathLst>
                <a:path w="523875" h="323850">
                  <a:moveTo>
                    <a:pt x="19526" y="33895"/>
                  </a:moveTo>
                  <a:lnTo>
                    <a:pt x="80486" y="37705"/>
                  </a:lnTo>
                  <a:cubicBezTo>
                    <a:pt x="80486" y="37705"/>
                    <a:pt x="81439" y="5320"/>
                    <a:pt x="144304" y="7225"/>
                  </a:cubicBezTo>
                  <a:lnTo>
                    <a:pt x="344329" y="13892"/>
                  </a:lnTo>
                  <a:cubicBezTo>
                    <a:pt x="344329" y="13892"/>
                    <a:pt x="364331" y="15797"/>
                    <a:pt x="363379" y="35800"/>
                  </a:cubicBezTo>
                  <a:cubicBezTo>
                    <a:pt x="362426" y="52945"/>
                    <a:pt x="339566" y="52945"/>
                    <a:pt x="339566" y="52945"/>
                  </a:cubicBezTo>
                  <a:cubicBezTo>
                    <a:pt x="339566" y="52945"/>
                    <a:pt x="291941" y="53897"/>
                    <a:pt x="291941" y="57707"/>
                  </a:cubicBezTo>
                  <a:cubicBezTo>
                    <a:pt x="292894" y="69137"/>
                    <a:pt x="379571" y="71042"/>
                    <a:pt x="388144" y="71042"/>
                  </a:cubicBezTo>
                  <a:cubicBezTo>
                    <a:pt x="400526" y="71995"/>
                    <a:pt x="414814" y="78662"/>
                    <a:pt x="414814" y="96760"/>
                  </a:cubicBezTo>
                  <a:cubicBezTo>
                    <a:pt x="413861" y="119620"/>
                    <a:pt x="391954" y="119620"/>
                    <a:pt x="384334" y="119620"/>
                  </a:cubicBezTo>
                  <a:cubicBezTo>
                    <a:pt x="376714" y="119620"/>
                    <a:pt x="298609" y="117715"/>
                    <a:pt x="290989" y="121525"/>
                  </a:cubicBezTo>
                  <a:cubicBezTo>
                    <a:pt x="283369" y="126287"/>
                    <a:pt x="416719" y="137717"/>
                    <a:pt x="416719" y="137717"/>
                  </a:cubicBezTo>
                  <a:cubicBezTo>
                    <a:pt x="416719" y="137717"/>
                    <a:pt x="446246" y="136765"/>
                    <a:pt x="443389" y="164387"/>
                  </a:cubicBezTo>
                  <a:cubicBezTo>
                    <a:pt x="441484" y="191057"/>
                    <a:pt x="417671" y="186295"/>
                    <a:pt x="403384" y="185342"/>
                  </a:cubicBezTo>
                  <a:cubicBezTo>
                    <a:pt x="389096" y="184390"/>
                    <a:pt x="302419" y="181532"/>
                    <a:pt x="293846" y="183437"/>
                  </a:cubicBezTo>
                  <a:cubicBezTo>
                    <a:pt x="285274" y="186295"/>
                    <a:pt x="495776" y="218680"/>
                    <a:pt x="495776" y="218680"/>
                  </a:cubicBezTo>
                  <a:cubicBezTo>
                    <a:pt x="495776" y="218680"/>
                    <a:pt x="519589" y="220585"/>
                    <a:pt x="516731" y="241540"/>
                  </a:cubicBezTo>
                  <a:cubicBezTo>
                    <a:pt x="513874" y="264400"/>
                    <a:pt x="481489" y="258685"/>
                    <a:pt x="481489" y="258685"/>
                  </a:cubicBezTo>
                  <a:lnTo>
                    <a:pt x="287179" y="253922"/>
                  </a:lnTo>
                  <a:lnTo>
                    <a:pt x="363379" y="283450"/>
                  </a:lnTo>
                  <a:cubicBezTo>
                    <a:pt x="363379" y="283450"/>
                    <a:pt x="385286" y="292022"/>
                    <a:pt x="378619" y="312025"/>
                  </a:cubicBezTo>
                  <a:cubicBezTo>
                    <a:pt x="370999" y="331075"/>
                    <a:pt x="344329" y="323455"/>
                    <a:pt x="321469" y="318692"/>
                  </a:cubicBezTo>
                  <a:cubicBezTo>
                    <a:pt x="303371" y="315835"/>
                    <a:pt x="81439" y="259637"/>
                    <a:pt x="88106" y="210107"/>
                  </a:cubicBezTo>
                  <a:lnTo>
                    <a:pt x="7144" y="201535"/>
                  </a:lnTo>
                  <a:lnTo>
                    <a:pt x="19526" y="33895"/>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8" name="任意多边形: 形状 63"/>
            <p:cNvSpPr/>
            <p:nvPr/>
          </p:nvSpPr>
          <p:spPr>
            <a:xfrm>
              <a:off x="1648080" y="1890720"/>
              <a:ext cx="124560" cy="99720"/>
            </a:xfrm>
            <a:custGeom>
              <a:avLst/>
              <a:gdLst>
                <a:gd name="textAreaLeft" fmla="*/ 0 w 124560"/>
                <a:gd name="textAreaRight" fmla="*/ 124920 w 124560"/>
                <a:gd name="textAreaTop" fmla="*/ 0 h 99720"/>
                <a:gd name="textAreaBottom" fmla="*/ 100080 h 99720"/>
              </a:gdLst>
              <a:ahLst/>
              <a:rect l="textAreaLeft" t="textAreaTop" r="textAreaRight" b="textAreaBottom"/>
              <a:pathLst>
                <a:path w="47625" h="38100">
                  <a:moveTo>
                    <a:pt x="14746" y="7197"/>
                  </a:moveTo>
                  <a:cubicBezTo>
                    <a:pt x="14746" y="7197"/>
                    <a:pt x="49036" y="5292"/>
                    <a:pt x="48084" y="24342"/>
                  </a:cubicBezTo>
                  <a:cubicBezTo>
                    <a:pt x="48084" y="43392"/>
                    <a:pt x="22366" y="40534"/>
                    <a:pt x="11889" y="39582"/>
                  </a:cubicBezTo>
                  <a:cubicBezTo>
                    <a:pt x="11889" y="39582"/>
                    <a:pt x="-494" y="22437"/>
                    <a:pt x="14746" y="7197"/>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9" name="任意多边形: 形状 64"/>
            <p:cNvSpPr/>
            <p:nvPr/>
          </p:nvSpPr>
          <p:spPr>
            <a:xfrm>
              <a:off x="1291680" y="205056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20400" y="7144"/>
                  </a:moveTo>
                  <a:cubicBezTo>
                    <a:pt x="20400" y="7144"/>
                    <a:pt x="-9894" y="14764"/>
                    <a:pt x="-15609" y="-31722"/>
                  </a:cubicBezTo>
                  <a:cubicBezTo>
                    <a:pt x="-21324" y="-12672"/>
                    <a:pt x="19447" y="-22197"/>
                    <a:pt x="8970" y="-25055"/>
                  </a:cubicBezTo>
                  <a:cubicBezTo>
                    <a:pt x="8970" y="-25055"/>
                    <a:pt x="397" y="19526"/>
                    <a:pt x="20400"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0" name="任意多边形: 形状 65"/>
            <p:cNvSpPr/>
            <p:nvPr/>
          </p:nvSpPr>
          <p:spPr>
            <a:xfrm>
              <a:off x="0" y="1289880"/>
              <a:ext cx="573120" cy="648000"/>
            </a:xfrm>
            <a:custGeom>
              <a:avLst/>
              <a:gdLst>
                <a:gd name="textAreaLeft" fmla="*/ 0 w 573120"/>
                <a:gd name="textAreaRight" fmla="*/ 573480 w 573120"/>
                <a:gd name="textAreaTop" fmla="*/ 0 h 648000"/>
                <a:gd name="textAreaBottom" fmla="*/ 648360 h 648000"/>
              </a:gdLst>
              <a:ahLst/>
              <a:rect l="textAreaLeft" t="textAreaTop" r="textAreaRight" b="textAreaBottom"/>
              <a:pathLst>
                <a:path w="219075" h="247650">
                  <a:moveTo>
                    <a:pt x="7144" y="7144"/>
                  </a:moveTo>
                  <a:lnTo>
                    <a:pt x="211931" y="7144"/>
                  </a:lnTo>
                  <a:lnTo>
                    <a:pt x="211931" y="243364"/>
                  </a:lnTo>
                  <a:lnTo>
                    <a:pt x="7144" y="243364"/>
                  </a:lnTo>
                  <a:lnTo>
                    <a:pt x="7144" y="7144"/>
                  </a:lnTo>
                  <a:close/>
                </a:path>
              </a:pathLst>
            </a:custGeom>
            <a:solidFill>
              <a:srgbClr val="f8c44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1" name="任意多边形: 形状 66"/>
            <p:cNvSpPr/>
            <p:nvPr/>
          </p:nvSpPr>
          <p:spPr>
            <a:xfrm>
              <a:off x="311400" y="1289880"/>
              <a:ext cx="249120" cy="648000"/>
            </a:xfrm>
            <a:custGeom>
              <a:avLst/>
              <a:gdLst>
                <a:gd name="textAreaLeft" fmla="*/ 0 w 249120"/>
                <a:gd name="textAreaRight" fmla="*/ 249480 w 249120"/>
                <a:gd name="textAreaTop" fmla="*/ 0 h 648000"/>
                <a:gd name="textAreaBottom" fmla="*/ 648360 h 648000"/>
              </a:gdLst>
              <a:ahLst/>
              <a:rect l="textAreaLeft" t="textAreaTop" r="textAreaRight" b="textAreaBottom"/>
              <a:pathLst>
                <a:path w="95250" h="247650">
                  <a:moveTo>
                    <a:pt x="7144" y="7144"/>
                  </a:moveTo>
                  <a:lnTo>
                    <a:pt x="91916" y="7144"/>
                  </a:lnTo>
                  <a:lnTo>
                    <a:pt x="91916" y="243364"/>
                  </a:lnTo>
                  <a:lnTo>
                    <a:pt x="7144" y="243364"/>
                  </a:lnTo>
                  <a:lnTo>
                    <a:pt x="7144" y="7144"/>
                  </a:lnTo>
                  <a:close/>
                </a:path>
              </a:pathLst>
            </a:custGeom>
            <a:solidFill>
              <a:srgbClr val="f9a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2" name="任意多边形: 形状 67"/>
            <p:cNvSpPr/>
            <p:nvPr/>
          </p:nvSpPr>
          <p:spPr>
            <a:xfrm>
              <a:off x="376200" y="133236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5241" y="7144"/>
                  </a:moveTo>
                  <a:cubicBezTo>
                    <a:pt x="15716" y="7144"/>
                    <a:pt x="7144" y="14764"/>
                    <a:pt x="7144" y="25241"/>
                  </a:cubicBezTo>
                  <a:cubicBezTo>
                    <a:pt x="7144" y="-30770"/>
                    <a:pt x="14764" y="-22197"/>
                    <a:pt x="25241" y="-22197"/>
                  </a:cubicBezTo>
                  <a:cubicBezTo>
                    <a:pt x="-29817" y="-22197"/>
                    <a:pt x="-22197" y="-29817"/>
                    <a:pt x="-22197" y="25241"/>
                  </a:cubicBezTo>
                  <a:cubicBezTo>
                    <a:pt x="-22197" y="14764"/>
                    <a:pt x="-29817" y="7144"/>
                    <a:pt x="25241" y="7144"/>
                  </a:cubicBezTo>
                  <a:close/>
                </a:path>
              </a:pathLst>
            </a:custGeom>
            <a:solidFill>
              <a:srgbClr val="f8ff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3" name="任意多边形: 形状 68"/>
            <p:cNvSpPr/>
            <p:nvPr/>
          </p:nvSpPr>
          <p:spPr>
            <a:xfrm>
              <a:off x="7417800" y="768960"/>
              <a:ext cx="1171800" cy="1446120"/>
            </a:xfrm>
            <a:custGeom>
              <a:avLst/>
              <a:gdLst>
                <a:gd name="textAreaLeft" fmla="*/ 0 w 1171800"/>
                <a:gd name="textAreaRight" fmla="*/ 1172160 w 1171800"/>
                <a:gd name="textAreaTop" fmla="*/ 0 h 1446120"/>
                <a:gd name="textAreaBottom" fmla="*/ 1446480 h 1446120"/>
              </a:gdLst>
              <a:ahLst/>
              <a:rect l="textAreaLeft" t="textAreaTop" r="textAreaRight" b="textAreaBottom"/>
              <a:pathLst>
                <a:path w="447675" h="552450">
                  <a:moveTo>
                    <a:pt x="432848" y="104235"/>
                  </a:moveTo>
                  <a:lnTo>
                    <a:pt x="238537" y="9937"/>
                  </a:lnTo>
                  <a:cubicBezTo>
                    <a:pt x="225202" y="3270"/>
                    <a:pt x="209010" y="8985"/>
                    <a:pt x="203295" y="22320"/>
                  </a:cubicBezTo>
                  <a:lnTo>
                    <a:pt x="9937" y="421417"/>
                  </a:lnTo>
                  <a:cubicBezTo>
                    <a:pt x="3270" y="434753"/>
                    <a:pt x="8985" y="450945"/>
                    <a:pt x="22320" y="456660"/>
                  </a:cubicBezTo>
                  <a:lnTo>
                    <a:pt x="216630" y="550957"/>
                  </a:lnTo>
                  <a:cubicBezTo>
                    <a:pt x="229965" y="557625"/>
                    <a:pt x="246157" y="551910"/>
                    <a:pt x="251873" y="538575"/>
                  </a:cubicBezTo>
                  <a:lnTo>
                    <a:pt x="445230" y="139478"/>
                  </a:lnTo>
                  <a:cubicBezTo>
                    <a:pt x="451898" y="127095"/>
                    <a:pt x="446182" y="110903"/>
                    <a:pt x="432848" y="104235"/>
                  </a:cubicBez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4" name="任意多边形: 形状 69"/>
            <p:cNvSpPr/>
            <p:nvPr/>
          </p:nvSpPr>
          <p:spPr>
            <a:xfrm>
              <a:off x="7370280" y="649440"/>
              <a:ext cx="1171800" cy="1446120"/>
            </a:xfrm>
            <a:custGeom>
              <a:avLst/>
              <a:gdLst>
                <a:gd name="textAreaLeft" fmla="*/ 0 w 1171800"/>
                <a:gd name="textAreaRight" fmla="*/ 1172160 w 1171800"/>
                <a:gd name="textAreaTop" fmla="*/ 0 h 1446120"/>
                <a:gd name="textAreaBottom" fmla="*/ 1446480 h 1446120"/>
              </a:gdLst>
              <a:ahLst/>
              <a:rect l="textAreaLeft" t="textAreaTop" r="textAreaRight" b="textAreaBottom"/>
              <a:pathLst>
                <a:path w="447675" h="552450">
                  <a:moveTo>
                    <a:pt x="251872" y="538575"/>
                  </a:moveTo>
                  <a:cubicBezTo>
                    <a:pt x="245205" y="551910"/>
                    <a:pt x="229012" y="557625"/>
                    <a:pt x="216630" y="550957"/>
                  </a:cubicBezTo>
                  <a:lnTo>
                    <a:pt x="22320" y="456660"/>
                  </a:lnTo>
                  <a:cubicBezTo>
                    <a:pt x="8985" y="449992"/>
                    <a:pt x="3270" y="433800"/>
                    <a:pt x="9937" y="421417"/>
                  </a:cubicBezTo>
                  <a:lnTo>
                    <a:pt x="203295" y="22320"/>
                  </a:lnTo>
                  <a:cubicBezTo>
                    <a:pt x="209962" y="8985"/>
                    <a:pt x="226155" y="3270"/>
                    <a:pt x="238537" y="9937"/>
                  </a:cubicBezTo>
                  <a:lnTo>
                    <a:pt x="432847" y="104235"/>
                  </a:lnTo>
                  <a:cubicBezTo>
                    <a:pt x="446183" y="110902"/>
                    <a:pt x="451897" y="127095"/>
                    <a:pt x="445230" y="139477"/>
                  </a:cubicBezTo>
                  <a:lnTo>
                    <a:pt x="251872" y="538575"/>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5" name="任意多边形: 形状 70"/>
            <p:cNvSpPr/>
            <p:nvPr/>
          </p:nvSpPr>
          <p:spPr>
            <a:xfrm>
              <a:off x="7479720" y="823680"/>
              <a:ext cx="972360" cy="1096920"/>
            </a:xfrm>
            <a:custGeom>
              <a:avLst/>
              <a:gdLst>
                <a:gd name="textAreaLeft" fmla="*/ 0 w 972360"/>
                <a:gd name="textAreaRight" fmla="*/ 972720 w 972360"/>
                <a:gd name="textAreaTop" fmla="*/ 0 h 1096920"/>
                <a:gd name="textAreaBottom" fmla="*/ 1097280 h 1096920"/>
              </a:gdLst>
              <a:ahLst/>
              <a:rect l="textAreaLeft" t="textAreaTop" r="textAreaRight" b="textAreaBottom"/>
              <a:pathLst>
                <a:path w="371475" h="419100">
                  <a:moveTo>
                    <a:pt x="216694" y="414814"/>
                  </a:moveTo>
                  <a:lnTo>
                    <a:pt x="7144" y="313849"/>
                  </a:lnTo>
                  <a:lnTo>
                    <a:pt x="155734" y="7144"/>
                  </a:lnTo>
                  <a:lnTo>
                    <a:pt x="365284" y="109061"/>
                  </a:lnTo>
                  <a:lnTo>
                    <a:pt x="216694" y="414814"/>
                  </a:ln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6" name="任意多边形: 形状 71"/>
            <p:cNvSpPr/>
            <p:nvPr/>
          </p:nvSpPr>
          <p:spPr>
            <a:xfrm>
              <a:off x="8024760" y="784800"/>
              <a:ext cx="249120" cy="174240"/>
            </a:xfrm>
            <a:custGeom>
              <a:avLst/>
              <a:gdLst>
                <a:gd name="textAreaLeft" fmla="*/ 0 w 249120"/>
                <a:gd name="textAreaRight" fmla="*/ 249480 w 249120"/>
                <a:gd name="textAreaTop" fmla="*/ 0 h 174240"/>
                <a:gd name="textAreaBottom" fmla="*/ 174600 h 174240"/>
              </a:gdLst>
              <a:ahLst/>
              <a:rect l="textAreaLeft" t="textAreaTop" r="textAreaRight" b="textAreaBottom"/>
              <a:pathLst>
                <a:path w="95250" h="66675">
                  <a:moveTo>
                    <a:pt x="9546" y="21544"/>
                  </a:moveTo>
                  <a:lnTo>
                    <a:pt x="15368" y="9546"/>
                  </a:lnTo>
                  <a:lnTo>
                    <a:pt x="94209" y="47806"/>
                  </a:lnTo>
                  <a:lnTo>
                    <a:pt x="88387" y="59803"/>
                  </a:lnTo>
                  <a:lnTo>
                    <a:pt x="9546" y="21544"/>
                  </a:ln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7" name="任意多边形: 形状 72"/>
            <p:cNvSpPr/>
            <p:nvPr/>
          </p:nvSpPr>
          <p:spPr>
            <a:xfrm>
              <a:off x="8358120" y="951480"/>
              <a:ext cx="49680" cy="49680"/>
            </a:xfrm>
            <a:custGeom>
              <a:avLst/>
              <a:gdLst>
                <a:gd name="textAreaLeft" fmla="*/ 0 w 49680"/>
                <a:gd name="textAreaRight" fmla="*/ 50040 w 49680"/>
                <a:gd name="textAreaTop" fmla="*/ 0 h 49680"/>
                <a:gd name="textAreaBottom" fmla="*/ 50040 h 49680"/>
              </a:gdLst>
              <a:ahLst/>
              <a:rect l="textAreaLeft" t="textAreaTop" r="textAreaRight" b="textAreaBottom"/>
              <a:pathLst>
                <a:path w="19050" h="19050">
                  <a:moveTo>
                    <a:pt x="19341" y="16483"/>
                  </a:moveTo>
                  <a:cubicBezTo>
                    <a:pt x="17435" y="19341"/>
                    <a:pt x="13626" y="21246"/>
                    <a:pt x="10768" y="19341"/>
                  </a:cubicBezTo>
                  <a:cubicBezTo>
                    <a:pt x="7910" y="17436"/>
                    <a:pt x="6006" y="13626"/>
                    <a:pt x="7910" y="10768"/>
                  </a:cubicBezTo>
                  <a:cubicBezTo>
                    <a:pt x="9816" y="7911"/>
                    <a:pt x="13626" y="6006"/>
                    <a:pt x="16483" y="7911"/>
                  </a:cubicBezTo>
                  <a:cubicBezTo>
                    <a:pt x="20293" y="9816"/>
                    <a:pt x="21246" y="13626"/>
                    <a:pt x="19341" y="16483"/>
                  </a:cubicBezTo>
                  <a:close/>
                </a:path>
              </a:pathLst>
            </a:custGeom>
            <a:solidFill>
              <a:srgbClr val="ebfffa"/>
            </a:solidFill>
            <a:ln w="0">
              <a:noFill/>
            </a:ln>
          </p:spPr>
          <p:style>
            <a:lnRef idx="0"/>
            <a:fillRef idx="0"/>
            <a:effectRef idx="0"/>
            <a:fontRef idx="minor"/>
          </p:style>
          <p:txBody>
            <a:bodyPr lIns="90000" rIns="90000" tIns="3240" bIns="3240" anchor="ctr">
              <a:noAutofit/>
            </a:bodyPr>
            <a:p>
              <a:endParaRPr b="0" lang="en-US" sz="1800" spc="-1" strike="noStrike">
                <a:solidFill>
                  <a:srgbClr val="262626"/>
                </a:solidFill>
                <a:latin typeface="Arial"/>
              </a:endParaRPr>
            </a:p>
          </p:txBody>
        </p:sp>
        <p:sp>
          <p:nvSpPr>
            <p:cNvPr id="118" name="任意多边形: 形状 73"/>
            <p:cNvSpPr/>
            <p:nvPr/>
          </p:nvSpPr>
          <p:spPr>
            <a:xfrm>
              <a:off x="7662600" y="181440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6256" y="31659"/>
                  </a:moveTo>
                  <a:cubicBezTo>
                    <a:pt x="-30067" y="-25304"/>
                    <a:pt x="24992" y="-21494"/>
                    <a:pt x="16419" y="-26256"/>
                  </a:cubicBezTo>
                  <a:cubicBezTo>
                    <a:pt x="7847" y="-30066"/>
                    <a:pt x="4990" y="24992"/>
                    <a:pt x="8800" y="16420"/>
                  </a:cubicBezTo>
                  <a:cubicBezTo>
                    <a:pt x="12609" y="7847"/>
                    <a:pt x="23087" y="4990"/>
                    <a:pt x="31659" y="8800"/>
                  </a:cubicBezTo>
                  <a:cubicBezTo>
                    <a:pt x="-26256" y="13562"/>
                    <a:pt x="-22446" y="23087"/>
                    <a:pt x="-26256" y="31659"/>
                  </a:cubicBez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 name="任意多边形: 形状 74"/>
            <p:cNvSpPr/>
            <p:nvPr/>
          </p:nvSpPr>
          <p:spPr>
            <a:xfrm>
              <a:off x="9302400" y="861120"/>
              <a:ext cx="1371240" cy="1371240"/>
            </a:xfrm>
            <a:custGeom>
              <a:avLst/>
              <a:gdLst>
                <a:gd name="textAreaLeft" fmla="*/ 0 w 1371240"/>
                <a:gd name="textAreaRight" fmla="*/ 1371600 w 1371240"/>
                <a:gd name="textAreaTop" fmla="*/ 0 h 1371240"/>
                <a:gd name="textAreaBottom" fmla="*/ 1371600 h 1371240"/>
              </a:gdLst>
              <a:ahLst/>
              <a:rect l="textAreaLeft" t="textAreaTop" r="textAreaRight" b="textAreaBottom"/>
              <a:pathLst>
                <a:path w="523875" h="523875">
                  <a:moveTo>
                    <a:pt x="264319" y="7144"/>
                  </a:moveTo>
                  <a:cubicBezTo>
                    <a:pt x="122396" y="7144"/>
                    <a:pt x="7144" y="122396"/>
                    <a:pt x="7144" y="264319"/>
                  </a:cubicBezTo>
                  <a:cubicBezTo>
                    <a:pt x="7144" y="406241"/>
                    <a:pt x="122396" y="521494"/>
                    <a:pt x="264319" y="521494"/>
                  </a:cubicBezTo>
                  <a:cubicBezTo>
                    <a:pt x="406241" y="521494"/>
                    <a:pt x="521494" y="406241"/>
                    <a:pt x="521494" y="264319"/>
                  </a:cubicBezTo>
                  <a:cubicBezTo>
                    <a:pt x="521494" y="122396"/>
                    <a:pt x="406241" y="7144"/>
                    <a:pt x="264319" y="7144"/>
                  </a:cubicBez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0" name="任意多边形: 形状 75"/>
            <p:cNvSpPr/>
            <p:nvPr/>
          </p:nvSpPr>
          <p:spPr>
            <a:xfrm>
              <a:off x="9230040" y="763920"/>
              <a:ext cx="1371240" cy="1371240"/>
            </a:xfrm>
            <a:custGeom>
              <a:avLst/>
              <a:gdLst>
                <a:gd name="textAreaLeft" fmla="*/ 0 w 1371240"/>
                <a:gd name="textAreaRight" fmla="*/ 1371600 w 1371240"/>
                <a:gd name="textAreaTop" fmla="*/ 0 h 1371240"/>
                <a:gd name="textAreaBottom" fmla="*/ 1371600 h 1371240"/>
              </a:gdLst>
              <a:ahLst/>
              <a:rect l="textAreaLeft" t="textAreaTop" r="textAreaRight" b="textAreaBottom"/>
              <a:pathLst>
                <a:path w="523875" h="523875">
                  <a:moveTo>
                    <a:pt x="521494" y="264319"/>
                  </a:moveTo>
                  <a:cubicBezTo>
                    <a:pt x="521494" y="406241"/>
                    <a:pt x="406241" y="521494"/>
                    <a:pt x="264319" y="521494"/>
                  </a:cubicBezTo>
                  <a:cubicBezTo>
                    <a:pt x="122396" y="521494"/>
                    <a:pt x="7144" y="406241"/>
                    <a:pt x="7144" y="264319"/>
                  </a:cubicBezTo>
                  <a:cubicBezTo>
                    <a:pt x="7144" y="122396"/>
                    <a:pt x="122396" y="7144"/>
                    <a:pt x="264319" y="7144"/>
                  </a:cubicBezTo>
                  <a:cubicBezTo>
                    <a:pt x="406241" y="7144"/>
                    <a:pt x="521494" y="122396"/>
                    <a:pt x="521494" y="26431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 name="任意多边形: 形状 76"/>
            <p:cNvSpPr/>
            <p:nvPr/>
          </p:nvSpPr>
          <p:spPr>
            <a:xfrm>
              <a:off x="9399600" y="933480"/>
              <a:ext cx="1022040" cy="1022040"/>
            </a:xfrm>
            <a:custGeom>
              <a:avLst/>
              <a:gdLst>
                <a:gd name="textAreaLeft" fmla="*/ 0 w 1022040"/>
                <a:gd name="textAreaRight" fmla="*/ 1022400 w 1022040"/>
                <a:gd name="textAreaTop" fmla="*/ 0 h 1022040"/>
                <a:gd name="textAreaBottom" fmla="*/ 1022400 h 1022040"/>
              </a:gdLst>
              <a:ahLst/>
              <a:rect l="textAreaLeft" t="textAreaTop" r="textAreaRight" b="textAreaBottom"/>
              <a:pathLst>
                <a:path w="390525" h="390525">
                  <a:moveTo>
                    <a:pt x="391954" y="199549"/>
                  </a:moveTo>
                  <a:cubicBezTo>
                    <a:pt x="391954" y="306229"/>
                    <a:pt x="305276" y="391954"/>
                    <a:pt x="199549" y="391954"/>
                  </a:cubicBezTo>
                  <a:cubicBezTo>
                    <a:pt x="92869" y="391954"/>
                    <a:pt x="7144" y="305276"/>
                    <a:pt x="7144" y="199549"/>
                  </a:cubicBezTo>
                  <a:cubicBezTo>
                    <a:pt x="7144" y="92869"/>
                    <a:pt x="93821" y="7144"/>
                    <a:pt x="199549" y="7144"/>
                  </a:cubicBezTo>
                  <a:cubicBezTo>
                    <a:pt x="305276" y="7144"/>
                    <a:pt x="391954" y="92869"/>
                    <a:pt x="391954" y="199549"/>
                  </a:cubicBezTo>
                  <a:close/>
                </a:path>
              </a:pathLst>
            </a:custGeom>
            <a:solidFill>
              <a:srgbClr val="f2f0f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2" name="任意多边形: 形状 77"/>
            <p:cNvSpPr/>
            <p:nvPr/>
          </p:nvSpPr>
          <p:spPr>
            <a:xfrm>
              <a:off x="9503280" y="1013040"/>
              <a:ext cx="822600" cy="847800"/>
            </a:xfrm>
            <a:custGeom>
              <a:avLst/>
              <a:gdLst>
                <a:gd name="textAreaLeft" fmla="*/ 0 w 822600"/>
                <a:gd name="textAreaRight" fmla="*/ 822960 w 822600"/>
                <a:gd name="textAreaTop" fmla="*/ 0 h 847800"/>
                <a:gd name="textAreaBottom" fmla="*/ 848160 h 847800"/>
              </a:gdLst>
              <a:ahLst/>
              <a:rect l="textAreaLeft" t="textAreaTop" r="textAreaRight" b="textAreaBottom"/>
              <a:pathLst>
                <a:path w="314325" h="323850">
                  <a:moveTo>
                    <a:pt x="282849" y="12930"/>
                  </a:moveTo>
                  <a:cubicBezTo>
                    <a:pt x="272372" y="4358"/>
                    <a:pt x="257131" y="5310"/>
                    <a:pt x="247606" y="15788"/>
                  </a:cubicBezTo>
                  <a:lnTo>
                    <a:pt x="238081" y="27218"/>
                  </a:lnTo>
                  <a:cubicBezTo>
                    <a:pt x="235224" y="30075"/>
                    <a:pt x="233319" y="33885"/>
                    <a:pt x="233319" y="38648"/>
                  </a:cubicBezTo>
                  <a:cubicBezTo>
                    <a:pt x="190456" y="14835"/>
                    <a:pt x="137116" y="12930"/>
                    <a:pt x="90444" y="35790"/>
                  </a:cubicBezTo>
                  <a:cubicBezTo>
                    <a:pt x="15197" y="73890"/>
                    <a:pt x="-14331" y="165330"/>
                    <a:pt x="23769" y="240578"/>
                  </a:cubicBezTo>
                  <a:cubicBezTo>
                    <a:pt x="61869" y="315825"/>
                    <a:pt x="153309" y="345353"/>
                    <a:pt x="228556" y="307253"/>
                  </a:cubicBezTo>
                  <a:cubicBezTo>
                    <a:pt x="303804" y="269153"/>
                    <a:pt x="333331" y="177713"/>
                    <a:pt x="295231" y="102465"/>
                  </a:cubicBezTo>
                  <a:cubicBezTo>
                    <a:pt x="287612" y="88178"/>
                    <a:pt x="279039" y="75795"/>
                    <a:pt x="268562" y="65318"/>
                  </a:cubicBezTo>
                  <a:cubicBezTo>
                    <a:pt x="271419" y="63413"/>
                    <a:pt x="274277" y="61508"/>
                    <a:pt x="276181" y="58650"/>
                  </a:cubicBezTo>
                  <a:lnTo>
                    <a:pt x="285706" y="47220"/>
                  </a:lnTo>
                  <a:cubicBezTo>
                    <a:pt x="294279" y="36743"/>
                    <a:pt x="293327" y="21503"/>
                    <a:pt x="282849" y="12930"/>
                  </a:cubicBezTo>
                  <a:close/>
                </a:path>
              </a:pathLst>
            </a:custGeom>
            <a:solidFill>
              <a:srgbClr val="c2ce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3" name="任意多边形: 形状 78"/>
            <p:cNvSpPr/>
            <p:nvPr/>
          </p:nvSpPr>
          <p:spPr>
            <a:xfrm>
              <a:off x="9595440" y="1135800"/>
              <a:ext cx="648000" cy="648000"/>
            </a:xfrm>
            <a:custGeom>
              <a:avLst/>
              <a:gdLst>
                <a:gd name="textAreaLeft" fmla="*/ 0 w 648000"/>
                <a:gd name="textAreaRight" fmla="*/ 648360 w 648000"/>
                <a:gd name="textAreaTop" fmla="*/ 0 h 648000"/>
                <a:gd name="textAreaBottom" fmla="*/ 648360 h 648000"/>
              </a:gdLst>
              <a:ahLst/>
              <a:rect l="textAreaLeft" t="textAreaTop" r="textAreaRight" b="textAreaBottom"/>
              <a:pathLst>
                <a:path w="247650" h="247650">
                  <a:moveTo>
                    <a:pt x="229589" y="70881"/>
                  </a:moveTo>
                  <a:cubicBezTo>
                    <a:pt x="259116" y="128983"/>
                    <a:pt x="236256" y="199468"/>
                    <a:pt x="178154" y="228996"/>
                  </a:cubicBezTo>
                  <a:cubicBezTo>
                    <a:pt x="120051" y="258523"/>
                    <a:pt x="49566" y="235663"/>
                    <a:pt x="20039" y="177561"/>
                  </a:cubicBezTo>
                  <a:cubicBezTo>
                    <a:pt x="-9489" y="119458"/>
                    <a:pt x="13371" y="48973"/>
                    <a:pt x="71474" y="19446"/>
                  </a:cubicBezTo>
                  <a:cubicBezTo>
                    <a:pt x="128624" y="-9129"/>
                    <a:pt x="200061" y="13731"/>
                    <a:pt x="229589" y="70881"/>
                  </a:cubicBezTo>
                  <a:close/>
                </a:path>
              </a:pathLst>
            </a:custGeom>
            <a:solidFill>
              <a:srgbClr val="99737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4" name="任意多边形: 形状 79"/>
            <p:cNvSpPr/>
            <p:nvPr/>
          </p:nvSpPr>
          <p:spPr>
            <a:xfrm>
              <a:off x="9775440" y="122472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38100" h="38100">
                  <a:moveTo>
                    <a:pt x="31290" y="13980"/>
                  </a:moveTo>
                  <a:cubicBezTo>
                    <a:pt x="-31389" y="20647"/>
                    <a:pt x="32242" y="28267"/>
                    <a:pt x="25575" y="31125"/>
                  </a:cubicBezTo>
                  <a:cubicBezTo>
                    <a:pt x="18907" y="-31554"/>
                    <a:pt x="11287" y="32077"/>
                    <a:pt x="8430" y="25410"/>
                  </a:cubicBezTo>
                  <a:cubicBezTo>
                    <a:pt x="5572" y="18742"/>
                    <a:pt x="7477" y="11122"/>
                    <a:pt x="14144" y="8265"/>
                  </a:cubicBezTo>
                  <a:cubicBezTo>
                    <a:pt x="19860" y="5407"/>
                    <a:pt x="27480" y="8265"/>
                    <a:pt x="31290" y="13980"/>
                  </a:cubicBezTo>
                  <a:close/>
                </a:path>
              </a:pathLst>
            </a:custGeom>
            <a:solidFill>
              <a:srgbClr val="8964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5" name="任意多边形: 形状 80"/>
            <p:cNvSpPr/>
            <p:nvPr/>
          </p:nvSpPr>
          <p:spPr>
            <a:xfrm>
              <a:off x="9838080" y="116748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2052" y="17767"/>
                  </a:moveTo>
                  <a:cubicBezTo>
                    <a:pt x="-17289" y="27292"/>
                    <a:pt x="-21099" y="-26814"/>
                    <a:pt x="-30624" y="-22052"/>
                  </a:cubicBezTo>
                  <a:cubicBezTo>
                    <a:pt x="25387" y="-17289"/>
                    <a:pt x="13957" y="-21099"/>
                    <a:pt x="9194" y="-30624"/>
                  </a:cubicBezTo>
                  <a:cubicBezTo>
                    <a:pt x="4432" y="25387"/>
                    <a:pt x="8242" y="13957"/>
                    <a:pt x="17767" y="9194"/>
                  </a:cubicBezTo>
                  <a:cubicBezTo>
                    <a:pt x="27292" y="4432"/>
                    <a:pt x="-26814" y="8242"/>
                    <a:pt x="-22052" y="17767"/>
                  </a:cubicBezTo>
                  <a:close/>
                </a:path>
              </a:pathLst>
            </a:custGeom>
            <a:solidFill>
              <a:srgbClr val="8964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6" name="任意多边形: 形状 81"/>
            <p:cNvSpPr/>
            <p:nvPr/>
          </p:nvSpPr>
          <p:spPr>
            <a:xfrm>
              <a:off x="9842760" y="128304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38100" h="38100">
                  <a:moveTo>
                    <a:pt x="31290" y="14565"/>
                  </a:moveTo>
                  <a:cubicBezTo>
                    <a:pt x="-31389" y="21233"/>
                    <a:pt x="32242" y="28853"/>
                    <a:pt x="25575" y="31710"/>
                  </a:cubicBezTo>
                  <a:cubicBezTo>
                    <a:pt x="18907" y="-30968"/>
                    <a:pt x="11287" y="32663"/>
                    <a:pt x="8430" y="25995"/>
                  </a:cubicBezTo>
                  <a:cubicBezTo>
                    <a:pt x="5572" y="19328"/>
                    <a:pt x="7477" y="11708"/>
                    <a:pt x="14145" y="8850"/>
                  </a:cubicBezTo>
                  <a:cubicBezTo>
                    <a:pt x="19860" y="5040"/>
                    <a:pt x="27480" y="7898"/>
                    <a:pt x="31290" y="14565"/>
                  </a:cubicBezTo>
                  <a:close/>
                </a:path>
              </a:pathLst>
            </a:custGeom>
            <a:solidFill>
              <a:srgbClr val="8964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7" name="任意多边形: 形状 82"/>
            <p:cNvSpPr/>
            <p:nvPr/>
          </p:nvSpPr>
          <p:spPr>
            <a:xfrm>
              <a:off x="8676720" y="2115360"/>
              <a:ext cx="3515400" cy="3740040"/>
            </a:xfrm>
            <a:custGeom>
              <a:avLst/>
              <a:gdLst>
                <a:gd name="textAreaLeft" fmla="*/ 0 w 3515400"/>
                <a:gd name="textAreaRight" fmla="*/ 3515760 w 3515400"/>
                <a:gd name="textAreaTop" fmla="*/ 0 h 3740040"/>
                <a:gd name="textAreaBottom" fmla="*/ 3740400 h 3740040"/>
              </a:gdLst>
              <a:ahLst/>
              <a:rect l="textAreaLeft" t="textAreaTop" r="textAreaRight" b="textAreaBottom"/>
              <a:pathLst>
                <a:path w="1343025" h="1428750">
                  <a:moveTo>
                    <a:pt x="1340644" y="7144"/>
                  </a:moveTo>
                  <a:lnTo>
                    <a:pt x="851059" y="262414"/>
                  </a:lnTo>
                  <a:lnTo>
                    <a:pt x="868204" y="294799"/>
                  </a:lnTo>
                  <a:lnTo>
                    <a:pt x="851059" y="301466"/>
                  </a:lnTo>
                  <a:cubicBezTo>
                    <a:pt x="851059" y="301466"/>
                    <a:pt x="834866" y="269081"/>
                    <a:pt x="772954" y="300514"/>
                  </a:cubicBezTo>
                  <a:lnTo>
                    <a:pt x="541496" y="414814"/>
                  </a:lnTo>
                  <a:cubicBezTo>
                    <a:pt x="541496" y="414814"/>
                    <a:pt x="522446" y="425291"/>
                    <a:pt x="532924" y="446246"/>
                  </a:cubicBezTo>
                  <a:cubicBezTo>
                    <a:pt x="541496" y="462439"/>
                    <a:pt x="565309" y="451961"/>
                    <a:pt x="565309" y="451961"/>
                  </a:cubicBezTo>
                  <a:cubicBezTo>
                    <a:pt x="565309" y="451961"/>
                    <a:pt x="647224" y="415766"/>
                    <a:pt x="649129" y="419576"/>
                  </a:cubicBezTo>
                  <a:cubicBezTo>
                    <a:pt x="652939" y="429101"/>
                    <a:pt x="542449" y="482441"/>
                    <a:pt x="488156" y="509111"/>
                  </a:cubicBezTo>
                  <a:lnTo>
                    <a:pt x="278606" y="398621"/>
                  </a:lnTo>
                  <a:lnTo>
                    <a:pt x="7144" y="920592"/>
                  </a:lnTo>
                  <a:lnTo>
                    <a:pt x="26194" y="931069"/>
                  </a:lnTo>
                  <a:cubicBezTo>
                    <a:pt x="30004" y="929164"/>
                    <a:pt x="39529" y="923449"/>
                    <a:pt x="40481" y="917734"/>
                  </a:cubicBezTo>
                  <a:cubicBezTo>
                    <a:pt x="40481" y="915829"/>
                    <a:pt x="41434" y="914876"/>
                    <a:pt x="41434" y="913924"/>
                  </a:cubicBezTo>
                  <a:cubicBezTo>
                    <a:pt x="36671" y="909161"/>
                    <a:pt x="34766" y="900589"/>
                    <a:pt x="38576" y="893921"/>
                  </a:cubicBezTo>
                  <a:cubicBezTo>
                    <a:pt x="43339" y="885349"/>
                    <a:pt x="52864" y="882492"/>
                    <a:pt x="61436" y="887254"/>
                  </a:cubicBezTo>
                  <a:cubicBezTo>
                    <a:pt x="70009" y="892017"/>
                    <a:pt x="72866" y="902494"/>
                    <a:pt x="69056" y="910114"/>
                  </a:cubicBezTo>
                  <a:cubicBezTo>
                    <a:pt x="65246" y="916781"/>
                    <a:pt x="58579" y="919639"/>
                    <a:pt x="50959" y="918686"/>
                  </a:cubicBezTo>
                  <a:cubicBezTo>
                    <a:pt x="48101" y="920592"/>
                    <a:pt x="41434" y="927259"/>
                    <a:pt x="42386" y="936784"/>
                  </a:cubicBezTo>
                  <a:cubicBezTo>
                    <a:pt x="42386" y="937736"/>
                    <a:pt x="42386" y="938689"/>
                    <a:pt x="42386" y="938689"/>
                  </a:cubicBezTo>
                  <a:lnTo>
                    <a:pt x="78581" y="957739"/>
                  </a:lnTo>
                  <a:cubicBezTo>
                    <a:pt x="82391" y="955834"/>
                    <a:pt x="91916" y="950119"/>
                    <a:pt x="92869" y="944404"/>
                  </a:cubicBezTo>
                  <a:cubicBezTo>
                    <a:pt x="92869" y="942499"/>
                    <a:pt x="93821" y="941546"/>
                    <a:pt x="93821" y="940594"/>
                  </a:cubicBezTo>
                  <a:cubicBezTo>
                    <a:pt x="89059" y="935831"/>
                    <a:pt x="87154" y="927259"/>
                    <a:pt x="90964" y="920592"/>
                  </a:cubicBezTo>
                  <a:cubicBezTo>
                    <a:pt x="95726" y="912019"/>
                    <a:pt x="105251" y="909161"/>
                    <a:pt x="113824" y="913924"/>
                  </a:cubicBezTo>
                  <a:cubicBezTo>
                    <a:pt x="122396" y="918686"/>
                    <a:pt x="125254" y="929164"/>
                    <a:pt x="121444" y="936784"/>
                  </a:cubicBezTo>
                  <a:cubicBezTo>
                    <a:pt x="117634" y="943451"/>
                    <a:pt x="110966" y="946309"/>
                    <a:pt x="103346" y="945356"/>
                  </a:cubicBezTo>
                  <a:cubicBezTo>
                    <a:pt x="100489" y="947261"/>
                    <a:pt x="93821" y="953929"/>
                    <a:pt x="94774" y="963454"/>
                  </a:cubicBezTo>
                  <a:cubicBezTo>
                    <a:pt x="94774" y="964406"/>
                    <a:pt x="94774" y="965359"/>
                    <a:pt x="94774" y="965359"/>
                  </a:cubicBezTo>
                  <a:lnTo>
                    <a:pt x="130969" y="984409"/>
                  </a:lnTo>
                  <a:cubicBezTo>
                    <a:pt x="134779" y="982504"/>
                    <a:pt x="144304" y="976789"/>
                    <a:pt x="145256" y="971074"/>
                  </a:cubicBezTo>
                  <a:cubicBezTo>
                    <a:pt x="145256" y="969169"/>
                    <a:pt x="146209" y="968217"/>
                    <a:pt x="146209" y="967264"/>
                  </a:cubicBezTo>
                  <a:cubicBezTo>
                    <a:pt x="141446" y="962501"/>
                    <a:pt x="139541" y="953929"/>
                    <a:pt x="143351" y="947261"/>
                  </a:cubicBezTo>
                  <a:cubicBezTo>
                    <a:pt x="148114" y="938689"/>
                    <a:pt x="158591" y="935831"/>
                    <a:pt x="166211" y="940594"/>
                  </a:cubicBezTo>
                  <a:cubicBezTo>
                    <a:pt x="174784" y="945356"/>
                    <a:pt x="177641" y="955834"/>
                    <a:pt x="173831" y="963454"/>
                  </a:cubicBezTo>
                  <a:cubicBezTo>
                    <a:pt x="170021" y="970121"/>
                    <a:pt x="163354" y="972979"/>
                    <a:pt x="155734" y="972026"/>
                  </a:cubicBezTo>
                  <a:cubicBezTo>
                    <a:pt x="152876" y="973931"/>
                    <a:pt x="146209" y="980599"/>
                    <a:pt x="147161" y="990124"/>
                  </a:cubicBezTo>
                  <a:cubicBezTo>
                    <a:pt x="147161" y="991076"/>
                    <a:pt x="147161" y="992029"/>
                    <a:pt x="147161" y="992029"/>
                  </a:cubicBezTo>
                  <a:lnTo>
                    <a:pt x="183356" y="1011079"/>
                  </a:lnTo>
                  <a:cubicBezTo>
                    <a:pt x="187166" y="1009174"/>
                    <a:pt x="196691" y="1003459"/>
                    <a:pt x="197644" y="997744"/>
                  </a:cubicBezTo>
                  <a:cubicBezTo>
                    <a:pt x="197644" y="995839"/>
                    <a:pt x="198596" y="994886"/>
                    <a:pt x="198596" y="993934"/>
                  </a:cubicBezTo>
                  <a:cubicBezTo>
                    <a:pt x="193834" y="989171"/>
                    <a:pt x="191929" y="980599"/>
                    <a:pt x="195739" y="973931"/>
                  </a:cubicBezTo>
                  <a:cubicBezTo>
                    <a:pt x="200501" y="965359"/>
                    <a:pt x="210026" y="962501"/>
                    <a:pt x="218599" y="967264"/>
                  </a:cubicBezTo>
                  <a:cubicBezTo>
                    <a:pt x="227171" y="972026"/>
                    <a:pt x="230029" y="982504"/>
                    <a:pt x="226219" y="990124"/>
                  </a:cubicBezTo>
                  <a:cubicBezTo>
                    <a:pt x="222409" y="996792"/>
                    <a:pt x="215741" y="999649"/>
                    <a:pt x="208121" y="998696"/>
                  </a:cubicBezTo>
                  <a:cubicBezTo>
                    <a:pt x="205264" y="1000601"/>
                    <a:pt x="198596" y="1007269"/>
                    <a:pt x="199549" y="1016794"/>
                  </a:cubicBezTo>
                  <a:cubicBezTo>
                    <a:pt x="199549" y="1017746"/>
                    <a:pt x="199549" y="1018699"/>
                    <a:pt x="199549" y="1018699"/>
                  </a:cubicBezTo>
                  <a:lnTo>
                    <a:pt x="235744" y="1037749"/>
                  </a:lnTo>
                  <a:cubicBezTo>
                    <a:pt x="239554" y="1035844"/>
                    <a:pt x="249079" y="1030129"/>
                    <a:pt x="250031" y="1024414"/>
                  </a:cubicBezTo>
                  <a:cubicBezTo>
                    <a:pt x="250031" y="1022509"/>
                    <a:pt x="250984" y="1021556"/>
                    <a:pt x="250984" y="1020604"/>
                  </a:cubicBezTo>
                  <a:cubicBezTo>
                    <a:pt x="246221" y="1015842"/>
                    <a:pt x="244316" y="1007269"/>
                    <a:pt x="248126" y="1000601"/>
                  </a:cubicBezTo>
                  <a:cubicBezTo>
                    <a:pt x="252889" y="992029"/>
                    <a:pt x="262414" y="989171"/>
                    <a:pt x="270986" y="993934"/>
                  </a:cubicBezTo>
                  <a:cubicBezTo>
                    <a:pt x="279559" y="998696"/>
                    <a:pt x="282416" y="1009174"/>
                    <a:pt x="278606" y="1016794"/>
                  </a:cubicBezTo>
                  <a:cubicBezTo>
                    <a:pt x="274796" y="1023461"/>
                    <a:pt x="268129" y="1026319"/>
                    <a:pt x="260509" y="1025367"/>
                  </a:cubicBezTo>
                  <a:cubicBezTo>
                    <a:pt x="257651" y="1027271"/>
                    <a:pt x="250984" y="1033939"/>
                    <a:pt x="251936" y="1043464"/>
                  </a:cubicBezTo>
                  <a:cubicBezTo>
                    <a:pt x="251936" y="1044417"/>
                    <a:pt x="251936" y="1045369"/>
                    <a:pt x="251936" y="1045369"/>
                  </a:cubicBezTo>
                  <a:lnTo>
                    <a:pt x="288131" y="1064419"/>
                  </a:lnTo>
                  <a:cubicBezTo>
                    <a:pt x="291941" y="1062514"/>
                    <a:pt x="301466" y="1056799"/>
                    <a:pt x="302419" y="1051084"/>
                  </a:cubicBezTo>
                  <a:cubicBezTo>
                    <a:pt x="302419" y="1049179"/>
                    <a:pt x="303371" y="1048226"/>
                    <a:pt x="303371" y="1047274"/>
                  </a:cubicBezTo>
                  <a:cubicBezTo>
                    <a:pt x="298609" y="1042511"/>
                    <a:pt x="296704" y="1033939"/>
                    <a:pt x="300514" y="1027271"/>
                  </a:cubicBezTo>
                  <a:cubicBezTo>
                    <a:pt x="305276" y="1018699"/>
                    <a:pt x="314801" y="1015842"/>
                    <a:pt x="323374" y="1020604"/>
                  </a:cubicBezTo>
                  <a:cubicBezTo>
                    <a:pt x="331946" y="1025367"/>
                    <a:pt x="334804" y="1035844"/>
                    <a:pt x="330994" y="1043464"/>
                  </a:cubicBezTo>
                  <a:cubicBezTo>
                    <a:pt x="327184" y="1050131"/>
                    <a:pt x="320516" y="1052989"/>
                    <a:pt x="312896" y="1052036"/>
                  </a:cubicBezTo>
                  <a:cubicBezTo>
                    <a:pt x="310039" y="1053942"/>
                    <a:pt x="303371" y="1060609"/>
                    <a:pt x="304324" y="1070134"/>
                  </a:cubicBezTo>
                  <a:cubicBezTo>
                    <a:pt x="304324" y="1071086"/>
                    <a:pt x="304324" y="1072039"/>
                    <a:pt x="304324" y="1072039"/>
                  </a:cubicBezTo>
                  <a:lnTo>
                    <a:pt x="340519" y="1091089"/>
                  </a:lnTo>
                  <a:cubicBezTo>
                    <a:pt x="344329" y="1088231"/>
                    <a:pt x="353854" y="1083469"/>
                    <a:pt x="354806" y="1077754"/>
                  </a:cubicBezTo>
                  <a:cubicBezTo>
                    <a:pt x="354806" y="1075849"/>
                    <a:pt x="355759" y="1074896"/>
                    <a:pt x="355759" y="1073944"/>
                  </a:cubicBezTo>
                  <a:cubicBezTo>
                    <a:pt x="350996" y="1069181"/>
                    <a:pt x="349091" y="1060609"/>
                    <a:pt x="352901" y="1053942"/>
                  </a:cubicBezTo>
                  <a:cubicBezTo>
                    <a:pt x="357664" y="1045369"/>
                    <a:pt x="367189" y="1042511"/>
                    <a:pt x="375761" y="1047274"/>
                  </a:cubicBezTo>
                  <a:cubicBezTo>
                    <a:pt x="384334" y="1052036"/>
                    <a:pt x="387191" y="1062514"/>
                    <a:pt x="383381" y="1070134"/>
                  </a:cubicBezTo>
                  <a:cubicBezTo>
                    <a:pt x="379571" y="1076801"/>
                    <a:pt x="372904" y="1079659"/>
                    <a:pt x="365284" y="1078706"/>
                  </a:cubicBezTo>
                  <a:cubicBezTo>
                    <a:pt x="362426" y="1080611"/>
                    <a:pt x="355759" y="1087279"/>
                    <a:pt x="356711" y="1096804"/>
                  </a:cubicBezTo>
                  <a:cubicBezTo>
                    <a:pt x="356711" y="1097756"/>
                    <a:pt x="356711" y="1098709"/>
                    <a:pt x="356711" y="1098709"/>
                  </a:cubicBezTo>
                  <a:lnTo>
                    <a:pt x="392906" y="1117759"/>
                  </a:lnTo>
                  <a:cubicBezTo>
                    <a:pt x="396716" y="1114901"/>
                    <a:pt x="406241" y="1110139"/>
                    <a:pt x="407194" y="1104424"/>
                  </a:cubicBezTo>
                  <a:cubicBezTo>
                    <a:pt x="407194" y="1102519"/>
                    <a:pt x="408146" y="1101567"/>
                    <a:pt x="408146" y="1100614"/>
                  </a:cubicBezTo>
                  <a:cubicBezTo>
                    <a:pt x="403384" y="1095851"/>
                    <a:pt x="401479" y="1087279"/>
                    <a:pt x="405289" y="1080611"/>
                  </a:cubicBezTo>
                  <a:cubicBezTo>
                    <a:pt x="410051" y="1072039"/>
                    <a:pt x="420529" y="1069181"/>
                    <a:pt x="428149" y="1073944"/>
                  </a:cubicBezTo>
                  <a:cubicBezTo>
                    <a:pt x="436721" y="1078706"/>
                    <a:pt x="439579" y="1089184"/>
                    <a:pt x="435769" y="1096804"/>
                  </a:cubicBezTo>
                  <a:cubicBezTo>
                    <a:pt x="431959" y="1103471"/>
                    <a:pt x="425291" y="1106329"/>
                    <a:pt x="417671" y="1105376"/>
                  </a:cubicBezTo>
                  <a:cubicBezTo>
                    <a:pt x="414814" y="1107281"/>
                    <a:pt x="408146" y="1113949"/>
                    <a:pt x="409099" y="1123474"/>
                  </a:cubicBezTo>
                  <a:cubicBezTo>
                    <a:pt x="409099" y="1124426"/>
                    <a:pt x="409099" y="1125379"/>
                    <a:pt x="409099" y="1125379"/>
                  </a:cubicBezTo>
                  <a:lnTo>
                    <a:pt x="445294" y="1144429"/>
                  </a:lnTo>
                  <a:cubicBezTo>
                    <a:pt x="449104" y="1142524"/>
                    <a:pt x="458629" y="1136809"/>
                    <a:pt x="459581" y="1131094"/>
                  </a:cubicBezTo>
                  <a:cubicBezTo>
                    <a:pt x="459581" y="1129189"/>
                    <a:pt x="460534" y="1128236"/>
                    <a:pt x="460534" y="1127284"/>
                  </a:cubicBezTo>
                  <a:cubicBezTo>
                    <a:pt x="455771" y="1122521"/>
                    <a:pt x="453866" y="1113949"/>
                    <a:pt x="457676" y="1107281"/>
                  </a:cubicBezTo>
                  <a:cubicBezTo>
                    <a:pt x="462439" y="1098709"/>
                    <a:pt x="471964" y="1095851"/>
                    <a:pt x="480536" y="1100614"/>
                  </a:cubicBezTo>
                  <a:cubicBezTo>
                    <a:pt x="489109" y="1105376"/>
                    <a:pt x="491966" y="1115854"/>
                    <a:pt x="488156" y="1123474"/>
                  </a:cubicBezTo>
                  <a:cubicBezTo>
                    <a:pt x="484346" y="1130142"/>
                    <a:pt x="477679" y="1132999"/>
                    <a:pt x="470059" y="1132046"/>
                  </a:cubicBezTo>
                  <a:cubicBezTo>
                    <a:pt x="467201" y="1133951"/>
                    <a:pt x="460534" y="1140619"/>
                    <a:pt x="461486" y="1150144"/>
                  </a:cubicBezTo>
                  <a:cubicBezTo>
                    <a:pt x="461486" y="1151096"/>
                    <a:pt x="461486" y="1152049"/>
                    <a:pt x="461486" y="1152049"/>
                  </a:cubicBezTo>
                  <a:lnTo>
                    <a:pt x="497681" y="1171099"/>
                  </a:lnTo>
                  <a:cubicBezTo>
                    <a:pt x="501491" y="1168242"/>
                    <a:pt x="511016" y="1163479"/>
                    <a:pt x="511969" y="1157764"/>
                  </a:cubicBezTo>
                  <a:cubicBezTo>
                    <a:pt x="511969" y="1155859"/>
                    <a:pt x="512921" y="1154906"/>
                    <a:pt x="512921" y="1153954"/>
                  </a:cubicBezTo>
                  <a:cubicBezTo>
                    <a:pt x="508159" y="1149192"/>
                    <a:pt x="506254" y="1140619"/>
                    <a:pt x="510064" y="1133951"/>
                  </a:cubicBezTo>
                  <a:cubicBezTo>
                    <a:pt x="514826" y="1125379"/>
                    <a:pt x="524351" y="1122521"/>
                    <a:pt x="532924" y="1127284"/>
                  </a:cubicBezTo>
                  <a:cubicBezTo>
                    <a:pt x="541496" y="1132046"/>
                    <a:pt x="544354" y="1142524"/>
                    <a:pt x="540544" y="1150144"/>
                  </a:cubicBezTo>
                  <a:cubicBezTo>
                    <a:pt x="536734" y="1156811"/>
                    <a:pt x="530066" y="1159669"/>
                    <a:pt x="522446" y="1158717"/>
                  </a:cubicBezTo>
                  <a:cubicBezTo>
                    <a:pt x="519589" y="1160621"/>
                    <a:pt x="512921" y="1167289"/>
                    <a:pt x="513874" y="1176814"/>
                  </a:cubicBezTo>
                  <a:cubicBezTo>
                    <a:pt x="513874" y="1177767"/>
                    <a:pt x="513874" y="1178719"/>
                    <a:pt x="513874" y="1178719"/>
                  </a:cubicBezTo>
                  <a:lnTo>
                    <a:pt x="550069" y="1197769"/>
                  </a:lnTo>
                  <a:cubicBezTo>
                    <a:pt x="553879" y="1195864"/>
                    <a:pt x="563404" y="1190149"/>
                    <a:pt x="564356" y="1184434"/>
                  </a:cubicBezTo>
                  <a:cubicBezTo>
                    <a:pt x="564356" y="1182529"/>
                    <a:pt x="565309" y="1181576"/>
                    <a:pt x="565309" y="1180624"/>
                  </a:cubicBezTo>
                  <a:cubicBezTo>
                    <a:pt x="560546" y="1175861"/>
                    <a:pt x="558641" y="1167289"/>
                    <a:pt x="562451" y="1160621"/>
                  </a:cubicBezTo>
                  <a:cubicBezTo>
                    <a:pt x="567214" y="1152049"/>
                    <a:pt x="576739" y="1149192"/>
                    <a:pt x="585311" y="1153954"/>
                  </a:cubicBezTo>
                  <a:cubicBezTo>
                    <a:pt x="593884" y="1158717"/>
                    <a:pt x="596741" y="1169194"/>
                    <a:pt x="592931" y="1176814"/>
                  </a:cubicBezTo>
                  <a:cubicBezTo>
                    <a:pt x="589121" y="1183481"/>
                    <a:pt x="582454" y="1186339"/>
                    <a:pt x="574834" y="1185386"/>
                  </a:cubicBezTo>
                  <a:cubicBezTo>
                    <a:pt x="571976" y="1187292"/>
                    <a:pt x="565309" y="1193959"/>
                    <a:pt x="566261" y="1203484"/>
                  </a:cubicBezTo>
                  <a:cubicBezTo>
                    <a:pt x="566261" y="1204436"/>
                    <a:pt x="566261" y="1205389"/>
                    <a:pt x="566261" y="1205389"/>
                  </a:cubicBezTo>
                  <a:lnTo>
                    <a:pt x="602456" y="1224439"/>
                  </a:lnTo>
                  <a:cubicBezTo>
                    <a:pt x="606266" y="1222534"/>
                    <a:pt x="615791" y="1216819"/>
                    <a:pt x="616744" y="1211104"/>
                  </a:cubicBezTo>
                  <a:cubicBezTo>
                    <a:pt x="616744" y="1209199"/>
                    <a:pt x="617696" y="1208246"/>
                    <a:pt x="617696" y="1207294"/>
                  </a:cubicBezTo>
                  <a:cubicBezTo>
                    <a:pt x="612934" y="1202531"/>
                    <a:pt x="611029" y="1193959"/>
                    <a:pt x="614839" y="1187292"/>
                  </a:cubicBezTo>
                  <a:cubicBezTo>
                    <a:pt x="619601" y="1178719"/>
                    <a:pt x="629126" y="1175861"/>
                    <a:pt x="637699" y="1180624"/>
                  </a:cubicBezTo>
                  <a:cubicBezTo>
                    <a:pt x="646271" y="1185386"/>
                    <a:pt x="649129" y="1195864"/>
                    <a:pt x="645319" y="1203484"/>
                  </a:cubicBezTo>
                  <a:cubicBezTo>
                    <a:pt x="641509" y="1210151"/>
                    <a:pt x="634841" y="1213009"/>
                    <a:pt x="627221" y="1212056"/>
                  </a:cubicBezTo>
                  <a:cubicBezTo>
                    <a:pt x="624364" y="1213961"/>
                    <a:pt x="617696" y="1220629"/>
                    <a:pt x="618649" y="1230154"/>
                  </a:cubicBezTo>
                  <a:cubicBezTo>
                    <a:pt x="618649" y="1231106"/>
                    <a:pt x="618649" y="1232059"/>
                    <a:pt x="618649" y="1232059"/>
                  </a:cubicBezTo>
                  <a:lnTo>
                    <a:pt x="654844" y="1251109"/>
                  </a:lnTo>
                  <a:cubicBezTo>
                    <a:pt x="658654" y="1248251"/>
                    <a:pt x="668179" y="1243489"/>
                    <a:pt x="669131" y="1237774"/>
                  </a:cubicBezTo>
                  <a:cubicBezTo>
                    <a:pt x="669131" y="1235869"/>
                    <a:pt x="670084" y="1234917"/>
                    <a:pt x="670084" y="1233964"/>
                  </a:cubicBezTo>
                  <a:cubicBezTo>
                    <a:pt x="665321" y="1229201"/>
                    <a:pt x="663416" y="1220629"/>
                    <a:pt x="667226" y="1213961"/>
                  </a:cubicBezTo>
                  <a:cubicBezTo>
                    <a:pt x="671036" y="1206342"/>
                    <a:pt x="680561" y="1202531"/>
                    <a:pt x="689134" y="1206342"/>
                  </a:cubicBezTo>
                  <a:lnTo>
                    <a:pt x="699611" y="1219676"/>
                  </a:lnTo>
                  <a:cubicBezTo>
                    <a:pt x="700564" y="1223486"/>
                    <a:pt x="699611" y="1227296"/>
                    <a:pt x="697706" y="1230154"/>
                  </a:cubicBezTo>
                  <a:cubicBezTo>
                    <a:pt x="693896" y="1236821"/>
                    <a:pt x="687229" y="1239679"/>
                    <a:pt x="679609" y="1238726"/>
                  </a:cubicBezTo>
                  <a:cubicBezTo>
                    <a:pt x="676751" y="1240631"/>
                    <a:pt x="670084" y="1247299"/>
                    <a:pt x="671036" y="1256824"/>
                  </a:cubicBezTo>
                  <a:cubicBezTo>
                    <a:pt x="671036" y="1257776"/>
                    <a:pt x="671036" y="1258729"/>
                    <a:pt x="671036" y="1258729"/>
                  </a:cubicBezTo>
                  <a:lnTo>
                    <a:pt x="697706" y="1273017"/>
                  </a:lnTo>
                  <a:lnTo>
                    <a:pt x="714851" y="1239679"/>
                  </a:lnTo>
                  <a:lnTo>
                    <a:pt x="735806" y="1266349"/>
                  </a:lnTo>
                  <a:cubicBezTo>
                    <a:pt x="729139" y="1280636"/>
                    <a:pt x="718661" y="1305401"/>
                    <a:pt x="719614" y="1314926"/>
                  </a:cubicBezTo>
                  <a:cubicBezTo>
                    <a:pt x="720566" y="1328261"/>
                    <a:pt x="784384" y="1417796"/>
                    <a:pt x="800576" y="1421606"/>
                  </a:cubicBezTo>
                  <a:cubicBezTo>
                    <a:pt x="806291" y="1423511"/>
                    <a:pt x="828199" y="1421606"/>
                    <a:pt x="854869" y="1417796"/>
                  </a:cubicBezTo>
                  <a:lnTo>
                    <a:pt x="859631" y="1424464"/>
                  </a:lnTo>
                  <a:cubicBezTo>
                    <a:pt x="864394" y="1430179"/>
                    <a:pt x="872014" y="1433036"/>
                    <a:pt x="875824" y="1429226"/>
                  </a:cubicBezTo>
                  <a:lnTo>
                    <a:pt x="887254" y="1420654"/>
                  </a:lnTo>
                  <a:cubicBezTo>
                    <a:pt x="889159" y="1418749"/>
                    <a:pt x="890111" y="1415892"/>
                    <a:pt x="890111" y="1413034"/>
                  </a:cubicBezTo>
                  <a:cubicBezTo>
                    <a:pt x="926306" y="1406367"/>
                    <a:pt x="961549" y="1398746"/>
                    <a:pt x="973931" y="1391126"/>
                  </a:cubicBezTo>
                  <a:cubicBezTo>
                    <a:pt x="998696" y="1374934"/>
                    <a:pt x="1047274" y="1270159"/>
                    <a:pt x="1066324" y="1243489"/>
                  </a:cubicBezTo>
                  <a:cubicBezTo>
                    <a:pt x="1078706" y="1226344"/>
                    <a:pt x="1094899" y="1213961"/>
                    <a:pt x="1106329" y="1207294"/>
                  </a:cubicBezTo>
                  <a:lnTo>
                    <a:pt x="1106329" y="1245394"/>
                  </a:lnTo>
                  <a:lnTo>
                    <a:pt x="1191101" y="1245394"/>
                  </a:lnTo>
                  <a:lnTo>
                    <a:pt x="1340644" y="1245394"/>
                  </a:lnTo>
                  <a:lnTo>
                    <a:pt x="1340644" y="1009174"/>
                  </a:lnTo>
                  <a:lnTo>
                    <a:pt x="1195864" y="1009174"/>
                  </a:lnTo>
                  <a:lnTo>
                    <a:pt x="1111091" y="1009174"/>
                  </a:lnTo>
                  <a:lnTo>
                    <a:pt x="1111091" y="1068229"/>
                  </a:lnTo>
                  <a:lnTo>
                    <a:pt x="1045369" y="1092042"/>
                  </a:lnTo>
                  <a:cubicBezTo>
                    <a:pt x="1045369" y="1092042"/>
                    <a:pt x="1014889" y="1074896"/>
                    <a:pt x="969169" y="1097756"/>
                  </a:cubicBezTo>
                  <a:cubicBezTo>
                    <a:pt x="922496" y="1121569"/>
                    <a:pt x="857726" y="1167289"/>
                    <a:pt x="847249" y="1189196"/>
                  </a:cubicBezTo>
                  <a:cubicBezTo>
                    <a:pt x="847249" y="1189196"/>
                    <a:pt x="846296" y="1190149"/>
                    <a:pt x="846296" y="1191101"/>
                  </a:cubicBezTo>
                  <a:cubicBezTo>
                    <a:pt x="841534" y="1197769"/>
                    <a:pt x="831056" y="1210151"/>
                    <a:pt x="819626" y="1221581"/>
                  </a:cubicBezTo>
                  <a:cubicBezTo>
                    <a:pt x="812959" y="1228249"/>
                    <a:pt x="805339" y="1234917"/>
                    <a:pt x="798671" y="1241584"/>
                  </a:cubicBezTo>
                  <a:cubicBezTo>
                    <a:pt x="792956" y="1246346"/>
                    <a:pt x="785336" y="1253014"/>
                    <a:pt x="777716" y="1258729"/>
                  </a:cubicBezTo>
                  <a:lnTo>
                    <a:pt x="736759" y="1206342"/>
                  </a:lnTo>
                  <a:lnTo>
                    <a:pt x="973931" y="751046"/>
                  </a:lnTo>
                  <a:lnTo>
                    <a:pt x="782479" y="650081"/>
                  </a:lnTo>
                  <a:cubicBezTo>
                    <a:pt x="837724" y="610076"/>
                    <a:pt x="949166" y="518636"/>
                    <a:pt x="915829" y="444341"/>
                  </a:cubicBezTo>
                  <a:lnTo>
                    <a:pt x="946309" y="431006"/>
                  </a:lnTo>
                  <a:lnTo>
                    <a:pt x="959644" y="456724"/>
                  </a:lnTo>
                  <a:lnTo>
                    <a:pt x="1035844" y="417671"/>
                  </a:lnTo>
                  <a:lnTo>
                    <a:pt x="1035844" y="416719"/>
                  </a:lnTo>
                  <a:lnTo>
                    <a:pt x="1341596" y="256699"/>
                  </a:lnTo>
                  <a:lnTo>
                    <a:pt x="1341596" y="7144"/>
                  </a:lnTo>
                  <a:lnTo>
                    <a:pt x="1340644" y="7144"/>
                  </a:lnTo>
                  <a:close/>
                  <a:moveTo>
                    <a:pt x="644366" y="592931"/>
                  </a:moveTo>
                  <a:lnTo>
                    <a:pt x="631031" y="585311"/>
                  </a:lnTo>
                  <a:cubicBezTo>
                    <a:pt x="670084" y="565309"/>
                    <a:pt x="702469" y="548164"/>
                    <a:pt x="706279" y="548164"/>
                  </a:cubicBezTo>
                  <a:cubicBezTo>
                    <a:pt x="710089" y="547211"/>
                    <a:pt x="680561" y="568167"/>
                    <a:pt x="644366" y="592931"/>
                  </a:cubicBezTo>
                  <a:close/>
                  <a:moveTo>
                    <a:pt x="678656" y="484346"/>
                  </a:moveTo>
                  <a:cubicBezTo>
                    <a:pt x="683419" y="485299"/>
                    <a:pt x="627221" y="518636"/>
                    <a:pt x="568166" y="552926"/>
                  </a:cubicBezTo>
                  <a:lnTo>
                    <a:pt x="547211" y="541496"/>
                  </a:lnTo>
                  <a:cubicBezTo>
                    <a:pt x="601504" y="515779"/>
                    <a:pt x="672941" y="483394"/>
                    <a:pt x="678656" y="484346"/>
                  </a:cubicBezTo>
                  <a:close/>
                  <a:moveTo>
                    <a:pt x="715804" y="630079"/>
                  </a:moveTo>
                  <a:lnTo>
                    <a:pt x="744379" y="615792"/>
                  </a:lnTo>
                  <a:lnTo>
                    <a:pt x="726281" y="634842"/>
                  </a:lnTo>
                  <a:lnTo>
                    <a:pt x="715804" y="630079"/>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8" name="任意多边形: 形状 83"/>
            <p:cNvSpPr/>
            <p:nvPr/>
          </p:nvSpPr>
          <p:spPr>
            <a:xfrm>
              <a:off x="8676720" y="3005640"/>
              <a:ext cx="2567880" cy="2343600"/>
            </a:xfrm>
            <a:custGeom>
              <a:avLst/>
              <a:gdLst>
                <a:gd name="textAreaLeft" fmla="*/ 0 w 2567880"/>
                <a:gd name="textAreaRight" fmla="*/ 2568240 w 2567880"/>
                <a:gd name="textAreaTop" fmla="*/ 0 h 2343600"/>
                <a:gd name="textAreaBottom" fmla="*/ 2343960 h 2343600"/>
              </a:gdLst>
              <a:ahLst/>
              <a:rect l="textAreaLeft" t="textAreaTop" r="textAreaRight" b="textAreaBottom"/>
              <a:pathLst>
                <a:path w="981075" h="895350">
                  <a:moveTo>
                    <a:pt x="199549" y="625316"/>
                  </a:moveTo>
                  <a:cubicBezTo>
                    <a:pt x="198596" y="615791"/>
                    <a:pt x="205264" y="610076"/>
                    <a:pt x="208121" y="607219"/>
                  </a:cubicBezTo>
                  <a:cubicBezTo>
                    <a:pt x="214789" y="608171"/>
                    <a:pt x="222409" y="605314"/>
                    <a:pt x="226219" y="598646"/>
                  </a:cubicBezTo>
                  <a:cubicBezTo>
                    <a:pt x="230981" y="590074"/>
                    <a:pt x="227171" y="579596"/>
                    <a:pt x="218599" y="575786"/>
                  </a:cubicBezTo>
                  <a:cubicBezTo>
                    <a:pt x="210026" y="571024"/>
                    <a:pt x="199549" y="574834"/>
                    <a:pt x="195739" y="582454"/>
                  </a:cubicBezTo>
                  <a:cubicBezTo>
                    <a:pt x="191929" y="589121"/>
                    <a:pt x="193834" y="596741"/>
                    <a:pt x="198596" y="602456"/>
                  </a:cubicBezTo>
                  <a:cubicBezTo>
                    <a:pt x="198596" y="603409"/>
                    <a:pt x="197644" y="604361"/>
                    <a:pt x="197644" y="606266"/>
                  </a:cubicBezTo>
                  <a:cubicBezTo>
                    <a:pt x="196691" y="611029"/>
                    <a:pt x="188119" y="616744"/>
                    <a:pt x="183356" y="619601"/>
                  </a:cubicBezTo>
                  <a:lnTo>
                    <a:pt x="147161" y="600551"/>
                  </a:lnTo>
                  <a:cubicBezTo>
                    <a:pt x="147161" y="599599"/>
                    <a:pt x="147161" y="599599"/>
                    <a:pt x="147161" y="598646"/>
                  </a:cubicBezTo>
                  <a:cubicBezTo>
                    <a:pt x="146209" y="589121"/>
                    <a:pt x="152876" y="583406"/>
                    <a:pt x="155734" y="580549"/>
                  </a:cubicBezTo>
                  <a:cubicBezTo>
                    <a:pt x="162401" y="581501"/>
                    <a:pt x="170021" y="578644"/>
                    <a:pt x="173831" y="571976"/>
                  </a:cubicBezTo>
                  <a:cubicBezTo>
                    <a:pt x="178594" y="563404"/>
                    <a:pt x="174784" y="552926"/>
                    <a:pt x="166211" y="549116"/>
                  </a:cubicBezTo>
                  <a:cubicBezTo>
                    <a:pt x="157639" y="544354"/>
                    <a:pt x="147161" y="548164"/>
                    <a:pt x="143351" y="555784"/>
                  </a:cubicBezTo>
                  <a:cubicBezTo>
                    <a:pt x="139541" y="562451"/>
                    <a:pt x="141446" y="570071"/>
                    <a:pt x="146209" y="575786"/>
                  </a:cubicBezTo>
                  <a:cubicBezTo>
                    <a:pt x="146209" y="576739"/>
                    <a:pt x="145256" y="577691"/>
                    <a:pt x="145256" y="579596"/>
                  </a:cubicBezTo>
                  <a:cubicBezTo>
                    <a:pt x="144304" y="584359"/>
                    <a:pt x="135731" y="590074"/>
                    <a:pt x="130969" y="592931"/>
                  </a:cubicBezTo>
                  <a:lnTo>
                    <a:pt x="94774" y="573881"/>
                  </a:lnTo>
                  <a:cubicBezTo>
                    <a:pt x="94774" y="572929"/>
                    <a:pt x="94774" y="572929"/>
                    <a:pt x="94774" y="571976"/>
                  </a:cubicBezTo>
                  <a:cubicBezTo>
                    <a:pt x="93821" y="562451"/>
                    <a:pt x="100489" y="556736"/>
                    <a:pt x="103346" y="553879"/>
                  </a:cubicBezTo>
                  <a:cubicBezTo>
                    <a:pt x="110014" y="554831"/>
                    <a:pt x="117634" y="551974"/>
                    <a:pt x="121444" y="545306"/>
                  </a:cubicBezTo>
                  <a:cubicBezTo>
                    <a:pt x="126206" y="536734"/>
                    <a:pt x="122396" y="526256"/>
                    <a:pt x="113824" y="522446"/>
                  </a:cubicBezTo>
                  <a:cubicBezTo>
                    <a:pt x="105251" y="517684"/>
                    <a:pt x="94774" y="521494"/>
                    <a:pt x="90964" y="529114"/>
                  </a:cubicBezTo>
                  <a:cubicBezTo>
                    <a:pt x="87154" y="535781"/>
                    <a:pt x="89059" y="543401"/>
                    <a:pt x="93821" y="549116"/>
                  </a:cubicBezTo>
                  <a:cubicBezTo>
                    <a:pt x="93821" y="550069"/>
                    <a:pt x="92869" y="551021"/>
                    <a:pt x="92869" y="552926"/>
                  </a:cubicBezTo>
                  <a:cubicBezTo>
                    <a:pt x="91916" y="557689"/>
                    <a:pt x="83344" y="563404"/>
                    <a:pt x="78581" y="566261"/>
                  </a:cubicBezTo>
                  <a:lnTo>
                    <a:pt x="42386" y="547211"/>
                  </a:lnTo>
                  <a:cubicBezTo>
                    <a:pt x="42386" y="546259"/>
                    <a:pt x="42386" y="546259"/>
                    <a:pt x="42386" y="545306"/>
                  </a:cubicBezTo>
                  <a:cubicBezTo>
                    <a:pt x="41434" y="535781"/>
                    <a:pt x="48101" y="530066"/>
                    <a:pt x="50959" y="527209"/>
                  </a:cubicBezTo>
                  <a:cubicBezTo>
                    <a:pt x="57626" y="528161"/>
                    <a:pt x="65246" y="525304"/>
                    <a:pt x="69056" y="518636"/>
                  </a:cubicBezTo>
                  <a:cubicBezTo>
                    <a:pt x="73819" y="510064"/>
                    <a:pt x="70009" y="499586"/>
                    <a:pt x="61436" y="495776"/>
                  </a:cubicBezTo>
                  <a:cubicBezTo>
                    <a:pt x="52864" y="491014"/>
                    <a:pt x="42386" y="494824"/>
                    <a:pt x="38576" y="502444"/>
                  </a:cubicBezTo>
                  <a:cubicBezTo>
                    <a:pt x="34766" y="509111"/>
                    <a:pt x="36671" y="516731"/>
                    <a:pt x="41434" y="522446"/>
                  </a:cubicBezTo>
                  <a:cubicBezTo>
                    <a:pt x="41434" y="523399"/>
                    <a:pt x="40481" y="524351"/>
                    <a:pt x="40481" y="526256"/>
                  </a:cubicBezTo>
                  <a:cubicBezTo>
                    <a:pt x="39529" y="531019"/>
                    <a:pt x="30956" y="536734"/>
                    <a:pt x="26194" y="539591"/>
                  </a:cubicBezTo>
                  <a:lnTo>
                    <a:pt x="7144" y="529114"/>
                  </a:lnTo>
                  <a:lnTo>
                    <a:pt x="278606" y="7144"/>
                  </a:lnTo>
                  <a:lnTo>
                    <a:pt x="974884" y="373856"/>
                  </a:lnTo>
                  <a:lnTo>
                    <a:pt x="703421" y="895826"/>
                  </a:lnTo>
                  <a:lnTo>
                    <a:pt x="676751" y="881539"/>
                  </a:lnTo>
                  <a:cubicBezTo>
                    <a:pt x="676751" y="880586"/>
                    <a:pt x="676751" y="880586"/>
                    <a:pt x="676751" y="879634"/>
                  </a:cubicBezTo>
                  <a:cubicBezTo>
                    <a:pt x="675799" y="870109"/>
                    <a:pt x="682466" y="864394"/>
                    <a:pt x="685324" y="861536"/>
                  </a:cubicBezTo>
                  <a:cubicBezTo>
                    <a:pt x="691991" y="862489"/>
                    <a:pt x="699611" y="859631"/>
                    <a:pt x="703421" y="852964"/>
                  </a:cubicBezTo>
                  <a:cubicBezTo>
                    <a:pt x="708184" y="844391"/>
                    <a:pt x="704374" y="833914"/>
                    <a:pt x="695801" y="830104"/>
                  </a:cubicBezTo>
                  <a:cubicBezTo>
                    <a:pt x="687229" y="825341"/>
                    <a:pt x="676751" y="829151"/>
                    <a:pt x="672941" y="836771"/>
                  </a:cubicBezTo>
                  <a:cubicBezTo>
                    <a:pt x="669131" y="843439"/>
                    <a:pt x="671036" y="851059"/>
                    <a:pt x="675799" y="856774"/>
                  </a:cubicBezTo>
                  <a:cubicBezTo>
                    <a:pt x="675799" y="857726"/>
                    <a:pt x="674846" y="858679"/>
                    <a:pt x="674846" y="860584"/>
                  </a:cubicBezTo>
                  <a:cubicBezTo>
                    <a:pt x="673894" y="865346"/>
                    <a:pt x="665321" y="871061"/>
                    <a:pt x="660559" y="873919"/>
                  </a:cubicBezTo>
                  <a:lnTo>
                    <a:pt x="624364" y="854869"/>
                  </a:lnTo>
                  <a:cubicBezTo>
                    <a:pt x="624364" y="853916"/>
                    <a:pt x="624364" y="853916"/>
                    <a:pt x="624364" y="852964"/>
                  </a:cubicBezTo>
                  <a:cubicBezTo>
                    <a:pt x="623411" y="843439"/>
                    <a:pt x="630079" y="837724"/>
                    <a:pt x="632936" y="834866"/>
                  </a:cubicBezTo>
                  <a:cubicBezTo>
                    <a:pt x="639604" y="835819"/>
                    <a:pt x="647224" y="832961"/>
                    <a:pt x="651034" y="826294"/>
                  </a:cubicBezTo>
                  <a:cubicBezTo>
                    <a:pt x="655796" y="817721"/>
                    <a:pt x="651986" y="807244"/>
                    <a:pt x="643414" y="803434"/>
                  </a:cubicBezTo>
                  <a:cubicBezTo>
                    <a:pt x="634841" y="798671"/>
                    <a:pt x="624364" y="802481"/>
                    <a:pt x="620554" y="810101"/>
                  </a:cubicBezTo>
                  <a:cubicBezTo>
                    <a:pt x="616744" y="816769"/>
                    <a:pt x="618649" y="824389"/>
                    <a:pt x="623411" y="830104"/>
                  </a:cubicBezTo>
                  <a:cubicBezTo>
                    <a:pt x="623411" y="831056"/>
                    <a:pt x="622459" y="832009"/>
                    <a:pt x="622459" y="833914"/>
                  </a:cubicBezTo>
                  <a:cubicBezTo>
                    <a:pt x="621506" y="838676"/>
                    <a:pt x="612934" y="844391"/>
                    <a:pt x="608171" y="847249"/>
                  </a:cubicBezTo>
                  <a:lnTo>
                    <a:pt x="571976" y="828199"/>
                  </a:lnTo>
                  <a:cubicBezTo>
                    <a:pt x="571976" y="827246"/>
                    <a:pt x="571976" y="827246"/>
                    <a:pt x="571976" y="826294"/>
                  </a:cubicBezTo>
                  <a:cubicBezTo>
                    <a:pt x="571024" y="816769"/>
                    <a:pt x="577691" y="811054"/>
                    <a:pt x="580549" y="808196"/>
                  </a:cubicBezTo>
                  <a:cubicBezTo>
                    <a:pt x="587216" y="809149"/>
                    <a:pt x="594836" y="806291"/>
                    <a:pt x="598646" y="799624"/>
                  </a:cubicBezTo>
                  <a:cubicBezTo>
                    <a:pt x="603409" y="791051"/>
                    <a:pt x="599599" y="780574"/>
                    <a:pt x="591026" y="776764"/>
                  </a:cubicBezTo>
                  <a:cubicBezTo>
                    <a:pt x="582454" y="772001"/>
                    <a:pt x="571976" y="775811"/>
                    <a:pt x="568166" y="783431"/>
                  </a:cubicBezTo>
                  <a:cubicBezTo>
                    <a:pt x="564356" y="790099"/>
                    <a:pt x="566261" y="797719"/>
                    <a:pt x="571024" y="803434"/>
                  </a:cubicBezTo>
                  <a:cubicBezTo>
                    <a:pt x="571024" y="804386"/>
                    <a:pt x="570071" y="805339"/>
                    <a:pt x="570071" y="807244"/>
                  </a:cubicBezTo>
                  <a:cubicBezTo>
                    <a:pt x="569119" y="812006"/>
                    <a:pt x="560546" y="817721"/>
                    <a:pt x="555784" y="820579"/>
                  </a:cubicBezTo>
                  <a:lnTo>
                    <a:pt x="519589" y="801529"/>
                  </a:lnTo>
                  <a:cubicBezTo>
                    <a:pt x="519589" y="800576"/>
                    <a:pt x="519589" y="800576"/>
                    <a:pt x="519589" y="799624"/>
                  </a:cubicBezTo>
                  <a:cubicBezTo>
                    <a:pt x="518636" y="790099"/>
                    <a:pt x="525304" y="784384"/>
                    <a:pt x="528161" y="781526"/>
                  </a:cubicBezTo>
                  <a:cubicBezTo>
                    <a:pt x="534829" y="782479"/>
                    <a:pt x="542449" y="779621"/>
                    <a:pt x="546259" y="772954"/>
                  </a:cubicBezTo>
                  <a:cubicBezTo>
                    <a:pt x="551021" y="764381"/>
                    <a:pt x="547211" y="753904"/>
                    <a:pt x="538639" y="750094"/>
                  </a:cubicBezTo>
                  <a:cubicBezTo>
                    <a:pt x="530066" y="745331"/>
                    <a:pt x="519589" y="749141"/>
                    <a:pt x="515779" y="756761"/>
                  </a:cubicBezTo>
                  <a:cubicBezTo>
                    <a:pt x="511969" y="763429"/>
                    <a:pt x="513874" y="771049"/>
                    <a:pt x="518636" y="776764"/>
                  </a:cubicBezTo>
                  <a:cubicBezTo>
                    <a:pt x="518636" y="777716"/>
                    <a:pt x="517684" y="778669"/>
                    <a:pt x="517684" y="780574"/>
                  </a:cubicBezTo>
                  <a:cubicBezTo>
                    <a:pt x="516731" y="785336"/>
                    <a:pt x="508159" y="791051"/>
                    <a:pt x="503396" y="793909"/>
                  </a:cubicBezTo>
                  <a:lnTo>
                    <a:pt x="467201" y="774859"/>
                  </a:lnTo>
                  <a:cubicBezTo>
                    <a:pt x="467201" y="773906"/>
                    <a:pt x="467201" y="773906"/>
                    <a:pt x="467201" y="772954"/>
                  </a:cubicBezTo>
                  <a:cubicBezTo>
                    <a:pt x="466249" y="763429"/>
                    <a:pt x="472916" y="757714"/>
                    <a:pt x="475774" y="754856"/>
                  </a:cubicBezTo>
                  <a:cubicBezTo>
                    <a:pt x="482441" y="755809"/>
                    <a:pt x="490061" y="752951"/>
                    <a:pt x="493871" y="746284"/>
                  </a:cubicBezTo>
                  <a:cubicBezTo>
                    <a:pt x="498634" y="737711"/>
                    <a:pt x="494824" y="727234"/>
                    <a:pt x="486251" y="723424"/>
                  </a:cubicBezTo>
                  <a:cubicBezTo>
                    <a:pt x="477679" y="718661"/>
                    <a:pt x="467201" y="722471"/>
                    <a:pt x="463391" y="730091"/>
                  </a:cubicBezTo>
                  <a:cubicBezTo>
                    <a:pt x="459581" y="736759"/>
                    <a:pt x="461486" y="744379"/>
                    <a:pt x="466249" y="750094"/>
                  </a:cubicBezTo>
                  <a:cubicBezTo>
                    <a:pt x="466249" y="751046"/>
                    <a:pt x="465296" y="751999"/>
                    <a:pt x="465296" y="753904"/>
                  </a:cubicBezTo>
                  <a:cubicBezTo>
                    <a:pt x="464344" y="758666"/>
                    <a:pt x="455771" y="764381"/>
                    <a:pt x="451009" y="767239"/>
                  </a:cubicBezTo>
                  <a:lnTo>
                    <a:pt x="414814" y="748189"/>
                  </a:lnTo>
                  <a:cubicBezTo>
                    <a:pt x="414814" y="747236"/>
                    <a:pt x="414814" y="747236"/>
                    <a:pt x="414814" y="746284"/>
                  </a:cubicBezTo>
                  <a:cubicBezTo>
                    <a:pt x="413861" y="736759"/>
                    <a:pt x="420529" y="731044"/>
                    <a:pt x="423386" y="728186"/>
                  </a:cubicBezTo>
                  <a:cubicBezTo>
                    <a:pt x="430054" y="729139"/>
                    <a:pt x="437674" y="726281"/>
                    <a:pt x="441484" y="719614"/>
                  </a:cubicBezTo>
                  <a:cubicBezTo>
                    <a:pt x="446246" y="711041"/>
                    <a:pt x="442436" y="700564"/>
                    <a:pt x="433864" y="696754"/>
                  </a:cubicBezTo>
                  <a:cubicBezTo>
                    <a:pt x="425291" y="691991"/>
                    <a:pt x="414814" y="695801"/>
                    <a:pt x="411004" y="703421"/>
                  </a:cubicBezTo>
                  <a:cubicBezTo>
                    <a:pt x="407194" y="710089"/>
                    <a:pt x="409099" y="717709"/>
                    <a:pt x="413861" y="723424"/>
                  </a:cubicBezTo>
                  <a:cubicBezTo>
                    <a:pt x="413861" y="724376"/>
                    <a:pt x="412909" y="725329"/>
                    <a:pt x="412909" y="727234"/>
                  </a:cubicBezTo>
                  <a:cubicBezTo>
                    <a:pt x="411956" y="731996"/>
                    <a:pt x="403384" y="737711"/>
                    <a:pt x="398621" y="740569"/>
                  </a:cubicBezTo>
                  <a:lnTo>
                    <a:pt x="362426" y="721519"/>
                  </a:lnTo>
                  <a:cubicBezTo>
                    <a:pt x="362426" y="720566"/>
                    <a:pt x="362426" y="719614"/>
                    <a:pt x="362426" y="719614"/>
                  </a:cubicBezTo>
                  <a:cubicBezTo>
                    <a:pt x="361474" y="710089"/>
                    <a:pt x="368141" y="704374"/>
                    <a:pt x="370999" y="701516"/>
                  </a:cubicBezTo>
                  <a:cubicBezTo>
                    <a:pt x="377666" y="702469"/>
                    <a:pt x="385286" y="699611"/>
                    <a:pt x="389096" y="692944"/>
                  </a:cubicBezTo>
                  <a:cubicBezTo>
                    <a:pt x="393859" y="684371"/>
                    <a:pt x="390049" y="673894"/>
                    <a:pt x="381476" y="670084"/>
                  </a:cubicBezTo>
                  <a:cubicBezTo>
                    <a:pt x="372904" y="665321"/>
                    <a:pt x="362426" y="669131"/>
                    <a:pt x="358616" y="676751"/>
                  </a:cubicBezTo>
                  <a:cubicBezTo>
                    <a:pt x="354806" y="683419"/>
                    <a:pt x="356711" y="691039"/>
                    <a:pt x="361474" y="696754"/>
                  </a:cubicBezTo>
                  <a:cubicBezTo>
                    <a:pt x="361474" y="697706"/>
                    <a:pt x="360521" y="698659"/>
                    <a:pt x="360521" y="700564"/>
                  </a:cubicBezTo>
                  <a:cubicBezTo>
                    <a:pt x="359569" y="705326"/>
                    <a:pt x="350996" y="711041"/>
                    <a:pt x="346234" y="713899"/>
                  </a:cubicBezTo>
                  <a:lnTo>
                    <a:pt x="310039" y="694849"/>
                  </a:lnTo>
                  <a:cubicBezTo>
                    <a:pt x="310039" y="693896"/>
                    <a:pt x="310039" y="692944"/>
                    <a:pt x="310039" y="692944"/>
                  </a:cubicBezTo>
                  <a:cubicBezTo>
                    <a:pt x="309086" y="683419"/>
                    <a:pt x="315754" y="677704"/>
                    <a:pt x="318611" y="674846"/>
                  </a:cubicBezTo>
                  <a:cubicBezTo>
                    <a:pt x="325279" y="675799"/>
                    <a:pt x="332899" y="672941"/>
                    <a:pt x="336709" y="666274"/>
                  </a:cubicBezTo>
                  <a:cubicBezTo>
                    <a:pt x="341471" y="657701"/>
                    <a:pt x="337661" y="647224"/>
                    <a:pt x="329089" y="643414"/>
                  </a:cubicBezTo>
                  <a:cubicBezTo>
                    <a:pt x="320516" y="638651"/>
                    <a:pt x="310039" y="642461"/>
                    <a:pt x="306229" y="650081"/>
                  </a:cubicBezTo>
                  <a:cubicBezTo>
                    <a:pt x="302419" y="656749"/>
                    <a:pt x="304324" y="664369"/>
                    <a:pt x="309086" y="670084"/>
                  </a:cubicBezTo>
                  <a:cubicBezTo>
                    <a:pt x="309086" y="671036"/>
                    <a:pt x="308134" y="671989"/>
                    <a:pt x="308134" y="673894"/>
                  </a:cubicBezTo>
                  <a:cubicBezTo>
                    <a:pt x="307181" y="678656"/>
                    <a:pt x="298609" y="684371"/>
                    <a:pt x="293846" y="687229"/>
                  </a:cubicBezTo>
                  <a:lnTo>
                    <a:pt x="257651" y="668179"/>
                  </a:lnTo>
                  <a:cubicBezTo>
                    <a:pt x="257651" y="667226"/>
                    <a:pt x="257651" y="667226"/>
                    <a:pt x="257651" y="666274"/>
                  </a:cubicBezTo>
                  <a:cubicBezTo>
                    <a:pt x="256699" y="656749"/>
                    <a:pt x="263366" y="651034"/>
                    <a:pt x="266224" y="648176"/>
                  </a:cubicBezTo>
                  <a:cubicBezTo>
                    <a:pt x="272891" y="649129"/>
                    <a:pt x="280511" y="646271"/>
                    <a:pt x="284321" y="639604"/>
                  </a:cubicBezTo>
                  <a:cubicBezTo>
                    <a:pt x="289084" y="631031"/>
                    <a:pt x="285274" y="620554"/>
                    <a:pt x="276701" y="616744"/>
                  </a:cubicBezTo>
                  <a:cubicBezTo>
                    <a:pt x="268129" y="611981"/>
                    <a:pt x="257651" y="615791"/>
                    <a:pt x="253841" y="623411"/>
                  </a:cubicBezTo>
                  <a:cubicBezTo>
                    <a:pt x="250031" y="630079"/>
                    <a:pt x="251936" y="637699"/>
                    <a:pt x="256699" y="643414"/>
                  </a:cubicBezTo>
                  <a:cubicBezTo>
                    <a:pt x="256699" y="644366"/>
                    <a:pt x="255746" y="645319"/>
                    <a:pt x="255746" y="647224"/>
                  </a:cubicBezTo>
                  <a:cubicBezTo>
                    <a:pt x="254794" y="651986"/>
                    <a:pt x="246221" y="657701"/>
                    <a:pt x="241459" y="660559"/>
                  </a:cubicBezTo>
                  <a:lnTo>
                    <a:pt x="205264" y="641509"/>
                  </a:lnTo>
                  <a:cubicBezTo>
                    <a:pt x="199549" y="627221"/>
                    <a:pt x="199549" y="626269"/>
                    <a:pt x="199549" y="625316"/>
                  </a:cubicBezTo>
                  <a:close/>
                </a:path>
              </a:pathLst>
            </a:custGeom>
            <a:solidFill>
              <a:srgbClr val="f9f9f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9" name="任意多边形: 形状 84"/>
            <p:cNvSpPr/>
            <p:nvPr/>
          </p:nvSpPr>
          <p:spPr>
            <a:xfrm>
              <a:off x="9604080" y="3721320"/>
              <a:ext cx="922320" cy="1047240"/>
            </a:xfrm>
            <a:custGeom>
              <a:avLst/>
              <a:gdLst>
                <a:gd name="textAreaLeft" fmla="*/ 0 w 922320"/>
                <a:gd name="textAreaRight" fmla="*/ 922680 w 922320"/>
                <a:gd name="textAreaTop" fmla="*/ 0 h 1047240"/>
                <a:gd name="textAreaBottom" fmla="*/ 1047600 h 1047240"/>
              </a:gdLst>
              <a:ahLst/>
              <a:rect l="textAreaLeft" t="textAreaTop" r="textAreaRight" b="textAreaBottom"/>
              <a:pathLst>
                <a:path w="352425" h="400050">
                  <a:moveTo>
                    <a:pt x="138589" y="371951"/>
                  </a:moveTo>
                  <a:lnTo>
                    <a:pt x="15716" y="307181"/>
                  </a:lnTo>
                  <a:lnTo>
                    <a:pt x="7144" y="323374"/>
                  </a:lnTo>
                  <a:lnTo>
                    <a:pt x="147161" y="396716"/>
                  </a:lnTo>
                  <a:lnTo>
                    <a:pt x="155734" y="381476"/>
                  </a:lnTo>
                  <a:lnTo>
                    <a:pt x="348139" y="15716"/>
                  </a:lnTo>
                  <a:lnTo>
                    <a:pt x="330994" y="7144"/>
                  </a:lnTo>
                  <a:lnTo>
                    <a:pt x="138589" y="37195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0" name="任意多边形: 形状 85"/>
            <p:cNvSpPr/>
            <p:nvPr/>
          </p:nvSpPr>
          <p:spPr>
            <a:xfrm>
              <a:off x="9846720" y="4470840"/>
              <a:ext cx="174240" cy="174240"/>
            </a:xfrm>
            <a:custGeom>
              <a:avLst/>
              <a:gdLst>
                <a:gd name="textAreaLeft" fmla="*/ 0 w 174240"/>
                <a:gd name="textAreaRight" fmla="*/ 174600 w 174240"/>
                <a:gd name="textAreaTop" fmla="*/ 0 h 174240"/>
                <a:gd name="textAreaBottom" fmla="*/ 174600 h 174240"/>
              </a:gdLst>
              <a:ahLst/>
              <a:rect l="textAreaLeft" t="textAreaTop" r="textAreaRight" b="textAreaBottom"/>
              <a:pathLst>
                <a:path w="66675" h="66675">
                  <a:moveTo>
                    <a:pt x="9649" y="-23854"/>
                  </a:moveTo>
                  <a:lnTo>
                    <a:pt x="26505" y="9649"/>
                  </a:lnTo>
                  <a:lnTo>
                    <a:pt x="-1098" y="29610"/>
                  </a:lnTo>
                  <a:lnTo>
                    <a:pt x="-17954" y="-3893"/>
                  </a:lnTo>
                  <a:lnTo>
                    <a:pt x="9649" y="-2385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1" name="任意多边形: 形状 86"/>
            <p:cNvSpPr/>
            <p:nvPr/>
          </p:nvSpPr>
          <p:spPr>
            <a:xfrm>
              <a:off x="9877680" y="4331520"/>
              <a:ext cx="224280" cy="199440"/>
            </a:xfrm>
            <a:custGeom>
              <a:avLst/>
              <a:gdLst>
                <a:gd name="textAreaLeft" fmla="*/ 0 w 224280"/>
                <a:gd name="textAreaRight" fmla="*/ 224640 w 224280"/>
                <a:gd name="textAreaTop" fmla="*/ 0 h 199440"/>
                <a:gd name="textAreaBottom" fmla="*/ 199800 h 199440"/>
              </a:gdLst>
              <a:ahLst/>
              <a:rect l="textAreaLeft" t="textAreaTop" r="textAreaRight" b="textAreaBottom"/>
              <a:pathLst>
                <a:path w="85725" h="76200">
                  <a:moveTo>
                    <a:pt x="9649" y="41682"/>
                  </a:moveTo>
                  <a:lnTo>
                    <a:pt x="26505" y="9649"/>
                  </a:lnTo>
                  <a:lnTo>
                    <a:pt x="77083" y="36264"/>
                  </a:lnTo>
                  <a:lnTo>
                    <a:pt x="60227" y="68296"/>
                  </a:lnTo>
                  <a:lnTo>
                    <a:pt x="9649" y="41682"/>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 name="任意多边形: 形状 87"/>
            <p:cNvSpPr/>
            <p:nvPr/>
          </p:nvSpPr>
          <p:spPr>
            <a:xfrm>
              <a:off x="9907560" y="4191480"/>
              <a:ext cx="249120" cy="199440"/>
            </a:xfrm>
            <a:custGeom>
              <a:avLst/>
              <a:gdLst>
                <a:gd name="textAreaLeft" fmla="*/ 0 w 249120"/>
                <a:gd name="textAreaRight" fmla="*/ 249480 w 249120"/>
                <a:gd name="textAreaTop" fmla="*/ 0 h 199440"/>
                <a:gd name="textAreaBottom" fmla="*/ 199800 h 199440"/>
              </a:gdLst>
              <a:ahLst/>
              <a:rect l="textAreaLeft" t="textAreaTop" r="textAreaRight" b="textAreaBottom"/>
              <a:pathLst>
                <a:path w="95250" h="76200">
                  <a:moveTo>
                    <a:pt x="9648" y="41684"/>
                  </a:moveTo>
                  <a:lnTo>
                    <a:pt x="26493" y="9648"/>
                  </a:lnTo>
                  <a:lnTo>
                    <a:pt x="89722" y="42895"/>
                  </a:lnTo>
                  <a:lnTo>
                    <a:pt x="72877" y="74931"/>
                  </a:lnTo>
                  <a:lnTo>
                    <a:pt x="9648" y="4168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3" name="任意多边形: 形状 88"/>
            <p:cNvSpPr/>
            <p:nvPr/>
          </p:nvSpPr>
          <p:spPr>
            <a:xfrm>
              <a:off x="9948600" y="4056120"/>
              <a:ext cx="273960" cy="224280"/>
            </a:xfrm>
            <a:custGeom>
              <a:avLst/>
              <a:gdLst>
                <a:gd name="textAreaLeft" fmla="*/ 0 w 273960"/>
                <a:gd name="textAreaRight" fmla="*/ 274320 w 273960"/>
                <a:gd name="textAreaTop" fmla="*/ 0 h 224280"/>
                <a:gd name="textAreaBottom" fmla="*/ 224640 h 224280"/>
              </a:gdLst>
              <a:ahLst/>
              <a:rect l="textAreaLeft" t="textAreaTop" r="textAreaRight" b="textAreaBottom"/>
              <a:pathLst>
                <a:path w="104775" h="85725">
                  <a:moveTo>
                    <a:pt x="9649" y="41682"/>
                  </a:moveTo>
                  <a:lnTo>
                    <a:pt x="26505" y="9649"/>
                  </a:lnTo>
                  <a:lnTo>
                    <a:pt x="99843" y="48241"/>
                  </a:lnTo>
                  <a:lnTo>
                    <a:pt x="82987" y="80273"/>
                  </a:lnTo>
                  <a:lnTo>
                    <a:pt x="9649" y="41682"/>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4" name="任意多边形: 形状 89"/>
            <p:cNvSpPr/>
            <p:nvPr/>
          </p:nvSpPr>
          <p:spPr>
            <a:xfrm>
              <a:off x="9988560" y="3921480"/>
              <a:ext cx="299160" cy="224280"/>
            </a:xfrm>
            <a:custGeom>
              <a:avLst/>
              <a:gdLst>
                <a:gd name="textAreaLeft" fmla="*/ 0 w 299160"/>
                <a:gd name="textAreaRight" fmla="*/ 299520 w 299160"/>
                <a:gd name="textAreaTop" fmla="*/ 0 h 224280"/>
                <a:gd name="textAreaBottom" fmla="*/ 224640 h 224280"/>
              </a:gdLst>
              <a:ahLst/>
              <a:rect l="textAreaLeft" t="textAreaTop" r="textAreaRight" b="textAreaBottom"/>
              <a:pathLst>
                <a:path w="114300" h="85725">
                  <a:moveTo>
                    <a:pt x="9651" y="41672"/>
                  </a:moveTo>
                  <a:lnTo>
                    <a:pt x="26525" y="9651"/>
                  </a:lnTo>
                  <a:lnTo>
                    <a:pt x="109107" y="53168"/>
                  </a:lnTo>
                  <a:lnTo>
                    <a:pt x="92233" y="85190"/>
                  </a:lnTo>
                  <a:lnTo>
                    <a:pt x="9651" y="41672"/>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 name="任意多边形: 形状 90"/>
            <p:cNvSpPr/>
            <p:nvPr/>
          </p:nvSpPr>
          <p:spPr>
            <a:xfrm>
              <a:off x="10018800" y="3782520"/>
              <a:ext cx="324000" cy="249120"/>
            </a:xfrm>
            <a:custGeom>
              <a:avLst/>
              <a:gdLst>
                <a:gd name="textAreaLeft" fmla="*/ 0 w 324000"/>
                <a:gd name="textAreaRight" fmla="*/ 324360 w 324000"/>
                <a:gd name="textAreaTop" fmla="*/ 0 h 249120"/>
                <a:gd name="textAreaBottom" fmla="*/ 249480 h 249120"/>
              </a:gdLst>
              <a:ahLst/>
              <a:rect l="textAreaLeft" t="textAreaTop" r="textAreaRight" b="textAreaBottom"/>
              <a:pathLst>
                <a:path w="123825" h="95250">
                  <a:moveTo>
                    <a:pt x="9650" y="41671"/>
                  </a:moveTo>
                  <a:lnTo>
                    <a:pt x="26520" y="9650"/>
                  </a:lnTo>
                  <a:lnTo>
                    <a:pt x="121743" y="59817"/>
                  </a:lnTo>
                  <a:lnTo>
                    <a:pt x="104872" y="91839"/>
                  </a:lnTo>
                  <a:lnTo>
                    <a:pt x="9650" y="4167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6" name="任意多边形: 形状 91"/>
            <p:cNvSpPr/>
            <p:nvPr/>
          </p:nvSpPr>
          <p:spPr>
            <a:xfrm>
              <a:off x="10049760" y="3643200"/>
              <a:ext cx="373680" cy="273960"/>
            </a:xfrm>
            <a:custGeom>
              <a:avLst/>
              <a:gdLst>
                <a:gd name="textAreaLeft" fmla="*/ 0 w 373680"/>
                <a:gd name="textAreaRight" fmla="*/ 374040 w 373680"/>
                <a:gd name="textAreaTop" fmla="*/ 0 h 273960"/>
                <a:gd name="textAreaBottom" fmla="*/ 274320 h 273960"/>
              </a:gdLst>
              <a:ahLst/>
              <a:rect l="textAreaLeft" t="textAreaTop" r="textAreaRight" b="textAreaBottom"/>
              <a:pathLst>
                <a:path w="142875" h="104775">
                  <a:moveTo>
                    <a:pt x="9648" y="41684"/>
                  </a:moveTo>
                  <a:lnTo>
                    <a:pt x="26493" y="9648"/>
                  </a:lnTo>
                  <a:lnTo>
                    <a:pt x="134404" y="66389"/>
                  </a:lnTo>
                  <a:lnTo>
                    <a:pt x="117559" y="98425"/>
                  </a:lnTo>
                  <a:lnTo>
                    <a:pt x="9648" y="4168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7" name="任意多边形: 形状 92"/>
            <p:cNvSpPr/>
            <p:nvPr/>
          </p:nvSpPr>
          <p:spPr>
            <a:xfrm>
              <a:off x="8888040" y="317628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3"/>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8" name="任意多边形: 形状 93"/>
            <p:cNvSpPr/>
            <p:nvPr/>
          </p:nvSpPr>
          <p:spPr>
            <a:xfrm>
              <a:off x="9046080" y="325944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3" y="9662"/>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9" name="任意多边形: 形状 94"/>
            <p:cNvSpPr/>
            <p:nvPr/>
          </p:nvSpPr>
          <p:spPr>
            <a:xfrm>
              <a:off x="9182520" y="333180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3" y="9662"/>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 name="任意多边形: 形状 95"/>
            <p:cNvSpPr/>
            <p:nvPr/>
          </p:nvSpPr>
          <p:spPr>
            <a:xfrm>
              <a:off x="9337320" y="341604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3"/>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1" name="任意多边形: 形状 96"/>
            <p:cNvSpPr/>
            <p:nvPr/>
          </p:nvSpPr>
          <p:spPr>
            <a:xfrm>
              <a:off x="10081080" y="381060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2"/>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2" name="任意多边形: 形状 97"/>
            <p:cNvSpPr/>
            <p:nvPr/>
          </p:nvSpPr>
          <p:spPr>
            <a:xfrm>
              <a:off x="10235880" y="389520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3"/>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3" name="任意多边形: 形状 98"/>
            <p:cNvSpPr/>
            <p:nvPr/>
          </p:nvSpPr>
          <p:spPr>
            <a:xfrm>
              <a:off x="10372320" y="396756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3"/>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4" name="任意多边形: 形状 99"/>
            <p:cNvSpPr/>
            <p:nvPr/>
          </p:nvSpPr>
          <p:spPr>
            <a:xfrm>
              <a:off x="10553760" y="4776120"/>
              <a:ext cx="1072080" cy="972360"/>
            </a:xfrm>
            <a:custGeom>
              <a:avLst/>
              <a:gdLst>
                <a:gd name="textAreaLeft" fmla="*/ 0 w 1072080"/>
                <a:gd name="textAreaRight" fmla="*/ 1072440 w 1072080"/>
                <a:gd name="textAreaTop" fmla="*/ 0 h 972360"/>
                <a:gd name="textAreaBottom" fmla="*/ 972720 h 972360"/>
              </a:gdLst>
              <a:ahLst/>
              <a:rect l="textAreaLeft" t="textAreaTop" r="textAreaRight" b="textAreaBottom"/>
              <a:pathLst>
                <a:path w="409575" h="371475">
                  <a:moveTo>
                    <a:pt x="27264" y="198596"/>
                  </a:moveTo>
                  <a:cubicBezTo>
                    <a:pt x="27264" y="198596"/>
                    <a:pt x="5356" y="244316"/>
                    <a:pt x="7261" y="257651"/>
                  </a:cubicBezTo>
                  <a:cubicBezTo>
                    <a:pt x="8214" y="270986"/>
                    <a:pt x="72031" y="360521"/>
                    <a:pt x="88224" y="364331"/>
                  </a:cubicBezTo>
                  <a:cubicBezTo>
                    <a:pt x="103464" y="368141"/>
                    <a:pt x="236814" y="349091"/>
                    <a:pt x="261579" y="332899"/>
                  </a:cubicBezTo>
                  <a:cubicBezTo>
                    <a:pt x="286344" y="316706"/>
                    <a:pt x="334921" y="211931"/>
                    <a:pt x="353971" y="185261"/>
                  </a:cubicBezTo>
                  <a:cubicBezTo>
                    <a:pt x="374926" y="156686"/>
                    <a:pt x="406359" y="142399"/>
                    <a:pt x="406359" y="142399"/>
                  </a:cubicBezTo>
                  <a:lnTo>
                    <a:pt x="404454" y="7144"/>
                  </a:lnTo>
                  <a:lnTo>
                    <a:pt x="329206" y="34766"/>
                  </a:lnTo>
                  <a:cubicBezTo>
                    <a:pt x="329206" y="34766"/>
                    <a:pt x="298726" y="17621"/>
                    <a:pt x="253006" y="40481"/>
                  </a:cubicBezTo>
                  <a:cubicBezTo>
                    <a:pt x="206334" y="64294"/>
                    <a:pt x="141564" y="110014"/>
                    <a:pt x="131086" y="131921"/>
                  </a:cubicBezTo>
                  <a:cubicBezTo>
                    <a:pt x="120609" y="153829"/>
                    <a:pt x="38694" y="222409"/>
                    <a:pt x="38694" y="222409"/>
                  </a:cubicBezTo>
                  <a:lnTo>
                    <a:pt x="27264" y="198596"/>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 name="任意多边形: 形状 100"/>
            <p:cNvSpPr/>
            <p:nvPr/>
          </p:nvSpPr>
          <p:spPr>
            <a:xfrm>
              <a:off x="10860120" y="5579280"/>
              <a:ext cx="174240" cy="174240"/>
            </a:xfrm>
            <a:custGeom>
              <a:avLst/>
              <a:gdLst>
                <a:gd name="textAreaLeft" fmla="*/ 0 w 174240"/>
                <a:gd name="textAreaRight" fmla="*/ 174600 w 174240"/>
                <a:gd name="textAreaTop" fmla="*/ 0 h 174240"/>
                <a:gd name="textAreaBottom" fmla="*/ 174600 h 174240"/>
              </a:gdLst>
              <a:ahLst/>
              <a:rect l="textAreaLeft" t="textAreaTop" r="textAreaRight" b="textAreaBottom"/>
              <a:pathLst>
                <a:path w="66675" h="66675">
                  <a:moveTo>
                    <a:pt x="30277" y="59361"/>
                  </a:moveTo>
                  <a:cubicBezTo>
                    <a:pt x="35040" y="65076"/>
                    <a:pt x="42660" y="67934"/>
                    <a:pt x="46470" y="64124"/>
                  </a:cubicBezTo>
                  <a:lnTo>
                    <a:pt x="57900" y="55551"/>
                  </a:lnTo>
                  <a:cubicBezTo>
                    <a:pt x="62662" y="51741"/>
                    <a:pt x="61710" y="44121"/>
                    <a:pt x="56947" y="38406"/>
                  </a:cubicBezTo>
                  <a:lnTo>
                    <a:pt x="37897" y="13641"/>
                  </a:lnTo>
                  <a:cubicBezTo>
                    <a:pt x="33135" y="7926"/>
                    <a:pt x="25515" y="5069"/>
                    <a:pt x="21705" y="8879"/>
                  </a:cubicBezTo>
                  <a:lnTo>
                    <a:pt x="10275" y="17451"/>
                  </a:lnTo>
                  <a:cubicBezTo>
                    <a:pt x="5512" y="21261"/>
                    <a:pt x="6465" y="28881"/>
                    <a:pt x="11227" y="34596"/>
                  </a:cubicBezTo>
                  <a:lnTo>
                    <a:pt x="30277" y="59361"/>
                  </a:lnTo>
                  <a:close/>
                </a:path>
              </a:pathLst>
            </a:custGeom>
            <a:solidFill>
              <a:srgbClr val="df71a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 name="任意多边形: 形状 101"/>
            <p:cNvSpPr/>
            <p:nvPr/>
          </p:nvSpPr>
          <p:spPr>
            <a:xfrm>
              <a:off x="10147680" y="4671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8575" h="28575">
                  <a:moveTo>
                    <a:pt x="22384" y="17621"/>
                  </a:moveTo>
                  <a:lnTo>
                    <a:pt x="14764" y="24289"/>
                  </a:lnTo>
                  <a:lnTo>
                    <a:pt x="7144" y="7144"/>
                  </a:lnTo>
                  <a:lnTo>
                    <a:pt x="22384" y="17621"/>
                  </a:lnTo>
                  <a:close/>
                </a:path>
              </a:pathLst>
            </a:custGeom>
            <a:solidFill>
              <a:srgbClr val="4d514b"/>
            </a:solidFill>
            <a:ln w="0">
              <a:noFill/>
            </a:ln>
          </p:spPr>
          <p:style>
            <a:lnRef idx="0"/>
            <a:fillRef idx="0"/>
            <a:effectRef idx="0"/>
            <a:fontRef idx="minor"/>
          </p:style>
          <p:txBody>
            <a:bodyPr lIns="90000" rIns="90000" tIns="28080" bIns="28080" anchor="ctr">
              <a:noAutofit/>
            </a:bodyPr>
            <a:p>
              <a:endParaRPr b="0" lang="en-US" sz="1800" spc="-1" strike="noStrike">
                <a:solidFill>
                  <a:srgbClr val="262626"/>
                </a:solidFill>
                <a:latin typeface="Arial"/>
              </a:endParaRPr>
            </a:p>
          </p:txBody>
        </p:sp>
        <p:sp>
          <p:nvSpPr>
            <p:cNvPr id="147" name="任意多边形: 形状 102"/>
            <p:cNvSpPr/>
            <p:nvPr/>
          </p:nvSpPr>
          <p:spPr>
            <a:xfrm>
              <a:off x="10167840" y="4698720"/>
              <a:ext cx="149400" cy="174240"/>
            </a:xfrm>
            <a:custGeom>
              <a:avLst/>
              <a:gdLst>
                <a:gd name="textAreaLeft" fmla="*/ 0 w 149400"/>
                <a:gd name="textAreaRight" fmla="*/ 149760 w 149400"/>
                <a:gd name="textAreaTop" fmla="*/ 0 h 174240"/>
                <a:gd name="textAreaBottom" fmla="*/ 174600 h 174240"/>
              </a:gdLst>
              <a:ahLst/>
              <a:rect l="textAreaLeft" t="textAreaTop" r="textAreaRight" b="textAreaBottom"/>
              <a:pathLst>
                <a:path w="57150" h="66675">
                  <a:moveTo>
                    <a:pt x="-9815" y="-17435"/>
                  </a:moveTo>
                  <a:lnTo>
                    <a:pt x="-18387" y="-22197"/>
                  </a:lnTo>
                  <a:lnTo>
                    <a:pt x="-16482" y="-10767"/>
                  </a:lnTo>
                  <a:lnTo>
                    <a:pt x="-24102" y="-7910"/>
                  </a:lnTo>
                  <a:lnTo>
                    <a:pt x="-23150" y="-6957"/>
                  </a:lnTo>
                  <a:lnTo>
                    <a:pt x="-31722" y="-5052"/>
                  </a:lnTo>
                  <a:lnTo>
                    <a:pt x="25241" y="-9815"/>
                  </a:lnTo>
                  <a:lnTo>
                    <a:pt x="7144" y="13811"/>
                  </a:lnTo>
                  <a:lnTo>
                    <a:pt x="9049" y="11906"/>
                  </a:lnTo>
                  <a:lnTo>
                    <a:pt x="11906" y="9049"/>
                  </a:lnTo>
                  <a:lnTo>
                    <a:pt x="14764" y="7144"/>
                  </a:lnTo>
                  <a:lnTo>
                    <a:pt x="-12672" y="-31722"/>
                  </a:lnTo>
                  <a:lnTo>
                    <a:pt x="-9815" y="-26007"/>
                  </a:lnTo>
                  <a:lnTo>
                    <a:pt x="-9815" y="-17435"/>
                  </a:lnTo>
                  <a:close/>
                </a:path>
              </a:pathLst>
            </a:custGeom>
            <a:solidFill>
              <a:srgbClr val="f6c6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8" name="任意多边形: 形状 103"/>
            <p:cNvSpPr/>
            <p:nvPr/>
          </p:nvSpPr>
          <p:spPr>
            <a:xfrm>
              <a:off x="10215000" y="4771080"/>
              <a:ext cx="722880" cy="872640"/>
            </a:xfrm>
            <a:custGeom>
              <a:avLst/>
              <a:gdLst>
                <a:gd name="textAreaLeft" fmla="*/ 0 w 722880"/>
                <a:gd name="textAreaRight" fmla="*/ 723240 w 722880"/>
                <a:gd name="textAreaTop" fmla="*/ 0 h 872640"/>
                <a:gd name="textAreaBottom" fmla="*/ 873000 h 872640"/>
              </a:gdLst>
              <a:ahLst/>
              <a:rect l="textAreaLeft" t="textAreaTop" r="textAreaRight" b="textAreaBottom"/>
              <a:pathLst>
                <a:path w="276225" h="333375">
                  <a:moveTo>
                    <a:pt x="270034" y="305276"/>
                  </a:moveTo>
                  <a:lnTo>
                    <a:pt x="261461" y="311944"/>
                  </a:lnTo>
                  <a:lnTo>
                    <a:pt x="250984" y="320516"/>
                  </a:lnTo>
                  <a:lnTo>
                    <a:pt x="243364" y="326231"/>
                  </a:lnTo>
                  <a:lnTo>
                    <a:pt x="7144" y="28099"/>
                  </a:lnTo>
                  <a:cubicBezTo>
                    <a:pt x="7144" y="28099"/>
                    <a:pt x="19526" y="35719"/>
                    <a:pt x="15716" y="23336"/>
                  </a:cubicBezTo>
                  <a:cubicBezTo>
                    <a:pt x="15716" y="23336"/>
                    <a:pt x="30004" y="31909"/>
                    <a:pt x="26194" y="14764"/>
                  </a:cubicBezTo>
                  <a:cubicBezTo>
                    <a:pt x="26194" y="14764"/>
                    <a:pt x="41434" y="21431"/>
                    <a:pt x="33814" y="7144"/>
                  </a:cubicBezTo>
                  <a:lnTo>
                    <a:pt x="270034" y="305276"/>
                  </a:lnTo>
                  <a:close/>
                </a:path>
              </a:pathLst>
            </a:custGeom>
            <a:solidFill>
              <a:srgbClr val="f9a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9" name="任意多边形: 形状 104"/>
            <p:cNvSpPr/>
            <p:nvPr/>
          </p:nvSpPr>
          <p:spPr>
            <a:xfrm>
              <a:off x="10820160" y="5536800"/>
              <a:ext cx="174240" cy="174240"/>
            </a:xfrm>
            <a:custGeom>
              <a:avLst/>
              <a:gdLst>
                <a:gd name="textAreaLeft" fmla="*/ 0 w 174240"/>
                <a:gd name="textAreaRight" fmla="*/ 174600 w 174240"/>
                <a:gd name="textAreaTop" fmla="*/ 0 h 174240"/>
                <a:gd name="textAreaBottom" fmla="*/ 174600 h 174240"/>
              </a:gdLst>
              <a:ahLst/>
              <a:rect l="textAreaLeft" t="textAreaTop" r="textAreaRight" b="textAreaBottom"/>
              <a:pathLst>
                <a:path w="66675" h="66675">
                  <a:moveTo>
                    <a:pt x="10033" y="-30125"/>
                  </a:moveTo>
                  <a:lnTo>
                    <a:pt x="-23355" y="10033"/>
                  </a:lnTo>
                  <a:lnTo>
                    <a:pt x="-929" y="-27093"/>
                  </a:lnTo>
                  <a:lnTo>
                    <a:pt x="32460" y="-1716"/>
                  </a:lnTo>
                  <a:lnTo>
                    <a:pt x="10033" y="-30125"/>
                  </a:lnTo>
                  <a:close/>
                </a:path>
              </a:pathLst>
            </a:custGeom>
            <a:solidFill>
              <a:srgbClr val="b3b2b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0" name="任意多边形: 形状 105"/>
            <p:cNvSpPr/>
            <p:nvPr/>
          </p:nvSpPr>
          <p:spPr>
            <a:xfrm>
              <a:off x="10838160" y="556488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10033" y="-30113"/>
                  </a:moveTo>
                  <a:lnTo>
                    <a:pt x="-23367" y="10034"/>
                  </a:lnTo>
                  <a:lnTo>
                    <a:pt x="-15101" y="20496"/>
                  </a:lnTo>
                  <a:lnTo>
                    <a:pt x="18300" y="-19650"/>
                  </a:lnTo>
                  <a:lnTo>
                    <a:pt x="10033" y="-30113"/>
                  </a:lnTo>
                  <a:close/>
                </a:path>
              </a:pathLst>
            </a:custGeom>
            <a:solidFill>
              <a:srgbClr val="80807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1" name="任意多边形: 形状 106"/>
            <p:cNvSpPr/>
            <p:nvPr/>
          </p:nvSpPr>
          <p:spPr>
            <a:xfrm>
              <a:off x="10607400" y="5035320"/>
              <a:ext cx="498600" cy="448560"/>
            </a:xfrm>
            <a:custGeom>
              <a:avLst/>
              <a:gdLst>
                <a:gd name="textAreaLeft" fmla="*/ 0 w 498600"/>
                <a:gd name="textAreaRight" fmla="*/ 498960 w 498600"/>
                <a:gd name="textAreaTop" fmla="*/ 0 h 448560"/>
                <a:gd name="textAreaBottom" fmla="*/ 448920 h 448560"/>
              </a:gdLst>
              <a:ahLst/>
              <a:rect l="textAreaLeft" t="textAreaTop" r="textAreaRight" b="textAreaBottom"/>
              <a:pathLst>
                <a:path w="190500" h="171450">
                  <a:moveTo>
                    <a:pt x="132574" y="7144"/>
                  </a:moveTo>
                  <a:cubicBezTo>
                    <a:pt x="132574" y="7144"/>
                    <a:pt x="115429" y="24289"/>
                    <a:pt x="108762" y="32861"/>
                  </a:cubicBezTo>
                  <a:cubicBezTo>
                    <a:pt x="103047" y="41434"/>
                    <a:pt x="82092" y="64294"/>
                    <a:pt x="68757" y="76676"/>
                  </a:cubicBezTo>
                  <a:cubicBezTo>
                    <a:pt x="55422" y="89059"/>
                    <a:pt x="10654" y="124301"/>
                    <a:pt x="7797" y="134779"/>
                  </a:cubicBezTo>
                  <a:cubicBezTo>
                    <a:pt x="3987" y="149066"/>
                    <a:pt x="17322" y="170021"/>
                    <a:pt x="35419" y="168116"/>
                  </a:cubicBezTo>
                  <a:cubicBezTo>
                    <a:pt x="60184" y="164306"/>
                    <a:pt x="94474" y="118586"/>
                    <a:pt x="108762" y="107156"/>
                  </a:cubicBezTo>
                  <a:cubicBezTo>
                    <a:pt x="123049" y="95726"/>
                    <a:pt x="150672" y="88106"/>
                    <a:pt x="189724" y="86201"/>
                  </a:cubicBezTo>
                  <a:cubicBezTo>
                    <a:pt x="189724" y="86201"/>
                    <a:pt x="169722" y="21431"/>
                    <a:pt x="132574" y="7144"/>
                  </a:cubicBez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2" name="任意多边形: 形状 107"/>
            <p:cNvSpPr/>
            <p:nvPr/>
          </p:nvSpPr>
          <p:spPr>
            <a:xfrm>
              <a:off x="10600920" y="5232240"/>
              <a:ext cx="523440" cy="273960"/>
            </a:xfrm>
            <a:custGeom>
              <a:avLst/>
              <a:gdLst>
                <a:gd name="textAreaLeft" fmla="*/ 0 w 523440"/>
                <a:gd name="textAreaRight" fmla="*/ 523800 w 523440"/>
                <a:gd name="textAreaTop" fmla="*/ 0 h 273960"/>
                <a:gd name="textAreaBottom" fmla="*/ 274320 h 273960"/>
              </a:gdLst>
              <a:ahLst/>
              <a:rect l="textAreaLeft" t="textAreaTop" r="textAreaRight" b="textAreaBottom"/>
              <a:pathLst>
                <a:path w="200025" h="104775">
                  <a:moveTo>
                    <a:pt x="200743" y="7144"/>
                  </a:moveTo>
                  <a:lnTo>
                    <a:pt x="195981" y="7144"/>
                  </a:lnTo>
                  <a:cubicBezTo>
                    <a:pt x="194076" y="7144"/>
                    <a:pt x="142641" y="10001"/>
                    <a:pt x="125496" y="18574"/>
                  </a:cubicBezTo>
                  <a:cubicBezTo>
                    <a:pt x="115971" y="23336"/>
                    <a:pt x="99778" y="39529"/>
                    <a:pt x="84538" y="54769"/>
                  </a:cubicBezTo>
                  <a:cubicBezTo>
                    <a:pt x="73108" y="66199"/>
                    <a:pt x="61678" y="77629"/>
                    <a:pt x="54058" y="82391"/>
                  </a:cubicBezTo>
                  <a:cubicBezTo>
                    <a:pt x="45486" y="88106"/>
                    <a:pt x="37866" y="90964"/>
                    <a:pt x="32151" y="89059"/>
                  </a:cubicBezTo>
                  <a:cubicBezTo>
                    <a:pt x="26436" y="88106"/>
                    <a:pt x="21673" y="84296"/>
                    <a:pt x="17863" y="77629"/>
                  </a:cubicBezTo>
                  <a:cubicBezTo>
                    <a:pt x="8338" y="63341"/>
                    <a:pt x="20721" y="48101"/>
                    <a:pt x="20721" y="48101"/>
                  </a:cubicBezTo>
                  <a:lnTo>
                    <a:pt x="19768" y="45244"/>
                  </a:lnTo>
                  <a:cubicBezTo>
                    <a:pt x="13101" y="50959"/>
                    <a:pt x="718" y="66199"/>
                    <a:pt x="11196" y="82391"/>
                  </a:cubicBezTo>
                  <a:cubicBezTo>
                    <a:pt x="16911" y="90964"/>
                    <a:pt x="23578" y="95726"/>
                    <a:pt x="30246" y="97631"/>
                  </a:cubicBezTo>
                  <a:cubicBezTo>
                    <a:pt x="38818" y="99536"/>
                    <a:pt x="47391" y="96679"/>
                    <a:pt x="57868" y="90011"/>
                  </a:cubicBezTo>
                  <a:cubicBezTo>
                    <a:pt x="65488" y="85249"/>
                    <a:pt x="76918" y="73819"/>
                    <a:pt x="89301" y="61436"/>
                  </a:cubicBezTo>
                  <a:cubicBezTo>
                    <a:pt x="103588" y="47149"/>
                    <a:pt x="119781" y="31909"/>
                    <a:pt x="128353" y="27146"/>
                  </a:cubicBezTo>
                  <a:cubicBezTo>
                    <a:pt x="141688" y="20479"/>
                    <a:pt x="176931" y="17621"/>
                    <a:pt x="191218" y="16669"/>
                  </a:cubicBezTo>
                  <a:cubicBezTo>
                    <a:pt x="184551" y="38576"/>
                    <a:pt x="173121" y="70009"/>
                    <a:pt x="163596" y="73819"/>
                  </a:cubicBezTo>
                  <a:cubicBezTo>
                    <a:pt x="151213" y="79534"/>
                    <a:pt x="134068" y="86201"/>
                    <a:pt x="128353" y="88106"/>
                  </a:cubicBezTo>
                  <a:lnTo>
                    <a:pt x="94063" y="67151"/>
                  </a:lnTo>
                  <a:lnTo>
                    <a:pt x="93111" y="68104"/>
                  </a:lnTo>
                  <a:lnTo>
                    <a:pt x="126448" y="96679"/>
                  </a:lnTo>
                  <a:lnTo>
                    <a:pt x="128353" y="95726"/>
                  </a:lnTo>
                  <a:cubicBezTo>
                    <a:pt x="128353" y="95726"/>
                    <a:pt x="150261" y="87154"/>
                    <a:pt x="166453" y="80486"/>
                  </a:cubicBezTo>
                  <a:cubicBezTo>
                    <a:pt x="183598" y="72866"/>
                    <a:pt x="197886" y="19526"/>
                    <a:pt x="199791" y="12859"/>
                  </a:cubicBezTo>
                  <a:lnTo>
                    <a:pt x="200743" y="7144"/>
                  </a:lnTo>
                  <a:close/>
                </a:path>
              </a:pathLst>
            </a:custGeom>
            <a:solidFill>
              <a:srgbClr val="eaad9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3" name="任意多边形: 形状 108"/>
            <p:cNvSpPr/>
            <p:nvPr/>
          </p:nvSpPr>
          <p:spPr>
            <a:xfrm>
              <a:off x="10642320" y="534204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38100" h="38100">
                  <a:moveTo>
                    <a:pt x="24840" y="7144"/>
                  </a:moveTo>
                  <a:cubicBezTo>
                    <a:pt x="24840" y="7144"/>
                    <a:pt x="1028" y="18574"/>
                    <a:pt x="8648" y="31909"/>
                  </a:cubicBezTo>
                  <a:cubicBezTo>
                    <a:pt x="16268" y="-20292"/>
                    <a:pt x="32460" y="-32675"/>
                    <a:pt x="-26408" y="29051"/>
                  </a:cubicBezTo>
                  <a:cubicBezTo>
                    <a:pt x="-26408" y="29051"/>
                    <a:pt x="-24503" y="11906"/>
                    <a:pt x="24840"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 name="任意多边形: 形状 109"/>
            <p:cNvSpPr/>
            <p:nvPr/>
          </p:nvSpPr>
          <p:spPr>
            <a:xfrm>
              <a:off x="11566440" y="4628880"/>
              <a:ext cx="623160" cy="648000"/>
            </a:xfrm>
            <a:custGeom>
              <a:avLst/>
              <a:gdLst>
                <a:gd name="textAreaLeft" fmla="*/ 0 w 623160"/>
                <a:gd name="textAreaRight" fmla="*/ 623520 w 623160"/>
                <a:gd name="textAreaTop" fmla="*/ 0 h 648000"/>
                <a:gd name="textAreaBottom" fmla="*/ 648360 h 648000"/>
              </a:gdLst>
              <a:ahLst/>
              <a:rect l="textAreaLeft" t="textAreaTop" r="textAreaRight" b="textAreaBottom"/>
              <a:pathLst>
                <a:path w="238125" h="247650">
                  <a:moveTo>
                    <a:pt x="7144" y="7144"/>
                  </a:moveTo>
                  <a:lnTo>
                    <a:pt x="236696" y="7144"/>
                  </a:lnTo>
                  <a:lnTo>
                    <a:pt x="236696" y="243364"/>
                  </a:lnTo>
                  <a:lnTo>
                    <a:pt x="7144" y="243364"/>
                  </a:lnTo>
                  <a:lnTo>
                    <a:pt x="7144" y="7144"/>
                  </a:lnTo>
                  <a:close/>
                </a:path>
              </a:pathLst>
            </a:custGeom>
            <a:solidFill>
              <a:srgbClr val="4851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 name="任意多边形: 形状 110"/>
            <p:cNvSpPr/>
            <p:nvPr/>
          </p:nvSpPr>
          <p:spPr>
            <a:xfrm>
              <a:off x="11566440" y="4628880"/>
              <a:ext cx="249120" cy="648000"/>
            </a:xfrm>
            <a:custGeom>
              <a:avLst/>
              <a:gdLst>
                <a:gd name="textAreaLeft" fmla="*/ 0 w 249120"/>
                <a:gd name="textAreaRight" fmla="*/ 249480 w 249120"/>
                <a:gd name="textAreaTop" fmla="*/ 0 h 648000"/>
                <a:gd name="textAreaBottom" fmla="*/ 648360 h 648000"/>
              </a:gdLst>
              <a:ahLst/>
              <a:rect l="textAreaLeft" t="textAreaTop" r="textAreaRight" b="textAreaBottom"/>
              <a:pathLst>
                <a:path w="95250" h="247650">
                  <a:moveTo>
                    <a:pt x="7144" y="7144"/>
                  </a:moveTo>
                  <a:lnTo>
                    <a:pt x="91916" y="7144"/>
                  </a:lnTo>
                  <a:lnTo>
                    <a:pt x="91916" y="243364"/>
                  </a:lnTo>
                  <a:lnTo>
                    <a:pt x="7144" y="243364"/>
                  </a:lnTo>
                  <a:lnTo>
                    <a:pt x="7144" y="7144"/>
                  </a:lnTo>
                  <a:close/>
                </a:path>
              </a:pathLst>
            </a:custGeom>
            <a:solidFill>
              <a:srgbClr val="616b7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 name="任意多边形: 形状 111"/>
            <p:cNvSpPr/>
            <p:nvPr/>
          </p:nvSpPr>
          <p:spPr>
            <a:xfrm>
              <a:off x="11628720" y="511272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5241" y="-22197"/>
                  </a:moveTo>
                  <a:cubicBezTo>
                    <a:pt x="-30770" y="-22197"/>
                    <a:pt x="-22197" y="-29817"/>
                    <a:pt x="-22197" y="25241"/>
                  </a:cubicBezTo>
                  <a:cubicBezTo>
                    <a:pt x="-22197" y="15716"/>
                    <a:pt x="-29817" y="7144"/>
                    <a:pt x="25241" y="7144"/>
                  </a:cubicBezTo>
                  <a:cubicBezTo>
                    <a:pt x="15716" y="7144"/>
                    <a:pt x="7144" y="14764"/>
                    <a:pt x="7144" y="25241"/>
                  </a:cubicBezTo>
                  <a:cubicBezTo>
                    <a:pt x="7144" y="-29817"/>
                    <a:pt x="15716" y="-22197"/>
                    <a:pt x="25241" y="-22197"/>
                  </a:cubicBezTo>
                  <a:close/>
                </a:path>
              </a:pathLst>
            </a:custGeom>
            <a:solidFill>
              <a:srgbClr val="f8ff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 name="任意多边形: 形状 112"/>
            <p:cNvSpPr/>
            <p:nvPr/>
          </p:nvSpPr>
          <p:spPr>
            <a:xfrm>
              <a:off x="9771120" y="2669040"/>
              <a:ext cx="1495800" cy="1196640"/>
            </a:xfrm>
            <a:custGeom>
              <a:avLst/>
              <a:gdLst>
                <a:gd name="textAreaLeft" fmla="*/ 0 w 1495800"/>
                <a:gd name="textAreaRight" fmla="*/ 1496160 w 1495800"/>
                <a:gd name="textAreaTop" fmla="*/ 0 h 1196640"/>
                <a:gd name="textAreaBottom" fmla="*/ 1197000 h 1196640"/>
              </a:gdLst>
              <a:ahLst/>
              <a:rect l="textAreaLeft" t="textAreaTop" r="textAreaRight" b="textAreaBottom"/>
              <a:pathLst>
                <a:path w="571500" h="457200">
                  <a:moveTo>
                    <a:pt x="499680" y="7144"/>
                  </a:moveTo>
                  <a:lnTo>
                    <a:pt x="433005" y="34766"/>
                  </a:lnTo>
                  <a:cubicBezTo>
                    <a:pt x="433005" y="34766"/>
                    <a:pt x="416813" y="2381"/>
                    <a:pt x="354900" y="33814"/>
                  </a:cubicBezTo>
                  <a:lnTo>
                    <a:pt x="123443" y="148114"/>
                  </a:lnTo>
                  <a:cubicBezTo>
                    <a:pt x="123443" y="148114"/>
                    <a:pt x="104393" y="158591"/>
                    <a:pt x="114870" y="179546"/>
                  </a:cubicBezTo>
                  <a:cubicBezTo>
                    <a:pt x="123443" y="195739"/>
                    <a:pt x="147255" y="185261"/>
                    <a:pt x="147255" y="185261"/>
                  </a:cubicBezTo>
                  <a:cubicBezTo>
                    <a:pt x="147255" y="185261"/>
                    <a:pt x="229170" y="149066"/>
                    <a:pt x="231075" y="152876"/>
                  </a:cubicBezTo>
                  <a:cubicBezTo>
                    <a:pt x="235838" y="165259"/>
                    <a:pt x="47243" y="251936"/>
                    <a:pt x="39623" y="256699"/>
                  </a:cubicBezTo>
                  <a:cubicBezTo>
                    <a:pt x="27240" y="263366"/>
                    <a:pt x="15810" y="276701"/>
                    <a:pt x="25335" y="294799"/>
                  </a:cubicBezTo>
                  <a:cubicBezTo>
                    <a:pt x="36765" y="317659"/>
                    <a:pt x="58673" y="307181"/>
                    <a:pt x="66293" y="303371"/>
                  </a:cubicBezTo>
                  <a:cubicBezTo>
                    <a:pt x="73913" y="300514"/>
                    <a:pt x="252983" y="215741"/>
                    <a:pt x="262508" y="216694"/>
                  </a:cubicBezTo>
                  <a:cubicBezTo>
                    <a:pt x="272033" y="217646"/>
                    <a:pt x="26288" y="356711"/>
                    <a:pt x="26288" y="356711"/>
                  </a:cubicBezTo>
                  <a:cubicBezTo>
                    <a:pt x="26288" y="356711"/>
                    <a:pt x="-3240" y="369094"/>
                    <a:pt x="11048" y="395764"/>
                  </a:cubicBezTo>
                  <a:cubicBezTo>
                    <a:pt x="26288" y="422434"/>
                    <a:pt x="47243" y="405289"/>
                    <a:pt x="61530" y="398621"/>
                  </a:cubicBezTo>
                  <a:cubicBezTo>
                    <a:pt x="75818" y="391001"/>
                    <a:pt x="279653" y="282416"/>
                    <a:pt x="289178" y="280511"/>
                  </a:cubicBezTo>
                  <a:cubicBezTo>
                    <a:pt x="298703" y="278606"/>
                    <a:pt x="101535" y="410051"/>
                    <a:pt x="101535" y="410051"/>
                  </a:cubicBezTo>
                  <a:cubicBezTo>
                    <a:pt x="101535" y="410051"/>
                    <a:pt x="78675" y="422434"/>
                    <a:pt x="91058" y="443389"/>
                  </a:cubicBezTo>
                  <a:cubicBezTo>
                    <a:pt x="103440" y="465296"/>
                    <a:pt x="134873" y="444341"/>
                    <a:pt x="134873" y="444341"/>
                  </a:cubicBezTo>
                  <a:lnTo>
                    <a:pt x="328230" y="349091"/>
                  </a:lnTo>
                  <a:lnTo>
                    <a:pt x="279653" y="401479"/>
                  </a:lnTo>
                  <a:cubicBezTo>
                    <a:pt x="279653" y="401479"/>
                    <a:pt x="261555" y="420529"/>
                    <a:pt x="277748" y="436721"/>
                  </a:cubicBezTo>
                  <a:cubicBezTo>
                    <a:pt x="293940" y="452914"/>
                    <a:pt x="317753" y="431959"/>
                    <a:pt x="338708" y="416719"/>
                  </a:cubicBezTo>
                  <a:cubicBezTo>
                    <a:pt x="355853" y="405289"/>
                    <a:pt x="541590" y="285274"/>
                    <a:pt x="499680" y="191929"/>
                  </a:cubicBezTo>
                  <a:lnTo>
                    <a:pt x="567308" y="163354"/>
                  </a:lnTo>
                  <a:lnTo>
                    <a:pt x="499680" y="7144"/>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 name="任意多边形: 形状 113"/>
            <p:cNvSpPr/>
            <p:nvPr/>
          </p:nvSpPr>
          <p:spPr>
            <a:xfrm>
              <a:off x="10060200" y="3035520"/>
              <a:ext cx="124560" cy="99720"/>
            </a:xfrm>
            <a:custGeom>
              <a:avLst/>
              <a:gdLst>
                <a:gd name="textAreaLeft" fmla="*/ 0 w 124560"/>
                <a:gd name="textAreaRight" fmla="*/ 124920 w 124560"/>
                <a:gd name="textAreaTop" fmla="*/ 0 h 99720"/>
                <a:gd name="textAreaBottom" fmla="*/ 100080 h 99720"/>
              </a:gdLst>
              <a:ahLst/>
              <a:rect l="textAreaLeft" t="textAreaTop" r="textAreaRight" b="textAreaBottom"/>
              <a:pathLst>
                <a:path w="47625" h="38100">
                  <a:moveTo>
                    <a:pt x="30060" y="7144"/>
                  </a:moveTo>
                  <a:cubicBezTo>
                    <a:pt x="30060" y="7144"/>
                    <a:pt x="1485" y="16669"/>
                    <a:pt x="8152" y="31909"/>
                  </a:cubicBezTo>
                  <a:cubicBezTo>
                    <a:pt x="14820" y="-18387"/>
                    <a:pt x="-31666" y="-28865"/>
                    <a:pt x="-22141" y="-32675"/>
                  </a:cubicBezTo>
                  <a:cubicBezTo>
                    <a:pt x="-22141" y="-32675"/>
                    <a:pt x="-17379" y="14764"/>
                    <a:pt x="30060"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 name="任意多边形: 形状 114"/>
            <p:cNvSpPr/>
            <p:nvPr/>
          </p:nvSpPr>
          <p:spPr>
            <a:xfrm>
              <a:off x="9827640" y="331992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37928" y="7144"/>
                  </a:moveTo>
                  <a:cubicBezTo>
                    <a:pt x="37928" y="7144"/>
                    <a:pt x="-172" y="19526"/>
                    <a:pt x="8400" y="40481"/>
                  </a:cubicBezTo>
                  <a:cubicBezTo>
                    <a:pt x="16973" y="61436"/>
                    <a:pt x="42690" y="47149"/>
                    <a:pt x="54120" y="42386"/>
                  </a:cubicBezTo>
                  <a:cubicBezTo>
                    <a:pt x="54120" y="41434"/>
                    <a:pt x="60788" y="17621"/>
                    <a:pt x="37928"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0" name="任意多边形: 形状 115"/>
            <p:cNvSpPr/>
            <p:nvPr/>
          </p:nvSpPr>
          <p:spPr>
            <a:xfrm>
              <a:off x="9786960" y="358164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36328" y="7144"/>
                  </a:moveTo>
                  <a:cubicBezTo>
                    <a:pt x="36328" y="7144"/>
                    <a:pt x="-819" y="21431"/>
                    <a:pt x="8706" y="41434"/>
                  </a:cubicBezTo>
                  <a:cubicBezTo>
                    <a:pt x="18231" y="61436"/>
                    <a:pt x="42996" y="46196"/>
                    <a:pt x="54426" y="40481"/>
                  </a:cubicBezTo>
                  <a:cubicBezTo>
                    <a:pt x="55378" y="40481"/>
                    <a:pt x="60141" y="15716"/>
                    <a:pt x="36328"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1" name="任意多边形: 形状 116"/>
            <p:cNvSpPr/>
            <p:nvPr/>
          </p:nvSpPr>
          <p:spPr>
            <a:xfrm>
              <a:off x="9999000" y="370368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34494" y="7144"/>
                  </a:moveTo>
                  <a:cubicBezTo>
                    <a:pt x="34494" y="7144"/>
                    <a:pt x="-748" y="21431"/>
                    <a:pt x="8777" y="40481"/>
                  </a:cubicBezTo>
                  <a:cubicBezTo>
                    <a:pt x="18302" y="59531"/>
                    <a:pt x="41162" y="44291"/>
                    <a:pt x="52592" y="39529"/>
                  </a:cubicBezTo>
                  <a:cubicBezTo>
                    <a:pt x="52592" y="38576"/>
                    <a:pt x="56402" y="15716"/>
                    <a:pt x="34494"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2" name="任意多边形: 形状 117"/>
            <p:cNvSpPr/>
            <p:nvPr/>
          </p:nvSpPr>
          <p:spPr>
            <a:xfrm>
              <a:off x="10468800" y="367128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28367" y="7144"/>
                  </a:moveTo>
                  <a:cubicBezTo>
                    <a:pt x="28367" y="7144"/>
                    <a:pt x="-4018" y="30956"/>
                    <a:pt x="11221" y="48101"/>
                  </a:cubicBezTo>
                  <a:cubicBezTo>
                    <a:pt x="25509" y="65246"/>
                    <a:pt x="45512" y="43339"/>
                    <a:pt x="55989" y="34766"/>
                  </a:cubicBezTo>
                  <a:cubicBezTo>
                    <a:pt x="55989" y="35719"/>
                    <a:pt x="54084" y="10001"/>
                    <a:pt x="28367"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3" name="任意多边形: 形状 118"/>
            <p:cNvSpPr/>
            <p:nvPr/>
          </p:nvSpPr>
          <p:spPr>
            <a:xfrm>
              <a:off x="10885680" y="1970640"/>
              <a:ext cx="1296360" cy="1246680"/>
            </a:xfrm>
            <a:custGeom>
              <a:avLst/>
              <a:gdLst>
                <a:gd name="textAreaLeft" fmla="*/ 0 w 1296360"/>
                <a:gd name="textAreaRight" fmla="*/ 1296720 w 1296360"/>
                <a:gd name="textAreaTop" fmla="*/ 0 h 1246680"/>
                <a:gd name="textAreaBottom" fmla="*/ 1247040 h 1246680"/>
              </a:gdLst>
              <a:ahLst/>
              <a:rect l="textAreaLeft" t="textAreaTop" r="textAreaRight" b="textAreaBottom"/>
              <a:pathLst>
                <a:path w="495300" h="476250">
                  <a:moveTo>
                    <a:pt x="496729" y="7144"/>
                  </a:moveTo>
                  <a:lnTo>
                    <a:pt x="496729" y="272891"/>
                  </a:lnTo>
                  <a:lnTo>
                    <a:pt x="115729" y="472916"/>
                  </a:lnTo>
                  <a:lnTo>
                    <a:pt x="7144" y="262414"/>
                  </a:lnTo>
                  <a:lnTo>
                    <a:pt x="496729" y="7144"/>
                  </a:lnTo>
                  <a:close/>
                </a:path>
              </a:pathLst>
            </a:custGeom>
            <a:solidFill>
              <a:srgbClr val="4851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4" name="任意多边形: 形状 119"/>
            <p:cNvSpPr/>
            <p:nvPr/>
          </p:nvSpPr>
          <p:spPr>
            <a:xfrm>
              <a:off x="10880280" y="2531160"/>
              <a:ext cx="523440" cy="698040"/>
            </a:xfrm>
            <a:custGeom>
              <a:avLst/>
              <a:gdLst>
                <a:gd name="textAreaLeft" fmla="*/ 0 w 523440"/>
                <a:gd name="textAreaRight" fmla="*/ 523800 w 523440"/>
                <a:gd name="textAreaTop" fmla="*/ 0 h 698040"/>
                <a:gd name="textAreaBottom" fmla="*/ 698400 h 698040"/>
              </a:gdLst>
              <a:ahLst/>
              <a:rect l="textAreaLeft" t="textAreaTop" r="textAreaRight" b="textAreaBottom"/>
              <a:pathLst>
                <a:path w="200025" h="266700">
                  <a:moveTo>
                    <a:pt x="9624" y="48492"/>
                  </a:moveTo>
                  <a:lnTo>
                    <a:pt x="84961" y="9624"/>
                  </a:lnTo>
                  <a:lnTo>
                    <a:pt x="193268" y="219553"/>
                  </a:lnTo>
                  <a:lnTo>
                    <a:pt x="117931" y="258421"/>
                  </a:lnTo>
                  <a:lnTo>
                    <a:pt x="9624" y="48492"/>
                  </a:lnTo>
                  <a:close/>
                </a:path>
              </a:pathLst>
            </a:custGeom>
            <a:solidFill>
              <a:srgbClr val="616b7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5" name="任意多边形: 形状 120"/>
            <p:cNvSpPr/>
            <p:nvPr/>
          </p:nvSpPr>
          <p:spPr>
            <a:xfrm>
              <a:off x="10977480" y="261864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16838" y="9218"/>
                  </a:moveTo>
                  <a:cubicBezTo>
                    <a:pt x="25411" y="4456"/>
                    <a:pt x="-28695" y="8266"/>
                    <a:pt x="-24885" y="16838"/>
                  </a:cubicBezTo>
                  <a:cubicBezTo>
                    <a:pt x="-20123" y="25411"/>
                    <a:pt x="-23933" y="-28695"/>
                    <a:pt x="-32505" y="-24885"/>
                  </a:cubicBezTo>
                  <a:cubicBezTo>
                    <a:pt x="24459" y="-20123"/>
                    <a:pt x="13028" y="-23933"/>
                    <a:pt x="9218" y="-32505"/>
                  </a:cubicBezTo>
                  <a:cubicBezTo>
                    <a:pt x="4456" y="24458"/>
                    <a:pt x="8266" y="13981"/>
                    <a:pt x="16838" y="9218"/>
                  </a:cubicBezTo>
                  <a:close/>
                </a:path>
              </a:pathLst>
            </a:custGeom>
            <a:solidFill>
              <a:srgbClr val="f8ff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6" name="任意多边形: 形状 121"/>
            <p:cNvSpPr/>
            <p:nvPr/>
          </p:nvSpPr>
          <p:spPr>
            <a:xfrm>
              <a:off x="3989160" y="4384440"/>
              <a:ext cx="4462920" cy="2468520"/>
            </a:xfrm>
            <a:custGeom>
              <a:avLst/>
              <a:gdLst>
                <a:gd name="textAreaLeft" fmla="*/ 0 w 4462920"/>
                <a:gd name="textAreaRight" fmla="*/ 4463280 w 4462920"/>
                <a:gd name="textAreaTop" fmla="*/ 0 h 2468520"/>
                <a:gd name="textAreaBottom" fmla="*/ 2468880 h 2468520"/>
              </a:gdLst>
              <a:ahLst/>
              <a:rect l="textAreaLeft" t="textAreaTop" r="textAreaRight" b="textAreaBottom"/>
              <a:pathLst>
                <a:path w="1704975" h="942975">
                  <a:moveTo>
                    <a:pt x="1666399" y="9049"/>
                  </a:moveTo>
                  <a:lnTo>
                    <a:pt x="41434" y="7144"/>
                  </a:lnTo>
                  <a:cubicBezTo>
                    <a:pt x="23336" y="7144"/>
                    <a:pt x="8096" y="22384"/>
                    <a:pt x="8096" y="40481"/>
                  </a:cubicBezTo>
                  <a:lnTo>
                    <a:pt x="7144" y="445294"/>
                  </a:lnTo>
                  <a:cubicBezTo>
                    <a:pt x="7144" y="463391"/>
                    <a:pt x="22384" y="478631"/>
                    <a:pt x="40481" y="478631"/>
                  </a:cubicBezTo>
                  <a:lnTo>
                    <a:pt x="128111" y="478631"/>
                  </a:lnTo>
                  <a:lnTo>
                    <a:pt x="130969" y="646271"/>
                  </a:lnTo>
                  <a:cubicBezTo>
                    <a:pt x="131921" y="715804"/>
                    <a:pt x="168116" y="715804"/>
                    <a:pt x="168116" y="715804"/>
                  </a:cubicBezTo>
                  <a:lnTo>
                    <a:pt x="170021" y="733901"/>
                  </a:lnTo>
                  <a:lnTo>
                    <a:pt x="133826" y="733901"/>
                  </a:lnTo>
                  <a:lnTo>
                    <a:pt x="133826" y="818674"/>
                  </a:lnTo>
                  <a:lnTo>
                    <a:pt x="133826" y="937736"/>
                  </a:lnTo>
                  <a:lnTo>
                    <a:pt x="370046" y="937736"/>
                  </a:lnTo>
                  <a:lnTo>
                    <a:pt x="370046" y="818674"/>
                  </a:lnTo>
                  <a:lnTo>
                    <a:pt x="370046" y="733901"/>
                  </a:lnTo>
                  <a:lnTo>
                    <a:pt x="340519" y="733901"/>
                  </a:lnTo>
                  <a:lnTo>
                    <a:pt x="337661" y="700564"/>
                  </a:lnTo>
                  <a:cubicBezTo>
                    <a:pt x="422434" y="695801"/>
                    <a:pt x="451009" y="541496"/>
                    <a:pt x="460534" y="478631"/>
                  </a:cubicBezTo>
                  <a:lnTo>
                    <a:pt x="1247299" y="479584"/>
                  </a:lnTo>
                  <a:cubicBezTo>
                    <a:pt x="1255871" y="542449"/>
                    <a:pt x="1285399" y="695801"/>
                    <a:pt x="1370171" y="700564"/>
                  </a:cubicBezTo>
                  <a:lnTo>
                    <a:pt x="1367314" y="733901"/>
                  </a:lnTo>
                  <a:lnTo>
                    <a:pt x="1337786" y="733901"/>
                  </a:lnTo>
                  <a:lnTo>
                    <a:pt x="1337786" y="818674"/>
                  </a:lnTo>
                  <a:lnTo>
                    <a:pt x="1337786" y="937736"/>
                  </a:lnTo>
                  <a:lnTo>
                    <a:pt x="1574006" y="937736"/>
                  </a:lnTo>
                  <a:lnTo>
                    <a:pt x="1574006" y="818674"/>
                  </a:lnTo>
                  <a:lnTo>
                    <a:pt x="1574006" y="733901"/>
                  </a:lnTo>
                  <a:lnTo>
                    <a:pt x="1537811" y="733901"/>
                  </a:lnTo>
                  <a:lnTo>
                    <a:pt x="1539716" y="715804"/>
                  </a:lnTo>
                  <a:cubicBezTo>
                    <a:pt x="1539716" y="715804"/>
                    <a:pt x="1575911" y="715804"/>
                    <a:pt x="1576864" y="646271"/>
                  </a:cubicBezTo>
                  <a:lnTo>
                    <a:pt x="1579721" y="480536"/>
                  </a:lnTo>
                  <a:lnTo>
                    <a:pt x="1666399" y="480536"/>
                  </a:lnTo>
                  <a:cubicBezTo>
                    <a:pt x="1684496" y="480536"/>
                    <a:pt x="1699736" y="465296"/>
                    <a:pt x="1699736" y="447199"/>
                  </a:cubicBezTo>
                  <a:lnTo>
                    <a:pt x="1699736" y="42386"/>
                  </a:lnTo>
                  <a:cubicBezTo>
                    <a:pt x="1699736" y="23336"/>
                    <a:pt x="1684496" y="9049"/>
                    <a:pt x="1666399" y="9049"/>
                  </a:cubicBezTo>
                  <a:close/>
                  <a:moveTo>
                    <a:pt x="181451" y="477679"/>
                  </a:moveTo>
                  <a:cubicBezTo>
                    <a:pt x="180499" y="478631"/>
                    <a:pt x="180499" y="479584"/>
                    <a:pt x="179546" y="479584"/>
                  </a:cubicBezTo>
                  <a:cubicBezTo>
                    <a:pt x="179546" y="479584"/>
                    <a:pt x="178594" y="478631"/>
                    <a:pt x="178594" y="477679"/>
                  </a:cubicBezTo>
                  <a:lnTo>
                    <a:pt x="181451" y="477679"/>
                  </a:lnTo>
                  <a:close/>
                  <a:moveTo>
                    <a:pt x="250984" y="478631"/>
                  </a:moveTo>
                  <a:cubicBezTo>
                    <a:pt x="250984" y="478631"/>
                    <a:pt x="250984" y="478631"/>
                    <a:pt x="250984" y="478631"/>
                  </a:cubicBezTo>
                  <a:cubicBezTo>
                    <a:pt x="250984" y="478631"/>
                    <a:pt x="250984" y="478631"/>
                    <a:pt x="250984" y="478631"/>
                  </a:cubicBezTo>
                  <a:close/>
                  <a:moveTo>
                    <a:pt x="1527334" y="479584"/>
                  </a:moveTo>
                  <a:cubicBezTo>
                    <a:pt x="1527334" y="479584"/>
                    <a:pt x="1527334" y="479584"/>
                    <a:pt x="1527334" y="479584"/>
                  </a:cubicBezTo>
                  <a:cubicBezTo>
                    <a:pt x="1528286" y="479584"/>
                    <a:pt x="1527334" y="479584"/>
                    <a:pt x="1527334" y="479584"/>
                  </a:cubicBezTo>
                  <a:close/>
                </a:path>
              </a:pathLst>
            </a:custGeom>
            <a:solidFill>
              <a:srgbClr val="1214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7" name="任意多边形: 形状 123"/>
            <p:cNvSpPr/>
            <p:nvPr/>
          </p:nvSpPr>
          <p:spPr>
            <a:xfrm>
              <a:off x="3869640" y="4384440"/>
              <a:ext cx="4462920" cy="1271520"/>
            </a:xfrm>
            <a:custGeom>
              <a:avLst/>
              <a:gdLst>
                <a:gd name="textAreaLeft" fmla="*/ 0 w 4462920"/>
                <a:gd name="textAreaRight" fmla="*/ 4463280 w 4462920"/>
                <a:gd name="textAreaTop" fmla="*/ 0 h 1271520"/>
                <a:gd name="textAreaBottom" fmla="*/ 1271880 h 1271520"/>
              </a:gdLst>
              <a:ahLst/>
              <a:rect l="textAreaLeft" t="textAreaTop" r="textAreaRight" b="textAreaBottom"/>
              <a:pathLst>
                <a:path w="1704975" h="485775">
                  <a:moveTo>
                    <a:pt x="1698784" y="447199"/>
                  </a:moveTo>
                  <a:cubicBezTo>
                    <a:pt x="1698784" y="465296"/>
                    <a:pt x="1683544" y="480536"/>
                    <a:pt x="1665446" y="480536"/>
                  </a:cubicBezTo>
                  <a:lnTo>
                    <a:pt x="40481" y="478631"/>
                  </a:lnTo>
                  <a:cubicBezTo>
                    <a:pt x="22384" y="478631"/>
                    <a:pt x="7144" y="463391"/>
                    <a:pt x="7144" y="445294"/>
                  </a:cubicBezTo>
                  <a:lnTo>
                    <a:pt x="8096" y="40481"/>
                  </a:lnTo>
                  <a:cubicBezTo>
                    <a:pt x="8096" y="22384"/>
                    <a:pt x="23336" y="7144"/>
                    <a:pt x="41434" y="7144"/>
                  </a:cubicBezTo>
                  <a:lnTo>
                    <a:pt x="1666399" y="9049"/>
                  </a:lnTo>
                  <a:cubicBezTo>
                    <a:pt x="1684496" y="9049"/>
                    <a:pt x="1699736" y="24289"/>
                    <a:pt x="1699736" y="42386"/>
                  </a:cubicBezTo>
                  <a:lnTo>
                    <a:pt x="1698784" y="447199"/>
                  </a:lnTo>
                  <a:close/>
                </a:path>
              </a:pathLst>
            </a:custGeom>
            <a:solidFill>
              <a:srgbClr val="44546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8" name="任意多边形: 形状 124"/>
            <p:cNvSpPr/>
            <p:nvPr/>
          </p:nvSpPr>
          <p:spPr>
            <a:xfrm>
              <a:off x="3966840" y="4449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 name="任意多边形: 形状 125"/>
            <p:cNvSpPr/>
            <p:nvPr/>
          </p:nvSpPr>
          <p:spPr>
            <a:xfrm>
              <a:off x="4226040" y="4449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 name="任意多边形: 形状 126"/>
            <p:cNvSpPr/>
            <p:nvPr/>
          </p:nvSpPr>
          <p:spPr>
            <a:xfrm>
              <a:off x="448272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 name="任意多边形: 形状 127"/>
            <p:cNvSpPr/>
            <p:nvPr/>
          </p:nvSpPr>
          <p:spPr>
            <a:xfrm>
              <a:off x="473976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80486"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 name="任意多边形: 形状 128"/>
            <p:cNvSpPr/>
            <p:nvPr/>
          </p:nvSpPr>
          <p:spPr>
            <a:xfrm>
              <a:off x="499896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 name="任意多边形: 形状 129"/>
            <p:cNvSpPr/>
            <p:nvPr/>
          </p:nvSpPr>
          <p:spPr>
            <a:xfrm>
              <a:off x="525564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 name="任意多边形: 形状 130"/>
            <p:cNvSpPr/>
            <p:nvPr/>
          </p:nvSpPr>
          <p:spPr>
            <a:xfrm>
              <a:off x="551268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 name="任意多边形: 形状 131"/>
            <p:cNvSpPr/>
            <p:nvPr/>
          </p:nvSpPr>
          <p:spPr>
            <a:xfrm>
              <a:off x="577188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 name="任意多边形: 形状 132"/>
            <p:cNvSpPr/>
            <p:nvPr/>
          </p:nvSpPr>
          <p:spPr>
            <a:xfrm>
              <a:off x="602856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 name="任意多边形: 形状 133"/>
            <p:cNvSpPr/>
            <p:nvPr/>
          </p:nvSpPr>
          <p:spPr>
            <a:xfrm>
              <a:off x="3966840" y="474372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 name="任意多边形: 形状 134"/>
            <p:cNvSpPr/>
            <p:nvPr/>
          </p:nvSpPr>
          <p:spPr>
            <a:xfrm>
              <a:off x="422604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 name="任意多边形: 形状 135"/>
            <p:cNvSpPr/>
            <p:nvPr/>
          </p:nvSpPr>
          <p:spPr>
            <a:xfrm>
              <a:off x="448272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0" name="任意多边形: 形状 136"/>
            <p:cNvSpPr/>
            <p:nvPr/>
          </p:nvSpPr>
          <p:spPr>
            <a:xfrm>
              <a:off x="473976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 name="任意多边形: 形状 137"/>
            <p:cNvSpPr/>
            <p:nvPr/>
          </p:nvSpPr>
          <p:spPr>
            <a:xfrm>
              <a:off x="499896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 name="任意多边形: 形状 138"/>
            <p:cNvSpPr/>
            <p:nvPr/>
          </p:nvSpPr>
          <p:spPr>
            <a:xfrm>
              <a:off x="525564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 name="任意多边形: 形状 139"/>
            <p:cNvSpPr/>
            <p:nvPr/>
          </p:nvSpPr>
          <p:spPr>
            <a:xfrm>
              <a:off x="551268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 name="任意多边形: 形状 140"/>
            <p:cNvSpPr/>
            <p:nvPr/>
          </p:nvSpPr>
          <p:spPr>
            <a:xfrm>
              <a:off x="577188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 name="任意多边形: 形状 141"/>
            <p:cNvSpPr/>
            <p:nvPr/>
          </p:nvSpPr>
          <p:spPr>
            <a:xfrm>
              <a:off x="602856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6" name="任意多边形: 形状 142"/>
            <p:cNvSpPr/>
            <p:nvPr/>
          </p:nvSpPr>
          <p:spPr>
            <a:xfrm>
              <a:off x="396684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 name="任意多边形: 形状 143"/>
            <p:cNvSpPr/>
            <p:nvPr/>
          </p:nvSpPr>
          <p:spPr>
            <a:xfrm>
              <a:off x="422352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 name="任意多边形: 形状 144"/>
            <p:cNvSpPr/>
            <p:nvPr/>
          </p:nvSpPr>
          <p:spPr>
            <a:xfrm>
              <a:off x="448272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9" name="任意多边形: 形状 145"/>
            <p:cNvSpPr/>
            <p:nvPr/>
          </p:nvSpPr>
          <p:spPr>
            <a:xfrm>
              <a:off x="473976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0" name="任意多边形: 形状 146"/>
            <p:cNvSpPr/>
            <p:nvPr/>
          </p:nvSpPr>
          <p:spPr>
            <a:xfrm>
              <a:off x="499896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1" name="任意多边形: 形状 147"/>
            <p:cNvSpPr/>
            <p:nvPr/>
          </p:nvSpPr>
          <p:spPr>
            <a:xfrm>
              <a:off x="525564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2" name="任意多边形: 形状 148"/>
            <p:cNvSpPr/>
            <p:nvPr/>
          </p:nvSpPr>
          <p:spPr>
            <a:xfrm>
              <a:off x="551268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3" name="任意多边形: 形状 149"/>
            <p:cNvSpPr/>
            <p:nvPr/>
          </p:nvSpPr>
          <p:spPr>
            <a:xfrm>
              <a:off x="577188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4" name="任意多边形: 形状 150"/>
            <p:cNvSpPr/>
            <p:nvPr/>
          </p:nvSpPr>
          <p:spPr>
            <a:xfrm>
              <a:off x="602856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5" name="任意多边形: 形状 151"/>
            <p:cNvSpPr/>
            <p:nvPr/>
          </p:nvSpPr>
          <p:spPr>
            <a:xfrm>
              <a:off x="3966840" y="53344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6" name="任意多边形: 形状 152"/>
            <p:cNvSpPr/>
            <p:nvPr/>
          </p:nvSpPr>
          <p:spPr>
            <a:xfrm>
              <a:off x="4223520" y="53344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7" name="任意多边形: 形状 153"/>
            <p:cNvSpPr/>
            <p:nvPr/>
          </p:nvSpPr>
          <p:spPr>
            <a:xfrm>
              <a:off x="4480200" y="5334480"/>
              <a:ext cx="1221480" cy="224280"/>
            </a:xfrm>
            <a:custGeom>
              <a:avLst/>
              <a:gdLst>
                <a:gd name="textAreaLeft" fmla="*/ 0 w 1221480"/>
                <a:gd name="textAreaRight" fmla="*/ 1221840 w 1221480"/>
                <a:gd name="textAreaTop" fmla="*/ 0 h 224280"/>
                <a:gd name="textAreaBottom" fmla="*/ 224640 h 224280"/>
              </a:gdLst>
              <a:ahLst/>
              <a:rect l="textAreaLeft" t="textAreaTop" r="textAreaRight" b="textAreaBottom"/>
              <a:pathLst>
                <a:path w="466725" h="85725">
                  <a:moveTo>
                    <a:pt x="390049" y="7144"/>
                  </a:moveTo>
                  <a:cubicBezTo>
                    <a:pt x="384334" y="7144"/>
                    <a:pt x="376714" y="7144"/>
                    <a:pt x="370999" y="7144"/>
                  </a:cubicBezTo>
                  <a:lnTo>
                    <a:pt x="348139" y="7144"/>
                  </a:lnTo>
                  <a:cubicBezTo>
                    <a:pt x="342424" y="7144"/>
                    <a:pt x="334804" y="7144"/>
                    <a:pt x="329089" y="7144"/>
                  </a:cubicBezTo>
                  <a:lnTo>
                    <a:pt x="311944" y="7144"/>
                  </a:lnTo>
                  <a:cubicBezTo>
                    <a:pt x="307181" y="7144"/>
                    <a:pt x="298609" y="7144"/>
                    <a:pt x="292894" y="7144"/>
                  </a:cubicBezTo>
                  <a:lnTo>
                    <a:pt x="267176" y="7144"/>
                  </a:lnTo>
                  <a:cubicBezTo>
                    <a:pt x="261461" y="7144"/>
                    <a:pt x="253841" y="7144"/>
                    <a:pt x="248126" y="7144"/>
                  </a:cubicBezTo>
                  <a:lnTo>
                    <a:pt x="233839" y="7144"/>
                  </a:lnTo>
                  <a:cubicBezTo>
                    <a:pt x="228124" y="7144"/>
                    <a:pt x="220504" y="7144"/>
                    <a:pt x="214789" y="7144"/>
                  </a:cubicBezTo>
                  <a:lnTo>
                    <a:pt x="189071" y="7144"/>
                  </a:lnTo>
                  <a:cubicBezTo>
                    <a:pt x="183356" y="7144"/>
                    <a:pt x="175736" y="7144"/>
                    <a:pt x="170021" y="7144"/>
                  </a:cubicBezTo>
                  <a:lnTo>
                    <a:pt x="138589" y="7144"/>
                  </a:lnTo>
                  <a:cubicBezTo>
                    <a:pt x="132874" y="7144"/>
                    <a:pt x="125254" y="7144"/>
                    <a:pt x="119539" y="7144"/>
                  </a:cubicBezTo>
                  <a:lnTo>
                    <a:pt x="110966" y="7144"/>
                  </a:lnTo>
                  <a:cubicBezTo>
                    <a:pt x="105251" y="7144"/>
                    <a:pt x="97631" y="7144"/>
                    <a:pt x="91916" y="7144"/>
                  </a:cubicBezTo>
                  <a:lnTo>
                    <a:pt x="16669" y="7144"/>
                  </a:lnTo>
                  <a:cubicBezTo>
                    <a:pt x="10954" y="7144"/>
                    <a:pt x="7144" y="10954"/>
                    <a:pt x="7144" y="16669"/>
                  </a:cubicBezTo>
                  <a:lnTo>
                    <a:pt x="7144" y="74771"/>
                  </a:lnTo>
                  <a:cubicBezTo>
                    <a:pt x="7144" y="80486"/>
                    <a:pt x="10954" y="84296"/>
                    <a:pt x="16669" y="84296"/>
                  </a:cubicBezTo>
                  <a:lnTo>
                    <a:pt x="91916" y="84296"/>
                  </a:lnTo>
                  <a:cubicBezTo>
                    <a:pt x="97631" y="84296"/>
                    <a:pt x="105251" y="84296"/>
                    <a:pt x="110966" y="84296"/>
                  </a:cubicBezTo>
                  <a:lnTo>
                    <a:pt x="119539" y="84296"/>
                  </a:lnTo>
                  <a:cubicBezTo>
                    <a:pt x="124301" y="84296"/>
                    <a:pt x="132874" y="84296"/>
                    <a:pt x="138589" y="84296"/>
                  </a:cubicBezTo>
                  <a:lnTo>
                    <a:pt x="170021" y="84296"/>
                  </a:lnTo>
                  <a:cubicBezTo>
                    <a:pt x="175736" y="84296"/>
                    <a:pt x="183356" y="84296"/>
                    <a:pt x="189071" y="84296"/>
                  </a:cubicBezTo>
                  <a:lnTo>
                    <a:pt x="214789" y="84296"/>
                  </a:lnTo>
                  <a:cubicBezTo>
                    <a:pt x="220504" y="84296"/>
                    <a:pt x="229076" y="84296"/>
                    <a:pt x="233839" y="84296"/>
                  </a:cubicBezTo>
                  <a:lnTo>
                    <a:pt x="248126" y="84296"/>
                  </a:lnTo>
                  <a:cubicBezTo>
                    <a:pt x="252889" y="84296"/>
                    <a:pt x="261461" y="84296"/>
                    <a:pt x="267176" y="84296"/>
                  </a:cubicBezTo>
                  <a:lnTo>
                    <a:pt x="292894" y="84296"/>
                  </a:lnTo>
                  <a:cubicBezTo>
                    <a:pt x="297656" y="84296"/>
                    <a:pt x="306229" y="84296"/>
                    <a:pt x="311944" y="84296"/>
                  </a:cubicBezTo>
                  <a:lnTo>
                    <a:pt x="329089" y="84296"/>
                  </a:lnTo>
                  <a:cubicBezTo>
                    <a:pt x="334804" y="84296"/>
                    <a:pt x="342424" y="84296"/>
                    <a:pt x="348139" y="84296"/>
                  </a:cubicBezTo>
                  <a:lnTo>
                    <a:pt x="370999" y="84296"/>
                  </a:lnTo>
                  <a:cubicBezTo>
                    <a:pt x="376714" y="84296"/>
                    <a:pt x="385286" y="84296"/>
                    <a:pt x="390049" y="84296"/>
                  </a:cubicBezTo>
                  <a:lnTo>
                    <a:pt x="451961" y="84296"/>
                  </a:lnTo>
                  <a:cubicBezTo>
                    <a:pt x="457676" y="84296"/>
                    <a:pt x="461486" y="80486"/>
                    <a:pt x="461486" y="74771"/>
                  </a:cubicBezTo>
                  <a:lnTo>
                    <a:pt x="461486" y="16669"/>
                  </a:lnTo>
                  <a:cubicBezTo>
                    <a:pt x="461486" y="11906"/>
                    <a:pt x="457676" y="7144"/>
                    <a:pt x="451961" y="7144"/>
                  </a:cubicBezTo>
                  <a:lnTo>
                    <a:pt x="390049" y="7144"/>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8" name="任意多边形: 形状 154"/>
            <p:cNvSpPr/>
            <p:nvPr/>
          </p:nvSpPr>
          <p:spPr>
            <a:xfrm>
              <a:off x="5769360" y="53344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 name="任意多边形: 形状 155"/>
            <p:cNvSpPr/>
            <p:nvPr/>
          </p:nvSpPr>
          <p:spPr>
            <a:xfrm>
              <a:off x="602856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 name="任意多边形: 形状 156"/>
            <p:cNvSpPr/>
            <p:nvPr/>
          </p:nvSpPr>
          <p:spPr>
            <a:xfrm>
              <a:off x="649008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 name="任意多边形: 形状 157"/>
            <p:cNvSpPr/>
            <p:nvPr/>
          </p:nvSpPr>
          <p:spPr>
            <a:xfrm>
              <a:off x="674676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 name="任意多边形: 形状 158"/>
            <p:cNvSpPr/>
            <p:nvPr/>
          </p:nvSpPr>
          <p:spPr>
            <a:xfrm>
              <a:off x="700596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 name="任意多边形: 形状 159"/>
            <p:cNvSpPr/>
            <p:nvPr/>
          </p:nvSpPr>
          <p:spPr>
            <a:xfrm>
              <a:off x="649008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 name="任意多边形: 形状 160"/>
            <p:cNvSpPr/>
            <p:nvPr/>
          </p:nvSpPr>
          <p:spPr>
            <a:xfrm>
              <a:off x="674676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5" name="任意多边形: 形状 161"/>
            <p:cNvSpPr/>
            <p:nvPr/>
          </p:nvSpPr>
          <p:spPr>
            <a:xfrm>
              <a:off x="700380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6" name="任意多边形: 形状 162"/>
            <p:cNvSpPr/>
            <p:nvPr/>
          </p:nvSpPr>
          <p:spPr>
            <a:xfrm>
              <a:off x="648756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7" name="任意多边形: 形状 163"/>
            <p:cNvSpPr/>
            <p:nvPr/>
          </p:nvSpPr>
          <p:spPr>
            <a:xfrm>
              <a:off x="674676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8" name="任意多边形: 形状 164"/>
            <p:cNvSpPr/>
            <p:nvPr/>
          </p:nvSpPr>
          <p:spPr>
            <a:xfrm>
              <a:off x="700380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9" name="任意多边形: 形状 165"/>
            <p:cNvSpPr/>
            <p:nvPr/>
          </p:nvSpPr>
          <p:spPr>
            <a:xfrm>
              <a:off x="6746760" y="50428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0" name="任意多边形: 形状 166"/>
            <p:cNvSpPr/>
            <p:nvPr/>
          </p:nvSpPr>
          <p:spPr>
            <a:xfrm>
              <a:off x="750240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1" name="任意多边形: 形状 167"/>
            <p:cNvSpPr/>
            <p:nvPr/>
          </p:nvSpPr>
          <p:spPr>
            <a:xfrm>
              <a:off x="775908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2" name="任意多边形: 形状 168"/>
            <p:cNvSpPr/>
            <p:nvPr/>
          </p:nvSpPr>
          <p:spPr>
            <a:xfrm>
              <a:off x="801828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3" name="任意多边形: 形状 169"/>
            <p:cNvSpPr/>
            <p:nvPr/>
          </p:nvSpPr>
          <p:spPr>
            <a:xfrm>
              <a:off x="750240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4" name="任意多边形: 形状 170"/>
            <p:cNvSpPr/>
            <p:nvPr/>
          </p:nvSpPr>
          <p:spPr>
            <a:xfrm>
              <a:off x="775908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5" name="任意多边形: 形状 171"/>
            <p:cNvSpPr/>
            <p:nvPr/>
          </p:nvSpPr>
          <p:spPr>
            <a:xfrm>
              <a:off x="801828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6" name="任意多边形: 形状 172"/>
            <p:cNvSpPr/>
            <p:nvPr/>
          </p:nvSpPr>
          <p:spPr>
            <a:xfrm>
              <a:off x="7502400" y="50428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7" name="任意多边形: 形状 173"/>
            <p:cNvSpPr/>
            <p:nvPr/>
          </p:nvSpPr>
          <p:spPr>
            <a:xfrm>
              <a:off x="7759080" y="50428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8" name="任意多边形: 形状 174"/>
            <p:cNvSpPr/>
            <p:nvPr/>
          </p:nvSpPr>
          <p:spPr>
            <a:xfrm>
              <a:off x="8016120" y="50428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19" name="任意多边形: 形状 175"/>
            <p:cNvSpPr/>
            <p:nvPr/>
          </p:nvSpPr>
          <p:spPr>
            <a:xfrm>
              <a:off x="750240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0" name="任意多边形: 形状 176"/>
            <p:cNvSpPr/>
            <p:nvPr/>
          </p:nvSpPr>
          <p:spPr>
            <a:xfrm>
              <a:off x="775908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1" name="任意多边形: 形状 177"/>
            <p:cNvSpPr/>
            <p:nvPr/>
          </p:nvSpPr>
          <p:spPr>
            <a:xfrm>
              <a:off x="801612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2" name="任意多边形: 形状 178"/>
            <p:cNvSpPr/>
            <p:nvPr/>
          </p:nvSpPr>
          <p:spPr>
            <a:xfrm>
              <a:off x="7097760" y="4815720"/>
              <a:ext cx="922320" cy="1645560"/>
            </a:xfrm>
            <a:custGeom>
              <a:avLst/>
              <a:gdLst>
                <a:gd name="textAreaLeft" fmla="*/ 0 w 922320"/>
                <a:gd name="textAreaRight" fmla="*/ 922680 w 922320"/>
                <a:gd name="textAreaTop" fmla="*/ 0 h 1645560"/>
                <a:gd name="textAreaBottom" fmla="*/ 1645920 h 1645560"/>
              </a:gdLst>
              <a:ahLst/>
              <a:rect l="textAreaLeft" t="textAreaTop" r="textAreaRight" b="textAreaBottom"/>
              <a:pathLst>
                <a:path w="352425" h="628650">
                  <a:moveTo>
                    <a:pt x="299813" y="621527"/>
                  </a:moveTo>
                  <a:lnTo>
                    <a:pt x="305528" y="550089"/>
                  </a:lnTo>
                  <a:cubicBezTo>
                    <a:pt x="305528" y="550089"/>
                    <a:pt x="341723" y="550089"/>
                    <a:pt x="342676" y="480557"/>
                  </a:cubicBezTo>
                  <a:lnTo>
                    <a:pt x="347438" y="222429"/>
                  </a:lnTo>
                  <a:cubicBezTo>
                    <a:pt x="347438" y="222429"/>
                    <a:pt x="346486" y="200522"/>
                    <a:pt x="323626" y="200522"/>
                  </a:cubicBezTo>
                  <a:cubicBezTo>
                    <a:pt x="305528" y="200522"/>
                    <a:pt x="303623" y="226239"/>
                    <a:pt x="303623" y="226239"/>
                  </a:cubicBezTo>
                  <a:cubicBezTo>
                    <a:pt x="303623" y="226239"/>
                    <a:pt x="297909" y="315774"/>
                    <a:pt x="294098" y="314822"/>
                  </a:cubicBezTo>
                  <a:cubicBezTo>
                    <a:pt x="280763" y="313869"/>
                    <a:pt x="290288" y="106224"/>
                    <a:pt x="289336" y="96699"/>
                  </a:cubicBezTo>
                  <a:cubicBezTo>
                    <a:pt x="289336" y="82412"/>
                    <a:pt x="282669" y="67172"/>
                    <a:pt x="262666" y="66219"/>
                  </a:cubicBezTo>
                  <a:cubicBezTo>
                    <a:pt x="237901" y="66219"/>
                    <a:pt x="235996" y="90984"/>
                    <a:pt x="235996" y="98604"/>
                  </a:cubicBezTo>
                  <a:cubicBezTo>
                    <a:pt x="235043" y="107177"/>
                    <a:pt x="228376" y="304344"/>
                    <a:pt x="222661" y="312917"/>
                  </a:cubicBezTo>
                  <a:cubicBezTo>
                    <a:pt x="216946" y="320537"/>
                    <a:pt x="206468" y="38597"/>
                    <a:pt x="206468" y="38597"/>
                  </a:cubicBezTo>
                  <a:cubicBezTo>
                    <a:pt x="206468" y="38597"/>
                    <a:pt x="208373" y="6212"/>
                    <a:pt x="178846" y="7164"/>
                  </a:cubicBezTo>
                  <a:cubicBezTo>
                    <a:pt x="148366" y="8117"/>
                    <a:pt x="154081" y="34787"/>
                    <a:pt x="154081" y="50027"/>
                  </a:cubicBezTo>
                  <a:cubicBezTo>
                    <a:pt x="154081" y="65267"/>
                    <a:pt x="157891" y="296724"/>
                    <a:pt x="154081" y="306249"/>
                  </a:cubicBezTo>
                  <a:cubicBezTo>
                    <a:pt x="151223" y="315774"/>
                    <a:pt x="125506" y="80507"/>
                    <a:pt x="125506" y="80507"/>
                  </a:cubicBezTo>
                  <a:cubicBezTo>
                    <a:pt x="125506" y="80507"/>
                    <a:pt x="124553" y="54789"/>
                    <a:pt x="100741" y="55742"/>
                  </a:cubicBezTo>
                  <a:cubicBezTo>
                    <a:pt x="75976" y="57647"/>
                    <a:pt x="79786" y="93842"/>
                    <a:pt x="79786" y="93842"/>
                  </a:cubicBezTo>
                  <a:lnTo>
                    <a:pt x="75976" y="309107"/>
                  </a:lnTo>
                  <a:lnTo>
                    <a:pt x="52163" y="241479"/>
                  </a:lnTo>
                  <a:cubicBezTo>
                    <a:pt x="52163" y="241479"/>
                    <a:pt x="43591" y="216714"/>
                    <a:pt x="21684" y="223382"/>
                  </a:cubicBezTo>
                  <a:cubicBezTo>
                    <a:pt x="-224" y="230049"/>
                    <a:pt x="8348" y="260529"/>
                    <a:pt x="11206" y="286247"/>
                  </a:cubicBezTo>
                  <a:cubicBezTo>
                    <a:pt x="14063" y="306249"/>
                    <a:pt x="35018" y="526277"/>
                    <a:pt x="136936" y="531992"/>
                  </a:cubicBezTo>
                  <a:lnTo>
                    <a:pt x="131221" y="605334"/>
                  </a:lnTo>
                  <a:lnTo>
                    <a:pt x="299813" y="621527"/>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3" name="任意多边形: 形状 179"/>
            <p:cNvSpPr/>
            <p:nvPr/>
          </p:nvSpPr>
          <p:spPr>
            <a:xfrm>
              <a:off x="7891200" y="5342040"/>
              <a:ext cx="99720" cy="124560"/>
            </a:xfrm>
            <a:custGeom>
              <a:avLst/>
              <a:gdLst>
                <a:gd name="textAreaLeft" fmla="*/ 0 w 99720"/>
                <a:gd name="textAreaRight" fmla="*/ 100080 w 99720"/>
                <a:gd name="textAreaTop" fmla="*/ 0 h 124560"/>
                <a:gd name="textAreaBottom" fmla="*/ 124920 h 124560"/>
              </a:gdLst>
              <a:ahLst/>
              <a:rect l="textAreaLeft" t="textAreaTop" r="textAreaRight" b="textAreaBottom"/>
              <a:pathLst>
                <a:path w="38100" h="47625">
                  <a:moveTo>
                    <a:pt x="-28865" y="-26930"/>
                  </a:moveTo>
                  <a:cubicBezTo>
                    <a:pt x="-28865" y="-26930"/>
                    <a:pt x="-24102" y="9079"/>
                    <a:pt x="24289" y="7174"/>
                  </a:cubicBezTo>
                  <a:cubicBezTo>
                    <a:pt x="7144" y="6221"/>
                    <a:pt x="8096" y="28129"/>
                    <a:pt x="7144" y="-27882"/>
                  </a:cubicBezTo>
                  <a:cubicBezTo>
                    <a:pt x="7144" y="-27882"/>
                    <a:pt x="21431" y="-15500"/>
                    <a:pt x="-28865" y="-26930"/>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4" name="任意多边形: 形状 180"/>
            <p:cNvSpPr/>
            <p:nvPr/>
          </p:nvSpPr>
          <p:spPr>
            <a:xfrm>
              <a:off x="7714080" y="499536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20292" y="-17347"/>
                  </a:moveTo>
                  <a:cubicBezTo>
                    <a:pt x="-20292" y="-17347"/>
                    <a:pt x="-13625" y="9137"/>
                    <a:pt x="29051" y="7232"/>
                  </a:cubicBezTo>
                  <a:cubicBezTo>
                    <a:pt x="7144" y="5327"/>
                    <a:pt x="8096" y="-30682"/>
                    <a:pt x="7144" y="-18299"/>
                  </a:cubicBezTo>
                  <a:cubicBezTo>
                    <a:pt x="7144" y="-18299"/>
                    <a:pt x="25241" y="-2107"/>
                    <a:pt x="-20292" y="-17347"/>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5" name="任意多边形: 形状 181"/>
            <p:cNvSpPr/>
            <p:nvPr/>
          </p:nvSpPr>
          <p:spPr>
            <a:xfrm>
              <a:off x="7502040" y="484092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20250" y="-18365"/>
                  </a:moveTo>
                  <a:cubicBezTo>
                    <a:pt x="-20250" y="-18365"/>
                    <a:pt x="-16441" y="7166"/>
                    <a:pt x="27188" y="7166"/>
                  </a:cubicBezTo>
                  <a:cubicBezTo>
                    <a:pt x="5281" y="6214"/>
                    <a:pt x="7186" y="-29795"/>
                    <a:pt x="7186" y="-17412"/>
                  </a:cubicBezTo>
                  <a:cubicBezTo>
                    <a:pt x="6233" y="-17412"/>
                    <a:pt x="26236" y="-2172"/>
                    <a:pt x="-20250" y="-18365"/>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6" name="任意多边形: 形状 182"/>
            <p:cNvSpPr/>
            <p:nvPr/>
          </p:nvSpPr>
          <p:spPr>
            <a:xfrm>
              <a:off x="7302600" y="497304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22152" y="-20292"/>
                  </a:moveTo>
                  <a:cubicBezTo>
                    <a:pt x="-22152" y="-20292"/>
                    <a:pt x="-18342" y="7144"/>
                    <a:pt x="26239" y="7144"/>
                  </a:cubicBezTo>
                  <a:cubicBezTo>
                    <a:pt x="5284" y="7144"/>
                    <a:pt x="7189" y="-30770"/>
                    <a:pt x="7189" y="-19340"/>
                  </a:cubicBezTo>
                  <a:cubicBezTo>
                    <a:pt x="7189" y="-19340"/>
                    <a:pt x="26239" y="-5052"/>
                    <a:pt x="-22152" y="-20292"/>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7" name="任意多边形: 形状 183"/>
            <p:cNvSpPr/>
            <p:nvPr/>
          </p:nvSpPr>
          <p:spPr>
            <a:xfrm>
              <a:off x="7107840" y="540036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49305" y="41993"/>
                  </a:moveTo>
                  <a:cubicBezTo>
                    <a:pt x="49305" y="41993"/>
                    <a:pt x="42638" y="1988"/>
                    <a:pt x="20730" y="7703"/>
                  </a:cubicBezTo>
                  <a:cubicBezTo>
                    <a:pt x="-1177" y="12465"/>
                    <a:pt x="9300" y="41040"/>
                    <a:pt x="12158" y="53422"/>
                  </a:cubicBezTo>
                  <a:cubicBezTo>
                    <a:pt x="12158" y="52470"/>
                    <a:pt x="35018" y="62947"/>
                    <a:pt x="49305" y="41993"/>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 name="任意多边形: 形状 184"/>
            <p:cNvSpPr/>
            <p:nvPr/>
          </p:nvSpPr>
          <p:spPr>
            <a:xfrm>
              <a:off x="7350120" y="6284520"/>
              <a:ext cx="648000" cy="573480"/>
            </a:xfrm>
            <a:custGeom>
              <a:avLst/>
              <a:gdLst>
                <a:gd name="textAreaLeft" fmla="*/ 0 w 648000"/>
                <a:gd name="textAreaRight" fmla="*/ 648360 w 648000"/>
                <a:gd name="textAreaTop" fmla="*/ 0 h 573480"/>
                <a:gd name="textAreaBottom" fmla="*/ 573840 h 573480"/>
              </a:gdLst>
              <a:ahLst/>
              <a:rect l="textAreaLeft" t="textAreaTop" r="textAreaRight" b="textAreaBottom"/>
              <a:pathLst>
                <a:path w="247650" h="219075">
                  <a:moveTo>
                    <a:pt x="7144" y="7144"/>
                  </a:moveTo>
                  <a:lnTo>
                    <a:pt x="243364" y="7144"/>
                  </a:lnTo>
                  <a:lnTo>
                    <a:pt x="243364" y="211931"/>
                  </a:lnTo>
                  <a:lnTo>
                    <a:pt x="7144" y="211931"/>
                  </a:lnTo>
                  <a:lnTo>
                    <a:pt x="7144" y="7144"/>
                  </a:lnTo>
                  <a:close/>
                </a:path>
              </a:pathLst>
            </a:custGeom>
            <a:solidFill>
              <a:srgbClr val="5bb8f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9" name="任意多边形: 形状 185"/>
            <p:cNvSpPr/>
            <p:nvPr/>
          </p:nvSpPr>
          <p:spPr>
            <a:xfrm>
              <a:off x="7350120" y="6284520"/>
              <a:ext cx="648000" cy="249120"/>
            </a:xfrm>
            <a:custGeom>
              <a:avLst/>
              <a:gdLst>
                <a:gd name="textAreaLeft" fmla="*/ 0 w 648000"/>
                <a:gd name="textAreaRight" fmla="*/ 648360 w 648000"/>
                <a:gd name="textAreaTop" fmla="*/ 0 h 249120"/>
                <a:gd name="textAreaBottom" fmla="*/ 249480 h 249120"/>
              </a:gdLst>
              <a:ahLst/>
              <a:rect l="textAreaLeft" t="textAreaTop" r="textAreaRight" b="textAreaBottom"/>
              <a:pathLst>
                <a:path w="247650" h="95250">
                  <a:moveTo>
                    <a:pt x="7144" y="7144"/>
                  </a:moveTo>
                  <a:lnTo>
                    <a:pt x="243364" y="7144"/>
                  </a:lnTo>
                  <a:lnTo>
                    <a:pt x="243364" y="91916"/>
                  </a:lnTo>
                  <a:lnTo>
                    <a:pt x="7144" y="91916"/>
                  </a:lnTo>
                  <a:lnTo>
                    <a:pt x="7144" y="7144"/>
                  </a:lnTo>
                  <a:close/>
                </a:path>
              </a:pathLst>
            </a:custGeom>
            <a:solidFill>
              <a:srgbClr val="26a0d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 name="任意多边形: 形状 186"/>
            <p:cNvSpPr/>
            <p:nvPr/>
          </p:nvSpPr>
          <p:spPr>
            <a:xfrm>
              <a:off x="7833960" y="634932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2197" y="25241"/>
                  </a:moveTo>
                  <a:cubicBezTo>
                    <a:pt x="-22197" y="-30300"/>
                    <a:pt x="-30300" y="-22197"/>
                    <a:pt x="25241" y="-22197"/>
                  </a:cubicBezTo>
                  <a:cubicBezTo>
                    <a:pt x="15246" y="-22197"/>
                    <a:pt x="7144" y="-30300"/>
                    <a:pt x="7144" y="25241"/>
                  </a:cubicBezTo>
                  <a:cubicBezTo>
                    <a:pt x="7144" y="15246"/>
                    <a:pt x="15246" y="7144"/>
                    <a:pt x="25241" y="7144"/>
                  </a:cubicBezTo>
                  <a:cubicBezTo>
                    <a:pt x="-30300" y="7144"/>
                    <a:pt x="-22197" y="15246"/>
                    <a:pt x="-22197" y="25241"/>
                  </a:cubicBezTo>
                  <a:close/>
                </a:path>
              </a:pathLst>
            </a:custGeom>
            <a:solidFill>
              <a:srgbClr val="b4e5f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1" name="任意多边形: 形状 187"/>
            <p:cNvSpPr/>
            <p:nvPr/>
          </p:nvSpPr>
          <p:spPr>
            <a:xfrm>
              <a:off x="4178520" y="4815720"/>
              <a:ext cx="922320" cy="1645560"/>
            </a:xfrm>
            <a:custGeom>
              <a:avLst/>
              <a:gdLst>
                <a:gd name="textAreaLeft" fmla="*/ 0 w 922320"/>
                <a:gd name="textAreaRight" fmla="*/ 922680 w 922320"/>
                <a:gd name="textAreaTop" fmla="*/ 0 h 1645560"/>
                <a:gd name="textAreaBottom" fmla="*/ 1645920 h 1645560"/>
              </a:gdLst>
              <a:ahLst/>
              <a:rect l="textAreaLeft" t="textAreaTop" r="textAreaRight" b="textAreaBottom"/>
              <a:pathLst>
                <a:path w="352425" h="628650">
                  <a:moveTo>
                    <a:pt x="54769" y="621527"/>
                  </a:moveTo>
                  <a:lnTo>
                    <a:pt x="49054" y="550089"/>
                  </a:lnTo>
                  <a:cubicBezTo>
                    <a:pt x="49054" y="550089"/>
                    <a:pt x="12859" y="550089"/>
                    <a:pt x="11906" y="480557"/>
                  </a:cubicBezTo>
                  <a:lnTo>
                    <a:pt x="7144" y="222429"/>
                  </a:lnTo>
                  <a:cubicBezTo>
                    <a:pt x="7144" y="222429"/>
                    <a:pt x="8096" y="200522"/>
                    <a:pt x="30956" y="200522"/>
                  </a:cubicBezTo>
                  <a:cubicBezTo>
                    <a:pt x="49054" y="200522"/>
                    <a:pt x="50959" y="226239"/>
                    <a:pt x="50959" y="226239"/>
                  </a:cubicBezTo>
                  <a:cubicBezTo>
                    <a:pt x="50959" y="226239"/>
                    <a:pt x="56674" y="315774"/>
                    <a:pt x="60484" y="314822"/>
                  </a:cubicBezTo>
                  <a:cubicBezTo>
                    <a:pt x="73819" y="313869"/>
                    <a:pt x="64294" y="106224"/>
                    <a:pt x="65246" y="96699"/>
                  </a:cubicBezTo>
                  <a:cubicBezTo>
                    <a:pt x="65246" y="82412"/>
                    <a:pt x="71914" y="67172"/>
                    <a:pt x="91916" y="66219"/>
                  </a:cubicBezTo>
                  <a:cubicBezTo>
                    <a:pt x="116681" y="66219"/>
                    <a:pt x="118586" y="90984"/>
                    <a:pt x="118586" y="98604"/>
                  </a:cubicBezTo>
                  <a:cubicBezTo>
                    <a:pt x="119539" y="107177"/>
                    <a:pt x="126206" y="304344"/>
                    <a:pt x="131921" y="312917"/>
                  </a:cubicBezTo>
                  <a:cubicBezTo>
                    <a:pt x="137636" y="320537"/>
                    <a:pt x="148114" y="38597"/>
                    <a:pt x="148114" y="38597"/>
                  </a:cubicBezTo>
                  <a:cubicBezTo>
                    <a:pt x="148114" y="38597"/>
                    <a:pt x="146209" y="6212"/>
                    <a:pt x="175736" y="7164"/>
                  </a:cubicBezTo>
                  <a:cubicBezTo>
                    <a:pt x="206216" y="8117"/>
                    <a:pt x="200501" y="34787"/>
                    <a:pt x="200501" y="50027"/>
                  </a:cubicBezTo>
                  <a:cubicBezTo>
                    <a:pt x="200501" y="65267"/>
                    <a:pt x="196691" y="296724"/>
                    <a:pt x="200501" y="306249"/>
                  </a:cubicBezTo>
                  <a:cubicBezTo>
                    <a:pt x="203359" y="315774"/>
                    <a:pt x="229076" y="80507"/>
                    <a:pt x="229076" y="80507"/>
                  </a:cubicBezTo>
                  <a:cubicBezTo>
                    <a:pt x="229076" y="80507"/>
                    <a:pt x="230029" y="54789"/>
                    <a:pt x="253841" y="55742"/>
                  </a:cubicBezTo>
                  <a:cubicBezTo>
                    <a:pt x="278606" y="57647"/>
                    <a:pt x="274796" y="93842"/>
                    <a:pt x="274796" y="93842"/>
                  </a:cubicBezTo>
                  <a:lnTo>
                    <a:pt x="278606" y="309107"/>
                  </a:lnTo>
                  <a:lnTo>
                    <a:pt x="302419" y="241479"/>
                  </a:lnTo>
                  <a:cubicBezTo>
                    <a:pt x="302419" y="241479"/>
                    <a:pt x="310991" y="216714"/>
                    <a:pt x="332899" y="223382"/>
                  </a:cubicBezTo>
                  <a:cubicBezTo>
                    <a:pt x="354806" y="230049"/>
                    <a:pt x="346234" y="260529"/>
                    <a:pt x="343376" y="286247"/>
                  </a:cubicBezTo>
                  <a:cubicBezTo>
                    <a:pt x="340519" y="306249"/>
                    <a:pt x="319564" y="526277"/>
                    <a:pt x="217646" y="531992"/>
                  </a:cubicBezTo>
                  <a:lnTo>
                    <a:pt x="223361" y="605334"/>
                  </a:lnTo>
                  <a:lnTo>
                    <a:pt x="54769" y="621527"/>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2" name="任意多边形: 形状 188"/>
            <p:cNvSpPr/>
            <p:nvPr/>
          </p:nvSpPr>
          <p:spPr>
            <a:xfrm>
              <a:off x="4196880" y="5342040"/>
              <a:ext cx="99720" cy="124560"/>
            </a:xfrm>
            <a:custGeom>
              <a:avLst/>
              <a:gdLst>
                <a:gd name="textAreaLeft" fmla="*/ 0 w 99720"/>
                <a:gd name="textAreaRight" fmla="*/ 100080 w 99720"/>
                <a:gd name="textAreaTop" fmla="*/ 0 h 124560"/>
                <a:gd name="textAreaBottom" fmla="*/ 124920 h 124560"/>
              </a:gdLst>
              <a:ahLst/>
              <a:rect l="textAreaLeft" t="textAreaTop" r="textAreaRight" b="textAreaBottom"/>
              <a:pathLst>
                <a:path w="38100" h="47625">
                  <a:moveTo>
                    <a:pt x="7751" y="-26930"/>
                  </a:moveTo>
                  <a:cubicBezTo>
                    <a:pt x="7751" y="-26930"/>
                    <a:pt x="2989" y="9079"/>
                    <a:pt x="20134" y="7174"/>
                  </a:cubicBezTo>
                  <a:cubicBezTo>
                    <a:pt x="-28257" y="6221"/>
                    <a:pt x="-29210" y="28129"/>
                    <a:pt x="-28257" y="-27882"/>
                  </a:cubicBezTo>
                  <a:cubicBezTo>
                    <a:pt x="-28257" y="-27882"/>
                    <a:pt x="22991" y="-15500"/>
                    <a:pt x="7751" y="-26930"/>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 name="任意多边形: 形状 189"/>
            <p:cNvSpPr/>
            <p:nvPr/>
          </p:nvSpPr>
          <p:spPr>
            <a:xfrm>
              <a:off x="4350960" y="499536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8049" y="-17347"/>
                  </a:moveTo>
                  <a:cubicBezTo>
                    <a:pt x="8049" y="-17347"/>
                    <a:pt x="1381" y="9137"/>
                    <a:pt x="24241" y="7232"/>
                  </a:cubicBezTo>
                  <a:cubicBezTo>
                    <a:pt x="-19387" y="5327"/>
                    <a:pt x="-20340" y="-30682"/>
                    <a:pt x="-19387" y="-18299"/>
                  </a:cubicBezTo>
                  <a:cubicBezTo>
                    <a:pt x="-19387" y="-18299"/>
                    <a:pt x="28051" y="-2107"/>
                    <a:pt x="8049" y="-17347"/>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4" name="任意多边形: 形状 190"/>
            <p:cNvSpPr/>
            <p:nvPr/>
          </p:nvSpPr>
          <p:spPr>
            <a:xfrm>
              <a:off x="4564440" y="484092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7397" y="-18365"/>
                  </a:moveTo>
                  <a:cubicBezTo>
                    <a:pt x="7397" y="-18365"/>
                    <a:pt x="3587" y="7166"/>
                    <a:pt x="25495" y="7166"/>
                  </a:cubicBezTo>
                  <a:cubicBezTo>
                    <a:pt x="-18134" y="6214"/>
                    <a:pt x="-20038" y="-29795"/>
                    <a:pt x="-20038" y="-17412"/>
                  </a:cubicBezTo>
                  <a:cubicBezTo>
                    <a:pt x="-19086" y="-17412"/>
                    <a:pt x="26448" y="-2172"/>
                    <a:pt x="7397" y="-18365"/>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5" name="任意多边形: 形状 191"/>
            <p:cNvSpPr/>
            <p:nvPr/>
          </p:nvSpPr>
          <p:spPr>
            <a:xfrm>
              <a:off x="4768920" y="497304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7415" y="-20292"/>
                  </a:moveTo>
                  <a:cubicBezTo>
                    <a:pt x="7415" y="-20292"/>
                    <a:pt x="3605" y="7144"/>
                    <a:pt x="24560" y="7144"/>
                  </a:cubicBezTo>
                  <a:cubicBezTo>
                    <a:pt x="-20021" y="7144"/>
                    <a:pt x="-21926" y="-30770"/>
                    <a:pt x="-21926" y="-19340"/>
                  </a:cubicBezTo>
                  <a:cubicBezTo>
                    <a:pt x="-21926" y="-19340"/>
                    <a:pt x="24560" y="-5052"/>
                    <a:pt x="7415" y="-20292"/>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 name="任意多边形: 形状 192"/>
            <p:cNvSpPr/>
            <p:nvPr/>
          </p:nvSpPr>
          <p:spPr>
            <a:xfrm>
              <a:off x="4949280" y="540036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7144" y="-23543"/>
                  </a:moveTo>
                  <a:cubicBezTo>
                    <a:pt x="7144" y="-23543"/>
                    <a:pt x="13811" y="1988"/>
                    <a:pt x="-29817" y="7703"/>
                  </a:cubicBezTo>
                  <a:cubicBezTo>
                    <a:pt x="-7910" y="12465"/>
                    <a:pt x="-18387" y="-24496"/>
                    <a:pt x="-21245" y="-12114"/>
                  </a:cubicBezTo>
                  <a:cubicBezTo>
                    <a:pt x="-21245" y="-13066"/>
                    <a:pt x="21431" y="-2589"/>
                    <a:pt x="7144" y="-23543"/>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7" name="任意多边形: 形状 193"/>
            <p:cNvSpPr/>
            <p:nvPr/>
          </p:nvSpPr>
          <p:spPr>
            <a:xfrm>
              <a:off x="4196160" y="6284520"/>
              <a:ext cx="648000" cy="573480"/>
            </a:xfrm>
            <a:custGeom>
              <a:avLst/>
              <a:gdLst>
                <a:gd name="textAreaLeft" fmla="*/ 0 w 648000"/>
                <a:gd name="textAreaRight" fmla="*/ 648360 w 648000"/>
                <a:gd name="textAreaTop" fmla="*/ 0 h 573480"/>
                <a:gd name="textAreaBottom" fmla="*/ 573840 h 573480"/>
              </a:gdLst>
              <a:ahLst/>
              <a:rect l="textAreaLeft" t="textAreaTop" r="textAreaRight" b="textAreaBottom"/>
              <a:pathLst>
                <a:path w="247650" h="219075">
                  <a:moveTo>
                    <a:pt x="7144" y="7144"/>
                  </a:moveTo>
                  <a:lnTo>
                    <a:pt x="243364" y="7144"/>
                  </a:lnTo>
                  <a:lnTo>
                    <a:pt x="243364" y="211931"/>
                  </a:lnTo>
                  <a:lnTo>
                    <a:pt x="7144" y="211931"/>
                  </a:lnTo>
                  <a:lnTo>
                    <a:pt x="7144" y="7144"/>
                  </a:lnTo>
                  <a:close/>
                </a:path>
              </a:pathLst>
            </a:custGeom>
            <a:solidFill>
              <a:srgbClr val="5bb8f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8" name="任意多边形: 形状 194"/>
            <p:cNvSpPr/>
            <p:nvPr/>
          </p:nvSpPr>
          <p:spPr>
            <a:xfrm>
              <a:off x="4196160" y="6284520"/>
              <a:ext cx="648000" cy="249120"/>
            </a:xfrm>
            <a:custGeom>
              <a:avLst/>
              <a:gdLst>
                <a:gd name="textAreaLeft" fmla="*/ 0 w 648000"/>
                <a:gd name="textAreaRight" fmla="*/ 648360 w 648000"/>
                <a:gd name="textAreaTop" fmla="*/ 0 h 249120"/>
                <a:gd name="textAreaBottom" fmla="*/ 249480 h 249120"/>
              </a:gdLst>
              <a:ahLst/>
              <a:rect l="textAreaLeft" t="textAreaTop" r="textAreaRight" b="textAreaBottom"/>
              <a:pathLst>
                <a:path w="247650" h="95250">
                  <a:moveTo>
                    <a:pt x="7144" y="7144"/>
                  </a:moveTo>
                  <a:lnTo>
                    <a:pt x="243364" y="7144"/>
                  </a:lnTo>
                  <a:lnTo>
                    <a:pt x="243364" y="91916"/>
                  </a:lnTo>
                  <a:lnTo>
                    <a:pt x="7144" y="91916"/>
                  </a:lnTo>
                  <a:lnTo>
                    <a:pt x="7144" y="7144"/>
                  </a:lnTo>
                  <a:close/>
                </a:path>
              </a:pathLst>
            </a:custGeom>
            <a:solidFill>
              <a:srgbClr val="26a0d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 name="任意多边形: 形状 195"/>
            <p:cNvSpPr/>
            <p:nvPr/>
          </p:nvSpPr>
          <p:spPr>
            <a:xfrm>
              <a:off x="4238640" y="634932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7144" y="25241"/>
                  </a:moveTo>
                  <a:cubicBezTo>
                    <a:pt x="7144" y="-30770"/>
                    <a:pt x="14764" y="-22197"/>
                    <a:pt x="25241" y="-22197"/>
                  </a:cubicBezTo>
                  <a:cubicBezTo>
                    <a:pt x="-30770" y="-22197"/>
                    <a:pt x="-22197" y="-29817"/>
                    <a:pt x="-22197" y="25241"/>
                  </a:cubicBezTo>
                  <a:cubicBezTo>
                    <a:pt x="-22197" y="14764"/>
                    <a:pt x="-29817" y="7144"/>
                    <a:pt x="25241" y="7144"/>
                  </a:cubicBezTo>
                  <a:cubicBezTo>
                    <a:pt x="14764" y="7144"/>
                    <a:pt x="7144" y="14764"/>
                    <a:pt x="7144" y="25241"/>
                  </a:cubicBezTo>
                  <a:close/>
                </a:path>
              </a:pathLst>
            </a:custGeom>
            <a:solidFill>
              <a:srgbClr val="b4e5f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sp>
        <p:nvSpPr>
          <p:cNvPr id="240" name="PA__6"/>
          <p:cNvSpPr/>
          <p:nvPr/>
        </p:nvSpPr>
        <p:spPr>
          <a:xfrm>
            <a:off x="3613320" y="3314880"/>
            <a:ext cx="51116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造字工房尚雅（非商用）常规体"/>
                <a:ea typeface="造字工房尚雅（非商用）常规体"/>
              </a:rPr>
              <a:t>TEAM WORK</a:t>
            </a:r>
            <a:endParaRPr b="0" lang="en-US" sz="3600" spc="-1" strike="noStrike">
              <a:solidFill>
                <a:srgbClr val="262626"/>
              </a:solidFill>
              <a:latin typeface="Arial"/>
            </a:endParaRPr>
          </a:p>
        </p:txBody>
      </p:sp>
      <p:sp>
        <p:nvSpPr>
          <p:cNvPr id="241" name="PA_矩形 208"/>
          <p:cNvSpPr/>
          <p:nvPr/>
        </p:nvSpPr>
        <p:spPr>
          <a:xfrm>
            <a:off x="2324160" y="2128680"/>
            <a:ext cx="7075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62626"/>
                </a:solidFill>
                <a:latin typeface="华文琥珀"/>
                <a:ea typeface="华文琥珀"/>
              </a:rPr>
              <a:t>个人所得税专项附加扣除办法</a:t>
            </a:r>
            <a:endParaRPr b="0" lang="en-US" sz="4000" spc="-1" strike="noStrike">
              <a:solidFill>
                <a:srgbClr val="26262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62626"/>
                </a:solidFill>
                <a:latin typeface="华文琥珀"/>
                <a:ea typeface="华文琥珀"/>
              </a:rPr>
              <a:t>和最新精神</a:t>
            </a:r>
            <a:endParaRPr b="0" lang="en-US" sz="4000" spc="-1" strike="noStrike">
              <a:solidFill>
                <a:srgbClr val="262626"/>
              </a:solidFill>
              <a:latin typeface="Arial"/>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2200"/>
                                  </p:stCondLst>
                                  <p:childTnLst>
                                    <p:set>
                                      <p:cBhvr>
                                        <p:cTn id="6" dur="1" fill="hold">
                                          <p:stCondLst>
                                            <p:cond delay="0"/>
                                          </p:stCondLst>
                                        </p:cTn>
                                        <p:tgtEl>
                                          <p:spTgt spid="240"/>
                                        </p:tgtEl>
                                        <p:attrNameLst>
                                          <p:attrName>style.visibility</p:attrName>
                                        </p:attrNameLst>
                                      </p:cBhvr>
                                      <p:to>
                                        <p:strVal val="visible"/>
                                      </p:to>
                                    </p:set>
                                    <p:animEffect filter="fade" transition="in">
                                      <p:cBhvr additive="repl">
                                        <p:cTn id="7" dur="750"/>
                                        <p:tgtEl>
                                          <p:spTgt spid="240"/>
                                        </p:tgtEl>
                                      </p:cBhvr>
                                    </p:animEffect>
                                    <p:anim calcmode="lin" valueType="num">
                                      <p:cBhvr additive="repl">
                                        <p:cTn id="8" dur="750" fill="hold"/>
                                        <p:tgtEl>
                                          <p:spTgt spid="240"/>
                                        </p:tgtEl>
                                        <p:attrNameLst>
                                          <p:attrName>ppt_x</p:attrName>
                                        </p:attrNameLst>
                                      </p:cBhvr>
                                      <p:tavLst>
                                        <p:tav tm="0">
                                          <p:val>
                                            <p:strVal val="#ppt_x"/>
                                          </p:val>
                                        </p:tav>
                                        <p:tav tm="100000">
                                          <p:val>
                                            <p:strVal val="#ppt_x"/>
                                          </p:val>
                                        </p:tav>
                                      </p:tavLst>
                                    </p:anim>
                                    <p:anim calcmode="lin" valueType="num">
                                      <p:cBhvr additive="repl">
                                        <p:cTn id="9" dur="750" fill="hold"/>
                                        <p:tgtEl>
                                          <p:spTgt spid="240"/>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2950"/>
                            </p:stCondLst>
                            <p:childTnLst>
                              <p:par>
                                <p:cTn id="11" nodeType="afterEffect" fill="hold" presetClass="entr" presetID="41">
                                  <p:stCondLst>
                                    <p:cond delay="0"/>
                                  </p:stCondLst>
                                  <p:iterate type="lt">
                                    <p:tmAbs val="50"/>
                                  </p:iterate>
                                  <p:childTnLst>
                                    <p:set>
                                      <p:cBhvr>
                                        <p:cTn id="12" dur="1" fill="hold">
                                          <p:stCondLst>
                                            <p:cond delay="0"/>
                                          </p:stCondLst>
                                        </p:cTn>
                                        <p:tgtEl>
                                          <p:spTgt spid="241">
                                            <p:txEl>
                                              <p:pRg st="0" end="0"/>
                                            </p:txEl>
                                          </p:spTgt>
                                        </p:tgtEl>
                                        <p:attrNameLst>
                                          <p:attrName>style.visibility</p:attrName>
                                        </p:attrNameLst>
                                      </p:cBhvr>
                                      <p:to>
                                        <p:strVal val="visible"/>
                                      </p:to>
                                    </p:set>
                                    <p:anim calcmode="lin" valueType="num">
                                      <p:cBhvr additive="repl">
                                        <p:cTn id="13" dur="500" fill="hold"/>
                                        <p:tgtEl>
                                          <p:spTgt spid="2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 dur="500" fill="hold"/>
                                        <p:tgtEl>
                                          <p:spTgt spid="241">
                                            <p:txEl>
                                              <p:pRg st="0" end="0"/>
                                            </p:txEl>
                                          </p:spTgt>
                                        </p:tgtEl>
                                        <p:attrNameLst>
                                          <p:attrName>ppt_y</p:attrName>
                                        </p:attrNameLst>
                                      </p:cBhvr>
                                      <p:tavLst>
                                        <p:tav tm="0">
                                          <p:val>
                                            <p:strVal val="#ppt_y"/>
                                          </p:val>
                                        </p:tav>
                                        <p:tav tm="100000">
                                          <p:val>
                                            <p:strVal val="#ppt_y"/>
                                          </p:val>
                                        </p:tav>
                                      </p:tavLst>
                                    </p:anim>
                                    <p:anim calcmode="lin" valueType="num">
                                      <p:cBhvr additive="repl">
                                        <p:cTn id="15" dur="500" fill="hold"/>
                                        <p:tgtEl>
                                          <p:spTgt spid="2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 dur="500" fill="hold"/>
                                        <p:tgtEl>
                                          <p:spTgt spid="2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 dur="500"/>
                                        <p:tgtEl>
                                          <p:spTgt spid="241">
                                            <p:txEl>
                                              <p:pRg st="0" end="0"/>
                                            </p:txEl>
                                          </p:spTgt>
                                        </p:tgtEl>
                                      </p:cBhvr>
                                    </p:animEffect>
                                  </p:childTnLst>
                                </p:cTn>
                              </p:par>
                            </p:childTnLst>
                          </p:cTn>
                        </p:par>
                        <p:par>
                          <p:cTn id="18" nodeType="afterEffect" fill="hold">
                            <p:stCondLst>
                              <p:cond delay="4050"/>
                            </p:stCondLst>
                            <p:childTnLst>
                              <p:par>
                                <p:cTn id="19" nodeType="afterEffect" fill="hold" presetClass="entr" presetID="41">
                                  <p:stCondLst>
                                    <p:cond delay="0"/>
                                  </p:stCondLst>
                                  <p:iterate type="lt">
                                    <p:tmAbs val="50"/>
                                  </p:iterate>
                                  <p:childTnLst>
                                    <p:set>
                                      <p:cBhvr>
                                        <p:cTn id="20" dur="1" fill="hold">
                                          <p:stCondLst>
                                            <p:cond delay="0"/>
                                          </p:stCondLst>
                                        </p:cTn>
                                        <p:tgtEl>
                                          <p:spTgt spid="241">
                                            <p:txEl>
                                              <p:pRg st="1" end="1"/>
                                            </p:txEl>
                                          </p:spTgt>
                                        </p:tgtEl>
                                        <p:attrNameLst>
                                          <p:attrName>style.visibility</p:attrName>
                                        </p:attrNameLst>
                                      </p:cBhvr>
                                      <p:to>
                                        <p:strVal val="visible"/>
                                      </p:to>
                                    </p:set>
                                    <p:anim calcmode="lin" valueType="num">
                                      <p:cBhvr additive="repl">
                                        <p:cTn id="21" dur="500" fill="hold"/>
                                        <p:tgtEl>
                                          <p:spTgt spid="24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241">
                                            <p:txEl>
                                              <p:pRg st="1" end="1"/>
                                            </p:txEl>
                                          </p:spTgt>
                                        </p:tgtEl>
                                        <p:attrNameLst>
                                          <p:attrName>ppt_y</p:attrName>
                                        </p:attrNameLst>
                                      </p:cBhvr>
                                      <p:tavLst>
                                        <p:tav tm="0">
                                          <p:val>
                                            <p:strVal val="#ppt_y"/>
                                          </p:val>
                                        </p:tav>
                                        <p:tav tm="100000">
                                          <p:val>
                                            <p:strVal val="#ppt_y"/>
                                          </p:val>
                                        </p:tav>
                                      </p:tavLst>
                                    </p:anim>
                                    <p:anim calcmode="lin" valueType="num">
                                      <p:cBhvr additive="repl">
                                        <p:cTn id="23" dur="500" fill="hold"/>
                                        <p:tgtEl>
                                          <p:spTgt spid="24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24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2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8" name="图片 1" descr=""/>
          <p:cNvPicPr/>
          <p:nvPr/>
        </p:nvPicPr>
        <p:blipFill>
          <a:blip r:embed="rId1"/>
          <a:stretch/>
        </p:blipFill>
        <p:spPr>
          <a:xfrm>
            <a:off x="4981680" y="266760"/>
            <a:ext cx="1749240" cy="1326960"/>
          </a:xfrm>
          <a:prstGeom prst="rect">
            <a:avLst/>
          </a:prstGeom>
          <a:ln w="0">
            <a:noFill/>
          </a:ln>
        </p:spPr>
      </p:pic>
      <p:pic>
        <p:nvPicPr>
          <p:cNvPr id="1519" name="图片 2" descr=""/>
          <p:cNvPicPr/>
          <p:nvPr/>
        </p:nvPicPr>
        <p:blipFill>
          <a:blip r:embed="rId2"/>
          <a:stretch/>
        </p:blipFill>
        <p:spPr>
          <a:xfrm>
            <a:off x="6730920" y="1720800"/>
            <a:ext cx="3643560" cy="4330800"/>
          </a:xfrm>
          <a:prstGeom prst="rect">
            <a:avLst/>
          </a:prstGeom>
          <a:ln w="0">
            <a:noFill/>
          </a:ln>
        </p:spPr>
      </p:pic>
      <p:sp>
        <p:nvSpPr>
          <p:cNvPr id="1520" name="TextBox 19"/>
          <p:cNvSpPr/>
          <p:nvPr/>
        </p:nvSpPr>
        <p:spPr>
          <a:xfrm>
            <a:off x="957240" y="3990960"/>
            <a:ext cx="1887480" cy="549000"/>
          </a:xfrm>
          <a:prstGeom prst="rect">
            <a:avLst/>
          </a:prstGeom>
          <a:noFill/>
          <a:ln w="0">
            <a:noFill/>
          </a:ln>
        </p:spPr>
        <p:style>
          <a:lnRef idx="0"/>
          <a:fillRef idx="0"/>
          <a:effectRef idx="0"/>
          <a:fontRef idx="minor"/>
        </p:style>
        <p:txBody>
          <a:bodyPr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3</a:t>
            </a:r>
            <a:r>
              <a:rPr b="0" lang="zh-CN" sz="2400" spc="-1" strike="noStrike">
                <a:solidFill>
                  <a:srgbClr val="ff0000"/>
                </a:solidFill>
                <a:latin typeface="造字工房尚雅（非商用）常规体"/>
                <a:ea typeface="造字工房尚雅（非商用）常规体"/>
              </a:rPr>
              <a:t>、扣除凭证</a:t>
            </a:r>
            <a:endParaRPr b="0" lang="en-US" sz="2400" spc="-1" strike="noStrike">
              <a:solidFill>
                <a:srgbClr val="262626"/>
              </a:solidFill>
              <a:latin typeface="Arial"/>
            </a:endParaRPr>
          </a:p>
        </p:txBody>
      </p:sp>
      <p:sp>
        <p:nvSpPr>
          <p:cNvPr id="1521" name="矩形 12"/>
          <p:cNvSpPr/>
          <p:nvPr/>
        </p:nvSpPr>
        <p:spPr>
          <a:xfrm>
            <a:off x="949320" y="1827360"/>
            <a:ext cx="4881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2</a:t>
            </a:r>
            <a:r>
              <a:rPr b="0" lang="zh-CN" sz="2400" spc="-1" strike="noStrike">
                <a:solidFill>
                  <a:srgbClr val="ff0000"/>
                </a:solidFill>
                <a:latin typeface="造字工房尚雅（非商用）常规体"/>
                <a:ea typeface="造字工房尚雅（非商用）常规体"/>
              </a:rPr>
              <a:t>、扣除方式</a:t>
            </a:r>
            <a:endParaRPr b="0" lang="en-US" sz="2400" spc="-1" strike="noStrike">
              <a:solidFill>
                <a:srgbClr val="262626"/>
              </a:solidFill>
              <a:latin typeface="Arial"/>
            </a:endParaRPr>
          </a:p>
        </p:txBody>
      </p:sp>
      <p:sp>
        <p:nvSpPr>
          <p:cNvPr id="1522" name="矩形 13"/>
          <p:cNvSpPr/>
          <p:nvPr/>
        </p:nvSpPr>
        <p:spPr>
          <a:xfrm>
            <a:off x="949320" y="2558880"/>
            <a:ext cx="5843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个人接受同一学历教育事项，符合规定扣除条件的，该项教育支出可以由其父母按照子女教育支出扣除，也可以由本人按照继续教育支出扣除，但不得同时</a:t>
            </a:r>
            <a:endParaRPr b="0" lang="en-US" sz="2000" spc="-1" strike="noStrike">
              <a:solidFill>
                <a:srgbClr val="26262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扣除。</a:t>
            </a:r>
            <a:endParaRPr b="0" lang="en-US" sz="2000" spc="-1" strike="noStrike">
              <a:solidFill>
                <a:srgbClr val="262626"/>
              </a:solidFill>
              <a:latin typeface="Arial"/>
            </a:endParaRPr>
          </a:p>
        </p:txBody>
      </p:sp>
      <p:sp>
        <p:nvSpPr>
          <p:cNvPr id="1523" name="矩形 14"/>
          <p:cNvSpPr/>
          <p:nvPr/>
        </p:nvSpPr>
        <p:spPr>
          <a:xfrm>
            <a:off x="1054080" y="4646520"/>
            <a:ext cx="8089920" cy="1102680"/>
          </a:xfrm>
          <a:prstGeom prst="rect">
            <a:avLst/>
          </a:prstGeom>
          <a:noFill/>
          <a:ln w="0">
            <a:noFill/>
          </a:ln>
        </p:spPr>
        <p:style>
          <a:lnRef idx="0"/>
          <a:fillRef idx="0"/>
          <a:effectRef idx="0"/>
          <a:fontRef idx="minor"/>
        </p:style>
        <p:txBody>
          <a:bodyPr lIns="90000" rIns="90000" tIns="46800" bIns="46800" anchor="t">
            <a:spAutoFit/>
          </a:bodyPr>
          <a:p>
            <a:pP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扣除时，不需要另行提供资料。居民纳税人应留存</a:t>
            </a: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继续教育或职业资格证书，留存财政部门有关继续</a:t>
            </a: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教育收费财政票据，以备税务机关核查。</a:t>
            </a:r>
            <a:endParaRPr b="0" lang="en-US" sz="2000" spc="-1" strike="noStrike">
              <a:solidFill>
                <a:srgbClr val="262626"/>
              </a:solidFill>
              <a:latin typeface="Arial"/>
            </a:endParaRPr>
          </a:p>
        </p:txBody>
      </p:sp>
    </p:spTree>
  </p:cSld>
  <p:transition spd="slow">
    <p:random/>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2" presetSubtype="8">
                                  <p:stCondLst>
                                    <p:cond delay="0"/>
                                  </p:stCondLst>
                                  <p:childTnLst>
                                    <p:set>
                                      <p:cBhvr>
                                        <p:cTn id="284" dur="1" fill="hold">
                                          <p:stCondLst>
                                            <p:cond delay="0"/>
                                          </p:stCondLst>
                                        </p:cTn>
                                        <p:tgtEl>
                                          <p:spTgt spid="1518"/>
                                        </p:tgtEl>
                                        <p:attrNameLst>
                                          <p:attrName>style.visibility</p:attrName>
                                        </p:attrNameLst>
                                      </p:cBhvr>
                                      <p:to>
                                        <p:strVal val="visible"/>
                                      </p:to>
                                    </p:set>
                                    <p:anim calcmode="lin" valueType="num">
                                      <p:cBhvr additive="base">
                                        <p:cTn id="285" dur="500" fill="hold"/>
                                        <p:tgtEl>
                                          <p:spTgt spid="1518"/>
                                        </p:tgtEl>
                                        <p:attrNameLst>
                                          <p:attrName>ppt_x</p:attrName>
                                        </p:attrNameLst>
                                      </p:cBhvr>
                                      <p:tavLst>
                                        <p:tav tm="0">
                                          <p:val>
                                            <p:strVal val="0-#ppt_w/2"/>
                                          </p:val>
                                        </p:tav>
                                        <p:tav tm="100000">
                                          <p:val>
                                            <p:strVal val="#ppt_x"/>
                                          </p:val>
                                        </p:tav>
                                      </p:tavLst>
                                    </p:anim>
                                    <p:anim calcmode="lin" valueType="num">
                                      <p:cBhvr additive="base">
                                        <p:cTn id="286" dur="500" fill="hold"/>
                                        <p:tgtEl>
                                          <p:spTgt spid="1518"/>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500"/>
                            </p:stCondLst>
                            <p:childTnLst>
                              <p:par>
                                <p:cTn id="288" nodeType="afterEffect" fill="hold" presetClass="entr" presetID="53" presetSubtype="16">
                                  <p:stCondLst>
                                    <p:cond delay="0"/>
                                  </p:stCondLst>
                                  <p:iterate type="lt">
                                    <p:tmAbs val="50"/>
                                  </p:iterate>
                                  <p:childTnLst>
                                    <p:set>
                                      <p:cBhvr>
                                        <p:cTn id="289" dur="1" fill="hold">
                                          <p:stCondLst>
                                            <p:cond delay="0"/>
                                          </p:stCondLst>
                                        </p:cTn>
                                        <p:tgtEl>
                                          <p:spTgt spid="1521"/>
                                        </p:tgtEl>
                                        <p:attrNameLst>
                                          <p:attrName>style.visibility</p:attrName>
                                        </p:attrNameLst>
                                      </p:cBhvr>
                                      <p:to>
                                        <p:strVal val="visible"/>
                                      </p:to>
                                    </p:set>
                                    <p:anim calcmode="lin" valueType="num">
                                      <p:cBhvr additive="repl">
                                        <p:cTn id="290" dur="500" fill="hold"/>
                                        <p:tgtEl>
                                          <p:spTgt spid="1521"/>
                                        </p:tgtEl>
                                        <p:attrNameLst>
                                          <p:attrName>ppt_w</p:attrName>
                                        </p:attrNameLst>
                                      </p:cBhvr>
                                      <p:tavLst>
                                        <p:tav tm="0">
                                          <p:val>
                                            <p:fltVal val="0"/>
                                          </p:val>
                                        </p:tav>
                                        <p:tav tm="100000">
                                          <p:val>
                                            <p:strVal val="#ppt_w"/>
                                          </p:val>
                                        </p:tav>
                                      </p:tavLst>
                                    </p:anim>
                                    <p:anim calcmode="lin" valueType="num">
                                      <p:cBhvr additive="repl">
                                        <p:cTn id="291" dur="500" fill="hold"/>
                                        <p:tgtEl>
                                          <p:spTgt spid="1521"/>
                                        </p:tgtEl>
                                        <p:attrNameLst>
                                          <p:attrName>ppt_h</p:attrName>
                                        </p:attrNameLst>
                                      </p:cBhvr>
                                      <p:tavLst>
                                        <p:tav tm="0">
                                          <p:val>
                                            <p:fltVal val="0"/>
                                          </p:val>
                                        </p:tav>
                                        <p:tav tm="100000">
                                          <p:val>
                                            <p:strVal val="#ppt_h"/>
                                          </p:val>
                                        </p:tav>
                                      </p:tavLst>
                                    </p:anim>
                                    <p:animEffect filter="fade" transition="in">
                                      <p:cBhvr additive="repl">
                                        <p:cTn id="292" dur="500"/>
                                        <p:tgtEl>
                                          <p:spTgt spid="1521"/>
                                        </p:tgtEl>
                                      </p:cBhvr>
                                    </p:animEffect>
                                  </p:childTnLst>
                                </p:cTn>
                              </p:par>
                            </p:childTnLst>
                          </p:cTn>
                        </p:par>
                        <p:par>
                          <p:cTn id="293" nodeType="afterEffect" fill="hold">
                            <p:stCondLst>
                              <p:cond delay="1250"/>
                            </p:stCondLst>
                            <p:childTnLst>
                              <p:par>
                                <p:cTn id="294" nodeType="afterEffect" fill="hold" presetClass="entr" presetID="42">
                                  <p:stCondLst>
                                    <p:cond delay="0"/>
                                  </p:stCondLst>
                                  <p:childTnLst>
                                    <p:set>
                                      <p:cBhvr>
                                        <p:cTn id="295" dur="1" fill="hold">
                                          <p:stCondLst>
                                            <p:cond delay="0"/>
                                          </p:stCondLst>
                                        </p:cTn>
                                        <p:tgtEl>
                                          <p:spTgt spid="1522"/>
                                        </p:tgtEl>
                                        <p:attrNameLst>
                                          <p:attrName>style.visibility</p:attrName>
                                        </p:attrNameLst>
                                      </p:cBhvr>
                                      <p:to>
                                        <p:strVal val="visible"/>
                                      </p:to>
                                    </p:set>
                                    <p:animEffect filter="fade" transition="in">
                                      <p:cBhvr additive="repl">
                                        <p:cTn id="296" dur="1000"/>
                                        <p:tgtEl>
                                          <p:spTgt spid="1522"/>
                                        </p:tgtEl>
                                      </p:cBhvr>
                                    </p:animEffect>
                                    <p:anim calcmode="lin" valueType="num">
                                      <p:cBhvr additive="repl">
                                        <p:cTn id="297" dur="1000" fill="hold"/>
                                        <p:tgtEl>
                                          <p:spTgt spid="1522"/>
                                        </p:tgtEl>
                                        <p:attrNameLst>
                                          <p:attrName>ppt_x</p:attrName>
                                        </p:attrNameLst>
                                      </p:cBhvr>
                                      <p:tavLst>
                                        <p:tav tm="0">
                                          <p:val>
                                            <p:strVal val="#ppt_x"/>
                                          </p:val>
                                        </p:tav>
                                        <p:tav tm="100000">
                                          <p:val>
                                            <p:strVal val="#ppt_x"/>
                                          </p:val>
                                        </p:tav>
                                      </p:tavLst>
                                    </p:anim>
                                    <p:anim calcmode="lin" valueType="num">
                                      <p:cBhvr additive="repl">
                                        <p:cTn id="298" dur="1000" fill="hold"/>
                                        <p:tgtEl>
                                          <p:spTgt spid="1522"/>
                                        </p:tgtEl>
                                        <p:attrNameLst>
                                          <p:attrName>ppt_y</p:attrName>
                                        </p:attrNameLst>
                                      </p:cBhvr>
                                      <p:tavLst>
                                        <p:tav tm="0">
                                          <p:val>
                                            <p:strVal val="#ppt_y+.1"/>
                                          </p:val>
                                        </p:tav>
                                        <p:tav tm="100000">
                                          <p:val>
                                            <p:strVal val="#ppt_y"/>
                                          </p:val>
                                        </p:tav>
                                      </p:tavLst>
                                    </p:anim>
                                  </p:childTnLst>
                                </p:cTn>
                              </p:par>
                            </p:childTnLst>
                          </p:cTn>
                        </p:par>
                        <p:par>
                          <p:cTn id="299" nodeType="afterEffect" fill="hold">
                            <p:stCondLst>
                              <p:cond delay="2250"/>
                            </p:stCondLst>
                            <p:childTnLst>
                              <p:par>
                                <p:cTn id="300" nodeType="afterEffect" fill="hold" presetClass="entr" presetID="2" presetSubtype="4">
                                  <p:stCondLst>
                                    <p:cond delay="0"/>
                                  </p:stCondLst>
                                  <p:childTnLst>
                                    <p:set>
                                      <p:cBhvr>
                                        <p:cTn id="301" dur="1" fill="hold">
                                          <p:stCondLst>
                                            <p:cond delay="0"/>
                                          </p:stCondLst>
                                        </p:cTn>
                                        <p:tgtEl>
                                          <p:spTgt spid="1520"/>
                                        </p:tgtEl>
                                        <p:attrNameLst>
                                          <p:attrName>style.visibility</p:attrName>
                                        </p:attrNameLst>
                                      </p:cBhvr>
                                      <p:to>
                                        <p:strVal val="visible"/>
                                      </p:to>
                                    </p:set>
                                    <p:anim calcmode="lin" valueType="num">
                                      <p:cBhvr additive="base">
                                        <p:cTn id="302" dur="500" fill="hold"/>
                                        <p:tgtEl>
                                          <p:spTgt spid="1520"/>
                                        </p:tgtEl>
                                        <p:attrNameLst>
                                          <p:attrName>ppt_x</p:attrName>
                                        </p:attrNameLst>
                                      </p:cBhvr>
                                      <p:tavLst>
                                        <p:tav tm="0">
                                          <p:val>
                                            <p:strVal val="#ppt_x"/>
                                          </p:val>
                                        </p:tav>
                                        <p:tav tm="100000">
                                          <p:val>
                                            <p:strVal val="#ppt_x"/>
                                          </p:val>
                                        </p:tav>
                                      </p:tavLst>
                                    </p:anim>
                                    <p:anim calcmode="lin" valueType="num">
                                      <p:cBhvr additive="base">
                                        <p:cTn id="303" dur="500" fill="hold"/>
                                        <p:tgtEl>
                                          <p:spTgt spid="1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Freeform 171"/>
          <p:cNvSpPr/>
          <p:nvPr/>
        </p:nvSpPr>
        <p:spPr>
          <a:xfrm>
            <a:off x="4967280" y="2050920"/>
            <a:ext cx="488880" cy="419400"/>
          </a:xfrm>
          <a:custGeom>
            <a:avLst/>
            <a:gdLst/>
            <a:ahLst/>
            <a:rect l="l" t="t" r="r" b="b"/>
            <a:pathLst>
              <a:path w="169" h="145">
                <a:moveTo>
                  <a:pt x="169" y="40"/>
                </a:moveTo>
                <a:cubicBezTo>
                  <a:pt x="169" y="76"/>
                  <a:pt x="169" y="76"/>
                  <a:pt x="169" y="76"/>
                </a:cubicBezTo>
                <a:cubicBezTo>
                  <a:pt x="0" y="76"/>
                  <a:pt x="0" y="76"/>
                  <a:pt x="0" y="76"/>
                </a:cubicBezTo>
                <a:cubicBezTo>
                  <a:pt x="0" y="40"/>
                  <a:pt x="0" y="40"/>
                  <a:pt x="0" y="40"/>
                </a:cubicBezTo>
                <a:cubicBezTo>
                  <a:pt x="0" y="35"/>
                  <a:pt x="1" y="32"/>
                  <a:pt x="4" y="29"/>
                </a:cubicBezTo>
                <a:cubicBezTo>
                  <a:pt x="7" y="26"/>
                  <a:pt x="11" y="24"/>
                  <a:pt x="15" y="24"/>
                </a:cubicBezTo>
                <a:cubicBezTo>
                  <a:pt x="48" y="24"/>
                  <a:pt x="48" y="24"/>
                  <a:pt x="48" y="24"/>
                </a:cubicBezTo>
                <a:cubicBezTo>
                  <a:pt x="48" y="9"/>
                  <a:pt x="48" y="9"/>
                  <a:pt x="48" y="9"/>
                </a:cubicBezTo>
                <a:cubicBezTo>
                  <a:pt x="48" y="7"/>
                  <a:pt x="49" y="5"/>
                  <a:pt x="51" y="3"/>
                </a:cubicBezTo>
                <a:cubicBezTo>
                  <a:pt x="53" y="1"/>
                  <a:pt x="55" y="0"/>
                  <a:pt x="57" y="0"/>
                </a:cubicBezTo>
                <a:cubicBezTo>
                  <a:pt x="112" y="0"/>
                  <a:pt x="112" y="0"/>
                  <a:pt x="112" y="0"/>
                </a:cubicBezTo>
                <a:cubicBezTo>
                  <a:pt x="114" y="0"/>
                  <a:pt x="116" y="1"/>
                  <a:pt x="118" y="3"/>
                </a:cubicBezTo>
                <a:cubicBezTo>
                  <a:pt x="120" y="5"/>
                  <a:pt x="121" y="7"/>
                  <a:pt x="121" y="9"/>
                </a:cubicBezTo>
                <a:cubicBezTo>
                  <a:pt x="121" y="24"/>
                  <a:pt x="121" y="24"/>
                  <a:pt x="121" y="24"/>
                </a:cubicBezTo>
                <a:cubicBezTo>
                  <a:pt x="154" y="24"/>
                  <a:pt x="154" y="24"/>
                  <a:pt x="154" y="24"/>
                </a:cubicBezTo>
                <a:cubicBezTo>
                  <a:pt x="158" y="24"/>
                  <a:pt x="162" y="26"/>
                  <a:pt x="165" y="29"/>
                </a:cubicBezTo>
                <a:cubicBezTo>
                  <a:pt x="168" y="32"/>
                  <a:pt x="169" y="35"/>
                  <a:pt x="169" y="40"/>
                </a:cubicBezTo>
                <a:close/>
                <a:moveTo>
                  <a:pt x="169" y="85"/>
                </a:moveTo>
                <a:cubicBezTo>
                  <a:pt x="169" y="130"/>
                  <a:pt x="169" y="130"/>
                  <a:pt x="169" y="130"/>
                </a:cubicBezTo>
                <a:cubicBezTo>
                  <a:pt x="169" y="134"/>
                  <a:pt x="168" y="138"/>
                  <a:pt x="165" y="141"/>
                </a:cubicBezTo>
                <a:cubicBezTo>
                  <a:pt x="162" y="144"/>
                  <a:pt x="158" y="145"/>
                  <a:pt x="154" y="145"/>
                </a:cubicBezTo>
                <a:cubicBezTo>
                  <a:pt x="15" y="145"/>
                  <a:pt x="15" y="145"/>
                  <a:pt x="15" y="145"/>
                </a:cubicBezTo>
                <a:cubicBezTo>
                  <a:pt x="11" y="145"/>
                  <a:pt x="7" y="144"/>
                  <a:pt x="4" y="141"/>
                </a:cubicBezTo>
                <a:cubicBezTo>
                  <a:pt x="1" y="138"/>
                  <a:pt x="0" y="134"/>
                  <a:pt x="0" y="130"/>
                </a:cubicBezTo>
                <a:cubicBezTo>
                  <a:pt x="0" y="85"/>
                  <a:pt x="0" y="85"/>
                  <a:pt x="0" y="85"/>
                </a:cubicBezTo>
                <a:cubicBezTo>
                  <a:pt x="63" y="85"/>
                  <a:pt x="63" y="85"/>
                  <a:pt x="63" y="85"/>
                </a:cubicBezTo>
                <a:cubicBezTo>
                  <a:pt x="63" y="100"/>
                  <a:pt x="63" y="100"/>
                  <a:pt x="63" y="100"/>
                </a:cubicBezTo>
                <a:cubicBezTo>
                  <a:pt x="63" y="102"/>
                  <a:pt x="64" y="103"/>
                  <a:pt x="65" y="104"/>
                </a:cubicBezTo>
                <a:cubicBezTo>
                  <a:pt x="66" y="106"/>
                  <a:pt x="68" y="106"/>
                  <a:pt x="69" y="106"/>
                </a:cubicBezTo>
                <a:cubicBezTo>
                  <a:pt x="100" y="106"/>
                  <a:pt x="100" y="106"/>
                  <a:pt x="100" y="106"/>
                </a:cubicBezTo>
                <a:cubicBezTo>
                  <a:pt x="101" y="106"/>
                  <a:pt x="103" y="106"/>
                  <a:pt x="104" y="104"/>
                </a:cubicBezTo>
                <a:cubicBezTo>
                  <a:pt x="105" y="103"/>
                  <a:pt x="106" y="102"/>
                  <a:pt x="106" y="100"/>
                </a:cubicBezTo>
                <a:cubicBezTo>
                  <a:pt x="106" y="85"/>
                  <a:pt x="106" y="85"/>
                  <a:pt x="106" y="85"/>
                </a:cubicBezTo>
                <a:lnTo>
                  <a:pt x="169" y="85"/>
                </a:lnTo>
                <a:close/>
                <a:moveTo>
                  <a:pt x="60" y="24"/>
                </a:moveTo>
                <a:cubicBezTo>
                  <a:pt x="109" y="24"/>
                  <a:pt x="109" y="24"/>
                  <a:pt x="109" y="24"/>
                </a:cubicBezTo>
                <a:cubicBezTo>
                  <a:pt x="109" y="12"/>
                  <a:pt x="109" y="12"/>
                  <a:pt x="109" y="12"/>
                </a:cubicBezTo>
                <a:cubicBezTo>
                  <a:pt x="60" y="12"/>
                  <a:pt x="60" y="12"/>
                  <a:pt x="60" y="12"/>
                </a:cubicBezTo>
                <a:lnTo>
                  <a:pt x="60" y="24"/>
                </a:lnTo>
                <a:close/>
                <a:moveTo>
                  <a:pt x="97" y="85"/>
                </a:moveTo>
                <a:cubicBezTo>
                  <a:pt x="97" y="97"/>
                  <a:pt x="97" y="97"/>
                  <a:pt x="97" y="97"/>
                </a:cubicBezTo>
                <a:cubicBezTo>
                  <a:pt x="72" y="97"/>
                  <a:pt x="72" y="97"/>
                  <a:pt x="72" y="97"/>
                </a:cubicBezTo>
                <a:cubicBezTo>
                  <a:pt x="72" y="85"/>
                  <a:pt x="72" y="85"/>
                  <a:pt x="72" y="85"/>
                </a:cubicBezTo>
                <a:lnTo>
                  <a:pt x="97" y="85"/>
                </a:lnTo>
                <a:close/>
              </a:path>
            </a:pathLst>
          </a:custGeom>
          <a:solidFill>
            <a:srgbClr val="75cf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25" name="TextBox 23"/>
          <p:cNvSpPr/>
          <p:nvPr/>
        </p:nvSpPr>
        <p:spPr>
          <a:xfrm>
            <a:off x="5006880" y="784080"/>
            <a:ext cx="79329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造字工房尚雅（非商用）常规体"/>
                <a:ea typeface="造字工房尚雅（非商用）常规体"/>
              </a:rPr>
              <a:t>（三）大病医疗专项附加扣除</a:t>
            </a:r>
            <a:endParaRPr b="0" lang="en-US" sz="2800" spc="-1" strike="noStrike">
              <a:solidFill>
                <a:srgbClr val="262626"/>
              </a:solidFill>
              <a:latin typeface="Arial"/>
            </a:endParaRPr>
          </a:p>
        </p:txBody>
      </p:sp>
      <p:sp>
        <p:nvSpPr>
          <p:cNvPr id="1526" name="Rectangle 25"/>
          <p:cNvSpPr/>
          <p:nvPr/>
        </p:nvSpPr>
        <p:spPr>
          <a:xfrm>
            <a:off x="5432400" y="1387440"/>
            <a:ext cx="5211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1</a:t>
            </a:r>
            <a:r>
              <a:rPr b="0" lang="zh-CN" sz="2400" spc="-1" strike="noStrike">
                <a:solidFill>
                  <a:srgbClr val="ff0000"/>
                </a:solidFill>
                <a:latin typeface="造字工房尚雅（非商用）常规体"/>
                <a:ea typeface="造字工房尚雅（非商用）常规体"/>
              </a:rPr>
              <a:t>、扣除范围和标准</a:t>
            </a:r>
            <a:endParaRPr b="0" lang="en-US" sz="2400" spc="-1" strike="noStrike">
              <a:solidFill>
                <a:srgbClr val="26262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527" name="Freeform 173"/>
          <p:cNvSpPr/>
          <p:nvPr/>
        </p:nvSpPr>
        <p:spPr>
          <a:xfrm>
            <a:off x="5095800" y="4226040"/>
            <a:ext cx="447840" cy="419040"/>
          </a:xfrm>
          <a:custGeom>
            <a:avLst/>
            <a:gdLst/>
            <a:ahLst/>
            <a:rect l="l" t="t" r="r" b="b"/>
            <a:pathLst>
              <a:path w="182" h="170">
                <a:moveTo>
                  <a:pt x="56" y="85"/>
                </a:moveTo>
                <a:cubicBezTo>
                  <a:pt x="46" y="85"/>
                  <a:pt x="37" y="89"/>
                  <a:pt x="31" y="97"/>
                </a:cubicBezTo>
                <a:cubicBezTo>
                  <a:pt x="18" y="97"/>
                  <a:pt x="18" y="97"/>
                  <a:pt x="18" y="97"/>
                </a:cubicBezTo>
                <a:cubicBezTo>
                  <a:pt x="13" y="97"/>
                  <a:pt x="9" y="96"/>
                  <a:pt x="5" y="93"/>
                </a:cubicBezTo>
                <a:cubicBezTo>
                  <a:pt x="2" y="91"/>
                  <a:pt x="0" y="87"/>
                  <a:pt x="0" y="82"/>
                </a:cubicBezTo>
                <a:cubicBezTo>
                  <a:pt x="0" y="60"/>
                  <a:pt x="4" y="49"/>
                  <a:pt x="12" y="49"/>
                </a:cubicBezTo>
                <a:cubicBezTo>
                  <a:pt x="12" y="49"/>
                  <a:pt x="13" y="49"/>
                  <a:pt x="16" y="51"/>
                </a:cubicBezTo>
                <a:cubicBezTo>
                  <a:pt x="18" y="52"/>
                  <a:pt x="21" y="53"/>
                  <a:pt x="25" y="55"/>
                </a:cubicBezTo>
                <a:cubicBezTo>
                  <a:pt x="29" y="56"/>
                  <a:pt x="33" y="57"/>
                  <a:pt x="36" y="57"/>
                </a:cubicBezTo>
                <a:cubicBezTo>
                  <a:pt x="41" y="57"/>
                  <a:pt x="45" y="56"/>
                  <a:pt x="49" y="54"/>
                </a:cubicBezTo>
                <a:cubicBezTo>
                  <a:pt x="49" y="57"/>
                  <a:pt x="48" y="59"/>
                  <a:pt x="48" y="61"/>
                </a:cubicBezTo>
                <a:cubicBezTo>
                  <a:pt x="48" y="69"/>
                  <a:pt x="51" y="78"/>
                  <a:pt x="56" y="85"/>
                </a:cubicBezTo>
                <a:close/>
                <a:moveTo>
                  <a:pt x="53" y="7"/>
                </a:moveTo>
                <a:cubicBezTo>
                  <a:pt x="58" y="12"/>
                  <a:pt x="61" y="18"/>
                  <a:pt x="61" y="24"/>
                </a:cubicBezTo>
                <a:cubicBezTo>
                  <a:pt x="61" y="31"/>
                  <a:pt x="58" y="37"/>
                  <a:pt x="53" y="42"/>
                </a:cubicBezTo>
                <a:cubicBezTo>
                  <a:pt x="49" y="46"/>
                  <a:pt x="43" y="49"/>
                  <a:pt x="36" y="49"/>
                </a:cubicBezTo>
                <a:cubicBezTo>
                  <a:pt x="30" y="49"/>
                  <a:pt x="24" y="46"/>
                  <a:pt x="19" y="42"/>
                </a:cubicBezTo>
                <a:cubicBezTo>
                  <a:pt x="14" y="37"/>
                  <a:pt x="12" y="31"/>
                  <a:pt x="12" y="24"/>
                </a:cubicBezTo>
                <a:cubicBezTo>
                  <a:pt x="12" y="18"/>
                  <a:pt x="14" y="12"/>
                  <a:pt x="19" y="7"/>
                </a:cubicBezTo>
                <a:cubicBezTo>
                  <a:pt x="24" y="3"/>
                  <a:pt x="30" y="0"/>
                  <a:pt x="36" y="0"/>
                </a:cubicBezTo>
                <a:cubicBezTo>
                  <a:pt x="43" y="0"/>
                  <a:pt x="49" y="3"/>
                  <a:pt x="53" y="7"/>
                </a:cubicBezTo>
                <a:close/>
                <a:moveTo>
                  <a:pt x="157" y="145"/>
                </a:moveTo>
                <a:cubicBezTo>
                  <a:pt x="157" y="153"/>
                  <a:pt x="155" y="159"/>
                  <a:pt x="150" y="163"/>
                </a:cubicBezTo>
                <a:cubicBezTo>
                  <a:pt x="146" y="167"/>
                  <a:pt x="140" y="170"/>
                  <a:pt x="132" y="170"/>
                </a:cubicBezTo>
                <a:cubicBezTo>
                  <a:pt x="49" y="170"/>
                  <a:pt x="49" y="170"/>
                  <a:pt x="49" y="170"/>
                </a:cubicBezTo>
                <a:cubicBezTo>
                  <a:pt x="42" y="170"/>
                  <a:pt x="36" y="167"/>
                  <a:pt x="31" y="163"/>
                </a:cubicBezTo>
                <a:cubicBezTo>
                  <a:pt x="26" y="159"/>
                  <a:pt x="24" y="153"/>
                  <a:pt x="24" y="145"/>
                </a:cubicBezTo>
                <a:cubicBezTo>
                  <a:pt x="24" y="142"/>
                  <a:pt x="24" y="139"/>
                  <a:pt x="25" y="135"/>
                </a:cubicBezTo>
                <a:cubicBezTo>
                  <a:pt x="25" y="132"/>
                  <a:pt x="25" y="129"/>
                  <a:pt x="26" y="125"/>
                </a:cubicBezTo>
                <a:cubicBezTo>
                  <a:pt x="27" y="121"/>
                  <a:pt x="27" y="118"/>
                  <a:pt x="28" y="115"/>
                </a:cubicBezTo>
                <a:cubicBezTo>
                  <a:pt x="29" y="112"/>
                  <a:pt x="31" y="109"/>
                  <a:pt x="32" y="106"/>
                </a:cubicBezTo>
                <a:cubicBezTo>
                  <a:pt x="34" y="103"/>
                  <a:pt x="36" y="100"/>
                  <a:pt x="38" y="98"/>
                </a:cubicBezTo>
                <a:cubicBezTo>
                  <a:pt x="40" y="96"/>
                  <a:pt x="43" y="94"/>
                  <a:pt x="46" y="93"/>
                </a:cubicBezTo>
                <a:cubicBezTo>
                  <a:pt x="50" y="92"/>
                  <a:pt x="53" y="91"/>
                  <a:pt x="57" y="91"/>
                </a:cubicBezTo>
                <a:cubicBezTo>
                  <a:pt x="58" y="91"/>
                  <a:pt x="59" y="92"/>
                  <a:pt x="61" y="93"/>
                </a:cubicBezTo>
                <a:cubicBezTo>
                  <a:pt x="63" y="94"/>
                  <a:pt x="65" y="96"/>
                  <a:pt x="68" y="98"/>
                </a:cubicBezTo>
                <a:cubicBezTo>
                  <a:pt x="70" y="99"/>
                  <a:pt x="74" y="101"/>
                  <a:pt x="78" y="102"/>
                </a:cubicBezTo>
                <a:cubicBezTo>
                  <a:pt x="82" y="103"/>
                  <a:pt x="86" y="104"/>
                  <a:pt x="91" y="104"/>
                </a:cubicBezTo>
                <a:cubicBezTo>
                  <a:pt x="95" y="104"/>
                  <a:pt x="99" y="103"/>
                  <a:pt x="104" y="102"/>
                </a:cubicBezTo>
                <a:cubicBezTo>
                  <a:pt x="108" y="101"/>
                  <a:pt x="111" y="99"/>
                  <a:pt x="114" y="98"/>
                </a:cubicBezTo>
                <a:cubicBezTo>
                  <a:pt x="116" y="96"/>
                  <a:pt x="118" y="94"/>
                  <a:pt x="121" y="93"/>
                </a:cubicBezTo>
                <a:cubicBezTo>
                  <a:pt x="123" y="92"/>
                  <a:pt x="124" y="91"/>
                  <a:pt x="125" y="91"/>
                </a:cubicBezTo>
                <a:cubicBezTo>
                  <a:pt x="128" y="91"/>
                  <a:pt x="132" y="92"/>
                  <a:pt x="135" y="93"/>
                </a:cubicBezTo>
                <a:cubicBezTo>
                  <a:pt x="138" y="94"/>
                  <a:pt x="141" y="96"/>
                  <a:pt x="143" y="98"/>
                </a:cubicBezTo>
                <a:cubicBezTo>
                  <a:pt x="145" y="100"/>
                  <a:pt x="147" y="103"/>
                  <a:pt x="149" y="106"/>
                </a:cubicBezTo>
                <a:cubicBezTo>
                  <a:pt x="151" y="109"/>
                  <a:pt x="152" y="112"/>
                  <a:pt x="153" y="115"/>
                </a:cubicBezTo>
                <a:cubicBezTo>
                  <a:pt x="154" y="118"/>
                  <a:pt x="155" y="121"/>
                  <a:pt x="156" y="125"/>
                </a:cubicBezTo>
                <a:cubicBezTo>
                  <a:pt x="156" y="129"/>
                  <a:pt x="157" y="132"/>
                  <a:pt x="157" y="135"/>
                </a:cubicBezTo>
                <a:cubicBezTo>
                  <a:pt x="157" y="139"/>
                  <a:pt x="157" y="142"/>
                  <a:pt x="157" y="145"/>
                </a:cubicBezTo>
                <a:close/>
                <a:moveTo>
                  <a:pt x="116" y="35"/>
                </a:moveTo>
                <a:cubicBezTo>
                  <a:pt x="124" y="42"/>
                  <a:pt x="127" y="51"/>
                  <a:pt x="127" y="61"/>
                </a:cubicBezTo>
                <a:cubicBezTo>
                  <a:pt x="127" y="71"/>
                  <a:pt x="124" y="79"/>
                  <a:pt x="116" y="86"/>
                </a:cubicBezTo>
                <a:cubicBezTo>
                  <a:pt x="109" y="93"/>
                  <a:pt x="101" y="97"/>
                  <a:pt x="91" y="97"/>
                </a:cubicBezTo>
                <a:cubicBezTo>
                  <a:pt x="81" y="97"/>
                  <a:pt x="72" y="93"/>
                  <a:pt x="65" y="86"/>
                </a:cubicBezTo>
                <a:cubicBezTo>
                  <a:pt x="58" y="79"/>
                  <a:pt x="54" y="71"/>
                  <a:pt x="54" y="61"/>
                </a:cubicBezTo>
                <a:cubicBezTo>
                  <a:pt x="54" y="51"/>
                  <a:pt x="58" y="42"/>
                  <a:pt x="65" y="35"/>
                </a:cubicBezTo>
                <a:cubicBezTo>
                  <a:pt x="72" y="28"/>
                  <a:pt x="81" y="24"/>
                  <a:pt x="91" y="24"/>
                </a:cubicBezTo>
                <a:cubicBezTo>
                  <a:pt x="101" y="24"/>
                  <a:pt x="109" y="28"/>
                  <a:pt x="116" y="35"/>
                </a:cubicBezTo>
                <a:close/>
                <a:moveTo>
                  <a:pt x="162" y="7"/>
                </a:moveTo>
                <a:cubicBezTo>
                  <a:pt x="167" y="12"/>
                  <a:pt x="169" y="18"/>
                  <a:pt x="169" y="24"/>
                </a:cubicBezTo>
                <a:cubicBezTo>
                  <a:pt x="169" y="31"/>
                  <a:pt x="167" y="37"/>
                  <a:pt x="162" y="42"/>
                </a:cubicBezTo>
                <a:cubicBezTo>
                  <a:pt x="158" y="46"/>
                  <a:pt x="152" y="49"/>
                  <a:pt x="145" y="49"/>
                </a:cubicBezTo>
                <a:cubicBezTo>
                  <a:pt x="139" y="49"/>
                  <a:pt x="133" y="46"/>
                  <a:pt x="128" y="42"/>
                </a:cubicBezTo>
                <a:cubicBezTo>
                  <a:pt x="123" y="37"/>
                  <a:pt x="121" y="31"/>
                  <a:pt x="121" y="24"/>
                </a:cubicBezTo>
                <a:cubicBezTo>
                  <a:pt x="121" y="18"/>
                  <a:pt x="123" y="12"/>
                  <a:pt x="128" y="7"/>
                </a:cubicBezTo>
                <a:cubicBezTo>
                  <a:pt x="133" y="3"/>
                  <a:pt x="139" y="0"/>
                  <a:pt x="145" y="0"/>
                </a:cubicBezTo>
                <a:cubicBezTo>
                  <a:pt x="152" y="0"/>
                  <a:pt x="158" y="3"/>
                  <a:pt x="162" y="7"/>
                </a:cubicBezTo>
                <a:close/>
                <a:moveTo>
                  <a:pt x="182" y="82"/>
                </a:moveTo>
                <a:cubicBezTo>
                  <a:pt x="182" y="87"/>
                  <a:pt x="180" y="91"/>
                  <a:pt x="176" y="93"/>
                </a:cubicBezTo>
                <a:cubicBezTo>
                  <a:pt x="173" y="96"/>
                  <a:pt x="168" y="97"/>
                  <a:pt x="163" y="97"/>
                </a:cubicBezTo>
                <a:cubicBezTo>
                  <a:pt x="151" y="97"/>
                  <a:pt x="151" y="97"/>
                  <a:pt x="151" y="97"/>
                </a:cubicBezTo>
                <a:cubicBezTo>
                  <a:pt x="144" y="89"/>
                  <a:pt x="136" y="85"/>
                  <a:pt x="125" y="85"/>
                </a:cubicBezTo>
                <a:cubicBezTo>
                  <a:pt x="131" y="78"/>
                  <a:pt x="133" y="69"/>
                  <a:pt x="133" y="61"/>
                </a:cubicBezTo>
                <a:cubicBezTo>
                  <a:pt x="133" y="59"/>
                  <a:pt x="133" y="57"/>
                  <a:pt x="133" y="54"/>
                </a:cubicBezTo>
                <a:cubicBezTo>
                  <a:pt x="137" y="56"/>
                  <a:pt x="141" y="57"/>
                  <a:pt x="145" y="57"/>
                </a:cubicBezTo>
                <a:cubicBezTo>
                  <a:pt x="149" y="57"/>
                  <a:pt x="153" y="56"/>
                  <a:pt x="156" y="55"/>
                </a:cubicBezTo>
                <a:cubicBezTo>
                  <a:pt x="160" y="53"/>
                  <a:pt x="163" y="52"/>
                  <a:pt x="166" y="51"/>
                </a:cubicBezTo>
                <a:cubicBezTo>
                  <a:pt x="168" y="49"/>
                  <a:pt x="169" y="49"/>
                  <a:pt x="170" y="49"/>
                </a:cubicBezTo>
                <a:cubicBezTo>
                  <a:pt x="178" y="49"/>
                  <a:pt x="182" y="60"/>
                  <a:pt x="182" y="82"/>
                </a:cubicBezTo>
                <a:close/>
              </a:path>
            </a:pathLst>
          </a:custGeom>
          <a:solidFill>
            <a:srgbClr val="4ec1c2"/>
          </a:solidFill>
          <a:ln w="0">
            <a:noFill/>
          </a:ln>
          <a:effectLst>
            <a:outerShdw dist="266777" dir="81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28" name="Freeform 130"/>
          <p:cNvSpPr/>
          <p:nvPr/>
        </p:nvSpPr>
        <p:spPr>
          <a:xfrm>
            <a:off x="5160960" y="5541840"/>
            <a:ext cx="455760" cy="419400"/>
          </a:xfrm>
          <a:custGeom>
            <a:avLst/>
            <a:gdLst/>
            <a:ahLst/>
            <a:rect l="l" t="t" r="r" b="b"/>
            <a:pathLst>
              <a:path w="181" h="166">
                <a:moveTo>
                  <a:pt x="121" y="74"/>
                </a:moveTo>
                <a:cubicBezTo>
                  <a:pt x="121" y="92"/>
                  <a:pt x="121" y="92"/>
                  <a:pt x="121" y="92"/>
                </a:cubicBezTo>
                <a:cubicBezTo>
                  <a:pt x="121" y="92"/>
                  <a:pt x="120" y="93"/>
                  <a:pt x="120" y="94"/>
                </a:cubicBezTo>
                <a:cubicBezTo>
                  <a:pt x="120" y="94"/>
                  <a:pt x="119" y="95"/>
                  <a:pt x="118" y="95"/>
                </a:cubicBezTo>
                <a:cubicBezTo>
                  <a:pt x="104" y="97"/>
                  <a:pt x="104" y="97"/>
                  <a:pt x="104" y="97"/>
                </a:cubicBezTo>
                <a:cubicBezTo>
                  <a:pt x="103" y="99"/>
                  <a:pt x="102" y="102"/>
                  <a:pt x="101" y="104"/>
                </a:cubicBezTo>
                <a:cubicBezTo>
                  <a:pt x="103" y="107"/>
                  <a:pt x="106" y="111"/>
                  <a:pt x="109" y="115"/>
                </a:cubicBezTo>
                <a:cubicBezTo>
                  <a:pt x="110" y="116"/>
                  <a:pt x="110" y="116"/>
                  <a:pt x="110" y="117"/>
                </a:cubicBezTo>
                <a:cubicBezTo>
                  <a:pt x="110" y="118"/>
                  <a:pt x="110" y="118"/>
                  <a:pt x="109" y="119"/>
                </a:cubicBezTo>
                <a:cubicBezTo>
                  <a:pt x="108" y="121"/>
                  <a:pt x="105" y="123"/>
                  <a:pt x="101" y="127"/>
                </a:cubicBezTo>
                <a:cubicBezTo>
                  <a:pt x="98" y="131"/>
                  <a:pt x="95" y="133"/>
                  <a:pt x="94" y="133"/>
                </a:cubicBezTo>
                <a:cubicBezTo>
                  <a:pt x="93" y="133"/>
                  <a:pt x="93" y="133"/>
                  <a:pt x="92" y="132"/>
                </a:cubicBezTo>
                <a:cubicBezTo>
                  <a:pt x="81" y="124"/>
                  <a:pt x="81" y="124"/>
                  <a:pt x="81" y="124"/>
                </a:cubicBezTo>
                <a:cubicBezTo>
                  <a:pt x="79" y="125"/>
                  <a:pt x="76" y="126"/>
                  <a:pt x="74" y="127"/>
                </a:cubicBezTo>
                <a:cubicBezTo>
                  <a:pt x="73" y="133"/>
                  <a:pt x="72" y="138"/>
                  <a:pt x="72" y="141"/>
                </a:cubicBezTo>
                <a:cubicBezTo>
                  <a:pt x="71" y="143"/>
                  <a:pt x="70" y="143"/>
                  <a:pt x="69" y="143"/>
                </a:cubicBezTo>
                <a:cubicBezTo>
                  <a:pt x="51" y="143"/>
                  <a:pt x="51" y="143"/>
                  <a:pt x="51" y="143"/>
                </a:cubicBezTo>
                <a:cubicBezTo>
                  <a:pt x="51" y="143"/>
                  <a:pt x="50" y="143"/>
                  <a:pt x="49" y="143"/>
                </a:cubicBezTo>
                <a:cubicBezTo>
                  <a:pt x="49" y="142"/>
                  <a:pt x="49" y="142"/>
                  <a:pt x="48" y="141"/>
                </a:cubicBezTo>
                <a:cubicBezTo>
                  <a:pt x="46" y="127"/>
                  <a:pt x="46" y="127"/>
                  <a:pt x="46" y="127"/>
                </a:cubicBezTo>
                <a:cubicBezTo>
                  <a:pt x="44" y="126"/>
                  <a:pt x="42" y="125"/>
                  <a:pt x="39" y="124"/>
                </a:cubicBezTo>
                <a:cubicBezTo>
                  <a:pt x="28" y="132"/>
                  <a:pt x="28" y="132"/>
                  <a:pt x="28" y="132"/>
                </a:cubicBezTo>
                <a:cubicBezTo>
                  <a:pt x="28" y="133"/>
                  <a:pt x="27" y="133"/>
                  <a:pt x="26" y="133"/>
                </a:cubicBezTo>
                <a:cubicBezTo>
                  <a:pt x="25" y="133"/>
                  <a:pt x="25" y="133"/>
                  <a:pt x="24" y="132"/>
                </a:cubicBezTo>
                <a:cubicBezTo>
                  <a:pt x="15" y="124"/>
                  <a:pt x="11" y="119"/>
                  <a:pt x="11" y="117"/>
                </a:cubicBezTo>
                <a:cubicBezTo>
                  <a:pt x="11" y="116"/>
                  <a:pt x="11" y="116"/>
                  <a:pt x="11" y="115"/>
                </a:cubicBezTo>
                <a:cubicBezTo>
                  <a:pt x="12" y="114"/>
                  <a:pt x="13" y="113"/>
                  <a:pt x="15" y="110"/>
                </a:cubicBezTo>
                <a:cubicBezTo>
                  <a:pt x="17" y="108"/>
                  <a:pt x="19" y="106"/>
                  <a:pt x="20" y="104"/>
                </a:cubicBezTo>
                <a:cubicBezTo>
                  <a:pt x="18" y="102"/>
                  <a:pt x="17" y="99"/>
                  <a:pt x="16" y="97"/>
                </a:cubicBezTo>
                <a:cubicBezTo>
                  <a:pt x="2" y="94"/>
                  <a:pt x="2" y="94"/>
                  <a:pt x="2" y="94"/>
                </a:cubicBezTo>
                <a:cubicBezTo>
                  <a:pt x="1" y="94"/>
                  <a:pt x="1" y="94"/>
                  <a:pt x="0" y="93"/>
                </a:cubicBezTo>
                <a:cubicBezTo>
                  <a:pt x="0" y="93"/>
                  <a:pt x="0" y="92"/>
                  <a:pt x="0" y="92"/>
                </a:cubicBezTo>
                <a:cubicBezTo>
                  <a:pt x="0" y="74"/>
                  <a:pt x="0" y="74"/>
                  <a:pt x="0" y="74"/>
                </a:cubicBezTo>
                <a:cubicBezTo>
                  <a:pt x="0" y="73"/>
                  <a:pt x="0" y="73"/>
                  <a:pt x="0" y="72"/>
                </a:cubicBezTo>
                <a:cubicBezTo>
                  <a:pt x="1" y="72"/>
                  <a:pt x="1" y="71"/>
                  <a:pt x="2" y="71"/>
                </a:cubicBezTo>
                <a:cubicBezTo>
                  <a:pt x="16" y="69"/>
                  <a:pt x="16" y="69"/>
                  <a:pt x="16" y="69"/>
                </a:cubicBezTo>
                <a:cubicBezTo>
                  <a:pt x="17" y="67"/>
                  <a:pt x="18" y="64"/>
                  <a:pt x="19" y="62"/>
                </a:cubicBezTo>
                <a:cubicBezTo>
                  <a:pt x="17" y="59"/>
                  <a:pt x="14" y="55"/>
                  <a:pt x="11" y="51"/>
                </a:cubicBezTo>
                <a:cubicBezTo>
                  <a:pt x="10" y="50"/>
                  <a:pt x="10" y="50"/>
                  <a:pt x="10" y="49"/>
                </a:cubicBezTo>
                <a:cubicBezTo>
                  <a:pt x="10" y="48"/>
                  <a:pt x="10" y="48"/>
                  <a:pt x="11" y="47"/>
                </a:cubicBezTo>
                <a:cubicBezTo>
                  <a:pt x="12" y="45"/>
                  <a:pt x="15" y="42"/>
                  <a:pt x="19" y="39"/>
                </a:cubicBezTo>
                <a:cubicBezTo>
                  <a:pt x="22" y="35"/>
                  <a:pt x="25" y="33"/>
                  <a:pt x="26" y="33"/>
                </a:cubicBezTo>
                <a:cubicBezTo>
                  <a:pt x="27" y="33"/>
                  <a:pt x="28" y="33"/>
                  <a:pt x="28" y="34"/>
                </a:cubicBezTo>
                <a:cubicBezTo>
                  <a:pt x="39" y="42"/>
                  <a:pt x="39" y="42"/>
                  <a:pt x="39" y="42"/>
                </a:cubicBezTo>
                <a:cubicBezTo>
                  <a:pt x="41" y="41"/>
                  <a:pt x="44" y="40"/>
                  <a:pt x="46" y="39"/>
                </a:cubicBezTo>
                <a:cubicBezTo>
                  <a:pt x="47" y="32"/>
                  <a:pt x="48" y="28"/>
                  <a:pt x="48" y="25"/>
                </a:cubicBezTo>
                <a:cubicBezTo>
                  <a:pt x="49" y="23"/>
                  <a:pt x="50" y="22"/>
                  <a:pt x="51" y="22"/>
                </a:cubicBezTo>
                <a:cubicBezTo>
                  <a:pt x="69" y="22"/>
                  <a:pt x="69" y="22"/>
                  <a:pt x="69" y="22"/>
                </a:cubicBezTo>
                <a:cubicBezTo>
                  <a:pt x="70" y="22"/>
                  <a:pt x="70" y="23"/>
                  <a:pt x="71" y="23"/>
                </a:cubicBezTo>
                <a:cubicBezTo>
                  <a:pt x="71" y="24"/>
                  <a:pt x="72" y="24"/>
                  <a:pt x="72" y="25"/>
                </a:cubicBezTo>
                <a:cubicBezTo>
                  <a:pt x="74" y="39"/>
                  <a:pt x="74" y="39"/>
                  <a:pt x="74" y="39"/>
                </a:cubicBezTo>
                <a:cubicBezTo>
                  <a:pt x="76" y="40"/>
                  <a:pt x="78" y="41"/>
                  <a:pt x="81" y="42"/>
                </a:cubicBezTo>
                <a:cubicBezTo>
                  <a:pt x="92" y="34"/>
                  <a:pt x="92" y="34"/>
                  <a:pt x="92" y="34"/>
                </a:cubicBezTo>
                <a:cubicBezTo>
                  <a:pt x="93" y="33"/>
                  <a:pt x="93" y="33"/>
                  <a:pt x="94" y="33"/>
                </a:cubicBezTo>
                <a:cubicBezTo>
                  <a:pt x="95" y="33"/>
                  <a:pt x="95" y="33"/>
                  <a:pt x="96" y="34"/>
                </a:cubicBezTo>
                <a:cubicBezTo>
                  <a:pt x="105" y="42"/>
                  <a:pt x="110" y="47"/>
                  <a:pt x="110" y="49"/>
                </a:cubicBezTo>
                <a:cubicBezTo>
                  <a:pt x="110" y="50"/>
                  <a:pt x="109" y="50"/>
                  <a:pt x="109" y="51"/>
                </a:cubicBezTo>
                <a:cubicBezTo>
                  <a:pt x="108" y="52"/>
                  <a:pt x="107" y="54"/>
                  <a:pt x="105" y="56"/>
                </a:cubicBezTo>
                <a:cubicBezTo>
                  <a:pt x="103" y="58"/>
                  <a:pt x="102" y="60"/>
                  <a:pt x="101" y="62"/>
                </a:cubicBezTo>
                <a:cubicBezTo>
                  <a:pt x="102" y="65"/>
                  <a:pt x="103" y="67"/>
                  <a:pt x="104" y="69"/>
                </a:cubicBezTo>
                <a:cubicBezTo>
                  <a:pt x="118" y="72"/>
                  <a:pt x="118" y="72"/>
                  <a:pt x="118" y="72"/>
                </a:cubicBezTo>
                <a:cubicBezTo>
                  <a:pt x="119" y="72"/>
                  <a:pt x="120" y="72"/>
                  <a:pt x="120" y="73"/>
                </a:cubicBezTo>
                <a:cubicBezTo>
                  <a:pt x="120" y="73"/>
                  <a:pt x="121" y="74"/>
                  <a:pt x="121" y="74"/>
                </a:cubicBezTo>
                <a:close/>
                <a:moveTo>
                  <a:pt x="77" y="100"/>
                </a:moveTo>
                <a:cubicBezTo>
                  <a:pt x="82" y="95"/>
                  <a:pt x="84" y="90"/>
                  <a:pt x="84" y="83"/>
                </a:cubicBezTo>
                <a:cubicBezTo>
                  <a:pt x="84" y="76"/>
                  <a:pt x="82" y="71"/>
                  <a:pt x="77" y="66"/>
                </a:cubicBezTo>
                <a:cubicBezTo>
                  <a:pt x="72" y="61"/>
                  <a:pt x="67" y="59"/>
                  <a:pt x="60" y="59"/>
                </a:cubicBezTo>
                <a:cubicBezTo>
                  <a:pt x="53" y="59"/>
                  <a:pt x="48" y="61"/>
                  <a:pt x="43" y="66"/>
                </a:cubicBezTo>
                <a:cubicBezTo>
                  <a:pt x="38" y="71"/>
                  <a:pt x="36" y="76"/>
                  <a:pt x="36" y="83"/>
                </a:cubicBezTo>
                <a:cubicBezTo>
                  <a:pt x="36" y="90"/>
                  <a:pt x="38" y="95"/>
                  <a:pt x="43" y="100"/>
                </a:cubicBezTo>
                <a:cubicBezTo>
                  <a:pt x="48" y="105"/>
                  <a:pt x="53" y="107"/>
                  <a:pt x="60" y="107"/>
                </a:cubicBezTo>
                <a:cubicBezTo>
                  <a:pt x="67" y="107"/>
                  <a:pt x="72" y="105"/>
                  <a:pt x="77" y="100"/>
                </a:cubicBezTo>
                <a:close/>
                <a:moveTo>
                  <a:pt x="181" y="28"/>
                </a:moveTo>
                <a:cubicBezTo>
                  <a:pt x="181" y="41"/>
                  <a:pt x="181" y="41"/>
                  <a:pt x="181" y="41"/>
                </a:cubicBezTo>
                <a:cubicBezTo>
                  <a:pt x="181" y="42"/>
                  <a:pt x="176" y="43"/>
                  <a:pt x="167" y="44"/>
                </a:cubicBezTo>
                <a:cubicBezTo>
                  <a:pt x="166" y="46"/>
                  <a:pt x="165" y="47"/>
                  <a:pt x="164" y="49"/>
                </a:cubicBezTo>
                <a:cubicBezTo>
                  <a:pt x="167" y="56"/>
                  <a:pt x="169" y="60"/>
                  <a:pt x="169" y="62"/>
                </a:cubicBezTo>
                <a:cubicBezTo>
                  <a:pt x="169" y="62"/>
                  <a:pt x="169" y="63"/>
                  <a:pt x="169" y="63"/>
                </a:cubicBezTo>
                <a:cubicBezTo>
                  <a:pt x="161" y="67"/>
                  <a:pt x="157" y="69"/>
                  <a:pt x="157" y="69"/>
                </a:cubicBezTo>
                <a:cubicBezTo>
                  <a:pt x="156" y="69"/>
                  <a:pt x="155" y="68"/>
                  <a:pt x="153" y="65"/>
                </a:cubicBezTo>
                <a:cubicBezTo>
                  <a:pt x="150" y="62"/>
                  <a:pt x="149" y="60"/>
                  <a:pt x="148" y="59"/>
                </a:cubicBezTo>
                <a:cubicBezTo>
                  <a:pt x="146" y="59"/>
                  <a:pt x="145" y="59"/>
                  <a:pt x="145" y="59"/>
                </a:cubicBezTo>
                <a:cubicBezTo>
                  <a:pt x="144" y="59"/>
                  <a:pt x="143" y="59"/>
                  <a:pt x="142" y="59"/>
                </a:cubicBezTo>
                <a:cubicBezTo>
                  <a:pt x="141" y="60"/>
                  <a:pt x="139" y="62"/>
                  <a:pt x="137" y="65"/>
                </a:cubicBezTo>
                <a:cubicBezTo>
                  <a:pt x="135" y="68"/>
                  <a:pt x="133" y="69"/>
                  <a:pt x="133" y="69"/>
                </a:cubicBezTo>
                <a:cubicBezTo>
                  <a:pt x="133" y="69"/>
                  <a:pt x="129" y="67"/>
                  <a:pt x="121" y="63"/>
                </a:cubicBezTo>
                <a:cubicBezTo>
                  <a:pt x="121" y="63"/>
                  <a:pt x="121" y="62"/>
                  <a:pt x="121" y="62"/>
                </a:cubicBezTo>
                <a:cubicBezTo>
                  <a:pt x="121" y="60"/>
                  <a:pt x="122" y="56"/>
                  <a:pt x="125" y="49"/>
                </a:cubicBezTo>
                <a:cubicBezTo>
                  <a:pt x="124" y="47"/>
                  <a:pt x="123" y="46"/>
                  <a:pt x="123" y="44"/>
                </a:cubicBezTo>
                <a:cubicBezTo>
                  <a:pt x="113" y="43"/>
                  <a:pt x="109" y="42"/>
                  <a:pt x="109" y="41"/>
                </a:cubicBezTo>
                <a:cubicBezTo>
                  <a:pt x="109" y="28"/>
                  <a:pt x="109" y="28"/>
                  <a:pt x="109" y="28"/>
                </a:cubicBezTo>
                <a:cubicBezTo>
                  <a:pt x="109" y="27"/>
                  <a:pt x="113" y="26"/>
                  <a:pt x="123" y="25"/>
                </a:cubicBezTo>
                <a:cubicBezTo>
                  <a:pt x="123" y="23"/>
                  <a:pt x="124" y="22"/>
                  <a:pt x="125" y="20"/>
                </a:cubicBezTo>
                <a:cubicBezTo>
                  <a:pt x="122" y="13"/>
                  <a:pt x="121" y="9"/>
                  <a:pt x="121" y="7"/>
                </a:cubicBezTo>
                <a:cubicBezTo>
                  <a:pt x="121" y="7"/>
                  <a:pt x="121" y="7"/>
                  <a:pt x="121" y="6"/>
                </a:cubicBezTo>
                <a:cubicBezTo>
                  <a:pt x="121" y="6"/>
                  <a:pt x="122" y="6"/>
                  <a:pt x="124" y="4"/>
                </a:cubicBezTo>
                <a:cubicBezTo>
                  <a:pt x="126" y="3"/>
                  <a:pt x="128" y="2"/>
                  <a:pt x="130" y="1"/>
                </a:cubicBezTo>
                <a:cubicBezTo>
                  <a:pt x="132" y="0"/>
                  <a:pt x="133" y="0"/>
                  <a:pt x="133" y="0"/>
                </a:cubicBezTo>
                <a:cubicBezTo>
                  <a:pt x="133" y="0"/>
                  <a:pt x="135" y="1"/>
                  <a:pt x="137" y="4"/>
                </a:cubicBezTo>
                <a:cubicBezTo>
                  <a:pt x="139" y="7"/>
                  <a:pt x="141" y="9"/>
                  <a:pt x="142" y="11"/>
                </a:cubicBezTo>
                <a:cubicBezTo>
                  <a:pt x="143" y="10"/>
                  <a:pt x="144" y="10"/>
                  <a:pt x="145" y="10"/>
                </a:cubicBezTo>
                <a:cubicBezTo>
                  <a:pt x="145" y="10"/>
                  <a:pt x="146" y="10"/>
                  <a:pt x="148" y="11"/>
                </a:cubicBezTo>
                <a:cubicBezTo>
                  <a:pt x="151" y="6"/>
                  <a:pt x="154" y="3"/>
                  <a:pt x="156" y="0"/>
                </a:cubicBezTo>
                <a:cubicBezTo>
                  <a:pt x="157" y="0"/>
                  <a:pt x="157" y="0"/>
                  <a:pt x="157" y="0"/>
                </a:cubicBezTo>
                <a:cubicBezTo>
                  <a:pt x="157" y="0"/>
                  <a:pt x="161" y="2"/>
                  <a:pt x="169" y="6"/>
                </a:cubicBezTo>
                <a:cubicBezTo>
                  <a:pt x="169" y="7"/>
                  <a:pt x="169" y="7"/>
                  <a:pt x="169" y="7"/>
                </a:cubicBezTo>
                <a:cubicBezTo>
                  <a:pt x="169" y="9"/>
                  <a:pt x="167" y="13"/>
                  <a:pt x="164" y="20"/>
                </a:cubicBezTo>
                <a:cubicBezTo>
                  <a:pt x="165" y="22"/>
                  <a:pt x="166" y="23"/>
                  <a:pt x="167" y="25"/>
                </a:cubicBezTo>
                <a:cubicBezTo>
                  <a:pt x="176" y="26"/>
                  <a:pt x="181" y="27"/>
                  <a:pt x="181" y="28"/>
                </a:cubicBezTo>
                <a:close/>
                <a:moveTo>
                  <a:pt x="181" y="125"/>
                </a:moveTo>
                <a:cubicBezTo>
                  <a:pt x="181" y="138"/>
                  <a:pt x="181" y="138"/>
                  <a:pt x="181" y="138"/>
                </a:cubicBezTo>
                <a:cubicBezTo>
                  <a:pt x="181" y="139"/>
                  <a:pt x="176" y="140"/>
                  <a:pt x="167" y="141"/>
                </a:cubicBezTo>
                <a:cubicBezTo>
                  <a:pt x="166" y="143"/>
                  <a:pt x="165" y="144"/>
                  <a:pt x="164" y="146"/>
                </a:cubicBezTo>
                <a:cubicBezTo>
                  <a:pt x="167" y="153"/>
                  <a:pt x="169" y="157"/>
                  <a:pt x="169" y="159"/>
                </a:cubicBezTo>
                <a:cubicBezTo>
                  <a:pt x="169" y="159"/>
                  <a:pt x="169" y="159"/>
                  <a:pt x="169" y="160"/>
                </a:cubicBezTo>
                <a:cubicBezTo>
                  <a:pt x="161" y="164"/>
                  <a:pt x="157" y="166"/>
                  <a:pt x="157" y="166"/>
                </a:cubicBezTo>
                <a:cubicBezTo>
                  <a:pt x="156" y="166"/>
                  <a:pt x="155" y="165"/>
                  <a:pt x="153" y="162"/>
                </a:cubicBezTo>
                <a:cubicBezTo>
                  <a:pt x="150" y="159"/>
                  <a:pt x="149" y="157"/>
                  <a:pt x="148" y="155"/>
                </a:cubicBezTo>
                <a:cubicBezTo>
                  <a:pt x="146" y="155"/>
                  <a:pt x="145" y="156"/>
                  <a:pt x="145" y="156"/>
                </a:cubicBezTo>
                <a:cubicBezTo>
                  <a:pt x="144" y="156"/>
                  <a:pt x="143" y="155"/>
                  <a:pt x="142" y="155"/>
                </a:cubicBezTo>
                <a:cubicBezTo>
                  <a:pt x="141" y="157"/>
                  <a:pt x="139" y="159"/>
                  <a:pt x="137" y="162"/>
                </a:cubicBezTo>
                <a:cubicBezTo>
                  <a:pt x="135" y="165"/>
                  <a:pt x="133" y="166"/>
                  <a:pt x="133" y="166"/>
                </a:cubicBezTo>
                <a:cubicBezTo>
                  <a:pt x="133" y="166"/>
                  <a:pt x="129" y="164"/>
                  <a:pt x="121" y="160"/>
                </a:cubicBezTo>
                <a:cubicBezTo>
                  <a:pt x="121" y="159"/>
                  <a:pt x="121" y="159"/>
                  <a:pt x="121" y="159"/>
                </a:cubicBezTo>
                <a:cubicBezTo>
                  <a:pt x="121" y="157"/>
                  <a:pt x="122" y="153"/>
                  <a:pt x="125" y="146"/>
                </a:cubicBezTo>
                <a:cubicBezTo>
                  <a:pt x="124" y="144"/>
                  <a:pt x="123" y="143"/>
                  <a:pt x="123" y="141"/>
                </a:cubicBezTo>
                <a:cubicBezTo>
                  <a:pt x="113" y="140"/>
                  <a:pt x="109" y="139"/>
                  <a:pt x="109" y="138"/>
                </a:cubicBezTo>
                <a:cubicBezTo>
                  <a:pt x="109" y="125"/>
                  <a:pt x="109" y="125"/>
                  <a:pt x="109" y="125"/>
                </a:cubicBezTo>
                <a:cubicBezTo>
                  <a:pt x="109" y="124"/>
                  <a:pt x="113" y="123"/>
                  <a:pt x="123" y="122"/>
                </a:cubicBezTo>
                <a:cubicBezTo>
                  <a:pt x="123" y="120"/>
                  <a:pt x="124" y="118"/>
                  <a:pt x="125" y="117"/>
                </a:cubicBezTo>
                <a:cubicBezTo>
                  <a:pt x="122" y="110"/>
                  <a:pt x="121" y="105"/>
                  <a:pt x="121" y="104"/>
                </a:cubicBezTo>
                <a:cubicBezTo>
                  <a:pt x="121" y="104"/>
                  <a:pt x="121" y="103"/>
                  <a:pt x="121" y="103"/>
                </a:cubicBezTo>
                <a:cubicBezTo>
                  <a:pt x="121" y="103"/>
                  <a:pt x="122" y="102"/>
                  <a:pt x="124" y="101"/>
                </a:cubicBezTo>
                <a:cubicBezTo>
                  <a:pt x="126" y="100"/>
                  <a:pt x="128" y="99"/>
                  <a:pt x="130" y="98"/>
                </a:cubicBezTo>
                <a:cubicBezTo>
                  <a:pt x="132" y="97"/>
                  <a:pt x="133" y="97"/>
                  <a:pt x="133" y="97"/>
                </a:cubicBezTo>
                <a:cubicBezTo>
                  <a:pt x="133" y="97"/>
                  <a:pt x="135" y="98"/>
                  <a:pt x="137" y="101"/>
                </a:cubicBezTo>
                <a:cubicBezTo>
                  <a:pt x="139" y="104"/>
                  <a:pt x="141" y="106"/>
                  <a:pt x="142" y="107"/>
                </a:cubicBezTo>
                <a:cubicBezTo>
                  <a:pt x="143" y="107"/>
                  <a:pt x="144" y="107"/>
                  <a:pt x="145" y="107"/>
                </a:cubicBezTo>
                <a:cubicBezTo>
                  <a:pt x="145" y="107"/>
                  <a:pt x="146" y="107"/>
                  <a:pt x="148" y="107"/>
                </a:cubicBezTo>
                <a:cubicBezTo>
                  <a:pt x="151" y="103"/>
                  <a:pt x="154" y="99"/>
                  <a:pt x="156" y="97"/>
                </a:cubicBezTo>
                <a:cubicBezTo>
                  <a:pt x="157" y="97"/>
                  <a:pt x="157" y="97"/>
                  <a:pt x="157" y="97"/>
                </a:cubicBezTo>
                <a:cubicBezTo>
                  <a:pt x="157" y="97"/>
                  <a:pt x="161" y="99"/>
                  <a:pt x="169" y="103"/>
                </a:cubicBezTo>
                <a:cubicBezTo>
                  <a:pt x="169" y="103"/>
                  <a:pt x="169" y="104"/>
                  <a:pt x="169" y="104"/>
                </a:cubicBezTo>
                <a:cubicBezTo>
                  <a:pt x="169" y="105"/>
                  <a:pt x="167" y="110"/>
                  <a:pt x="164" y="117"/>
                </a:cubicBezTo>
                <a:cubicBezTo>
                  <a:pt x="165" y="118"/>
                  <a:pt x="166" y="120"/>
                  <a:pt x="167" y="122"/>
                </a:cubicBezTo>
                <a:cubicBezTo>
                  <a:pt x="176" y="123"/>
                  <a:pt x="181" y="124"/>
                  <a:pt x="181" y="125"/>
                </a:cubicBezTo>
                <a:close/>
                <a:moveTo>
                  <a:pt x="157" y="35"/>
                </a:moveTo>
                <a:cubicBezTo>
                  <a:pt x="157" y="31"/>
                  <a:pt x="156" y="28"/>
                  <a:pt x="153" y="26"/>
                </a:cubicBezTo>
                <a:cubicBezTo>
                  <a:pt x="151" y="24"/>
                  <a:pt x="148" y="22"/>
                  <a:pt x="145" y="22"/>
                </a:cubicBezTo>
                <a:cubicBezTo>
                  <a:pt x="142" y="22"/>
                  <a:pt x="139" y="24"/>
                  <a:pt x="136" y="26"/>
                </a:cubicBezTo>
                <a:cubicBezTo>
                  <a:pt x="134" y="28"/>
                  <a:pt x="133" y="31"/>
                  <a:pt x="133" y="35"/>
                </a:cubicBezTo>
                <a:cubicBezTo>
                  <a:pt x="133" y="38"/>
                  <a:pt x="134" y="41"/>
                  <a:pt x="136" y="43"/>
                </a:cubicBezTo>
                <a:cubicBezTo>
                  <a:pt x="139" y="45"/>
                  <a:pt x="141" y="47"/>
                  <a:pt x="145" y="47"/>
                </a:cubicBezTo>
                <a:cubicBezTo>
                  <a:pt x="148" y="47"/>
                  <a:pt x="151" y="45"/>
                  <a:pt x="153" y="43"/>
                </a:cubicBezTo>
                <a:cubicBezTo>
                  <a:pt x="156" y="41"/>
                  <a:pt x="157" y="38"/>
                  <a:pt x="157" y="35"/>
                </a:cubicBezTo>
                <a:close/>
                <a:moveTo>
                  <a:pt x="157" y="131"/>
                </a:moveTo>
                <a:cubicBezTo>
                  <a:pt x="157" y="128"/>
                  <a:pt x="156" y="125"/>
                  <a:pt x="153" y="123"/>
                </a:cubicBezTo>
                <a:cubicBezTo>
                  <a:pt x="151" y="120"/>
                  <a:pt x="148" y="119"/>
                  <a:pt x="145" y="119"/>
                </a:cubicBezTo>
                <a:cubicBezTo>
                  <a:pt x="142" y="119"/>
                  <a:pt x="139" y="120"/>
                  <a:pt x="136" y="123"/>
                </a:cubicBezTo>
                <a:cubicBezTo>
                  <a:pt x="134" y="125"/>
                  <a:pt x="133" y="128"/>
                  <a:pt x="133" y="131"/>
                </a:cubicBezTo>
                <a:cubicBezTo>
                  <a:pt x="133" y="135"/>
                  <a:pt x="134" y="138"/>
                  <a:pt x="136" y="140"/>
                </a:cubicBezTo>
                <a:cubicBezTo>
                  <a:pt x="139" y="142"/>
                  <a:pt x="141" y="143"/>
                  <a:pt x="145" y="143"/>
                </a:cubicBezTo>
                <a:cubicBezTo>
                  <a:pt x="148" y="143"/>
                  <a:pt x="151" y="142"/>
                  <a:pt x="153" y="140"/>
                </a:cubicBezTo>
                <a:cubicBezTo>
                  <a:pt x="156" y="138"/>
                  <a:pt x="157" y="135"/>
                  <a:pt x="157" y="131"/>
                </a:cubicBezTo>
                <a:close/>
              </a:path>
            </a:pathLst>
          </a:custGeom>
          <a:solidFill>
            <a:srgbClr val="75cfd9"/>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pic>
        <p:nvPicPr>
          <p:cNvPr id="1529" name="图片 12" descr=""/>
          <p:cNvPicPr/>
          <p:nvPr/>
        </p:nvPicPr>
        <p:blipFill>
          <a:blip r:embed="rId1"/>
          <a:stretch/>
        </p:blipFill>
        <p:spPr>
          <a:xfrm>
            <a:off x="3273480" y="430200"/>
            <a:ext cx="1749240" cy="1325520"/>
          </a:xfrm>
          <a:prstGeom prst="rect">
            <a:avLst/>
          </a:prstGeom>
          <a:ln w="0">
            <a:noFill/>
          </a:ln>
        </p:spPr>
      </p:pic>
      <p:sp>
        <p:nvSpPr>
          <p:cNvPr id="1530" name="矩形 14"/>
          <p:cNvSpPr/>
          <p:nvPr/>
        </p:nvSpPr>
        <p:spPr>
          <a:xfrm>
            <a:off x="5365800" y="2033640"/>
            <a:ext cx="621972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1</a:t>
            </a:r>
            <a:r>
              <a:rPr b="0" lang="zh-CN" sz="2400" spc="-1" strike="noStrike">
                <a:solidFill>
                  <a:srgbClr val="7030a0"/>
                </a:solidFill>
                <a:latin typeface="等线"/>
                <a:ea typeface="等线"/>
              </a:rPr>
              <a:t>）扣除范围</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等线"/>
                <a:ea typeface="等线"/>
              </a:rPr>
              <a:t>      </a:t>
            </a:r>
            <a:r>
              <a:rPr b="0" lang="zh-CN" sz="2000" spc="-1" strike="noStrike">
                <a:solidFill>
                  <a:srgbClr val="262626"/>
                </a:solidFill>
                <a:latin typeface="等线"/>
                <a:ea typeface="等线"/>
              </a:rPr>
              <a:t>一个纳税年度内，在社会医疗保险管理信息系统记录的（包括医保目录范围内的自付部分和医保目录范围外的自费部分）由个人负担超过</a:t>
            </a:r>
            <a:r>
              <a:rPr b="0" lang="en-US" sz="2000" spc="-1" strike="noStrike">
                <a:solidFill>
                  <a:srgbClr val="262626"/>
                </a:solidFill>
                <a:latin typeface="等线"/>
                <a:ea typeface="等线"/>
              </a:rPr>
              <a:t>15000</a:t>
            </a:r>
            <a:r>
              <a:rPr b="0" lang="zh-CN" sz="2000" spc="-1" strike="noStrike">
                <a:solidFill>
                  <a:srgbClr val="262626"/>
                </a:solidFill>
                <a:latin typeface="等线"/>
                <a:ea typeface="等线"/>
              </a:rPr>
              <a:t>元的医药费用支出部分。</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2</a:t>
            </a:r>
            <a:r>
              <a:rPr b="0" lang="zh-CN" sz="2400" spc="-1" strike="noStrike">
                <a:solidFill>
                  <a:srgbClr val="7030a0"/>
                </a:solidFill>
                <a:latin typeface="等线"/>
                <a:ea typeface="等线"/>
              </a:rPr>
              <a:t>）扣除标准</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等线"/>
                <a:ea typeface="等线"/>
              </a:rPr>
              <a:t>    </a:t>
            </a:r>
            <a:r>
              <a:rPr b="0" lang="zh-CN" sz="2000" spc="-1" strike="noStrike">
                <a:solidFill>
                  <a:srgbClr val="262626"/>
                </a:solidFill>
                <a:latin typeface="等线"/>
                <a:ea typeface="等线"/>
              </a:rPr>
              <a:t>大病医疗支出，可以按照每年</a:t>
            </a:r>
            <a:r>
              <a:rPr b="0" lang="en-US" sz="2000" spc="-1" strike="noStrike">
                <a:solidFill>
                  <a:srgbClr val="262626"/>
                </a:solidFill>
                <a:latin typeface="等线"/>
                <a:ea typeface="等线"/>
              </a:rPr>
              <a:t>60000</a:t>
            </a:r>
            <a:r>
              <a:rPr b="0" lang="zh-CN" sz="2000" spc="-1" strike="noStrike">
                <a:solidFill>
                  <a:srgbClr val="262626"/>
                </a:solidFill>
                <a:latin typeface="等线"/>
                <a:ea typeface="等线"/>
              </a:rPr>
              <a:t>元标准限额据实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2</a:t>
            </a:r>
            <a:r>
              <a:rPr b="0" lang="zh-CN" sz="2400" spc="-1" strike="noStrike">
                <a:solidFill>
                  <a:srgbClr val="ff0000"/>
                </a:solidFill>
                <a:latin typeface="造字工房尚雅（非商用）常规体"/>
                <a:ea typeface="造字工房尚雅（非商用）常规体"/>
              </a:rPr>
              <a:t>、扣除方式</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等线"/>
                <a:ea typeface="等线"/>
              </a:rPr>
              <a:t>（</a:t>
            </a:r>
            <a:r>
              <a:rPr b="0" lang="en-US" sz="2000" spc="-1" strike="noStrike">
                <a:solidFill>
                  <a:srgbClr val="262626"/>
                </a:solidFill>
                <a:latin typeface="等线"/>
                <a:ea typeface="等线"/>
              </a:rPr>
              <a:t>1</a:t>
            </a:r>
            <a:r>
              <a:rPr b="0" lang="zh-CN" sz="2000" spc="-1" strike="noStrike">
                <a:solidFill>
                  <a:srgbClr val="262626"/>
                </a:solidFill>
                <a:latin typeface="等线"/>
                <a:ea typeface="等线"/>
              </a:rPr>
              <a:t>）大病医疗专项附加扣除由纳税人办理汇算清缴时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等线"/>
                <a:ea typeface="等线"/>
              </a:rPr>
              <a:t>（</a:t>
            </a:r>
            <a:r>
              <a:rPr b="0" lang="en-US" sz="2000" spc="-1" strike="noStrike">
                <a:solidFill>
                  <a:srgbClr val="262626"/>
                </a:solidFill>
                <a:latin typeface="等线"/>
                <a:ea typeface="等线"/>
              </a:rPr>
              <a:t>2</a:t>
            </a:r>
            <a:r>
              <a:rPr b="0" lang="zh-CN" sz="2000" spc="-1" strike="noStrike">
                <a:solidFill>
                  <a:srgbClr val="262626"/>
                </a:solidFill>
                <a:latin typeface="等线"/>
                <a:ea typeface="等线"/>
              </a:rPr>
              <a:t>）纳税人发生的大病医疗支出由纳税人本人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grpSp>
        <p:nvGrpSpPr>
          <p:cNvPr id="1531" name="图形 1"/>
          <p:cNvGrpSpPr/>
          <p:nvPr/>
        </p:nvGrpSpPr>
        <p:grpSpPr>
          <a:xfrm>
            <a:off x="687240" y="1595520"/>
            <a:ext cx="4152960" cy="4140000"/>
            <a:chOff x="687240" y="1595520"/>
            <a:chExt cx="4152960" cy="4140000"/>
          </a:xfrm>
        </p:grpSpPr>
        <p:sp>
          <p:nvSpPr>
            <p:cNvPr id="1532" name="任意多边形: 形状 3"/>
            <p:cNvSpPr/>
            <p:nvPr/>
          </p:nvSpPr>
          <p:spPr>
            <a:xfrm>
              <a:off x="3356280" y="4514760"/>
              <a:ext cx="1323360" cy="982080"/>
            </a:xfrm>
            <a:custGeom>
              <a:avLst/>
              <a:gdLst>
                <a:gd name="textAreaLeft" fmla="*/ 0 w 1323360"/>
                <a:gd name="textAreaRight" fmla="*/ 1323720 w 1323360"/>
                <a:gd name="textAreaTop" fmla="*/ 0 h 982080"/>
                <a:gd name="textAreaBottom" fmla="*/ 982440 h 982080"/>
              </a:gdLst>
              <a:ahLst/>
              <a:rect l="textAreaLeft" t="textAreaTop" r="textAreaRight" b="textAreaBottom"/>
              <a:pathLst>
                <a:path w="1019175" h="619125">
                  <a:moveTo>
                    <a:pt x="1012984" y="313849"/>
                  </a:moveTo>
                  <a:cubicBezTo>
                    <a:pt x="1012984" y="483237"/>
                    <a:pt x="787819" y="620554"/>
                    <a:pt x="510064" y="620554"/>
                  </a:cubicBezTo>
                  <a:cubicBezTo>
                    <a:pt x="232309" y="620554"/>
                    <a:pt x="7144" y="483237"/>
                    <a:pt x="7144" y="313849"/>
                  </a:cubicBezTo>
                  <a:cubicBezTo>
                    <a:pt x="7144" y="144460"/>
                    <a:pt x="232309" y="7144"/>
                    <a:pt x="510064" y="7144"/>
                  </a:cubicBezTo>
                  <a:cubicBezTo>
                    <a:pt x="787819" y="7144"/>
                    <a:pt x="1012984" y="144460"/>
                    <a:pt x="1012984" y="313849"/>
                  </a:cubicBezTo>
                  <a:close/>
                </a:path>
              </a:pathLst>
            </a:custGeom>
            <a:solidFill>
              <a:srgbClr val="0092a4">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33" name="任意多边形: 形状 4"/>
            <p:cNvSpPr/>
            <p:nvPr/>
          </p:nvSpPr>
          <p:spPr>
            <a:xfrm>
              <a:off x="1370880" y="4587120"/>
              <a:ext cx="1187280" cy="846000"/>
            </a:xfrm>
            <a:custGeom>
              <a:avLst/>
              <a:gdLst>
                <a:gd name="textAreaLeft" fmla="*/ 0 w 1187280"/>
                <a:gd name="textAreaRight" fmla="*/ 1187640 w 1187280"/>
                <a:gd name="textAreaTop" fmla="*/ 0 h 846000"/>
                <a:gd name="textAreaBottom" fmla="*/ 846360 h 846000"/>
              </a:gdLst>
              <a:ahLst/>
              <a:rect l="textAreaLeft" t="textAreaTop" r="textAreaRight" b="textAreaBottom"/>
              <a:pathLst>
                <a:path w="914400" h="533400">
                  <a:moveTo>
                    <a:pt x="909214" y="361580"/>
                  </a:moveTo>
                  <a:cubicBezTo>
                    <a:pt x="910166" y="359675"/>
                    <a:pt x="909214" y="357770"/>
                    <a:pt x="909214" y="355865"/>
                  </a:cubicBezTo>
                  <a:lnTo>
                    <a:pt x="909214" y="326337"/>
                  </a:lnTo>
                  <a:lnTo>
                    <a:pt x="847301" y="313955"/>
                  </a:lnTo>
                  <a:cubicBezTo>
                    <a:pt x="712046" y="235850"/>
                    <a:pt x="349143" y="26300"/>
                    <a:pt x="328189" y="13917"/>
                  </a:cubicBezTo>
                  <a:cubicBezTo>
                    <a:pt x="302471" y="-1323"/>
                    <a:pt x="276754" y="13917"/>
                    <a:pt x="276754" y="13917"/>
                  </a:cubicBezTo>
                  <a:cubicBezTo>
                    <a:pt x="276754" y="13917"/>
                    <a:pt x="98636" y="116787"/>
                    <a:pt x="36723" y="152982"/>
                  </a:cubicBezTo>
                  <a:lnTo>
                    <a:pt x="7196" y="147267"/>
                  </a:lnTo>
                  <a:lnTo>
                    <a:pt x="7196" y="176795"/>
                  </a:lnTo>
                  <a:cubicBezTo>
                    <a:pt x="6243" y="186320"/>
                    <a:pt x="18626" y="193940"/>
                    <a:pt x="18626" y="193940"/>
                  </a:cubicBezTo>
                  <a:cubicBezTo>
                    <a:pt x="18626" y="193940"/>
                    <a:pt x="561551" y="507312"/>
                    <a:pt x="588221" y="522552"/>
                  </a:cubicBezTo>
                  <a:cubicBezTo>
                    <a:pt x="596793" y="527315"/>
                    <a:pt x="604414" y="529220"/>
                    <a:pt x="612034" y="529220"/>
                  </a:cubicBezTo>
                  <a:cubicBezTo>
                    <a:pt x="628226" y="529220"/>
                    <a:pt x="639656" y="522552"/>
                    <a:pt x="639656" y="522552"/>
                  </a:cubicBezTo>
                  <a:lnTo>
                    <a:pt x="873018" y="388250"/>
                  </a:lnTo>
                  <a:cubicBezTo>
                    <a:pt x="873018" y="388250"/>
                    <a:pt x="873018" y="388250"/>
                    <a:pt x="898736" y="373010"/>
                  </a:cubicBezTo>
                  <a:cubicBezTo>
                    <a:pt x="904451" y="369200"/>
                    <a:pt x="907309" y="365390"/>
                    <a:pt x="909214" y="3615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34" name="任意多边形: 形状 5"/>
            <p:cNvSpPr/>
            <p:nvPr/>
          </p:nvSpPr>
          <p:spPr>
            <a:xfrm>
              <a:off x="1369800" y="4540320"/>
              <a:ext cx="1187280" cy="846000"/>
            </a:xfrm>
            <a:custGeom>
              <a:avLst/>
              <a:gdLst>
                <a:gd name="textAreaLeft" fmla="*/ 0 w 1187280"/>
                <a:gd name="textAreaRight" fmla="*/ 1187640 w 1187280"/>
                <a:gd name="textAreaTop" fmla="*/ 0 h 846000"/>
                <a:gd name="textAreaBottom" fmla="*/ 846360 h 846000"/>
              </a:gdLst>
              <a:ahLst/>
              <a:rect l="textAreaLeft" t="textAreaTop" r="textAreaRight" b="textAreaBottom"/>
              <a:pathLst>
                <a:path w="914400" h="533400">
                  <a:moveTo>
                    <a:pt x="872966" y="387297"/>
                  </a:moveTo>
                  <a:lnTo>
                    <a:pt x="639604" y="521600"/>
                  </a:lnTo>
                  <a:cubicBezTo>
                    <a:pt x="639604" y="521600"/>
                    <a:pt x="613886" y="536840"/>
                    <a:pt x="588169" y="521600"/>
                  </a:cubicBezTo>
                  <a:cubicBezTo>
                    <a:pt x="562451" y="506360"/>
                    <a:pt x="18574" y="192987"/>
                    <a:pt x="18574" y="192987"/>
                  </a:cubicBezTo>
                  <a:cubicBezTo>
                    <a:pt x="18574" y="192987"/>
                    <a:pt x="-7144" y="177747"/>
                    <a:pt x="18574" y="163460"/>
                  </a:cubicBezTo>
                  <a:cubicBezTo>
                    <a:pt x="44291" y="148220"/>
                    <a:pt x="277654" y="13917"/>
                    <a:pt x="277654" y="13917"/>
                  </a:cubicBezTo>
                  <a:cubicBezTo>
                    <a:pt x="277654" y="13917"/>
                    <a:pt x="303371" y="-1323"/>
                    <a:pt x="329089" y="13917"/>
                  </a:cubicBezTo>
                  <a:cubicBezTo>
                    <a:pt x="354806" y="29157"/>
                    <a:pt x="898684" y="342529"/>
                    <a:pt x="898684" y="342529"/>
                  </a:cubicBezTo>
                  <a:cubicBezTo>
                    <a:pt x="898684" y="342529"/>
                    <a:pt x="924401" y="357770"/>
                    <a:pt x="898684" y="372057"/>
                  </a:cubicBezTo>
                  <a:cubicBezTo>
                    <a:pt x="872966" y="387297"/>
                    <a:pt x="872966" y="387297"/>
                    <a:pt x="872966" y="38729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35" name="任意多边形: 形状 6"/>
            <p:cNvSpPr/>
            <p:nvPr/>
          </p:nvSpPr>
          <p:spPr>
            <a:xfrm>
              <a:off x="1452600" y="4599360"/>
              <a:ext cx="952200" cy="679680"/>
            </a:xfrm>
            <a:custGeom>
              <a:avLst/>
              <a:gdLst>
                <a:gd name="textAreaLeft" fmla="*/ 0 w 952200"/>
                <a:gd name="textAreaRight" fmla="*/ 952560 w 952200"/>
                <a:gd name="textAreaTop" fmla="*/ 0 h 679680"/>
                <a:gd name="textAreaBottom" fmla="*/ 680040 h 679680"/>
              </a:gdLst>
              <a:ahLst/>
              <a:rect l="textAreaLeft" t="textAreaTop" r="textAreaRight" b="textAreaBottom"/>
              <a:pathLst>
                <a:path w="733425" h="428625">
                  <a:moveTo>
                    <a:pt x="731044" y="275749"/>
                  </a:moveTo>
                  <a:lnTo>
                    <a:pt x="265271" y="7144"/>
                  </a:lnTo>
                  <a:lnTo>
                    <a:pt x="7144" y="156686"/>
                  </a:lnTo>
                  <a:lnTo>
                    <a:pt x="472916" y="425291"/>
                  </a:lnTo>
                  <a:lnTo>
                    <a:pt x="731044" y="275749"/>
                  </a:lnTo>
                  <a:close/>
                </a:path>
              </a:pathLst>
            </a:custGeom>
            <a:solidFill>
              <a:srgbClr val="80d2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36" name="任意多边形: 形状 7"/>
            <p:cNvSpPr/>
            <p:nvPr/>
          </p:nvSpPr>
          <p:spPr>
            <a:xfrm>
              <a:off x="2178000" y="5095080"/>
              <a:ext cx="222480" cy="165960"/>
            </a:xfrm>
            <a:custGeom>
              <a:avLst/>
              <a:gdLst>
                <a:gd name="textAreaLeft" fmla="*/ 0 w 222480"/>
                <a:gd name="textAreaRight" fmla="*/ 222840 w 222480"/>
                <a:gd name="textAreaTop" fmla="*/ 0 h 165960"/>
                <a:gd name="textAreaBottom" fmla="*/ 166320 h 165960"/>
              </a:gdLst>
              <a:ahLst/>
              <a:rect l="textAreaLeft" t="textAreaTop" r="textAreaRight" b="textAreaBottom"/>
              <a:pathLst>
                <a:path w="171450" h="104775">
                  <a:moveTo>
                    <a:pt x="169545" y="12859"/>
                  </a:moveTo>
                  <a:lnTo>
                    <a:pt x="164783" y="10001"/>
                  </a:lnTo>
                  <a:cubicBezTo>
                    <a:pt x="158115" y="6191"/>
                    <a:pt x="150495" y="6191"/>
                    <a:pt x="143827" y="10001"/>
                  </a:cubicBezTo>
                  <a:lnTo>
                    <a:pt x="11430" y="86201"/>
                  </a:lnTo>
                  <a:cubicBezTo>
                    <a:pt x="5715" y="89059"/>
                    <a:pt x="5715" y="96679"/>
                    <a:pt x="11430" y="100489"/>
                  </a:cubicBezTo>
                  <a:lnTo>
                    <a:pt x="13335" y="101441"/>
                  </a:lnTo>
                  <a:cubicBezTo>
                    <a:pt x="20955" y="106204"/>
                    <a:pt x="30480" y="106204"/>
                    <a:pt x="37148" y="101441"/>
                  </a:cubicBezTo>
                  <a:lnTo>
                    <a:pt x="169545" y="25241"/>
                  </a:lnTo>
                  <a:cubicBezTo>
                    <a:pt x="174308" y="22384"/>
                    <a:pt x="174308" y="15716"/>
                    <a:pt x="169545" y="1285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37" name="任意多边形: 形状 8"/>
            <p:cNvSpPr/>
            <p:nvPr/>
          </p:nvSpPr>
          <p:spPr>
            <a:xfrm>
              <a:off x="1568880" y="4681080"/>
              <a:ext cx="49320" cy="29880"/>
            </a:xfrm>
            <a:custGeom>
              <a:avLst/>
              <a:gdLst>
                <a:gd name="textAreaLeft" fmla="*/ 0 w 49320"/>
                <a:gd name="textAreaRight" fmla="*/ 49680 w 49320"/>
                <a:gd name="textAreaTop" fmla="*/ 0 h 29880"/>
                <a:gd name="textAreaBottom" fmla="*/ 30240 h 29880"/>
              </a:gdLst>
              <a:ahLst/>
              <a:rect l="textAreaLeft" t="textAreaTop" r="textAreaRight" b="textAreaBottom"/>
              <a:pathLst>
                <a:path w="38100" h="19050">
                  <a:moveTo>
                    <a:pt x="-31722" y="12859"/>
                  </a:moveTo>
                  <a:cubicBezTo>
                    <a:pt x="-31722" y="16015"/>
                    <a:pt x="27844" y="18574"/>
                    <a:pt x="20479" y="18574"/>
                  </a:cubicBezTo>
                  <a:cubicBezTo>
                    <a:pt x="13114" y="18574"/>
                    <a:pt x="7144" y="16015"/>
                    <a:pt x="7144" y="12859"/>
                  </a:cubicBezTo>
                  <a:cubicBezTo>
                    <a:pt x="7144" y="9703"/>
                    <a:pt x="13114" y="7144"/>
                    <a:pt x="20479" y="7144"/>
                  </a:cubicBezTo>
                  <a:cubicBezTo>
                    <a:pt x="27844" y="7144"/>
                    <a:pt x="-31722" y="9702"/>
                    <a:pt x="-31722" y="12859"/>
                  </a:cubicBezTo>
                  <a:close/>
                </a:path>
              </a:pathLst>
            </a:custGeom>
            <a:solidFill>
              <a:srgbClr val="0b3e5f"/>
            </a:solidFill>
            <a:ln w="0">
              <a:noFill/>
            </a:ln>
          </p:spPr>
          <p:style>
            <a:lnRef idx="0"/>
            <a:fillRef idx="0"/>
            <a:effectRef idx="0"/>
            <a:fontRef idx="minor"/>
          </p:style>
          <p:txBody>
            <a:bodyPr lIns="90000" rIns="90000" tIns="-16560" bIns="-16560" anchor="ctr">
              <a:noAutofit/>
            </a:bodyPr>
            <a:p>
              <a:endParaRPr b="0" lang="en-US" sz="1800" spc="-1" strike="noStrike">
                <a:solidFill>
                  <a:srgbClr val="262626"/>
                </a:solidFill>
                <a:latin typeface="Arial"/>
              </a:endParaRPr>
            </a:p>
          </p:txBody>
        </p:sp>
        <p:sp>
          <p:nvSpPr>
            <p:cNvPr id="1538" name="任意多边形: 形状 9"/>
            <p:cNvSpPr/>
            <p:nvPr/>
          </p:nvSpPr>
          <p:spPr>
            <a:xfrm>
              <a:off x="1369800" y="4541760"/>
              <a:ext cx="791280" cy="846000"/>
            </a:xfrm>
            <a:custGeom>
              <a:avLst/>
              <a:gdLst>
                <a:gd name="textAreaLeft" fmla="*/ 0 w 791280"/>
                <a:gd name="textAreaRight" fmla="*/ 791640 w 791280"/>
                <a:gd name="textAreaTop" fmla="*/ 0 h 846000"/>
                <a:gd name="textAreaBottom" fmla="*/ 846360 h 846000"/>
              </a:gdLst>
              <a:ahLst/>
              <a:rect l="textAreaLeft" t="textAreaTop" r="textAreaRight" b="textAreaBottom"/>
              <a:pathLst>
                <a:path w="609600" h="533400">
                  <a:moveTo>
                    <a:pt x="321469" y="10167"/>
                  </a:moveTo>
                  <a:cubicBezTo>
                    <a:pt x="298609" y="1594"/>
                    <a:pt x="277654" y="13977"/>
                    <a:pt x="277654" y="13977"/>
                  </a:cubicBezTo>
                  <a:cubicBezTo>
                    <a:pt x="277654" y="13977"/>
                    <a:pt x="45244" y="148279"/>
                    <a:pt x="18574" y="163519"/>
                  </a:cubicBezTo>
                  <a:cubicBezTo>
                    <a:pt x="-7144" y="178759"/>
                    <a:pt x="18574" y="193047"/>
                    <a:pt x="18574" y="193047"/>
                  </a:cubicBezTo>
                  <a:cubicBezTo>
                    <a:pt x="18574" y="193047"/>
                    <a:pt x="561499" y="506419"/>
                    <a:pt x="588169" y="521659"/>
                  </a:cubicBezTo>
                  <a:cubicBezTo>
                    <a:pt x="594836" y="525469"/>
                    <a:pt x="601504" y="527374"/>
                    <a:pt x="607219" y="528327"/>
                  </a:cubicBezTo>
                  <a:cubicBezTo>
                    <a:pt x="514826" y="359734"/>
                    <a:pt x="385286" y="125419"/>
                    <a:pt x="321469" y="10167"/>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39" name="任意多边形: 形状 10"/>
            <p:cNvSpPr/>
            <p:nvPr/>
          </p:nvSpPr>
          <p:spPr>
            <a:xfrm>
              <a:off x="1217520" y="3682080"/>
              <a:ext cx="2943360" cy="1420200"/>
            </a:xfrm>
            <a:custGeom>
              <a:avLst/>
              <a:gdLst>
                <a:gd name="textAreaLeft" fmla="*/ 0 w 2943360"/>
                <a:gd name="textAreaRight" fmla="*/ 2943720 w 2943360"/>
                <a:gd name="textAreaTop" fmla="*/ 0 h 1420200"/>
                <a:gd name="textAreaBottom" fmla="*/ 1420200 h 1420200"/>
              </a:gdLst>
              <a:ahLst/>
              <a:rect l="textAreaLeft" t="textAreaTop" r="textAreaRight" b="textAreaBottom"/>
              <a:pathLst>
                <a:path w="2266950" h="895350">
                  <a:moveTo>
                    <a:pt x="7144" y="7144"/>
                  </a:moveTo>
                  <a:lnTo>
                    <a:pt x="7144" y="83344"/>
                  </a:lnTo>
                  <a:lnTo>
                    <a:pt x="1415891" y="896779"/>
                  </a:lnTo>
                  <a:lnTo>
                    <a:pt x="2267426" y="408146"/>
                  </a:lnTo>
                  <a:lnTo>
                    <a:pt x="2267426" y="326231"/>
                  </a:lnTo>
                  <a:lnTo>
                    <a:pt x="7144" y="71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0" name="任意多边形: 形状 11"/>
            <p:cNvSpPr/>
            <p:nvPr/>
          </p:nvSpPr>
          <p:spPr>
            <a:xfrm>
              <a:off x="1216440" y="3008880"/>
              <a:ext cx="2955960" cy="2100240"/>
            </a:xfrm>
            <a:custGeom>
              <a:avLst/>
              <a:gdLst>
                <a:gd name="textAreaLeft" fmla="*/ 0 w 2955960"/>
                <a:gd name="textAreaRight" fmla="*/ 2956320 w 2955960"/>
                <a:gd name="textAreaTop" fmla="*/ 0 h 2100240"/>
                <a:gd name="textAreaBottom" fmla="*/ 2100600 h 2100240"/>
              </a:gdLst>
              <a:ahLst/>
              <a:rect l="textAreaLeft" t="textAreaTop" r="textAreaRight" b="textAreaBottom"/>
              <a:pathLst>
                <a:path w="2276475" h="1323975">
                  <a:moveTo>
                    <a:pt x="2182654" y="894345"/>
                  </a:moveTo>
                  <a:lnTo>
                    <a:pt x="1482566" y="1305825"/>
                  </a:lnTo>
                  <a:cubicBezTo>
                    <a:pt x="1482566" y="1305825"/>
                    <a:pt x="1422559" y="1340115"/>
                    <a:pt x="1361599" y="1305825"/>
                  </a:cubicBezTo>
                  <a:cubicBezTo>
                    <a:pt x="1301591" y="1271535"/>
                    <a:pt x="33814" y="539062"/>
                    <a:pt x="33814" y="539062"/>
                  </a:cubicBezTo>
                  <a:cubicBezTo>
                    <a:pt x="33814" y="539062"/>
                    <a:pt x="-26194" y="504772"/>
                    <a:pt x="33814" y="469530"/>
                  </a:cubicBezTo>
                  <a:cubicBezTo>
                    <a:pt x="93821" y="434287"/>
                    <a:pt x="794861" y="22807"/>
                    <a:pt x="794861" y="22807"/>
                  </a:cubicBezTo>
                  <a:cubicBezTo>
                    <a:pt x="794861" y="22807"/>
                    <a:pt x="854869" y="-12435"/>
                    <a:pt x="915829" y="22807"/>
                  </a:cubicBezTo>
                  <a:cubicBezTo>
                    <a:pt x="975836" y="58050"/>
                    <a:pt x="2243614" y="789570"/>
                    <a:pt x="2243614" y="789570"/>
                  </a:cubicBezTo>
                  <a:cubicBezTo>
                    <a:pt x="2243614" y="789570"/>
                    <a:pt x="2303621" y="823860"/>
                    <a:pt x="2243614" y="859102"/>
                  </a:cubicBezTo>
                  <a:cubicBezTo>
                    <a:pt x="2182654" y="894345"/>
                    <a:pt x="2182654" y="894345"/>
                    <a:pt x="2182654" y="8943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1" name="任意多边形: 形状 12"/>
            <p:cNvSpPr/>
            <p:nvPr/>
          </p:nvSpPr>
          <p:spPr>
            <a:xfrm>
              <a:off x="1216440" y="2898720"/>
              <a:ext cx="2955960" cy="2100240"/>
            </a:xfrm>
            <a:custGeom>
              <a:avLst/>
              <a:gdLst>
                <a:gd name="textAreaLeft" fmla="*/ 0 w 2955960"/>
                <a:gd name="textAreaRight" fmla="*/ 2956320 w 2955960"/>
                <a:gd name="textAreaTop" fmla="*/ 0 h 2100240"/>
                <a:gd name="textAreaBottom" fmla="*/ 2100600 h 2100240"/>
              </a:gdLst>
              <a:ahLst/>
              <a:rect l="textAreaLeft" t="textAreaTop" r="textAreaRight" b="textAreaBottom"/>
              <a:pathLst>
                <a:path w="2276475" h="1323975">
                  <a:moveTo>
                    <a:pt x="2182654" y="894345"/>
                  </a:moveTo>
                  <a:lnTo>
                    <a:pt x="1482566" y="1305825"/>
                  </a:lnTo>
                  <a:cubicBezTo>
                    <a:pt x="1482566" y="1305825"/>
                    <a:pt x="1422559" y="1340115"/>
                    <a:pt x="1361599" y="1305825"/>
                  </a:cubicBezTo>
                  <a:cubicBezTo>
                    <a:pt x="1301591" y="1271535"/>
                    <a:pt x="33814" y="539062"/>
                    <a:pt x="33814" y="539062"/>
                  </a:cubicBezTo>
                  <a:cubicBezTo>
                    <a:pt x="33814" y="539062"/>
                    <a:pt x="-26194" y="504772"/>
                    <a:pt x="33814" y="469530"/>
                  </a:cubicBezTo>
                  <a:cubicBezTo>
                    <a:pt x="93821" y="434287"/>
                    <a:pt x="794861" y="22807"/>
                    <a:pt x="794861" y="22807"/>
                  </a:cubicBezTo>
                  <a:cubicBezTo>
                    <a:pt x="794861" y="22807"/>
                    <a:pt x="854869" y="-12435"/>
                    <a:pt x="915829" y="22807"/>
                  </a:cubicBezTo>
                  <a:cubicBezTo>
                    <a:pt x="975836" y="58050"/>
                    <a:pt x="2243614" y="789570"/>
                    <a:pt x="2243614" y="789570"/>
                  </a:cubicBezTo>
                  <a:cubicBezTo>
                    <a:pt x="2243614" y="789570"/>
                    <a:pt x="2303621" y="823860"/>
                    <a:pt x="2243614" y="859102"/>
                  </a:cubicBezTo>
                  <a:cubicBezTo>
                    <a:pt x="2182654" y="894345"/>
                    <a:pt x="2182654" y="894345"/>
                    <a:pt x="2182654" y="8943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2" name="任意多边形: 形状 13"/>
            <p:cNvSpPr/>
            <p:nvPr/>
          </p:nvSpPr>
          <p:spPr>
            <a:xfrm>
              <a:off x="1407960" y="3035160"/>
              <a:ext cx="2597040" cy="1843560"/>
            </a:xfrm>
            <a:custGeom>
              <a:avLst/>
              <a:gdLst>
                <a:gd name="textAreaLeft" fmla="*/ 0 w 2597040"/>
                <a:gd name="textAreaRight" fmla="*/ 2597400 w 2597040"/>
                <a:gd name="textAreaTop" fmla="*/ 0 h 1843560"/>
                <a:gd name="textAreaBottom" fmla="*/ 1843920 h 1843560"/>
              </a:gdLst>
              <a:ahLst/>
              <a:rect l="textAreaLeft" t="textAreaTop" r="textAreaRight" b="textAreaBottom"/>
              <a:pathLst>
                <a:path w="2000250" h="1162050">
                  <a:moveTo>
                    <a:pt x="1995964" y="717709"/>
                  </a:moveTo>
                  <a:lnTo>
                    <a:pt x="768191" y="7144"/>
                  </a:lnTo>
                  <a:lnTo>
                    <a:pt x="7144" y="453866"/>
                  </a:lnTo>
                  <a:lnTo>
                    <a:pt x="1236821" y="1163479"/>
                  </a:lnTo>
                  <a:lnTo>
                    <a:pt x="1995964" y="717709"/>
                  </a:lnTo>
                  <a:close/>
                </a:path>
              </a:pathLst>
            </a:custGeom>
            <a:solidFill>
              <a:srgbClr val="80d2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3" name="任意多边形: 形状 14"/>
            <p:cNvSpPr/>
            <p:nvPr/>
          </p:nvSpPr>
          <p:spPr>
            <a:xfrm>
              <a:off x="1821240" y="3308760"/>
              <a:ext cx="86400" cy="60120"/>
            </a:xfrm>
            <a:custGeom>
              <a:avLst/>
              <a:gdLst>
                <a:gd name="textAreaLeft" fmla="*/ 0 w 86400"/>
                <a:gd name="textAreaRight" fmla="*/ 86760 w 86400"/>
                <a:gd name="textAreaTop" fmla="*/ 0 h 60120"/>
                <a:gd name="textAreaBottom" fmla="*/ 60480 h 60120"/>
              </a:gdLst>
              <a:ahLst/>
              <a:rect l="textAreaLeft" t="textAreaTop" r="textAreaRight" b="textAreaBottom"/>
              <a:pathLst>
                <a:path w="66675" h="38100">
                  <a:moveTo>
                    <a:pt x="7144" y="19526"/>
                  </a:moveTo>
                  <a:cubicBezTo>
                    <a:pt x="7144" y="26194"/>
                    <a:pt x="20479" y="31909"/>
                    <a:pt x="37624" y="31909"/>
                  </a:cubicBezTo>
                  <a:cubicBezTo>
                    <a:pt x="53816" y="31909"/>
                    <a:pt x="68104" y="26194"/>
                    <a:pt x="68104" y="19526"/>
                  </a:cubicBezTo>
                  <a:cubicBezTo>
                    <a:pt x="68104" y="12859"/>
                    <a:pt x="54769" y="7144"/>
                    <a:pt x="37624" y="7144"/>
                  </a:cubicBezTo>
                  <a:cubicBezTo>
                    <a:pt x="21431" y="7144"/>
                    <a:pt x="7144" y="12859"/>
                    <a:pt x="7144" y="19526"/>
                  </a:cubicBezTo>
                  <a:close/>
                </a:path>
              </a:pathLst>
            </a:custGeom>
            <a:solidFill>
              <a:srgbClr val="071e27"/>
            </a:solidFill>
            <a:ln w="0">
              <a:noFill/>
            </a:ln>
          </p:spPr>
          <p:style>
            <a:lnRef idx="0"/>
            <a:fillRef idx="0"/>
            <a:effectRef idx="0"/>
            <a:fontRef idx="minor"/>
          </p:style>
          <p:txBody>
            <a:bodyPr lIns="90000" rIns="90000" tIns="13680" bIns="13680" anchor="ctr">
              <a:noAutofit/>
            </a:bodyPr>
            <a:p>
              <a:endParaRPr b="0" lang="en-US" sz="1800" spc="-1" strike="noStrike">
                <a:solidFill>
                  <a:srgbClr val="262626"/>
                </a:solidFill>
                <a:latin typeface="Arial"/>
              </a:endParaRPr>
            </a:p>
          </p:txBody>
        </p:sp>
        <p:sp>
          <p:nvSpPr>
            <p:cNvPr id="1544" name="任意多边形: 形状 15"/>
            <p:cNvSpPr/>
            <p:nvPr/>
          </p:nvSpPr>
          <p:spPr>
            <a:xfrm>
              <a:off x="1216440" y="2900520"/>
              <a:ext cx="1830240" cy="2100240"/>
            </a:xfrm>
            <a:custGeom>
              <a:avLst/>
              <a:gdLst>
                <a:gd name="textAreaLeft" fmla="*/ 0 w 1830240"/>
                <a:gd name="textAreaRight" fmla="*/ 1830600 w 1830240"/>
                <a:gd name="textAreaTop" fmla="*/ 0 h 2100240"/>
                <a:gd name="textAreaBottom" fmla="*/ 2100600 h 2100240"/>
              </a:gdLst>
              <a:ahLst/>
              <a:rect l="textAreaLeft" t="textAreaTop" r="textAreaRight" b="textAreaBottom"/>
              <a:pathLst>
                <a:path w="1409700" h="1323975">
                  <a:moveTo>
                    <a:pt x="896779" y="13844"/>
                  </a:moveTo>
                  <a:cubicBezTo>
                    <a:pt x="843439" y="-5206"/>
                    <a:pt x="794861" y="22417"/>
                    <a:pt x="794861" y="22417"/>
                  </a:cubicBezTo>
                  <a:cubicBezTo>
                    <a:pt x="794861" y="22417"/>
                    <a:pt x="94774" y="433897"/>
                    <a:pt x="33814" y="469139"/>
                  </a:cubicBezTo>
                  <a:cubicBezTo>
                    <a:pt x="-26194" y="504382"/>
                    <a:pt x="33814" y="538672"/>
                    <a:pt x="33814" y="538672"/>
                  </a:cubicBezTo>
                  <a:cubicBezTo>
                    <a:pt x="33814" y="538672"/>
                    <a:pt x="1300639" y="1270192"/>
                    <a:pt x="1361599" y="1305434"/>
                  </a:cubicBezTo>
                  <a:cubicBezTo>
                    <a:pt x="1376839" y="1314007"/>
                    <a:pt x="1392079" y="1318769"/>
                    <a:pt x="1406366" y="1319722"/>
                  </a:cubicBezTo>
                  <a:cubicBezTo>
                    <a:pt x="1190149" y="927292"/>
                    <a:pt x="1045369" y="284354"/>
                    <a:pt x="896779" y="13844"/>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5" name="任意多边形: 形状 16"/>
            <p:cNvSpPr/>
            <p:nvPr/>
          </p:nvSpPr>
          <p:spPr>
            <a:xfrm>
              <a:off x="2829240" y="3943440"/>
              <a:ext cx="655200" cy="528840"/>
            </a:xfrm>
            <a:custGeom>
              <a:avLst/>
              <a:gdLst>
                <a:gd name="textAreaLeft" fmla="*/ 0 w 655200"/>
                <a:gd name="textAreaRight" fmla="*/ 655560 w 655200"/>
                <a:gd name="textAreaTop" fmla="*/ 0 h 528840"/>
                <a:gd name="textAreaBottom" fmla="*/ 529200 h 528840"/>
              </a:gdLst>
              <a:ahLst/>
              <a:rect l="textAreaLeft" t="textAreaTop" r="textAreaRight" b="textAreaBottom"/>
              <a:pathLst>
                <a:path w="504825" h="333375">
                  <a:moveTo>
                    <a:pt x="504349" y="47149"/>
                  </a:moveTo>
                  <a:lnTo>
                    <a:pt x="7144" y="334804"/>
                  </a:lnTo>
                  <a:lnTo>
                    <a:pt x="7144" y="293846"/>
                  </a:lnTo>
                  <a:lnTo>
                    <a:pt x="504349" y="7144"/>
                  </a:lnTo>
                  <a:lnTo>
                    <a:pt x="504349" y="47149"/>
                  </a:lnTo>
                  <a:close/>
                </a:path>
              </a:pathLst>
            </a:custGeom>
            <a:solidFill>
              <a:srgbClr val="007e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6" name="任意多边形: 形状 17"/>
            <p:cNvSpPr/>
            <p:nvPr/>
          </p:nvSpPr>
          <p:spPr>
            <a:xfrm>
              <a:off x="1999440" y="3357000"/>
              <a:ext cx="1483920" cy="1057680"/>
            </a:xfrm>
            <a:custGeom>
              <a:avLst/>
              <a:gdLst>
                <a:gd name="textAreaLeft" fmla="*/ 0 w 1483920"/>
                <a:gd name="textAreaRight" fmla="*/ 1484280 w 1483920"/>
                <a:gd name="textAreaTop" fmla="*/ 0 h 1057680"/>
                <a:gd name="textAreaBottom" fmla="*/ 1057680 h 1057680"/>
              </a:gdLst>
              <a:ahLst/>
              <a:rect l="textAreaLeft" t="textAreaTop" r="textAreaRight" b="textAreaBottom"/>
              <a:pathLst>
                <a:path w="1143000" h="666750">
                  <a:moveTo>
                    <a:pt x="1143476" y="376714"/>
                  </a:moveTo>
                  <a:lnTo>
                    <a:pt x="504349" y="7144"/>
                  </a:lnTo>
                  <a:lnTo>
                    <a:pt x="7144" y="293846"/>
                  </a:lnTo>
                  <a:lnTo>
                    <a:pt x="646271" y="663416"/>
                  </a:lnTo>
                  <a:lnTo>
                    <a:pt x="1143476" y="376714"/>
                  </a:lnTo>
                  <a:close/>
                </a:path>
              </a:pathLst>
            </a:custGeom>
            <a:solidFill>
              <a:srgbClr val="e2c1a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7" name="任意多边形: 形状 18"/>
            <p:cNvSpPr/>
            <p:nvPr/>
          </p:nvSpPr>
          <p:spPr>
            <a:xfrm>
              <a:off x="1999440" y="3812040"/>
              <a:ext cx="840960" cy="664560"/>
            </a:xfrm>
            <a:custGeom>
              <a:avLst/>
              <a:gdLst>
                <a:gd name="textAreaLeft" fmla="*/ 0 w 840960"/>
                <a:gd name="textAreaRight" fmla="*/ 841320 w 840960"/>
                <a:gd name="textAreaTop" fmla="*/ 0 h 664560"/>
                <a:gd name="textAreaBottom" fmla="*/ 664920 h 664560"/>
              </a:gdLst>
              <a:ahLst/>
              <a:rect l="textAreaLeft" t="textAreaTop" r="textAreaRight" b="textAreaBottom"/>
              <a:pathLst>
                <a:path w="647700" h="419100">
                  <a:moveTo>
                    <a:pt x="646271" y="417671"/>
                  </a:moveTo>
                  <a:lnTo>
                    <a:pt x="7144" y="48101"/>
                  </a:lnTo>
                  <a:lnTo>
                    <a:pt x="7144" y="7144"/>
                  </a:lnTo>
                  <a:lnTo>
                    <a:pt x="646271" y="376714"/>
                  </a:lnTo>
                  <a:lnTo>
                    <a:pt x="646271" y="417671"/>
                  </a:lnTo>
                  <a:close/>
                </a:path>
              </a:pathLst>
            </a:custGeom>
            <a:solidFill>
              <a:srgbClr val="003e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8" name="任意多边形: 形状 19"/>
            <p:cNvSpPr/>
            <p:nvPr/>
          </p:nvSpPr>
          <p:spPr>
            <a:xfrm>
              <a:off x="2829240" y="3680640"/>
              <a:ext cx="655200" cy="543960"/>
            </a:xfrm>
            <a:custGeom>
              <a:avLst/>
              <a:gdLst>
                <a:gd name="textAreaLeft" fmla="*/ 0 w 655200"/>
                <a:gd name="textAreaRight" fmla="*/ 655560 w 655200"/>
                <a:gd name="textAreaTop" fmla="*/ 0 h 543960"/>
                <a:gd name="textAreaBottom" fmla="*/ 544320 h 543960"/>
              </a:gdLst>
              <a:ahLst/>
              <a:rect l="textAreaLeft" t="textAreaTop" r="textAreaRight" b="textAreaBottom"/>
              <a:pathLst>
                <a:path w="504825" h="342900">
                  <a:moveTo>
                    <a:pt x="504349" y="48101"/>
                  </a:moveTo>
                  <a:lnTo>
                    <a:pt x="7144" y="335756"/>
                  </a:lnTo>
                  <a:lnTo>
                    <a:pt x="7144" y="293846"/>
                  </a:lnTo>
                  <a:lnTo>
                    <a:pt x="504349" y="7144"/>
                  </a:lnTo>
                  <a:lnTo>
                    <a:pt x="504349" y="48101"/>
                  </a:lnTo>
                  <a:close/>
                </a:path>
              </a:pathLst>
            </a:custGeom>
            <a:solidFill>
              <a:srgbClr val="007e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49" name="任意多边形: 形状 20"/>
            <p:cNvSpPr/>
            <p:nvPr/>
          </p:nvSpPr>
          <p:spPr>
            <a:xfrm>
              <a:off x="1999440" y="3095640"/>
              <a:ext cx="1483920" cy="1057680"/>
            </a:xfrm>
            <a:custGeom>
              <a:avLst/>
              <a:gdLst>
                <a:gd name="textAreaLeft" fmla="*/ 0 w 1483920"/>
                <a:gd name="textAreaRight" fmla="*/ 1484280 w 1483920"/>
                <a:gd name="textAreaTop" fmla="*/ 0 h 1057680"/>
                <a:gd name="textAreaBottom" fmla="*/ 1057680 h 1057680"/>
              </a:gdLst>
              <a:ahLst/>
              <a:rect l="textAreaLeft" t="textAreaTop" r="textAreaRight" b="textAreaBottom"/>
              <a:pathLst>
                <a:path w="1143000" h="666750">
                  <a:moveTo>
                    <a:pt x="7144" y="293846"/>
                  </a:moveTo>
                  <a:lnTo>
                    <a:pt x="646271" y="662464"/>
                  </a:lnTo>
                  <a:lnTo>
                    <a:pt x="1143476" y="375761"/>
                  </a:lnTo>
                  <a:lnTo>
                    <a:pt x="504349" y="7144"/>
                  </a:lnTo>
                  <a:lnTo>
                    <a:pt x="7144" y="293846"/>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0" name="任意多边形: 形状 21"/>
            <p:cNvSpPr/>
            <p:nvPr/>
          </p:nvSpPr>
          <p:spPr>
            <a:xfrm>
              <a:off x="1999440" y="3550680"/>
              <a:ext cx="840960" cy="664560"/>
            </a:xfrm>
            <a:custGeom>
              <a:avLst/>
              <a:gdLst>
                <a:gd name="textAreaLeft" fmla="*/ 0 w 840960"/>
                <a:gd name="textAreaRight" fmla="*/ 841320 w 840960"/>
                <a:gd name="textAreaTop" fmla="*/ 0 h 664560"/>
                <a:gd name="textAreaBottom" fmla="*/ 664920 h 664560"/>
              </a:gdLst>
              <a:ahLst/>
              <a:rect l="textAreaLeft" t="textAreaTop" r="textAreaRight" b="textAreaBottom"/>
              <a:pathLst>
                <a:path w="647700" h="419100">
                  <a:moveTo>
                    <a:pt x="646271" y="417671"/>
                  </a:moveTo>
                  <a:lnTo>
                    <a:pt x="7144" y="48101"/>
                  </a:lnTo>
                  <a:lnTo>
                    <a:pt x="7144" y="7144"/>
                  </a:lnTo>
                  <a:lnTo>
                    <a:pt x="646271" y="375761"/>
                  </a:lnTo>
                  <a:lnTo>
                    <a:pt x="646271" y="417671"/>
                  </a:lnTo>
                  <a:close/>
                </a:path>
              </a:pathLst>
            </a:custGeom>
            <a:solidFill>
              <a:srgbClr val="003e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1" name="任意多边形: 形状 22"/>
            <p:cNvSpPr/>
            <p:nvPr/>
          </p:nvSpPr>
          <p:spPr>
            <a:xfrm>
              <a:off x="1999440" y="3616920"/>
              <a:ext cx="1533600" cy="800640"/>
            </a:xfrm>
            <a:custGeom>
              <a:avLst/>
              <a:gdLst>
                <a:gd name="textAreaLeft" fmla="*/ 0 w 1533600"/>
                <a:gd name="textAreaRight" fmla="*/ 1533960 w 1533600"/>
                <a:gd name="textAreaTop" fmla="*/ 0 h 800640"/>
                <a:gd name="textAreaBottom" fmla="*/ 801000 h 800640"/>
              </a:gdLst>
              <a:ahLst/>
              <a:rect l="textAreaLeft" t="textAreaTop" r="textAreaRight" b="textAreaBottom"/>
              <a:pathLst>
                <a:path w="1181100" h="504825">
                  <a:moveTo>
                    <a:pt x="1143476" y="88106"/>
                  </a:moveTo>
                  <a:lnTo>
                    <a:pt x="1143476" y="88106"/>
                  </a:lnTo>
                  <a:cubicBezTo>
                    <a:pt x="1180624" y="110014"/>
                    <a:pt x="1188244" y="160496"/>
                    <a:pt x="1160621" y="192881"/>
                  </a:cubicBezTo>
                  <a:lnTo>
                    <a:pt x="1143476" y="212884"/>
                  </a:lnTo>
                  <a:lnTo>
                    <a:pt x="646271" y="499586"/>
                  </a:lnTo>
                  <a:lnTo>
                    <a:pt x="7144" y="130969"/>
                  </a:lnTo>
                  <a:lnTo>
                    <a:pt x="7144" y="7144"/>
                  </a:lnTo>
                  <a:lnTo>
                    <a:pt x="646271" y="375761"/>
                  </a:lnTo>
                  <a:lnTo>
                    <a:pt x="1143476" y="881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2" name="任意多边形: 形状 23"/>
            <p:cNvSpPr/>
            <p:nvPr/>
          </p:nvSpPr>
          <p:spPr>
            <a:xfrm>
              <a:off x="3475080" y="3680640"/>
              <a:ext cx="98640" cy="347400"/>
            </a:xfrm>
            <a:custGeom>
              <a:avLst/>
              <a:gdLst>
                <a:gd name="textAreaLeft" fmla="*/ 0 w 98640"/>
                <a:gd name="textAreaRight" fmla="*/ 99000 w 98640"/>
                <a:gd name="textAreaTop" fmla="*/ 0 h 347400"/>
                <a:gd name="textAreaBottom" fmla="*/ 347760 h 347400"/>
              </a:gdLst>
              <a:ahLst/>
              <a:rect l="textAreaLeft" t="textAreaTop" r="textAreaRight" b="textAreaBottom"/>
              <a:pathLst>
                <a:path w="76200" h="219075">
                  <a:moveTo>
                    <a:pt x="18574" y="13811"/>
                  </a:moveTo>
                  <a:lnTo>
                    <a:pt x="7144" y="7144"/>
                  </a:lnTo>
                  <a:lnTo>
                    <a:pt x="7144" y="48101"/>
                  </a:lnTo>
                  <a:cubicBezTo>
                    <a:pt x="44291" y="70009"/>
                    <a:pt x="51911" y="120491"/>
                    <a:pt x="24289" y="152876"/>
                  </a:cubicBezTo>
                  <a:lnTo>
                    <a:pt x="7144" y="172879"/>
                  </a:lnTo>
                  <a:lnTo>
                    <a:pt x="7144" y="213836"/>
                  </a:lnTo>
                  <a:lnTo>
                    <a:pt x="42386" y="176689"/>
                  </a:lnTo>
                  <a:cubicBezTo>
                    <a:pt x="88106" y="127159"/>
                    <a:pt x="76676" y="48101"/>
                    <a:pt x="18574" y="13811"/>
                  </a:cubicBezTo>
                  <a:close/>
                </a:path>
              </a:pathLst>
            </a:custGeom>
            <a:solidFill>
              <a:srgbClr val="007e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3" name="任意多边形: 形状 24"/>
            <p:cNvSpPr/>
            <p:nvPr/>
          </p:nvSpPr>
          <p:spPr>
            <a:xfrm>
              <a:off x="3429000" y="3943440"/>
              <a:ext cx="61560" cy="105480"/>
            </a:xfrm>
            <a:custGeom>
              <a:avLst/>
              <a:gdLst>
                <a:gd name="textAreaLeft" fmla="*/ 0 w 61560"/>
                <a:gd name="textAreaRight" fmla="*/ 61920 w 61560"/>
                <a:gd name="textAreaTop" fmla="*/ 0 h 105480"/>
                <a:gd name="textAreaBottom" fmla="*/ 105840 h 105480"/>
              </a:gdLst>
              <a:ahLst/>
              <a:rect l="textAreaLeft" t="textAreaTop" r="textAreaRight" b="textAreaBottom"/>
              <a:pathLst>
                <a:path w="47625" h="66675">
                  <a:moveTo>
                    <a:pt x="7144" y="68104"/>
                  </a:moveTo>
                  <a:lnTo>
                    <a:pt x="7144" y="27146"/>
                  </a:lnTo>
                  <a:lnTo>
                    <a:pt x="42386" y="7144"/>
                  </a:lnTo>
                  <a:lnTo>
                    <a:pt x="42386" y="47149"/>
                  </a:lnTo>
                  <a:lnTo>
                    <a:pt x="7144" y="68104"/>
                  </a:lnTo>
                  <a:close/>
                </a:path>
              </a:pathLst>
            </a:custGeom>
            <a:solidFill>
              <a:srgbClr val="007e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4" name="任意多边形: 形状 25"/>
            <p:cNvSpPr/>
            <p:nvPr/>
          </p:nvSpPr>
          <p:spPr>
            <a:xfrm>
              <a:off x="1999440" y="3615480"/>
              <a:ext cx="840960" cy="800640"/>
            </a:xfrm>
            <a:custGeom>
              <a:avLst/>
              <a:gdLst>
                <a:gd name="textAreaLeft" fmla="*/ 0 w 840960"/>
                <a:gd name="textAreaRight" fmla="*/ 841320 w 840960"/>
                <a:gd name="textAreaTop" fmla="*/ 0 h 800640"/>
                <a:gd name="textAreaBottom" fmla="*/ 801000 h 800640"/>
              </a:gdLst>
              <a:ahLst/>
              <a:rect l="textAreaLeft" t="textAreaTop" r="textAreaRight" b="textAreaBottom"/>
              <a:pathLst>
                <a:path w="647700" h="504825">
                  <a:moveTo>
                    <a:pt x="646271" y="376714"/>
                  </a:moveTo>
                  <a:lnTo>
                    <a:pt x="646271" y="500539"/>
                  </a:lnTo>
                  <a:lnTo>
                    <a:pt x="7144" y="130969"/>
                  </a:lnTo>
                  <a:lnTo>
                    <a:pt x="7144" y="7144"/>
                  </a:lnTo>
                  <a:lnTo>
                    <a:pt x="646271" y="376714"/>
                  </a:lnTo>
                  <a:close/>
                </a:path>
              </a:pathLst>
            </a:custGeom>
            <a:solidFill>
              <a:srgbClr val="7575f0">
                <a:alpha val="3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5" name="任意多边形: 形状 26"/>
            <p:cNvSpPr/>
            <p:nvPr/>
          </p:nvSpPr>
          <p:spPr>
            <a:xfrm>
              <a:off x="2206080" y="3659400"/>
              <a:ext cx="519120" cy="423000"/>
            </a:xfrm>
            <a:custGeom>
              <a:avLst/>
              <a:gdLst>
                <a:gd name="textAreaLeft" fmla="*/ 0 w 519120"/>
                <a:gd name="textAreaRight" fmla="*/ 519480 w 519120"/>
                <a:gd name="textAreaTop" fmla="*/ 0 h 423000"/>
                <a:gd name="textAreaBottom" fmla="*/ 423360 h 423000"/>
              </a:gdLst>
              <a:ahLst/>
              <a:rect l="textAreaLeft" t="textAreaTop" r="textAreaRight" b="textAreaBottom"/>
              <a:pathLst>
                <a:path w="400050" h="266700">
                  <a:moveTo>
                    <a:pt x="7144" y="39529"/>
                  </a:moveTo>
                  <a:lnTo>
                    <a:pt x="396716" y="264319"/>
                  </a:lnTo>
                  <a:lnTo>
                    <a:pt x="396716" y="231934"/>
                  </a:lnTo>
                  <a:lnTo>
                    <a:pt x="7144" y="7144"/>
                  </a:lnTo>
                  <a:lnTo>
                    <a:pt x="7144" y="39529"/>
                  </a:lnTo>
                  <a:close/>
                </a:path>
              </a:pathLst>
            </a:custGeom>
            <a:solidFill>
              <a:srgbClr val="fc4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6" name="任意多边形: 形状 27"/>
            <p:cNvSpPr/>
            <p:nvPr/>
          </p:nvSpPr>
          <p:spPr>
            <a:xfrm>
              <a:off x="2206080" y="3201480"/>
              <a:ext cx="1162440" cy="830880"/>
            </a:xfrm>
            <a:custGeom>
              <a:avLst/>
              <a:gdLst>
                <a:gd name="textAreaLeft" fmla="*/ 0 w 1162440"/>
                <a:gd name="textAreaRight" fmla="*/ 1162800 w 1162440"/>
                <a:gd name="textAreaTop" fmla="*/ 0 h 830880"/>
                <a:gd name="textAreaBottom" fmla="*/ 831240 h 830880"/>
              </a:gdLst>
              <a:ahLst/>
              <a:rect l="textAreaLeft" t="textAreaTop" r="textAreaRight" b="textAreaBottom"/>
              <a:pathLst>
                <a:path w="895350" h="523875">
                  <a:moveTo>
                    <a:pt x="7144" y="295751"/>
                  </a:moveTo>
                  <a:lnTo>
                    <a:pt x="508159" y="7144"/>
                  </a:lnTo>
                  <a:lnTo>
                    <a:pt x="896779" y="231934"/>
                  </a:lnTo>
                  <a:lnTo>
                    <a:pt x="396716" y="520541"/>
                  </a:lnTo>
                  <a:lnTo>
                    <a:pt x="7144" y="295751"/>
                  </a:lnTo>
                  <a:close/>
                </a:path>
              </a:pathLst>
            </a:custGeom>
            <a:solidFill>
              <a:srgbClr val="e2c1a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7" name="任意多边形: 形状 28"/>
            <p:cNvSpPr/>
            <p:nvPr/>
          </p:nvSpPr>
          <p:spPr>
            <a:xfrm>
              <a:off x="2711880" y="3558240"/>
              <a:ext cx="667800" cy="528840"/>
            </a:xfrm>
            <a:custGeom>
              <a:avLst/>
              <a:gdLst>
                <a:gd name="textAreaLeft" fmla="*/ 0 w 667800"/>
                <a:gd name="textAreaRight" fmla="*/ 668160 w 667800"/>
                <a:gd name="textAreaTop" fmla="*/ 0 h 528840"/>
                <a:gd name="textAreaBottom" fmla="*/ 529200 h 528840"/>
              </a:gdLst>
              <a:ahLst/>
              <a:rect l="textAreaLeft" t="textAreaTop" r="textAreaRight" b="textAreaBottom"/>
              <a:pathLst>
                <a:path w="514350" h="333375">
                  <a:moveTo>
                    <a:pt x="7144" y="328136"/>
                  </a:moveTo>
                  <a:lnTo>
                    <a:pt x="507206" y="39529"/>
                  </a:lnTo>
                  <a:lnTo>
                    <a:pt x="507206" y="7144"/>
                  </a:lnTo>
                  <a:lnTo>
                    <a:pt x="7144" y="295751"/>
                  </a:lnTo>
                  <a:lnTo>
                    <a:pt x="7144" y="328136"/>
                  </a:lnTo>
                  <a:close/>
                </a:path>
              </a:pathLst>
            </a:custGeom>
            <a:solidFill>
              <a:srgbClr val="ff9da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8" name="任意多边形: 形状 29"/>
            <p:cNvSpPr/>
            <p:nvPr/>
          </p:nvSpPr>
          <p:spPr>
            <a:xfrm>
              <a:off x="2206080" y="3455280"/>
              <a:ext cx="519120" cy="423000"/>
            </a:xfrm>
            <a:custGeom>
              <a:avLst/>
              <a:gdLst>
                <a:gd name="textAreaLeft" fmla="*/ 0 w 519120"/>
                <a:gd name="textAreaRight" fmla="*/ 519480 w 519120"/>
                <a:gd name="textAreaTop" fmla="*/ 0 h 423000"/>
                <a:gd name="textAreaBottom" fmla="*/ 423360 h 423000"/>
              </a:gdLst>
              <a:ahLst/>
              <a:rect l="textAreaLeft" t="textAreaTop" r="textAreaRight" b="textAreaBottom"/>
              <a:pathLst>
                <a:path w="400050" h="266700">
                  <a:moveTo>
                    <a:pt x="7144" y="38576"/>
                  </a:moveTo>
                  <a:lnTo>
                    <a:pt x="396716" y="263366"/>
                  </a:lnTo>
                  <a:lnTo>
                    <a:pt x="396716" y="230981"/>
                  </a:lnTo>
                  <a:lnTo>
                    <a:pt x="7144" y="7144"/>
                  </a:lnTo>
                  <a:lnTo>
                    <a:pt x="7144" y="38576"/>
                  </a:lnTo>
                  <a:close/>
                </a:path>
              </a:pathLst>
            </a:custGeom>
            <a:solidFill>
              <a:srgbClr val="fc4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59" name="任意多边形: 形状 30"/>
            <p:cNvSpPr/>
            <p:nvPr/>
          </p:nvSpPr>
          <p:spPr>
            <a:xfrm>
              <a:off x="2206080" y="2995920"/>
              <a:ext cx="1162440" cy="830880"/>
            </a:xfrm>
            <a:custGeom>
              <a:avLst/>
              <a:gdLst>
                <a:gd name="textAreaLeft" fmla="*/ 0 w 1162440"/>
                <a:gd name="textAreaRight" fmla="*/ 1162800 w 1162440"/>
                <a:gd name="textAreaTop" fmla="*/ 0 h 830880"/>
                <a:gd name="textAreaBottom" fmla="*/ 831240 h 830880"/>
              </a:gdLst>
              <a:ahLst/>
              <a:rect l="textAreaLeft" t="textAreaTop" r="textAreaRight" b="textAreaBottom"/>
              <a:pathLst>
                <a:path w="895350" h="523875">
                  <a:moveTo>
                    <a:pt x="896779" y="231934"/>
                  </a:moveTo>
                  <a:lnTo>
                    <a:pt x="396716" y="520541"/>
                  </a:lnTo>
                  <a:lnTo>
                    <a:pt x="7144" y="296704"/>
                  </a:lnTo>
                  <a:lnTo>
                    <a:pt x="508159" y="7144"/>
                  </a:lnTo>
                  <a:lnTo>
                    <a:pt x="896779" y="231934"/>
                  </a:lnTo>
                  <a:close/>
                </a:path>
              </a:pathLst>
            </a:custGeom>
            <a:solidFill>
              <a:srgbClr val="ff738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0" name="任意多边形: 形状 31"/>
            <p:cNvSpPr/>
            <p:nvPr/>
          </p:nvSpPr>
          <p:spPr>
            <a:xfrm>
              <a:off x="2711880" y="3352680"/>
              <a:ext cx="667800" cy="528840"/>
            </a:xfrm>
            <a:custGeom>
              <a:avLst/>
              <a:gdLst>
                <a:gd name="textAreaLeft" fmla="*/ 0 w 667800"/>
                <a:gd name="textAreaRight" fmla="*/ 668160 w 667800"/>
                <a:gd name="textAreaTop" fmla="*/ 0 h 528840"/>
                <a:gd name="textAreaBottom" fmla="*/ 529200 h 528840"/>
              </a:gdLst>
              <a:ahLst/>
              <a:rect l="textAreaLeft" t="textAreaTop" r="textAreaRight" b="textAreaBottom"/>
              <a:pathLst>
                <a:path w="514350" h="333375">
                  <a:moveTo>
                    <a:pt x="7144" y="328136"/>
                  </a:moveTo>
                  <a:lnTo>
                    <a:pt x="507206" y="39529"/>
                  </a:lnTo>
                  <a:lnTo>
                    <a:pt x="507206" y="7144"/>
                  </a:lnTo>
                  <a:lnTo>
                    <a:pt x="7144" y="295751"/>
                  </a:lnTo>
                  <a:lnTo>
                    <a:pt x="7144" y="328136"/>
                  </a:lnTo>
                  <a:close/>
                </a:path>
              </a:pathLst>
            </a:custGeom>
            <a:solidFill>
              <a:srgbClr val="ff9da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1" name="任意多边形: 形状 32"/>
            <p:cNvSpPr/>
            <p:nvPr/>
          </p:nvSpPr>
          <p:spPr>
            <a:xfrm>
              <a:off x="2171880" y="3403800"/>
              <a:ext cx="1199520" cy="634680"/>
            </a:xfrm>
            <a:custGeom>
              <a:avLst/>
              <a:gdLst>
                <a:gd name="textAreaLeft" fmla="*/ 0 w 1199520"/>
                <a:gd name="textAreaRight" fmla="*/ 1199880 w 1199520"/>
                <a:gd name="textAreaTop" fmla="*/ 0 h 634680"/>
                <a:gd name="textAreaBottom" fmla="*/ 635040 h 634680"/>
              </a:gdLst>
              <a:ahLst/>
              <a:rect l="textAreaLeft" t="textAreaTop" r="textAreaRight" b="textAreaBottom"/>
              <a:pathLst>
                <a:path w="923925" h="400050">
                  <a:moveTo>
                    <a:pt x="33479" y="70961"/>
                  </a:moveTo>
                  <a:lnTo>
                    <a:pt x="33479" y="70961"/>
                  </a:lnTo>
                  <a:cubicBezTo>
                    <a:pt x="4904" y="88106"/>
                    <a:pt x="-1764" y="127159"/>
                    <a:pt x="20144" y="152876"/>
                  </a:cubicBezTo>
                  <a:lnTo>
                    <a:pt x="33479" y="168116"/>
                  </a:lnTo>
                  <a:lnTo>
                    <a:pt x="422099" y="392906"/>
                  </a:lnTo>
                  <a:lnTo>
                    <a:pt x="922161" y="104299"/>
                  </a:lnTo>
                  <a:lnTo>
                    <a:pt x="922161" y="7144"/>
                  </a:lnTo>
                  <a:lnTo>
                    <a:pt x="422099" y="295751"/>
                  </a:lnTo>
                  <a:lnTo>
                    <a:pt x="33479" y="7096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2" name="任意多边形: 形状 33"/>
            <p:cNvSpPr/>
            <p:nvPr/>
          </p:nvSpPr>
          <p:spPr>
            <a:xfrm>
              <a:off x="2171880" y="3505320"/>
              <a:ext cx="556560" cy="528840"/>
            </a:xfrm>
            <a:custGeom>
              <a:avLst/>
              <a:gdLst>
                <a:gd name="textAreaLeft" fmla="*/ 0 w 556560"/>
                <a:gd name="textAreaRight" fmla="*/ 556920 w 556560"/>
                <a:gd name="textAreaTop" fmla="*/ 0 h 528840"/>
                <a:gd name="textAreaBottom" fmla="*/ 529200 h 528840"/>
              </a:gdLst>
              <a:ahLst/>
              <a:rect l="textAreaLeft" t="textAreaTop" r="textAreaRight" b="textAreaBottom"/>
              <a:pathLst>
                <a:path w="428625" h="333375">
                  <a:moveTo>
                    <a:pt x="33479" y="7144"/>
                  </a:moveTo>
                  <a:cubicBezTo>
                    <a:pt x="4904" y="24289"/>
                    <a:pt x="-1764" y="63341"/>
                    <a:pt x="20144" y="89059"/>
                  </a:cubicBezTo>
                  <a:lnTo>
                    <a:pt x="33479" y="104299"/>
                  </a:lnTo>
                  <a:lnTo>
                    <a:pt x="422099" y="329089"/>
                  </a:lnTo>
                  <a:lnTo>
                    <a:pt x="422099" y="231934"/>
                  </a:lnTo>
                  <a:lnTo>
                    <a:pt x="33479" y="7144"/>
                  </a:lnTo>
                  <a:close/>
                </a:path>
              </a:pathLst>
            </a:custGeom>
            <a:solidFill>
              <a:srgbClr val="7575f0">
                <a:alpha val="3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3" name="任意多边形: 形状 34"/>
            <p:cNvSpPr/>
            <p:nvPr/>
          </p:nvSpPr>
          <p:spPr>
            <a:xfrm>
              <a:off x="2142000" y="3455280"/>
              <a:ext cx="74160" cy="271800"/>
            </a:xfrm>
            <a:custGeom>
              <a:avLst/>
              <a:gdLst>
                <a:gd name="textAreaLeft" fmla="*/ 0 w 74160"/>
                <a:gd name="textAreaRight" fmla="*/ 74520 w 74160"/>
                <a:gd name="textAreaTop" fmla="*/ 0 h 271800"/>
                <a:gd name="textAreaBottom" fmla="*/ 272160 h 271800"/>
              </a:gdLst>
              <a:ahLst/>
              <a:rect l="textAreaLeft" t="textAreaTop" r="textAreaRight" b="textAreaBottom"/>
              <a:pathLst>
                <a:path w="57150" h="171450">
                  <a:moveTo>
                    <a:pt x="47909" y="11906"/>
                  </a:moveTo>
                  <a:lnTo>
                    <a:pt x="56482" y="7144"/>
                  </a:lnTo>
                  <a:lnTo>
                    <a:pt x="56482" y="39529"/>
                  </a:lnTo>
                  <a:cubicBezTo>
                    <a:pt x="27907" y="56674"/>
                    <a:pt x="21239" y="95726"/>
                    <a:pt x="43147" y="121444"/>
                  </a:cubicBezTo>
                  <a:lnTo>
                    <a:pt x="56482" y="136684"/>
                  </a:lnTo>
                  <a:lnTo>
                    <a:pt x="56482" y="169069"/>
                  </a:lnTo>
                  <a:lnTo>
                    <a:pt x="28859" y="139541"/>
                  </a:lnTo>
                  <a:cubicBezTo>
                    <a:pt x="-6383" y="100489"/>
                    <a:pt x="2189" y="38576"/>
                    <a:pt x="47909" y="11906"/>
                  </a:cubicBezTo>
                  <a:close/>
                </a:path>
              </a:pathLst>
            </a:custGeom>
            <a:solidFill>
              <a:srgbClr val="fc4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4" name="任意多边形: 形状 35"/>
            <p:cNvSpPr/>
            <p:nvPr/>
          </p:nvSpPr>
          <p:spPr>
            <a:xfrm>
              <a:off x="2459520" y="3174120"/>
              <a:ext cx="655200" cy="468360"/>
            </a:xfrm>
            <a:custGeom>
              <a:avLst/>
              <a:gdLst>
                <a:gd name="textAreaLeft" fmla="*/ 0 w 655200"/>
                <a:gd name="textAreaRight" fmla="*/ 655560 w 655200"/>
                <a:gd name="textAreaTop" fmla="*/ 0 h 468360"/>
                <a:gd name="textAreaBottom" fmla="*/ 468720 h 468360"/>
              </a:gdLst>
              <a:ahLst/>
              <a:rect l="textAreaLeft" t="textAreaTop" r="textAreaRight" b="textAreaBottom"/>
              <a:pathLst>
                <a:path w="504825" h="295275">
                  <a:moveTo>
                    <a:pt x="7144" y="200501"/>
                  </a:moveTo>
                  <a:lnTo>
                    <a:pt x="339566" y="7144"/>
                  </a:lnTo>
                  <a:lnTo>
                    <a:pt x="506254" y="104299"/>
                  </a:lnTo>
                  <a:lnTo>
                    <a:pt x="174784" y="296704"/>
                  </a:lnTo>
                  <a:lnTo>
                    <a:pt x="7144" y="20050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5" name="任意多边形: 形状 36"/>
            <p:cNvSpPr/>
            <p:nvPr/>
          </p:nvSpPr>
          <p:spPr>
            <a:xfrm>
              <a:off x="2844000" y="3423600"/>
              <a:ext cx="482040" cy="392760"/>
            </a:xfrm>
            <a:custGeom>
              <a:avLst/>
              <a:gdLst>
                <a:gd name="textAreaLeft" fmla="*/ 0 w 482040"/>
                <a:gd name="textAreaRight" fmla="*/ 482400 w 482040"/>
                <a:gd name="textAreaTop" fmla="*/ 0 h 392760"/>
                <a:gd name="textAreaBottom" fmla="*/ 393120 h 392760"/>
              </a:gdLst>
              <a:ahLst/>
              <a:rect l="textAreaLeft" t="textAreaTop" r="textAreaRight" b="textAreaBottom"/>
              <a:pathLst>
                <a:path w="371475" h="247650">
                  <a:moveTo>
                    <a:pt x="370046" y="36671"/>
                  </a:moveTo>
                  <a:lnTo>
                    <a:pt x="7144" y="246221"/>
                  </a:lnTo>
                  <a:lnTo>
                    <a:pt x="7144" y="215741"/>
                  </a:lnTo>
                  <a:lnTo>
                    <a:pt x="370046" y="7144"/>
                  </a:lnTo>
                  <a:lnTo>
                    <a:pt x="370046" y="36671"/>
                  </a:lnTo>
                  <a:close/>
                </a:path>
              </a:pathLst>
            </a:custGeom>
            <a:solidFill>
              <a:srgbClr val="ffc66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6" name="任意多边形: 形状 37"/>
            <p:cNvSpPr/>
            <p:nvPr/>
          </p:nvSpPr>
          <p:spPr>
            <a:xfrm>
              <a:off x="2239200" y="2997360"/>
              <a:ext cx="1088280" cy="770400"/>
            </a:xfrm>
            <a:custGeom>
              <a:avLst/>
              <a:gdLst>
                <a:gd name="textAreaLeft" fmla="*/ 0 w 1088280"/>
                <a:gd name="textAreaRight" fmla="*/ 1088640 w 1088280"/>
                <a:gd name="textAreaTop" fmla="*/ 0 h 770400"/>
                <a:gd name="textAreaBottom" fmla="*/ 770760 h 770400"/>
              </a:gdLst>
              <a:ahLst/>
              <a:rect l="textAreaLeft" t="textAreaTop" r="textAreaRight" b="textAreaBottom"/>
              <a:pathLst>
                <a:path w="838200" h="485775">
                  <a:moveTo>
                    <a:pt x="835819" y="275749"/>
                  </a:moveTo>
                  <a:lnTo>
                    <a:pt x="370046" y="7144"/>
                  </a:lnTo>
                  <a:lnTo>
                    <a:pt x="7144" y="215741"/>
                  </a:lnTo>
                  <a:lnTo>
                    <a:pt x="472916" y="484346"/>
                  </a:lnTo>
                  <a:lnTo>
                    <a:pt x="835819" y="275749"/>
                  </a:lnTo>
                  <a:close/>
                </a:path>
              </a:pathLst>
            </a:custGeom>
            <a:solidFill>
              <a:srgbClr val="e2c1a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7" name="任意多边形: 形状 38"/>
            <p:cNvSpPr/>
            <p:nvPr/>
          </p:nvSpPr>
          <p:spPr>
            <a:xfrm>
              <a:off x="2239200" y="3328560"/>
              <a:ext cx="618120" cy="483480"/>
            </a:xfrm>
            <a:custGeom>
              <a:avLst/>
              <a:gdLst>
                <a:gd name="textAreaLeft" fmla="*/ 0 w 618120"/>
                <a:gd name="textAreaRight" fmla="*/ 618480 w 618120"/>
                <a:gd name="textAreaTop" fmla="*/ 0 h 483480"/>
                <a:gd name="textAreaBottom" fmla="*/ 483840 h 483480"/>
              </a:gdLst>
              <a:ahLst/>
              <a:rect l="textAreaLeft" t="textAreaTop" r="textAreaRight" b="textAreaBottom"/>
              <a:pathLst>
                <a:path w="476250" h="304800">
                  <a:moveTo>
                    <a:pt x="472916" y="306229"/>
                  </a:moveTo>
                  <a:lnTo>
                    <a:pt x="7144" y="37624"/>
                  </a:lnTo>
                  <a:lnTo>
                    <a:pt x="7144" y="7144"/>
                  </a:lnTo>
                  <a:lnTo>
                    <a:pt x="472916" y="275749"/>
                  </a:lnTo>
                  <a:lnTo>
                    <a:pt x="472916" y="306229"/>
                  </a:lnTo>
                  <a:close/>
                </a:path>
              </a:pathLst>
            </a:custGeom>
            <a:solidFill>
              <a:srgbClr val="f792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8" name="任意多边形: 形状 39"/>
            <p:cNvSpPr/>
            <p:nvPr/>
          </p:nvSpPr>
          <p:spPr>
            <a:xfrm>
              <a:off x="2844000" y="3233160"/>
              <a:ext cx="482040" cy="392760"/>
            </a:xfrm>
            <a:custGeom>
              <a:avLst/>
              <a:gdLst>
                <a:gd name="textAreaLeft" fmla="*/ 0 w 482040"/>
                <a:gd name="textAreaRight" fmla="*/ 482400 w 482040"/>
                <a:gd name="textAreaTop" fmla="*/ 0 h 392760"/>
                <a:gd name="textAreaBottom" fmla="*/ 393120 h 392760"/>
              </a:gdLst>
              <a:ahLst/>
              <a:rect l="textAreaLeft" t="textAreaTop" r="textAreaRight" b="textAreaBottom"/>
              <a:pathLst>
                <a:path w="371475" h="247650">
                  <a:moveTo>
                    <a:pt x="370046" y="36671"/>
                  </a:moveTo>
                  <a:lnTo>
                    <a:pt x="7144" y="246221"/>
                  </a:lnTo>
                  <a:lnTo>
                    <a:pt x="7144" y="215741"/>
                  </a:lnTo>
                  <a:lnTo>
                    <a:pt x="370046" y="7144"/>
                  </a:lnTo>
                  <a:lnTo>
                    <a:pt x="370046" y="36671"/>
                  </a:lnTo>
                  <a:close/>
                </a:path>
              </a:pathLst>
            </a:custGeom>
            <a:solidFill>
              <a:srgbClr val="ffc66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69" name="任意多边形: 形状 40"/>
            <p:cNvSpPr/>
            <p:nvPr/>
          </p:nvSpPr>
          <p:spPr>
            <a:xfrm>
              <a:off x="2239200" y="2805480"/>
              <a:ext cx="1088280" cy="770400"/>
            </a:xfrm>
            <a:custGeom>
              <a:avLst/>
              <a:gdLst>
                <a:gd name="textAreaLeft" fmla="*/ 0 w 1088280"/>
                <a:gd name="textAreaRight" fmla="*/ 1088640 w 1088280"/>
                <a:gd name="textAreaTop" fmla="*/ 0 h 770400"/>
                <a:gd name="textAreaBottom" fmla="*/ 770760 h 770400"/>
              </a:gdLst>
              <a:ahLst/>
              <a:rect l="textAreaLeft" t="textAreaTop" r="textAreaRight" b="textAreaBottom"/>
              <a:pathLst>
                <a:path w="838200" h="485775">
                  <a:moveTo>
                    <a:pt x="7144" y="216694"/>
                  </a:moveTo>
                  <a:lnTo>
                    <a:pt x="472916" y="485299"/>
                  </a:lnTo>
                  <a:lnTo>
                    <a:pt x="835819" y="276701"/>
                  </a:lnTo>
                  <a:lnTo>
                    <a:pt x="370046" y="7144"/>
                  </a:lnTo>
                  <a:lnTo>
                    <a:pt x="7144" y="216694"/>
                  </a:lnTo>
                  <a:close/>
                </a:path>
              </a:pathLst>
            </a:custGeom>
            <a:solidFill>
              <a:srgbClr val="ffb02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0" name="任意多边形: 形状 41"/>
            <p:cNvSpPr/>
            <p:nvPr/>
          </p:nvSpPr>
          <p:spPr>
            <a:xfrm>
              <a:off x="2239200" y="3138120"/>
              <a:ext cx="618120" cy="483480"/>
            </a:xfrm>
            <a:custGeom>
              <a:avLst/>
              <a:gdLst>
                <a:gd name="textAreaLeft" fmla="*/ 0 w 618120"/>
                <a:gd name="textAreaRight" fmla="*/ 618480 w 618120"/>
                <a:gd name="textAreaTop" fmla="*/ 0 h 483480"/>
                <a:gd name="textAreaBottom" fmla="*/ 483840 h 483480"/>
              </a:gdLst>
              <a:ahLst/>
              <a:rect l="textAreaLeft" t="textAreaTop" r="textAreaRight" b="textAreaBottom"/>
              <a:pathLst>
                <a:path w="476250" h="304800">
                  <a:moveTo>
                    <a:pt x="472916" y="306229"/>
                  </a:moveTo>
                  <a:lnTo>
                    <a:pt x="7144" y="36671"/>
                  </a:lnTo>
                  <a:lnTo>
                    <a:pt x="7144" y="7144"/>
                  </a:lnTo>
                  <a:lnTo>
                    <a:pt x="472916" y="275749"/>
                  </a:lnTo>
                  <a:lnTo>
                    <a:pt x="472916" y="306229"/>
                  </a:lnTo>
                  <a:close/>
                </a:path>
              </a:pathLst>
            </a:custGeom>
            <a:solidFill>
              <a:srgbClr val="f792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1" name="任意多边形: 形状 42"/>
            <p:cNvSpPr/>
            <p:nvPr/>
          </p:nvSpPr>
          <p:spPr>
            <a:xfrm>
              <a:off x="2239200" y="3184920"/>
              <a:ext cx="1125360" cy="589320"/>
            </a:xfrm>
            <a:custGeom>
              <a:avLst/>
              <a:gdLst>
                <a:gd name="textAreaLeft" fmla="*/ 0 w 1125360"/>
                <a:gd name="textAreaRight" fmla="*/ 1125720 w 1125360"/>
                <a:gd name="textAreaTop" fmla="*/ 0 h 589320"/>
                <a:gd name="textAreaBottom" fmla="*/ 589680 h 589320"/>
              </a:gdLst>
              <a:ahLst/>
              <a:rect l="textAreaLeft" t="textAreaTop" r="textAreaRight" b="textAreaBottom"/>
              <a:pathLst>
                <a:path w="866775" h="371475">
                  <a:moveTo>
                    <a:pt x="835819" y="67151"/>
                  </a:moveTo>
                  <a:lnTo>
                    <a:pt x="835819" y="67151"/>
                  </a:lnTo>
                  <a:cubicBezTo>
                    <a:pt x="862489" y="83344"/>
                    <a:pt x="868204" y="119539"/>
                    <a:pt x="848201" y="143351"/>
                  </a:cubicBezTo>
                  <a:lnTo>
                    <a:pt x="835819" y="157639"/>
                  </a:lnTo>
                  <a:lnTo>
                    <a:pt x="473869" y="366236"/>
                  </a:lnTo>
                  <a:lnTo>
                    <a:pt x="7144" y="97631"/>
                  </a:lnTo>
                  <a:lnTo>
                    <a:pt x="7144" y="7144"/>
                  </a:lnTo>
                  <a:lnTo>
                    <a:pt x="472916" y="275749"/>
                  </a:lnTo>
                  <a:lnTo>
                    <a:pt x="835819" y="6715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2" name="任意多边形: 形状 43"/>
            <p:cNvSpPr/>
            <p:nvPr/>
          </p:nvSpPr>
          <p:spPr>
            <a:xfrm>
              <a:off x="3314160" y="3233160"/>
              <a:ext cx="74160" cy="256680"/>
            </a:xfrm>
            <a:custGeom>
              <a:avLst/>
              <a:gdLst>
                <a:gd name="textAreaLeft" fmla="*/ 0 w 74160"/>
                <a:gd name="textAreaRight" fmla="*/ 74520 w 74160"/>
                <a:gd name="textAreaTop" fmla="*/ 0 h 256680"/>
                <a:gd name="textAreaBottom" fmla="*/ 257040 h 256680"/>
              </a:gdLst>
              <a:ahLst/>
              <a:rect l="textAreaLeft" t="textAreaTop" r="textAreaRight" b="textAreaBottom"/>
              <a:pathLst>
                <a:path w="57150" h="161925">
                  <a:moveTo>
                    <a:pt x="15716" y="11906"/>
                  </a:moveTo>
                  <a:lnTo>
                    <a:pt x="7144" y="7144"/>
                  </a:lnTo>
                  <a:lnTo>
                    <a:pt x="7144" y="36671"/>
                  </a:lnTo>
                  <a:cubicBezTo>
                    <a:pt x="33814" y="52864"/>
                    <a:pt x="39529" y="89059"/>
                    <a:pt x="19526" y="112871"/>
                  </a:cubicBezTo>
                  <a:lnTo>
                    <a:pt x="7144" y="127159"/>
                  </a:lnTo>
                  <a:lnTo>
                    <a:pt x="7144" y="156686"/>
                  </a:lnTo>
                  <a:lnTo>
                    <a:pt x="32861" y="129064"/>
                  </a:lnTo>
                  <a:cubicBezTo>
                    <a:pt x="67151" y="93821"/>
                    <a:pt x="58579" y="36671"/>
                    <a:pt x="15716" y="11906"/>
                  </a:cubicBezTo>
                  <a:close/>
                </a:path>
              </a:pathLst>
            </a:custGeom>
            <a:solidFill>
              <a:srgbClr val="ffc66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3" name="任意多边形: 形状 44"/>
            <p:cNvSpPr/>
            <p:nvPr/>
          </p:nvSpPr>
          <p:spPr>
            <a:xfrm>
              <a:off x="2402640" y="2897640"/>
              <a:ext cx="791280" cy="574200"/>
            </a:xfrm>
            <a:custGeom>
              <a:avLst/>
              <a:gdLst>
                <a:gd name="textAreaLeft" fmla="*/ 0 w 791280"/>
                <a:gd name="textAreaRight" fmla="*/ 791640 w 791280"/>
                <a:gd name="textAreaTop" fmla="*/ 0 h 574200"/>
                <a:gd name="textAreaBottom" fmla="*/ 574560 h 574200"/>
              </a:gdLst>
              <a:ahLst/>
              <a:rect l="textAreaLeft" t="textAreaTop" r="textAreaRight" b="textAreaBottom"/>
              <a:pathLst>
                <a:path w="609600" h="361950">
                  <a:moveTo>
                    <a:pt x="7144" y="147161"/>
                  </a:moveTo>
                  <a:lnTo>
                    <a:pt x="369094" y="356711"/>
                  </a:lnTo>
                  <a:lnTo>
                    <a:pt x="609124" y="218599"/>
                  </a:lnTo>
                  <a:lnTo>
                    <a:pt x="245269" y="7144"/>
                  </a:lnTo>
                  <a:lnTo>
                    <a:pt x="7144" y="147161"/>
                  </a:lnTo>
                  <a:close/>
                </a:path>
              </a:pathLst>
            </a:custGeom>
            <a:solidFill>
              <a:srgbClr val="f792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4" name="任意多边形: 形状 45"/>
            <p:cNvSpPr/>
            <p:nvPr/>
          </p:nvSpPr>
          <p:spPr>
            <a:xfrm>
              <a:off x="2239200" y="3184920"/>
              <a:ext cx="618120" cy="589320"/>
            </a:xfrm>
            <a:custGeom>
              <a:avLst/>
              <a:gdLst>
                <a:gd name="textAreaLeft" fmla="*/ 0 w 618120"/>
                <a:gd name="textAreaRight" fmla="*/ 618480 w 618120"/>
                <a:gd name="textAreaTop" fmla="*/ 0 h 589320"/>
                <a:gd name="textAreaBottom" fmla="*/ 589680 h 589320"/>
              </a:gdLst>
              <a:ahLst/>
              <a:rect l="textAreaLeft" t="textAreaTop" r="textAreaRight" b="textAreaBottom"/>
              <a:pathLst>
                <a:path w="476250" h="371475">
                  <a:moveTo>
                    <a:pt x="472916" y="366236"/>
                  </a:moveTo>
                  <a:lnTo>
                    <a:pt x="472916" y="276701"/>
                  </a:lnTo>
                  <a:lnTo>
                    <a:pt x="7144" y="7144"/>
                  </a:lnTo>
                  <a:lnTo>
                    <a:pt x="7144" y="97631"/>
                  </a:lnTo>
                  <a:lnTo>
                    <a:pt x="472916" y="366236"/>
                  </a:lnTo>
                  <a:close/>
                </a:path>
              </a:pathLst>
            </a:custGeom>
            <a:solidFill>
              <a:srgbClr val="7575f0">
                <a:alpha val="3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5" name="任意多边形: 形状 46"/>
            <p:cNvSpPr/>
            <p:nvPr/>
          </p:nvSpPr>
          <p:spPr>
            <a:xfrm>
              <a:off x="2100600" y="2689200"/>
              <a:ext cx="1360440" cy="528840"/>
            </a:xfrm>
            <a:custGeom>
              <a:avLst/>
              <a:gdLst>
                <a:gd name="textAreaLeft" fmla="*/ 0 w 1360440"/>
                <a:gd name="textAreaRight" fmla="*/ 1360800 w 1360440"/>
                <a:gd name="textAreaTop" fmla="*/ 0 h 528840"/>
                <a:gd name="textAreaBottom" fmla="*/ 529200 h 528840"/>
              </a:gdLst>
              <a:ahLst/>
              <a:rect l="textAreaLeft" t="textAreaTop" r="textAreaRight" b="textAreaBottom"/>
              <a:pathLst>
                <a:path w="1047750" h="333375">
                  <a:moveTo>
                    <a:pt x="1042511" y="8096"/>
                  </a:moveTo>
                  <a:lnTo>
                    <a:pt x="1042511" y="30956"/>
                  </a:lnTo>
                  <a:lnTo>
                    <a:pt x="525304" y="330041"/>
                  </a:lnTo>
                  <a:lnTo>
                    <a:pt x="7144" y="30956"/>
                  </a:lnTo>
                  <a:lnTo>
                    <a:pt x="7144" y="7144"/>
                  </a:lnTo>
                  <a:lnTo>
                    <a:pt x="1042511" y="8096"/>
                  </a:lnTo>
                  <a:close/>
                </a:path>
              </a:pathLst>
            </a:custGeom>
            <a:solidFill>
              <a:srgbClr val="3b546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6" name="任意多边形: 形状 47"/>
            <p:cNvSpPr/>
            <p:nvPr/>
          </p:nvSpPr>
          <p:spPr>
            <a:xfrm>
              <a:off x="2398680" y="2819160"/>
              <a:ext cx="766800" cy="574200"/>
            </a:xfrm>
            <a:custGeom>
              <a:avLst/>
              <a:gdLst>
                <a:gd name="textAreaLeft" fmla="*/ 0 w 766800"/>
                <a:gd name="textAreaRight" fmla="*/ 767160 w 766800"/>
                <a:gd name="textAreaTop" fmla="*/ 0 h 574200"/>
                <a:gd name="textAreaBottom" fmla="*/ 574560 h 574200"/>
              </a:gdLst>
              <a:ahLst/>
              <a:rect l="textAreaLeft" t="textAreaTop" r="textAreaRight" b="textAreaBottom"/>
              <a:pathLst>
                <a:path w="590550" h="361950">
                  <a:moveTo>
                    <a:pt x="7144" y="7144"/>
                  </a:moveTo>
                  <a:lnTo>
                    <a:pt x="7144" y="189071"/>
                  </a:lnTo>
                  <a:cubicBezTo>
                    <a:pt x="7144" y="284321"/>
                    <a:pt x="137636" y="361474"/>
                    <a:pt x="298609" y="361474"/>
                  </a:cubicBezTo>
                  <a:cubicBezTo>
                    <a:pt x="459581" y="361474"/>
                    <a:pt x="590074" y="284321"/>
                    <a:pt x="590074" y="189071"/>
                  </a:cubicBezTo>
                  <a:lnTo>
                    <a:pt x="590074" y="7144"/>
                  </a:lnTo>
                  <a:lnTo>
                    <a:pt x="7144" y="7144"/>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7" name="任意多边形: 形状 48"/>
            <p:cNvSpPr/>
            <p:nvPr/>
          </p:nvSpPr>
          <p:spPr>
            <a:xfrm>
              <a:off x="2404800" y="2831400"/>
              <a:ext cx="766800" cy="468360"/>
            </a:xfrm>
            <a:custGeom>
              <a:avLst/>
              <a:gdLst>
                <a:gd name="textAreaLeft" fmla="*/ 0 w 766800"/>
                <a:gd name="textAreaRight" fmla="*/ 767160 w 766800"/>
                <a:gd name="textAreaTop" fmla="*/ 0 h 468360"/>
                <a:gd name="textAreaBottom" fmla="*/ 468720 h 468360"/>
              </a:gdLst>
              <a:ahLst/>
              <a:rect l="textAreaLeft" t="textAreaTop" r="textAreaRight" b="textAreaBottom"/>
              <a:pathLst>
                <a:path w="590550" h="295275">
                  <a:moveTo>
                    <a:pt x="584668" y="79534"/>
                  </a:moveTo>
                  <a:lnTo>
                    <a:pt x="305585" y="289084"/>
                  </a:lnTo>
                  <a:cubicBezTo>
                    <a:pt x="305585" y="289084"/>
                    <a:pt x="-3977" y="80486"/>
                    <a:pt x="7453" y="77629"/>
                  </a:cubicBezTo>
                  <a:cubicBezTo>
                    <a:pt x="19835" y="73819"/>
                    <a:pt x="203668" y="7144"/>
                    <a:pt x="203668" y="7144"/>
                  </a:cubicBezTo>
                  <a:lnTo>
                    <a:pt x="584668" y="79534"/>
                  </a:lnTo>
                  <a:close/>
                </a:path>
              </a:pathLst>
            </a:custGeom>
            <a:solidFill>
              <a:srgbClr val="0f273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8" name="任意多边形: 形状 49"/>
            <p:cNvSpPr/>
            <p:nvPr/>
          </p:nvSpPr>
          <p:spPr>
            <a:xfrm>
              <a:off x="2100600" y="2253960"/>
              <a:ext cx="1360440" cy="966960"/>
            </a:xfrm>
            <a:custGeom>
              <a:avLst/>
              <a:gdLst>
                <a:gd name="textAreaLeft" fmla="*/ 0 w 1360440"/>
                <a:gd name="textAreaRight" fmla="*/ 1360800 w 1360440"/>
                <a:gd name="textAreaTop" fmla="*/ 0 h 966960"/>
                <a:gd name="textAreaBottom" fmla="*/ 967320 h 966960"/>
              </a:gdLst>
              <a:ahLst/>
              <a:rect l="textAreaLeft" t="textAreaTop" r="textAreaRight" b="textAreaBottom"/>
              <a:pathLst>
                <a:path w="1047750" h="609600">
                  <a:moveTo>
                    <a:pt x="7144" y="305276"/>
                  </a:moveTo>
                  <a:lnTo>
                    <a:pt x="525304" y="7144"/>
                  </a:lnTo>
                  <a:lnTo>
                    <a:pt x="1042511" y="305276"/>
                  </a:lnTo>
                  <a:lnTo>
                    <a:pt x="525304" y="604361"/>
                  </a:lnTo>
                  <a:lnTo>
                    <a:pt x="7144" y="305276"/>
                  </a:lnTo>
                  <a:close/>
                </a:path>
              </a:pathLst>
            </a:custGeom>
            <a:solidFill>
              <a:srgbClr val="02669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79" name="任意多边形: 形状 50"/>
            <p:cNvSpPr/>
            <p:nvPr/>
          </p:nvSpPr>
          <p:spPr>
            <a:xfrm>
              <a:off x="2100600" y="2216160"/>
              <a:ext cx="1360440" cy="966960"/>
            </a:xfrm>
            <a:custGeom>
              <a:avLst/>
              <a:gdLst>
                <a:gd name="textAreaLeft" fmla="*/ 0 w 1360440"/>
                <a:gd name="textAreaRight" fmla="*/ 1360800 w 1360440"/>
                <a:gd name="textAreaTop" fmla="*/ 0 h 966960"/>
                <a:gd name="textAreaBottom" fmla="*/ 967320 h 966960"/>
              </a:gdLst>
              <a:ahLst/>
              <a:rect l="textAreaLeft" t="textAreaTop" r="textAreaRight" b="textAreaBottom"/>
              <a:pathLst>
                <a:path w="1047750" h="609600">
                  <a:moveTo>
                    <a:pt x="7144" y="305276"/>
                  </a:moveTo>
                  <a:lnTo>
                    <a:pt x="525304" y="7144"/>
                  </a:lnTo>
                  <a:lnTo>
                    <a:pt x="1042511" y="306229"/>
                  </a:lnTo>
                  <a:lnTo>
                    <a:pt x="525304" y="604361"/>
                  </a:lnTo>
                  <a:lnTo>
                    <a:pt x="7144" y="305276"/>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0" name="任意多边形: 形状 51"/>
            <p:cNvSpPr/>
            <p:nvPr/>
          </p:nvSpPr>
          <p:spPr>
            <a:xfrm>
              <a:off x="2100600" y="2689200"/>
              <a:ext cx="680040" cy="528840"/>
            </a:xfrm>
            <a:custGeom>
              <a:avLst/>
              <a:gdLst>
                <a:gd name="textAreaLeft" fmla="*/ 0 w 680040"/>
                <a:gd name="textAreaRight" fmla="*/ 680400 w 680040"/>
                <a:gd name="textAreaTop" fmla="*/ 0 h 528840"/>
                <a:gd name="textAreaBottom" fmla="*/ 529200 h 528840"/>
              </a:gdLst>
              <a:ahLst/>
              <a:rect l="textAreaLeft" t="textAreaTop" r="textAreaRight" b="textAreaBottom"/>
              <a:pathLst>
                <a:path w="523875" h="333375">
                  <a:moveTo>
                    <a:pt x="525304" y="330041"/>
                  </a:moveTo>
                  <a:lnTo>
                    <a:pt x="525304" y="306229"/>
                  </a:lnTo>
                  <a:lnTo>
                    <a:pt x="7144" y="7144"/>
                  </a:lnTo>
                  <a:lnTo>
                    <a:pt x="7144" y="30956"/>
                  </a:lnTo>
                  <a:lnTo>
                    <a:pt x="525304" y="330041"/>
                  </a:lnTo>
                  <a:close/>
                </a:path>
              </a:pathLst>
            </a:custGeom>
            <a:solidFill>
              <a:srgbClr val="0f273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1" name="任意多边形: 形状 52"/>
            <p:cNvSpPr/>
            <p:nvPr/>
          </p:nvSpPr>
          <p:spPr>
            <a:xfrm>
              <a:off x="3090240" y="3224160"/>
              <a:ext cx="98640" cy="317160"/>
            </a:xfrm>
            <a:custGeom>
              <a:avLst/>
              <a:gdLst>
                <a:gd name="textAreaLeft" fmla="*/ 0 w 98640"/>
                <a:gd name="textAreaRight" fmla="*/ 99000 w 98640"/>
                <a:gd name="textAreaTop" fmla="*/ 0 h 317160"/>
                <a:gd name="textAreaBottom" fmla="*/ 317520 h 317160"/>
              </a:gdLst>
              <a:ahLst/>
              <a:rect l="textAreaLeft" t="textAreaTop" r="textAreaRight" b="textAreaBottom"/>
              <a:pathLst>
                <a:path w="76200" h="200025">
                  <a:moveTo>
                    <a:pt x="28165" y="197644"/>
                  </a:moveTo>
                  <a:lnTo>
                    <a:pt x="50072" y="197644"/>
                  </a:lnTo>
                  <a:cubicBezTo>
                    <a:pt x="62455" y="197644"/>
                    <a:pt x="71980" y="187166"/>
                    <a:pt x="71980" y="174784"/>
                  </a:cubicBezTo>
                  <a:lnTo>
                    <a:pt x="61502" y="27146"/>
                  </a:lnTo>
                  <a:cubicBezTo>
                    <a:pt x="60549" y="15716"/>
                    <a:pt x="51024" y="7144"/>
                    <a:pt x="39595" y="7144"/>
                  </a:cubicBezTo>
                  <a:cubicBezTo>
                    <a:pt x="28165" y="7144"/>
                    <a:pt x="18640" y="15716"/>
                    <a:pt x="17687" y="27146"/>
                  </a:cubicBezTo>
                  <a:lnTo>
                    <a:pt x="7209" y="174784"/>
                  </a:lnTo>
                  <a:cubicBezTo>
                    <a:pt x="6257" y="187166"/>
                    <a:pt x="15782" y="197644"/>
                    <a:pt x="28165" y="197644"/>
                  </a:cubicBezTo>
                  <a:close/>
                </a:path>
              </a:pathLst>
            </a:custGeom>
            <a:solidFill>
              <a:srgbClr val="eb3e5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2" name="任意多边形: 形状 53"/>
            <p:cNvSpPr/>
            <p:nvPr/>
          </p:nvSpPr>
          <p:spPr>
            <a:xfrm>
              <a:off x="2761200" y="2619720"/>
              <a:ext cx="395640" cy="785520"/>
            </a:xfrm>
            <a:custGeom>
              <a:avLst/>
              <a:gdLst>
                <a:gd name="textAreaLeft" fmla="*/ 0 w 395640"/>
                <a:gd name="textAreaRight" fmla="*/ 396000 w 395640"/>
                <a:gd name="textAreaTop" fmla="*/ 0 h 785520"/>
                <a:gd name="textAreaBottom" fmla="*/ 785880 h 785520"/>
              </a:gdLst>
              <a:ahLst/>
              <a:rect l="textAreaLeft" t="textAreaTop" r="textAreaRight" b="textAreaBottom"/>
              <a:pathLst>
                <a:path w="304800" h="495300">
                  <a:moveTo>
                    <a:pt x="287179" y="490061"/>
                  </a:moveTo>
                  <a:lnTo>
                    <a:pt x="297656" y="490061"/>
                  </a:lnTo>
                  <a:lnTo>
                    <a:pt x="297656" y="174784"/>
                  </a:lnTo>
                  <a:lnTo>
                    <a:pt x="11906" y="7144"/>
                  </a:lnTo>
                  <a:lnTo>
                    <a:pt x="7144" y="15716"/>
                  </a:lnTo>
                  <a:lnTo>
                    <a:pt x="287179" y="181451"/>
                  </a:lnTo>
                  <a:lnTo>
                    <a:pt x="287179" y="490061"/>
                  </a:lnTo>
                  <a:close/>
                </a:path>
              </a:pathLst>
            </a:custGeom>
            <a:solidFill>
              <a:srgbClr val="eb3e5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3" name="任意多边形: 形状 54"/>
            <p:cNvSpPr/>
            <p:nvPr/>
          </p:nvSpPr>
          <p:spPr>
            <a:xfrm>
              <a:off x="3101400" y="3127320"/>
              <a:ext cx="74160" cy="90360"/>
            </a:xfrm>
            <a:custGeom>
              <a:avLst/>
              <a:gdLst>
                <a:gd name="textAreaLeft" fmla="*/ 0 w 74160"/>
                <a:gd name="textAreaRight" fmla="*/ 74520 w 74160"/>
                <a:gd name="textAreaTop" fmla="*/ 0 h 90360"/>
                <a:gd name="textAreaBottom" fmla="*/ 90720 h 90360"/>
              </a:gdLst>
              <a:ahLst/>
              <a:rect l="textAreaLeft" t="textAreaTop" r="textAreaRight" b="textAreaBottom"/>
              <a:pathLst>
                <a:path w="57150" h="57150">
                  <a:moveTo>
                    <a:pt x="-10767" y="31012"/>
                  </a:moveTo>
                  <a:cubicBezTo>
                    <a:pt x="-10767" y="-21189"/>
                    <a:pt x="-21245" y="-10712"/>
                    <a:pt x="30956" y="-10712"/>
                  </a:cubicBezTo>
                  <a:cubicBezTo>
                    <a:pt x="17621" y="-10712"/>
                    <a:pt x="7144" y="-21189"/>
                    <a:pt x="7144" y="31012"/>
                  </a:cubicBezTo>
                  <a:cubicBezTo>
                    <a:pt x="7144" y="17677"/>
                    <a:pt x="17621" y="7199"/>
                    <a:pt x="30956" y="7199"/>
                  </a:cubicBezTo>
                  <a:cubicBezTo>
                    <a:pt x="-22197" y="6247"/>
                    <a:pt x="-10767" y="17677"/>
                    <a:pt x="-10767" y="31012"/>
                  </a:cubicBezTo>
                  <a:close/>
                </a:path>
              </a:pathLst>
            </a:custGeom>
            <a:solidFill>
              <a:srgbClr val="eb3e51"/>
            </a:solidFill>
            <a:ln w="0">
              <a:noFill/>
            </a:ln>
          </p:spPr>
          <p:style>
            <a:lnRef idx="0"/>
            <a:fillRef idx="0"/>
            <a:effectRef idx="0"/>
            <a:fontRef idx="minor"/>
          </p:style>
          <p:txBody>
            <a:bodyPr lIns="90000" rIns="90000" tIns="43920" bIns="43920" anchor="ctr">
              <a:noAutofit/>
            </a:bodyPr>
            <a:p>
              <a:endParaRPr b="0" lang="en-US" sz="1800" spc="-1" strike="noStrike">
                <a:solidFill>
                  <a:srgbClr val="262626"/>
                </a:solidFill>
                <a:latin typeface="Arial"/>
              </a:endParaRPr>
            </a:p>
          </p:txBody>
        </p:sp>
        <p:sp>
          <p:nvSpPr>
            <p:cNvPr id="1584" name="任意多边形: 形状 55"/>
            <p:cNvSpPr/>
            <p:nvPr/>
          </p:nvSpPr>
          <p:spPr>
            <a:xfrm>
              <a:off x="687240" y="4123440"/>
              <a:ext cx="803880" cy="604440"/>
            </a:xfrm>
            <a:custGeom>
              <a:avLst/>
              <a:gdLst>
                <a:gd name="textAreaLeft" fmla="*/ 0 w 803880"/>
                <a:gd name="textAreaRight" fmla="*/ 804240 w 803880"/>
                <a:gd name="textAreaTop" fmla="*/ 0 h 604440"/>
                <a:gd name="textAreaBottom" fmla="*/ 604800 h 604440"/>
              </a:gdLst>
              <a:ahLst/>
              <a:rect l="textAreaLeft" t="textAreaTop" r="textAreaRight" b="textAreaBottom"/>
              <a:pathLst>
                <a:path w="619125" h="381000">
                  <a:moveTo>
                    <a:pt x="614839" y="191929"/>
                  </a:moveTo>
                  <a:cubicBezTo>
                    <a:pt x="614839" y="293983"/>
                    <a:pt x="478802" y="376714"/>
                    <a:pt x="310991" y="376714"/>
                  </a:cubicBezTo>
                  <a:cubicBezTo>
                    <a:pt x="143181" y="376714"/>
                    <a:pt x="7144" y="293983"/>
                    <a:pt x="7144" y="191929"/>
                  </a:cubicBezTo>
                  <a:cubicBezTo>
                    <a:pt x="7144" y="89875"/>
                    <a:pt x="143181" y="7144"/>
                    <a:pt x="310991" y="7144"/>
                  </a:cubicBezTo>
                  <a:cubicBezTo>
                    <a:pt x="478802" y="7144"/>
                    <a:pt x="614839" y="89875"/>
                    <a:pt x="614839" y="191929"/>
                  </a:cubicBezTo>
                  <a:close/>
                </a:path>
              </a:pathLst>
            </a:custGeom>
            <a:solidFill>
              <a:srgbClr val="0092a4">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5" name="任意多边形: 形状 56"/>
            <p:cNvSpPr/>
            <p:nvPr/>
          </p:nvSpPr>
          <p:spPr>
            <a:xfrm>
              <a:off x="3146040" y="1595520"/>
              <a:ext cx="1076040" cy="1148400"/>
            </a:xfrm>
            <a:custGeom>
              <a:avLst/>
              <a:gdLst>
                <a:gd name="textAreaLeft" fmla="*/ 0 w 1076040"/>
                <a:gd name="textAreaRight" fmla="*/ 1076400 w 1076040"/>
                <a:gd name="textAreaTop" fmla="*/ 0 h 1148400"/>
                <a:gd name="textAreaBottom" fmla="*/ 1148400 h 1148400"/>
              </a:gdLst>
              <a:ahLst/>
              <a:rect l="textAreaLeft" t="textAreaTop" r="textAreaRight" b="textAreaBottom"/>
              <a:pathLst>
                <a:path w="828675" h="723900">
                  <a:moveTo>
                    <a:pt x="824389" y="664208"/>
                  </a:moveTo>
                  <a:cubicBezTo>
                    <a:pt x="824389" y="548003"/>
                    <a:pt x="754856" y="415605"/>
                    <a:pt x="668179" y="367028"/>
                  </a:cubicBezTo>
                  <a:cubicBezTo>
                    <a:pt x="662464" y="363218"/>
                    <a:pt x="656749" y="361313"/>
                    <a:pt x="650081" y="358455"/>
                  </a:cubicBezTo>
                  <a:cubicBezTo>
                    <a:pt x="623411" y="222248"/>
                    <a:pt x="539592" y="86993"/>
                    <a:pt x="440531" y="31748"/>
                  </a:cubicBezTo>
                  <a:cubicBezTo>
                    <a:pt x="377666" y="-3495"/>
                    <a:pt x="320516" y="315"/>
                    <a:pt x="280511" y="35558"/>
                  </a:cubicBezTo>
                  <a:cubicBezTo>
                    <a:pt x="278606" y="36510"/>
                    <a:pt x="276701" y="38415"/>
                    <a:pt x="274796" y="40320"/>
                  </a:cubicBezTo>
                  <a:cubicBezTo>
                    <a:pt x="272891" y="41273"/>
                    <a:pt x="270986" y="43178"/>
                    <a:pt x="269081" y="45083"/>
                  </a:cubicBezTo>
                  <a:cubicBezTo>
                    <a:pt x="267176" y="46035"/>
                    <a:pt x="265271" y="47940"/>
                    <a:pt x="263366" y="49845"/>
                  </a:cubicBezTo>
                  <a:cubicBezTo>
                    <a:pt x="261461" y="50798"/>
                    <a:pt x="259556" y="52703"/>
                    <a:pt x="257651" y="54608"/>
                  </a:cubicBezTo>
                  <a:cubicBezTo>
                    <a:pt x="255746" y="55560"/>
                    <a:pt x="253841" y="57465"/>
                    <a:pt x="251936" y="59370"/>
                  </a:cubicBezTo>
                  <a:cubicBezTo>
                    <a:pt x="250031" y="60323"/>
                    <a:pt x="248126" y="62228"/>
                    <a:pt x="246221" y="64133"/>
                  </a:cubicBezTo>
                  <a:cubicBezTo>
                    <a:pt x="244316" y="65085"/>
                    <a:pt x="242411" y="66990"/>
                    <a:pt x="240506" y="68895"/>
                  </a:cubicBezTo>
                  <a:cubicBezTo>
                    <a:pt x="238601" y="69848"/>
                    <a:pt x="236696" y="71753"/>
                    <a:pt x="234791" y="73658"/>
                  </a:cubicBezTo>
                  <a:cubicBezTo>
                    <a:pt x="217646" y="86993"/>
                    <a:pt x="203359" y="106043"/>
                    <a:pt x="192881" y="128903"/>
                  </a:cubicBezTo>
                  <a:cubicBezTo>
                    <a:pt x="153829" y="107948"/>
                    <a:pt x="118586" y="111758"/>
                    <a:pt x="93821" y="134618"/>
                  </a:cubicBezTo>
                  <a:cubicBezTo>
                    <a:pt x="91916" y="135570"/>
                    <a:pt x="90011" y="137475"/>
                    <a:pt x="88106" y="139380"/>
                  </a:cubicBezTo>
                  <a:cubicBezTo>
                    <a:pt x="86201" y="140333"/>
                    <a:pt x="84296" y="142238"/>
                    <a:pt x="82391" y="144143"/>
                  </a:cubicBezTo>
                  <a:cubicBezTo>
                    <a:pt x="80486" y="145095"/>
                    <a:pt x="78581" y="147000"/>
                    <a:pt x="76676" y="148905"/>
                  </a:cubicBezTo>
                  <a:cubicBezTo>
                    <a:pt x="74771" y="149858"/>
                    <a:pt x="72866" y="151763"/>
                    <a:pt x="70961" y="153668"/>
                  </a:cubicBezTo>
                  <a:cubicBezTo>
                    <a:pt x="69056" y="154620"/>
                    <a:pt x="67151" y="156525"/>
                    <a:pt x="65246" y="158430"/>
                  </a:cubicBezTo>
                  <a:cubicBezTo>
                    <a:pt x="63341" y="159383"/>
                    <a:pt x="61436" y="161288"/>
                    <a:pt x="59531" y="163193"/>
                  </a:cubicBezTo>
                  <a:cubicBezTo>
                    <a:pt x="57626" y="164145"/>
                    <a:pt x="55721" y="166050"/>
                    <a:pt x="53816" y="167955"/>
                  </a:cubicBezTo>
                  <a:cubicBezTo>
                    <a:pt x="51911" y="168908"/>
                    <a:pt x="50006" y="170813"/>
                    <a:pt x="48101" y="172718"/>
                  </a:cubicBezTo>
                  <a:cubicBezTo>
                    <a:pt x="22384" y="191768"/>
                    <a:pt x="7144" y="229868"/>
                    <a:pt x="7144" y="282255"/>
                  </a:cubicBezTo>
                  <a:cubicBezTo>
                    <a:pt x="7144" y="287970"/>
                    <a:pt x="7144" y="293685"/>
                    <a:pt x="8096" y="298448"/>
                  </a:cubicBezTo>
                  <a:lnTo>
                    <a:pt x="769144" y="725168"/>
                  </a:lnTo>
                  <a:cubicBezTo>
                    <a:pt x="769144" y="723263"/>
                    <a:pt x="769144" y="720405"/>
                    <a:pt x="769144" y="717548"/>
                  </a:cubicBezTo>
                  <a:lnTo>
                    <a:pt x="773906" y="720405"/>
                  </a:lnTo>
                  <a:cubicBezTo>
                    <a:pt x="773906" y="718500"/>
                    <a:pt x="773906" y="715643"/>
                    <a:pt x="773906" y="712785"/>
                  </a:cubicBezTo>
                  <a:lnTo>
                    <a:pt x="778669" y="715643"/>
                  </a:lnTo>
                  <a:cubicBezTo>
                    <a:pt x="778669" y="713738"/>
                    <a:pt x="778669" y="710880"/>
                    <a:pt x="778669" y="708023"/>
                  </a:cubicBezTo>
                  <a:lnTo>
                    <a:pt x="783431" y="710880"/>
                  </a:lnTo>
                  <a:cubicBezTo>
                    <a:pt x="783431" y="708975"/>
                    <a:pt x="783431" y="706118"/>
                    <a:pt x="783431" y="703260"/>
                  </a:cubicBezTo>
                  <a:lnTo>
                    <a:pt x="788194" y="706118"/>
                  </a:lnTo>
                  <a:cubicBezTo>
                    <a:pt x="788194" y="704213"/>
                    <a:pt x="788194" y="701355"/>
                    <a:pt x="788194" y="698498"/>
                  </a:cubicBezTo>
                  <a:lnTo>
                    <a:pt x="792956" y="701355"/>
                  </a:lnTo>
                  <a:cubicBezTo>
                    <a:pt x="792956" y="699450"/>
                    <a:pt x="792956" y="696593"/>
                    <a:pt x="792956" y="693735"/>
                  </a:cubicBezTo>
                  <a:lnTo>
                    <a:pt x="797719" y="696593"/>
                  </a:lnTo>
                  <a:cubicBezTo>
                    <a:pt x="797719" y="694688"/>
                    <a:pt x="797719" y="691830"/>
                    <a:pt x="797719" y="688973"/>
                  </a:cubicBezTo>
                  <a:lnTo>
                    <a:pt x="802481" y="691830"/>
                  </a:lnTo>
                  <a:cubicBezTo>
                    <a:pt x="802481" y="689925"/>
                    <a:pt x="802481" y="687068"/>
                    <a:pt x="802481" y="684210"/>
                  </a:cubicBezTo>
                  <a:lnTo>
                    <a:pt x="807244" y="687068"/>
                  </a:lnTo>
                  <a:cubicBezTo>
                    <a:pt x="807244" y="685163"/>
                    <a:pt x="807244" y="682305"/>
                    <a:pt x="807244" y="679448"/>
                  </a:cubicBezTo>
                  <a:lnTo>
                    <a:pt x="812006" y="682305"/>
                  </a:lnTo>
                  <a:cubicBezTo>
                    <a:pt x="824389" y="674685"/>
                    <a:pt x="824389" y="669923"/>
                    <a:pt x="824389" y="66420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6" name="任意多边形: 形状 57"/>
            <p:cNvSpPr/>
            <p:nvPr/>
          </p:nvSpPr>
          <p:spPr>
            <a:xfrm>
              <a:off x="3153240" y="1657440"/>
              <a:ext cx="1001520" cy="1087920"/>
            </a:xfrm>
            <a:custGeom>
              <a:avLst/>
              <a:gdLst>
                <a:gd name="textAreaLeft" fmla="*/ 0 w 1001520"/>
                <a:gd name="textAreaRight" fmla="*/ 1001880 w 1001520"/>
                <a:gd name="textAreaTop" fmla="*/ 0 h 1087920"/>
                <a:gd name="textAreaBottom" fmla="*/ 1088280 h 1087920"/>
              </a:gdLst>
              <a:ahLst/>
              <a:rect l="textAreaLeft" t="textAreaTop" r="textAreaRight" b="textAreaBottom"/>
              <a:pathLst>
                <a:path w="771525" h="685800">
                  <a:moveTo>
                    <a:pt x="770096" y="680273"/>
                  </a:moveTo>
                  <a:cubicBezTo>
                    <a:pt x="770096" y="675510"/>
                    <a:pt x="771049" y="669795"/>
                    <a:pt x="771049" y="664081"/>
                  </a:cubicBezTo>
                  <a:cubicBezTo>
                    <a:pt x="771049" y="547876"/>
                    <a:pt x="701516" y="415478"/>
                    <a:pt x="614839" y="366901"/>
                  </a:cubicBezTo>
                  <a:cubicBezTo>
                    <a:pt x="609124" y="363090"/>
                    <a:pt x="603409" y="361185"/>
                    <a:pt x="596741" y="358328"/>
                  </a:cubicBezTo>
                  <a:cubicBezTo>
                    <a:pt x="570071" y="222120"/>
                    <a:pt x="486251" y="86865"/>
                    <a:pt x="387191" y="31620"/>
                  </a:cubicBezTo>
                  <a:cubicBezTo>
                    <a:pt x="281464" y="-27435"/>
                    <a:pt x="192881" y="24001"/>
                    <a:pt x="172879" y="146873"/>
                  </a:cubicBezTo>
                  <a:cubicBezTo>
                    <a:pt x="164306" y="140205"/>
                    <a:pt x="155734" y="133538"/>
                    <a:pt x="146209" y="128776"/>
                  </a:cubicBezTo>
                  <a:cubicBezTo>
                    <a:pt x="70009" y="85913"/>
                    <a:pt x="7144" y="134490"/>
                    <a:pt x="7144" y="237360"/>
                  </a:cubicBezTo>
                  <a:cubicBezTo>
                    <a:pt x="7144" y="243076"/>
                    <a:pt x="7144" y="248790"/>
                    <a:pt x="8096" y="253553"/>
                  </a:cubicBezTo>
                  <a:lnTo>
                    <a:pt x="770096" y="68027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7" name="任意多边形: 形状 58"/>
            <p:cNvSpPr/>
            <p:nvPr/>
          </p:nvSpPr>
          <p:spPr>
            <a:xfrm>
              <a:off x="1235160" y="1704240"/>
              <a:ext cx="1076040" cy="1148400"/>
            </a:xfrm>
            <a:custGeom>
              <a:avLst/>
              <a:gdLst>
                <a:gd name="textAreaLeft" fmla="*/ 0 w 1076040"/>
                <a:gd name="textAreaRight" fmla="*/ 1076400 w 1076040"/>
                <a:gd name="textAreaTop" fmla="*/ 0 h 1148400"/>
                <a:gd name="textAreaBottom" fmla="*/ 1148400 h 1148400"/>
              </a:gdLst>
              <a:ahLst/>
              <a:rect l="textAreaLeft" t="textAreaTop" r="textAreaRight" b="textAreaBottom"/>
              <a:pathLst>
                <a:path w="828675" h="723900">
                  <a:moveTo>
                    <a:pt x="7144" y="664208"/>
                  </a:moveTo>
                  <a:cubicBezTo>
                    <a:pt x="7144" y="548003"/>
                    <a:pt x="76676" y="415605"/>
                    <a:pt x="163354" y="367028"/>
                  </a:cubicBezTo>
                  <a:cubicBezTo>
                    <a:pt x="169069" y="363218"/>
                    <a:pt x="174784" y="361313"/>
                    <a:pt x="181451" y="358455"/>
                  </a:cubicBezTo>
                  <a:cubicBezTo>
                    <a:pt x="208121" y="222248"/>
                    <a:pt x="291941" y="86993"/>
                    <a:pt x="391001" y="31748"/>
                  </a:cubicBezTo>
                  <a:cubicBezTo>
                    <a:pt x="453866" y="-3495"/>
                    <a:pt x="511016" y="315"/>
                    <a:pt x="551021" y="35558"/>
                  </a:cubicBezTo>
                  <a:cubicBezTo>
                    <a:pt x="552926" y="36510"/>
                    <a:pt x="554831" y="38415"/>
                    <a:pt x="556736" y="40320"/>
                  </a:cubicBezTo>
                  <a:cubicBezTo>
                    <a:pt x="558641" y="41273"/>
                    <a:pt x="560546" y="43178"/>
                    <a:pt x="562451" y="45083"/>
                  </a:cubicBezTo>
                  <a:cubicBezTo>
                    <a:pt x="564356" y="46035"/>
                    <a:pt x="566261" y="47940"/>
                    <a:pt x="568166" y="49845"/>
                  </a:cubicBezTo>
                  <a:cubicBezTo>
                    <a:pt x="570071" y="50798"/>
                    <a:pt x="571976" y="52703"/>
                    <a:pt x="573881" y="54608"/>
                  </a:cubicBezTo>
                  <a:cubicBezTo>
                    <a:pt x="575786" y="55560"/>
                    <a:pt x="577691" y="57465"/>
                    <a:pt x="579596" y="59370"/>
                  </a:cubicBezTo>
                  <a:cubicBezTo>
                    <a:pt x="581501" y="60323"/>
                    <a:pt x="583406" y="62228"/>
                    <a:pt x="585311" y="64133"/>
                  </a:cubicBezTo>
                  <a:cubicBezTo>
                    <a:pt x="587216" y="65085"/>
                    <a:pt x="589121" y="66990"/>
                    <a:pt x="591026" y="68895"/>
                  </a:cubicBezTo>
                  <a:cubicBezTo>
                    <a:pt x="592931" y="69848"/>
                    <a:pt x="594836" y="71753"/>
                    <a:pt x="596741" y="73658"/>
                  </a:cubicBezTo>
                  <a:cubicBezTo>
                    <a:pt x="613886" y="86993"/>
                    <a:pt x="628174" y="106043"/>
                    <a:pt x="638651" y="128903"/>
                  </a:cubicBezTo>
                  <a:cubicBezTo>
                    <a:pt x="677704" y="107948"/>
                    <a:pt x="712946" y="111758"/>
                    <a:pt x="737711" y="134618"/>
                  </a:cubicBezTo>
                  <a:cubicBezTo>
                    <a:pt x="739616" y="135570"/>
                    <a:pt x="741521" y="137475"/>
                    <a:pt x="743426" y="139380"/>
                  </a:cubicBezTo>
                  <a:cubicBezTo>
                    <a:pt x="745331" y="140333"/>
                    <a:pt x="747236" y="142238"/>
                    <a:pt x="749141" y="144143"/>
                  </a:cubicBezTo>
                  <a:cubicBezTo>
                    <a:pt x="751046" y="145095"/>
                    <a:pt x="752951" y="147000"/>
                    <a:pt x="754856" y="148905"/>
                  </a:cubicBezTo>
                  <a:cubicBezTo>
                    <a:pt x="756761" y="149858"/>
                    <a:pt x="758666" y="151763"/>
                    <a:pt x="760571" y="153668"/>
                  </a:cubicBezTo>
                  <a:cubicBezTo>
                    <a:pt x="762476" y="154620"/>
                    <a:pt x="764381" y="156525"/>
                    <a:pt x="766286" y="158430"/>
                  </a:cubicBezTo>
                  <a:cubicBezTo>
                    <a:pt x="768191" y="159383"/>
                    <a:pt x="770096" y="161288"/>
                    <a:pt x="772001" y="163193"/>
                  </a:cubicBezTo>
                  <a:cubicBezTo>
                    <a:pt x="773906" y="164145"/>
                    <a:pt x="775811" y="166050"/>
                    <a:pt x="777716" y="167955"/>
                  </a:cubicBezTo>
                  <a:cubicBezTo>
                    <a:pt x="779621" y="168908"/>
                    <a:pt x="781526" y="170813"/>
                    <a:pt x="783431" y="172718"/>
                  </a:cubicBezTo>
                  <a:cubicBezTo>
                    <a:pt x="809149" y="191768"/>
                    <a:pt x="824389" y="229868"/>
                    <a:pt x="824389" y="282255"/>
                  </a:cubicBezTo>
                  <a:cubicBezTo>
                    <a:pt x="824389" y="287970"/>
                    <a:pt x="824389" y="293685"/>
                    <a:pt x="823436" y="298448"/>
                  </a:cubicBezTo>
                  <a:lnTo>
                    <a:pt x="62389" y="725168"/>
                  </a:lnTo>
                  <a:cubicBezTo>
                    <a:pt x="62389" y="723263"/>
                    <a:pt x="62389" y="720405"/>
                    <a:pt x="62389" y="717548"/>
                  </a:cubicBezTo>
                  <a:lnTo>
                    <a:pt x="57626" y="720405"/>
                  </a:lnTo>
                  <a:cubicBezTo>
                    <a:pt x="57626" y="718500"/>
                    <a:pt x="57626" y="715643"/>
                    <a:pt x="57626" y="712785"/>
                  </a:cubicBezTo>
                  <a:lnTo>
                    <a:pt x="52864" y="715643"/>
                  </a:lnTo>
                  <a:cubicBezTo>
                    <a:pt x="52864" y="713738"/>
                    <a:pt x="52864" y="710880"/>
                    <a:pt x="52864" y="708023"/>
                  </a:cubicBezTo>
                  <a:lnTo>
                    <a:pt x="48101" y="710880"/>
                  </a:lnTo>
                  <a:cubicBezTo>
                    <a:pt x="48101" y="708975"/>
                    <a:pt x="48101" y="706118"/>
                    <a:pt x="48101" y="703260"/>
                  </a:cubicBezTo>
                  <a:lnTo>
                    <a:pt x="43339" y="706118"/>
                  </a:lnTo>
                  <a:cubicBezTo>
                    <a:pt x="43339" y="704213"/>
                    <a:pt x="43339" y="701355"/>
                    <a:pt x="43339" y="698498"/>
                  </a:cubicBezTo>
                  <a:lnTo>
                    <a:pt x="38576" y="701355"/>
                  </a:lnTo>
                  <a:cubicBezTo>
                    <a:pt x="38576" y="699450"/>
                    <a:pt x="38576" y="696593"/>
                    <a:pt x="38576" y="693735"/>
                  </a:cubicBezTo>
                  <a:lnTo>
                    <a:pt x="33814" y="696593"/>
                  </a:lnTo>
                  <a:cubicBezTo>
                    <a:pt x="33814" y="694688"/>
                    <a:pt x="33814" y="691830"/>
                    <a:pt x="33814" y="688973"/>
                  </a:cubicBezTo>
                  <a:lnTo>
                    <a:pt x="29051" y="691830"/>
                  </a:lnTo>
                  <a:cubicBezTo>
                    <a:pt x="29051" y="689925"/>
                    <a:pt x="29051" y="687068"/>
                    <a:pt x="29051" y="684210"/>
                  </a:cubicBezTo>
                  <a:lnTo>
                    <a:pt x="24289" y="687068"/>
                  </a:lnTo>
                  <a:cubicBezTo>
                    <a:pt x="24289" y="685163"/>
                    <a:pt x="24289" y="682305"/>
                    <a:pt x="24289" y="679448"/>
                  </a:cubicBezTo>
                  <a:lnTo>
                    <a:pt x="19526" y="682305"/>
                  </a:lnTo>
                  <a:cubicBezTo>
                    <a:pt x="7144" y="674685"/>
                    <a:pt x="7144" y="668970"/>
                    <a:pt x="7144" y="66420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8" name="任意多边形: 形状 59"/>
            <p:cNvSpPr/>
            <p:nvPr/>
          </p:nvSpPr>
          <p:spPr>
            <a:xfrm>
              <a:off x="1296720" y="1766160"/>
              <a:ext cx="1001520" cy="1087920"/>
            </a:xfrm>
            <a:custGeom>
              <a:avLst/>
              <a:gdLst>
                <a:gd name="textAreaLeft" fmla="*/ 0 w 1001520"/>
                <a:gd name="textAreaRight" fmla="*/ 1001880 w 1001520"/>
                <a:gd name="textAreaTop" fmla="*/ 0 h 1087920"/>
                <a:gd name="textAreaBottom" fmla="*/ 1088280 h 1087920"/>
              </a:gdLst>
              <a:ahLst/>
              <a:rect l="textAreaLeft" t="textAreaTop" r="textAreaRight" b="textAreaBottom"/>
              <a:pathLst>
                <a:path w="771525" h="685800">
                  <a:moveTo>
                    <a:pt x="8096" y="680273"/>
                  </a:moveTo>
                  <a:cubicBezTo>
                    <a:pt x="8096" y="675510"/>
                    <a:pt x="7144" y="669796"/>
                    <a:pt x="7144" y="664080"/>
                  </a:cubicBezTo>
                  <a:cubicBezTo>
                    <a:pt x="7144" y="547875"/>
                    <a:pt x="76676" y="415478"/>
                    <a:pt x="163354" y="366900"/>
                  </a:cubicBezTo>
                  <a:cubicBezTo>
                    <a:pt x="169069" y="363090"/>
                    <a:pt x="174784" y="361185"/>
                    <a:pt x="181451" y="358328"/>
                  </a:cubicBezTo>
                  <a:cubicBezTo>
                    <a:pt x="208121" y="222120"/>
                    <a:pt x="291941" y="86865"/>
                    <a:pt x="391001" y="31620"/>
                  </a:cubicBezTo>
                  <a:cubicBezTo>
                    <a:pt x="496729" y="-27435"/>
                    <a:pt x="585311" y="24000"/>
                    <a:pt x="605314" y="146873"/>
                  </a:cubicBezTo>
                  <a:cubicBezTo>
                    <a:pt x="613886" y="140205"/>
                    <a:pt x="622459" y="133538"/>
                    <a:pt x="631984" y="128775"/>
                  </a:cubicBezTo>
                  <a:cubicBezTo>
                    <a:pt x="708184" y="85913"/>
                    <a:pt x="771049" y="134490"/>
                    <a:pt x="771049" y="237360"/>
                  </a:cubicBezTo>
                  <a:cubicBezTo>
                    <a:pt x="771049" y="243075"/>
                    <a:pt x="771049" y="248790"/>
                    <a:pt x="770096" y="253553"/>
                  </a:cubicBezTo>
                  <a:lnTo>
                    <a:pt x="8096" y="68027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89" name="任意多边形: 形状 60"/>
            <p:cNvSpPr/>
            <p:nvPr/>
          </p:nvSpPr>
          <p:spPr>
            <a:xfrm>
              <a:off x="810720" y="3728880"/>
              <a:ext cx="556560" cy="921600"/>
            </a:xfrm>
            <a:custGeom>
              <a:avLst/>
              <a:gdLst>
                <a:gd name="textAreaLeft" fmla="*/ 0 w 556560"/>
                <a:gd name="textAreaRight" fmla="*/ 556920 w 556560"/>
                <a:gd name="textAreaTop" fmla="*/ 0 h 921600"/>
                <a:gd name="textAreaBottom" fmla="*/ 921960 h 921600"/>
              </a:gdLst>
              <a:ahLst/>
              <a:rect l="textAreaLeft" t="textAreaTop" r="textAreaRight" b="textAreaBottom"/>
              <a:pathLst>
                <a:path w="428625" h="581025">
                  <a:moveTo>
                    <a:pt x="283369" y="7144"/>
                  </a:moveTo>
                  <a:lnTo>
                    <a:pt x="7144" y="99536"/>
                  </a:lnTo>
                  <a:lnTo>
                    <a:pt x="7144" y="447199"/>
                  </a:lnTo>
                  <a:cubicBezTo>
                    <a:pt x="7144" y="517684"/>
                    <a:pt x="100489" y="574834"/>
                    <a:pt x="216694" y="574834"/>
                  </a:cubicBezTo>
                  <a:cubicBezTo>
                    <a:pt x="331946" y="574834"/>
                    <a:pt x="426244" y="517684"/>
                    <a:pt x="426244" y="447199"/>
                  </a:cubicBezTo>
                  <a:lnTo>
                    <a:pt x="426244" y="99536"/>
                  </a:lnTo>
                  <a:lnTo>
                    <a:pt x="283369" y="71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0" name="任意多边形: 形状 61"/>
            <p:cNvSpPr/>
            <p:nvPr/>
          </p:nvSpPr>
          <p:spPr>
            <a:xfrm>
              <a:off x="809640" y="3673080"/>
              <a:ext cx="556560" cy="423000"/>
            </a:xfrm>
            <a:custGeom>
              <a:avLst/>
              <a:gdLst>
                <a:gd name="textAreaLeft" fmla="*/ 0 w 556560"/>
                <a:gd name="textAreaRight" fmla="*/ 556920 w 556560"/>
                <a:gd name="textAreaTop" fmla="*/ 0 h 423000"/>
                <a:gd name="textAreaBottom" fmla="*/ 423360 h 423000"/>
              </a:gdLst>
              <a:ahLst/>
              <a:rect l="textAreaLeft" t="textAreaTop" r="textAreaRight" b="textAreaBottom"/>
              <a:pathLst>
                <a:path w="428625" h="266700">
                  <a:moveTo>
                    <a:pt x="426244" y="134779"/>
                  </a:moveTo>
                  <a:cubicBezTo>
                    <a:pt x="426244" y="205270"/>
                    <a:pt x="332425" y="262414"/>
                    <a:pt x="216694" y="262414"/>
                  </a:cubicBezTo>
                  <a:cubicBezTo>
                    <a:pt x="100962" y="262414"/>
                    <a:pt x="7144" y="205270"/>
                    <a:pt x="7144" y="134779"/>
                  </a:cubicBezTo>
                  <a:cubicBezTo>
                    <a:pt x="7144" y="64288"/>
                    <a:pt x="100962" y="7144"/>
                    <a:pt x="216694" y="7144"/>
                  </a:cubicBezTo>
                  <a:cubicBezTo>
                    <a:pt x="332425" y="7144"/>
                    <a:pt x="426244" y="64288"/>
                    <a:pt x="426244" y="13477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1" name="任意多边形: 形状 62"/>
            <p:cNvSpPr/>
            <p:nvPr/>
          </p:nvSpPr>
          <p:spPr>
            <a:xfrm>
              <a:off x="845280" y="3769560"/>
              <a:ext cx="482040" cy="317160"/>
            </a:xfrm>
            <a:custGeom>
              <a:avLst/>
              <a:gdLst>
                <a:gd name="textAreaLeft" fmla="*/ 0 w 482040"/>
                <a:gd name="textAreaRight" fmla="*/ 482400 w 482040"/>
                <a:gd name="textAreaTop" fmla="*/ 0 h 317160"/>
                <a:gd name="textAreaBottom" fmla="*/ 317520 h 317160"/>
              </a:gdLst>
              <a:ahLst/>
              <a:rect l="textAreaLeft" t="textAreaTop" r="textAreaRight" b="textAreaBottom"/>
              <a:pathLst>
                <a:path w="371475" h="200025">
                  <a:moveTo>
                    <a:pt x="10954" y="140494"/>
                  </a:moveTo>
                  <a:cubicBezTo>
                    <a:pt x="48101" y="176689"/>
                    <a:pt x="113824" y="201454"/>
                    <a:pt x="189071" y="201454"/>
                  </a:cubicBezTo>
                  <a:cubicBezTo>
                    <a:pt x="264319" y="201454"/>
                    <a:pt x="330041" y="177641"/>
                    <a:pt x="367189" y="140494"/>
                  </a:cubicBezTo>
                  <a:cubicBezTo>
                    <a:pt x="370046" y="132874"/>
                    <a:pt x="370999" y="125254"/>
                    <a:pt x="370999" y="117634"/>
                  </a:cubicBezTo>
                  <a:cubicBezTo>
                    <a:pt x="370999" y="56674"/>
                    <a:pt x="289084" y="7144"/>
                    <a:pt x="189071" y="7144"/>
                  </a:cubicBezTo>
                  <a:cubicBezTo>
                    <a:pt x="88106" y="7144"/>
                    <a:pt x="7144" y="56674"/>
                    <a:pt x="7144" y="117634"/>
                  </a:cubicBezTo>
                  <a:cubicBezTo>
                    <a:pt x="7144" y="126206"/>
                    <a:pt x="9049" y="133826"/>
                    <a:pt x="10954" y="140494"/>
                  </a:cubicBezTo>
                  <a:close/>
                </a:path>
              </a:pathLst>
            </a:custGeom>
            <a:solidFill>
              <a:srgbClr val="672d2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2" name="任意多边形: 形状 63"/>
            <p:cNvSpPr/>
            <p:nvPr/>
          </p:nvSpPr>
          <p:spPr>
            <a:xfrm>
              <a:off x="809640" y="3673080"/>
              <a:ext cx="556560" cy="423000"/>
            </a:xfrm>
            <a:custGeom>
              <a:avLst/>
              <a:gdLst>
                <a:gd name="textAreaLeft" fmla="*/ 0 w 556560"/>
                <a:gd name="textAreaRight" fmla="*/ 556920 w 556560"/>
                <a:gd name="textAreaTop" fmla="*/ 0 h 423000"/>
                <a:gd name="textAreaBottom" fmla="*/ 423360 h 423000"/>
              </a:gdLst>
              <a:ahLst/>
              <a:rect l="textAreaLeft" t="textAreaTop" r="textAreaRight" b="textAreaBottom"/>
              <a:pathLst>
                <a:path w="428625" h="266700">
                  <a:moveTo>
                    <a:pt x="216694" y="22384"/>
                  </a:moveTo>
                  <a:cubicBezTo>
                    <a:pt x="322421" y="22384"/>
                    <a:pt x="411004" y="73819"/>
                    <a:pt x="411004" y="134779"/>
                  </a:cubicBezTo>
                  <a:cubicBezTo>
                    <a:pt x="411004" y="195739"/>
                    <a:pt x="321469" y="247174"/>
                    <a:pt x="216694" y="247174"/>
                  </a:cubicBezTo>
                  <a:cubicBezTo>
                    <a:pt x="111919" y="247174"/>
                    <a:pt x="22384" y="195739"/>
                    <a:pt x="22384" y="134779"/>
                  </a:cubicBezTo>
                  <a:cubicBezTo>
                    <a:pt x="22384" y="73819"/>
                    <a:pt x="111919" y="22384"/>
                    <a:pt x="216694" y="22384"/>
                  </a:cubicBezTo>
                  <a:moveTo>
                    <a:pt x="216694" y="7144"/>
                  </a:moveTo>
                  <a:cubicBezTo>
                    <a:pt x="101441" y="7144"/>
                    <a:pt x="7144" y="64294"/>
                    <a:pt x="7144" y="134779"/>
                  </a:cubicBezTo>
                  <a:cubicBezTo>
                    <a:pt x="7144" y="205264"/>
                    <a:pt x="100489" y="262414"/>
                    <a:pt x="216694" y="262414"/>
                  </a:cubicBezTo>
                  <a:cubicBezTo>
                    <a:pt x="332899" y="262414"/>
                    <a:pt x="426244" y="205264"/>
                    <a:pt x="426244" y="134779"/>
                  </a:cubicBezTo>
                  <a:cubicBezTo>
                    <a:pt x="426244" y="64294"/>
                    <a:pt x="332899" y="7144"/>
                    <a:pt x="216694" y="714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3" name="任意多边形: 形状 64"/>
            <p:cNvSpPr/>
            <p:nvPr/>
          </p:nvSpPr>
          <p:spPr>
            <a:xfrm>
              <a:off x="1304280" y="4091400"/>
              <a:ext cx="172800" cy="347400"/>
            </a:xfrm>
            <a:custGeom>
              <a:avLst/>
              <a:gdLst>
                <a:gd name="textAreaLeft" fmla="*/ 0 w 172800"/>
                <a:gd name="textAreaRight" fmla="*/ 173160 w 172800"/>
                <a:gd name="textAreaTop" fmla="*/ 0 h 347400"/>
                <a:gd name="textAreaBottom" fmla="*/ 347760 h 347400"/>
              </a:gdLst>
              <a:ahLst/>
              <a:rect l="textAreaLeft" t="textAreaTop" r="textAreaRight" b="textAreaBottom"/>
              <a:pathLst>
                <a:path w="133350" h="219075">
                  <a:moveTo>
                    <a:pt x="14764" y="11906"/>
                  </a:moveTo>
                  <a:lnTo>
                    <a:pt x="7144" y="7144"/>
                  </a:lnTo>
                  <a:lnTo>
                    <a:pt x="7144" y="42386"/>
                  </a:lnTo>
                  <a:cubicBezTo>
                    <a:pt x="42386" y="66199"/>
                    <a:pt x="64294" y="106204"/>
                    <a:pt x="64294" y="150019"/>
                  </a:cubicBezTo>
                  <a:cubicBezTo>
                    <a:pt x="64294" y="163354"/>
                    <a:pt x="59531" y="176689"/>
                    <a:pt x="50959" y="186214"/>
                  </a:cubicBezTo>
                  <a:cubicBezTo>
                    <a:pt x="48101" y="186214"/>
                    <a:pt x="45244"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lnTo>
                    <a:pt x="43339" y="217646"/>
                  </a:lnTo>
                  <a:cubicBezTo>
                    <a:pt x="58579" y="217646"/>
                    <a:pt x="73819" y="21383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114776" y="190024"/>
                    <a:pt x="130969" y="162401"/>
                    <a:pt x="130969" y="130016"/>
                  </a:cubicBezTo>
                  <a:cubicBezTo>
                    <a:pt x="94774" y="92869"/>
                    <a:pt x="64294" y="40481"/>
                    <a:pt x="14764" y="119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4" name="任意多边形: 形状 65"/>
            <p:cNvSpPr/>
            <p:nvPr/>
          </p:nvSpPr>
          <p:spPr>
            <a:xfrm>
              <a:off x="1257120" y="4123440"/>
              <a:ext cx="123480" cy="377640"/>
            </a:xfrm>
            <a:custGeom>
              <a:avLst/>
              <a:gdLst>
                <a:gd name="textAreaLeft" fmla="*/ 0 w 123480"/>
                <a:gd name="textAreaRight" fmla="*/ 123840 w 123480"/>
                <a:gd name="textAreaTop" fmla="*/ 0 h 377640"/>
                <a:gd name="textAreaBottom" fmla="*/ 378000 h 377640"/>
              </a:gdLst>
              <a:ahLst/>
              <a:rect l="textAreaLeft" t="textAreaTop" r="textAreaRight" b="textAreaBottom"/>
              <a:pathLst>
                <a:path w="95250" h="238125">
                  <a:moveTo>
                    <a:pt x="14764" y="11906"/>
                  </a:moveTo>
                  <a:lnTo>
                    <a:pt x="7144" y="7144"/>
                  </a:lnTo>
                  <a:lnTo>
                    <a:pt x="7144" y="42386"/>
                  </a:lnTo>
                  <a:cubicBezTo>
                    <a:pt x="42386" y="66199"/>
                    <a:pt x="64294" y="106204"/>
                    <a:pt x="64294" y="150019"/>
                  </a:cubicBezTo>
                  <a:cubicBezTo>
                    <a:pt x="64294" y="170974"/>
                    <a:pt x="53816" y="189071"/>
                    <a:pt x="35719" y="199549"/>
                  </a:cubicBezTo>
                  <a:cubicBezTo>
                    <a:pt x="27146" y="204311"/>
                    <a:pt x="16669" y="207169"/>
                    <a:pt x="7144" y="207169"/>
                  </a:cubicBezTo>
                  <a:lnTo>
                    <a:pt x="7144" y="237649"/>
                  </a:lnTo>
                  <a:cubicBezTo>
                    <a:pt x="22384" y="237649"/>
                    <a:pt x="37624" y="233839"/>
                    <a:pt x="50959" y="226219"/>
                  </a:cubicBezTo>
                  <a:cubicBezTo>
                    <a:pt x="78581" y="210026"/>
                    <a:pt x="94774" y="182404"/>
                    <a:pt x="94774" y="150019"/>
                  </a:cubicBezTo>
                  <a:cubicBezTo>
                    <a:pt x="94774" y="92869"/>
                    <a:pt x="64294" y="40481"/>
                    <a:pt x="14764" y="119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5" name="任意多边形: 形状 66"/>
            <p:cNvSpPr/>
            <p:nvPr/>
          </p:nvSpPr>
          <p:spPr>
            <a:xfrm>
              <a:off x="3214080" y="4440600"/>
              <a:ext cx="1607760" cy="1133280"/>
            </a:xfrm>
            <a:custGeom>
              <a:avLst/>
              <a:gdLst>
                <a:gd name="textAreaLeft" fmla="*/ 0 w 1607760"/>
                <a:gd name="textAreaRight" fmla="*/ 1608120 w 1607760"/>
                <a:gd name="textAreaTop" fmla="*/ 0 h 1133280"/>
                <a:gd name="textAreaBottom" fmla="*/ 1133640 h 1133280"/>
              </a:gdLst>
              <a:ahLst/>
              <a:rect l="textAreaLeft" t="textAreaTop" r="textAreaRight" b="textAreaBottom"/>
              <a:pathLst>
                <a:path w="1238250" h="714375">
                  <a:moveTo>
                    <a:pt x="7144" y="423386"/>
                  </a:moveTo>
                  <a:lnTo>
                    <a:pt x="728186" y="7144"/>
                  </a:lnTo>
                  <a:lnTo>
                    <a:pt x="1233011" y="298609"/>
                  </a:lnTo>
                  <a:lnTo>
                    <a:pt x="511969" y="714851"/>
                  </a:lnTo>
                  <a:lnTo>
                    <a:pt x="7144" y="42338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6" name="任意多边形: 形状 67"/>
            <p:cNvSpPr/>
            <p:nvPr/>
          </p:nvSpPr>
          <p:spPr>
            <a:xfrm>
              <a:off x="3773160" y="5235480"/>
              <a:ext cx="222480" cy="150840"/>
            </a:xfrm>
            <a:custGeom>
              <a:avLst/>
              <a:gdLst>
                <a:gd name="textAreaLeft" fmla="*/ 0 w 222480"/>
                <a:gd name="textAreaRight" fmla="*/ 222840 w 222480"/>
                <a:gd name="textAreaTop" fmla="*/ 0 h 150840"/>
                <a:gd name="textAreaBottom" fmla="*/ 151200 h 150840"/>
              </a:gdLst>
              <a:ahLst/>
              <a:rect l="textAreaLeft" t="textAreaTop" r="textAreaRight" b="textAreaBottom"/>
              <a:pathLst>
                <a:path w="171450" h="95250">
                  <a:moveTo>
                    <a:pt x="165259" y="48101"/>
                  </a:moveTo>
                  <a:cubicBezTo>
                    <a:pt x="165259" y="70721"/>
                    <a:pt x="129864" y="89059"/>
                    <a:pt x="86201" y="89059"/>
                  </a:cubicBezTo>
                  <a:cubicBezTo>
                    <a:pt x="42539" y="89059"/>
                    <a:pt x="7144" y="70721"/>
                    <a:pt x="7144" y="48101"/>
                  </a:cubicBezTo>
                  <a:cubicBezTo>
                    <a:pt x="7144" y="25481"/>
                    <a:pt x="42539" y="7144"/>
                    <a:pt x="86201" y="7144"/>
                  </a:cubicBezTo>
                  <a:cubicBezTo>
                    <a:pt x="129864" y="7144"/>
                    <a:pt x="165259" y="25481"/>
                    <a:pt x="165259" y="48101"/>
                  </a:cubicBezTo>
                  <a:close/>
                </a:path>
              </a:pathLst>
            </a:custGeom>
            <a:solidFill>
              <a:srgbClr val="ff738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7" name="任意多边形: 形状 68"/>
            <p:cNvSpPr/>
            <p:nvPr/>
          </p:nvSpPr>
          <p:spPr>
            <a:xfrm>
              <a:off x="4136400" y="4550760"/>
              <a:ext cx="494640" cy="377640"/>
            </a:xfrm>
            <a:custGeom>
              <a:avLst/>
              <a:gdLst>
                <a:gd name="textAreaLeft" fmla="*/ 0 w 494640"/>
                <a:gd name="textAreaRight" fmla="*/ 495000 w 494640"/>
                <a:gd name="textAreaTop" fmla="*/ 0 h 377640"/>
                <a:gd name="textAreaBottom" fmla="*/ 378000 h 377640"/>
              </a:gdLst>
              <a:ahLst/>
              <a:rect l="textAreaLeft" t="textAreaTop" r="textAreaRight" b="textAreaBottom"/>
              <a:pathLst>
                <a:path w="381000" h="238125">
                  <a:moveTo>
                    <a:pt x="9773" y="26219"/>
                  </a:moveTo>
                  <a:lnTo>
                    <a:pt x="19387" y="9773"/>
                  </a:lnTo>
                  <a:lnTo>
                    <a:pt x="376262" y="218408"/>
                  </a:lnTo>
                  <a:lnTo>
                    <a:pt x="366648" y="234854"/>
                  </a:lnTo>
                  <a:lnTo>
                    <a:pt x="9773" y="26219"/>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8" name="任意多边形: 形状 69"/>
            <p:cNvSpPr/>
            <p:nvPr/>
          </p:nvSpPr>
          <p:spPr>
            <a:xfrm>
              <a:off x="4040280" y="4619160"/>
              <a:ext cx="506880" cy="377640"/>
            </a:xfrm>
            <a:custGeom>
              <a:avLst/>
              <a:gdLst>
                <a:gd name="textAreaLeft" fmla="*/ 0 w 506880"/>
                <a:gd name="textAreaRight" fmla="*/ 507240 w 506880"/>
                <a:gd name="textAreaTop" fmla="*/ 0 h 377640"/>
                <a:gd name="textAreaBottom" fmla="*/ 378000 h 377640"/>
              </a:gdLst>
              <a:ahLst/>
              <a:rect l="textAreaLeft" t="textAreaTop" r="textAreaRight" b="textAreaBottom"/>
              <a:pathLst>
                <a:path w="390525" h="238125">
                  <a:moveTo>
                    <a:pt x="9747" y="26288"/>
                  </a:moveTo>
                  <a:lnTo>
                    <a:pt x="19198" y="9747"/>
                  </a:lnTo>
                  <a:lnTo>
                    <a:pt x="384756" y="218607"/>
                  </a:lnTo>
                  <a:lnTo>
                    <a:pt x="375306" y="235149"/>
                  </a:lnTo>
                  <a:lnTo>
                    <a:pt x="9747" y="26288"/>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99" name="任意多边形: 形状 70"/>
            <p:cNvSpPr/>
            <p:nvPr/>
          </p:nvSpPr>
          <p:spPr>
            <a:xfrm>
              <a:off x="3953160" y="4689720"/>
              <a:ext cx="494640" cy="362520"/>
            </a:xfrm>
            <a:custGeom>
              <a:avLst/>
              <a:gdLst>
                <a:gd name="textAreaLeft" fmla="*/ 0 w 494640"/>
                <a:gd name="textAreaRight" fmla="*/ 495000 w 494640"/>
                <a:gd name="textAreaTop" fmla="*/ 0 h 362520"/>
                <a:gd name="textAreaBottom" fmla="*/ 362880 h 362520"/>
              </a:gdLst>
              <a:ahLst/>
              <a:rect l="textAreaLeft" t="textAreaTop" r="textAreaRight" b="textAreaBottom"/>
              <a:pathLst>
                <a:path w="381000" h="228600">
                  <a:moveTo>
                    <a:pt x="9715" y="26363"/>
                  </a:moveTo>
                  <a:lnTo>
                    <a:pt x="18976" y="9716"/>
                  </a:lnTo>
                  <a:lnTo>
                    <a:pt x="379400" y="210199"/>
                  </a:lnTo>
                  <a:lnTo>
                    <a:pt x="370140" y="226847"/>
                  </a:lnTo>
                  <a:lnTo>
                    <a:pt x="9715" y="26363"/>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00" name="任意多边形: 形状 71"/>
            <p:cNvSpPr/>
            <p:nvPr/>
          </p:nvSpPr>
          <p:spPr>
            <a:xfrm>
              <a:off x="3854520" y="4751280"/>
              <a:ext cx="494640" cy="377640"/>
            </a:xfrm>
            <a:custGeom>
              <a:avLst/>
              <a:gdLst>
                <a:gd name="textAreaLeft" fmla="*/ 0 w 494640"/>
                <a:gd name="textAreaRight" fmla="*/ 495000 w 494640"/>
                <a:gd name="textAreaTop" fmla="*/ 0 h 377640"/>
                <a:gd name="textAreaBottom" fmla="*/ 378000 h 377640"/>
              </a:gdLst>
              <a:ahLst/>
              <a:rect l="textAreaLeft" t="textAreaTop" r="textAreaRight" b="textAreaBottom"/>
              <a:pathLst>
                <a:path w="381000" h="238125">
                  <a:moveTo>
                    <a:pt x="9743" y="26299"/>
                  </a:moveTo>
                  <a:lnTo>
                    <a:pt x="19167" y="9743"/>
                  </a:lnTo>
                  <a:lnTo>
                    <a:pt x="375956" y="212831"/>
                  </a:lnTo>
                  <a:lnTo>
                    <a:pt x="366532" y="229387"/>
                  </a:lnTo>
                  <a:lnTo>
                    <a:pt x="9743" y="26299"/>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01" name="任意多边形: 形状 72"/>
            <p:cNvSpPr/>
            <p:nvPr/>
          </p:nvSpPr>
          <p:spPr>
            <a:xfrm>
              <a:off x="3764880" y="4816800"/>
              <a:ext cx="494640" cy="377640"/>
            </a:xfrm>
            <a:custGeom>
              <a:avLst/>
              <a:gdLst>
                <a:gd name="textAreaLeft" fmla="*/ 0 w 494640"/>
                <a:gd name="textAreaRight" fmla="*/ 495000 w 494640"/>
                <a:gd name="textAreaTop" fmla="*/ 0 h 377640"/>
                <a:gd name="textAreaBottom" fmla="*/ 378000 h 377640"/>
              </a:gdLst>
              <a:ahLst/>
              <a:rect l="textAreaLeft" t="textAreaTop" r="textAreaRight" b="textAreaBottom"/>
              <a:pathLst>
                <a:path w="381000" h="238125">
                  <a:moveTo>
                    <a:pt x="9765" y="26239"/>
                  </a:moveTo>
                  <a:lnTo>
                    <a:pt x="19330" y="9765"/>
                  </a:lnTo>
                  <a:lnTo>
                    <a:pt x="380120" y="219238"/>
                  </a:lnTo>
                  <a:lnTo>
                    <a:pt x="370555" y="235713"/>
                  </a:lnTo>
                  <a:lnTo>
                    <a:pt x="9765" y="26239"/>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02" name="任意多边形: 形状 73"/>
            <p:cNvSpPr/>
            <p:nvPr/>
          </p:nvSpPr>
          <p:spPr>
            <a:xfrm>
              <a:off x="3676320" y="4886640"/>
              <a:ext cx="494640" cy="377640"/>
            </a:xfrm>
            <a:custGeom>
              <a:avLst/>
              <a:gdLst>
                <a:gd name="textAreaLeft" fmla="*/ 0 w 494640"/>
                <a:gd name="textAreaRight" fmla="*/ 495000 w 494640"/>
                <a:gd name="textAreaTop" fmla="*/ 0 h 377640"/>
                <a:gd name="textAreaBottom" fmla="*/ 378000 h 377640"/>
              </a:gdLst>
              <a:ahLst/>
              <a:rect l="textAreaLeft" t="textAreaTop" r="textAreaRight" b="textAreaBottom"/>
              <a:pathLst>
                <a:path w="381000" h="238125">
                  <a:moveTo>
                    <a:pt x="9773" y="26218"/>
                  </a:moveTo>
                  <a:lnTo>
                    <a:pt x="19387" y="9773"/>
                  </a:lnTo>
                  <a:lnTo>
                    <a:pt x="376262" y="218408"/>
                  </a:lnTo>
                  <a:lnTo>
                    <a:pt x="366648" y="234854"/>
                  </a:lnTo>
                  <a:lnTo>
                    <a:pt x="9773" y="26218"/>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03" name="任意多边形: 形状 74"/>
            <p:cNvSpPr/>
            <p:nvPr/>
          </p:nvSpPr>
          <p:spPr>
            <a:xfrm>
              <a:off x="4209480" y="4135320"/>
              <a:ext cx="630720" cy="423000"/>
            </a:xfrm>
            <a:custGeom>
              <a:avLst/>
              <a:gdLst>
                <a:gd name="textAreaLeft" fmla="*/ 0 w 630720"/>
                <a:gd name="textAreaRight" fmla="*/ 631080 w 630720"/>
                <a:gd name="textAreaTop" fmla="*/ 0 h 423000"/>
                <a:gd name="textAreaBottom" fmla="*/ 423360 h 423000"/>
              </a:gdLst>
              <a:ahLst/>
              <a:rect l="textAreaLeft" t="textAreaTop" r="textAreaRight" b="textAreaBottom"/>
              <a:pathLst>
                <a:path w="485775" h="266700">
                  <a:moveTo>
                    <a:pt x="7144" y="154781"/>
                  </a:moveTo>
                  <a:lnTo>
                    <a:pt x="262414" y="7144"/>
                  </a:lnTo>
                  <a:lnTo>
                    <a:pt x="484346" y="135731"/>
                  </a:lnTo>
                  <a:lnTo>
                    <a:pt x="260509" y="265271"/>
                  </a:lnTo>
                  <a:lnTo>
                    <a:pt x="198596" y="264319"/>
                  </a:lnTo>
                  <a:lnTo>
                    <a:pt x="7144" y="15478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04" name="任意多边形: 形状 75"/>
            <p:cNvSpPr/>
            <p:nvPr/>
          </p:nvSpPr>
          <p:spPr>
            <a:xfrm>
              <a:off x="4458240" y="4485960"/>
              <a:ext cx="98640" cy="75240"/>
            </a:xfrm>
            <a:custGeom>
              <a:avLst/>
              <a:gdLst>
                <a:gd name="textAreaLeft" fmla="*/ 0 w 98640"/>
                <a:gd name="textAreaRight" fmla="*/ 99000 w 98640"/>
                <a:gd name="textAreaTop" fmla="*/ 0 h 75240"/>
                <a:gd name="textAreaBottom" fmla="*/ 75600 h 75240"/>
              </a:gdLst>
              <a:ahLst/>
              <a:rect l="textAreaLeft" t="textAreaTop" r="textAreaRight" b="textAreaBottom"/>
              <a:pathLst>
                <a:path w="76200" h="47625">
                  <a:moveTo>
                    <a:pt x="38576" y="7144"/>
                  </a:moveTo>
                  <a:lnTo>
                    <a:pt x="7144" y="43339"/>
                  </a:lnTo>
                  <a:lnTo>
                    <a:pt x="69056" y="44291"/>
                  </a:lnTo>
                  <a:lnTo>
                    <a:pt x="38576" y="7144"/>
                  </a:lnTo>
                  <a:close/>
                </a:path>
              </a:pathLst>
            </a:custGeom>
            <a:solidFill>
              <a:srgbClr val="0b3e5f"/>
            </a:solidFill>
            <a:ln w="0">
              <a:noFill/>
            </a:ln>
          </p:spPr>
          <p:style>
            <a:lnRef idx="0"/>
            <a:fillRef idx="0"/>
            <a:effectRef idx="0"/>
            <a:fontRef idx="minor"/>
          </p:style>
          <p:txBody>
            <a:bodyPr lIns="90000" rIns="90000" tIns="28800" bIns="28800" anchor="ctr">
              <a:noAutofit/>
            </a:bodyPr>
            <a:p>
              <a:endParaRPr b="0" lang="en-US" sz="1800" spc="-1" strike="noStrike">
                <a:solidFill>
                  <a:srgbClr val="262626"/>
                </a:solidFill>
                <a:latin typeface="Arial"/>
              </a:endParaRPr>
            </a:p>
          </p:txBody>
        </p:sp>
        <p:sp>
          <p:nvSpPr>
            <p:cNvPr id="1605" name="任意多边形: 形状 76"/>
            <p:cNvSpPr/>
            <p:nvPr/>
          </p:nvSpPr>
          <p:spPr>
            <a:xfrm>
              <a:off x="2337120" y="5309640"/>
              <a:ext cx="630720" cy="423000"/>
            </a:xfrm>
            <a:custGeom>
              <a:avLst/>
              <a:gdLst>
                <a:gd name="textAreaLeft" fmla="*/ 0 w 630720"/>
                <a:gd name="textAreaRight" fmla="*/ 631080 w 630720"/>
                <a:gd name="textAreaTop" fmla="*/ 0 h 423000"/>
                <a:gd name="textAreaBottom" fmla="*/ 423360 h 423000"/>
              </a:gdLst>
              <a:ahLst/>
              <a:rect l="textAreaLeft" t="textAreaTop" r="textAreaRight" b="textAreaBottom"/>
              <a:pathLst>
                <a:path w="485775" h="266700">
                  <a:moveTo>
                    <a:pt x="7144" y="153829"/>
                  </a:moveTo>
                  <a:lnTo>
                    <a:pt x="261461" y="7144"/>
                  </a:lnTo>
                  <a:lnTo>
                    <a:pt x="483394" y="135731"/>
                  </a:lnTo>
                  <a:lnTo>
                    <a:pt x="260509" y="265271"/>
                  </a:lnTo>
                  <a:lnTo>
                    <a:pt x="197644" y="264319"/>
                  </a:lnTo>
                  <a:lnTo>
                    <a:pt x="7144" y="153829"/>
                  </a:lnTo>
                  <a:close/>
                </a:path>
              </a:pathLst>
            </a:custGeom>
            <a:solidFill>
              <a:srgbClr val="ff738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06" name="任意多边形: 形状 77"/>
            <p:cNvSpPr/>
            <p:nvPr/>
          </p:nvSpPr>
          <p:spPr>
            <a:xfrm>
              <a:off x="2584440" y="5660280"/>
              <a:ext cx="98640" cy="75240"/>
            </a:xfrm>
            <a:custGeom>
              <a:avLst/>
              <a:gdLst>
                <a:gd name="textAreaLeft" fmla="*/ 0 w 98640"/>
                <a:gd name="textAreaRight" fmla="*/ 99000 w 98640"/>
                <a:gd name="textAreaTop" fmla="*/ 0 h 75240"/>
                <a:gd name="textAreaBottom" fmla="*/ 75600 h 75240"/>
              </a:gdLst>
              <a:ahLst/>
              <a:rect l="textAreaLeft" t="textAreaTop" r="textAreaRight" b="textAreaBottom"/>
              <a:pathLst>
                <a:path w="76200" h="47625">
                  <a:moveTo>
                    <a:pt x="38576" y="7144"/>
                  </a:moveTo>
                  <a:lnTo>
                    <a:pt x="7144" y="43339"/>
                  </a:lnTo>
                  <a:lnTo>
                    <a:pt x="70009" y="44291"/>
                  </a:lnTo>
                  <a:lnTo>
                    <a:pt x="38576" y="7144"/>
                  </a:lnTo>
                  <a:close/>
                </a:path>
              </a:pathLst>
            </a:custGeom>
            <a:solidFill>
              <a:srgbClr val="fc435a"/>
            </a:solidFill>
            <a:ln w="0">
              <a:noFill/>
            </a:ln>
          </p:spPr>
          <p:style>
            <a:lnRef idx="0"/>
            <a:fillRef idx="0"/>
            <a:effectRef idx="0"/>
            <a:fontRef idx="minor"/>
          </p:style>
          <p:txBody>
            <a:bodyPr lIns="90000" rIns="90000" tIns="28800" bIns="28800" anchor="ctr">
              <a:noAutofit/>
            </a:bodyPr>
            <a:p>
              <a:endParaRPr b="0" lang="en-US" sz="1800" spc="-1" strike="noStrike">
                <a:solidFill>
                  <a:srgbClr val="262626"/>
                </a:solidFill>
                <a:latin typeface="Arial"/>
              </a:endParaRPr>
            </a:p>
          </p:txBody>
        </p:sp>
        <p:sp>
          <p:nvSpPr>
            <p:cNvPr id="1607" name="任意多边形: 形状 78"/>
            <p:cNvSpPr/>
            <p:nvPr/>
          </p:nvSpPr>
          <p:spPr>
            <a:xfrm>
              <a:off x="2852640" y="5163120"/>
              <a:ext cx="630720" cy="423000"/>
            </a:xfrm>
            <a:custGeom>
              <a:avLst/>
              <a:gdLst>
                <a:gd name="textAreaLeft" fmla="*/ 0 w 630720"/>
                <a:gd name="textAreaRight" fmla="*/ 631080 w 630720"/>
                <a:gd name="textAreaTop" fmla="*/ 0 h 423000"/>
                <a:gd name="textAreaBottom" fmla="*/ 423360 h 423000"/>
              </a:gdLst>
              <a:ahLst/>
              <a:rect l="textAreaLeft" t="textAreaTop" r="textAreaRight" b="textAreaBottom"/>
              <a:pathLst>
                <a:path w="485775" h="266700">
                  <a:moveTo>
                    <a:pt x="484346" y="153829"/>
                  </a:moveTo>
                  <a:lnTo>
                    <a:pt x="230029" y="7144"/>
                  </a:lnTo>
                  <a:lnTo>
                    <a:pt x="7144" y="135731"/>
                  </a:lnTo>
                  <a:lnTo>
                    <a:pt x="230981" y="265271"/>
                  </a:lnTo>
                  <a:lnTo>
                    <a:pt x="293846" y="264319"/>
                  </a:lnTo>
                  <a:lnTo>
                    <a:pt x="484346" y="153829"/>
                  </a:lnTo>
                  <a:close/>
                </a:path>
              </a:pathLst>
            </a:custGeom>
            <a:solidFill>
              <a:srgbClr val="edcf1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08" name="任意多边形: 形状 79"/>
            <p:cNvSpPr/>
            <p:nvPr/>
          </p:nvSpPr>
          <p:spPr>
            <a:xfrm>
              <a:off x="3143520" y="5513400"/>
              <a:ext cx="98640" cy="75240"/>
            </a:xfrm>
            <a:custGeom>
              <a:avLst/>
              <a:gdLst>
                <a:gd name="textAreaLeft" fmla="*/ 0 w 98640"/>
                <a:gd name="textAreaRight" fmla="*/ 99000 w 98640"/>
                <a:gd name="textAreaTop" fmla="*/ 0 h 75240"/>
                <a:gd name="textAreaBottom" fmla="*/ 75600 h 75240"/>
              </a:gdLst>
              <a:ahLst/>
              <a:rect l="textAreaLeft" t="textAreaTop" r="textAreaRight" b="textAreaBottom"/>
              <a:pathLst>
                <a:path w="76200" h="47625">
                  <a:moveTo>
                    <a:pt x="38576" y="7144"/>
                  </a:moveTo>
                  <a:lnTo>
                    <a:pt x="70009" y="43339"/>
                  </a:lnTo>
                  <a:lnTo>
                    <a:pt x="7144" y="44291"/>
                  </a:lnTo>
                  <a:lnTo>
                    <a:pt x="38576" y="7144"/>
                  </a:lnTo>
                  <a:close/>
                </a:path>
              </a:pathLst>
            </a:custGeom>
            <a:solidFill>
              <a:srgbClr val="a89231"/>
            </a:solidFill>
            <a:ln w="0">
              <a:noFill/>
            </a:ln>
          </p:spPr>
          <p:style>
            <a:lnRef idx="0"/>
            <a:fillRef idx="0"/>
            <a:effectRef idx="0"/>
            <a:fontRef idx="minor"/>
          </p:style>
          <p:txBody>
            <a:bodyPr lIns="90000" rIns="90000" tIns="28800" bIns="28800" anchor="ctr">
              <a:noAutofit/>
            </a:bodyPr>
            <a:p>
              <a:endParaRPr b="0" lang="en-US" sz="1800" spc="-1" strike="noStrike">
                <a:solidFill>
                  <a:srgbClr val="262626"/>
                </a:solidFill>
                <a:latin typeface="Arial"/>
              </a:endParaRPr>
            </a:p>
          </p:txBody>
        </p:sp>
        <p:sp>
          <p:nvSpPr>
            <p:cNvPr id="1609" name="任意多边形: 形状 80"/>
            <p:cNvSpPr/>
            <p:nvPr/>
          </p:nvSpPr>
          <p:spPr>
            <a:xfrm>
              <a:off x="3598560" y="2539080"/>
              <a:ext cx="766800" cy="1284480"/>
            </a:xfrm>
            <a:custGeom>
              <a:avLst/>
              <a:gdLst>
                <a:gd name="textAreaLeft" fmla="*/ 0 w 766800"/>
                <a:gd name="textAreaRight" fmla="*/ 767160 w 766800"/>
                <a:gd name="textAreaTop" fmla="*/ 0 h 1284480"/>
                <a:gd name="textAreaBottom" fmla="*/ 1284840 h 1284480"/>
              </a:gdLst>
              <a:ahLst/>
              <a:rect l="textAreaLeft" t="textAreaTop" r="textAreaRight" b="textAreaBottom"/>
              <a:pathLst>
                <a:path w="590550" h="809625">
                  <a:moveTo>
                    <a:pt x="551021" y="264617"/>
                  </a:moveTo>
                  <a:lnTo>
                    <a:pt x="98584" y="10300"/>
                  </a:lnTo>
                  <a:cubicBezTo>
                    <a:pt x="92869" y="6490"/>
                    <a:pt x="87154" y="6490"/>
                    <a:pt x="82391" y="8395"/>
                  </a:cubicBezTo>
                  <a:cubicBezTo>
                    <a:pt x="81439" y="8395"/>
                    <a:pt x="81439" y="8395"/>
                    <a:pt x="80486" y="9347"/>
                  </a:cubicBezTo>
                  <a:cubicBezTo>
                    <a:pt x="79534" y="9347"/>
                    <a:pt x="79534" y="9347"/>
                    <a:pt x="78581" y="10300"/>
                  </a:cubicBezTo>
                  <a:cubicBezTo>
                    <a:pt x="77629" y="10300"/>
                    <a:pt x="77629" y="10300"/>
                    <a:pt x="76676" y="11253"/>
                  </a:cubicBezTo>
                  <a:cubicBezTo>
                    <a:pt x="75724" y="11253"/>
                    <a:pt x="75724" y="11253"/>
                    <a:pt x="74771" y="12205"/>
                  </a:cubicBezTo>
                  <a:cubicBezTo>
                    <a:pt x="73819" y="12205"/>
                    <a:pt x="73819" y="12205"/>
                    <a:pt x="72866" y="13158"/>
                  </a:cubicBezTo>
                  <a:cubicBezTo>
                    <a:pt x="71914" y="13158"/>
                    <a:pt x="71914" y="13158"/>
                    <a:pt x="70961" y="14110"/>
                  </a:cubicBezTo>
                  <a:cubicBezTo>
                    <a:pt x="70009" y="14110"/>
                    <a:pt x="70009" y="14110"/>
                    <a:pt x="69056" y="15063"/>
                  </a:cubicBezTo>
                  <a:cubicBezTo>
                    <a:pt x="68104" y="15063"/>
                    <a:pt x="68104" y="15063"/>
                    <a:pt x="67151" y="16015"/>
                  </a:cubicBezTo>
                  <a:cubicBezTo>
                    <a:pt x="66199" y="16015"/>
                    <a:pt x="66199" y="16015"/>
                    <a:pt x="65246" y="16967"/>
                  </a:cubicBezTo>
                  <a:cubicBezTo>
                    <a:pt x="64294" y="16967"/>
                    <a:pt x="64294" y="16967"/>
                    <a:pt x="63341" y="17920"/>
                  </a:cubicBezTo>
                  <a:cubicBezTo>
                    <a:pt x="62389" y="17920"/>
                    <a:pt x="62389" y="17920"/>
                    <a:pt x="61436" y="18872"/>
                  </a:cubicBezTo>
                  <a:cubicBezTo>
                    <a:pt x="60484" y="18872"/>
                    <a:pt x="60484" y="18872"/>
                    <a:pt x="59531" y="19825"/>
                  </a:cubicBezTo>
                  <a:cubicBezTo>
                    <a:pt x="58579" y="19825"/>
                    <a:pt x="58579" y="19825"/>
                    <a:pt x="57626" y="20778"/>
                  </a:cubicBezTo>
                  <a:cubicBezTo>
                    <a:pt x="56674" y="20778"/>
                    <a:pt x="56674" y="20778"/>
                    <a:pt x="55721" y="21730"/>
                  </a:cubicBezTo>
                  <a:cubicBezTo>
                    <a:pt x="54769" y="21730"/>
                    <a:pt x="54769" y="21730"/>
                    <a:pt x="53816" y="22683"/>
                  </a:cubicBezTo>
                  <a:cubicBezTo>
                    <a:pt x="52864" y="22683"/>
                    <a:pt x="52864" y="22683"/>
                    <a:pt x="51911" y="23635"/>
                  </a:cubicBezTo>
                  <a:cubicBezTo>
                    <a:pt x="50959" y="23635"/>
                    <a:pt x="50959" y="23635"/>
                    <a:pt x="50006" y="24588"/>
                  </a:cubicBezTo>
                  <a:cubicBezTo>
                    <a:pt x="49054" y="24588"/>
                    <a:pt x="49054" y="24588"/>
                    <a:pt x="48101" y="25540"/>
                  </a:cubicBezTo>
                  <a:cubicBezTo>
                    <a:pt x="47149" y="25540"/>
                    <a:pt x="47149" y="25540"/>
                    <a:pt x="46196" y="26492"/>
                  </a:cubicBezTo>
                  <a:cubicBezTo>
                    <a:pt x="45244" y="26492"/>
                    <a:pt x="45244" y="26492"/>
                    <a:pt x="44291" y="27445"/>
                  </a:cubicBezTo>
                  <a:cubicBezTo>
                    <a:pt x="43339" y="27445"/>
                    <a:pt x="43339" y="27445"/>
                    <a:pt x="42386" y="28397"/>
                  </a:cubicBezTo>
                  <a:cubicBezTo>
                    <a:pt x="41434" y="28397"/>
                    <a:pt x="41434" y="28397"/>
                    <a:pt x="40481" y="29350"/>
                  </a:cubicBezTo>
                  <a:cubicBezTo>
                    <a:pt x="39529" y="29350"/>
                    <a:pt x="39529" y="29350"/>
                    <a:pt x="38576" y="30303"/>
                  </a:cubicBezTo>
                  <a:cubicBezTo>
                    <a:pt x="37624" y="30303"/>
                    <a:pt x="37624" y="30303"/>
                    <a:pt x="36671" y="31255"/>
                  </a:cubicBezTo>
                  <a:cubicBezTo>
                    <a:pt x="35719" y="31255"/>
                    <a:pt x="35719" y="31255"/>
                    <a:pt x="34766" y="32208"/>
                  </a:cubicBezTo>
                  <a:cubicBezTo>
                    <a:pt x="33814" y="32208"/>
                    <a:pt x="33814" y="32208"/>
                    <a:pt x="32861" y="33160"/>
                  </a:cubicBezTo>
                  <a:cubicBezTo>
                    <a:pt x="31909" y="33160"/>
                    <a:pt x="31909" y="33160"/>
                    <a:pt x="30956" y="34113"/>
                  </a:cubicBezTo>
                  <a:cubicBezTo>
                    <a:pt x="30004" y="34113"/>
                    <a:pt x="30004" y="34113"/>
                    <a:pt x="29051" y="35065"/>
                  </a:cubicBezTo>
                  <a:cubicBezTo>
                    <a:pt x="28099" y="35065"/>
                    <a:pt x="28099" y="35065"/>
                    <a:pt x="27146" y="36017"/>
                  </a:cubicBezTo>
                  <a:cubicBezTo>
                    <a:pt x="26194" y="36017"/>
                    <a:pt x="26194" y="36017"/>
                    <a:pt x="25241" y="36970"/>
                  </a:cubicBezTo>
                  <a:cubicBezTo>
                    <a:pt x="14764" y="39828"/>
                    <a:pt x="7144" y="54115"/>
                    <a:pt x="7144" y="76022"/>
                  </a:cubicBezTo>
                  <a:lnTo>
                    <a:pt x="7144" y="487503"/>
                  </a:lnTo>
                  <a:cubicBezTo>
                    <a:pt x="7144" y="517983"/>
                    <a:pt x="21431" y="551320"/>
                    <a:pt x="39529" y="561797"/>
                  </a:cubicBezTo>
                  <a:lnTo>
                    <a:pt x="103346" y="599897"/>
                  </a:lnTo>
                  <a:lnTo>
                    <a:pt x="103346" y="725628"/>
                  </a:lnTo>
                  <a:lnTo>
                    <a:pt x="105251" y="723722"/>
                  </a:lnTo>
                  <a:lnTo>
                    <a:pt x="105251" y="724675"/>
                  </a:lnTo>
                  <a:lnTo>
                    <a:pt x="107156" y="722770"/>
                  </a:lnTo>
                  <a:lnTo>
                    <a:pt x="107156" y="723722"/>
                  </a:lnTo>
                  <a:lnTo>
                    <a:pt x="109061" y="721818"/>
                  </a:lnTo>
                  <a:lnTo>
                    <a:pt x="109061" y="722770"/>
                  </a:lnTo>
                  <a:lnTo>
                    <a:pt x="110966" y="720865"/>
                  </a:lnTo>
                  <a:lnTo>
                    <a:pt x="110966" y="721818"/>
                  </a:lnTo>
                  <a:lnTo>
                    <a:pt x="112871" y="719913"/>
                  </a:lnTo>
                  <a:lnTo>
                    <a:pt x="112871" y="720865"/>
                  </a:lnTo>
                  <a:lnTo>
                    <a:pt x="114776" y="718960"/>
                  </a:lnTo>
                  <a:lnTo>
                    <a:pt x="114776" y="719913"/>
                  </a:lnTo>
                  <a:lnTo>
                    <a:pt x="116681" y="718007"/>
                  </a:lnTo>
                  <a:lnTo>
                    <a:pt x="116681" y="718960"/>
                  </a:lnTo>
                  <a:lnTo>
                    <a:pt x="118586" y="717055"/>
                  </a:lnTo>
                  <a:lnTo>
                    <a:pt x="118586" y="718007"/>
                  </a:lnTo>
                  <a:lnTo>
                    <a:pt x="120491" y="716103"/>
                  </a:lnTo>
                  <a:lnTo>
                    <a:pt x="120491" y="717055"/>
                  </a:lnTo>
                  <a:lnTo>
                    <a:pt x="122396" y="715150"/>
                  </a:lnTo>
                  <a:lnTo>
                    <a:pt x="122396" y="716103"/>
                  </a:lnTo>
                  <a:lnTo>
                    <a:pt x="124301" y="714197"/>
                  </a:lnTo>
                  <a:lnTo>
                    <a:pt x="124301" y="715150"/>
                  </a:lnTo>
                  <a:lnTo>
                    <a:pt x="126206" y="713245"/>
                  </a:lnTo>
                  <a:lnTo>
                    <a:pt x="126206" y="714197"/>
                  </a:lnTo>
                  <a:lnTo>
                    <a:pt x="128111" y="712293"/>
                  </a:lnTo>
                  <a:lnTo>
                    <a:pt x="128111" y="713245"/>
                  </a:lnTo>
                  <a:lnTo>
                    <a:pt x="130016" y="711340"/>
                  </a:lnTo>
                  <a:lnTo>
                    <a:pt x="130016" y="712293"/>
                  </a:lnTo>
                  <a:lnTo>
                    <a:pt x="131921" y="710388"/>
                  </a:lnTo>
                  <a:lnTo>
                    <a:pt x="131921" y="711340"/>
                  </a:lnTo>
                  <a:lnTo>
                    <a:pt x="133826" y="709435"/>
                  </a:lnTo>
                  <a:lnTo>
                    <a:pt x="133826" y="710388"/>
                  </a:lnTo>
                  <a:lnTo>
                    <a:pt x="135731" y="708482"/>
                  </a:lnTo>
                  <a:lnTo>
                    <a:pt x="135731" y="709435"/>
                  </a:lnTo>
                  <a:lnTo>
                    <a:pt x="137636" y="707530"/>
                  </a:lnTo>
                  <a:lnTo>
                    <a:pt x="137636" y="708482"/>
                  </a:lnTo>
                  <a:lnTo>
                    <a:pt x="139541" y="706578"/>
                  </a:lnTo>
                  <a:lnTo>
                    <a:pt x="139541" y="707530"/>
                  </a:lnTo>
                  <a:lnTo>
                    <a:pt x="141446" y="705625"/>
                  </a:lnTo>
                  <a:lnTo>
                    <a:pt x="141446" y="706578"/>
                  </a:lnTo>
                  <a:lnTo>
                    <a:pt x="143351" y="704672"/>
                  </a:lnTo>
                  <a:lnTo>
                    <a:pt x="143351" y="705625"/>
                  </a:lnTo>
                  <a:lnTo>
                    <a:pt x="145256" y="703720"/>
                  </a:lnTo>
                  <a:lnTo>
                    <a:pt x="145256" y="704672"/>
                  </a:lnTo>
                  <a:lnTo>
                    <a:pt x="147161" y="702768"/>
                  </a:lnTo>
                  <a:lnTo>
                    <a:pt x="147161" y="703720"/>
                  </a:lnTo>
                  <a:lnTo>
                    <a:pt x="149066" y="701815"/>
                  </a:lnTo>
                  <a:lnTo>
                    <a:pt x="149066" y="702768"/>
                  </a:lnTo>
                  <a:lnTo>
                    <a:pt x="150971" y="700863"/>
                  </a:lnTo>
                  <a:lnTo>
                    <a:pt x="150971" y="701815"/>
                  </a:lnTo>
                  <a:lnTo>
                    <a:pt x="152876" y="699910"/>
                  </a:lnTo>
                  <a:lnTo>
                    <a:pt x="152876" y="700863"/>
                  </a:lnTo>
                  <a:lnTo>
                    <a:pt x="154781" y="698957"/>
                  </a:lnTo>
                  <a:lnTo>
                    <a:pt x="154781" y="699910"/>
                  </a:lnTo>
                  <a:lnTo>
                    <a:pt x="156686" y="698005"/>
                  </a:lnTo>
                  <a:lnTo>
                    <a:pt x="156686" y="698957"/>
                  </a:lnTo>
                  <a:lnTo>
                    <a:pt x="158591" y="697053"/>
                  </a:lnTo>
                  <a:lnTo>
                    <a:pt x="158591" y="698005"/>
                  </a:lnTo>
                  <a:lnTo>
                    <a:pt x="160496" y="696100"/>
                  </a:lnTo>
                  <a:lnTo>
                    <a:pt x="160496" y="697053"/>
                  </a:lnTo>
                  <a:lnTo>
                    <a:pt x="162401" y="695147"/>
                  </a:lnTo>
                  <a:lnTo>
                    <a:pt x="162401" y="696100"/>
                  </a:lnTo>
                  <a:lnTo>
                    <a:pt x="215741" y="648475"/>
                  </a:lnTo>
                  <a:lnTo>
                    <a:pt x="511016" y="803732"/>
                  </a:lnTo>
                  <a:cubicBezTo>
                    <a:pt x="516731" y="807543"/>
                    <a:pt x="522446" y="807543"/>
                    <a:pt x="527209" y="805638"/>
                  </a:cubicBezTo>
                  <a:cubicBezTo>
                    <a:pt x="528161" y="805638"/>
                    <a:pt x="528161" y="805638"/>
                    <a:pt x="529114" y="804685"/>
                  </a:cubicBezTo>
                  <a:cubicBezTo>
                    <a:pt x="530066" y="804685"/>
                    <a:pt x="530066" y="804685"/>
                    <a:pt x="531019" y="803732"/>
                  </a:cubicBezTo>
                  <a:cubicBezTo>
                    <a:pt x="563404" y="790397"/>
                    <a:pt x="583406" y="791350"/>
                    <a:pt x="583406" y="749440"/>
                  </a:cubicBezTo>
                  <a:lnTo>
                    <a:pt x="583406" y="337960"/>
                  </a:lnTo>
                  <a:cubicBezTo>
                    <a:pt x="583406" y="309385"/>
                    <a:pt x="568166" y="276047"/>
                    <a:pt x="551021" y="26461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10" name="任意多边形: 形状 81"/>
            <p:cNvSpPr/>
            <p:nvPr/>
          </p:nvSpPr>
          <p:spPr>
            <a:xfrm>
              <a:off x="3609720" y="2566080"/>
              <a:ext cx="692280" cy="1254240"/>
            </a:xfrm>
            <a:custGeom>
              <a:avLst/>
              <a:gdLst>
                <a:gd name="textAreaLeft" fmla="*/ 0 w 692280"/>
                <a:gd name="textAreaRight" fmla="*/ 692640 w 692280"/>
                <a:gd name="textAreaTop" fmla="*/ 0 h 1254240"/>
                <a:gd name="textAreaBottom" fmla="*/ 1254600 h 1254240"/>
              </a:gdLst>
              <a:ahLst/>
              <a:rect l="textAreaLeft" t="textAreaTop" r="textAreaRight" b="textAreaBottom"/>
              <a:pathLst>
                <a:path w="533400" h="790575">
                  <a:moveTo>
                    <a:pt x="503396" y="264649"/>
                  </a:moveTo>
                  <a:lnTo>
                    <a:pt x="39529" y="10332"/>
                  </a:lnTo>
                  <a:cubicBezTo>
                    <a:pt x="21431" y="-146"/>
                    <a:pt x="7144" y="16047"/>
                    <a:pt x="7144" y="46527"/>
                  </a:cubicBezTo>
                  <a:lnTo>
                    <a:pt x="7144" y="458007"/>
                  </a:lnTo>
                  <a:cubicBezTo>
                    <a:pt x="7144" y="488487"/>
                    <a:pt x="21431" y="521824"/>
                    <a:pt x="39529" y="532302"/>
                  </a:cubicBezTo>
                  <a:lnTo>
                    <a:pt x="103346" y="570402"/>
                  </a:lnTo>
                  <a:lnTo>
                    <a:pt x="103346" y="696132"/>
                  </a:lnTo>
                  <a:lnTo>
                    <a:pt x="188119" y="619932"/>
                  </a:lnTo>
                  <a:lnTo>
                    <a:pt x="502444" y="786619"/>
                  </a:lnTo>
                  <a:cubicBezTo>
                    <a:pt x="520541" y="797097"/>
                    <a:pt x="534829" y="780904"/>
                    <a:pt x="534829" y="750424"/>
                  </a:cubicBezTo>
                  <a:lnTo>
                    <a:pt x="534829" y="338944"/>
                  </a:lnTo>
                  <a:cubicBezTo>
                    <a:pt x="535781" y="308464"/>
                    <a:pt x="520541" y="275127"/>
                    <a:pt x="503396" y="264649"/>
                  </a:cubicBezTo>
                  <a:close/>
                </a:path>
              </a:pathLst>
            </a:custGeom>
            <a:solidFill>
              <a:srgbClr val="80d2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11" name="任意多边形: 形状 82"/>
            <p:cNvSpPr/>
            <p:nvPr/>
          </p:nvSpPr>
          <p:spPr>
            <a:xfrm>
              <a:off x="3787920" y="3067200"/>
              <a:ext cx="61560" cy="105480"/>
            </a:xfrm>
            <a:custGeom>
              <a:avLst/>
              <a:gdLst>
                <a:gd name="textAreaLeft" fmla="*/ 0 w 61560"/>
                <a:gd name="textAreaRight" fmla="*/ 61920 w 61560"/>
                <a:gd name="textAreaTop" fmla="*/ 0 h 105480"/>
                <a:gd name="textAreaBottom" fmla="*/ 105840 h 105480"/>
              </a:gdLst>
              <a:ahLst/>
              <a:rect l="textAreaLeft" t="textAreaTop" r="textAreaRight" b="textAreaBottom"/>
              <a:pathLst>
                <a:path w="47625" h="66675">
                  <a:moveTo>
                    <a:pt x="41434" y="47968"/>
                  </a:moveTo>
                  <a:cubicBezTo>
                    <a:pt x="41434" y="64161"/>
                    <a:pt x="33814" y="72733"/>
                    <a:pt x="24289" y="67018"/>
                  </a:cubicBezTo>
                  <a:cubicBezTo>
                    <a:pt x="14764" y="61303"/>
                    <a:pt x="7144" y="44158"/>
                    <a:pt x="7144" y="27966"/>
                  </a:cubicBezTo>
                  <a:cubicBezTo>
                    <a:pt x="7144" y="11773"/>
                    <a:pt x="14764" y="3201"/>
                    <a:pt x="24289" y="8916"/>
                  </a:cubicBezTo>
                  <a:cubicBezTo>
                    <a:pt x="33814" y="14631"/>
                    <a:pt x="41434" y="31776"/>
                    <a:pt x="41434" y="47968"/>
                  </a:cubicBez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12" name="任意多边形: 形状 83"/>
            <p:cNvSpPr/>
            <p:nvPr/>
          </p:nvSpPr>
          <p:spPr>
            <a:xfrm>
              <a:off x="3917520" y="3162240"/>
              <a:ext cx="61560" cy="105480"/>
            </a:xfrm>
            <a:custGeom>
              <a:avLst/>
              <a:gdLst>
                <a:gd name="textAreaLeft" fmla="*/ 0 w 61560"/>
                <a:gd name="textAreaRight" fmla="*/ 61920 w 61560"/>
                <a:gd name="textAreaTop" fmla="*/ 0 h 105480"/>
                <a:gd name="textAreaBottom" fmla="*/ 105840 h 105480"/>
              </a:gdLst>
              <a:ahLst/>
              <a:rect l="textAreaLeft" t="textAreaTop" r="textAreaRight" b="textAreaBottom"/>
              <a:pathLst>
                <a:path w="47625" h="66675">
                  <a:moveTo>
                    <a:pt x="41434" y="47968"/>
                  </a:moveTo>
                  <a:cubicBezTo>
                    <a:pt x="41434" y="64161"/>
                    <a:pt x="33814" y="72733"/>
                    <a:pt x="24289" y="67018"/>
                  </a:cubicBezTo>
                  <a:cubicBezTo>
                    <a:pt x="14764" y="61303"/>
                    <a:pt x="7144" y="44158"/>
                    <a:pt x="7144" y="27966"/>
                  </a:cubicBezTo>
                  <a:cubicBezTo>
                    <a:pt x="7144" y="11773"/>
                    <a:pt x="14764" y="3201"/>
                    <a:pt x="24289" y="8916"/>
                  </a:cubicBezTo>
                  <a:cubicBezTo>
                    <a:pt x="33814" y="14631"/>
                    <a:pt x="41434" y="31776"/>
                    <a:pt x="41434" y="47968"/>
                  </a:cubicBez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13" name="任意多边形: 形状 84"/>
            <p:cNvSpPr/>
            <p:nvPr/>
          </p:nvSpPr>
          <p:spPr>
            <a:xfrm>
              <a:off x="4048920" y="3256200"/>
              <a:ext cx="61560" cy="105480"/>
            </a:xfrm>
            <a:custGeom>
              <a:avLst/>
              <a:gdLst>
                <a:gd name="textAreaLeft" fmla="*/ 0 w 61560"/>
                <a:gd name="textAreaRight" fmla="*/ 61920 w 61560"/>
                <a:gd name="textAreaTop" fmla="*/ 0 h 105480"/>
                <a:gd name="textAreaBottom" fmla="*/ 105840 h 105480"/>
              </a:gdLst>
              <a:ahLst/>
              <a:rect l="textAreaLeft" t="textAreaTop" r="textAreaRight" b="textAreaBottom"/>
              <a:pathLst>
                <a:path w="47625" h="66675">
                  <a:moveTo>
                    <a:pt x="41434" y="47968"/>
                  </a:moveTo>
                  <a:cubicBezTo>
                    <a:pt x="41434" y="64161"/>
                    <a:pt x="33814" y="72733"/>
                    <a:pt x="24289" y="67018"/>
                  </a:cubicBezTo>
                  <a:cubicBezTo>
                    <a:pt x="14764" y="61303"/>
                    <a:pt x="7144" y="44158"/>
                    <a:pt x="7144" y="27966"/>
                  </a:cubicBezTo>
                  <a:cubicBezTo>
                    <a:pt x="7144" y="11773"/>
                    <a:pt x="14764" y="3201"/>
                    <a:pt x="24289" y="8916"/>
                  </a:cubicBezTo>
                  <a:cubicBezTo>
                    <a:pt x="33814" y="14631"/>
                    <a:pt x="41434" y="31776"/>
                    <a:pt x="41434" y="47968"/>
                  </a:cubicBez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spTree>
  </p:cSld>
  <p:transition spd="slow">
    <p:random/>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53" presetSubtype="16">
                                  <p:stCondLst>
                                    <p:cond delay="0"/>
                                  </p:stCondLst>
                                  <p:childTnLst>
                                    <p:set>
                                      <p:cBhvr>
                                        <p:cTn id="309" dur="1" fill="hold">
                                          <p:stCondLst>
                                            <p:cond delay="0"/>
                                          </p:stCondLst>
                                        </p:cTn>
                                        <p:tgtEl>
                                          <p:spTgt spid="1524"/>
                                        </p:tgtEl>
                                        <p:attrNameLst>
                                          <p:attrName>style.visibility</p:attrName>
                                        </p:attrNameLst>
                                      </p:cBhvr>
                                      <p:to>
                                        <p:strVal val="visible"/>
                                      </p:to>
                                    </p:set>
                                    <p:anim calcmode="lin" valueType="num">
                                      <p:cBhvr additive="repl">
                                        <p:cTn id="310" dur="500" fill="hold"/>
                                        <p:tgtEl>
                                          <p:spTgt spid="1524"/>
                                        </p:tgtEl>
                                        <p:attrNameLst>
                                          <p:attrName>ppt_w</p:attrName>
                                        </p:attrNameLst>
                                      </p:cBhvr>
                                      <p:tavLst>
                                        <p:tav tm="0">
                                          <p:val>
                                            <p:fltVal val="0"/>
                                          </p:val>
                                        </p:tav>
                                        <p:tav tm="100000">
                                          <p:val>
                                            <p:strVal val="#ppt_w"/>
                                          </p:val>
                                        </p:tav>
                                      </p:tavLst>
                                    </p:anim>
                                    <p:anim calcmode="lin" valueType="num">
                                      <p:cBhvr additive="repl">
                                        <p:cTn id="311" dur="500" fill="hold"/>
                                        <p:tgtEl>
                                          <p:spTgt spid="1524"/>
                                        </p:tgtEl>
                                        <p:attrNameLst>
                                          <p:attrName>ppt_h</p:attrName>
                                        </p:attrNameLst>
                                      </p:cBhvr>
                                      <p:tavLst>
                                        <p:tav tm="0">
                                          <p:val>
                                            <p:fltVal val="0"/>
                                          </p:val>
                                        </p:tav>
                                        <p:tav tm="100000">
                                          <p:val>
                                            <p:strVal val="#ppt_h"/>
                                          </p:val>
                                        </p:tav>
                                      </p:tavLst>
                                    </p:anim>
                                    <p:animEffect filter="fade" transition="in">
                                      <p:cBhvr additive="repl">
                                        <p:cTn id="312" dur="500"/>
                                        <p:tgtEl>
                                          <p:spTgt spid="1524"/>
                                        </p:tgtEl>
                                      </p:cBhvr>
                                    </p:animEffect>
                                  </p:childTnLst>
                                </p:cTn>
                              </p:par>
                            </p:childTnLst>
                          </p:cTn>
                        </p:par>
                        <p:par>
                          <p:cTn id="313" nodeType="afterEffect"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525"/>
                                        </p:tgtEl>
                                        <p:attrNameLst>
                                          <p:attrName>style.visibility</p:attrName>
                                        </p:attrNameLst>
                                      </p:cBhvr>
                                      <p:to>
                                        <p:strVal val="visible"/>
                                      </p:to>
                                    </p:set>
                                    <p:animEffect filter="wipe(up)" transition="in">
                                      <p:cBhvr additive="repl">
                                        <p:cTn id="316" dur="500"/>
                                        <p:tgtEl>
                                          <p:spTgt spid="1525"/>
                                        </p:tgtEl>
                                      </p:cBhvr>
                                    </p:animEffect>
                                  </p:childTnLst>
                                </p:cTn>
                              </p:par>
                            </p:childTnLst>
                          </p:cTn>
                        </p:par>
                        <p:par>
                          <p:cTn id="317" nodeType="afterEffect"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26"/>
                                        </p:tgtEl>
                                        <p:attrNameLst>
                                          <p:attrName>style.visibility</p:attrName>
                                        </p:attrNameLst>
                                      </p:cBhvr>
                                      <p:to>
                                        <p:strVal val="visible"/>
                                      </p:to>
                                    </p:set>
                                    <p:animEffect filter="wipe(up)" transition="in">
                                      <p:cBhvr additive="repl">
                                        <p:cTn id="320" dur="500"/>
                                        <p:tgtEl>
                                          <p:spTgt spid="1526"/>
                                        </p:tgtEl>
                                      </p:cBhvr>
                                    </p:animEffect>
                                  </p:childTnLst>
                                </p:cTn>
                              </p:par>
                            </p:childTnLst>
                          </p:cTn>
                        </p:par>
                        <p:par>
                          <p:cTn id="321" nodeType="afterEffect" fill="hold">
                            <p:stCondLst>
                              <p:cond delay="1500"/>
                            </p:stCondLst>
                            <p:childTnLst>
                              <p:par>
                                <p:cTn id="322" nodeType="afterEffect" fill="hold" presetClass="entr" presetID="53" presetSubtype="16">
                                  <p:stCondLst>
                                    <p:cond delay="0"/>
                                  </p:stCondLst>
                                  <p:childTnLst>
                                    <p:set>
                                      <p:cBhvr>
                                        <p:cTn id="323" dur="1" fill="hold">
                                          <p:stCondLst>
                                            <p:cond delay="0"/>
                                          </p:stCondLst>
                                        </p:cTn>
                                        <p:tgtEl>
                                          <p:spTgt spid="1527"/>
                                        </p:tgtEl>
                                        <p:attrNameLst>
                                          <p:attrName>style.visibility</p:attrName>
                                        </p:attrNameLst>
                                      </p:cBhvr>
                                      <p:to>
                                        <p:strVal val="visible"/>
                                      </p:to>
                                    </p:set>
                                    <p:anim calcmode="lin" valueType="num">
                                      <p:cBhvr additive="repl">
                                        <p:cTn id="324" dur="500" fill="hold"/>
                                        <p:tgtEl>
                                          <p:spTgt spid="1527"/>
                                        </p:tgtEl>
                                        <p:attrNameLst>
                                          <p:attrName>ppt_w</p:attrName>
                                        </p:attrNameLst>
                                      </p:cBhvr>
                                      <p:tavLst>
                                        <p:tav tm="0">
                                          <p:val>
                                            <p:fltVal val="0"/>
                                          </p:val>
                                        </p:tav>
                                        <p:tav tm="100000">
                                          <p:val>
                                            <p:strVal val="#ppt_w"/>
                                          </p:val>
                                        </p:tav>
                                      </p:tavLst>
                                    </p:anim>
                                    <p:anim calcmode="lin" valueType="num">
                                      <p:cBhvr additive="repl">
                                        <p:cTn id="325" dur="500" fill="hold"/>
                                        <p:tgtEl>
                                          <p:spTgt spid="1527"/>
                                        </p:tgtEl>
                                        <p:attrNameLst>
                                          <p:attrName>ppt_h</p:attrName>
                                        </p:attrNameLst>
                                      </p:cBhvr>
                                      <p:tavLst>
                                        <p:tav tm="0">
                                          <p:val>
                                            <p:fltVal val="0"/>
                                          </p:val>
                                        </p:tav>
                                        <p:tav tm="100000">
                                          <p:val>
                                            <p:strVal val="#ppt_h"/>
                                          </p:val>
                                        </p:tav>
                                      </p:tavLst>
                                    </p:anim>
                                    <p:animEffect filter="fade" transition="in">
                                      <p:cBhvr additive="repl">
                                        <p:cTn id="326" dur="500"/>
                                        <p:tgtEl>
                                          <p:spTgt spid="1527"/>
                                        </p:tgtEl>
                                      </p:cBhvr>
                                    </p:animEffect>
                                  </p:childTnLst>
                                </p:cTn>
                              </p:par>
                            </p:childTnLst>
                          </p:cTn>
                        </p:par>
                        <p:par>
                          <p:cTn id="327" nodeType="afterEffect" fill="hold">
                            <p:stCondLst>
                              <p:cond delay="2000"/>
                            </p:stCondLst>
                            <p:childTnLst>
                              <p:par>
                                <p:cTn id="328" nodeType="afterEffect" fill="hold" presetClass="entr" presetID="53" presetSubtype="16">
                                  <p:stCondLst>
                                    <p:cond delay="0"/>
                                  </p:stCondLst>
                                  <p:childTnLst>
                                    <p:set>
                                      <p:cBhvr>
                                        <p:cTn id="329" dur="1" fill="hold">
                                          <p:stCondLst>
                                            <p:cond delay="0"/>
                                          </p:stCondLst>
                                        </p:cTn>
                                        <p:tgtEl>
                                          <p:spTgt spid="1528"/>
                                        </p:tgtEl>
                                        <p:attrNameLst>
                                          <p:attrName>style.visibility</p:attrName>
                                        </p:attrNameLst>
                                      </p:cBhvr>
                                      <p:to>
                                        <p:strVal val="visible"/>
                                      </p:to>
                                    </p:set>
                                    <p:anim calcmode="lin" valueType="num">
                                      <p:cBhvr additive="repl">
                                        <p:cTn id="330" dur="500" fill="hold"/>
                                        <p:tgtEl>
                                          <p:spTgt spid="1528"/>
                                        </p:tgtEl>
                                        <p:attrNameLst>
                                          <p:attrName>ppt_w</p:attrName>
                                        </p:attrNameLst>
                                      </p:cBhvr>
                                      <p:tavLst>
                                        <p:tav tm="0">
                                          <p:val>
                                            <p:fltVal val="0"/>
                                          </p:val>
                                        </p:tav>
                                        <p:tav tm="100000">
                                          <p:val>
                                            <p:strVal val="#ppt_w"/>
                                          </p:val>
                                        </p:tav>
                                      </p:tavLst>
                                    </p:anim>
                                    <p:anim calcmode="lin" valueType="num">
                                      <p:cBhvr additive="repl">
                                        <p:cTn id="331" dur="500" fill="hold"/>
                                        <p:tgtEl>
                                          <p:spTgt spid="1528"/>
                                        </p:tgtEl>
                                        <p:attrNameLst>
                                          <p:attrName>ppt_h</p:attrName>
                                        </p:attrNameLst>
                                      </p:cBhvr>
                                      <p:tavLst>
                                        <p:tav tm="0">
                                          <p:val>
                                            <p:fltVal val="0"/>
                                          </p:val>
                                        </p:tav>
                                        <p:tav tm="100000">
                                          <p:val>
                                            <p:strVal val="#ppt_h"/>
                                          </p:val>
                                        </p:tav>
                                      </p:tavLst>
                                    </p:anim>
                                    <p:animEffect filter="fade" transition="in">
                                      <p:cBhvr additive="repl">
                                        <p:cTn id="332" dur="500"/>
                                        <p:tgtEl>
                                          <p:spTgt spid="1528"/>
                                        </p:tgtEl>
                                      </p:cBhvr>
                                    </p:animEffect>
                                  </p:childTnLst>
                                </p:cTn>
                              </p:par>
                              <p:par>
                                <p:cTn id="333" nodeType="withEffect" fill="hold" presetClass="entr" presetID="2" presetSubtype="8">
                                  <p:stCondLst>
                                    <p:cond delay="0"/>
                                  </p:stCondLst>
                                  <p:childTnLst>
                                    <p:set>
                                      <p:cBhvr>
                                        <p:cTn id="334" dur="1" fill="hold">
                                          <p:stCondLst>
                                            <p:cond delay="0"/>
                                          </p:stCondLst>
                                        </p:cTn>
                                        <p:tgtEl>
                                          <p:spTgt spid="1529"/>
                                        </p:tgtEl>
                                        <p:attrNameLst>
                                          <p:attrName>style.visibility</p:attrName>
                                        </p:attrNameLst>
                                      </p:cBhvr>
                                      <p:to>
                                        <p:strVal val="visible"/>
                                      </p:to>
                                    </p:set>
                                    <p:anim calcmode="lin" valueType="num">
                                      <p:cBhvr additive="base">
                                        <p:cTn id="335" dur="500" fill="hold"/>
                                        <p:tgtEl>
                                          <p:spTgt spid="1529"/>
                                        </p:tgtEl>
                                        <p:attrNameLst>
                                          <p:attrName>ppt_x</p:attrName>
                                        </p:attrNameLst>
                                      </p:cBhvr>
                                      <p:tavLst>
                                        <p:tav tm="0">
                                          <p:val>
                                            <p:strVal val="0-#ppt_w/2"/>
                                          </p:val>
                                        </p:tav>
                                        <p:tav tm="100000">
                                          <p:val>
                                            <p:strVal val="#ppt_x"/>
                                          </p:val>
                                        </p:tav>
                                      </p:tavLst>
                                    </p:anim>
                                    <p:anim calcmode="lin" valueType="num">
                                      <p:cBhvr additive="base">
                                        <p:cTn id="336" dur="500" fill="hold"/>
                                        <p:tgtEl>
                                          <p:spTgt spid="1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图片 1" descr=""/>
          <p:cNvPicPr/>
          <p:nvPr/>
        </p:nvPicPr>
        <p:blipFill>
          <a:blip r:embed="rId1"/>
          <a:stretch/>
        </p:blipFill>
        <p:spPr>
          <a:xfrm>
            <a:off x="4981680" y="266760"/>
            <a:ext cx="1749240" cy="1326960"/>
          </a:xfrm>
          <a:prstGeom prst="rect">
            <a:avLst/>
          </a:prstGeom>
          <a:ln w="0">
            <a:noFill/>
          </a:ln>
        </p:spPr>
      </p:pic>
      <p:sp>
        <p:nvSpPr>
          <p:cNvPr id="1615" name="TextBox 19"/>
          <p:cNvSpPr/>
          <p:nvPr/>
        </p:nvSpPr>
        <p:spPr>
          <a:xfrm>
            <a:off x="957240" y="2324160"/>
            <a:ext cx="5799240" cy="2469240"/>
          </a:xfrm>
          <a:prstGeom prst="rect">
            <a:avLst/>
          </a:prstGeom>
          <a:noFill/>
          <a:ln w="0">
            <a:noFill/>
          </a:ln>
        </p:spPr>
        <p:style>
          <a:lnRef idx="0"/>
          <a:fillRef idx="0"/>
          <a:effectRef idx="0"/>
          <a:fontRef idx="minor"/>
        </p:style>
        <p:txBody>
          <a:bodyPr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4</a:t>
            </a:r>
            <a:r>
              <a:rPr b="0" lang="zh-CN" sz="2400" spc="-1" strike="noStrike">
                <a:solidFill>
                  <a:srgbClr val="ff0000"/>
                </a:solidFill>
                <a:latin typeface="造字工房尚雅（非商用）常规体"/>
                <a:ea typeface="造字工房尚雅（非商用）常规体"/>
              </a:rPr>
              <a:t>、核实途径</a:t>
            </a:r>
            <a:endParaRPr b="0" lang="en-US" sz="24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造字工房尚雅（非商用）常规体"/>
              </a:rPr>
              <a:t>税务机关通过与医疗保障部门交换有关个人负担的医药费用信息核实纳税人发生大病医疗支出专项附加扣除信息。</a:t>
            </a: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5</a:t>
            </a:r>
            <a:r>
              <a:rPr b="0" lang="zh-CN" sz="2400" spc="-1" strike="noStrike">
                <a:solidFill>
                  <a:srgbClr val="ff0000"/>
                </a:solidFill>
                <a:latin typeface="造字工房尚雅（非商用）常规体"/>
                <a:ea typeface="造字工房尚雅（非商用）常规体"/>
              </a:rPr>
              <a:t>、注意事项</a:t>
            </a:r>
            <a:endParaRPr b="0" lang="en-US" sz="24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造字工房尚雅（非商用）常规体"/>
              </a:rPr>
              <a:t>纳税人应当留存医疗服务收费相关票据原件（或复印件），以备税务机关核查。</a:t>
            </a: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sp>
        <p:nvSpPr>
          <p:cNvPr id="1616" name="矩形 12"/>
          <p:cNvSpPr/>
          <p:nvPr/>
        </p:nvSpPr>
        <p:spPr>
          <a:xfrm>
            <a:off x="949320" y="1290600"/>
            <a:ext cx="4881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3</a:t>
            </a:r>
            <a:r>
              <a:rPr b="0" lang="zh-CN" sz="2400" spc="-1" strike="noStrike">
                <a:solidFill>
                  <a:srgbClr val="ff0000"/>
                </a:solidFill>
                <a:latin typeface="造字工房尚雅（非商用）常规体"/>
                <a:ea typeface="造字工房尚雅（非商用）常规体"/>
              </a:rPr>
              <a:t>、扣除凭证</a:t>
            </a:r>
            <a:endParaRPr b="0" lang="en-US" sz="2400" spc="-1" strike="noStrike">
              <a:solidFill>
                <a:srgbClr val="262626"/>
              </a:solidFill>
              <a:latin typeface="Arial"/>
            </a:endParaRPr>
          </a:p>
        </p:txBody>
      </p:sp>
      <p:sp>
        <p:nvSpPr>
          <p:cNvPr id="1617" name="矩形 13"/>
          <p:cNvSpPr/>
          <p:nvPr/>
        </p:nvSpPr>
        <p:spPr>
          <a:xfrm>
            <a:off x="949320" y="1871640"/>
            <a:ext cx="5843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医疗服务收费相关票据原件（或复印件）。</a:t>
            </a:r>
            <a:endParaRPr b="0" lang="en-US" sz="2000" spc="-1" strike="noStrike">
              <a:solidFill>
                <a:srgbClr val="262626"/>
              </a:solidFill>
              <a:latin typeface="Arial"/>
            </a:endParaRPr>
          </a:p>
        </p:txBody>
      </p:sp>
      <p:sp>
        <p:nvSpPr>
          <p:cNvPr id="1618" name="矩形 14"/>
          <p:cNvSpPr/>
          <p:nvPr/>
        </p:nvSpPr>
        <p:spPr>
          <a:xfrm>
            <a:off x="1054080" y="4646520"/>
            <a:ext cx="8089920" cy="430200"/>
          </a:xfrm>
          <a:prstGeom prst="rect">
            <a:avLst/>
          </a:prstGeom>
          <a:noFill/>
          <a:ln w="0">
            <a:noFill/>
          </a:ln>
        </p:spPr>
        <p:style>
          <a:lnRef idx="0"/>
          <a:fillRef idx="0"/>
          <a:effectRef idx="0"/>
          <a:fontRef idx="minor"/>
        </p:style>
        <p:txBody>
          <a:bodyPr lIns="90000" rIns="90000" tIns="46800" bIns="46800" anchor="t">
            <a:spAutoFit/>
          </a:bodyPr>
          <a:p>
            <a:pP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1619" name="图片 2" descr=""/>
          <p:cNvPicPr/>
          <p:nvPr/>
        </p:nvPicPr>
        <p:blipFill>
          <a:blip r:embed="rId2"/>
          <a:stretch/>
        </p:blipFill>
        <p:spPr>
          <a:xfrm>
            <a:off x="7262640" y="716040"/>
            <a:ext cx="3643560" cy="5283000"/>
          </a:xfrm>
          <a:prstGeom prst="rect">
            <a:avLst/>
          </a:prstGeom>
          <a:ln w="0">
            <a:noFill/>
          </a:ln>
        </p:spPr>
      </p:pic>
    </p:spTree>
  </p:cSld>
  <p:transition spd="slow">
    <p:random/>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2" presetSubtype="8">
                                  <p:stCondLst>
                                    <p:cond delay="0"/>
                                  </p:stCondLst>
                                  <p:childTnLst>
                                    <p:set>
                                      <p:cBhvr>
                                        <p:cTn id="342" dur="1" fill="hold">
                                          <p:stCondLst>
                                            <p:cond delay="0"/>
                                          </p:stCondLst>
                                        </p:cTn>
                                        <p:tgtEl>
                                          <p:spTgt spid="1614"/>
                                        </p:tgtEl>
                                        <p:attrNameLst>
                                          <p:attrName>style.visibility</p:attrName>
                                        </p:attrNameLst>
                                      </p:cBhvr>
                                      <p:to>
                                        <p:strVal val="visible"/>
                                      </p:to>
                                    </p:set>
                                    <p:anim calcmode="lin" valueType="num">
                                      <p:cBhvr additive="base">
                                        <p:cTn id="343" dur="500" fill="hold"/>
                                        <p:tgtEl>
                                          <p:spTgt spid="1614"/>
                                        </p:tgtEl>
                                        <p:attrNameLst>
                                          <p:attrName>ppt_x</p:attrName>
                                        </p:attrNameLst>
                                      </p:cBhvr>
                                      <p:tavLst>
                                        <p:tav tm="0">
                                          <p:val>
                                            <p:strVal val="0-#ppt_w/2"/>
                                          </p:val>
                                        </p:tav>
                                        <p:tav tm="100000">
                                          <p:val>
                                            <p:strVal val="#ppt_x"/>
                                          </p:val>
                                        </p:tav>
                                      </p:tavLst>
                                    </p:anim>
                                    <p:anim calcmode="lin" valueType="num">
                                      <p:cBhvr additive="base">
                                        <p:cTn id="344" dur="500" fill="hold"/>
                                        <p:tgtEl>
                                          <p:spTgt spid="1614"/>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53" presetSubtype="16">
                                  <p:stCondLst>
                                    <p:cond delay="0"/>
                                  </p:stCondLst>
                                  <p:iterate type="lt">
                                    <p:tmAbs val="50"/>
                                  </p:iterate>
                                  <p:childTnLst>
                                    <p:set>
                                      <p:cBhvr>
                                        <p:cTn id="347" dur="1" fill="hold">
                                          <p:stCondLst>
                                            <p:cond delay="0"/>
                                          </p:stCondLst>
                                        </p:cTn>
                                        <p:tgtEl>
                                          <p:spTgt spid="1616"/>
                                        </p:tgtEl>
                                        <p:attrNameLst>
                                          <p:attrName>style.visibility</p:attrName>
                                        </p:attrNameLst>
                                      </p:cBhvr>
                                      <p:to>
                                        <p:strVal val="visible"/>
                                      </p:to>
                                    </p:set>
                                    <p:anim calcmode="lin" valueType="num">
                                      <p:cBhvr additive="repl">
                                        <p:cTn id="348" dur="500" fill="hold"/>
                                        <p:tgtEl>
                                          <p:spTgt spid="1616"/>
                                        </p:tgtEl>
                                        <p:attrNameLst>
                                          <p:attrName>ppt_w</p:attrName>
                                        </p:attrNameLst>
                                      </p:cBhvr>
                                      <p:tavLst>
                                        <p:tav tm="0">
                                          <p:val>
                                            <p:fltVal val="0"/>
                                          </p:val>
                                        </p:tav>
                                        <p:tav tm="100000">
                                          <p:val>
                                            <p:strVal val="#ppt_w"/>
                                          </p:val>
                                        </p:tav>
                                      </p:tavLst>
                                    </p:anim>
                                    <p:anim calcmode="lin" valueType="num">
                                      <p:cBhvr additive="repl">
                                        <p:cTn id="349" dur="500" fill="hold"/>
                                        <p:tgtEl>
                                          <p:spTgt spid="1616"/>
                                        </p:tgtEl>
                                        <p:attrNameLst>
                                          <p:attrName>ppt_h</p:attrName>
                                        </p:attrNameLst>
                                      </p:cBhvr>
                                      <p:tavLst>
                                        <p:tav tm="0">
                                          <p:val>
                                            <p:fltVal val="0"/>
                                          </p:val>
                                        </p:tav>
                                        <p:tav tm="100000">
                                          <p:val>
                                            <p:strVal val="#ppt_h"/>
                                          </p:val>
                                        </p:tav>
                                      </p:tavLst>
                                    </p:anim>
                                    <p:animEffect filter="fade" transition="in">
                                      <p:cBhvr additive="repl">
                                        <p:cTn id="350" dur="500"/>
                                        <p:tgtEl>
                                          <p:spTgt spid="1616"/>
                                        </p:tgtEl>
                                      </p:cBhvr>
                                    </p:animEffect>
                                  </p:childTnLst>
                                </p:cTn>
                              </p:par>
                            </p:childTnLst>
                          </p:cTn>
                        </p:par>
                        <p:par>
                          <p:cTn id="351" nodeType="afterEffect" fill="hold">
                            <p:stCondLst>
                              <p:cond delay="1250"/>
                            </p:stCondLst>
                            <p:childTnLst>
                              <p:par>
                                <p:cTn id="352" nodeType="afterEffect" fill="hold" presetClass="entr" presetID="42">
                                  <p:stCondLst>
                                    <p:cond delay="0"/>
                                  </p:stCondLst>
                                  <p:childTnLst>
                                    <p:set>
                                      <p:cBhvr>
                                        <p:cTn id="353" dur="1" fill="hold">
                                          <p:stCondLst>
                                            <p:cond delay="0"/>
                                          </p:stCondLst>
                                        </p:cTn>
                                        <p:tgtEl>
                                          <p:spTgt spid="1617"/>
                                        </p:tgtEl>
                                        <p:attrNameLst>
                                          <p:attrName>style.visibility</p:attrName>
                                        </p:attrNameLst>
                                      </p:cBhvr>
                                      <p:to>
                                        <p:strVal val="visible"/>
                                      </p:to>
                                    </p:set>
                                    <p:animEffect filter="fade" transition="in">
                                      <p:cBhvr additive="repl">
                                        <p:cTn id="354" dur="1000"/>
                                        <p:tgtEl>
                                          <p:spTgt spid="1617"/>
                                        </p:tgtEl>
                                      </p:cBhvr>
                                    </p:animEffect>
                                    <p:anim calcmode="lin" valueType="num">
                                      <p:cBhvr additive="repl">
                                        <p:cTn id="355" dur="1000" fill="hold"/>
                                        <p:tgtEl>
                                          <p:spTgt spid="1617"/>
                                        </p:tgtEl>
                                        <p:attrNameLst>
                                          <p:attrName>ppt_x</p:attrName>
                                        </p:attrNameLst>
                                      </p:cBhvr>
                                      <p:tavLst>
                                        <p:tav tm="0">
                                          <p:val>
                                            <p:strVal val="#ppt_x"/>
                                          </p:val>
                                        </p:tav>
                                        <p:tav tm="100000">
                                          <p:val>
                                            <p:strVal val="#ppt_x"/>
                                          </p:val>
                                        </p:tav>
                                      </p:tavLst>
                                    </p:anim>
                                    <p:anim calcmode="lin" valueType="num">
                                      <p:cBhvr additive="repl">
                                        <p:cTn id="356" dur="1000" fill="hold"/>
                                        <p:tgtEl>
                                          <p:spTgt spid="1617"/>
                                        </p:tgtEl>
                                        <p:attrNameLst>
                                          <p:attrName>ppt_y</p:attrName>
                                        </p:attrNameLst>
                                      </p:cBhvr>
                                      <p:tavLst>
                                        <p:tav tm="0">
                                          <p:val>
                                            <p:strVal val="#ppt_y+.1"/>
                                          </p:val>
                                        </p:tav>
                                        <p:tav tm="100000">
                                          <p:val>
                                            <p:strVal val="#ppt_y"/>
                                          </p:val>
                                        </p:tav>
                                      </p:tavLst>
                                    </p:anim>
                                  </p:childTnLst>
                                </p:cTn>
                              </p:par>
                            </p:childTnLst>
                          </p:cTn>
                        </p:par>
                        <p:par>
                          <p:cTn id="357" nodeType="afterEffect" fill="hold">
                            <p:stCondLst>
                              <p:cond delay="2250"/>
                            </p:stCondLst>
                            <p:childTnLst>
                              <p:par>
                                <p:cTn id="358" nodeType="afterEffect" fill="hold" presetClass="entr" presetID="2" presetSubtype="4">
                                  <p:stCondLst>
                                    <p:cond delay="0"/>
                                  </p:stCondLst>
                                  <p:childTnLst>
                                    <p:set>
                                      <p:cBhvr>
                                        <p:cTn id="359" dur="1" fill="hold">
                                          <p:stCondLst>
                                            <p:cond delay="0"/>
                                          </p:stCondLst>
                                        </p:cTn>
                                        <p:tgtEl>
                                          <p:spTgt spid="1615"/>
                                        </p:tgtEl>
                                        <p:attrNameLst>
                                          <p:attrName>style.visibility</p:attrName>
                                        </p:attrNameLst>
                                      </p:cBhvr>
                                      <p:to>
                                        <p:strVal val="visible"/>
                                      </p:to>
                                    </p:set>
                                    <p:anim calcmode="lin" valueType="num">
                                      <p:cBhvr additive="base">
                                        <p:cTn id="360" dur="500" fill="hold"/>
                                        <p:tgtEl>
                                          <p:spTgt spid="1615"/>
                                        </p:tgtEl>
                                        <p:attrNameLst>
                                          <p:attrName>ppt_x</p:attrName>
                                        </p:attrNameLst>
                                      </p:cBhvr>
                                      <p:tavLst>
                                        <p:tav tm="0">
                                          <p:val>
                                            <p:strVal val="#ppt_x"/>
                                          </p:val>
                                        </p:tav>
                                        <p:tav tm="100000">
                                          <p:val>
                                            <p:strVal val="#ppt_x"/>
                                          </p:val>
                                        </p:tav>
                                      </p:tavLst>
                                    </p:anim>
                                    <p:anim calcmode="lin" valueType="num">
                                      <p:cBhvr additive="base">
                                        <p:cTn id="361" dur="500" fill="hold"/>
                                        <p:tgtEl>
                                          <p:spTgt spid="16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Freeform 171"/>
          <p:cNvSpPr/>
          <p:nvPr/>
        </p:nvSpPr>
        <p:spPr>
          <a:xfrm>
            <a:off x="4967280" y="2050920"/>
            <a:ext cx="488880" cy="419400"/>
          </a:xfrm>
          <a:custGeom>
            <a:avLst/>
            <a:gdLst/>
            <a:ahLst/>
            <a:rect l="l" t="t" r="r" b="b"/>
            <a:pathLst>
              <a:path w="169" h="145">
                <a:moveTo>
                  <a:pt x="169" y="40"/>
                </a:moveTo>
                <a:cubicBezTo>
                  <a:pt x="169" y="76"/>
                  <a:pt x="169" y="76"/>
                  <a:pt x="169" y="76"/>
                </a:cubicBezTo>
                <a:cubicBezTo>
                  <a:pt x="0" y="76"/>
                  <a:pt x="0" y="76"/>
                  <a:pt x="0" y="76"/>
                </a:cubicBezTo>
                <a:cubicBezTo>
                  <a:pt x="0" y="40"/>
                  <a:pt x="0" y="40"/>
                  <a:pt x="0" y="40"/>
                </a:cubicBezTo>
                <a:cubicBezTo>
                  <a:pt x="0" y="35"/>
                  <a:pt x="1" y="32"/>
                  <a:pt x="4" y="29"/>
                </a:cubicBezTo>
                <a:cubicBezTo>
                  <a:pt x="7" y="26"/>
                  <a:pt x="11" y="24"/>
                  <a:pt x="15" y="24"/>
                </a:cubicBezTo>
                <a:cubicBezTo>
                  <a:pt x="48" y="24"/>
                  <a:pt x="48" y="24"/>
                  <a:pt x="48" y="24"/>
                </a:cubicBezTo>
                <a:cubicBezTo>
                  <a:pt x="48" y="9"/>
                  <a:pt x="48" y="9"/>
                  <a:pt x="48" y="9"/>
                </a:cubicBezTo>
                <a:cubicBezTo>
                  <a:pt x="48" y="7"/>
                  <a:pt x="49" y="5"/>
                  <a:pt x="51" y="3"/>
                </a:cubicBezTo>
                <a:cubicBezTo>
                  <a:pt x="53" y="1"/>
                  <a:pt x="55" y="0"/>
                  <a:pt x="57" y="0"/>
                </a:cubicBezTo>
                <a:cubicBezTo>
                  <a:pt x="112" y="0"/>
                  <a:pt x="112" y="0"/>
                  <a:pt x="112" y="0"/>
                </a:cubicBezTo>
                <a:cubicBezTo>
                  <a:pt x="114" y="0"/>
                  <a:pt x="116" y="1"/>
                  <a:pt x="118" y="3"/>
                </a:cubicBezTo>
                <a:cubicBezTo>
                  <a:pt x="120" y="5"/>
                  <a:pt x="121" y="7"/>
                  <a:pt x="121" y="9"/>
                </a:cubicBezTo>
                <a:cubicBezTo>
                  <a:pt x="121" y="24"/>
                  <a:pt x="121" y="24"/>
                  <a:pt x="121" y="24"/>
                </a:cubicBezTo>
                <a:cubicBezTo>
                  <a:pt x="154" y="24"/>
                  <a:pt x="154" y="24"/>
                  <a:pt x="154" y="24"/>
                </a:cubicBezTo>
                <a:cubicBezTo>
                  <a:pt x="158" y="24"/>
                  <a:pt x="162" y="26"/>
                  <a:pt x="165" y="29"/>
                </a:cubicBezTo>
                <a:cubicBezTo>
                  <a:pt x="168" y="32"/>
                  <a:pt x="169" y="35"/>
                  <a:pt x="169" y="40"/>
                </a:cubicBezTo>
                <a:close/>
                <a:moveTo>
                  <a:pt x="169" y="85"/>
                </a:moveTo>
                <a:cubicBezTo>
                  <a:pt x="169" y="130"/>
                  <a:pt x="169" y="130"/>
                  <a:pt x="169" y="130"/>
                </a:cubicBezTo>
                <a:cubicBezTo>
                  <a:pt x="169" y="134"/>
                  <a:pt x="168" y="138"/>
                  <a:pt x="165" y="141"/>
                </a:cubicBezTo>
                <a:cubicBezTo>
                  <a:pt x="162" y="144"/>
                  <a:pt x="158" y="145"/>
                  <a:pt x="154" y="145"/>
                </a:cubicBezTo>
                <a:cubicBezTo>
                  <a:pt x="15" y="145"/>
                  <a:pt x="15" y="145"/>
                  <a:pt x="15" y="145"/>
                </a:cubicBezTo>
                <a:cubicBezTo>
                  <a:pt x="11" y="145"/>
                  <a:pt x="7" y="144"/>
                  <a:pt x="4" y="141"/>
                </a:cubicBezTo>
                <a:cubicBezTo>
                  <a:pt x="1" y="138"/>
                  <a:pt x="0" y="134"/>
                  <a:pt x="0" y="130"/>
                </a:cubicBezTo>
                <a:cubicBezTo>
                  <a:pt x="0" y="85"/>
                  <a:pt x="0" y="85"/>
                  <a:pt x="0" y="85"/>
                </a:cubicBezTo>
                <a:cubicBezTo>
                  <a:pt x="63" y="85"/>
                  <a:pt x="63" y="85"/>
                  <a:pt x="63" y="85"/>
                </a:cubicBezTo>
                <a:cubicBezTo>
                  <a:pt x="63" y="100"/>
                  <a:pt x="63" y="100"/>
                  <a:pt x="63" y="100"/>
                </a:cubicBezTo>
                <a:cubicBezTo>
                  <a:pt x="63" y="102"/>
                  <a:pt x="64" y="103"/>
                  <a:pt x="65" y="104"/>
                </a:cubicBezTo>
                <a:cubicBezTo>
                  <a:pt x="66" y="106"/>
                  <a:pt x="68" y="106"/>
                  <a:pt x="69" y="106"/>
                </a:cubicBezTo>
                <a:cubicBezTo>
                  <a:pt x="100" y="106"/>
                  <a:pt x="100" y="106"/>
                  <a:pt x="100" y="106"/>
                </a:cubicBezTo>
                <a:cubicBezTo>
                  <a:pt x="101" y="106"/>
                  <a:pt x="103" y="106"/>
                  <a:pt x="104" y="104"/>
                </a:cubicBezTo>
                <a:cubicBezTo>
                  <a:pt x="105" y="103"/>
                  <a:pt x="106" y="102"/>
                  <a:pt x="106" y="100"/>
                </a:cubicBezTo>
                <a:cubicBezTo>
                  <a:pt x="106" y="85"/>
                  <a:pt x="106" y="85"/>
                  <a:pt x="106" y="85"/>
                </a:cubicBezTo>
                <a:lnTo>
                  <a:pt x="169" y="85"/>
                </a:lnTo>
                <a:close/>
                <a:moveTo>
                  <a:pt x="60" y="24"/>
                </a:moveTo>
                <a:cubicBezTo>
                  <a:pt x="109" y="24"/>
                  <a:pt x="109" y="24"/>
                  <a:pt x="109" y="24"/>
                </a:cubicBezTo>
                <a:cubicBezTo>
                  <a:pt x="109" y="12"/>
                  <a:pt x="109" y="12"/>
                  <a:pt x="109" y="12"/>
                </a:cubicBezTo>
                <a:cubicBezTo>
                  <a:pt x="60" y="12"/>
                  <a:pt x="60" y="12"/>
                  <a:pt x="60" y="12"/>
                </a:cubicBezTo>
                <a:lnTo>
                  <a:pt x="60" y="24"/>
                </a:lnTo>
                <a:close/>
                <a:moveTo>
                  <a:pt x="97" y="85"/>
                </a:moveTo>
                <a:cubicBezTo>
                  <a:pt x="97" y="97"/>
                  <a:pt x="97" y="97"/>
                  <a:pt x="97" y="97"/>
                </a:cubicBezTo>
                <a:cubicBezTo>
                  <a:pt x="72" y="97"/>
                  <a:pt x="72" y="97"/>
                  <a:pt x="72" y="97"/>
                </a:cubicBezTo>
                <a:cubicBezTo>
                  <a:pt x="72" y="85"/>
                  <a:pt x="72" y="85"/>
                  <a:pt x="72" y="85"/>
                </a:cubicBezTo>
                <a:lnTo>
                  <a:pt x="97" y="85"/>
                </a:lnTo>
                <a:close/>
              </a:path>
            </a:pathLst>
          </a:custGeom>
          <a:solidFill>
            <a:srgbClr val="75cf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21" name="TextBox 23"/>
          <p:cNvSpPr/>
          <p:nvPr/>
        </p:nvSpPr>
        <p:spPr>
          <a:xfrm>
            <a:off x="5006880" y="784080"/>
            <a:ext cx="79329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造字工房尚雅（非商用）常规体"/>
                <a:ea typeface="造字工房尚雅（非商用）常规体"/>
              </a:rPr>
              <a:t>（四）住房贷款利息专项附加扣除</a:t>
            </a:r>
            <a:endParaRPr b="0" lang="en-US" sz="2800" spc="-1" strike="noStrike">
              <a:solidFill>
                <a:srgbClr val="262626"/>
              </a:solidFill>
              <a:latin typeface="Arial"/>
            </a:endParaRPr>
          </a:p>
        </p:txBody>
      </p:sp>
      <p:sp>
        <p:nvSpPr>
          <p:cNvPr id="1622" name="Rectangle 25"/>
          <p:cNvSpPr/>
          <p:nvPr/>
        </p:nvSpPr>
        <p:spPr>
          <a:xfrm>
            <a:off x="5432400" y="1387440"/>
            <a:ext cx="5211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1</a:t>
            </a:r>
            <a:r>
              <a:rPr b="0" lang="zh-CN" sz="2400" spc="-1" strike="noStrike">
                <a:solidFill>
                  <a:srgbClr val="ff0000"/>
                </a:solidFill>
                <a:latin typeface="造字工房尚雅（非商用）常规体"/>
                <a:ea typeface="造字工房尚雅（非商用）常规体"/>
              </a:rPr>
              <a:t>、扣除范围和标准</a:t>
            </a:r>
            <a:endParaRPr b="0" lang="en-US" sz="2400" spc="-1" strike="noStrike">
              <a:solidFill>
                <a:srgbClr val="26262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623" name="Freeform 173"/>
          <p:cNvSpPr/>
          <p:nvPr/>
        </p:nvSpPr>
        <p:spPr>
          <a:xfrm>
            <a:off x="5095800" y="4226040"/>
            <a:ext cx="447840" cy="419040"/>
          </a:xfrm>
          <a:custGeom>
            <a:avLst/>
            <a:gdLst/>
            <a:ahLst/>
            <a:rect l="l" t="t" r="r" b="b"/>
            <a:pathLst>
              <a:path w="182" h="170">
                <a:moveTo>
                  <a:pt x="56" y="85"/>
                </a:moveTo>
                <a:cubicBezTo>
                  <a:pt x="46" y="85"/>
                  <a:pt x="37" y="89"/>
                  <a:pt x="31" y="97"/>
                </a:cubicBezTo>
                <a:cubicBezTo>
                  <a:pt x="18" y="97"/>
                  <a:pt x="18" y="97"/>
                  <a:pt x="18" y="97"/>
                </a:cubicBezTo>
                <a:cubicBezTo>
                  <a:pt x="13" y="97"/>
                  <a:pt x="9" y="96"/>
                  <a:pt x="5" y="93"/>
                </a:cubicBezTo>
                <a:cubicBezTo>
                  <a:pt x="2" y="91"/>
                  <a:pt x="0" y="87"/>
                  <a:pt x="0" y="82"/>
                </a:cubicBezTo>
                <a:cubicBezTo>
                  <a:pt x="0" y="60"/>
                  <a:pt x="4" y="49"/>
                  <a:pt x="12" y="49"/>
                </a:cubicBezTo>
                <a:cubicBezTo>
                  <a:pt x="12" y="49"/>
                  <a:pt x="13" y="49"/>
                  <a:pt x="16" y="51"/>
                </a:cubicBezTo>
                <a:cubicBezTo>
                  <a:pt x="18" y="52"/>
                  <a:pt x="21" y="53"/>
                  <a:pt x="25" y="55"/>
                </a:cubicBezTo>
                <a:cubicBezTo>
                  <a:pt x="29" y="56"/>
                  <a:pt x="33" y="57"/>
                  <a:pt x="36" y="57"/>
                </a:cubicBezTo>
                <a:cubicBezTo>
                  <a:pt x="41" y="57"/>
                  <a:pt x="45" y="56"/>
                  <a:pt x="49" y="54"/>
                </a:cubicBezTo>
                <a:cubicBezTo>
                  <a:pt x="49" y="57"/>
                  <a:pt x="48" y="59"/>
                  <a:pt x="48" y="61"/>
                </a:cubicBezTo>
                <a:cubicBezTo>
                  <a:pt x="48" y="69"/>
                  <a:pt x="51" y="78"/>
                  <a:pt x="56" y="85"/>
                </a:cubicBezTo>
                <a:close/>
                <a:moveTo>
                  <a:pt x="53" y="7"/>
                </a:moveTo>
                <a:cubicBezTo>
                  <a:pt x="58" y="12"/>
                  <a:pt x="61" y="18"/>
                  <a:pt x="61" y="24"/>
                </a:cubicBezTo>
                <a:cubicBezTo>
                  <a:pt x="61" y="31"/>
                  <a:pt x="58" y="37"/>
                  <a:pt x="53" y="42"/>
                </a:cubicBezTo>
                <a:cubicBezTo>
                  <a:pt x="49" y="46"/>
                  <a:pt x="43" y="49"/>
                  <a:pt x="36" y="49"/>
                </a:cubicBezTo>
                <a:cubicBezTo>
                  <a:pt x="30" y="49"/>
                  <a:pt x="24" y="46"/>
                  <a:pt x="19" y="42"/>
                </a:cubicBezTo>
                <a:cubicBezTo>
                  <a:pt x="14" y="37"/>
                  <a:pt x="12" y="31"/>
                  <a:pt x="12" y="24"/>
                </a:cubicBezTo>
                <a:cubicBezTo>
                  <a:pt x="12" y="18"/>
                  <a:pt x="14" y="12"/>
                  <a:pt x="19" y="7"/>
                </a:cubicBezTo>
                <a:cubicBezTo>
                  <a:pt x="24" y="3"/>
                  <a:pt x="30" y="0"/>
                  <a:pt x="36" y="0"/>
                </a:cubicBezTo>
                <a:cubicBezTo>
                  <a:pt x="43" y="0"/>
                  <a:pt x="49" y="3"/>
                  <a:pt x="53" y="7"/>
                </a:cubicBezTo>
                <a:close/>
                <a:moveTo>
                  <a:pt x="157" y="145"/>
                </a:moveTo>
                <a:cubicBezTo>
                  <a:pt x="157" y="153"/>
                  <a:pt x="155" y="159"/>
                  <a:pt x="150" y="163"/>
                </a:cubicBezTo>
                <a:cubicBezTo>
                  <a:pt x="146" y="167"/>
                  <a:pt x="140" y="170"/>
                  <a:pt x="132" y="170"/>
                </a:cubicBezTo>
                <a:cubicBezTo>
                  <a:pt x="49" y="170"/>
                  <a:pt x="49" y="170"/>
                  <a:pt x="49" y="170"/>
                </a:cubicBezTo>
                <a:cubicBezTo>
                  <a:pt x="42" y="170"/>
                  <a:pt x="36" y="167"/>
                  <a:pt x="31" y="163"/>
                </a:cubicBezTo>
                <a:cubicBezTo>
                  <a:pt x="26" y="159"/>
                  <a:pt x="24" y="153"/>
                  <a:pt x="24" y="145"/>
                </a:cubicBezTo>
                <a:cubicBezTo>
                  <a:pt x="24" y="142"/>
                  <a:pt x="24" y="139"/>
                  <a:pt x="25" y="135"/>
                </a:cubicBezTo>
                <a:cubicBezTo>
                  <a:pt x="25" y="132"/>
                  <a:pt x="25" y="129"/>
                  <a:pt x="26" y="125"/>
                </a:cubicBezTo>
                <a:cubicBezTo>
                  <a:pt x="27" y="121"/>
                  <a:pt x="27" y="118"/>
                  <a:pt x="28" y="115"/>
                </a:cubicBezTo>
                <a:cubicBezTo>
                  <a:pt x="29" y="112"/>
                  <a:pt x="31" y="109"/>
                  <a:pt x="32" y="106"/>
                </a:cubicBezTo>
                <a:cubicBezTo>
                  <a:pt x="34" y="103"/>
                  <a:pt x="36" y="100"/>
                  <a:pt x="38" y="98"/>
                </a:cubicBezTo>
                <a:cubicBezTo>
                  <a:pt x="40" y="96"/>
                  <a:pt x="43" y="94"/>
                  <a:pt x="46" y="93"/>
                </a:cubicBezTo>
                <a:cubicBezTo>
                  <a:pt x="50" y="92"/>
                  <a:pt x="53" y="91"/>
                  <a:pt x="57" y="91"/>
                </a:cubicBezTo>
                <a:cubicBezTo>
                  <a:pt x="58" y="91"/>
                  <a:pt x="59" y="92"/>
                  <a:pt x="61" y="93"/>
                </a:cubicBezTo>
                <a:cubicBezTo>
                  <a:pt x="63" y="94"/>
                  <a:pt x="65" y="96"/>
                  <a:pt x="68" y="98"/>
                </a:cubicBezTo>
                <a:cubicBezTo>
                  <a:pt x="70" y="99"/>
                  <a:pt x="74" y="101"/>
                  <a:pt x="78" y="102"/>
                </a:cubicBezTo>
                <a:cubicBezTo>
                  <a:pt x="82" y="103"/>
                  <a:pt x="86" y="104"/>
                  <a:pt x="91" y="104"/>
                </a:cubicBezTo>
                <a:cubicBezTo>
                  <a:pt x="95" y="104"/>
                  <a:pt x="99" y="103"/>
                  <a:pt x="104" y="102"/>
                </a:cubicBezTo>
                <a:cubicBezTo>
                  <a:pt x="108" y="101"/>
                  <a:pt x="111" y="99"/>
                  <a:pt x="114" y="98"/>
                </a:cubicBezTo>
                <a:cubicBezTo>
                  <a:pt x="116" y="96"/>
                  <a:pt x="118" y="94"/>
                  <a:pt x="121" y="93"/>
                </a:cubicBezTo>
                <a:cubicBezTo>
                  <a:pt x="123" y="92"/>
                  <a:pt x="124" y="91"/>
                  <a:pt x="125" y="91"/>
                </a:cubicBezTo>
                <a:cubicBezTo>
                  <a:pt x="128" y="91"/>
                  <a:pt x="132" y="92"/>
                  <a:pt x="135" y="93"/>
                </a:cubicBezTo>
                <a:cubicBezTo>
                  <a:pt x="138" y="94"/>
                  <a:pt x="141" y="96"/>
                  <a:pt x="143" y="98"/>
                </a:cubicBezTo>
                <a:cubicBezTo>
                  <a:pt x="145" y="100"/>
                  <a:pt x="147" y="103"/>
                  <a:pt x="149" y="106"/>
                </a:cubicBezTo>
                <a:cubicBezTo>
                  <a:pt x="151" y="109"/>
                  <a:pt x="152" y="112"/>
                  <a:pt x="153" y="115"/>
                </a:cubicBezTo>
                <a:cubicBezTo>
                  <a:pt x="154" y="118"/>
                  <a:pt x="155" y="121"/>
                  <a:pt x="156" y="125"/>
                </a:cubicBezTo>
                <a:cubicBezTo>
                  <a:pt x="156" y="129"/>
                  <a:pt x="157" y="132"/>
                  <a:pt x="157" y="135"/>
                </a:cubicBezTo>
                <a:cubicBezTo>
                  <a:pt x="157" y="139"/>
                  <a:pt x="157" y="142"/>
                  <a:pt x="157" y="145"/>
                </a:cubicBezTo>
                <a:close/>
                <a:moveTo>
                  <a:pt x="116" y="35"/>
                </a:moveTo>
                <a:cubicBezTo>
                  <a:pt x="124" y="42"/>
                  <a:pt x="127" y="51"/>
                  <a:pt x="127" y="61"/>
                </a:cubicBezTo>
                <a:cubicBezTo>
                  <a:pt x="127" y="71"/>
                  <a:pt x="124" y="79"/>
                  <a:pt x="116" y="86"/>
                </a:cubicBezTo>
                <a:cubicBezTo>
                  <a:pt x="109" y="93"/>
                  <a:pt x="101" y="97"/>
                  <a:pt x="91" y="97"/>
                </a:cubicBezTo>
                <a:cubicBezTo>
                  <a:pt x="81" y="97"/>
                  <a:pt x="72" y="93"/>
                  <a:pt x="65" y="86"/>
                </a:cubicBezTo>
                <a:cubicBezTo>
                  <a:pt x="58" y="79"/>
                  <a:pt x="54" y="71"/>
                  <a:pt x="54" y="61"/>
                </a:cubicBezTo>
                <a:cubicBezTo>
                  <a:pt x="54" y="51"/>
                  <a:pt x="58" y="42"/>
                  <a:pt x="65" y="35"/>
                </a:cubicBezTo>
                <a:cubicBezTo>
                  <a:pt x="72" y="28"/>
                  <a:pt x="81" y="24"/>
                  <a:pt x="91" y="24"/>
                </a:cubicBezTo>
                <a:cubicBezTo>
                  <a:pt x="101" y="24"/>
                  <a:pt x="109" y="28"/>
                  <a:pt x="116" y="35"/>
                </a:cubicBezTo>
                <a:close/>
                <a:moveTo>
                  <a:pt x="162" y="7"/>
                </a:moveTo>
                <a:cubicBezTo>
                  <a:pt x="167" y="12"/>
                  <a:pt x="169" y="18"/>
                  <a:pt x="169" y="24"/>
                </a:cubicBezTo>
                <a:cubicBezTo>
                  <a:pt x="169" y="31"/>
                  <a:pt x="167" y="37"/>
                  <a:pt x="162" y="42"/>
                </a:cubicBezTo>
                <a:cubicBezTo>
                  <a:pt x="158" y="46"/>
                  <a:pt x="152" y="49"/>
                  <a:pt x="145" y="49"/>
                </a:cubicBezTo>
                <a:cubicBezTo>
                  <a:pt x="139" y="49"/>
                  <a:pt x="133" y="46"/>
                  <a:pt x="128" y="42"/>
                </a:cubicBezTo>
                <a:cubicBezTo>
                  <a:pt x="123" y="37"/>
                  <a:pt x="121" y="31"/>
                  <a:pt x="121" y="24"/>
                </a:cubicBezTo>
                <a:cubicBezTo>
                  <a:pt x="121" y="18"/>
                  <a:pt x="123" y="12"/>
                  <a:pt x="128" y="7"/>
                </a:cubicBezTo>
                <a:cubicBezTo>
                  <a:pt x="133" y="3"/>
                  <a:pt x="139" y="0"/>
                  <a:pt x="145" y="0"/>
                </a:cubicBezTo>
                <a:cubicBezTo>
                  <a:pt x="152" y="0"/>
                  <a:pt x="158" y="3"/>
                  <a:pt x="162" y="7"/>
                </a:cubicBezTo>
                <a:close/>
                <a:moveTo>
                  <a:pt x="182" y="82"/>
                </a:moveTo>
                <a:cubicBezTo>
                  <a:pt x="182" y="87"/>
                  <a:pt x="180" y="91"/>
                  <a:pt x="176" y="93"/>
                </a:cubicBezTo>
                <a:cubicBezTo>
                  <a:pt x="173" y="96"/>
                  <a:pt x="168" y="97"/>
                  <a:pt x="163" y="97"/>
                </a:cubicBezTo>
                <a:cubicBezTo>
                  <a:pt x="151" y="97"/>
                  <a:pt x="151" y="97"/>
                  <a:pt x="151" y="97"/>
                </a:cubicBezTo>
                <a:cubicBezTo>
                  <a:pt x="144" y="89"/>
                  <a:pt x="136" y="85"/>
                  <a:pt x="125" y="85"/>
                </a:cubicBezTo>
                <a:cubicBezTo>
                  <a:pt x="131" y="78"/>
                  <a:pt x="133" y="69"/>
                  <a:pt x="133" y="61"/>
                </a:cubicBezTo>
                <a:cubicBezTo>
                  <a:pt x="133" y="59"/>
                  <a:pt x="133" y="57"/>
                  <a:pt x="133" y="54"/>
                </a:cubicBezTo>
                <a:cubicBezTo>
                  <a:pt x="137" y="56"/>
                  <a:pt x="141" y="57"/>
                  <a:pt x="145" y="57"/>
                </a:cubicBezTo>
                <a:cubicBezTo>
                  <a:pt x="149" y="57"/>
                  <a:pt x="153" y="56"/>
                  <a:pt x="156" y="55"/>
                </a:cubicBezTo>
                <a:cubicBezTo>
                  <a:pt x="160" y="53"/>
                  <a:pt x="163" y="52"/>
                  <a:pt x="166" y="51"/>
                </a:cubicBezTo>
                <a:cubicBezTo>
                  <a:pt x="168" y="49"/>
                  <a:pt x="169" y="49"/>
                  <a:pt x="170" y="49"/>
                </a:cubicBezTo>
                <a:cubicBezTo>
                  <a:pt x="178" y="49"/>
                  <a:pt x="182" y="60"/>
                  <a:pt x="182" y="82"/>
                </a:cubicBezTo>
                <a:close/>
              </a:path>
            </a:pathLst>
          </a:custGeom>
          <a:solidFill>
            <a:srgbClr val="4ec1c2"/>
          </a:solidFill>
          <a:ln w="0">
            <a:noFill/>
          </a:ln>
          <a:effectLst>
            <a:outerShdw dist="266777" dir="81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24" name="Freeform 130"/>
          <p:cNvSpPr/>
          <p:nvPr/>
        </p:nvSpPr>
        <p:spPr>
          <a:xfrm>
            <a:off x="5160960" y="5541840"/>
            <a:ext cx="455760" cy="419400"/>
          </a:xfrm>
          <a:custGeom>
            <a:avLst/>
            <a:gdLst/>
            <a:ahLst/>
            <a:rect l="l" t="t" r="r" b="b"/>
            <a:pathLst>
              <a:path w="181" h="166">
                <a:moveTo>
                  <a:pt x="121" y="74"/>
                </a:moveTo>
                <a:cubicBezTo>
                  <a:pt x="121" y="92"/>
                  <a:pt x="121" y="92"/>
                  <a:pt x="121" y="92"/>
                </a:cubicBezTo>
                <a:cubicBezTo>
                  <a:pt x="121" y="92"/>
                  <a:pt x="120" y="93"/>
                  <a:pt x="120" y="94"/>
                </a:cubicBezTo>
                <a:cubicBezTo>
                  <a:pt x="120" y="94"/>
                  <a:pt x="119" y="95"/>
                  <a:pt x="118" y="95"/>
                </a:cubicBezTo>
                <a:cubicBezTo>
                  <a:pt x="104" y="97"/>
                  <a:pt x="104" y="97"/>
                  <a:pt x="104" y="97"/>
                </a:cubicBezTo>
                <a:cubicBezTo>
                  <a:pt x="103" y="99"/>
                  <a:pt x="102" y="102"/>
                  <a:pt x="101" y="104"/>
                </a:cubicBezTo>
                <a:cubicBezTo>
                  <a:pt x="103" y="107"/>
                  <a:pt x="106" y="111"/>
                  <a:pt x="109" y="115"/>
                </a:cubicBezTo>
                <a:cubicBezTo>
                  <a:pt x="110" y="116"/>
                  <a:pt x="110" y="116"/>
                  <a:pt x="110" y="117"/>
                </a:cubicBezTo>
                <a:cubicBezTo>
                  <a:pt x="110" y="118"/>
                  <a:pt x="110" y="118"/>
                  <a:pt x="109" y="119"/>
                </a:cubicBezTo>
                <a:cubicBezTo>
                  <a:pt x="108" y="121"/>
                  <a:pt x="105" y="123"/>
                  <a:pt x="101" y="127"/>
                </a:cubicBezTo>
                <a:cubicBezTo>
                  <a:pt x="98" y="131"/>
                  <a:pt x="95" y="133"/>
                  <a:pt x="94" y="133"/>
                </a:cubicBezTo>
                <a:cubicBezTo>
                  <a:pt x="93" y="133"/>
                  <a:pt x="93" y="133"/>
                  <a:pt x="92" y="132"/>
                </a:cubicBezTo>
                <a:cubicBezTo>
                  <a:pt x="81" y="124"/>
                  <a:pt x="81" y="124"/>
                  <a:pt x="81" y="124"/>
                </a:cubicBezTo>
                <a:cubicBezTo>
                  <a:pt x="79" y="125"/>
                  <a:pt x="76" y="126"/>
                  <a:pt x="74" y="127"/>
                </a:cubicBezTo>
                <a:cubicBezTo>
                  <a:pt x="73" y="133"/>
                  <a:pt x="72" y="138"/>
                  <a:pt x="72" y="141"/>
                </a:cubicBezTo>
                <a:cubicBezTo>
                  <a:pt x="71" y="143"/>
                  <a:pt x="70" y="143"/>
                  <a:pt x="69" y="143"/>
                </a:cubicBezTo>
                <a:cubicBezTo>
                  <a:pt x="51" y="143"/>
                  <a:pt x="51" y="143"/>
                  <a:pt x="51" y="143"/>
                </a:cubicBezTo>
                <a:cubicBezTo>
                  <a:pt x="51" y="143"/>
                  <a:pt x="50" y="143"/>
                  <a:pt x="49" y="143"/>
                </a:cubicBezTo>
                <a:cubicBezTo>
                  <a:pt x="49" y="142"/>
                  <a:pt x="49" y="142"/>
                  <a:pt x="48" y="141"/>
                </a:cubicBezTo>
                <a:cubicBezTo>
                  <a:pt x="46" y="127"/>
                  <a:pt x="46" y="127"/>
                  <a:pt x="46" y="127"/>
                </a:cubicBezTo>
                <a:cubicBezTo>
                  <a:pt x="44" y="126"/>
                  <a:pt x="42" y="125"/>
                  <a:pt x="39" y="124"/>
                </a:cubicBezTo>
                <a:cubicBezTo>
                  <a:pt x="28" y="132"/>
                  <a:pt x="28" y="132"/>
                  <a:pt x="28" y="132"/>
                </a:cubicBezTo>
                <a:cubicBezTo>
                  <a:pt x="28" y="133"/>
                  <a:pt x="27" y="133"/>
                  <a:pt x="26" y="133"/>
                </a:cubicBezTo>
                <a:cubicBezTo>
                  <a:pt x="25" y="133"/>
                  <a:pt x="25" y="133"/>
                  <a:pt x="24" y="132"/>
                </a:cubicBezTo>
                <a:cubicBezTo>
                  <a:pt x="15" y="124"/>
                  <a:pt x="11" y="119"/>
                  <a:pt x="11" y="117"/>
                </a:cubicBezTo>
                <a:cubicBezTo>
                  <a:pt x="11" y="116"/>
                  <a:pt x="11" y="116"/>
                  <a:pt x="11" y="115"/>
                </a:cubicBezTo>
                <a:cubicBezTo>
                  <a:pt x="12" y="114"/>
                  <a:pt x="13" y="113"/>
                  <a:pt x="15" y="110"/>
                </a:cubicBezTo>
                <a:cubicBezTo>
                  <a:pt x="17" y="108"/>
                  <a:pt x="19" y="106"/>
                  <a:pt x="20" y="104"/>
                </a:cubicBezTo>
                <a:cubicBezTo>
                  <a:pt x="18" y="102"/>
                  <a:pt x="17" y="99"/>
                  <a:pt x="16" y="97"/>
                </a:cubicBezTo>
                <a:cubicBezTo>
                  <a:pt x="2" y="94"/>
                  <a:pt x="2" y="94"/>
                  <a:pt x="2" y="94"/>
                </a:cubicBezTo>
                <a:cubicBezTo>
                  <a:pt x="1" y="94"/>
                  <a:pt x="1" y="94"/>
                  <a:pt x="0" y="93"/>
                </a:cubicBezTo>
                <a:cubicBezTo>
                  <a:pt x="0" y="93"/>
                  <a:pt x="0" y="92"/>
                  <a:pt x="0" y="92"/>
                </a:cubicBezTo>
                <a:cubicBezTo>
                  <a:pt x="0" y="74"/>
                  <a:pt x="0" y="74"/>
                  <a:pt x="0" y="74"/>
                </a:cubicBezTo>
                <a:cubicBezTo>
                  <a:pt x="0" y="73"/>
                  <a:pt x="0" y="73"/>
                  <a:pt x="0" y="72"/>
                </a:cubicBezTo>
                <a:cubicBezTo>
                  <a:pt x="1" y="72"/>
                  <a:pt x="1" y="71"/>
                  <a:pt x="2" y="71"/>
                </a:cubicBezTo>
                <a:cubicBezTo>
                  <a:pt x="16" y="69"/>
                  <a:pt x="16" y="69"/>
                  <a:pt x="16" y="69"/>
                </a:cubicBezTo>
                <a:cubicBezTo>
                  <a:pt x="17" y="67"/>
                  <a:pt x="18" y="64"/>
                  <a:pt x="19" y="62"/>
                </a:cubicBezTo>
                <a:cubicBezTo>
                  <a:pt x="17" y="59"/>
                  <a:pt x="14" y="55"/>
                  <a:pt x="11" y="51"/>
                </a:cubicBezTo>
                <a:cubicBezTo>
                  <a:pt x="10" y="50"/>
                  <a:pt x="10" y="50"/>
                  <a:pt x="10" y="49"/>
                </a:cubicBezTo>
                <a:cubicBezTo>
                  <a:pt x="10" y="48"/>
                  <a:pt x="10" y="48"/>
                  <a:pt x="11" y="47"/>
                </a:cubicBezTo>
                <a:cubicBezTo>
                  <a:pt x="12" y="45"/>
                  <a:pt x="15" y="42"/>
                  <a:pt x="19" y="39"/>
                </a:cubicBezTo>
                <a:cubicBezTo>
                  <a:pt x="22" y="35"/>
                  <a:pt x="25" y="33"/>
                  <a:pt x="26" y="33"/>
                </a:cubicBezTo>
                <a:cubicBezTo>
                  <a:pt x="27" y="33"/>
                  <a:pt x="28" y="33"/>
                  <a:pt x="28" y="34"/>
                </a:cubicBezTo>
                <a:cubicBezTo>
                  <a:pt x="39" y="42"/>
                  <a:pt x="39" y="42"/>
                  <a:pt x="39" y="42"/>
                </a:cubicBezTo>
                <a:cubicBezTo>
                  <a:pt x="41" y="41"/>
                  <a:pt x="44" y="40"/>
                  <a:pt x="46" y="39"/>
                </a:cubicBezTo>
                <a:cubicBezTo>
                  <a:pt x="47" y="32"/>
                  <a:pt x="48" y="28"/>
                  <a:pt x="48" y="25"/>
                </a:cubicBezTo>
                <a:cubicBezTo>
                  <a:pt x="49" y="23"/>
                  <a:pt x="50" y="22"/>
                  <a:pt x="51" y="22"/>
                </a:cubicBezTo>
                <a:cubicBezTo>
                  <a:pt x="69" y="22"/>
                  <a:pt x="69" y="22"/>
                  <a:pt x="69" y="22"/>
                </a:cubicBezTo>
                <a:cubicBezTo>
                  <a:pt x="70" y="22"/>
                  <a:pt x="70" y="23"/>
                  <a:pt x="71" y="23"/>
                </a:cubicBezTo>
                <a:cubicBezTo>
                  <a:pt x="71" y="24"/>
                  <a:pt x="72" y="24"/>
                  <a:pt x="72" y="25"/>
                </a:cubicBezTo>
                <a:cubicBezTo>
                  <a:pt x="74" y="39"/>
                  <a:pt x="74" y="39"/>
                  <a:pt x="74" y="39"/>
                </a:cubicBezTo>
                <a:cubicBezTo>
                  <a:pt x="76" y="40"/>
                  <a:pt x="78" y="41"/>
                  <a:pt x="81" y="42"/>
                </a:cubicBezTo>
                <a:cubicBezTo>
                  <a:pt x="92" y="34"/>
                  <a:pt x="92" y="34"/>
                  <a:pt x="92" y="34"/>
                </a:cubicBezTo>
                <a:cubicBezTo>
                  <a:pt x="93" y="33"/>
                  <a:pt x="93" y="33"/>
                  <a:pt x="94" y="33"/>
                </a:cubicBezTo>
                <a:cubicBezTo>
                  <a:pt x="95" y="33"/>
                  <a:pt x="95" y="33"/>
                  <a:pt x="96" y="34"/>
                </a:cubicBezTo>
                <a:cubicBezTo>
                  <a:pt x="105" y="42"/>
                  <a:pt x="110" y="47"/>
                  <a:pt x="110" y="49"/>
                </a:cubicBezTo>
                <a:cubicBezTo>
                  <a:pt x="110" y="50"/>
                  <a:pt x="109" y="50"/>
                  <a:pt x="109" y="51"/>
                </a:cubicBezTo>
                <a:cubicBezTo>
                  <a:pt x="108" y="52"/>
                  <a:pt x="107" y="54"/>
                  <a:pt x="105" y="56"/>
                </a:cubicBezTo>
                <a:cubicBezTo>
                  <a:pt x="103" y="58"/>
                  <a:pt x="102" y="60"/>
                  <a:pt x="101" y="62"/>
                </a:cubicBezTo>
                <a:cubicBezTo>
                  <a:pt x="102" y="65"/>
                  <a:pt x="103" y="67"/>
                  <a:pt x="104" y="69"/>
                </a:cubicBezTo>
                <a:cubicBezTo>
                  <a:pt x="118" y="72"/>
                  <a:pt x="118" y="72"/>
                  <a:pt x="118" y="72"/>
                </a:cubicBezTo>
                <a:cubicBezTo>
                  <a:pt x="119" y="72"/>
                  <a:pt x="120" y="72"/>
                  <a:pt x="120" y="73"/>
                </a:cubicBezTo>
                <a:cubicBezTo>
                  <a:pt x="120" y="73"/>
                  <a:pt x="121" y="74"/>
                  <a:pt x="121" y="74"/>
                </a:cubicBezTo>
                <a:close/>
                <a:moveTo>
                  <a:pt x="77" y="100"/>
                </a:moveTo>
                <a:cubicBezTo>
                  <a:pt x="82" y="95"/>
                  <a:pt x="84" y="90"/>
                  <a:pt x="84" y="83"/>
                </a:cubicBezTo>
                <a:cubicBezTo>
                  <a:pt x="84" y="76"/>
                  <a:pt x="82" y="71"/>
                  <a:pt x="77" y="66"/>
                </a:cubicBezTo>
                <a:cubicBezTo>
                  <a:pt x="72" y="61"/>
                  <a:pt x="67" y="59"/>
                  <a:pt x="60" y="59"/>
                </a:cubicBezTo>
                <a:cubicBezTo>
                  <a:pt x="53" y="59"/>
                  <a:pt x="48" y="61"/>
                  <a:pt x="43" y="66"/>
                </a:cubicBezTo>
                <a:cubicBezTo>
                  <a:pt x="38" y="71"/>
                  <a:pt x="36" y="76"/>
                  <a:pt x="36" y="83"/>
                </a:cubicBezTo>
                <a:cubicBezTo>
                  <a:pt x="36" y="90"/>
                  <a:pt x="38" y="95"/>
                  <a:pt x="43" y="100"/>
                </a:cubicBezTo>
                <a:cubicBezTo>
                  <a:pt x="48" y="105"/>
                  <a:pt x="53" y="107"/>
                  <a:pt x="60" y="107"/>
                </a:cubicBezTo>
                <a:cubicBezTo>
                  <a:pt x="67" y="107"/>
                  <a:pt x="72" y="105"/>
                  <a:pt x="77" y="100"/>
                </a:cubicBezTo>
                <a:close/>
                <a:moveTo>
                  <a:pt x="181" y="28"/>
                </a:moveTo>
                <a:cubicBezTo>
                  <a:pt x="181" y="41"/>
                  <a:pt x="181" y="41"/>
                  <a:pt x="181" y="41"/>
                </a:cubicBezTo>
                <a:cubicBezTo>
                  <a:pt x="181" y="42"/>
                  <a:pt x="176" y="43"/>
                  <a:pt x="167" y="44"/>
                </a:cubicBezTo>
                <a:cubicBezTo>
                  <a:pt x="166" y="46"/>
                  <a:pt x="165" y="47"/>
                  <a:pt x="164" y="49"/>
                </a:cubicBezTo>
                <a:cubicBezTo>
                  <a:pt x="167" y="56"/>
                  <a:pt x="169" y="60"/>
                  <a:pt x="169" y="62"/>
                </a:cubicBezTo>
                <a:cubicBezTo>
                  <a:pt x="169" y="62"/>
                  <a:pt x="169" y="63"/>
                  <a:pt x="169" y="63"/>
                </a:cubicBezTo>
                <a:cubicBezTo>
                  <a:pt x="161" y="67"/>
                  <a:pt x="157" y="69"/>
                  <a:pt x="157" y="69"/>
                </a:cubicBezTo>
                <a:cubicBezTo>
                  <a:pt x="156" y="69"/>
                  <a:pt x="155" y="68"/>
                  <a:pt x="153" y="65"/>
                </a:cubicBezTo>
                <a:cubicBezTo>
                  <a:pt x="150" y="62"/>
                  <a:pt x="149" y="60"/>
                  <a:pt x="148" y="59"/>
                </a:cubicBezTo>
                <a:cubicBezTo>
                  <a:pt x="146" y="59"/>
                  <a:pt x="145" y="59"/>
                  <a:pt x="145" y="59"/>
                </a:cubicBezTo>
                <a:cubicBezTo>
                  <a:pt x="144" y="59"/>
                  <a:pt x="143" y="59"/>
                  <a:pt x="142" y="59"/>
                </a:cubicBezTo>
                <a:cubicBezTo>
                  <a:pt x="141" y="60"/>
                  <a:pt x="139" y="62"/>
                  <a:pt x="137" y="65"/>
                </a:cubicBezTo>
                <a:cubicBezTo>
                  <a:pt x="135" y="68"/>
                  <a:pt x="133" y="69"/>
                  <a:pt x="133" y="69"/>
                </a:cubicBezTo>
                <a:cubicBezTo>
                  <a:pt x="133" y="69"/>
                  <a:pt x="129" y="67"/>
                  <a:pt x="121" y="63"/>
                </a:cubicBezTo>
                <a:cubicBezTo>
                  <a:pt x="121" y="63"/>
                  <a:pt x="121" y="62"/>
                  <a:pt x="121" y="62"/>
                </a:cubicBezTo>
                <a:cubicBezTo>
                  <a:pt x="121" y="60"/>
                  <a:pt x="122" y="56"/>
                  <a:pt x="125" y="49"/>
                </a:cubicBezTo>
                <a:cubicBezTo>
                  <a:pt x="124" y="47"/>
                  <a:pt x="123" y="46"/>
                  <a:pt x="123" y="44"/>
                </a:cubicBezTo>
                <a:cubicBezTo>
                  <a:pt x="113" y="43"/>
                  <a:pt x="109" y="42"/>
                  <a:pt x="109" y="41"/>
                </a:cubicBezTo>
                <a:cubicBezTo>
                  <a:pt x="109" y="28"/>
                  <a:pt x="109" y="28"/>
                  <a:pt x="109" y="28"/>
                </a:cubicBezTo>
                <a:cubicBezTo>
                  <a:pt x="109" y="27"/>
                  <a:pt x="113" y="26"/>
                  <a:pt x="123" y="25"/>
                </a:cubicBezTo>
                <a:cubicBezTo>
                  <a:pt x="123" y="23"/>
                  <a:pt x="124" y="22"/>
                  <a:pt x="125" y="20"/>
                </a:cubicBezTo>
                <a:cubicBezTo>
                  <a:pt x="122" y="13"/>
                  <a:pt x="121" y="9"/>
                  <a:pt x="121" y="7"/>
                </a:cubicBezTo>
                <a:cubicBezTo>
                  <a:pt x="121" y="7"/>
                  <a:pt x="121" y="7"/>
                  <a:pt x="121" y="6"/>
                </a:cubicBezTo>
                <a:cubicBezTo>
                  <a:pt x="121" y="6"/>
                  <a:pt x="122" y="6"/>
                  <a:pt x="124" y="4"/>
                </a:cubicBezTo>
                <a:cubicBezTo>
                  <a:pt x="126" y="3"/>
                  <a:pt x="128" y="2"/>
                  <a:pt x="130" y="1"/>
                </a:cubicBezTo>
                <a:cubicBezTo>
                  <a:pt x="132" y="0"/>
                  <a:pt x="133" y="0"/>
                  <a:pt x="133" y="0"/>
                </a:cubicBezTo>
                <a:cubicBezTo>
                  <a:pt x="133" y="0"/>
                  <a:pt x="135" y="1"/>
                  <a:pt x="137" y="4"/>
                </a:cubicBezTo>
                <a:cubicBezTo>
                  <a:pt x="139" y="7"/>
                  <a:pt x="141" y="9"/>
                  <a:pt x="142" y="11"/>
                </a:cubicBezTo>
                <a:cubicBezTo>
                  <a:pt x="143" y="10"/>
                  <a:pt x="144" y="10"/>
                  <a:pt x="145" y="10"/>
                </a:cubicBezTo>
                <a:cubicBezTo>
                  <a:pt x="145" y="10"/>
                  <a:pt x="146" y="10"/>
                  <a:pt x="148" y="11"/>
                </a:cubicBezTo>
                <a:cubicBezTo>
                  <a:pt x="151" y="6"/>
                  <a:pt x="154" y="3"/>
                  <a:pt x="156" y="0"/>
                </a:cubicBezTo>
                <a:cubicBezTo>
                  <a:pt x="157" y="0"/>
                  <a:pt x="157" y="0"/>
                  <a:pt x="157" y="0"/>
                </a:cubicBezTo>
                <a:cubicBezTo>
                  <a:pt x="157" y="0"/>
                  <a:pt x="161" y="2"/>
                  <a:pt x="169" y="6"/>
                </a:cubicBezTo>
                <a:cubicBezTo>
                  <a:pt x="169" y="7"/>
                  <a:pt x="169" y="7"/>
                  <a:pt x="169" y="7"/>
                </a:cubicBezTo>
                <a:cubicBezTo>
                  <a:pt x="169" y="9"/>
                  <a:pt x="167" y="13"/>
                  <a:pt x="164" y="20"/>
                </a:cubicBezTo>
                <a:cubicBezTo>
                  <a:pt x="165" y="22"/>
                  <a:pt x="166" y="23"/>
                  <a:pt x="167" y="25"/>
                </a:cubicBezTo>
                <a:cubicBezTo>
                  <a:pt x="176" y="26"/>
                  <a:pt x="181" y="27"/>
                  <a:pt x="181" y="28"/>
                </a:cubicBezTo>
                <a:close/>
                <a:moveTo>
                  <a:pt x="181" y="125"/>
                </a:moveTo>
                <a:cubicBezTo>
                  <a:pt x="181" y="138"/>
                  <a:pt x="181" y="138"/>
                  <a:pt x="181" y="138"/>
                </a:cubicBezTo>
                <a:cubicBezTo>
                  <a:pt x="181" y="139"/>
                  <a:pt x="176" y="140"/>
                  <a:pt x="167" y="141"/>
                </a:cubicBezTo>
                <a:cubicBezTo>
                  <a:pt x="166" y="143"/>
                  <a:pt x="165" y="144"/>
                  <a:pt x="164" y="146"/>
                </a:cubicBezTo>
                <a:cubicBezTo>
                  <a:pt x="167" y="153"/>
                  <a:pt x="169" y="157"/>
                  <a:pt x="169" y="159"/>
                </a:cubicBezTo>
                <a:cubicBezTo>
                  <a:pt x="169" y="159"/>
                  <a:pt x="169" y="159"/>
                  <a:pt x="169" y="160"/>
                </a:cubicBezTo>
                <a:cubicBezTo>
                  <a:pt x="161" y="164"/>
                  <a:pt x="157" y="166"/>
                  <a:pt x="157" y="166"/>
                </a:cubicBezTo>
                <a:cubicBezTo>
                  <a:pt x="156" y="166"/>
                  <a:pt x="155" y="165"/>
                  <a:pt x="153" y="162"/>
                </a:cubicBezTo>
                <a:cubicBezTo>
                  <a:pt x="150" y="159"/>
                  <a:pt x="149" y="157"/>
                  <a:pt x="148" y="155"/>
                </a:cubicBezTo>
                <a:cubicBezTo>
                  <a:pt x="146" y="155"/>
                  <a:pt x="145" y="156"/>
                  <a:pt x="145" y="156"/>
                </a:cubicBezTo>
                <a:cubicBezTo>
                  <a:pt x="144" y="156"/>
                  <a:pt x="143" y="155"/>
                  <a:pt x="142" y="155"/>
                </a:cubicBezTo>
                <a:cubicBezTo>
                  <a:pt x="141" y="157"/>
                  <a:pt x="139" y="159"/>
                  <a:pt x="137" y="162"/>
                </a:cubicBezTo>
                <a:cubicBezTo>
                  <a:pt x="135" y="165"/>
                  <a:pt x="133" y="166"/>
                  <a:pt x="133" y="166"/>
                </a:cubicBezTo>
                <a:cubicBezTo>
                  <a:pt x="133" y="166"/>
                  <a:pt x="129" y="164"/>
                  <a:pt x="121" y="160"/>
                </a:cubicBezTo>
                <a:cubicBezTo>
                  <a:pt x="121" y="159"/>
                  <a:pt x="121" y="159"/>
                  <a:pt x="121" y="159"/>
                </a:cubicBezTo>
                <a:cubicBezTo>
                  <a:pt x="121" y="157"/>
                  <a:pt x="122" y="153"/>
                  <a:pt x="125" y="146"/>
                </a:cubicBezTo>
                <a:cubicBezTo>
                  <a:pt x="124" y="144"/>
                  <a:pt x="123" y="143"/>
                  <a:pt x="123" y="141"/>
                </a:cubicBezTo>
                <a:cubicBezTo>
                  <a:pt x="113" y="140"/>
                  <a:pt x="109" y="139"/>
                  <a:pt x="109" y="138"/>
                </a:cubicBezTo>
                <a:cubicBezTo>
                  <a:pt x="109" y="125"/>
                  <a:pt x="109" y="125"/>
                  <a:pt x="109" y="125"/>
                </a:cubicBezTo>
                <a:cubicBezTo>
                  <a:pt x="109" y="124"/>
                  <a:pt x="113" y="123"/>
                  <a:pt x="123" y="122"/>
                </a:cubicBezTo>
                <a:cubicBezTo>
                  <a:pt x="123" y="120"/>
                  <a:pt x="124" y="118"/>
                  <a:pt x="125" y="117"/>
                </a:cubicBezTo>
                <a:cubicBezTo>
                  <a:pt x="122" y="110"/>
                  <a:pt x="121" y="105"/>
                  <a:pt x="121" y="104"/>
                </a:cubicBezTo>
                <a:cubicBezTo>
                  <a:pt x="121" y="104"/>
                  <a:pt x="121" y="103"/>
                  <a:pt x="121" y="103"/>
                </a:cubicBezTo>
                <a:cubicBezTo>
                  <a:pt x="121" y="103"/>
                  <a:pt x="122" y="102"/>
                  <a:pt x="124" y="101"/>
                </a:cubicBezTo>
                <a:cubicBezTo>
                  <a:pt x="126" y="100"/>
                  <a:pt x="128" y="99"/>
                  <a:pt x="130" y="98"/>
                </a:cubicBezTo>
                <a:cubicBezTo>
                  <a:pt x="132" y="97"/>
                  <a:pt x="133" y="97"/>
                  <a:pt x="133" y="97"/>
                </a:cubicBezTo>
                <a:cubicBezTo>
                  <a:pt x="133" y="97"/>
                  <a:pt x="135" y="98"/>
                  <a:pt x="137" y="101"/>
                </a:cubicBezTo>
                <a:cubicBezTo>
                  <a:pt x="139" y="104"/>
                  <a:pt x="141" y="106"/>
                  <a:pt x="142" y="107"/>
                </a:cubicBezTo>
                <a:cubicBezTo>
                  <a:pt x="143" y="107"/>
                  <a:pt x="144" y="107"/>
                  <a:pt x="145" y="107"/>
                </a:cubicBezTo>
                <a:cubicBezTo>
                  <a:pt x="145" y="107"/>
                  <a:pt x="146" y="107"/>
                  <a:pt x="148" y="107"/>
                </a:cubicBezTo>
                <a:cubicBezTo>
                  <a:pt x="151" y="103"/>
                  <a:pt x="154" y="99"/>
                  <a:pt x="156" y="97"/>
                </a:cubicBezTo>
                <a:cubicBezTo>
                  <a:pt x="157" y="97"/>
                  <a:pt x="157" y="97"/>
                  <a:pt x="157" y="97"/>
                </a:cubicBezTo>
                <a:cubicBezTo>
                  <a:pt x="157" y="97"/>
                  <a:pt x="161" y="99"/>
                  <a:pt x="169" y="103"/>
                </a:cubicBezTo>
                <a:cubicBezTo>
                  <a:pt x="169" y="103"/>
                  <a:pt x="169" y="104"/>
                  <a:pt x="169" y="104"/>
                </a:cubicBezTo>
                <a:cubicBezTo>
                  <a:pt x="169" y="105"/>
                  <a:pt x="167" y="110"/>
                  <a:pt x="164" y="117"/>
                </a:cubicBezTo>
                <a:cubicBezTo>
                  <a:pt x="165" y="118"/>
                  <a:pt x="166" y="120"/>
                  <a:pt x="167" y="122"/>
                </a:cubicBezTo>
                <a:cubicBezTo>
                  <a:pt x="176" y="123"/>
                  <a:pt x="181" y="124"/>
                  <a:pt x="181" y="125"/>
                </a:cubicBezTo>
                <a:close/>
                <a:moveTo>
                  <a:pt x="157" y="35"/>
                </a:moveTo>
                <a:cubicBezTo>
                  <a:pt x="157" y="31"/>
                  <a:pt x="156" y="28"/>
                  <a:pt x="153" y="26"/>
                </a:cubicBezTo>
                <a:cubicBezTo>
                  <a:pt x="151" y="24"/>
                  <a:pt x="148" y="22"/>
                  <a:pt x="145" y="22"/>
                </a:cubicBezTo>
                <a:cubicBezTo>
                  <a:pt x="142" y="22"/>
                  <a:pt x="139" y="24"/>
                  <a:pt x="136" y="26"/>
                </a:cubicBezTo>
                <a:cubicBezTo>
                  <a:pt x="134" y="28"/>
                  <a:pt x="133" y="31"/>
                  <a:pt x="133" y="35"/>
                </a:cubicBezTo>
                <a:cubicBezTo>
                  <a:pt x="133" y="38"/>
                  <a:pt x="134" y="41"/>
                  <a:pt x="136" y="43"/>
                </a:cubicBezTo>
                <a:cubicBezTo>
                  <a:pt x="139" y="45"/>
                  <a:pt x="141" y="47"/>
                  <a:pt x="145" y="47"/>
                </a:cubicBezTo>
                <a:cubicBezTo>
                  <a:pt x="148" y="47"/>
                  <a:pt x="151" y="45"/>
                  <a:pt x="153" y="43"/>
                </a:cubicBezTo>
                <a:cubicBezTo>
                  <a:pt x="156" y="41"/>
                  <a:pt x="157" y="38"/>
                  <a:pt x="157" y="35"/>
                </a:cubicBezTo>
                <a:close/>
                <a:moveTo>
                  <a:pt x="157" y="131"/>
                </a:moveTo>
                <a:cubicBezTo>
                  <a:pt x="157" y="128"/>
                  <a:pt x="156" y="125"/>
                  <a:pt x="153" y="123"/>
                </a:cubicBezTo>
                <a:cubicBezTo>
                  <a:pt x="151" y="120"/>
                  <a:pt x="148" y="119"/>
                  <a:pt x="145" y="119"/>
                </a:cubicBezTo>
                <a:cubicBezTo>
                  <a:pt x="142" y="119"/>
                  <a:pt x="139" y="120"/>
                  <a:pt x="136" y="123"/>
                </a:cubicBezTo>
                <a:cubicBezTo>
                  <a:pt x="134" y="125"/>
                  <a:pt x="133" y="128"/>
                  <a:pt x="133" y="131"/>
                </a:cubicBezTo>
                <a:cubicBezTo>
                  <a:pt x="133" y="135"/>
                  <a:pt x="134" y="138"/>
                  <a:pt x="136" y="140"/>
                </a:cubicBezTo>
                <a:cubicBezTo>
                  <a:pt x="139" y="142"/>
                  <a:pt x="141" y="143"/>
                  <a:pt x="145" y="143"/>
                </a:cubicBezTo>
                <a:cubicBezTo>
                  <a:pt x="148" y="143"/>
                  <a:pt x="151" y="142"/>
                  <a:pt x="153" y="140"/>
                </a:cubicBezTo>
                <a:cubicBezTo>
                  <a:pt x="156" y="138"/>
                  <a:pt x="157" y="135"/>
                  <a:pt x="157" y="131"/>
                </a:cubicBezTo>
                <a:close/>
              </a:path>
            </a:pathLst>
          </a:custGeom>
          <a:solidFill>
            <a:srgbClr val="75cfd9"/>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pic>
        <p:nvPicPr>
          <p:cNvPr id="1625" name="图片 12" descr=""/>
          <p:cNvPicPr/>
          <p:nvPr/>
        </p:nvPicPr>
        <p:blipFill>
          <a:blip r:embed="rId1"/>
          <a:stretch/>
        </p:blipFill>
        <p:spPr>
          <a:xfrm>
            <a:off x="3273480" y="430200"/>
            <a:ext cx="1749240" cy="1325520"/>
          </a:xfrm>
          <a:prstGeom prst="rect">
            <a:avLst/>
          </a:prstGeom>
          <a:ln w="0">
            <a:noFill/>
          </a:ln>
        </p:spPr>
      </p:pic>
      <p:sp>
        <p:nvSpPr>
          <p:cNvPr id="1626" name="矩形 14"/>
          <p:cNvSpPr/>
          <p:nvPr/>
        </p:nvSpPr>
        <p:spPr>
          <a:xfrm>
            <a:off x="5365800" y="2033640"/>
            <a:ext cx="6219720" cy="27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1</a:t>
            </a:r>
            <a:r>
              <a:rPr b="0" lang="zh-CN" sz="2400" spc="-1" strike="noStrike">
                <a:solidFill>
                  <a:srgbClr val="7030a0"/>
                </a:solidFill>
                <a:latin typeface="等线"/>
                <a:ea typeface="等线"/>
              </a:rPr>
              <a:t>）扣除范围</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等线"/>
                <a:ea typeface="等线"/>
              </a:rPr>
              <a:t>      </a:t>
            </a:r>
            <a:r>
              <a:rPr b="0" lang="zh-CN" sz="2000" spc="-1" strike="noStrike">
                <a:solidFill>
                  <a:srgbClr val="262626"/>
                </a:solidFill>
                <a:latin typeface="等线"/>
                <a:ea typeface="等线"/>
              </a:rPr>
              <a:t>纳税人本人或配偶使用商业银行或住房公积金个人住房贷款为本人或其配偶购买住房，发生的首套住房贷款利息支出并在偿还贷款期间。</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2</a:t>
            </a:r>
            <a:r>
              <a:rPr b="0" lang="zh-CN" sz="2400" spc="-1" strike="noStrike">
                <a:solidFill>
                  <a:srgbClr val="7030a0"/>
                </a:solidFill>
                <a:latin typeface="等线"/>
                <a:ea typeface="等线"/>
              </a:rPr>
              <a:t>）扣除标准</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等线"/>
                <a:ea typeface="等线"/>
              </a:rPr>
              <a:t>    </a:t>
            </a:r>
            <a:r>
              <a:rPr b="0" lang="zh-CN" sz="2000" spc="-1" strike="noStrike">
                <a:solidFill>
                  <a:srgbClr val="262626"/>
                </a:solidFill>
                <a:latin typeface="等线"/>
                <a:ea typeface="等线"/>
              </a:rPr>
              <a:t>在偿还贷款期间，可以按照每年</a:t>
            </a:r>
            <a:r>
              <a:rPr b="0" lang="en-US" sz="2000" spc="-1" strike="noStrike">
                <a:solidFill>
                  <a:srgbClr val="262626"/>
                </a:solidFill>
                <a:latin typeface="等线"/>
                <a:ea typeface="等线"/>
              </a:rPr>
              <a:t>12000</a:t>
            </a:r>
            <a:r>
              <a:rPr b="0" lang="zh-CN" sz="2000" spc="-1" strike="noStrike">
                <a:solidFill>
                  <a:srgbClr val="262626"/>
                </a:solidFill>
                <a:latin typeface="等线"/>
                <a:ea typeface="等线"/>
              </a:rPr>
              <a:t>元（每月</a:t>
            </a:r>
            <a:r>
              <a:rPr b="0" lang="en-US" sz="2000" spc="-1" strike="noStrike">
                <a:solidFill>
                  <a:srgbClr val="262626"/>
                </a:solidFill>
                <a:latin typeface="等线"/>
                <a:ea typeface="等线"/>
              </a:rPr>
              <a:t>1000</a:t>
            </a:r>
            <a:r>
              <a:rPr b="0" lang="zh-CN" sz="2000" spc="-1" strike="noStrike">
                <a:solidFill>
                  <a:srgbClr val="262626"/>
                </a:solidFill>
                <a:latin typeface="等线"/>
                <a:ea typeface="等线"/>
              </a:rPr>
              <a:t>元）标准定额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2</a:t>
            </a:r>
            <a:r>
              <a:rPr b="0" lang="zh-CN" sz="2400" spc="-1" strike="noStrike">
                <a:solidFill>
                  <a:srgbClr val="ff0000"/>
                </a:solidFill>
                <a:latin typeface="造字工房尚雅（非商用）常规体"/>
                <a:ea typeface="造字工房尚雅（非商用）常规体"/>
              </a:rPr>
              <a:t>、扣除方式</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等线"/>
                <a:ea typeface="等线"/>
              </a:rPr>
              <a:t>   </a:t>
            </a:r>
            <a:r>
              <a:rPr b="0" lang="zh-CN" sz="2000" spc="-1" strike="noStrike">
                <a:solidFill>
                  <a:srgbClr val="262626"/>
                </a:solidFill>
                <a:latin typeface="等线"/>
                <a:ea typeface="等线"/>
              </a:rPr>
              <a:t>经夫妻双方约定，可以选择由其中一方扣除，具体扣除方式在一个纳税年度内不得变更。</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pic>
        <p:nvPicPr>
          <p:cNvPr id="1627" name="图片 15" descr=""/>
          <p:cNvPicPr/>
          <p:nvPr/>
        </p:nvPicPr>
        <p:blipFill>
          <a:blip r:embed="rId2"/>
          <a:stretch/>
        </p:blipFill>
        <p:spPr>
          <a:xfrm>
            <a:off x="1363680" y="1531800"/>
            <a:ext cx="3505320" cy="4078440"/>
          </a:xfrm>
          <a:prstGeom prst="rect">
            <a:avLst/>
          </a:prstGeom>
          <a:ln w="0">
            <a:noFill/>
          </a:ln>
        </p:spPr>
      </p:pic>
    </p:spTree>
  </p:cSld>
  <p:transition spd="slow">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53" presetSubtype="16">
                                  <p:stCondLst>
                                    <p:cond delay="0"/>
                                  </p:stCondLst>
                                  <p:childTnLst>
                                    <p:set>
                                      <p:cBhvr>
                                        <p:cTn id="367" dur="1" fill="hold">
                                          <p:stCondLst>
                                            <p:cond delay="0"/>
                                          </p:stCondLst>
                                        </p:cTn>
                                        <p:tgtEl>
                                          <p:spTgt spid="1620"/>
                                        </p:tgtEl>
                                        <p:attrNameLst>
                                          <p:attrName>style.visibility</p:attrName>
                                        </p:attrNameLst>
                                      </p:cBhvr>
                                      <p:to>
                                        <p:strVal val="visible"/>
                                      </p:to>
                                    </p:set>
                                    <p:anim calcmode="lin" valueType="num">
                                      <p:cBhvr additive="repl">
                                        <p:cTn id="368" dur="500" fill="hold"/>
                                        <p:tgtEl>
                                          <p:spTgt spid="1620"/>
                                        </p:tgtEl>
                                        <p:attrNameLst>
                                          <p:attrName>ppt_w</p:attrName>
                                        </p:attrNameLst>
                                      </p:cBhvr>
                                      <p:tavLst>
                                        <p:tav tm="0">
                                          <p:val>
                                            <p:fltVal val="0"/>
                                          </p:val>
                                        </p:tav>
                                        <p:tav tm="100000">
                                          <p:val>
                                            <p:strVal val="#ppt_w"/>
                                          </p:val>
                                        </p:tav>
                                      </p:tavLst>
                                    </p:anim>
                                    <p:anim calcmode="lin" valueType="num">
                                      <p:cBhvr additive="repl">
                                        <p:cTn id="369" dur="500" fill="hold"/>
                                        <p:tgtEl>
                                          <p:spTgt spid="1620"/>
                                        </p:tgtEl>
                                        <p:attrNameLst>
                                          <p:attrName>ppt_h</p:attrName>
                                        </p:attrNameLst>
                                      </p:cBhvr>
                                      <p:tavLst>
                                        <p:tav tm="0">
                                          <p:val>
                                            <p:fltVal val="0"/>
                                          </p:val>
                                        </p:tav>
                                        <p:tav tm="100000">
                                          <p:val>
                                            <p:strVal val="#ppt_h"/>
                                          </p:val>
                                        </p:tav>
                                      </p:tavLst>
                                    </p:anim>
                                    <p:animEffect filter="fade" transition="in">
                                      <p:cBhvr additive="repl">
                                        <p:cTn id="370" dur="500"/>
                                        <p:tgtEl>
                                          <p:spTgt spid="1620"/>
                                        </p:tgtEl>
                                      </p:cBhvr>
                                    </p:animEffect>
                                  </p:childTnLst>
                                </p:cTn>
                              </p:par>
                            </p:childTnLst>
                          </p:cTn>
                        </p:par>
                        <p:par>
                          <p:cTn id="371" nodeType="afterEffect" fill="hold">
                            <p:stCondLst>
                              <p:cond delay="500"/>
                            </p:stCondLst>
                            <p:childTnLst>
                              <p:par>
                                <p:cTn id="372" nodeType="afterEffect" fill="hold" presetClass="entr" presetID="22" presetSubtype="1">
                                  <p:stCondLst>
                                    <p:cond delay="0"/>
                                  </p:stCondLst>
                                  <p:childTnLst>
                                    <p:set>
                                      <p:cBhvr>
                                        <p:cTn id="373" dur="1" fill="hold">
                                          <p:stCondLst>
                                            <p:cond delay="0"/>
                                          </p:stCondLst>
                                        </p:cTn>
                                        <p:tgtEl>
                                          <p:spTgt spid="1621"/>
                                        </p:tgtEl>
                                        <p:attrNameLst>
                                          <p:attrName>style.visibility</p:attrName>
                                        </p:attrNameLst>
                                      </p:cBhvr>
                                      <p:to>
                                        <p:strVal val="visible"/>
                                      </p:to>
                                    </p:set>
                                    <p:animEffect filter="wipe(up)" transition="in">
                                      <p:cBhvr additive="repl">
                                        <p:cTn id="374" dur="500"/>
                                        <p:tgtEl>
                                          <p:spTgt spid="1621"/>
                                        </p:tgtEl>
                                      </p:cBhvr>
                                    </p:animEffect>
                                  </p:childTnLst>
                                </p:cTn>
                              </p:par>
                            </p:childTnLst>
                          </p:cTn>
                        </p:par>
                        <p:par>
                          <p:cTn id="375" nodeType="afterEffect" fill="hold">
                            <p:stCondLst>
                              <p:cond delay="1000"/>
                            </p:stCondLst>
                            <p:childTnLst>
                              <p:par>
                                <p:cTn id="376" nodeType="afterEffect" fill="hold" presetClass="entr" presetID="22" presetSubtype="1">
                                  <p:stCondLst>
                                    <p:cond delay="0"/>
                                  </p:stCondLst>
                                  <p:childTnLst>
                                    <p:set>
                                      <p:cBhvr>
                                        <p:cTn id="377" dur="1" fill="hold">
                                          <p:stCondLst>
                                            <p:cond delay="0"/>
                                          </p:stCondLst>
                                        </p:cTn>
                                        <p:tgtEl>
                                          <p:spTgt spid="1622"/>
                                        </p:tgtEl>
                                        <p:attrNameLst>
                                          <p:attrName>style.visibility</p:attrName>
                                        </p:attrNameLst>
                                      </p:cBhvr>
                                      <p:to>
                                        <p:strVal val="visible"/>
                                      </p:to>
                                    </p:set>
                                    <p:animEffect filter="wipe(up)" transition="in">
                                      <p:cBhvr additive="repl">
                                        <p:cTn id="378" dur="500"/>
                                        <p:tgtEl>
                                          <p:spTgt spid="1622"/>
                                        </p:tgtEl>
                                      </p:cBhvr>
                                    </p:animEffect>
                                  </p:childTnLst>
                                </p:cTn>
                              </p:par>
                            </p:childTnLst>
                          </p:cTn>
                        </p:par>
                        <p:par>
                          <p:cTn id="379" nodeType="afterEffect" fill="hold">
                            <p:stCondLst>
                              <p:cond delay="1500"/>
                            </p:stCondLst>
                            <p:childTnLst>
                              <p:par>
                                <p:cTn id="380" nodeType="afterEffect" fill="hold" presetClass="entr" presetID="53" presetSubtype="16">
                                  <p:stCondLst>
                                    <p:cond delay="0"/>
                                  </p:stCondLst>
                                  <p:childTnLst>
                                    <p:set>
                                      <p:cBhvr>
                                        <p:cTn id="381" dur="1" fill="hold">
                                          <p:stCondLst>
                                            <p:cond delay="0"/>
                                          </p:stCondLst>
                                        </p:cTn>
                                        <p:tgtEl>
                                          <p:spTgt spid="1623"/>
                                        </p:tgtEl>
                                        <p:attrNameLst>
                                          <p:attrName>style.visibility</p:attrName>
                                        </p:attrNameLst>
                                      </p:cBhvr>
                                      <p:to>
                                        <p:strVal val="visible"/>
                                      </p:to>
                                    </p:set>
                                    <p:anim calcmode="lin" valueType="num">
                                      <p:cBhvr additive="repl">
                                        <p:cTn id="382" dur="500" fill="hold"/>
                                        <p:tgtEl>
                                          <p:spTgt spid="1623"/>
                                        </p:tgtEl>
                                        <p:attrNameLst>
                                          <p:attrName>ppt_w</p:attrName>
                                        </p:attrNameLst>
                                      </p:cBhvr>
                                      <p:tavLst>
                                        <p:tav tm="0">
                                          <p:val>
                                            <p:fltVal val="0"/>
                                          </p:val>
                                        </p:tav>
                                        <p:tav tm="100000">
                                          <p:val>
                                            <p:strVal val="#ppt_w"/>
                                          </p:val>
                                        </p:tav>
                                      </p:tavLst>
                                    </p:anim>
                                    <p:anim calcmode="lin" valueType="num">
                                      <p:cBhvr additive="repl">
                                        <p:cTn id="383" dur="500" fill="hold"/>
                                        <p:tgtEl>
                                          <p:spTgt spid="1623"/>
                                        </p:tgtEl>
                                        <p:attrNameLst>
                                          <p:attrName>ppt_h</p:attrName>
                                        </p:attrNameLst>
                                      </p:cBhvr>
                                      <p:tavLst>
                                        <p:tav tm="0">
                                          <p:val>
                                            <p:fltVal val="0"/>
                                          </p:val>
                                        </p:tav>
                                        <p:tav tm="100000">
                                          <p:val>
                                            <p:strVal val="#ppt_h"/>
                                          </p:val>
                                        </p:tav>
                                      </p:tavLst>
                                    </p:anim>
                                    <p:animEffect filter="fade" transition="in">
                                      <p:cBhvr additive="repl">
                                        <p:cTn id="384" dur="500"/>
                                        <p:tgtEl>
                                          <p:spTgt spid="1623"/>
                                        </p:tgtEl>
                                      </p:cBhvr>
                                    </p:animEffect>
                                  </p:childTnLst>
                                </p:cTn>
                              </p:par>
                            </p:childTnLst>
                          </p:cTn>
                        </p:par>
                        <p:par>
                          <p:cTn id="385" nodeType="afterEffect" fill="hold">
                            <p:stCondLst>
                              <p:cond delay="2000"/>
                            </p:stCondLst>
                            <p:childTnLst>
                              <p:par>
                                <p:cTn id="386" nodeType="afterEffect" fill="hold" presetClass="entr" presetID="53" presetSubtype="16">
                                  <p:stCondLst>
                                    <p:cond delay="0"/>
                                  </p:stCondLst>
                                  <p:childTnLst>
                                    <p:set>
                                      <p:cBhvr>
                                        <p:cTn id="387" dur="1" fill="hold">
                                          <p:stCondLst>
                                            <p:cond delay="0"/>
                                          </p:stCondLst>
                                        </p:cTn>
                                        <p:tgtEl>
                                          <p:spTgt spid="1624"/>
                                        </p:tgtEl>
                                        <p:attrNameLst>
                                          <p:attrName>style.visibility</p:attrName>
                                        </p:attrNameLst>
                                      </p:cBhvr>
                                      <p:to>
                                        <p:strVal val="visible"/>
                                      </p:to>
                                    </p:set>
                                    <p:anim calcmode="lin" valueType="num">
                                      <p:cBhvr additive="repl">
                                        <p:cTn id="388" dur="500" fill="hold"/>
                                        <p:tgtEl>
                                          <p:spTgt spid="1624"/>
                                        </p:tgtEl>
                                        <p:attrNameLst>
                                          <p:attrName>ppt_w</p:attrName>
                                        </p:attrNameLst>
                                      </p:cBhvr>
                                      <p:tavLst>
                                        <p:tav tm="0">
                                          <p:val>
                                            <p:fltVal val="0"/>
                                          </p:val>
                                        </p:tav>
                                        <p:tav tm="100000">
                                          <p:val>
                                            <p:strVal val="#ppt_w"/>
                                          </p:val>
                                        </p:tav>
                                      </p:tavLst>
                                    </p:anim>
                                    <p:anim calcmode="lin" valueType="num">
                                      <p:cBhvr additive="repl">
                                        <p:cTn id="389" dur="500" fill="hold"/>
                                        <p:tgtEl>
                                          <p:spTgt spid="1624"/>
                                        </p:tgtEl>
                                        <p:attrNameLst>
                                          <p:attrName>ppt_h</p:attrName>
                                        </p:attrNameLst>
                                      </p:cBhvr>
                                      <p:tavLst>
                                        <p:tav tm="0">
                                          <p:val>
                                            <p:fltVal val="0"/>
                                          </p:val>
                                        </p:tav>
                                        <p:tav tm="100000">
                                          <p:val>
                                            <p:strVal val="#ppt_h"/>
                                          </p:val>
                                        </p:tav>
                                      </p:tavLst>
                                    </p:anim>
                                    <p:animEffect filter="fade" transition="in">
                                      <p:cBhvr additive="repl">
                                        <p:cTn id="390" dur="500"/>
                                        <p:tgtEl>
                                          <p:spTgt spid="1624"/>
                                        </p:tgtEl>
                                      </p:cBhvr>
                                    </p:animEffect>
                                  </p:childTnLst>
                                </p:cTn>
                              </p:par>
                              <p:par>
                                <p:cTn id="391" nodeType="withEffect" fill="hold" presetClass="entr" presetID="2" presetSubtype="8">
                                  <p:stCondLst>
                                    <p:cond delay="0"/>
                                  </p:stCondLst>
                                  <p:childTnLst>
                                    <p:set>
                                      <p:cBhvr>
                                        <p:cTn id="392" dur="1" fill="hold">
                                          <p:stCondLst>
                                            <p:cond delay="0"/>
                                          </p:stCondLst>
                                        </p:cTn>
                                        <p:tgtEl>
                                          <p:spTgt spid="1625"/>
                                        </p:tgtEl>
                                        <p:attrNameLst>
                                          <p:attrName>style.visibility</p:attrName>
                                        </p:attrNameLst>
                                      </p:cBhvr>
                                      <p:to>
                                        <p:strVal val="visible"/>
                                      </p:to>
                                    </p:set>
                                    <p:anim calcmode="lin" valueType="num">
                                      <p:cBhvr additive="base">
                                        <p:cTn id="393" dur="500" fill="hold"/>
                                        <p:tgtEl>
                                          <p:spTgt spid="1625"/>
                                        </p:tgtEl>
                                        <p:attrNameLst>
                                          <p:attrName>ppt_x</p:attrName>
                                        </p:attrNameLst>
                                      </p:cBhvr>
                                      <p:tavLst>
                                        <p:tav tm="0">
                                          <p:val>
                                            <p:strVal val="0-#ppt_w/2"/>
                                          </p:val>
                                        </p:tav>
                                        <p:tav tm="100000">
                                          <p:val>
                                            <p:strVal val="#ppt_x"/>
                                          </p:val>
                                        </p:tav>
                                      </p:tavLst>
                                    </p:anim>
                                    <p:anim calcmode="lin" valueType="num">
                                      <p:cBhvr additive="base">
                                        <p:cTn id="394" dur="500" fill="hold"/>
                                        <p:tgtEl>
                                          <p:spTgt spid="1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8" name="图片 1" descr=""/>
          <p:cNvPicPr/>
          <p:nvPr/>
        </p:nvPicPr>
        <p:blipFill>
          <a:blip r:embed="rId1"/>
          <a:stretch/>
        </p:blipFill>
        <p:spPr>
          <a:xfrm>
            <a:off x="4981680" y="266760"/>
            <a:ext cx="1749240" cy="1326960"/>
          </a:xfrm>
          <a:prstGeom prst="rect">
            <a:avLst/>
          </a:prstGeom>
          <a:ln w="0">
            <a:noFill/>
          </a:ln>
        </p:spPr>
      </p:pic>
      <p:sp>
        <p:nvSpPr>
          <p:cNvPr id="1629" name="TextBox 19"/>
          <p:cNvSpPr/>
          <p:nvPr/>
        </p:nvSpPr>
        <p:spPr>
          <a:xfrm>
            <a:off x="957240" y="2324160"/>
            <a:ext cx="6186600" cy="2835000"/>
          </a:xfrm>
          <a:prstGeom prst="rect">
            <a:avLst/>
          </a:prstGeom>
          <a:noFill/>
          <a:ln w="0">
            <a:noFill/>
          </a:ln>
        </p:spPr>
        <p:style>
          <a:lnRef idx="0"/>
          <a:fillRef idx="0"/>
          <a:effectRef idx="0"/>
          <a:fontRef idx="minor"/>
        </p:style>
        <p:txBody>
          <a:bodyPr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4</a:t>
            </a:r>
            <a:r>
              <a:rPr b="0" lang="zh-CN" sz="2400" spc="-1" strike="noStrike">
                <a:solidFill>
                  <a:srgbClr val="ff0000"/>
                </a:solidFill>
                <a:latin typeface="造字工房尚雅（非商用）常规体"/>
                <a:ea typeface="造字工房尚雅（非商用）常规体"/>
              </a:rPr>
              <a:t>、注意事项</a:t>
            </a:r>
            <a:endParaRPr b="0" lang="en-US" sz="24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造字工房尚雅（非商用）常规体"/>
              </a:rPr>
              <a:t>（</a:t>
            </a:r>
            <a:r>
              <a:rPr b="0" sz="2000" spc="-1" strike="noStrike">
                <a:solidFill>
                  <a:srgbClr val="262626"/>
                </a:solidFill>
                <a:latin typeface="等线"/>
                <a:ea typeface="造字工房尚雅（非商用）常规体"/>
              </a:rPr>
              <a:t>1</a:t>
            </a:r>
            <a:r>
              <a:rPr b="0" sz="2000" spc="-1" strike="noStrike">
                <a:solidFill>
                  <a:srgbClr val="262626"/>
                </a:solidFill>
                <a:latin typeface="等线"/>
                <a:ea typeface="造字工房尚雅（非商用）常规体"/>
              </a:rPr>
              <a:t>）非首套住房贷款利息支出，纳税人不得扣除。纳税人只能享受一套首套住房贷款利息扣除。、</a:t>
            </a: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70c0"/>
                </a:solidFill>
                <a:latin typeface="方正姚体"/>
                <a:ea typeface="方正姚体"/>
              </a:rPr>
              <a:t>一个人一辈子只能享受一次“首套住房贷款利息支出”</a:t>
            </a: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a:t>
            </a:r>
            <a:r>
              <a:rPr b="0" sz="2000" spc="-1" strike="noStrike">
                <a:solidFill>
                  <a:srgbClr val="262626"/>
                </a:solidFill>
                <a:latin typeface="等线"/>
                <a:ea typeface="等线"/>
              </a:rPr>
              <a:t>2</a:t>
            </a:r>
            <a:r>
              <a:rPr b="0" sz="2000" spc="-1" strike="noStrike">
                <a:solidFill>
                  <a:srgbClr val="262626"/>
                </a:solidFill>
                <a:latin typeface="等线"/>
                <a:ea typeface="等线"/>
              </a:rPr>
              <a:t>）纳税人及其配偶不得同时分别享受住房贷款利息专项附加扣除和住房租金专项附加扣除。</a:t>
            </a: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sp>
        <p:nvSpPr>
          <p:cNvPr id="1630" name="矩形 12"/>
          <p:cNvSpPr/>
          <p:nvPr/>
        </p:nvSpPr>
        <p:spPr>
          <a:xfrm>
            <a:off x="949320" y="1290600"/>
            <a:ext cx="4881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3</a:t>
            </a:r>
            <a:r>
              <a:rPr b="0" lang="zh-CN" sz="2400" spc="-1" strike="noStrike">
                <a:solidFill>
                  <a:srgbClr val="ff0000"/>
                </a:solidFill>
                <a:latin typeface="造字工房尚雅（非商用）常规体"/>
                <a:ea typeface="造字工房尚雅（非商用）常规体"/>
              </a:rPr>
              <a:t>、扣除凭证</a:t>
            </a:r>
            <a:endParaRPr b="0" lang="en-US" sz="2400" spc="-1" strike="noStrike">
              <a:solidFill>
                <a:srgbClr val="262626"/>
              </a:solidFill>
              <a:latin typeface="Arial"/>
            </a:endParaRPr>
          </a:p>
        </p:txBody>
      </p:sp>
      <p:sp>
        <p:nvSpPr>
          <p:cNvPr id="1631" name="矩形 13"/>
          <p:cNvSpPr/>
          <p:nvPr/>
        </p:nvSpPr>
        <p:spPr>
          <a:xfrm>
            <a:off x="949320" y="1871640"/>
            <a:ext cx="5843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住房贷款合同、贷款还款支出凭证。</a:t>
            </a:r>
            <a:endParaRPr b="0" lang="en-US" sz="2000" spc="-1" strike="noStrike">
              <a:solidFill>
                <a:srgbClr val="262626"/>
              </a:solidFill>
              <a:latin typeface="Arial"/>
            </a:endParaRPr>
          </a:p>
        </p:txBody>
      </p:sp>
      <p:sp>
        <p:nvSpPr>
          <p:cNvPr id="1632" name="矩形 14"/>
          <p:cNvSpPr/>
          <p:nvPr/>
        </p:nvSpPr>
        <p:spPr>
          <a:xfrm>
            <a:off x="1054080" y="4646520"/>
            <a:ext cx="8089920" cy="430200"/>
          </a:xfrm>
          <a:prstGeom prst="rect">
            <a:avLst/>
          </a:prstGeom>
          <a:noFill/>
          <a:ln w="0">
            <a:noFill/>
          </a:ln>
        </p:spPr>
        <p:style>
          <a:lnRef idx="0"/>
          <a:fillRef idx="0"/>
          <a:effectRef idx="0"/>
          <a:fontRef idx="minor"/>
        </p:style>
        <p:txBody>
          <a:bodyPr lIns="90000" rIns="90000" tIns="46800" bIns="46800" anchor="t">
            <a:spAutoFit/>
          </a:bodyPr>
          <a:p>
            <a:pP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1633" name="图片 2" descr=""/>
          <p:cNvPicPr/>
          <p:nvPr/>
        </p:nvPicPr>
        <p:blipFill>
          <a:blip r:embed="rId2"/>
          <a:stretch/>
        </p:blipFill>
        <p:spPr>
          <a:xfrm>
            <a:off x="6978600" y="1192320"/>
            <a:ext cx="3621240" cy="4938480"/>
          </a:xfrm>
          <a:prstGeom prst="rect">
            <a:avLst/>
          </a:prstGeom>
          <a:ln w="0">
            <a:noFill/>
          </a:ln>
        </p:spPr>
      </p:pic>
    </p:spTree>
  </p:cSld>
  <p:transition spd="slow">
    <p:random/>
  </p:transition>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2" presetSubtype="8">
                                  <p:stCondLst>
                                    <p:cond delay="0"/>
                                  </p:stCondLst>
                                  <p:childTnLst>
                                    <p:set>
                                      <p:cBhvr>
                                        <p:cTn id="400" dur="1" fill="hold">
                                          <p:stCondLst>
                                            <p:cond delay="0"/>
                                          </p:stCondLst>
                                        </p:cTn>
                                        <p:tgtEl>
                                          <p:spTgt spid="1628"/>
                                        </p:tgtEl>
                                        <p:attrNameLst>
                                          <p:attrName>style.visibility</p:attrName>
                                        </p:attrNameLst>
                                      </p:cBhvr>
                                      <p:to>
                                        <p:strVal val="visible"/>
                                      </p:to>
                                    </p:set>
                                    <p:anim calcmode="lin" valueType="num">
                                      <p:cBhvr additive="base">
                                        <p:cTn id="401" dur="500" fill="hold"/>
                                        <p:tgtEl>
                                          <p:spTgt spid="1628"/>
                                        </p:tgtEl>
                                        <p:attrNameLst>
                                          <p:attrName>ppt_x</p:attrName>
                                        </p:attrNameLst>
                                      </p:cBhvr>
                                      <p:tavLst>
                                        <p:tav tm="0">
                                          <p:val>
                                            <p:strVal val="0-#ppt_w/2"/>
                                          </p:val>
                                        </p:tav>
                                        <p:tav tm="100000">
                                          <p:val>
                                            <p:strVal val="#ppt_x"/>
                                          </p:val>
                                        </p:tav>
                                      </p:tavLst>
                                    </p:anim>
                                    <p:anim calcmode="lin" valueType="num">
                                      <p:cBhvr additive="base">
                                        <p:cTn id="402" dur="500" fill="hold"/>
                                        <p:tgtEl>
                                          <p:spTgt spid="1628"/>
                                        </p:tgtEl>
                                        <p:attrNameLst>
                                          <p:attrName>ppt_y</p:attrName>
                                        </p:attrNameLst>
                                      </p:cBhvr>
                                      <p:tavLst>
                                        <p:tav tm="0">
                                          <p:val>
                                            <p:strVal val="#ppt_y"/>
                                          </p:val>
                                        </p:tav>
                                        <p:tav tm="100000">
                                          <p:val>
                                            <p:strVal val="#ppt_y"/>
                                          </p:val>
                                        </p:tav>
                                      </p:tavLst>
                                    </p:anim>
                                  </p:childTnLst>
                                </p:cTn>
                              </p:par>
                            </p:childTnLst>
                          </p:cTn>
                        </p:par>
                        <p:par>
                          <p:cTn id="403" nodeType="afterEffect" fill="hold">
                            <p:stCondLst>
                              <p:cond delay="500"/>
                            </p:stCondLst>
                            <p:childTnLst>
                              <p:par>
                                <p:cTn id="404" nodeType="afterEffect" fill="hold" presetClass="entr" presetID="53" presetSubtype="16">
                                  <p:stCondLst>
                                    <p:cond delay="0"/>
                                  </p:stCondLst>
                                  <p:iterate type="lt">
                                    <p:tmAbs val="50"/>
                                  </p:iterate>
                                  <p:childTnLst>
                                    <p:set>
                                      <p:cBhvr>
                                        <p:cTn id="405" dur="1" fill="hold">
                                          <p:stCondLst>
                                            <p:cond delay="0"/>
                                          </p:stCondLst>
                                        </p:cTn>
                                        <p:tgtEl>
                                          <p:spTgt spid="1630"/>
                                        </p:tgtEl>
                                        <p:attrNameLst>
                                          <p:attrName>style.visibility</p:attrName>
                                        </p:attrNameLst>
                                      </p:cBhvr>
                                      <p:to>
                                        <p:strVal val="visible"/>
                                      </p:to>
                                    </p:set>
                                    <p:anim calcmode="lin" valueType="num">
                                      <p:cBhvr additive="repl">
                                        <p:cTn id="406" dur="500" fill="hold"/>
                                        <p:tgtEl>
                                          <p:spTgt spid="1630"/>
                                        </p:tgtEl>
                                        <p:attrNameLst>
                                          <p:attrName>ppt_w</p:attrName>
                                        </p:attrNameLst>
                                      </p:cBhvr>
                                      <p:tavLst>
                                        <p:tav tm="0">
                                          <p:val>
                                            <p:fltVal val="0"/>
                                          </p:val>
                                        </p:tav>
                                        <p:tav tm="100000">
                                          <p:val>
                                            <p:strVal val="#ppt_w"/>
                                          </p:val>
                                        </p:tav>
                                      </p:tavLst>
                                    </p:anim>
                                    <p:anim calcmode="lin" valueType="num">
                                      <p:cBhvr additive="repl">
                                        <p:cTn id="407" dur="500" fill="hold"/>
                                        <p:tgtEl>
                                          <p:spTgt spid="1630"/>
                                        </p:tgtEl>
                                        <p:attrNameLst>
                                          <p:attrName>ppt_h</p:attrName>
                                        </p:attrNameLst>
                                      </p:cBhvr>
                                      <p:tavLst>
                                        <p:tav tm="0">
                                          <p:val>
                                            <p:fltVal val="0"/>
                                          </p:val>
                                        </p:tav>
                                        <p:tav tm="100000">
                                          <p:val>
                                            <p:strVal val="#ppt_h"/>
                                          </p:val>
                                        </p:tav>
                                      </p:tavLst>
                                    </p:anim>
                                    <p:animEffect filter="fade" transition="in">
                                      <p:cBhvr additive="repl">
                                        <p:cTn id="408" dur="500"/>
                                        <p:tgtEl>
                                          <p:spTgt spid="1630"/>
                                        </p:tgtEl>
                                      </p:cBhvr>
                                    </p:animEffect>
                                  </p:childTnLst>
                                </p:cTn>
                              </p:par>
                            </p:childTnLst>
                          </p:cTn>
                        </p:par>
                        <p:par>
                          <p:cTn id="409" nodeType="afterEffect" fill="hold">
                            <p:stCondLst>
                              <p:cond delay="1250"/>
                            </p:stCondLst>
                            <p:childTnLst>
                              <p:par>
                                <p:cTn id="410" nodeType="afterEffect" fill="hold" presetClass="entr" presetID="42">
                                  <p:stCondLst>
                                    <p:cond delay="0"/>
                                  </p:stCondLst>
                                  <p:childTnLst>
                                    <p:set>
                                      <p:cBhvr>
                                        <p:cTn id="411" dur="1" fill="hold">
                                          <p:stCondLst>
                                            <p:cond delay="0"/>
                                          </p:stCondLst>
                                        </p:cTn>
                                        <p:tgtEl>
                                          <p:spTgt spid="1631"/>
                                        </p:tgtEl>
                                        <p:attrNameLst>
                                          <p:attrName>style.visibility</p:attrName>
                                        </p:attrNameLst>
                                      </p:cBhvr>
                                      <p:to>
                                        <p:strVal val="visible"/>
                                      </p:to>
                                    </p:set>
                                    <p:animEffect filter="fade" transition="in">
                                      <p:cBhvr additive="repl">
                                        <p:cTn id="412" dur="1000"/>
                                        <p:tgtEl>
                                          <p:spTgt spid="1631"/>
                                        </p:tgtEl>
                                      </p:cBhvr>
                                    </p:animEffect>
                                    <p:anim calcmode="lin" valueType="num">
                                      <p:cBhvr additive="repl">
                                        <p:cTn id="413" dur="1000" fill="hold"/>
                                        <p:tgtEl>
                                          <p:spTgt spid="1631"/>
                                        </p:tgtEl>
                                        <p:attrNameLst>
                                          <p:attrName>ppt_x</p:attrName>
                                        </p:attrNameLst>
                                      </p:cBhvr>
                                      <p:tavLst>
                                        <p:tav tm="0">
                                          <p:val>
                                            <p:strVal val="#ppt_x"/>
                                          </p:val>
                                        </p:tav>
                                        <p:tav tm="100000">
                                          <p:val>
                                            <p:strVal val="#ppt_x"/>
                                          </p:val>
                                        </p:tav>
                                      </p:tavLst>
                                    </p:anim>
                                    <p:anim calcmode="lin" valueType="num">
                                      <p:cBhvr additive="repl">
                                        <p:cTn id="414" dur="1000" fill="hold"/>
                                        <p:tgtEl>
                                          <p:spTgt spid="1631"/>
                                        </p:tgtEl>
                                        <p:attrNameLst>
                                          <p:attrName>ppt_y</p:attrName>
                                        </p:attrNameLst>
                                      </p:cBhvr>
                                      <p:tavLst>
                                        <p:tav tm="0">
                                          <p:val>
                                            <p:strVal val="#ppt_y+.1"/>
                                          </p:val>
                                        </p:tav>
                                        <p:tav tm="100000">
                                          <p:val>
                                            <p:strVal val="#ppt_y"/>
                                          </p:val>
                                        </p:tav>
                                      </p:tavLst>
                                    </p:anim>
                                  </p:childTnLst>
                                </p:cTn>
                              </p:par>
                            </p:childTnLst>
                          </p:cTn>
                        </p:par>
                        <p:par>
                          <p:cTn id="415" nodeType="afterEffect" fill="hold">
                            <p:stCondLst>
                              <p:cond delay="2250"/>
                            </p:stCondLst>
                            <p:childTnLst>
                              <p:par>
                                <p:cTn id="416" nodeType="afterEffect" fill="hold" presetClass="entr" presetID="2" presetSubtype="4">
                                  <p:stCondLst>
                                    <p:cond delay="0"/>
                                  </p:stCondLst>
                                  <p:childTnLst>
                                    <p:set>
                                      <p:cBhvr>
                                        <p:cTn id="417" dur="1" fill="hold">
                                          <p:stCondLst>
                                            <p:cond delay="0"/>
                                          </p:stCondLst>
                                        </p:cTn>
                                        <p:tgtEl>
                                          <p:spTgt spid="1629"/>
                                        </p:tgtEl>
                                        <p:attrNameLst>
                                          <p:attrName>style.visibility</p:attrName>
                                        </p:attrNameLst>
                                      </p:cBhvr>
                                      <p:to>
                                        <p:strVal val="visible"/>
                                      </p:to>
                                    </p:set>
                                    <p:anim calcmode="lin" valueType="num">
                                      <p:cBhvr additive="base">
                                        <p:cTn id="418" dur="500" fill="hold"/>
                                        <p:tgtEl>
                                          <p:spTgt spid="1629"/>
                                        </p:tgtEl>
                                        <p:attrNameLst>
                                          <p:attrName>ppt_x</p:attrName>
                                        </p:attrNameLst>
                                      </p:cBhvr>
                                      <p:tavLst>
                                        <p:tav tm="0">
                                          <p:val>
                                            <p:strVal val="#ppt_x"/>
                                          </p:val>
                                        </p:tav>
                                        <p:tav tm="100000">
                                          <p:val>
                                            <p:strVal val="#ppt_x"/>
                                          </p:val>
                                        </p:tav>
                                      </p:tavLst>
                                    </p:anim>
                                    <p:anim calcmode="lin" valueType="num">
                                      <p:cBhvr additive="base">
                                        <p:cTn id="419" dur="500" fill="hold"/>
                                        <p:tgtEl>
                                          <p:spTgt spid="1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Freeform 171"/>
          <p:cNvSpPr/>
          <p:nvPr/>
        </p:nvSpPr>
        <p:spPr>
          <a:xfrm>
            <a:off x="4967280" y="2050920"/>
            <a:ext cx="488880" cy="419400"/>
          </a:xfrm>
          <a:custGeom>
            <a:avLst/>
            <a:gdLst/>
            <a:ahLst/>
            <a:rect l="l" t="t" r="r" b="b"/>
            <a:pathLst>
              <a:path w="169" h="145">
                <a:moveTo>
                  <a:pt x="169" y="40"/>
                </a:moveTo>
                <a:cubicBezTo>
                  <a:pt x="169" y="76"/>
                  <a:pt x="169" y="76"/>
                  <a:pt x="169" y="76"/>
                </a:cubicBezTo>
                <a:cubicBezTo>
                  <a:pt x="0" y="76"/>
                  <a:pt x="0" y="76"/>
                  <a:pt x="0" y="76"/>
                </a:cubicBezTo>
                <a:cubicBezTo>
                  <a:pt x="0" y="40"/>
                  <a:pt x="0" y="40"/>
                  <a:pt x="0" y="40"/>
                </a:cubicBezTo>
                <a:cubicBezTo>
                  <a:pt x="0" y="35"/>
                  <a:pt x="1" y="32"/>
                  <a:pt x="4" y="29"/>
                </a:cubicBezTo>
                <a:cubicBezTo>
                  <a:pt x="7" y="26"/>
                  <a:pt x="11" y="24"/>
                  <a:pt x="15" y="24"/>
                </a:cubicBezTo>
                <a:cubicBezTo>
                  <a:pt x="48" y="24"/>
                  <a:pt x="48" y="24"/>
                  <a:pt x="48" y="24"/>
                </a:cubicBezTo>
                <a:cubicBezTo>
                  <a:pt x="48" y="9"/>
                  <a:pt x="48" y="9"/>
                  <a:pt x="48" y="9"/>
                </a:cubicBezTo>
                <a:cubicBezTo>
                  <a:pt x="48" y="7"/>
                  <a:pt x="49" y="5"/>
                  <a:pt x="51" y="3"/>
                </a:cubicBezTo>
                <a:cubicBezTo>
                  <a:pt x="53" y="1"/>
                  <a:pt x="55" y="0"/>
                  <a:pt x="57" y="0"/>
                </a:cubicBezTo>
                <a:cubicBezTo>
                  <a:pt x="112" y="0"/>
                  <a:pt x="112" y="0"/>
                  <a:pt x="112" y="0"/>
                </a:cubicBezTo>
                <a:cubicBezTo>
                  <a:pt x="114" y="0"/>
                  <a:pt x="116" y="1"/>
                  <a:pt x="118" y="3"/>
                </a:cubicBezTo>
                <a:cubicBezTo>
                  <a:pt x="120" y="5"/>
                  <a:pt x="121" y="7"/>
                  <a:pt x="121" y="9"/>
                </a:cubicBezTo>
                <a:cubicBezTo>
                  <a:pt x="121" y="24"/>
                  <a:pt x="121" y="24"/>
                  <a:pt x="121" y="24"/>
                </a:cubicBezTo>
                <a:cubicBezTo>
                  <a:pt x="154" y="24"/>
                  <a:pt x="154" y="24"/>
                  <a:pt x="154" y="24"/>
                </a:cubicBezTo>
                <a:cubicBezTo>
                  <a:pt x="158" y="24"/>
                  <a:pt x="162" y="26"/>
                  <a:pt x="165" y="29"/>
                </a:cubicBezTo>
                <a:cubicBezTo>
                  <a:pt x="168" y="32"/>
                  <a:pt x="169" y="35"/>
                  <a:pt x="169" y="40"/>
                </a:cubicBezTo>
                <a:close/>
                <a:moveTo>
                  <a:pt x="169" y="85"/>
                </a:moveTo>
                <a:cubicBezTo>
                  <a:pt x="169" y="130"/>
                  <a:pt x="169" y="130"/>
                  <a:pt x="169" y="130"/>
                </a:cubicBezTo>
                <a:cubicBezTo>
                  <a:pt x="169" y="134"/>
                  <a:pt x="168" y="138"/>
                  <a:pt x="165" y="141"/>
                </a:cubicBezTo>
                <a:cubicBezTo>
                  <a:pt x="162" y="144"/>
                  <a:pt x="158" y="145"/>
                  <a:pt x="154" y="145"/>
                </a:cubicBezTo>
                <a:cubicBezTo>
                  <a:pt x="15" y="145"/>
                  <a:pt x="15" y="145"/>
                  <a:pt x="15" y="145"/>
                </a:cubicBezTo>
                <a:cubicBezTo>
                  <a:pt x="11" y="145"/>
                  <a:pt x="7" y="144"/>
                  <a:pt x="4" y="141"/>
                </a:cubicBezTo>
                <a:cubicBezTo>
                  <a:pt x="1" y="138"/>
                  <a:pt x="0" y="134"/>
                  <a:pt x="0" y="130"/>
                </a:cubicBezTo>
                <a:cubicBezTo>
                  <a:pt x="0" y="85"/>
                  <a:pt x="0" y="85"/>
                  <a:pt x="0" y="85"/>
                </a:cubicBezTo>
                <a:cubicBezTo>
                  <a:pt x="63" y="85"/>
                  <a:pt x="63" y="85"/>
                  <a:pt x="63" y="85"/>
                </a:cubicBezTo>
                <a:cubicBezTo>
                  <a:pt x="63" y="100"/>
                  <a:pt x="63" y="100"/>
                  <a:pt x="63" y="100"/>
                </a:cubicBezTo>
                <a:cubicBezTo>
                  <a:pt x="63" y="102"/>
                  <a:pt x="64" y="103"/>
                  <a:pt x="65" y="104"/>
                </a:cubicBezTo>
                <a:cubicBezTo>
                  <a:pt x="66" y="106"/>
                  <a:pt x="68" y="106"/>
                  <a:pt x="69" y="106"/>
                </a:cubicBezTo>
                <a:cubicBezTo>
                  <a:pt x="100" y="106"/>
                  <a:pt x="100" y="106"/>
                  <a:pt x="100" y="106"/>
                </a:cubicBezTo>
                <a:cubicBezTo>
                  <a:pt x="101" y="106"/>
                  <a:pt x="103" y="106"/>
                  <a:pt x="104" y="104"/>
                </a:cubicBezTo>
                <a:cubicBezTo>
                  <a:pt x="105" y="103"/>
                  <a:pt x="106" y="102"/>
                  <a:pt x="106" y="100"/>
                </a:cubicBezTo>
                <a:cubicBezTo>
                  <a:pt x="106" y="85"/>
                  <a:pt x="106" y="85"/>
                  <a:pt x="106" y="85"/>
                </a:cubicBezTo>
                <a:lnTo>
                  <a:pt x="169" y="85"/>
                </a:lnTo>
                <a:close/>
                <a:moveTo>
                  <a:pt x="60" y="24"/>
                </a:moveTo>
                <a:cubicBezTo>
                  <a:pt x="109" y="24"/>
                  <a:pt x="109" y="24"/>
                  <a:pt x="109" y="24"/>
                </a:cubicBezTo>
                <a:cubicBezTo>
                  <a:pt x="109" y="12"/>
                  <a:pt x="109" y="12"/>
                  <a:pt x="109" y="12"/>
                </a:cubicBezTo>
                <a:cubicBezTo>
                  <a:pt x="60" y="12"/>
                  <a:pt x="60" y="12"/>
                  <a:pt x="60" y="12"/>
                </a:cubicBezTo>
                <a:lnTo>
                  <a:pt x="60" y="24"/>
                </a:lnTo>
                <a:close/>
                <a:moveTo>
                  <a:pt x="97" y="85"/>
                </a:moveTo>
                <a:cubicBezTo>
                  <a:pt x="97" y="97"/>
                  <a:pt x="97" y="97"/>
                  <a:pt x="97" y="97"/>
                </a:cubicBezTo>
                <a:cubicBezTo>
                  <a:pt x="72" y="97"/>
                  <a:pt x="72" y="97"/>
                  <a:pt x="72" y="97"/>
                </a:cubicBezTo>
                <a:cubicBezTo>
                  <a:pt x="72" y="85"/>
                  <a:pt x="72" y="85"/>
                  <a:pt x="72" y="85"/>
                </a:cubicBezTo>
                <a:lnTo>
                  <a:pt x="97" y="85"/>
                </a:lnTo>
                <a:close/>
              </a:path>
            </a:pathLst>
          </a:custGeom>
          <a:solidFill>
            <a:srgbClr val="75cf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35" name="TextBox 23"/>
          <p:cNvSpPr/>
          <p:nvPr/>
        </p:nvSpPr>
        <p:spPr>
          <a:xfrm>
            <a:off x="5006880" y="784080"/>
            <a:ext cx="79329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造字工房尚雅（非商用）常规体"/>
                <a:ea typeface="造字工房尚雅（非商用）常规体"/>
              </a:rPr>
              <a:t>（五）住房租金专项附加扣除</a:t>
            </a:r>
            <a:endParaRPr b="0" lang="en-US" sz="2800" spc="-1" strike="noStrike">
              <a:solidFill>
                <a:srgbClr val="262626"/>
              </a:solidFill>
              <a:latin typeface="Arial"/>
            </a:endParaRPr>
          </a:p>
        </p:txBody>
      </p:sp>
      <p:sp>
        <p:nvSpPr>
          <p:cNvPr id="1636" name="Rectangle 25"/>
          <p:cNvSpPr/>
          <p:nvPr/>
        </p:nvSpPr>
        <p:spPr>
          <a:xfrm>
            <a:off x="5432400" y="1387440"/>
            <a:ext cx="5211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1</a:t>
            </a:r>
            <a:r>
              <a:rPr b="0" lang="zh-CN" sz="2400" spc="-1" strike="noStrike">
                <a:solidFill>
                  <a:srgbClr val="ff0000"/>
                </a:solidFill>
                <a:latin typeface="造字工房尚雅（非商用）常规体"/>
                <a:ea typeface="造字工房尚雅（非商用）常规体"/>
              </a:rPr>
              <a:t>、扣除范围和标准</a:t>
            </a:r>
            <a:endParaRPr b="0" lang="en-US" sz="2400" spc="-1" strike="noStrike">
              <a:solidFill>
                <a:srgbClr val="26262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637" name="Freeform 173"/>
          <p:cNvSpPr/>
          <p:nvPr/>
        </p:nvSpPr>
        <p:spPr>
          <a:xfrm>
            <a:off x="5095800" y="4226040"/>
            <a:ext cx="447840" cy="419040"/>
          </a:xfrm>
          <a:custGeom>
            <a:avLst/>
            <a:gdLst/>
            <a:ahLst/>
            <a:rect l="l" t="t" r="r" b="b"/>
            <a:pathLst>
              <a:path w="182" h="170">
                <a:moveTo>
                  <a:pt x="56" y="85"/>
                </a:moveTo>
                <a:cubicBezTo>
                  <a:pt x="46" y="85"/>
                  <a:pt x="37" y="89"/>
                  <a:pt x="31" y="97"/>
                </a:cubicBezTo>
                <a:cubicBezTo>
                  <a:pt x="18" y="97"/>
                  <a:pt x="18" y="97"/>
                  <a:pt x="18" y="97"/>
                </a:cubicBezTo>
                <a:cubicBezTo>
                  <a:pt x="13" y="97"/>
                  <a:pt x="9" y="96"/>
                  <a:pt x="5" y="93"/>
                </a:cubicBezTo>
                <a:cubicBezTo>
                  <a:pt x="2" y="91"/>
                  <a:pt x="0" y="87"/>
                  <a:pt x="0" y="82"/>
                </a:cubicBezTo>
                <a:cubicBezTo>
                  <a:pt x="0" y="60"/>
                  <a:pt x="4" y="49"/>
                  <a:pt x="12" y="49"/>
                </a:cubicBezTo>
                <a:cubicBezTo>
                  <a:pt x="12" y="49"/>
                  <a:pt x="13" y="49"/>
                  <a:pt x="16" y="51"/>
                </a:cubicBezTo>
                <a:cubicBezTo>
                  <a:pt x="18" y="52"/>
                  <a:pt x="21" y="53"/>
                  <a:pt x="25" y="55"/>
                </a:cubicBezTo>
                <a:cubicBezTo>
                  <a:pt x="29" y="56"/>
                  <a:pt x="33" y="57"/>
                  <a:pt x="36" y="57"/>
                </a:cubicBezTo>
                <a:cubicBezTo>
                  <a:pt x="41" y="57"/>
                  <a:pt x="45" y="56"/>
                  <a:pt x="49" y="54"/>
                </a:cubicBezTo>
                <a:cubicBezTo>
                  <a:pt x="49" y="57"/>
                  <a:pt x="48" y="59"/>
                  <a:pt x="48" y="61"/>
                </a:cubicBezTo>
                <a:cubicBezTo>
                  <a:pt x="48" y="69"/>
                  <a:pt x="51" y="78"/>
                  <a:pt x="56" y="85"/>
                </a:cubicBezTo>
                <a:close/>
                <a:moveTo>
                  <a:pt x="53" y="7"/>
                </a:moveTo>
                <a:cubicBezTo>
                  <a:pt x="58" y="12"/>
                  <a:pt x="61" y="18"/>
                  <a:pt x="61" y="24"/>
                </a:cubicBezTo>
                <a:cubicBezTo>
                  <a:pt x="61" y="31"/>
                  <a:pt x="58" y="37"/>
                  <a:pt x="53" y="42"/>
                </a:cubicBezTo>
                <a:cubicBezTo>
                  <a:pt x="49" y="46"/>
                  <a:pt x="43" y="49"/>
                  <a:pt x="36" y="49"/>
                </a:cubicBezTo>
                <a:cubicBezTo>
                  <a:pt x="30" y="49"/>
                  <a:pt x="24" y="46"/>
                  <a:pt x="19" y="42"/>
                </a:cubicBezTo>
                <a:cubicBezTo>
                  <a:pt x="14" y="37"/>
                  <a:pt x="12" y="31"/>
                  <a:pt x="12" y="24"/>
                </a:cubicBezTo>
                <a:cubicBezTo>
                  <a:pt x="12" y="18"/>
                  <a:pt x="14" y="12"/>
                  <a:pt x="19" y="7"/>
                </a:cubicBezTo>
                <a:cubicBezTo>
                  <a:pt x="24" y="3"/>
                  <a:pt x="30" y="0"/>
                  <a:pt x="36" y="0"/>
                </a:cubicBezTo>
                <a:cubicBezTo>
                  <a:pt x="43" y="0"/>
                  <a:pt x="49" y="3"/>
                  <a:pt x="53" y="7"/>
                </a:cubicBezTo>
                <a:close/>
                <a:moveTo>
                  <a:pt x="157" y="145"/>
                </a:moveTo>
                <a:cubicBezTo>
                  <a:pt x="157" y="153"/>
                  <a:pt x="155" y="159"/>
                  <a:pt x="150" y="163"/>
                </a:cubicBezTo>
                <a:cubicBezTo>
                  <a:pt x="146" y="167"/>
                  <a:pt x="140" y="170"/>
                  <a:pt x="132" y="170"/>
                </a:cubicBezTo>
                <a:cubicBezTo>
                  <a:pt x="49" y="170"/>
                  <a:pt x="49" y="170"/>
                  <a:pt x="49" y="170"/>
                </a:cubicBezTo>
                <a:cubicBezTo>
                  <a:pt x="42" y="170"/>
                  <a:pt x="36" y="167"/>
                  <a:pt x="31" y="163"/>
                </a:cubicBezTo>
                <a:cubicBezTo>
                  <a:pt x="26" y="159"/>
                  <a:pt x="24" y="153"/>
                  <a:pt x="24" y="145"/>
                </a:cubicBezTo>
                <a:cubicBezTo>
                  <a:pt x="24" y="142"/>
                  <a:pt x="24" y="139"/>
                  <a:pt x="25" y="135"/>
                </a:cubicBezTo>
                <a:cubicBezTo>
                  <a:pt x="25" y="132"/>
                  <a:pt x="25" y="129"/>
                  <a:pt x="26" y="125"/>
                </a:cubicBezTo>
                <a:cubicBezTo>
                  <a:pt x="27" y="121"/>
                  <a:pt x="27" y="118"/>
                  <a:pt x="28" y="115"/>
                </a:cubicBezTo>
                <a:cubicBezTo>
                  <a:pt x="29" y="112"/>
                  <a:pt x="31" y="109"/>
                  <a:pt x="32" y="106"/>
                </a:cubicBezTo>
                <a:cubicBezTo>
                  <a:pt x="34" y="103"/>
                  <a:pt x="36" y="100"/>
                  <a:pt x="38" y="98"/>
                </a:cubicBezTo>
                <a:cubicBezTo>
                  <a:pt x="40" y="96"/>
                  <a:pt x="43" y="94"/>
                  <a:pt x="46" y="93"/>
                </a:cubicBezTo>
                <a:cubicBezTo>
                  <a:pt x="50" y="92"/>
                  <a:pt x="53" y="91"/>
                  <a:pt x="57" y="91"/>
                </a:cubicBezTo>
                <a:cubicBezTo>
                  <a:pt x="58" y="91"/>
                  <a:pt x="59" y="92"/>
                  <a:pt x="61" y="93"/>
                </a:cubicBezTo>
                <a:cubicBezTo>
                  <a:pt x="63" y="94"/>
                  <a:pt x="65" y="96"/>
                  <a:pt x="68" y="98"/>
                </a:cubicBezTo>
                <a:cubicBezTo>
                  <a:pt x="70" y="99"/>
                  <a:pt x="74" y="101"/>
                  <a:pt x="78" y="102"/>
                </a:cubicBezTo>
                <a:cubicBezTo>
                  <a:pt x="82" y="103"/>
                  <a:pt x="86" y="104"/>
                  <a:pt x="91" y="104"/>
                </a:cubicBezTo>
                <a:cubicBezTo>
                  <a:pt x="95" y="104"/>
                  <a:pt x="99" y="103"/>
                  <a:pt x="104" y="102"/>
                </a:cubicBezTo>
                <a:cubicBezTo>
                  <a:pt x="108" y="101"/>
                  <a:pt x="111" y="99"/>
                  <a:pt x="114" y="98"/>
                </a:cubicBezTo>
                <a:cubicBezTo>
                  <a:pt x="116" y="96"/>
                  <a:pt x="118" y="94"/>
                  <a:pt x="121" y="93"/>
                </a:cubicBezTo>
                <a:cubicBezTo>
                  <a:pt x="123" y="92"/>
                  <a:pt x="124" y="91"/>
                  <a:pt x="125" y="91"/>
                </a:cubicBezTo>
                <a:cubicBezTo>
                  <a:pt x="128" y="91"/>
                  <a:pt x="132" y="92"/>
                  <a:pt x="135" y="93"/>
                </a:cubicBezTo>
                <a:cubicBezTo>
                  <a:pt x="138" y="94"/>
                  <a:pt x="141" y="96"/>
                  <a:pt x="143" y="98"/>
                </a:cubicBezTo>
                <a:cubicBezTo>
                  <a:pt x="145" y="100"/>
                  <a:pt x="147" y="103"/>
                  <a:pt x="149" y="106"/>
                </a:cubicBezTo>
                <a:cubicBezTo>
                  <a:pt x="151" y="109"/>
                  <a:pt x="152" y="112"/>
                  <a:pt x="153" y="115"/>
                </a:cubicBezTo>
                <a:cubicBezTo>
                  <a:pt x="154" y="118"/>
                  <a:pt x="155" y="121"/>
                  <a:pt x="156" y="125"/>
                </a:cubicBezTo>
                <a:cubicBezTo>
                  <a:pt x="156" y="129"/>
                  <a:pt x="157" y="132"/>
                  <a:pt x="157" y="135"/>
                </a:cubicBezTo>
                <a:cubicBezTo>
                  <a:pt x="157" y="139"/>
                  <a:pt x="157" y="142"/>
                  <a:pt x="157" y="145"/>
                </a:cubicBezTo>
                <a:close/>
                <a:moveTo>
                  <a:pt x="116" y="35"/>
                </a:moveTo>
                <a:cubicBezTo>
                  <a:pt x="124" y="42"/>
                  <a:pt x="127" y="51"/>
                  <a:pt x="127" y="61"/>
                </a:cubicBezTo>
                <a:cubicBezTo>
                  <a:pt x="127" y="71"/>
                  <a:pt x="124" y="79"/>
                  <a:pt x="116" y="86"/>
                </a:cubicBezTo>
                <a:cubicBezTo>
                  <a:pt x="109" y="93"/>
                  <a:pt x="101" y="97"/>
                  <a:pt x="91" y="97"/>
                </a:cubicBezTo>
                <a:cubicBezTo>
                  <a:pt x="81" y="97"/>
                  <a:pt x="72" y="93"/>
                  <a:pt x="65" y="86"/>
                </a:cubicBezTo>
                <a:cubicBezTo>
                  <a:pt x="58" y="79"/>
                  <a:pt x="54" y="71"/>
                  <a:pt x="54" y="61"/>
                </a:cubicBezTo>
                <a:cubicBezTo>
                  <a:pt x="54" y="51"/>
                  <a:pt x="58" y="42"/>
                  <a:pt x="65" y="35"/>
                </a:cubicBezTo>
                <a:cubicBezTo>
                  <a:pt x="72" y="28"/>
                  <a:pt x="81" y="24"/>
                  <a:pt x="91" y="24"/>
                </a:cubicBezTo>
                <a:cubicBezTo>
                  <a:pt x="101" y="24"/>
                  <a:pt x="109" y="28"/>
                  <a:pt x="116" y="35"/>
                </a:cubicBezTo>
                <a:close/>
                <a:moveTo>
                  <a:pt x="162" y="7"/>
                </a:moveTo>
                <a:cubicBezTo>
                  <a:pt x="167" y="12"/>
                  <a:pt x="169" y="18"/>
                  <a:pt x="169" y="24"/>
                </a:cubicBezTo>
                <a:cubicBezTo>
                  <a:pt x="169" y="31"/>
                  <a:pt x="167" y="37"/>
                  <a:pt x="162" y="42"/>
                </a:cubicBezTo>
                <a:cubicBezTo>
                  <a:pt x="158" y="46"/>
                  <a:pt x="152" y="49"/>
                  <a:pt x="145" y="49"/>
                </a:cubicBezTo>
                <a:cubicBezTo>
                  <a:pt x="139" y="49"/>
                  <a:pt x="133" y="46"/>
                  <a:pt x="128" y="42"/>
                </a:cubicBezTo>
                <a:cubicBezTo>
                  <a:pt x="123" y="37"/>
                  <a:pt x="121" y="31"/>
                  <a:pt x="121" y="24"/>
                </a:cubicBezTo>
                <a:cubicBezTo>
                  <a:pt x="121" y="18"/>
                  <a:pt x="123" y="12"/>
                  <a:pt x="128" y="7"/>
                </a:cubicBezTo>
                <a:cubicBezTo>
                  <a:pt x="133" y="3"/>
                  <a:pt x="139" y="0"/>
                  <a:pt x="145" y="0"/>
                </a:cubicBezTo>
                <a:cubicBezTo>
                  <a:pt x="152" y="0"/>
                  <a:pt x="158" y="3"/>
                  <a:pt x="162" y="7"/>
                </a:cubicBezTo>
                <a:close/>
                <a:moveTo>
                  <a:pt x="182" y="82"/>
                </a:moveTo>
                <a:cubicBezTo>
                  <a:pt x="182" y="87"/>
                  <a:pt x="180" y="91"/>
                  <a:pt x="176" y="93"/>
                </a:cubicBezTo>
                <a:cubicBezTo>
                  <a:pt x="173" y="96"/>
                  <a:pt x="168" y="97"/>
                  <a:pt x="163" y="97"/>
                </a:cubicBezTo>
                <a:cubicBezTo>
                  <a:pt x="151" y="97"/>
                  <a:pt x="151" y="97"/>
                  <a:pt x="151" y="97"/>
                </a:cubicBezTo>
                <a:cubicBezTo>
                  <a:pt x="144" y="89"/>
                  <a:pt x="136" y="85"/>
                  <a:pt x="125" y="85"/>
                </a:cubicBezTo>
                <a:cubicBezTo>
                  <a:pt x="131" y="78"/>
                  <a:pt x="133" y="69"/>
                  <a:pt x="133" y="61"/>
                </a:cubicBezTo>
                <a:cubicBezTo>
                  <a:pt x="133" y="59"/>
                  <a:pt x="133" y="57"/>
                  <a:pt x="133" y="54"/>
                </a:cubicBezTo>
                <a:cubicBezTo>
                  <a:pt x="137" y="56"/>
                  <a:pt x="141" y="57"/>
                  <a:pt x="145" y="57"/>
                </a:cubicBezTo>
                <a:cubicBezTo>
                  <a:pt x="149" y="57"/>
                  <a:pt x="153" y="56"/>
                  <a:pt x="156" y="55"/>
                </a:cubicBezTo>
                <a:cubicBezTo>
                  <a:pt x="160" y="53"/>
                  <a:pt x="163" y="52"/>
                  <a:pt x="166" y="51"/>
                </a:cubicBezTo>
                <a:cubicBezTo>
                  <a:pt x="168" y="49"/>
                  <a:pt x="169" y="49"/>
                  <a:pt x="170" y="49"/>
                </a:cubicBezTo>
                <a:cubicBezTo>
                  <a:pt x="178" y="49"/>
                  <a:pt x="182" y="60"/>
                  <a:pt x="182" y="82"/>
                </a:cubicBezTo>
                <a:close/>
              </a:path>
            </a:pathLst>
          </a:custGeom>
          <a:solidFill>
            <a:srgbClr val="4ec1c2"/>
          </a:solidFill>
          <a:ln w="0">
            <a:noFill/>
          </a:ln>
          <a:effectLst>
            <a:outerShdw dist="266777" dir="81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38" name="Freeform 130"/>
          <p:cNvSpPr/>
          <p:nvPr/>
        </p:nvSpPr>
        <p:spPr>
          <a:xfrm>
            <a:off x="5160960" y="5541840"/>
            <a:ext cx="455760" cy="419400"/>
          </a:xfrm>
          <a:custGeom>
            <a:avLst/>
            <a:gdLst/>
            <a:ahLst/>
            <a:rect l="l" t="t" r="r" b="b"/>
            <a:pathLst>
              <a:path w="181" h="166">
                <a:moveTo>
                  <a:pt x="121" y="74"/>
                </a:moveTo>
                <a:cubicBezTo>
                  <a:pt x="121" y="92"/>
                  <a:pt x="121" y="92"/>
                  <a:pt x="121" y="92"/>
                </a:cubicBezTo>
                <a:cubicBezTo>
                  <a:pt x="121" y="92"/>
                  <a:pt x="120" y="93"/>
                  <a:pt x="120" y="94"/>
                </a:cubicBezTo>
                <a:cubicBezTo>
                  <a:pt x="120" y="94"/>
                  <a:pt x="119" y="95"/>
                  <a:pt x="118" y="95"/>
                </a:cubicBezTo>
                <a:cubicBezTo>
                  <a:pt x="104" y="97"/>
                  <a:pt x="104" y="97"/>
                  <a:pt x="104" y="97"/>
                </a:cubicBezTo>
                <a:cubicBezTo>
                  <a:pt x="103" y="99"/>
                  <a:pt x="102" y="102"/>
                  <a:pt x="101" y="104"/>
                </a:cubicBezTo>
                <a:cubicBezTo>
                  <a:pt x="103" y="107"/>
                  <a:pt x="106" y="111"/>
                  <a:pt x="109" y="115"/>
                </a:cubicBezTo>
                <a:cubicBezTo>
                  <a:pt x="110" y="116"/>
                  <a:pt x="110" y="116"/>
                  <a:pt x="110" y="117"/>
                </a:cubicBezTo>
                <a:cubicBezTo>
                  <a:pt x="110" y="118"/>
                  <a:pt x="110" y="118"/>
                  <a:pt x="109" y="119"/>
                </a:cubicBezTo>
                <a:cubicBezTo>
                  <a:pt x="108" y="121"/>
                  <a:pt x="105" y="123"/>
                  <a:pt x="101" y="127"/>
                </a:cubicBezTo>
                <a:cubicBezTo>
                  <a:pt x="98" y="131"/>
                  <a:pt x="95" y="133"/>
                  <a:pt x="94" y="133"/>
                </a:cubicBezTo>
                <a:cubicBezTo>
                  <a:pt x="93" y="133"/>
                  <a:pt x="93" y="133"/>
                  <a:pt x="92" y="132"/>
                </a:cubicBezTo>
                <a:cubicBezTo>
                  <a:pt x="81" y="124"/>
                  <a:pt x="81" y="124"/>
                  <a:pt x="81" y="124"/>
                </a:cubicBezTo>
                <a:cubicBezTo>
                  <a:pt x="79" y="125"/>
                  <a:pt x="76" y="126"/>
                  <a:pt x="74" y="127"/>
                </a:cubicBezTo>
                <a:cubicBezTo>
                  <a:pt x="73" y="133"/>
                  <a:pt x="72" y="138"/>
                  <a:pt x="72" y="141"/>
                </a:cubicBezTo>
                <a:cubicBezTo>
                  <a:pt x="71" y="143"/>
                  <a:pt x="70" y="143"/>
                  <a:pt x="69" y="143"/>
                </a:cubicBezTo>
                <a:cubicBezTo>
                  <a:pt x="51" y="143"/>
                  <a:pt x="51" y="143"/>
                  <a:pt x="51" y="143"/>
                </a:cubicBezTo>
                <a:cubicBezTo>
                  <a:pt x="51" y="143"/>
                  <a:pt x="50" y="143"/>
                  <a:pt x="49" y="143"/>
                </a:cubicBezTo>
                <a:cubicBezTo>
                  <a:pt x="49" y="142"/>
                  <a:pt x="49" y="142"/>
                  <a:pt x="48" y="141"/>
                </a:cubicBezTo>
                <a:cubicBezTo>
                  <a:pt x="46" y="127"/>
                  <a:pt x="46" y="127"/>
                  <a:pt x="46" y="127"/>
                </a:cubicBezTo>
                <a:cubicBezTo>
                  <a:pt x="44" y="126"/>
                  <a:pt x="42" y="125"/>
                  <a:pt x="39" y="124"/>
                </a:cubicBezTo>
                <a:cubicBezTo>
                  <a:pt x="28" y="132"/>
                  <a:pt x="28" y="132"/>
                  <a:pt x="28" y="132"/>
                </a:cubicBezTo>
                <a:cubicBezTo>
                  <a:pt x="28" y="133"/>
                  <a:pt x="27" y="133"/>
                  <a:pt x="26" y="133"/>
                </a:cubicBezTo>
                <a:cubicBezTo>
                  <a:pt x="25" y="133"/>
                  <a:pt x="25" y="133"/>
                  <a:pt x="24" y="132"/>
                </a:cubicBezTo>
                <a:cubicBezTo>
                  <a:pt x="15" y="124"/>
                  <a:pt x="11" y="119"/>
                  <a:pt x="11" y="117"/>
                </a:cubicBezTo>
                <a:cubicBezTo>
                  <a:pt x="11" y="116"/>
                  <a:pt x="11" y="116"/>
                  <a:pt x="11" y="115"/>
                </a:cubicBezTo>
                <a:cubicBezTo>
                  <a:pt x="12" y="114"/>
                  <a:pt x="13" y="113"/>
                  <a:pt x="15" y="110"/>
                </a:cubicBezTo>
                <a:cubicBezTo>
                  <a:pt x="17" y="108"/>
                  <a:pt x="19" y="106"/>
                  <a:pt x="20" y="104"/>
                </a:cubicBezTo>
                <a:cubicBezTo>
                  <a:pt x="18" y="102"/>
                  <a:pt x="17" y="99"/>
                  <a:pt x="16" y="97"/>
                </a:cubicBezTo>
                <a:cubicBezTo>
                  <a:pt x="2" y="94"/>
                  <a:pt x="2" y="94"/>
                  <a:pt x="2" y="94"/>
                </a:cubicBezTo>
                <a:cubicBezTo>
                  <a:pt x="1" y="94"/>
                  <a:pt x="1" y="94"/>
                  <a:pt x="0" y="93"/>
                </a:cubicBezTo>
                <a:cubicBezTo>
                  <a:pt x="0" y="93"/>
                  <a:pt x="0" y="92"/>
                  <a:pt x="0" y="92"/>
                </a:cubicBezTo>
                <a:cubicBezTo>
                  <a:pt x="0" y="74"/>
                  <a:pt x="0" y="74"/>
                  <a:pt x="0" y="74"/>
                </a:cubicBezTo>
                <a:cubicBezTo>
                  <a:pt x="0" y="73"/>
                  <a:pt x="0" y="73"/>
                  <a:pt x="0" y="72"/>
                </a:cubicBezTo>
                <a:cubicBezTo>
                  <a:pt x="1" y="72"/>
                  <a:pt x="1" y="71"/>
                  <a:pt x="2" y="71"/>
                </a:cubicBezTo>
                <a:cubicBezTo>
                  <a:pt x="16" y="69"/>
                  <a:pt x="16" y="69"/>
                  <a:pt x="16" y="69"/>
                </a:cubicBezTo>
                <a:cubicBezTo>
                  <a:pt x="17" y="67"/>
                  <a:pt x="18" y="64"/>
                  <a:pt x="19" y="62"/>
                </a:cubicBezTo>
                <a:cubicBezTo>
                  <a:pt x="17" y="59"/>
                  <a:pt x="14" y="55"/>
                  <a:pt x="11" y="51"/>
                </a:cubicBezTo>
                <a:cubicBezTo>
                  <a:pt x="10" y="50"/>
                  <a:pt x="10" y="50"/>
                  <a:pt x="10" y="49"/>
                </a:cubicBezTo>
                <a:cubicBezTo>
                  <a:pt x="10" y="48"/>
                  <a:pt x="10" y="48"/>
                  <a:pt x="11" y="47"/>
                </a:cubicBezTo>
                <a:cubicBezTo>
                  <a:pt x="12" y="45"/>
                  <a:pt x="15" y="42"/>
                  <a:pt x="19" y="39"/>
                </a:cubicBezTo>
                <a:cubicBezTo>
                  <a:pt x="22" y="35"/>
                  <a:pt x="25" y="33"/>
                  <a:pt x="26" y="33"/>
                </a:cubicBezTo>
                <a:cubicBezTo>
                  <a:pt x="27" y="33"/>
                  <a:pt x="28" y="33"/>
                  <a:pt x="28" y="34"/>
                </a:cubicBezTo>
                <a:cubicBezTo>
                  <a:pt x="39" y="42"/>
                  <a:pt x="39" y="42"/>
                  <a:pt x="39" y="42"/>
                </a:cubicBezTo>
                <a:cubicBezTo>
                  <a:pt x="41" y="41"/>
                  <a:pt x="44" y="40"/>
                  <a:pt x="46" y="39"/>
                </a:cubicBezTo>
                <a:cubicBezTo>
                  <a:pt x="47" y="32"/>
                  <a:pt x="48" y="28"/>
                  <a:pt x="48" y="25"/>
                </a:cubicBezTo>
                <a:cubicBezTo>
                  <a:pt x="49" y="23"/>
                  <a:pt x="50" y="22"/>
                  <a:pt x="51" y="22"/>
                </a:cubicBezTo>
                <a:cubicBezTo>
                  <a:pt x="69" y="22"/>
                  <a:pt x="69" y="22"/>
                  <a:pt x="69" y="22"/>
                </a:cubicBezTo>
                <a:cubicBezTo>
                  <a:pt x="70" y="22"/>
                  <a:pt x="70" y="23"/>
                  <a:pt x="71" y="23"/>
                </a:cubicBezTo>
                <a:cubicBezTo>
                  <a:pt x="71" y="24"/>
                  <a:pt x="72" y="24"/>
                  <a:pt x="72" y="25"/>
                </a:cubicBezTo>
                <a:cubicBezTo>
                  <a:pt x="74" y="39"/>
                  <a:pt x="74" y="39"/>
                  <a:pt x="74" y="39"/>
                </a:cubicBezTo>
                <a:cubicBezTo>
                  <a:pt x="76" y="40"/>
                  <a:pt x="78" y="41"/>
                  <a:pt x="81" y="42"/>
                </a:cubicBezTo>
                <a:cubicBezTo>
                  <a:pt x="92" y="34"/>
                  <a:pt x="92" y="34"/>
                  <a:pt x="92" y="34"/>
                </a:cubicBezTo>
                <a:cubicBezTo>
                  <a:pt x="93" y="33"/>
                  <a:pt x="93" y="33"/>
                  <a:pt x="94" y="33"/>
                </a:cubicBezTo>
                <a:cubicBezTo>
                  <a:pt x="95" y="33"/>
                  <a:pt x="95" y="33"/>
                  <a:pt x="96" y="34"/>
                </a:cubicBezTo>
                <a:cubicBezTo>
                  <a:pt x="105" y="42"/>
                  <a:pt x="110" y="47"/>
                  <a:pt x="110" y="49"/>
                </a:cubicBezTo>
                <a:cubicBezTo>
                  <a:pt x="110" y="50"/>
                  <a:pt x="109" y="50"/>
                  <a:pt x="109" y="51"/>
                </a:cubicBezTo>
                <a:cubicBezTo>
                  <a:pt x="108" y="52"/>
                  <a:pt x="107" y="54"/>
                  <a:pt x="105" y="56"/>
                </a:cubicBezTo>
                <a:cubicBezTo>
                  <a:pt x="103" y="58"/>
                  <a:pt x="102" y="60"/>
                  <a:pt x="101" y="62"/>
                </a:cubicBezTo>
                <a:cubicBezTo>
                  <a:pt x="102" y="65"/>
                  <a:pt x="103" y="67"/>
                  <a:pt x="104" y="69"/>
                </a:cubicBezTo>
                <a:cubicBezTo>
                  <a:pt x="118" y="72"/>
                  <a:pt x="118" y="72"/>
                  <a:pt x="118" y="72"/>
                </a:cubicBezTo>
                <a:cubicBezTo>
                  <a:pt x="119" y="72"/>
                  <a:pt x="120" y="72"/>
                  <a:pt x="120" y="73"/>
                </a:cubicBezTo>
                <a:cubicBezTo>
                  <a:pt x="120" y="73"/>
                  <a:pt x="121" y="74"/>
                  <a:pt x="121" y="74"/>
                </a:cubicBezTo>
                <a:close/>
                <a:moveTo>
                  <a:pt x="77" y="100"/>
                </a:moveTo>
                <a:cubicBezTo>
                  <a:pt x="82" y="95"/>
                  <a:pt x="84" y="90"/>
                  <a:pt x="84" y="83"/>
                </a:cubicBezTo>
                <a:cubicBezTo>
                  <a:pt x="84" y="76"/>
                  <a:pt x="82" y="71"/>
                  <a:pt x="77" y="66"/>
                </a:cubicBezTo>
                <a:cubicBezTo>
                  <a:pt x="72" y="61"/>
                  <a:pt x="67" y="59"/>
                  <a:pt x="60" y="59"/>
                </a:cubicBezTo>
                <a:cubicBezTo>
                  <a:pt x="53" y="59"/>
                  <a:pt x="48" y="61"/>
                  <a:pt x="43" y="66"/>
                </a:cubicBezTo>
                <a:cubicBezTo>
                  <a:pt x="38" y="71"/>
                  <a:pt x="36" y="76"/>
                  <a:pt x="36" y="83"/>
                </a:cubicBezTo>
                <a:cubicBezTo>
                  <a:pt x="36" y="90"/>
                  <a:pt x="38" y="95"/>
                  <a:pt x="43" y="100"/>
                </a:cubicBezTo>
                <a:cubicBezTo>
                  <a:pt x="48" y="105"/>
                  <a:pt x="53" y="107"/>
                  <a:pt x="60" y="107"/>
                </a:cubicBezTo>
                <a:cubicBezTo>
                  <a:pt x="67" y="107"/>
                  <a:pt x="72" y="105"/>
                  <a:pt x="77" y="100"/>
                </a:cubicBezTo>
                <a:close/>
                <a:moveTo>
                  <a:pt x="181" y="28"/>
                </a:moveTo>
                <a:cubicBezTo>
                  <a:pt x="181" y="41"/>
                  <a:pt x="181" y="41"/>
                  <a:pt x="181" y="41"/>
                </a:cubicBezTo>
                <a:cubicBezTo>
                  <a:pt x="181" y="42"/>
                  <a:pt x="176" y="43"/>
                  <a:pt x="167" y="44"/>
                </a:cubicBezTo>
                <a:cubicBezTo>
                  <a:pt x="166" y="46"/>
                  <a:pt x="165" y="47"/>
                  <a:pt x="164" y="49"/>
                </a:cubicBezTo>
                <a:cubicBezTo>
                  <a:pt x="167" y="56"/>
                  <a:pt x="169" y="60"/>
                  <a:pt x="169" y="62"/>
                </a:cubicBezTo>
                <a:cubicBezTo>
                  <a:pt x="169" y="62"/>
                  <a:pt x="169" y="63"/>
                  <a:pt x="169" y="63"/>
                </a:cubicBezTo>
                <a:cubicBezTo>
                  <a:pt x="161" y="67"/>
                  <a:pt x="157" y="69"/>
                  <a:pt x="157" y="69"/>
                </a:cubicBezTo>
                <a:cubicBezTo>
                  <a:pt x="156" y="69"/>
                  <a:pt x="155" y="68"/>
                  <a:pt x="153" y="65"/>
                </a:cubicBezTo>
                <a:cubicBezTo>
                  <a:pt x="150" y="62"/>
                  <a:pt x="149" y="60"/>
                  <a:pt x="148" y="59"/>
                </a:cubicBezTo>
                <a:cubicBezTo>
                  <a:pt x="146" y="59"/>
                  <a:pt x="145" y="59"/>
                  <a:pt x="145" y="59"/>
                </a:cubicBezTo>
                <a:cubicBezTo>
                  <a:pt x="144" y="59"/>
                  <a:pt x="143" y="59"/>
                  <a:pt x="142" y="59"/>
                </a:cubicBezTo>
                <a:cubicBezTo>
                  <a:pt x="141" y="60"/>
                  <a:pt x="139" y="62"/>
                  <a:pt x="137" y="65"/>
                </a:cubicBezTo>
                <a:cubicBezTo>
                  <a:pt x="135" y="68"/>
                  <a:pt x="133" y="69"/>
                  <a:pt x="133" y="69"/>
                </a:cubicBezTo>
                <a:cubicBezTo>
                  <a:pt x="133" y="69"/>
                  <a:pt x="129" y="67"/>
                  <a:pt x="121" y="63"/>
                </a:cubicBezTo>
                <a:cubicBezTo>
                  <a:pt x="121" y="63"/>
                  <a:pt x="121" y="62"/>
                  <a:pt x="121" y="62"/>
                </a:cubicBezTo>
                <a:cubicBezTo>
                  <a:pt x="121" y="60"/>
                  <a:pt x="122" y="56"/>
                  <a:pt x="125" y="49"/>
                </a:cubicBezTo>
                <a:cubicBezTo>
                  <a:pt x="124" y="47"/>
                  <a:pt x="123" y="46"/>
                  <a:pt x="123" y="44"/>
                </a:cubicBezTo>
                <a:cubicBezTo>
                  <a:pt x="113" y="43"/>
                  <a:pt x="109" y="42"/>
                  <a:pt x="109" y="41"/>
                </a:cubicBezTo>
                <a:cubicBezTo>
                  <a:pt x="109" y="28"/>
                  <a:pt x="109" y="28"/>
                  <a:pt x="109" y="28"/>
                </a:cubicBezTo>
                <a:cubicBezTo>
                  <a:pt x="109" y="27"/>
                  <a:pt x="113" y="26"/>
                  <a:pt x="123" y="25"/>
                </a:cubicBezTo>
                <a:cubicBezTo>
                  <a:pt x="123" y="23"/>
                  <a:pt x="124" y="22"/>
                  <a:pt x="125" y="20"/>
                </a:cubicBezTo>
                <a:cubicBezTo>
                  <a:pt x="122" y="13"/>
                  <a:pt x="121" y="9"/>
                  <a:pt x="121" y="7"/>
                </a:cubicBezTo>
                <a:cubicBezTo>
                  <a:pt x="121" y="7"/>
                  <a:pt x="121" y="7"/>
                  <a:pt x="121" y="6"/>
                </a:cubicBezTo>
                <a:cubicBezTo>
                  <a:pt x="121" y="6"/>
                  <a:pt x="122" y="6"/>
                  <a:pt x="124" y="4"/>
                </a:cubicBezTo>
                <a:cubicBezTo>
                  <a:pt x="126" y="3"/>
                  <a:pt x="128" y="2"/>
                  <a:pt x="130" y="1"/>
                </a:cubicBezTo>
                <a:cubicBezTo>
                  <a:pt x="132" y="0"/>
                  <a:pt x="133" y="0"/>
                  <a:pt x="133" y="0"/>
                </a:cubicBezTo>
                <a:cubicBezTo>
                  <a:pt x="133" y="0"/>
                  <a:pt x="135" y="1"/>
                  <a:pt x="137" y="4"/>
                </a:cubicBezTo>
                <a:cubicBezTo>
                  <a:pt x="139" y="7"/>
                  <a:pt x="141" y="9"/>
                  <a:pt x="142" y="11"/>
                </a:cubicBezTo>
                <a:cubicBezTo>
                  <a:pt x="143" y="10"/>
                  <a:pt x="144" y="10"/>
                  <a:pt x="145" y="10"/>
                </a:cubicBezTo>
                <a:cubicBezTo>
                  <a:pt x="145" y="10"/>
                  <a:pt x="146" y="10"/>
                  <a:pt x="148" y="11"/>
                </a:cubicBezTo>
                <a:cubicBezTo>
                  <a:pt x="151" y="6"/>
                  <a:pt x="154" y="3"/>
                  <a:pt x="156" y="0"/>
                </a:cubicBezTo>
                <a:cubicBezTo>
                  <a:pt x="157" y="0"/>
                  <a:pt x="157" y="0"/>
                  <a:pt x="157" y="0"/>
                </a:cubicBezTo>
                <a:cubicBezTo>
                  <a:pt x="157" y="0"/>
                  <a:pt x="161" y="2"/>
                  <a:pt x="169" y="6"/>
                </a:cubicBezTo>
                <a:cubicBezTo>
                  <a:pt x="169" y="7"/>
                  <a:pt x="169" y="7"/>
                  <a:pt x="169" y="7"/>
                </a:cubicBezTo>
                <a:cubicBezTo>
                  <a:pt x="169" y="9"/>
                  <a:pt x="167" y="13"/>
                  <a:pt x="164" y="20"/>
                </a:cubicBezTo>
                <a:cubicBezTo>
                  <a:pt x="165" y="22"/>
                  <a:pt x="166" y="23"/>
                  <a:pt x="167" y="25"/>
                </a:cubicBezTo>
                <a:cubicBezTo>
                  <a:pt x="176" y="26"/>
                  <a:pt x="181" y="27"/>
                  <a:pt x="181" y="28"/>
                </a:cubicBezTo>
                <a:close/>
                <a:moveTo>
                  <a:pt x="181" y="125"/>
                </a:moveTo>
                <a:cubicBezTo>
                  <a:pt x="181" y="138"/>
                  <a:pt x="181" y="138"/>
                  <a:pt x="181" y="138"/>
                </a:cubicBezTo>
                <a:cubicBezTo>
                  <a:pt x="181" y="139"/>
                  <a:pt x="176" y="140"/>
                  <a:pt x="167" y="141"/>
                </a:cubicBezTo>
                <a:cubicBezTo>
                  <a:pt x="166" y="143"/>
                  <a:pt x="165" y="144"/>
                  <a:pt x="164" y="146"/>
                </a:cubicBezTo>
                <a:cubicBezTo>
                  <a:pt x="167" y="153"/>
                  <a:pt x="169" y="157"/>
                  <a:pt x="169" y="159"/>
                </a:cubicBezTo>
                <a:cubicBezTo>
                  <a:pt x="169" y="159"/>
                  <a:pt x="169" y="159"/>
                  <a:pt x="169" y="160"/>
                </a:cubicBezTo>
                <a:cubicBezTo>
                  <a:pt x="161" y="164"/>
                  <a:pt x="157" y="166"/>
                  <a:pt x="157" y="166"/>
                </a:cubicBezTo>
                <a:cubicBezTo>
                  <a:pt x="156" y="166"/>
                  <a:pt x="155" y="165"/>
                  <a:pt x="153" y="162"/>
                </a:cubicBezTo>
                <a:cubicBezTo>
                  <a:pt x="150" y="159"/>
                  <a:pt x="149" y="157"/>
                  <a:pt x="148" y="155"/>
                </a:cubicBezTo>
                <a:cubicBezTo>
                  <a:pt x="146" y="155"/>
                  <a:pt x="145" y="156"/>
                  <a:pt x="145" y="156"/>
                </a:cubicBezTo>
                <a:cubicBezTo>
                  <a:pt x="144" y="156"/>
                  <a:pt x="143" y="155"/>
                  <a:pt x="142" y="155"/>
                </a:cubicBezTo>
                <a:cubicBezTo>
                  <a:pt x="141" y="157"/>
                  <a:pt x="139" y="159"/>
                  <a:pt x="137" y="162"/>
                </a:cubicBezTo>
                <a:cubicBezTo>
                  <a:pt x="135" y="165"/>
                  <a:pt x="133" y="166"/>
                  <a:pt x="133" y="166"/>
                </a:cubicBezTo>
                <a:cubicBezTo>
                  <a:pt x="133" y="166"/>
                  <a:pt x="129" y="164"/>
                  <a:pt x="121" y="160"/>
                </a:cubicBezTo>
                <a:cubicBezTo>
                  <a:pt x="121" y="159"/>
                  <a:pt x="121" y="159"/>
                  <a:pt x="121" y="159"/>
                </a:cubicBezTo>
                <a:cubicBezTo>
                  <a:pt x="121" y="157"/>
                  <a:pt x="122" y="153"/>
                  <a:pt x="125" y="146"/>
                </a:cubicBezTo>
                <a:cubicBezTo>
                  <a:pt x="124" y="144"/>
                  <a:pt x="123" y="143"/>
                  <a:pt x="123" y="141"/>
                </a:cubicBezTo>
                <a:cubicBezTo>
                  <a:pt x="113" y="140"/>
                  <a:pt x="109" y="139"/>
                  <a:pt x="109" y="138"/>
                </a:cubicBezTo>
                <a:cubicBezTo>
                  <a:pt x="109" y="125"/>
                  <a:pt x="109" y="125"/>
                  <a:pt x="109" y="125"/>
                </a:cubicBezTo>
                <a:cubicBezTo>
                  <a:pt x="109" y="124"/>
                  <a:pt x="113" y="123"/>
                  <a:pt x="123" y="122"/>
                </a:cubicBezTo>
                <a:cubicBezTo>
                  <a:pt x="123" y="120"/>
                  <a:pt x="124" y="118"/>
                  <a:pt x="125" y="117"/>
                </a:cubicBezTo>
                <a:cubicBezTo>
                  <a:pt x="122" y="110"/>
                  <a:pt x="121" y="105"/>
                  <a:pt x="121" y="104"/>
                </a:cubicBezTo>
                <a:cubicBezTo>
                  <a:pt x="121" y="104"/>
                  <a:pt x="121" y="103"/>
                  <a:pt x="121" y="103"/>
                </a:cubicBezTo>
                <a:cubicBezTo>
                  <a:pt x="121" y="103"/>
                  <a:pt x="122" y="102"/>
                  <a:pt x="124" y="101"/>
                </a:cubicBezTo>
                <a:cubicBezTo>
                  <a:pt x="126" y="100"/>
                  <a:pt x="128" y="99"/>
                  <a:pt x="130" y="98"/>
                </a:cubicBezTo>
                <a:cubicBezTo>
                  <a:pt x="132" y="97"/>
                  <a:pt x="133" y="97"/>
                  <a:pt x="133" y="97"/>
                </a:cubicBezTo>
                <a:cubicBezTo>
                  <a:pt x="133" y="97"/>
                  <a:pt x="135" y="98"/>
                  <a:pt x="137" y="101"/>
                </a:cubicBezTo>
                <a:cubicBezTo>
                  <a:pt x="139" y="104"/>
                  <a:pt x="141" y="106"/>
                  <a:pt x="142" y="107"/>
                </a:cubicBezTo>
                <a:cubicBezTo>
                  <a:pt x="143" y="107"/>
                  <a:pt x="144" y="107"/>
                  <a:pt x="145" y="107"/>
                </a:cubicBezTo>
                <a:cubicBezTo>
                  <a:pt x="145" y="107"/>
                  <a:pt x="146" y="107"/>
                  <a:pt x="148" y="107"/>
                </a:cubicBezTo>
                <a:cubicBezTo>
                  <a:pt x="151" y="103"/>
                  <a:pt x="154" y="99"/>
                  <a:pt x="156" y="97"/>
                </a:cubicBezTo>
                <a:cubicBezTo>
                  <a:pt x="157" y="97"/>
                  <a:pt x="157" y="97"/>
                  <a:pt x="157" y="97"/>
                </a:cubicBezTo>
                <a:cubicBezTo>
                  <a:pt x="157" y="97"/>
                  <a:pt x="161" y="99"/>
                  <a:pt x="169" y="103"/>
                </a:cubicBezTo>
                <a:cubicBezTo>
                  <a:pt x="169" y="103"/>
                  <a:pt x="169" y="104"/>
                  <a:pt x="169" y="104"/>
                </a:cubicBezTo>
                <a:cubicBezTo>
                  <a:pt x="169" y="105"/>
                  <a:pt x="167" y="110"/>
                  <a:pt x="164" y="117"/>
                </a:cubicBezTo>
                <a:cubicBezTo>
                  <a:pt x="165" y="118"/>
                  <a:pt x="166" y="120"/>
                  <a:pt x="167" y="122"/>
                </a:cubicBezTo>
                <a:cubicBezTo>
                  <a:pt x="176" y="123"/>
                  <a:pt x="181" y="124"/>
                  <a:pt x="181" y="125"/>
                </a:cubicBezTo>
                <a:close/>
                <a:moveTo>
                  <a:pt x="157" y="35"/>
                </a:moveTo>
                <a:cubicBezTo>
                  <a:pt x="157" y="31"/>
                  <a:pt x="156" y="28"/>
                  <a:pt x="153" y="26"/>
                </a:cubicBezTo>
                <a:cubicBezTo>
                  <a:pt x="151" y="24"/>
                  <a:pt x="148" y="22"/>
                  <a:pt x="145" y="22"/>
                </a:cubicBezTo>
                <a:cubicBezTo>
                  <a:pt x="142" y="22"/>
                  <a:pt x="139" y="24"/>
                  <a:pt x="136" y="26"/>
                </a:cubicBezTo>
                <a:cubicBezTo>
                  <a:pt x="134" y="28"/>
                  <a:pt x="133" y="31"/>
                  <a:pt x="133" y="35"/>
                </a:cubicBezTo>
                <a:cubicBezTo>
                  <a:pt x="133" y="38"/>
                  <a:pt x="134" y="41"/>
                  <a:pt x="136" y="43"/>
                </a:cubicBezTo>
                <a:cubicBezTo>
                  <a:pt x="139" y="45"/>
                  <a:pt x="141" y="47"/>
                  <a:pt x="145" y="47"/>
                </a:cubicBezTo>
                <a:cubicBezTo>
                  <a:pt x="148" y="47"/>
                  <a:pt x="151" y="45"/>
                  <a:pt x="153" y="43"/>
                </a:cubicBezTo>
                <a:cubicBezTo>
                  <a:pt x="156" y="41"/>
                  <a:pt x="157" y="38"/>
                  <a:pt x="157" y="35"/>
                </a:cubicBezTo>
                <a:close/>
                <a:moveTo>
                  <a:pt x="157" y="131"/>
                </a:moveTo>
                <a:cubicBezTo>
                  <a:pt x="157" y="128"/>
                  <a:pt x="156" y="125"/>
                  <a:pt x="153" y="123"/>
                </a:cubicBezTo>
                <a:cubicBezTo>
                  <a:pt x="151" y="120"/>
                  <a:pt x="148" y="119"/>
                  <a:pt x="145" y="119"/>
                </a:cubicBezTo>
                <a:cubicBezTo>
                  <a:pt x="142" y="119"/>
                  <a:pt x="139" y="120"/>
                  <a:pt x="136" y="123"/>
                </a:cubicBezTo>
                <a:cubicBezTo>
                  <a:pt x="134" y="125"/>
                  <a:pt x="133" y="128"/>
                  <a:pt x="133" y="131"/>
                </a:cubicBezTo>
                <a:cubicBezTo>
                  <a:pt x="133" y="135"/>
                  <a:pt x="134" y="138"/>
                  <a:pt x="136" y="140"/>
                </a:cubicBezTo>
                <a:cubicBezTo>
                  <a:pt x="139" y="142"/>
                  <a:pt x="141" y="143"/>
                  <a:pt x="145" y="143"/>
                </a:cubicBezTo>
                <a:cubicBezTo>
                  <a:pt x="148" y="143"/>
                  <a:pt x="151" y="142"/>
                  <a:pt x="153" y="140"/>
                </a:cubicBezTo>
                <a:cubicBezTo>
                  <a:pt x="156" y="138"/>
                  <a:pt x="157" y="135"/>
                  <a:pt x="157" y="131"/>
                </a:cubicBezTo>
                <a:close/>
              </a:path>
            </a:pathLst>
          </a:custGeom>
          <a:solidFill>
            <a:srgbClr val="75cfd9"/>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pic>
        <p:nvPicPr>
          <p:cNvPr id="1639" name="图片 12" descr=""/>
          <p:cNvPicPr/>
          <p:nvPr/>
        </p:nvPicPr>
        <p:blipFill>
          <a:blip r:embed="rId1"/>
          <a:stretch/>
        </p:blipFill>
        <p:spPr>
          <a:xfrm>
            <a:off x="3273480" y="430200"/>
            <a:ext cx="1749240" cy="1325520"/>
          </a:xfrm>
          <a:prstGeom prst="rect">
            <a:avLst/>
          </a:prstGeom>
          <a:ln w="0">
            <a:noFill/>
          </a:ln>
        </p:spPr>
      </p:pic>
      <p:sp>
        <p:nvSpPr>
          <p:cNvPr id="1640" name="矩形 14"/>
          <p:cNvSpPr/>
          <p:nvPr/>
        </p:nvSpPr>
        <p:spPr>
          <a:xfrm>
            <a:off x="5365800" y="2033640"/>
            <a:ext cx="6219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1</a:t>
            </a:r>
            <a:r>
              <a:rPr b="0" lang="zh-CN" sz="2400" spc="-1" strike="noStrike">
                <a:solidFill>
                  <a:srgbClr val="7030a0"/>
                </a:solidFill>
                <a:latin typeface="等线"/>
                <a:ea typeface="等线"/>
              </a:rPr>
              <a:t>）扣除范围</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等线"/>
                <a:ea typeface="等线"/>
              </a:rPr>
              <a:t>      </a:t>
            </a:r>
            <a:r>
              <a:rPr b="0" lang="zh-CN" sz="2000" spc="-1" strike="noStrike">
                <a:solidFill>
                  <a:srgbClr val="262626"/>
                </a:solidFill>
                <a:latin typeface="等线"/>
                <a:ea typeface="等线"/>
              </a:rPr>
              <a:t>纳税人本人或配偶在纳税人的主要工作城市没有住房，而在主要工作城市租赁住房发生的租金支出。</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等线"/>
                <a:ea typeface="等线"/>
              </a:rPr>
              <a:t>    </a:t>
            </a:r>
            <a:r>
              <a:rPr b="0" lang="zh-CN" sz="2000" spc="-1" strike="noStrike">
                <a:solidFill>
                  <a:srgbClr val="262626"/>
                </a:solidFill>
                <a:latin typeface="等线"/>
                <a:ea typeface="等线"/>
              </a:rPr>
              <a:t>夫妻双方主要工作城市相同的，只能由一方扣除住房租金支出。夫妻双方主要工作城市不相同的，且各自在其主要工作城市都没有住房的，可以分别扣除住房租金支出。</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2</a:t>
            </a:r>
            <a:r>
              <a:rPr b="0" lang="zh-CN" sz="2400" spc="-1" strike="noStrike">
                <a:solidFill>
                  <a:srgbClr val="7030a0"/>
                </a:solidFill>
                <a:latin typeface="等线"/>
                <a:ea typeface="等线"/>
              </a:rPr>
              <a:t>）扣除标准</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等线"/>
                <a:ea typeface="等线"/>
              </a:rPr>
              <a:t> </a:t>
            </a:r>
            <a:r>
              <a:rPr b="0" lang="en-US" sz="1600" spc="-1" strike="noStrike">
                <a:solidFill>
                  <a:srgbClr val="262626"/>
                </a:solidFill>
                <a:latin typeface="等线"/>
                <a:ea typeface="等线"/>
              </a:rPr>
              <a:t>1</a:t>
            </a:r>
            <a:r>
              <a:rPr b="0" lang="zh-CN" sz="1600" spc="-1" strike="noStrike">
                <a:solidFill>
                  <a:srgbClr val="262626"/>
                </a:solidFill>
                <a:latin typeface="等线"/>
                <a:ea typeface="等线"/>
              </a:rPr>
              <a:t>、承租住房位于直辖市、省会城市、计划单列市以及国务院确定的其他城市，扣除标准为每年</a:t>
            </a:r>
            <a:r>
              <a:rPr b="0" lang="en-US" sz="1600" spc="-1" strike="noStrike">
                <a:solidFill>
                  <a:srgbClr val="262626"/>
                </a:solidFill>
                <a:latin typeface="等线"/>
                <a:ea typeface="等线"/>
              </a:rPr>
              <a:t>14400</a:t>
            </a:r>
            <a:r>
              <a:rPr b="0" lang="zh-CN" sz="1600" spc="-1" strike="noStrike">
                <a:solidFill>
                  <a:srgbClr val="262626"/>
                </a:solidFill>
                <a:latin typeface="等线"/>
                <a:ea typeface="等线"/>
              </a:rPr>
              <a:t>元（每月</a:t>
            </a:r>
            <a:r>
              <a:rPr b="0" lang="en-US" sz="1600" spc="-1" strike="noStrike">
                <a:solidFill>
                  <a:srgbClr val="262626"/>
                </a:solidFill>
                <a:latin typeface="等线"/>
                <a:ea typeface="等线"/>
              </a:rPr>
              <a:t>1200</a:t>
            </a:r>
            <a:r>
              <a:rPr b="0" lang="zh-CN" sz="1600" spc="-1" strike="noStrike">
                <a:solidFill>
                  <a:srgbClr val="262626"/>
                </a:solidFill>
                <a:latin typeface="等线"/>
                <a:ea typeface="等线"/>
              </a:rPr>
              <a:t>元）；</a:t>
            </a:r>
            <a:endParaRPr b="0" lang="en-US" sz="16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等线"/>
                <a:ea typeface="等线"/>
              </a:rPr>
              <a:t> </a:t>
            </a:r>
            <a:r>
              <a:rPr b="0" lang="en-US" sz="1600" spc="-1" strike="noStrike">
                <a:solidFill>
                  <a:srgbClr val="262626"/>
                </a:solidFill>
                <a:latin typeface="等线"/>
                <a:ea typeface="等线"/>
              </a:rPr>
              <a:t>2</a:t>
            </a:r>
            <a:r>
              <a:rPr b="0" lang="zh-CN" sz="1600" spc="-1" strike="noStrike">
                <a:solidFill>
                  <a:srgbClr val="262626"/>
                </a:solidFill>
                <a:latin typeface="等线"/>
                <a:ea typeface="等线"/>
              </a:rPr>
              <a:t>、</a:t>
            </a:r>
            <a:r>
              <a:rPr b="0" lang="zh-CN" sz="1600" spc="-1" strike="noStrike">
                <a:solidFill>
                  <a:srgbClr val="262626"/>
                </a:solidFill>
                <a:latin typeface="Arial"/>
                <a:ea typeface="等线"/>
              </a:rPr>
              <a:t>承租住房位于其他城市的、市辖区户籍人口超过</a:t>
            </a:r>
            <a:r>
              <a:rPr b="0" lang="en-US" sz="1600" spc="-1" strike="noStrike">
                <a:solidFill>
                  <a:srgbClr val="262626"/>
                </a:solidFill>
                <a:latin typeface="Arial"/>
                <a:ea typeface="等线"/>
              </a:rPr>
              <a:t>100</a:t>
            </a:r>
            <a:r>
              <a:rPr b="0" lang="zh-CN" sz="1600" spc="-1" strike="noStrike">
                <a:solidFill>
                  <a:srgbClr val="262626"/>
                </a:solidFill>
                <a:latin typeface="Arial"/>
                <a:ea typeface="等线"/>
              </a:rPr>
              <a:t>万的，扣除标准为每年</a:t>
            </a:r>
            <a:r>
              <a:rPr b="0" lang="en-US" sz="1600" spc="-1" strike="noStrike">
                <a:solidFill>
                  <a:srgbClr val="262626"/>
                </a:solidFill>
                <a:latin typeface="Arial"/>
                <a:ea typeface="等线"/>
              </a:rPr>
              <a:t>12000</a:t>
            </a:r>
            <a:r>
              <a:rPr b="0" lang="zh-CN" sz="1600" spc="-1" strike="noStrike">
                <a:solidFill>
                  <a:srgbClr val="262626"/>
                </a:solidFill>
                <a:latin typeface="Arial"/>
                <a:ea typeface="等线"/>
              </a:rPr>
              <a:t>元（每月</a:t>
            </a:r>
            <a:r>
              <a:rPr b="0" lang="en-US" sz="1600" spc="-1" strike="noStrike">
                <a:solidFill>
                  <a:srgbClr val="262626"/>
                </a:solidFill>
                <a:latin typeface="Arial"/>
                <a:ea typeface="等线"/>
              </a:rPr>
              <a:t>1000</a:t>
            </a:r>
            <a:r>
              <a:rPr b="0" lang="zh-CN" sz="1600" spc="-1" strike="noStrike">
                <a:solidFill>
                  <a:srgbClr val="262626"/>
                </a:solidFill>
                <a:latin typeface="Arial"/>
                <a:ea typeface="等线"/>
              </a:rPr>
              <a:t>元）；</a:t>
            </a:r>
            <a:endParaRPr b="0" lang="en-US" sz="16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等线"/>
                <a:ea typeface="等线"/>
              </a:rPr>
              <a:t>3</a:t>
            </a:r>
            <a:r>
              <a:rPr b="0" lang="zh-CN" sz="1600" spc="-1" strike="noStrike">
                <a:solidFill>
                  <a:srgbClr val="262626"/>
                </a:solidFill>
                <a:latin typeface="等线"/>
                <a:ea typeface="等线"/>
              </a:rPr>
              <a:t>、</a:t>
            </a:r>
            <a:r>
              <a:rPr b="0" lang="zh-CN" sz="1600" spc="-1" strike="noStrike">
                <a:solidFill>
                  <a:srgbClr val="262626"/>
                </a:solidFill>
                <a:latin typeface="Arial"/>
                <a:ea typeface="等线"/>
              </a:rPr>
              <a:t>承租住房位于其他城市的、市辖区户籍人口不超过</a:t>
            </a:r>
            <a:r>
              <a:rPr b="0" lang="en-US" sz="1600" spc="-1" strike="noStrike">
                <a:solidFill>
                  <a:srgbClr val="262626"/>
                </a:solidFill>
                <a:latin typeface="Arial"/>
                <a:ea typeface="等线"/>
              </a:rPr>
              <a:t>100</a:t>
            </a:r>
            <a:r>
              <a:rPr b="0" lang="zh-CN" sz="1600" spc="-1" strike="noStrike">
                <a:solidFill>
                  <a:srgbClr val="262626"/>
                </a:solidFill>
                <a:latin typeface="Arial"/>
                <a:ea typeface="等线"/>
              </a:rPr>
              <a:t>万（含）的，扣除标准为每年</a:t>
            </a:r>
            <a:r>
              <a:rPr b="0" lang="en-US" sz="1600" spc="-1" strike="noStrike">
                <a:solidFill>
                  <a:srgbClr val="262626"/>
                </a:solidFill>
                <a:latin typeface="Arial"/>
                <a:ea typeface="等线"/>
              </a:rPr>
              <a:t>9600</a:t>
            </a:r>
            <a:r>
              <a:rPr b="0" lang="zh-CN" sz="1600" spc="-1" strike="noStrike">
                <a:solidFill>
                  <a:srgbClr val="262626"/>
                </a:solidFill>
                <a:latin typeface="Arial"/>
                <a:ea typeface="等线"/>
              </a:rPr>
              <a:t>元（每月</a:t>
            </a:r>
            <a:r>
              <a:rPr b="0" lang="en-US" sz="1600" spc="-1" strike="noStrike">
                <a:solidFill>
                  <a:srgbClr val="262626"/>
                </a:solidFill>
                <a:latin typeface="Arial"/>
                <a:ea typeface="等线"/>
              </a:rPr>
              <a:t>800</a:t>
            </a:r>
            <a:r>
              <a:rPr b="0" lang="zh-CN" sz="1600" spc="-1" strike="noStrike">
                <a:solidFill>
                  <a:srgbClr val="262626"/>
                </a:solidFill>
                <a:latin typeface="Arial"/>
                <a:ea typeface="等线"/>
              </a:rPr>
              <a:t>元）。</a:t>
            </a:r>
            <a:endParaRPr b="0" lang="en-US" sz="16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pic>
        <p:nvPicPr>
          <p:cNvPr id="1641" name="图片 2" descr=""/>
          <p:cNvPicPr/>
          <p:nvPr/>
        </p:nvPicPr>
        <p:blipFill>
          <a:blip r:embed="rId2"/>
          <a:stretch/>
        </p:blipFill>
        <p:spPr>
          <a:xfrm>
            <a:off x="1455840" y="1871640"/>
            <a:ext cx="2981160" cy="3249720"/>
          </a:xfrm>
          <a:prstGeom prst="rect">
            <a:avLst/>
          </a:prstGeom>
          <a:ln w="0">
            <a:noFill/>
          </a:ln>
        </p:spPr>
      </p:pic>
    </p:spTree>
  </p:cSld>
  <p:transition spd="slow">
    <p:random/>
  </p:transition>
  <p:timing>
    <p:tnLst>
      <p:par>
        <p:cTn id="420" dur="indefinite" restart="never" nodeType="tmRoot">
          <p:childTnLst>
            <p:seq>
              <p:cTn id="421" dur="indefinite" nodeType="mainSeq">
                <p:childTnLst>
                  <p:par>
                    <p:cTn id="422" nodeType="clickEffect" fill="hold">
                      <p:stCondLst>
                        <p:cond delay="0"/>
                      </p:stCondLst>
                      <p:childTnLst>
                        <p:par>
                          <p:cTn id="423" nodeType="withEffect" fill="hold">
                            <p:stCondLst>
                              <p:cond delay="0"/>
                            </p:stCondLst>
                            <p:childTnLst>
                              <p:par>
                                <p:cTn id="424" nodeType="afterEffect" fill="hold" presetClass="entr" presetID="53" presetSubtype="16">
                                  <p:stCondLst>
                                    <p:cond delay="0"/>
                                  </p:stCondLst>
                                  <p:childTnLst>
                                    <p:set>
                                      <p:cBhvr>
                                        <p:cTn id="425" dur="1" fill="hold">
                                          <p:stCondLst>
                                            <p:cond delay="0"/>
                                          </p:stCondLst>
                                        </p:cTn>
                                        <p:tgtEl>
                                          <p:spTgt spid="1634"/>
                                        </p:tgtEl>
                                        <p:attrNameLst>
                                          <p:attrName>style.visibility</p:attrName>
                                        </p:attrNameLst>
                                      </p:cBhvr>
                                      <p:to>
                                        <p:strVal val="visible"/>
                                      </p:to>
                                    </p:set>
                                    <p:anim calcmode="lin" valueType="num">
                                      <p:cBhvr additive="repl">
                                        <p:cTn id="426" dur="500" fill="hold"/>
                                        <p:tgtEl>
                                          <p:spTgt spid="1634"/>
                                        </p:tgtEl>
                                        <p:attrNameLst>
                                          <p:attrName>ppt_w</p:attrName>
                                        </p:attrNameLst>
                                      </p:cBhvr>
                                      <p:tavLst>
                                        <p:tav tm="0">
                                          <p:val>
                                            <p:fltVal val="0"/>
                                          </p:val>
                                        </p:tav>
                                        <p:tav tm="100000">
                                          <p:val>
                                            <p:strVal val="#ppt_w"/>
                                          </p:val>
                                        </p:tav>
                                      </p:tavLst>
                                    </p:anim>
                                    <p:anim calcmode="lin" valueType="num">
                                      <p:cBhvr additive="repl">
                                        <p:cTn id="427" dur="500" fill="hold"/>
                                        <p:tgtEl>
                                          <p:spTgt spid="1634"/>
                                        </p:tgtEl>
                                        <p:attrNameLst>
                                          <p:attrName>ppt_h</p:attrName>
                                        </p:attrNameLst>
                                      </p:cBhvr>
                                      <p:tavLst>
                                        <p:tav tm="0">
                                          <p:val>
                                            <p:fltVal val="0"/>
                                          </p:val>
                                        </p:tav>
                                        <p:tav tm="100000">
                                          <p:val>
                                            <p:strVal val="#ppt_h"/>
                                          </p:val>
                                        </p:tav>
                                      </p:tavLst>
                                    </p:anim>
                                    <p:animEffect filter="fade" transition="in">
                                      <p:cBhvr additive="repl">
                                        <p:cTn id="428" dur="500"/>
                                        <p:tgtEl>
                                          <p:spTgt spid="1634"/>
                                        </p:tgtEl>
                                      </p:cBhvr>
                                    </p:animEffect>
                                  </p:childTnLst>
                                </p:cTn>
                              </p:par>
                            </p:childTnLst>
                          </p:cTn>
                        </p:par>
                        <p:par>
                          <p:cTn id="429" nodeType="afterEffect" fill="hold">
                            <p:stCondLst>
                              <p:cond delay="500"/>
                            </p:stCondLst>
                            <p:childTnLst>
                              <p:par>
                                <p:cTn id="430" nodeType="afterEffect" fill="hold" presetClass="entr" presetID="22" presetSubtype="1">
                                  <p:stCondLst>
                                    <p:cond delay="0"/>
                                  </p:stCondLst>
                                  <p:childTnLst>
                                    <p:set>
                                      <p:cBhvr>
                                        <p:cTn id="431" dur="1" fill="hold">
                                          <p:stCondLst>
                                            <p:cond delay="0"/>
                                          </p:stCondLst>
                                        </p:cTn>
                                        <p:tgtEl>
                                          <p:spTgt spid="1635"/>
                                        </p:tgtEl>
                                        <p:attrNameLst>
                                          <p:attrName>style.visibility</p:attrName>
                                        </p:attrNameLst>
                                      </p:cBhvr>
                                      <p:to>
                                        <p:strVal val="visible"/>
                                      </p:to>
                                    </p:set>
                                    <p:animEffect filter="wipe(up)" transition="in">
                                      <p:cBhvr additive="repl">
                                        <p:cTn id="432" dur="500"/>
                                        <p:tgtEl>
                                          <p:spTgt spid="1635"/>
                                        </p:tgtEl>
                                      </p:cBhvr>
                                    </p:animEffect>
                                  </p:childTnLst>
                                </p:cTn>
                              </p:par>
                            </p:childTnLst>
                          </p:cTn>
                        </p:par>
                        <p:par>
                          <p:cTn id="433" nodeType="afterEffect" fill="hold">
                            <p:stCondLst>
                              <p:cond delay="1000"/>
                            </p:stCondLst>
                            <p:childTnLst>
                              <p:par>
                                <p:cTn id="434" nodeType="afterEffect" fill="hold" presetClass="entr" presetID="22" presetSubtype="1">
                                  <p:stCondLst>
                                    <p:cond delay="0"/>
                                  </p:stCondLst>
                                  <p:childTnLst>
                                    <p:set>
                                      <p:cBhvr>
                                        <p:cTn id="435" dur="1" fill="hold">
                                          <p:stCondLst>
                                            <p:cond delay="0"/>
                                          </p:stCondLst>
                                        </p:cTn>
                                        <p:tgtEl>
                                          <p:spTgt spid="1636"/>
                                        </p:tgtEl>
                                        <p:attrNameLst>
                                          <p:attrName>style.visibility</p:attrName>
                                        </p:attrNameLst>
                                      </p:cBhvr>
                                      <p:to>
                                        <p:strVal val="visible"/>
                                      </p:to>
                                    </p:set>
                                    <p:animEffect filter="wipe(up)" transition="in">
                                      <p:cBhvr additive="repl">
                                        <p:cTn id="436" dur="500"/>
                                        <p:tgtEl>
                                          <p:spTgt spid="1636"/>
                                        </p:tgtEl>
                                      </p:cBhvr>
                                    </p:animEffect>
                                  </p:childTnLst>
                                </p:cTn>
                              </p:par>
                            </p:childTnLst>
                          </p:cTn>
                        </p:par>
                        <p:par>
                          <p:cTn id="437" nodeType="afterEffect" fill="hold">
                            <p:stCondLst>
                              <p:cond delay="1500"/>
                            </p:stCondLst>
                            <p:childTnLst>
                              <p:par>
                                <p:cTn id="438" nodeType="afterEffect" fill="hold" presetClass="entr" presetID="53" presetSubtype="16">
                                  <p:stCondLst>
                                    <p:cond delay="0"/>
                                  </p:stCondLst>
                                  <p:childTnLst>
                                    <p:set>
                                      <p:cBhvr>
                                        <p:cTn id="439" dur="1" fill="hold">
                                          <p:stCondLst>
                                            <p:cond delay="0"/>
                                          </p:stCondLst>
                                        </p:cTn>
                                        <p:tgtEl>
                                          <p:spTgt spid="1637"/>
                                        </p:tgtEl>
                                        <p:attrNameLst>
                                          <p:attrName>style.visibility</p:attrName>
                                        </p:attrNameLst>
                                      </p:cBhvr>
                                      <p:to>
                                        <p:strVal val="visible"/>
                                      </p:to>
                                    </p:set>
                                    <p:anim calcmode="lin" valueType="num">
                                      <p:cBhvr additive="repl">
                                        <p:cTn id="440" dur="500" fill="hold"/>
                                        <p:tgtEl>
                                          <p:spTgt spid="1637"/>
                                        </p:tgtEl>
                                        <p:attrNameLst>
                                          <p:attrName>ppt_w</p:attrName>
                                        </p:attrNameLst>
                                      </p:cBhvr>
                                      <p:tavLst>
                                        <p:tav tm="0">
                                          <p:val>
                                            <p:fltVal val="0"/>
                                          </p:val>
                                        </p:tav>
                                        <p:tav tm="100000">
                                          <p:val>
                                            <p:strVal val="#ppt_w"/>
                                          </p:val>
                                        </p:tav>
                                      </p:tavLst>
                                    </p:anim>
                                    <p:anim calcmode="lin" valueType="num">
                                      <p:cBhvr additive="repl">
                                        <p:cTn id="441" dur="500" fill="hold"/>
                                        <p:tgtEl>
                                          <p:spTgt spid="1637"/>
                                        </p:tgtEl>
                                        <p:attrNameLst>
                                          <p:attrName>ppt_h</p:attrName>
                                        </p:attrNameLst>
                                      </p:cBhvr>
                                      <p:tavLst>
                                        <p:tav tm="0">
                                          <p:val>
                                            <p:fltVal val="0"/>
                                          </p:val>
                                        </p:tav>
                                        <p:tav tm="100000">
                                          <p:val>
                                            <p:strVal val="#ppt_h"/>
                                          </p:val>
                                        </p:tav>
                                      </p:tavLst>
                                    </p:anim>
                                    <p:animEffect filter="fade" transition="in">
                                      <p:cBhvr additive="repl">
                                        <p:cTn id="442" dur="500"/>
                                        <p:tgtEl>
                                          <p:spTgt spid="1637"/>
                                        </p:tgtEl>
                                      </p:cBhvr>
                                    </p:animEffect>
                                  </p:childTnLst>
                                </p:cTn>
                              </p:par>
                            </p:childTnLst>
                          </p:cTn>
                        </p:par>
                        <p:par>
                          <p:cTn id="443" nodeType="afterEffect" fill="hold">
                            <p:stCondLst>
                              <p:cond delay="2000"/>
                            </p:stCondLst>
                            <p:childTnLst>
                              <p:par>
                                <p:cTn id="444" nodeType="afterEffect" fill="hold" presetClass="entr" presetID="53" presetSubtype="16">
                                  <p:stCondLst>
                                    <p:cond delay="0"/>
                                  </p:stCondLst>
                                  <p:childTnLst>
                                    <p:set>
                                      <p:cBhvr>
                                        <p:cTn id="445" dur="1" fill="hold">
                                          <p:stCondLst>
                                            <p:cond delay="0"/>
                                          </p:stCondLst>
                                        </p:cTn>
                                        <p:tgtEl>
                                          <p:spTgt spid="1638"/>
                                        </p:tgtEl>
                                        <p:attrNameLst>
                                          <p:attrName>style.visibility</p:attrName>
                                        </p:attrNameLst>
                                      </p:cBhvr>
                                      <p:to>
                                        <p:strVal val="visible"/>
                                      </p:to>
                                    </p:set>
                                    <p:anim calcmode="lin" valueType="num">
                                      <p:cBhvr additive="repl">
                                        <p:cTn id="446" dur="500" fill="hold"/>
                                        <p:tgtEl>
                                          <p:spTgt spid="1638"/>
                                        </p:tgtEl>
                                        <p:attrNameLst>
                                          <p:attrName>ppt_w</p:attrName>
                                        </p:attrNameLst>
                                      </p:cBhvr>
                                      <p:tavLst>
                                        <p:tav tm="0">
                                          <p:val>
                                            <p:fltVal val="0"/>
                                          </p:val>
                                        </p:tav>
                                        <p:tav tm="100000">
                                          <p:val>
                                            <p:strVal val="#ppt_w"/>
                                          </p:val>
                                        </p:tav>
                                      </p:tavLst>
                                    </p:anim>
                                    <p:anim calcmode="lin" valueType="num">
                                      <p:cBhvr additive="repl">
                                        <p:cTn id="447" dur="500" fill="hold"/>
                                        <p:tgtEl>
                                          <p:spTgt spid="1638"/>
                                        </p:tgtEl>
                                        <p:attrNameLst>
                                          <p:attrName>ppt_h</p:attrName>
                                        </p:attrNameLst>
                                      </p:cBhvr>
                                      <p:tavLst>
                                        <p:tav tm="0">
                                          <p:val>
                                            <p:fltVal val="0"/>
                                          </p:val>
                                        </p:tav>
                                        <p:tav tm="100000">
                                          <p:val>
                                            <p:strVal val="#ppt_h"/>
                                          </p:val>
                                        </p:tav>
                                      </p:tavLst>
                                    </p:anim>
                                    <p:animEffect filter="fade" transition="in">
                                      <p:cBhvr additive="repl">
                                        <p:cTn id="448" dur="500"/>
                                        <p:tgtEl>
                                          <p:spTgt spid="1638"/>
                                        </p:tgtEl>
                                      </p:cBhvr>
                                    </p:animEffect>
                                  </p:childTnLst>
                                </p:cTn>
                              </p:par>
                              <p:par>
                                <p:cTn id="449" nodeType="withEffect" fill="hold" presetClass="entr" presetID="2" presetSubtype="8">
                                  <p:stCondLst>
                                    <p:cond delay="0"/>
                                  </p:stCondLst>
                                  <p:childTnLst>
                                    <p:set>
                                      <p:cBhvr>
                                        <p:cTn id="450" dur="1" fill="hold">
                                          <p:stCondLst>
                                            <p:cond delay="0"/>
                                          </p:stCondLst>
                                        </p:cTn>
                                        <p:tgtEl>
                                          <p:spTgt spid="1639"/>
                                        </p:tgtEl>
                                        <p:attrNameLst>
                                          <p:attrName>style.visibility</p:attrName>
                                        </p:attrNameLst>
                                      </p:cBhvr>
                                      <p:to>
                                        <p:strVal val="visible"/>
                                      </p:to>
                                    </p:set>
                                    <p:anim calcmode="lin" valueType="num">
                                      <p:cBhvr additive="base">
                                        <p:cTn id="451" dur="500" fill="hold"/>
                                        <p:tgtEl>
                                          <p:spTgt spid="1639"/>
                                        </p:tgtEl>
                                        <p:attrNameLst>
                                          <p:attrName>ppt_x</p:attrName>
                                        </p:attrNameLst>
                                      </p:cBhvr>
                                      <p:tavLst>
                                        <p:tav tm="0">
                                          <p:val>
                                            <p:strVal val="0-#ppt_w/2"/>
                                          </p:val>
                                        </p:tav>
                                        <p:tav tm="100000">
                                          <p:val>
                                            <p:strVal val="#ppt_x"/>
                                          </p:val>
                                        </p:tav>
                                      </p:tavLst>
                                    </p:anim>
                                    <p:anim calcmode="lin" valueType="num">
                                      <p:cBhvr additive="base">
                                        <p:cTn id="452" dur="500" fill="hold"/>
                                        <p:tgtEl>
                                          <p:spTgt spid="1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2" name="图片 1" descr=""/>
          <p:cNvPicPr/>
          <p:nvPr/>
        </p:nvPicPr>
        <p:blipFill>
          <a:blip r:embed="rId1"/>
          <a:stretch/>
        </p:blipFill>
        <p:spPr>
          <a:xfrm>
            <a:off x="4981680" y="266760"/>
            <a:ext cx="1749240" cy="1326960"/>
          </a:xfrm>
          <a:prstGeom prst="rect">
            <a:avLst/>
          </a:prstGeom>
          <a:ln w="0">
            <a:noFill/>
          </a:ln>
        </p:spPr>
      </p:pic>
      <p:sp>
        <p:nvSpPr>
          <p:cNvPr id="1643" name="TextBox 19"/>
          <p:cNvSpPr/>
          <p:nvPr/>
        </p:nvSpPr>
        <p:spPr>
          <a:xfrm>
            <a:off x="957240" y="2324160"/>
            <a:ext cx="6186600" cy="3383640"/>
          </a:xfrm>
          <a:prstGeom prst="rect">
            <a:avLst/>
          </a:prstGeom>
          <a:noFill/>
          <a:ln w="0">
            <a:noFill/>
          </a:ln>
        </p:spPr>
        <p:style>
          <a:lnRef idx="0"/>
          <a:fillRef idx="0"/>
          <a:effectRef idx="0"/>
          <a:fontRef idx="minor"/>
        </p:style>
        <p:txBody>
          <a:bodyPr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4</a:t>
            </a:r>
            <a:r>
              <a:rPr b="0" lang="zh-CN" sz="2400" spc="-1" strike="noStrike">
                <a:solidFill>
                  <a:srgbClr val="ff0000"/>
                </a:solidFill>
                <a:latin typeface="造字工房尚雅（非商用）常规体"/>
                <a:ea typeface="造字工房尚雅（非商用）常规体"/>
              </a:rPr>
              <a:t>、扣除凭证  </a:t>
            </a:r>
            <a:r>
              <a:rPr b="0" sz="2000" spc="-1" strike="noStrike">
                <a:solidFill>
                  <a:srgbClr val="262626"/>
                </a:solidFill>
                <a:latin typeface="等线"/>
                <a:ea typeface="造字工房尚雅（非商用）常规体"/>
              </a:rPr>
              <a:t>住房租赁合同</a:t>
            </a: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造字工房尚雅（非商用）常规体"/>
                <a:ea typeface="造字工房尚雅（非商用）常规体"/>
              </a:rPr>
              <a:t>5</a:t>
            </a:r>
            <a:r>
              <a:rPr b="0" sz="2400" spc="-1" strike="noStrike">
                <a:solidFill>
                  <a:srgbClr val="ff0000"/>
                </a:solidFill>
                <a:latin typeface="造字工房尚雅（非商用）常规体"/>
                <a:ea typeface="造字工房尚雅（非商用）常规体"/>
              </a:rPr>
              <a:t>、注意事项</a:t>
            </a:r>
            <a:endParaRPr b="0" lang="en-US" sz="24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造字工房尚雅（非商用）常规体"/>
              </a:rPr>
              <a:t>（</a:t>
            </a:r>
            <a:r>
              <a:rPr b="0" sz="2000" spc="-1" strike="noStrike">
                <a:solidFill>
                  <a:srgbClr val="262626"/>
                </a:solidFill>
                <a:latin typeface="等线"/>
                <a:ea typeface="造字工房尚雅（非商用）常规体"/>
              </a:rPr>
              <a:t>1</a:t>
            </a:r>
            <a:r>
              <a:rPr b="0" sz="2000" spc="-1" strike="noStrike">
                <a:solidFill>
                  <a:srgbClr val="262626"/>
                </a:solidFill>
                <a:latin typeface="等线"/>
                <a:ea typeface="造字工房尚雅（非商用）常规体"/>
              </a:rPr>
              <a:t>）纳税人应当留存住房租赁合同。</a:t>
            </a: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造字工房尚雅（非商用）常规体"/>
              </a:rPr>
              <a:t>（</a:t>
            </a:r>
            <a:r>
              <a:rPr b="0" sz="2000" spc="-1" strike="noStrike">
                <a:solidFill>
                  <a:srgbClr val="262626"/>
                </a:solidFill>
                <a:latin typeface="等线"/>
                <a:ea typeface="造字工房尚雅（非商用）常规体"/>
              </a:rPr>
              <a:t>2</a:t>
            </a:r>
            <a:r>
              <a:rPr b="0" sz="2000" spc="-1" strike="noStrike">
                <a:solidFill>
                  <a:srgbClr val="262626"/>
                </a:solidFill>
                <a:latin typeface="等线"/>
                <a:ea typeface="造字工房尚雅（非商用）常规体"/>
              </a:rPr>
              <a:t>）纳税人及其配偶不得同时分别享受住房贷款利息专项附加扣除和住房租金专项附加扣除。</a:t>
            </a:r>
            <a:br>
              <a:rPr sz="2000"/>
            </a:br>
            <a:endParaRPr b="0" lang="en-US" sz="20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sp>
        <p:nvSpPr>
          <p:cNvPr id="1644" name="矩形 12"/>
          <p:cNvSpPr/>
          <p:nvPr/>
        </p:nvSpPr>
        <p:spPr>
          <a:xfrm>
            <a:off x="949320" y="1290600"/>
            <a:ext cx="4881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3</a:t>
            </a:r>
            <a:r>
              <a:rPr b="0" lang="zh-CN" sz="2400" spc="-1" strike="noStrike">
                <a:solidFill>
                  <a:srgbClr val="ff0000"/>
                </a:solidFill>
                <a:latin typeface="造字工房尚雅（非商用）常规体"/>
                <a:ea typeface="造字工房尚雅（非商用）常规体"/>
              </a:rPr>
              <a:t>、扣除方式</a:t>
            </a:r>
            <a:endParaRPr b="0" lang="en-US" sz="2400" spc="-1" strike="noStrike">
              <a:solidFill>
                <a:srgbClr val="262626"/>
              </a:solidFill>
              <a:latin typeface="Arial"/>
            </a:endParaRPr>
          </a:p>
        </p:txBody>
      </p:sp>
      <p:sp>
        <p:nvSpPr>
          <p:cNvPr id="1645" name="矩形 14"/>
          <p:cNvSpPr/>
          <p:nvPr/>
        </p:nvSpPr>
        <p:spPr>
          <a:xfrm>
            <a:off x="1054080" y="4646520"/>
            <a:ext cx="8089920" cy="430200"/>
          </a:xfrm>
          <a:prstGeom prst="rect">
            <a:avLst/>
          </a:prstGeom>
          <a:noFill/>
          <a:ln w="0">
            <a:noFill/>
          </a:ln>
        </p:spPr>
        <p:style>
          <a:lnRef idx="0"/>
          <a:fillRef idx="0"/>
          <a:effectRef idx="0"/>
          <a:fontRef idx="minor"/>
        </p:style>
        <p:txBody>
          <a:bodyPr lIns="90000" rIns="90000" tIns="46800" bIns="46800" anchor="t">
            <a:spAutoFit/>
          </a:bodyPr>
          <a:p>
            <a:pP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1646" name="图片 2" descr=""/>
          <p:cNvPicPr/>
          <p:nvPr/>
        </p:nvPicPr>
        <p:blipFill>
          <a:blip r:embed="rId2"/>
          <a:stretch/>
        </p:blipFill>
        <p:spPr>
          <a:xfrm>
            <a:off x="6978600" y="1192320"/>
            <a:ext cx="3621240" cy="4938480"/>
          </a:xfrm>
          <a:prstGeom prst="rect">
            <a:avLst/>
          </a:prstGeom>
          <a:ln w="0">
            <a:noFill/>
          </a:ln>
        </p:spPr>
      </p:pic>
      <p:sp>
        <p:nvSpPr>
          <p:cNvPr id="1647" name="矩形 6"/>
          <p:cNvSpPr/>
          <p:nvPr/>
        </p:nvSpPr>
        <p:spPr>
          <a:xfrm>
            <a:off x="2894040" y="1473120"/>
            <a:ext cx="571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住房租金支出由签订租赁住房合同的承租人扣除</a:t>
            </a:r>
            <a:endParaRPr b="0" lang="en-US" sz="2000" spc="-1" strike="noStrike">
              <a:solidFill>
                <a:srgbClr val="262626"/>
              </a:solidFill>
              <a:latin typeface="Arial"/>
            </a:endParaRPr>
          </a:p>
        </p:txBody>
      </p:sp>
    </p:spTree>
  </p:cSld>
  <p:transition spd="slow">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withEffect" fill="hold" presetClass="entr" presetID="2" presetSubtype="8">
                                  <p:stCondLst>
                                    <p:cond delay="0"/>
                                  </p:stCondLst>
                                  <p:childTnLst>
                                    <p:set>
                                      <p:cBhvr>
                                        <p:cTn id="458" dur="1" fill="hold">
                                          <p:stCondLst>
                                            <p:cond delay="0"/>
                                          </p:stCondLst>
                                        </p:cTn>
                                        <p:tgtEl>
                                          <p:spTgt spid="1642"/>
                                        </p:tgtEl>
                                        <p:attrNameLst>
                                          <p:attrName>style.visibility</p:attrName>
                                        </p:attrNameLst>
                                      </p:cBhvr>
                                      <p:to>
                                        <p:strVal val="visible"/>
                                      </p:to>
                                    </p:set>
                                    <p:anim calcmode="lin" valueType="num">
                                      <p:cBhvr additive="base">
                                        <p:cTn id="459" dur="500" fill="hold"/>
                                        <p:tgtEl>
                                          <p:spTgt spid="1642"/>
                                        </p:tgtEl>
                                        <p:attrNameLst>
                                          <p:attrName>ppt_x</p:attrName>
                                        </p:attrNameLst>
                                      </p:cBhvr>
                                      <p:tavLst>
                                        <p:tav tm="0">
                                          <p:val>
                                            <p:strVal val="0-#ppt_w/2"/>
                                          </p:val>
                                        </p:tav>
                                        <p:tav tm="100000">
                                          <p:val>
                                            <p:strVal val="#ppt_x"/>
                                          </p:val>
                                        </p:tav>
                                      </p:tavLst>
                                    </p:anim>
                                    <p:anim calcmode="lin" valueType="num">
                                      <p:cBhvr additive="base">
                                        <p:cTn id="460" dur="500" fill="hold"/>
                                        <p:tgtEl>
                                          <p:spTgt spid="1642"/>
                                        </p:tgtEl>
                                        <p:attrNameLst>
                                          <p:attrName>ppt_y</p:attrName>
                                        </p:attrNameLst>
                                      </p:cBhvr>
                                      <p:tavLst>
                                        <p:tav tm="0">
                                          <p:val>
                                            <p:strVal val="#ppt_y"/>
                                          </p:val>
                                        </p:tav>
                                        <p:tav tm="100000">
                                          <p:val>
                                            <p:strVal val="#ppt_y"/>
                                          </p:val>
                                        </p:tav>
                                      </p:tavLst>
                                    </p:anim>
                                  </p:childTnLst>
                                </p:cTn>
                              </p:par>
                            </p:childTnLst>
                          </p:cTn>
                        </p:par>
                        <p:par>
                          <p:cTn id="461" nodeType="afterEffect" fill="hold">
                            <p:stCondLst>
                              <p:cond delay="500"/>
                            </p:stCondLst>
                            <p:childTnLst>
                              <p:par>
                                <p:cTn id="462" nodeType="afterEffect" fill="hold" presetClass="entr" presetID="53" presetSubtype="16">
                                  <p:stCondLst>
                                    <p:cond delay="0"/>
                                  </p:stCondLst>
                                  <p:iterate type="lt">
                                    <p:tmAbs val="50"/>
                                  </p:iterate>
                                  <p:childTnLst>
                                    <p:set>
                                      <p:cBhvr>
                                        <p:cTn id="463" dur="1" fill="hold">
                                          <p:stCondLst>
                                            <p:cond delay="0"/>
                                          </p:stCondLst>
                                        </p:cTn>
                                        <p:tgtEl>
                                          <p:spTgt spid="1644"/>
                                        </p:tgtEl>
                                        <p:attrNameLst>
                                          <p:attrName>style.visibility</p:attrName>
                                        </p:attrNameLst>
                                      </p:cBhvr>
                                      <p:to>
                                        <p:strVal val="visible"/>
                                      </p:to>
                                    </p:set>
                                    <p:anim calcmode="lin" valueType="num">
                                      <p:cBhvr additive="repl">
                                        <p:cTn id="464" dur="500" fill="hold"/>
                                        <p:tgtEl>
                                          <p:spTgt spid="1644"/>
                                        </p:tgtEl>
                                        <p:attrNameLst>
                                          <p:attrName>ppt_w</p:attrName>
                                        </p:attrNameLst>
                                      </p:cBhvr>
                                      <p:tavLst>
                                        <p:tav tm="0">
                                          <p:val>
                                            <p:fltVal val="0"/>
                                          </p:val>
                                        </p:tav>
                                        <p:tav tm="100000">
                                          <p:val>
                                            <p:strVal val="#ppt_w"/>
                                          </p:val>
                                        </p:tav>
                                      </p:tavLst>
                                    </p:anim>
                                    <p:anim calcmode="lin" valueType="num">
                                      <p:cBhvr additive="repl">
                                        <p:cTn id="465" dur="500" fill="hold"/>
                                        <p:tgtEl>
                                          <p:spTgt spid="1644"/>
                                        </p:tgtEl>
                                        <p:attrNameLst>
                                          <p:attrName>ppt_h</p:attrName>
                                        </p:attrNameLst>
                                      </p:cBhvr>
                                      <p:tavLst>
                                        <p:tav tm="0">
                                          <p:val>
                                            <p:fltVal val="0"/>
                                          </p:val>
                                        </p:tav>
                                        <p:tav tm="100000">
                                          <p:val>
                                            <p:strVal val="#ppt_h"/>
                                          </p:val>
                                        </p:tav>
                                      </p:tavLst>
                                    </p:anim>
                                    <p:animEffect filter="fade" transition="in">
                                      <p:cBhvr additive="repl">
                                        <p:cTn id="466" dur="500"/>
                                        <p:tgtEl>
                                          <p:spTgt spid="1644"/>
                                        </p:tgtEl>
                                      </p:cBhvr>
                                    </p:animEffect>
                                  </p:childTnLst>
                                </p:cTn>
                              </p:par>
                            </p:childTnLst>
                          </p:cTn>
                        </p:par>
                        <p:par>
                          <p:cTn id="467" nodeType="afterEffect" fill="hold">
                            <p:stCondLst>
                              <p:cond delay="1250"/>
                            </p:stCondLst>
                            <p:childTnLst>
                              <p:par>
                                <p:cTn id="468" nodeType="afterEffect" fill="hold" presetClass="entr" presetID="2" presetSubtype="4">
                                  <p:stCondLst>
                                    <p:cond delay="0"/>
                                  </p:stCondLst>
                                  <p:childTnLst>
                                    <p:set>
                                      <p:cBhvr>
                                        <p:cTn id="469" dur="1" fill="hold">
                                          <p:stCondLst>
                                            <p:cond delay="0"/>
                                          </p:stCondLst>
                                        </p:cTn>
                                        <p:tgtEl>
                                          <p:spTgt spid="1643"/>
                                        </p:tgtEl>
                                        <p:attrNameLst>
                                          <p:attrName>style.visibility</p:attrName>
                                        </p:attrNameLst>
                                      </p:cBhvr>
                                      <p:to>
                                        <p:strVal val="visible"/>
                                      </p:to>
                                    </p:set>
                                    <p:anim calcmode="lin" valueType="num">
                                      <p:cBhvr additive="base">
                                        <p:cTn id="470" dur="500" fill="hold"/>
                                        <p:tgtEl>
                                          <p:spTgt spid="1643"/>
                                        </p:tgtEl>
                                        <p:attrNameLst>
                                          <p:attrName>ppt_x</p:attrName>
                                        </p:attrNameLst>
                                      </p:cBhvr>
                                      <p:tavLst>
                                        <p:tav tm="0">
                                          <p:val>
                                            <p:strVal val="#ppt_x"/>
                                          </p:val>
                                        </p:tav>
                                        <p:tav tm="100000">
                                          <p:val>
                                            <p:strVal val="#ppt_x"/>
                                          </p:val>
                                        </p:tav>
                                      </p:tavLst>
                                    </p:anim>
                                    <p:anim calcmode="lin" valueType="num">
                                      <p:cBhvr additive="base">
                                        <p:cTn id="471" dur="500" fill="hold"/>
                                        <p:tgtEl>
                                          <p:spTgt spid="1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A_库_椭圆 23"/>
          <p:cNvSpPr/>
          <p:nvPr/>
        </p:nvSpPr>
        <p:spPr>
          <a:xfrm>
            <a:off x="665280" y="4073400"/>
            <a:ext cx="561960" cy="561960"/>
          </a:xfrm>
          <a:prstGeom prst="ellipse">
            <a:avLst/>
          </a:prstGeom>
          <a:solidFill>
            <a:srgbClr val="bad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49" name="PA_库_副标题 2"/>
          <p:cNvSpPr/>
          <p:nvPr/>
        </p:nvSpPr>
        <p:spPr>
          <a:xfrm>
            <a:off x="1236600" y="1990800"/>
            <a:ext cx="6443640" cy="4972320"/>
          </a:xfrm>
          <a:prstGeom prst="rect">
            <a:avLst/>
          </a:prstGeom>
          <a:noFill/>
          <a:ln w="0">
            <a:noFill/>
          </a:ln>
        </p:spPr>
        <p:style>
          <a:lnRef idx="0"/>
          <a:fillRef idx="0"/>
          <a:effectRef idx="0"/>
          <a:fontRef idx="minor"/>
        </p:style>
        <p:txBody>
          <a:bodyPr lIns="108720" rIns="108720" tIns="54360" bIns="54360" anchor="t">
            <a:spAutoFit/>
          </a:bodyPr>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400" spc="-1" strike="noStrike">
                <a:solidFill>
                  <a:srgbClr val="ff0000"/>
                </a:solidFill>
                <a:latin typeface="等线"/>
                <a:ea typeface="宋体"/>
              </a:rPr>
              <a:t>1</a:t>
            </a:r>
            <a:r>
              <a:rPr b="0" lang="zh-CN" sz="2400" spc="-1" strike="noStrike">
                <a:solidFill>
                  <a:srgbClr val="ff0000"/>
                </a:solidFill>
                <a:latin typeface="等线"/>
                <a:ea typeface="等线"/>
              </a:rPr>
              <a:t>、扣除范围和标准：</a:t>
            </a: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1</a:t>
            </a:r>
            <a:r>
              <a:rPr b="0" lang="zh-CN" sz="2400" spc="-1" strike="noStrike">
                <a:solidFill>
                  <a:srgbClr val="7030a0"/>
                </a:solidFill>
                <a:latin typeface="等线"/>
                <a:ea typeface="等线"/>
              </a:rPr>
              <a:t>）扣除范围</a:t>
            </a:r>
            <a:endParaRPr b="0" lang="en-US" sz="24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000" spc="-1" strike="noStrike">
                <a:solidFill>
                  <a:srgbClr val="262626"/>
                </a:solidFill>
                <a:latin typeface="Open Sans Light"/>
                <a:ea typeface="Open Sans Light"/>
              </a:rPr>
              <a:t>  </a:t>
            </a:r>
            <a:r>
              <a:rPr b="0" lang="zh-CN" sz="2000" spc="-1" strike="noStrike">
                <a:solidFill>
                  <a:srgbClr val="262626"/>
                </a:solidFill>
                <a:latin typeface="Open Sans Light"/>
                <a:ea typeface="Open Sans Light"/>
              </a:rPr>
              <a:t>纳税人赡养</a:t>
            </a:r>
            <a:r>
              <a:rPr b="0" lang="en-US" sz="2000" spc="-1" strike="noStrike">
                <a:solidFill>
                  <a:srgbClr val="262626"/>
                </a:solidFill>
                <a:latin typeface="Open Sans Light"/>
                <a:ea typeface="Open Sans Light"/>
              </a:rPr>
              <a:t>60</a:t>
            </a:r>
            <a:r>
              <a:rPr b="0" lang="zh-CN" sz="2000" spc="-1" strike="noStrike">
                <a:solidFill>
                  <a:srgbClr val="262626"/>
                </a:solidFill>
                <a:latin typeface="Open Sans Light"/>
                <a:ea typeface="Open Sans Light"/>
              </a:rPr>
              <a:t>岁（含）以上父母以及其他法定赡养人</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Open Sans Light"/>
                <a:ea typeface="Open Sans Light"/>
              </a:rPr>
              <a:t>的赡养支出。</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000" spc="-1" strike="noStrike">
                <a:solidFill>
                  <a:srgbClr val="262626"/>
                </a:solidFill>
                <a:latin typeface="Open Sans Light"/>
                <a:ea typeface="Open Sans Light"/>
              </a:rPr>
              <a:t>  </a:t>
            </a:r>
            <a:r>
              <a:rPr b="0" lang="zh-CN" sz="2000" spc="-1" strike="noStrike">
                <a:solidFill>
                  <a:srgbClr val="262626"/>
                </a:solidFill>
                <a:latin typeface="Open Sans Light"/>
                <a:ea typeface="Open Sans Light"/>
              </a:rPr>
              <a:t>其他法定赡养人是指祖父母、外祖父母的子女已经去</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Open Sans Light"/>
                <a:ea typeface="Open Sans Light"/>
              </a:rPr>
              <a:t>世，实际承担对祖父母、外祖父母赡养义务的孙子女、</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Open Sans Light"/>
                <a:ea typeface="Open Sans Light"/>
              </a:rPr>
              <a:t>外孙子女。</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a:t>
            </a:r>
            <a:r>
              <a:rPr b="0" lang="en-US" sz="2400" spc="-1" strike="noStrike">
                <a:solidFill>
                  <a:srgbClr val="7030a0"/>
                </a:solidFill>
                <a:latin typeface="等线"/>
                <a:ea typeface="等线"/>
              </a:rPr>
              <a:t>2</a:t>
            </a:r>
            <a:r>
              <a:rPr b="0" lang="zh-CN" sz="2400" spc="-1" strike="noStrike">
                <a:solidFill>
                  <a:srgbClr val="7030a0"/>
                </a:solidFill>
                <a:latin typeface="等线"/>
                <a:ea typeface="等线"/>
              </a:rPr>
              <a:t>）扣除标准和方法</a:t>
            </a: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45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1800" spc="-1" strike="noStrike">
                <a:solidFill>
                  <a:srgbClr val="262626"/>
                </a:solidFill>
                <a:latin typeface="等线"/>
                <a:ea typeface="等线"/>
              </a:rPr>
              <a:t>可以按照每年</a:t>
            </a:r>
            <a:r>
              <a:rPr b="0" lang="en-US" sz="1800" spc="-1" strike="noStrike">
                <a:solidFill>
                  <a:srgbClr val="262626"/>
                </a:solidFill>
                <a:latin typeface="等线"/>
                <a:ea typeface="等线"/>
              </a:rPr>
              <a:t>24000</a:t>
            </a:r>
            <a:r>
              <a:rPr b="0" lang="zh-CN" sz="1800" spc="-1" strike="noStrike">
                <a:solidFill>
                  <a:srgbClr val="262626"/>
                </a:solidFill>
                <a:latin typeface="等线"/>
                <a:ea typeface="等线"/>
              </a:rPr>
              <a:t>元（每月</a:t>
            </a:r>
            <a:r>
              <a:rPr b="0" lang="en-US" sz="1800" spc="-1" strike="noStrike">
                <a:solidFill>
                  <a:srgbClr val="262626"/>
                </a:solidFill>
                <a:latin typeface="等线"/>
                <a:ea typeface="等线"/>
              </a:rPr>
              <a:t>2000</a:t>
            </a:r>
            <a:r>
              <a:rPr b="0" lang="zh-CN" sz="1800" spc="-1" strike="noStrike">
                <a:solidFill>
                  <a:srgbClr val="262626"/>
                </a:solidFill>
                <a:latin typeface="等线"/>
                <a:ea typeface="等线"/>
              </a:rPr>
              <a:t>元）的标准定额扣除。</a:t>
            </a:r>
            <a:endParaRPr b="0" lang="en-US" sz="1800" spc="-1" strike="noStrike">
              <a:solidFill>
                <a:srgbClr val="262626"/>
              </a:solidFill>
              <a:latin typeface="Arial"/>
            </a:endParaRPr>
          </a:p>
          <a:p>
            <a:pPr>
              <a:lnSpc>
                <a:spcPts val="1324"/>
              </a:lnSpc>
              <a:spcBef>
                <a:spcPts val="45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8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p:txBody>
      </p:sp>
      <p:sp>
        <p:nvSpPr>
          <p:cNvPr id="1650" name="PA_库_文本框 25"/>
          <p:cNvSpPr/>
          <p:nvPr/>
        </p:nvSpPr>
        <p:spPr>
          <a:xfrm>
            <a:off x="1376280" y="1276920"/>
            <a:ext cx="5818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造字工房尚雅（非商用）常规体"/>
                <a:ea typeface="造字工房尚雅（非商用）常规体"/>
              </a:rPr>
              <a:t>（六）</a:t>
            </a:r>
            <a:endParaRPr b="0" lang="en-US" sz="2800" spc="-1" strike="noStrike">
              <a:solidFill>
                <a:srgbClr val="262626"/>
              </a:solidFill>
              <a:latin typeface="Arial"/>
            </a:endParaRPr>
          </a:p>
        </p:txBody>
      </p:sp>
      <p:sp>
        <p:nvSpPr>
          <p:cNvPr id="1651" name="PA_库_椭圆 26"/>
          <p:cNvSpPr/>
          <p:nvPr/>
        </p:nvSpPr>
        <p:spPr>
          <a:xfrm>
            <a:off x="633240" y="1457280"/>
            <a:ext cx="560520" cy="560520"/>
          </a:xfrm>
          <a:prstGeom prst="ellipse">
            <a:avLst/>
          </a:prstGeom>
          <a:solidFill>
            <a:srgbClr val="75cf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52" name="PA_库_形状 2629"/>
          <p:cNvSpPr/>
          <p:nvPr/>
        </p:nvSpPr>
        <p:spPr>
          <a:xfrm>
            <a:off x="768240" y="1609560"/>
            <a:ext cx="279360" cy="279720"/>
          </a:xfrm>
          <a:custGeom>
            <a:avLst/>
            <a:gdLst/>
            <a:ahLst/>
            <a:rect l="l" t="t" r="r" b="b"/>
            <a:pathLst>
              <a:path w="21600" h="21600">
                <a:moveTo>
                  <a:pt x="16441" y="20618"/>
                </a:moveTo>
                <a:cubicBezTo>
                  <a:pt x="15826" y="20618"/>
                  <a:pt x="15226" y="20482"/>
                  <a:pt x="14660" y="20214"/>
                </a:cubicBezTo>
                <a:cubicBezTo>
                  <a:pt x="14607" y="20189"/>
                  <a:pt x="14552" y="20170"/>
                  <a:pt x="14497" y="20155"/>
                </a:cubicBezTo>
                <a:cubicBezTo>
                  <a:pt x="8918" y="17308"/>
                  <a:pt x="4295" y="12685"/>
                  <a:pt x="1448" y="7105"/>
                </a:cubicBezTo>
                <a:cubicBezTo>
                  <a:pt x="1432" y="7048"/>
                  <a:pt x="1412" y="6991"/>
                  <a:pt x="1386" y="6936"/>
                </a:cubicBezTo>
                <a:cubicBezTo>
                  <a:pt x="1117" y="6369"/>
                  <a:pt x="982" y="5770"/>
                  <a:pt x="982" y="5155"/>
                </a:cubicBezTo>
                <a:cubicBezTo>
                  <a:pt x="982" y="2774"/>
                  <a:pt x="3066" y="982"/>
                  <a:pt x="4417" y="982"/>
                </a:cubicBezTo>
                <a:cubicBezTo>
                  <a:pt x="4594" y="982"/>
                  <a:pt x="4711" y="1072"/>
                  <a:pt x="4764" y="1126"/>
                </a:cubicBezTo>
                <a:cubicBezTo>
                  <a:pt x="4776" y="1139"/>
                  <a:pt x="4798" y="1164"/>
                  <a:pt x="4831" y="1216"/>
                </a:cubicBezTo>
                <a:cubicBezTo>
                  <a:pt x="4848" y="1244"/>
                  <a:pt x="4867" y="1271"/>
                  <a:pt x="4887" y="1297"/>
                </a:cubicBezTo>
                <a:lnTo>
                  <a:pt x="8118" y="5453"/>
                </a:lnTo>
                <a:cubicBezTo>
                  <a:pt x="8143" y="5485"/>
                  <a:pt x="8170" y="5515"/>
                  <a:pt x="8199" y="5544"/>
                </a:cubicBezTo>
                <a:cubicBezTo>
                  <a:pt x="8253" y="5598"/>
                  <a:pt x="8343" y="5715"/>
                  <a:pt x="8343" y="5891"/>
                </a:cubicBezTo>
                <a:cubicBezTo>
                  <a:pt x="8343" y="5978"/>
                  <a:pt x="8319" y="6060"/>
                  <a:pt x="8272" y="6135"/>
                </a:cubicBezTo>
                <a:lnTo>
                  <a:pt x="7178" y="7221"/>
                </a:lnTo>
                <a:cubicBezTo>
                  <a:pt x="7173" y="7226"/>
                  <a:pt x="7168" y="7231"/>
                  <a:pt x="7163" y="7236"/>
                </a:cubicBezTo>
                <a:cubicBezTo>
                  <a:pt x="6767" y="7609"/>
                  <a:pt x="6541" y="8126"/>
                  <a:pt x="6541" y="8668"/>
                </a:cubicBezTo>
                <a:cubicBezTo>
                  <a:pt x="6541" y="9175"/>
                  <a:pt x="6738" y="9658"/>
                  <a:pt x="7080" y="10020"/>
                </a:cubicBezTo>
                <a:cubicBezTo>
                  <a:pt x="7092" y="10040"/>
                  <a:pt x="7105" y="10059"/>
                  <a:pt x="7119" y="10078"/>
                </a:cubicBezTo>
                <a:cubicBezTo>
                  <a:pt x="8325" y="11745"/>
                  <a:pt x="9807" y="13222"/>
                  <a:pt x="11525" y="14469"/>
                </a:cubicBezTo>
                <a:cubicBezTo>
                  <a:pt x="11538" y="14478"/>
                  <a:pt x="11551" y="14487"/>
                  <a:pt x="11565" y="14496"/>
                </a:cubicBezTo>
                <a:cubicBezTo>
                  <a:pt x="11928" y="14844"/>
                  <a:pt x="12414" y="15045"/>
                  <a:pt x="12924" y="15045"/>
                </a:cubicBezTo>
                <a:cubicBezTo>
                  <a:pt x="13436" y="15045"/>
                  <a:pt x="13930" y="14840"/>
                  <a:pt x="14297" y="14479"/>
                </a:cubicBezTo>
                <a:cubicBezTo>
                  <a:pt x="14316" y="14463"/>
                  <a:pt x="14335" y="14446"/>
                  <a:pt x="14352" y="14427"/>
                </a:cubicBezTo>
                <a:lnTo>
                  <a:pt x="15451" y="13320"/>
                </a:lnTo>
                <a:cubicBezTo>
                  <a:pt x="15529" y="13271"/>
                  <a:pt x="15611" y="13247"/>
                  <a:pt x="15697" y="13247"/>
                </a:cubicBezTo>
                <a:cubicBezTo>
                  <a:pt x="15874" y="13247"/>
                  <a:pt x="15990" y="13337"/>
                  <a:pt x="16044" y="13391"/>
                </a:cubicBezTo>
                <a:cubicBezTo>
                  <a:pt x="16073" y="13420"/>
                  <a:pt x="16103" y="13447"/>
                  <a:pt x="16135" y="13472"/>
                </a:cubicBezTo>
                <a:lnTo>
                  <a:pt x="20291" y="16704"/>
                </a:lnTo>
                <a:cubicBezTo>
                  <a:pt x="20317" y="16725"/>
                  <a:pt x="20345" y="16744"/>
                  <a:pt x="20374" y="16762"/>
                </a:cubicBezTo>
                <a:cubicBezTo>
                  <a:pt x="20426" y="16795"/>
                  <a:pt x="20449" y="16816"/>
                  <a:pt x="20461" y="16827"/>
                </a:cubicBezTo>
                <a:cubicBezTo>
                  <a:pt x="20515" y="16881"/>
                  <a:pt x="20605" y="16997"/>
                  <a:pt x="20605" y="17174"/>
                </a:cubicBezTo>
                <a:cubicBezTo>
                  <a:pt x="20605" y="17207"/>
                  <a:pt x="20606" y="17240"/>
                  <a:pt x="20610" y="17273"/>
                </a:cubicBezTo>
                <a:cubicBezTo>
                  <a:pt x="20533" y="18625"/>
                  <a:pt x="18769" y="20618"/>
                  <a:pt x="16441" y="20618"/>
                </a:cubicBezTo>
                <a:moveTo>
                  <a:pt x="21586" y="17174"/>
                </a:moveTo>
                <a:cubicBezTo>
                  <a:pt x="21586" y="16768"/>
                  <a:pt x="21421" y="16399"/>
                  <a:pt x="21155" y="16133"/>
                </a:cubicBezTo>
                <a:cubicBezTo>
                  <a:pt x="21077" y="16054"/>
                  <a:pt x="20988" y="15988"/>
                  <a:pt x="20893" y="15929"/>
                </a:cubicBezTo>
                <a:lnTo>
                  <a:pt x="16738" y="12697"/>
                </a:lnTo>
                <a:cubicBezTo>
                  <a:pt x="16471" y="12430"/>
                  <a:pt x="16104" y="12265"/>
                  <a:pt x="15697" y="12265"/>
                </a:cubicBezTo>
                <a:cubicBezTo>
                  <a:pt x="15364" y="12265"/>
                  <a:pt x="15060" y="12380"/>
                  <a:pt x="14815" y="12567"/>
                </a:cubicBezTo>
                <a:lnTo>
                  <a:pt x="13655" y="13736"/>
                </a:lnTo>
                <a:lnTo>
                  <a:pt x="13652" y="13733"/>
                </a:lnTo>
                <a:cubicBezTo>
                  <a:pt x="13473" y="13934"/>
                  <a:pt x="13214" y="14063"/>
                  <a:pt x="12924" y="14063"/>
                </a:cubicBezTo>
                <a:cubicBezTo>
                  <a:pt x="12592" y="14063"/>
                  <a:pt x="12300" y="13897"/>
                  <a:pt x="12122" y="13645"/>
                </a:cubicBezTo>
                <a:cubicBezTo>
                  <a:pt x="12116" y="13654"/>
                  <a:pt x="12107" y="13663"/>
                  <a:pt x="12101" y="13674"/>
                </a:cubicBezTo>
                <a:cubicBezTo>
                  <a:pt x="10497" y="12510"/>
                  <a:pt x="9076" y="11108"/>
                  <a:pt x="7914" y="9502"/>
                </a:cubicBezTo>
                <a:cubicBezTo>
                  <a:pt x="7925" y="9495"/>
                  <a:pt x="7935" y="9486"/>
                  <a:pt x="7947" y="9479"/>
                </a:cubicBezTo>
                <a:cubicBezTo>
                  <a:pt x="7691" y="9299"/>
                  <a:pt x="7523" y="9004"/>
                  <a:pt x="7523" y="8668"/>
                </a:cubicBezTo>
                <a:cubicBezTo>
                  <a:pt x="7523" y="8367"/>
                  <a:pt x="7659" y="8101"/>
                  <a:pt x="7871" y="7920"/>
                </a:cubicBezTo>
                <a:lnTo>
                  <a:pt x="7870" y="7918"/>
                </a:lnTo>
                <a:lnTo>
                  <a:pt x="9023" y="6773"/>
                </a:lnTo>
                <a:cubicBezTo>
                  <a:pt x="9211" y="6528"/>
                  <a:pt x="9325" y="6224"/>
                  <a:pt x="9325" y="5891"/>
                </a:cubicBezTo>
                <a:cubicBezTo>
                  <a:pt x="9325" y="5485"/>
                  <a:pt x="9160" y="5116"/>
                  <a:pt x="8893" y="4850"/>
                </a:cubicBezTo>
                <a:lnTo>
                  <a:pt x="5662" y="693"/>
                </a:lnTo>
                <a:cubicBezTo>
                  <a:pt x="5603" y="599"/>
                  <a:pt x="5537" y="510"/>
                  <a:pt x="5458" y="432"/>
                </a:cubicBezTo>
                <a:cubicBezTo>
                  <a:pt x="5191" y="165"/>
                  <a:pt x="4823" y="0"/>
                  <a:pt x="4417" y="0"/>
                </a:cubicBezTo>
                <a:cubicBezTo>
                  <a:pt x="2454" y="0"/>
                  <a:pt x="0" y="2308"/>
                  <a:pt x="0" y="5155"/>
                </a:cubicBezTo>
                <a:cubicBezTo>
                  <a:pt x="0" y="5943"/>
                  <a:pt x="183" y="6688"/>
                  <a:pt x="499" y="7356"/>
                </a:cubicBezTo>
                <a:lnTo>
                  <a:pt x="482" y="7373"/>
                </a:lnTo>
                <a:cubicBezTo>
                  <a:pt x="3435" y="13255"/>
                  <a:pt x="8343" y="18164"/>
                  <a:pt x="14224" y="21117"/>
                </a:cubicBezTo>
                <a:lnTo>
                  <a:pt x="14240" y="21101"/>
                </a:lnTo>
                <a:cubicBezTo>
                  <a:pt x="14908" y="21418"/>
                  <a:pt x="15652" y="21600"/>
                  <a:pt x="16441" y="21600"/>
                </a:cubicBezTo>
                <a:cubicBezTo>
                  <a:pt x="19287" y="21600"/>
                  <a:pt x="21594" y="19145"/>
                  <a:pt x="21594" y="17182"/>
                </a:cubicBezTo>
                <a:cubicBezTo>
                  <a:pt x="21594" y="17179"/>
                  <a:pt x="21594" y="17177"/>
                  <a:pt x="21594" y="17174"/>
                </a:cubicBezTo>
                <a:cubicBezTo>
                  <a:pt x="21594" y="17174"/>
                  <a:pt x="21586" y="17174"/>
                  <a:pt x="21586" y="17174"/>
                </a:cubicBezTo>
                <a:close/>
                <a:moveTo>
                  <a:pt x="11785" y="10800"/>
                </a:moveTo>
                <a:cubicBezTo>
                  <a:pt x="12326" y="10800"/>
                  <a:pt x="12766" y="10360"/>
                  <a:pt x="12766" y="9819"/>
                </a:cubicBezTo>
                <a:cubicBezTo>
                  <a:pt x="12766" y="9276"/>
                  <a:pt x="12326" y="8836"/>
                  <a:pt x="11785" y="8836"/>
                </a:cubicBezTo>
                <a:cubicBezTo>
                  <a:pt x="11242" y="8836"/>
                  <a:pt x="10803" y="9276"/>
                  <a:pt x="10803" y="9819"/>
                </a:cubicBezTo>
                <a:cubicBezTo>
                  <a:pt x="10803" y="10360"/>
                  <a:pt x="11242" y="10800"/>
                  <a:pt x="11785" y="10800"/>
                </a:cubicBezTo>
                <a:moveTo>
                  <a:pt x="11785" y="5891"/>
                </a:moveTo>
                <a:cubicBezTo>
                  <a:pt x="13953" y="5891"/>
                  <a:pt x="15711" y="7649"/>
                  <a:pt x="15711" y="9819"/>
                </a:cubicBezTo>
                <a:cubicBezTo>
                  <a:pt x="15711" y="10090"/>
                  <a:pt x="15930" y="10309"/>
                  <a:pt x="16201" y="10309"/>
                </a:cubicBezTo>
                <a:cubicBezTo>
                  <a:pt x="16472" y="10309"/>
                  <a:pt x="16692" y="10090"/>
                  <a:pt x="16692" y="9819"/>
                </a:cubicBezTo>
                <a:cubicBezTo>
                  <a:pt x="16692" y="7107"/>
                  <a:pt x="14495" y="4909"/>
                  <a:pt x="11785" y="4909"/>
                </a:cubicBezTo>
                <a:cubicBezTo>
                  <a:pt x="11513" y="4909"/>
                  <a:pt x="11294" y="5129"/>
                  <a:pt x="11294" y="5400"/>
                </a:cubicBezTo>
                <a:cubicBezTo>
                  <a:pt x="11294" y="5672"/>
                  <a:pt x="11513" y="5891"/>
                  <a:pt x="11785" y="5891"/>
                </a:cubicBezTo>
                <a:moveTo>
                  <a:pt x="11785" y="982"/>
                </a:moveTo>
                <a:cubicBezTo>
                  <a:pt x="16663" y="982"/>
                  <a:pt x="20618" y="4939"/>
                  <a:pt x="20618" y="9819"/>
                </a:cubicBezTo>
                <a:cubicBezTo>
                  <a:pt x="20618" y="10090"/>
                  <a:pt x="20838" y="10309"/>
                  <a:pt x="21109" y="10309"/>
                </a:cubicBezTo>
                <a:cubicBezTo>
                  <a:pt x="21380" y="10309"/>
                  <a:pt x="21600" y="10090"/>
                  <a:pt x="21600" y="9819"/>
                </a:cubicBezTo>
                <a:cubicBezTo>
                  <a:pt x="21600" y="4396"/>
                  <a:pt x="17206" y="0"/>
                  <a:pt x="11785" y="0"/>
                </a:cubicBezTo>
                <a:cubicBezTo>
                  <a:pt x="11513" y="0"/>
                  <a:pt x="11294" y="220"/>
                  <a:pt x="11294" y="491"/>
                </a:cubicBezTo>
                <a:cubicBezTo>
                  <a:pt x="11294" y="762"/>
                  <a:pt x="11513" y="982"/>
                  <a:pt x="11785" y="982"/>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653" name="PA_库_形状 2840"/>
          <p:cNvSpPr/>
          <p:nvPr/>
        </p:nvSpPr>
        <p:spPr>
          <a:xfrm>
            <a:off x="817560" y="419580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654" name="PA_库_椭圆 41"/>
          <p:cNvSpPr/>
          <p:nvPr/>
        </p:nvSpPr>
        <p:spPr>
          <a:xfrm>
            <a:off x="601560" y="2760840"/>
            <a:ext cx="560520" cy="561960"/>
          </a:xfrm>
          <a:prstGeom prst="ellipse">
            <a:avLst/>
          </a:prstGeom>
          <a:solidFill>
            <a:srgbClr val="5ab1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55" name="PA_库_形状 2840"/>
          <p:cNvSpPr/>
          <p:nvPr/>
        </p:nvSpPr>
        <p:spPr>
          <a:xfrm>
            <a:off x="741240" y="289260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656" name="PA_库_椭圆 41"/>
          <p:cNvSpPr/>
          <p:nvPr/>
        </p:nvSpPr>
        <p:spPr>
          <a:xfrm>
            <a:off x="633240" y="5365800"/>
            <a:ext cx="560520" cy="560160"/>
          </a:xfrm>
          <a:prstGeom prst="ellipse">
            <a:avLst/>
          </a:prstGeom>
          <a:solidFill>
            <a:srgbClr val="5ab1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57" name="PA_库_形状 2840"/>
          <p:cNvSpPr/>
          <p:nvPr/>
        </p:nvSpPr>
        <p:spPr>
          <a:xfrm>
            <a:off x="795240" y="549756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pic>
        <p:nvPicPr>
          <p:cNvPr id="1658" name="图片 19" descr=""/>
          <p:cNvPicPr/>
          <p:nvPr/>
        </p:nvPicPr>
        <p:blipFill>
          <a:blip r:embed="rId1"/>
          <a:stretch/>
        </p:blipFill>
        <p:spPr>
          <a:xfrm>
            <a:off x="7229520" y="1244520"/>
            <a:ext cx="4962600" cy="4878360"/>
          </a:xfrm>
          <a:prstGeom prst="rect">
            <a:avLst/>
          </a:prstGeom>
          <a:ln w="0">
            <a:noFill/>
          </a:ln>
        </p:spPr>
      </p:pic>
      <p:pic>
        <p:nvPicPr>
          <p:cNvPr id="1659" name="图片 20" descr=""/>
          <p:cNvPicPr/>
          <p:nvPr/>
        </p:nvPicPr>
        <p:blipFill>
          <a:blip r:embed="rId2"/>
          <a:stretch/>
        </p:blipFill>
        <p:spPr>
          <a:xfrm>
            <a:off x="4981680" y="266760"/>
            <a:ext cx="1749240" cy="1326960"/>
          </a:xfrm>
          <a:prstGeom prst="rect">
            <a:avLst/>
          </a:prstGeom>
          <a:ln w="0">
            <a:noFill/>
          </a:ln>
        </p:spPr>
      </p:pic>
      <p:sp>
        <p:nvSpPr>
          <p:cNvPr id="1660" name="矩形 13"/>
          <p:cNvSpPr/>
          <p:nvPr/>
        </p:nvSpPr>
        <p:spPr>
          <a:xfrm>
            <a:off x="2452680" y="130176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造字工房尚雅（非商用）常规体"/>
                <a:ea typeface="造字工房尚雅（非商用）常规体"/>
              </a:rPr>
              <a:t>赡养老人专项附加扣除</a:t>
            </a:r>
            <a:endParaRPr b="0" lang="en-US" sz="2800" spc="-1" strike="noStrike">
              <a:solidFill>
                <a:srgbClr val="262626"/>
              </a:solidFill>
              <a:latin typeface="Arial"/>
            </a:endParaRPr>
          </a:p>
        </p:txBody>
      </p:sp>
    </p:spTree>
  </p:cSld>
  <p:transition spd="slow">
    <p:random/>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withEffect" fill="hold" presetClass="entr" presetID="2" presetSubtype="8">
                                  <p:stCondLst>
                                    <p:cond delay="250"/>
                                  </p:stCondLst>
                                  <p:endCondLst>
                                    <p:cond evt="begin"/>
                                  </p:endCondLst>
                                  <p:childTnLst>
                                    <p:set>
                                      <p:cBhvr>
                                        <p:cTn id="477" dur="1" fill="hold">
                                          <p:stCondLst>
                                            <p:cond delay="0"/>
                                          </p:stCondLst>
                                        </p:cTn>
                                        <p:tgtEl>
                                          <p:spTgt spid="1648"/>
                                        </p:tgtEl>
                                        <p:attrNameLst>
                                          <p:attrName>style.visibility</p:attrName>
                                        </p:attrNameLst>
                                      </p:cBhvr>
                                      <p:to>
                                        <p:strVal val="visible"/>
                                      </p:to>
                                    </p:set>
                                    <p:anim calcmode="lin" valueType="num">
                                      <p:cBhvr additive="base">
                                        <p:cTn id="478" dur="1500" fill="hold"/>
                                        <p:tgtEl>
                                          <p:spTgt spid="1648"/>
                                        </p:tgtEl>
                                        <p:attrNameLst>
                                          <p:attrName>ppt_x</p:attrName>
                                        </p:attrNameLst>
                                      </p:cBhvr>
                                      <p:tavLst>
                                        <p:tav tm="0">
                                          <p:val>
                                            <p:strVal val="0-#ppt_w/2"/>
                                          </p:val>
                                        </p:tav>
                                        <p:tav tm="100000">
                                          <p:val>
                                            <p:strVal val="#ppt_x"/>
                                          </p:val>
                                        </p:tav>
                                      </p:tavLst>
                                    </p:anim>
                                    <p:anim calcmode="lin" valueType="num">
                                      <p:cBhvr additive="base">
                                        <p:cTn id="479" dur="1500" fill="hold"/>
                                        <p:tgtEl>
                                          <p:spTgt spid="1648"/>
                                        </p:tgtEl>
                                        <p:attrNameLst>
                                          <p:attrName>ppt_y</p:attrName>
                                        </p:attrNameLst>
                                      </p:cBhvr>
                                      <p:tavLst>
                                        <p:tav tm="0">
                                          <p:val>
                                            <p:strVal val="#ppt_y"/>
                                          </p:val>
                                        </p:tav>
                                        <p:tav tm="100000">
                                          <p:val>
                                            <p:strVal val="#ppt_y"/>
                                          </p:val>
                                        </p:tav>
                                      </p:tavLst>
                                    </p:anim>
                                    <p:set>
                                      <p:cBhvr>
                                        <p:cTn id="480" dur="1" fill="hold">
                                          <p:stCondLst>
                                            <p:cond delay="0"/>
                                          </p:stCondLst>
                                        </p:cTn>
                                        <p:tgtEl>
                                          <p:spTgt spid="1648"/>
                                        </p:tgtEl>
                                        <p:attrNameLst>
                                          <p:attrName>style.visibility</p:attrName>
                                        </p:attrNameLst>
                                      </p:cBhvr>
                                      <p:to>
                                        <p:strVal val="visible"/>
                                      </p:to>
                                    </p:set>
                                    <p:anim calcmode="lin" valueType="num">
                                      <p:cBhvr additive="repl">
                                        <p:cTn id="481" dur="1500" fill="hold">
                                          <p:stCondLst>
                                            <p:cond delay="0"/>
                                          </p:stCondLst>
                                        </p:cTn>
                                        <p:tgtEl>
                                          <p:spTgt spid="1648"/>
                                        </p:tgtEl>
                                        <p:attrNameLst>
                                          <p:attrName>ppt_w</p:attrName>
                                        </p:attrNameLst>
                                      </p:cBhvr>
                                      <p:tavLst>
                                        <p:tav tm="0">
                                          <p:val>
                                            <p:strVal val="0"/>
                                          </p:val>
                                        </p:tav>
                                        <p:tav tm="100000">
                                          <p:val>
                                            <p:strVal val="#ppt_w"/>
                                          </p:val>
                                        </p:tav>
                                      </p:tavLst>
                                      <p:to>
                                        <p:strVal val=""/>
                                      </p:to>
                                    </p:anim>
                                    <p:anim calcmode="lin" valueType="num">
                                      <p:cBhvr additive="repl">
                                        <p:cTn id="482" dur="1500" fill="hold">
                                          <p:stCondLst>
                                            <p:cond delay="0"/>
                                          </p:stCondLst>
                                        </p:cTn>
                                        <p:tgtEl>
                                          <p:spTgt spid="1648"/>
                                        </p:tgtEl>
                                        <p:attrNameLst>
                                          <p:attrName>ppt_h</p:attrName>
                                        </p:attrNameLst>
                                      </p:cBhvr>
                                      <p:tavLst>
                                        <p:tav tm="0">
                                          <p:val>
                                            <p:strVal val="0"/>
                                          </p:val>
                                        </p:tav>
                                        <p:tav tm="100000">
                                          <p:val>
                                            <p:strVal val="#ppt_h"/>
                                          </p:val>
                                        </p:tav>
                                      </p:tavLst>
                                      <p:to>
                                        <p:strVal val=""/>
                                      </p:to>
                                    </p:anim>
                                    <p:animEffect filter="fade" transition="in">
                                      <p:cBhvr additive="repl">
                                        <p:cTn id="483" dur="1500">
                                          <p:stCondLst>
                                            <p:cond delay="0"/>
                                          </p:stCondLst>
                                        </p:cTn>
                                        <p:tgtEl>
                                          <p:spTgt spid="1648"/>
                                        </p:tgtEl>
                                      </p:cBhvr>
                                    </p:animEffect>
                                  </p:childTnLst>
                                </p:cTn>
                              </p:par>
                              <p:par>
                                <p:cTn id="484" nodeType="withEffect" fill="hold" presetClass="entr" presetID="2" presetSubtype="8">
                                  <p:stCondLst>
                                    <p:cond delay="250"/>
                                  </p:stCondLst>
                                  <p:childTnLst>
                                    <p:set>
                                      <p:cBhvr>
                                        <p:cTn id="485" dur="1" fill="hold">
                                          <p:stCondLst>
                                            <p:cond delay="0"/>
                                          </p:stCondLst>
                                        </p:cTn>
                                        <p:tgtEl>
                                          <p:spTgt spid="1649"/>
                                        </p:tgtEl>
                                        <p:attrNameLst>
                                          <p:attrName>style.visibility</p:attrName>
                                        </p:attrNameLst>
                                      </p:cBhvr>
                                      <p:to>
                                        <p:strVal val="visible"/>
                                      </p:to>
                                    </p:set>
                                    <p:anim calcmode="lin" valueType="num">
                                      <p:cBhvr additive="base">
                                        <p:cTn id="486" dur="1500" fill="hold"/>
                                        <p:tgtEl>
                                          <p:spTgt spid="1649"/>
                                        </p:tgtEl>
                                        <p:attrNameLst>
                                          <p:attrName>ppt_x</p:attrName>
                                        </p:attrNameLst>
                                      </p:cBhvr>
                                      <p:tavLst>
                                        <p:tav tm="0">
                                          <p:val>
                                            <p:strVal val="0-#ppt_w/2"/>
                                          </p:val>
                                        </p:tav>
                                        <p:tav tm="100000">
                                          <p:val>
                                            <p:strVal val="#ppt_x"/>
                                          </p:val>
                                        </p:tav>
                                      </p:tavLst>
                                    </p:anim>
                                    <p:anim calcmode="lin" valueType="num">
                                      <p:cBhvr additive="base">
                                        <p:cTn id="487" dur="1500" fill="hold"/>
                                        <p:tgtEl>
                                          <p:spTgt spid="1649"/>
                                        </p:tgtEl>
                                        <p:attrNameLst>
                                          <p:attrName>ppt_y</p:attrName>
                                        </p:attrNameLst>
                                      </p:cBhvr>
                                      <p:tavLst>
                                        <p:tav tm="0">
                                          <p:val>
                                            <p:strVal val="#ppt_y"/>
                                          </p:val>
                                        </p:tav>
                                        <p:tav tm="100000">
                                          <p:val>
                                            <p:strVal val="#ppt_y"/>
                                          </p:val>
                                        </p:tav>
                                      </p:tavLst>
                                    </p:anim>
                                    <p:set>
                                      <p:cBhvr>
                                        <p:cTn id="488" dur="1" fill="hold">
                                          <p:stCondLst>
                                            <p:cond delay="0"/>
                                          </p:stCondLst>
                                        </p:cTn>
                                        <p:tgtEl>
                                          <p:spTgt spid="1649"/>
                                        </p:tgtEl>
                                        <p:attrNameLst>
                                          <p:attrName>style.visibility</p:attrName>
                                        </p:attrNameLst>
                                      </p:cBhvr>
                                      <p:to>
                                        <p:strVal val="visible"/>
                                      </p:to>
                                    </p:set>
                                    <p:anim calcmode="lin" valueType="num">
                                      <p:cBhvr additive="repl">
                                        <p:cTn id="489" dur="1500" fill="hold">
                                          <p:stCondLst>
                                            <p:cond delay="0"/>
                                          </p:stCondLst>
                                        </p:cTn>
                                        <p:tgtEl>
                                          <p:spTgt spid="1649"/>
                                        </p:tgtEl>
                                        <p:attrNameLst>
                                          <p:attrName>ppt_w</p:attrName>
                                        </p:attrNameLst>
                                      </p:cBhvr>
                                      <p:tavLst>
                                        <p:tav tm="0">
                                          <p:val>
                                            <p:strVal val="0"/>
                                          </p:val>
                                        </p:tav>
                                        <p:tav tm="100000">
                                          <p:val>
                                            <p:strVal val="#ppt_w"/>
                                          </p:val>
                                        </p:tav>
                                      </p:tavLst>
                                      <p:to>
                                        <p:strVal val=""/>
                                      </p:to>
                                    </p:anim>
                                    <p:anim calcmode="lin" valueType="num">
                                      <p:cBhvr additive="repl">
                                        <p:cTn id="490" dur="1500" fill="hold">
                                          <p:stCondLst>
                                            <p:cond delay="0"/>
                                          </p:stCondLst>
                                        </p:cTn>
                                        <p:tgtEl>
                                          <p:spTgt spid="1649"/>
                                        </p:tgtEl>
                                        <p:attrNameLst>
                                          <p:attrName>ppt_h</p:attrName>
                                        </p:attrNameLst>
                                      </p:cBhvr>
                                      <p:tavLst>
                                        <p:tav tm="0">
                                          <p:val>
                                            <p:strVal val="0"/>
                                          </p:val>
                                        </p:tav>
                                        <p:tav tm="100000">
                                          <p:val>
                                            <p:strVal val="#ppt_h"/>
                                          </p:val>
                                        </p:tav>
                                      </p:tavLst>
                                      <p:to>
                                        <p:strVal val=""/>
                                      </p:to>
                                    </p:anim>
                                    <p:animEffect filter="fade" transition="in">
                                      <p:cBhvr additive="repl">
                                        <p:cTn id="491" dur="1500">
                                          <p:stCondLst>
                                            <p:cond delay="0"/>
                                          </p:stCondLst>
                                        </p:cTn>
                                        <p:tgtEl>
                                          <p:spTgt spid="1649"/>
                                        </p:tgtEl>
                                      </p:cBhvr>
                                    </p:animEffect>
                                  </p:childTnLst>
                                </p:cTn>
                              </p:par>
                              <p:par>
                                <p:cTn id="492" nodeType="withEffect" fill="hold" presetClass="entr" presetID="2" presetSubtype="8">
                                  <p:stCondLst>
                                    <p:cond delay="250"/>
                                  </p:stCondLst>
                                  <p:childTnLst>
                                    <p:set>
                                      <p:cBhvr>
                                        <p:cTn id="493" dur="1" fill="hold">
                                          <p:stCondLst>
                                            <p:cond delay="0"/>
                                          </p:stCondLst>
                                        </p:cTn>
                                        <p:tgtEl>
                                          <p:spTgt spid="1650"/>
                                        </p:tgtEl>
                                        <p:attrNameLst>
                                          <p:attrName>style.visibility</p:attrName>
                                        </p:attrNameLst>
                                      </p:cBhvr>
                                      <p:to>
                                        <p:strVal val="visible"/>
                                      </p:to>
                                    </p:set>
                                    <p:anim calcmode="lin" valueType="num">
                                      <p:cBhvr additive="base">
                                        <p:cTn id="494" dur="1500" fill="hold"/>
                                        <p:tgtEl>
                                          <p:spTgt spid="1650"/>
                                        </p:tgtEl>
                                        <p:attrNameLst>
                                          <p:attrName>ppt_x</p:attrName>
                                        </p:attrNameLst>
                                      </p:cBhvr>
                                      <p:tavLst>
                                        <p:tav tm="0">
                                          <p:val>
                                            <p:strVal val="0-#ppt_w/2"/>
                                          </p:val>
                                        </p:tav>
                                        <p:tav tm="100000">
                                          <p:val>
                                            <p:strVal val="#ppt_x"/>
                                          </p:val>
                                        </p:tav>
                                      </p:tavLst>
                                    </p:anim>
                                    <p:anim calcmode="lin" valueType="num">
                                      <p:cBhvr additive="base">
                                        <p:cTn id="495" dur="1500" fill="hold"/>
                                        <p:tgtEl>
                                          <p:spTgt spid="1650"/>
                                        </p:tgtEl>
                                        <p:attrNameLst>
                                          <p:attrName>ppt_y</p:attrName>
                                        </p:attrNameLst>
                                      </p:cBhvr>
                                      <p:tavLst>
                                        <p:tav tm="0">
                                          <p:val>
                                            <p:strVal val="#ppt_y"/>
                                          </p:val>
                                        </p:tav>
                                        <p:tav tm="100000">
                                          <p:val>
                                            <p:strVal val="#ppt_y"/>
                                          </p:val>
                                        </p:tav>
                                      </p:tavLst>
                                    </p:anim>
                                    <p:set>
                                      <p:cBhvr>
                                        <p:cTn id="496" dur="1" fill="hold">
                                          <p:stCondLst>
                                            <p:cond delay="0"/>
                                          </p:stCondLst>
                                        </p:cTn>
                                        <p:tgtEl>
                                          <p:spTgt spid="1650"/>
                                        </p:tgtEl>
                                        <p:attrNameLst>
                                          <p:attrName>style.visibility</p:attrName>
                                        </p:attrNameLst>
                                      </p:cBhvr>
                                      <p:to>
                                        <p:strVal val="visible"/>
                                      </p:to>
                                    </p:set>
                                    <p:anim calcmode="lin" valueType="num">
                                      <p:cBhvr additive="repl">
                                        <p:cTn id="497" dur="1500" fill="hold">
                                          <p:stCondLst>
                                            <p:cond delay="0"/>
                                          </p:stCondLst>
                                        </p:cTn>
                                        <p:tgtEl>
                                          <p:spTgt spid="1650"/>
                                        </p:tgtEl>
                                        <p:attrNameLst>
                                          <p:attrName>ppt_w</p:attrName>
                                        </p:attrNameLst>
                                      </p:cBhvr>
                                      <p:tavLst>
                                        <p:tav tm="0">
                                          <p:val>
                                            <p:strVal val="0"/>
                                          </p:val>
                                        </p:tav>
                                        <p:tav tm="100000">
                                          <p:val>
                                            <p:strVal val="#ppt_w"/>
                                          </p:val>
                                        </p:tav>
                                      </p:tavLst>
                                      <p:to>
                                        <p:strVal val=""/>
                                      </p:to>
                                    </p:anim>
                                    <p:anim calcmode="lin" valueType="num">
                                      <p:cBhvr additive="repl">
                                        <p:cTn id="498" dur="1500" fill="hold">
                                          <p:stCondLst>
                                            <p:cond delay="0"/>
                                          </p:stCondLst>
                                        </p:cTn>
                                        <p:tgtEl>
                                          <p:spTgt spid="1650"/>
                                        </p:tgtEl>
                                        <p:attrNameLst>
                                          <p:attrName>ppt_h</p:attrName>
                                        </p:attrNameLst>
                                      </p:cBhvr>
                                      <p:tavLst>
                                        <p:tav tm="0">
                                          <p:val>
                                            <p:strVal val="0"/>
                                          </p:val>
                                        </p:tav>
                                        <p:tav tm="100000">
                                          <p:val>
                                            <p:strVal val="#ppt_h"/>
                                          </p:val>
                                        </p:tav>
                                      </p:tavLst>
                                      <p:to>
                                        <p:strVal val=""/>
                                      </p:to>
                                    </p:anim>
                                    <p:animEffect filter="fade" transition="in">
                                      <p:cBhvr additive="repl">
                                        <p:cTn id="499" dur="1500">
                                          <p:stCondLst>
                                            <p:cond delay="0"/>
                                          </p:stCondLst>
                                        </p:cTn>
                                        <p:tgtEl>
                                          <p:spTgt spid="1650"/>
                                        </p:tgtEl>
                                      </p:cBhvr>
                                    </p:animEffect>
                                  </p:childTnLst>
                                </p:cTn>
                              </p:par>
                              <p:par>
                                <p:cTn id="500" nodeType="withEffect" fill="hold" presetClass="entr" presetID="2" presetSubtype="8">
                                  <p:stCondLst>
                                    <p:cond delay="250"/>
                                  </p:stCondLst>
                                  <p:endCondLst>
                                    <p:cond evt="begin"/>
                                  </p:endCondLst>
                                  <p:childTnLst>
                                    <p:set>
                                      <p:cBhvr>
                                        <p:cTn id="501" dur="1" fill="hold">
                                          <p:stCondLst>
                                            <p:cond delay="0"/>
                                          </p:stCondLst>
                                        </p:cTn>
                                        <p:tgtEl>
                                          <p:spTgt spid="1651"/>
                                        </p:tgtEl>
                                        <p:attrNameLst>
                                          <p:attrName>style.visibility</p:attrName>
                                        </p:attrNameLst>
                                      </p:cBhvr>
                                      <p:to>
                                        <p:strVal val="visible"/>
                                      </p:to>
                                    </p:set>
                                    <p:anim calcmode="lin" valueType="num">
                                      <p:cBhvr additive="base">
                                        <p:cTn id="502" dur="1500" fill="hold"/>
                                        <p:tgtEl>
                                          <p:spTgt spid="1651"/>
                                        </p:tgtEl>
                                        <p:attrNameLst>
                                          <p:attrName>ppt_x</p:attrName>
                                        </p:attrNameLst>
                                      </p:cBhvr>
                                      <p:tavLst>
                                        <p:tav tm="0">
                                          <p:val>
                                            <p:strVal val="0-#ppt_w/2"/>
                                          </p:val>
                                        </p:tav>
                                        <p:tav tm="100000">
                                          <p:val>
                                            <p:strVal val="#ppt_x"/>
                                          </p:val>
                                        </p:tav>
                                      </p:tavLst>
                                    </p:anim>
                                    <p:anim calcmode="lin" valueType="num">
                                      <p:cBhvr additive="base">
                                        <p:cTn id="503" dur="1500" fill="hold"/>
                                        <p:tgtEl>
                                          <p:spTgt spid="1651"/>
                                        </p:tgtEl>
                                        <p:attrNameLst>
                                          <p:attrName>ppt_y</p:attrName>
                                        </p:attrNameLst>
                                      </p:cBhvr>
                                      <p:tavLst>
                                        <p:tav tm="0">
                                          <p:val>
                                            <p:strVal val="#ppt_y"/>
                                          </p:val>
                                        </p:tav>
                                        <p:tav tm="100000">
                                          <p:val>
                                            <p:strVal val="#ppt_y"/>
                                          </p:val>
                                        </p:tav>
                                      </p:tavLst>
                                    </p:anim>
                                    <p:set>
                                      <p:cBhvr>
                                        <p:cTn id="504" dur="1" fill="hold">
                                          <p:stCondLst>
                                            <p:cond delay="0"/>
                                          </p:stCondLst>
                                        </p:cTn>
                                        <p:tgtEl>
                                          <p:spTgt spid="1651"/>
                                        </p:tgtEl>
                                        <p:attrNameLst>
                                          <p:attrName>style.visibility</p:attrName>
                                        </p:attrNameLst>
                                      </p:cBhvr>
                                      <p:to>
                                        <p:strVal val="visible"/>
                                      </p:to>
                                    </p:set>
                                    <p:anim calcmode="lin" valueType="num">
                                      <p:cBhvr additive="repl">
                                        <p:cTn id="505" dur="1500" fill="hold">
                                          <p:stCondLst>
                                            <p:cond delay="0"/>
                                          </p:stCondLst>
                                        </p:cTn>
                                        <p:tgtEl>
                                          <p:spTgt spid="1651"/>
                                        </p:tgtEl>
                                        <p:attrNameLst>
                                          <p:attrName>ppt_w</p:attrName>
                                        </p:attrNameLst>
                                      </p:cBhvr>
                                      <p:tavLst>
                                        <p:tav tm="0">
                                          <p:val>
                                            <p:strVal val="0"/>
                                          </p:val>
                                        </p:tav>
                                        <p:tav tm="100000">
                                          <p:val>
                                            <p:strVal val="#ppt_w"/>
                                          </p:val>
                                        </p:tav>
                                      </p:tavLst>
                                      <p:to>
                                        <p:strVal val=""/>
                                      </p:to>
                                    </p:anim>
                                    <p:anim calcmode="lin" valueType="num">
                                      <p:cBhvr additive="repl">
                                        <p:cTn id="506" dur="1500" fill="hold">
                                          <p:stCondLst>
                                            <p:cond delay="0"/>
                                          </p:stCondLst>
                                        </p:cTn>
                                        <p:tgtEl>
                                          <p:spTgt spid="1651"/>
                                        </p:tgtEl>
                                        <p:attrNameLst>
                                          <p:attrName>ppt_h</p:attrName>
                                        </p:attrNameLst>
                                      </p:cBhvr>
                                      <p:tavLst>
                                        <p:tav tm="0">
                                          <p:val>
                                            <p:strVal val="0"/>
                                          </p:val>
                                        </p:tav>
                                        <p:tav tm="100000">
                                          <p:val>
                                            <p:strVal val="#ppt_h"/>
                                          </p:val>
                                        </p:tav>
                                      </p:tavLst>
                                      <p:to>
                                        <p:strVal val=""/>
                                      </p:to>
                                    </p:anim>
                                    <p:animEffect filter="fade" transition="in">
                                      <p:cBhvr additive="repl">
                                        <p:cTn id="507" dur="1500">
                                          <p:stCondLst>
                                            <p:cond delay="0"/>
                                          </p:stCondLst>
                                        </p:cTn>
                                        <p:tgtEl>
                                          <p:spTgt spid="1651"/>
                                        </p:tgtEl>
                                      </p:cBhvr>
                                    </p:animEffect>
                                  </p:childTnLst>
                                </p:cTn>
                              </p:par>
                              <p:par>
                                <p:cTn id="508" nodeType="withEffect" fill="hold" presetClass="entr" presetID="2" presetSubtype="8">
                                  <p:stCondLst>
                                    <p:cond delay="250"/>
                                  </p:stCondLst>
                                  <p:endCondLst>
                                    <p:cond evt="begin"/>
                                  </p:endCondLst>
                                  <p:childTnLst>
                                    <p:set>
                                      <p:cBhvr>
                                        <p:cTn id="509" dur="1" fill="hold">
                                          <p:stCondLst>
                                            <p:cond delay="0"/>
                                          </p:stCondLst>
                                        </p:cTn>
                                        <p:tgtEl>
                                          <p:spTgt spid="1654"/>
                                        </p:tgtEl>
                                        <p:attrNameLst>
                                          <p:attrName>style.visibility</p:attrName>
                                        </p:attrNameLst>
                                      </p:cBhvr>
                                      <p:to>
                                        <p:strVal val="visible"/>
                                      </p:to>
                                    </p:set>
                                    <p:anim calcmode="lin" valueType="num">
                                      <p:cBhvr additive="base">
                                        <p:cTn id="510" dur="1500" fill="hold"/>
                                        <p:tgtEl>
                                          <p:spTgt spid="1654"/>
                                        </p:tgtEl>
                                        <p:attrNameLst>
                                          <p:attrName>ppt_x</p:attrName>
                                        </p:attrNameLst>
                                      </p:cBhvr>
                                      <p:tavLst>
                                        <p:tav tm="0">
                                          <p:val>
                                            <p:strVal val="0-#ppt_w/2"/>
                                          </p:val>
                                        </p:tav>
                                        <p:tav tm="100000">
                                          <p:val>
                                            <p:strVal val="#ppt_x"/>
                                          </p:val>
                                        </p:tav>
                                      </p:tavLst>
                                    </p:anim>
                                    <p:anim calcmode="lin" valueType="num">
                                      <p:cBhvr additive="base">
                                        <p:cTn id="511" dur="1500" fill="hold"/>
                                        <p:tgtEl>
                                          <p:spTgt spid="1654"/>
                                        </p:tgtEl>
                                        <p:attrNameLst>
                                          <p:attrName>ppt_y</p:attrName>
                                        </p:attrNameLst>
                                      </p:cBhvr>
                                      <p:tavLst>
                                        <p:tav tm="0">
                                          <p:val>
                                            <p:strVal val="#ppt_y"/>
                                          </p:val>
                                        </p:tav>
                                        <p:tav tm="100000">
                                          <p:val>
                                            <p:strVal val="#ppt_y"/>
                                          </p:val>
                                        </p:tav>
                                      </p:tavLst>
                                    </p:anim>
                                    <p:set>
                                      <p:cBhvr>
                                        <p:cTn id="512" dur="1" fill="hold">
                                          <p:stCondLst>
                                            <p:cond delay="0"/>
                                          </p:stCondLst>
                                        </p:cTn>
                                        <p:tgtEl>
                                          <p:spTgt spid="1654"/>
                                        </p:tgtEl>
                                        <p:attrNameLst>
                                          <p:attrName>style.visibility</p:attrName>
                                        </p:attrNameLst>
                                      </p:cBhvr>
                                      <p:to>
                                        <p:strVal val="visible"/>
                                      </p:to>
                                    </p:set>
                                    <p:anim calcmode="lin" valueType="num">
                                      <p:cBhvr additive="repl">
                                        <p:cTn id="513" dur="1500" fill="hold">
                                          <p:stCondLst>
                                            <p:cond delay="0"/>
                                          </p:stCondLst>
                                        </p:cTn>
                                        <p:tgtEl>
                                          <p:spTgt spid="1654"/>
                                        </p:tgtEl>
                                        <p:attrNameLst>
                                          <p:attrName>ppt_w</p:attrName>
                                        </p:attrNameLst>
                                      </p:cBhvr>
                                      <p:tavLst>
                                        <p:tav tm="0">
                                          <p:val>
                                            <p:strVal val="0"/>
                                          </p:val>
                                        </p:tav>
                                        <p:tav tm="100000">
                                          <p:val>
                                            <p:strVal val="#ppt_w"/>
                                          </p:val>
                                        </p:tav>
                                      </p:tavLst>
                                      <p:to>
                                        <p:strVal val=""/>
                                      </p:to>
                                    </p:anim>
                                    <p:anim calcmode="lin" valueType="num">
                                      <p:cBhvr additive="repl">
                                        <p:cTn id="514" dur="1500" fill="hold">
                                          <p:stCondLst>
                                            <p:cond delay="0"/>
                                          </p:stCondLst>
                                        </p:cTn>
                                        <p:tgtEl>
                                          <p:spTgt spid="1654"/>
                                        </p:tgtEl>
                                        <p:attrNameLst>
                                          <p:attrName>ppt_h</p:attrName>
                                        </p:attrNameLst>
                                      </p:cBhvr>
                                      <p:tavLst>
                                        <p:tav tm="0">
                                          <p:val>
                                            <p:strVal val="0"/>
                                          </p:val>
                                        </p:tav>
                                        <p:tav tm="100000">
                                          <p:val>
                                            <p:strVal val="#ppt_h"/>
                                          </p:val>
                                        </p:tav>
                                      </p:tavLst>
                                      <p:to>
                                        <p:strVal val=""/>
                                      </p:to>
                                    </p:anim>
                                    <p:animEffect filter="fade" transition="in">
                                      <p:cBhvr additive="repl">
                                        <p:cTn id="515" dur="1500">
                                          <p:stCondLst>
                                            <p:cond delay="0"/>
                                          </p:stCondLst>
                                        </p:cTn>
                                        <p:tgtEl>
                                          <p:spTgt spid="1654"/>
                                        </p:tgtEl>
                                      </p:cBhvr>
                                    </p:animEffect>
                                  </p:childTnLst>
                                </p:cTn>
                              </p:par>
                              <p:par>
                                <p:cTn id="516" nodeType="withEffect" fill="hold" presetClass="entr" presetID="2" presetSubtype="8">
                                  <p:stCondLst>
                                    <p:cond delay="250"/>
                                  </p:stCondLst>
                                  <p:endCondLst>
                                    <p:cond evt="begin"/>
                                  </p:endCondLst>
                                  <p:childTnLst>
                                    <p:set>
                                      <p:cBhvr>
                                        <p:cTn id="517" dur="1" fill="hold">
                                          <p:stCondLst>
                                            <p:cond delay="0"/>
                                          </p:stCondLst>
                                        </p:cTn>
                                        <p:tgtEl>
                                          <p:spTgt spid="1656"/>
                                        </p:tgtEl>
                                        <p:attrNameLst>
                                          <p:attrName>style.visibility</p:attrName>
                                        </p:attrNameLst>
                                      </p:cBhvr>
                                      <p:to>
                                        <p:strVal val="visible"/>
                                      </p:to>
                                    </p:set>
                                    <p:anim calcmode="lin" valueType="num">
                                      <p:cBhvr additive="base">
                                        <p:cTn id="518" dur="1500" fill="hold"/>
                                        <p:tgtEl>
                                          <p:spTgt spid="1656"/>
                                        </p:tgtEl>
                                        <p:attrNameLst>
                                          <p:attrName>ppt_x</p:attrName>
                                        </p:attrNameLst>
                                      </p:cBhvr>
                                      <p:tavLst>
                                        <p:tav tm="0">
                                          <p:val>
                                            <p:strVal val="0-#ppt_w/2"/>
                                          </p:val>
                                        </p:tav>
                                        <p:tav tm="100000">
                                          <p:val>
                                            <p:strVal val="#ppt_x"/>
                                          </p:val>
                                        </p:tav>
                                      </p:tavLst>
                                    </p:anim>
                                    <p:anim calcmode="lin" valueType="num">
                                      <p:cBhvr additive="base">
                                        <p:cTn id="519" dur="1500" fill="hold"/>
                                        <p:tgtEl>
                                          <p:spTgt spid="1656"/>
                                        </p:tgtEl>
                                        <p:attrNameLst>
                                          <p:attrName>ppt_y</p:attrName>
                                        </p:attrNameLst>
                                      </p:cBhvr>
                                      <p:tavLst>
                                        <p:tav tm="0">
                                          <p:val>
                                            <p:strVal val="#ppt_y"/>
                                          </p:val>
                                        </p:tav>
                                        <p:tav tm="100000">
                                          <p:val>
                                            <p:strVal val="#ppt_y"/>
                                          </p:val>
                                        </p:tav>
                                      </p:tavLst>
                                    </p:anim>
                                    <p:set>
                                      <p:cBhvr>
                                        <p:cTn id="520" dur="1" fill="hold">
                                          <p:stCondLst>
                                            <p:cond delay="0"/>
                                          </p:stCondLst>
                                        </p:cTn>
                                        <p:tgtEl>
                                          <p:spTgt spid="1656"/>
                                        </p:tgtEl>
                                        <p:attrNameLst>
                                          <p:attrName>style.visibility</p:attrName>
                                        </p:attrNameLst>
                                      </p:cBhvr>
                                      <p:to>
                                        <p:strVal val="visible"/>
                                      </p:to>
                                    </p:set>
                                    <p:anim calcmode="lin" valueType="num">
                                      <p:cBhvr additive="repl">
                                        <p:cTn id="521" dur="1500" fill="hold">
                                          <p:stCondLst>
                                            <p:cond delay="0"/>
                                          </p:stCondLst>
                                        </p:cTn>
                                        <p:tgtEl>
                                          <p:spTgt spid="1656"/>
                                        </p:tgtEl>
                                        <p:attrNameLst>
                                          <p:attrName>ppt_w</p:attrName>
                                        </p:attrNameLst>
                                      </p:cBhvr>
                                      <p:tavLst>
                                        <p:tav tm="0">
                                          <p:val>
                                            <p:strVal val="0"/>
                                          </p:val>
                                        </p:tav>
                                        <p:tav tm="100000">
                                          <p:val>
                                            <p:strVal val="#ppt_w"/>
                                          </p:val>
                                        </p:tav>
                                      </p:tavLst>
                                      <p:to>
                                        <p:strVal val=""/>
                                      </p:to>
                                    </p:anim>
                                    <p:anim calcmode="lin" valueType="num">
                                      <p:cBhvr additive="repl">
                                        <p:cTn id="522" dur="1500" fill="hold">
                                          <p:stCondLst>
                                            <p:cond delay="0"/>
                                          </p:stCondLst>
                                        </p:cTn>
                                        <p:tgtEl>
                                          <p:spTgt spid="1656"/>
                                        </p:tgtEl>
                                        <p:attrNameLst>
                                          <p:attrName>ppt_h</p:attrName>
                                        </p:attrNameLst>
                                      </p:cBhvr>
                                      <p:tavLst>
                                        <p:tav tm="0">
                                          <p:val>
                                            <p:strVal val="0"/>
                                          </p:val>
                                        </p:tav>
                                        <p:tav tm="100000">
                                          <p:val>
                                            <p:strVal val="#ppt_h"/>
                                          </p:val>
                                        </p:tav>
                                      </p:tavLst>
                                      <p:to>
                                        <p:strVal val=""/>
                                      </p:to>
                                    </p:anim>
                                    <p:animEffect filter="fade" transition="in">
                                      <p:cBhvr additive="repl">
                                        <p:cTn id="523" dur="1500">
                                          <p:stCondLst>
                                            <p:cond delay="0"/>
                                          </p:stCondLst>
                                        </p:cTn>
                                        <p:tgtEl>
                                          <p:spTgt spid="1656"/>
                                        </p:tgtEl>
                                      </p:cBhvr>
                                    </p:animEffect>
                                  </p:childTnLst>
                                </p:cTn>
                              </p:par>
                              <p:par>
                                <p:cTn id="524" nodeType="withEffect" fill="hold" presetClass="entr" presetID="2" presetSubtype="8">
                                  <p:stCondLst>
                                    <p:cond delay="0"/>
                                  </p:stCondLst>
                                  <p:childTnLst>
                                    <p:set>
                                      <p:cBhvr>
                                        <p:cTn id="525" dur="1" fill="hold">
                                          <p:stCondLst>
                                            <p:cond delay="0"/>
                                          </p:stCondLst>
                                        </p:cTn>
                                        <p:tgtEl>
                                          <p:spTgt spid="1659"/>
                                        </p:tgtEl>
                                        <p:attrNameLst>
                                          <p:attrName>style.visibility</p:attrName>
                                        </p:attrNameLst>
                                      </p:cBhvr>
                                      <p:to>
                                        <p:strVal val="visible"/>
                                      </p:to>
                                    </p:set>
                                    <p:anim calcmode="lin" valueType="num">
                                      <p:cBhvr additive="base">
                                        <p:cTn id="526" dur="500" fill="hold"/>
                                        <p:tgtEl>
                                          <p:spTgt spid="1659"/>
                                        </p:tgtEl>
                                        <p:attrNameLst>
                                          <p:attrName>ppt_x</p:attrName>
                                        </p:attrNameLst>
                                      </p:cBhvr>
                                      <p:tavLst>
                                        <p:tav tm="0">
                                          <p:val>
                                            <p:strVal val="0-#ppt_w/2"/>
                                          </p:val>
                                        </p:tav>
                                        <p:tav tm="100000">
                                          <p:val>
                                            <p:strVal val="#ppt_x"/>
                                          </p:val>
                                        </p:tav>
                                      </p:tavLst>
                                    </p:anim>
                                    <p:anim calcmode="lin" valueType="num">
                                      <p:cBhvr additive="base">
                                        <p:cTn id="527" dur="500" fill="hold"/>
                                        <p:tgtEl>
                                          <p:spTgt spid="1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A_库_椭圆 23"/>
          <p:cNvSpPr/>
          <p:nvPr/>
        </p:nvSpPr>
        <p:spPr>
          <a:xfrm>
            <a:off x="665280" y="4073400"/>
            <a:ext cx="561960" cy="561960"/>
          </a:xfrm>
          <a:prstGeom prst="ellipse">
            <a:avLst/>
          </a:prstGeom>
          <a:solidFill>
            <a:srgbClr val="bad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62" name="PA_库_副标题 2"/>
          <p:cNvSpPr/>
          <p:nvPr/>
        </p:nvSpPr>
        <p:spPr>
          <a:xfrm>
            <a:off x="1236600" y="1990800"/>
            <a:ext cx="6443640" cy="4984560"/>
          </a:xfrm>
          <a:prstGeom prst="rect">
            <a:avLst/>
          </a:prstGeom>
          <a:noFill/>
          <a:ln w="0">
            <a:noFill/>
          </a:ln>
        </p:spPr>
        <p:style>
          <a:lnRef idx="0"/>
          <a:fillRef idx="0"/>
          <a:effectRef idx="0"/>
          <a:fontRef idx="minor"/>
        </p:style>
        <p:txBody>
          <a:bodyPr lIns="108720" rIns="108720" tIns="54360" bIns="54360" anchor="t">
            <a:spAutoFit/>
          </a:bodyPr>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400" spc="-1" strike="noStrike">
                <a:solidFill>
                  <a:srgbClr val="ff0000"/>
                </a:solidFill>
                <a:latin typeface="等线"/>
                <a:ea typeface="宋体"/>
              </a:rPr>
              <a:t>2</a:t>
            </a:r>
            <a:r>
              <a:rPr b="0" lang="zh-CN" sz="2400" spc="-1" strike="noStrike">
                <a:solidFill>
                  <a:srgbClr val="ff0000"/>
                </a:solidFill>
                <a:latin typeface="等线"/>
                <a:ea typeface="等线"/>
              </a:rPr>
              <a:t>、扣除方式：</a:t>
            </a: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Open Sans Light"/>
                <a:ea typeface="Open Sans Light"/>
              </a:rPr>
              <a:t>（</a:t>
            </a:r>
            <a:r>
              <a:rPr b="0" lang="en-US" sz="2000" spc="-1" strike="noStrike">
                <a:solidFill>
                  <a:srgbClr val="262626"/>
                </a:solidFill>
                <a:latin typeface="Open Sans Light"/>
                <a:ea typeface="Open Sans Light"/>
              </a:rPr>
              <a:t>1</a:t>
            </a:r>
            <a:r>
              <a:rPr b="0" lang="zh-CN" sz="2000" spc="-1" strike="noStrike">
                <a:solidFill>
                  <a:srgbClr val="262626"/>
                </a:solidFill>
                <a:latin typeface="Open Sans Light"/>
                <a:ea typeface="Open Sans Light"/>
              </a:rPr>
              <a:t>）纳税人为独生子女的，按照每年</a:t>
            </a:r>
            <a:r>
              <a:rPr b="0" lang="en-US" sz="2000" spc="-1" strike="noStrike">
                <a:solidFill>
                  <a:srgbClr val="262626"/>
                </a:solidFill>
                <a:latin typeface="Open Sans Light"/>
                <a:ea typeface="Open Sans Light"/>
              </a:rPr>
              <a:t>24000</a:t>
            </a:r>
            <a:r>
              <a:rPr b="0" lang="zh-CN" sz="2000" spc="-1" strike="noStrike">
                <a:solidFill>
                  <a:srgbClr val="262626"/>
                </a:solidFill>
                <a:latin typeface="Open Sans Light"/>
                <a:ea typeface="Open Sans Light"/>
              </a:rPr>
              <a:t>元（每月</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000" spc="-1" strike="noStrike">
                <a:solidFill>
                  <a:srgbClr val="262626"/>
                </a:solidFill>
                <a:latin typeface="Open Sans Light"/>
                <a:ea typeface="Open Sans Light"/>
              </a:rPr>
              <a:t>2000</a:t>
            </a:r>
            <a:r>
              <a:rPr b="0" lang="zh-CN" sz="2000" spc="-1" strike="noStrike">
                <a:solidFill>
                  <a:srgbClr val="262626"/>
                </a:solidFill>
                <a:latin typeface="Open Sans Light"/>
                <a:ea typeface="Open Sans Light"/>
              </a:rPr>
              <a:t>元）的标准定额扣除。</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a:t>
            </a:r>
            <a:r>
              <a:rPr b="0" lang="en-US" sz="2000" spc="-1" strike="noStrike">
                <a:solidFill>
                  <a:srgbClr val="262626"/>
                </a:solidFill>
                <a:latin typeface="等线"/>
                <a:ea typeface="等线"/>
              </a:rPr>
              <a:t>2</a:t>
            </a:r>
            <a:r>
              <a:rPr b="0" lang="zh-CN" sz="2000" spc="-1" strike="noStrike">
                <a:solidFill>
                  <a:srgbClr val="262626"/>
                </a:solidFill>
                <a:latin typeface="等线"/>
                <a:ea typeface="等线"/>
              </a:rPr>
              <a:t>）</a:t>
            </a:r>
            <a:r>
              <a:rPr b="0" lang="zh-CN" sz="2000" spc="-1" strike="noStrike">
                <a:solidFill>
                  <a:srgbClr val="262626"/>
                </a:solidFill>
                <a:latin typeface="Open Sans Light"/>
                <a:ea typeface="Open Sans Light"/>
              </a:rPr>
              <a:t>纳税人为非独生子女的，应当与其兄弟姐妹分摊</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Open Sans Light"/>
                <a:ea typeface="Open Sans Light"/>
              </a:rPr>
              <a:t>每年</a:t>
            </a:r>
            <a:r>
              <a:rPr b="0" lang="en-US" sz="2000" spc="-1" strike="noStrike">
                <a:solidFill>
                  <a:srgbClr val="262626"/>
                </a:solidFill>
                <a:latin typeface="Open Sans Light"/>
                <a:ea typeface="Open Sans Light"/>
              </a:rPr>
              <a:t>24000</a:t>
            </a:r>
            <a:r>
              <a:rPr b="0" lang="zh-CN" sz="2000" spc="-1" strike="noStrike">
                <a:solidFill>
                  <a:srgbClr val="262626"/>
                </a:solidFill>
                <a:latin typeface="Open Sans Light"/>
                <a:ea typeface="Open Sans Light"/>
              </a:rPr>
              <a:t>元</a:t>
            </a:r>
            <a:r>
              <a:rPr b="0" lang="en-US" sz="2000" spc="-1" strike="noStrike">
                <a:solidFill>
                  <a:srgbClr val="262626"/>
                </a:solidFill>
                <a:latin typeface="Open Sans Light"/>
                <a:ea typeface="Open Sans Light"/>
              </a:rPr>
              <a:t>(</a:t>
            </a:r>
            <a:r>
              <a:rPr b="0" lang="zh-CN" sz="2000" spc="-1" strike="noStrike">
                <a:solidFill>
                  <a:srgbClr val="262626"/>
                </a:solidFill>
                <a:latin typeface="Open Sans Light"/>
                <a:ea typeface="Open Sans Light"/>
              </a:rPr>
              <a:t>每月</a:t>
            </a:r>
            <a:r>
              <a:rPr b="0" lang="en-US" sz="2000" spc="-1" strike="noStrike">
                <a:solidFill>
                  <a:srgbClr val="262626"/>
                </a:solidFill>
                <a:latin typeface="Open Sans Light"/>
                <a:ea typeface="Open Sans Light"/>
              </a:rPr>
              <a:t>2000</a:t>
            </a:r>
            <a:r>
              <a:rPr b="0" lang="zh-CN" sz="2000" spc="-1" strike="noStrike">
                <a:solidFill>
                  <a:srgbClr val="262626"/>
                </a:solidFill>
                <a:latin typeface="Open Sans Light"/>
                <a:ea typeface="Open Sans Light"/>
              </a:rPr>
              <a:t>元</a:t>
            </a:r>
            <a:r>
              <a:rPr b="0" lang="en-US" sz="2000" spc="-1" strike="noStrike">
                <a:solidFill>
                  <a:srgbClr val="262626"/>
                </a:solidFill>
                <a:latin typeface="Open Sans Light"/>
                <a:ea typeface="Open Sans Light"/>
              </a:rPr>
              <a:t>)</a:t>
            </a:r>
            <a:r>
              <a:rPr b="0" lang="zh-CN" sz="2000" spc="-1" strike="noStrike">
                <a:solidFill>
                  <a:srgbClr val="262626"/>
                </a:solidFill>
                <a:latin typeface="Open Sans Light"/>
                <a:ea typeface="Open Sans Light"/>
              </a:rPr>
              <a:t>的扣除额度，分摊方式包括平</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Open Sans Light"/>
                <a:ea typeface="Open Sans Light"/>
              </a:rPr>
              <a:t>均分摊、被赡养人指定分摊或者赡养人约定分摊，具体</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Open Sans Light"/>
                <a:ea typeface="Open Sans Light"/>
              </a:rPr>
              <a:t>分摊方式在一个纳税年度内不得变更。</a:t>
            </a:r>
            <a:endParaRPr b="0" lang="en-US" sz="20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400" spc="-1" strike="noStrike">
                <a:solidFill>
                  <a:srgbClr val="ff0000"/>
                </a:solidFill>
                <a:latin typeface="Open Sans Light"/>
                <a:ea typeface="等线"/>
              </a:rPr>
              <a:t> </a:t>
            </a:r>
            <a:r>
              <a:rPr b="0" lang="en-US" sz="2400" spc="-1" strike="noStrike">
                <a:solidFill>
                  <a:srgbClr val="ff0000"/>
                </a:solidFill>
                <a:latin typeface="Open Sans Light"/>
                <a:ea typeface="等线"/>
              </a:rPr>
              <a:t>3</a:t>
            </a:r>
            <a:r>
              <a:rPr b="0" lang="zh-CN" sz="2400" spc="-1" strike="noStrike">
                <a:solidFill>
                  <a:srgbClr val="ff0000"/>
                </a:solidFill>
                <a:latin typeface="Open Sans Light"/>
                <a:ea typeface="等线"/>
              </a:rPr>
              <a:t>、扣除凭证：</a:t>
            </a: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采取指定分摊或约定分摊方式的，应有书面分摊协议。</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p:txBody>
      </p:sp>
      <p:sp>
        <p:nvSpPr>
          <p:cNvPr id="1663" name="PA_库_文本框 25"/>
          <p:cNvSpPr/>
          <p:nvPr/>
        </p:nvSpPr>
        <p:spPr>
          <a:xfrm>
            <a:off x="1162080" y="1276920"/>
            <a:ext cx="6032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造字工房尚雅（非商用）常规体"/>
                <a:ea typeface="造字工房尚雅（非商用）常规体"/>
              </a:rPr>
              <a:t>（一）子女教育专项附加扣除</a:t>
            </a:r>
            <a:endParaRPr b="0" lang="en-US" sz="2800" spc="-1" strike="noStrike">
              <a:solidFill>
                <a:srgbClr val="262626"/>
              </a:solidFill>
              <a:latin typeface="Arial"/>
            </a:endParaRPr>
          </a:p>
        </p:txBody>
      </p:sp>
      <p:sp>
        <p:nvSpPr>
          <p:cNvPr id="1664" name="PA_库_椭圆 26"/>
          <p:cNvSpPr/>
          <p:nvPr/>
        </p:nvSpPr>
        <p:spPr>
          <a:xfrm>
            <a:off x="633240" y="1457280"/>
            <a:ext cx="560520" cy="560520"/>
          </a:xfrm>
          <a:prstGeom prst="ellipse">
            <a:avLst/>
          </a:prstGeom>
          <a:solidFill>
            <a:srgbClr val="75cf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65" name="PA_库_形状 2629"/>
          <p:cNvSpPr/>
          <p:nvPr/>
        </p:nvSpPr>
        <p:spPr>
          <a:xfrm>
            <a:off x="768240" y="1609560"/>
            <a:ext cx="279360" cy="279720"/>
          </a:xfrm>
          <a:custGeom>
            <a:avLst/>
            <a:gdLst/>
            <a:ahLst/>
            <a:rect l="l" t="t" r="r" b="b"/>
            <a:pathLst>
              <a:path w="21600" h="21600">
                <a:moveTo>
                  <a:pt x="16441" y="20618"/>
                </a:moveTo>
                <a:cubicBezTo>
                  <a:pt x="15826" y="20618"/>
                  <a:pt x="15226" y="20482"/>
                  <a:pt x="14660" y="20214"/>
                </a:cubicBezTo>
                <a:cubicBezTo>
                  <a:pt x="14607" y="20189"/>
                  <a:pt x="14552" y="20170"/>
                  <a:pt x="14497" y="20155"/>
                </a:cubicBezTo>
                <a:cubicBezTo>
                  <a:pt x="8918" y="17308"/>
                  <a:pt x="4295" y="12685"/>
                  <a:pt x="1448" y="7105"/>
                </a:cubicBezTo>
                <a:cubicBezTo>
                  <a:pt x="1432" y="7048"/>
                  <a:pt x="1412" y="6991"/>
                  <a:pt x="1386" y="6936"/>
                </a:cubicBezTo>
                <a:cubicBezTo>
                  <a:pt x="1117" y="6369"/>
                  <a:pt x="982" y="5770"/>
                  <a:pt x="982" y="5155"/>
                </a:cubicBezTo>
                <a:cubicBezTo>
                  <a:pt x="982" y="2774"/>
                  <a:pt x="3066" y="982"/>
                  <a:pt x="4417" y="982"/>
                </a:cubicBezTo>
                <a:cubicBezTo>
                  <a:pt x="4594" y="982"/>
                  <a:pt x="4711" y="1072"/>
                  <a:pt x="4764" y="1126"/>
                </a:cubicBezTo>
                <a:cubicBezTo>
                  <a:pt x="4776" y="1139"/>
                  <a:pt x="4798" y="1164"/>
                  <a:pt x="4831" y="1216"/>
                </a:cubicBezTo>
                <a:cubicBezTo>
                  <a:pt x="4848" y="1244"/>
                  <a:pt x="4867" y="1271"/>
                  <a:pt x="4887" y="1297"/>
                </a:cubicBezTo>
                <a:lnTo>
                  <a:pt x="8118" y="5453"/>
                </a:lnTo>
                <a:cubicBezTo>
                  <a:pt x="8143" y="5485"/>
                  <a:pt x="8170" y="5515"/>
                  <a:pt x="8199" y="5544"/>
                </a:cubicBezTo>
                <a:cubicBezTo>
                  <a:pt x="8253" y="5598"/>
                  <a:pt x="8343" y="5715"/>
                  <a:pt x="8343" y="5891"/>
                </a:cubicBezTo>
                <a:cubicBezTo>
                  <a:pt x="8343" y="5978"/>
                  <a:pt x="8319" y="6060"/>
                  <a:pt x="8272" y="6135"/>
                </a:cubicBezTo>
                <a:lnTo>
                  <a:pt x="7178" y="7221"/>
                </a:lnTo>
                <a:cubicBezTo>
                  <a:pt x="7173" y="7226"/>
                  <a:pt x="7168" y="7231"/>
                  <a:pt x="7163" y="7236"/>
                </a:cubicBezTo>
                <a:cubicBezTo>
                  <a:pt x="6767" y="7609"/>
                  <a:pt x="6541" y="8126"/>
                  <a:pt x="6541" y="8668"/>
                </a:cubicBezTo>
                <a:cubicBezTo>
                  <a:pt x="6541" y="9175"/>
                  <a:pt x="6738" y="9658"/>
                  <a:pt x="7080" y="10020"/>
                </a:cubicBezTo>
                <a:cubicBezTo>
                  <a:pt x="7092" y="10040"/>
                  <a:pt x="7105" y="10059"/>
                  <a:pt x="7119" y="10078"/>
                </a:cubicBezTo>
                <a:cubicBezTo>
                  <a:pt x="8325" y="11745"/>
                  <a:pt x="9807" y="13222"/>
                  <a:pt x="11525" y="14469"/>
                </a:cubicBezTo>
                <a:cubicBezTo>
                  <a:pt x="11538" y="14478"/>
                  <a:pt x="11551" y="14487"/>
                  <a:pt x="11565" y="14496"/>
                </a:cubicBezTo>
                <a:cubicBezTo>
                  <a:pt x="11928" y="14844"/>
                  <a:pt x="12414" y="15045"/>
                  <a:pt x="12924" y="15045"/>
                </a:cubicBezTo>
                <a:cubicBezTo>
                  <a:pt x="13436" y="15045"/>
                  <a:pt x="13930" y="14840"/>
                  <a:pt x="14297" y="14479"/>
                </a:cubicBezTo>
                <a:cubicBezTo>
                  <a:pt x="14316" y="14463"/>
                  <a:pt x="14335" y="14446"/>
                  <a:pt x="14352" y="14427"/>
                </a:cubicBezTo>
                <a:lnTo>
                  <a:pt x="15451" y="13320"/>
                </a:lnTo>
                <a:cubicBezTo>
                  <a:pt x="15529" y="13271"/>
                  <a:pt x="15611" y="13247"/>
                  <a:pt x="15697" y="13247"/>
                </a:cubicBezTo>
                <a:cubicBezTo>
                  <a:pt x="15874" y="13247"/>
                  <a:pt x="15990" y="13337"/>
                  <a:pt x="16044" y="13391"/>
                </a:cubicBezTo>
                <a:cubicBezTo>
                  <a:pt x="16073" y="13420"/>
                  <a:pt x="16103" y="13447"/>
                  <a:pt x="16135" y="13472"/>
                </a:cubicBezTo>
                <a:lnTo>
                  <a:pt x="20291" y="16704"/>
                </a:lnTo>
                <a:cubicBezTo>
                  <a:pt x="20317" y="16725"/>
                  <a:pt x="20345" y="16744"/>
                  <a:pt x="20374" y="16762"/>
                </a:cubicBezTo>
                <a:cubicBezTo>
                  <a:pt x="20426" y="16795"/>
                  <a:pt x="20449" y="16816"/>
                  <a:pt x="20461" y="16827"/>
                </a:cubicBezTo>
                <a:cubicBezTo>
                  <a:pt x="20515" y="16881"/>
                  <a:pt x="20605" y="16997"/>
                  <a:pt x="20605" y="17174"/>
                </a:cubicBezTo>
                <a:cubicBezTo>
                  <a:pt x="20605" y="17207"/>
                  <a:pt x="20606" y="17240"/>
                  <a:pt x="20610" y="17273"/>
                </a:cubicBezTo>
                <a:cubicBezTo>
                  <a:pt x="20533" y="18625"/>
                  <a:pt x="18769" y="20618"/>
                  <a:pt x="16441" y="20618"/>
                </a:cubicBezTo>
                <a:moveTo>
                  <a:pt x="21586" y="17174"/>
                </a:moveTo>
                <a:cubicBezTo>
                  <a:pt x="21586" y="16768"/>
                  <a:pt x="21421" y="16399"/>
                  <a:pt x="21155" y="16133"/>
                </a:cubicBezTo>
                <a:cubicBezTo>
                  <a:pt x="21077" y="16054"/>
                  <a:pt x="20988" y="15988"/>
                  <a:pt x="20893" y="15929"/>
                </a:cubicBezTo>
                <a:lnTo>
                  <a:pt x="16738" y="12697"/>
                </a:lnTo>
                <a:cubicBezTo>
                  <a:pt x="16471" y="12430"/>
                  <a:pt x="16104" y="12265"/>
                  <a:pt x="15697" y="12265"/>
                </a:cubicBezTo>
                <a:cubicBezTo>
                  <a:pt x="15364" y="12265"/>
                  <a:pt x="15060" y="12380"/>
                  <a:pt x="14815" y="12567"/>
                </a:cubicBezTo>
                <a:lnTo>
                  <a:pt x="13655" y="13736"/>
                </a:lnTo>
                <a:lnTo>
                  <a:pt x="13652" y="13733"/>
                </a:lnTo>
                <a:cubicBezTo>
                  <a:pt x="13473" y="13934"/>
                  <a:pt x="13214" y="14063"/>
                  <a:pt x="12924" y="14063"/>
                </a:cubicBezTo>
                <a:cubicBezTo>
                  <a:pt x="12592" y="14063"/>
                  <a:pt x="12300" y="13897"/>
                  <a:pt x="12122" y="13645"/>
                </a:cubicBezTo>
                <a:cubicBezTo>
                  <a:pt x="12116" y="13654"/>
                  <a:pt x="12107" y="13663"/>
                  <a:pt x="12101" y="13674"/>
                </a:cubicBezTo>
                <a:cubicBezTo>
                  <a:pt x="10497" y="12510"/>
                  <a:pt x="9076" y="11108"/>
                  <a:pt x="7914" y="9502"/>
                </a:cubicBezTo>
                <a:cubicBezTo>
                  <a:pt x="7925" y="9495"/>
                  <a:pt x="7935" y="9486"/>
                  <a:pt x="7947" y="9479"/>
                </a:cubicBezTo>
                <a:cubicBezTo>
                  <a:pt x="7691" y="9299"/>
                  <a:pt x="7523" y="9004"/>
                  <a:pt x="7523" y="8668"/>
                </a:cubicBezTo>
                <a:cubicBezTo>
                  <a:pt x="7523" y="8367"/>
                  <a:pt x="7659" y="8101"/>
                  <a:pt x="7871" y="7920"/>
                </a:cubicBezTo>
                <a:lnTo>
                  <a:pt x="7870" y="7918"/>
                </a:lnTo>
                <a:lnTo>
                  <a:pt x="9023" y="6773"/>
                </a:lnTo>
                <a:cubicBezTo>
                  <a:pt x="9211" y="6528"/>
                  <a:pt x="9325" y="6224"/>
                  <a:pt x="9325" y="5891"/>
                </a:cubicBezTo>
                <a:cubicBezTo>
                  <a:pt x="9325" y="5485"/>
                  <a:pt x="9160" y="5116"/>
                  <a:pt x="8893" y="4850"/>
                </a:cubicBezTo>
                <a:lnTo>
                  <a:pt x="5662" y="693"/>
                </a:lnTo>
                <a:cubicBezTo>
                  <a:pt x="5603" y="599"/>
                  <a:pt x="5537" y="510"/>
                  <a:pt x="5458" y="432"/>
                </a:cubicBezTo>
                <a:cubicBezTo>
                  <a:pt x="5191" y="165"/>
                  <a:pt x="4823" y="0"/>
                  <a:pt x="4417" y="0"/>
                </a:cubicBezTo>
                <a:cubicBezTo>
                  <a:pt x="2454" y="0"/>
                  <a:pt x="0" y="2308"/>
                  <a:pt x="0" y="5155"/>
                </a:cubicBezTo>
                <a:cubicBezTo>
                  <a:pt x="0" y="5943"/>
                  <a:pt x="183" y="6688"/>
                  <a:pt x="499" y="7356"/>
                </a:cubicBezTo>
                <a:lnTo>
                  <a:pt x="482" y="7373"/>
                </a:lnTo>
                <a:cubicBezTo>
                  <a:pt x="3435" y="13255"/>
                  <a:pt x="8343" y="18164"/>
                  <a:pt x="14224" y="21117"/>
                </a:cubicBezTo>
                <a:lnTo>
                  <a:pt x="14240" y="21101"/>
                </a:lnTo>
                <a:cubicBezTo>
                  <a:pt x="14908" y="21418"/>
                  <a:pt x="15652" y="21600"/>
                  <a:pt x="16441" y="21600"/>
                </a:cubicBezTo>
                <a:cubicBezTo>
                  <a:pt x="19287" y="21600"/>
                  <a:pt x="21594" y="19145"/>
                  <a:pt x="21594" y="17182"/>
                </a:cubicBezTo>
                <a:cubicBezTo>
                  <a:pt x="21594" y="17179"/>
                  <a:pt x="21594" y="17177"/>
                  <a:pt x="21594" y="17174"/>
                </a:cubicBezTo>
                <a:cubicBezTo>
                  <a:pt x="21594" y="17174"/>
                  <a:pt x="21586" y="17174"/>
                  <a:pt x="21586" y="17174"/>
                </a:cubicBezTo>
                <a:close/>
                <a:moveTo>
                  <a:pt x="11785" y="10800"/>
                </a:moveTo>
                <a:cubicBezTo>
                  <a:pt x="12326" y="10800"/>
                  <a:pt x="12766" y="10360"/>
                  <a:pt x="12766" y="9819"/>
                </a:cubicBezTo>
                <a:cubicBezTo>
                  <a:pt x="12766" y="9276"/>
                  <a:pt x="12326" y="8836"/>
                  <a:pt x="11785" y="8836"/>
                </a:cubicBezTo>
                <a:cubicBezTo>
                  <a:pt x="11242" y="8836"/>
                  <a:pt x="10803" y="9276"/>
                  <a:pt x="10803" y="9819"/>
                </a:cubicBezTo>
                <a:cubicBezTo>
                  <a:pt x="10803" y="10360"/>
                  <a:pt x="11242" y="10800"/>
                  <a:pt x="11785" y="10800"/>
                </a:cubicBezTo>
                <a:moveTo>
                  <a:pt x="11785" y="5891"/>
                </a:moveTo>
                <a:cubicBezTo>
                  <a:pt x="13953" y="5891"/>
                  <a:pt x="15711" y="7649"/>
                  <a:pt x="15711" y="9819"/>
                </a:cubicBezTo>
                <a:cubicBezTo>
                  <a:pt x="15711" y="10090"/>
                  <a:pt x="15930" y="10309"/>
                  <a:pt x="16201" y="10309"/>
                </a:cubicBezTo>
                <a:cubicBezTo>
                  <a:pt x="16472" y="10309"/>
                  <a:pt x="16692" y="10090"/>
                  <a:pt x="16692" y="9819"/>
                </a:cubicBezTo>
                <a:cubicBezTo>
                  <a:pt x="16692" y="7107"/>
                  <a:pt x="14495" y="4909"/>
                  <a:pt x="11785" y="4909"/>
                </a:cubicBezTo>
                <a:cubicBezTo>
                  <a:pt x="11513" y="4909"/>
                  <a:pt x="11294" y="5129"/>
                  <a:pt x="11294" y="5400"/>
                </a:cubicBezTo>
                <a:cubicBezTo>
                  <a:pt x="11294" y="5672"/>
                  <a:pt x="11513" y="5891"/>
                  <a:pt x="11785" y="5891"/>
                </a:cubicBezTo>
                <a:moveTo>
                  <a:pt x="11785" y="982"/>
                </a:moveTo>
                <a:cubicBezTo>
                  <a:pt x="16663" y="982"/>
                  <a:pt x="20618" y="4939"/>
                  <a:pt x="20618" y="9819"/>
                </a:cubicBezTo>
                <a:cubicBezTo>
                  <a:pt x="20618" y="10090"/>
                  <a:pt x="20838" y="10309"/>
                  <a:pt x="21109" y="10309"/>
                </a:cubicBezTo>
                <a:cubicBezTo>
                  <a:pt x="21380" y="10309"/>
                  <a:pt x="21600" y="10090"/>
                  <a:pt x="21600" y="9819"/>
                </a:cubicBezTo>
                <a:cubicBezTo>
                  <a:pt x="21600" y="4396"/>
                  <a:pt x="17206" y="0"/>
                  <a:pt x="11785" y="0"/>
                </a:cubicBezTo>
                <a:cubicBezTo>
                  <a:pt x="11513" y="0"/>
                  <a:pt x="11294" y="220"/>
                  <a:pt x="11294" y="491"/>
                </a:cubicBezTo>
                <a:cubicBezTo>
                  <a:pt x="11294" y="762"/>
                  <a:pt x="11513" y="982"/>
                  <a:pt x="11785" y="982"/>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666" name="PA_库_形状 2840"/>
          <p:cNvSpPr/>
          <p:nvPr/>
        </p:nvSpPr>
        <p:spPr>
          <a:xfrm>
            <a:off x="817560" y="419580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667" name="PA_库_椭圆 41"/>
          <p:cNvSpPr/>
          <p:nvPr/>
        </p:nvSpPr>
        <p:spPr>
          <a:xfrm>
            <a:off x="601560" y="2760840"/>
            <a:ext cx="560520" cy="561960"/>
          </a:xfrm>
          <a:prstGeom prst="ellipse">
            <a:avLst/>
          </a:prstGeom>
          <a:solidFill>
            <a:srgbClr val="5ab1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68" name="PA_库_形状 2840"/>
          <p:cNvSpPr/>
          <p:nvPr/>
        </p:nvSpPr>
        <p:spPr>
          <a:xfrm>
            <a:off x="741240" y="289260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669" name="PA_库_椭圆 41"/>
          <p:cNvSpPr/>
          <p:nvPr/>
        </p:nvSpPr>
        <p:spPr>
          <a:xfrm>
            <a:off x="633240" y="5365800"/>
            <a:ext cx="560520" cy="560160"/>
          </a:xfrm>
          <a:prstGeom prst="ellipse">
            <a:avLst/>
          </a:prstGeom>
          <a:solidFill>
            <a:srgbClr val="5ab1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70" name="PA_库_形状 2840"/>
          <p:cNvSpPr/>
          <p:nvPr/>
        </p:nvSpPr>
        <p:spPr>
          <a:xfrm>
            <a:off x="795240" y="549756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pic>
        <p:nvPicPr>
          <p:cNvPr id="1671" name="图片 20" descr=""/>
          <p:cNvPicPr/>
          <p:nvPr/>
        </p:nvPicPr>
        <p:blipFill>
          <a:blip r:embed="rId1"/>
          <a:stretch/>
        </p:blipFill>
        <p:spPr>
          <a:xfrm>
            <a:off x="4981680" y="266760"/>
            <a:ext cx="1749240" cy="1326960"/>
          </a:xfrm>
          <a:prstGeom prst="rect">
            <a:avLst/>
          </a:prstGeom>
          <a:ln w="0">
            <a:noFill/>
          </a:ln>
        </p:spPr>
      </p:pic>
      <p:pic>
        <p:nvPicPr>
          <p:cNvPr id="1672" name="图片 13" descr=""/>
          <p:cNvPicPr/>
          <p:nvPr/>
        </p:nvPicPr>
        <p:blipFill>
          <a:blip r:embed="rId2"/>
          <a:stretch/>
        </p:blipFill>
        <p:spPr>
          <a:xfrm>
            <a:off x="8010360" y="1617840"/>
            <a:ext cx="3505320" cy="4078080"/>
          </a:xfrm>
          <a:prstGeom prst="rect">
            <a:avLst/>
          </a:prstGeom>
          <a:ln w="0">
            <a:noFill/>
          </a:ln>
        </p:spPr>
      </p:pic>
    </p:spTree>
  </p:cSld>
  <p:transition spd="slow">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withEffect" fill="hold" presetClass="entr" presetID="2" presetSubtype="8">
                                  <p:stCondLst>
                                    <p:cond delay="250"/>
                                  </p:stCondLst>
                                  <p:endCondLst>
                                    <p:cond evt="begin"/>
                                  </p:endCondLst>
                                  <p:childTnLst>
                                    <p:set>
                                      <p:cBhvr>
                                        <p:cTn id="533" dur="1" fill="hold">
                                          <p:stCondLst>
                                            <p:cond delay="0"/>
                                          </p:stCondLst>
                                        </p:cTn>
                                        <p:tgtEl>
                                          <p:spTgt spid="1661"/>
                                        </p:tgtEl>
                                        <p:attrNameLst>
                                          <p:attrName>style.visibility</p:attrName>
                                        </p:attrNameLst>
                                      </p:cBhvr>
                                      <p:to>
                                        <p:strVal val="visible"/>
                                      </p:to>
                                    </p:set>
                                    <p:anim calcmode="lin" valueType="num">
                                      <p:cBhvr additive="base">
                                        <p:cTn id="534" dur="1500" fill="hold"/>
                                        <p:tgtEl>
                                          <p:spTgt spid="1661"/>
                                        </p:tgtEl>
                                        <p:attrNameLst>
                                          <p:attrName>ppt_x</p:attrName>
                                        </p:attrNameLst>
                                      </p:cBhvr>
                                      <p:tavLst>
                                        <p:tav tm="0">
                                          <p:val>
                                            <p:strVal val="0-#ppt_w/2"/>
                                          </p:val>
                                        </p:tav>
                                        <p:tav tm="100000">
                                          <p:val>
                                            <p:strVal val="#ppt_x"/>
                                          </p:val>
                                        </p:tav>
                                      </p:tavLst>
                                    </p:anim>
                                    <p:anim calcmode="lin" valueType="num">
                                      <p:cBhvr additive="base">
                                        <p:cTn id="535" dur="1500" fill="hold"/>
                                        <p:tgtEl>
                                          <p:spTgt spid="1661"/>
                                        </p:tgtEl>
                                        <p:attrNameLst>
                                          <p:attrName>ppt_y</p:attrName>
                                        </p:attrNameLst>
                                      </p:cBhvr>
                                      <p:tavLst>
                                        <p:tav tm="0">
                                          <p:val>
                                            <p:strVal val="#ppt_y"/>
                                          </p:val>
                                        </p:tav>
                                        <p:tav tm="100000">
                                          <p:val>
                                            <p:strVal val="#ppt_y"/>
                                          </p:val>
                                        </p:tav>
                                      </p:tavLst>
                                    </p:anim>
                                    <p:set>
                                      <p:cBhvr>
                                        <p:cTn id="536" dur="1" fill="hold">
                                          <p:stCondLst>
                                            <p:cond delay="0"/>
                                          </p:stCondLst>
                                        </p:cTn>
                                        <p:tgtEl>
                                          <p:spTgt spid="1661"/>
                                        </p:tgtEl>
                                        <p:attrNameLst>
                                          <p:attrName>style.visibility</p:attrName>
                                        </p:attrNameLst>
                                      </p:cBhvr>
                                      <p:to>
                                        <p:strVal val="visible"/>
                                      </p:to>
                                    </p:set>
                                    <p:anim calcmode="lin" valueType="num">
                                      <p:cBhvr additive="repl">
                                        <p:cTn id="537" dur="1500" fill="hold">
                                          <p:stCondLst>
                                            <p:cond delay="0"/>
                                          </p:stCondLst>
                                        </p:cTn>
                                        <p:tgtEl>
                                          <p:spTgt spid="1661"/>
                                        </p:tgtEl>
                                        <p:attrNameLst>
                                          <p:attrName>ppt_w</p:attrName>
                                        </p:attrNameLst>
                                      </p:cBhvr>
                                      <p:tavLst>
                                        <p:tav tm="0">
                                          <p:val>
                                            <p:strVal val="0"/>
                                          </p:val>
                                        </p:tav>
                                        <p:tav tm="100000">
                                          <p:val>
                                            <p:strVal val="#ppt_w"/>
                                          </p:val>
                                        </p:tav>
                                      </p:tavLst>
                                      <p:to>
                                        <p:strVal val=""/>
                                      </p:to>
                                    </p:anim>
                                    <p:anim calcmode="lin" valueType="num">
                                      <p:cBhvr additive="repl">
                                        <p:cTn id="538" dur="1500" fill="hold">
                                          <p:stCondLst>
                                            <p:cond delay="0"/>
                                          </p:stCondLst>
                                        </p:cTn>
                                        <p:tgtEl>
                                          <p:spTgt spid="1661"/>
                                        </p:tgtEl>
                                        <p:attrNameLst>
                                          <p:attrName>ppt_h</p:attrName>
                                        </p:attrNameLst>
                                      </p:cBhvr>
                                      <p:tavLst>
                                        <p:tav tm="0">
                                          <p:val>
                                            <p:strVal val="0"/>
                                          </p:val>
                                        </p:tav>
                                        <p:tav tm="100000">
                                          <p:val>
                                            <p:strVal val="#ppt_h"/>
                                          </p:val>
                                        </p:tav>
                                      </p:tavLst>
                                      <p:to>
                                        <p:strVal val=""/>
                                      </p:to>
                                    </p:anim>
                                    <p:animEffect filter="fade" transition="in">
                                      <p:cBhvr additive="repl">
                                        <p:cTn id="539" dur="1500">
                                          <p:stCondLst>
                                            <p:cond delay="0"/>
                                          </p:stCondLst>
                                        </p:cTn>
                                        <p:tgtEl>
                                          <p:spTgt spid="1661"/>
                                        </p:tgtEl>
                                      </p:cBhvr>
                                    </p:animEffect>
                                  </p:childTnLst>
                                </p:cTn>
                              </p:par>
                              <p:par>
                                <p:cTn id="540" nodeType="withEffect" fill="hold" presetClass="entr" presetID="2" presetSubtype="8">
                                  <p:stCondLst>
                                    <p:cond delay="250"/>
                                  </p:stCondLst>
                                  <p:childTnLst>
                                    <p:set>
                                      <p:cBhvr>
                                        <p:cTn id="541" dur="1" fill="hold">
                                          <p:stCondLst>
                                            <p:cond delay="0"/>
                                          </p:stCondLst>
                                        </p:cTn>
                                        <p:tgtEl>
                                          <p:spTgt spid="1662"/>
                                        </p:tgtEl>
                                        <p:attrNameLst>
                                          <p:attrName>style.visibility</p:attrName>
                                        </p:attrNameLst>
                                      </p:cBhvr>
                                      <p:to>
                                        <p:strVal val="visible"/>
                                      </p:to>
                                    </p:set>
                                    <p:anim calcmode="lin" valueType="num">
                                      <p:cBhvr additive="base">
                                        <p:cTn id="542" dur="1500" fill="hold"/>
                                        <p:tgtEl>
                                          <p:spTgt spid="1662"/>
                                        </p:tgtEl>
                                        <p:attrNameLst>
                                          <p:attrName>ppt_x</p:attrName>
                                        </p:attrNameLst>
                                      </p:cBhvr>
                                      <p:tavLst>
                                        <p:tav tm="0">
                                          <p:val>
                                            <p:strVal val="0-#ppt_w/2"/>
                                          </p:val>
                                        </p:tav>
                                        <p:tav tm="100000">
                                          <p:val>
                                            <p:strVal val="#ppt_x"/>
                                          </p:val>
                                        </p:tav>
                                      </p:tavLst>
                                    </p:anim>
                                    <p:anim calcmode="lin" valueType="num">
                                      <p:cBhvr additive="base">
                                        <p:cTn id="543" dur="1500" fill="hold"/>
                                        <p:tgtEl>
                                          <p:spTgt spid="1662"/>
                                        </p:tgtEl>
                                        <p:attrNameLst>
                                          <p:attrName>ppt_y</p:attrName>
                                        </p:attrNameLst>
                                      </p:cBhvr>
                                      <p:tavLst>
                                        <p:tav tm="0">
                                          <p:val>
                                            <p:strVal val="#ppt_y"/>
                                          </p:val>
                                        </p:tav>
                                        <p:tav tm="100000">
                                          <p:val>
                                            <p:strVal val="#ppt_y"/>
                                          </p:val>
                                        </p:tav>
                                      </p:tavLst>
                                    </p:anim>
                                    <p:set>
                                      <p:cBhvr>
                                        <p:cTn id="544" dur="1" fill="hold">
                                          <p:stCondLst>
                                            <p:cond delay="0"/>
                                          </p:stCondLst>
                                        </p:cTn>
                                        <p:tgtEl>
                                          <p:spTgt spid="1662"/>
                                        </p:tgtEl>
                                        <p:attrNameLst>
                                          <p:attrName>style.visibility</p:attrName>
                                        </p:attrNameLst>
                                      </p:cBhvr>
                                      <p:to>
                                        <p:strVal val="visible"/>
                                      </p:to>
                                    </p:set>
                                    <p:anim calcmode="lin" valueType="num">
                                      <p:cBhvr additive="repl">
                                        <p:cTn id="545" dur="1500" fill="hold">
                                          <p:stCondLst>
                                            <p:cond delay="0"/>
                                          </p:stCondLst>
                                        </p:cTn>
                                        <p:tgtEl>
                                          <p:spTgt spid="1662"/>
                                        </p:tgtEl>
                                        <p:attrNameLst>
                                          <p:attrName>ppt_w</p:attrName>
                                        </p:attrNameLst>
                                      </p:cBhvr>
                                      <p:tavLst>
                                        <p:tav tm="0">
                                          <p:val>
                                            <p:strVal val="0"/>
                                          </p:val>
                                        </p:tav>
                                        <p:tav tm="100000">
                                          <p:val>
                                            <p:strVal val="#ppt_w"/>
                                          </p:val>
                                        </p:tav>
                                      </p:tavLst>
                                      <p:to>
                                        <p:strVal val=""/>
                                      </p:to>
                                    </p:anim>
                                    <p:anim calcmode="lin" valueType="num">
                                      <p:cBhvr additive="repl">
                                        <p:cTn id="546" dur="1500" fill="hold">
                                          <p:stCondLst>
                                            <p:cond delay="0"/>
                                          </p:stCondLst>
                                        </p:cTn>
                                        <p:tgtEl>
                                          <p:spTgt spid="1662"/>
                                        </p:tgtEl>
                                        <p:attrNameLst>
                                          <p:attrName>ppt_h</p:attrName>
                                        </p:attrNameLst>
                                      </p:cBhvr>
                                      <p:tavLst>
                                        <p:tav tm="0">
                                          <p:val>
                                            <p:strVal val="0"/>
                                          </p:val>
                                        </p:tav>
                                        <p:tav tm="100000">
                                          <p:val>
                                            <p:strVal val="#ppt_h"/>
                                          </p:val>
                                        </p:tav>
                                      </p:tavLst>
                                      <p:to>
                                        <p:strVal val=""/>
                                      </p:to>
                                    </p:anim>
                                    <p:animEffect filter="fade" transition="in">
                                      <p:cBhvr additive="repl">
                                        <p:cTn id="547" dur="1500">
                                          <p:stCondLst>
                                            <p:cond delay="0"/>
                                          </p:stCondLst>
                                        </p:cTn>
                                        <p:tgtEl>
                                          <p:spTgt spid="1662"/>
                                        </p:tgtEl>
                                      </p:cBhvr>
                                    </p:animEffect>
                                  </p:childTnLst>
                                </p:cTn>
                              </p:par>
                              <p:par>
                                <p:cTn id="548" nodeType="withEffect" fill="hold" presetClass="entr" presetID="2" presetSubtype="8">
                                  <p:stCondLst>
                                    <p:cond delay="250"/>
                                  </p:stCondLst>
                                  <p:childTnLst>
                                    <p:set>
                                      <p:cBhvr>
                                        <p:cTn id="549" dur="1" fill="hold">
                                          <p:stCondLst>
                                            <p:cond delay="0"/>
                                          </p:stCondLst>
                                        </p:cTn>
                                        <p:tgtEl>
                                          <p:spTgt spid="1663"/>
                                        </p:tgtEl>
                                        <p:attrNameLst>
                                          <p:attrName>style.visibility</p:attrName>
                                        </p:attrNameLst>
                                      </p:cBhvr>
                                      <p:to>
                                        <p:strVal val="visible"/>
                                      </p:to>
                                    </p:set>
                                    <p:anim calcmode="lin" valueType="num">
                                      <p:cBhvr additive="base">
                                        <p:cTn id="550" dur="1500" fill="hold"/>
                                        <p:tgtEl>
                                          <p:spTgt spid="1663"/>
                                        </p:tgtEl>
                                        <p:attrNameLst>
                                          <p:attrName>ppt_x</p:attrName>
                                        </p:attrNameLst>
                                      </p:cBhvr>
                                      <p:tavLst>
                                        <p:tav tm="0">
                                          <p:val>
                                            <p:strVal val="0-#ppt_w/2"/>
                                          </p:val>
                                        </p:tav>
                                        <p:tav tm="100000">
                                          <p:val>
                                            <p:strVal val="#ppt_x"/>
                                          </p:val>
                                        </p:tav>
                                      </p:tavLst>
                                    </p:anim>
                                    <p:anim calcmode="lin" valueType="num">
                                      <p:cBhvr additive="base">
                                        <p:cTn id="551" dur="1500" fill="hold"/>
                                        <p:tgtEl>
                                          <p:spTgt spid="1663"/>
                                        </p:tgtEl>
                                        <p:attrNameLst>
                                          <p:attrName>ppt_y</p:attrName>
                                        </p:attrNameLst>
                                      </p:cBhvr>
                                      <p:tavLst>
                                        <p:tav tm="0">
                                          <p:val>
                                            <p:strVal val="#ppt_y"/>
                                          </p:val>
                                        </p:tav>
                                        <p:tav tm="100000">
                                          <p:val>
                                            <p:strVal val="#ppt_y"/>
                                          </p:val>
                                        </p:tav>
                                      </p:tavLst>
                                    </p:anim>
                                    <p:set>
                                      <p:cBhvr>
                                        <p:cTn id="552" dur="1" fill="hold">
                                          <p:stCondLst>
                                            <p:cond delay="0"/>
                                          </p:stCondLst>
                                        </p:cTn>
                                        <p:tgtEl>
                                          <p:spTgt spid="1663"/>
                                        </p:tgtEl>
                                        <p:attrNameLst>
                                          <p:attrName>style.visibility</p:attrName>
                                        </p:attrNameLst>
                                      </p:cBhvr>
                                      <p:to>
                                        <p:strVal val="visible"/>
                                      </p:to>
                                    </p:set>
                                    <p:anim calcmode="lin" valueType="num">
                                      <p:cBhvr additive="repl">
                                        <p:cTn id="553" dur="1500" fill="hold">
                                          <p:stCondLst>
                                            <p:cond delay="0"/>
                                          </p:stCondLst>
                                        </p:cTn>
                                        <p:tgtEl>
                                          <p:spTgt spid="1663"/>
                                        </p:tgtEl>
                                        <p:attrNameLst>
                                          <p:attrName>ppt_w</p:attrName>
                                        </p:attrNameLst>
                                      </p:cBhvr>
                                      <p:tavLst>
                                        <p:tav tm="0">
                                          <p:val>
                                            <p:strVal val="0"/>
                                          </p:val>
                                        </p:tav>
                                        <p:tav tm="100000">
                                          <p:val>
                                            <p:strVal val="#ppt_w"/>
                                          </p:val>
                                        </p:tav>
                                      </p:tavLst>
                                      <p:to>
                                        <p:strVal val=""/>
                                      </p:to>
                                    </p:anim>
                                    <p:anim calcmode="lin" valueType="num">
                                      <p:cBhvr additive="repl">
                                        <p:cTn id="554" dur="1500" fill="hold">
                                          <p:stCondLst>
                                            <p:cond delay="0"/>
                                          </p:stCondLst>
                                        </p:cTn>
                                        <p:tgtEl>
                                          <p:spTgt spid="1663"/>
                                        </p:tgtEl>
                                        <p:attrNameLst>
                                          <p:attrName>ppt_h</p:attrName>
                                        </p:attrNameLst>
                                      </p:cBhvr>
                                      <p:tavLst>
                                        <p:tav tm="0">
                                          <p:val>
                                            <p:strVal val="0"/>
                                          </p:val>
                                        </p:tav>
                                        <p:tav tm="100000">
                                          <p:val>
                                            <p:strVal val="#ppt_h"/>
                                          </p:val>
                                        </p:tav>
                                      </p:tavLst>
                                      <p:to>
                                        <p:strVal val=""/>
                                      </p:to>
                                    </p:anim>
                                    <p:animEffect filter="fade" transition="in">
                                      <p:cBhvr additive="repl">
                                        <p:cTn id="555" dur="1500">
                                          <p:stCondLst>
                                            <p:cond delay="0"/>
                                          </p:stCondLst>
                                        </p:cTn>
                                        <p:tgtEl>
                                          <p:spTgt spid="1663"/>
                                        </p:tgtEl>
                                      </p:cBhvr>
                                    </p:animEffect>
                                  </p:childTnLst>
                                </p:cTn>
                              </p:par>
                              <p:par>
                                <p:cTn id="556" nodeType="withEffect" fill="hold" presetClass="entr" presetID="2" presetSubtype="8">
                                  <p:stCondLst>
                                    <p:cond delay="250"/>
                                  </p:stCondLst>
                                  <p:endCondLst>
                                    <p:cond evt="begin"/>
                                  </p:endCondLst>
                                  <p:childTnLst>
                                    <p:set>
                                      <p:cBhvr>
                                        <p:cTn id="557" dur="1" fill="hold">
                                          <p:stCondLst>
                                            <p:cond delay="0"/>
                                          </p:stCondLst>
                                        </p:cTn>
                                        <p:tgtEl>
                                          <p:spTgt spid="1664"/>
                                        </p:tgtEl>
                                        <p:attrNameLst>
                                          <p:attrName>style.visibility</p:attrName>
                                        </p:attrNameLst>
                                      </p:cBhvr>
                                      <p:to>
                                        <p:strVal val="visible"/>
                                      </p:to>
                                    </p:set>
                                    <p:anim calcmode="lin" valueType="num">
                                      <p:cBhvr additive="base">
                                        <p:cTn id="558" dur="1500" fill="hold"/>
                                        <p:tgtEl>
                                          <p:spTgt spid="1664"/>
                                        </p:tgtEl>
                                        <p:attrNameLst>
                                          <p:attrName>ppt_x</p:attrName>
                                        </p:attrNameLst>
                                      </p:cBhvr>
                                      <p:tavLst>
                                        <p:tav tm="0">
                                          <p:val>
                                            <p:strVal val="0-#ppt_w/2"/>
                                          </p:val>
                                        </p:tav>
                                        <p:tav tm="100000">
                                          <p:val>
                                            <p:strVal val="#ppt_x"/>
                                          </p:val>
                                        </p:tav>
                                      </p:tavLst>
                                    </p:anim>
                                    <p:anim calcmode="lin" valueType="num">
                                      <p:cBhvr additive="base">
                                        <p:cTn id="559" dur="1500" fill="hold"/>
                                        <p:tgtEl>
                                          <p:spTgt spid="1664"/>
                                        </p:tgtEl>
                                        <p:attrNameLst>
                                          <p:attrName>ppt_y</p:attrName>
                                        </p:attrNameLst>
                                      </p:cBhvr>
                                      <p:tavLst>
                                        <p:tav tm="0">
                                          <p:val>
                                            <p:strVal val="#ppt_y"/>
                                          </p:val>
                                        </p:tav>
                                        <p:tav tm="100000">
                                          <p:val>
                                            <p:strVal val="#ppt_y"/>
                                          </p:val>
                                        </p:tav>
                                      </p:tavLst>
                                    </p:anim>
                                    <p:set>
                                      <p:cBhvr>
                                        <p:cTn id="560" dur="1" fill="hold">
                                          <p:stCondLst>
                                            <p:cond delay="0"/>
                                          </p:stCondLst>
                                        </p:cTn>
                                        <p:tgtEl>
                                          <p:spTgt spid="1664"/>
                                        </p:tgtEl>
                                        <p:attrNameLst>
                                          <p:attrName>style.visibility</p:attrName>
                                        </p:attrNameLst>
                                      </p:cBhvr>
                                      <p:to>
                                        <p:strVal val="visible"/>
                                      </p:to>
                                    </p:set>
                                    <p:anim calcmode="lin" valueType="num">
                                      <p:cBhvr additive="repl">
                                        <p:cTn id="561" dur="1500" fill="hold">
                                          <p:stCondLst>
                                            <p:cond delay="0"/>
                                          </p:stCondLst>
                                        </p:cTn>
                                        <p:tgtEl>
                                          <p:spTgt spid="1664"/>
                                        </p:tgtEl>
                                        <p:attrNameLst>
                                          <p:attrName>ppt_w</p:attrName>
                                        </p:attrNameLst>
                                      </p:cBhvr>
                                      <p:tavLst>
                                        <p:tav tm="0">
                                          <p:val>
                                            <p:strVal val="0"/>
                                          </p:val>
                                        </p:tav>
                                        <p:tav tm="100000">
                                          <p:val>
                                            <p:strVal val="#ppt_w"/>
                                          </p:val>
                                        </p:tav>
                                      </p:tavLst>
                                      <p:to>
                                        <p:strVal val=""/>
                                      </p:to>
                                    </p:anim>
                                    <p:anim calcmode="lin" valueType="num">
                                      <p:cBhvr additive="repl">
                                        <p:cTn id="562" dur="1500" fill="hold">
                                          <p:stCondLst>
                                            <p:cond delay="0"/>
                                          </p:stCondLst>
                                        </p:cTn>
                                        <p:tgtEl>
                                          <p:spTgt spid="1664"/>
                                        </p:tgtEl>
                                        <p:attrNameLst>
                                          <p:attrName>ppt_h</p:attrName>
                                        </p:attrNameLst>
                                      </p:cBhvr>
                                      <p:tavLst>
                                        <p:tav tm="0">
                                          <p:val>
                                            <p:strVal val="0"/>
                                          </p:val>
                                        </p:tav>
                                        <p:tav tm="100000">
                                          <p:val>
                                            <p:strVal val="#ppt_h"/>
                                          </p:val>
                                        </p:tav>
                                      </p:tavLst>
                                      <p:to>
                                        <p:strVal val=""/>
                                      </p:to>
                                    </p:anim>
                                    <p:animEffect filter="fade" transition="in">
                                      <p:cBhvr additive="repl">
                                        <p:cTn id="563" dur="1500">
                                          <p:stCondLst>
                                            <p:cond delay="0"/>
                                          </p:stCondLst>
                                        </p:cTn>
                                        <p:tgtEl>
                                          <p:spTgt spid="1664"/>
                                        </p:tgtEl>
                                      </p:cBhvr>
                                    </p:animEffect>
                                  </p:childTnLst>
                                </p:cTn>
                              </p:par>
                              <p:par>
                                <p:cTn id="564" nodeType="withEffect" fill="hold" presetClass="entr" presetID="2" presetSubtype="8">
                                  <p:stCondLst>
                                    <p:cond delay="250"/>
                                  </p:stCondLst>
                                  <p:endCondLst>
                                    <p:cond evt="begin"/>
                                  </p:endCondLst>
                                  <p:childTnLst>
                                    <p:set>
                                      <p:cBhvr>
                                        <p:cTn id="565" dur="1" fill="hold">
                                          <p:stCondLst>
                                            <p:cond delay="0"/>
                                          </p:stCondLst>
                                        </p:cTn>
                                        <p:tgtEl>
                                          <p:spTgt spid="1667"/>
                                        </p:tgtEl>
                                        <p:attrNameLst>
                                          <p:attrName>style.visibility</p:attrName>
                                        </p:attrNameLst>
                                      </p:cBhvr>
                                      <p:to>
                                        <p:strVal val="visible"/>
                                      </p:to>
                                    </p:set>
                                    <p:anim calcmode="lin" valueType="num">
                                      <p:cBhvr additive="base">
                                        <p:cTn id="566" dur="1500" fill="hold"/>
                                        <p:tgtEl>
                                          <p:spTgt spid="1667"/>
                                        </p:tgtEl>
                                        <p:attrNameLst>
                                          <p:attrName>ppt_x</p:attrName>
                                        </p:attrNameLst>
                                      </p:cBhvr>
                                      <p:tavLst>
                                        <p:tav tm="0">
                                          <p:val>
                                            <p:strVal val="0-#ppt_w/2"/>
                                          </p:val>
                                        </p:tav>
                                        <p:tav tm="100000">
                                          <p:val>
                                            <p:strVal val="#ppt_x"/>
                                          </p:val>
                                        </p:tav>
                                      </p:tavLst>
                                    </p:anim>
                                    <p:anim calcmode="lin" valueType="num">
                                      <p:cBhvr additive="base">
                                        <p:cTn id="567" dur="1500" fill="hold"/>
                                        <p:tgtEl>
                                          <p:spTgt spid="1667"/>
                                        </p:tgtEl>
                                        <p:attrNameLst>
                                          <p:attrName>ppt_y</p:attrName>
                                        </p:attrNameLst>
                                      </p:cBhvr>
                                      <p:tavLst>
                                        <p:tav tm="0">
                                          <p:val>
                                            <p:strVal val="#ppt_y"/>
                                          </p:val>
                                        </p:tav>
                                        <p:tav tm="100000">
                                          <p:val>
                                            <p:strVal val="#ppt_y"/>
                                          </p:val>
                                        </p:tav>
                                      </p:tavLst>
                                    </p:anim>
                                    <p:set>
                                      <p:cBhvr>
                                        <p:cTn id="568" dur="1" fill="hold">
                                          <p:stCondLst>
                                            <p:cond delay="0"/>
                                          </p:stCondLst>
                                        </p:cTn>
                                        <p:tgtEl>
                                          <p:spTgt spid="1667"/>
                                        </p:tgtEl>
                                        <p:attrNameLst>
                                          <p:attrName>style.visibility</p:attrName>
                                        </p:attrNameLst>
                                      </p:cBhvr>
                                      <p:to>
                                        <p:strVal val="visible"/>
                                      </p:to>
                                    </p:set>
                                    <p:anim calcmode="lin" valueType="num">
                                      <p:cBhvr additive="repl">
                                        <p:cTn id="569" dur="1500" fill="hold">
                                          <p:stCondLst>
                                            <p:cond delay="0"/>
                                          </p:stCondLst>
                                        </p:cTn>
                                        <p:tgtEl>
                                          <p:spTgt spid="1667"/>
                                        </p:tgtEl>
                                        <p:attrNameLst>
                                          <p:attrName>ppt_w</p:attrName>
                                        </p:attrNameLst>
                                      </p:cBhvr>
                                      <p:tavLst>
                                        <p:tav tm="0">
                                          <p:val>
                                            <p:strVal val="0"/>
                                          </p:val>
                                        </p:tav>
                                        <p:tav tm="100000">
                                          <p:val>
                                            <p:strVal val="#ppt_w"/>
                                          </p:val>
                                        </p:tav>
                                      </p:tavLst>
                                      <p:to>
                                        <p:strVal val=""/>
                                      </p:to>
                                    </p:anim>
                                    <p:anim calcmode="lin" valueType="num">
                                      <p:cBhvr additive="repl">
                                        <p:cTn id="570" dur="1500" fill="hold">
                                          <p:stCondLst>
                                            <p:cond delay="0"/>
                                          </p:stCondLst>
                                        </p:cTn>
                                        <p:tgtEl>
                                          <p:spTgt spid="1667"/>
                                        </p:tgtEl>
                                        <p:attrNameLst>
                                          <p:attrName>ppt_h</p:attrName>
                                        </p:attrNameLst>
                                      </p:cBhvr>
                                      <p:tavLst>
                                        <p:tav tm="0">
                                          <p:val>
                                            <p:strVal val="0"/>
                                          </p:val>
                                        </p:tav>
                                        <p:tav tm="100000">
                                          <p:val>
                                            <p:strVal val="#ppt_h"/>
                                          </p:val>
                                        </p:tav>
                                      </p:tavLst>
                                      <p:to>
                                        <p:strVal val=""/>
                                      </p:to>
                                    </p:anim>
                                    <p:animEffect filter="fade" transition="in">
                                      <p:cBhvr additive="repl">
                                        <p:cTn id="571" dur="1500">
                                          <p:stCondLst>
                                            <p:cond delay="0"/>
                                          </p:stCondLst>
                                        </p:cTn>
                                        <p:tgtEl>
                                          <p:spTgt spid="1667"/>
                                        </p:tgtEl>
                                      </p:cBhvr>
                                    </p:animEffect>
                                  </p:childTnLst>
                                </p:cTn>
                              </p:par>
                              <p:par>
                                <p:cTn id="572" nodeType="withEffect" fill="hold" presetClass="entr" presetID="2" presetSubtype="8">
                                  <p:stCondLst>
                                    <p:cond delay="250"/>
                                  </p:stCondLst>
                                  <p:endCondLst>
                                    <p:cond evt="begin"/>
                                  </p:endCondLst>
                                  <p:childTnLst>
                                    <p:set>
                                      <p:cBhvr>
                                        <p:cTn id="573" dur="1" fill="hold">
                                          <p:stCondLst>
                                            <p:cond delay="0"/>
                                          </p:stCondLst>
                                        </p:cTn>
                                        <p:tgtEl>
                                          <p:spTgt spid="1669"/>
                                        </p:tgtEl>
                                        <p:attrNameLst>
                                          <p:attrName>style.visibility</p:attrName>
                                        </p:attrNameLst>
                                      </p:cBhvr>
                                      <p:to>
                                        <p:strVal val="visible"/>
                                      </p:to>
                                    </p:set>
                                    <p:anim calcmode="lin" valueType="num">
                                      <p:cBhvr additive="base">
                                        <p:cTn id="574" dur="1500" fill="hold"/>
                                        <p:tgtEl>
                                          <p:spTgt spid="1669"/>
                                        </p:tgtEl>
                                        <p:attrNameLst>
                                          <p:attrName>ppt_x</p:attrName>
                                        </p:attrNameLst>
                                      </p:cBhvr>
                                      <p:tavLst>
                                        <p:tav tm="0">
                                          <p:val>
                                            <p:strVal val="0-#ppt_w/2"/>
                                          </p:val>
                                        </p:tav>
                                        <p:tav tm="100000">
                                          <p:val>
                                            <p:strVal val="#ppt_x"/>
                                          </p:val>
                                        </p:tav>
                                      </p:tavLst>
                                    </p:anim>
                                    <p:anim calcmode="lin" valueType="num">
                                      <p:cBhvr additive="base">
                                        <p:cTn id="575" dur="1500" fill="hold"/>
                                        <p:tgtEl>
                                          <p:spTgt spid="1669"/>
                                        </p:tgtEl>
                                        <p:attrNameLst>
                                          <p:attrName>ppt_y</p:attrName>
                                        </p:attrNameLst>
                                      </p:cBhvr>
                                      <p:tavLst>
                                        <p:tav tm="0">
                                          <p:val>
                                            <p:strVal val="#ppt_y"/>
                                          </p:val>
                                        </p:tav>
                                        <p:tav tm="100000">
                                          <p:val>
                                            <p:strVal val="#ppt_y"/>
                                          </p:val>
                                        </p:tav>
                                      </p:tavLst>
                                    </p:anim>
                                    <p:set>
                                      <p:cBhvr>
                                        <p:cTn id="576" dur="1" fill="hold">
                                          <p:stCondLst>
                                            <p:cond delay="0"/>
                                          </p:stCondLst>
                                        </p:cTn>
                                        <p:tgtEl>
                                          <p:spTgt spid="1669"/>
                                        </p:tgtEl>
                                        <p:attrNameLst>
                                          <p:attrName>style.visibility</p:attrName>
                                        </p:attrNameLst>
                                      </p:cBhvr>
                                      <p:to>
                                        <p:strVal val="visible"/>
                                      </p:to>
                                    </p:set>
                                    <p:anim calcmode="lin" valueType="num">
                                      <p:cBhvr additive="repl">
                                        <p:cTn id="577" dur="1500" fill="hold">
                                          <p:stCondLst>
                                            <p:cond delay="0"/>
                                          </p:stCondLst>
                                        </p:cTn>
                                        <p:tgtEl>
                                          <p:spTgt spid="1669"/>
                                        </p:tgtEl>
                                        <p:attrNameLst>
                                          <p:attrName>ppt_w</p:attrName>
                                        </p:attrNameLst>
                                      </p:cBhvr>
                                      <p:tavLst>
                                        <p:tav tm="0">
                                          <p:val>
                                            <p:strVal val="0"/>
                                          </p:val>
                                        </p:tav>
                                        <p:tav tm="100000">
                                          <p:val>
                                            <p:strVal val="#ppt_w"/>
                                          </p:val>
                                        </p:tav>
                                      </p:tavLst>
                                      <p:to>
                                        <p:strVal val=""/>
                                      </p:to>
                                    </p:anim>
                                    <p:anim calcmode="lin" valueType="num">
                                      <p:cBhvr additive="repl">
                                        <p:cTn id="578" dur="1500" fill="hold">
                                          <p:stCondLst>
                                            <p:cond delay="0"/>
                                          </p:stCondLst>
                                        </p:cTn>
                                        <p:tgtEl>
                                          <p:spTgt spid="1669"/>
                                        </p:tgtEl>
                                        <p:attrNameLst>
                                          <p:attrName>ppt_h</p:attrName>
                                        </p:attrNameLst>
                                      </p:cBhvr>
                                      <p:tavLst>
                                        <p:tav tm="0">
                                          <p:val>
                                            <p:strVal val="0"/>
                                          </p:val>
                                        </p:tav>
                                        <p:tav tm="100000">
                                          <p:val>
                                            <p:strVal val="#ppt_h"/>
                                          </p:val>
                                        </p:tav>
                                      </p:tavLst>
                                      <p:to>
                                        <p:strVal val=""/>
                                      </p:to>
                                    </p:anim>
                                    <p:animEffect filter="fade" transition="in">
                                      <p:cBhvr additive="repl">
                                        <p:cTn id="579" dur="1500">
                                          <p:stCondLst>
                                            <p:cond delay="0"/>
                                          </p:stCondLst>
                                        </p:cTn>
                                        <p:tgtEl>
                                          <p:spTgt spid="1669"/>
                                        </p:tgtEl>
                                      </p:cBhvr>
                                    </p:animEffect>
                                  </p:childTnLst>
                                </p:cTn>
                              </p:par>
                              <p:par>
                                <p:cTn id="580" nodeType="withEffect" fill="hold" presetClass="entr" presetID="2" presetSubtype="8">
                                  <p:stCondLst>
                                    <p:cond delay="0"/>
                                  </p:stCondLst>
                                  <p:childTnLst>
                                    <p:set>
                                      <p:cBhvr>
                                        <p:cTn id="581" dur="1" fill="hold">
                                          <p:stCondLst>
                                            <p:cond delay="0"/>
                                          </p:stCondLst>
                                        </p:cTn>
                                        <p:tgtEl>
                                          <p:spTgt spid="1671"/>
                                        </p:tgtEl>
                                        <p:attrNameLst>
                                          <p:attrName>style.visibility</p:attrName>
                                        </p:attrNameLst>
                                      </p:cBhvr>
                                      <p:to>
                                        <p:strVal val="visible"/>
                                      </p:to>
                                    </p:set>
                                    <p:anim calcmode="lin" valueType="num">
                                      <p:cBhvr additive="base">
                                        <p:cTn id="582" dur="500" fill="hold"/>
                                        <p:tgtEl>
                                          <p:spTgt spid="1671"/>
                                        </p:tgtEl>
                                        <p:attrNameLst>
                                          <p:attrName>ppt_x</p:attrName>
                                        </p:attrNameLst>
                                      </p:cBhvr>
                                      <p:tavLst>
                                        <p:tav tm="0">
                                          <p:val>
                                            <p:strVal val="0-#ppt_w/2"/>
                                          </p:val>
                                        </p:tav>
                                        <p:tav tm="100000">
                                          <p:val>
                                            <p:strVal val="#ppt_x"/>
                                          </p:val>
                                        </p:tav>
                                      </p:tavLst>
                                    </p:anim>
                                    <p:anim calcmode="lin" valueType="num">
                                      <p:cBhvr additive="base">
                                        <p:cTn id="583" dur="500" fill="hold"/>
                                        <p:tgtEl>
                                          <p:spTgt spid="1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3" name="图片 1" descr=""/>
          <p:cNvPicPr/>
          <p:nvPr/>
        </p:nvPicPr>
        <p:blipFill>
          <a:blip r:embed="rId1"/>
          <a:stretch/>
        </p:blipFill>
        <p:spPr>
          <a:xfrm>
            <a:off x="4981680" y="266760"/>
            <a:ext cx="1749240" cy="1326960"/>
          </a:xfrm>
          <a:prstGeom prst="rect">
            <a:avLst/>
          </a:prstGeom>
          <a:ln w="0">
            <a:noFill/>
          </a:ln>
        </p:spPr>
      </p:pic>
      <p:pic>
        <p:nvPicPr>
          <p:cNvPr id="1674" name="图片 2" descr=""/>
          <p:cNvPicPr/>
          <p:nvPr/>
        </p:nvPicPr>
        <p:blipFill>
          <a:blip r:embed="rId2"/>
          <a:stretch/>
        </p:blipFill>
        <p:spPr>
          <a:xfrm>
            <a:off x="6730920" y="1720800"/>
            <a:ext cx="3643560" cy="4330800"/>
          </a:xfrm>
          <a:prstGeom prst="rect">
            <a:avLst/>
          </a:prstGeom>
          <a:ln w="0">
            <a:noFill/>
          </a:ln>
        </p:spPr>
      </p:pic>
      <p:sp>
        <p:nvSpPr>
          <p:cNvPr id="1675" name="矩形 12"/>
          <p:cNvSpPr/>
          <p:nvPr/>
        </p:nvSpPr>
        <p:spPr>
          <a:xfrm>
            <a:off x="949320" y="1827360"/>
            <a:ext cx="4881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4</a:t>
            </a:r>
            <a:r>
              <a:rPr b="0" lang="zh-CN" sz="2400" spc="-1" strike="noStrike">
                <a:solidFill>
                  <a:srgbClr val="ff0000"/>
                </a:solidFill>
                <a:latin typeface="造字工房尚雅（非商用）常规体"/>
                <a:ea typeface="造字工房尚雅（非商用）常规体"/>
              </a:rPr>
              <a:t>、注意事项</a:t>
            </a:r>
            <a:endParaRPr b="0" lang="en-US" sz="2400" spc="-1" strike="noStrike">
              <a:solidFill>
                <a:srgbClr val="262626"/>
              </a:solidFill>
              <a:latin typeface="Arial"/>
            </a:endParaRPr>
          </a:p>
        </p:txBody>
      </p:sp>
      <p:sp>
        <p:nvSpPr>
          <p:cNvPr id="1676" name="矩形 13"/>
          <p:cNvSpPr/>
          <p:nvPr/>
        </p:nvSpPr>
        <p:spPr>
          <a:xfrm>
            <a:off x="949320" y="2558880"/>
            <a:ext cx="5843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a:t>
            </a:r>
            <a:r>
              <a:rPr b="0" sz="2000" spc="-1" strike="noStrike">
                <a:solidFill>
                  <a:srgbClr val="262626"/>
                </a:solidFill>
                <a:latin typeface="等线"/>
                <a:ea typeface="等线"/>
              </a:rPr>
              <a:t>1</a:t>
            </a:r>
            <a:r>
              <a:rPr b="0" sz="2000" spc="-1" strike="noStrike">
                <a:solidFill>
                  <a:srgbClr val="262626"/>
                </a:solidFill>
                <a:latin typeface="等线"/>
                <a:ea typeface="等线"/>
              </a:rPr>
              <a:t>）</a:t>
            </a:r>
            <a:endParaRPr b="0" lang="en-US" sz="2000" spc="-1" strike="noStrike">
              <a:solidFill>
                <a:srgbClr val="262626"/>
              </a:solidFill>
              <a:latin typeface="Arial"/>
            </a:endParaRPr>
          </a:p>
        </p:txBody>
      </p:sp>
      <p:sp>
        <p:nvSpPr>
          <p:cNvPr id="1677" name="矩形 14"/>
          <p:cNvSpPr/>
          <p:nvPr/>
        </p:nvSpPr>
        <p:spPr>
          <a:xfrm>
            <a:off x="1054080" y="3538440"/>
            <a:ext cx="8089920" cy="598320"/>
          </a:xfrm>
          <a:prstGeom prst="rect">
            <a:avLst/>
          </a:prstGeom>
          <a:noFill/>
          <a:ln w="0">
            <a:noFill/>
          </a:ln>
        </p:spPr>
        <p:style>
          <a:lnRef idx="0"/>
          <a:fillRef idx="0"/>
          <a:effectRef idx="0"/>
          <a:fontRef idx="minor"/>
        </p:style>
        <p:txBody>
          <a:bodyPr lIns="90000" rIns="90000" tIns="46800" bIns="46800" anchor="t">
            <a:spAutoFit/>
          </a:bodyPr>
          <a:p>
            <a:pP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a:t>
            </a:r>
            <a:r>
              <a:rPr b="0" sz="2000" spc="-1" strike="noStrike">
                <a:solidFill>
                  <a:srgbClr val="262626"/>
                </a:solidFill>
                <a:latin typeface="等线"/>
                <a:ea typeface="等线"/>
              </a:rPr>
              <a:t>2</a:t>
            </a:r>
            <a:r>
              <a:rPr b="0" sz="2000" spc="-1" strike="noStrike">
                <a:solidFill>
                  <a:srgbClr val="262626"/>
                </a:solidFill>
                <a:latin typeface="等线"/>
                <a:ea typeface="等线"/>
              </a:rPr>
              <a:t>）</a:t>
            </a: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sp>
        <p:nvSpPr>
          <p:cNvPr id="1678" name="矩形 7"/>
          <p:cNvSpPr/>
          <p:nvPr/>
        </p:nvSpPr>
        <p:spPr>
          <a:xfrm>
            <a:off x="1763640" y="2538360"/>
            <a:ext cx="6013440" cy="1270800"/>
          </a:xfrm>
          <a:prstGeom prst="rect">
            <a:avLst/>
          </a:prstGeom>
          <a:noFill/>
          <a:ln w="0">
            <a:noFill/>
          </a:ln>
        </p:spPr>
        <p:style>
          <a:lnRef idx="0"/>
          <a:fillRef idx="0"/>
          <a:effectRef idx="0"/>
          <a:fontRef idx="minor"/>
        </p:style>
        <p:txBody>
          <a:bodyPr lIns="90000" rIns="90000" tIns="46800" bIns="46800" anchor="t">
            <a:spAutoFit/>
          </a:bodyPr>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采取指定分摊或约定分摊方式的，每一纳税人</a:t>
            </a: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分摊的扣除额最高不得超过每年</a:t>
            </a:r>
            <a:r>
              <a:rPr b="0" sz="2000" spc="-1" strike="noStrike">
                <a:solidFill>
                  <a:srgbClr val="262626"/>
                </a:solidFill>
                <a:latin typeface="等线"/>
                <a:ea typeface="等线"/>
              </a:rPr>
              <a:t>12000</a:t>
            </a:r>
            <a:r>
              <a:rPr b="0" sz="2000" spc="-1" strike="noStrike">
                <a:solidFill>
                  <a:srgbClr val="262626"/>
                </a:solidFill>
                <a:latin typeface="等线"/>
                <a:ea typeface="等线"/>
              </a:rPr>
              <a:t>元（每</a:t>
            </a: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月</a:t>
            </a:r>
            <a:r>
              <a:rPr b="0" sz="2000" spc="-1" strike="noStrike">
                <a:solidFill>
                  <a:srgbClr val="262626"/>
                </a:solidFill>
                <a:latin typeface="等线"/>
                <a:ea typeface="等线"/>
              </a:rPr>
              <a:t>1000</a:t>
            </a:r>
            <a:r>
              <a:rPr b="0" sz="2000" spc="-1" strike="noStrike">
                <a:solidFill>
                  <a:srgbClr val="262626"/>
                </a:solidFill>
                <a:latin typeface="等线"/>
                <a:ea typeface="等线"/>
              </a:rPr>
              <a:t>元），并签订书面分摊协议。</a:t>
            </a: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sp>
        <p:nvSpPr>
          <p:cNvPr id="1679" name="矩形 8"/>
          <p:cNvSpPr/>
          <p:nvPr/>
        </p:nvSpPr>
        <p:spPr>
          <a:xfrm>
            <a:off x="1851120" y="3689280"/>
            <a:ext cx="6877080" cy="598320"/>
          </a:xfrm>
          <a:prstGeom prst="rect">
            <a:avLst/>
          </a:prstGeom>
          <a:noFill/>
          <a:ln w="0">
            <a:noFill/>
          </a:ln>
        </p:spPr>
        <p:style>
          <a:lnRef idx="0"/>
          <a:fillRef idx="0"/>
          <a:effectRef idx="0"/>
          <a:fontRef idx="minor"/>
        </p:style>
        <p:txBody>
          <a:bodyPr lIns="90000" rIns="90000" tIns="46800" bIns="46800" anchor="t">
            <a:spAutoFit/>
          </a:bodyPr>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指定分摊与约定分摊不一致的，以指定分摊</a:t>
            </a: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为准。</a:t>
            </a:r>
            <a:endParaRPr b="0" lang="en-US" sz="2000" spc="-1" strike="noStrike">
              <a:solidFill>
                <a:srgbClr val="262626"/>
              </a:solidFill>
              <a:latin typeface="Arial"/>
            </a:endParaRPr>
          </a:p>
        </p:txBody>
      </p:sp>
      <p:sp>
        <p:nvSpPr>
          <p:cNvPr id="1680" name="矩形 9"/>
          <p:cNvSpPr/>
          <p:nvPr/>
        </p:nvSpPr>
        <p:spPr>
          <a:xfrm>
            <a:off x="1130400" y="4400640"/>
            <a:ext cx="80136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a:t>
            </a:r>
            <a:r>
              <a:rPr b="0" sz="2000" spc="-1" strike="noStrike">
                <a:solidFill>
                  <a:srgbClr val="262626"/>
                </a:solidFill>
                <a:latin typeface="等线"/>
                <a:ea typeface="等线"/>
              </a:rPr>
              <a:t>3</a:t>
            </a:r>
            <a:r>
              <a:rPr b="0" sz="2000" spc="-1" strike="noStrike">
                <a:solidFill>
                  <a:srgbClr val="262626"/>
                </a:solidFill>
                <a:latin typeface="等线"/>
                <a:ea typeface="等线"/>
              </a:rPr>
              <a:t>）纳税人赡养</a:t>
            </a:r>
            <a:r>
              <a:rPr b="0" sz="2000" spc="-1" strike="noStrike">
                <a:solidFill>
                  <a:srgbClr val="262626"/>
                </a:solidFill>
                <a:latin typeface="等线"/>
                <a:ea typeface="等线"/>
              </a:rPr>
              <a:t>2</a:t>
            </a:r>
            <a:r>
              <a:rPr b="0" sz="2000" spc="-1" strike="noStrike">
                <a:solidFill>
                  <a:srgbClr val="262626"/>
                </a:solidFill>
                <a:latin typeface="等线"/>
                <a:ea typeface="等线"/>
              </a:rPr>
              <a:t>个及以上老人的，不按老人</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262626"/>
                </a:solidFill>
                <a:latin typeface="等线"/>
                <a:ea typeface="等线"/>
              </a:rPr>
              <a:t>         </a:t>
            </a:r>
            <a:r>
              <a:rPr b="0" sz="2000" spc="-1" strike="noStrike">
                <a:solidFill>
                  <a:srgbClr val="262626"/>
                </a:solidFill>
                <a:latin typeface="等线"/>
                <a:ea typeface="等线"/>
              </a:rPr>
              <a:t>人数加倍扣除。</a:t>
            </a:r>
            <a:br>
              <a:rPr sz="1800"/>
            </a:br>
            <a:endParaRPr b="0" lang="en-US" sz="2000" spc="-1" strike="noStrike">
              <a:solidFill>
                <a:srgbClr val="262626"/>
              </a:solidFill>
              <a:latin typeface="Arial"/>
            </a:endParaRPr>
          </a:p>
        </p:txBody>
      </p:sp>
    </p:spTree>
  </p:cSld>
  <p:transition spd="slow">
    <p:random/>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 presetSubtype="8">
                                  <p:stCondLst>
                                    <p:cond delay="0"/>
                                  </p:stCondLst>
                                  <p:childTnLst>
                                    <p:set>
                                      <p:cBhvr>
                                        <p:cTn id="589" dur="1" fill="hold">
                                          <p:stCondLst>
                                            <p:cond delay="0"/>
                                          </p:stCondLst>
                                        </p:cTn>
                                        <p:tgtEl>
                                          <p:spTgt spid="1673"/>
                                        </p:tgtEl>
                                        <p:attrNameLst>
                                          <p:attrName>style.visibility</p:attrName>
                                        </p:attrNameLst>
                                      </p:cBhvr>
                                      <p:to>
                                        <p:strVal val="visible"/>
                                      </p:to>
                                    </p:set>
                                    <p:anim calcmode="lin" valueType="num">
                                      <p:cBhvr additive="base">
                                        <p:cTn id="590" dur="500" fill="hold"/>
                                        <p:tgtEl>
                                          <p:spTgt spid="1673"/>
                                        </p:tgtEl>
                                        <p:attrNameLst>
                                          <p:attrName>ppt_x</p:attrName>
                                        </p:attrNameLst>
                                      </p:cBhvr>
                                      <p:tavLst>
                                        <p:tav tm="0">
                                          <p:val>
                                            <p:strVal val="0-#ppt_w/2"/>
                                          </p:val>
                                        </p:tav>
                                        <p:tav tm="100000">
                                          <p:val>
                                            <p:strVal val="#ppt_x"/>
                                          </p:val>
                                        </p:tav>
                                      </p:tavLst>
                                    </p:anim>
                                    <p:anim calcmode="lin" valueType="num">
                                      <p:cBhvr additive="base">
                                        <p:cTn id="591" dur="500" fill="hold"/>
                                        <p:tgtEl>
                                          <p:spTgt spid="1673"/>
                                        </p:tgtEl>
                                        <p:attrNameLst>
                                          <p:attrName>ppt_y</p:attrName>
                                        </p:attrNameLst>
                                      </p:cBhvr>
                                      <p:tavLst>
                                        <p:tav tm="0">
                                          <p:val>
                                            <p:strVal val="#ppt_y"/>
                                          </p:val>
                                        </p:tav>
                                        <p:tav tm="100000">
                                          <p:val>
                                            <p:strVal val="#ppt_y"/>
                                          </p:val>
                                        </p:tav>
                                      </p:tavLst>
                                    </p:anim>
                                  </p:childTnLst>
                                </p:cTn>
                              </p:par>
                            </p:childTnLst>
                          </p:cTn>
                        </p:par>
                        <p:par>
                          <p:cTn id="592" nodeType="afterEffect" fill="hold">
                            <p:stCondLst>
                              <p:cond delay="500"/>
                            </p:stCondLst>
                            <p:childTnLst>
                              <p:par>
                                <p:cTn id="593" nodeType="afterEffect" fill="hold" presetClass="entr" presetID="53" presetSubtype="16">
                                  <p:stCondLst>
                                    <p:cond delay="0"/>
                                  </p:stCondLst>
                                  <p:iterate type="lt">
                                    <p:tmAbs val="50"/>
                                  </p:iterate>
                                  <p:childTnLst>
                                    <p:set>
                                      <p:cBhvr>
                                        <p:cTn id="594" dur="1" fill="hold">
                                          <p:stCondLst>
                                            <p:cond delay="0"/>
                                          </p:stCondLst>
                                        </p:cTn>
                                        <p:tgtEl>
                                          <p:spTgt spid="1675"/>
                                        </p:tgtEl>
                                        <p:attrNameLst>
                                          <p:attrName>style.visibility</p:attrName>
                                        </p:attrNameLst>
                                      </p:cBhvr>
                                      <p:to>
                                        <p:strVal val="visible"/>
                                      </p:to>
                                    </p:set>
                                    <p:anim calcmode="lin" valueType="num">
                                      <p:cBhvr additive="repl">
                                        <p:cTn id="595" dur="500" fill="hold"/>
                                        <p:tgtEl>
                                          <p:spTgt spid="1675"/>
                                        </p:tgtEl>
                                        <p:attrNameLst>
                                          <p:attrName>ppt_w</p:attrName>
                                        </p:attrNameLst>
                                      </p:cBhvr>
                                      <p:tavLst>
                                        <p:tav tm="0">
                                          <p:val>
                                            <p:fltVal val="0"/>
                                          </p:val>
                                        </p:tav>
                                        <p:tav tm="100000">
                                          <p:val>
                                            <p:strVal val="#ppt_w"/>
                                          </p:val>
                                        </p:tav>
                                      </p:tavLst>
                                    </p:anim>
                                    <p:anim calcmode="lin" valueType="num">
                                      <p:cBhvr additive="repl">
                                        <p:cTn id="596" dur="500" fill="hold"/>
                                        <p:tgtEl>
                                          <p:spTgt spid="1675"/>
                                        </p:tgtEl>
                                        <p:attrNameLst>
                                          <p:attrName>ppt_h</p:attrName>
                                        </p:attrNameLst>
                                      </p:cBhvr>
                                      <p:tavLst>
                                        <p:tav tm="0">
                                          <p:val>
                                            <p:fltVal val="0"/>
                                          </p:val>
                                        </p:tav>
                                        <p:tav tm="100000">
                                          <p:val>
                                            <p:strVal val="#ppt_h"/>
                                          </p:val>
                                        </p:tav>
                                      </p:tavLst>
                                    </p:anim>
                                    <p:animEffect filter="fade" transition="in">
                                      <p:cBhvr additive="repl">
                                        <p:cTn id="597" dur="500"/>
                                        <p:tgtEl>
                                          <p:spTgt spid="1675"/>
                                        </p:tgtEl>
                                      </p:cBhvr>
                                    </p:animEffect>
                                  </p:childTnLst>
                                </p:cTn>
                              </p:par>
                            </p:childTnLst>
                          </p:cTn>
                        </p:par>
                        <p:par>
                          <p:cTn id="598" nodeType="afterEffect" fill="hold">
                            <p:stCondLst>
                              <p:cond delay="1250"/>
                            </p:stCondLst>
                            <p:childTnLst>
                              <p:par>
                                <p:cTn id="599" nodeType="afterEffect" fill="hold" presetClass="entr" presetID="42">
                                  <p:stCondLst>
                                    <p:cond delay="0"/>
                                  </p:stCondLst>
                                  <p:childTnLst>
                                    <p:set>
                                      <p:cBhvr>
                                        <p:cTn id="600" dur="1" fill="hold">
                                          <p:stCondLst>
                                            <p:cond delay="0"/>
                                          </p:stCondLst>
                                        </p:cTn>
                                        <p:tgtEl>
                                          <p:spTgt spid="1676"/>
                                        </p:tgtEl>
                                        <p:attrNameLst>
                                          <p:attrName>style.visibility</p:attrName>
                                        </p:attrNameLst>
                                      </p:cBhvr>
                                      <p:to>
                                        <p:strVal val="visible"/>
                                      </p:to>
                                    </p:set>
                                    <p:animEffect filter="fade" transition="in">
                                      <p:cBhvr additive="repl">
                                        <p:cTn id="601" dur="1000"/>
                                        <p:tgtEl>
                                          <p:spTgt spid="1676"/>
                                        </p:tgtEl>
                                      </p:cBhvr>
                                    </p:animEffect>
                                    <p:anim calcmode="lin" valueType="num">
                                      <p:cBhvr additive="repl">
                                        <p:cTn id="602" dur="1000" fill="hold"/>
                                        <p:tgtEl>
                                          <p:spTgt spid="1676"/>
                                        </p:tgtEl>
                                        <p:attrNameLst>
                                          <p:attrName>ppt_x</p:attrName>
                                        </p:attrNameLst>
                                      </p:cBhvr>
                                      <p:tavLst>
                                        <p:tav tm="0">
                                          <p:val>
                                            <p:strVal val="#ppt_x"/>
                                          </p:val>
                                        </p:tav>
                                        <p:tav tm="100000">
                                          <p:val>
                                            <p:strVal val="#ppt_x"/>
                                          </p:val>
                                        </p:tav>
                                      </p:tavLst>
                                    </p:anim>
                                    <p:anim calcmode="lin" valueType="num">
                                      <p:cBhvr additive="repl">
                                        <p:cTn id="603" dur="1000" fill="hold"/>
                                        <p:tgtEl>
                                          <p:spTgt spid="16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图形 3"/>
          <p:cNvGrpSpPr/>
          <p:nvPr/>
        </p:nvGrpSpPr>
        <p:grpSpPr>
          <a:xfrm>
            <a:off x="0" y="-777960"/>
            <a:ext cx="12536640" cy="7635960"/>
            <a:chOff x="0" y="-777960"/>
            <a:chExt cx="12536640" cy="7635960"/>
          </a:xfrm>
        </p:grpSpPr>
        <p:sp>
          <p:nvSpPr>
            <p:cNvPr id="243" name="任意多边形: 形状 5"/>
            <p:cNvSpPr/>
            <p:nvPr/>
          </p:nvSpPr>
          <p:spPr>
            <a:xfrm>
              <a:off x="0" y="2127240"/>
              <a:ext cx="3989520" cy="2935800"/>
            </a:xfrm>
            <a:custGeom>
              <a:avLst/>
              <a:gdLst>
                <a:gd name="textAreaLeft" fmla="*/ 0 w 3989520"/>
                <a:gd name="textAreaRight" fmla="*/ 3989880 w 3989520"/>
                <a:gd name="textAreaTop" fmla="*/ 0 h 2935800"/>
                <a:gd name="textAreaBottom" fmla="*/ 2936160 h 2935800"/>
              </a:gdLst>
              <a:ahLst/>
              <a:rect l="textAreaLeft" t="textAreaTop" r="textAreaRight" b="textAreaBottom"/>
              <a:pathLst>
                <a:path w="2276475" h="1504950">
                  <a:moveTo>
                    <a:pt x="2054066" y="481489"/>
                  </a:moveTo>
                  <a:lnTo>
                    <a:pt x="1833086" y="481489"/>
                  </a:lnTo>
                  <a:lnTo>
                    <a:pt x="1833086" y="7144"/>
                  </a:lnTo>
                  <a:lnTo>
                    <a:pt x="1604486" y="7144"/>
                  </a:lnTo>
                  <a:lnTo>
                    <a:pt x="1604486" y="752951"/>
                  </a:lnTo>
                  <a:lnTo>
                    <a:pt x="1375886" y="752951"/>
                  </a:lnTo>
                  <a:lnTo>
                    <a:pt x="1375886" y="517684"/>
                  </a:lnTo>
                  <a:lnTo>
                    <a:pt x="1147286" y="517684"/>
                  </a:lnTo>
                  <a:lnTo>
                    <a:pt x="1147286" y="864394"/>
                  </a:lnTo>
                  <a:lnTo>
                    <a:pt x="941546" y="864394"/>
                  </a:lnTo>
                  <a:lnTo>
                    <a:pt x="941546" y="694849"/>
                  </a:lnTo>
                  <a:lnTo>
                    <a:pt x="713899" y="694849"/>
                  </a:lnTo>
                  <a:lnTo>
                    <a:pt x="713899" y="319564"/>
                  </a:lnTo>
                  <a:lnTo>
                    <a:pt x="477679" y="319564"/>
                  </a:lnTo>
                  <a:lnTo>
                    <a:pt x="477679" y="909161"/>
                  </a:lnTo>
                  <a:lnTo>
                    <a:pt x="242411" y="909161"/>
                  </a:lnTo>
                  <a:lnTo>
                    <a:pt x="242411" y="723424"/>
                  </a:lnTo>
                  <a:lnTo>
                    <a:pt x="7144" y="723424"/>
                  </a:lnTo>
                  <a:lnTo>
                    <a:pt x="7144" y="1498759"/>
                  </a:lnTo>
                  <a:lnTo>
                    <a:pt x="242411" y="1498759"/>
                  </a:lnTo>
                  <a:lnTo>
                    <a:pt x="477679" y="1498759"/>
                  </a:lnTo>
                  <a:lnTo>
                    <a:pt x="706279" y="1498759"/>
                  </a:lnTo>
                  <a:lnTo>
                    <a:pt x="713899" y="1498759"/>
                  </a:lnTo>
                  <a:lnTo>
                    <a:pt x="930116" y="1498759"/>
                  </a:lnTo>
                  <a:lnTo>
                    <a:pt x="941546" y="1498759"/>
                  </a:lnTo>
                  <a:lnTo>
                    <a:pt x="1147286" y="1498759"/>
                  </a:lnTo>
                  <a:lnTo>
                    <a:pt x="1165384" y="1498759"/>
                  </a:lnTo>
                  <a:lnTo>
                    <a:pt x="1375886" y="1498759"/>
                  </a:lnTo>
                  <a:lnTo>
                    <a:pt x="1604486" y="1498759"/>
                  </a:lnTo>
                  <a:lnTo>
                    <a:pt x="1825466" y="1498759"/>
                  </a:lnTo>
                  <a:lnTo>
                    <a:pt x="1833086" y="1498759"/>
                  </a:lnTo>
                  <a:lnTo>
                    <a:pt x="2042636" y="1498759"/>
                  </a:lnTo>
                  <a:lnTo>
                    <a:pt x="2054066" y="1498759"/>
                  </a:lnTo>
                  <a:lnTo>
                    <a:pt x="2271236" y="1498759"/>
                  </a:lnTo>
                  <a:lnTo>
                    <a:pt x="2271236" y="696754"/>
                  </a:lnTo>
                  <a:lnTo>
                    <a:pt x="2054066" y="696754"/>
                  </a:lnTo>
                  <a:lnTo>
                    <a:pt x="2054066" y="481489"/>
                  </a:lnTo>
                  <a:close/>
                </a:path>
              </a:pathLst>
            </a:custGeom>
            <a:solidFill>
              <a:srgbClr val="84bda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 name="任意多边形: 形状 6"/>
            <p:cNvSpPr/>
            <p:nvPr/>
          </p:nvSpPr>
          <p:spPr>
            <a:xfrm>
              <a:off x="4041360" y="2127240"/>
              <a:ext cx="3872880" cy="2935800"/>
            </a:xfrm>
            <a:custGeom>
              <a:avLst/>
              <a:gdLst>
                <a:gd name="textAreaLeft" fmla="*/ 0 w 3872880"/>
                <a:gd name="textAreaRight" fmla="*/ 3873240 w 3872880"/>
                <a:gd name="textAreaTop" fmla="*/ 0 h 2935800"/>
                <a:gd name="textAreaBottom" fmla="*/ 2936160 h 2935800"/>
              </a:gdLst>
              <a:ahLst/>
              <a:rect l="textAreaLeft" t="textAreaTop" r="textAreaRight" b="textAreaBottom"/>
              <a:pathLst>
                <a:path w="2209800" h="1504950">
                  <a:moveTo>
                    <a:pt x="1994059" y="481489"/>
                  </a:moveTo>
                  <a:lnTo>
                    <a:pt x="1772126" y="481489"/>
                  </a:lnTo>
                  <a:lnTo>
                    <a:pt x="1772126" y="7144"/>
                  </a:lnTo>
                  <a:lnTo>
                    <a:pt x="1543526" y="7144"/>
                  </a:lnTo>
                  <a:lnTo>
                    <a:pt x="1543526" y="752951"/>
                  </a:lnTo>
                  <a:lnTo>
                    <a:pt x="1314926" y="752951"/>
                  </a:lnTo>
                  <a:lnTo>
                    <a:pt x="1314926" y="990124"/>
                  </a:lnTo>
                  <a:lnTo>
                    <a:pt x="1132046" y="990124"/>
                  </a:lnTo>
                  <a:lnTo>
                    <a:pt x="1132046" y="696754"/>
                  </a:lnTo>
                  <a:lnTo>
                    <a:pt x="914876" y="696754"/>
                  </a:lnTo>
                  <a:lnTo>
                    <a:pt x="914876" y="481489"/>
                  </a:lnTo>
                  <a:lnTo>
                    <a:pt x="686276" y="481489"/>
                  </a:lnTo>
                  <a:lnTo>
                    <a:pt x="686276" y="904399"/>
                  </a:lnTo>
                  <a:lnTo>
                    <a:pt x="464344" y="904399"/>
                  </a:lnTo>
                  <a:lnTo>
                    <a:pt x="464344" y="752951"/>
                  </a:lnTo>
                  <a:lnTo>
                    <a:pt x="235744" y="752951"/>
                  </a:lnTo>
                  <a:lnTo>
                    <a:pt x="235744" y="517684"/>
                  </a:lnTo>
                  <a:lnTo>
                    <a:pt x="7144" y="517684"/>
                  </a:lnTo>
                  <a:lnTo>
                    <a:pt x="7144" y="1498759"/>
                  </a:lnTo>
                  <a:lnTo>
                    <a:pt x="235744" y="1498759"/>
                  </a:lnTo>
                  <a:lnTo>
                    <a:pt x="464344" y="1498759"/>
                  </a:lnTo>
                  <a:lnTo>
                    <a:pt x="686276" y="1498759"/>
                  </a:lnTo>
                  <a:lnTo>
                    <a:pt x="692944" y="1498759"/>
                  </a:lnTo>
                  <a:lnTo>
                    <a:pt x="903446" y="1498759"/>
                  </a:lnTo>
                  <a:lnTo>
                    <a:pt x="914876" y="1498759"/>
                  </a:lnTo>
                  <a:lnTo>
                    <a:pt x="1086326" y="1498759"/>
                  </a:lnTo>
                  <a:lnTo>
                    <a:pt x="1132046" y="1498759"/>
                  </a:lnTo>
                  <a:lnTo>
                    <a:pt x="1314926" y="1498759"/>
                  </a:lnTo>
                  <a:lnTo>
                    <a:pt x="1543526" y="1498759"/>
                  </a:lnTo>
                  <a:lnTo>
                    <a:pt x="1765459" y="1498759"/>
                  </a:lnTo>
                  <a:lnTo>
                    <a:pt x="1772126" y="1498759"/>
                  </a:lnTo>
                  <a:lnTo>
                    <a:pt x="1982629" y="1498759"/>
                  </a:lnTo>
                  <a:lnTo>
                    <a:pt x="1994059" y="1498759"/>
                  </a:lnTo>
                  <a:lnTo>
                    <a:pt x="2211229" y="1498759"/>
                  </a:lnTo>
                  <a:lnTo>
                    <a:pt x="2211229" y="696754"/>
                  </a:lnTo>
                  <a:lnTo>
                    <a:pt x="1994059" y="696754"/>
                  </a:lnTo>
                  <a:lnTo>
                    <a:pt x="1994059" y="481489"/>
                  </a:lnTo>
                  <a:close/>
                </a:path>
              </a:pathLst>
            </a:custGeom>
            <a:solidFill>
              <a:srgbClr val="84bda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 name="任意多边形: 形状 7"/>
            <p:cNvSpPr/>
            <p:nvPr/>
          </p:nvSpPr>
          <p:spPr>
            <a:xfrm>
              <a:off x="7909200" y="2194200"/>
              <a:ext cx="4623840" cy="2861640"/>
            </a:xfrm>
            <a:custGeom>
              <a:avLst/>
              <a:gdLst>
                <a:gd name="textAreaLeft" fmla="*/ 0 w 4623840"/>
                <a:gd name="textAreaRight" fmla="*/ 4624200 w 4623840"/>
                <a:gd name="textAreaTop" fmla="*/ 0 h 2861640"/>
                <a:gd name="textAreaBottom" fmla="*/ 2862000 h 2861640"/>
              </a:gdLst>
              <a:ahLst/>
              <a:rect l="textAreaLeft" t="textAreaTop" r="textAreaRight" b="textAreaBottom"/>
              <a:pathLst>
                <a:path w="2638425" h="1466850">
                  <a:moveTo>
                    <a:pt x="2373154" y="308134"/>
                  </a:moveTo>
                  <a:lnTo>
                    <a:pt x="2373154" y="685324"/>
                  </a:lnTo>
                  <a:lnTo>
                    <a:pt x="2144554" y="685324"/>
                  </a:lnTo>
                  <a:lnTo>
                    <a:pt x="2144554" y="872966"/>
                  </a:lnTo>
                  <a:lnTo>
                    <a:pt x="1915954" y="872966"/>
                  </a:lnTo>
                  <a:lnTo>
                    <a:pt x="1915954" y="722471"/>
                  </a:lnTo>
                  <a:lnTo>
                    <a:pt x="1694974" y="722471"/>
                  </a:lnTo>
                  <a:lnTo>
                    <a:pt x="1694974" y="656749"/>
                  </a:lnTo>
                  <a:lnTo>
                    <a:pt x="1466374" y="656749"/>
                  </a:lnTo>
                  <a:lnTo>
                    <a:pt x="1466374" y="827246"/>
                  </a:lnTo>
                  <a:lnTo>
                    <a:pt x="1396842" y="827246"/>
                  </a:lnTo>
                  <a:lnTo>
                    <a:pt x="1396842" y="7144"/>
                  </a:lnTo>
                  <a:lnTo>
                    <a:pt x="1132047" y="7144"/>
                  </a:lnTo>
                  <a:lnTo>
                    <a:pt x="1132047" y="483394"/>
                  </a:lnTo>
                  <a:lnTo>
                    <a:pt x="903447" y="483394"/>
                  </a:lnTo>
                  <a:lnTo>
                    <a:pt x="903447" y="718661"/>
                  </a:lnTo>
                  <a:lnTo>
                    <a:pt x="674847" y="718661"/>
                  </a:lnTo>
                  <a:lnTo>
                    <a:pt x="674847" y="530066"/>
                  </a:lnTo>
                  <a:lnTo>
                    <a:pt x="452914" y="530066"/>
                  </a:lnTo>
                  <a:lnTo>
                    <a:pt x="452914" y="447199"/>
                  </a:lnTo>
                  <a:lnTo>
                    <a:pt x="224314" y="447199"/>
                  </a:lnTo>
                  <a:lnTo>
                    <a:pt x="224314" y="662464"/>
                  </a:lnTo>
                  <a:lnTo>
                    <a:pt x="7144" y="662464"/>
                  </a:lnTo>
                  <a:lnTo>
                    <a:pt x="7144" y="1464469"/>
                  </a:lnTo>
                  <a:lnTo>
                    <a:pt x="224314" y="1464469"/>
                  </a:lnTo>
                  <a:lnTo>
                    <a:pt x="235744" y="1464469"/>
                  </a:lnTo>
                  <a:lnTo>
                    <a:pt x="446247" y="1464469"/>
                  </a:lnTo>
                  <a:lnTo>
                    <a:pt x="452914" y="1464469"/>
                  </a:lnTo>
                  <a:lnTo>
                    <a:pt x="674847" y="1464469"/>
                  </a:lnTo>
                  <a:lnTo>
                    <a:pt x="903447" y="1464469"/>
                  </a:lnTo>
                  <a:lnTo>
                    <a:pt x="1132047" y="1464469"/>
                  </a:lnTo>
                  <a:lnTo>
                    <a:pt x="1396842" y="1464469"/>
                  </a:lnTo>
                  <a:lnTo>
                    <a:pt x="1466374" y="1464469"/>
                  </a:lnTo>
                  <a:lnTo>
                    <a:pt x="1476851" y="1464469"/>
                  </a:lnTo>
                  <a:lnTo>
                    <a:pt x="1687354" y="1464469"/>
                  </a:lnTo>
                  <a:lnTo>
                    <a:pt x="1694974" y="1464469"/>
                  </a:lnTo>
                  <a:lnTo>
                    <a:pt x="1915954" y="1464469"/>
                  </a:lnTo>
                  <a:lnTo>
                    <a:pt x="2144554" y="1464469"/>
                  </a:lnTo>
                  <a:lnTo>
                    <a:pt x="2373154" y="1464469"/>
                  </a:lnTo>
                  <a:lnTo>
                    <a:pt x="2637949" y="1464469"/>
                  </a:lnTo>
                  <a:lnTo>
                    <a:pt x="2637949" y="308134"/>
                  </a:lnTo>
                  <a:lnTo>
                    <a:pt x="2373154" y="308134"/>
                  </a:lnTo>
                  <a:close/>
                </a:path>
              </a:pathLst>
            </a:custGeom>
            <a:solidFill>
              <a:srgbClr val="84bda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 name="任意多边形: 形状 8"/>
            <p:cNvSpPr/>
            <p:nvPr/>
          </p:nvSpPr>
          <p:spPr>
            <a:xfrm>
              <a:off x="1343520" y="4056120"/>
              <a:ext cx="1902960" cy="2118240"/>
            </a:xfrm>
            <a:custGeom>
              <a:avLst/>
              <a:gdLst>
                <a:gd name="textAreaLeft" fmla="*/ 0 w 1902960"/>
                <a:gd name="textAreaRight" fmla="*/ 1903320 w 1902960"/>
                <a:gd name="textAreaTop" fmla="*/ 0 h 2118240"/>
                <a:gd name="textAreaBottom" fmla="*/ 2118600 h 2118240"/>
              </a:gdLst>
              <a:ahLst/>
              <a:rect l="textAreaLeft" t="textAreaTop" r="textAreaRight" b="textAreaBottom"/>
              <a:pathLst>
                <a:path w="1085850" h="1085850">
                  <a:moveTo>
                    <a:pt x="1083469" y="597694"/>
                  </a:moveTo>
                  <a:lnTo>
                    <a:pt x="1083469" y="492919"/>
                  </a:lnTo>
                  <a:lnTo>
                    <a:pt x="1015841" y="492919"/>
                  </a:lnTo>
                  <a:cubicBezTo>
                    <a:pt x="1005364" y="401479"/>
                    <a:pt x="969169" y="317659"/>
                    <a:pt x="914876" y="250031"/>
                  </a:cubicBezTo>
                  <a:lnTo>
                    <a:pt x="963454" y="201454"/>
                  </a:lnTo>
                  <a:lnTo>
                    <a:pt x="889159" y="127159"/>
                  </a:lnTo>
                  <a:lnTo>
                    <a:pt x="840581" y="175736"/>
                  </a:lnTo>
                  <a:cubicBezTo>
                    <a:pt x="772001" y="121444"/>
                    <a:pt x="689134" y="85249"/>
                    <a:pt x="597694" y="74771"/>
                  </a:cubicBezTo>
                  <a:lnTo>
                    <a:pt x="597694" y="7144"/>
                  </a:lnTo>
                  <a:lnTo>
                    <a:pt x="492919" y="7144"/>
                  </a:lnTo>
                  <a:lnTo>
                    <a:pt x="492919" y="74771"/>
                  </a:lnTo>
                  <a:cubicBezTo>
                    <a:pt x="401479" y="85249"/>
                    <a:pt x="317659" y="121444"/>
                    <a:pt x="250031" y="175736"/>
                  </a:cubicBezTo>
                  <a:lnTo>
                    <a:pt x="201454" y="127159"/>
                  </a:lnTo>
                  <a:lnTo>
                    <a:pt x="127159" y="201454"/>
                  </a:lnTo>
                  <a:lnTo>
                    <a:pt x="175736" y="250031"/>
                  </a:lnTo>
                  <a:cubicBezTo>
                    <a:pt x="121444" y="318611"/>
                    <a:pt x="85249" y="401479"/>
                    <a:pt x="74771" y="492919"/>
                  </a:cubicBezTo>
                  <a:lnTo>
                    <a:pt x="7144" y="492919"/>
                  </a:lnTo>
                  <a:lnTo>
                    <a:pt x="7144" y="597694"/>
                  </a:lnTo>
                  <a:lnTo>
                    <a:pt x="74771" y="597694"/>
                  </a:lnTo>
                  <a:cubicBezTo>
                    <a:pt x="85249" y="689134"/>
                    <a:pt x="121444" y="772954"/>
                    <a:pt x="175736" y="840581"/>
                  </a:cubicBezTo>
                  <a:lnTo>
                    <a:pt x="126206" y="889159"/>
                  </a:lnTo>
                  <a:lnTo>
                    <a:pt x="200501" y="963454"/>
                  </a:lnTo>
                  <a:lnTo>
                    <a:pt x="249079" y="914876"/>
                  </a:lnTo>
                  <a:cubicBezTo>
                    <a:pt x="317659" y="969169"/>
                    <a:pt x="400526" y="1005364"/>
                    <a:pt x="491966" y="1015841"/>
                  </a:cubicBezTo>
                  <a:lnTo>
                    <a:pt x="491966" y="1083469"/>
                  </a:lnTo>
                  <a:lnTo>
                    <a:pt x="596741" y="1083469"/>
                  </a:lnTo>
                  <a:lnTo>
                    <a:pt x="596741" y="1015841"/>
                  </a:lnTo>
                  <a:cubicBezTo>
                    <a:pt x="688181" y="1005364"/>
                    <a:pt x="772001" y="969169"/>
                    <a:pt x="839629" y="914876"/>
                  </a:cubicBezTo>
                  <a:lnTo>
                    <a:pt x="888206" y="963454"/>
                  </a:lnTo>
                  <a:lnTo>
                    <a:pt x="962501" y="889159"/>
                  </a:lnTo>
                  <a:lnTo>
                    <a:pt x="913924" y="840581"/>
                  </a:lnTo>
                  <a:cubicBezTo>
                    <a:pt x="968216" y="772001"/>
                    <a:pt x="1004411" y="689134"/>
                    <a:pt x="1014889" y="597694"/>
                  </a:cubicBezTo>
                  <a:lnTo>
                    <a:pt x="1083469" y="597694"/>
                  </a:lnTo>
                  <a:close/>
                  <a:moveTo>
                    <a:pt x="544354" y="882491"/>
                  </a:moveTo>
                  <a:cubicBezTo>
                    <a:pt x="358616" y="882491"/>
                    <a:pt x="208121" y="731996"/>
                    <a:pt x="208121" y="546259"/>
                  </a:cubicBezTo>
                  <a:cubicBezTo>
                    <a:pt x="208121" y="360521"/>
                    <a:pt x="358616" y="210026"/>
                    <a:pt x="544354" y="210026"/>
                  </a:cubicBezTo>
                  <a:cubicBezTo>
                    <a:pt x="730091" y="210026"/>
                    <a:pt x="880586" y="360521"/>
                    <a:pt x="880586" y="546259"/>
                  </a:cubicBezTo>
                  <a:cubicBezTo>
                    <a:pt x="880586" y="731996"/>
                    <a:pt x="730091" y="882491"/>
                    <a:pt x="544354" y="882491"/>
                  </a:cubicBezTo>
                  <a:close/>
                </a:path>
              </a:pathLst>
            </a:custGeom>
            <a:solidFill>
              <a:srgbClr val="fdfd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 name="任意多边形: 形状 9"/>
            <p:cNvSpPr/>
            <p:nvPr/>
          </p:nvSpPr>
          <p:spPr>
            <a:xfrm>
              <a:off x="3071520" y="3636000"/>
              <a:ext cx="1118160" cy="1263240"/>
            </a:xfrm>
            <a:custGeom>
              <a:avLst/>
              <a:gdLst>
                <a:gd name="textAreaLeft" fmla="*/ 0 w 1118160"/>
                <a:gd name="textAreaRight" fmla="*/ 1118520 w 1118160"/>
                <a:gd name="textAreaTop" fmla="*/ 0 h 1263240"/>
                <a:gd name="textAreaBottom" fmla="*/ 1263600 h 1263240"/>
              </a:gdLst>
              <a:ahLst/>
              <a:rect l="textAreaLeft" t="textAreaTop" r="textAreaRight" b="textAreaBottom"/>
              <a:pathLst>
                <a:path w="638175" h="647700">
                  <a:moveTo>
                    <a:pt x="639604" y="354806"/>
                  </a:moveTo>
                  <a:lnTo>
                    <a:pt x="639604" y="292894"/>
                  </a:lnTo>
                  <a:lnTo>
                    <a:pt x="599599" y="292894"/>
                  </a:lnTo>
                  <a:cubicBezTo>
                    <a:pt x="593884" y="239554"/>
                    <a:pt x="571976" y="190024"/>
                    <a:pt x="540544" y="150019"/>
                  </a:cubicBezTo>
                  <a:lnTo>
                    <a:pt x="569119" y="121444"/>
                  </a:lnTo>
                  <a:lnTo>
                    <a:pt x="525304" y="77629"/>
                  </a:lnTo>
                  <a:lnTo>
                    <a:pt x="496729" y="106204"/>
                  </a:lnTo>
                  <a:cubicBezTo>
                    <a:pt x="456724" y="73819"/>
                    <a:pt x="407194" y="52864"/>
                    <a:pt x="353854" y="47149"/>
                  </a:cubicBezTo>
                  <a:lnTo>
                    <a:pt x="353854" y="7144"/>
                  </a:lnTo>
                  <a:lnTo>
                    <a:pt x="291941" y="7144"/>
                  </a:lnTo>
                  <a:lnTo>
                    <a:pt x="291941" y="47149"/>
                  </a:lnTo>
                  <a:cubicBezTo>
                    <a:pt x="238601" y="52864"/>
                    <a:pt x="189071" y="74771"/>
                    <a:pt x="149066" y="106204"/>
                  </a:cubicBezTo>
                  <a:lnTo>
                    <a:pt x="120491" y="77629"/>
                  </a:lnTo>
                  <a:lnTo>
                    <a:pt x="76676" y="121444"/>
                  </a:lnTo>
                  <a:lnTo>
                    <a:pt x="105251" y="150019"/>
                  </a:lnTo>
                  <a:cubicBezTo>
                    <a:pt x="72866" y="190024"/>
                    <a:pt x="51911" y="239554"/>
                    <a:pt x="46196" y="292894"/>
                  </a:cubicBezTo>
                  <a:lnTo>
                    <a:pt x="7144" y="292894"/>
                  </a:lnTo>
                  <a:lnTo>
                    <a:pt x="7144" y="354806"/>
                  </a:lnTo>
                  <a:lnTo>
                    <a:pt x="47149" y="354806"/>
                  </a:lnTo>
                  <a:cubicBezTo>
                    <a:pt x="52864" y="408146"/>
                    <a:pt x="74771" y="457676"/>
                    <a:pt x="106204" y="497681"/>
                  </a:cubicBezTo>
                  <a:lnTo>
                    <a:pt x="77629" y="526256"/>
                  </a:lnTo>
                  <a:lnTo>
                    <a:pt x="121444" y="570071"/>
                  </a:lnTo>
                  <a:lnTo>
                    <a:pt x="150019" y="541496"/>
                  </a:lnTo>
                  <a:cubicBezTo>
                    <a:pt x="190024" y="573881"/>
                    <a:pt x="239554" y="594836"/>
                    <a:pt x="292894" y="600551"/>
                  </a:cubicBezTo>
                  <a:lnTo>
                    <a:pt x="292894" y="640556"/>
                  </a:lnTo>
                  <a:lnTo>
                    <a:pt x="354806" y="640556"/>
                  </a:lnTo>
                  <a:lnTo>
                    <a:pt x="354806" y="600551"/>
                  </a:lnTo>
                  <a:cubicBezTo>
                    <a:pt x="408146" y="594836"/>
                    <a:pt x="457676" y="572929"/>
                    <a:pt x="497681" y="541496"/>
                  </a:cubicBezTo>
                  <a:lnTo>
                    <a:pt x="526256" y="570071"/>
                  </a:lnTo>
                  <a:lnTo>
                    <a:pt x="570071" y="526256"/>
                  </a:lnTo>
                  <a:lnTo>
                    <a:pt x="541496" y="497681"/>
                  </a:lnTo>
                  <a:cubicBezTo>
                    <a:pt x="573881" y="457676"/>
                    <a:pt x="594836" y="408146"/>
                    <a:pt x="600551" y="354806"/>
                  </a:cubicBezTo>
                  <a:lnTo>
                    <a:pt x="639604" y="354806"/>
                  </a:lnTo>
                  <a:close/>
                  <a:moveTo>
                    <a:pt x="323374" y="521494"/>
                  </a:moveTo>
                  <a:cubicBezTo>
                    <a:pt x="214789" y="521494"/>
                    <a:pt x="126206" y="432911"/>
                    <a:pt x="126206" y="324326"/>
                  </a:cubicBezTo>
                  <a:cubicBezTo>
                    <a:pt x="126206" y="215741"/>
                    <a:pt x="214789" y="127159"/>
                    <a:pt x="323374" y="127159"/>
                  </a:cubicBezTo>
                  <a:cubicBezTo>
                    <a:pt x="431959" y="127159"/>
                    <a:pt x="520541" y="215741"/>
                    <a:pt x="520541" y="324326"/>
                  </a:cubicBezTo>
                  <a:cubicBezTo>
                    <a:pt x="520541" y="432911"/>
                    <a:pt x="431959" y="521494"/>
                    <a:pt x="323374" y="521494"/>
                  </a:cubicBezTo>
                  <a:close/>
                </a:path>
              </a:pathLst>
            </a:custGeom>
            <a:solidFill>
              <a:srgbClr val="5f87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 name="任意多边形: 形状 10"/>
            <p:cNvSpPr/>
            <p:nvPr/>
          </p:nvSpPr>
          <p:spPr>
            <a:xfrm>
              <a:off x="6999480" y="4056120"/>
              <a:ext cx="1635840" cy="1820880"/>
            </a:xfrm>
            <a:custGeom>
              <a:avLst/>
              <a:gdLst>
                <a:gd name="textAreaLeft" fmla="*/ 0 w 1635840"/>
                <a:gd name="textAreaRight" fmla="*/ 1636200 w 1635840"/>
                <a:gd name="textAreaTop" fmla="*/ 0 h 1820880"/>
                <a:gd name="textAreaBottom" fmla="*/ 1821240 h 1820880"/>
              </a:gdLst>
              <a:ahLst/>
              <a:rect l="textAreaLeft" t="textAreaTop" r="textAreaRight" b="textAreaBottom"/>
              <a:pathLst>
                <a:path w="933450" h="933450">
                  <a:moveTo>
                    <a:pt x="931069" y="513874"/>
                  </a:moveTo>
                  <a:lnTo>
                    <a:pt x="931069" y="424339"/>
                  </a:lnTo>
                  <a:lnTo>
                    <a:pt x="872967" y="424339"/>
                  </a:lnTo>
                  <a:cubicBezTo>
                    <a:pt x="864394" y="346234"/>
                    <a:pt x="832961" y="274796"/>
                    <a:pt x="786289" y="215741"/>
                  </a:cubicBezTo>
                  <a:lnTo>
                    <a:pt x="827246" y="174784"/>
                  </a:lnTo>
                  <a:lnTo>
                    <a:pt x="763429" y="110966"/>
                  </a:lnTo>
                  <a:lnTo>
                    <a:pt x="722471" y="151924"/>
                  </a:lnTo>
                  <a:cubicBezTo>
                    <a:pt x="664369" y="105251"/>
                    <a:pt x="591979" y="73819"/>
                    <a:pt x="513874" y="65246"/>
                  </a:cubicBezTo>
                  <a:lnTo>
                    <a:pt x="513874" y="7144"/>
                  </a:lnTo>
                  <a:lnTo>
                    <a:pt x="424339" y="7144"/>
                  </a:lnTo>
                  <a:lnTo>
                    <a:pt x="424339" y="65246"/>
                  </a:lnTo>
                  <a:cubicBezTo>
                    <a:pt x="346234" y="73819"/>
                    <a:pt x="274796" y="105251"/>
                    <a:pt x="215741" y="151924"/>
                  </a:cubicBezTo>
                  <a:lnTo>
                    <a:pt x="174784" y="110966"/>
                  </a:lnTo>
                  <a:lnTo>
                    <a:pt x="110966" y="174784"/>
                  </a:lnTo>
                  <a:lnTo>
                    <a:pt x="151924" y="215741"/>
                  </a:lnTo>
                  <a:cubicBezTo>
                    <a:pt x="105251" y="273844"/>
                    <a:pt x="73819" y="346234"/>
                    <a:pt x="65246" y="424339"/>
                  </a:cubicBezTo>
                  <a:lnTo>
                    <a:pt x="7144" y="424339"/>
                  </a:lnTo>
                  <a:lnTo>
                    <a:pt x="7144" y="513874"/>
                  </a:lnTo>
                  <a:lnTo>
                    <a:pt x="65246" y="513874"/>
                  </a:lnTo>
                  <a:cubicBezTo>
                    <a:pt x="73819" y="591979"/>
                    <a:pt x="105251" y="663416"/>
                    <a:pt x="151924" y="722471"/>
                  </a:cubicBezTo>
                  <a:lnTo>
                    <a:pt x="110966" y="763429"/>
                  </a:lnTo>
                  <a:lnTo>
                    <a:pt x="174784" y="827246"/>
                  </a:lnTo>
                  <a:lnTo>
                    <a:pt x="215741" y="786289"/>
                  </a:lnTo>
                  <a:cubicBezTo>
                    <a:pt x="273844" y="832961"/>
                    <a:pt x="346234" y="864394"/>
                    <a:pt x="424339" y="872966"/>
                  </a:cubicBezTo>
                  <a:lnTo>
                    <a:pt x="424339" y="931069"/>
                  </a:lnTo>
                  <a:lnTo>
                    <a:pt x="513874" y="931069"/>
                  </a:lnTo>
                  <a:lnTo>
                    <a:pt x="513874" y="872966"/>
                  </a:lnTo>
                  <a:cubicBezTo>
                    <a:pt x="591979" y="864394"/>
                    <a:pt x="663417" y="832961"/>
                    <a:pt x="722471" y="786289"/>
                  </a:cubicBezTo>
                  <a:lnTo>
                    <a:pt x="763429" y="827246"/>
                  </a:lnTo>
                  <a:lnTo>
                    <a:pt x="827246" y="763429"/>
                  </a:lnTo>
                  <a:lnTo>
                    <a:pt x="786289" y="722471"/>
                  </a:lnTo>
                  <a:cubicBezTo>
                    <a:pt x="832961" y="664369"/>
                    <a:pt x="864394" y="591979"/>
                    <a:pt x="872967" y="513874"/>
                  </a:cubicBezTo>
                  <a:lnTo>
                    <a:pt x="931069" y="513874"/>
                  </a:lnTo>
                  <a:close/>
                  <a:moveTo>
                    <a:pt x="469106" y="756761"/>
                  </a:moveTo>
                  <a:cubicBezTo>
                    <a:pt x="310039" y="756761"/>
                    <a:pt x="180499" y="627221"/>
                    <a:pt x="180499" y="468154"/>
                  </a:cubicBezTo>
                  <a:cubicBezTo>
                    <a:pt x="180499" y="309086"/>
                    <a:pt x="310039" y="179546"/>
                    <a:pt x="469106" y="179546"/>
                  </a:cubicBezTo>
                  <a:cubicBezTo>
                    <a:pt x="628174" y="179546"/>
                    <a:pt x="757714" y="309086"/>
                    <a:pt x="757714" y="468154"/>
                  </a:cubicBezTo>
                  <a:cubicBezTo>
                    <a:pt x="757714" y="628174"/>
                    <a:pt x="628174" y="756761"/>
                    <a:pt x="469106" y="756761"/>
                  </a:cubicBezTo>
                  <a:close/>
                </a:path>
              </a:pathLst>
            </a:custGeom>
            <a:solidFill>
              <a:srgbClr val="fdfd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 name="任意多边形: 形状 11"/>
            <p:cNvSpPr/>
            <p:nvPr/>
          </p:nvSpPr>
          <p:spPr>
            <a:xfrm>
              <a:off x="9558720" y="4056120"/>
              <a:ext cx="1635840" cy="1820880"/>
            </a:xfrm>
            <a:custGeom>
              <a:avLst/>
              <a:gdLst>
                <a:gd name="textAreaLeft" fmla="*/ 0 w 1635840"/>
                <a:gd name="textAreaRight" fmla="*/ 1636200 w 1635840"/>
                <a:gd name="textAreaTop" fmla="*/ 0 h 1820880"/>
                <a:gd name="textAreaBottom" fmla="*/ 1821240 h 1820880"/>
              </a:gdLst>
              <a:ahLst/>
              <a:rect l="textAreaLeft" t="textAreaTop" r="textAreaRight" b="textAreaBottom"/>
              <a:pathLst>
                <a:path w="933450" h="933450">
                  <a:moveTo>
                    <a:pt x="931069" y="513874"/>
                  </a:moveTo>
                  <a:lnTo>
                    <a:pt x="931069" y="424339"/>
                  </a:lnTo>
                  <a:lnTo>
                    <a:pt x="872967" y="424339"/>
                  </a:lnTo>
                  <a:cubicBezTo>
                    <a:pt x="864394" y="346234"/>
                    <a:pt x="832961" y="274796"/>
                    <a:pt x="786289" y="215741"/>
                  </a:cubicBezTo>
                  <a:lnTo>
                    <a:pt x="827247" y="174784"/>
                  </a:lnTo>
                  <a:lnTo>
                    <a:pt x="763429" y="110966"/>
                  </a:lnTo>
                  <a:lnTo>
                    <a:pt x="722472" y="151924"/>
                  </a:lnTo>
                  <a:cubicBezTo>
                    <a:pt x="664369" y="105251"/>
                    <a:pt x="591979" y="73819"/>
                    <a:pt x="513874" y="65246"/>
                  </a:cubicBezTo>
                  <a:lnTo>
                    <a:pt x="513874" y="7144"/>
                  </a:lnTo>
                  <a:lnTo>
                    <a:pt x="424339" y="7144"/>
                  </a:lnTo>
                  <a:lnTo>
                    <a:pt x="424339" y="65246"/>
                  </a:lnTo>
                  <a:cubicBezTo>
                    <a:pt x="346234" y="73819"/>
                    <a:pt x="274797" y="105251"/>
                    <a:pt x="215741" y="151924"/>
                  </a:cubicBezTo>
                  <a:lnTo>
                    <a:pt x="174784" y="110966"/>
                  </a:lnTo>
                  <a:lnTo>
                    <a:pt x="110966" y="174784"/>
                  </a:lnTo>
                  <a:lnTo>
                    <a:pt x="151924" y="215741"/>
                  </a:lnTo>
                  <a:cubicBezTo>
                    <a:pt x="105252" y="273844"/>
                    <a:pt x="73819" y="346234"/>
                    <a:pt x="65247" y="424339"/>
                  </a:cubicBezTo>
                  <a:lnTo>
                    <a:pt x="7144" y="424339"/>
                  </a:lnTo>
                  <a:lnTo>
                    <a:pt x="7144" y="513874"/>
                  </a:lnTo>
                  <a:lnTo>
                    <a:pt x="65247" y="513874"/>
                  </a:lnTo>
                  <a:cubicBezTo>
                    <a:pt x="73819" y="591979"/>
                    <a:pt x="105252" y="663416"/>
                    <a:pt x="151924" y="722471"/>
                  </a:cubicBezTo>
                  <a:lnTo>
                    <a:pt x="110966" y="763429"/>
                  </a:lnTo>
                  <a:lnTo>
                    <a:pt x="174784" y="827246"/>
                  </a:lnTo>
                  <a:lnTo>
                    <a:pt x="215741" y="786289"/>
                  </a:lnTo>
                  <a:cubicBezTo>
                    <a:pt x="273844" y="832961"/>
                    <a:pt x="346234" y="864394"/>
                    <a:pt x="424339" y="872966"/>
                  </a:cubicBezTo>
                  <a:lnTo>
                    <a:pt x="424339" y="931069"/>
                  </a:lnTo>
                  <a:lnTo>
                    <a:pt x="513874" y="931069"/>
                  </a:lnTo>
                  <a:lnTo>
                    <a:pt x="513874" y="872966"/>
                  </a:lnTo>
                  <a:cubicBezTo>
                    <a:pt x="591979" y="864394"/>
                    <a:pt x="663417" y="832961"/>
                    <a:pt x="722472" y="786289"/>
                  </a:cubicBezTo>
                  <a:lnTo>
                    <a:pt x="763429" y="827246"/>
                  </a:lnTo>
                  <a:lnTo>
                    <a:pt x="827247" y="763429"/>
                  </a:lnTo>
                  <a:lnTo>
                    <a:pt x="786289" y="722471"/>
                  </a:lnTo>
                  <a:cubicBezTo>
                    <a:pt x="832961" y="664369"/>
                    <a:pt x="864394" y="591979"/>
                    <a:pt x="872967" y="513874"/>
                  </a:cubicBezTo>
                  <a:lnTo>
                    <a:pt x="931069" y="513874"/>
                  </a:lnTo>
                  <a:close/>
                  <a:moveTo>
                    <a:pt x="470059" y="756761"/>
                  </a:moveTo>
                  <a:cubicBezTo>
                    <a:pt x="310991" y="756761"/>
                    <a:pt x="181452" y="627221"/>
                    <a:pt x="181452" y="468154"/>
                  </a:cubicBezTo>
                  <a:cubicBezTo>
                    <a:pt x="181452" y="309086"/>
                    <a:pt x="310991" y="179546"/>
                    <a:pt x="470059" y="179546"/>
                  </a:cubicBezTo>
                  <a:cubicBezTo>
                    <a:pt x="629127" y="179546"/>
                    <a:pt x="758667" y="309086"/>
                    <a:pt x="758667" y="468154"/>
                  </a:cubicBezTo>
                  <a:cubicBezTo>
                    <a:pt x="757714" y="628174"/>
                    <a:pt x="628174" y="756761"/>
                    <a:pt x="470059" y="756761"/>
                  </a:cubicBezTo>
                  <a:close/>
                </a:path>
              </a:pathLst>
            </a:custGeom>
            <a:solidFill>
              <a:srgbClr val="fdfd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 name="任意多边形: 形状 12"/>
            <p:cNvSpPr/>
            <p:nvPr/>
          </p:nvSpPr>
          <p:spPr>
            <a:xfrm>
              <a:off x="4749120" y="4360680"/>
              <a:ext cx="517320" cy="576000"/>
            </a:xfrm>
            <a:custGeom>
              <a:avLst/>
              <a:gdLst>
                <a:gd name="textAreaLeft" fmla="*/ 0 w 517320"/>
                <a:gd name="textAreaRight" fmla="*/ 517680 w 517320"/>
                <a:gd name="textAreaTop" fmla="*/ 0 h 576000"/>
                <a:gd name="textAreaBottom" fmla="*/ 576360 h 576000"/>
              </a:gdLst>
              <a:ahLst/>
              <a:rect l="textAreaLeft" t="textAreaTop" r="textAreaRight" b="textAreaBottom"/>
              <a:pathLst>
                <a:path w="295275" h="295275">
                  <a:moveTo>
                    <a:pt x="293846" y="164306"/>
                  </a:moveTo>
                  <a:lnTo>
                    <a:pt x="293846" y="136684"/>
                  </a:lnTo>
                  <a:lnTo>
                    <a:pt x="275749" y="136684"/>
                  </a:lnTo>
                  <a:cubicBezTo>
                    <a:pt x="272891" y="112871"/>
                    <a:pt x="263366" y="90011"/>
                    <a:pt x="249079" y="71914"/>
                  </a:cubicBezTo>
                  <a:lnTo>
                    <a:pt x="261461" y="59531"/>
                  </a:lnTo>
                  <a:lnTo>
                    <a:pt x="241459" y="39529"/>
                  </a:lnTo>
                  <a:lnTo>
                    <a:pt x="229076" y="51911"/>
                  </a:lnTo>
                  <a:cubicBezTo>
                    <a:pt x="210979" y="37624"/>
                    <a:pt x="189071" y="28099"/>
                    <a:pt x="164306" y="25241"/>
                  </a:cubicBezTo>
                  <a:lnTo>
                    <a:pt x="164306" y="7144"/>
                  </a:lnTo>
                  <a:lnTo>
                    <a:pt x="136684" y="7144"/>
                  </a:lnTo>
                  <a:lnTo>
                    <a:pt x="136684" y="25241"/>
                  </a:lnTo>
                  <a:cubicBezTo>
                    <a:pt x="112871" y="28099"/>
                    <a:pt x="90011" y="37624"/>
                    <a:pt x="71914" y="51911"/>
                  </a:cubicBezTo>
                  <a:lnTo>
                    <a:pt x="59531" y="39529"/>
                  </a:lnTo>
                  <a:lnTo>
                    <a:pt x="39529" y="59531"/>
                  </a:lnTo>
                  <a:lnTo>
                    <a:pt x="51911" y="71914"/>
                  </a:lnTo>
                  <a:cubicBezTo>
                    <a:pt x="37624" y="90011"/>
                    <a:pt x="28099" y="111919"/>
                    <a:pt x="25241" y="136684"/>
                  </a:cubicBezTo>
                  <a:lnTo>
                    <a:pt x="7144" y="136684"/>
                  </a:lnTo>
                  <a:lnTo>
                    <a:pt x="7144" y="164306"/>
                  </a:lnTo>
                  <a:lnTo>
                    <a:pt x="25241" y="164306"/>
                  </a:lnTo>
                  <a:cubicBezTo>
                    <a:pt x="28099" y="188119"/>
                    <a:pt x="37624" y="210979"/>
                    <a:pt x="51911" y="229076"/>
                  </a:cubicBezTo>
                  <a:lnTo>
                    <a:pt x="39529" y="241459"/>
                  </a:lnTo>
                  <a:lnTo>
                    <a:pt x="59531" y="261461"/>
                  </a:lnTo>
                  <a:lnTo>
                    <a:pt x="71914" y="249079"/>
                  </a:lnTo>
                  <a:cubicBezTo>
                    <a:pt x="90011" y="263366"/>
                    <a:pt x="111919" y="272891"/>
                    <a:pt x="136684" y="275749"/>
                  </a:cubicBezTo>
                  <a:lnTo>
                    <a:pt x="136684" y="293846"/>
                  </a:lnTo>
                  <a:lnTo>
                    <a:pt x="164306" y="293846"/>
                  </a:lnTo>
                  <a:lnTo>
                    <a:pt x="164306" y="275749"/>
                  </a:lnTo>
                  <a:cubicBezTo>
                    <a:pt x="188119" y="272891"/>
                    <a:pt x="210979" y="263366"/>
                    <a:pt x="229076" y="249079"/>
                  </a:cubicBezTo>
                  <a:lnTo>
                    <a:pt x="241459" y="261461"/>
                  </a:lnTo>
                  <a:lnTo>
                    <a:pt x="261461" y="241459"/>
                  </a:lnTo>
                  <a:lnTo>
                    <a:pt x="249079" y="229076"/>
                  </a:lnTo>
                  <a:cubicBezTo>
                    <a:pt x="263366" y="210979"/>
                    <a:pt x="272891" y="189071"/>
                    <a:pt x="275749" y="164306"/>
                  </a:cubicBezTo>
                  <a:lnTo>
                    <a:pt x="293846" y="164306"/>
                  </a:lnTo>
                  <a:close/>
                  <a:moveTo>
                    <a:pt x="150971" y="239554"/>
                  </a:moveTo>
                  <a:cubicBezTo>
                    <a:pt x="101441" y="239554"/>
                    <a:pt x="61436" y="199549"/>
                    <a:pt x="61436" y="150019"/>
                  </a:cubicBezTo>
                  <a:cubicBezTo>
                    <a:pt x="61436" y="100489"/>
                    <a:pt x="101441" y="60484"/>
                    <a:pt x="150971" y="60484"/>
                  </a:cubicBezTo>
                  <a:cubicBezTo>
                    <a:pt x="200501" y="60484"/>
                    <a:pt x="240506" y="100489"/>
                    <a:pt x="240506" y="150019"/>
                  </a:cubicBezTo>
                  <a:cubicBezTo>
                    <a:pt x="240506" y="199549"/>
                    <a:pt x="200501" y="239554"/>
                    <a:pt x="150971" y="239554"/>
                  </a:cubicBezTo>
                  <a:close/>
                </a:path>
              </a:pathLst>
            </a:custGeom>
            <a:solidFill>
              <a:srgbClr val="fdfd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 name="任意多边形: 形状 13"/>
            <p:cNvSpPr/>
            <p:nvPr/>
          </p:nvSpPr>
          <p:spPr>
            <a:xfrm>
              <a:off x="6029640" y="4695120"/>
              <a:ext cx="517320" cy="576000"/>
            </a:xfrm>
            <a:custGeom>
              <a:avLst/>
              <a:gdLst>
                <a:gd name="textAreaLeft" fmla="*/ 0 w 517320"/>
                <a:gd name="textAreaRight" fmla="*/ 517680 w 517320"/>
                <a:gd name="textAreaTop" fmla="*/ 0 h 576000"/>
                <a:gd name="textAreaBottom" fmla="*/ 576360 h 576000"/>
              </a:gdLst>
              <a:ahLst/>
              <a:rect l="textAreaLeft" t="textAreaTop" r="textAreaRight" b="textAreaBottom"/>
              <a:pathLst>
                <a:path w="295275" h="295275">
                  <a:moveTo>
                    <a:pt x="293846" y="164306"/>
                  </a:moveTo>
                  <a:lnTo>
                    <a:pt x="293846" y="136684"/>
                  </a:lnTo>
                  <a:lnTo>
                    <a:pt x="275749" y="136684"/>
                  </a:lnTo>
                  <a:cubicBezTo>
                    <a:pt x="272891" y="112871"/>
                    <a:pt x="263366" y="90011"/>
                    <a:pt x="249079" y="71914"/>
                  </a:cubicBezTo>
                  <a:lnTo>
                    <a:pt x="261461" y="59531"/>
                  </a:lnTo>
                  <a:lnTo>
                    <a:pt x="241459" y="39529"/>
                  </a:lnTo>
                  <a:lnTo>
                    <a:pt x="229076" y="51911"/>
                  </a:lnTo>
                  <a:cubicBezTo>
                    <a:pt x="210979" y="37624"/>
                    <a:pt x="189071" y="28099"/>
                    <a:pt x="164306" y="25241"/>
                  </a:cubicBezTo>
                  <a:lnTo>
                    <a:pt x="164306" y="7144"/>
                  </a:lnTo>
                  <a:lnTo>
                    <a:pt x="136684" y="7144"/>
                  </a:lnTo>
                  <a:lnTo>
                    <a:pt x="136684" y="25241"/>
                  </a:lnTo>
                  <a:cubicBezTo>
                    <a:pt x="112871" y="28099"/>
                    <a:pt x="90011" y="37624"/>
                    <a:pt x="71914" y="51911"/>
                  </a:cubicBezTo>
                  <a:lnTo>
                    <a:pt x="59531" y="39529"/>
                  </a:lnTo>
                  <a:lnTo>
                    <a:pt x="39529" y="59531"/>
                  </a:lnTo>
                  <a:lnTo>
                    <a:pt x="51911" y="71914"/>
                  </a:lnTo>
                  <a:cubicBezTo>
                    <a:pt x="37624" y="90011"/>
                    <a:pt x="28099" y="111919"/>
                    <a:pt x="25241" y="136684"/>
                  </a:cubicBezTo>
                  <a:lnTo>
                    <a:pt x="7144" y="136684"/>
                  </a:lnTo>
                  <a:lnTo>
                    <a:pt x="7144" y="164306"/>
                  </a:lnTo>
                  <a:lnTo>
                    <a:pt x="25241" y="164306"/>
                  </a:lnTo>
                  <a:cubicBezTo>
                    <a:pt x="28099" y="188119"/>
                    <a:pt x="37624" y="210979"/>
                    <a:pt x="51911" y="229076"/>
                  </a:cubicBezTo>
                  <a:lnTo>
                    <a:pt x="39529" y="241459"/>
                  </a:lnTo>
                  <a:lnTo>
                    <a:pt x="59531" y="261461"/>
                  </a:lnTo>
                  <a:lnTo>
                    <a:pt x="71914" y="249079"/>
                  </a:lnTo>
                  <a:cubicBezTo>
                    <a:pt x="90011" y="263366"/>
                    <a:pt x="111919" y="272891"/>
                    <a:pt x="136684" y="275749"/>
                  </a:cubicBezTo>
                  <a:lnTo>
                    <a:pt x="136684" y="293846"/>
                  </a:lnTo>
                  <a:lnTo>
                    <a:pt x="164306" y="293846"/>
                  </a:lnTo>
                  <a:lnTo>
                    <a:pt x="164306" y="275749"/>
                  </a:lnTo>
                  <a:cubicBezTo>
                    <a:pt x="188119" y="272891"/>
                    <a:pt x="210979" y="263366"/>
                    <a:pt x="229076" y="249079"/>
                  </a:cubicBezTo>
                  <a:lnTo>
                    <a:pt x="241459" y="261461"/>
                  </a:lnTo>
                  <a:lnTo>
                    <a:pt x="261461" y="241459"/>
                  </a:lnTo>
                  <a:lnTo>
                    <a:pt x="249079" y="229076"/>
                  </a:lnTo>
                  <a:cubicBezTo>
                    <a:pt x="263366" y="210979"/>
                    <a:pt x="272891" y="189071"/>
                    <a:pt x="275749" y="164306"/>
                  </a:cubicBezTo>
                  <a:lnTo>
                    <a:pt x="293846" y="164306"/>
                  </a:lnTo>
                  <a:close/>
                  <a:moveTo>
                    <a:pt x="150019" y="239554"/>
                  </a:moveTo>
                  <a:cubicBezTo>
                    <a:pt x="100489" y="239554"/>
                    <a:pt x="60484" y="199549"/>
                    <a:pt x="60484" y="150019"/>
                  </a:cubicBezTo>
                  <a:cubicBezTo>
                    <a:pt x="60484" y="100489"/>
                    <a:pt x="100489" y="60484"/>
                    <a:pt x="150019" y="60484"/>
                  </a:cubicBezTo>
                  <a:cubicBezTo>
                    <a:pt x="199549" y="60484"/>
                    <a:pt x="239554" y="100489"/>
                    <a:pt x="239554" y="150019"/>
                  </a:cubicBezTo>
                  <a:cubicBezTo>
                    <a:pt x="239554" y="199549"/>
                    <a:pt x="199549" y="239554"/>
                    <a:pt x="150019" y="239554"/>
                  </a:cubicBezTo>
                  <a:close/>
                </a:path>
              </a:pathLst>
            </a:custGeom>
            <a:solidFill>
              <a:srgbClr val="fdfd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 name="任意多边形: 形状 14"/>
            <p:cNvSpPr/>
            <p:nvPr/>
          </p:nvSpPr>
          <p:spPr>
            <a:xfrm>
              <a:off x="7557120" y="4695120"/>
              <a:ext cx="517320" cy="576000"/>
            </a:xfrm>
            <a:custGeom>
              <a:avLst/>
              <a:gdLst>
                <a:gd name="textAreaLeft" fmla="*/ 0 w 517320"/>
                <a:gd name="textAreaRight" fmla="*/ 517680 w 517320"/>
                <a:gd name="textAreaTop" fmla="*/ 0 h 576000"/>
                <a:gd name="textAreaBottom" fmla="*/ 576360 h 576000"/>
              </a:gdLst>
              <a:ahLst/>
              <a:rect l="textAreaLeft" t="textAreaTop" r="textAreaRight" b="textAreaBottom"/>
              <a:pathLst>
                <a:path w="295275" h="295275">
                  <a:moveTo>
                    <a:pt x="293846" y="164306"/>
                  </a:moveTo>
                  <a:lnTo>
                    <a:pt x="293846" y="136684"/>
                  </a:lnTo>
                  <a:lnTo>
                    <a:pt x="275749" y="136684"/>
                  </a:lnTo>
                  <a:cubicBezTo>
                    <a:pt x="272891" y="112871"/>
                    <a:pt x="263366" y="90011"/>
                    <a:pt x="249079" y="71914"/>
                  </a:cubicBezTo>
                  <a:lnTo>
                    <a:pt x="261461" y="59531"/>
                  </a:lnTo>
                  <a:lnTo>
                    <a:pt x="241459" y="39529"/>
                  </a:lnTo>
                  <a:lnTo>
                    <a:pt x="229076" y="51911"/>
                  </a:lnTo>
                  <a:cubicBezTo>
                    <a:pt x="210979" y="37624"/>
                    <a:pt x="189071" y="28099"/>
                    <a:pt x="164306" y="25241"/>
                  </a:cubicBezTo>
                  <a:lnTo>
                    <a:pt x="164306" y="7144"/>
                  </a:lnTo>
                  <a:lnTo>
                    <a:pt x="136684" y="7144"/>
                  </a:lnTo>
                  <a:lnTo>
                    <a:pt x="136684" y="25241"/>
                  </a:lnTo>
                  <a:cubicBezTo>
                    <a:pt x="112871" y="28099"/>
                    <a:pt x="90011" y="37624"/>
                    <a:pt x="71914" y="51911"/>
                  </a:cubicBezTo>
                  <a:lnTo>
                    <a:pt x="59531" y="39529"/>
                  </a:lnTo>
                  <a:lnTo>
                    <a:pt x="39529" y="59531"/>
                  </a:lnTo>
                  <a:lnTo>
                    <a:pt x="51911" y="71914"/>
                  </a:lnTo>
                  <a:cubicBezTo>
                    <a:pt x="37624" y="90011"/>
                    <a:pt x="28099" y="111919"/>
                    <a:pt x="25241" y="136684"/>
                  </a:cubicBezTo>
                  <a:lnTo>
                    <a:pt x="7144" y="136684"/>
                  </a:lnTo>
                  <a:lnTo>
                    <a:pt x="7144" y="164306"/>
                  </a:lnTo>
                  <a:lnTo>
                    <a:pt x="25241" y="164306"/>
                  </a:lnTo>
                  <a:cubicBezTo>
                    <a:pt x="28099" y="188119"/>
                    <a:pt x="37624" y="210979"/>
                    <a:pt x="51911" y="229076"/>
                  </a:cubicBezTo>
                  <a:lnTo>
                    <a:pt x="39529" y="241459"/>
                  </a:lnTo>
                  <a:lnTo>
                    <a:pt x="59531" y="261461"/>
                  </a:lnTo>
                  <a:lnTo>
                    <a:pt x="71914" y="249079"/>
                  </a:lnTo>
                  <a:cubicBezTo>
                    <a:pt x="90011" y="263366"/>
                    <a:pt x="111919" y="272891"/>
                    <a:pt x="136684" y="275749"/>
                  </a:cubicBezTo>
                  <a:lnTo>
                    <a:pt x="136684" y="293846"/>
                  </a:lnTo>
                  <a:lnTo>
                    <a:pt x="164306" y="293846"/>
                  </a:lnTo>
                  <a:lnTo>
                    <a:pt x="164306" y="275749"/>
                  </a:lnTo>
                  <a:cubicBezTo>
                    <a:pt x="188119" y="272891"/>
                    <a:pt x="210979" y="263366"/>
                    <a:pt x="229076" y="249079"/>
                  </a:cubicBezTo>
                  <a:lnTo>
                    <a:pt x="241459" y="261461"/>
                  </a:lnTo>
                  <a:lnTo>
                    <a:pt x="261461" y="241459"/>
                  </a:lnTo>
                  <a:lnTo>
                    <a:pt x="249079" y="229076"/>
                  </a:lnTo>
                  <a:cubicBezTo>
                    <a:pt x="263366" y="210979"/>
                    <a:pt x="272891" y="189071"/>
                    <a:pt x="275749" y="164306"/>
                  </a:cubicBezTo>
                  <a:lnTo>
                    <a:pt x="293846" y="164306"/>
                  </a:lnTo>
                  <a:close/>
                  <a:moveTo>
                    <a:pt x="150019" y="239554"/>
                  </a:moveTo>
                  <a:cubicBezTo>
                    <a:pt x="100489" y="239554"/>
                    <a:pt x="60484" y="199549"/>
                    <a:pt x="60484" y="150019"/>
                  </a:cubicBezTo>
                  <a:cubicBezTo>
                    <a:pt x="60484" y="100489"/>
                    <a:pt x="100489" y="60484"/>
                    <a:pt x="150019" y="60484"/>
                  </a:cubicBezTo>
                  <a:cubicBezTo>
                    <a:pt x="199549" y="60484"/>
                    <a:pt x="239554" y="100489"/>
                    <a:pt x="239554" y="150019"/>
                  </a:cubicBezTo>
                  <a:cubicBezTo>
                    <a:pt x="239554" y="199549"/>
                    <a:pt x="199549" y="239554"/>
                    <a:pt x="150019" y="239554"/>
                  </a:cubicBezTo>
                  <a:close/>
                </a:path>
              </a:pathLst>
            </a:custGeom>
            <a:solidFill>
              <a:srgbClr val="6a939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 name="任意多边形: 形状 15"/>
            <p:cNvSpPr/>
            <p:nvPr/>
          </p:nvSpPr>
          <p:spPr>
            <a:xfrm>
              <a:off x="8568720" y="3636000"/>
              <a:ext cx="1135080" cy="1263240"/>
            </a:xfrm>
            <a:custGeom>
              <a:avLst/>
              <a:gdLst>
                <a:gd name="textAreaLeft" fmla="*/ 0 w 1135080"/>
                <a:gd name="textAreaRight" fmla="*/ 1135440 w 1135080"/>
                <a:gd name="textAreaTop" fmla="*/ 0 h 1263240"/>
                <a:gd name="textAreaBottom" fmla="*/ 1263600 h 1263240"/>
              </a:gdLst>
              <a:ahLst/>
              <a:rect l="textAreaLeft" t="textAreaTop" r="textAreaRight" b="textAreaBottom"/>
              <a:pathLst>
                <a:path w="647700" h="647700">
                  <a:moveTo>
                    <a:pt x="640556" y="354806"/>
                  </a:moveTo>
                  <a:lnTo>
                    <a:pt x="640556" y="292894"/>
                  </a:lnTo>
                  <a:lnTo>
                    <a:pt x="600551" y="292894"/>
                  </a:lnTo>
                  <a:cubicBezTo>
                    <a:pt x="594836" y="239554"/>
                    <a:pt x="572929" y="190024"/>
                    <a:pt x="541497" y="150019"/>
                  </a:cubicBezTo>
                  <a:lnTo>
                    <a:pt x="570072" y="121444"/>
                  </a:lnTo>
                  <a:lnTo>
                    <a:pt x="526256" y="77629"/>
                  </a:lnTo>
                  <a:lnTo>
                    <a:pt x="497681" y="106204"/>
                  </a:lnTo>
                  <a:cubicBezTo>
                    <a:pt x="457676" y="73819"/>
                    <a:pt x="408147" y="52864"/>
                    <a:pt x="354806" y="47149"/>
                  </a:cubicBezTo>
                  <a:lnTo>
                    <a:pt x="354806" y="7144"/>
                  </a:lnTo>
                  <a:lnTo>
                    <a:pt x="292894" y="7144"/>
                  </a:lnTo>
                  <a:lnTo>
                    <a:pt x="292894" y="47149"/>
                  </a:lnTo>
                  <a:cubicBezTo>
                    <a:pt x="239554" y="52864"/>
                    <a:pt x="190024" y="74771"/>
                    <a:pt x="150019" y="106204"/>
                  </a:cubicBezTo>
                  <a:lnTo>
                    <a:pt x="121444" y="77629"/>
                  </a:lnTo>
                  <a:lnTo>
                    <a:pt x="77629" y="121444"/>
                  </a:lnTo>
                  <a:lnTo>
                    <a:pt x="106204" y="150019"/>
                  </a:lnTo>
                  <a:cubicBezTo>
                    <a:pt x="73819" y="190024"/>
                    <a:pt x="52864" y="239554"/>
                    <a:pt x="47149" y="292894"/>
                  </a:cubicBezTo>
                  <a:lnTo>
                    <a:pt x="7144" y="292894"/>
                  </a:lnTo>
                  <a:lnTo>
                    <a:pt x="7144" y="354806"/>
                  </a:lnTo>
                  <a:lnTo>
                    <a:pt x="47149" y="354806"/>
                  </a:lnTo>
                  <a:cubicBezTo>
                    <a:pt x="52864" y="408146"/>
                    <a:pt x="74772" y="457676"/>
                    <a:pt x="106204" y="497681"/>
                  </a:cubicBezTo>
                  <a:lnTo>
                    <a:pt x="77629" y="526256"/>
                  </a:lnTo>
                  <a:lnTo>
                    <a:pt x="121444" y="570071"/>
                  </a:lnTo>
                  <a:lnTo>
                    <a:pt x="150019" y="541496"/>
                  </a:lnTo>
                  <a:cubicBezTo>
                    <a:pt x="190024" y="573881"/>
                    <a:pt x="239554" y="594836"/>
                    <a:pt x="292894" y="600551"/>
                  </a:cubicBezTo>
                  <a:lnTo>
                    <a:pt x="292894" y="640556"/>
                  </a:lnTo>
                  <a:lnTo>
                    <a:pt x="354806" y="640556"/>
                  </a:lnTo>
                  <a:lnTo>
                    <a:pt x="354806" y="600551"/>
                  </a:lnTo>
                  <a:cubicBezTo>
                    <a:pt x="408147" y="594836"/>
                    <a:pt x="457676" y="572929"/>
                    <a:pt x="497681" y="541496"/>
                  </a:cubicBezTo>
                  <a:lnTo>
                    <a:pt x="526256" y="570071"/>
                  </a:lnTo>
                  <a:lnTo>
                    <a:pt x="570072" y="526256"/>
                  </a:lnTo>
                  <a:lnTo>
                    <a:pt x="541497" y="497681"/>
                  </a:lnTo>
                  <a:cubicBezTo>
                    <a:pt x="573881" y="457676"/>
                    <a:pt x="594836" y="408146"/>
                    <a:pt x="600551" y="354806"/>
                  </a:cubicBezTo>
                  <a:lnTo>
                    <a:pt x="640556" y="354806"/>
                  </a:lnTo>
                  <a:close/>
                  <a:moveTo>
                    <a:pt x="324326" y="521494"/>
                  </a:moveTo>
                  <a:cubicBezTo>
                    <a:pt x="215741" y="521494"/>
                    <a:pt x="127159" y="432911"/>
                    <a:pt x="127159" y="324326"/>
                  </a:cubicBezTo>
                  <a:cubicBezTo>
                    <a:pt x="127159" y="215741"/>
                    <a:pt x="215741" y="127159"/>
                    <a:pt x="324326" y="127159"/>
                  </a:cubicBezTo>
                  <a:cubicBezTo>
                    <a:pt x="432911" y="127159"/>
                    <a:pt x="521494" y="215741"/>
                    <a:pt x="521494" y="324326"/>
                  </a:cubicBezTo>
                  <a:cubicBezTo>
                    <a:pt x="521494" y="432911"/>
                    <a:pt x="432911" y="521494"/>
                    <a:pt x="324326" y="521494"/>
                  </a:cubicBezTo>
                  <a:close/>
                </a:path>
              </a:pathLst>
            </a:custGeom>
            <a:solidFill>
              <a:srgbClr val="5f87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 name="任意多边形: 形状 16"/>
            <p:cNvSpPr/>
            <p:nvPr/>
          </p:nvSpPr>
          <p:spPr>
            <a:xfrm>
              <a:off x="5622120" y="4219560"/>
              <a:ext cx="1318680" cy="1467720"/>
            </a:xfrm>
            <a:custGeom>
              <a:avLst/>
              <a:gdLst>
                <a:gd name="textAreaLeft" fmla="*/ 0 w 1318680"/>
                <a:gd name="textAreaRight" fmla="*/ 1319040 w 1318680"/>
                <a:gd name="textAreaTop" fmla="*/ 0 h 1467720"/>
                <a:gd name="textAreaBottom" fmla="*/ 1468080 h 1467720"/>
              </a:gdLst>
              <a:ahLst/>
              <a:rect l="textAreaLeft" t="textAreaTop" r="textAreaRight" b="textAreaBottom"/>
              <a:pathLst>
                <a:path w="752475" h="752475">
                  <a:moveTo>
                    <a:pt x="750094" y="414814"/>
                  </a:moveTo>
                  <a:lnTo>
                    <a:pt x="750094" y="342424"/>
                  </a:lnTo>
                  <a:lnTo>
                    <a:pt x="703421" y="342424"/>
                  </a:lnTo>
                  <a:cubicBezTo>
                    <a:pt x="696754" y="279559"/>
                    <a:pt x="671036" y="221456"/>
                    <a:pt x="633889" y="174784"/>
                  </a:cubicBezTo>
                  <a:lnTo>
                    <a:pt x="667226" y="141446"/>
                  </a:lnTo>
                  <a:lnTo>
                    <a:pt x="615792" y="90011"/>
                  </a:lnTo>
                  <a:lnTo>
                    <a:pt x="582454" y="123349"/>
                  </a:lnTo>
                  <a:cubicBezTo>
                    <a:pt x="535781" y="85249"/>
                    <a:pt x="477679" y="60484"/>
                    <a:pt x="414814" y="53816"/>
                  </a:cubicBezTo>
                  <a:lnTo>
                    <a:pt x="414814" y="7144"/>
                  </a:lnTo>
                  <a:lnTo>
                    <a:pt x="342424" y="7144"/>
                  </a:lnTo>
                  <a:lnTo>
                    <a:pt x="342424" y="53816"/>
                  </a:lnTo>
                  <a:cubicBezTo>
                    <a:pt x="279559" y="60484"/>
                    <a:pt x="221456" y="86201"/>
                    <a:pt x="174784" y="123349"/>
                  </a:cubicBezTo>
                  <a:lnTo>
                    <a:pt x="141446" y="90011"/>
                  </a:lnTo>
                  <a:lnTo>
                    <a:pt x="90011" y="141446"/>
                  </a:lnTo>
                  <a:lnTo>
                    <a:pt x="123349" y="174784"/>
                  </a:lnTo>
                  <a:cubicBezTo>
                    <a:pt x="85249" y="221456"/>
                    <a:pt x="60484" y="279559"/>
                    <a:pt x="53816" y="342424"/>
                  </a:cubicBezTo>
                  <a:lnTo>
                    <a:pt x="7144" y="342424"/>
                  </a:lnTo>
                  <a:lnTo>
                    <a:pt x="7144" y="414814"/>
                  </a:lnTo>
                  <a:lnTo>
                    <a:pt x="53816" y="414814"/>
                  </a:lnTo>
                  <a:cubicBezTo>
                    <a:pt x="60484" y="477679"/>
                    <a:pt x="86201" y="535781"/>
                    <a:pt x="123349" y="582454"/>
                  </a:cubicBezTo>
                  <a:lnTo>
                    <a:pt x="90011" y="615791"/>
                  </a:lnTo>
                  <a:lnTo>
                    <a:pt x="141446" y="667226"/>
                  </a:lnTo>
                  <a:lnTo>
                    <a:pt x="174784" y="633889"/>
                  </a:lnTo>
                  <a:cubicBezTo>
                    <a:pt x="221456" y="671989"/>
                    <a:pt x="279559" y="696754"/>
                    <a:pt x="342424" y="703421"/>
                  </a:cubicBezTo>
                  <a:lnTo>
                    <a:pt x="342424" y="750094"/>
                  </a:lnTo>
                  <a:lnTo>
                    <a:pt x="414814" y="750094"/>
                  </a:lnTo>
                  <a:lnTo>
                    <a:pt x="414814" y="703421"/>
                  </a:lnTo>
                  <a:cubicBezTo>
                    <a:pt x="477679" y="696754"/>
                    <a:pt x="535781" y="671036"/>
                    <a:pt x="582454" y="633889"/>
                  </a:cubicBezTo>
                  <a:lnTo>
                    <a:pt x="615792" y="667226"/>
                  </a:lnTo>
                  <a:lnTo>
                    <a:pt x="667226" y="615791"/>
                  </a:lnTo>
                  <a:lnTo>
                    <a:pt x="633889" y="582454"/>
                  </a:lnTo>
                  <a:cubicBezTo>
                    <a:pt x="671989" y="535781"/>
                    <a:pt x="696754" y="477679"/>
                    <a:pt x="703421" y="414814"/>
                  </a:cubicBezTo>
                  <a:lnTo>
                    <a:pt x="750094" y="414814"/>
                  </a:lnTo>
                  <a:close/>
                  <a:moveTo>
                    <a:pt x="378619" y="611029"/>
                  </a:moveTo>
                  <a:cubicBezTo>
                    <a:pt x="250984" y="611029"/>
                    <a:pt x="146209" y="507206"/>
                    <a:pt x="146209" y="378619"/>
                  </a:cubicBezTo>
                  <a:cubicBezTo>
                    <a:pt x="146209" y="250984"/>
                    <a:pt x="250031" y="146209"/>
                    <a:pt x="378619" y="146209"/>
                  </a:cubicBezTo>
                  <a:cubicBezTo>
                    <a:pt x="506254" y="146209"/>
                    <a:pt x="611029" y="250031"/>
                    <a:pt x="611029" y="378619"/>
                  </a:cubicBezTo>
                  <a:cubicBezTo>
                    <a:pt x="610076" y="507206"/>
                    <a:pt x="506254" y="611029"/>
                    <a:pt x="378619" y="611029"/>
                  </a:cubicBezTo>
                  <a:close/>
                </a:path>
              </a:pathLst>
            </a:custGeom>
            <a:solidFill>
              <a:srgbClr val="5f87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 name="任意多边形: 形状 17"/>
            <p:cNvSpPr/>
            <p:nvPr/>
          </p:nvSpPr>
          <p:spPr>
            <a:xfrm>
              <a:off x="0" y="5037120"/>
              <a:ext cx="12536640" cy="1820880"/>
            </a:xfrm>
            <a:custGeom>
              <a:avLst/>
              <a:gdLst>
                <a:gd name="textAreaLeft" fmla="*/ 0 w 12536640"/>
                <a:gd name="textAreaRight" fmla="*/ 12537000 w 12536640"/>
                <a:gd name="textAreaTop" fmla="*/ 0 h 1820880"/>
                <a:gd name="textAreaBottom" fmla="*/ 1821240 h 1820880"/>
              </a:gdLst>
              <a:ahLst/>
              <a:rect l="textAreaLeft" t="textAreaTop" r="textAreaRight" b="textAreaBottom"/>
              <a:pathLst>
                <a:path w="7153275" h="933450">
                  <a:moveTo>
                    <a:pt x="7144" y="7144"/>
                  </a:moveTo>
                  <a:lnTo>
                    <a:pt x="7152799" y="7144"/>
                  </a:lnTo>
                  <a:lnTo>
                    <a:pt x="7152799" y="926306"/>
                  </a:lnTo>
                  <a:lnTo>
                    <a:pt x="7144" y="926306"/>
                  </a:lnTo>
                  <a:lnTo>
                    <a:pt x="7144" y="7144"/>
                  </a:lnTo>
                  <a:close/>
                </a:path>
              </a:pathLst>
            </a:custGeom>
            <a:solidFill>
              <a:srgbClr val="9ab1a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 name="任意多边形: 形状 18"/>
            <p:cNvSpPr/>
            <p:nvPr/>
          </p:nvSpPr>
          <p:spPr>
            <a:xfrm>
              <a:off x="0" y="5037120"/>
              <a:ext cx="12536640" cy="148320"/>
            </a:xfrm>
            <a:custGeom>
              <a:avLst/>
              <a:gdLst>
                <a:gd name="textAreaLeft" fmla="*/ 0 w 12536640"/>
                <a:gd name="textAreaRight" fmla="*/ 12537000 w 12536640"/>
                <a:gd name="textAreaTop" fmla="*/ 0 h 148320"/>
                <a:gd name="textAreaBottom" fmla="*/ 148320 h 148320"/>
              </a:gdLst>
              <a:ahLst/>
              <a:rect l="textAreaLeft" t="textAreaTop" r="textAreaRight" b="textAreaBottom"/>
              <a:pathLst>
                <a:path w="7153275" h="76200">
                  <a:moveTo>
                    <a:pt x="7144" y="7144"/>
                  </a:moveTo>
                  <a:lnTo>
                    <a:pt x="7152799" y="7144"/>
                  </a:lnTo>
                  <a:lnTo>
                    <a:pt x="7152799" y="77629"/>
                  </a:lnTo>
                  <a:lnTo>
                    <a:pt x="7144" y="77629"/>
                  </a:lnTo>
                  <a:lnTo>
                    <a:pt x="7144" y="7144"/>
                  </a:lnTo>
                  <a:close/>
                </a:path>
              </a:pathLst>
            </a:custGeom>
            <a:solidFill>
              <a:srgbClr val="85858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7" name="任意多边形: 形状 19"/>
            <p:cNvSpPr/>
            <p:nvPr/>
          </p:nvSpPr>
          <p:spPr>
            <a:xfrm>
              <a:off x="3261600" y="5869440"/>
              <a:ext cx="6042960" cy="111240"/>
            </a:xfrm>
            <a:custGeom>
              <a:avLst/>
              <a:gdLst>
                <a:gd name="textAreaLeft" fmla="*/ 0 w 6042960"/>
                <a:gd name="textAreaRight" fmla="*/ 6043320 w 6042960"/>
                <a:gd name="textAreaTop" fmla="*/ 0 h 111240"/>
                <a:gd name="textAreaBottom" fmla="*/ 111600 h 111240"/>
              </a:gdLst>
              <a:ahLst/>
              <a:rect l="textAreaLeft" t="textAreaTop" r="textAreaRight" b="textAreaBottom"/>
              <a:pathLst>
                <a:path w="3448050" h="57150">
                  <a:moveTo>
                    <a:pt x="3416141" y="56674"/>
                  </a:moveTo>
                  <a:lnTo>
                    <a:pt x="31909" y="56674"/>
                  </a:lnTo>
                  <a:cubicBezTo>
                    <a:pt x="18574" y="56674"/>
                    <a:pt x="7144" y="45244"/>
                    <a:pt x="7144" y="31909"/>
                  </a:cubicBezTo>
                  <a:cubicBezTo>
                    <a:pt x="7144" y="18574"/>
                    <a:pt x="18574" y="7144"/>
                    <a:pt x="31909" y="7144"/>
                  </a:cubicBezTo>
                  <a:lnTo>
                    <a:pt x="3416141" y="7144"/>
                  </a:lnTo>
                  <a:cubicBezTo>
                    <a:pt x="3429477" y="7144"/>
                    <a:pt x="3440907" y="18574"/>
                    <a:pt x="3440907" y="31909"/>
                  </a:cubicBezTo>
                  <a:cubicBezTo>
                    <a:pt x="3440907" y="46196"/>
                    <a:pt x="3429477" y="56674"/>
                    <a:pt x="3416141" y="56674"/>
                  </a:cubicBezTo>
                  <a:close/>
                </a:path>
              </a:pathLst>
            </a:custGeom>
            <a:solidFill>
              <a:srgbClr val="85858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8" name="任意多边形: 形状 20"/>
            <p:cNvSpPr/>
            <p:nvPr/>
          </p:nvSpPr>
          <p:spPr>
            <a:xfrm>
              <a:off x="3924360" y="2965320"/>
              <a:ext cx="216720" cy="222840"/>
            </a:xfrm>
            <a:custGeom>
              <a:avLst/>
              <a:gdLst>
                <a:gd name="textAreaLeft" fmla="*/ 0 w 216720"/>
                <a:gd name="textAreaRight" fmla="*/ 217080 w 216720"/>
                <a:gd name="textAreaTop" fmla="*/ 0 h 222840"/>
                <a:gd name="textAreaBottom" fmla="*/ 223200 h 222840"/>
              </a:gdLst>
              <a:ahLst/>
              <a:rect l="textAreaLeft" t="textAreaTop" r="textAreaRight" b="textAreaBottom"/>
              <a:pathLst>
                <a:path w="123825" h="114300">
                  <a:moveTo>
                    <a:pt x="70009" y="7144"/>
                  </a:moveTo>
                  <a:lnTo>
                    <a:pt x="70009" y="7144"/>
                  </a:lnTo>
                  <a:cubicBezTo>
                    <a:pt x="58579" y="45244"/>
                    <a:pt x="36671" y="80486"/>
                    <a:pt x="8096" y="108109"/>
                  </a:cubicBezTo>
                  <a:lnTo>
                    <a:pt x="7144" y="109061"/>
                  </a:lnTo>
                  <a:lnTo>
                    <a:pt x="122396" y="109061"/>
                  </a:lnTo>
                  <a:cubicBezTo>
                    <a:pt x="95726" y="80486"/>
                    <a:pt x="77629" y="45244"/>
                    <a:pt x="70009" y="7144"/>
                  </a:cubicBezTo>
                  <a:close/>
                </a:path>
              </a:pathLst>
            </a:custGeom>
            <a:solidFill>
              <a:srgbClr val="cad6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9" name="任意多边形: 形状 21"/>
            <p:cNvSpPr/>
            <p:nvPr/>
          </p:nvSpPr>
          <p:spPr>
            <a:xfrm>
              <a:off x="3969000" y="4093200"/>
              <a:ext cx="517320" cy="1672200"/>
            </a:xfrm>
            <a:custGeom>
              <a:avLst/>
              <a:gdLst>
                <a:gd name="textAreaLeft" fmla="*/ 0 w 517320"/>
                <a:gd name="textAreaRight" fmla="*/ 517680 w 517320"/>
                <a:gd name="textAreaTop" fmla="*/ 0 h 1672200"/>
                <a:gd name="textAreaBottom" fmla="*/ 1672560 h 1672200"/>
              </a:gdLst>
              <a:ahLst/>
              <a:rect l="textAreaLeft" t="textAreaTop" r="textAreaRight" b="textAreaBottom"/>
              <a:pathLst>
                <a:path w="295275" h="857250">
                  <a:moveTo>
                    <a:pt x="185589" y="37624"/>
                  </a:moveTo>
                  <a:lnTo>
                    <a:pt x="164634" y="131921"/>
                  </a:lnTo>
                  <a:cubicBezTo>
                    <a:pt x="162729" y="141446"/>
                    <a:pt x="161776" y="150971"/>
                    <a:pt x="161776" y="160496"/>
                  </a:cubicBezTo>
                  <a:lnTo>
                    <a:pt x="161776" y="665321"/>
                  </a:lnTo>
                  <a:cubicBezTo>
                    <a:pt x="161776" y="665321"/>
                    <a:pt x="186541" y="784384"/>
                    <a:pt x="202734" y="800576"/>
                  </a:cubicBezTo>
                  <a:cubicBezTo>
                    <a:pt x="218926" y="816769"/>
                    <a:pt x="288459" y="853916"/>
                    <a:pt x="288459" y="853916"/>
                  </a:cubicBezTo>
                  <a:lnTo>
                    <a:pt x="128439" y="853916"/>
                  </a:lnTo>
                  <a:lnTo>
                    <a:pt x="71289" y="734854"/>
                  </a:lnTo>
                  <a:lnTo>
                    <a:pt x="71289" y="665321"/>
                  </a:lnTo>
                  <a:cubicBezTo>
                    <a:pt x="71289" y="665321"/>
                    <a:pt x="75099" y="595789"/>
                    <a:pt x="55096" y="510064"/>
                  </a:cubicBezTo>
                  <a:cubicBezTo>
                    <a:pt x="40809" y="450056"/>
                    <a:pt x="20806" y="337661"/>
                    <a:pt x="9376" y="275749"/>
                  </a:cubicBezTo>
                  <a:cubicBezTo>
                    <a:pt x="4614" y="247174"/>
                    <a:pt x="7471" y="217646"/>
                    <a:pt x="17949" y="190024"/>
                  </a:cubicBezTo>
                  <a:lnTo>
                    <a:pt x="38904" y="137636"/>
                  </a:lnTo>
                  <a:cubicBezTo>
                    <a:pt x="49381" y="110014"/>
                    <a:pt x="52239" y="79534"/>
                    <a:pt x="47476" y="50006"/>
                  </a:cubicBezTo>
                  <a:lnTo>
                    <a:pt x="39856" y="7144"/>
                  </a:lnTo>
                  <a:lnTo>
                    <a:pt x="190351" y="7144"/>
                  </a:lnTo>
                  <a:lnTo>
                    <a:pt x="185589" y="37624"/>
                  </a:ln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0" name="任意多边形: 形状 22"/>
            <p:cNvSpPr/>
            <p:nvPr/>
          </p:nvSpPr>
          <p:spPr>
            <a:xfrm>
              <a:off x="3570480" y="4095000"/>
              <a:ext cx="383760" cy="1672200"/>
            </a:xfrm>
            <a:custGeom>
              <a:avLst/>
              <a:gdLst>
                <a:gd name="textAreaLeft" fmla="*/ 0 w 383760"/>
                <a:gd name="textAreaRight" fmla="*/ 384120 w 383760"/>
                <a:gd name="textAreaTop" fmla="*/ 0 h 1672200"/>
                <a:gd name="textAreaBottom" fmla="*/ 1672560 h 1672200"/>
              </a:gdLst>
              <a:ahLst/>
              <a:rect l="textAreaLeft" t="textAreaTop" r="textAreaRight" b="textAreaBottom"/>
              <a:pathLst>
                <a:path w="219075" h="857250">
                  <a:moveTo>
                    <a:pt x="188247" y="36671"/>
                  </a:moveTo>
                  <a:lnTo>
                    <a:pt x="167292" y="130969"/>
                  </a:lnTo>
                  <a:cubicBezTo>
                    <a:pt x="165387" y="140494"/>
                    <a:pt x="164435" y="150019"/>
                    <a:pt x="164435" y="159544"/>
                  </a:cubicBezTo>
                  <a:lnTo>
                    <a:pt x="164435" y="664369"/>
                  </a:lnTo>
                  <a:cubicBezTo>
                    <a:pt x="164435" y="664369"/>
                    <a:pt x="181580" y="782479"/>
                    <a:pt x="196820" y="798671"/>
                  </a:cubicBezTo>
                  <a:cubicBezTo>
                    <a:pt x="213012" y="814864"/>
                    <a:pt x="217775" y="852964"/>
                    <a:pt x="217775" y="852964"/>
                  </a:cubicBezTo>
                  <a:lnTo>
                    <a:pt x="76805" y="852964"/>
                  </a:lnTo>
                  <a:lnTo>
                    <a:pt x="76805" y="733901"/>
                  </a:lnTo>
                  <a:lnTo>
                    <a:pt x="76805" y="732949"/>
                  </a:lnTo>
                  <a:cubicBezTo>
                    <a:pt x="76805" y="696754"/>
                    <a:pt x="70137" y="661511"/>
                    <a:pt x="58707" y="627221"/>
                  </a:cubicBezTo>
                  <a:cubicBezTo>
                    <a:pt x="53945" y="612934"/>
                    <a:pt x="48230" y="594836"/>
                    <a:pt x="42515" y="568166"/>
                  </a:cubicBezTo>
                  <a:cubicBezTo>
                    <a:pt x="28227" y="508159"/>
                    <a:pt x="-17493" y="310039"/>
                    <a:pt x="24417" y="189071"/>
                  </a:cubicBezTo>
                  <a:lnTo>
                    <a:pt x="44420" y="136684"/>
                  </a:lnTo>
                  <a:cubicBezTo>
                    <a:pt x="54897" y="109061"/>
                    <a:pt x="57755" y="78581"/>
                    <a:pt x="52040" y="50006"/>
                  </a:cubicBezTo>
                  <a:lnTo>
                    <a:pt x="44420" y="7144"/>
                  </a:lnTo>
                  <a:lnTo>
                    <a:pt x="191105" y="7144"/>
                  </a:lnTo>
                  <a:lnTo>
                    <a:pt x="188247" y="36671"/>
                  </a:ln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1" name="任意多边形: 形状 23"/>
            <p:cNvSpPr/>
            <p:nvPr/>
          </p:nvSpPr>
          <p:spPr>
            <a:xfrm>
              <a:off x="4019760" y="4095000"/>
              <a:ext cx="283680" cy="334440"/>
            </a:xfrm>
            <a:custGeom>
              <a:avLst/>
              <a:gdLst>
                <a:gd name="textAreaLeft" fmla="*/ 0 w 283680"/>
                <a:gd name="textAreaRight" fmla="*/ 284040 w 283680"/>
                <a:gd name="textAreaTop" fmla="*/ 0 h 334440"/>
                <a:gd name="textAreaBottom" fmla="*/ 334800 h 334440"/>
              </a:gdLst>
              <a:ahLst/>
              <a:rect l="textAreaLeft" t="textAreaTop" r="textAreaRight" b="textAreaBottom"/>
              <a:pathLst>
                <a:path w="161925" h="171450">
                  <a:moveTo>
                    <a:pt x="28939" y="165259"/>
                  </a:moveTo>
                  <a:lnTo>
                    <a:pt x="132761" y="165259"/>
                  </a:lnTo>
                  <a:lnTo>
                    <a:pt x="132761" y="159544"/>
                  </a:lnTo>
                  <a:cubicBezTo>
                    <a:pt x="132761" y="150019"/>
                    <a:pt x="133714" y="140494"/>
                    <a:pt x="135619" y="130969"/>
                  </a:cubicBezTo>
                  <a:lnTo>
                    <a:pt x="156574" y="36671"/>
                  </a:lnTo>
                  <a:lnTo>
                    <a:pt x="160384" y="7144"/>
                  </a:lnTo>
                  <a:lnTo>
                    <a:pt x="8936" y="7144"/>
                  </a:lnTo>
                  <a:lnTo>
                    <a:pt x="16556" y="50006"/>
                  </a:lnTo>
                  <a:cubicBezTo>
                    <a:pt x="22271" y="79534"/>
                    <a:pt x="19414" y="109061"/>
                    <a:pt x="7984" y="137636"/>
                  </a:cubicBezTo>
                  <a:cubicBezTo>
                    <a:pt x="4174" y="150971"/>
                    <a:pt x="13699" y="165259"/>
                    <a:pt x="28939" y="165259"/>
                  </a:cubicBez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2" name="任意多边形: 形状 24"/>
            <p:cNvSpPr/>
            <p:nvPr/>
          </p:nvSpPr>
          <p:spPr>
            <a:xfrm>
              <a:off x="3635640" y="4095000"/>
              <a:ext cx="283680" cy="334440"/>
            </a:xfrm>
            <a:custGeom>
              <a:avLst/>
              <a:gdLst>
                <a:gd name="textAreaLeft" fmla="*/ 0 w 283680"/>
                <a:gd name="textAreaRight" fmla="*/ 284040 w 283680"/>
                <a:gd name="textAreaTop" fmla="*/ 0 h 334440"/>
                <a:gd name="textAreaBottom" fmla="*/ 334800 h 334440"/>
              </a:gdLst>
              <a:ahLst/>
              <a:rect l="textAreaLeft" t="textAreaTop" r="textAreaRight" b="textAreaBottom"/>
              <a:pathLst>
                <a:path w="161925" h="171450">
                  <a:moveTo>
                    <a:pt x="28241" y="165259"/>
                  </a:moveTo>
                  <a:lnTo>
                    <a:pt x="128253" y="165259"/>
                  </a:lnTo>
                  <a:lnTo>
                    <a:pt x="128253" y="159544"/>
                  </a:lnTo>
                  <a:cubicBezTo>
                    <a:pt x="128253" y="150019"/>
                    <a:pt x="129206" y="140494"/>
                    <a:pt x="131111" y="130969"/>
                  </a:cubicBezTo>
                  <a:lnTo>
                    <a:pt x="152066" y="36671"/>
                  </a:lnTo>
                  <a:lnTo>
                    <a:pt x="155876" y="7144"/>
                  </a:lnTo>
                  <a:lnTo>
                    <a:pt x="9191" y="7144"/>
                  </a:lnTo>
                  <a:lnTo>
                    <a:pt x="16811" y="50006"/>
                  </a:lnTo>
                  <a:cubicBezTo>
                    <a:pt x="22526" y="79534"/>
                    <a:pt x="19668" y="109061"/>
                    <a:pt x="9191" y="136684"/>
                  </a:cubicBezTo>
                  <a:cubicBezTo>
                    <a:pt x="2523" y="150971"/>
                    <a:pt x="13001" y="165259"/>
                    <a:pt x="28241" y="165259"/>
                  </a:cubicBez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3" name="任意多边形: 形状 25"/>
            <p:cNvSpPr/>
            <p:nvPr/>
          </p:nvSpPr>
          <p:spPr>
            <a:xfrm>
              <a:off x="3450960" y="885960"/>
              <a:ext cx="483840" cy="817560"/>
            </a:xfrm>
            <a:custGeom>
              <a:avLst/>
              <a:gdLst>
                <a:gd name="textAreaLeft" fmla="*/ 0 w 483840"/>
                <a:gd name="textAreaRight" fmla="*/ 484200 w 483840"/>
                <a:gd name="textAreaTop" fmla="*/ 0 h 817560"/>
                <a:gd name="textAreaBottom" fmla="*/ 817920 h 817560"/>
              </a:gdLst>
              <a:ahLst/>
              <a:rect l="textAreaLeft" t="textAreaTop" r="textAreaRight" b="textAreaBottom"/>
              <a:pathLst>
                <a:path w="276225" h="419100">
                  <a:moveTo>
                    <a:pt x="83940" y="7144"/>
                  </a:moveTo>
                  <a:lnTo>
                    <a:pt x="7740" y="263366"/>
                  </a:lnTo>
                  <a:cubicBezTo>
                    <a:pt x="2025" y="361474"/>
                    <a:pt x="36315" y="429101"/>
                    <a:pt x="157283" y="418624"/>
                  </a:cubicBezTo>
                  <a:lnTo>
                    <a:pt x="272535" y="398621"/>
                  </a:lnTo>
                  <a:lnTo>
                    <a:pt x="272535" y="204311"/>
                  </a:lnTo>
                  <a:lnTo>
                    <a:pt x="83940"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4" name="任意多边形: 形状 26"/>
            <p:cNvSpPr/>
            <p:nvPr/>
          </p:nvSpPr>
          <p:spPr>
            <a:xfrm>
              <a:off x="3450960" y="885960"/>
              <a:ext cx="483840" cy="817560"/>
            </a:xfrm>
            <a:custGeom>
              <a:avLst/>
              <a:gdLst>
                <a:gd name="textAreaLeft" fmla="*/ 0 w 483840"/>
                <a:gd name="textAreaRight" fmla="*/ 484200 w 483840"/>
                <a:gd name="textAreaTop" fmla="*/ 0 h 817560"/>
                <a:gd name="textAreaBottom" fmla="*/ 817920 h 817560"/>
              </a:gdLst>
              <a:ahLst/>
              <a:rect l="textAreaLeft" t="textAreaTop" r="textAreaRight" b="textAreaBottom"/>
              <a:pathLst>
                <a:path w="276225" h="419100">
                  <a:moveTo>
                    <a:pt x="83940" y="7144"/>
                  </a:moveTo>
                  <a:lnTo>
                    <a:pt x="7740" y="263366"/>
                  </a:lnTo>
                  <a:cubicBezTo>
                    <a:pt x="2025" y="361474"/>
                    <a:pt x="36315" y="429101"/>
                    <a:pt x="157283" y="418624"/>
                  </a:cubicBezTo>
                  <a:lnTo>
                    <a:pt x="272535" y="398621"/>
                  </a:lnTo>
                  <a:lnTo>
                    <a:pt x="272535" y="204311"/>
                  </a:lnTo>
                  <a:lnTo>
                    <a:pt x="83940"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5" name="任意多边形: 形状 27"/>
            <p:cNvSpPr/>
            <p:nvPr/>
          </p:nvSpPr>
          <p:spPr>
            <a:xfrm>
              <a:off x="3450960" y="885960"/>
              <a:ext cx="483840" cy="817560"/>
            </a:xfrm>
            <a:custGeom>
              <a:avLst/>
              <a:gdLst>
                <a:gd name="textAreaLeft" fmla="*/ 0 w 483840"/>
                <a:gd name="textAreaRight" fmla="*/ 484200 w 483840"/>
                <a:gd name="textAreaTop" fmla="*/ 0 h 817560"/>
                <a:gd name="textAreaBottom" fmla="*/ 817920 h 817560"/>
              </a:gdLst>
              <a:ahLst/>
              <a:rect l="textAreaLeft" t="textAreaTop" r="textAreaRight" b="textAreaBottom"/>
              <a:pathLst>
                <a:path w="276225" h="419100">
                  <a:moveTo>
                    <a:pt x="83940" y="7144"/>
                  </a:moveTo>
                  <a:lnTo>
                    <a:pt x="7740" y="263366"/>
                  </a:lnTo>
                  <a:cubicBezTo>
                    <a:pt x="2025" y="361474"/>
                    <a:pt x="36315" y="429101"/>
                    <a:pt x="157283" y="418624"/>
                  </a:cubicBezTo>
                  <a:lnTo>
                    <a:pt x="272535" y="398621"/>
                  </a:lnTo>
                  <a:lnTo>
                    <a:pt x="272535" y="204311"/>
                  </a:lnTo>
                  <a:lnTo>
                    <a:pt x="83940"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6" name="任意多边形: 形状 28"/>
            <p:cNvSpPr/>
            <p:nvPr/>
          </p:nvSpPr>
          <p:spPr>
            <a:xfrm>
              <a:off x="3450960" y="885960"/>
              <a:ext cx="483840" cy="817560"/>
            </a:xfrm>
            <a:custGeom>
              <a:avLst/>
              <a:gdLst>
                <a:gd name="textAreaLeft" fmla="*/ 0 w 483840"/>
                <a:gd name="textAreaRight" fmla="*/ 484200 w 483840"/>
                <a:gd name="textAreaTop" fmla="*/ 0 h 817560"/>
                <a:gd name="textAreaBottom" fmla="*/ 817920 h 817560"/>
              </a:gdLst>
              <a:ahLst/>
              <a:rect l="textAreaLeft" t="textAreaTop" r="textAreaRight" b="textAreaBottom"/>
              <a:pathLst>
                <a:path w="276225" h="419100">
                  <a:moveTo>
                    <a:pt x="83940" y="7144"/>
                  </a:moveTo>
                  <a:lnTo>
                    <a:pt x="7740" y="263366"/>
                  </a:lnTo>
                  <a:cubicBezTo>
                    <a:pt x="2025" y="361474"/>
                    <a:pt x="36315" y="429101"/>
                    <a:pt x="157283" y="418624"/>
                  </a:cubicBezTo>
                  <a:lnTo>
                    <a:pt x="272535" y="398621"/>
                  </a:lnTo>
                  <a:lnTo>
                    <a:pt x="272535" y="204311"/>
                  </a:lnTo>
                  <a:lnTo>
                    <a:pt x="83940"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7" name="任意多边形: 形状 29"/>
            <p:cNvSpPr/>
            <p:nvPr/>
          </p:nvSpPr>
          <p:spPr>
            <a:xfrm>
              <a:off x="3450960" y="885960"/>
              <a:ext cx="483840" cy="817560"/>
            </a:xfrm>
            <a:custGeom>
              <a:avLst/>
              <a:gdLst>
                <a:gd name="textAreaLeft" fmla="*/ 0 w 483840"/>
                <a:gd name="textAreaRight" fmla="*/ 484200 w 483840"/>
                <a:gd name="textAreaTop" fmla="*/ 0 h 817560"/>
                <a:gd name="textAreaBottom" fmla="*/ 817920 h 817560"/>
              </a:gdLst>
              <a:ahLst/>
              <a:rect l="textAreaLeft" t="textAreaTop" r="textAreaRight" b="textAreaBottom"/>
              <a:pathLst>
                <a:path w="276225" h="419100">
                  <a:moveTo>
                    <a:pt x="83940" y="7144"/>
                  </a:moveTo>
                  <a:lnTo>
                    <a:pt x="7740" y="263366"/>
                  </a:lnTo>
                  <a:cubicBezTo>
                    <a:pt x="2025" y="361474"/>
                    <a:pt x="36315" y="429101"/>
                    <a:pt x="157283" y="418624"/>
                  </a:cubicBezTo>
                  <a:lnTo>
                    <a:pt x="272535" y="398621"/>
                  </a:lnTo>
                  <a:lnTo>
                    <a:pt x="272535" y="204311"/>
                  </a:lnTo>
                  <a:lnTo>
                    <a:pt x="83940"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8" name="任意多边形: 形状 30"/>
            <p:cNvSpPr/>
            <p:nvPr/>
          </p:nvSpPr>
          <p:spPr>
            <a:xfrm>
              <a:off x="3978000" y="1329840"/>
              <a:ext cx="266760" cy="464400"/>
            </a:xfrm>
            <a:custGeom>
              <a:avLst/>
              <a:gdLst>
                <a:gd name="textAreaLeft" fmla="*/ 0 w 266760"/>
                <a:gd name="textAreaRight" fmla="*/ 267120 w 266760"/>
                <a:gd name="textAreaTop" fmla="*/ 0 h 464400"/>
                <a:gd name="textAreaBottom" fmla="*/ 464760 h 464400"/>
              </a:gdLst>
              <a:ahLst/>
              <a:rect l="textAreaLeft" t="textAreaTop" r="textAreaRight" b="textAreaBottom"/>
              <a:pathLst>
                <a:path w="152400" h="238125">
                  <a:moveTo>
                    <a:pt x="7144" y="235744"/>
                  </a:moveTo>
                  <a:lnTo>
                    <a:pt x="120491" y="200501"/>
                  </a:lnTo>
                  <a:lnTo>
                    <a:pt x="147161" y="7144"/>
                  </a:lnTo>
                  <a:lnTo>
                    <a:pt x="7144" y="7144"/>
                  </a:lnTo>
                  <a:lnTo>
                    <a:pt x="7144" y="2357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69" name="任意多边形: 形状 31"/>
            <p:cNvSpPr/>
            <p:nvPr/>
          </p:nvSpPr>
          <p:spPr>
            <a:xfrm>
              <a:off x="4195080" y="1753560"/>
              <a:ext cx="333720" cy="1635120"/>
            </a:xfrm>
            <a:custGeom>
              <a:avLst/>
              <a:gdLst>
                <a:gd name="textAreaLeft" fmla="*/ 0 w 333720"/>
                <a:gd name="textAreaRight" fmla="*/ 334080 w 333720"/>
                <a:gd name="textAreaTop" fmla="*/ 0 h 1635120"/>
                <a:gd name="textAreaBottom" fmla="*/ 1635480 h 1635120"/>
              </a:gdLst>
              <a:ahLst/>
              <a:rect l="textAreaLeft" t="textAreaTop" r="textAreaRight" b="textAreaBottom"/>
              <a:pathLst>
                <a:path w="190500" h="838200">
                  <a:moveTo>
                    <a:pt x="153829" y="832009"/>
                  </a:moveTo>
                  <a:lnTo>
                    <a:pt x="48101" y="814864"/>
                  </a:lnTo>
                  <a:lnTo>
                    <a:pt x="49054" y="734854"/>
                  </a:lnTo>
                  <a:lnTo>
                    <a:pt x="51911" y="595789"/>
                  </a:lnTo>
                  <a:cubicBezTo>
                    <a:pt x="51911" y="588169"/>
                    <a:pt x="56674" y="480536"/>
                    <a:pt x="55721" y="472916"/>
                  </a:cubicBezTo>
                  <a:lnTo>
                    <a:pt x="7144" y="350044"/>
                  </a:lnTo>
                  <a:lnTo>
                    <a:pt x="66199" y="7144"/>
                  </a:lnTo>
                  <a:lnTo>
                    <a:pt x="187166" y="479584"/>
                  </a:lnTo>
                  <a:cubicBezTo>
                    <a:pt x="189071" y="492919"/>
                    <a:pt x="189071" y="507206"/>
                    <a:pt x="187166" y="520541"/>
                  </a:cubicBezTo>
                  <a:lnTo>
                    <a:pt x="162401" y="752951"/>
                  </a:lnTo>
                  <a:lnTo>
                    <a:pt x="153829" y="832009"/>
                  </a:ln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70" name="任意多边形: 形状 32"/>
            <p:cNvSpPr/>
            <p:nvPr/>
          </p:nvSpPr>
          <p:spPr>
            <a:xfrm>
              <a:off x="4193280" y="1753560"/>
              <a:ext cx="333720" cy="1059120"/>
            </a:xfrm>
            <a:custGeom>
              <a:avLst/>
              <a:gdLst>
                <a:gd name="textAreaLeft" fmla="*/ 0 w 333720"/>
                <a:gd name="textAreaRight" fmla="*/ 334080 w 333720"/>
                <a:gd name="textAreaTop" fmla="*/ 0 h 1059120"/>
                <a:gd name="textAreaBottom" fmla="*/ 1059480 h 1059120"/>
              </a:gdLst>
              <a:ahLst/>
              <a:rect l="textAreaLeft" t="textAreaTop" r="textAreaRight" b="textAreaBottom"/>
              <a:pathLst>
                <a:path w="190500" h="542925">
                  <a:moveTo>
                    <a:pt x="54769" y="539591"/>
                  </a:moveTo>
                  <a:lnTo>
                    <a:pt x="185261" y="539591"/>
                  </a:lnTo>
                  <a:lnTo>
                    <a:pt x="187166" y="520541"/>
                  </a:lnTo>
                  <a:cubicBezTo>
                    <a:pt x="189071" y="507206"/>
                    <a:pt x="189071" y="492919"/>
                    <a:pt x="187166" y="479584"/>
                  </a:cubicBezTo>
                  <a:lnTo>
                    <a:pt x="66199" y="7144"/>
                  </a:lnTo>
                  <a:lnTo>
                    <a:pt x="7144" y="350044"/>
                  </a:lnTo>
                  <a:lnTo>
                    <a:pt x="55721" y="472916"/>
                  </a:lnTo>
                  <a:cubicBezTo>
                    <a:pt x="56674" y="476726"/>
                    <a:pt x="55721" y="509111"/>
                    <a:pt x="54769" y="539591"/>
                  </a:cubicBezTo>
                  <a:close/>
                </a:path>
              </a:pathLst>
            </a:custGeom>
            <a:solidFill>
              <a:srgbClr val="cad6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71" name="任意多边形: 形状 33"/>
            <p:cNvSpPr/>
            <p:nvPr/>
          </p:nvSpPr>
          <p:spPr>
            <a:xfrm>
              <a:off x="3360240" y="1649520"/>
              <a:ext cx="650880" cy="1523520"/>
            </a:xfrm>
            <a:custGeom>
              <a:avLst/>
              <a:gdLst>
                <a:gd name="textAreaLeft" fmla="*/ 0 w 650880"/>
                <a:gd name="textAreaRight" fmla="*/ 651240 w 650880"/>
                <a:gd name="textAreaTop" fmla="*/ 0 h 1523520"/>
                <a:gd name="textAreaBottom" fmla="*/ 1523880 h 1523520"/>
              </a:gdLst>
              <a:ahLst/>
              <a:rect l="textAreaLeft" t="textAreaTop" r="textAreaRight" b="textAreaBottom"/>
              <a:pathLst>
                <a:path w="371475" h="781050">
                  <a:moveTo>
                    <a:pt x="144304" y="774859"/>
                  </a:moveTo>
                  <a:lnTo>
                    <a:pt x="356711" y="774859"/>
                  </a:lnTo>
                  <a:cubicBezTo>
                    <a:pt x="356711" y="772954"/>
                    <a:pt x="357664" y="771049"/>
                    <a:pt x="358616" y="770096"/>
                  </a:cubicBezTo>
                  <a:lnTo>
                    <a:pt x="349091" y="693896"/>
                  </a:lnTo>
                  <a:cubicBezTo>
                    <a:pt x="342424" y="635794"/>
                    <a:pt x="342424" y="577691"/>
                    <a:pt x="348139" y="523399"/>
                  </a:cubicBezTo>
                  <a:lnTo>
                    <a:pt x="364331" y="389096"/>
                  </a:lnTo>
                  <a:cubicBezTo>
                    <a:pt x="369094" y="349091"/>
                    <a:pt x="363379" y="304324"/>
                    <a:pt x="349091" y="267176"/>
                  </a:cubicBezTo>
                  <a:cubicBezTo>
                    <a:pt x="340519" y="245269"/>
                    <a:pt x="334804" y="219551"/>
                    <a:pt x="332899" y="193834"/>
                  </a:cubicBezTo>
                  <a:lnTo>
                    <a:pt x="326231" y="103346"/>
                  </a:lnTo>
                  <a:cubicBezTo>
                    <a:pt x="325279" y="101441"/>
                    <a:pt x="323374" y="100489"/>
                    <a:pt x="322421" y="97631"/>
                  </a:cubicBezTo>
                  <a:cubicBezTo>
                    <a:pt x="309086" y="66199"/>
                    <a:pt x="319564" y="37624"/>
                    <a:pt x="319564" y="7144"/>
                  </a:cubicBezTo>
                  <a:lnTo>
                    <a:pt x="259556" y="7144"/>
                  </a:lnTo>
                  <a:lnTo>
                    <a:pt x="7144" y="111919"/>
                  </a:lnTo>
                  <a:lnTo>
                    <a:pt x="82391" y="344329"/>
                  </a:lnTo>
                  <a:cubicBezTo>
                    <a:pt x="87154" y="357664"/>
                    <a:pt x="92869" y="370999"/>
                    <a:pt x="98584" y="383381"/>
                  </a:cubicBezTo>
                  <a:cubicBezTo>
                    <a:pt x="158591" y="504349"/>
                    <a:pt x="174784" y="643414"/>
                    <a:pt x="144304" y="774859"/>
                  </a:cubicBezTo>
                  <a:close/>
                </a:path>
              </a:pathLst>
            </a:custGeom>
            <a:solidFill>
              <a:srgbClr val="cad6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72" name="任意多边形: 形状 34"/>
            <p:cNvSpPr/>
            <p:nvPr/>
          </p:nvSpPr>
          <p:spPr>
            <a:xfrm>
              <a:off x="3959640" y="1649520"/>
              <a:ext cx="433800" cy="1523520"/>
            </a:xfrm>
            <a:custGeom>
              <a:avLst/>
              <a:gdLst>
                <a:gd name="textAreaLeft" fmla="*/ 0 w 433800"/>
                <a:gd name="textAreaRight" fmla="*/ 434160 w 433800"/>
                <a:gd name="textAreaTop" fmla="*/ 0 h 1523520"/>
                <a:gd name="textAreaBottom" fmla="*/ 1523880 h 1523520"/>
              </a:gdLst>
              <a:ahLst/>
              <a:rect l="textAreaLeft" t="textAreaTop" r="textAreaRight" b="textAreaBottom"/>
              <a:pathLst>
                <a:path w="247650" h="781050">
                  <a:moveTo>
                    <a:pt x="221456" y="247174"/>
                  </a:moveTo>
                  <a:cubicBezTo>
                    <a:pt x="208121" y="225266"/>
                    <a:pt x="200501" y="200501"/>
                    <a:pt x="200501" y="173831"/>
                  </a:cubicBezTo>
                  <a:lnTo>
                    <a:pt x="200501" y="59531"/>
                  </a:lnTo>
                  <a:lnTo>
                    <a:pt x="47149" y="7144"/>
                  </a:lnTo>
                  <a:lnTo>
                    <a:pt x="17621" y="7144"/>
                  </a:lnTo>
                  <a:cubicBezTo>
                    <a:pt x="15716" y="30956"/>
                    <a:pt x="6191" y="57626"/>
                    <a:pt x="14764" y="78581"/>
                  </a:cubicBezTo>
                  <a:cubicBezTo>
                    <a:pt x="19526" y="89059"/>
                    <a:pt x="14764" y="98584"/>
                    <a:pt x="7144" y="104299"/>
                  </a:cubicBezTo>
                  <a:cubicBezTo>
                    <a:pt x="8096" y="104299"/>
                    <a:pt x="10001" y="104299"/>
                    <a:pt x="10954" y="104299"/>
                  </a:cubicBezTo>
                  <a:lnTo>
                    <a:pt x="17621" y="194786"/>
                  </a:lnTo>
                  <a:cubicBezTo>
                    <a:pt x="19526" y="220504"/>
                    <a:pt x="25241" y="246221"/>
                    <a:pt x="33814" y="268129"/>
                  </a:cubicBezTo>
                  <a:cubicBezTo>
                    <a:pt x="48101" y="304324"/>
                    <a:pt x="53816" y="349091"/>
                    <a:pt x="49054" y="390049"/>
                  </a:cubicBezTo>
                  <a:lnTo>
                    <a:pt x="32861" y="524351"/>
                  </a:lnTo>
                  <a:cubicBezTo>
                    <a:pt x="26194" y="578644"/>
                    <a:pt x="26194" y="636746"/>
                    <a:pt x="33814" y="694849"/>
                  </a:cubicBezTo>
                  <a:lnTo>
                    <a:pt x="43339" y="772001"/>
                  </a:lnTo>
                  <a:cubicBezTo>
                    <a:pt x="43339" y="772954"/>
                    <a:pt x="44291" y="773906"/>
                    <a:pt x="44291" y="775811"/>
                  </a:cubicBezTo>
                  <a:lnTo>
                    <a:pt x="172879" y="775811"/>
                  </a:lnTo>
                  <a:lnTo>
                    <a:pt x="163354" y="670084"/>
                  </a:lnTo>
                  <a:cubicBezTo>
                    <a:pt x="158591" y="612934"/>
                    <a:pt x="165259" y="555784"/>
                    <a:pt x="185261" y="501491"/>
                  </a:cubicBezTo>
                  <a:lnTo>
                    <a:pt x="233839" y="368141"/>
                  </a:lnTo>
                  <a:cubicBezTo>
                    <a:pt x="248126" y="327184"/>
                    <a:pt x="243364" y="282416"/>
                    <a:pt x="221456" y="247174"/>
                  </a:cubicBezTo>
                  <a:close/>
                </a:path>
              </a:pathLst>
            </a:custGeom>
            <a:solidFill>
              <a:srgbClr val="b2b7b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73" name="任意多边形: 形状 35"/>
            <p:cNvSpPr/>
            <p:nvPr/>
          </p:nvSpPr>
          <p:spPr>
            <a:xfrm>
              <a:off x="3976200" y="314748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10954" y="-31722"/>
                  </a:moveTo>
                  <a:lnTo>
                    <a:pt x="-28865" y="-31722"/>
                  </a:lnTo>
                  <a:lnTo>
                    <a:pt x="-31722" y="7144"/>
                  </a:lnTo>
                  <a:lnTo>
                    <a:pt x="7144" y="7144"/>
                  </a:lnTo>
                  <a:lnTo>
                    <a:pt x="10954" y="-31722"/>
                  </a:lnTo>
                  <a:close/>
                </a:path>
              </a:pathLst>
            </a:custGeom>
            <a:solidFill>
              <a:srgbClr val="97a5a2"/>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274" name="任意多边形: 形状 36"/>
            <p:cNvSpPr/>
            <p:nvPr/>
          </p:nvSpPr>
          <p:spPr>
            <a:xfrm>
              <a:off x="3919680" y="1833480"/>
              <a:ext cx="133200" cy="1337760"/>
            </a:xfrm>
            <a:custGeom>
              <a:avLst/>
              <a:gdLst>
                <a:gd name="textAreaLeft" fmla="*/ 0 w 133200"/>
                <a:gd name="textAreaRight" fmla="*/ 133560 w 133200"/>
                <a:gd name="textAreaTop" fmla="*/ 0 h 1337760"/>
                <a:gd name="textAreaBottom" fmla="*/ 1337760 h 1337760"/>
              </a:gdLst>
              <a:ahLst/>
              <a:rect l="textAreaLeft" t="textAreaTop" r="textAreaRight" b="textAreaBottom"/>
              <a:pathLst>
                <a:path w="76200" h="685800">
                  <a:moveTo>
                    <a:pt x="56674" y="599599"/>
                  </a:moveTo>
                  <a:cubicBezTo>
                    <a:pt x="50006" y="541496"/>
                    <a:pt x="50006" y="483394"/>
                    <a:pt x="55721" y="429101"/>
                  </a:cubicBezTo>
                  <a:lnTo>
                    <a:pt x="71914" y="294799"/>
                  </a:lnTo>
                  <a:cubicBezTo>
                    <a:pt x="76676" y="254794"/>
                    <a:pt x="70961" y="210026"/>
                    <a:pt x="56674" y="172879"/>
                  </a:cubicBezTo>
                  <a:cubicBezTo>
                    <a:pt x="48101" y="150971"/>
                    <a:pt x="42386" y="125254"/>
                    <a:pt x="40481" y="99536"/>
                  </a:cubicBezTo>
                  <a:lnTo>
                    <a:pt x="33814" y="9049"/>
                  </a:lnTo>
                  <a:cubicBezTo>
                    <a:pt x="30956" y="9049"/>
                    <a:pt x="28099" y="9049"/>
                    <a:pt x="25241" y="9049"/>
                  </a:cubicBezTo>
                  <a:cubicBezTo>
                    <a:pt x="18574" y="9049"/>
                    <a:pt x="12859" y="8096"/>
                    <a:pt x="7144" y="7144"/>
                  </a:cubicBezTo>
                  <a:lnTo>
                    <a:pt x="13811" y="98584"/>
                  </a:lnTo>
                  <a:cubicBezTo>
                    <a:pt x="15716" y="124301"/>
                    <a:pt x="21431" y="150019"/>
                    <a:pt x="30004" y="171926"/>
                  </a:cubicBezTo>
                  <a:cubicBezTo>
                    <a:pt x="44291" y="208121"/>
                    <a:pt x="50006" y="252889"/>
                    <a:pt x="45244" y="293846"/>
                  </a:cubicBezTo>
                  <a:lnTo>
                    <a:pt x="29051" y="428149"/>
                  </a:lnTo>
                  <a:cubicBezTo>
                    <a:pt x="22384" y="482441"/>
                    <a:pt x="22384" y="540544"/>
                    <a:pt x="30004" y="598646"/>
                  </a:cubicBezTo>
                  <a:lnTo>
                    <a:pt x="39529" y="679609"/>
                  </a:lnTo>
                  <a:lnTo>
                    <a:pt x="66199" y="679609"/>
                  </a:lnTo>
                  <a:lnTo>
                    <a:pt x="56674" y="599599"/>
                  </a:lnTo>
                  <a:close/>
                </a:path>
              </a:pathLst>
            </a:custGeom>
            <a:solidFill>
              <a:srgbClr val="97a5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75" name="任意多边形: 形状 37"/>
            <p:cNvSpPr/>
            <p:nvPr/>
          </p:nvSpPr>
          <p:spPr>
            <a:xfrm>
              <a:off x="3719160" y="1560600"/>
              <a:ext cx="283680" cy="315720"/>
            </a:xfrm>
            <a:custGeom>
              <a:avLst/>
              <a:gdLst>
                <a:gd name="textAreaLeft" fmla="*/ 0 w 283680"/>
                <a:gd name="textAreaRight" fmla="*/ 284040 w 283680"/>
                <a:gd name="textAreaTop" fmla="*/ 0 h 315720"/>
                <a:gd name="textAreaBottom" fmla="*/ 316080 h 315720"/>
              </a:gdLst>
              <a:ahLst/>
              <a:rect l="textAreaLeft" t="textAreaTop" r="textAreaRight" b="textAreaBottom"/>
              <a:pathLst>
                <a:path w="161925" h="161925">
                  <a:moveTo>
                    <a:pt x="157639" y="84296"/>
                  </a:moveTo>
                  <a:cubicBezTo>
                    <a:pt x="157639" y="127159"/>
                    <a:pt x="123349" y="161449"/>
                    <a:pt x="82391" y="161449"/>
                  </a:cubicBezTo>
                  <a:cubicBezTo>
                    <a:pt x="40481" y="161449"/>
                    <a:pt x="7144" y="127159"/>
                    <a:pt x="7144" y="84296"/>
                  </a:cubicBezTo>
                  <a:cubicBezTo>
                    <a:pt x="7144" y="41434"/>
                    <a:pt x="41434" y="7144"/>
                    <a:pt x="82391" y="7144"/>
                  </a:cubicBezTo>
                  <a:cubicBezTo>
                    <a:pt x="124301" y="7144"/>
                    <a:pt x="157639" y="41434"/>
                    <a:pt x="157639" y="84296"/>
                  </a:cubicBezTo>
                  <a:close/>
                </a:path>
              </a:pathLst>
            </a:custGeom>
            <a:solidFill>
              <a:srgbClr val="fdfd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76" name="任意多边形: 形状 38"/>
            <p:cNvSpPr/>
            <p:nvPr/>
          </p:nvSpPr>
          <p:spPr>
            <a:xfrm>
              <a:off x="3869280" y="1560600"/>
              <a:ext cx="283680" cy="315720"/>
            </a:xfrm>
            <a:custGeom>
              <a:avLst/>
              <a:gdLst>
                <a:gd name="textAreaLeft" fmla="*/ 0 w 283680"/>
                <a:gd name="textAreaRight" fmla="*/ 284040 w 283680"/>
                <a:gd name="textAreaTop" fmla="*/ 0 h 315720"/>
                <a:gd name="textAreaBottom" fmla="*/ 316080 h 315720"/>
              </a:gdLst>
              <a:ahLst/>
              <a:rect l="textAreaLeft" t="textAreaTop" r="textAreaRight" b="textAreaBottom"/>
              <a:pathLst>
                <a:path w="161925" h="161925">
                  <a:moveTo>
                    <a:pt x="157639" y="84296"/>
                  </a:moveTo>
                  <a:cubicBezTo>
                    <a:pt x="157639" y="127159"/>
                    <a:pt x="123349" y="161449"/>
                    <a:pt x="82391" y="161449"/>
                  </a:cubicBezTo>
                  <a:cubicBezTo>
                    <a:pt x="40481" y="161449"/>
                    <a:pt x="7144" y="127159"/>
                    <a:pt x="7144" y="84296"/>
                  </a:cubicBezTo>
                  <a:cubicBezTo>
                    <a:pt x="7144" y="41434"/>
                    <a:pt x="41434" y="7144"/>
                    <a:pt x="82391" y="7144"/>
                  </a:cubicBezTo>
                  <a:cubicBezTo>
                    <a:pt x="123349" y="7144"/>
                    <a:pt x="157639" y="41434"/>
                    <a:pt x="157639" y="84296"/>
                  </a:cubicBezTo>
                  <a:close/>
                </a:path>
              </a:pathLst>
            </a:custGeom>
            <a:solidFill>
              <a:srgbClr val="fdfd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77" name="任意多边形: 形状 39"/>
            <p:cNvSpPr/>
            <p:nvPr/>
          </p:nvSpPr>
          <p:spPr>
            <a:xfrm>
              <a:off x="2932560" y="1854000"/>
              <a:ext cx="667440" cy="1319040"/>
            </a:xfrm>
            <a:custGeom>
              <a:avLst/>
              <a:gdLst>
                <a:gd name="textAreaLeft" fmla="*/ 0 w 667440"/>
                <a:gd name="textAreaRight" fmla="*/ 667800 w 667440"/>
                <a:gd name="textAreaTop" fmla="*/ 0 h 1319040"/>
                <a:gd name="textAreaBottom" fmla="*/ 1319400 h 1319040"/>
              </a:gdLst>
              <a:ahLst/>
              <a:rect l="textAreaLeft" t="textAreaTop" r="textAreaRight" b="textAreaBottom"/>
              <a:pathLst>
                <a:path w="381000" h="676275">
                  <a:moveTo>
                    <a:pt x="251222" y="7144"/>
                  </a:moveTo>
                  <a:lnTo>
                    <a:pt x="306467" y="178594"/>
                  </a:lnTo>
                  <a:lnTo>
                    <a:pt x="188357" y="330994"/>
                  </a:lnTo>
                  <a:cubicBezTo>
                    <a:pt x="173117" y="341471"/>
                    <a:pt x="171212" y="362426"/>
                    <a:pt x="182642" y="376714"/>
                  </a:cubicBezTo>
                  <a:lnTo>
                    <a:pt x="380762" y="611981"/>
                  </a:lnTo>
                  <a:lnTo>
                    <a:pt x="298847" y="670084"/>
                  </a:lnTo>
                  <a:lnTo>
                    <a:pt x="15002" y="361474"/>
                  </a:lnTo>
                  <a:cubicBezTo>
                    <a:pt x="4524" y="350044"/>
                    <a:pt x="4524" y="332899"/>
                    <a:pt x="15002" y="320516"/>
                  </a:cubicBezTo>
                  <a:lnTo>
                    <a:pt x="251222" y="7144"/>
                  </a:ln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78" name="任意多边形: 形状 40"/>
            <p:cNvSpPr/>
            <p:nvPr/>
          </p:nvSpPr>
          <p:spPr>
            <a:xfrm>
              <a:off x="2934000" y="1854000"/>
              <a:ext cx="533880" cy="854640"/>
            </a:xfrm>
            <a:custGeom>
              <a:avLst/>
              <a:gdLst>
                <a:gd name="textAreaLeft" fmla="*/ 0 w 533880"/>
                <a:gd name="textAreaRight" fmla="*/ 534240 w 533880"/>
                <a:gd name="textAreaTop" fmla="*/ 0 h 854640"/>
                <a:gd name="textAreaBottom" fmla="*/ 855000 h 854640"/>
              </a:gdLst>
              <a:ahLst/>
              <a:rect l="textAreaLeft" t="textAreaTop" r="textAreaRight" b="textAreaBottom"/>
              <a:pathLst>
                <a:path w="304800" h="438150">
                  <a:moveTo>
                    <a:pt x="85487" y="438626"/>
                  </a:moveTo>
                  <a:cubicBezTo>
                    <a:pt x="114062" y="416719"/>
                    <a:pt x="143589" y="395764"/>
                    <a:pt x="172164" y="373856"/>
                  </a:cubicBezTo>
                  <a:cubicBezTo>
                    <a:pt x="174069" y="371951"/>
                    <a:pt x="175974" y="370999"/>
                    <a:pt x="177879" y="370046"/>
                  </a:cubicBezTo>
                  <a:cubicBezTo>
                    <a:pt x="171212" y="356711"/>
                    <a:pt x="175022" y="340519"/>
                    <a:pt x="187404" y="330994"/>
                  </a:cubicBezTo>
                  <a:lnTo>
                    <a:pt x="305514" y="178594"/>
                  </a:lnTo>
                  <a:lnTo>
                    <a:pt x="250269" y="7144"/>
                  </a:lnTo>
                  <a:lnTo>
                    <a:pt x="15002" y="321469"/>
                  </a:lnTo>
                  <a:cubicBezTo>
                    <a:pt x="4524" y="332899"/>
                    <a:pt x="4524" y="350044"/>
                    <a:pt x="15002" y="362426"/>
                  </a:cubicBezTo>
                  <a:lnTo>
                    <a:pt x="85487" y="438626"/>
                  </a:lnTo>
                  <a:close/>
                </a:path>
              </a:pathLst>
            </a:custGeom>
            <a:solidFill>
              <a:srgbClr val="cad6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79" name="任意多边形: 形状 41"/>
            <p:cNvSpPr/>
            <p:nvPr/>
          </p:nvSpPr>
          <p:spPr>
            <a:xfrm>
              <a:off x="3804480" y="1450800"/>
              <a:ext cx="250200" cy="389880"/>
            </a:xfrm>
            <a:custGeom>
              <a:avLst/>
              <a:gdLst>
                <a:gd name="textAreaLeft" fmla="*/ 0 w 250200"/>
                <a:gd name="textAreaRight" fmla="*/ 250560 w 250200"/>
                <a:gd name="textAreaTop" fmla="*/ 0 h 389880"/>
                <a:gd name="textAreaBottom" fmla="*/ 390240 h 389880"/>
              </a:gdLst>
              <a:ahLst/>
              <a:rect l="textAreaLeft" t="textAreaTop" r="textAreaRight" b="textAreaBottom"/>
              <a:pathLst>
                <a:path w="142875" h="200025">
                  <a:moveTo>
                    <a:pt x="7144" y="7144"/>
                  </a:moveTo>
                  <a:lnTo>
                    <a:pt x="7144" y="82391"/>
                  </a:lnTo>
                  <a:cubicBezTo>
                    <a:pt x="7144" y="123349"/>
                    <a:pt x="46196" y="198596"/>
                    <a:pt x="81439" y="198596"/>
                  </a:cubicBezTo>
                  <a:cubicBezTo>
                    <a:pt x="116681" y="198596"/>
                    <a:pt x="135731" y="124301"/>
                    <a:pt x="135731" y="82391"/>
                  </a:cubicBezTo>
                  <a:lnTo>
                    <a:pt x="135731" y="7144"/>
                  </a:lnTo>
                  <a:lnTo>
                    <a:pt x="7144" y="7144"/>
                  </a:ln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80" name="任意多边形: 形状 42"/>
            <p:cNvSpPr/>
            <p:nvPr/>
          </p:nvSpPr>
          <p:spPr>
            <a:xfrm>
              <a:off x="3804480" y="1357920"/>
              <a:ext cx="233640" cy="315720"/>
            </a:xfrm>
            <a:custGeom>
              <a:avLst/>
              <a:gdLst>
                <a:gd name="textAreaLeft" fmla="*/ 0 w 233640"/>
                <a:gd name="textAreaRight" fmla="*/ 234000 w 233640"/>
                <a:gd name="textAreaTop" fmla="*/ 0 h 315720"/>
                <a:gd name="textAreaBottom" fmla="*/ 316080 h 315720"/>
              </a:gdLst>
              <a:ahLst/>
              <a:rect l="textAreaLeft" t="textAreaTop" r="textAreaRight" b="textAreaBottom"/>
              <a:pathLst>
                <a:path w="133350" h="161925">
                  <a:moveTo>
                    <a:pt x="7144" y="7144"/>
                  </a:moveTo>
                  <a:lnTo>
                    <a:pt x="7144" y="82391"/>
                  </a:lnTo>
                  <a:cubicBezTo>
                    <a:pt x="7144" y="124301"/>
                    <a:pt x="35719" y="157639"/>
                    <a:pt x="70961" y="157639"/>
                  </a:cubicBezTo>
                  <a:cubicBezTo>
                    <a:pt x="106204" y="157639"/>
                    <a:pt x="134779" y="124301"/>
                    <a:pt x="134779" y="82391"/>
                  </a:cubicBezTo>
                  <a:lnTo>
                    <a:pt x="134779" y="7144"/>
                  </a:lnTo>
                  <a:lnTo>
                    <a:pt x="7144" y="7144"/>
                  </a:ln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81" name="任意多边形: 形状 43"/>
            <p:cNvSpPr/>
            <p:nvPr/>
          </p:nvSpPr>
          <p:spPr>
            <a:xfrm>
              <a:off x="3553920" y="1112760"/>
              <a:ext cx="150120" cy="167040"/>
            </a:xfrm>
            <a:custGeom>
              <a:avLst/>
              <a:gdLst>
                <a:gd name="textAreaLeft" fmla="*/ 0 w 150120"/>
                <a:gd name="textAreaRight" fmla="*/ 150480 w 150120"/>
                <a:gd name="textAreaTop" fmla="*/ 0 h 167040"/>
                <a:gd name="textAreaBottom" fmla="*/ 167400 h 167040"/>
              </a:gdLst>
              <a:ahLst/>
              <a:rect l="textAreaLeft" t="textAreaTop" r="textAreaRight" b="textAreaBottom"/>
              <a:pathLst>
                <a:path w="85725" h="85725">
                  <a:moveTo>
                    <a:pt x="7144" y="46196"/>
                  </a:moveTo>
                  <a:cubicBezTo>
                    <a:pt x="7144" y="67151"/>
                    <a:pt x="24289" y="85249"/>
                    <a:pt x="46196" y="85249"/>
                  </a:cubicBezTo>
                  <a:cubicBezTo>
                    <a:pt x="68104" y="85249"/>
                    <a:pt x="85249" y="68104"/>
                    <a:pt x="85249" y="46196"/>
                  </a:cubicBezTo>
                  <a:cubicBezTo>
                    <a:pt x="85249" y="25241"/>
                    <a:pt x="68104" y="7144"/>
                    <a:pt x="46196" y="7144"/>
                  </a:cubicBezTo>
                  <a:cubicBezTo>
                    <a:pt x="24289" y="7144"/>
                    <a:pt x="7144" y="24289"/>
                    <a:pt x="7144" y="46196"/>
                  </a:cubicBezTo>
                  <a:close/>
                </a:path>
              </a:pathLst>
            </a:custGeom>
            <a:solidFill>
              <a:srgbClr val="f88f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82" name="任意多边形: 形状 44"/>
            <p:cNvSpPr/>
            <p:nvPr/>
          </p:nvSpPr>
          <p:spPr>
            <a:xfrm>
              <a:off x="3620520" y="860040"/>
              <a:ext cx="600840" cy="705960"/>
            </a:xfrm>
            <a:custGeom>
              <a:avLst/>
              <a:gdLst>
                <a:gd name="textAreaLeft" fmla="*/ 0 w 600840"/>
                <a:gd name="textAreaRight" fmla="*/ 601200 w 600840"/>
                <a:gd name="textAreaTop" fmla="*/ 0 h 705960"/>
                <a:gd name="textAreaBottom" fmla="*/ 706320 h 705960"/>
              </a:gdLst>
              <a:ahLst/>
              <a:rect l="textAreaLeft" t="textAreaTop" r="textAreaRight" b="textAreaBottom"/>
              <a:pathLst>
                <a:path w="342900" h="361950">
                  <a:moveTo>
                    <a:pt x="343376" y="76676"/>
                  </a:moveTo>
                  <a:lnTo>
                    <a:pt x="343376" y="194786"/>
                  </a:lnTo>
                  <a:cubicBezTo>
                    <a:pt x="343376" y="202406"/>
                    <a:pt x="342424" y="210026"/>
                    <a:pt x="341471" y="217646"/>
                  </a:cubicBezTo>
                  <a:cubicBezTo>
                    <a:pt x="341471" y="220504"/>
                    <a:pt x="340519" y="224314"/>
                    <a:pt x="339566" y="227171"/>
                  </a:cubicBezTo>
                  <a:cubicBezTo>
                    <a:pt x="329089" y="277654"/>
                    <a:pt x="296704" y="320516"/>
                    <a:pt x="251936" y="343376"/>
                  </a:cubicBezTo>
                  <a:cubicBezTo>
                    <a:pt x="247174" y="346234"/>
                    <a:pt x="242411" y="348139"/>
                    <a:pt x="237649" y="350044"/>
                  </a:cubicBezTo>
                  <a:cubicBezTo>
                    <a:pt x="218599" y="357664"/>
                    <a:pt x="197644" y="362426"/>
                    <a:pt x="175736" y="362426"/>
                  </a:cubicBezTo>
                  <a:cubicBezTo>
                    <a:pt x="151924" y="362426"/>
                    <a:pt x="129064" y="357664"/>
                    <a:pt x="108109" y="348139"/>
                  </a:cubicBezTo>
                  <a:cubicBezTo>
                    <a:pt x="104299" y="346234"/>
                    <a:pt x="100489" y="344329"/>
                    <a:pt x="96679" y="342424"/>
                  </a:cubicBezTo>
                  <a:cubicBezTo>
                    <a:pt x="52864" y="319564"/>
                    <a:pt x="21431" y="277654"/>
                    <a:pt x="10954" y="227171"/>
                  </a:cubicBezTo>
                  <a:cubicBezTo>
                    <a:pt x="10001" y="224314"/>
                    <a:pt x="10001" y="221456"/>
                    <a:pt x="9049" y="218599"/>
                  </a:cubicBezTo>
                  <a:cubicBezTo>
                    <a:pt x="8096" y="210979"/>
                    <a:pt x="7144" y="202406"/>
                    <a:pt x="7144" y="194786"/>
                  </a:cubicBezTo>
                  <a:lnTo>
                    <a:pt x="7144" y="97631"/>
                  </a:lnTo>
                  <a:cubicBezTo>
                    <a:pt x="7144" y="48101"/>
                    <a:pt x="47149" y="7144"/>
                    <a:pt x="97631" y="7144"/>
                  </a:cubicBezTo>
                  <a:lnTo>
                    <a:pt x="273844" y="7144"/>
                  </a:lnTo>
                  <a:cubicBezTo>
                    <a:pt x="312896" y="8096"/>
                    <a:pt x="343376" y="38576"/>
                    <a:pt x="343376" y="76676"/>
                  </a:cubicBez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83" name="任意多边形: 形状 45"/>
            <p:cNvSpPr/>
            <p:nvPr/>
          </p:nvSpPr>
          <p:spPr>
            <a:xfrm>
              <a:off x="3847680" y="1350360"/>
              <a:ext cx="150120" cy="92880"/>
            </a:xfrm>
            <a:custGeom>
              <a:avLst/>
              <a:gdLst>
                <a:gd name="textAreaLeft" fmla="*/ 0 w 150120"/>
                <a:gd name="textAreaRight" fmla="*/ 150480 w 150120"/>
                <a:gd name="textAreaTop" fmla="*/ 0 h 92880"/>
                <a:gd name="textAreaBottom" fmla="*/ 93240 h 92880"/>
              </a:gdLst>
              <a:ahLst/>
              <a:rect l="textAreaLeft" t="textAreaTop" r="textAreaRight" b="textAreaBottom"/>
              <a:pathLst>
                <a:path w="85725" h="47625">
                  <a:moveTo>
                    <a:pt x="44291" y="44291"/>
                  </a:moveTo>
                  <a:cubicBezTo>
                    <a:pt x="64294" y="44291"/>
                    <a:pt x="81439" y="27146"/>
                    <a:pt x="81439" y="7144"/>
                  </a:cubicBezTo>
                  <a:lnTo>
                    <a:pt x="7144" y="7144"/>
                  </a:lnTo>
                  <a:cubicBezTo>
                    <a:pt x="7144" y="27146"/>
                    <a:pt x="23336" y="44291"/>
                    <a:pt x="44291" y="44291"/>
                  </a:cubicBezTo>
                  <a:close/>
                </a:path>
              </a:pathLst>
            </a:custGeom>
            <a:solidFill>
              <a:srgbClr val="a2323e"/>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Arial"/>
              </a:endParaRPr>
            </a:p>
          </p:txBody>
        </p:sp>
        <p:sp>
          <p:nvSpPr>
            <p:cNvPr id="284" name="任意多边形: 形状 46"/>
            <p:cNvSpPr/>
            <p:nvPr/>
          </p:nvSpPr>
          <p:spPr>
            <a:xfrm>
              <a:off x="3752640" y="111816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29817" y="21431"/>
                  </a:moveTo>
                  <a:cubicBezTo>
                    <a:pt x="-29817" y="29051"/>
                    <a:pt x="29051" y="-29817"/>
                    <a:pt x="21431" y="-29817"/>
                  </a:cubicBezTo>
                  <a:cubicBezTo>
                    <a:pt x="13811" y="-29817"/>
                    <a:pt x="7144" y="29051"/>
                    <a:pt x="7144" y="21431"/>
                  </a:cubicBezTo>
                  <a:cubicBezTo>
                    <a:pt x="7144" y="13811"/>
                    <a:pt x="13811" y="7144"/>
                    <a:pt x="21431" y="7144"/>
                  </a:cubicBezTo>
                  <a:cubicBezTo>
                    <a:pt x="30004" y="7144"/>
                    <a:pt x="-29817" y="13811"/>
                    <a:pt x="-29817" y="21431"/>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285" name="任意多边形: 形状 47"/>
            <p:cNvSpPr/>
            <p:nvPr/>
          </p:nvSpPr>
          <p:spPr>
            <a:xfrm>
              <a:off x="4029840" y="111816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29817" y="21431"/>
                  </a:moveTo>
                  <a:cubicBezTo>
                    <a:pt x="-29817" y="29322"/>
                    <a:pt x="29322" y="-29817"/>
                    <a:pt x="21431" y="-29817"/>
                  </a:cubicBezTo>
                  <a:cubicBezTo>
                    <a:pt x="13540" y="-29817"/>
                    <a:pt x="7144" y="29322"/>
                    <a:pt x="7144" y="21431"/>
                  </a:cubicBezTo>
                  <a:cubicBezTo>
                    <a:pt x="7144" y="13540"/>
                    <a:pt x="13540" y="7144"/>
                    <a:pt x="21431" y="7144"/>
                  </a:cubicBezTo>
                  <a:cubicBezTo>
                    <a:pt x="29322" y="7144"/>
                    <a:pt x="-29817" y="13540"/>
                    <a:pt x="-29817" y="21431"/>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286" name="任意多边形: 形状 48"/>
            <p:cNvSpPr/>
            <p:nvPr/>
          </p:nvSpPr>
          <p:spPr>
            <a:xfrm>
              <a:off x="3897720" y="1229760"/>
              <a:ext cx="50040" cy="55440"/>
            </a:xfrm>
            <a:custGeom>
              <a:avLst/>
              <a:gdLst>
                <a:gd name="textAreaLeft" fmla="*/ 0 w 50040"/>
                <a:gd name="textAreaRight" fmla="*/ 50400 w 50040"/>
                <a:gd name="textAreaTop" fmla="*/ 0 h 55440"/>
                <a:gd name="textAreaBottom" fmla="*/ 55800 h 55440"/>
              </a:gdLst>
              <a:ahLst/>
              <a:rect l="textAreaLeft" t="textAreaTop" r="textAreaRight" b="textAreaBottom"/>
              <a:pathLst>
                <a:path w="28575" h="28575">
                  <a:moveTo>
                    <a:pt x="28099" y="17621"/>
                  </a:moveTo>
                  <a:cubicBezTo>
                    <a:pt x="28099" y="23336"/>
                    <a:pt x="23336" y="28099"/>
                    <a:pt x="17621" y="28099"/>
                  </a:cubicBezTo>
                  <a:cubicBezTo>
                    <a:pt x="11906" y="28099"/>
                    <a:pt x="7144" y="23336"/>
                    <a:pt x="7144" y="17621"/>
                  </a:cubicBezTo>
                  <a:cubicBezTo>
                    <a:pt x="7144" y="11906"/>
                    <a:pt x="11906" y="7144"/>
                    <a:pt x="17621" y="7144"/>
                  </a:cubicBezTo>
                  <a:cubicBezTo>
                    <a:pt x="23336" y="8096"/>
                    <a:pt x="28099" y="12859"/>
                    <a:pt x="28099" y="17621"/>
                  </a:cubicBezTo>
                  <a:close/>
                </a:path>
              </a:pathLst>
            </a:custGeom>
            <a:solidFill>
              <a:srgbClr val="ffc49c"/>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Arial"/>
              </a:endParaRPr>
            </a:p>
          </p:txBody>
        </p:sp>
        <p:sp>
          <p:nvSpPr>
            <p:cNvPr id="287" name="任意多边形: 形状 49"/>
            <p:cNvSpPr/>
            <p:nvPr/>
          </p:nvSpPr>
          <p:spPr>
            <a:xfrm>
              <a:off x="3713040" y="1036800"/>
              <a:ext cx="133200" cy="55440"/>
            </a:xfrm>
            <a:custGeom>
              <a:avLst/>
              <a:gdLst>
                <a:gd name="textAreaLeft" fmla="*/ 0 w 133200"/>
                <a:gd name="textAreaRight" fmla="*/ 133560 w 133200"/>
                <a:gd name="textAreaTop" fmla="*/ 0 h 55440"/>
                <a:gd name="textAreaBottom" fmla="*/ 55800 h 55440"/>
              </a:gdLst>
              <a:ahLst/>
              <a:rect l="textAreaLeft" t="textAreaTop" r="textAreaRight" b="textAreaBottom"/>
              <a:pathLst>
                <a:path w="76200" h="28575">
                  <a:moveTo>
                    <a:pt x="64949" y="27861"/>
                  </a:moveTo>
                  <a:cubicBezTo>
                    <a:pt x="51614" y="19288"/>
                    <a:pt x="33516" y="19288"/>
                    <a:pt x="20181" y="27861"/>
                  </a:cubicBezTo>
                  <a:cubicBezTo>
                    <a:pt x="16371" y="29766"/>
                    <a:pt x="11609" y="30718"/>
                    <a:pt x="8751" y="27861"/>
                  </a:cubicBezTo>
                  <a:cubicBezTo>
                    <a:pt x="5894" y="25003"/>
                    <a:pt x="6846" y="19288"/>
                    <a:pt x="11609" y="16431"/>
                  </a:cubicBezTo>
                  <a:cubicBezTo>
                    <a:pt x="29706" y="4048"/>
                    <a:pt x="53519" y="4048"/>
                    <a:pt x="71616" y="16431"/>
                  </a:cubicBezTo>
                  <a:cubicBezTo>
                    <a:pt x="76379" y="19288"/>
                    <a:pt x="77331" y="25956"/>
                    <a:pt x="74474" y="27861"/>
                  </a:cubicBezTo>
                  <a:cubicBezTo>
                    <a:pt x="73521" y="30718"/>
                    <a:pt x="68759" y="30718"/>
                    <a:pt x="64949" y="27861"/>
                  </a:cubicBezTo>
                  <a:close/>
                </a:path>
              </a:pathLst>
            </a:custGeom>
            <a:solidFill>
              <a:srgbClr val="3e2e21"/>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Arial"/>
              </a:endParaRPr>
            </a:p>
          </p:txBody>
        </p:sp>
        <p:sp>
          <p:nvSpPr>
            <p:cNvPr id="288" name="任意多边形: 形状 50"/>
            <p:cNvSpPr/>
            <p:nvPr/>
          </p:nvSpPr>
          <p:spPr>
            <a:xfrm>
              <a:off x="3991680" y="1033200"/>
              <a:ext cx="133200" cy="55440"/>
            </a:xfrm>
            <a:custGeom>
              <a:avLst/>
              <a:gdLst>
                <a:gd name="textAreaLeft" fmla="*/ 0 w 133200"/>
                <a:gd name="textAreaRight" fmla="*/ 133560 w 133200"/>
                <a:gd name="textAreaTop" fmla="*/ 0 h 55440"/>
                <a:gd name="textAreaBottom" fmla="*/ 55800 h 55440"/>
              </a:gdLst>
              <a:ahLst/>
              <a:rect l="textAreaLeft" t="textAreaTop" r="textAreaRight" b="textAreaBottom"/>
              <a:pathLst>
                <a:path w="76200" h="28575">
                  <a:moveTo>
                    <a:pt x="64949" y="27861"/>
                  </a:moveTo>
                  <a:cubicBezTo>
                    <a:pt x="51614" y="19288"/>
                    <a:pt x="33516" y="19288"/>
                    <a:pt x="20181" y="27861"/>
                  </a:cubicBezTo>
                  <a:cubicBezTo>
                    <a:pt x="16371" y="29766"/>
                    <a:pt x="11609" y="30718"/>
                    <a:pt x="8751" y="27861"/>
                  </a:cubicBezTo>
                  <a:cubicBezTo>
                    <a:pt x="5894" y="25003"/>
                    <a:pt x="6846" y="19288"/>
                    <a:pt x="11609" y="16431"/>
                  </a:cubicBezTo>
                  <a:cubicBezTo>
                    <a:pt x="29706" y="4048"/>
                    <a:pt x="53519" y="4048"/>
                    <a:pt x="71616" y="16431"/>
                  </a:cubicBezTo>
                  <a:cubicBezTo>
                    <a:pt x="76379" y="19288"/>
                    <a:pt x="77331" y="25956"/>
                    <a:pt x="74474" y="27861"/>
                  </a:cubicBezTo>
                  <a:cubicBezTo>
                    <a:pt x="73521" y="30718"/>
                    <a:pt x="68759" y="30718"/>
                    <a:pt x="64949" y="27861"/>
                  </a:cubicBezTo>
                  <a:close/>
                </a:path>
              </a:pathLst>
            </a:custGeom>
            <a:solidFill>
              <a:srgbClr val="3e2e21"/>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Arial"/>
              </a:endParaRPr>
            </a:p>
          </p:txBody>
        </p:sp>
        <p:sp>
          <p:nvSpPr>
            <p:cNvPr id="289" name="任意多边形: 形状 51"/>
            <p:cNvSpPr/>
            <p:nvPr/>
          </p:nvSpPr>
          <p:spPr>
            <a:xfrm>
              <a:off x="3445560" y="3034080"/>
              <a:ext cx="166680" cy="371520"/>
            </a:xfrm>
            <a:custGeom>
              <a:avLst/>
              <a:gdLst>
                <a:gd name="textAreaLeft" fmla="*/ 0 w 166680"/>
                <a:gd name="textAreaRight" fmla="*/ 167040 w 166680"/>
                <a:gd name="textAreaTop" fmla="*/ 0 h 371520"/>
                <a:gd name="textAreaBottom" fmla="*/ 371880 h 371520"/>
              </a:gdLst>
              <a:ahLst/>
              <a:rect l="textAreaLeft" t="textAreaTop" r="textAreaRight" b="textAreaBottom"/>
              <a:pathLst>
                <a:path w="95250" h="190500">
                  <a:moveTo>
                    <a:pt x="7144" y="65246"/>
                  </a:moveTo>
                  <a:lnTo>
                    <a:pt x="89059" y="7144"/>
                  </a:lnTo>
                  <a:lnTo>
                    <a:pt x="94774" y="59531"/>
                  </a:lnTo>
                  <a:cubicBezTo>
                    <a:pt x="94774" y="63341"/>
                    <a:pt x="95726" y="68104"/>
                    <a:pt x="94774" y="71914"/>
                  </a:cubicBezTo>
                  <a:lnTo>
                    <a:pt x="90011" y="153829"/>
                  </a:lnTo>
                  <a:cubicBezTo>
                    <a:pt x="89059" y="166211"/>
                    <a:pt x="80486" y="176689"/>
                    <a:pt x="68104" y="178594"/>
                  </a:cubicBezTo>
                  <a:lnTo>
                    <a:pt x="37624" y="183356"/>
                  </a:lnTo>
                  <a:cubicBezTo>
                    <a:pt x="21431" y="186214"/>
                    <a:pt x="7144" y="173831"/>
                    <a:pt x="7144" y="157639"/>
                  </a:cubicBezTo>
                  <a:lnTo>
                    <a:pt x="7144" y="132874"/>
                  </a:lnTo>
                  <a:lnTo>
                    <a:pt x="7144" y="65246"/>
                  </a:ln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90" name="任意多边形: 形状 52"/>
            <p:cNvSpPr/>
            <p:nvPr/>
          </p:nvSpPr>
          <p:spPr>
            <a:xfrm>
              <a:off x="3453120" y="3149280"/>
              <a:ext cx="884520" cy="1189080"/>
            </a:xfrm>
            <a:custGeom>
              <a:avLst/>
              <a:gdLst>
                <a:gd name="textAreaLeft" fmla="*/ 0 w 884520"/>
                <a:gd name="textAreaRight" fmla="*/ 884880 w 884520"/>
                <a:gd name="textAreaTop" fmla="*/ 0 h 1189080"/>
                <a:gd name="textAreaBottom" fmla="*/ 1189080 h 1189080"/>
              </a:gdLst>
              <a:ahLst/>
              <a:rect l="textAreaLeft" t="textAreaTop" r="textAreaRight" b="textAreaBottom"/>
              <a:pathLst>
                <a:path w="504825" h="609600">
                  <a:moveTo>
                    <a:pt x="89423" y="605314"/>
                  </a:moveTo>
                  <a:lnTo>
                    <a:pt x="33226" y="438626"/>
                  </a:lnTo>
                  <a:cubicBezTo>
                    <a:pt x="-16304" y="293846"/>
                    <a:pt x="5603" y="133826"/>
                    <a:pt x="91328" y="7144"/>
                  </a:cubicBezTo>
                  <a:lnTo>
                    <a:pt x="461851" y="7144"/>
                  </a:lnTo>
                  <a:cubicBezTo>
                    <a:pt x="500904" y="176689"/>
                    <a:pt x="510429" y="352901"/>
                    <a:pt x="490426" y="526256"/>
                  </a:cubicBezTo>
                  <a:lnTo>
                    <a:pt x="480901" y="606266"/>
                  </a:lnTo>
                  <a:lnTo>
                    <a:pt x="89423" y="606266"/>
                  </a:lnTo>
                  <a:lnTo>
                    <a:pt x="89423" y="605314"/>
                  </a:lnTo>
                  <a:close/>
                </a:path>
              </a:pathLst>
            </a:custGeom>
            <a:solidFill>
              <a:srgbClr val="4a494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91" name="任意多边形: 形状 53"/>
            <p:cNvSpPr/>
            <p:nvPr/>
          </p:nvSpPr>
          <p:spPr>
            <a:xfrm>
              <a:off x="3979440" y="3147480"/>
              <a:ext cx="350280" cy="1189080"/>
            </a:xfrm>
            <a:custGeom>
              <a:avLst/>
              <a:gdLst>
                <a:gd name="textAreaLeft" fmla="*/ 0 w 350280"/>
                <a:gd name="textAreaRight" fmla="*/ 350640 w 350280"/>
                <a:gd name="textAreaTop" fmla="*/ 0 h 1189080"/>
                <a:gd name="textAreaBottom" fmla="*/ 1189080 h 1189080"/>
              </a:gdLst>
              <a:ahLst/>
              <a:rect l="textAreaLeft" t="textAreaTop" r="textAreaRight" b="textAreaBottom"/>
              <a:pathLst>
                <a:path w="200025" h="609600">
                  <a:moveTo>
                    <a:pt x="161449" y="7144"/>
                  </a:moveTo>
                  <a:lnTo>
                    <a:pt x="7144" y="7144"/>
                  </a:lnTo>
                  <a:lnTo>
                    <a:pt x="7144" y="605314"/>
                  </a:lnTo>
                  <a:lnTo>
                    <a:pt x="179546" y="605314"/>
                  </a:lnTo>
                  <a:lnTo>
                    <a:pt x="189071" y="525304"/>
                  </a:lnTo>
                  <a:cubicBezTo>
                    <a:pt x="210026" y="352901"/>
                    <a:pt x="200501" y="177641"/>
                    <a:pt x="161449" y="7144"/>
                  </a:cubicBezTo>
                  <a:close/>
                </a:path>
              </a:pathLst>
            </a:custGeom>
            <a:solidFill>
              <a:srgbClr val="3837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92" name="任意多边形: 形状 54"/>
            <p:cNvSpPr/>
            <p:nvPr/>
          </p:nvSpPr>
          <p:spPr>
            <a:xfrm>
              <a:off x="4028040" y="3388320"/>
              <a:ext cx="567360" cy="520200"/>
            </a:xfrm>
            <a:custGeom>
              <a:avLst/>
              <a:gdLst>
                <a:gd name="textAreaLeft" fmla="*/ 0 w 567360"/>
                <a:gd name="textAreaRight" fmla="*/ 567720 w 567360"/>
                <a:gd name="textAreaTop" fmla="*/ 0 h 520200"/>
                <a:gd name="textAreaBottom" fmla="*/ 520560 h 520200"/>
              </a:gdLst>
              <a:ahLst/>
              <a:rect l="textAreaLeft" t="textAreaTop" r="textAreaRight" b="textAreaBottom"/>
              <a:pathLst>
                <a:path w="323850" h="266700">
                  <a:moveTo>
                    <a:pt x="275749" y="241846"/>
                  </a:moveTo>
                  <a:lnTo>
                    <a:pt x="67151" y="266611"/>
                  </a:lnTo>
                  <a:cubicBezTo>
                    <a:pt x="35719" y="270421"/>
                    <a:pt x="7144" y="245656"/>
                    <a:pt x="7144" y="213271"/>
                  </a:cubicBezTo>
                  <a:lnTo>
                    <a:pt x="7144" y="85636"/>
                  </a:lnTo>
                  <a:cubicBezTo>
                    <a:pt x="7144" y="58966"/>
                    <a:pt x="27146" y="36106"/>
                    <a:pt x="54769" y="32296"/>
                  </a:cubicBezTo>
                  <a:lnTo>
                    <a:pt x="263366" y="7531"/>
                  </a:lnTo>
                  <a:cubicBezTo>
                    <a:pt x="294799" y="3721"/>
                    <a:pt x="323374" y="28486"/>
                    <a:pt x="323374" y="60871"/>
                  </a:cubicBezTo>
                  <a:lnTo>
                    <a:pt x="323374" y="188506"/>
                  </a:lnTo>
                  <a:cubicBezTo>
                    <a:pt x="323374" y="216129"/>
                    <a:pt x="302419" y="238989"/>
                    <a:pt x="275749" y="241846"/>
                  </a:cubicBezTo>
                  <a:close/>
                </a:path>
              </a:pathLst>
            </a:custGeom>
            <a:solidFill>
              <a:srgbClr val="692e1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93" name="任意多边形: 形状 55"/>
            <p:cNvSpPr/>
            <p:nvPr/>
          </p:nvSpPr>
          <p:spPr>
            <a:xfrm>
              <a:off x="3545640" y="3147480"/>
              <a:ext cx="734400" cy="129960"/>
            </a:xfrm>
            <a:custGeom>
              <a:avLst/>
              <a:gdLst>
                <a:gd name="textAreaLeft" fmla="*/ 0 w 734400"/>
                <a:gd name="textAreaRight" fmla="*/ 734760 w 734400"/>
                <a:gd name="textAreaTop" fmla="*/ 0 h 129960"/>
                <a:gd name="textAreaBottom" fmla="*/ 130320 h 129960"/>
              </a:gdLst>
              <a:ahLst/>
              <a:rect l="textAreaLeft" t="textAreaTop" r="textAreaRight" b="textAreaBottom"/>
              <a:pathLst>
                <a:path w="419100" h="66675">
                  <a:moveTo>
                    <a:pt x="416719" y="60484"/>
                  </a:moveTo>
                  <a:lnTo>
                    <a:pt x="409099" y="7144"/>
                  </a:lnTo>
                  <a:lnTo>
                    <a:pt x="38576" y="7144"/>
                  </a:lnTo>
                  <a:lnTo>
                    <a:pt x="7144" y="60484"/>
                  </a:lnTo>
                  <a:lnTo>
                    <a:pt x="416719" y="60484"/>
                  </a:lnTo>
                  <a:close/>
                </a:path>
              </a:pathLst>
            </a:custGeom>
            <a:solidFill>
              <a:srgbClr val="3c3a3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94" name="任意多边形: 形状 56"/>
            <p:cNvSpPr/>
            <p:nvPr/>
          </p:nvSpPr>
          <p:spPr>
            <a:xfrm>
              <a:off x="4017960" y="1242720"/>
              <a:ext cx="133200" cy="92880"/>
            </a:xfrm>
            <a:custGeom>
              <a:avLst/>
              <a:gdLst>
                <a:gd name="textAreaLeft" fmla="*/ 0 w 133200"/>
                <a:gd name="textAreaRight" fmla="*/ 133560 w 133200"/>
                <a:gd name="textAreaTop" fmla="*/ 0 h 92880"/>
                <a:gd name="textAreaBottom" fmla="*/ 93240 h 92880"/>
              </a:gdLst>
              <a:ahLst/>
              <a:rect l="textAreaLeft" t="textAreaTop" r="textAreaRight" b="textAreaBottom"/>
              <a:pathLst>
                <a:path w="76200" h="47625">
                  <a:moveTo>
                    <a:pt x="7144" y="28099"/>
                  </a:moveTo>
                  <a:cubicBezTo>
                    <a:pt x="7144" y="39529"/>
                    <a:pt x="22384" y="49054"/>
                    <a:pt x="42386" y="49054"/>
                  </a:cubicBezTo>
                  <a:cubicBezTo>
                    <a:pt x="62389" y="49054"/>
                    <a:pt x="77629" y="39529"/>
                    <a:pt x="77629" y="28099"/>
                  </a:cubicBezTo>
                  <a:cubicBezTo>
                    <a:pt x="77629" y="16669"/>
                    <a:pt x="62389" y="7144"/>
                    <a:pt x="42386" y="7144"/>
                  </a:cubicBezTo>
                  <a:cubicBezTo>
                    <a:pt x="22384" y="7144"/>
                    <a:pt x="7144" y="16669"/>
                    <a:pt x="7144" y="28099"/>
                  </a:cubicBezTo>
                  <a:close/>
                </a:path>
              </a:pathLst>
            </a:custGeom>
            <a:solidFill>
              <a:srgbClr val="ff9d71"/>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Arial"/>
              </a:endParaRPr>
            </a:p>
          </p:txBody>
        </p:sp>
        <p:sp>
          <p:nvSpPr>
            <p:cNvPr id="295" name="任意多边形: 形状 57"/>
            <p:cNvSpPr/>
            <p:nvPr/>
          </p:nvSpPr>
          <p:spPr>
            <a:xfrm>
              <a:off x="3687480" y="1242720"/>
              <a:ext cx="133200" cy="92880"/>
            </a:xfrm>
            <a:custGeom>
              <a:avLst/>
              <a:gdLst>
                <a:gd name="textAreaLeft" fmla="*/ 0 w 133200"/>
                <a:gd name="textAreaRight" fmla="*/ 133560 w 133200"/>
                <a:gd name="textAreaTop" fmla="*/ 0 h 92880"/>
                <a:gd name="textAreaBottom" fmla="*/ 93240 h 92880"/>
              </a:gdLst>
              <a:ahLst/>
              <a:rect l="textAreaLeft" t="textAreaTop" r="textAreaRight" b="textAreaBottom"/>
              <a:pathLst>
                <a:path w="76200" h="47625">
                  <a:moveTo>
                    <a:pt x="7144" y="28099"/>
                  </a:moveTo>
                  <a:cubicBezTo>
                    <a:pt x="7144" y="39529"/>
                    <a:pt x="22384" y="49054"/>
                    <a:pt x="42386" y="49054"/>
                  </a:cubicBezTo>
                  <a:cubicBezTo>
                    <a:pt x="62389" y="49054"/>
                    <a:pt x="77629" y="39529"/>
                    <a:pt x="77629" y="28099"/>
                  </a:cubicBezTo>
                  <a:cubicBezTo>
                    <a:pt x="77629" y="16669"/>
                    <a:pt x="62389" y="7144"/>
                    <a:pt x="42386" y="7144"/>
                  </a:cubicBezTo>
                  <a:cubicBezTo>
                    <a:pt x="22384" y="7144"/>
                    <a:pt x="7144" y="16669"/>
                    <a:pt x="7144" y="28099"/>
                  </a:cubicBezTo>
                  <a:close/>
                </a:path>
              </a:pathLst>
            </a:custGeom>
            <a:solidFill>
              <a:srgbClr val="ff9d71"/>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Arial"/>
              </a:endParaRPr>
            </a:p>
          </p:txBody>
        </p:sp>
        <p:sp>
          <p:nvSpPr>
            <p:cNvPr id="296" name="任意多边形: 形状 58"/>
            <p:cNvSpPr/>
            <p:nvPr/>
          </p:nvSpPr>
          <p:spPr>
            <a:xfrm>
              <a:off x="3579120" y="653760"/>
              <a:ext cx="333720" cy="483120"/>
            </a:xfrm>
            <a:custGeom>
              <a:avLst/>
              <a:gdLst>
                <a:gd name="textAreaLeft" fmla="*/ 0 w 333720"/>
                <a:gd name="textAreaRight" fmla="*/ 334080 w 333720"/>
                <a:gd name="textAreaTop" fmla="*/ 0 h 483120"/>
                <a:gd name="textAreaBottom" fmla="*/ 483480 h 483120"/>
              </a:gdLst>
              <a:ahLst/>
              <a:rect l="textAreaLeft" t="textAreaTop" r="textAreaRight" b="textAreaBottom"/>
              <a:pathLst>
                <a:path w="190500" h="247650">
                  <a:moveTo>
                    <a:pt x="8954" y="188119"/>
                  </a:moveTo>
                  <a:lnTo>
                    <a:pt x="29909" y="245269"/>
                  </a:lnTo>
                  <a:lnTo>
                    <a:pt x="42292" y="213836"/>
                  </a:lnTo>
                  <a:cubicBezTo>
                    <a:pt x="49912" y="204311"/>
                    <a:pt x="59437" y="196691"/>
                    <a:pt x="70867" y="190976"/>
                  </a:cubicBezTo>
                  <a:cubicBezTo>
                    <a:pt x="80392" y="185261"/>
                    <a:pt x="90869" y="182404"/>
                    <a:pt x="102299" y="180499"/>
                  </a:cubicBezTo>
                  <a:cubicBezTo>
                    <a:pt x="110872" y="179546"/>
                    <a:pt x="118492" y="176689"/>
                    <a:pt x="125159" y="172879"/>
                  </a:cubicBezTo>
                  <a:cubicBezTo>
                    <a:pt x="150877" y="160496"/>
                    <a:pt x="168974" y="139541"/>
                    <a:pt x="171832" y="126206"/>
                  </a:cubicBezTo>
                  <a:lnTo>
                    <a:pt x="192787" y="43339"/>
                  </a:lnTo>
                  <a:cubicBezTo>
                    <a:pt x="176594" y="21431"/>
                    <a:pt x="148972" y="7144"/>
                    <a:pt x="124207" y="7144"/>
                  </a:cubicBezTo>
                  <a:cubicBezTo>
                    <a:pt x="106109" y="7144"/>
                    <a:pt x="88964" y="12859"/>
                    <a:pt x="73724" y="24289"/>
                  </a:cubicBezTo>
                  <a:cubicBezTo>
                    <a:pt x="62294" y="32861"/>
                    <a:pt x="52769" y="43339"/>
                    <a:pt x="44197" y="54769"/>
                  </a:cubicBezTo>
                  <a:cubicBezTo>
                    <a:pt x="32767" y="70009"/>
                    <a:pt x="23242" y="87154"/>
                    <a:pt x="17527" y="105251"/>
                  </a:cubicBezTo>
                  <a:cubicBezTo>
                    <a:pt x="7049" y="131921"/>
                    <a:pt x="5144" y="160496"/>
                    <a:pt x="8954" y="188119"/>
                  </a:cubicBezTo>
                  <a:close/>
                </a:path>
              </a:pathLst>
            </a:custGeom>
            <a:solidFill>
              <a:srgbClr val="692e1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97" name="任意多边形: 形状 59"/>
            <p:cNvSpPr/>
            <p:nvPr/>
          </p:nvSpPr>
          <p:spPr>
            <a:xfrm>
              <a:off x="3862800" y="630720"/>
              <a:ext cx="600840" cy="1096200"/>
            </a:xfrm>
            <a:custGeom>
              <a:avLst/>
              <a:gdLst>
                <a:gd name="textAreaLeft" fmla="*/ 0 w 600840"/>
                <a:gd name="textAreaRight" fmla="*/ 601200 w 600840"/>
                <a:gd name="textAreaTop" fmla="*/ 0 h 1096200"/>
                <a:gd name="textAreaBottom" fmla="*/ 1096560 h 1096200"/>
              </a:gdLst>
              <a:ahLst/>
              <a:rect l="textAreaLeft" t="textAreaTop" r="textAreaRight" b="textAreaBottom"/>
              <a:pathLst>
                <a:path w="342900" h="561975">
                  <a:moveTo>
                    <a:pt x="90964" y="155162"/>
                  </a:moveTo>
                  <a:cubicBezTo>
                    <a:pt x="113824" y="162781"/>
                    <a:pt x="134779" y="175164"/>
                    <a:pt x="152876" y="190404"/>
                  </a:cubicBezTo>
                  <a:cubicBezTo>
                    <a:pt x="158591" y="195167"/>
                    <a:pt x="164306" y="200881"/>
                    <a:pt x="168116" y="206596"/>
                  </a:cubicBezTo>
                  <a:cubicBezTo>
                    <a:pt x="181451" y="223742"/>
                    <a:pt x="188119" y="245649"/>
                    <a:pt x="188119" y="267556"/>
                  </a:cubicBezTo>
                  <a:lnTo>
                    <a:pt x="186214" y="558069"/>
                  </a:lnTo>
                  <a:lnTo>
                    <a:pt x="189071" y="559022"/>
                  </a:lnTo>
                  <a:cubicBezTo>
                    <a:pt x="276701" y="521874"/>
                    <a:pt x="325279" y="434244"/>
                    <a:pt x="325279" y="434244"/>
                  </a:cubicBezTo>
                  <a:cubicBezTo>
                    <a:pt x="355759" y="394239"/>
                    <a:pt x="349091" y="336137"/>
                    <a:pt x="310991" y="303751"/>
                  </a:cubicBezTo>
                  <a:cubicBezTo>
                    <a:pt x="273844" y="273271"/>
                    <a:pt x="251936" y="228504"/>
                    <a:pt x="243364" y="180879"/>
                  </a:cubicBezTo>
                  <a:lnTo>
                    <a:pt x="232886" y="123729"/>
                  </a:lnTo>
                  <a:cubicBezTo>
                    <a:pt x="229076" y="104679"/>
                    <a:pt x="221456" y="87534"/>
                    <a:pt x="210026" y="72294"/>
                  </a:cubicBezTo>
                  <a:cubicBezTo>
                    <a:pt x="205264" y="66579"/>
                    <a:pt x="200501" y="60864"/>
                    <a:pt x="194786" y="56101"/>
                  </a:cubicBezTo>
                  <a:cubicBezTo>
                    <a:pt x="189071" y="50387"/>
                    <a:pt x="183356" y="45624"/>
                    <a:pt x="177641" y="38956"/>
                  </a:cubicBezTo>
                  <a:cubicBezTo>
                    <a:pt x="172879" y="33242"/>
                    <a:pt x="167164" y="28479"/>
                    <a:pt x="161449" y="24669"/>
                  </a:cubicBezTo>
                  <a:cubicBezTo>
                    <a:pt x="161449" y="24669"/>
                    <a:pt x="161449" y="24669"/>
                    <a:pt x="161449" y="24669"/>
                  </a:cubicBezTo>
                  <a:cubicBezTo>
                    <a:pt x="122396" y="-2954"/>
                    <a:pt x="68104" y="1809"/>
                    <a:pt x="36671" y="40862"/>
                  </a:cubicBezTo>
                  <a:lnTo>
                    <a:pt x="28099" y="52292"/>
                  </a:lnTo>
                  <a:lnTo>
                    <a:pt x="7144" y="136112"/>
                  </a:lnTo>
                  <a:lnTo>
                    <a:pt x="54769" y="143731"/>
                  </a:lnTo>
                  <a:cubicBezTo>
                    <a:pt x="67151" y="148494"/>
                    <a:pt x="78581" y="151351"/>
                    <a:pt x="90964" y="155162"/>
                  </a:cubicBezTo>
                  <a:close/>
                </a:path>
              </a:pathLst>
            </a:custGeom>
            <a:solidFill>
              <a:srgbClr val="692e1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98" name="任意多边形: 形状 60"/>
            <p:cNvSpPr/>
            <p:nvPr/>
          </p:nvSpPr>
          <p:spPr>
            <a:xfrm>
              <a:off x="3587400" y="1242720"/>
              <a:ext cx="50040" cy="55440"/>
            </a:xfrm>
            <a:custGeom>
              <a:avLst/>
              <a:gdLst>
                <a:gd name="textAreaLeft" fmla="*/ 0 w 50040"/>
                <a:gd name="textAreaRight" fmla="*/ 50400 w 50040"/>
                <a:gd name="textAreaTop" fmla="*/ 0 h 55440"/>
                <a:gd name="textAreaBottom" fmla="*/ 55800 h 55440"/>
              </a:gdLst>
              <a:ahLst/>
              <a:rect l="textAreaLeft" t="textAreaTop" r="textAreaRight" b="textAreaBottom"/>
              <a:pathLst>
                <a:path w="28575" h="28575">
                  <a:moveTo>
                    <a:pt x="7144" y="18574"/>
                  </a:moveTo>
                  <a:cubicBezTo>
                    <a:pt x="7144" y="25241"/>
                    <a:pt x="12859" y="30004"/>
                    <a:pt x="18574" y="30004"/>
                  </a:cubicBezTo>
                  <a:cubicBezTo>
                    <a:pt x="25241" y="30004"/>
                    <a:pt x="30004" y="24289"/>
                    <a:pt x="30004" y="18574"/>
                  </a:cubicBezTo>
                  <a:cubicBezTo>
                    <a:pt x="30004" y="11906"/>
                    <a:pt x="24289" y="7144"/>
                    <a:pt x="18574" y="7144"/>
                  </a:cubicBezTo>
                  <a:cubicBezTo>
                    <a:pt x="11906" y="7144"/>
                    <a:pt x="7144" y="11906"/>
                    <a:pt x="7144" y="18574"/>
                  </a:cubicBezTo>
                  <a:close/>
                </a:path>
              </a:pathLst>
            </a:custGeom>
            <a:solidFill>
              <a:srgbClr val="fdfdfd"/>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Arial"/>
              </a:endParaRPr>
            </a:p>
          </p:txBody>
        </p:sp>
        <p:sp>
          <p:nvSpPr>
            <p:cNvPr id="299" name="任意多边形: 形状 61"/>
            <p:cNvSpPr/>
            <p:nvPr/>
          </p:nvSpPr>
          <p:spPr>
            <a:xfrm>
              <a:off x="4009680" y="664920"/>
              <a:ext cx="216720" cy="371520"/>
            </a:xfrm>
            <a:custGeom>
              <a:avLst/>
              <a:gdLst>
                <a:gd name="textAreaLeft" fmla="*/ 0 w 216720"/>
                <a:gd name="textAreaRight" fmla="*/ 217080 w 216720"/>
                <a:gd name="textAreaTop" fmla="*/ 0 h 371520"/>
                <a:gd name="textAreaBottom" fmla="*/ 371880 h 371520"/>
              </a:gdLst>
              <a:ahLst/>
              <a:rect l="textAreaLeft" t="textAreaTop" r="textAreaRight" b="textAreaBottom"/>
              <a:pathLst>
                <a:path w="123825" h="190500">
                  <a:moveTo>
                    <a:pt x="7144" y="137636"/>
                  </a:moveTo>
                  <a:cubicBezTo>
                    <a:pt x="30004" y="145256"/>
                    <a:pt x="50959" y="157639"/>
                    <a:pt x="69056" y="172879"/>
                  </a:cubicBezTo>
                  <a:cubicBezTo>
                    <a:pt x="74771" y="177641"/>
                    <a:pt x="80486" y="183356"/>
                    <a:pt x="84296" y="189071"/>
                  </a:cubicBezTo>
                  <a:cubicBezTo>
                    <a:pt x="87154" y="188119"/>
                    <a:pt x="90011" y="185261"/>
                    <a:pt x="91916" y="183356"/>
                  </a:cubicBezTo>
                  <a:cubicBezTo>
                    <a:pt x="104299" y="171926"/>
                    <a:pt x="112871" y="157639"/>
                    <a:pt x="117634" y="141446"/>
                  </a:cubicBezTo>
                  <a:cubicBezTo>
                    <a:pt x="122396" y="127159"/>
                    <a:pt x="123349" y="111919"/>
                    <a:pt x="124301" y="96679"/>
                  </a:cubicBezTo>
                  <a:cubicBezTo>
                    <a:pt x="125254" y="83344"/>
                    <a:pt x="126206" y="69056"/>
                    <a:pt x="125254" y="54769"/>
                  </a:cubicBezTo>
                  <a:cubicBezTo>
                    <a:pt x="120491" y="49054"/>
                    <a:pt x="115729" y="43339"/>
                    <a:pt x="110014" y="38576"/>
                  </a:cubicBezTo>
                  <a:cubicBezTo>
                    <a:pt x="103346" y="32861"/>
                    <a:pt x="97631" y="27146"/>
                    <a:pt x="91916" y="21431"/>
                  </a:cubicBezTo>
                  <a:cubicBezTo>
                    <a:pt x="87154" y="15716"/>
                    <a:pt x="82391" y="11906"/>
                    <a:pt x="76676" y="7144"/>
                  </a:cubicBezTo>
                  <a:cubicBezTo>
                    <a:pt x="75724" y="11906"/>
                    <a:pt x="75724" y="15716"/>
                    <a:pt x="75724" y="20479"/>
                  </a:cubicBezTo>
                  <a:cubicBezTo>
                    <a:pt x="71914" y="65246"/>
                    <a:pt x="47149" y="107156"/>
                    <a:pt x="10954" y="132874"/>
                  </a:cubicBezTo>
                  <a:cubicBezTo>
                    <a:pt x="10001" y="135731"/>
                    <a:pt x="8096" y="136684"/>
                    <a:pt x="7144" y="137636"/>
                  </a:cubicBezTo>
                  <a:close/>
                </a:path>
              </a:pathLst>
            </a:custGeom>
            <a:solidFill>
              <a:srgbClr val="9a61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0" name="任意多边形: 形状 62"/>
            <p:cNvSpPr/>
            <p:nvPr/>
          </p:nvSpPr>
          <p:spPr>
            <a:xfrm>
              <a:off x="3595680" y="746640"/>
              <a:ext cx="200160" cy="278640"/>
            </a:xfrm>
            <a:custGeom>
              <a:avLst/>
              <a:gdLst>
                <a:gd name="textAreaLeft" fmla="*/ 0 w 200160"/>
                <a:gd name="textAreaRight" fmla="*/ 200520 w 200160"/>
                <a:gd name="textAreaTop" fmla="*/ 0 h 278640"/>
                <a:gd name="textAreaBottom" fmla="*/ 279000 h 278640"/>
              </a:gdLst>
              <a:ahLst/>
              <a:rect l="textAreaLeft" t="textAreaTop" r="textAreaRight" b="textAreaBottom"/>
              <a:pathLst>
                <a:path w="114300" h="142875">
                  <a:moveTo>
                    <a:pt x="7144" y="58579"/>
                  </a:moveTo>
                  <a:cubicBezTo>
                    <a:pt x="11906" y="71914"/>
                    <a:pt x="16669" y="84296"/>
                    <a:pt x="23336" y="96679"/>
                  </a:cubicBezTo>
                  <a:cubicBezTo>
                    <a:pt x="31909" y="113824"/>
                    <a:pt x="43339" y="130016"/>
                    <a:pt x="58579" y="140494"/>
                  </a:cubicBezTo>
                  <a:cubicBezTo>
                    <a:pt x="59531" y="141446"/>
                    <a:pt x="60484" y="142399"/>
                    <a:pt x="61436" y="142399"/>
                  </a:cubicBezTo>
                  <a:cubicBezTo>
                    <a:pt x="70961" y="136684"/>
                    <a:pt x="81439" y="133826"/>
                    <a:pt x="92869" y="131921"/>
                  </a:cubicBezTo>
                  <a:cubicBezTo>
                    <a:pt x="101441" y="130969"/>
                    <a:pt x="109061" y="128111"/>
                    <a:pt x="115729" y="124301"/>
                  </a:cubicBezTo>
                  <a:cubicBezTo>
                    <a:pt x="106204" y="98584"/>
                    <a:pt x="79534" y="91916"/>
                    <a:pt x="60484" y="65246"/>
                  </a:cubicBezTo>
                  <a:cubicBezTo>
                    <a:pt x="50006" y="50006"/>
                    <a:pt x="41434" y="29051"/>
                    <a:pt x="33814" y="7144"/>
                  </a:cubicBezTo>
                  <a:cubicBezTo>
                    <a:pt x="21431" y="23336"/>
                    <a:pt x="12859" y="40481"/>
                    <a:pt x="7144" y="58579"/>
                  </a:cubicBezTo>
                  <a:close/>
                </a:path>
              </a:pathLst>
            </a:custGeom>
            <a:solidFill>
              <a:srgbClr val="9a61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1" name="任意多边形: 形状 63"/>
            <p:cNvSpPr/>
            <p:nvPr/>
          </p:nvSpPr>
          <p:spPr>
            <a:xfrm>
              <a:off x="4036680" y="5514840"/>
              <a:ext cx="584280" cy="371520"/>
            </a:xfrm>
            <a:custGeom>
              <a:avLst/>
              <a:gdLst>
                <a:gd name="textAreaLeft" fmla="*/ 0 w 584280"/>
                <a:gd name="textAreaRight" fmla="*/ 584640 w 584280"/>
                <a:gd name="textAreaTop" fmla="*/ 0 h 371520"/>
                <a:gd name="textAreaBottom" fmla="*/ 371880 h 371520"/>
              </a:gdLst>
              <a:ahLst/>
              <a:rect l="textAreaLeft" t="textAreaTop" r="textAreaRight" b="textAreaBottom"/>
              <a:pathLst>
                <a:path w="333375" h="190500">
                  <a:moveTo>
                    <a:pt x="293765" y="138589"/>
                  </a:moveTo>
                  <a:lnTo>
                    <a:pt x="248998" y="125254"/>
                  </a:lnTo>
                  <a:lnTo>
                    <a:pt x="143270" y="125254"/>
                  </a:lnTo>
                  <a:cubicBezTo>
                    <a:pt x="109933" y="125254"/>
                    <a:pt x="79453" y="106204"/>
                    <a:pt x="65165" y="76676"/>
                  </a:cubicBezTo>
                  <a:lnTo>
                    <a:pt x="31828" y="7144"/>
                  </a:lnTo>
                  <a:lnTo>
                    <a:pt x="13730" y="42386"/>
                  </a:lnTo>
                  <a:cubicBezTo>
                    <a:pt x="4205" y="60484"/>
                    <a:pt x="5158" y="82391"/>
                    <a:pt x="15635" y="100489"/>
                  </a:cubicBezTo>
                  <a:lnTo>
                    <a:pt x="24208" y="126206"/>
                  </a:lnTo>
                  <a:lnTo>
                    <a:pt x="24208" y="185261"/>
                  </a:lnTo>
                  <a:lnTo>
                    <a:pt x="48020" y="185261"/>
                  </a:lnTo>
                  <a:lnTo>
                    <a:pt x="48020" y="141446"/>
                  </a:lnTo>
                  <a:lnTo>
                    <a:pt x="91835" y="176689"/>
                  </a:lnTo>
                  <a:cubicBezTo>
                    <a:pt x="102313" y="185261"/>
                    <a:pt x="114695" y="190976"/>
                    <a:pt x="128983" y="190976"/>
                  </a:cubicBezTo>
                  <a:lnTo>
                    <a:pt x="330913" y="190976"/>
                  </a:lnTo>
                  <a:cubicBezTo>
                    <a:pt x="331865" y="166211"/>
                    <a:pt x="316625" y="145256"/>
                    <a:pt x="293765" y="138589"/>
                  </a:cubicBez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2" name="任意多边形: 形状 64"/>
            <p:cNvSpPr/>
            <p:nvPr/>
          </p:nvSpPr>
          <p:spPr>
            <a:xfrm>
              <a:off x="3664440" y="5550120"/>
              <a:ext cx="317160" cy="334440"/>
            </a:xfrm>
            <a:custGeom>
              <a:avLst/>
              <a:gdLst>
                <a:gd name="textAreaLeft" fmla="*/ 0 w 317160"/>
                <a:gd name="textAreaRight" fmla="*/ 317520 w 317160"/>
                <a:gd name="textAreaTop" fmla="*/ 0 h 334440"/>
                <a:gd name="textAreaBottom" fmla="*/ 334800 h 334440"/>
              </a:gdLst>
              <a:ahLst/>
              <a:rect l="textAreaLeft" t="textAreaTop" r="textAreaRight" b="textAreaBottom"/>
              <a:pathLst>
                <a:path w="180975" h="171450">
                  <a:moveTo>
                    <a:pt x="127016" y="7144"/>
                  </a:moveTo>
                  <a:lnTo>
                    <a:pt x="150829" y="107156"/>
                  </a:lnTo>
                  <a:lnTo>
                    <a:pt x="23194" y="107156"/>
                  </a:lnTo>
                  <a:lnTo>
                    <a:pt x="23194" y="25241"/>
                  </a:lnTo>
                  <a:lnTo>
                    <a:pt x="7954" y="118586"/>
                  </a:lnTo>
                  <a:cubicBezTo>
                    <a:pt x="5096" y="137636"/>
                    <a:pt x="9859" y="156686"/>
                    <a:pt x="21289" y="171926"/>
                  </a:cubicBezTo>
                  <a:lnTo>
                    <a:pt x="164164" y="171926"/>
                  </a:lnTo>
                  <a:lnTo>
                    <a:pt x="169879" y="159544"/>
                  </a:lnTo>
                  <a:cubicBezTo>
                    <a:pt x="177499" y="142399"/>
                    <a:pt x="177499" y="123349"/>
                    <a:pt x="169879" y="107156"/>
                  </a:cubicBezTo>
                  <a:lnTo>
                    <a:pt x="127016" y="7144"/>
                  </a:ln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3" name="任意多边形: 形状 65"/>
            <p:cNvSpPr/>
            <p:nvPr/>
          </p:nvSpPr>
          <p:spPr>
            <a:xfrm>
              <a:off x="4199040" y="3332880"/>
              <a:ext cx="266760" cy="445680"/>
            </a:xfrm>
            <a:custGeom>
              <a:avLst/>
              <a:gdLst>
                <a:gd name="textAreaLeft" fmla="*/ 0 w 266760"/>
                <a:gd name="textAreaRight" fmla="*/ 267120 w 266760"/>
                <a:gd name="textAreaTop" fmla="*/ 0 h 445680"/>
                <a:gd name="textAreaBottom" fmla="*/ 446040 h 445680"/>
              </a:gdLst>
              <a:ahLst/>
              <a:rect l="textAreaLeft" t="textAreaTop" r="textAreaRight" b="textAreaBottom"/>
              <a:pathLst>
                <a:path w="152400" h="228600">
                  <a:moveTo>
                    <a:pt x="88732" y="194931"/>
                  </a:moveTo>
                  <a:lnTo>
                    <a:pt x="129689" y="150164"/>
                  </a:lnTo>
                  <a:cubicBezTo>
                    <a:pt x="131594" y="148258"/>
                    <a:pt x="132547" y="146354"/>
                    <a:pt x="132547" y="144449"/>
                  </a:cubicBezTo>
                  <a:lnTo>
                    <a:pt x="149692" y="33958"/>
                  </a:lnTo>
                  <a:cubicBezTo>
                    <a:pt x="150644" y="27291"/>
                    <a:pt x="146835" y="21576"/>
                    <a:pt x="140167" y="20624"/>
                  </a:cubicBezTo>
                  <a:lnTo>
                    <a:pt x="57299" y="7289"/>
                  </a:lnTo>
                  <a:cubicBezTo>
                    <a:pt x="50632" y="6336"/>
                    <a:pt x="44917" y="10146"/>
                    <a:pt x="43964" y="16814"/>
                  </a:cubicBezTo>
                  <a:lnTo>
                    <a:pt x="41107" y="37769"/>
                  </a:lnTo>
                  <a:cubicBezTo>
                    <a:pt x="41107" y="39674"/>
                    <a:pt x="40154" y="40626"/>
                    <a:pt x="39202" y="41579"/>
                  </a:cubicBezTo>
                  <a:lnTo>
                    <a:pt x="8722" y="92061"/>
                  </a:lnTo>
                  <a:cubicBezTo>
                    <a:pt x="6817" y="94919"/>
                    <a:pt x="6817" y="98729"/>
                    <a:pt x="7769" y="102539"/>
                  </a:cubicBezTo>
                  <a:lnTo>
                    <a:pt x="10627" y="109206"/>
                  </a:lnTo>
                  <a:cubicBezTo>
                    <a:pt x="13484" y="115874"/>
                    <a:pt x="22057" y="118731"/>
                    <a:pt x="27772" y="114921"/>
                  </a:cubicBezTo>
                  <a:lnTo>
                    <a:pt x="57299" y="94919"/>
                  </a:lnTo>
                  <a:cubicBezTo>
                    <a:pt x="64919" y="90156"/>
                    <a:pt x="75397" y="94919"/>
                    <a:pt x="75397" y="104444"/>
                  </a:cubicBezTo>
                  <a:lnTo>
                    <a:pt x="75397" y="121589"/>
                  </a:lnTo>
                  <a:cubicBezTo>
                    <a:pt x="75397" y="123494"/>
                    <a:pt x="75397" y="124446"/>
                    <a:pt x="74444" y="126351"/>
                  </a:cubicBezTo>
                  <a:lnTo>
                    <a:pt x="48727" y="186358"/>
                  </a:lnTo>
                  <a:cubicBezTo>
                    <a:pt x="47774" y="189216"/>
                    <a:pt x="44917" y="192074"/>
                    <a:pt x="42059" y="193026"/>
                  </a:cubicBezTo>
                  <a:lnTo>
                    <a:pt x="20152" y="200646"/>
                  </a:lnTo>
                  <a:cubicBezTo>
                    <a:pt x="11579" y="203504"/>
                    <a:pt x="9674" y="213981"/>
                    <a:pt x="15389" y="219696"/>
                  </a:cubicBezTo>
                  <a:cubicBezTo>
                    <a:pt x="18247" y="222554"/>
                    <a:pt x="23962" y="223506"/>
                    <a:pt x="27772" y="222554"/>
                  </a:cubicBezTo>
                  <a:lnTo>
                    <a:pt x="83017" y="199694"/>
                  </a:lnTo>
                  <a:cubicBezTo>
                    <a:pt x="85874" y="196836"/>
                    <a:pt x="86827" y="195883"/>
                    <a:pt x="88732" y="194931"/>
                  </a:cubicBez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4" name="任意多边形: 形状 66"/>
            <p:cNvSpPr/>
            <p:nvPr/>
          </p:nvSpPr>
          <p:spPr>
            <a:xfrm>
              <a:off x="4809240" y="1344960"/>
              <a:ext cx="1018080" cy="1635120"/>
            </a:xfrm>
            <a:custGeom>
              <a:avLst/>
              <a:gdLst>
                <a:gd name="textAreaLeft" fmla="*/ 0 w 1018080"/>
                <a:gd name="textAreaRight" fmla="*/ 1018440 w 1018080"/>
                <a:gd name="textAreaTop" fmla="*/ 0 h 1635120"/>
                <a:gd name="textAreaBottom" fmla="*/ 1635480 h 1635120"/>
              </a:gdLst>
              <a:ahLst/>
              <a:rect l="textAreaLeft" t="textAreaTop" r="textAreaRight" b="textAreaBottom"/>
              <a:pathLst>
                <a:path w="581025" h="838200">
                  <a:moveTo>
                    <a:pt x="7144" y="87154"/>
                  </a:moveTo>
                  <a:lnTo>
                    <a:pt x="208121" y="7144"/>
                  </a:lnTo>
                  <a:lnTo>
                    <a:pt x="346234" y="7144"/>
                  </a:lnTo>
                  <a:lnTo>
                    <a:pt x="578644" y="87154"/>
                  </a:lnTo>
                  <a:lnTo>
                    <a:pt x="512921" y="833914"/>
                  </a:lnTo>
                  <a:lnTo>
                    <a:pt x="83344" y="833914"/>
                  </a:lnTo>
                  <a:lnTo>
                    <a:pt x="7144" y="87154"/>
                  </a:lnTo>
                  <a:close/>
                </a:path>
              </a:pathLst>
            </a:custGeom>
            <a:solidFill>
              <a:srgbClr val="4c4b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5" name="任意多边形: 形状 67"/>
            <p:cNvSpPr/>
            <p:nvPr/>
          </p:nvSpPr>
          <p:spPr>
            <a:xfrm>
              <a:off x="5283360" y="1344960"/>
              <a:ext cx="550800" cy="1635120"/>
            </a:xfrm>
            <a:custGeom>
              <a:avLst/>
              <a:gdLst>
                <a:gd name="textAreaLeft" fmla="*/ 0 w 550800"/>
                <a:gd name="textAreaRight" fmla="*/ 550800 w 550800"/>
                <a:gd name="textAreaTop" fmla="*/ 0 h 1635120"/>
                <a:gd name="textAreaBottom" fmla="*/ 1635480 h 1635120"/>
              </a:gdLst>
              <a:ahLst/>
              <a:rect l="textAreaLeft" t="textAreaTop" r="textAreaRight" b="textAreaBottom"/>
              <a:pathLst>
                <a:path w="314325" h="838200">
                  <a:moveTo>
                    <a:pt x="75724" y="7144"/>
                  </a:moveTo>
                  <a:lnTo>
                    <a:pt x="7144" y="7144"/>
                  </a:lnTo>
                  <a:lnTo>
                    <a:pt x="10954" y="833914"/>
                  </a:lnTo>
                  <a:lnTo>
                    <a:pt x="242411" y="833914"/>
                  </a:lnTo>
                  <a:lnTo>
                    <a:pt x="308134" y="87154"/>
                  </a:lnTo>
                  <a:lnTo>
                    <a:pt x="75724" y="7144"/>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6" name="任意多边形: 形状 68"/>
            <p:cNvSpPr/>
            <p:nvPr/>
          </p:nvSpPr>
          <p:spPr>
            <a:xfrm>
              <a:off x="4966200" y="1344960"/>
              <a:ext cx="617400" cy="1170360"/>
            </a:xfrm>
            <a:custGeom>
              <a:avLst/>
              <a:gdLst>
                <a:gd name="textAreaLeft" fmla="*/ 0 w 617400"/>
                <a:gd name="textAreaRight" fmla="*/ 617400 w 617400"/>
                <a:gd name="textAreaTop" fmla="*/ 0 h 1170360"/>
                <a:gd name="textAreaBottom" fmla="*/ 1170720 h 1170360"/>
              </a:gdLst>
              <a:ahLst/>
              <a:rect l="textAreaLeft" t="textAreaTop" r="textAreaRight" b="textAreaBottom"/>
              <a:pathLst>
                <a:path w="352425" h="600075">
                  <a:moveTo>
                    <a:pt x="350044" y="39529"/>
                  </a:moveTo>
                  <a:lnTo>
                    <a:pt x="235744" y="468154"/>
                  </a:lnTo>
                  <a:lnTo>
                    <a:pt x="200501" y="601504"/>
                  </a:lnTo>
                  <a:lnTo>
                    <a:pt x="190024" y="601504"/>
                  </a:lnTo>
                  <a:lnTo>
                    <a:pt x="149066" y="478631"/>
                  </a:lnTo>
                  <a:lnTo>
                    <a:pt x="7144" y="51911"/>
                  </a:lnTo>
                  <a:lnTo>
                    <a:pt x="118586" y="7144"/>
                  </a:lnTo>
                  <a:lnTo>
                    <a:pt x="256699" y="7144"/>
                  </a:lnTo>
                  <a:lnTo>
                    <a:pt x="350044" y="39529"/>
                  </a:lnTo>
                  <a:close/>
                </a:path>
              </a:pathLst>
            </a:custGeom>
            <a:solidFill>
              <a:srgbClr val="cad6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7" name="任意多边形: 形状 69"/>
            <p:cNvSpPr/>
            <p:nvPr/>
          </p:nvSpPr>
          <p:spPr>
            <a:xfrm>
              <a:off x="5742360" y="1502640"/>
              <a:ext cx="383760" cy="1709280"/>
            </a:xfrm>
            <a:custGeom>
              <a:avLst/>
              <a:gdLst>
                <a:gd name="textAreaLeft" fmla="*/ 0 w 383760"/>
                <a:gd name="textAreaRight" fmla="*/ 384120 w 383760"/>
                <a:gd name="textAreaTop" fmla="*/ 0 h 1709280"/>
                <a:gd name="textAreaBottom" fmla="*/ 1709640 h 1709280"/>
              </a:gdLst>
              <a:ahLst/>
              <a:rect l="textAreaLeft" t="textAreaTop" r="textAreaRight" b="textAreaBottom"/>
              <a:pathLst>
                <a:path w="219075" h="876300">
                  <a:moveTo>
                    <a:pt x="215741" y="871061"/>
                  </a:moveTo>
                  <a:lnTo>
                    <a:pt x="100489" y="871061"/>
                  </a:lnTo>
                  <a:lnTo>
                    <a:pt x="88106" y="785336"/>
                  </a:lnTo>
                  <a:lnTo>
                    <a:pt x="67151" y="636746"/>
                  </a:lnTo>
                  <a:cubicBezTo>
                    <a:pt x="66199" y="628174"/>
                    <a:pt x="64294" y="620554"/>
                    <a:pt x="61436" y="611981"/>
                  </a:cubicBezTo>
                  <a:lnTo>
                    <a:pt x="7144" y="439579"/>
                  </a:lnTo>
                  <a:lnTo>
                    <a:pt x="45244" y="7144"/>
                  </a:lnTo>
                  <a:lnTo>
                    <a:pt x="190976" y="491014"/>
                  </a:lnTo>
                  <a:cubicBezTo>
                    <a:pt x="195739" y="505301"/>
                    <a:pt x="197644" y="520541"/>
                    <a:pt x="197644" y="534829"/>
                  </a:cubicBezTo>
                  <a:lnTo>
                    <a:pt x="210979" y="785336"/>
                  </a:lnTo>
                  <a:lnTo>
                    <a:pt x="215741" y="871061"/>
                  </a:lnTo>
                  <a:close/>
                </a:path>
              </a:pathLst>
            </a:custGeom>
            <a:solidFill>
              <a:srgbClr val="2c2b2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8" name="任意多边形: 形状 70"/>
            <p:cNvSpPr/>
            <p:nvPr/>
          </p:nvSpPr>
          <p:spPr>
            <a:xfrm>
              <a:off x="4226760" y="1500840"/>
              <a:ext cx="650880" cy="1393560"/>
            </a:xfrm>
            <a:custGeom>
              <a:avLst/>
              <a:gdLst>
                <a:gd name="textAreaLeft" fmla="*/ 0 w 650880"/>
                <a:gd name="textAreaRight" fmla="*/ 651240 w 650880"/>
                <a:gd name="textAreaTop" fmla="*/ 0 h 1393560"/>
                <a:gd name="textAreaBottom" fmla="*/ 1393920 h 1393560"/>
              </a:gdLst>
              <a:ahLst/>
              <a:rect l="textAreaLeft" t="textAreaTop" r="textAreaRight" b="textAreaBottom"/>
              <a:pathLst>
                <a:path w="371475" h="714375">
                  <a:moveTo>
                    <a:pt x="339566" y="7144"/>
                  </a:moveTo>
                  <a:lnTo>
                    <a:pt x="367189" y="273844"/>
                  </a:lnTo>
                  <a:lnTo>
                    <a:pt x="201454" y="389096"/>
                  </a:lnTo>
                  <a:cubicBezTo>
                    <a:pt x="185261" y="400526"/>
                    <a:pt x="182404" y="423386"/>
                    <a:pt x="195739" y="437674"/>
                  </a:cubicBezTo>
                  <a:lnTo>
                    <a:pt x="367189" y="631031"/>
                  </a:lnTo>
                  <a:lnTo>
                    <a:pt x="269081" y="707231"/>
                  </a:lnTo>
                  <a:lnTo>
                    <a:pt x="15716" y="421481"/>
                  </a:lnTo>
                  <a:cubicBezTo>
                    <a:pt x="4286" y="409099"/>
                    <a:pt x="4286" y="390049"/>
                    <a:pt x="15716" y="377666"/>
                  </a:cubicBezTo>
                  <a:lnTo>
                    <a:pt x="339566" y="7144"/>
                  </a:lnTo>
                  <a:close/>
                </a:path>
              </a:pathLst>
            </a:custGeom>
            <a:solidFill>
              <a:srgbClr val="55545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09" name="任意多边形: 形状 71"/>
            <p:cNvSpPr/>
            <p:nvPr/>
          </p:nvSpPr>
          <p:spPr>
            <a:xfrm>
              <a:off x="5161680" y="1131120"/>
              <a:ext cx="266760" cy="389880"/>
            </a:xfrm>
            <a:custGeom>
              <a:avLst/>
              <a:gdLst>
                <a:gd name="textAreaLeft" fmla="*/ 0 w 266760"/>
                <a:gd name="textAreaRight" fmla="*/ 267120 w 266760"/>
                <a:gd name="textAreaTop" fmla="*/ 0 h 389880"/>
                <a:gd name="textAreaBottom" fmla="*/ 390240 h 389880"/>
              </a:gdLst>
              <a:ahLst/>
              <a:rect l="textAreaLeft" t="textAreaTop" r="textAreaRight" b="textAreaBottom"/>
              <a:pathLst>
                <a:path w="152400" h="200025">
                  <a:moveTo>
                    <a:pt x="7144" y="7144"/>
                  </a:moveTo>
                  <a:lnTo>
                    <a:pt x="7144" y="88106"/>
                  </a:lnTo>
                  <a:cubicBezTo>
                    <a:pt x="7144" y="132874"/>
                    <a:pt x="36671" y="196691"/>
                    <a:pt x="74771" y="196691"/>
                  </a:cubicBezTo>
                  <a:cubicBezTo>
                    <a:pt x="112871" y="196691"/>
                    <a:pt x="145256" y="132874"/>
                    <a:pt x="145256" y="88106"/>
                  </a:cubicBezTo>
                  <a:lnTo>
                    <a:pt x="145256" y="7144"/>
                  </a:lnTo>
                  <a:lnTo>
                    <a:pt x="7144" y="7144"/>
                  </a:ln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10" name="任意多边形: 形状 72"/>
            <p:cNvSpPr/>
            <p:nvPr/>
          </p:nvSpPr>
          <p:spPr>
            <a:xfrm>
              <a:off x="5161680" y="1030680"/>
              <a:ext cx="266760" cy="334440"/>
            </a:xfrm>
            <a:custGeom>
              <a:avLst/>
              <a:gdLst>
                <a:gd name="textAreaLeft" fmla="*/ 0 w 266760"/>
                <a:gd name="textAreaRight" fmla="*/ 267120 w 266760"/>
                <a:gd name="textAreaTop" fmla="*/ 0 h 334440"/>
                <a:gd name="textAreaBottom" fmla="*/ 334800 h 334440"/>
              </a:gdLst>
              <a:ahLst/>
              <a:rect l="textAreaLeft" t="textAreaTop" r="textAreaRight" b="textAreaBottom"/>
              <a:pathLst>
                <a:path w="152400" h="171450">
                  <a:moveTo>
                    <a:pt x="7144" y="7144"/>
                  </a:moveTo>
                  <a:lnTo>
                    <a:pt x="7144" y="88106"/>
                  </a:lnTo>
                  <a:cubicBezTo>
                    <a:pt x="7144" y="132874"/>
                    <a:pt x="37624" y="169069"/>
                    <a:pt x="76676" y="169069"/>
                  </a:cubicBezTo>
                  <a:cubicBezTo>
                    <a:pt x="114776" y="169069"/>
                    <a:pt x="146209" y="132874"/>
                    <a:pt x="146209" y="88106"/>
                  </a:cubicBezTo>
                  <a:lnTo>
                    <a:pt x="146209" y="7144"/>
                  </a:lnTo>
                  <a:lnTo>
                    <a:pt x="7144" y="7144"/>
                  </a:ln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11" name="任意多边形: 形状 73"/>
            <p:cNvSpPr/>
            <p:nvPr/>
          </p:nvSpPr>
          <p:spPr>
            <a:xfrm>
              <a:off x="4894560" y="766800"/>
              <a:ext cx="166680" cy="185760"/>
            </a:xfrm>
            <a:custGeom>
              <a:avLst/>
              <a:gdLst>
                <a:gd name="textAreaLeft" fmla="*/ 0 w 166680"/>
                <a:gd name="textAreaRight" fmla="*/ 167040 w 166680"/>
                <a:gd name="textAreaTop" fmla="*/ 0 h 185760"/>
                <a:gd name="textAreaBottom" fmla="*/ 186120 h 185760"/>
              </a:gdLst>
              <a:ahLst/>
              <a:rect l="textAreaLeft" t="textAreaTop" r="textAreaRight" b="textAreaBottom"/>
              <a:pathLst>
                <a:path w="95250" h="95250">
                  <a:moveTo>
                    <a:pt x="7144" y="49054"/>
                  </a:moveTo>
                  <a:cubicBezTo>
                    <a:pt x="7144" y="71914"/>
                    <a:pt x="26194" y="90964"/>
                    <a:pt x="49054" y="90964"/>
                  </a:cubicBezTo>
                  <a:cubicBezTo>
                    <a:pt x="71914" y="90964"/>
                    <a:pt x="90964" y="71914"/>
                    <a:pt x="90964" y="49054"/>
                  </a:cubicBezTo>
                  <a:cubicBezTo>
                    <a:pt x="90964" y="26194"/>
                    <a:pt x="71914" y="7144"/>
                    <a:pt x="49054" y="7144"/>
                  </a:cubicBezTo>
                  <a:cubicBezTo>
                    <a:pt x="25241" y="7144"/>
                    <a:pt x="7144" y="26194"/>
                    <a:pt x="7144" y="49054"/>
                  </a:cubicBezTo>
                  <a:close/>
                </a:path>
              </a:pathLst>
            </a:custGeom>
            <a:solidFill>
              <a:srgbClr val="f88f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12" name="任意多边形: 形状 74"/>
            <p:cNvSpPr/>
            <p:nvPr/>
          </p:nvSpPr>
          <p:spPr>
            <a:xfrm>
              <a:off x="5527080" y="766800"/>
              <a:ext cx="166680" cy="185760"/>
            </a:xfrm>
            <a:custGeom>
              <a:avLst/>
              <a:gdLst>
                <a:gd name="textAreaLeft" fmla="*/ 0 w 166680"/>
                <a:gd name="textAreaRight" fmla="*/ 167040 w 166680"/>
                <a:gd name="textAreaTop" fmla="*/ 0 h 185760"/>
                <a:gd name="textAreaBottom" fmla="*/ 186120 h 185760"/>
              </a:gdLst>
              <a:ahLst/>
              <a:rect l="textAreaLeft" t="textAreaTop" r="textAreaRight" b="textAreaBottom"/>
              <a:pathLst>
                <a:path w="95250" h="95250">
                  <a:moveTo>
                    <a:pt x="7144" y="49054"/>
                  </a:moveTo>
                  <a:cubicBezTo>
                    <a:pt x="7144" y="71914"/>
                    <a:pt x="26194" y="90964"/>
                    <a:pt x="49054" y="90964"/>
                  </a:cubicBezTo>
                  <a:cubicBezTo>
                    <a:pt x="71914" y="90964"/>
                    <a:pt x="90964" y="71914"/>
                    <a:pt x="90964" y="49054"/>
                  </a:cubicBezTo>
                  <a:cubicBezTo>
                    <a:pt x="90964" y="26194"/>
                    <a:pt x="71914" y="7144"/>
                    <a:pt x="49054" y="7144"/>
                  </a:cubicBezTo>
                  <a:cubicBezTo>
                    <a:pt x="25241" y="7144"/>
                    <a:pt x="7144" y="26194"/>
                    <a:pt x="7144" y="49054"/>
                  </a:cubicBezTo>
                  <a:close/>
                </a:path>
              </a:pathLst>
            </a:custGeom>
            <a:solidFill>
              <a:srgbClr val="f88f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13" name="任意多边形: 形状 75"/>
            <p:cNvSpPr/>
            <p:nvPr/>
          </p:nvSpPr>
          <p:spPr>
            <a:xfrm>
              <a:off x="4968000" y="492120"/>
              <a:ext cx="650880" cy="761760"/>
            </a:xfrm>
            <a:custGeom>
              <a:avLst/>
              <a:gdLst>
                <a:gd name="textAreaLeft" fmla="*/ 0 w 650880"/>
                <a:gd name="textAreaRight" fmla="*/ 651240 w 650880"/>
                <a:gd name="textAreaTop" fmla="*/ 0 h 761760"/>
                <a:gd name="textAreaBottom" fmla="*/ 762120 h 761760"/>
              </a:gdLst>
              <a:ahLst/>
              <a:rect l="textAreaLeft" t="textAreaTop" r="textAreaRight" b="textAreaBottom"/>
              <a:pathLst>
                <a:path w="371475" h="390525">
                  <a:moveTo>
                    <a:pt x="367189" y="83344"/>
                  </a:moveTo>
                  <a:lnTo>
                    <a:pt x="367189" y="210979"/>
                  </a:lnTo>
                  <a:cubicBezTo>
                    <a:pt x="367189" y="219551"/>
                    <a:pt x="366236" y="228124"/>
                    <a:pt x="365284" y="235744"/>
                  </a:cubicBezTo>
                  <a:cubicBezTo>
                    <a:pt x="364331" y="239554"/>
                    <a:pt x="364331" y="242411"/>
                    <a:pt x="363379" y="246221"/>
                  </a:cubicBezTo>
                  <a:cubicBezTo>
                    <a:pt x="352901" y="300514"/>
                    <a:pt x="316706" y="347186"/>
                    <a:pt x="269081" y="370999"/>
                  </a:cubicBezTo>
                  <a:cubicBezTo>
                    <a:pt x="264319" y="373856"/>
                    <a:pt x="258604" y="375761"/>
                    <a:pt x="253841" y="377666"/>
                  </a:cubicBezTo>
                  <a:cubicBezTo>
                    <a:pt x="232886" y="386239"/>
                    <a:pt x="210979" y="390049"/>
                    <a:pt x="187166" y="390049"/>
                  </a:cubicBezTo>
                  <a:cubicBezTo>
                    <a:pt x="161449" y="390049"/>
                    <a:pt x="136684" y="384334"/>
                    <a:pt x="114776" y="374809"/>
                  </a:cubicBezTo>
                  <a:cubicBezTo>
                    <a:pt x="110014" y="372904"/>
                    <a:pt x="106204" y="370999"/>
                    <a:pt x="102394" y="368141"/>
                  </a:cubicBezTo>
                  <a:cubicBezTo>
                    <a:pt x="55721" y="343376"/>
                    <a:pt x="21431" y="298609"/>
                    <a:pt x="10954" y="244316"/>
                  </a:cubicBezTo>
                  <a:cubicBezTo>
                    <a:pt x="10001" y="241459"/>
                    <a:pt x="10001" y="237649"/>
                    <a:pt x="9049" y="234791"/>
                  </a:cubicBezTo>
                  <a:cubicBezTo>
                    <a:pt x="8096" y="226219"/>
                    <a:pt x="7144" y="217646"/>
                    <a:pt x="7144" y="209074"/>
                  </a:cubicBezTo>
                  <a:lnTo>
                    <a:pt x="7144" y="104299"/>
                  </a:lnTo>
                  <a:cubicBezTo>
                    <a:pt x="7144" y="50959"/>
                    <a:pt x="50959" y="7144"/>
                    <a:pt x="104299" y="7144"/>
                  </a:cubicBezTo>
                  <a:lnTo>
                    <a:pt x="293846" y="7144"/>
                  </a:lnTo>
                  <a:cubicBezTo>
                    <a:pt x="333851" y="9049"/>
                    <a:pt x="367189" y="42386"/>
                    <a:pt x="367189" y="83344"/>
                  </a:cubicBez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14" name="任意多边形: 形状 76"/>
            <p:cNvSpPr/>
            <p:nvPr/>
          </p:nvSpPr>
          <p:spPr>
            <a:xfrm>
              <a:off x="5209920" y="1023480"/>
              <a:ext cx="150120" cy="92880"/>
            </a:xfrm>
            <a:custGeom>
              <a:avLst/>
              <a:gdLst>
                <a:gd name="textAreaLeft" fmla="*/ 0 w 150120"/>
                <a:gd name="textAreaRight" fmla="*/ 150480 w 150120"/>
                <a:gd name="textAreaTop" fmla="*/ 0 h 92880"/>
                <a:gd name="textAreaBottom" fmla="*/ 93240 h 92880"/>
              </a:gdLst>
              <a:ahLst/>
              <a:rect l="textAreaLeft" t="textAreaTop" r="textAreaRight" b="textAreaBottom"/>
              <a:pathLst>
                <a:path w="85725" h="47625">
                  <a:moveTo>
                    <a:pt x="47149" y="47149"/>
                  </a:moveTo>
                  <a:cubicBezTo>
                    <a:pt x="69056" y="47149"/>
                    <a:pt x="87154" y="29051"/>
                    <a:pt x="87154" y="7144"/>
                  </a:cubicBezTo>
                  <a:lnTo>
                    <a:pt x="7144" y="7144"/>
                  </a:lnTo>
                  <a:cubicBezTo>
                    <a:pt x="7144" y="29051"/>
                    <a:pt x="24289" y="47149"/>
                    <a:pt x="47149" y="47149"/>
                  </a:cubicBezTo>
                  <a:close/>
                </a:path>
              </a:pathLst>
            </a:custGeom>
            <a:solidFill>
              <a:srgbClr val="a2323e"/>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Arial"/>
              </a:endParaRPr>
            </a:p>
          </p:txBody>
        </p:sp>
        <p:sp>
          <p:nvSpPr>
            <p:cNvPr id="315" name="任意多边形: 形状 77"/>
            <p:cNvSpPr/>
            <p:nvPr/>
          </p:nvSpPr>
          <p:spPr>
            <a:xfrm>
              <a:off x="4966200" y="301680"/>
              <a:ext cx="650880" cy="650160"/>
            </a:xfrm>
            <a:custGeom>
              <a:avLst/>
              <a:gdLst>
                <a:gd name="textAreaLeft" fmla="*/ 0 w 650880"/>
                <a:gd name="textAreaRight" fmla="*/ 651240 w 650880"/>
                <a:gd name="textAreaTop" fmla="*/ 0 h 650160"/>
                <a:gd name="textAreaBottom" fmla="*/ 650520 h 650160"/>
              </a:gdLst>
              <a:ahLst/>
              <a:rect l="textAreaLeft" t="textAreaTop" r="textAreaRight" b="textAreaBottom"/>
              <a:pathLst>
                <a:path w="371475" h="333375">
                  <a:moveTo>
                    <a:pt x="368141" y="186551"/>
                  </a:moveTo>
                  <a:lnTo>
                    <a:pt x="368141" y="326568"/>
                  </a:lnTo>
                  <a:cubicBezTo>
                    <a:pt x="350044" y="326568"/>
                    <a:pt x="335756" y="312281"/>
                    <a:pt x="335756" y="294183"/>
                  </a:cubicBezTo>
                  <a:lnTo>
                    <a:pt x="335756" y="179883"/>
                  </a:lnTo>
                  <a:cubicBezTo>
                    <a:pt x="335756" y="154166"/>
                    <a:pt x="314801" y="134163"/>
                    <a:pt x="290036" y="134163"/>
                  </a:cubicBezTo>
                  <a:lnTo>
                    <a:pt x="88106" y="134163"/>
                  </a:lnTo>
                  <a:cubicBezTo>
                    <a:pt x="62389" y="134163"/>
                    <a:pt x="42386" y="155118"/>
                    <a:pt x="42386" y="179883"/>
                  </a:cubicBezTo>
                  <a:lnTo>
                    <a:pt x="42386" y="292278"/>
                  </a:lnTo>
                  <a:cubicBezTo>
                    <a:pt x="42386" y="301803"/>
                    <a:pt x="38576" y="310376"/>
                    <a:pt x="31909" y="317043"/>
                  </a:cubicBezTo>
                  <a:cubicBezTo>
                    <a:pt x="25241" y="323711"/>
                    <a:pt x="16669" y="327521"/>
                    <a:pt x="7144" y="327521"/>
                  </a:cubicBezTo>
                  <a:lnTo>
                    <a:pt x="7144" y="95111"/>
                  </a:lnTo>
                  <a:cubicBezTo>
                    <a:pt x="7144" y="5576"/>
                    <a:pt x="63341" y="2718"/>
                    <a:pt x="158591" y="9386"/>
                  </a:cubicBezTo>
                  <a:cubicBezTo>
                    <a:pt x="168116" y="10338"/>
                    <a:pt x="177641" y="7481"/>
                    <a:pt x="187166" y="7481"/>
                  </a:cubicBezTo>
                  <a:cubicBezTo>
                    <a:pt x="196691" y="7481"/>
                    <a:pt x="207169" y="8433"/>
                    <a:pt x="215741" y="9386"/>
                  </a:cubicBezTo>
                  <a:cubicBezTo>
                    <a:pt x="302419" y="21768"/>
                    <a:pt x="368141" y="96063"/>
                    <a:pt x="368141" y="186551"/>
                  </a:cubicBez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16" name="任意多边形: 形状 78"/>
            <p:cNvSpPr/>
            <p:nvPr/>
          </p:nvSpPr>
          <p:spPr>
            <a:xfrm>
              <a:off x="5193360" y="742680"/>
              <a:ext cx="200160" cy="259920"/>
            </a:xfrm>
            <a:custGeom>
              <a:avLst/>
              <a:gdLst>
                <a:gd name="textAreaLeft" fmla="*/ 0 w 200160"/>
                <a:gd name="textAreaRight" fmla="*/ 200520 w 200160"/>
                <a:gd name="textAreaTop" fmla="*/ 0 h 259920"/>
                <a:gd name="textAreaBottom" fmla="*/ 260280 h 259920"/>
              </a:gdLst>
              <a:ahLst/>
              <a:rect l="textAreaLeft" t="textAreaTop" r="textAreaRight" b="textAreaBottom"/>
              <a:pathLst>
                <a:path w="114300" h="133350">
                  <a:moveTo>
                    <a:pt x="90964" y="71986"/>
                  </a:moveTo>
                  <a:lnTo>
                    <a:pt x="77629" y="71986"/>
                  </a:lnTo>
                  <a:lnTo>
                    <a:pt x="77629" y="27218"/>
                  </a:lnTo>
                  <a:cubicBezTo>
                    <a:pt x="77629" y="17693"/>
                    <a:pt x="70009" y="8168"/>
                    <a:pt x="60484" y="7216"/>
                  </a:cubicBezTo>
                  <a:cubicBezTo>
                    <a:pt x="49054" y="6263"/>
                    <a:pt x="39529" y="14836"/>
                    <a:pt x="39529" y="26266"/>
                  </a:cubicBezTo>
                  <a:lnTo>
                    <a:pt x="39529" y="71986"/>
                  </a:lnTo>
                  <a:lnTo>
                    <a:pt x="26194" y="71986"/>
                  </a:lnTo>
                  <a:cubicBezTo>
                    <a:pt x="15716" y="71986"/>
                    <a:pt x="7144" y="80559"/>
                    <a:pt x="7144" y="91036"/>
                  </a:cubicBezTo>
                  <a:lnTo>
                    <a:pt x="7144" y="94846"/>
                  </a:lnTo>
                  <a:cubicBezTo>
                    <a:pt x="7144" y="105323"/>
                    <a:pt x="15716" y="113896"/>
                    <a:pt x="26194" y="113896"/>
                  </a:cubicBezTo>
                  <a:cubicBezTo>
                    <a:pt x="32861" y="113896"/>
                    <a:pt x="39529" y="116754"/>
                    <a:pt x="44291" y="122468"/>
                  </a:cubicBezTo>
                  <a:cubicBezTo>
                    <a:pt x="48101" y="126279"/>
                    <a:pt x="52864" y="129136"/>
                    <a:pt x="58579" y="129136"/>
                  </a:cubicBezTo>
                  <a:cubicBezTo>
                    <a:pt x="64294" y="129136"/>
                    <a:pt x="70009" y="126279"/>
                    <a:pt x="72866" y="122468"/>
                  </a:cubicBezTo>
                  <a:cubicBezTo>
                    <a:pt x="77629" y="116754"/>
                    <a:pt x="84296" y="113896"/>
                    <a:pt x="90964" y="113896"/>
                  </a:cubicBezTo>
                  <a:cubicBezTo>
                    <a:pt x="101441" y="113896"/>
                    <a:pt x="110014" y="105323"/>
                    <a:pt x="110014" y="94846"/>
                  </a:cubicBezTo>
                  <a:lnTo>
                    <a:pt x="110014" y="91036"/>
                  </a:lnTo>
                  <a:cubicBezTo>
                    <a:pt x="110014" y="80559"/>
                    <a:pt x="101441" y="71986"/>
                    <a:pt x="90964" y="71986"/>
                  </a:cubicBez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17" name="任意多边形: 形状 79"/>
            <p:cNvSpPr/>
            <p:nvPr/>
          </p:nvSpPr>
          <p:spPr>
            <a:xfrm>
              <a:off x="5108040" y="77256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27912" y="22384"/>
                  </a:moveTo>
                  <a:cubicBezTo>
                    <a:pt x="-27912" y="30956"/>
                    <a:pt x="30956" y="-27912"/>
                    <a:pt x="22384" y="-27912"/>
                  </a:cubicBezTo>
                  <a:cubicBezTo>
                    <a:pt x="13811" y="-27912"/>
                    <a:pt x="7144" y="30956"/>
                    <a:pt x="7144" y="22384"/>
                  </a:cubicBezTo>
                  <a:cubicBezTo>
                    <a:pt x="7144" y="13811"/>
                    <a:pt x="13811" y="7144"/>
                    <a:pt x="22384" y="7144"/>
                  </a:cubicBezTo>
                  <a:cubicBezTo>
                    <a:pt x="30956" y="7144"/>
                    <a:pt x="-27912" y="13811"/>
                    <a:pt x="-27912" y="22384"/>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18" name="任意多边形: 形状 80"/>
            <p:cNvSpPr/>
            <p:nvPr/>
          </p:nvSpPr>
          <p:spPr>
            <a:xfrm>
              <a:off x="5405400" y="77256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27912" y="22384"/>
                  </a:moveTo>
                  <a:cubicBezTo>
                    <a:pt x="-27912" y="30956"/>
                    <a:pt x="30956" y="-27912"/>
                    <a:pt x="22384" y="-27912"/>
                  </a:cubicBezTo>
                  <a:cubicBezTo>
                    <a:pt x="13811" y="-27912"/>
                    <a:pt x="7144" y="30956"/>
                    <a:pt x="7144" y="22384"/>
                  </a:cubicBezTo>
                  <a:cubicBezTo>
                    <a:pt x="7144" y="13811"/>
                    <a:pt x="13811" y="7144"/>
                    <a:pt x="22384" y="7144"/>
                  </a:cubicBezTo>
                  <a:cubicBezTo>
                    <a:pt x="30956" y="7144"/>
                    <a:pt x="-27912" y="13811"/>
                    <a:pt x="-27912" y="22384"/>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19" name="任意多边形: 形状 81"/>
            <p:cNvSpPr/>
            <p:nvPr/>
          </p:nvSpPr>
          <p:spPr>
            <a:xfrm>
              <a:off x="5265000" y="895320"/>
              <a:ext cx="50040" cy="55440"/>
            </a:xfrm>
            <a:custGeom>
              <a:avLst/>
              <a:gdLst>
                <a:gd name="textAreaLeft" fmla="*/ 0 w 50040"/>
                <a:gd name="textAreaRight" fmla="*/ 50400 w 50040"/>
                <a:gd name="textAreaTop" fmla="*/ 0 h 55440"/>
                <a:gd name="textAreaBottom" fmla="*/ 55800 h 55440"/>
              </a:gdLst>
              <a:ahLst/>
              <a:rect l="textAreaLeft" t="textAreaTop" r="textAreaRight" b="textAreaBottom"/>
              <a:pathLst>
                <a:path w="28575" h="28575">
                  <a:moveTo>
                    <a:pt x="28099" y="17621"/>
                  </a:moveTo>
                  <a:cubicBezTo>
                    <a:pt x="28099" y="23336"/>
                    <a:pt x="23336" y="28099"/>
                    <a:pt x="17621" y="28099"/>
                  </a:cubicBezTo>
                  <a:cubicBezTo>
                    <a:pt x="11906" y="28099"/>
                    <a:pt x="7144" y="23336"/>
                    <a:pt x="7144" y="17621"/>
                  </a:cubicBezTo>
                  <a:cubicBezTo>
                    <a:pt x="7144" y="11906"/>
                    <a:pt x="11906" y="7144"/>
                    <a:pt x="17621" y="7144"/>
                  </a:cubicBezTo>
                  <a:cubicBezTo>
                    <a:pt x="23336" y="7144"/>
                    <a:pt x="28099" y="11906"/>
                    <a:pt x="28099" y="17621"/>
                  </a:cubicBezTo>
                  <a:close/>
                </a:path>
              </a:pathLst>
            </a:custGeom>
            <a:solidFill>
              <a:srgbClr val="ffc49c"/>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Arial"/>
              </a:endParaRPr>
            </a:p>
          </p:txBody>
        </p:sp>
        <p:sp>
          <p:nvSpPr>
            <p:cNvPr id="320" name="任意多边形: 形状 82"/>
            <p:cNvSpPr/>
            <p:nvPr/>
          </p:nvSpPr>
          <p:spPr>
            <a:xfrm>
              <a:off x="5280120" y="244800"/>
              <a:ext cx="367200" cy="408600"/>
            </a:xfrm>
            <a:custGeom>
              <a:avLst/>
              <a:gdLst>
                <a:gd name="textAreaLeft" fmla="*/ 0 w 367200"/>
                <a:gd name="textAreaRight" fmla="*/ 367560 w 367200"/>
                <a:gd name="textAreaTop" fmla="*/ 0 h 408600"/>
                <a:gd name="textAreaBottom" fmla="*/ 408960 h 408600"/>
              </a:gdLst>
              <a:ahLst/>
              <a:rect l="textAreaLeft" t="textAreaTop" r="textAreaRight" b="textAreaBottom"/>
              <a:pathLst>
                <a:path w="209550" h="209550">
                  <a:moveTo>
                    <a:pt x="143351" y="210026"/>
                  </a:moveTo>
                  <a:lnTo>
                    <a:pt x="74771" y="210026"/>
                  </a:lnTo>
                  <a:cubicBezTo>
                    <a:pt x="37624" y="210026"/>
                    <a:pt x="7144" y="179546"/>
                    <a:pt x="7144" y="142399"/>
                  </a:cubicBezTo>
                  <a:lnTo>
                    <a:pt x="7144" y="74771"/>
                  </a:lnTo>
                  <a:cubicBezTo>
                    <a:pt x="7144" y="37624"/>
                    <a:pt x="37624" y="7144"/>
                    <a:pt x="74771" y="7144"/>
                  </a:cubicBezTo>
                  <a:lnTo>
                    <a:pt x="143351" y="7144"/>
                  </a:lnTo>
                  <a:cubicBezTo>
                    <a:pt x="180499" y="7144"/>
                    <a:pt x="210979" y="37624"/>
                    <a:pt x="210979" y="74771"/>
                  </a:cubicBezTo>
                  <a:lnTo>
                    <a:pt x="210979" y="142399"/>
                  </a:lnTo>
                  <a:cubicBezTo>
                    <a:pt x="211931" y="179546"/>
                    <a:pt x="181451" y="210026"/>
                    <a:pt x="143351" y="210026"/>
                  </a:cubicBez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21" name="任意多边形: 形状 83"/>
            <p:cNvSpPr/>
            <p:nvPr/>
          </p:nvSpPr>
          <p:spPr>
            <a:xfrm>
              <a:off x="5213160" y="243000"/>
              <a:ext cx="200160" cy="222840"/>
            </a:xfrm>
            <a:custGeom>
              <a:avLst/>
              <a:gdLst>
                <a:gd name="textAreaLeft" fmla="*/ 0 w 200160"/>
                <a:gd name="textAreaRight" fmla="*/ 200520 w 200160"/>
                <a:gd name="textAreaTop" fmla="*/ 0 h 222840"/>
                <a:gd name="textAreaBottom" fmla="*/ 223200 h 222840"/>
              </a:gdLst>
              <a:ahLst/>
              <a:rect l="textAreaLeft" t="textAreaTop" r="textAreaRight" b="textAreaBottom"/>
              <a:pathLst>
                <a:path w="114300" h="114300">
                  <a:moveTo>
                    <a:pt x="57626" y="7144"/>
                  </a:moveTo>
                  <a:lnTo>
                    <a:pt x="57626" y="7144"/>
                  </a:lnTo>
                  <a:cubicBezTo>
                    <a:pt x="30004" y="7144"/>
                    <a:pt x="7144" y="30004"/>
                    <a:pt x="7144" y="57626"/>
                  </a:cubicBezTo>
                  <a:cubicBezTo>
                    <a:pt x="7144" y="85249"/>
                    <a:pt x="30004" y="108109"/>
                    <a:pt x="57626" y="108109"/>
                  </a:cubicBezTo>
                  <a:cubicBezTo>
                    <a:pt x="85249" y="108109"/>
                    <a:pt x="108109" y="85249"/>
                    <a:pt x="108109" y="57626"/>
                  </a:cubicBezTo>
                  <a:cubicBezTo>
                    <a:pt x="109061" y="30956"/>
                    <a:pt x="86201" y="7144"/>
                    <a:pt x="57626" y="7144"/>
                  </a:cubicBez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22" name="任意多边形: 形状 84"/>
            <p:cNvSpPr/>
            <p:nvPr/>
          </p:nvSpPr>
          <p:spPr>
            <a:xfrm>
              <a:off x="5213160" y="1532520"/>
              <a:ext cx="166680" cy="984600"/>
            </a:xfrm>
            <a:custGeom>
              <a:avLst/>
              <a:gdLst>
                <a:gd name="textAreaLeft" fmla="*/ 0 w 166680"/>
                <a:gd name="textAreaRight" fmla="*/ 167040 w 166680"/>
                <a:gd name="textAreaTop" fmla="*/ 0 h 984600"/>
                <a:gd name="textAreaBottom" fmla="*/ 984960 h 984600"/>
              </a:gdLst>
              <a:ahLst/>
              <a:rect l="textAreaLeft" t="textAreaTop" r="textAreaRight" b="textAreaBottom"/>
              <a:pathLst>
                <a:path w="95250" h="504825">
                  <a:moveTo>
                    <a:pt x="94774" y="371951"/>
                  </a:moveTo>
                  <a:lnTo>
                    <a:pt x="59531" y="505301"/>
                  </a:lnTo>
                  <a:lnTo>
                    <a:pt x="49054" y="505301"/>
                  </a:lnTo>
                  <a:lnTo>
                    <a:pt x="8096" y="382429"/>
                  </a:lnTo>
                  <a:lnTo>
                    <a:pt x="33814" y="92869"/>
                  </a:lnTo>
                  <a:lnTo>
                    <a:pt x="7144" y="47149"/>
                  </a:lnTo>
                  <a:lnTo>
                    <a:pt x="47149" y="7144"/>
                  </a:lnTo>
                  <a:lnTo>
                    <a:pt x="85249" y="47149"/>
                  </a:lnTo>
                  <a:lnTo>
                    <a:pt x="62389" y="90011"/>
                  </a:lnTo>
                  <a:lnTo>
                    <a:pt x="94774" y="371951"/>
                  </a:lnTo>
                  <a:close/>
                </a:path>
              </a:pathLst>
            </a:custGeom>
            <a:solidFill>
              <a:srgbClr val="039b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23" name="任意多边形: 形状 85"/>
            <p:cNvSpPr/>
            <p:nvPr/>
          </p:nvSpPr>
          <p:spPr>
            <a:xfrm>
              <a:off x="5065200" y="633960"/>
              <a:ext cx="150120" cy="74160"/>
            </a:xfrm>
            <a:custGeom>
              <a:avLst/>
              <a:gdLst>
                <a:gd name="textAreaLeft" fmla="*/ 0 w 150120"/>
                <a:gd name="textAreaRight" fmla="*/ 150480 w 150120"/>
                <a:gd name="textAreaTop" fmla="*/ 0 h 74160"/>
                <a:gd name="textAreaBottom" fmla="*/ 74520 h 74160"/>
              </a:gdLst>
              <a:ahLst/>
              <a:rect l="textAreaLeft" t="textAreaTop" r="textAreaRight" b="textAreaBottom"/>
              <a:pathLst>
                <a:path w="85725" h="38100">
                  <a:moveTo>
                    <a:pt x="68712" y="29528"/>
                  </a:moveTo>
                  <a:cubicBezTo>
                    <a:pt x="54424" y="20003"/>
                    <a:pt x="35374" y="20003"/>
                    <a:pt x="20134" y="29528"/>
                  </a:cubicBezTo>
                  <a:cubicBezTo>
                    <a:pt x="16324" y="32385"/>
                    <a:pt x="11562" y="32385"/>
                    <a:pt x="8704" y="29528"/>
                  </a:cubicBezTo>
                  <a:cubicBezTo>
                    <a:pt x="5847" y="26670"/>
                    <a:pt x="6799" y="20955"/>
                    <a:pt x="12514" y="17145"/>
                  </a:cubicBezTo>
                  <a:cubicBezTo>
                    <a:pt x="31564" y="3810"/>
                    <a:pt x="57282" y="3810"/>
                    <a:pt x="77284" y="17145"/>
                  </a:cubicBezTo>
                  <a:cubicBezTo>
                    <a:pt x="82999" y="20955"/>
                    <a:pt x="83952" y="26670"/>
                    <a:pt x="81094" y="29528"/>
                  </a:cubicBezTo>
                  <a:cubicBezTo>
                    <a:pt x="78237" y="32385"/>
                    <a:pt x="72522" y="32385"/>
                    <a:pt x="68712" y="29528"/>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24" name="任意多边形: 形状 86"/>
            <p:cNvSpPr/>
            <p:nvPr/>
          </p:nvSpPr>
          <p:spPr>
            <a:xfrm>
              <a:off x="5365800" y="682560"/>
              <a:ext cx="150120" cy="74160"/>
            </a:xfrm>
            <a:custGeom>
              <a:avLst/>
              <a:gdLst>
                <a:gd name="textAreaLeft" fmla="*/ 0 w 150120"/>
                <a:gd name="textAreaRight" fmla="*/ 150480 w 150120"/>
                <a:gd name="textAreaTop" fmla="*/ 0 h 74160"/>
                <a:gd name="textAreaBottom" fmla="*/ 74520 h 74160"/>
              </a:gdLst>
              <a:ahLst/>
              <a:rect l="textAreaLeft" t="textAreaTop" r="textAreaRight" b="textAreaBottom"/>
              <a:pathLst>
                <a:path w="85725" h="38100">
                  <a:moveTo>
                    <a:pt x="68712" y="29527"/>
                  </a:moveTo>
                  <a:cubicBezTo>
                    <a:pt x="54424" y="20002"/>
                    <a:pt x="35374" y="20002"/>
                    <a:pt x="20134" y="29527"/>
                  </a:cubicBezTo>
                  <a:cubicBezTo>
                    <a:pt x="16324" y="32385"/>
                    <a:pt x="11562" y="32385"/>
                    <a:pt x="8704" y="29527"/>
                  </a:cubicBezTo>
                  <a:cubicBezTo>
                    <a:pt x="5847" y="26670"/>
                    <a:pt x="6799" y="20955"/>
                    <a:pt x="12514" y="17145"/>
                  </a:cubicBezTo>
                  <a:cubicBezTo>
                    <a:pt x="31564" y="3810"/>
                    <a:pt x="57282" y="3810"/>
                    <a:pt x="77284" y="17145"/>
                  </a:cubicBezTo>
                  <a:cubicBezTo>
                    <a:pt x="82999" y="20955"/>
                    <a:pt x="83952" y="26670"/>
                    <a:pt x="81094" y="29527"/>
                  </a:cubicBezTo>
                  <a:cubicBezTo>
                    <a:pt x="78237" y="32385"/>
                    <a:pt x="72522" y="31432"/>
                    <a:pt x="68712" y="29527"/>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25" name="任意多边形: 形状 87"/>
            <p:cNvSpPr/>
            <p:nvPr/>
          </p:nvSpPr>
          <p:spPr>
            <a:xfrm>
              <a:off x="4685760" y="2718000"/>
              <a:ext cx="266760" cy="259920"/>
            </a:xfrm>
            <a:custGeom>
              <a:avLst/>
              <a:gdLst>
                <a:gd name="textAreaLeft" fmla="*/ 0 w 266760"/>
                <a:gd name="textAreaRight" fmla="*/ 267120 w 266760"/>
                <a:gd name="textAreaTop" fmla="*/ 0 h 259920"/>
                <a:gd name="textAreaBottom" fmla="*/ 260280 h 259920"/>
              </a:gdLst>
              <a:ahLst/>
              <a:rect l="textAreaLeft" t="textAreaTop" r="textAreaRight" b="textAreaBottom"/>
              <a:pathLst>
                <a:path w="152400" h="133350">
                  <a:moveTo>
                    <a:pt x="105251" y="7144"/>
                  </a:moveTo>
                  <a:lnTo>
                    <a:pt x="147161" y="67151"/>
                  </a:lnTo>
                  <a:lnTo>
                    <a:pt x="58579" y="130016"/>
                  </a:lnTo>
                  <a:lnTo>
                    <a:pt x="7144" y="83344"/>
                  </a:lnTo>
                  <a:lnTo>
                    <a:pt x="105251" y="7144"/>
                  </a:ln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26" name="任意多边形: 形状 88"/>
            <p:cNvSpPr/>
            <p:nvPr/>
          </p:nvSpPr>
          <p:spPr>
            <a:xfrm>
              <a:off x="4775760" y="2835000"/>
              <a:ext cx="183600" cy="389880"/>
            </a:xfrm>
            <a:custGeom>
              <a:avLst/>
              <a:gdLst>
                <a:gd name="textAreaLeft" fmla="*/ 0 w 183600"/>
                <a:gd name="textAreaRight" fmla="*/ 183960 w 183600"/>
                <a:gd name="textAreaTop" fmla="*/ 0 h 389880"/>
                <a:gd name="textAreaBottom" fmla="*/ 390240 h 389880"/>
              </a:gdLst>
              <a:ahLst/>
              <a:rect l="textAreaLeft" t="textAreaTop" r="textAreaRight" b="textAreaBottom"/>
              <a:pathLst>
                <a:path w="104775" h="200025">
                  <a:moveTo>
                    <a:pt x="7144" y="70009"/>
                  </a:moveTo>
                  <a:lnTo>
                    <a:pt x="95726" y="7144"/>
                  </a:lnTo>
                  <a:lnTo>
                    <a:pt x="101441" y="63341"/>
                  </a:lnTo>
                  <a:cubicBezTo>
                    <a:pt x="101441" y="68104"/>
                    <a:pt x="102394" y="71914"/>
                    <a:pt x="101441" y="76676"/>
                  </a:cubicBezTo>
                  <a:lnTo>
                    <a:pt x="96679" y="165259"/>
                  </a:lnTo>
                  <a:cubicBezTo>
                    <a:pt x="95726" y="178594"/>
                    <a:pt x="86201" y="190024"/>
                    <a:pt x="72866" y="191929"/>
                  </a:cubicBezTo>
                  <a:lnTo>
                    <a:pt x="39529" y="197644"/>
                  </a:lnTo>
                  <a:cubicBezTo>
                    <a:pt x="22384" y="200501"/>
                    <a:pt x="7144" y="187166"/>
                    <a:pt x="7144" y="170021"/>
                  </a:cubicBezTo>
                  <a:lnTo>
                    <a:pt x="7144" y="143351"/>
                  </a:lnTo>
                  <a:lnTo>
                    <a:pt x="7144" y="70009"/>
                  </a:ln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27" name="任意多边形: 形状 89"/>
            <p:cNvSpPr/>
            <p:nvPr/>
          </p:nvSpPr>
          <p:spPr>
            <a:xfrm>
              <a:off x="5886000" y="3021120"/>
              <a:ext cx="233640" cy="185760"/>
            </a:xfrm>
            <a:custGeom>
              <a:avLst/>
              <a:gdLst>
                <a:gd name="textAreaLeft" fmla="*/ 0 w 233640"/>
                <a:gd name="textAreaRight" fmla="*/ 234000 w 233640"/>
                <a:gd name="textAreaTop" fmla="*/ 0 h 185760"/>
                <a:gd name="textAreaBottom" fmla="*/ 186120 h 185760"/>
              </a:gdLst>
              <a:ahLst/>
              <a:rect l="textAreaLeft" t="textAreaTop" r="textAreaRight" b="textAreaBottom"/>
              <a:pathLst>
                <a:path w="133350" h="95250">
                  <a:moveTo>
                    <a:pt x="133826" y="92869"/>
                  </a:moveTo>
                  <a:lnTo>
                    <a:pt x="18574" y="92869"/>
                  </a:lnTo>
                  <a:lnTo>
                    <a:pt x="7144" y="7144"/>
                  </a:lnTo>
                  <a:lnTo>
                    <a:pt x="130016" y="7144"/>
                  </a:lnTo>
                  <a:lnTo>
                    <a:pt x="133826" y="92869"/>
                  </a:ln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28" name="任意多边形: 形状 90"/>
            <p:cNvSpPr/>
            <p:nvPr/>
          </p:nvSpPr>
          <p:spPr>
            <a:xfrm>
              <a:off x="5860800" y="3188160"/>
              <a:ext cx="266760" cy="464400"/>
            </a:xfrm>
            <a:custGeom>
              <a:avLst/>
              <a:gdLst>
                <a:gd name="textAreaLeft" fmla="*/ 0 w 266760"/>
                <a:gd name="textAreaRight" fmla="*/ 267120 w 266760"/>
                <a:gd name="textAreaTop" fmla="*/ 0 h 464400"/>
                <a:gd name="textAreaBottom" fmla="*/ 464760 h 464400"/>
              </a:gdLst>
              <a:ahLst/>
              <a:rect l="textAreaLeft" t="textAreaTop" r="textAreaRight" b="textAreaBottom"/>
              <a:pathLst>
                <a:path w="152400" h="238125">
                  <a:moveTo>
                    <a:pt x="110100" y="200501"/>
                  </a:moveTo>
                  <a:lnTo>
                    <a:pt x="146295" y="146209"/>
                  </a:lnTo>
                  <a:cubicBezTo>
                    <a:pt x="147247" y="144304"/>
                    <a:pt x="148200" y="141446"/>
                    <a:pt x="148200" y="139541"/>
                  </a:cubicBezTo>
                  <a:lnTo>
                    <a:pt x="148200" y="19526"/>
                  </a:lnTo>
                  <a:cubicBezTo>
                    <a:pt x="148200" y="12859"/>
                    <a:pt x="142484" y="7144"/>
                    <a:pt x="135817" y="7144"/>
                  </a:cubicBezTo>
                  <a:lnTo>
                    <a:pt x="45330" y="7144"/>
                  </a:lnTo>
                  <a:cubicBezTo>
                    <a:pt x="38662" y="7144"/>
                    <a:pt x="32947" y="12859"/>
                    <a:pt x="32947" y="19526"/>
                  </a:cubicBezTo>
                  <a:lnTo>
                    <a:pt x="32947" y="42386"/>
                  </a:lnTo>
                  <a:cubicBezTo>
                    <a:pt x="32947" y="44291"/>
                    <a:pt x="32947" y="45244"/>
                    <a:pt x="31995" y="47149"/>
                  </a:cubicBezTo>
                  <a:lnTo>
                    <a:pt x="8182" y="106204"/>
                  </a:lnTo>
                  <a:cubicBezTo>
                    <a:pt x="6277" y="110014"/>
                    <a:pt x="7230" y="113824"/>
                    <a:pt x="9134" y="116681"/>
                  </a:cubicBezTo>
                  <a:lnTo>
                    <a:pt x="12945" y="123349"/>
                  </a:lnTo>
                  <a:cubicBezTo>
                    <a:pt x="16755" y="130016"/>
                    <a:pt x="26280" y="131921"/>
                    <a:pt x="31995" y="126206"/>
                  </a:cubicBezTo>
                  <a:lnTo>
                    <a:pt x="59617" y="99536"/>
                  </a:lnTo>
                  <a:cubicBezTo>
                    <a:pt x="67237" y="92869"/>
                    <a:pt x="78667" y="96679"/>
                    <a:pt x="80572" y="106204"/>
                  </a:cubicBezTo>
                  <a:lnTo>
                    <a:pt x="83430" y="124301"/>
                  </a:lnTo>
                  <a:cubicBezTo>
                    <a:pt x="83430" y="126206"/>
                    <a:pt x="83430" y="128111"/>
                    <a:pt x="83430" y="129064"/>
                  </a:cubicBezTo>
                  <a:lnTo>
                    <a:pt x="66284" y="196691"/>
                  </a:lnTo>
                  <a:cubicBezTo>
                    <a:pt x="65332" y="200501"/>
                    <a:pt x="63427" y="203359"/>
                    <a:pt x="59617" y="204311"/>
                  </a:cubicBezTo>
                  <a:lnTo>
                    <a:pt x="37709" y="215741"/>
                  </a:lnTo>
                  <a:cubicBezTo>
                    <a:pt x="29137" y="219551"/>
                    <a:pt x="29137" y="230981"/>
                    <a:pt x="35805" y="236696"/>
                  </a:cubicBezTo>
                  <a:cubicBezTo>
                    <a:pt x="39615" y="239554"/>
                    <a:pt x="45330" y="239554"/>
                    <a:pt x="49140" y="236696"/>
                  </a:cubicBezTo>
                  <a:lnTo>
                    <a:pt x="104384" y="202406"/>
                  </a:lnTo>
                  <a:cubicBezTo>
                    <a:pt x="108195" y="203359"/>
                    <a:pt x="109147" y="202406"/>
                    <a:pt x="110100" y="200501"/>
                  </a:cubicBez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29" name="任意多边形: 形状 91"/>
            <p:cNvSpPr/>
            <p:nvPr/>
          </p:nvSpPr>
          <p:spPr>
            <a:xfrm>
              <a:off x="4934520" y="2957760"/>
              <a:ext cx="1018080" cy="2675520"/>
            </a:xfrm>
            <a:custGeom>
              <a:avLst/>
              <a:gdLst>
                <a:gd name="textAreaLeft" fmla="*/ 0 w 1018080"/>
                <a:gd name="textAreaRight" fmla="*/ 1018440 w 1018080"/>
                <a:gd name="textAreaTop" fmla="*/ 0 h 2675520"/>
                <a:gd name="textAreaBottom" fmla="*/ 2675520 h 2675520"/>
              </a:gdLst>
              <a:ahLst/>
              <a:rect l="textAreaLeft" t="textAreaTop" r="textAreaRight" b="textAreaBottom"/>
              <a:pathLst>
                <a:path w="581025" h="1371600">
                  <a:moveTo>
                    <a:pt x="7144" y="1372076"/>
                  </a:moveTo>
                  <a:lnTo>
                    <a:pt x="175736" y="1372076"/>
                  </a:lnTo>
                  <a:lnTo>
                    <a:pt x="246221" y="241459"/>
                  </a:lnTo>
                  <a:lnTo>
                    <a:pt x="387191" y="1372076"/>
                  </a:lnTo>
                  <a:lnTo>
                    <a:pt x="574834" y="1372076"/>
                  </a:lnTo>
                  <a:lnTo>
                    <a:pt x="443389" y="7144"/>
                  </a:lnTo>
                  <a:lnTo>
                    <a:pt x="11906" y="7144"/>
                  </a:lnTo>
                  <a:lnTo>
                    <a:pt x="7144" y="1372076"/>
                  </a:lnTo>
                  <a:close/>
                </a:path>
              </a:pathLst>
            </a:custGeom>
            <a:solidFill>
              <a:srgbClr val="4a494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0" name="任意多边形: 形状 92"/>
            <p:cNvSpPr/>
            <p:nvPr/>
          </p:nvSpPr>
          <p:spPr>
            <a:xfrm>
              <a:off x="4942800" y="2957760"/>
              <a:ext cx="784440" cy="129960"/>
            </a:xfrm>
            <a:custGeom>
              <a:avLst/>
              <a:gdLst>
                <a:gd name="textAreaLeft" fmla="*/ 0 w 784440"/>
                <a:gd name="textAreaRight" fmla="*/ 784800 w 784440"/>
                <a:gd name="textAreaTop" fmla="*/ 0 h 129960"/>
                <a:gd name="textAreaBottom" fmla="*/ 130320 h 129960"/>
              </a:gdLst>
              <a:ahLst/>
              <a:rect l="textAreaLeft" t="textAreaTop" r="textAreaRight" b="textAreaBottom"/>
              <a:pathLst>
                <a:path w="447675" h="66675">
                  <a:moveTo>
                    <a:pt x="443389" y="64294"/>
                  </a:moveTo>
                  <a:lnTo>
                    <a:pt x="438626" y="7144"/>
                  </a:lnTo>
                  <a:lnTo>
                    <a:pt x="7144" y="7144"/>
                  </a:lnTo>
                  <a:lnTo>
                    <a:pt x="7144" y="64294"/>
                  </a:lnTo>
                  <a:lnTo>
                    <a:pt x="443389" y="64294"/>
                  </a:lnTo>
                  <a:close/>
                </a:path>
              </a:pathLst>
            </a:custGeom>
            <a:solidFill>
              <a:srgbClr val="2c2b2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1" name="任意多边形: 形状 93"/>
            <p:cNvSpPr/>
            <p:nvPr/>
          </p:nvSpPr>
          <p:spPr>
            <a:xfrm>
              <a:off x="4930560" y="5622480"/>
              <a:ext cx="333720" cy="259920"/>
            </a:xfrm>
            <a:custGeom>
              <a:avLst/>
              <a:gdLst>
                <a:gd name="textAreaLeft" fmla="*/ 0 w 333720"/>
                <a:gd name="textAreaRight" fmla="*/ 334080 w 333720"/>
                <a:gd name="textAreaTop" fmla="*/ 0 h 259920"/>
                <a:gd name="textAreaBottom" fmla="*/ 260280 h 259920"/>
              </a:gdLst>
              <a:ahLst/>
              <a:rect l="textAreaLeft" t="textAreaTop" r="textAreaRight" b="textAreaBottom"/>
              <a:pathLst>
                <a:path w="190500" h="133350">
                  <a:moveTo>
                    <a:pt x="46494" y="134779"/>
                  </a:moveTo>
                  <a:lnTo>
                    <a:pt x="154126" y="134779"/>
                  </a:lnTo>
                  <a:cubicBezTo>
                    <a:pt x="176986" y="134779"/>
                    <a:pt x="195084" y="115729"/>
                    <a:pt x="192226" y="92869"/>
                  </a:cubicBezTo>
                  <a:lnTo>
                    <a:pt x="188416" y="51911"/>
                  </a:lnTo>
                  <a:cubicBezTo>
                    <a:pt x="181749" y="25241"/>
                    <a:pt x="157936" y="7144"/>
                    <a:pt x="131266" y="7144"/>
                  </a:cubicBezTo>
                  <a:lnTo>
                    <a:pt x="70306" y="7144"/>
                  </a:lnTo>
                  <a:cubicBezTo>
                    <a:pt x="36969" y="7144"/>
                    <a:pt x="10299" y="34766"/>
                    <a:pt x="11251" y="68104"/>
                  </a:cubicBezTo>
                  <a:lnTo>
                    <a:pt x="7441" y="90011"/>
                  </a:lnTo>
                  <a:cubicBezTo>
                    <a:pt x="4584" y="112871"/>
                    <a:pt x="22681" y="134779"/>
                    <a:pt x="46494" y="134779"/>
                  </a:cubicBez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2" name="任意多边形: 形状 94"/>
            <p:cNvSpPr/>
            <p:nvPr/>
          </p:nvSpPr>
          <p:spPr>
            <a:xfrm>
              <a:off x="4973040" y="5650200"/>
              <a:ext cx="266760" cy="111240"/>
            </a:xfrm>
            <a:custGeom>
              <a:avLst/>
              <a:gdLst>
                <a:gd name="textAreaLeft" fmla="*/ 0 w 266760"/>
                <a:gd name="textAreaRight" fmla="*/ 267120 w 266760"/>
                <a:gd name="textAreaTop" fmla="*/ 0 h 111240"/>
                <a:gd name="textAreaBottom" fmla="*/ 111600 h 111240"/>
              </a:gdLst>
              <a:ahLst/>
              <a:rect l="textAreaLeft" t="textAreaTop" r="textAreaRight" b="textAreaBottom"/>
              <a:pathLst>
                <a:path w="152400" h="57150">
                  <a:moveTo>
                    <a:pt x="48101" y="37624"/>
                  </a:moveTo>
                  <a:lnTo>
                    <a:pt x="106204" y="37624"/>
                  </a:lnTo>
                  <a:cubicBezTo>
                    <a:pt x="121444" y="37624"/>
                    <a:pt x="135731" y="42386"/>
                    <a:pt x="145256" y="50959"/>
                  </a:cubicBezTo>
                  <a:lnTo>
                    <a:pt x="144304" y="41434"/>
                  </a:lnTo>
                  <a:cubicBezTo>
                    <a:pt x="139541" y="21431"/>
                    <a:pt x="121444" y="7144"/>
                    <a:pt x="100489" y="7144"/>
                  </a:cubicBezTo>
                  <a:lnTo>
                    <a:pt x="52864" y="7144"/>
                  </a:lnTo>
                  <a:cubicBezTo>
                    <a:pt x="28099" y="7144"/>
                    <a:pt x="8096" y="27146"/>
                    <a:pt x="7144" y="51911"/>
                  </a:cubicBezTo>
                  <a:cubicBezTo>
                    <a:pt x="17621" y="43339"/>
                    <a:pt x="31909" y="37624"/>
                    <a:pt x="48101" y="37624"/>
                  </a:cubicBezTo>
                  <a:close/>
                </a:path>
              </a:pathLst>
            </a:custGeom>
            <a:solidFill>
              <a:srgbClr val="54372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3" name="任意多边形: 形状 95"/>
            <p:cNvSpPr/>
            <p:nvPr/>
          </p:nvSpPr>
          <p:spPr>
            <a:xfrm>
              <a:off x="5658840" y="5616720"/>
              <a:ext cx="600840" cy="278640"/>
            </a:xfrm>
            <a:custGeom>
              <a:avLst/>
              <a:gdLst>
                <a:gd name="textAreaLeft" fmla="*/ 0 w 600840"/>
                <a:gd name="textAreaRight" fmla="*/ 601200 w 600840"/>
                <a:gd name="textAreaTop" fmla="*/ 0 h 278640"/>
                <a:gd name="textAreaBottom" fmla="*/ 279000 h 278640"/>
              </a:gdLst>
              <a:ahLst/>
              <a:rect l="textAreaLeft" t="textAreaTop" r="textAreaRight" b="textAreaBottom"/>
              <a:pathLst>
                <a:path w="342900" h="142875">
                  <a:moveTo>
                    <a:pt x="7144" y="9049"/>
                  </a:moveTo>
                  <a:lnTo>
                    <a:pt x="7144" y="136684"/>
                  </a:lnTo>
                  <a:lnTo>
                    <a:pt x="93821" y="136684"/>
                  </a:lnTo>
                  <a:lnTo>
                    <a:pt x="93821" y="96679"/>
                  </a:lnTo>
                  <a:lnTo>
                    <a:pt x="134779" y="120491"/>
                  </a:lnTo>
                  <a:cubicBezTo>
                    <a:pt x="151924" y="130969"/>
                    <a:pt x="171926" y="135731"/>
                    <a:pt x="191929" y="135731"/>
                  </a:cubicBezTo>
                  <a:lnTo>
                    <a:pt x="342424" y="135731"/>
                  </a:lnTo>
                  <a:lnTo>
                    <a:pt x="342424" y="131921"/>
                  </a:lnTo>
                  <a:cubicBezTo>
                    <a:pt x="332899" y="63341"/>
                    <a:pt x="270034" y="15716"/>
                    <a:pt x="201454" y="25241"/>
                  </a:cubicBezTo>
                  <a:lnTo>
                    <a:pt x="162401" y="7144"/>
                  </a:lnTo>
                  <a:lnTo>
                    <a:pt x="7144" y="7144"/>
                  </a:lnTo>
                  <a:lnTo>
                    <a:pt x="7144" y="9049"/>
                  </a:ln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4" name="任意多边形: 形状 96"/>
            <p:cNvSpPr/>
            <p:nvPr/>
          </p:nvSpPr>
          <p:spPr>
            <a:xfrm>
              <a:off x="4919400" y="1432080"/>
              <a:ext cx="383760" cy="1096200"/>
            </a:xfrm>
            <a:custGeom>
              <a:avLst/>
              <a:gdLst>
                <a:gd name="textAreaLeft" fmla="*/ 0 w 383760"/>
                <a:gd name="textAreaRight" fmla="*/ 384120 w 383760"/>
                <a:gd name="textAreaTop" fmla="*/ 0 h 1096200"/>
                <a:gd name="textAreaBottom" fmla="*/ 1096560 h 1096200"/>
              </a:gdLst>
              <a:ahLst/>
              <a:rect l="textAreaLeft" t="textAreaTop" r="textAreaRight" b="textAreaBottom"/>
              <a:pathLst>
                <a:path w="219075" h="561975">
                  <a:moveTo>
                    <a:pt x="33814" y="7144"/>
                  </a:moveTo>
                  <a:lnTo>
                    <a:pt x="216694" y="556736"/>
                  </a:lnTo>
                  <a:lnTo>
                    <a:pt x="58579" y="259556"/>
                  </a:lnTo>
                  <a:lnTo>
                    <a:pt x="71914" y="205264"/>
                  </a:lnTo>
                  <a:lnTo>
                    <a:pt x="34766" y="185261"/>
                  </a:lnTo>
                  <a:lnTo>
                    <a:pt x="7144" y="17621"/>
                  </a:lnTo>
                  <a:lnTo>
                    <a:pt x="33814" y="7144"/>
                  </a:lnTo>
                  <a:close/>
                </a:path>
              </a:pathLst>
            </a:custGeom>
            <a:solidFill>
              <a:srgbClr val="3c3a3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5" name="任意多边形: 形状 97"/>
            <p:cNvSpPr/>
            <p:nvPr/>
          </p:nvSpPr>
          <p:spPr>
            <a:xfrm>
              <a:off x="5299920" y="1407960"/>
              <a:ext cx="333720" cy="1114920"/>
            </a:xfrm>
            <a:custGeom>
              <a:avLst/>
              <a:gdLst>
                <a:gd name="textAreaLeft" fmla="*/ 0 w 333720"/>
                <a:gd name="textAreaRight" fmla="*/ 334080 w 333720"/>
                <a:gd name="textAreaTop" fmla="*/ 0 h 1114920"/>
                <a:gd name="textAreaBottom" fmla="*/ 1115280 h 1114920"/>
              </a:gdLst>
              <a:ahLst/>
              <a:rect l="textAreaLeft" t="textAreaTop" r="textAreaRight" b="textAreaBottom"/>
              <a:pathLst>
                <a:path w="190500" h="571500">
                  <a:moveTo>
                    <a:pt x="159544" y="7144"/>
                  </a:moveTo>
                  <a:lnTo>
                    <a:pt x="7144" y="569119"/>
                  </a:lnTo>
                  <a:lnTo>
                    <a:pt x="134779" y="259556"/>
                  </a:lnTo>
                  <a:lnTo>
                    <a:pt x="121444" y="205264"/>
                  </a:lnTo>
                  <a:lnTo>
                    <a:pt x="159544" y="185261"/>
                  </a:lnTo>
                  <a:lnTo>
                    <a:pt x="186214" y="17621"/>
                  </a:lnTo>
                  <a:lnTo>
                    <a:pt x="159544" y="7144"/>
                  </a:lnTo>
                  <a:close/>
                </a:path>
              </a:pathLst>
            </a:custGeom>
            <a:solidFill>
              <a:srgbClr val="2c2b2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6" name="任意多边形: 形状 98"/>
            <p:cNvSpPr/>
            <p:nvPr/>
          </p:nvSpPr>
          <p:spPr>
            <a:xfrm>
              <a:off x="8138160" y="1595880"/>
              <a:ext cx="968040" cy="1542240"/>
            </a:xfrm>
            <a:custGeom>
              <a:avLst/>
              <a:gdLst>
                <a:gd name="textAreaLeft" fmla="*/ 0 w 968040"/>
                <a:gd name="textAreaRight" fmla="*/ 968400 w 968040"/>
                <a:gd name="textAreaTop" fmla="*/ 0 h 1542240"/>
                <a:gd name="textAreaBottom" fmla="*/ 1542600 h 1542240"/>
              </a:gdLst>
              <a:ahLst/>
              <a:rect l="textAreaLeft" t="textAreaTop" r="textAreaRight" b="textAreaBottom"/>
              <a:pathLst>
                <a:path w="552450" h="790575">
                  <a:moveTo>
                    <a:pt x="546259" y="82391"/>
                  </a:moveTo>
                  <a:lnTo>
                    <a:pt x="356711" y="7144"/>
                  </a:lnTo>
                  <a:lnTo>
                    <a:pt x="226219" y="7144"/>
                  </a:lnTo>
                  <a:lnTo>
                    <a:pt x="7144" y="82391"/>
                  </a:lnTo>
                  <a:lnTo>
                    <a:pt x="69056" y="788194"/>
                  </a:lnTo>
                  <a:lnTo>
                    <a:pt x="474821" y="788194"/>
                  </a:lnTo>
                  <a:lnTo>
                    <a:pt x="546259" y="82391"/>
                  </a:lnTo>
                  <a:close/>
                </a:path>
              </a:pathLst>
            </a:custGeom>
            <a:solidFill>
              <a:srgbClr val="cad6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7" name="任意多边形: 形状 99"/>
            <p:cNvSpPr/>
            <p:nvPr/>
          </p:nvSpPr>
          <p:spPr>
            <a:xfrm>
              <a:off x="7855920" y="1744560"/>
              <a:ext cx="367200" cy="1616400"/>
            </a:xfrm>
            <a:custGeom>
              <a:avLst/>
              <a:gdLst>
                <a:gd name="textAreaLeft" fmla="*/ 0 w 367200"/>
                <a:gd name="textAreaRight" fmla="*/ 367560 w 367200"/>
                <a:gd name="textAreaTop" fmla="*/ 0 h 1616400"/>
                <a:gd name="textAreaBottom" fmla="*/ 1616760 h 1616400"/>
              </a:gdLst>
              <a:ahLst/>
              <a:rect l="textAreaLeft" t="textAreaTop" r="textAreaRight" b="textAreaBottom"/>
              <a:pathLst>
                <a:path w="209550" h="828675">
                  <a:moveTo>
                    <a:pt x="7144" y="823436"/>
                  </a:moveTo>
                  <a:lnTo>
                    <a:pt x="115729" y="823436"/>
                  </a:lnTo>
                  <a:lnTo>
                    <a:pt x="127159" y="742474"/>
                  </a:lnTo>
                  <a:lnTo>
                    <a:pt x="147161" y="602456"/>
                  </a:lnTo>
                  <a:cubicBezTo>
                    <a:pt x="148114" y="594836"/>
                    <a:pt x="150019" y="586264"/>
                    <a:pt x="152876" y="578644"/>
                  </a:cubicBezTo>
                  <a:lnTo>
                    <a:pt x="204311" y="415766"/>
                  </a:lnTo>
                  <a:lnTo>
                    <a:pt x="168116" y="7144"/>
                  </a:lnTo>
                  <a:lnTo>
                    <a:pt x="30956" y="464344"/>
                  </a:lnTo>
                  <a:cubicBezTo>
                    <a:pt x="27146" y="477679"/>
                    <a:pt x="25241" y="491966"/>
                    <a:pt x="25241" y="506254"/>
                  </a:cubicBezTo>
                  <a:lnTo>
                    <a:pt x="12859" y="743426"/>
                  </a:lnTo>
                  <a:lnTo>
                    <a:pt x="7144" y="823436"/>
                  </a:lnTo>
                  <a:close/>
                </a:path>
              </a:pathLst>
            </a:custGeom>
            <a:solidFill>
              <a:srgbClr val="b2b7b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8" name="任意多边形: 形状 100"/>
            <p:cNvSpPr/>
            <p:nvPr/>
          </p:nvSpPr>
          <p:spPr>
            <a:xfrm>
              <a:off x="9037800" y="1742400"/>
              <a:ext cx="617400" cy="1319040"/>
            </a:xfrm>
            <a:custGeom>
              <a:avLst/>
              <a:gdLst>
                <a:gd name="textAreaLeft" fmla="*/ 0 w 617400"/>
                <a:gd name="textAreaRight" fmla="*/ 617400 w 617400"/>
                <a:gd name="textAreaTop" fmla="*/ 0 h 1319040"/>
                <a:gd name="textAreaBottom" fmla="*/ 1319400 h 1319040"/>
              </a:gdLst>
              <a:ahLst/>
              <a:rect l="textAreaLeft" t="textAreaTop" r="textAreaRight" b="textAreaBottom"/>
              <a:pathLst>
                <a:path w="352425" h="676275">
                  <a:moveTo>
                    <a:pt x="32861" y="7144"/>
                  </a:moveTo>
                  <a:lnTo>
                    <a:pt x="7144" y="259556"/>
                  </a:lnTo>
                  <a:lnTo>
                    <a:pt x="163353" y="368141"/>
                  </a:lnTo>
                  <a:cubicBezTo>
                    <a:pt x="178594" y="378619"/>
                    <a:pt x="181451" y="400526"/>
                    <a:pt x="169069" y="414814"/>
                  </a:cubicBezTo>
                  <a:lnTo>
                    <a:pt x="7144" y="597694"/>
                  </a:lnTo>
                  <a:lnTo>
                    <a:pt x="99536" y="669131"/>
                  </a:lnTo>
                  <a:lnTo>
                    <a:pt x="338614" y="399574"/>
                  </a:lnTo>
                  <a:cubicBezTo>
                    <a:pt x="349091" y="388144"/>
                    <a:pt x="349091" y="370046"/>
                    <a:pt x="338614" y="358616"/>
                  </a:cubicBezTo>
                  <a:lnTo>
                    <a:pt x="32861" y="7144"/>
                  </a:lnTo>
                  <a:close/>
                </a:path>
              </a:pathLst>
            </a:custGeom>
            <a:solidFill>
              <a:srgbClr val="b2b7b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39" name="任意多边形: 形状 101"/>
            <p:cNvSpPr/>
            <p:nvPr/>
          </p:nvSpPr>
          <p:spPr>
            <a:xfrm>
              <a:off x="8521920" y="1395000"/>
              <a:ext cx="250200" cy="371520"/>
            </a:xfrm>
            <a:custGeom>
              <a:avLst/>
              <a:gdLst>
                <a:gd name="textAreaLeft" fmla="*/ 0 w 250200"/>
                <a:gd name="textAreaRight" fmla="*/ 250560 w 250200"/>
                <a:gd name="textAreaTop" fmla="*/ 0 h 371520"/>
                <a:gd name="textAreaBottom" fmla="*/ 371880 h 371520"/>
              </a:gdLst>
              <a:ahLst/>
              <a:rect l="textAreaLeft" t="textAreaTop" r="textAreaRight" b="textAreaBottom"/>
              <a:pathLst>
                <a:path w="142875" h="190500">
                  <a:moveTo>
                    <a:pt x="137636" y="7144"/>
                  </a:moveTo>
                  <a:lnTo>
                    <a:pt x="137636" y="83344"/>
                  </a:lnTo>
                  <a:cubicBezTo>
                    <a:pt x="137636" y="125254"/>
                    <a:pt x="110014" y="185261"/>
                    <a:pt x="73819" y="185261"/>
                  </a:cubicBezTo>
                  <a:cubicBezTo>
                    <a:pt x="37624" y="185261"/>
                    <a:pt x="7144" y="125254"/>
                    <a:pt x="7144" y="83344"/>
                  </a:cubicBezTo>
                  <a:lnTo>
                    <a:pt x="7144" y="7144"/>
                  </a:lnTo>
                  <a:lnTo>
                    <a:pt x="137636" y="7144"/>
                  </a:ln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40" name="任意多边形: 形状 102"/>
            <p:cNvSpPr/>
            <p:nvPr/>
          </p:nvSpPr>
          <p:spPr>
            <a:xfrm>
              <a:off x="8520480" y="1298520"/>
              <a:ext cx="250200" cy="315720"/>
            </a:xfrm>
            <a:custGeom>
              <a:avLst/>
              <a:gdLst>
                <a:gd name="textAreaLeft" fmla="*/ 0 w 250200"/>
                <a:gd name="textAreaRight" fmla="*/ 250560 w 250200"/>
                <a:gd name="textAreaTop" fmla="*/ 0 h 315720"/>
                <a:gd name="textAreaBottom" fmla="*/ 316080 h 315720"/>
              </a:gdLst>
              <a:ahLst/>
              <a:rect l="textAreaLeft" t="textAreaTop" r="textAreaRight" b="textAreaBottom"/>
              <a:pathLst>
                <a:path w="142875" h="161925">
                  <a:moveTo>
                    <a:pt x="138589" y="7144"/>
                  </a:moveTo>
                  <a:lnTo>
                    <a:pt x="138589" y="83344"/>
                  </a:lnTo>
                  <a:cubicBezTo>
                    <a:pt x="138589" y="125254"/>
                    <a:pt x="109061" y="159544"/>
                    <a:pt x="72866" y="159544"/>
                  </a:cubicBezTo>
                  <a:cubicBezTo>
                    <a:pt x="36671" y="159544"/>
                    <a:pt x="7144" y="125254"/>
                    <a:pt x="7144" y="83344"/>
                  </a:cubicBezTo>
                  <a:lnTo>
                    <a:pt x="7144" y="7144"/>
                  </a:lnTo>
                  <a:lnTo>
                    <a:pt x="138589" y="7144"/>
                  </a:ln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41" name="任意多边形: 形状 103"/>
            <p:cNvSpPr/>
            <p:nvPr/>
          </p:nvSpPr>
          <p:spPr>
            <a:xfrm>
              <a:off x="8867520" y="1049400"/>
              <a:ext cx="150120" cy="167040"/>
            </a:xfrm>
            <a:custGeom>
              <a:avLst/>
              <a:gdLst>
                <a:gd name="textAreaLeft" fmla="*/ 0 w 150120"/>
                <a:gd name="textAreaRight" fmla="*/ 150480 w 150120"/>
                <a:gd name="textAreaTop" fmla="*/ 0 h 167040"/>
                <a:gd name="textAreaBottom" fmla="*/ 167400 h 167040"/>
              </a:gdLst>
              <a:ahLst/>
              <a:rect l="textAreaLeft" t="textAreaTop" r="textAreaRight" b="textAreaBottom"/>
              <a:pathLst>
                <a:path w="85725" h="85725">
                  <a:moveTo>
                    <a:pt x="85249" y="46196"/>
                  </a:moveTo>
                  <a:cubicBezTo>
                    <a:pt x="85249" y="68104"/>
                    <a:pt x="68103" y="85249"/>
                    <a:pt x="46196" y="85249"/>
                  </a:cubicBezTo>
                  <a:cubicBezTo>
                    <a:pt x="24289" y="85249"/>
                    <a:pt x="7144" y="68104"/>
                    <a:pt x="7144" y="46196"/>
                  </a:cubicBezTo>
                  <a:cubicBezTo>
                    <a:pt x="7144" y="24289"/>
                    <a:pt x="24289" y="7144"/>
                    <a:pt x="46196" y="7144"/>
                  </a:cubicBezTo>
                  <a:cubicBezTo>
                    <a:pt x="67151" y="7144"/>
                    <a:pt x="85249" y="25241"/>
                    <a:pt x="85249" y="46196"/>
                  </a:cubicBezTo>
                  <a:close/>
                </a:path>
              </a:pathLst>
            </a:custGeom>
            <a:solidFill>
              <a:srgbClr val="f88f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42" name="任意多边形: 形状 104"/>
            <p:cNvSpPr/>
            <p:nvPr/>
          </p:nvSpPr>
          <p:spPr>
            <a:xfrm>
              <a:off x="8269920" y="1049400"/>
              <a:ext cx="150120" cy="167040"/>
            </a:xfrm>
            <a:custGeom>
              <a:avLst/>
              <a:gdLst>
                <a:gd name="textAreaLeft" fmla="*/ 0 w 150120"/>
                <a:gd name="textAreaRight" fmla="*/ 150480 w 150120"/>
                <a:gd name="textAreaTop" fmla="*/ 0 h 167040"/>
                <a:gd name="textAreaBottom" fmla="*/ 167400 h 167040"/>
              </a:gdLst>
              <a:ahLst/>
              <a:rect l="textAreaLeft" t="textAreaTop" r="textAreaRight" b="textAreaBottom"/>
              <a:pathLst>
                <a:path w="85725" h="85725">
                  <a:moveTo>
                    <a:pt x="85249" y="46196"/>
                  </a:moveTo>
                  <a:cubicBezTo>
                    <a:pt x="85249" y="68104"/>
                    <a:pt x="68104" y="85249"/>
                    <a:pt x="46196" y="85249"/>
                  </a:cubicBezTo>
                  <a:cubicBezTo>
                    <a:pt x="24289" y="85249"/>
                    <a:pt x="7144" y="68104"/>
                    <a:pt x="7144" y="46196"/>
                  </a:cubicBezTo>
                  <a:cubicBezTo>
                    <a:pt x="7144" y="24289"/>
                    <a:pt x="24289" y="7144"/>
                    <a:pt x="46196" y="7144"/>
                  </a:cubicBezTo>
                  <a:cubicBezTo>
                    <a:pt x="67151" y="7144"/>
                    <a:pt x="85249" y="25241"/>
                    <a:pt x="85249" y="46196"/>
                  </a:cubicBezTo>
                  <a:close/>
                </a:path>
              </a:pathLst>
            </a:custGeom>
            <a:solidFill>
              <a:srgbClr val="f88f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43" name="任意多边形: 形状 105"/>
            <p:cNvSpPr/>
            <p:nvPr/>
          </p:nvSpPr>
          <p:spPr>
            <a:xfrm>
              <a:off x="8338320" y="793080"/>
              <a:ext cx="617400" cy="724680"/>
            </a:xfrm>
            <a:custGeom>
              <a:avLst/>
              <a:gdLst>
                <a:gd name="textAreaLeft" fmla="*/ 0 w 617400"/>
                <a:gd name="textAreaRight" fmla="*/ 617400 w 617400"/>
                <a:gd name="textAreaTop" fmla="*/ 0 h 724680"/>
                <a:gd name="textAreaBottom" fmla="*/ 725040 h 724680"/>
              </a:gdLst>
              <a:ahLst/>
              <a:rect l="textAreaLeft" t="textAreaTop" r="textAreaRight" b="textAreaBottom"/>
              <a:pathLst>
                <a:path w="352425" h="371475">
                  <a:moveTo>
                    <a:pt x="7144" y="77629"/>
                  </a:moveTo>
                  <a:lnTo>
                    <a:pt x="7144" y="197644"/>
                  </a:lnTo>
                  <a:cubicBezTo>
                    <a:pt x="7144" y="205264"/>
                    <a:pt x="8096" y="213836"/>
                    <a:pt x="9049" y="221456"/>
                  </a:cubicBezTo>
                  <a:cubicBezTo>
                    <a:pt x="9049" y="224314"/>
                    <a:pt x="10001" y="228124"/>
                    <a:pt x="10954" y="230981"/>
                  </a:cubicBezTo>
                  <a:cubicBezTo>
                    <a:pt x="21431" y="282416"/>
                    <a:pt x="54769" y="326231"/>
                    <a:pt x="100489" y="349091"/>
                  </a:cubicBezTo>
                  <a:cubicBezTo>
                    <a:pt x="105251" y="351949"/>
                    <a:pt x="110014" y="353854"/>
                    <a:pt x="114776" y="355759"/>
                  </a:cubicBezTo>
                  <a:cubicBezTo>
                    <a:pt x="133826" y="363379"/>
                    <a:pt x="155734" y="368141"/>
                    <a:pt x="177641" y="368141"/>
                  </a:cubicBezTo>
                  <a:cubicBezTo>
                    <a:pt x="202406" y="368141"/>
                    <a:pt x="225266" y="363379"/>
                    <a:pt x="246221" y="353854"/>
                  </a:cubicBezTo>
                  <a:cubicBezTo>
                    <a:pt x="250031" y="351949"/>
                    <a:pt x="254794" y="350044"/>
                    <a:pt x="258604" y="348139"/>
                  </a:cubicBezTo>
                  <a:cubicBezTo>
                    <a:pt x="302419" y="324326"/>
                    <a:pt x="334804" y="282416"/>
                    <a:pt x="345281" y="230981"/>
                  </a:cubicBezTo>
                  <a:cubicBezTo>
                    <a:pt x="346234" y="228124"/>
                    <a:pt x="346234" y="225266"/>
                    <a:pt x="347186" y="222409"/>
                  </a:cubicBezTo>
                  <a:cubicBezTo>
                    <a:pt x="348139" y="214789"/>
                    <a:pt x="349091" y="206216"/>
                    <a:pt x="349091" y="197644"/>
                  </a:cubicBezTo>
                  <a:lnTo>
                    <a:pt x="349091" y="98584"/>
                  </a:lnTo>
                  <a:cubicBezTo>
                    <a:pt x="349091" y="48101"/>
                    <a:pt x="308134" y="7144"/>
                    <a:pt x="257651" y="7144"/>
                  </a:cubicBezTo>
                  <a:lnTo>
                    <a:pt x="78581" y="7144"/>
                  </a:lnTo>
                  <a:cubicBezTo>
                    <a:pt x="38576" y="8096"/>
                    <a:pt x="7144" y="38576"/>
                    <a:pt x="7144" y="77629"/>
                  </a:cubicBez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44" name="任意多边形: 形状 106"/>
            <p:cNvSpPr/>
            <p:nvPr/>
          </p:nvSpPr>
          <p:spPr>
            <a:xfrm>
              <a:off x="8573760" y="1290960"/>
              <a:ext cx="150120" cy="92880"/>
            </a:xfrm>
            <a:custGeom>
              <a:avLst/>
              <a:gdLst>
                <a:gd name="textAreaLeft" fmla="*/ 0 w 150120"/>
                <a:gd name="textAreaRight" fmla="*/ 150480 w 150120"/>
                <a:gd name="textAreaTop" fmla="*/ 0 h 92880"/>
                <a:gd name="textAreaBottom" fmla="*/ 93240 h 92880"/>
              </a:gdLst>
              <a:ahLst/>
              <a:rect l="textAreaLeft" t="textAreaTop" r="textAreaRight" b="textAreaBottom"/>
              <a:pathLst>
                <a:path w="85725" h="47625">
                  <a:moveTo>
                    <a:pt x="45244" y="45244"/>
                  </a:moveTo>
                  <a:cubicBezTo>
                    <a:pt x="24289" y="45244"/>
                    <a:pt x="7144" y="28099"/>
                    <a:pt x="7144" y="7144"/>
                  </a:cubicBezTo>
                  <a:lnTo>
                    <a:pt x="82391" y="7144"/>
                  </a:lnTo>
                  <a:cubicBezTo>
                    <a:pt x="82391" y="28099"/>
                    <a:pt x="66199" y="45244"/>
                    <a:pt x="45244" y="45244"/>
                  </a:cubicBezTo>
                  <a:close/>
                </a:path>
              </a:pathLst>
            </a:custGeom>
            <a:solidFill>
              <a:srgbClr val="a2323e"/>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Arial"/>
              </a:endParaRPr>
            </a:p>
          </p:txBody>
        </p:sp>
        <p:sp>
          <p:nvSpPr>
            <p:cNvPr id="345" name="任意多边形: 形状 107"/>
            <p:cNvSpPr/>
            <p:nvPr/>
          </p:nvSpPr>
          <p:spPr>
            <a:xfrm>
              <a:off x="8338320" y="604440"/>
              <a:ext cx="617400" cy="613080"/>
            </a:xfrm>
            <a:custGeom>
              <a:avLst/>
              <a:gdLst>
                <a:gd name="textAreaLeft" fmla="*/ 0 w 617400"/>
                <a:gd name="textAreaRight" fmla="*/ 617400 w 617400"/>
                <a:gd name="textAreaTop" fmla="*/ 0 h 613080"/>
                <a:gd name="textAreaBottom" fmla="*/ 613440 h 613080"/>
              </a:gdLst>
              <a:ahLst/>
              <a:rect l="textAreaLeft" t="textAreaTop" r="textAreaRight" b="textAreaBottom"/>
              <a:pathLst>
                <a:path w="352425" h="314325">
                  <a:moveTo>
                    <a:pt x="7144" y="178967"/>
                  </a:moveTo>
                  <a:lnTo>
                    <a:pt x="7144" y="311365"/>
                  </a:lnTo>
                  <a:cubicBezTo>
                    <a:pt x="24289" y="311365"/>
                    <a:pt x="37624" y="298030"/>
                    <a:pt x="37624" y="280885"/>
                  </a:cubicBezTo>
                  <a:lnTo>
                    <a:pt x="37624" y="172300"/>
                  </a:lnTo>
                  <a:cubicBezTo>
                    <a:pt x="37624" y="148487"/>
                    <a:pt x="56674" y="128485"/>
                    <a:pt x="81439" y="128485"/>
                  </a:cubicBezTo>
                  <a:lnTo>
                    <a:pt x="271939" y="128485"/>
                  </a:lnTo>
                  <a:cubicBezTo>
                    <a:pt x="295751" y="128485"/>
                    <a:pt x="315754" y="147535"/>
                    <a:pt x="315754" y="172300"/>
                  </a:cubicBezTo>
                  <a:lnTo>
                    <a:pt x="315754" y="278027"/>
                  </a:lnTo>
                  <a:cubicBezTo>
                    <a:pt x="315754" y="287552"/>
                    <a:pt x="319564" y="295172"/>
                    <a:pt x="325279" y="300887"/>
                  </a:cubicBezTo>
                  <a:cubicBezTo>
                    <a:pt x="330994" y="306602"/>
                    <a:pt x="339566" y="310412"/>
                    <a:pt x="348139" y="310412"/>
                  </a:cubicBezTo>
                  <a:lnTo>
                    <a:pt x="348139" y="90385"/>
                  </a:lnTo>
                  <a:cubicBezTo>
                    <a:pt x="348139" y="5612"/>
                    <a:pt x="294799" y="2755"/>
                    <a:pt x="205264" y="9422"/>
                  </a:cubicBezTo>
                  <a:cubicBezTo>
                    <a:pt x="196691" y="10375"/>
                    <a:pt x="187166" y="7517"/>
                    <a:pt x="177641" y="7517"/>
                  </a:cubicBezTo>
                  <a:cubicBezTo>
                    <a:pt x="168116" y="7517"/>
                    <a:pt x="159544" y="8470"/>
                    <a:pt x="150019" y="9422"/>
                  </a:cubicBezTo>
                  <a:cubicBezTo>
                    <a:pt x="69056" y="23710"/>
                    <a:pt x="7144" y="94195"/>
                    <a:pt x="7144" y="178967"/>
                  </a:cubicBezTo>
                  <a:close/>
                </a:path>
              </a:pathLst>
            </a:custGeom>
            <a:solidFill>
              <a:srgbClr val="a4826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46" name="任意多边形: 形状 108"/>
            <p:cNvSpPr/>
            <p:nvPr/>
          </p:nvSpPr>
          <p:spPr>
            <a:xfrm>
              <a:off x="8550360" y="1025280"/>
              <a:ext cx="183600" cy="241560"/>
            </a:xfrm>
            <a:custGeom>
              <a:avLst/>
              <a:gdLst>
                <a:gd name="textAreaLeft" fmla="*/ 0 w 183600"/>
                <a:gd name="textAreaRight" fmla="*/ 183960 w 183600"/>
                <a:gd name="textAreaTop" fmla="*/ 0 h 241560"/>
                <a:gd name="textAreaBottom" fmla="*/ 241920 h 241560"/>
              </a:gdLst>
              <a:ahLst/>
              <a:rect l="textAreaLeft" t="textAreaTop" r="textAreaRight" b="textAreaBottom"/>
              <a:pathLst>
                <a:path w="104775" h="123825">
                  <a:moveTo>
                    <a:pt x="25241" y="69129"/>
                  </a:moveTo>
                  <a:lnTo>
                    <a:pt x="37624" y="69129"/>
                  </a:lnTo>
                  <a:lnTo>
                    <a:pt x="37624" y="26266"/>
                  </a:lnTo>
                  <a:cubicBezTo>
                    <a:pt x="37624" y="16741"/>
                    <a:pt x="44291" y="8169"/>
                    <a:pt x="53816" y="7216"/>
                  </a:cubicBezTo>
                  <a:cubicBezTo>
                    <a:pt x="64294" y="6264"/>
                    <a:pt x="73819" y="14836"/>
                    <a:pt x="73819" y="25314"/>
                  </a:cubicBezTo>
                  <a:lnTo>
                    <a:pt x="73819" y="69129"/>
                  </a:lnTo>
                  <a:lnTo>
                    <a:pt x="86201" y="69129"/>
                  </a:lnTo>
                  <a:cubicBezTo>
                    <a:pt x="95726" y="69129"/>
                    <a:pt x="104299" y="77701"/>
                    <a:pt x="104299" y="87226"/>
                  </a:cubicBezTo>
                  <a:lnTo>
                    <a:pt x="104299" y="90084"/>
                  </a:lnTo>
                  <a:cubicBezTo>
                    <a:pt x="104299" y="99609"/>
                    <a:pt x="95726" y="108181"/>
                    <a:pt x="86201" y="108181"/>
                  </a:cubicBezTo>
                  <a:cubicBezTo>
                    <a:pt x="79534" y="108181"/>
                    <a:pt x="72866" y="111039"/>
                    <a:pt x="69056" y="115801"/>
                  </a:cubicBezTo>
                  <a:cubicBezTo>
                    <a:pt x="66199" y="119611"/>
                    <a:pt x="60484" y="122469"/>
                    <a:pt x="55721" y="122469"/>
                  </a:cubicBezTo>
                  <a:cubicBezTo>
                    <a:pt x="50959" y="122469"/>
                    <a:pt x="45244" y="119611"/>
                    <a:pt x="42386" y="115801"/>
                  </a:cubicBezTo>
                  <a:cubicBezTo>
                    <a:pt x="38576" y="111039"/>
                    <a:pt x="31909" y="108181"/>
                    <a:pt x="25241" y="108181"/>
                  </a:cubicBezTo>
                  <a:cubicBezTo>
                    <a:pt x="15716" y="108181"/>
                    <a:pt x="7144" y="99609"/>
                    <a:pt x="7144" y="90084"/>
                  </a:cubicBezTo>
                  <a:lnTo>
                    <a:pt x="7144" y="87226"/>
                  </a:lnTo>
                  <a:cubicBezTo>
                    <a:pt x="7144" y="76749"/>
                    <a:pt x="15716" y="69129"/>
                    <a:pt x="25241" y="69129"/>
                  </a:cubicBez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47" name="任意多边形: 形状 109"/>
            <p:cNvSpPr/>
            <p:nvPr/>
          </p:nvSpPr>
          <p:spPr>
            <a:xfrm>
              <a:off x="8750520" y="105300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27912" y="22384"/>
                  </a:moveTo>
                  <a:cubicBezTo>
                    <a:pt x="-27912" y="30800"/>
                    <a:pt x="30801" y="-27912"/>
                    <a:pt x="22384" y="-27912"/>
                  </a:cubicBezTo>
                  <a:cubicBezTo>
                    <a:pt x="13967" y="-27912"/>
                    <a:pt x="7144" y="30801"/>
                    <a:pt x="7144" y="22384"/>
                  </a:cubicBezTo>
                  <a:cubicBezTo>
                    <a:pt x="7144" y="13967"/>
                    <a:pt x="13968" y="7144"/>
                    <a:pt x="22384" y="7144"/>
                  </a:cubicBezTo>
                  <a:cubicBezTo>
                    <a:pt x="30801" y="7144"/>
                    <a:pt x="-27912" y="13967"/>
                    <a:pt x="-27912" y="22384"/>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48" name="任意多边形: 形状 110"/>
            <p:cNvSpPr/>
            <p:nvPr/>
          </p:nvSpPr>
          <p:spPr>
            <a:xfrm>
              <a:off x="8468640" y="105300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27912" y="22384"/>
                  </a:moveTo>
                  <a:cubicBezTo>
                    <a:pt x="-27912" y="30800"/>
                    <a:pt x="30801" y="-27912"/>
                    <a:pt x="22384" y="-27912"/>
                  </a:cubicBezTo>
                  <a:cubicBezTo>
                    <a:pt x="13967" y="-27912"/>
                    <a:pt x="7144" y="30801"/>
                    <a:pt x="7144" y="22384"/>
                  </a:cubicBezTo>
                  <a:cubicBezTo>
                    <a:pt x="7144" y="13967"/>
                    <a:pt x="13967" y="7144"/>
                    <a:pt x="22384" y="7144"/>
                  </a:cubicBezTo>
                  <a:cubicBezTo>
                    <a:pt x="30801" y="7144"/>
                    <a:pt x="-27912" y="13967"/>
                    <a:pt x="-27912" y="22384"/>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49" name="任意多边形: 形状 111"/>
            <p:cNvSpPr/>
            <p:nvPr/>
          </p:nvSpPr>
          <p:spPr>
            <a:xfrm>
              <a:off x="8618760" y="1170360"/>
              <a:ext cx="50040" cy="55440"/>
            </a:xfrm>
            <a:custGeom>
              <a:avLst/>
              <a:gdLst>
                <a:gd name="textAreaLeft" fmla="*/ 0 w 50040"/>
                <a:gd name="textAreaRight" fmla="*/ 50400 w 50040"/>
                <a:gd name="textAreaTop" fmla="*/ 0 h 55440"/>
                <a:gd name="textAreaBottom" fmla="*/ 55800 h 55440"/>
              </a:gdLst>
              <a:ahLst/>
              <a:rect l="textAreaLeft" t="textAreaTop" r="textAreaRight" b="textAreaBottom"/>
              <a:pathLst>
                <a:path w="28575" h="28575">
                  <a:moveTo>
                    <a:pt x="7144" y="17621"/>
                  </a:moveTo>
                  <a:cubicBezTo>
                    <a:pt x="7144" y="23336"/>
                    <a:pt x="11906" y="28099"/>
                    <a:pt x="17622" y="28099"/>
                  </a:cubicBezTo>
                  <a:cubicBezTo>
                    <a:pt x="23336" y="28099"/>
                    <a:pt x="28099" y="23336"/>
                    <a:pt x="28099" y="17621"/>
                  </a:cubicBezTo>
                  <a:cubicBezTo>
                    <a:pt x="28099" y="11906"/>
                    <a:pt x="23336" y="7144"/>
                    <a:pt x="17622" y="7144"/>
                  </a:cubicBezTo>
                  <a:cubicBezTo>
                    <a:pt x="10954" y="7144"/>
                    <a:pt x="7144" y="11906"/>
                    <a:pt x="7144" y="17621"/>
                  </a:cubicBezTo>
                  <a:close/>
                </a:path>
              </a:pathLst>
            </a:custGeom>
            <a:solidFill>
              <a:srgbClr val="ffc49c"/>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Arial"/>
              </a:endParaRPr>
            </a:p>
          </p:txBody>
        </p:sp>
        <p:sp>
          <p:nvSpPr>
            <p:cNvPr id="350" name="任意多边形: 形状 112"/>
            <p:cNvSpPr/>
            <p:nvPr/>
          </p:nvSpPr>
          <p:spPr>
            <a:xfrm>
              <a:off x="8510400" y="1774080"/>
              <a:ext cx="216720" cy="1356480"/>
            </a:xfrm>
            <a:custGeom>
              <a:avLst/>
              <a:gdLst>
                <a:gd name="textAreaLeft" fmla="*/ 0 w 216720"/>
                <a:gd name="textAreaRight" fmla="*/ 217080 w 216720"/>
                <a:gd name="textAreaTop" fmla="*/ 0 h 1356480"/>
                <a:gd name="textAreaBottom" fmla="*/ 1356840 h 1356480"/>
              </a:gdLst>
              <a:ahLst/>
              <a:rect l="textAreaLeft" t="textAreaTop" r="textAreaRight" b="textAreaBottom"/>
              <a:pathLst>
                <a:path w="123825" h="695325">
                  <a:moveTo>
                    <a:pt x="7144" y="575786"/>
                  </a:moveTo>
                  <a:lnTo>
                    <a:pt x="67151" y="688181"/>
                  </a:lnTo>
                  <a:lnTo>
                    <a:pt x="115729" y="571976"/>
                  </a:lnTo>
                  <a:lnTo>
                    <a:pt x="91916" y="88106"/>
                  </a:lnTo>
                  <a:lnTo>
                    <a:pt x="116681" y="44291"/>
                  </a:lnTo>
                  <a:lnTo>
                    <a:pt x="78581" y="7144"/>
                  </a:lnTo>
                  <a:lnTo>
                    <a:pt x="43339" y="44291"/>
                  </a:lnTo>
                  <a:lnTo>
                    <a:pt x="64294" y="84296"/>
                  </a:lnTo>
                  <a:lnTo>
                    <a:pt x="7144" y="575786"/>
                  </a:lnTo>
                  <a:close/>
                </a:path>
              </a:pathLst>
            </a:custGeom>
            <a:solidFill>
              <a:srgbClr val="f5463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51" name="任意多边形: 形状 113"/>
            <p:cNvSpPr/>
            <p:nvPr/>
          </p:nvSpPr>
          <p:spPr>
            <a:xfrm>
              <a:off x="8716680" y="925200"/>
              <a:ext cx="150120" cy="55440"/>
            </a:xfrm>
            <a:custGeom>
              <a:avLst/>
              <a:gdLst>
                <a:gd name="textAreaLeft" fmla="*/ 0 w 150120"/>
                <a:gd name="textAreaRight" fmla="*/ 150480 w 150120"/>
                <a:gd name="textAreaTop" fmla="*/ 0 h 55440"/>
                <a:gd name="textAreaBottom" fmla="*/ 55800 h 55440"/>
              </a:gdLst>
              <a:ahLst/>
              <a:rect l="textAreaLeft" t="textAreaTop" r="textAreaRight" b="textAreaBottom"/>
              <a:pathLst>
                <a:path w="85725" h="28575">
                  <a:moveTo>
                    <a:pt x="19916" y="27861"/>
                  </a:moveTo>
                  <a:cubicBezTo>
                    <a:pt x="33252" y="18336"/>
                    <a:pt x="51349" y="18336"/>
                    <a:pt x="65636" y="27861"/>
                  </a:cubicBezTo>
                  <a:cubicBezTo>
                    <a:pt x="69446" y="29766"/>
                    <a:pt x="74209" y="30718"/>
                    <a:pt x="77066" y="27861"/>
                  </a:cubicBezTo>
                  <a:cubicBezTo>
                    <a:pt x="79924" y="25003"/>
                    <a:pt x="78971" y="19288"/>
                    <a:pt x="73256" y="16431"/>
                  </a:cubicBezTo>
                  <a:cubicBezTo>
                    <a:pt x="55159" y="4048"/>
                    <a:pt x="30394" y="4048"/>
                    <a:pt x="12296" y="16431"/>
                  </a:cubicBezTo>
                  <a:cubicBezTo>
                    <a:pt x="7534" y="20241"/>
                    <a:pt x="5629" y="25956"/>
                    <a:pt x="8486" y="27861"/>
                  </a:cubicBezTo>
                  <a:cubicBezTo>
                    <a:pt x="12296" y="30718"/>
                    <a:pt x="17059" y="29766"/>
                    <a:pt x="19916" y="27861"/>
                  </a:cubicBezTo>
                  <a:close/>
                </a:path>
              </a:pathLst>
            </a:custGeom>
            <a:solidFill>
              <a:srgbClr val="3e2e21"/>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Arial"/>
              </a:endParaRPr>
            </a:p>
          </p:txBody>
        </p:sp>
        <p:sp>
          <p:nvSpPr>
            <p:cNvPr id="352" name="任意多边形: 形状 114"/>
            <p:cNvSpPr/>
            <p:nvPr/>
          </p:nvSpPr>
          <p:spPr>
            <a:xfrm>
              <a:off x="8432640" y="969840"/>
              <a:ext cx="150120" cy="55440"/>
            </a:xfrm>
            <a:custGeom>
              <a:avLst/>
              <a:gdLst>
                <a:gd name="textAreaLeft" fmla="*/ 0 w 150120"/>
                <a:gd name="textAreaRight" fmla="*/ 150480 w 150120"/>
                <a:gd name="textAreaTop" fmla="*/ 0 h 55440"/>
                <a:gd name="textAreaBottom" fmla="*/ 55800 h 55440"/>
              </a:gdLst>
              <a:ahLst/>
              <a:rect l="textAreaLeft" t="textAreaTop" r="textAreaRight" b="textAreaBottom"/>
              <a:pathLst>
                <a:path w="85725" h="28575">
                  <a:moveTo>
                    <a:pt x="19916" y="27861"/>
                  </a:moveTo>
                  <a:cubicBezTo>
                    <a:pt x="33251" y="18336"/>
                    <a:pt x="51349" y="18336"/>
                    <a:pt x="65636" y="27861"/>
                  </a:cubicBezTo>
                  <a:cubicBezTo>
                    <a:pt x="69446" y="29766"/>
                    <a:pt x="74209" y="30718"/>
                    <a:pt x="77066" y="27861"/>
                  </a:cubicBezTo>
                  <a:cubicBezTo>
                    <a:pt x="79924" y="25003"/>
                    <a:pt x="78971" y="19288"/>
                    <a:pt x="73256" y="16431"/>
                  </a:cubicBezTo>
                  <a:cubicBezTo>
                    <a:pt x="55159" y="4048"/>
                    <a:pt x="30394" y="4048"/>
                    <a:pt x="12296" y="16431"/>
                  </a:cubicBezTo>
                  <a:cubicBezTo>
                    <a:pt x="7534" y="19288"/>
                    <a:pt x="5629" y="25956"/>
                    <a:pt x="8486" y="27861"/>
                  </a:cubicBezTo>
                  <a:cubicBezTo>
                    <a:pt x="12296" y="30718"/>
                    <a:pt x="17059" y="29766"/>
                    <a:pt x="19916" y="27861"/>
                  </a:cubicBezTo>
                  <a:close/>
                </a:path>
              </a:pathLst>
            </a:custGeom>
            <a:solidFill>
              <a:srgbClr val="3e2e21"/>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Arial"/>
              </a:endParaRPr>
            </a:p>
          </p:txBody>
        </p:sp>
        <p:sp>
          <p:nvSpPr>
            <p:cNvPr id="353" name="任意多边形: 形状 115"/>
            <p:cNvSpPr/>
            <p:nvPr/>
          </p:nvSpPr>
          <p:spPr>
            <a:xfrm>
              <a:off x="8967600" y="2892600"/>
              <a:ext cx="250200" cy="241560"/>
            </a:xfrm>
            <a:custGeom>
              <a:avLst/>
              <a:gdLst>
                <a:gd name="textAreaLeft" fmla="*/ 0 w 250200"/>
                <a:gd name="textAreaRight" fmla="*/ 250560 w 250200"/>
                <a:gd name="textAreaTop" fmla="*/ 0 h 241560"/>
                <a:gd name="textAreaBottom" fmla="*/ 241920 h 241560"/>
              </a:gdLst>
              <a:ahLst/>
              <a:rect l="textAreaLeft" t="textAreaTop" r="textAreaRight" b="textAreaBottom"/>
              <a:pathLst>
                <a:path w="142875" h="123825">
                  <a:moveTo>
                    <a:pt x="48101" y="7144"/>
                  </a:moveTo>
                  <a:lnTo>
                    <a:pt x="7144" y="63341"/>
                  </a:lnTo>
                  <a:lnTo>
                    <a:pt x="90964" y="123349"/>
                  </a:lnTo>
                  <a:lnTo>
                    <a:pt x="140494" y="79534"/>
                  </a:lnTo>
                  <a:lnTo>
                    <a:pt x="48101" y="7144"/>
                  </a:ln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54" name="任意多边形: 形状 116"/>
            <p:cNvSpPr/>
            <p:nvPr/>
          </p:nvSpPr>
          <p:spPr>
            <a:xfrm>
              <a:off x="8956800" y="3004200"/>
              <a:ext cx="183600" cy="371520"/>
            </a:xfrm>
            <a:custGeom>
              <a:avLst/>
              <a:gdLst>
                <a:gd name="textAreaLeft" fmla="*/ 0 w 183600"/>
                <a:gd name="textAreaRight" fmla="*/ 183960 w 183600"/>
                <a:gd name="textAreaTop" fmla="*/ 0 h 371520"/>
                <a:gd name="textAreaBottom" fmla="*/ 371880 h 371520"/>
              </a:gdLst>
              <a:ahLst/>
              <a:rect l="textAreaLeft" t="textAreaTop" r="textAreaRight" b="textAreaBottom"/>
              <a:pathLst>
                <a:path w="104775" h="190500">
                  <a:moveTo>
                    <a:pt x="97102" y="66199"/>
                  </a:moveTo>
                  <a:lnTo>
                    <a:pt x="13282" y="7144"/>
                  </a:lnTo>
                  <a:lnTo>
                    <a:pt x="7567" y="60484"/>
                  </a:lnTo>
                  <a:cubicBezTo>
                    <a:pt x="7567" y="64294"/>
                    <a:pt x="6615" y="69056"/>
                    <a:pt x="7567" y="72866"/>
                  </a:cubicBezTo>
                  <a:lnTo>
                    <a:pt x="12329" y="156686"/>
                  </a:lnTo>
                  <a:cubicBezTo>
                    <a:pt x="13282" y="169069"/>
                    <a:pt x="22807" y="179546"/>
                    <a:pt x="35190" y="181451"/>
                  </a:cubicBezTo>
                  <a:lnTo>
                    <a:pt x="66622" y="186214"/>
                  </a:lnTo>
                  <a:cubicBezTo>
                    <a:pt x="82815" y="189071"/>
                    <a:pt x="98054" y="176689"/>
                    <a:pt x="98054" y="159544"/>
                  </a:cubicBezTo>
                  <a:lnTo>
                    <a:pt x="98054" y="134779"/>
                  </a:lnTo>
                  <a:lnTo>
                    <a:pt x="98054" y="66199"/>
                  </a:lnTo>
                  <a:lnTo>
                    <a:pt x="97102" y="66199"/>
                  </a:ln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55" name="任意多边形: 形状 117"/>
            <p:cNvSpPr/>
            <p:nvPr/>
          </p:nvSpPr>
          <p:spPr>
            <a:xfrm>
              <a:off x="7855920" y="3178800"/>
              <a:ext cx="233640" cy="185760"/>
            </a:xfrm>
            <a:custGeom>
              <a:avLst/>
              <a:gdLst>
                <a:gd name="textAreaLeft" fmla="*/ 0 w 233640"/>
                <a:gd name="textAreaRight" fmla="*/ 234000 w 233640"/>
                <a:gd name="textAreaTop" fmla="*/ 0 h 185760"/>
                <a:gd name="textAreaBottom" fmla="*/ 186120 h 185760"/>
              </a:gdLst>
              <a:ahLst/>
              <a:rect l="textAreaLeft" t="textAreaTop" r="textAreaRight" b="textAreaBottom"/>
              <a:pathLst>
                <a:path w="133350" h="95250">
                  <a:moveTo>
                    <a:pt x="7144" y="88106"/>
                  </a:moveTo>
                  <a:lnTo>
                    <a:pt x="116681" y="88106"/>
                  </a:lnTo>
                  <a:lnTo>
                    <a:pt x="128111" y="7144"/>
                  </a:lnTo>
                  <a:lnTo>
                    <a:pt x="11906" y="7144"/>
                  </a:lnTo>
                  <a:lnTo>
                    <a:pt x="7144" y="88106"/>
                  </a:ln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56" name="任意多边形: 形状 118"/>
            <p:cNvSpPr/>
            <p:nvPr/>
          </p:nvSpPr>
          <p:spPr>
            <a:xfrm>
              <a:off x="7855920" y="3336840"/>
              <a:ext cx="250200" cy="445680"/>
            </a:xfrm>
            <a:custGeom>
              <a:avLst/>
              <a:gdLst>
                <a:gd name="textAreaLeft" fmla="*/ 0 w 250200"/>
                <a:gd name="textAreaRight" fmla="*/ 250560 w 250200"/>
                <a:gd name="textAreaTop" fmla="*/ 0 h 445680"/>
                <a:gd name="textAreaBottom" fmla="*/ 446040 h 445680"/>
              </a:gdLst>
              <a:ahLst/>
              <a:rect l="textAreaLeft" t="textAreaTop" r="textAreaRight" b="textAreaBottom"/>
              <a:pathLst>
                <a:path w="142875" h="228600">
                  <a:moveTo>
                    <a:pt x="43339" y="190024"/>
                  </a:moveTo>
                  <a:lnTo>
                    <a:pt x="9049" y="138589"/>
                  </a:lnTo>
                  <a:cubicBezTo>
                    <a:pt x="8096" y="136684"/>
                    <a:pt x="7144" y="134779"/>
                    <a:pt x="7144" y="131921"/>
                  </a:cubicBezTo>
                  <a:lnTo>
                    <a:pt x="7144" y="18574"/>
                  </a:lnTo>
                  <a:cubicBezTo>
                    <a:pt x="7144" y="11906"/>
                    <a:pt x="11906" y="7144"/>
                    <a:pt x="18574" y="7144"/>
                  </a:cubicBezTo>
                  <a:lnTo>
                    <a:pt x="104299" y="7144"/>
                  </a:lnTo>
                  <a:cubicBezTo>
                    <a:pt x="110966" y="7144"/>
                    <a:pt x="115729" y="12859"/>
                    <a:pt x="115729" y="18574"/>
                  </a:cubicBezTo>
                  <a:lnTo>
                    <a:pt x="115729" y="39529"/>
                  </a:lnTo>
                  <a:cubicBezTo>
                    <a:pt x="115729" y="41434"/>
                    <a:pt x="115729" y="42386"/>
                    <a:pt x="116681" y="44291"/>
                  </a:cubicBezTo>
                  <a:lnTo>
                    <a:pt x="139541" y="99536"/>
                  </a:lnTo>
                  <a:cubicBezTo>
                    <a:pt x="140494" y="103346"/>
                    <a:pt x="140494" y="106204"/>
                    <a:pt x="138589" y="110014"/>
                  </a:cubicBezTo>
                  <a:lnTo>
                    <a:pt x="134779" y="116681"/>
                  </a:lnTo>
                  <a:cubicBezTo>
                    <a:pt x="130969" y="123349"/>
                    <a:pt x="122396" y="124301"/>
                    <a:pt x="116681" y="119539"/>
                  </a:cubicBezTo>
                  <a:lnTo>
                    <a:pt x="90011" y="94774"/>
                  </a:lnTo>
                  <a:cubicBezTo>
                    <a:pt x="83344" y="88106"/>
                    <a:pt x="71914" y="91916"/>
                    <a:pt x="70009" y="101441"/>
                  </a:cubicBezTo>
                  <a:lnTo>
                    <a:pt x="67151" y="118586"/>
                  </a:lnTo>
                  <a:cubicBezTo>
                    <a:pt x="67151" y="120491"/>
                    <a:pt x="67151" y="121444"/>
                    <a:pt x="67151" y="123349"/>
                  </a:cubicBezTo>
                  <a:lnTo>
                    <a:pt x="83344" y="187166"/>
                  </a:lnTo>
                  <a:cubicBezTo>
                    <a:pt x="84296" y="190024"/>
                    <a:pt x="86201" y="192881"/>
                    <a:pt x="89059" y="194786"/>
                  </a:cubicBezTo>
                  <a:lnTo>
                    <a:pt x="109061" y="205264"/>
                  </a:lnTo>
                  <a:cubicBezTo>
                    <a:pt x="116681" y="209074"/>
                    <a:pt x="117634" y="220504"/>
                    <a:pt x="110014" y="225266"/>
                  </a:cubicBezTo>
                  <a:cubicBezTo>
                    <a:pt x="106204" y="228124"/>
                    <a:pt x="101441" y="228124"/>
                    <a:pt x="96679" y="225266"/>
                  </a:cubicBezTo>
                  <a:lnTo>
                    <a:pt x="44291" y="192881"/>
                  </a:lnTo>
                  <a:cubicBezTo>
                    <a:pt x="46196" y="191929"/>
                    <a:pt x="44291" y="190976"/>
                    <a:pt x="43339" y="190024"/>
                  </a:cubicBez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57" name="任意多边形: 形状 119"/>
            <p:cNvSpPr/>
            <p:nvPr/>
          </p:nvSpPr>
          <p:spPr>
            <a:xfrm>
              <a:off x="8026200" y="3119400"/>
              <a:ext cx="951480" cy="2526840"/>
            </a:xfrm>
            <a:custGeom>
              <a:avLst/>
              <a:gdLst>
                <a:gd name="textAreaLeft" fmla="*/ 0 w 951480"/>
                <a:gd name="textAreaRight" fmla="*/ 951840 w 951480"/>
                <a:gd name="textAreaTop" fmla="*/ 0 h 2526840"/>
                <a:gd name="textAreaBottom" fmla="*/ 2527200 h 2526840"/>
              </a:gdLst>
              <a:ahLst/>
              <a:rect l="textAreaLeft" t="textAreaTop" r="textAreaRight" b="textAreaBottom"/>
              <a:pathLst>
                <a:path w="542925" h="1295400">
                  <a:moveTo>
                    <a:pt x="543401" y="1296829"/>
                  </a:moveTo>
                  <a:lnTo>
                    <a:pt x="384334" y="1296829"/>
                  </a:lnTo>
                  <a:lnTo>
                    <a:pt x="317659" y="228124"/>
                  </a:lnTo>
                  <a:lnTo>
                    <a:pt x="184309" y="1296829"/>
                  </a:lnTo>
                  <a:lnTo>
                    <a:pt x="7144" y="1296829"/>
                  </a:lnTo>
                  <a:lnTo>
                    <a:pt x="131921" y="7144"/>
                  </a:lnTo>
                  <a:lnTo>
                    <a:pt x="538639" y="7144"/>
                  </a:lnTo>
                  <a:lnTo>
                    <a:pt x="543401" y="1296829"/>
                  </a:lnTo>
                  <a:close/>
                </a:path>
              </a:pathLst>
            </a:custGeom>
            <a:solidFill>
              <a:srgbClr val="4a494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58" name="任意多边形: 形状 120"/>
            <p:cNvSpPr/>
            <p:nvPr/>
          </p:nvSpPr>
          <p:spPr>
            <a:xfrm>
              <a:off x="8235000" y="3119400"/>
              <a:ext cx="734400" cy="129960"/>
            </a:xfrm>
            <a:custGeom>
              <a:avLst/>
              <a:gdLst>
                <a:gd name="textAreaLeft" fmla="*/ 0 w 734400"/>
                <a:gd name="textAreaRight" fmla="*/ 734760 w 734400"/>
                <a:gd name="textAreaTop" fmla="*/ 0 h 129960"/>
                <a:gd name="textAreaBottom" fmla="*/ 130320 h 129960"/>
              </a:gdLst>
              <a:ahLst/>
              <a:rect l="textAreaLeft" t="textAreaTop" r="textAreaRight" b="textAreaBottom"/>
              <a:pathLst>
                <a:path w="419100" h="66675">
                  <a:moveTo>
                    <a:pt x="7144" y="60484"/>
                  </a:moveTo>
                  <a:lnTo>
                    <a:pt x="12859" y="7144"/>
                  </a:lnTo>
                  <a:lnTo>
                    <a:pt x="419576" y="7144"/>
                  </a:lnTo>
                  <a:lnTo>
                    <a:pt x="419576" y="60484"/>
                  </a:lnTo>
                  <a:lnTo>
                    <a:pt x="7144" y="60484"/>
                  </a:lnTo>
                  <a:close/>
                </a:path>
              </a:pathLst>
            </a:custGeom>
            <a:solidFill>
              <a:srgbClr val="2c2b2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59" name="任意多边形: 形状 121"/>
            <p:cNvSpPr/>
            <p:nvPr/>
          </p:nvSpPr>
          <p:spPr>
            <a:xfrm>
              <a:off x="8655480" y="5637240"/>
              <a:ext cx="333720" cy="259920"/>
            </a:xfrm>
            <a:custGeom>
              <a:avLst/>
              <a:gdLst>
                <a:gd name="textAreaLeft" fmla="*/ 0 w 333720"/>
                <a:gd name="textAreaRight" fmla="*/ 334080 w 333720"/>
                <a:gd name="textAreaTop" fmla="*/ 0 h 259920"/>
                <a:gd name="textAreaBottom" fmla="*/ 260280 h 259920"/>
              </a:gdLst>
              <a:ahLst/>
              <a:rect l="textAreaLeft" t="textAreaTop" r="textAreaRight" b="textAreaBottom"/>
              <a:pathLst>
                <a:path w="190500" h="133350">
                  <a:moveTo>
                    <a:pt x="191929" y="127159"/>
                  </a:moveTo>
                  <a:lnTo>
                    <a:pt x="7144" y="127159"/>
                  </a:lnTo>
                  <a:lnTo>
                    <a:pt x="13811" y="49054"/>
                  </a:lnTo>
                  <a:cubicBezTo>
                    <a:pt x="19526" y="24289"/>
                    <a:pt x="42386" y="7144"/>
                    <a:pt x="68104" y="7144"/>
                  </a:cubicBezTo>
                  <a:lnTo>
                    <a:pt x="126206" y="7144"/>
                  </a:lnTo>
                  <a:cubicBezTo>
                    <a:pt x="157639" y="7144"/>
                    <a:pt x="183356" y="32861"/>
                    <a:pt x="181451" y="65246"/>
                  </a:cubicBezTo>
                  <a:lnTo>
                    <a:pt x="191929" y="127159"/>
                  </a:ln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0" name="任意多边形: 形状 122"/>
            <p:cNvSpPr/>
            <p:nvPr/>
          </p:nvSpPr>
          <p:spPr>
            <a:xfrm>
              <a:off x="7727400" y="5635440"/>
              <a:ext cx="567360" cy="259920"/>
            </a:xfrm>
            <a:custGeom>
              <a:avLst/>
              <a:gdLst>
                <a:gd name="textAreaLeft" fmla="*/ 0 w 567360"/>
                <a:gd name="textAreaRight" fmla="*/ 567720 w 567360"/>
                <a:gd name="textAreaTop" fmla="*/ 0 h 259920"/>
                <a:gd name="textAreaBottom" fmla="*/ 260280 h 259920"/>
              </a:gdLst>
              <a:ahLst/>
              <a:rect l="textAreaLeft" t="textAreaTop" r="textAreaRight" b="textAreaBottom"/>
              <a:pathLst>
                <a:path w="323850" h="133350">
                  <a:moveTo>
                    <a:pt x="323374" y="7144"/>
                  </a:moveTo>
                  <a:lnTo>
                    <a:pt x="323374" y="128111"/>
                  </a:lnTo>
                  <a:lnTo>
                    <a:pt x="241459" y="128111"/>
                  </a:lnTo>
                  <a:lnTo>
                    <a:pt x="241459" y="90964"/>
                  </a:lnTo>
                  <a:lnTo>
                    <a:pt x="202406" y="113824"/>
                  </a:lnTo>
                  <a:cubicBezTo>
                    <a:pt x="186214" y="123349"/>
                    <a:pt x="167164" y="128111"/>
                    <a:pt x="149066" y="128111"/>
                  </a:cubicBezTo>
                  <a:lnTo>
                    <a:pt x="7144" y="128111"/>
                  </a:lnTo>
                  <a:lnTo>
                    <a:pt x="7144" y="125254"/>
                  </a:lnTo>
                  <a:cubicBezTo>
                    <a:pt x="15716" y="60484"/>
                    <a:pt x="75724" y="15716"/>
                    <a:pt x="140494" y="24289"/>
                  </a:cubicBezTo>
                  <a:lnTo>
                    <a:pt x="176689" y="8096"/>
                  </a:lnTo>
                  <a:lnTo>
                    <a:pt x="323374" y="8096"/>
                  </a:lnTo>
                  <a:lnTo>
                    <a:pt x="323374" y="7144"/>
                  </a:ln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1" name="任意多边形: 形状 123"/>
            <p:cNvSpPr/>
            <p:nvPr/>
          </p:nvSpPr>
          <p:spPr>
            <a:xfrm>
              <a:off x="6910920" y="2743920"/>
              <a:ext cx="233640" cy="222840"/>
            </a:xfrm>
            <a:custGeom>
              <a:avLst/>
              <a:gdLst>
                <a:gd name="textAreaLeft" fmla="*/ 0 w 233640"/>
                <a:gd name="textAreaRight" fmla="*/ 234000 w 233640"/>
                <a:gd name="textAreaTop" fmla="*/ 0 h 222840"/>
                <a:gd name="textAreaBottom" fmla="*/ 223200 h 222840"/>
              </a:gdLst>
              <a:ahLst/>
              <a:rect l="textAreaLeft" t="textAreaTop" r="textAreaRight" b="textAreaBottom"/>
              <a:pathLst>
                <a:path w="133350" h="114300">
                  <a:moveTo>
                    <a:pt x="63341" y="7144"/>
                  </a:moveTo>
                  <a:lnTo>
                    <a:pt x="63341" y="7144"/>
                  </a:lnTo>
                  <a:cubicBezTo>
                    <a:pt x="75724" y="48101"/>
                    <a:pt x="98584" y="85249"/>
                    <a:pt x="130016" y="115729"/>
                  </a:cubicBezTo>
                  <a:lnTo>
                    <a:pt x="130969" y="116681"/>
                  </a:lnTo>
                  <a:lnTo>
                    <a:pt x="7144" y="116681"/>
                  </a:lnTo>
                  <a:cubicBezTo>
                    <a:pt x="35719" y="86201"/>
                    <a:pt x="55721" y="48101"/>
                    <a:pt x="63341" y="7144"/>
                  </a:cubicBezTo>
                  <a:close/>
                </a:path>
              </a:pathLst>
            </a:custGeom>
            <a:solidFill>
              <a:srgbClr val="cad6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2" name="任意多边形: 形状 124"/>
            <p:cNvSpPr/>
            <p:nvPr/>
          </p:nvSpPr>
          <p:spPr>
            <a:xfrm>
              <a:off x="6552000" y="3963240"/>
              <a:ext cx="550800" cy="1783800"/>
            </a:xfrm>
            <a:custGeom>
              <a:avLst/>
              <a:gdLst>
                <a:gd name="textAreaLeft" fmla="*/ 0 w 550800"/>
                <a:gd name="textAreaRight" fmla="*/ 550800 w 550800"/>
                <a:gd name="textAreaTop" fmla="*/ 0 h 1783800"/>
                <a:gd name="textAreaBottom" fmla="*/ 1784160 h 1783800"/>
              </a:gdLst>
              <a:ahLst/>
              <a:rect l="textAreaLeft" t="textAreaTop" r="textAreaRight" b="textAreaBottom"/>
              <a:pathLst>
                <a:path w="314325" h="914400">
                  <a:moveTo>
                    <a:pt x="116681" y="36671"/>
                  </a:moveTo>
                  <a:lnTo>
                    <a:pt x="139541" y="138589"/>
                  </a:lnTo>
                  <a:cubicBezTo>
                    <a:pt x="141446" y="149066"/>
                    <a:pt x="143351" y="159544"/>
                    <a:pt x="143351" y="170021"/>
                  </a:cubicBezTo>
                  <a:lnTo>
                    <a:pt x="143351" y="712946"/>
                  </a:lnTo>
                  <a:cubicBezTo>
                    <a:pt x="143351" y="712946"/>
                    <a:pt x="116681" y="840581"/>
                    <a:pt x="99536" y="858679"/>
                  </a:cubicBezTo>
                  <a:cubicBezTo>
                    <a:pt x="81439" y="875824"/>
                    <a:pt x="7144" y="915829"/>
                    <a:pt x="7144" y="915829"/>
                  </a:cubicBezTo>
                  <a:lnTo>
                    <a:pt x="178594" y="915829"/>
                  </a:lnTo>
                  <a:lnTo>
                    <a:pt x="240506" y="788194"/>
                  </a:lnTo>
                  <a:lnTo>
                    <a:pt x="240506" y="712946"/>
                  </a:lnTo>
                  <a:cubicBezTo>
                    <a:pt x="240506" y="712946"/>
                    <a:pt x="235744" y="637699"/>
                    <a:pt x="258604" y="545306"/>
                  </a:cubicBezTo>
                  <a:cubicBezTo>
                    <a:pt x="273844" y="480536"/>
                    <a:pt x="295751" y="360521"/>
                    <a:pt x="307181" y="293846"/>
                  </a:cubicBezTo>
                  <a:cubicBezTo>
                    <a:pt x="312896" y="263366"/>
                    <a:pt x="309086" y="230981"/>
                    <a:pt x="297656" y="202406"/>
                  </a:cubicBezTo>
                  <a:lnTo>
                    <a:pt x="275749" y="146209"/>
                  </a:lnTo>
                  <a:cubicBezTo>
                    <a:pt x="264319" y="116681"/>
                    <a:pt x="261461" y="84296"/>
                    <a:pt x="267176" y="52864"/>
                  </a:cubicBezTo>
                  <a:lnTo>
                    <a:pt x="275749" y="7144"/>
                  </a:lnTo>
                  <a:lnTo>
                    <a:pt x="112871" y="7144"/>
                  </a:lnTo>
                  <a:lnTo>
                    <a:pt x="116681" y="36671"/>
                  </a:ln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3" name="任意多边形: 形状 125"/>
            <p:cNvSpPr/>
            <p:nvPr/>
          </p:nvSpPr>
          <p:spPr>
            <a:xfrm>
              <a:off x="7112880" y="3965040"/>
              <a:ext cx="417240" cy="1783800"/>
            </a:xfrm>
            <a:custGeom>
              <a:avLst/>
              <a:gdLst>
                <a:gd name="textAreaLeft" fmla="*/ 0 w 417240"/>
                <a:gd name="textAreaRight" fmla="*/ 417600 w 417240"/>
                <a:gd name="textAreaTop" fmla="*/ 0 h 1783800"/>
                <a:gd name="textAreaBottom" fmla="*/ 1784160 h 1783800"/>
              </a:gdLst>
              <a:ahLst/>
              <a:rect l="textAreaLeft" t="textAreaTop" r="textAreaRight" b="textAreaBottom"/>
              <a:pathLst>
                <a:path w="238125" h="914400">
                  <a:moveTo>
                    <a:pt x="38576" y="35719"/>
                  </a:moveTo>
                  <a:lnTo>
                    <a:pt x="60484" y="137636"/>
                  </a:lnTo>
                  <a:cubicBezTo>
                    <a:pt x="62389" y="148114"/>
                    <a:pt x="64294" y="158591"/>
                    <a:pt x="64294" y="169069"/>
                  </a:cubicBezTo>
                  <a:lnTo>
                    <a:pt x="64294" y="711994"/>
                  </a:lnTo>
                  <a:cubicBezTo>
                    <a:pt x="64294" y="711994"/>
                    <a:pt x="46196" y="838676"/>
                    <a:pt x="29051" y="856774"/>
                  </a:cubicBezTo>
                  <a:cubicBezTo>
                    <a:pt x="11906" y="874871"/>
                    <a:pt x="7144" y="914876"/>
                    <a:pt x="7144" y="914876"/>
                  </a:cubicBezTo>
                  <a:lnTo>
                    <a:pt x="158591" y="914876"/>
                  </a:lnTo>
                  <a:lnTo>
                    <a:pt x="158591" y="787241"/>
                  </a:lnTo>
                  <a:lnTo>
                    <a:pt x="158591" y="786289"/>
                  </a:lnTo>
                  <a:cubicBezTo>
                    <a:pt x="158591" y="747236"/>
                    <a:pt x="165259" y="709136"/>
                    <a:pt x="177641" y="672941"/>
                  </a:cubicBezTo>
                  <a:cubicBezTo>
                    <a:pt x="182404" y="657701"/>
                    <a:pt x="189071" y="637699"/>
                    <a:pt x="194786" y="610076"/>
                  </a:cubicBezTo>
                  <a:cubicBezTo>
                    <a:pt x="210026" y="545306"/>
                    <a:pt x="259556" y="332899"/>
                    <a:pt x="213836" y="202406"/>
                  </a:cubicBezTo>
                  <a:lnTo>
                    <a:pt x="192881" y="146209"/>
                  </a:lnTo>
                  <a:cubicBezTo>
                    <a:pt x="181451" y="116681"/>
                    <a:pt x="178594" y="84296"/>
                    <a:pt x="184309" y="52864"/>
                  </a:cubicBezTo>
                  <a:lnTo>
                    <a:pt x="192881" y="7144"/>
                  </a:lnTo>
                  <a:lnTo>
                    <a:pt x="34766" y="7144"/>
                  </a:lnTo>
                  <a:lnTo>
                    <a:pt x="38576" y="35719"/>
                  </a:ln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4" name="任意多边形: 形状 126"/>
            <p:cNvSpPr/>
            <p:nvPr/>
          </p:nvSpPr>
          <p:spPr>
            <a:xfrm>
              <a:off x="6737400" y="3961080"/>
              <a:ext cx="333720" cy="389880"/>
            </a:xfrm>
            <a:custGeom>
              <a:avLst/>
              <a:gdLst>
                <a:gd name="textAreaLeft" fmla="*/ 0 w 333720"/>
                <a:gd name="textAreaRight" fmla="*/ 334080 w 333720"/>
                <a:gd name="textAreaTop" fmla="*/ 0 h 389880"/>
                <a:gd name="textAreaBottom" fmla="*/ 390240 h 389880"/>
              </a:gdLst>
              <a:ahLst/>
              <a:rect l="textAreaLeft" t="textAreaTop" r="textAreaRight" b="textAreaBottom"/>
              <a:pathLst>
                <a:path w="190500" h="200025">
                  <a:moveTo>
                    <a:pt x="33814" y="139541"/>
                  </a:moveTo>
                  <a:cubicBezTo>
                    <a:pt x="35719" y="150019"/>
                    <a:pt x="37624" y="160496"/>
                    <a:pt x="37624" y="170974"/>
                  </a:cubicBezTo>
                  <a:lnTo>
                    <a:pt x="37624" y="194786"/>
                  </a:lnTo>
                  <a:lnTo>
                    <a:pt x="189071" y="194786"/>
                  </a:lnTo>
                  <a:lnTo>
                    <a:pt x="170021" y="146209"/>
                  </a:lnTo>
                  <a:cubicBezTo>
                    <a:pt x="158591" y="116681"/>
                    <a:pt x="155734" y="84296"/>
                    <a:pt x="161449" y="52864"/>
                  </a:cubicBezTo>
                  <a:lnTo>
                    <a:pt x="170021" y="7144"/>
                  </a:lnTo>
                  <a:lnTo>
                    <a:pt x="7144" y="7144"/>
                  </a:lnTo>
                  <a:lnTo>
                    <a:pt x="11906" y="38576"/>
                  </a:lnTo>
                  <a:lnTo>
                    <a:pt x="33814" y="139541"/>
                  </a:ln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5" name="任意多边形: 形状 127"/>
            <p:cNvSpPr/>
            <p:nvPr/>
          </p:nvSpPr>
          <p:spPr>
            <a:xfrm>
              <a:off x="7161480" y="3961080"/>
              <a:ext cx="333720" cy="389880"/>
            </a:xfrm>
            <a:custGeom>
              <a:avLst/>
              <a:gdLst>
                <a:gd name="textAreaLeft" fmla="*/ 0 w 333720"/>
                <a:gd name="textAreaRight" fmla="*/ 334080 w 333720"/>
                <a:gd name="textAreaTop" fmla="*/ 0 h 389880"/>
                <a:gd name="textAreaBottom" fmla="*/ 390240 h 389880"/>
              </a:gdLst>
              <a:ahLst/>
              <a:rect l="textAreaLeft" t="textAreaTop" r="textAreaRight" b="textAreaBottom"/>
              <a:pathLst>
                <a:path w="190500" h="200025">
                  <a:moveTo>
                    <a:pt x="33814" y="139541"/>
                  </a:moveTo>
                  <a:cubicBezTo>
                    <a:pt x="35719" y="150019"/>
                    <a:pt x="37624" y="160496"/>
                    <a:pt x="37624" y="170974"/>
                  </a:cubicBezTo>
                  <a:lnTo>
                    <a:pt x="37624" y="194786"/>
                  </a:lnTo>
                  <a:lnTo>
                    <a:pt x="184309" y="194786"/>
                  </a:lnTo>
                  <a:lnTo>
                    <a:pt x="166211" y="146209"/>
                  </a:lnTo>
                  <a:cubicBezTo>
                    <a:pt x="154781" y="116681"/>
                    <a:pt x="151924" y="84296"/>
                    <a:pt x="157639" y="52864"/>
                  </a:cubicBezTo>
                  <a:lnTo>
                    <a:pt x="166211" y="7144"/>
                  </a:lnTo>
                  <a:lnTo>
                    <a:pt x="7144" y="7144"/>
                  </a:lnTo>
                  <a:lnTo>
                    <a:pt x="10954" y="38576"/>
                  </a:lnTo>
                  <a:lnTo>
                    <a:pt x="33814" y="139541"/>
                  </a:ln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6" name="任意多边形: 形状 128"/>
            <p:cNvSpPr/>
            <p:nvPr/>
          </p:nvSpPr>
          <p:spPr>
            <a:xfrm>
              <a:off x="7136280" y="506880"/>
              <a:ext cx="383760" cy="891720"/>
            </a:xfrm>
            <a:custGeom>
              <a:avLst/>
              <a:gdLst>
                <a:gd name="textAreaLeft" fmla="*/ 0 w 383760"/>
                <a:gd name="textAreaRight" fmla="*/ 384120 w 383760"/>
                <a:gd name="textAreaTop" fmla="*/ 0 h 891720"/>
                <a:gd name="textAreaBottom" fmla="*/ 892080 h 891720"/>
              </a:gdLst>
              <a:ahLst/>
              <a:rect l="textAreaLeft" t="textAreaTop" r="textAreaRight" b="textAreaBottom"/>
              <a:pathLst>
                <a:path w="219075" h="457200">
                  <a:moveTo>
                    <a:pt x="210979" y="7144"/>
                  </a:moveTo>
                  <a:lnTo>
                    <a:pt x="219551" y="155734"/>
                  </a:lnTo>
                  <a:cubicBezTo>
                    <a:pt x="226219" y="261461"/>
                    <a:pt x="194786" y="365284"/>
                    <a:pt x="130969" y="450056"/>
                  </a:cubicBezTo>
                  <a:lnTo>
                    <a:pt x="7144" y="428149"/>
                  </a:lnTo>
                  <a:lnTo>
                    <a:pt x="7144" y="218599"/>
                  </a:lnTo>
                  <a:lnTo>
                    <a:pt x="210979"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7" name="任意多边形: 形状 129"/>
            <p:cNvSpPr/>
            <p:nvPr/>
          </p:nvSpPr>
          <p:spPr>
            <a:xfrm>
              <a:off x="7136280" y="506880"/>
              <a:ext cx="383760" cy="891720"/>
            </a:xfrm>
            <a:custGeom>
              <a:avLst/>
              <a:gdLst>
                <a:gd name="textAreaLeft" fmla="*/ 0 w 383760"/>
                <a:gd name="textAreaRight" fmla="*/ 384120 w 383760"/>
                <a:gd name="textAreaTop" fmla="*/ 0 h 891720"/>
                <a:gd name="textAreaBottom" fmla="*/ 892080 h 891720"/>
              </a:gdLst>
              <a:ahLst/>
              <a:rect l="textAreaLeft" t="textAreaTop" r="textAreaRight" b="textAreaBottom"/>
              <a:pathLst>
                <a:path w="219075" h="457200">
                  <a:moveTo>
                    <a:pt x="210979" y="7144"/>
                  </a:moveTo>
                  <a:lnTo>
                    <a:pt x="219551" y="155734"/>
                  </a:lnTo>
                  <a:cubicBezTo>
                    <a:pt x="226219" y="261461"/>
                    <a:pt x="194786" y="365284"/>
                    <a:pt x="130969" y="450056"/>
                  </a:cubicBezTo>
                  <a:lnTo>
                    <a:pt x="7144" y="428149"/>
                  </a:lnTo>
                  <a:lnTo>
                    <a:pt x="7144" y="218599"/>
                  </a:lnTo>
                  <a:lnTo>
                    <a:pt x="210979"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8" name="任意多边形: 形状 130"/>
            <p:cNvSpPr/>
            <p:nvPr/>
          </p:nvSpPr>
          <p:spPr>
            <a:xfrm>
              <a:off x="7136280" y="506880"/>
              <a:ext cx="383760" cy="891720"/>
            </a:xfrm>
            <a:custGeom>
              <a:avLst/>
              <a:gdLst>
                <a:gd name="textAreaLeft" fmla="*/ 0 w 383760"/>
                <a:gd name="textAreaRight" fmla="*/ 384120 w 383760"/>
                <a:gd name="textAreaTop" fmla="*/ 0 h 891720"/>
                <a:gd name="textAreaBottom" fmla="*/ 892080 h 891720"/>
              </a:gdLst>
              <a:ahLst/>
              <a:rect l="textAreaLeft" t="textAreaTop" r="textAreaRight" b="textAreaBottom"/>
              <a:pathLst>
                <a:path w="219075" h="457200">
                  <a:moveTo>
                    <a:pt x="210979" y="7144"/>
                  </a:moveTo>
                  <a:lnTo>
                    <a:pt x="219551" y="155734"/>
                  </a:lnTo>
                  <a:cubicBezTo>
                    <a:pt x="226219" y="261461"/>
                    <a:pt x="194786" y="365284"/>
                    <a:pt x="130969" y="450056"/>
                  </a:cubicBezTo>
                  <a:lnTo>
                    <a:pt x="7144" y="428149"/>
                  </a:lnTo>
                  <a:lnTo>
                    <a:pt x="7144" y="218599"/>
                  </a:lnTo>
                  <a:lnTo>
                    <a:pt x="210979"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69" name="任意多边形: 形状 131"/>
            <p:cNvSpPr/>
            <p:nvPr/>
          </p:nvSpPr>
          <p:spPr>
            <a:xfrm>
              <a:off x="7136280" y="506880"/>
              <a:ext cx="383760" cy="891720"/>
            </a:xfrm>
            <a:custGeom>
              <a:avLst/>
              <a:gdLst>
                <a:gd name="textAreaLeft" fmla="*/ 0 w 383760"/>
                <a:gd name="textAreaRight" fmla="*/ 384120 w 383760"/>
                <a:gd name="textAreaTop" fmla="*/ 0 h 891720"/>
                <a:gd name="textAreaBottom" fmla="*/ 892080 h 891720"/>
              </a:gdLst>
              <a:ahLst/>
              <a:rect l="textAreaLeft" t="textAreaTop" r="textAreaRight" b="textAreaBottom"/>
              <a:pathLst>
                <a:path w="219075" h="457200">
                  <a:moveTo>
                    <a:pt x="210979" y="7144"/>
                  </a:moveTo>
                  <a:lnTo>
                    <a:pt x="219551" y="155734"/>
                  </a:lnTo>
                  <a:cubicBezTo>
                    <a:pt x="226219" y="261461"/>
                    <a:pt x="194786" y="365284"/>
                    <a:pt x="130969" y="450056"/>
                  </a:cubicBezTo>
                  <a:lnTo>
                    <a:pt x="7144" y="428149"/>
                  </a:lnTo>
                  <a:lnTo>
                    <a:pt x="7144" y="218599"/>
                  </a:lnTo>
                  <a:lnTo>
                    <a:pt x="210979"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0" name="任意多边形: 形状 132"/>
            <p:cNvSpPr/>
            <p:nvPr/>
          </p:nvSpPr>
          <p:spPr>
            <a:xfrm>
              <a:off x="7136280" y="506880"/>
              <a:ext cx="383760" cy="891720"/>
            </a:xfrm>
            <a:custGeom>
              <a:avLst/>
              <a:gdLst>
                <a:gd name="textAreaLeft" fmla="*/ 0 w 383760"/>
                <a:gd name="textAreaRight" fmla="*/ 384120 w 383760"/>
                <a:gd name="textAreaTop" fmla="*/ 0 h 891720"/>
                <a:gd name="textAreaBottom" fmla="*/ 892080 h 891720"/>
              </a:gdLst>
              <a:ahLst/>
              <a:rect l="textAreaLeft" t="textAreaTop" r="textAreaRight" b="textAreaBottom"/>
              <a:pathLst>
                <a:path w="219075" h="457200">
                  <a:moveTo>
                    <a:pt x="210979" y="7144"/>
                  </a:moveTo>
                  <a:lnTo>
                    <a:pt x="219551" y="155734"/>
                  </a:lnTo>
                  <a:cubicBezTo>
                    <a:pt x="226219" y="261461"/>
                    <a:pt x="194786" y="365284"/>
                    <a:pt x="130969" y="450056"/>
                  </a:cubicBezTo>
                  <a:lnTo>
                    <a:pt x="7144" y="428149"/>
                  </a:lnTo>
                  <a:lnTo>
                    <a:pt x="7144" y="218599"/>
                  </a:lnTo>
                  <a:lnTo>
                    <a:pt x="210979"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1" name="任意多边形: 形状 133"/>
            <p:cNvSpPr/>
            <p:nvPr/>
          </p:nvSpPr>
          <p:spPr>
            <a:xfrm>
              <a:off x="6807600" y="984240"/>
              <a:ext cx="283680" cy="501480"/>
            </a:xfrm>
            <a:custGeom>
              <a:avLst/>
              <a:gdLst>
                <a:gd name="textAreaLeft" fmla="*/ 0 w 283680"/>
                <a:gd name="textAreaRight" fmla="*/ 284040 w 283680"/>
                <a:gd name="textAreaTop" fmla="*/ 0 h 501480"/>
                <a:gd name="textAreaBottom" fmla="*/ 501840 h 501480"/>
              </a:gdLst>
              <a:ahLst/>
              <a:rect l="textAreaLeft" t="textAreaTop" r="textAreaRight" b="textAreaBottom"/>
              <a:pathLst>
                <a:path w="161925" h="257175">
                  <a:moveTo>
                    <a:pt x="7144" y="7144"/>
                  </a:moveTo>
                  <a:lnTo>
                    <a:pt x="158591" y="7144"/>
                  </a:lnTo>
                  <a:lnTo>
                    <a:pt x="158591" y="253841"/>
                  </a:lnTo>
                  <a:lnTo>
                    <a:pt x="7144" y="253841"/>
                  </a:lnTo>
                  <a:lnTo>
                    <a:pt x="7144" y="7144"/>
                  </a:lnTo>
                  <a:close/>
                </a:path>
              </a:pathLst>
            </a:custGeom>
            <a:solidFill>
              <a:srgbClr val="491b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2" name="任意多边形: 形状 134"/>
            <p:cNvSpPr/>
            <p:nvPr/>
          </p:nvSpPr>
          <p:spPr>
            <a:xfrm>
              <a:off x="6496200" y="1439640"/>
              <a:ext cx="350280" cy="1746360"/>
            </a:xfrm>
            <a:custGeom>
              <a:avLst/>
              <a:gdLst>
                <a:gd name="textAreaLeft" fmla="*/ 0 w 350280"/>
                <a:gd name="textAreaRight" fmla="*/ 350640 w 350280"/>
                <a:gd name="textAreaTop" fmla="*/ 0 h 1746360"/>
                <a:gd name="textAreaBottom" fmla="*/ 1746720 h 1746360"/>
              </a:gdLst>
              <a:ahLst/>
              <a:rect l="textAreaLeft" t="textAreaTop" r="textAreaRight" b="textAreaBottom"/>
              <a:pathLst>
                <a:path w="200025" h="895350">
                  <a:moveTo>
                    <a:pt x="44768" y="894874"/>
                  </a:moveTo>
                  <a:lnTo>
                    <a:pt x="158115" y="876776"/>
                  </a:lnTo>
                  <a:lnTo>
                    <a:pt x="156210" y="790099"/>
                  </a:lnTo>
                  <a:lnTo>
                    <a:pt x="153352" y="640556"/>
                  </a:lnTo>
                  <a:cubicBezTo>
                    <a:pt x="153352" y="631984"/>
                    <a:pt x="148590" y="516731"/>
                    <a:pt x="149543" y="508159"/>
                  </a:cubicBezTo>
                  <a:lnTo>
                    <a:pt x="201930" y="376714"/>
                  </a:lnTo>
                  <a:lnTo>
                    <a:pt x="139065" y="7144"/>
                  </a:lnTo>
                  <a:lnTo>
                    <a:pt x="8572" y="515779"/>
                  </a:lnTo>
                  <a:cubicBezTo>
                    <a:pt x="6668" y="531019"/>
                    <a:pt x="6668" y="545306"/>
                    <a:pt x="8572" y="560546"/>
                  </a:cubicBezTo>
                  <a:lnTo>
                    <a:pt x="35243" y="810101"/>
                  </a:lnTo>
                  <a:lnTo>
                    <a:pt x="44768" y="894874"/>
                  </a:lnTo>
                  <a:close/>
                </a:path>
              </a:pathLst>
            </a:custGeom>
            <a:solidFill>
              <a:srgbClr val="3c3a3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3" name="任意多边形: 形状 135"/>
            <p:cNvSpPr/>
            <p:nvPr/>
          </p:nvSpPr>
          <p:spPr>
            <a:xfrm>
              <a:off x="6649560" y="1328040"/>
              <a:ext cx="1101600" cy="1635120"/>
            </a:xfrm>
            <a:custGeom>
              <a:avLst/>
              <a:gdLst>
                <a:gd name="textAreaLeft" fmla="*/ 0 w 1101600"/>
                <a:gd name="textAreaRight" fmla="*/ 1101960 w 1101600"/>
                <a:gd name="textAreaTop" fmla="*/ 0 h 1635120"/>
                <a:gd name="textAreaBottom" fmla="*/ 1635480 h 1635120"/>
              </a:gdLst>
              <a:ahLst/>
              <a:rect l="textAreaLeft" t="textAreaTop" r="textAreaRight" b="textAreaBottom"/>
              <a:pathLst>
                <a:path w="628650" h="838200">
                  <a:moveTo>
                    <a:pt x="626875" y="119539"/>
                  </a:moveTo>
                  <a:lnTo>
                    <a:pt x="355412" y="7144"/>
                  </a:lnTo>
                  <a:lnTo>
                    <a:pt x="217300" y="7144"/>
                  </a:lnTo>
                  <a:lnTo>
                    <a:pt x="52517" y="63341"/>
                  </a:lnTo>
                  <a:lnTo>
                    <a:pt x="52517" y="186214"/>
                  </a:lnTo>
                  <a:cubicBezTo>
                    <a:pt x="52517" y="213836"/>
                    <a:pt x="44897" y="241459"/>
                    <a:pt x="29657" y="264319"/>
                  </a:cubicBezTo>
                  <a:cubicBezTo>
                    <a:pt x="5845" y="303371"/>
                    <a:pt x="130" y="350996"/>
                    <a:pt x="16322" y="393859"/>
                  </a:cubicBezTo>
                  <a:lnTo>
                    <a:pt x="68710" y="537686"/>
                  </a:lnTo>
                  <a:cubicBezTo>
                    <a:pt x="89665" y="595789"/>
                    <a:pt x="98237" y="657701"/>
                    <a:pt x="92522" y="719614"/>
                  </a:cubicBezTo>
                  <a:lnTo>
                    <a:pt x="82045" y="833914"/>
                  </a:lnTo>
                  <a:lnTo>
                    <a:pt x="480190" y="833914"/>
                  </a:lnTo>
                  <a:cubicBezTo>
                    <a:pt x="446852" y="691991"/>
                    <a:pt x="463997" y="542449"/>
                    <a:pt x="528767" y="411956"/>
                  </a:cubicBezTo>
                  <a:cubicBezTo>
                    <a:pt x="535435" y="398621"/>
                    <a:pt x="542102" y="384334"/>
                    <a:pt x="546865" y="370046"/>
                  </a:cubicBezTo>
                  <a:lnTo>
                    <a:pt x="626875" y="119539"/>
                  </a:lnTo>
                  <a:close/>
                </a:path>
              </a:pathLst>
            </a:custGeom>
            <a:solidFill>
              <a:srgbClr val="4c4b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4" name="任意多边形: 形状 136"/>
            <p:cNvSpPr/>
            <p:nvPr/>
          </p:nvSpPr>
          <p:spPr>
            <a:xfrm>
              <a:off x="6962760" y="1328040"/>
              <a:ext cx="500760" cy="1170360"/>
            </a:xfrm>
            <a:custGeom>
              <a:avLst/>
              <a:gdLst>
                <a:gd name="textAreaLeft" fmla="*/ 0 w 500760"/>
                <a:gd name="textAreaRight" fmla="*/ 501120 w 500760"/>
                <a:gd name="textAreaTop" fmla="*/ 0 h 1170360"/>
                <a:gd name="textAreaBottom" fmla="*/ 1170720 h 1170360"/>
              </a:gdLst>
              <a:ahLst/>
              <a:rect l="textAreaLeft" t="textAreaTop" r="textAreaRight" b="textAreaBottom"/>
              <a:pathLst>
                <a:path w="285750" h="600075">
                  <a:moveTo>
                    <a:pt x="7144" y="18574"/>
                  </a:moveTo>
                  <a:lnTo>
                    <a:pt x="44291" y="601504"/>
                  </a:lnTo>
                  <a:lnTo>
                    <a:pt x="287179" y="50959"/>
                  </a:lnTo>
                  <a:lnTo>
                    <a:pt x="176689" y="7144"/>
                  </a:lnTo>
                  <a:lnTo>
                    <a:pt x="38576" y="7144"/>
                  </a:lnTo>
                  <a:lnTo>
                    <a:pt x="7144" y="18574"/>
                  </a:lnTo>
                  <a:close/>
                </a:path>
              </a:pathLst>
            </a:custGeom>
            <a:solidFill>
              <a:srgbClr val="cad6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5" name="任意多边形: 形状 137"/>
            <p:cNvSpPr/>
            <p:nvPr/>
          </p:nvSpPr>
          <p:spPr>
            <a:xfrm>
              <a:off x="7562160" y="1547280"/>
              <a:ext cx="650880" cy="1319040"/>
            </a:xfrm>
            <a:custGeom>
              <a:avLst/>
              <a:gdLst>
                <a:gd name="textAreaLeft" fmla="*/ 0 w 650880"/>
                <a:gd name="textAreaRight" fmla="*/ 651240 w 650880"/>
                <a:gd name="textAreaTop" fmla="*/ 0 h 1319040"/>
                <a:gd name="textAreaBottom" fmla="*/ 1319400 h 1319040"/>
              </a:gdLst>
              <a:ahLst/>
              <a:rect l="textAreaLeft" t="textAreaTop" r="textAreaRight" b="textAreaBottom"/>
              <a:pathLst>
                <a:path w="371475" h="676275">
                  <a:moveTo>
                    <a:pt x="106204" y="7144"/>
                  </a:moveTo>
                  <a:lnTo>
                    <a:pt x="46196" y="191929"/>
                  </a:lnTo>
                  <a:lnTo>
                    <a:pt x="172879" y="356711"/>
                  </a:lnTo>
                  <a:cubicBezTo>
                    <a:pt x="189071" y="368141"/>
                    <a:pt x="191929" y="391001"/>
                    <a:pt x="178594" y="405289"/>
                  </a:cubicBezTo>
                  <a:lnTo>
                    <a:pt x="7144" y="598646"/>
                  </a:lnTo>
                  <a:lnTo>
                    <a:pt x="105251" y="674846"/>
                  </a:lnTo>
                  <a:lnTo>
                    <a:pt x="358616" y="389096"/>
                  </a:lnTo>
                  <a:cubicBezTo>
                    <a:pt x="370046" y="376714"/>
                    <a:pt x="370046" y="357664"/>
                    <a:pt x="358616" y="345281"/>
                  </a:cubicBezTo>
                  <a:lnTo>
                    <a:pt x="106204" y="7144"/>
                  </a:lnTo>
                  <a:close/>
                </a:path>
              </a:pathLst>
            </a:custGeom>
            <a:solidFill>
              <a:srgbClr val="55545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6" name="任意多边形: 形状 138"/>
            <p:cNvSpPr/>
            <p:nvPr/>
          </p:nvSpPr>
          <p:spPr>
            <a:xfrm>
              <a:off x="7017840" y="1114560"/>
              <a:ext cx="266760" cy="427320"/>
            </a:xfrm>
            <a:custGeom>
              <a:avLst/>
              <a:gdLst>
                <a:gd name="textAreaLeft" fmla="*/ 0 w 266760"/>
                <a:gd name="textAreaRight" fmla="*/ 267120 w 266760"/>
                <a:gd name="textAreaTop" fmla="*/ 0 h 427320"/>
                <a:gd name="textAreaBottom" fmla="*/ 427680 h 427320"/>
              </a:gdLst>
              <a:ahLst/>
              <a:rect l="textAreaLeft" t="textAreaTop" r="textAreaRight" b="textAreaBottom"/>
              <a:pathLst>
                <a:path w="152400" h="219075">
                  <a:moveTo>
                    <a:pt x="145256" y="7144"/>
                  </a:moveTo>
                  <a:lnTo>
                    <a:pt x="145256" y="88106"/>
                  </a:lnTo>
                  <a:cubicBezTo>
                    <a:pt x="145256" y="132874"/>
                    <a:pt x="103346" y="212884"/>
                    <a:pt x="65246" y="212884"/>
                  </a:cubicBezTo>
                  <a:cubicBezTo>
                    <a:pt x="27146" y="212884"/>
                    <a:pt x="7144" y="132874"/>
                    <a:pt x="7144" y="88106"/>
                  </a:cubicBezTo>
                  <a:lnTo>
                    <a:pt x="7144" y="7144"/>
                  </a:lnTo>
                  <a:lnTo>
                    <a:pt x="145256" y="7144"/>
                  </a:ln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7" name="任意多边形: 形状 139"/>
            <p:cNvSpPr/>
            <p:nvPr/>
          </p:nvSpPr>
          <p:spPr>
            <a:xfrm>
              <a:off x="7016040" y="1014120"/>
              <a:ext cx="266760" cy="334440"/>
            </a:xfrm>
            <a:custGeom>
              <a:avLst/>
              <a:gdLst>
                <a:gd name="textAreaLeft" fmla="*/ 0 w 266760"/>
                <a:gd name="textAreaRight" fmla="*/ 267120 w 266760"/>
                <a:gd name="textAreaTop" fmla="*/ 0 h 334440"/>
                <a:gd name="textAreaBottom" fmla="*/ 334800 h 334440"/>
              </a:gdLst>
              <a:ahLst/>
              <a:rect l="textAreaLeft" t="textAreaTop" r="textAreaRight" b="textAreaBottom"/>
              <a:pathLst>
                <a:path w="152400" h="171450">
                  <a:moveTo>
                    <a:pt x="146209" y="7144"/>
                  </a:moveTo>
                  <a:lnTo>
                    <a:pt x="146209" y="88106"/>
                  </a:lnTo>
                  <a:cubicBezTo>
                    <a:pt x="146209" y="132874"/>
                    <a:pt x="115729" y="169069"/>
                    <a:pt x="76676" y="169069"/>
                  </a:cubicBezTo>
                  <a:cubicBezTo>
                    <a:pt x="38576" y="169069"/>
                    <a:pt x="7144" y="132874"/>
                    <a:pt x="7144" y="88106"/>
                  </a:cubicBezTo>
                  <a:lnTo>
                    <a:pt x="7144" y="7144"/>
                  </a:lnTo>
                  <a:lnTo>
                    <a:pt x="146209" y="7144"/>
                  </a:ln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8" name="任意多边形: 形状 140"/>
            <p:cNvSpPr/>
            <p:nvPr/>
          </p:nvSpPr>
          <p:spPr>
            <a:xfrm>
              <a:off x="7380000" y="750240"/>
              <a:ext cx="166680" cy="185760"/>
            </a:xfrm>
            <a:custGeom>
              <a:avLst/>
              <a:gdLst>
                <a:gd name="textAreaLeft" fmla="*/ 0 w 166680"/>
                <a:gd name="textAreaRight" fmla="*/ 167040 w 166680"/>
                <a:gd name="textAreaTop" fmla="*/ 0 h 185760"/>
                <a:gd name="textAreaBottom" fmla="*/ 186120 h 185760"/>
              </a:gdLst>
              <a:ahLst/>
              <a:rect l="textAreaLeft" t="textAreaTop" r="textAreaRight" b="textAreaBottom"/>
              <a:pathLst>
                <a:path w="95250" h="95250">
                  <a:moveTo>
                    <a:pt x="90964" y="49054"/>
                  </a:moveTo>
                  <a:cubicBezTo>
                    <a:pt x="90964" y="71914"/>
                    <a:pt x="71914" y="90964"/>
                    <a:pt x="49054" y="90964"/>
                  </a:cubicBezTo>
                  <a:cubicBezTo>
                    <a:pt x="26194" y="90964"/>
                    <a:pt x="7144" y="71914"/>
                    <a:pt x="7144" y="49054"/>
                  </a:cubicBezTo>
                  <a:cubicBezTo>
                    <a:pt x="7144" y="26194"/>
                    <a:pt x="26194" y="7144"/>
                    <a:pt x="49054" y="7144"/>
                  </a:cubicBezTo>
                  <a:cubicBezTo>
                    <a:pt x="72866" y="7144"/>
                    <a:pt x="90964" y="26194"/>
                    <a:pt x="90964" y="49054"/>
                  </a:cubicBezTo>
                  <a:close/>
                </a:path>
              </a:pathLst>
            </a:custGeom>
            <a:solidFill>
              <a:srgbClr val="f88f4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79" name="任意多边形: 形状 141"/>
            <p:cNvSpPr/>
            <p:nvPr/>
          </p:nvSpPr>
          <p:spPr>
            <a:xfrm>
              <a:off x="6822720" y="475200"/>
              <a:ext cx="650880" cy="761760"/>
            </a:xfrm>
            <a:custGeom>
              <a:avLst/>
              <a:gdLst>
                <a:gd name="textAreaLeft" fmla="*/ 0 w 650880"/>
                <a:gd name="textAreaRight" fmla="*/ 651240 w 650880"/>
                <a:gd name="textAreaTop" fmla="*/ 0 h 761760"/>
                <a:gd name="textAreaBottom" fmla="*/ 762120 h 761760"/>
              </a:gdLst>
              <a:ahLst/>
              <a:rect l="textAreaLeft" t="textAreaTop" r="textAreaRight" b="textAreaBottom"/>
              <a:pathLst>
                <a:path w="371475" h="390525">
                  <a:moveTo>
                    <a:pt x="7144" y="83344"/>
                  </a:moveTo>
                  <a:lnTo>
                    <a:pt x="7144" y="210979"/>
                  </a:lnTo>
                  <a:cubicBezTo>
                    <a:pt x="7144" y="219551"/>
                    <a:pt x="8096" y="228124"/>
                    <a:pt x="9049" y="235744"/>
                  </a:cubicBezTo>
                  <a:cubicBezTo>
                    <a:pt x="10001" y="239554"/>
                    <a:pt x="10001" y="242411"/>
                    <a:pt x="10954" y="246221"/>
                  </a:cubicBezTo>
                  <a:cubicBezTo>
                    <a:pt x="21431" y="300514"/>
                    <a:pt x="57626" y="347186"/>
                    <a:pt x="105251" y="370999"/>
                  </a:cubicBezTo>
                  <a:cubicBezTo>
                    <a:pt x="110014" y="373856"/>
                    <a:pt x="115729" y="375761"/>
                    <a:pt x="120491" y="377666"/>
                  </a:cubicBezTo>
                  <a:cubicBezTo>
                    <a:pt x="141446" y="386239"/>
                    <a:pt x="163354" y="390049"/>
                    <a:pt x="187166" y="390049"/>
                  </a:cubicBezTo>
                  <a:cubicBezTo>
                    <a:pt x="212884" y="390049"/>
                    <a:pt x="237649" y="384334"/>
                    <a:pt x="259556" y="374809"/>
                  </a:cubicBezTo>
                  <a:cubicBezTo>
                    <a:pt x="264319" y="372904"/>
                    <a:pt x="268129" y="370999"/>
                    <a:pt x="271939" y="368141"/>
                  </a:cubicBezTo>
                  <a:cubicBezTo>
                    <a:pt x="318611" y="343376"/>
                    <a:pt x="352901" y="298609"/>
                    <a:pt x="363379" y="244316"/>
                  </a:cubicBezTo>
                  <a:cubicBezTo>
                    <a:pt x="364331" y="241459"/>
                    <a:pt x="364331" y="237649"/>
                    <a:pt x="365284" y="234791"/>
                  </a:cubicBezTo>
                  <a:cubicBezTo>
                    <a:pt x="366236" y="226219"/>
                    <a:pt x="367189" y="217646"/>
                    <a:pt x="367189" y="209074"/>
                  </a:cubicBezTo>
                  <a:lnTo>
                    <a:pt x="367189" y="104299"/>
                  </a:lnTo>
                  <a:cubicBezTo>
                    <a:pt x="367189" y="50959"/>
                    <a:pt x="323374" y="7144"/>
                    <a:pt x="270034" y="7144"/>
                  </a:cubicBezTo>
                  <a:lnTo>
                    <a:pt x="80486" y="7144"/>
                  </a:lnTo>
                  <a:cubicBezTo>
                    <a:pt x="40481" y="9049"/>
                    <a:pt x="7144" y="42386"/>
                    <a:pt x="7144" y="83344"/>
                  </a:cubicBezTo>
                  <a:close/>
                </a:path>
              </a:pathLst>
            </a:custGeom>
            <a:solidFill>
              <a:srgbClr val="ffc49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80" name="任意多边形: 形状 142"/>
            <p:cNvSpPr/>
            <p:nvPr/>
          </p:nvSpPr>
          <p:spPr>
            <a:xfrm>
              <a:off x="7071120" y="1006560"/>
              <a:ext cx="150120" cy="92880"/>
            </a:xfrm>
            <a:custGeom>
              <a:avLst/>
              <a:gdLst>
                <a:gd name="textAreaLeft" fmla="*/ 0 w 150120"/>
                <a:gd name="textAreaRight" fmla="*/ 150480 w 150120"/>
                <a:gd name="textAreaTop" fmla="*/ 0 h 92880"/>
                <a:gd name="textAreaBottom" fmla="*/ 93240 h 92880"/>
              </a:gdLst>
              <a:ahLst/>
              <a:rect l="textAreaLeft" t="textAreaTop" r="textAreaRight" b="textAreaBottom"/>
              <a:pathLst>
                <a:path w="85725" h="47625">
                  <a:moveTo>
                    <a:pt x="47149" y="47149"/>
                  </a:moveTo>
                  <a:cubicBezTo>
                    <a:pt x="25241" y="47149"/>
                    <a:pt x="7144" y="29051"/>
                    <a:pt x="7144" y="7144"/>
                  </a:cubicBezTo>
                  <a:lnTo>
                    <a:pt x="87154" y="7144"/>
                  </a:lnTo>
                  <a:cubicBezTo>
                    <a:pt x="87154" y="29051"/>
                    <a:pt x="69056" y="47149"/>
                    <a:pt x="47149" y="47149"/>
                  </a:cubicBezTo>
                  <a:close/>
                </a:path>
              </a:pathLst>
            </a:custGeom>
            <a:solidFill>
              <a:srgbClr val="a2323e"/>
            </a:solidFill>
            <a:ln w="0">
              <a:noFill/>
            </a:ln>
          </p:spPr>
          <p:style>
            <a:lnRef idx="0"/>
            <a:fillRef idx="0"/>
            <a:effectRef idx="0"/>
            <a:fontRef idx="minor"/>
          </p:style>
          <p:txBody>
            <a:bodyPr lIns="90000" rIns="90000" tIns="46440" bIns="46440" anchor="ctr">
              <a:noAutofit/>
            </a:bodyPr>
            <a:p>
              <a:endParaRPr b="0" lang="en-US" sz="1800" spc="-1" strike="noStrike">
                <a:solidFill>
                  <a:srgbClr val="262626"/>
                </a:solidFill>
                <a:latin typeface="Arial"/>
              </a:endParaRPr>
            </a:p>
          </p:txBody>
        </p:sp>
        <p:sp>
          <p:nvSpPr>
            <p:cNvPr id="381" name="任意多边形: 形状 143"/>
            <p:cNvSpPr/>
            <p:nvPr/>
          </p:nvSpPr>
          <p:spPr>
            <a:xfrm>
              <a:off x="7259760" y="75564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7144" y="22384"/>
                  </a:moveTo>
                  <a:cubicBezTo>
                    <a:pt x="7144" y="30956"/>
                    <a:pt x="13811" y="-27912"/>
                    <a:pt x="22384" y="-27912"/>
                  </a:cubicBezTo>
                  <a:cubicBezTo>
                    <a:pt x="30956" y="-27912"/>
                    <a:pt x="-27912" y="30956"/>
                    <a:pt x="-27912" y="22384"/>
                  </a:cubicBezTo>
                  <a:cubicBezTo>
                    <a:pt x="-27912" y="13811"/>
                    <a:pt x="30956" y="7144"/>
                    <a:pt x="22384" y="7144"/>
                  </a:cubicBezTo>
                  <a:cubicBezTo>
                    <a:pt x="13811" y="7144"/>
                    <a:pt x="7144" y="13811"/>
                    <a:pt x="7144" y="22384"/>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82" name="任意多边形: 形状 144"/>
            <p:cNvSpPr/>
            <p:nvPr/>
          </p:nvSpPr>
          <p:spPr>
            <a:xfrm>
              <a:off x="6962760" y="75564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7144" y="22384"/>
                  </a:moveTo>
                  <a:cubicBezTo>
                    <a:pt x="7144" y="30956"/>
                    <a:pt x="13811" y="-27912"/>
                    <a:pt x="22384" y="-27912"/>
                  </a:cubicBezTo>
                  <a:cubicBezTo>
                    <a:pt x="30956" y="-27912"/>
                    <a:pt x="-27912" y="30956"/>
                    <a:pt x="-27912" y="22384"/>
                  </a:cubicBezTo>
                  <a:cubicBezTo>
                    <a:pt x="-27912" y="13811"/>
                    <a:pt x="30956" y="7144"/>
                    <a:pt x="22384" y="7144"/>
                  </a:cubicBezTo>
                  <a:cubicBezTo>
                    <a:pt x="13811" y="7144"/>
                    <a:pt x="7144" y="13811"/>
                    <a:pt x="7144" y="22384"/>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83" name="任意多边形: 形状 145"/>
            <p:cNvSpPr/>
            <p:nvPr/>
          </p:nvSpPr>
          <p:spPr>
            <a:xfrm>
              <a:off x="7119720" y="878400"/>
              <a:ext cx="50040" cy="55440"/>
            </a:xfrm>
            <a:custGeom>
              <a:avLst/>
              <a:gdLst>
                <a:gd name="textAreaLeft" fmla="*/ 0 w 50040"/>
                <a:gd name="textAreaRight" fmla="*/ 50400 w 50040"/>
                <a:gd name="textAreaTop" fmla="*/ 0 h 55440"/>
                <a:gd name="textAreaBottom" fmla="*/ 55800 h 55440"/>
              </a:gdLst>
              <a:ahLst/>
              <a:rect l="textAreaLeft" t="textAreaTop" r="textAreaRight" b="textAreaBottom"/>
              <a:pathLst>
                <a:path w="28575" h="28575">
                  <a:moveTo>
                    <a:pt x="7144" y="17621"/>
                  </a:moveTo>
                  <a:cubicBezTo>
                    <a:pt x="7144" y="23336"/>
                    <a:pt x="11906" y="28099"/>
                    <a:pt x="17621" y="28099"/>
                  </a:cubicBezTo>
                  <a:cubicBezTo>
                    <a:pt x="23336" y="28099"/>
                    <a:pt x="28099" y="23336"/>
                    <a:pt x="28099" y="17621"/>
                  </a:cubicBezTo>
                  <a:cubicBezTo>
                    <a:pt x="28099" y="11906"/>
                    <a:pt x="23336" y="7144"/>
                    <a:pt x="17621" y="7144"/>
                  </a:cubicBezTo>
                  <a:cubicBezTo>
                    <a:pt x="11906" y="7144"/>
                    <a:pt x="7144" y="11906"/>
                    <a:pt x="7144" y="17621"/>
                  </a:cubicBezTo>
                  <a:close/>
                </a:path>
              </a:pathLst>
            </a:custGeom>
            <a:solidFill>
              <a:srgbClr val="ffc49c"/>
            </a:solidFill>
            <a:ln w="0">
              <a:noFill/>
            </a:ln>
          </p:spPr>
          <p:style>
            <a:lnRef idx="0"/>
            <a:fillRef idx="0"/>
            <a:effectRef idx="0"/>
            <a:fontRef idx="minor"/>
          </p:style>
          <p:txBody>
            <a:bodyPr lIns="90000" rIns="90000" tIns="9000" bIns="9000" anchor="ctr">
              <a:noAutofit/>
            </a:bodyPr>
            <a:p>
              <a:endParaRPr b="0" lang="en-US" sz="1800" spc="-1" strike="noStrike">
                <a:solidFill>
                  <a:srgbClr val="262626"/>
                </a:solidFill>
                <a:latin typeface="Arial"/>
              </a:endParaRPr>
            </a:p>
          </p:txBody>
        </p:sp>
        <p:sp>
          <p:nvSpPr>
            <p:cNvPr id="384" name="任意多边形: 形状 146"/>
            <p:cNvSpPr/>
            <p:nvPr/>
          </p:nvSpPr>
          <p:spPr>
            <a:xfrm>
              <a:off x="7223760" y="669240"/>
              <a:ext cx="150120" cy="74160"/>
            </a:xfrm>
            <a:custGeom>
              <a:avLst/>
              <a:gdLst>
                <a:gd name="textAreaLeft" fmla="*/ 0 w 150120"/>
                <a:gd name="textAreaRight" fmla="*/ 150480 w 150120"/>
                <a:gd name="textAreaTop" fmla="*/ 0 h 74160"/>
                <a:gd name="textAreaBottom" fmla="*/ 74520 h 74160"/>
              </a:gdLst>
              <a:ahLst/>
              <a:rect l="textAreaLeft" t="textAreaTop" r="textAreaRight" b="textAreaBottom"/>
              <a:pathLst>
                <a:path w="85725" h="38100">
                  <a:moveTo>
                    <a:pt x="21087" y="29527"/>
                  </a:moveTo>
                  <a:cubicBezTo>
                    <a:pt x="35374" y="20002"/>
                    <a:pt x="54424" y="20002"/>
                    <a:pt x="69664" y="29527"/>
                  </a:cubicBezTo>
                  <a:cubicBezTo>
                    <a:pt x="73474" y="32385"/>
                    <a:pt x="78237" y="32385"/>
                    <a:pt x="81094" y="29527"/>
                  </a:cubicBezTo>
                  <a:cubicBezTo>
                    <a:pt x="83951" y="26670"/>
                    <a:pt x="82999" y="20955"/>
                    <a:pt x="77284" y="17145"/>
                  </a:cubicBezTo>
                  <a:cubicBezTo>
                    <a:pt x="58234" y="3810"/>
                    <a:pt x="32517" y="3810"/>
                    <a:pt x="12514" y="17145"/>
                  </a:cubicBezTo>
                  <a:cubicBezTo>
                    <a:pt x="6799" y="20955"/>
                    <a:pt x="5847" y="26670"/>
                    <a:pt x="8704" y="29527"/>
                  </a:cubicBezTo>
                  <a:cubicBezTo>
                    <a:pt x="11562" y="32385"/>
                    <a:pt x="17276" y="31432"/>
                    <a:pt x="21087" y="29527"/>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85" name="任意多边形: 形状 147"/>
            <p:cNvSpPr/>
            <p:nvPr/>
          </p:nvSpPr>
          <p:spPr>
            <a:xfrm>
              <a:off x="6923160" y="663840"/>
              <a:ext cx="150120" cy="74160"/>
            </a:xfrm>
            <a:custGeom>
              <a:avLst/>
              <a:gdLst>
                <a:gd name="textAreaLeft" fmla="*/ 0 w 150120"/>
                <a:gd name="textAreaRight" fmla="*/ 150480 w 150120"/>
                <a:gd name="textAreaTop" fmla="*/ 0 h 74160"/>
                <a:gd name="textAreaBottom" fmla="*/ 74520 h 74160"/>
              </a:gdLst>
              <a:ahLst/>
              <a:rect l="textAreaLeft" t="textAreaTop" r="textAreaRight" b="textAreaBottom"/>
              <a:pathLst>
                <a:path w="85725" h="38100">
                  <a:moveTo>
                    <a:pt x="21087" y="29527"/>
                  </a:moveTo>
                  <a:cubicBezTo>
                    <a:pt x="35374" y="20002"/>
                    <a:pt x="54424" y="20002"/>
                    <a:pt x="69664" y="29527"/>
                  </a:cubicBezTo>
                  <a:cubicBezTo>
                    <a:pt x="73474" y="32385"/>
                    <a:pt x="78237" y="32385"/>
                    <a:pt x="81094" y="29527"/>
                  </a:cubicBezTo>
                  <a:cubicBezTo>
                    <a:pt x="83951" y="26670"/>
                    <a:pt x="82999" y="20955"/>
                    <a:pt x="77284" y="17145"/>
                  </a:cubicBezTo>
                  <a:cubicBezTo>
                    <a:pt x="58234" y="3810"/>
                    <a:pt x="32517" y="3810"/>
                    <a:pt x="12514" y="17145"/>
                  </a:cubicBezTo>
                  <a:cubicBezTo>
                    <a:pt x="6799" y="20955"/>
                    <a:pt x="5847" y="26670"/>
                    <a:pt x="8704" y="29527"/>
                  </a:cubicBezTo>
                  <a:cubicBezTo>
                    <a:pt x="11562" y="33338"/>
                    <a:pt x="17276" y="32385"/>
                    <a:pt x="21087" y="29527"/>
                  </a:cubicBezTo>
                  <a:close/>
                </a:path>
              </a:pathLst>
            </a:custGeom>
            <a:solidFill>
              <a:srgbClr val="3e2e21"/>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86" name="任意多边形: 形状 148"/>
            <p:cNvSpPr/>
            <p:nvPr/>
          </p:nvSpPr>
          <p:spPr>
            <a:xfrm>
              <a:off x="7490160" y="2701440"/>
              <a:ext cx="266760" cy="259920"/>
            </a:xfrm>
            <a:custGeom>
              <a:avLst/>
              <a:gdLst>
                <a:gd name="textAreaLeft" fmla="*/ 0 w 266760"/>
                <a:gd name="textAreaRight" fmla="*/ 267120 w 266760"/>
                <a:gd name="textAreaTop" fmla="*/ 0 h 259920"/>
                <a:gd name="textAreaBottom" fmla="*/ 260280 h 259920"/>
              </a:gdLst>
              <a:ahLst/>
              <a:rect l="textAreaLeft" t="textAreaTop" r="textAreaRight" b="textAreaBottom"/>
              <a:pathLst>
                <a:path w="152400" h="133350">
                  <a:moveTo>
                    <a:pt x="49054" y="7144"/>
                  </a:moveTo>
                  <a:lnTo>
                    <a:pt x="7144" y="67151"/>
                  </a:lnTo>
                  <a:lnTo>
                    <a:pt x="94774" y="130016"/>
                  </a:lnTo>
                  <a:lnTo>
                    <a:pt x="147161" y="83344"/>
                  </a:lnTo>
                  <a:lnTo>
                    <a:pt x="49054" y="7144"/>
                  </a:ln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87" name="任意多边形: 形状 149"/>
            <p:cNvSpPr/>
            <p:nvPr/>
          </p:nvSpPr>
          <p:spPr>
            <a:xfrm>
              <a:off x="7477920" y="2818440"/>
              <a:ext cx="183600" cy="389880"/>
            </a:xfrm>
            <a:custGeom>
              <a:avLst/>
              <a:gdLst>
                <a:gd name="textAreaLeft" fmla="*/ 0 w 183600"/>
                <a:gd name="textAreaRight" fmla="*/ 183960 w 183600"/>
                <a:gd name="textAreaTop" fmla="*/ 0 h 389880"/>
                <a:gd name="textAreaBottom" fmla="*/ 390240 h 389880"/>
              </a:gdLst>
              <a:ahLst/>
              <a:rect l="textAreaLeft" t="textAreaTop" r="textAreaRight" b="textAreaBottom"/>
              <a:pathLst>
                <a:path w="104775" h="200025">
                  <a:moveTo>
                    <a:pt x="101865" y="70009"/>
                  </a:moveTo>
                  <a:lnTo>
                    <a:pt x="13282" y="7144"/>
                  </a:lnTo>
                  <a:lnTo>
                    <a:pt x="7567" y="63341"/>
                  </a:lnTo>
                  <a:cubicBezTo>
                    <a:pt x="7567" y="68104"/>
                    <a:pt x="6615" y="71914"/>
                    <a:pt x="7567" y="76676"/>
                  </a:cubicBezTo>
                  <a:lnTo>
                    <a:pt x="12330" y="165259"/>
                  </a:lnTo>
                  <a:cubicBezTo>
                    <a:pt x="13282" y="178594"/>
                    <a:pt x="22807" y="190024"/>
                    <a:pt x="36142" y="191929"/>
                  </a:cubicBezTo>
                  <a:lnTo>
                    <a:pt x="69480" y="197644"/>
                  </a:lnTo>
                  <a:cubicBezTo>
                    <a:pt x="86624" y="200501"/>
                    <a:pt x="101865" y="187166"/>
                    <a:pt x="101865" y="170021"/>
                  </a:cubicBezTo>
                  <a:lnTo>
                    <a:pt x="101865" y="142399"/>
                  </a:lnTo>
                  <a:lnTo>
                    <a:pt x="101865" y="70009"/>
                  </a:ln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88" name="任意多边形: 形状 150"/>
            <p:cNvSpPr/>
            <p:nvPr/>
          </p:nvSpPr>
          <p:spPr>
            <a:xfrm>
              <a:off x="6706080" y="2941200"/>
              <a:ext cx="951480" cy="1281960"/>
            </a:xfrm>
            <a:custGeom>
              <a:avLst/>
              <a:gdLst>
                <a:gd name="textAreaLeft" fmla="*/ 0 w 951480"/>
                <a:gd name="textAreaRight" fmla="*/ 951840 w 951480"/>
                <a:gd name="textAreaTop" fmla="*/ 0 h 1281960"/>
                <a:gd name="textAreaBottom" fmla="*/ 1282320 h 1281960"/>
              </a:gdLst>
              <a:ahLst/>
              <a:rect l="textAreaLeft" t="textAreaTop" r="textAreaRight" b="textAreaBottom"/>
              <a:pathLst>
                <a:path w="542925" h="657225">
                  <a:moveTo>
                    <a:pt x="449778" y="651034"/>
                  </a:moveTo>
                  <a:lnTo>
                    <a:pt x="510738" y="471964"/>
                  </a:lnTo>
                  <a:cubicBezTo>
                    <a:pt x="564078" y="315754"/>
                    <a:pt x="540266" y="143351"/>
                    <a:pt x="447873" y="7144"/>
                  </a:cubicBezTo>
                  <a:lnTo>
                    <a:pt x="48776" y="7144"/>
                  </a:lnTo>
                  <a:cubicBezTo>
                    <a:pt x="6866" y="190024"/>
                    <a:pt x="-3612" y="378619"/>
                    <a:pt x="18296" y="565309"/>
                  </a:cubicBezTo>
                  <a:lnTo>
                    <a:pt x="28773" y="651034"/>
                  </a:lnTo>
                  <a:lnTo>
                    <a:pt x="449778" y="651034"/>
                  </a:lnTo>
                  <a:close/>
                </a:path>
              </a:pathLst>
            </a:custGeom>
            <a:solidFill>
              <a:srgbClr val="4a494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89" name="任意多边形: 形状 151"/>
            <p:cNvSpPr/>
            <p:nvPr/>
          </p:nvSpPr>
          <p:spPr>
            <a:xfrm>
              <a:off x="7038000" y="2941200"/>
              <a:ext cx="617400" cy="1281960"/>
            </a:xfrm>
            <a:custGeom>
              <a:avLst/>
              <a:gdLst>
                <a:gd name="textAreaLeft" fmla="*/ 0 w 617400"/>
                <a:gd name="textAreaRight" fmla="*/ 617400 w 617400"/>
                <a:gd name="textAreaTop" fmla="*/ 0 h 1281960"/>
                <a:gd name="textAreaBottom" fmla="*/ 1282320 h 1281960"/>
              </a:gdLst>
              <a:ahLst/>
              <a:rect l="textAreaLeft" t="textAreaTop" r="textAreaRight" b="textAreaBottom"/>
              <a:pathLst>
                <a:path w="352425" h="657225">
                  <a:moveTo>
                    <a:pt x="258604" y="7144"/>
                  </a:moveTo>
                  <a:lnTo>
                    <a:pt x="7144" y="7144"/>
                  </a:lnTo>
                  <a:lnTo>
                    <a:pt x="7144" y="651034"/>
                  </a:lnTo>
                  <a:lnTo>
                    <a:pt x="260509" y="651034"/>
                  </a:lnTo>
                  <a:lnTo>
                    <a:pt x="321469" y="471964"/>
                  </a:lnTo>
                  <a:cubicBezTo>
                    <a:pt x="373856" y="315754"/>
                    <a:pt x="350996" y="143351"/>
                    <a:pt x="258604" y="7144"/>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90" name="任意多边形: 形状 152"/>
            <p:cNvSpPr/>
            <p:nvPr/>
          </p:nvSpPr>
          <p:spPr>
            <a:xfrm>
              <a:off x="6764040" y="2941200"/>
              <a:ext cx="784440" cy="129960"/>
            </a:xfrm>
            <a:custGeom>
              <a:avLst/>
              <a:gdLst>
                <a:gd name="textAreaLeft" fmla="*/ 0 w 784440"/>
                <a:gd name="textAreaRight" fmla="*/ 784800 w 784440"/>
                <a:gd name="textAreaTop" fmla="*/ 0 h 129960"/>
                <a:gd name="textAreaBottom" fmla="*/ 130320 h 129960"/>
              </a:gdLst>
              <a:ahLst/>
              <a:rect l="textAreaLeft" t="textAreaTop" r="textAreaRight" b="textAreaBottom"/>
              <a:pathLst>
                <a:path w="447675" h="66675">
                  <a:moveTo>
                    <a:pt x="7144" y="64294"/>
                  </a:moveTo>
                  <a:lnTo>
                    <a:pt x="15716" y="7144"/>
                  </a:lnTo>
                  <a:lnTo>
                    <a:pt x="414814" y="7144"/>
                  </a:lnTo>
                  <a:lnTo>
                    <a:pt x="448151" y="64294"/>
                  </a:lnTo>
                  <a:lnTo>
                    <a:pt x="7144" y="64294"/>
                  </a:lnTo>
                  <a:close/>
                </a:path>
              </a:pathLst>
            </a:custGeom>
            <a:solidFill>
              <a:srgbClr val="3c3a3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91" name="任意多边形: 形状 153"/>
            <p:cNvSpPr/>
            <p:nvPr/>
          </p:nvSpPr>
          <p:spPr>
            <a:xfrm>
              <a:off x="7027920" y="1370880"/>
              <a:ext cx="483840" cy="1133280"/>
            </a:xfrm>
            <a:custGeom>
              <a:avLst/>
              <a:gdLst>
                <a:gd name="textAreaLeft" fmla="*/ 0 w 483840"/>
                <a:gd name="textAreaRight" fmla="*/ 484200 w 483840"/>
                <a:gd name="textAreaTop" fmla="*/ 0 h 1133280"/>
                <a:gd name="textAreaBottom" fmla="*/ 1133640 h 1133280"/>
              </a:gdLst>
              <a:ahLst/>
              <a:rect l="textAreaLeft" t="textAreaTop" r="textAreaRight" b="textAreaBottom"/>
              <a:pathLst>
                <a:path w="276225" h="581025">
                  <a:moveTo>
                    <a:pt x="193834" y="7144"/>
                  </a:moveTo>
                  <a:lnTo>
                    <a:pt x="7144" y="579596"/>
                  </a:lnTo>
                  <a:lnTo>
                    <a:pt x="225266" y="282416"/>
                  </a:lnTo>
                  <a:lnTo>
                    <a:pt x="212884" y="228124"/>
                  </a:lnTo>
                  <a:lnTo>
                    <a:pt x="250031" y="208121"/>
                  </a:lnTo>
                  <a:lnTo>
                    <a:pt x="277654" y="40481"/>
                  </a:lnTo>
                  <a:lnTo>
                    <a:pt x="193834" y="7144"/>
                  </a:lnTo>
                  <a:close/>
                </a:path>
              </a:pathLst>
            </a:custGeom>
            <a:solidFill>
              <a:srgbClr val="3c3a3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92" name="任意多边形: 形状 154"/>
            <p:cNvSpPr/>
            <p:nvPr/>
          </p:nvSpPr>
          <p:spPr>
            <a:xfrm>
              <a:off x="6822720" y="1350360"/>
              <a:ext cx="216720" cy="1152000"/>
            </a:xfrm>
            <a:custGeom>
              <a:avLst/>
              <a:gdLst>
                <a:gd name="textAreaLeft" fmla="*/ 0 w 216720"/>
                <a:gd name="textAreaRight" fmla="*/ 217080 w 216720"/>
                <a:gd name="textAreaTop" fmla="*/ 0 h 1152000"/>
                <a:gd name="textAreaBottom" fmla="*/ 1152360 h 1152000"/>
              </a:gdLst>
              <a:ahLst/>
              <a:rect l="textAreaLeft" t="textAreaTop" r="textAreaRight" b="textAreaBottom"/>
              <a:pathLst>
                <a:path w="123825" h="590550">
                  <a:moveTo>
                    <a:pt x="87154" y="7144"/>
                  </a:moveTo>
                  <a:lnTo>
                    <a:pt x="124301" y="590074"/>
                  </a:lnTo>
                  <a:lnTo>
                    <a:pt x="25241" y="301466"/>
                  </a:lnTo>
                  <a:lnTo>
                    <a:pt x="63341" y="226219"/>
                  </a:lnTo>
                  <a:lnTo>
                    <a:pt x="7144" y="170974"/>
                  </a:lnTo>
                  <a:lnTo>
                    <a:pt x="28099" y="28099"/>
                  </a:lnTo>
                  <a:lnTo>
                    <a:pt x="87154" y="7144"/>
                  </a:lnTo>
                  <a:close/>
                </a:path>
              </a:pathLst>
            </a:custGeom>
            <a:solidFill>
              <a:srgbClr val="3c3a3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93" name="任意多边形: 形状 155"/>
            <p:cNvSpPr/>
            <p:nvPr/>
          </p:nvSpPr>
          <p:spPr>
            <a:xfrm>
              <a:off x="6896160" y="889560"/>
              <a:ext cx="150120" cy="111240"/>
            </a:xfrm>
            <a:custGeom>
              <a:avLst/>
              <a:gdLst>
                <a:gd name="textAreaLeft" fmla="*/ 0 w 150120"/>
                <a:gd name="textAreaRight" fmla="*/ 150480 w 150120"/>
                <a:gd name="textAreaTop" fmla="*/ 0 h 111240"/>
                <a:gd name="textAreaBottom" fmla="*/ 111600 h 111240"/>
              </a:gdLst>
              <a:ahLst/>
              <a:rect l="textAreaLeft" t="textAreaTop" r="textAreaRight" b="textAreaBottom"/>
              <a:pathLst>
                <a:path w="85725" h="57150">
                  <a:moveTo>
                    <a:pt x="83344" y="30004"/>
                  </a:moveTo>
                  <a:cubicBezTo>
                    <a:pt x="83344" y="42629"/>
                    <a:pt x="66286" y="52864"/>
                    <a:pt x="45244" y="52864"/>
                  </a:cubicBezTo>
                  <a:cubicBezTo>
                    <a:pt x="24202" y="52864"/>
                    <a:pt x="7144" y="42629"/>
                    <a:pt x="7144" y="30004"/>
                  </a:cubicBezTo>
                  <a:cubicBezTo>
                    <a:pt x="7144" y="17378"/>
                    <a:pt x="24202" y="7144"/>
                    <a:pt x="45244" y="7144"/>
                  </a:cubicBezTo>
                  <a:cubicBezTo>
                    <a:pt x="66286" y="7144"/>
                    <a:pt x="83344" y="17379"/>
                    <a:pt x="83344" y="30004"/>
                  </a:cubicBez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94" name="任意多边形: 形状 156"/>
            <p:cNvSpPr/>
            <p:nvPr/>
          </p:nvSpPr>
          <p:spPr>
            <a:xfrm>
              <a:off x="7250040" y="889560"/>
              <a:ext cx="150120" cy="111240"/>
            </a:xfrm>
            <a:custGeom>
              <a:avLst/>
              <a:gdLst>
                <a:gd name="textAreaLeft" fmla="*/ 0 w 150120"/>
                <a:gd name="textAreaRight" fmla="*/ 150480 w 150120"/>
                <a:gd name="textAreaTop" fmla="*/ 0 h 111240"/>
                <a:gd name="textAreaBottom" fmla="*/ 111600 h 111240"/>
              </a:gdLst>
              <a:ahLst/>
              <a:rect l="textAreaLeft" t="textAreaTop" r="textAreaRight" b="textAreaBottom"/>
              <a:pathLst>
                <a:path w="85725" h="57150">
                  <a:moveTo>
                    <a:pt x="83344" y="30004"/>
                  </a:moveTo>
                  <a:cubicBezTo>
                    <a:pt x="83344" y="42386"/>
                    <a:pt x="66199" y="52864"/>
                    <a:pt x="45244" y="52864"/>
                  </a:cubicBezTo>
                  <a:cubicBezTo>
                    <a:pt x="24289" y="52864"/>
                    <a:pt x="7144" y="42386"/>
                    <a:pt x="7144" y="30004"/>
                  </a:cubicBezTo>
                  <a:cubicBezTo>
                    <a:pt x="7144" y="17621"/>
                    <a:pt x="24289" y="7144"/>
                    <a:pt x="45244" y="7144"/>
                  </a:cubicBezTo>
                  <a:cubicBezTo>
                    <a:pt x="67151" y="7144"/>
                    <a:pt x="83344" y="17621"/>
                    <a:pt x="83344" y="30004"/>
                  </a:cubicBezTo>
                  <a:close/>
                </a:path>
              </a:pathLst>
            </a:custGeom>
            <a:solidFill>
              <a:srgbClr val="ff9d7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95" name="任意多边形: 形状 157"/>
            <p:cNvSpPr/>
            <p:nvPr/>
          </p:nvSpPr>
          <p:spPr>
            <a:xfrm>
              <a:off x="7151400" y="257760"/>
              <a:ext cx="367200" cy="520200"/>
            </a:xfrm>
            <a:custGeom>
              <a:avLst/>
              <a:gdLst>
                <a:gd name="textAreaLeft" fmla="*/ 0 w 367200"/>
                <a:gd name="textAreaRight" fmla="*/ 367560 w 367200"/>
                <a:gd name="textAreaTop" fmla="*/ 0 h 520200"/>
                <a:gd name="textAreaBottom" fmla="*/ 520560 h 520200"/>
              </a:gdLst>
              <a:ahLst/>
              <a:rect l="textAreaLeft" t="textAreaTop" r="textAreaRight" b="textAreaBottom"/>
              <a:pathLst>
                <a:path w="209550" h="266700">
                  <a:moveTo>
                    <a:pt x="204311" y="201454"/>
                  </a:moveTo>
                  <a:lnTo>
                    <a:pt x="181451" y="262414"/>
                  </a:lnTo>
                  <a:lnTo>
                    <a:pt x="168116" y="228124"/>
                  </a:lnTo>
                  <a:cubicBezTo>
                    <a:pt x="159544" y="217646"/>
                    <a:pt x="149066" y="209074"/>
                    <a:pt x="137636" y="203359"/>
                  </a:cubicBezTo>
                  <a:cubicBezTo>
                    <a:pt x="127159" y="197644"/>
                    <a:pt x="115729" y="193834"/>
                    <a:pt x="104299" y="191929"/>
                  </a:cubicBezTo>
                  <a:cubicBezTo>
                    <a:pt x="95726" y="190024"/>
                    <a:pt x="87154" y="188119"/>
                    <a:pt x="79534" y="184309"/>
                  </a:cubicBezTo>
                  <a:cubicBezTo>
                    <a:pt x="51911" y="170974"/>
                    <a:pt x="32861" y="148114"/>
                    <a:pt x="29051" y="134779"/>
                  </a:cubicBezTo>
                  <a:lnTo>
                    <a:pt x="7144" y="46196"/>
                  </a:lnTo>
                  <a:cubicBezTo>
                    <a:pt x="24289" y="22384"/>
                    <a:pt x="53816" y="7144"/>
                    <a:pt x="81439" y="7144"/>
                  </a:cubicBezTo>
                  <a:cubicBezTo>
                    <a:pt x="100489" y="7144"/>
                    <a:pt x="119539" y="12859"/>
                    <a:pt x="135731" y="26194"/>
                  </a:cubicBezTo>
                  <a:cubicBezTo>
                    <a:pt x="148114" y="35719"/>
                    <a:pt x="158591" y="47149"/>
                    <a:pt x="168116" y="58579"/>
                  </a:cubicBezTo>
                  <a:cubicBezTo>
                    <a:pt x="180499" y="74771"/>
                    <a:pt x="190976" y="93821"/>
                    <a:pt x="196691" y="112871"/>
                  </a:cubicBezTo>
                  <a:cubicBezTo>
                    <a:pt x="206216" y="140494"/>
                    <a:pt x="209074" y="170974"/>
                    <a:pt x="204311" y="201454"/>
                  </a:cubicBezTo>
                  <a:close/>
                </a:path>
              </a:pathLst>
            </a:custGeom>
            <a:solidFill>
              <a:srgbClr val="692e1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96" name="任意多边形: 形状 158"/>
            <p:cNvSpPr/>
            <p:nvPr/>
          </p:nvSpPr>
          <p:spPr>
            <a:xfrm>
              <a:off x="6559560" y="236160"/>
              <a:ext cx="650880" cy="1542240"/>
            </a:xfrm>
            <a:custGeom>
              <a:avLst/>
              <a:gdLst>
                <a:gd name="textAreaLeft" fmla="*/ 0 w 650880"/>
                <a:gd name="textAreaRight" fmla="*/ 651240 w 650880"/>
                <a:gd name="textAreaTop" fmla="*/ 0 h 1542240"/>
                <a:gd name="textAreaBottom" fmla="*/ 1542600 h 1542240"/>
              </a:gdLst>
              <a:ahLst/>
              <a:rect l="textAreaLeft" t="textAreaTop" r="textAreaRight" b="textAreaBottom"/>
              <a:pathLst>
                <a:path w="371475" h="790575">
                  <a:moveTo>
                    <a:pt x="370466" y="145935"/>
                  </a:moveTo>
                  <a:lnTo>
                    <a:pt x="319031" y="154507"/>
                  </a:lnTo>
                  <a:cubicBezTo>
                    <a:pt x="305696" y="156412"/>
                    <a:pt x="292361" y="160222"/>
                    <a:pt x="279978" y="164985"/>
                  </a:cubicBezTo>
                  <a:cubicBezTo>
                    <a:pt x="255213" y="173557"/>
                    <a:pt x="233306" y="186892"/>
                    <a:pt x="213303" y="203085"/>
                  </a:cubicBezTo>
                  <a:cubicBezTo>
                    <a:pt x="206636" y="208800"/>
                    <a:pt x="201873" y="214515"/>
                    <a:pt x="197111" y="221182"/>
                  </a:cubicBezTo>
                  <a:cubicBezTo>
                    <a:pt x="182823" y="240232"/>
                    <a:pt x="175203" y="263092"/>
                    <a:pt x="175203" y="286905"/>
                  </a:cubicBezTo>
                  <a:lnTo>
                    <a:pt x="216161" y="585037"/>
                  </a:lnTo>
                  <a:lnTo>
                    <a:pt x="130436" y="615517"/>
                  </a:lnTo>
                  <a:cubicBezTo>
                    <a:pt x="102813" y="624090"/>
                    <a:pt x="60903" y="788872"/>
                    <a:pt x="60903" y="788872"/>
                  </a:cubicBezTo>
                  <a:lnTo>
                    <a:pt x="47568" y="710767"/>
                  </a:lnTo>
                  <a:cubicBezTo>
                    <a:pt x="40901" y="676478"/>
                    <a:pt x="46616" y="642187"/>
                    <a:pt x="58998" y="610755"/>
                  </a:cubicBezTo>
                  <a:cubicBezTo>
                    <a:pt x="75191" y="569797"/>
                    <a:pt x="69476" y="522172"/>
                    <a:pt x="41853" y="485025"/>
                  </a:cubicBezTo>
                  <a:lnTo>
                    <a:pt x="27566" y="465975"/>
                  </a:lnTo>
                  <a:cubicBezTo>
                    <a:pt x="-4819" y="422160"/>
                    <a:pt x="1848" y="361200"/>
                    <a:pt x="43758" y="325957"/>
                  </a:cubicBezTo>
                  <a:cubicBezTo>
                    <a:pt x="82811" y="292620"/>
                    <a:pt x="107576" y="244995"/>
                    <a:pt x="117101" y="193560"/>
                  </a:cubicBezTo>
                  <a:lnTo>
                    <a:pt x="128531" y="131647"/>
                  </a:lnTo>
                  <a:cubicBezTo>
                    <a:pt x="132341" y="111645"/>
                    <a:pt x="140913" y="92595"/>
                    <a:pt x="153296" y="76402"/>
                  </a:cubicBezTo>
                  <a:cubicBezTo>
                    <a:pt x="158058" y="69735"/>
                    <a:pt x="163773" y="64972"/>
                    <a:pt x="169488" y="59257"/>
                  </a:cubicBezTo>
                  <a:cubicBezTo>
                    <a:pt x="176156" y="53542"/>
                    <a:pt x="181871" y="47827"/>
                    <a:pt x="187586" y="41160"/>
                  </a:cubicBezTo>
                  <a:cubicBezTo>
                    <a:pt x="193301" y="35445"/>
                    <a:pt x="199016" y="29730"/>
                    <a:pt x="204731" y="25920"/>
                  </a:cubicBezTo>
                  <a:cubicBezTo>
                    <a:pt x="204731" y="25920"/>
                    <a:pt x="204731" y="25920"/>
                    <a:pt x="204731" y="25920"/>
                  </a:cubicBezTo>
                  <a:cubicBezTo>
                    <a:pt x="246641" y="-3608"/>
                    <a:pt x="305696" y="1155"/>
                    <a:pt x="339033" y="44017"/>
                  </a:cubicBezTo>
                  <a:lnTo>
                    <a:pt x="348558" y="56400"/>
                  </a:lnTo>
                  <a:lnTo>
                    <a:pt x="370466" y="145935"/>
                  </a:lnTo>
                  <a:close/>
                </a:path>
              </a:pathLst>
            </a:custGeom>
            <a:solidFill>
              <a:srgbClr val="692e1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97" name="任意多边形: 形状 159"/>
            <p:cNvSpPr/>
            <p:nvPr/>
          </p:nvSpPr>
          <p:spPr>
            <a:xfrm>
              <a:off x="7448400" y="889560"/>
              <a:ext cx="66600" cy="74160"/>
            </a:xfrm>
            <a:custGeom>
              <a:avLst/>
              <a:gdLst>
                <a:gd name="textAreaLeft" fmla="*/ 0 w 66600"/>
                <a:gd name="textAreaRight" fmla="*/ 66960 w 66600"/>
                <a:gd name="textAreaTop" fmla="*/ 0 h 74160"/>
                <a:gd name="textAreaBottom" fmla="*/ 74520 h 74160"/>
              </a:gdLst>
              <a:ahLst/>
              <a:rect l="textAreaLeft" t="textAreaTop" r="textAreaRight" b="textAreaBottom"/>
              <a:pathLst>
                <a:path w="38100" h="38100">
                  <a:moveTo>
                    <a:pt x="31909" y="19526"/>
                  </a:moveTo>
                  <a:cubicBezTo>
                    <a:pt x="31909" y="26194"/>
                    <a:pt x="26194" y="31909"/>
                    <a:pt x="19526" y="31909"/>
                  </a:cubicBezTo>
                  <a:cubicBezTo>
                    <a:pt x="12859" y="31909"/>
                    <a:pt x="7144" y="26194"/>
                    <a:pt x="7144" y="19526"/>
                  </a:cubicBezTo>
                  <a:cubicBezTo>
                    <a:pt x="7144" y="12859"/>
                    <a:pt x="12859" y="7144"/>
                    <a:pt x="19526" y="7144"/>
                  </a:cubicBezTo>
                  <a:cubicBezTo>
                    <a:pt x="26194" y="7144"/>
                    <a:pt x="31909" y="12859"/>
                    <a:pt x="31909" y="19526"/>
                  </a:cubicBezTo>
                  <a:close/>
                </a:path>
              </a:pathLst>
            </a:custGeom>
            <a:solidFill>
              <a:srgbClr val="fdfdfd"/>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398" name="任意多边形: 形状 160"/>
            <p:cNvSpPr/>
            <p:nvPr/>
          </p:nvSpPr>
          <p:spPr>
            <a:xfrm>
              <a:off x="6815160" y="270720"/>
              <a:ext cx="233640" cy="408600"/>
            </a:xfrm>
            <a:custGeom>
              <a:avLst/>
              <a:gdLst>
                <a:gd name="textAreaLeft" fmla="*/ 0 w 233640"/>
                <a:gd name="textAreaRight" fmla="*/ 234000 w 233640"/>
                <a:gd name="textAreaTop" fmla="*/ 0 h 408600"/>
                <a:gd name="textAreaBottom" fmla="*/ 408960 h 408600"/>
              </a:gdLst>
              <a:ahLst/>
              <a:rect l="textAreaLeft" t="textAreaTop" r="textAreaRight" b="textAreaBottom"/>
              <a:pathLst>
                <a:path w="133350" h="209550">
                  <a:moveTo>
                    <a:pt x="134221" y="146209"/>
                  </a:moveTo>
                  <a:cubicBezTo>
                    <a:pt x="109456" y="154781"/>
                    <a:pt x="87548" y="168116"/>
                    <a:pt x="67546" y="184309"/>
                  </a:cubicBezTo>
                  <a:cubicBezTo>
                    <a:pt x="60878" y="190024"/>
                    <a:pt x="56116" y="195739"/>
                    <a:pt x="51353" y="202406"/>
                  </a:cubicBezTo>
                  <a:cubicBezTo>
                    <a:pt x="48496" y="200501"/>
                    <a:pt x="45638" y="198596"/>
                    <a:pt x="42781" y="196691"/>
                  </a:cubicBezTo>
                  <a:cubicBezTo>
                    <a:pt x="30398" y="184309"/>
                    <a:pt x="20873" y="169069"/>
                    <a:pt x="15158" y="151924"/>
                  </a:cubicBezTo>
                  <a:cubicBezTo>
                    <a:pt x="10396" y="136684"/>
                    <a:pt x="9443" y="119539"/>
                    <a:pt x="8491" y="103346"/>
                  </a:cubicBezTo>
                  <a:cubicBezTo>
                    <a:pt x="7538" y="88106"/>
                    <a:pt x="6586" y="73819"/>
                    <a:pt x="7538" y="58579"/>
                  </a:cubicBezTo>
                  <a:cubicBezTo>
                    <a:pt x="12301" y="51911"/>
                    <a:pt x="18016" y="47149"/>
                    <a:pt x="23731" y="41434"/>
                  </a:cubicBezTo>
                  <a:cubicBezTo>
                    <a:pt x="30398" y="35719"/>
                    <a:pt x="37066" y="29051"/>
                    <a:pt x="42781" y="22384"/>
                  </a:cubicBezTo>
                  <a:cubicBezTo>
                    <a:pt x="47543" y="16669"/>
                    <a:pt x="53258" y="11906"/>
                    <a:pt x="58973" y="7144"/>
                  </a:cubicBezTo>
                  <a:cubicBezTo>
                    <a:pt x="59926" y="11906"/>
                    <a:pt x="59926" y="16669"/>
                    <a:pt x="59926" y="21431"/>
                  </a:cubicBezTo>
                  <a:cubicBezTo>
                    <a:pt x="63736" y="69056"/>
                    <a:pt x="90406" y="114776"/>
                    <a:pt x="129458" y="142399"/>
                  </a:cubicBezTo>
                  <a:cubicBezTo>
                    <a:pt x="131363" y="144304"/>
                    <a:pt x="132316" y="145256"/>
                    <a:pt x="134221" y="146209"/>
                  </a:cubicBezTo>
                  <a:close/>
                </a:path>
              </a:pathLst>
            </a:custGeom>
            <a:solidFill>
              <a:srgbClr val="9a61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399" name="任意多边形: 形状 161"/>
            <p:cNvSpPr/>
            <p:nvPr/>
          </p:nvSpPr>
          <p:spPr>
            <a:xfrm>
              <a:off x="7278120" y="358200"/>
              <a:ext cx="216720" cy="297000"/>
            </a:xfrm>
            <a:custGeom>
              <a:avLst/>
              <a:gdLst>
                <a:gd name="textAreaLeft" fmla="*/ 0 w 216720"/>
                <a:gd name="textAreaRight" fmla="*/ 217080 w 216720"/>
                <a:gd name="textAreaTop" fmla="*/ 0 h 297000"/>
                <a:gd name="textAreaBottom" fmla="*/ 297000 h 297000"/>
              </a:gdLst>
              <a:ahLst/>
              <a:rect l="textAreaLeft" t="textAreaTop" r="textAreaRight" b="textAreaBottom"/>
              <a:pathLst>
                <a:path w="123825" h="152400">
                  <a:moveTo>
                    <a:pt x="124301" y="61436"/>
                  </a:moveTo>
                  <a:cubicBezTo>
                    <a:pt x="119539" y="75724"/>
                    <a:pt x="113824" y="90011"/>
                    <a:pt x="107156" y="103346"/>
                  </a:cubicBezTo>
                  <a:cubicBezTo>
                    <a:pt x="97631" y="121444"/>
                    <a:pt x="86201" y="138589"/>
                    <a:pt x="69056" y="150971"/>
                  </a:cubicBezTo>
                  <a:cubicBezTo>
                    <a:pt x="68104" y="151924"/>
                    <a:pt x="66199" y="152876"/>
                    <a:pt x="65246" y="152876"/>
                  </a:cubicBezTo>
                  <a:cubicBezTo>
                    <a:pt x="54769" y="147161"/>
                    <a:pt x="43339" y="143351"/>
                    <a:pt x="31909" y="141446"/>
                  </a:cubicBezTo>
                  <a:cubicBezTo>
                    <a:pt x="23336" y="139541"/>
                    <a:pt x="14764" y="137636"/>
                    <a:pt x="7144" y="133826"/>
                  </a:cubicBezTo>
                  <a:cubicBezTo>
                    <a:pt x="17621" y="106204"/>
                    <a:pt x="46196" y="98584"/>
                    <a:pt x="67151" y="70009"/>
                  </a:cubicBezTo>
                  <a:cubicBezTo>
                    <a:pt x="78581" y="53816"/>
                    <a:pt x="87154" y="30956"/>
                    <a:pt x="95726" y="7144"/>
                  </a:cubicBezTo>
                  <a:cubicBezTo>
                    <a:pt x="108109" y="23336"/>
                    <a:pt x="117634" y="41434"/>
                    <a:pt x="124301" y="61436"/>
                  </a:cubicBezTo>
                  <a:close/>
                </a:path>
              </a:pathLst>
            </a:custGeom>
            <a:solidFill>
              <a:srgbClr val="9a61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0" name="任意多边形: 形状 162"/>
            <p:cNvSpPr/>
            <p:nvPr/>
          </p:nvSpPr>
          <p:spPr>
            <a:xfrm>
              <a:off x="6393600" y="5486760"/>
              <a:ext cx="634320" cy="408600"/>
            </a:xfrm>
            <a:custGeom>
              <a:avLst/>
              <a:gdLst>
                <a:gd name="textAreaLeft" fmla="*/ 0 w 634320"/>
                <a:gd name="textAreaRight" fmla="*/ 634680 w 634320"/>
                <a:gd name="textAreaTop" fmla="*/ 0 h 408600"/>
                <a:gd name="textAreaBottom" fmla="*/ 408960 h 408600"/>
              </a:gdLst>
              <a:ahLst/>
              <a:rect l="textAreaLeft" t="textAreaTop" r="textAreaRight" b="textAreaBottom"/>
              <a:pathLst>
                <a:path w="361950" h="209550">
                  <a:moveTo>
                    <a:pt x="49054" y="149066"/>
                  </a:moveTo>
                  <a:lnTo>
                    <a:pt x="96679" y="134779"/>
                  </a:lnTo>
                  <a:lnTo>
                    <a:pt x="210026" y="134779"/>
                  </a:lnTo>
                  <a:cubicBezTo>
                    <a:pt x="245269" y="134779"/>
                    <a:pt x="278606" y="114776"/>
                    <a:pt x="293846" y="82391"/>
                  </a:cubicBezTo>
                  <a:lnTo>
                    <a:pt x="330041" y="7144"/>
                  </a:lnTo>
                  <a:lnTo>
                    <a:pt x="349091" y="45244"/>
                  </a:lnTo>
                  <a:cubicBezTo>
                    <a:pt x="359569" y="65246"/>
                    <a:pt x="358616" y="88106"/>
                    <a:pt x="347186" y="107156"/>
                  </a:cubicBezTo>
                  <a:lnTo>
                    <a:pt x="337661" y="134779"/>
                  </a:lnTo>
                  <a:lnTo>
                    <a:pt x="337661" y="198596"/>
                  </a:lnTo>
                  <a:lnTo>
                    <a:pt x="311944" y="198596"/>
                  </a:lnTo>
                  <a:lnTo>
                    <a:pt x="311944" y="150971"/>
                  </a:lnTo>
                  <a:lnTo>
                    <a:pt x="264319" y="189071"/>
                  </a:lnTo>
                  <a:cubicBezTo>
                    <a:pt x="252889" y="198596"/>
                    <a:pt x="239554" y="204311"/>
                    <a:pt x="224314" y="204311"/>
                  </a:cubicBezTo>
                  <a:lnTo>
                    <a:pt x="7144" y="204311"/>
                  </a:lnTo>
                  <a:cubicBezTo>
                    <a:pt x="8096" y="178594"/>
                    <a:pt x="25241" y="155734"/>
                    <a:pt x="49054" y="149066"/>
                  </a:cubicBez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1" name="任意多边形: 形状 163"/>
            <p:cNvSpPr/>
            <p:nvPr/>
          </p:nvSpPr>
          <p:spPr>
            <a:xfrm>
              <a:off x="7093080" y="5526000"/>
              <a:ext cx="333720" cy="371520"/>
            </a:xfrm>
            <a:custGeom>
              <a:avLst/>
              <a:gdLst>
                <a:gd name="textAreaLeft" fmla="*/ 0 w 333720"/>
                <a:gd name="textAreaRight" fmla="*/ 334080 w 333720"/>
                <a:gd name="textAreaTop" fmla="*/ 0 h 371520"/>
                <a:gd name="textAreaBottom" fmla="*/ 371880 h 371520"/>
              </a:gdLst>
              <a:ahLst/>
              <a:rect l="textAreaLeft" t="textAreaTop" r="textAreaRight" b="textAreaBottom"/>
              <a:pathLst>
                <a:path w="190500" h="190500">
                  <a:moveTo>
                    <a:pt x="58579" y="7144"/>
                  </a:moveTo>
                  <a:lnTo>
                    <a:pt x="33814" y="114776"/>
                  </a:lnTo>
                  <a:lnTo>
                    <a:pt x="170021" y="114776"/>
                  </a:lnTo>
                  <a:lnTo>
                    <a:pt x="170021" y="27146"/>
                  </a:lnTo>
                  <a:lnTo>
                    <a:pt x="186214" y="127159"/>
                  </a:lnTo>
                  <a:cubicBezTo>
                    <a:pt x="189071" y="147161"/>
                    <a:pt x="184309" y="168116"/>
                    <a:pt x="171926" y="184309"/>
                  </a:cubicBezTo>
                  <a:lnTo>
                    <a:pt x="18574" y="184309"/>
                  </a:lnTo>
                  <a:lnTo>
                    <a:pt x="12859" y="170974"/>
                  </a:lnTo>
                  <a:cubicBezTo>
                    <a:pt x="5239" y="152876"/>
                    <a:pt x="5239" y="132874"/>
                    <a:pt x="12859" y="113824"/>
                  </a:cubicBezTo>
                  <a:lnTo>
                    <a:pt x="58579" y="7144"/>
                  </a:lnTo>
                  <a:close/>
                </a:path>
              </a:pathLst>
            </a:custGeom>
            <a:solidFill>
              <a:srgbClr val="3e2e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2" name="任意多边形: 形状 164"/>
            <p:cNvSpPr/>
            <p:nvPr/>
          </p:nvSpPr>
          <p:spPr>
            <a:xfrm>
              <a:off x="6546960" y="2968920"/>
              <a:ext cx="233640" cy="222840"/>
            </a:xfrm>
            <a:custGeom>
              <a:avLst/>
              <a:gdLst>
                <a:gd name="textAreaLeft" fmla="*/ 0 w 233640"/>
                <a:gd name="textAreaRight" fmla="*/ 234000 w 233640"/>
                <a:gd name="textAreaTop" fmla="*/ 0 h 222840"/>
                <a:gd name="textAreaBottom" fmla="*/ 223200 h 222840"/>
              </a:gdLst>
              <a:ahLst/>
              <a:rect l="textAreaLeft" t="textAreaTop" r="textAreaRight" b="textAreaBottom"/>
              <a:pathLst>
                <a:path w="133350" h="114300">
                  <a:moveTo>
                    <a:pt x="15716" y="110966"/>
                  </a:moveTo>
                  <a:lnTo>
                    <a:pt x="129064" y="92869"/>
                  </a:lnTo>
                  <a:lnTo>
                    <a:pt x="128111" y="7144"/>
                  </a:lnTo>
                  <a:lnTo>
                    <a:pt x="7144" y="26194"/>
                  </a:lnTo>
                  <a:lnTo>
                    <a:pt x="15716" y="110966"/>
                  </a:ln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3" name="任意多边形: 形状 165"/>
            <p:cNvSpPr/>
            <p:nvPr/>
          </p:nvSpPr>
          <p:spPr>
            <a:xfrm>
              <a:off x="6565320" y="3139560"/>
              <a:ext cx="283680" cy="464400"/>
            </a:xfrm>
            <a:custGeom>
              <a:avLst/>
              <a:gdLst>
                <a:gd name="textAreaLeft" fmla="*/ 0 w 283680"/>
                <a:gd name="textAreaRight" fmla="*/ 284040 w 283680"/>
                <a:gd name="textAreaTop" fmla="*/ 0 h 464400"/>
                <a:gd name="textAreaBottom" fmla="*/ 464760 h 464400"/>
              </a:gdLst>
              <a:ahLst/>
              <a:rect l="textAreaLeft" t="textAreaTop" r="textAreaRight" b="textAreaBottom"/>
              <a:pathLst>
                <a:path w="161925" h="238125">
                  <a:moveTo>
                    <a:pt x="72988" y="209195"/>
                  </a:moveTo>
                  <a:lnTo>
                    <a:pt x="29173" y="161570"/>
                  </a:lnTo>
                  <a:cubicBezTo>
                    <a:pt x="27268" y="159665"/>
                    <a:pt x="26315" y="157760"/>
                    <a:pt x="26315" y="154903"/>
                  </a:cubicBezTo>
                  <a:lnTo>
                    <a:pt x="7265" y="35840"/>
                  </a:lnTo>
                  <a:cubicBezTo>
                    <a:pt x="6313" y="29173"/>
                    <a:pt x="11075" y="22505"/>
                    <a:pt x="17743" y="21553"/>
                  </a:cubicBezTo>
                  <a:lnTo>
                    <a:pt x="107278" y="7265"/>
                  </a:lnTo>
                  <a:cubicBezTo>
                    <a:pt x="113945" y="6313"/>
                    <a:pt x="120613" y="11075"/>
                    <a:pt x="121565" y="17743"/>
                  </a:cubicBezTo>
                  <a:lnTo>
                    <a:pt x="125375" y="39650"/>
                  </a:lnTo>
                  <a:cubicBezTo>
                    <a:pt x="125375" y="41555"/>
                    <a:pt x="126328" y="42507"/>
                    <a:pt x="127280" y="44413"/>
                  </a:cubicBezTo>
                  <a:lnTo>
                    <a:pt x="159665" y="98705"/>
                  </a:lnTo>
                  <a:cubicBezTo>
                    <a:pt x="161570" y="101563"/>
                    <a:pt x="161570" y="106325"/>
                    <a:pt x="160618" y="109182"/>
                  </a:cubicBezTo>
                  <a:lnTo>
                    <a:pt x="157760" y="116803"/>
                  </a:lnTo>
                  <a:cubicBezTo>
                    <a:pt x="154903" y="124423"/>
                    <a:pt x="145378" y="127280"/>
                    <a:pt x="139663" y="122518"/>
                  </a:cubicBezTo>
                  <a:lnTo>
                    <a:pt x="108230" y="100610"/>
                  </a:lnTo>
                  <a:cubicBezTo>
                    <a:pt x="99658" y="94895"/>
                    <a:pt x="89180" y="100610"/>
                    <a:pt x="89180" y="111088"/>
                  </a:cubicBezTo>
                  <a:lnTo>
                    <a:pt x="89180" y="129185"/>
                  </a:lnTo>
                  <a:cubicBezTo>
                    <a:pt x="89180" y="131090"/>
                    <a:pt x="89180" y="132995"/>
                    <a:pt x="90133" y="133948"/>
                  </a:cubicBezTo>
                  <a:lnTo>
                    <a:pt x="117755" y="198718"/>
                  </a:lnTo>
                  <a:cubicBezTo>
                    <a:pt x="118708" y="201575"/>
                    <a:pt x="121565" y="204432"/>
                    <a:pt x="125375" y="205385"/>
                  </a:cubicBezTo>
                  <a:lnTo>
                    <a:pt x="148235" y="213005"/>
                  </a:lnTo>
                  <a:cubicBezTo>
                    <a:pt x="156808" y="215863"/>
                    <a:pt x="159665" y="227293"/>
                    <a:pt x="152998" y="233960"/>
                  </a:cubicBezTo>
                  <a:cubicBezTo>
                    <a:pt x="149188" y="237770"/>
                    <a:pt x="144425" y="238723"/>
                    <a:pt x="139663" y="236818"/>
                  </a:cubicBezTo>
                  <a:lnTo>
                    <a:pt x="79655" y="212053"/>
                  </a:lnTo>
                  <a:cubicBezTo>
                    <a:pt x="75845" y="211100"/>
                    <a:pt x="73940" y="210148"/>
                    <a:pt x="72988" y="209195"/>
                  </a:cubicBezTo>
                  <a:close/>
                </a:path>
              </a:pathLst>
            </a:custGeom>
            <a:solidFill>
              <a:srgbClr val="f8b9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4" name="任意多边形: 形状 166"/>
            <p:cNvSpPr/>
            <p:nvPr/>
          </p:nvSpPr>
          <p:spPr>
            <a:xfrm>
              <a:off x="8336520" y="550800"/>
              <a:ext cx="617400" cy="315720"/>
            </a:xfrm>
            <a:custGeom>
              <a:avLst/>
              <a:gdLst>
                <a:gd name="textAreaLeft" fmla="*/ 0 w 617400"/>
                <a:gd name="textAreaRight" fmla="*/ 617400 w 617400"/>
                <a:gd name="textAreaTop" fmla="*/ 0 h 315720"/>
                <a:gd name="textAreaBottom" fmla="*/ 316080 h 315720"/>
              </a:gdLst>
              <a:ahLst/>
              <a:rect l="textAreaLeft" t="textAreaTop" r="textAreaRight" b="textAreaBottom"/>
              <a:pathLst>
                <a:path w="352425" h="161925">
                  <a:moveTo>
                    <a:pt x="348139" y="158006"/>
                  </a:moveTo>
                  <a:lnTo>
                    <a:pt x="7144" y="158006"/>
                  </a:lnTo>
                  <a:lnTo>
                    <a:pt x="7144" y="121811"/>
                  </a:lnTo>
                  <a:cubicBezTo>
                    <a:pt x="7144" y="45611"/>
                    <a:pt x="79534" y="-8682"/>
                    <a:pt x="152876" y="11321"/>
                  </a:cubicBezTo>
                  <a:lnTo>
                    <a:pt x="208121" y="26561"/>
                  </a:lnTo>
                  <a:lnTo>
                    <a:pt x="332899" y="61803"/>
                  </a:lnTo>
                  <a:lnTo>
                    <a:pt x="348139" y="158006"/>
                  </a:lnTo>
                  <a:close/>
                </a:path>
              </a:pathLst>
            </a:custGeom>
            <a:solidFill>
              <a:srgbClr val="6b36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5" name="任意多边形: 形状 167"/>
            <p:cNvSpPr/>
            <p:nvPr/>
          </p:nvSpPr>
          <p:spPr>
            <a:xfrm>
              <a:off x="5879160" y="-777960"/>
              <a:ext cx="634320" cy="687240"/>
            </a:xfrm>
            <a:custGeom>
              <a:avLst/>
              <a:gdLst>
                <a:gd name="textAreaLeft" fmla="*/ 0 w 634320"/>
                <a:gd name="textAreaRight" fmla="*/ 634680 w 634320"/>
                <a:gd name="textAreaTop" fmla="*/ 0 h 687240"/>
                <a:gd name="textAreaBottom" fmla="*/ 687600 h 687240"/>
              </a:gdLst>
              <a:ahLst/>
              <a:rect l="textAreaLeft" t="textAreaTop" r="textAreaRight" b="textAreaBottom"/>
              <a:pathLst>
                <a:path w="361950" h="352425">
                  <a:moveTo>
                    <a:pt x="206299" y="20002"/>
                  </a:moveTo>
                  <a:lnTo>
                    <a:pt x="243446" y="95250"/>
                  </a:lnTo>
                  <a:cubicBezTo>
                    <a:pt x="247256" y="101917"/>
                    <a:pt x="252971" y="106680"/>
                    <a:pt x="260591" y="107633"/>
                  </a:cubicBezTo>
                  <a:lnTo>
                    <a:pt x="343459" y="120015"/>
                  </a:lnTo>
                  <a:cubicBezTo>
                    <a:pt x="362509" y="122873"/>
                    <a:pt x="370129" y="145733"/>
                    <a:pt x="355841" y="159067"/>
                  </a:cubicBezTo>
                  <a:lnTo>
                    <a:pt x="295834" y="217170"/>
                  </a:lnTo>
                  <a:cubicBezTo>
                    <a:pt x="290119" y="222885"/>
                    <a:pt x="288214" y="230505"/>
                    <a:pt x="289166" y="238125"/>
                  </a:cubicBezTo>
                  <a:lnTo>
                    <a:pt x="303454" y="320992"/>
                  </a:lnTo>
                  <a:cubicBezTo>
                    <a:pt x="306311" y="340042"/>
                    <a:pt x="287261" y="354330"/>
                    <a:pt x="270116" y="345758"/>
                  </a:cubicBezTo>
                  <a:lnTo>
                    <a:pt x="195821" y="306705"/>
                  </a:lnTo>
                  <a:cubicBezTo>
                    <a:pt x="189154" y="302895"/>
                    <a:pt x="180581" y="302895"/>
                    <a:pt x="173914" y="306705"/>
                  </a:cubicBezTo>
                  <a:lnTo>
                    <a:pt x="99619" y="345758"/>
                  </a:lnTo>
                  <a:cubicBezTo>
                    <a:pt x="82474" y="354330"/>
                    <a:pt x="62471" y="340042"/>
                    <a:pt x="66281" y="320992"/>
                  </a:cubicBezTo>
                  <a:lnTo>
                    <a:pt x="80569" y="238125"/>
                  </a:lnTo>
                  <a:cubicBezTo>
                    <a:pt x="81521" y="230505"/>
                    <a:pt x="79616" y="222885"/>
                    <a:pt x="73902" y="217170"/>
                  </a:cubicBezTo>
                  <a:lnTo>
                    <a:pt x="13894" y="159067"/>
                  </a:lnTo>
                  <a:cubicBezTo>
                    <a:pt x="559" y="145733"/>
                    <a:pt x="8179" y="121920"/>
                    <a:pt x="26277" y="120015"/>
                  </a:cubicBezTo>
                  <a:lnTo>
                    <a:pt x="109144" y="107633"/>
                  </a:lnTo>
                  <a:cubicBezTo>
                    <a:pt x="116764" y="106680"/>
                    <a:pt x="123431" y="101917"/>
                    <a:pt x="126289" y="95250"/>
                  </a:cubicBezTo>
                  <a:lnTo>
                    <a:pt x="163436" y="20002"/>
                  </a:lnTo>
                  <a:cubicBezTo>
                    <a:pt x="172961" y="2858"/>
                    <a:pt x="197727" y="2858"/>
                    <a:pt x="206299" y="20002"/>
                  </a:cubicBezTo>
                  <a:close/>
                </a:path>
              </a:pathLst>
            </a:custGeom>
            <a:solidFill>
              <a:srgbClr val="ffb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6" name="任意多边形: 形状 168"/>
            <p:cNvSpPr/>
            <p:nvPr/>
          </p:nvSpPr>
          <p:spPr>
            <a:xfrm>
              <a:off x="7837200" y="705240"/>
              <a:ext cx="266760" cy="278640"/>
            </a:xfrm>
            <a:custGeom>
              <a:avLst/>
              <a:gdLst>
                <a:gd name="textAreaLeft" fmla="*/ 0 w 266760"/>
                <a:gd name="textAreaRight" fmla="*/ 267120 w 266760"/>
                <a:gd name="textAreaTop" fmla="*/ 0 h 278640"/>
                <a:gd name="textAreaBottom" fmla="*/ 279000 h 278640"/>
              </a:gdLst>
              <a:ahLst/>
              <a:rect l="textAreaLeft" t="textAreaTop" r="textAreaRight" b="textAreaBottom"/>
              <a:pathLst>
                <a:path w="152400" h="142875">
                  <a:moveTo>
                    <a:pt x="86361" y="12144"/>
                  </a:moveTo>
                  <a:lnTo>
                    <a:pt x="100648" y="41672"/>
                  </a:lnTo>
                  <a:cubicBezTo>
                    <a:pt x="101601" y="44529"/>
                    <a:pt x="104458" y="46434"/>
                    <a:pt x="107316" y="46434"/>
                  </a:cubicBezTo>
                  <a:lnTo>
                    <a:pt x="139701" y="51197"/>
                  </a:lnTo>
                  <a:cubicBezTo>
                    <a:pt x="147321" y="52149"/>
                    <a:pt x="150178" y="61674"/>
                    <a:pt x="144463" y="66437"/>
                  </a:cubicBezTo>
                  <a:lnTo>
                    <a:pt x="120651" y="89297"/>
                  </a:lnTo>
                  <a:cubicBezTo>
                    <a:pt x="118746" y="91202"/>
                    <a:pt x="117793" y="94059"/>
                    <a:pt x="117793" y="96917"/>
                  </a:cubicBezTo>
                  <a:lnTo>
                    <a:pt x="123508" y="129302"/>
                  </a:lnTo>
                  <a:cubicBezTo>
                    <a:pt x="124461" y="136922"/>
                    <a:pt x="116841" y="142637"/>
                    <a:pt x="110173" y="138827"/>
                  </a:cubicBezTo>
                  <a:lnTo>
                    <a:pt x="81598" y="123587"/>
                  </a:lnTo>
                  <a:cubicBezTo>
                    <a:pt x="78741" y="122634"/>
                    <a:pt x="75883" y="122634"/>
                    <a:pt x="73026" y="123587"/>
                  </a:cubicBezTo>
                  <a:lnTo>
                    <a:pt x="44451" y="138827"/>
                  </a:lnTo>
                  <a:cubicBezTo>
                    <a:pt x="37783" y="142637"/>
                    <a:pt x="30163" y="136922"/>
                    <a:pt x="31116" y="129302"/>
                  </a:cubicBezTo>
                  <a:lnTo>
                    <a:pt x="36831" y="96917"/>
                  </a:lnTo>
                  <a:cubicBezTo>
                    <a:pt x="37783" y="94059"/>
                    <a:pt x="36831" y="91202"/>
                    <a:pt x="33973" y="89297"/>
                  </a:cubicBezTo>
                  <a:lnTo>
                    <a:pt x="10161" y="66437"/>
                  </a:lnTo>
                  <a:cubicBezTo>
                    <a:pt x="4446" y="61674"/>
                    <a:pt x="7303" y="52149"/>
                    <a:pt x="14923" y="51197"/>
                  </a:cubicBezTo>
                  <a:lnTo>
                    <a:pt x="47308" y="46434"/>
                  </a:lnTo>
                  <a:cubicBezTo>
                    <a:pt x="50166" y="46434"/>
                    <a:pt x="53023" y="44529"/>
                    <a:pt x="53976" y="41672"/>
                  </a:cubicBezTo>
                  <a:lnTo>
                    <a:pt x="68263" y="12144"/>
                  </a:lnTo>
                  <a:cubicBezTo>
                    <a:pt x="73978" y="5477"/>
                    <a:pt x="83503" y="5477"/>
                    <a:pt x="86361" y="12144"/>
                  </a:cubicBezTo>
                  <a:close/>
                </a:path>
              </a:pathLst>
            </a:custGeom>
            <a:solidFill>
              <a:srgbClr val="ffb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7" name="任意多边形: 形状 169"/>
            <p:cNvSpPr/>
            <p:nvPr/>
          </p:nvSpPr>
          <p:spPr>
            <a:xfrm>
              <a:off x="5080680" y="-428760"/>
              <a:ext cx="216720" cy="222840"/>
            </a:xfrm>
            <a:custGeom>
              <a:avLst/>
              <a:gdLst>
                <a:gd name="textAreaLeft" fmla="*/ 0 w 216720"/>
                <a:gd name="textAreaRight" fmla="*/ 217080 w 216720"/>
                <a:gd name="textAreaTop" fmla="*/ 0 h 222840"/>
                <a:gd name="textAreaBottom" fmla="*/ 223200 h 222840"/>
              </a:gdLst>
              <a:ahLst/>
              <a:rect l="textAreaLeft" t="textAreaTop" r="textAreaRight" b="textAreaBottom"/>
              <a:pathLst>
                <a:path w="123825" h="114300">
                  <a:moveTo>
                    <a:pt x="68603" y="10716"/>
                  </a:moveTo>
                  <a:lnTo>
                    <a:pt x="80033" y="34528"/>
                  </a:lnTo>
                  <a:cubicBezTo>
                    <a:pt x="80986" y="36433"/>
                    <a:pt x="82891" y="38338"/>
                    <a:pt x="85748" y="38338"/>
                  </a:cubicBezTo>
                  <a:lnTo>
                    <a:pt x="111466" y="42148"/>
                  </a:lnTo>
                  <a:cubicBezTo>
                    <a:pt x="117181" y="43101"/>
                    <a:pt x="120038" y="50721"/>
                    <a:pt x="115276" y="54531"/>
                  </a:cubicBezTo>
                  <a:lnTo>
                    <a:pt x="96226" y="72628"/>
                  </a:lnTo>
                  <a:cubicBezTo>
                    <a:pt x="94321" y="74533"/>
                    <a:pt x="93368" y="76438"/>
                    <a:pt x="94321" y="79296"/>
                  </a:cubicBezTo>
                  <a:lnTo>
                    <a:pt x="99083" y="105013"/>
                  </a:lnTo>
                  <a:cubicBezTo>
                    <a:pt x="100036" y="110728"/>
                    <a:pt x="94321" y="115491"/>
                    <a:pt x="88606" y="112633"/>
                  </a:cubicBezTo>
                  <a:lnTo>
                    <a:pt x="65746" y="100251"/>
                  </a:lnTo>
                  <a:cubicBezTo>
                    <a:pt x="63841" y="99298"/>
                    <a:pt x="60983" y="99298"/>
                    <a:pt x="59078" y="100251"/>
                  </a:cubicBezTo>
                  <a:lnTo>
                    <a:pt x="36218" y="112633"/>
                  </a:lnTo>
                  <a:cubicBezTo>
                    <a:pt x="30503" y="115491"/>
                    <a:pt x="24788" y="110728"/>
                    <a:pt x="25741" y="105013"/>
                  </a:cubicBezTo>
                  <a:lnTo>
                    <a:pt x="30503" y="79296"/>
                  </a:lnTo>
                  <a:cubicBezTo>
                    <a:pt x="30503" y="77391"/>
                    <a:pt x="30503" y="74533"/>
                    <a:pt x="28598" y="72628"/>
                  </a:cubicBezTo>
                  <a:lnTo>
                    <a:pt x="9548" y="54531"/>
                  </a:lnTo>
                  <a:cubicBezTo>
                    <a:pt x="4786" y="50721"/>
                    <a:pt x="7643" y="43101"/>
                    <a:pt x="13358" y="42148"/>
                  </a:cubicBezTo>
                  <a:lnTo>
                    <a:pt x="39076" y="38338"/>
                  </a:lnTo>
                  <a:cubicBezTo>
                    <a:pt x="40981" y="38338"/>
                    <a:pt x="43838" y="36433"/>
                    <a:pt x="44791" y="34528"/>
                  </a:cubicBezTo>
                  <a:lnTo>
                    <a:pt x="56221" y="10716"/>
                  </a:lnTo>
                  <a:cubicBezTo>
                    <a:pt x="58126" y="5953"/>
                    <a:pt x="65746" y="5953"/>
                    <a:pt x="68603" y="10716"/>
                  </a:cubicBezTo>
                  <a:close/>
                </a:path>
              </a:pathLst>
            </a:custGeom>
            <a:solidFill>
              <a:srgbClr val="ffb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8" name="任意多边形: 形状 170"/>
            <p:cNvSpPr/>
            <p:nvPr/>
          </p:nvSpPr>
          <p:spPr>
            <a:xfrm>
              <a:off x="6112080" y="497880"/>
              <a:ext cx="216720" cy="222840"/>
            </a:xfrm>
            <a:custGeom>
              <a:avLst/>
              <a:gdLst>
                <a:gd name="textAreaLeft" fmla="*/ 0 w 216720"/>
                <a:gd name="textAreaRight" fmla="*/ 217080 w 216720"/>
                <a:gd name="textAreaTop" fmla="*/ 0 h 222840"/>
                <a:gd name="textAreaBottom" fmla="*/ 223200 h 222840"/>
              </a:gdLst>
              <a:ahLst/>
              <a:rect l="textAreaLeft" t="textAreaTop" r="textAreaRight" b="textAreaBottom"/>
              <a:pathLst>
                <a:path w="123825" h="114300">
                  <a:moveTo>
                    <a:pt x="68603" y="10716"/>
                  </a:moveTo>
                  <a:lnTo>
                    <a:pt x="80033" y="34528"/>
                  </a:lnTo>
                  <a:cubicBezTo>
                    <a:pt x="80986" y="36433"/>
                    <a:pt x="82891" y="38338"/>
                    <a:pt x="85748" y="38338"/>
                  </a:cubicBezTo>
                  <a:lnTo>
                    <a:pt x="111466" y="42148"/>
                  </a:lnTo>
                  <a:cubicBezTo>
                    <a:pt x="117181" y="43101"/>
                    <a:pt x="120038" y="50721"/>
                    <a:pt x="115276" y="54531"/>
                  </a:cubicBezTo>
                  <a:lnTo>
                    <a:pt x="96226" y="72628"/>
                  </a:lnTo>
                  <a:cubicBezTo>
                    <a:pt x="94321" y="74533"/>
                    <a:pt x="93368" y="76438"/>
                    <a:pt x="94321" y="79296"/>
                  </a:cubicBezTo>
                  <a:lnTo>
                    <a:pt x="99083" y="105013"/>
                  </a:lnTo>
                  <a:cubicBezTo>
                    <a:pt x="100036" y="110728"/>
                    <a:pt x="94321" y="115491"/>
                    <a:pt x="88606" y="112633"/>
                  </a:cubicBezTo>
                  <a:lnTo>
                    <a:pt x="65746" y="100251"/>
                  </a:lnTo>
                  <a:cubicBezTo>
                    <a:pt x="63841" y="99298"/>
                    <a:pt x="60983" y="99298"/>
                    <a:pt x="59078" y="100251"/>
                  </a:cubicBezTo>
                  <a:lnTo>
                    <a:pt x="36218" y="112633"/>
                  </a:lnTo>
                  <a:cubicBezTo>
                    <a:pt x="30503" y="115491"/>
                    <a:pt x="24788" y="110728"/>
                    <a:pt x="25741" y="105013"/>
                  </a:cubicBezTo>
                  <a:lnTo>
                    <a:pt x="30503" y="79296"/>
                  </a:lnTo>
                  <a:cubicBezTo>
                    <a:pt x="30503" y="77391"/>
                    <a:pt x="30503" y="74533"/>
                    <a:pt x="28598" y="72628"/>
                  </a:cubicBezTo>
                  <a:lnTo>
                    <a:pt x="9548" y="54531"/>
                  </a:lnTo>
                  <a:cubicBezTo>
                    <a:pt x="4786" y="50721"/>
                    <a:pt x="7643" y="43101"/>
                    <a:pt x="13358" y="42148"/>
                  </a:cubicBezTo>
                  <a:lnTo>
                    <a:pt x="39076" y="38338"/>
                  </a:lnTo>
                  <a:cubicBezTo>
                    <a:pt x="40981" y="38338"/>
                    <a:pt x="43838" y="36433"/>
                    <a:pt x="44791" y="34528"/>
                  </a:cubicBezTo>
                  <a:lnTo>
                    <a:pt x="56221" y="10716"/>
                  </a:lnTo>
                  <a:cubicBezTo>
                    <a:pt x="58126" y="5953"/>
                    <a:pt x="65746" y="5953"/>
                    <a:pt x="68603" y="10716"/>
                  </a:cubicBezTo>
                  <a:close/>
                </a:path>
              </a:pathLst>
            </a:custGeom>
            <a:solidFill>
              <a:srgbClr val="ffb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09" name="任意多边形: 形状 171"/>
            <p:cNvSpPr/>
            <p:nvPr/>
          </p:nvSpPr>
          <p:spPr>
            <a:xfrm>
              <a:off x="7115400" y="-428760"/>
              <a:ext cx="216720" cy="222840"/>
            </a:xfrm>
            <a:custGeom>
              <a:avLst/>
              <a:gdLst>
                <a:gd name="textAreaLeft" fmla="*/ 0 w 216720"/>
                <a:gd name="textAreaRight" fmla="*/ 217080 w 216720"/>
                <a:gd name="textAreaTop" fmla="*/ 0 h 222840"/>
                <a:gd name="textAreaBottom" fmla="*/ 223200 h 222840"/>
              </a:gdLst>
              <a:ahLst/>
              <a:rect l="textAreaLeft" t="textAreaTop" r="textAreaRight" b="textAreaBottom"/>
              <a:pathLst>
                <a:path w="123825" h="114300">
                  <a:moveTo>
                    <a:pt x="68603" y="10716"/>
                  </a:moveTo>
                  <a:lnTo>
                    <a:pt x="80033" y="34528"/>
                  </a:lnTo>
                  <a:cubicBezTo>
                    <a:pt x="80986" y="36433"/>
                    <a:pt x="82891" y="38338"/>
                    <a:pt x="85748" y="38338"/>
                  </a:cubicBezTo>
                  <a:lnTo>
                    <a:pt x="111466" y="42148"/>
                  </a:lnTo>
                  <a:cubicBezTo>
                    <a:pt x="117181" y="43101"/>
                    <a:pt x="120038" y="50721"/>
                    <a:pt x="115276" y="54531"/>
                  </a:cubicBezTo>
                  <a:lnTo>
                    <a:pt x="96226" y="72628"/>
                  </a:lnTo>
                  <a:cubicBezTo>
                    <a:pt x="94321" y="74533"/>
                    <a:pt x="93368" y="76438"/>
                    <a:pt x="94321" y="79296"/>
                  </a:cubicBezTo>
                  <a:lnTo>
                    <a:pt x="99083" y="105013"/>
                  </a:lnTo>
                  <a:cubicBezTo>
                    <a:pt x="100036" y="110728"/>
                    <a:pt x="94321" y="115491"/>
                    <a:pt x="88606" y="112633"/>
                  </a:cubicBezTo>
                  <a:lnTo>
                    <a:pt x="65746" y="100251"/>
                  </a:lnTo>
                  <a:cubicBezTo>
                    <a:pt x="63841" y="99298"/>
                    <a:pt x="60983" y="99298"/>
                    <a:pt x="59078" y="100251"/>
                  </a:cubicBezTo>
                  <a:lnTo>
                    <a:pt x="36218" y="112633"/>
                  </a:lnTo>
                  <a:cubicBezTo>
                    <a:pt x="30503" y="115491"/>
                    <a:pt x="24788" y="110728"/>
                    <a:pt x="25741" y="105013"/>
                  </a:cubicBezTo>
                  <a:lnTo>
                    <a:pt x="30503" y="79296"/>
                  </a:lnTo>
                  <a:cubicBezTo>
                    <a:pt x="30503" y="77391"/>
                    <a:pt x="30503" y="74533"/>
                    <a:pt x="28598" y="72628"/>
                  </a:cubicBezTo>
                  <a:lnTo>
                    <a:pt x="9548" y="54531"/>
                  </a:lnTo>
                  <a:cubicBezTo>
                    <a:pt x="4786" y="50721"/>
                    <a:pt x="7643" y="43101"/>
                    <a:pt x="13358" y="42148"/>
                  </a:cubicBezTo>
                  <a:lnTo>
                    <a:pt x="39076" y="38338"/>
                  </a:lnTo>
                  <a:cubicBezTo>
                    <a:pt x="40981" y="38338"/>
                    <a:pt x="43838" y="36433"/>
                    <a:pt x="44791" y="34528"/>
                  </a:cubicBezTo>
                  <a:lnTo>
                    <a:pt x="56221" y="10716"/>
                  </a:lnTo>
                  <a:cubicBezTo>
                    <a:pt x="58126" y="5953"/>
                    <a:pt x="65746" y="5953"/>
                    <a:pt x="68603" y="10716"/>
                  </a:cubicBezTo>
                  <a:close/>
                </a:path>
              </a:pathLst>
            </a:custGeom>
            <a:solidFill>
              <a:srgbClr val="ffb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10" name="任意多边形: 形状 172"/>
            <p:cNvSpPr/>
            <p:nvPr/>
          </p:nvSpPr>
          <p:spPr>
            <a:xfrm>
              <a:off x="4224240" y="282600"/>
              <a:ext cx="317160" cy="334440"/>
            </a:xfrm>
            <a:custGeom>
              <a:avLst/>
              <a:gdLst>
                <a:gd name="textAreaLeft" fmla="*/ 0 w 317160"/>
                <a:gd name="textAreaRight" fmla="*/ 317520 w 317160"/>
                <a:gd name="textAreaTop" fmla="*/ 0 h 334440"/>
                <a:gd name="textAreaBottom" fmla="*/ 334800 h 334440"/>
              </a:gdLst>
              <a:ahLst/>
              <a:rect l="textAreaLeft" t="textAreaTop" r="textAreaRight" b="textAreaBottom"/>
              <a:pathLst>
                <a:path w="180975" h="171450">
                  <a:moveTo>
                    <a:pt x="101027" y="13573"/>
                  </a:moveTo>
                  <a:lnTo>
                    <a:pt x="119124" y="49768"/>
                  </a:lnTo>
                  <a:cubicBezTo>
                    <a:pt x="121029" y="52626"/>
                    <a:pt x="123887" y="55483"/>
                    <a:pt x="127697" y="55483"/>
                  </a:cubicBezTo>
                  <a:lnTo>
                    <a:pt x="167702" y="61198"/>
                  </a:lnTo>
                  <a:cubicBezTo>
                    <a:pt x="177227" y="62151"/>
                    <a:pt x="180084" y="73581"/>
                    <a:pt x="173417" y="80248"/>
                  </a:cubicBezTo>
                  <a:lnTo>
                    <a:pt x="144842" y="107871"/>
                  </a:lnTo>
                  <a:cubicBezTo>
                    <a:pt x="141984" y="110728"/>
                    <a:pt x="141032" y="114538"/>
                    <a:pt x="141984" y="117396"/>
                  </a:cubicBezTo>
                  <a:lnTo>
                    <a:pt x="148652" y="157401"/>
                  </a:lnTo>
                  <a:cubicBezTo>
                    <a:pt x="150557" y="166926"/>
                    <a:pt x="141032" y="173593"/>
                    <a:pt x="132459" y="168831"/>
                  </a:cubicBezTo>
                  <a:lnTo>
                    <a:pt x="97217" y="149781"/>
                  </a:lnTo>
                  <a:cubicBezTo>
                    <a:pt x="94359" y="147876"/>
                    <a:pt x="90549" y="147876"/>
                    <a:pt x="86739" y="149781"/>
                  </a:cubicBezTo>
                  <a:lnTo>
                    <a:pt x="51497" y="168831"/>
                  </a:lnTo>
                  <a:cubicBezTo>
                    <a:pt x="42924" y="173593"/>
                    <a:pt x="33399" y="165973"/>
                    <a:pt x="35304" y="157401"/>
                  </a:cubicBezTo>
                  <a:lnTo>
                    <a:pt x="41972" y="117396"/>
                  </a:lnTo>
                  <a:cubicBezTo>
                    <a:pt x="42924" y="113586"/>
                    <a:pt x="41019" y="109776"/>
                    <a:pt x="39114" y="107871"/>
                  </a:cubicBezTo>
                  <a:lnTo>
                    <a:pt x="10539" y="80248"/>
                  </a:lnTo>
                  <a:cubicBezTo>
                    <a:pt x="3872" y="73581"/>
                    <a:pt x="7682" y="62151"/>
                    <a:pt x="16254" y="61198"/>
                  </a:cubicBezTo>
                  <a:lnTo>
                    <a:pt x="56259" y="55483"/>
                  </a:lnTo>
                  <a:cubicBezTo>
                    <a:pt x="60069" y="54531"/>
                    <a:pt x="62927" y="52626"/>
                    <a:pt x="64832" y="49768"/>
                  </a:cubicBezTo>
                  <a:lnTo>
                    <a:pt x="82929" y="13573"/>
                  </a:lnTo>
                  <a:cubicBezTo>
                    <a:pt x="84834" y="5001"/>
                    <a:pt x="97217" y="5001"/>
                    <a:pt x="101027" y="13573"/>
                  </a:cubicBezTo>
                  <a:close/>
                </a:path>
              </a:pathLst>
            </a:custGeom>
            <a:solidFill>
              <a:srgbClr val="ffb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11" name="任意多边形: 形状 173"/>
            <p:cNvSpPr/>
            <p:nvPr/>
          </p:nvSpPr>
          <p:spPr>
            <a:xfrm>
              <a:off x="2885760" y="2487600"/>
              <a:ext cx="383760" cy="222840"/>
            </a:xfrm>
            <a:custGeom>
              <a:avLst/>
              <a:gdLst>
                <a:gd name="textAreaLeft" fmla="*/ 0 w 383760"/>
                <a:gd name="textAreaRight" fmla="*/ 384120 w 383760"/>
                <a:gd name="textAreaTop" fmla="*/ 0 h 222840"/>
                <a:gd name="textAreaBottom" fmla="*/ 223200 h 222840"/>
              </a:gdLst>
              <a:ahLst/>
              <a:rect l="textAreaLeft" t="textAreaTop" r="textAreaRight" b="textAreaBottom"/>
              <a:pathLst>
                <a:path w="219075" h="114300">
                  <a:moveTo>
                    <a:pt x="22703" y="7144"/>
                  </a:moveTo>
                  <a:lnTo>
                    <a:pt x="215108" y="7144"/>
                  </a:lnTo>
                  <a:lnTo>
                    <a:pt x="205583" y="46196"/>
                  </a:lnTo>
                  <a:lnTo>
                    <a:pt x="113190" y="114776"/>
                  </a:lnTo>
                  <a:lnTo>
                    <a:pt x="13178" y="35719"/>
                  </a:lnTo>
                  <a:cubicBezTo>
                    <a:pt x="1748" y="26194"/>
                    <a:pt x="7463" y="7144"/>
                    <a:pt x="22703" y="7144"/>
                  </a:cubicBezTo>
                  <a:close/>
                </a:path>
              </a:pathLst>
            </a:custGeom>
            <a:solidFill>
              <a:srgbClr val="b2b7b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12" name="任意多边形: 形状 174"/>
            <p:cNvSpPr/>
            <p:nvPr/>
          </p:nvSpPr>
          <p:spPr>
            <a:xfrm>
              <a:off x="4276800" y="2636280"/>
              <a:ext cx="300240" cy="167040"/>
            </a:xfrm>
            <a:custGeom>
              <a:avLst/>
              <a:gdLst>
                <a:gd name="textAreaLeft" fmla="*/ 0 w 300240"/>
                <a:gd name="textAreaRight" fmla="*/ 300600 w 300240"/>
                <a:gd name="textAreaTop" fmla="*/ 0 h 167040"/>
                <a:gd name="textAreaBottom" fmla="*/ 167400 h 167040"/>
              </a:gdLst>
              <a:ahLst/>
              <a:rect l="textAreaLeft" t="textAreaTop" r="textAreaRight" b="textAreaBottom"/>
              <a:pathLst>
                <a:path w="171450" h="85725">
                  <a:moveTo>
                    <a:pt x="7144" y="87154"/>
                  </a:moveTo>
                  <a:lnTo>
                    <a:pt x="9049" y="9049"/>
                  </a:lnTo>
                  <a:lnTo>
                    <a:pt x="134779" y="7144"/>
                  </a:lnTo>
                  <a:lnTo>
                    <a:pt x="172879" y="49054"/>
                  </a:lnTo>
                  <a:lnTo>
                    <a:pt x="137636" y="87154"/>
                  </a:lnTo>
                  <a:lnTo>
                    <a:pt x="7144" y="87154"/>
                  </a:lnTo>
                  <a:close/>
                </a:path>
              </a:pathLst>
            </a:custGeom>
            <a:solidFill>
              <a:srgbClr val="b2b7b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sp>
        <p:nvSpPr>
          <p:cNvPr id="413" name="矩形 175"/>
          <p:cNvSpPr/>
          <p:nvPr/>
        </p:nvSpPr>
        <p:spPr>
          <a:xfrm>
            <a:off x="646200" y="2478240"/>
            <a:ext cx="11545920" cy="4078080"/>
          </a:xfrm>
          <a:prstGeom prst="rect">
            <a:avLst/>
          </a:prstGeom>
          <a:solidFill>
            <a:srgbClr val="ffffff">
              <a:alpha val="7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grpSp>
        <p:nvGrpSpPr>
          <p:cNvPr id="414" name="Group 130"/>
          <p:cNvGrpSpPr/>
          <p:nvPr/>
        </p:nvGrpSpPr>
        <p:grpSpPr>
          <a:xfrm>
            <a:off x="752400" y="4646520"/>
            <a:ext cx="3164040" cy="1309680"/>
            <a:chOff x="752400" y="4646520"/>
            <a:chExt cx="3164040" cy="1309680"/>
          </a:xfrm>
        </p:grpSpPr>
        <p:sp>
          <p:nvSpPr>
            <p:cNvPr id="415" name="Content Placeholder 2"/>
            <p:cNvSpPr/>
            <p:nvPr/>
          </p:nvSpPr>
          <p:spPr>
            <a:xfrm>
              <a:off x="752400" y="5238720"/>
              <a:ext cx="3164040" cy="717480"/>
            </a:xfrm>
            <a:prstGeom prst="rect">
              <a:avLst/>
            </a:prstGeom>
            <a:noFill/>
            <a:ln w="0">
              <a:noFill/>
            </a:ln>
          </p:spPr>
          <p:style>
            <a:lnRef idx="0"/>
            <a:fillRef idx="0"/>
            <a:effectRef idx="0"/>
            <a:fontRef idx="minor"/>
          </p:style>
          <p:txBody>
            <a:bodyPr lIns="122040" rIns="122040" tIns="60840" bIns="6084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造字工房尚雅（非商用）常规体"/>
                  <a:ea typeface="造字工房尚雅（非商用）常规体"/>
                </a:rPr>
                <a:t>原则</a:t>
              </a:r>
              <a:endParaRPr b="0" lang="en-US" sz="2400" spc="-1" strike="noStrike">
                <a:solidFill>
                  <a:srgbClr val="262626"/>
                </a:solidFill>
                <a:latin typeface="Arial"/>
              </a:endParaRPr>
            </a:p>
          </p:txBody>
        </p:sp>
        <p:sp>
          <p:nvSpPr>
            <p:cNvPr id="416" name="TextBox 100"/>
            <p:cNvSpPr/>
            <p:nvPr/>
          </p:nvSpPr>
          <p:spPr>
            <a:xfrm>
              <a:off x="1928520" y="4646520"/>
              <a:ext cx="812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造字工房尚雅（非商用）常规体"/>
                  <a:ea typeface="造字工房尚雅（非商用）常规体"/>
                </a:rPr>
                <a:t>0 1</a:t>
              </a:r>
              <a:endParaRPr b="0" lang="en-US" sz="3200" spc="-1" strike="noStrike">
                <a:solidFill>
                  <a:srgbClr val="262626"/>
                </a:solidFill>
                <a:latin typeface="Arial"/>
              </a:endParaRPr>
            </a:p>
          </p:txBody>
        </p:sp>
      </p:grpSp>
      <p:grpSp>
        <p:nvGrpSpPr>
          <p:cNvPr id="417" name="Group 131"/>
          <p:cNvGrpSpPr/>
          <p:nvPr/>
        </p:nvGrpSpPr>
        <p:grpSpPr>
          <a:xfrm>
            <a:off x="3354480" y="4632480"/>
            <a:ext cx="3008160" cy="1301760"/>
            <a:chOff x="3354480" y="4632480"/>
            <a:chExt cx="3008160" cy="1301760"/>
          </a:xfrm>
        </p:grpSpPr>
        <p:sp>
          <p:nvSpPr>
            <p:cNvPr id="418" name="Content Placeholder 2"/>
            <p:cNvSpPr/>
            <p:nvPr/>
          </p:nvSpPr>
          <p:spPr>
            <a:xfrm>
              <a:off x="3354480" y="5195880"/>
              <a:ext cx="3008160" cy="738360"/>
            </a:xfrm>
            <a:prstGeom prst="rect">
              <a:avLst/>
            </a:prstGeom>
            <a:noFill/>
            <a:ln w="0">
              <a:noFill/>
            </a:ln>
          </p:spPr>
          <p:style>
            <a:lnRef idx="0"/>
            <a:fillRef idx="0"/>
            <a:effectRef idx="0"/>
            <a:fontRef idx="minor"/>
          </p:style>
          <p:txBody>
            <a:bodyPr lIns="122040" rIns="122040" tIns="60840" bIns="6084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造字工房尚雅（非商用）常规体"/>
                  <a:ea typeface="造字工房尚雅（非商用）常规体"/>
                </a:rPr>
                <a:t>专项附加扣除项目</a:t>
              </a:r>
              <a:endParaRPr b="0" lang="en-US" sz="2400" spc="-1" strike="noStrike">
                <a:solidFill>
                  <a:srgbClr val="262626"/>
                </a:solidFill>
                <a:latin typeface="Arial"/>
              </a:endParaRPr>
            </a:p>
          </p:txBody>
        </p:sp>
        <p:sp>
          <p:nvSpPr>
            <p:cNvPr id="419" name="TextBox 101"/>
            <p:cNvSpPr/>
            <p:nvPr/>
          </p:nvSpPr>
          <p:spPr>
            <a:xfrm>
              <a:off x="4475880" y="4632480"/>
              <a:ext cx="81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造字工房尚雅（非商用）常规体"/>
                  <a:ea typeface="造字工房尚雅（非商用）常规体"/>
                </a:rPr>
                <a:t>0 2</a:t>
              </a:r>
              <a:endParaRPr b="0" lang="en-US" sz="3200" spc="-1" strike="noStrike">
                <a:solidFill>
                  <a:srgbClr val="262626"/>
                </a:solidFill>
                <a:latin typeface="Arial"/>
              </a:endParaRPr>
            </a:p>
          </p:txBody>
        </p:sp>
      </p:grpSp>
      <p:grpSp>
        <p:nvGrpSpPr>
          <p:cNvPr id="420" name="Group 132"/>
          <p:cNvGrpSpPr/>
          <p:nvPr/>
        </p:nvGrpSpPr>
        <p:grpSpPr>
          <a:xfrm>
            <a:off x="6151680" y="4646520"/>
            <a:ext cx="2381040" cy="1271520"/>
            <a:chOff x="6151680" y="4646520"/>
            <a:chExt cx="2381040" cy="1271520"/>
          </a:xfrm>
        </p:grpSpPr>
        <p:sp>
          <p:nvSpPr>
            <p:cNvPr id="421" name="Content Placeholder 2"/>
            <p:cNvSpPr/>
            <p:nvPr/>
          </p:nvSpPr>
          <p:spPr>
            <a:xfrm>
              <a:off x="6151680" y="5238720"/>
              <a:ext cx="2381040" cy="679320"/>
            </a:xfrm>
            <a:prstGeom prst="rect">
              <a:avLst/>
            </a:prstGeom>
            <a:noFill/>
            <a:ln w="0">
              <a:noFill/>
            </a:ln>
          </p:spPr>
          <p:style>
            <a:lnRef idx="0"/>
            <a:fillRef idx="0"/>
            <a:effectRef idx="0"/>
            <a:fontRef idx="minor"/>
          </p:style>
          <p:txBody>
            <a:bodyPr lIns="122040" rIns="122040" tIns="60840" bIns="6084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造字工房尚雅（非商用）常规体"/>
                  <a:ea typeface="造字工房尚雅（非商用）常规体"/>
                </a:rPr>
                <a:t>征收管理</a:t>
              </a:r>
              <a:endParaRPr b="0" lang="en-US" sz="2400" spc="-1" strike="noStrike">
                <a:solidFill>
                  <a:srgbClr val="262626"/>
                </a:solidFill>
                <a:latin typeface="Arial"/>
              </a:endParaRPr>
            </a:p>
          </p:txBody>
        </p:sp>
        <p:sp>
          <p:nvSpPr>
            <p:cNvPr id="422" name="TextBox 102"/>
            <p:cNvSpPr/>
            <p:nvPr/>
          </p:nvSpPr>
          <p:spPr>
            <a:xfrm>
              <a:off x="6907680" y="4646520"/>
              <a:ext cx="81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造字工房尚雅（非商用）常规体"/>
                  <a:ea typeface="造字工房尚雅（非商用）常规体"/>
                </a:rPr>
                <a:t>0 3</a:t>
              </a:r>
              <a:endParaRPr b="0" lang="en-US" sz="3200" spc="-1" strike="noStrike">
                <a:solidFill>
                  <a:srgbClr val="262626"/>
                </a:solidFill>
                <a:latin typeface="Arial"/>
              </a:endParaRPr>
            </a:p>
          </p:txBody>
        </p:sp>
      </p:grpSp>
      <p:grpSp>
        <p:nvGrpSpPr>
          <p:cNvPr id="423" name="Group 133"/>
          <p:cNvGrpSpPr/>
          <p:nvPr/>
        </p:nvGrpSpPr>
        <p:grpSpPr>
          <a:xfrm>
            <a:off x="8443800" y="4646520"/>
            <a:ext cx="2416320" cy="1268640"/>
            <a:chOff x="8443800" y="4646520"/>
            <a:chExt cx="2416320" cy="1268640"/>
          </a:xfrm>
        </p:grpSpPr>
        <p:sp>
          <p:nvSpPr>
            <p:cNvPr id="424" name="Content Placeholder 2"/>
            <p:cNvSpPr/>
            <p:nvPr/>
          </p:nvSpPr>
          <p:spPr>
            <a:xfrm>
              <a:off x="8443800" y="5272200"/>
              <a:ext cx="2416320" cy="642960"/>
            </a:xfrm>
            <a:prstGeom prst="rect">
              <a:avLst/>
            </a:prstGeom>
            <a:noFill/>
            <a:ln w="0">
              <a:noFill/>
            </a:ln>
          </p:spPr>
          <p:style>
            <a:lnRef idx="0"/>
            <a:fillRef idx="0"/>
            <a:effectRef idx="0"/>
            <a:fontRef idx="minor"/>
          </p:style>
          <p:txBody>
            <a:bodyPr lIns="122040" rIns="122040" tIns="60840" bIns="6084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造字工房尚雅（非商用）常规体"/>
                  <a:ea typeface="造字工房尚雅（非商用）常规体"/>
                </a:rPr>
                <a:t>案例及最新精神</a:t>
              </a:r>
              <a:endParaRPr b="0" lang="en-US" sz="2000" spc="-1" strike="noStrike">
                <a:solidFill>
                  <a:srgbClr val="262626"/>
                </a:solidFill>
                <a:latin typeface="Arial"/>
              </a:endParaRPr>
            </a:p>
          </p:txBody>
        </p:sp>
        <p:sp>
          <p:nvSpPr>
            <p:cNvPr id="425" name="TextBox 103"/>
            <p:cNvSpPr/>
            <p:nvPr/>
          </p:nvSpPr>
          <p:spPr>
            <a:xfrm>
              <a:off x="9230040" y="4646520"/>
              <a:ext cx="81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造字工房尚雅（非商用）常规体"/>
                  <a:ea typeface="造字工房尚雅（非商用）常规体"/>
                </a:rPr>
                <a:t>0 4</a:t>
              </a:r>
              <a:endParaRPr b="0" lang="en-US" sz="3200" spc="-1" strike="noStrike">
                <a:solidFill>
                  <a:srgbClr val="262626"/>
                </a:solidFill>
                <a:latin typeface="Arial"/>
              </a:endParaRPr>
            </a:p>
          </p:txBody>
        </p:sp>
      </p:grpSp>
      <p:sp>
        <p:nvSpPr>
          <p:cNvPr id="426" name="矩形 188"/>
          <p:cNvSpPr/>
          <p:nvPr/>
        </p:nvSpPr>
        <p:spPr>
          <a:xfrm>
            <a:off x="2814480" y="2647800"/>
            <a:ext cx="6612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造字工房尚雅（非商用）常规体"/>
                <a:ea typeface="造字工房尚雅（非商用）常规体"/>
              </a:rPr>
              <a:t>CONTENTS</a:t>
            </a:r>
            <a:endParaRPr b="0" lang="en-US" sz="8000" spc="-1" strike="noStrike">
              <a:solidFill>
                <a:srgbClr val="262626"/>
              </a:solidFill>
              <a:latin typeface="Arial"/>
            </a:endParaRPr>
          </a:p>
        </p:txBody>
      </p:sp>
    </p:spTree>
  </p:cSld>
  <p:transition spd="slow">
    <p:random/>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29">
                                  <p:stCondLst>
                                    <p:cond delay="3800"/>
                                  </p:stCondLst>
                                  <p:childTnLst>
                                    <p:set>
                                      <p:cBhvr>
                                        <p:cTn id="31" dur="1" fill="hold">
                                          <p:stCondLst>
                                            <p:cond delay="0"/>
                                          </p:stCondLst>
                                        </p:cTn>
                                        <p:tgtEl>
                                          <p:spTgt spid="414"/>
                                        </p:tgtEl>
                                        <p:attrNameLst>
                                          <p:attrName>style.visibility</p:attrName>
                                        </p:attrNameLst>
                                      </p:cBhvr>
                                      <p:to>
                                        <p:strVal val="visible"/>
                                      </p:to>
                                    </p:set>
                                    <p:anim calcmode="lin" valueType="num">
                                      <p:cBhvr additive="repl">
                                        <p:cTn id="32" dur="1000" fill="hold"/>
                                        <p:tgtEl>
                                          <p:spTgt spid="414"/>
                                        </p:tgtEl>
                                        <p:attrNameLst>
                                          <p:attrName>ppt_x</p:attrName>
                                        </p:attrNameLst>
                                      </p:cBhvr>
                                      <p:tavLst>
                                        <p:tav tm="0">
                                          <p:val>
                                            <p:strVal val="#ppt_x-.2"/>
                                          </p:val>
                                        </p:tav>
                                        <p:tav tm="100000">
                                          <p:val>
                                            <p:strVal val="#ppt_x"/>
                                          </p:val>
                                        </p:tav>
                                      </p:tavLst>
                                    </p:anim>
                                    <p:anim calcmode="lin" valueType="num">
                                      <p:cBhvr additive="repl">
                                        <p:cTn id="33"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34" dur="1000"/>
                                        <p:tgtEl>
                                          <p:spTgt spid="414"/>
                                        </p:tgtEl>
                                      </p:cBhvr>
                                    </p:animEffect>
                                  </p:childTnLst>
                                </p:cTn>
                              </p:par>
                              <p:par>
                                <p:cTn id="35" nodeType="withEffect" fill="hold" presetClass="entr" presetID="37">
                                  <p:stCondLst>
                                    <p:cond delay="4900"/>
                                  </p:stCondLst>
                                  <p:childTnLst>
                                    <p:set>
                                      <p:cBhvr>
                                        <p:cTn id="36" dur="1" fill="hold">
                                          <p:stCondLst>
                                            <p:cond delay="0"/>
                                          </p:stCondLst>
                                        </p:cTn>
                                        <p:tgtEl>
                                          <p:spTgt spid="417"/>
                                        </p:tgtEl>
                                        <p:attrNameLst>
                                          <p:attrName>style.visibility</p:attrName>
                                        </p:attrNameLst>
                                      </p:cBhvr>
                                      <p:to>
                                        <p:strVal val="visible"/>
                                      </p:to>
                                    </p:set>
                                    <p:animEffect filter="fade" transition="in">
                                      <p:cBhvr additive="repl">
                                        <p:cTn id="37" dur="1000"/>
                                        <p:tgtEl>
                                          <p:spTgt spid="417"/>
                                        </p:tgtEl>
                                      </p:cBhvr>
                                    </p:animEffect>
                                    <p:anim calcmode="lin" valueType="num">
                                      <p:cBhvr additive="repl">
                                        <p:cTn id="38" dur="1000" fill="hold"/>
                                        <p:tgtEl>
                                          <p:spTgt spid="417"/>
                                        </p:tgtEl>
                                        <p:attrNameLst>
                                          <p:attrName>ppt_x</p:attrName>
                                        </p:attrNameLst>
                                      </p:cBhvr>
                                      <p:tavLst>
                                        <p:tav tm="0">
                                          <p:val>
                                            <p:strVal val="#ppt_x"/>
                                          </p:val>
                                        </p:tav>
                                        <p:tav tm="100000">
                                          <p:val>
                                            <p:strVal val="#ppt_x"/>
                                          </p:val>
                                        </p:tav>
                                      </p:tavLst>
                                    </p:anim>
                                    <p:anim calcmode="lin" valueType="num">
                                      <p:cBhvr additive="repl">
                                        <p:cTn id="39" dur="900" fill="hold"/>
                                        <p:tgtEl>
                                          <p:spTgt spid="417"/>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417"/>
                                        </p:tgtEl>
                                        <p:attrNameLst>
                                          <p:attrName>ppt_y</p:attrName>
                                        </p:attrNameLst>
                                      </p:cBhvr>
                                      <p:tavLst>
                                        <p:tav tm="0">
                                          <p:val>
                                            <p:strVal val="#ppt_y-.03"/>
                                          </p:val>
                                        </p:tav>
                                        <p:tav tm="100000">
                                          <p:val>
                                            <p:strVal val="#ppt_y"/>
                                          </p:val>
                                        </p:tav>
                                      </p:tavLst>
                                    </p:anim>
                                  </p:childTnLst>
                                </p:cTn>
                              </p:par>
                              <p:par>
                                <p:cTn id="41" nodeType="withEffect" fill="hold" presetClass="entr" presetID="37">
                                  <p:stCondLst>
                                    <p:cond delay="5900"/>
                                  </p:stCondLst>
                                  <p:childTnLst>
                                    <p:set>
                                      <p:cBhvr>
                                        <p:cTn id="42" dur="1" fill="hold">
                                          <p:stCondLst>
                                            <p:cond delay="0"/>
                                          </p:stCondLst>
                                        </p:cTn>
                                        <p:tgtEl>
                                          <p:spTgt spid="420"/>
                                        </p:tgtEl>
                                        <p:attrNameLst>
                                          <p:attrName>style.visibility</p:attrName>
                                        </p:attrNameLst>
                                      </p:cBhvr>
                                      <p:to>
                                        <p:strVal val="visible"/>
                                      </p:to>
                                    </p:set>
                                    <p:animEffect filter="fade" transition="in">
                                      <p:cBhvr additive="repl">
                                        <p:cTn id="43" dur="1000"/>
                                        <p:tgtEl>
                                          <p:spTgt spid="420"/>
                                        </p:tgtEl>
                                      </p:cBhvr>
                                    </p:animEffect>
                                    <p:anim calcmode="lin" valueType="num">
                                      <p:cBhvr additive="repl">
                                        <p:cTn id="44" dur="1000" fill="hold"/>
                                        <p:tgtEl>
                                          <p:spTgt spid="420"/>
                                        </p:tgtEl>
                                        <p:attrNameLst>
                                          <p:attrName>ppt_x</p:attrName>
                                        </p:attrNameLst>
                                      </p:cBhvr>
                                      <p:tavLst>
                                        <p:tav tm="0">
                                          <p:val>
                                            <p:strVal val="#ppt_x"/>
                                          </p:val>
                                        </p:tav>
                                        <p:tav tm="100000">
                                          <p:val>
                                            <p:strVal val="#ppt_x"/>
                                          </p:val>
                                        </p:tav>
                                      </p:tavLst>
                                    </p:anim>
                                    <p:anim calcmode="lin" valueType="num">
                                      <p:cBhvr additive="repl">
                                        <p:cTn id="45" dur="900" fill="hold"/>
                                        <p:tgtEl>
                                          <p:spTgt spid="420"/>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420"/>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7100"/>
                                  </p:stCondLst>
                                  <p:childTnLst>
                                    <p:set>
                                      <p:cBhvr>
                                        <p:cTn id="48" dur="1" fill="hold">
                                          <p:stCondLst>
                                            <p:cond delay="0"/>
                                          </p:stCondLst>
                                        </p:cTn>
                                        <p:tgtEl>
                                          <p:spTgt spid="423"/>
                                        </p:tgtEl>
                                        <p:attrNameLst>
                                          <p:attrName>style.visibility</p:attrName>
                                        </p:attrNameLst>
                                      </p:cBhvr>
                                      <p:to>
                                        <p:strVal val="visible"/>
                                      </p:to>
                                    </p:set>
                                    <p:animEffect filter="fade" transition="in">
                                      <p:cBhvr additive="repl">
                                        <p:cTn id="49" dur="1000"/>
                                        <p:tgtEl>
                                          <p:spTgt spid="423"/>
                                        </p:tgtEl>
                                      </p:cBhvr>
                                    </p:animEffect>
                                    <p:anim calcmode="lin" valueType="num">
                                      <p:cBhvr additive="repl">
                                        <p:cTn id="50" dur="1000" fill="hold"/>
                                        <p:tgtEl>
                                          <p:spTgt spid="423"/>
                                        </p:tgtEl>
                                        <p:attrNameLst>
                                          <p:attrName>ppt_x</p:attrName>
                                        </p:attrNameLst>
                                      </p:cBhvr>
                                      <p:tavLst>
                                        <p:tav tm="0">
                                          <p:val>
                                            <p:strVal val="#ppt_x"/>
                                          </p:val>
                                        </p:tav>
                                        <p:tav tm="100000">
                                          <p:val>
                                            <p:strVal val="#ppt_x"/>
                                          </p:val>
                                        </p:tav>
                                      </p:tavLst>
                                    </p:anim>
                                    <p:anim calcmode="lin" valueType="num">
                                      <p:cBhvr additive="repl">
                                        <p:cTn id="51" dur="900" fill="hold"/>
                                        <p:tgtEl>
                                          <p:spTgt spid="423"/>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423"/>
                                        </p:tgtEl>
                                        <p:attrNameLst>
                                          <p:attrName>ppt_y</p:attrName>
                                        </p:attrNameLst>
                                      </p:cBhvr>
                                      <p:tavLst>
                                        <p:tav tm="0">
                                          <p:val>
                                            <p:strVal val="#ppt_y-.03"/>
                                          </p:val>
                                        </p:tav>
                                        <p:tav tm="100000">
                                          <p:val>
                                            <p:strVal val="#ppt_y"/>
                                          </p:val>
                                        </p:tav>
                                      </p:tavLst>
                                    </p:anim>
                                  </p:childTnLst>
                                </p:cTn>
                              </p:par>
                            </p:childTnLst>
                          </p:cTn>
                        </p:par>
                        <p:par>
                          <p:cTn id="53" nodeType="afterEffect" fill="hold">
                            <p:stCondLst>
                              <p:cond delay="8100"/>
                            </p:stCondLst>
                            <p:childTnLst>
                              <p:par>
                                <p:cTn id="54" nodeType="afterEffect" fill="hold" presetClass="entr" presetID="41">
                                  <p:stCondLst>
                                    <p:cond delay="0"/>
                                  </p:stCondLst>
                                  <p:iterate type="lt">
                                    <p:tmAbs val="50"/>
                                  </p:iterate>
                                  <p:childTnLst>
                                    <p:set>
                                      <p:cBhvr>
                                        <p:cTn id="55" dur="1" fill="hold">
                                          <p:stCondLst>
                                            <p:cond delay="0"/>
                                          </p:stCondLst>
                                        </p:cTn>
                                        <p:tgtEl>
                                          <p:spTgt spid="426">
                                            <p:txEl>
                                              <p:pRg st="0" end="0"/>
                                            </p:txEl>
                                          </p:spTgt>
                                        </p:tgtEl>
                                        <p:attrNameLst>
                                          <p:attrName>style.visibility</p:attrName>
                                        </p:attrNameLst>
                                      </p:cBhvr>
                                      <p:to>
                                        <p:strVal val="visible"/>
                                      </p:to>
                                    </p:set>
                                    <p:anim calcmode="lin" valueType="num">
                                      <p:cBhvr additive="repl">
                                        <p:cTn id="56" dur="500" fill="hold"/>
                                        <p:tgtEl>
                                          <p:spTgt spid="42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 dur="500" fill="hold"/>
                                        <p:tgtEl>
                                          <p:spTgt spid="426">
                                            <p:txEl>
                                              <p:pRg st="0" end="0"/>
                                            </p:txEl>
                                          </p:spTgt>
                                        </p:tgtEl>
                                        <p:attrNameLst>
                                          <p:attrName>ppt_y</p:attrName>
                                        </p:attrNameLst>
                                      </p:cBhvr>
                                      <p:tavLst>
                                        <p:tav tm="0">
                                          <p:val>
                                            <p:strVal val="#ppt_y"/>
                                          </p:val>
                                        </p:tav>
                                        <p:tav tm="100000">
                                          <p:val>
                                            <p:strVal val="#ppt_y"/>
                                          </p:val>
                                        </p:tav>
                                      </p:tavLst>
                                    </p:anim>
                                    <p:anim calcmode="lin" valueType="num">
                                      <p:cBhvr additive="repl">
                                        <p:cTn id="58" dur="500" fill="hold"/>
                                        <p:tgtEl>
                                          <p:spTgt spid="42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 dur="500" fill="hold"/>
                                        <p:tgtEl>
                                          <p:spTgt spid="42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1" name="组合 273"/>
          <p:cNvGrpSpPr/>
          <p:nvPr/>
        </p:nvGrpSpPr>
        <p:grpSpPr>
          <a:xfrm>
            <a:off x="345960" y="289080"/>
            <a:ext cx="11504880" cy="6153120"/>
            <a:chOff x="345960" y="289080"/>
            <a:chExt cx="11504880" cy="6153120"/>
          </a:xfrm>
        </p:grpSpPr>
        <p:sp>
          <p:nvSpPr>
            <p:cNvPr id="1682" name="任意多边形: 形状 2"/>
            <p:cNvSpPr/>
            <p:nvPr/>
          </p:nvSpPr>
          <p:spPr>
            <a:xfrm>
              <a:off x="3941640" y="3336480"/>
              <a:ext cx="230760" cy="256320"/>
            </a:xfrm>
            <a:custGeom>
              <a:avLst/>
              <a:gdLst>
                <a:gd name="textAreaLeft" fmla="*/ 0 w 230760"/>
                <a:gd name="textAreaRight" fmla="*/ 231120 w 230760"/>
                <a:gd name="textAreaTop" fmla="*/ 0 h 256320"/>
                <a:gd name="textAreaBottom" fmla="*/ 256680 h 256320"/>
              </a:gdLst>
              <a:ahLst/>
              <a:rect l="textAreaLeft" t="textAreaTop" r="textAreaRight" b="textAreaBottom"/>
              <a:pathLst>
                <a:path w="85725" h="95250">
                  <a:moveTo>
                    <a:pt x="20479" y="7144"/>
                  </a:moveTo>
                  <a:lnTo>
                    <a:pt x="68104" y="7144"/>
                  </a:lnTo>
                  <a:cubicBezTo>
                    <a:pt x="75724" y="7144"/>
                    <a:pt x="81439" y="12859"/>
                    <a:pt x="81439" y="20479"/>
                  </a:cubicBezTo>
                  <a:lnTo>
                    <a:pt x="81439" y="82391"/>
                  </a:lnTo>
                  <a:cubicBezTo>
                    <a:pt x="81439" y="90011"/>
                    <a:pt x="75724" y="95726"/>
                    <a:pt x="68104" y="95726"/>
                  </a:cubicBezTo>
                  <a:lnTo>
                    <a:pt x="20479" y="95726"/>
                  </a:lnTo>
                  <a:cubicBezTo>
                    <a:pt x="12859" y="95726"/>
                    <a:pt x="7144" y="90011"/>
                    <a:pt x="7144" y="82391"/>
                  </a:cubicBezTo>
                  <a:lnTo>
                    <a:pt x="7144" y="20479"/>
                  </a:lnTo>
                  <a:cubicBezTo>
                    <a:pt x="7144" y="12859"/>
                    <a:pt x="13811" y="7144"/>
                    <a:pt x="20479" y="7144"/>
                  </a:cubicBezTo>
                  <a:close/>
                  <a:moveTo>
                    <a:pt x="24289" y="18574"/>
                  </a:moveTo>
                  <a:cubicBezTo>
                    <a:pt x="18574" y="18574"/>
                    <a:pt x="14764" y="23336"/>
                    <a:pt x="14764" y="28099"/>
                  </a:cubicBezTo>
                  <a:lnTo>
                    <a:pt x="14764" y="74771"/>
                  </a:lnTo>
                  <a:cubicBezTo>
                    <a:pt x="14764" y="80486"/>
                    <a:pt x="19526" y="84296"/>
                    <a:pt x="24289" y="84296"/>
                  </a:cubicBezTo>
                  <a:lnTo>
                    <a:pt x="59531" y="84296"/>
                  </a:lnTo>
                  <a:cubicBezTo>
                    <a:pt x="65246" y="84296"/>
                    <a:pt x="69056" y="79534"/>
                    <a:pt x="69056" y="74771"/>
                  </a:cubicBezTo>
                  <a:lnTo>
                    <a:pt x="69056" y="28099"/>
                  </a:lnTo>
                  <a:cubicBezTo>
                    <a:pt x="69056" y="22384"/>
                    <a:pt x="64294" y="18574"/>
                    <a:pt x="59531" y="18574"/>
                  </a:cubicBezTo>
                  <a:lnTo>
                    <a:pt x="24289" y="18574"/>
                  </a:lnTo>
                  <a:close/>
                </a:path>
              </a:pathLst>
            </a:custGeom>
            <a:solidFill>
              <a:srgbClr val="94aac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83" name="任意多边形: 形状 3"/>
            <p:cNvSpPr/>
            <p:nvPr/>
          </p:nvSpPr>
          <p:spPr>
            <a:xfrm>
              <a:off x="3643920" y="3280320"/>
              <a:ext cx="384480" cy="384480"/>
            </a:xfrm>
            <a:custGeom>
              <a:avLst/>
              <a:gdLst>
                <a:gd name="textAreaLeft" fmla="*/ 0 w 384480"/>
                <a:gd name="textAreaRight" fmla="*/ 384840 w 384480"/>
                <a:gd name="textAreaTop" fmla="*/ 0 h 384480"/>
                <a:gd name="textAreaBottom" fmla="*/ 384840 h 384480"/>
              </a:gdLst>
              <a:ahLst/>
              <a:rect l="textAreaLeft" t="textAreaTop" r="textAreaRight" b="textAreaBottom"/>
              <a:pathLst>
                <a:path w="142875" h="142875">
                  <a:moveTo>
                    <a:pt x="7144" y="7144"/>
                  </a:moveTo>
                  <a:lnTo>
                    <a:pt x="141446" y="7144"/>
                  </a:lnTo>
                  <a:lnTo>
                    <a:pt x="141446" y="136684"/>
                  </a:lnTo>
                  <a:lnTo>
                    <a:pt x="7144" y="136684"/>
                  </a:lnTo>
                  <a:lnTo>
                    <a:pt x="7144" y="7144"/>
                  </a:lnTo>
                  <a:close/>
                </a:path>
              </a:pathLst>
            </a:custGeom>
            <a:solidFill>
              <a:srgbClr val="abbd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84" name="任意多边形: 形状 4"/>
            <p:cNvSpPr/>
            <p:nvPr/>
          </p:nvSpPr>
          <p:spPr>
            <a:xfrm>
              <a:off x="3546360" y="3600720"/>
              <a:ext cx="589680" cy="76680"/>
            </a:xfrm>
            <a:custGeom>
              <a:avLst/>
              <a:gdLst>
                <a:gd name="textAreaLeft" fmla="*/ 0 w 589680"/>
                <a:gd name="textAreaRight" fmla="*/ 590040 w 589680"/>
                <a:gd name="textAreaTop" fmla="*/ 0 h 76680"/>
                <a:gd name="textAreaBottom" fmla="*/ 77040 h 76680"/>
              </a:gdLst>
              <a:ahLst/>
              <a:rect l="textAreaLeft" t="textAreaTop" r="textAreaRight" b="textAreaBottom"/>
              <a:pathLst>
                <a:path w="219075" h="28575">
                  <a:moveTo>
                    <a:pt x="7144" y="7144"/>
                  </a:moveTo>
                  <a:lnTo>
                    <a:pt x="221456" y="7144"/>
                  </a:lnTo>
                  <a:lnTo>
                    <a:pt x="188119" y="26194"/>
                  </a:lnTo>
                  <a:lnTo>
                    <a:pt x="34766" y="26194"/>
                  </a:lnTo>
                  <a:lnTo>
                    <a:pt x="7144" y="7144"/>
                  </a:lnTo>
                  <a:close/>
                </a:path>
              </a:pathLst>
            </a:custGeom>
            <a:solidFill>
              <a:srgbClr val="7e97b4"/>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Arial"/>
              </a:endParaRPr>
            </a:p>
          </p:txBody>
        </p:sp>
        <p:sp>
          <p:nvSpPr>
            <p:cNvPr id="1685" name="任意多边形: 形状 5"/>
            <p:cNvSpPr/>
            <p:nvPr/>
          </p:nvSpPr>
          <p:spPr>
            <a:xfrm>
              <a:off x="6867360" y="592920"/>
              <a:ext cx="615240" cy="846000"/>
            </a:xfrm>
            <a:custGeom>
              <a:avLst/>
              <a:gdLst>
                <a:gd name="textAreaLeft" fmla="*/ 0 w 615240"/>
                <a:gd name="textAreaRight" fmla="*/ 615600 w 615240"/>
                <a:gd name="textAreaTop" fmla="*/ 0 h 846000"/>
                <a:gd name="textAreaBottom" fmla="*/ 846360 h 846000"/>
              </a:gdLst>
              <a:ahLst/>
              <a:rect l="textAreaLeft" t="textAreaTop" r="textAreaRight" b="textAreaBottom"/>
              <a:pathLst>
                <a:path w="228600" h="314325">
                  <a:moveTo>
                    <a:pt x="227322" y="191797"/>
                  </a:moveTo>
                  <a:cubicBezTo>
                    <a:pt x="223512" y="193702"/>
                    <a:pt x="191127" y="275617"/>
                    <a:pt x="153027" y="300382"/>
                  </a:cubicBezTo>
                  <a:cubicBezTo>
                    <a:pt x="114927" y="325147"/>
                    <a:pt x="85399" y="312764"/>
                    <a:pt x="67302" y="284189"/>
                  </a:cubicBezTo>
                  <a:cubicBezTo>
                    <a:pt x="48252" y="255614"/>
                    <a:pt x="8247" y="160364"/>
                    <a:pt x="7294" y="123217"/>
                  </a:cubicBezTo>
                  <a:cubicBezTo>
                    <a:pt x="6342" y="86069"/>
                    <a:pt x="8247" y="30824"/>
                    <a:pt x="64444" y="8917"/>
                  </a:cubicBezTo>
                  <a:cubicBezTo>
                    <a:pt x="121594" y="-13943"/>
                    <a:pt x="227322" y="191797"/>
                    <a:pt x="227322" y="191797"/>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86" name="任意多边形: 形状 6"/>
            <p:cNvSpPr/>
            <p:nvPr/>
          </p:nvSpPr>
          <p:spPr>
            <a:xfrm>
              <a:off x="9435240" y="3131280"/>
              <a:ext cx="1307880" cy="461520"/>
            </a:xfrm>
            <a:custGeom>
              <a:avLst/>
              <a:gdLst>
                <a:gd name="textAreaLeft" fmla="*/ 0 w 1307880"/>
                <a:gd name="textAreaRight" fmla="*/ 1308240 w 1307880"/>
                <a:gd name="textAreaTop" fmla="*/ 0 h 461520"/>
                <a:gd name="textAreaBottom" fmla="*/ 461880 h 461520"/>
              </a:gdLst>
              <a:ahLst/>
              <a:rect l="textAreaLeft" t="textAreaTop" r="textAreaRight" b="textAreaBottom"/>
              <a:pathLst>
                <a:path w="485775" h="171450">
                  <a:moveTo>
                    <a:pt x="372904" y="163354"/>
                  </a:moveTo>
                  <a:lnTo>
                    <a:pt x="83344" y="170974"/>
                  </a:lnTo>
                  <a:lnTo>
                    <a:pt x="41434" y="170021"/>
                  </a:lnTo>
                  <a:lnTo>
                    <a:pt x="7144" y="152876"/>
                  </a:lnTo>
                  <a:lnTo>
                    <a:pt x="312896" y="93821"/>
                  </a:lnTo>
                  <a:lnTo>
                    <a:pt x="446246" y="7144"/>
                  </a:lnTo>
                  <a:lnTo>
                    <a:pt x="482441" y="89059"/>
                  </a:lnTo>
                  <a:lnTo>
                    <a:pt x="372904" y="163354"/>
                  </a:lnTo>
                  <a:close/>
                </a:path>
              </a:pathLst>
            </a:custGeom>
            <a:solidFill>
              <a:srgbClr val="d6b5b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87" name="任意多边形: 形状 7"/>
            <p:cNvSpPr/>
            <p:nvPr/>
          </p:nvSpPr>
          <p:spPr>
            <a:xfrm>
              <a:off x="9462960" y="3518640"/>
              <a:ext cx="538560" cy="76680"/>
            </a:xfrm>
            <a:custGeom>
              <a:avLst/>
              <a:gdLst>
                <a:gd name="textAreaLeft" fmla="*/ 0 w 538560"/>
                <a:gd name="textAreaRight" fmla="*/ 538920 w 538560"/>
                <a:gd name="textAreaTop" fmla="*/ 0 h 76680"/>
                <a:gd name="textAreaBottom" fmla="*/ 77040 h 76680"/>
              </a:gdLst>
              <a:ahLst/>
              <a:rect l="textAreaLeft" t="textAreaTop" r="textAreaRight" b="textAreaBottom"/>
              <a:pathLst>
                <a:path w="200025" h="28575">
                  <a:moveTo>
                    <a:pt x="196816" y="23336"/>
                  </a:moveTo>
                  <a:lnTo>
                    <a:pt x="72991" y="26194"/>
                  </a:lnTo>
                  <a:lnTo>
                    <a:pt x="31082" y="25241"/>
                  </a:lnTo>
                  <a:lnTo>
                    <a:pt x="12032" y="15716"/>
                  </a:lnTo>
                  <a:cubicBezTo>
                    <a:pt x="11079" y="12859"/>
                    <a:pt x="6316" y="8096"/>
                    <a:pt x="7269" y="7144"/>
                  </a:cubicBezTo>
                  <a:lnTo>
                    <a:pt x="9174" y="7144"/>
                  </a:lnTo>
                  <a:cubicBezTo>
                    <a:pt x="15841" y="8096"/>
                    <a:pt x="39654" y="16669"/>
                    <a:pt x="78707" y="18574"/>
                  </a:cubicBezTo>
                  <a:cubicBezTo>
                    <a:pt x="117759" y="20479"/>
                    <a:pt x="183482" y="11906"/>
                    <a:pt x="183482" y="11906"/>
                  </a:cubicBezTo>
                  <a:lnTo>
                    <a:pt x="196816" y="23336"/>
                  </a:lnTo>
                  <a:close/>
                </a:path>
              </a:pathLst>
            </a:custGeom>
            <a:solidFill>
              <a:srgbClr val="c8a8ae"/>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Arial"/>
              </a:endParaRPr>
            </a:p>
          </p:txBody>
        </p:sp>
        <p:sp>
          <p:nvSpPr>
            <p:cNvPr id="1688" name="任意多边形: 形状 8"/>
            <p:cNvSpPr/>
            <p:nvPr/>
          </p:nvSpPr>
          <p:spPr>
            <a:xfrm>
              <a:off x="9133920" y="3372480"/>
              <a:ext cx="564120" cy="230760"/>
            </a:xfrm>
            <a:custGeom>
              <a:avLst/>
              <a:gdLst>
                <a:gd name="textAreaLeft" fmla="*/ 0 w 564120"/>
                <a:gd name="textAreaRight" fmla="*/ 564480 w 564120"/>
                <a:gd name="textAreaTop" fmla="*/ 0 h 230760"/>
                <a:gd name="textAreaBottom" fmla="*/ 231120 h 230760"/>
              </a:gdLst>
              <a:ahLst/>
              <a:rect l="textAreaLeft" t="textAreaTop" r="textAreaRight" b="textAreaBottom"/>
              <a:pathLst>
                <a:path w="209550" h="85725">
                  <a:moveTo>
                    <a:pt x="77122" y="7144"/>
                  </a:moveTo>
                  <a:lnTo>
                    <a:pt x="11400" y="48101"/>
                  </a:lnTo>
                  <a:cubicBezTo>
                    <a:pt x="6637" y="50959"/>
                    <a:pt x="5685" y="57626"/>
                    <a:pt x="9495" y="62389"/>
                  </a:cubicBezTo>
                  <a:cubicBezTo>
                    <a:pt x="12352" y="65246"/>
                    <a:pt x="17115" y="66199"/>
                    <a:pt x="20925" y="65246"/>
                  </a:cubicBezTo>
                  <a:lnTo>
                    <a:pt x="28545" y="61436"/>
                  </a:lnTo>
                  <a:cubicBezTo>
                    <a:pt x="28545" y="62389"/>
                    <a:pt x="28545" y="64294"/>
                    <a:pt x="29497" y="65246"/>
                  </a:cubicBezTo>
                  <a:lnTo>
                    <a:pt x="30450" y="66199"/>
                  </a:lnTo>
                  <a:cubicBezTo>
                    <a:pt x="32355" y="70009"/>
                    <a:pt x="38070" y="71914"/>
                    <a:pt x="41880" y="69056"/>
                  </a:cubicBezTo>
                  <a:lnTo>
                    <a:pt x="45690" y="67151"/>
                  </a:lnTo>
                  <a:cubicBezTo>
                    <a:pt x="44737" y="69056"/>
                    <a:pt x="45690" y="71914"/>
                    <a:pt x="46642" y="73819"/>
                  </a:cubicBezTo>
                  <a:lnTo>
                    <a:pt x="47595" y="75724"/>
                  </a:lnTo>
                  <a:cubicBezTo>
                    <a:pt x="49500" y="79534"/>
                    <a:pt x="55215" y="81439"/>
                    <a:pt x="59025" y="78581"/>
                  </a:cubicBezTo>
                  <a:lnTo>
                    <a:pt x="88552" y="62389"/>
                  </a:lnTo>
                  <a:cubicBezTo>
                    <a:pt x="94267" y="66199"/>
                    <a:pt x="99982" y="70961"/>
                    <a:pt x="108555" y="73819"/>
                  </a:cubicBezTo>
                  <a:cubicBezTo>
                    <a:pt x="144750" y="87154"/>
                    <a:pt x="159990" y="84296"/>
                    <a:pt x="196185" y="81439"/>
                  </a:cubicBezTo>
                  <a:cubicBezTo>
                    <a:pt x="198090" y="63341"/>
                    <a:pt x="200947" y="46196"/>
                    <a:pt x="202852" y="28099"/>
                  </a:cubicBezTo>
                  <a:cubicBezTo>
                    <a:pt x="155227" y="30956"/>
                    <a:pt x="116175" y="19526"/>
                    <a:pt x="77122" y="7144"/>
                  </a:cubicBezTo>
                  <a:close/>
                </a:path>
              </a:pathLst>
            </a:custGeom>
            <a:solidFill>
              <a:srgbClr val="d6b5b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89" name="任意多边形: 形状 9"/>
            <p:cNvSpPr/>
            <p:nvPr/>
          </p:nvSpPr>
          <p:spPr>
            <a:xfrm>
              <a:off x="10544400" y="1836360"/>
              <a:ext cx="281880" cy="564120"/>
            </a:xfrm>
            <a:custGeom>
              <a:avLst/>
              <a:gdLst>
                <a:gd name="textAreaLeft" fmla="*/ 0 w 281880"/>
                <a:gd name="textAreaRight" fmla="*/ 282240 w 281880"/>
                <a:gd name="textAreaTop" fmla="*/ 0 h 564120"/>
                <a:gd name="textAreaBottom" fmla="*/ 564480 h 564120"/>
              </a:gdLst>
              <a:ahLst/>
              <a:rect l="textAreaLeft" t="textAreaTop" r="textAreaRight" b="textAreaBottom"/>
              <a:pathLst>
                <a:path w="104775" h="209550">
                  <a:moveTo>
                    <a:pt x="18128" y="7144"/>
                  </a:moveTo>
                  <a:cubicBezTo>
                    <a:pt x="11461" y="24289"/>
                    <a:pt x="2888" y="43339"/>
                    <a:pt x="9556" y="91916"/>
                  </a:cubicBezTo>
                  <a:cubicBezTo>
                    <a:pt x="16223" y="140494"/>
                    <a:pt x="98138" y="206216"/>
                    <a:pt x="98138" y="206216"/>
                  </a:cubicBezTo>
                  <a:lnTo>
                    <a:pt x="40036" y="16669"/>
                  </a:lnTo>
                  <a:lnTo>
                    <a:pt x="18128" y="7144"/>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0" name="任意多边形: 形状 10"/>
            <p:cNvSpPr/>
            <p:nvPr/>
          </p:nvSpPr>
          <p:spPr>
            <a:xfrm>
              <a:off x="9737640" y="4677840"/>
              <a:ext cx="589680" cy="1513080"/>
            </a:xfrm>
            <a:custGeom>
              <a:avLst/>
              <a:gdLst>
                <a:gd name="textAreaLeft" fmla="*/ 0 w 589680"/>
                <a:gd name="textAreaRight" fmla="*/ 590040 w 589680"/>
                <a:gd name="textAreaTop" fmla="*/ 0 h 1513080"/>
                <a:gd name="textAreaBottom" fmla="*/ 1513440 h 1513080"/>
              </a:gdLst>
              <a:ahLst/>
              <a:rect l="textAreaLeft" t="textAreaTop" r="textAreaRight" b="textAreaBottom"/>
              <a:pathLst>
                <a:path w="219075" h="561975">
                  <a:moveTo>
                    <a:pt x="34766" y="10954"/>
                  </a:moveTo>
                  <a:cubicBezTo>
                    <a:pt x="66199" y="38576"/>
                    <a:pt x="98584" y="66199"/>
                    <a:pt x="130016" y="93821"/>
                  </a:cubicBezTo>
                  <a:cubicBezTo>
                    <a:pt x="216694" y="239554"/>
                    <a:pt x="203359" y="394811"/>
                    <a:pt x="213836" y="539591"/>
                  </a:cubicBezTo>
                  <a:cubicBezTo>
                    <a:pt x="190976" y="551021"/>
                    <a:pt x="177641" y="543401"/>
                    <a:pt x="154781" y="554831"/>
                  </a:cubicBezTo>
                  <a:cubicBezTo>
                    <a:pt x="105251" y="375761"/>
                    <a:pt x="56674" y="186214"/>
                    <a:pt x="7144" y="7144"/>
                  </a:cubicBezTo>
                  <a:cubicBezTo>
                    <a:pt x="16669" y="8096"/>
                    <a:pt x="25241" y="9049"/>
                    <a:pt x="34766" y="10954"/>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1" name="任意多边形: 形状 11"/>
            <p:cNvSpPr/>
            <p:nvPr/>
          </p:nvSpPr>
          <p:spPr>
            <a:xfrm>
              <a:off x="9679320" y="4611600"/>
              <a:ext cx="641160" cy="1077120"/>
            </a:xfrm>
            <a:custGeom>
              <a:avLst/>
              <a:gdLst>
                <a:gd name="textAreaLeft" fmla="*/ 0 w 641160"/>
                <a:gd name="textAreaRight" fmla="*/ 641520 w 641160"/>
                <a:gd name="textAreaTop" fmla="*/ 0 h 1077120"/>
                <a:gd name="textAreaBottom" fmla="*/ 1077480 h 1077120"/>
              </a:gdLst>
              <a:ahLst/>
              <a:rect l="textAreaLeft" t="textAreaTop" r="textAreaRight" b="textAreaBottom"/>
              <a:pathLst>
                <a:path w="238125" h="400050">
                  <a:moveTo>
                    <a:pt x="231653" y="366158"/>
                  </a:moveTo>
                  <a:cubicBezTo>
                    <a:pt x="224986" y="367111"/>
                    <a:pt x="107828" y="404258"/>
                    <a:pt x="105923" y="397591"/>
                  </a:cubicBezTo>
                  <a:cubicBezTo>
                    <a:pt x="104018" y="390923"/>
                    <a:pt x="-26474" y="108031"/>
                    <a:pt x="15436" y="71836"/>
                  </a:cubicBezTo>
                  <a:cubicBezTo>
                    <a:pt x="56393" y="35641"/>
                    <a:pt x="126878" y="-7222"/>
                    <a:pt x="142118" y="11828"/>
                  </a:cubicBezTo>
                  <a:cubicBezTo>
                    <a:pt x="157358" y="30878"/>
                    <a:pt x="175456" y="134701"/>
                    <a:pt x="195458" y="184231"/>
                  </a:cubicBezTo>
                  <a:cubicBezTo>
                    <a:pt x="214508" y="233761"/>
                    <a:pt x="231653" y="366158"/>
                    <a:pt x="231653" y="366158"/>
                  </a:cubicBez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2" name="任意多边形: 形状 12"/>
            <p:cNvSpPr/>
            <p:nvPr/>
          </p:nvSpPr>
          <p:spPr>
            <a:xfrm>
              <a:off x="9670680" y="5857560"/>
              <a:ext cx="717840" cy="564120"/>
            </a:xfrm>
            <a:custGeom>
              <a:avLst/>
              <a:gdLst>
                <a:gd name="textAreaLeft" fmla="*/ 0 w 717840"/>
                <a:gd name="textAreaRight" fmla="*/ 718200 w 717840"/>
                <a:gd name="textAreaTop" fmla="*/ 0 h 564120"/>
                <a:gd name="textAreaBottom" fmla="*/ 564480 h 564120"/>
              </a:gdLst>
              <a:ahLst/>
              <a:rect l="textAreaLeft" t="textAreaTop" r="textAreaRight" b="textAreaBottom"/>
              <a:pathLst>
                <a:path w="266700" h="209550">
                  <a:moveTo>
                    <a:pt x="155858" y="30004"/>
                  </a:moveTo>
                  <a:cubicBezTo>
                    <a:pt x="175860" y="83344"/>
                    <a:pt x="170145" y="112871"/>
                    <a:pt x="170145" y="112871"/>
                  </a:cubicBezTo>
                  <a:cubicBezTo>
                    <a:pt x="170145" y="112871"/>
                    <a:pt x="131093" y="148114"/>
                    <a:pt x="112043" y="156686"/>
                  </a:cubicBezTo>
                  <a:cubicBezTo>
                    <a:pt x="92993" y="166211"/>
                    <a:pt x="11078" y="182404"/>
                    <a:pt x="8220" y="190024"/>
                  </a:cubicBezTo>
                  <a:cubicBezTo>
                    <a:pt x="4410" y="197644"/>
                    <a:pt x="11078" y="207169"/>
                    <a:pt x="22507" y="208121"/>
                  </a:cubicBezTo>
                  <a:cubicBezTo>
                    <a:pt x="33938" y="209074"/>
                    <a:pt x="187290" y="207169"/>
                    <a:pt x="187290" y="207169"/>
                  </a:cubicBezTo>
                  <a:lnTo>
                    <a:pt x="264443" y="161449"/>
                  </a:lnTo>
                  <a:cubicBezTo>
                    <a:pt x="264443" y="161449"/>
                    <a:pt x="267300" y="140494"/>
                    <a:pt x="253013" y="122396"/>
                  </a:cubicBezTo>
                  <a:cubicBezTo>
                    <a:pt x="232058" y="93821"/>
                    <a:pt x="236820" y="79534"/>
                    <a:pt x="233010" y="7144"/>
                  </a:cubicBezTo>
                  <a:lnTo>
                    <a:pt x="155858" y="30004"/>
                  </a:ln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3" name="任意多边形: 形状 13"/>
            <p:cNvSpPr/>
            <p:nvPr/>
          </p:nvSpPr>
          <p:spPr>
            <a:xfrm>
              <a:off x="9652320" y="6155280"/>
              <a:ext cx="769320" cy="281880"/>
            </a:xfrm>
            <a:custGeom>
              <a:avLst/>
              <a:gdLst>
                <a:gd name="textAreaLeft" fmla="*/ 0 w 769320"/>
                <a:gd name="textAreaRight" fmla="*/ 769680 w 769320"/>
                <a:gd name="textAreaTop" fmla="*/ 0 h 281880"/>
                <a:gd name="textAreaBottom" fmla="*/ 282240 h 281880"/>
              </a:gdLst>
              <a:ahLst/>
              <a:rect l="textAreaLeft" t="textAreaTop" r="textAreaRight" b="textAreaBottom"/>
              <a:pathLst>
                <a:path w="285750" h="104775">
                  <a:moveTo>
                    <a:pt x="269390" y="7144"/>
                  </a:moveTo>
                  <a:cubicBezTo>
                    <a:pt x="249387" y="16669"/>
                    <a:pt x="210335" y="40481"/>
                    <a:pt x="187475" y="29051"/>
                  </a:cubicBezTo>
                  <a:cubicBezTo>
                    <a:pt x="171282" y="21431"/>
                    <a:pt x="163662" y="8096"/>
                    <a:pt x="160805" y="10001"/>
                  </a:cubicBezTo>
                  <a:cubicBezTo>
                    <a:pt x="133182" y="33814"/>
                    <a:pt x="33170" y="49054"/>
                    <a:pt x="23645" y="52864"/>
                  </a:cubicBezTo>
                  <a:cubicBezTo>
                    <a:pt x="13167" y="56674"/>
                    <a:pt x="3642" y="72866"/>
                    <a:pt x="8405" y="88106"/>
                  </a:cubicBezTo>
                  <a:cubicBezTo>
                    <a:pt x="13167" y="102394"/>
                    <a:pt x="207477" y="97631"/>
                    <a:pt x="207477" y="97631"/>
                  </a:cubicBezTo>
                  <a:lnTo>
                    <a:pt x="286535" y="70961"/>
                  </a:lnTo>
                  <a:lnTo>
                    <a:pt x="269390" y="7144"/>
                  </a:lnTo>
                  <a:close/>
                </a:path>
              </a:pathLst>
            </a:custGeom>
            <a:solidFill>
              <a:srgbClr val="cd6f4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4" name="任意多边形: 形状 14"/>
            <p:cNvSpPr/>
            <p:nvPr/>
          </p:nvSpPr>
          <p:spPr>
            <a:xfrm>
              <a:off x="9660600" y="6260400"/>
              <a:ext cx="769320" cy="153720"/>
            </a:xfrm>
            <a:custGeom>
              <a:avLst/>
              <a:gdLst>
                <a:gd name="textAreaLeft" fmla="*/ 0 w 769320"/>
                <a:gd name="textAreaRight" fmla="*/ 769680 w 769320"/>
                <a:gd name="textAreaTop" fmla="*/ 0 h 153720"/>
                <a:gd name="textAreaBottom" fmla="*/ 154080 h 153720"/>
              </a:gdLst>
              <a:ahLst/>
              <a:rect l="textAreaLeft" t="textAreaTop" r="textAreaRight" b="textAreaBottom"/>
              <a:pathLst>
                <a:path w="285750" h="57150">
                  <a:moveTo>
                    <a:pt x="7144" y="50959"/>
                  </a:moveTo>
                  <a:cubicBezTo>
                    <a:pt x="29051" y="62389"/>
                    <a:pt x="204311" y="58579"/>
                    <a:pt x="204311" y="58579"/>
                  </a:cubicBezTo>
                  <a:lnTo>
                    <a:pt x="283369" y="31909"/>
                  </a:lnTo>
                  <a:lnTo>
                    <a:pt x="276701" y="7144"/>
                  </a:lnTo>
                  <a:cubicBezTo>
                    <a:pt x="254794" y="17621"/>
                    <a:pt x="203359" y="44291"/>
                    <a:pt x="192881" y="45244"/>
                  </a:cubicBezTo>
                  <a:cubicBezTo>
                    <a:pt x="179546" y="46196"/>
                    <a:pt x="12859" y="38576"/>
                    <a:pt x="9049" y="44291"/>
                  </a:cubicBezTo>
                  <a:cubicBezTo>
                    <a:pt x="8096" y="44291"/>
                    <a:pt x="7144" y="47149"/>
                    <a:pt x="7144" y="50959"/>
                  </a:cubicBezTo>
                  <a:close/>
                </a:path>
              </a:pathLst>
            </a:custGeom>
            <a:solidFill>
              <a:srgbClr val="e0e6f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5" name="任意多边形: 形状 15"/>
            <p:cNvSpPr/>
            <p:nvPr/>
          </p:nvSpPr>
          <p:spPr>
            <a:xfrm>
              <a:off x="9684000" y="4275360"/>
              <a:ext cx="1718280" cy="666720"/>
            </a:xfrm>
            <a:custGeom>
              <a:avLst/>
              <a:gdLst>
                <a:gd name="textAreaLeft" fmla="*/ 0 w 1718280"/>
                <a:gd name="textAreaRight" fmla="*/ 1718640 w 1718280"/>
                <a:gd name="textAreaTop" fmla="*/ 0 h 666720"/>
                <a:gd name="textAreaBottom" fmla="*/ 667080 h 666720"/>
              </a:gdLst>
              <a:ahLst/>
              <a:rect l="textAreaLeft" t="textAreaTop" r="textAreaRight" b="textAreaBottom"/>
              <a:pathLst>
                <a:path w="638175" h="247650">
                  <a:moveTo>
                    <a:pt x="18574" y="163354"/>
                  </a:moveTo>
                  <a:cubicBezTo>
                    <a:pt x="61436" y="136684"/>
                    <a:pt x="115729" y="107156"/>
                    <a:pt x="181451" y="82391"/>
                  </a:cubicBezTo>
                  <a:cubicBezTo>
                    <a:pt x="243364" y="58579"/>
                    <a:pt x="300514" y="44291"/>
                    <a:pt x="348139" y="34766"/>
                  </a:cubicBezTo>
                  <a:cubicBezTo>
                    <a:pt x="432911" y="26194"/>
                    <a:pt x="517684" y="16669"/>
                    <a:pt x="602456" y="7144"/>
                  </a:cubicBezTo>
                  <a:cubicBezTo>
                    <a:pt x="611981" y="19526"/>
                    <a:pt x="628174" y="47149"/>
                    <a:pt x="632936" y="86201"/>
                  </a:cubicBezTo>
                  <a:cubicBezTo>
                    <a:pt x="638651" y="130969"/>
                    <a:pt x="624364" y="165259"/>
                    <a:pt x="617696" y="178594"/>
                  </a:cubicBezTo>
                  <a:cubicBezTo>
                    <a:pt x="510064" y="188119"/>
                    <a:pt x="401479" y="197644"/>
                    <a:pt x="293846" y="208121"/>
                  </a:cubicBezTo>
                  <a:lnTo>
                    <a:pt x="150019" y="242411"/>
                  </a:lnTo>
                  <a:lnTo>
                    <a:pt x="19526" y="247174"/>
                  </a:lnTo>
                  <a:lnTo>
                    <a:pt x="7144" y="229076"/>
                  </a:lnTo>
                  <a:lnTo>
                    <a:pt x="18574" y="163354"/>
                  </a:ln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6" name="任意多边形: 形状 16"/>
            <p:cNvSpPr/>
            <p:nvPr/>
          </p:nvSpPr>
          <p:spPr>
            <a:xfrm>
              <a:off x="10040400" y="4529160"/>
              <a:ext cx="1359000" cy="410040"/>
            </a:xfrm>
            <a:custGeom>
              <a:avLst/>
              <a:gdLst>
                <a:gd name="textAreaLeft" fmla="*/ 0 w 1359000"/>
                <a:gd name="textAreaRight" fmla="*/ 1359360 w 1359000"/>
                <a:gd name="textAreaTop" fmla="*/ 0 h 410040"/>
                <a:gd name="textAreaBottom" fmla="*/ 410400 h 410040"/>
              </a:gdLst>
              <a:ahLst/>
              <a:rect l="textAreaLeft" t="textAreaTop" r="textAreaRight" b="textAreaBottom"/>
              <a:pathLst>
                <a:path w="504825" h="152400">
                  <a:moveTo>
                    <a:pt x="501491" y="7144"/>
                  </a:moveTo>
                  <a:cubicBezTo>
                    <a:pt x="502444" y="45244"/>
                    <a:pt x="491014" y="73819"/>
                    <a:pt x="485299" y="86201"/>
                  </a:cubicBezTo>
                  <a:cubicBezTo>
                    <a:pt x="377666" y="95726"/>
                    <a:pt x="269081" y="105251"/>
                    <a:pt x="161449" y="115729"/>
                  </a:cubicBezTo>
                  <a:lnTo>
                    <a:pt x="18574" y="149066"/>
                  </a:lnTo>
                  <a:cubicBezTo>
                    <a:pt x="11906" y="103346"/>
                    <a:pt x="7144" y="70009"/>
                    <a:pt x="7144" y="70009"/>
                  </a:cubicBezTo>
                  <a:cubicBezTo>
                    <a:pt x="7144" y="70009"/>
                    <a:pt x="366236" y="74771"/>
                    <a:pt x="471011" y="26194"/>
                  </a:cubicBezTo>
                  <a:cubicBezTo>
                    <a:pt x="484346" y="19526"/>
                    <a:pt x="493871" y="12859"/>
                    <a:pt x="501491" y="7144"/>
                  </a:cubicBezTo>
                  <a:close/>
                </a:path>
              </a:pathLst>
            </a:custGeom>
            <a:solidFill>
              <a:srgbClr val="0b10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7" name="任意多边形: 形状 17"/>
            <p:cNvSpPr/>
            <p:nvPr/>
          </p:nvSpPr>
          <p:spPr>
            <a:xfrm>
              <a:off x="10715040" y="2492640"/>
              <a:ext cx="615240" cy="589680"/>
            </a:xfrm>
            <a:custGeom>
              <a:avLst/>
              <a:gdLst>
                <a:gd name="textAreaLeft" fmla="*/ 0 w 615240"/>
                <a:gd name="textAreaRight" fmla="*/ 615600 w 615240"/>
                <a:gd name="textAreaTop" fmla="*/ 0 h 589680"/>
                <a:gd name="textAreaBottom" fmla="*/ 590040 h 589680"/>
              </a:gdLst>
              <a:ahLst/>
              <a:rect l="textAreaLeft" t="textAreaTop" r="textAreaRight" b="textAreaBottom"/>
              <a:pathLst>
                <a:path w="228600" h="219075">
                  <a:moveTo>
                    <a:pt x="26072" y="190976"/>
                  </a:moveTo>
                  <a:cubicBezTo>
                    <a:pt x="27024" y="190024"/>
                    <a:pt x="91794" y="132874"/>
                    <a:pt x="92747" y="130969"/>
                  </a:cubicBezTo>
                  <a:cubicBezTo>
                    <a:pt x="119417" y="86201"/>
                    <a:pt x="92747" y="43339"/>
                    <a:pt x="92747" y="43339"/>
                  </a:cubicBezTo>
                  <a:lnTo>
                    <a:pt x="201332" y="7144"/>
                  </a:lnTo>
                  <a:cubicBezTo>
                    <a:pt x="201332" y="7144"/>
                    <a:pt x="203237" y="66199"/>
                    <a:pt x="224192" y="114776"/>
                  </a:cubicBezTo>
                  <a:cubicBezTo>
                    <a:pt x="207999" y="125254"/>
                    <a:pt x="137514" y="172879"/>
                    <a:pt x="86079" y="191929"/>
                  </a:cubicBezTo>
                  <a:cubicBezTo>
                    <a:pt x="68934" y="198596"/>
                    <a:pt x="21309" y="220504"/>
                    <a:pt x="7974" y="213836"/>
                  </a:cubicBezTo>
                  <a:cubicBezTo>
                    <a:pt x="2259" y="210979"/>
                    <a:pt x="27977" y="190976"/>
                    <a:pt x="26072" y="190976"/>
                  </a:cubicBez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8" name="任意多边形: 形状 18"/>
            <p:cNvSpPr/>
            <p:nvPr/>
          </p:nvSpPr>
          <p:spPr>
            <a:xfrm>
              <a:off x="10475640" y="2768040"/>
              <a:ext cx="923040" cy="1666800"/>
            </a:xfrm>
            <a:custGeom>
              <a:avLst/>
              <a:gdLst>
                <a:gd name="textAreaLeft" fmla="*/ 0 w 923040"/>
                <a:gd name="textAreaRight" fmla="*/ 923400 w 923040"/>
                <a:gd name="textAreaTop" fmla="*/ 0 h 1666800"/>
                <a:gd name="textAreaBottom" fmla="*/ 1667160 h 1666800"/>
              </a:gdLst>
              <a:ahLst/>
              <a:rect l="textAreaLeft" t="textAreaTop" r="textAreaRight" b="textAreaBottom"/>
              <a:pathLst>
                <a:path w="342900" h="619125">
                  <a:moveTo>
                    <a:pt x="8413" y="193582"/>
                  </a:moveTo>
                  <a:cubicBezTo>
                    <a:pt x="13176" y="169769"/>
                    <a:pt x="69373" y="108809"/>
                    <a:pt x="126523" y="77377"/>
                  </a:cubicBezTo>
                  <a:cubicBezTo>
                    <a:pt x="126523" y="77377"/>
                    <a:pt x="122713" y="87854"/>
                    <a:pt x="163671" y="76424"/>
                  </a:cubicBezTo>
                  <a:cubicBezTo>
                    <a:pt x="195103" y="66899"/>
                    <a:pt x="297973" y="-4538"/>
                    <a:pt x="316071" y="8797"/>
                  </a:cubicBezTo>
                  <a:cubicBezTo>
                    <a:pt x="358933" y="38324"/>
                    <a:pt x="333216" y="93569"/>
                    <a:pt x="334168" y="109762"/>
                  </a:cubicBezTo>
                  <a:cubicBezTo>
                    <a:pt x="333216" y="279307"/>
                    <a:pt x="163671" y="347887"/>
                    <a:pt x="307498" y="568867"/>
                  </a:cubicBezTo>
                  <a:cubicBezTo>
                    <a:pt x="307498" y="568867"/>
                    <a:pt x="304641" y="571724"/>
                    <a:pt x="233203" y="601252"/>
                  </a:cubicBezTo>
                  <a:cubicBezTo>
                    <a:pt x="161766" y="630779"/>
                    <a:pt x="47466" y="596489"/>
                    <a:pt x="47466" y="596489"/>
                  </a:cubicBezTo>
                  <a:cubicBezTo>
                    <a:pt x="17938" y="532672"/>
                    <a:pt x="30321" y="349792"/>
                    <a:pt x="65563" y="283117"/>
                  </a:cubicBezTo>
                  <a:cubicBezTo>
                    <a:pt x="66516" y="283117"/>
                    <a:pt x="-3017" y="254542"/>
                    <a:pt x="8413" y="193582"/>
                  </a:cubicBezTo>
                  <a:close/>
                </a:path>
              </a:pathLst>
            </a:custGeom>
            <a:solidFill>
              <a:srgbClr val="4091d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699" name="任意多边形: 形状 19"/>
            <p:cNvSpPr/>
            <p:nvPr/>
          </p:nvSpPr>
          <p:spPr>
            <a:xfrm>
              <a:off x="10475640" y="3231360"/>
              <a:ext cx="769320" cy="1179720"/>
            </a:xfrm>
            <a:custGeom>
              <a:avLst/>
              <a:gdLst>
                <a:gd name="textAreaLeft" fmla="*/ 0 w 769320"/>
                <a:gd name="textAreaRight" fmla="*/ 769680 w 769320"/>
                <a:gd name="textAreaTop" fmla="*/ 0 h 1179720"/>
                <a:gd name="textAreaBottom" fmla="*/ 1180080 h 1179720"/>
              </a:gdLst>
              <a:ahLst/>
              <a:rect l="textAreaLeft" t="textAreaTop" r="textAreaRight" b="textAreaBottom"/>
              <a:pathLst>
                <a:path w="285750" h="438150">
                  <a:moveTo>
                    <a:pt x="8413" y="21431"/>
                  </a:moveTo>
                  <a:cubicBezTo>
                    <a:pt x="8413" y="20479"/>
                    <a:pt x="8413" y="19526"/>
                    <a:pt x="9365" y="18574"/>
                  </a:cubicBezTo>
                  <a:cubicBezTo>
                    <a:pt x="9365" y="18574"/>
                    <a:pt x="22700" y="60484"/>
                    <a:pt x="69373" y="70009"/>
                  </a:cubicBezTo>
                  <a:cubicBezTo>
                    <a:pt x="116045" y="79534"/>
                    <a:pt x="287495" y="7144"/>
                    <a:pt x="287495" y="7144"/>
                  </a:cubicBezTo>
                  <a:cubicBezTo>
                    <a:pt x="287495" y="7144"/>
                    <a:pt x="139858" y="107156"/>
                    <a:pt x="136048" y="134779"/>
                  </a:cubicBezTo>
                  <a:cubicBezTo>
                    <a:pt x="132238" y="162401"/>
                    <a:pt x="102710" y="217646"/>
                    <a:pt x="103663" y="284321"/>
                  </a:cubicBezTo>
                  <a:cubicBezTo>
                    <a:pt x="104615" y="350996"/>
                    <a:pt x="125570" y="391001"/>
                    <a:pt x="168433" y="410051"/>
                  </a:cubicBezTo>
                  <a:cubicBezTo>
                    <a:pt x="191293" y="419576"/>
                    <a:pt x="226535" y="420529"/>
                    <a:pt x="252253" y="420529"/>
                  </a:cubicBezTo>
                  <a:cubicBezTo>
                    <a:pt x="246538" y="422434"/>
                    <a:pt x="240823" y="425291"/>
                    <a:pt x="234155" y="428149"/>
                  </a:cubicBezTo>
                  <a:cubicBezTo>
                    <a:pt x="162718" y="457676"/>
                    <a:pt x="48418" y="423386"/>
                    <a:pt x="48418" y="423386"/>
                  </a:cubicBezTo>
                  <a:cubicBezTo>
                    <a:pt x="18890" y="359569"/>
                    <a:pt x="31273" y="176689"/>
                    <a:pt x="66515" y="110014"/>
                  </a:cubicBezTo>
                  <a:cubicBezTo>
                    <a:pt x="66515" y="110966"/>
                    <a:pt x="-3017" y="82391"/>
                    <a:pt x="8413" y="21431"/>
                  </a:cubicBezTo>
                  <a:close/>
                </a:path>
              </a:pathLst>
            </a:custGeom>
            <a:solidFill>
              <a:srgbClr val="3783c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0" name="任意多边形: 形状 20"/>
            <p:cNvSpPr/>
            <p:nvPr/>
          </p:nvSpPr>
          <p:spPr>
            <a:xfrm>
              <a:off x="9783720" y="3146760"/>
              <a:ext cx="1256400" cy="487080"/>
            </a:xfrm>
            <a:custGeom>
              <a:avLst/>
              <a:gdLst>
                <a:gd name="textAreaLeft" fmla="*/ 0 w 1256400"/>
                <a:gd name="textAreaRight" fmla="*/ 1256760 w 1256400"/>
                <a:gd name="textAreaTop" fmla="*/ 0 h 487080"/>
                <a:gd name="textAreaBottom" fmla="*/ 487440 h 487080"/>
              </a:gdLst>
              <a:ahLst/>
              <a:rect l="textAreaLeft" t="textAreaTop" r="textAreaRight" b="textAreaBottom"/>
              <a:pathLst>
                <a:path w="466725" h="180975">
                  <a:moveTo>
                    <a:pt x="295751" y="179546"/>
                  </a:moveTo>
                  <a:lnTo>
                    <a:pt x="28099" y="155734"/>
                  </a:lnTo>
                  <a:lnTo>
                    <a:pt x="7144" y="104299"/>
                  </a:lnTo>
                  <a:lnTo>
                    <a:pt x="290989" y="106204"/>
                  </a:lnTo>
                  <a:lnTo>
                    <a:pt x="395764" y="7144"/>
                  </a:lnTo>
                  <a:lnTo>
                    <a:pt x="468154" y="74771"/>
                  </a:lnTo>
                  <a:lnTo>
                    <a:pt x="295751" y="179546"/>
                  </a:ln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1" name="任意多边形: 形状 21"/>
            <p:cNvSpPr/>
            <p:nvPr/>
          </p:nvSpPr>
          <p:spPr>
            <a:xfrm>
              <a:off x="10732680" y="2844720"/>
              <a:ext cx="692280" cy="641160"/>
            </a:xfrm>
            <a:custGeom>
              <a:avLst/>
              <a:gdLst>
                <a:gd name="textAreaLeft" fmla="*/ 0 w 692280"/>
                <a:gd name="textAreaRight" fmla="*/ 692640 w 692280"/>
                <a:gd name="textAreaTop" fmla="*/ 0 h 641160"/>
                <a:gd name="textAreaBottom" fmla="*/ 641520 h 641160"/>
              </a:gdLst>
              <a:ahLst/>
              <a:rect l="textAreaLeft" t="textAreaTop" r="textAreaRight" b="textAreaBottom"/>
              <a:pathLst>
                <a:path w="257175" h="238125">
                  <a:moveTo>
                    <a:pt x="7144" y="152674"/>
                  </a:moveTo>
                  <a:lnTo>
                    <a:pt x="56674" y="234589"/>
                  </a:lnTo>
                  <a:cubicBezTo>
                    <a:pt x="56674" y="234589"/>
                    <a:pt x="234791" y="141244"/>
                    <a:pt x="252889" y="88856"/>
                  </a:cubicBezTo>
                  <a:cubicBezTo>
                    <a:pt x="270034" y="-84499"/>
                    <a:pt x="107156" y="57424"/>
                    <a:pt x="7144" y="152674"/>
                  </a:cubicBezTo>
                  <a:close/>
                </a:path>
              </a:pathLst>
            </a:custGeom>
            <a:solidFill>
              <a:srgbClr val="4899d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2" name="任意多边形: 形状 22"/>
            <p:cNvSpPr/>
            <p:nvPr/>
          </p:nvSpPr>
          <p:spPr>
            <a:xfrm>
              <a:off x="9365400" y="3303360"/>
              <a:ext cx="564120" cy="281880"/>
            </a:xfrm>
            <a:custGeom>
              <a:avLst/>
              <a:gdLst>
                <a:gd name="textAreaLeft" fmla="*/ 0 w 564120"/>
                <a:gd name="textAreaRight" fmla="*/ 564480 w 564120"/>
                <a:gd name="textAreaTop" fmla="*/ 0 h 281880"/>
                <a:gd name="textAreaBottom" fmla="*/ 282240 h 281880"/>
              </a:gdLst>
              <a:ahLst/>
              <a:rect l="textAreaLeft" t="textAreaTop" r="textAreaRight" b="textAreaBottom"/>
              <a:pathLst>
                <a:path w="209550" h="104775">
                  <a:moveTo>
                    <a:pt x="88275" y="7144"/>
                  </a:moveTo>
                  <a:lnTo>
                    <a:pt x="13980" y="30956"/>
                  </a:lnTo>
                  <a:cubicBezTo>
                    <a:pt x="8265" y="32861"/>
                    <a:pt x="5407" y="39529"/>
                    <a:pt x="8265" y="44291"/>
                  </a:cubicBezTo>
                  <a:cubicBezTo>
                    <a:pt x="10170" y="48101"/>
                    <a:pt x="13980" y="50006"/>
                    <a:pt x="18742" y="49054"/>
                  </a:cubicBezTo>
                  <a:lnTo>
                    <a:pt x="27315" y="47149"/>
                  </a:lnTo>
                  <a:cubicBezTo>
                    <a:pt x="27315" y="48101"/>
                    <a:pt x="27315" y="50006"/>
                    <a:pt x="27315" y="50959"/>
                  </a:cubicBezTo>
                  <a:lnTo>
                    <a:pt x="27315" y="52864"/>
                  </a:lnTo>
                  <a:cubicBezTo>
                    <a:pt x="28267" y="57626"/>
                    <a:pt x="33030" y="60484"/>
                    <a:pt x="37792" y="58579"/>
                  </a:cubicBezTo>
                  <a:lnTo>
                    <a:pt x="41602" y="57626"/>
                  </a:lnTo>
                  <a:cubicBezTo>
                    <a:pt x="40650" y="59531"/>
                    <a:pt x="40650" y="61436"/>
                    <a:pt x="40650" y="64294"/>
                  </a:cubicBezTo>
                  <a:lnTo>
                    <a:pt x="40650" y="66199"/>
                  </a:lnTo>
                  <a:cubicBezTo>
                    <a:pt x="41602" y="70961"/>
                    <a:pt x="46365" y="73819"/>
                    <a:pt x="51127" y="71914"/>
                  </a:cubicBezTo>
                  <a:lnTo>
                    <a:pt x="83512" y="63341"/>
                  </a:lnTo>
                  <a:cubicBezTo>
                    <a:pt x="87322" y="69056"/>
                    <a:pt x="93037" y="73819"/>
                    <a:pt x="99705" y="78581"/>
                  </a:cubicBezTo>
                  <a:cubicBezTo>
                    <a:pt x="132090" y="100489"/>
                    <a:pt x="163522" y="106204"/>
                    <a:pt x="191145" y="94774"/>
                  </a:cubicBezTo>
                  <a:cubicBezTo>
                    <a:pt x="197812" y="77629"/>
                    <a:pt x="195907" y="73819"/>
                    <a:pt x="202575" y="57626"/>
                  </a:cubicBezTo>
                  <a:cubicBezTo>
                    <a:pt x="157807" y="49054"/>
                    <a:pt x="122565" y="28099"/>
                    <a:pt x="88275" y="7144"/>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3" name="任意多边形: 形状 23"/>
            <p:cNvSpPr/>
            <p:nvPr/>
          </p:nvSpPr>
          <p:spPr>
            <a:xfrm>
              <a:off x="4793040" y="2498040"/>
              <a:ext cx="1230840" cy="1666800"/>
            </a:xfrm>
            <a:custGeom>
              <a:avLst/>
              <a:gdLst>
                <a:gd name="textAreaLeft" fmla="*/ 0 w 1230840"/>
                <a:gd name="textAreaRight" fmla="*/ 1231200 w 1230840"/>
                <a:gd name="textAreaTop" fmla="*/ 0 h 1666800"/>
                <a:gd name="textAreaBottom" fmla="*/ 1667160 h 1666800"/>
              </a:gdLst>
              <a:ahLst/>
              <a:rect l="textAreaLeft" t="textAreaTop" r="textAreaRight" b="textAreaBottom"/>
              <a:pathLst>
                <a:path w="457200" h="619125">
                  <a:moveTo>
                    <a:pt x="7144" y="47149"/>
                  </a:moveTo>
                  <a:lnTo>
                    <a:pt x="223361" y="7144"/>
                  </a:lnTo>
                  <a:lnTo>
                    <a:pt x="450056" y="26194"/>
                  </a:lnTo>
                  <a:lnTo>
                    <a:pt x="405289" y="375761"/>
                  </a:lnTo>
                  <a:lnTo>
                    <a:pt x="432911" y="611981"/>
                  </a:lnTo>
                  <a:lnTo>
                    <a:pt x="48101" y="611981"/>
                  </a:lnTo>
                  <a:lnTo>
                    <a:pt x="62389" y="411004"/>
                  </a:lnTo>
                  <a:lnTo>
                    <a:pt x="7144" y="47149"/>
                  </a:lnTo>
                  <a:close/>
                </a:path>
              </a:pathLst>
            </a:custGeom>
            <a:solidFill>
              <a:srgbClr val="34487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4" name="任意多边形: 形状 24"/>
            <p:cNvSpPr/>
            <p:nvPr/>
          </p:nvSpPr>
          <p:spPr>
            <a:xfrm>
              <a:off x="4823640" y="2779920"/>
              <a:ext cx="1153800" cy="743400"/>
            </a:xfrm>
            <a:custGeom>
              <a:avLst/>
              <a:gdLst>
                <a:gd name="textAreaLeft" fmla="*/ 0 w 1153800"/>
                <a:gd name="textAreaRight" fmla="*/ 1154160 w 1153800"/>
                <a:gd name="textAreaTop" fmla="*/ 0 h 743400"/>
                <a:gd name="textAreaBottom" fmla="*/ 743760 h 743400"/>
              </a:gdLst>
              <a:ahLst/>
              <a:rect l="textAreaLeft" t="textAreaTop" r="textAreaRight" b="textAreaBottom"/>
              <a:pathLst>
                <a:path w="428625" h="276225">
                  <a:moveTo>
                    <a:pt x="428149" y="7144"/>
                  </a:moveTo>
                  <a:lnTo>
                    <a:pt x="394811" y="263366"/>
                  </a:lnTo>
                  <a:lnTo>
                    <a:pt x="46196" y="273844"/>
                  </a:lnTo>
                  <a:lnTo>
                    <a:pt x="7144" y="19526"/>
                  </a:lnTo>
                  <a:cubicBezTo>
                    <a:pt x="7144" y="19526"/>
                    <a:pt x="64294" y="8096"/>
                    <a:pt x="75724" y="9049"/>
                  </a:cubicBezTo>
                  <a:lnTo>
                    <a:pt x="428149" y="7144"/>
                  </a:lnTo>
                  <a:close/>
                </a:path>
              </a:pathLst>
            </a:custGeom>
            <a:solidFill>
              <a:srgbClr val="293b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5" name="任意多边形: 形状 25"/>
            <p:cNvSpPr/>
            <p:nvPr/>
          </p:nvSpPr>
          <p:spPr>
            <a:xfrm>
              <a:off x="4205880" y="2605680"/>
              <a:ext cx="743760" cy="1153800"/>
            </a:xfrm>
            <a:custGeom>
              <a:avLst/>
              <a:gdLst>
                <a:gd name="textAreaLeft" fmla="*/ 0 w 743760"/>
                <a:gd name="textAreaRight" fmla="*/ 744120 w 743760"/>
                <a:gd name="textAreaTop" fmla="*/ 0 h 1153800"/>
                <a:gd name="textAreaBottom" fmla="*/ 1154160 h 1153800"/>
              </a:gdLst>
              <a:ahLst/>
              <a:rect l="textAreaLeft" t="textAreaTop" r="textAreaRight" b="textAreaBottom"/>
              <a:pathLst>
                <a:path w="276225" h="428625">
                  <a:moveTo>
                    <a:pt x="225167" y="7144"/>
                  </a:moveTo>
                  <a:lnTo>
                    <a:pt x="271839" y="199549"/>
                  </a:lnTo>
                  <a:lnTo>
                    <a:pt x="122296" y="348139"/>
                  </a:lnTo>
                  <a:lnTo>
                    <a:pt x="42287" y="423386"/>
                  </a:lnTo>
                  <a:cubicBezTo>
                    <a:pt x="21332" y="400526"/>
                    <a:pt x="-16768" y="381476"/>
                    <a:pt x="27999" y="280511"/>
                  </a:cubicBezTo>
                  <a:lnTo>
                    <a:pt x="225167" y="7144"/>
                  </a:lnTo>
                  <a:close/>
                </a:path>
              </a:pathLst>
            </a:custGeom>
            <a:solidFill>
              <a:srgbClr val="34487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6" name="任意多边形: 形状 26"/>
            <p:cNvSpPr/>
            <p:nvPr/>
          </p:nvSpPr>
          <p:spPr>
            <a:xfrm>
              <a:off x="4195800" y="3407760"/>
              <a:ext cx="897480" cy="358920"/>
            </a:xfrm>
            <a:custGeom>
              <a:avLst/>
              <a:gdLst>
                <a:gd name="textAreaLeft" fmla="*/ 0 w 897480"/>
                <a:gd name="textAreaRight" fmla="*/ 897840 w 897480"/>
                <a:gd name="textAreaTop" fmla="*/ 0 h 358920"/>
                <a:gd name="textAreaBottom" fmla="*/ 359280 h 358920"/>
              </a:gdLst>
              <a:ahLst/>
              <a:rect l="textAreaLeft" t="textAreaTop" r="textAreaRight" b="textAreaBottom"/>
              <a:pathLst>
                <a:path w="333375" h="133350">
                  <a:moveTo>
                    <a:pt x="42209" y="124526"/>
                  </a:moveTo>
                  <a:lnTo>
                    <a:pt x="326054" y="134051"/>
                  </a:lnTo>
                  <a:lnTo>
                    <a:pt x="333674" y="65471"/>
                  </a:lnTo>
                  <a:cubicBezTo>
                    <a:pt x="253664" y="47373"/>
                    <a:pt x="173654" y="28323"/>
                    <a:pt x="94596" y="10226"/>
                  </a:cubicBezTo>
                  <a:cubicBezTo>
                    <a:pt x="-8274" y="-9777"/>
                    <a:pt x="-13036" y="72138"/>
                    <a:pt x="42209" y="124526"/>
                  </a:cubicBezTo>
                  <a:close/>
                </a:path>
              </a:pathLst>
            </a:custGeom>
            <a:solidFill>
              <a:srgbClr val="394c8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7" name="任意多边形: 形状 27"/>
            <p:cNvSpPr/>
            <p:nvPr/>
          </p:nvSpPr>
          <p:spPr>
            <a:xfrm>
              <a:off x="5765040" y="2549160"/>
              <a:ext cx="820440" cy="974520"/>
            </a:xfrm>
            <a:custGeom>
              <a:avLst/>
              <a:gdLst>
                <a:gd name="textAreaLeft" fmla="*/ 0 w 820440"/>
                <a:gd name="textAreaRight" fmla="*/ 820800 w 820440"/>
                <a:gd name="textAreaTop" fmla="*/ 0 h 974520"/>
                <a:gd name="textAreaBottom" fmla="*/ 974880 h 974520"/>
              </a:gdLst>
              <a:ahLst/>
              <a:rect l="textAreaLeft" t="textAreaTop" r="textAreaRight" b="textAreaBottom"/>
              <a:pathLst>
                <a:path w="304800" h="361950">
                  <a:moveTo>
                    <a:pt x="89059" y="7144"/>
                  </a:moveTo>
                  <a:lnTo>
                    <a:pt x="7144" y="117634"/>
                  </a:lnTo>
                  <a:lnTo>
                    <a:pt x="179546" y="354806"/>
                  </a:lnTo>
                  <a:lnTo>
                    <a:pt x="250031" y="352901"/>
                  </a:lnTo>
                  <a:lnTo>
                    <a:pt x="300514" y="357664"/>
                  </a:lnTo>
                  <a:lnTo>
                    <a:pt x="89059" y="7144"/>
                  </a:lnTo>
                  <a:close/>
                </a:path>
              </a:pathLst>
            </a:custGeom>
            <a:solidFill>
              <a:srgbClr val="34487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8" name="任意多边形: 形状 28"/>
            <p:cNvSpPr/>
            <p:nvPr/>
          </p:nvSpPr>
          <p:spPr>
            <a:xfrm>
              <a:off x="5074920" y="2231280"/>
              <a:ext cx="589680" cy="512640"/>
            </a:xfrm>
            <a:custGeom>
              <a:avLst/>
              <a:gdLst>
                <a:gd name="textAreaLeft" fmla="*/ 0 w 589680"/>
                <a:gd name="textAreaRight" fmla="*/ 590040 w 589680"/>
                <a:gd name="textAreaTop" fmla="*/ 0 h 512640"/>
                <a:gd name="textAreaBottom" fmla="*/ 513000 h 512640"/>
              </a:gdLst>
              <a:ahLst/>
              <a:rect l="textAreaLeft" t="textAreaTop" r="textAreaRight" b="textAreaBottom"/>
              <a:pathLst>
                <a:path w="219075" h="190500">
                  <a:moveTo>
                    <a:pt x="68104" y="7144"/>
                  </a:moveTo>
                  <a:cubicBezTo>
                    <a:pt x="48101" y="48101"/>
                    <a:pt x="65246" y="120491"/>
                    <a:pt x="7144" y="129064"/>
                  </a:cubicBezTo>
                  <a:cubicBezTo>
                    <a:pt x="7144" y="166211"/>
                    <a:pt x="69056" y="187166"/>
                    <a:pt x="106204" y="187166"/>
                  </a:cubicBezTo>
                  <a:cubicBezTo>
                    <a:pt x="143351" y="187166"/>
                    <a:pt x="228124" y="151924"/>
                    <a:pt x="211931" y="120491"/>
                  </a:cubicBezTo>
                  <a:cubicBezTo>
                    <a:pt x="154781" y="106204"/>
                    <a:pt x="165259" y="46196"/>
                    <a:pt x="145256" y="8096"/>
                  </a:cubicBezTo>
                  <a:lnTo>
                    <a:pt x="68104" y="7144"/>
                  </a:ln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09" name="任意多边形: 形状 29"/>
            <p:cNvSpPr/>
            <p:nvPr/>
          </p:nvSpPr>
          <p:spPr>
            <a:xfrm>
              <a:off x="5013360" y="1636200"/>
              <a:ext cx="641160" cy="1000080"/>
            </a:xfrm>
            <a:custGeom>
              <a:avLst/>
              <a:gdLst>
                <a:gd name="textAreaLeft" fmla="*/ 0 w 641160"/>
                <a:gd name="textAreaRight" fmla="*/ 641520 w 641160"/>
                <a:gd name="textAreaTop" fmla="*/ 0 h 1000080"/>
                <a:gd name="textAreaBottom" fmla="*/ 1000440 h 1000080"/>
              </a:gdLst>
              <a:ahLst/>
              <a:rect l="textAreaLeft" t="textAreaTop" r="textAreaRight" b="textAreaBottom"/>
              <a:pathLst>
                <a:path w="238125" h="371475">
                  <a:moveTo>
                    <a:pt x="126206" y="364331"/>
                  </a:moveTo>
                  <a:cubicBezTo>
                    <a:pt x="87154" y="366236"/>
                    <a:pt x="7144" y="297656"/>
                    <a:pt x="7144" y="232886"/>
                  </a:cubicBezTo>
                  <a:lnTo>
                    <a:pt x="7144" y="120491"/>
                  </a:lnTo>
                  <a:cubicBezTo>
                    <a:pt x="7144" y="57626"/>
                    <a:pt x="57626" y="7144"/>
                    <a:pt x="120491" y="7144"/>
                  </a:cubicBezTo>
                  <a:lnTo>
                    <a:pt x="123349" y="7144"/>
                  </a:lnTo>
                  <a:cubicBezTo>
                    <a:pt x="186214" y="7144"/>
                    <a:pt x="236696" y="57626"/>
                    <a:pt x="236696" y="120491"/>
                  </a:cubicBezTo>
                  <a:lnTo>
                    <a:pt x="236696" y="232886"/>
                  </a:lnTo>
                  <a:cubicBezTo>
                    <a:pt x="236696" y="295751"/>
                    <a:pt x="177641" y="367189"/>
                    <a:pt x="126206" y="364331"/>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0" name="任意多边形: 形状 30"/>
            <p:cNvSpPr/>
            <p:nvPr/>
          </p:nvSpPr>
          <p:spPr>
            <a:xfrm>
              <a:off x="5028840" y="2172240"/>
              <a:ext cx="615240" cy="435960"/>
            </a:xfrm>
            <a:custGeom>
              <a:avLst/>
              <a:gdLst>
                <a:gd name="textAreaLeft" fmla="*/ 0 w 615240"/>
                <a:gd name="textAreaRight" fmla="*/ 615600 w 615240"/>
                <a:gd name="textAreaTop" fmla="*/ 0 h 435960"/>
                <a:gd name="textAreaBottom" fmla="*/ 436320 h 435960"/>
              </a:gdLst>
              <a:ahLst/>
              <a:rect l="textAreaLeft" t="textAreaTop" r="textAreaRight" b="textAreaBottom"/>
              <a:pathLst>
                <a:path w="228600" h="161925">
                  <a:moveTo>
                    <a:pt x="17645" y="78581"/>
                  </a:moveTo>
                  <a:cubicBezTo>
                    <a:pt x="15740" y="75724"/>
                    <a:pt x="8120" y="24289"/>
                    <a:pt x="7167" y="22384"/>
                  </a:cubicBezTo>
                  <a:cubicBezTo>
                    <a:pt x="6215" y="20479"/>
                    <a:pt x="34790" y="30004"/>
                    <a:pt x="34790" y="30004"/>
                  </a:cubicBezTo>
                  <a:cubicBezTo>
                    <a:pt x="34790" y="30004"/>
                    <a:pt x="35742" y="77629"/>
                    <a:pt x="50030" y="98584"/>
                  </a:cubicBezTo>
                  <a:cubicBezTo>
                    <a:pt x="63365" y="120491"/>
                    <a:pt x="90987" y="130016"/>
                    <a:pt x="100512" y="128111"/>
                  </a:cubicBezTo>
                  <a:cubicBezTo>
                    <a:pt x="110037" y="127159"/>
                    <a:pt x="126230" y="123349"/>
                    <a:pt x="136707" y="125254"/>
                  </a:cubicBezTo>
                  <a:cubicBezTo>
                    <a:pt x="147185" y="127159"/>
                    <a:pt x="156710" y="130969"/>
                    <a:pt x="161472" y="128111"/>
                  </a:cubicBezTo>
                  <a:cubicBezTo>
                    <a:pt x="166235" y="125254"/>
                    <a:pt x="183380" y="115729"/>
                    <a:pt x="191000" y="96679"/>
                  </a:cubicBezTo>
                  <a:cubicBezTo>
                    <a:pt x="198620" y="77629"/>
                    <a:pt x="203382" y="23336"/>
                    <a:pt x="203382" y="23336"/>
                  </a:cubicBezTo>
                  <a:lnTo>
                    <a:pt x="228147" y="7144"/>
                  </a:lnTo>
                  <a:cubicBezTo>
                    <a:pt x="228147" y="7144"/>
                    <a:pt x="228147" y="56674"/>
                    <a:pt x="220527" y="83344"/>
                  </a:cubicBezTo>
                  <a:cubicBezTo>
                    <a:pt x="211955" y="110014"/>
                    <a:pt x="185285" y="143351"/>
                    <a:pt x="155757" y="154781"/>
                  </a:cubicBezTo>
                  <a:cubicBezTo>
                    <a:pt x="126230" y="167164"/>
                    <a:pt x="70032" y="155734"/>
                    <a:pt x="53840" y="132874"/>
                  </a:cubicBezTo>
                  <a:cubicBezTo>
                    <a:pt x="36695" y="113824"/>
                    <a:pt x="17645" y="78581"/>
                    <a:pt x="17645" y="78581"/>
                  </a:cubicBezTo>
                  <a:close/>
                </a:path>
              </a:pathLst>
            </a:custGeom>
            <a:solidFill>
              <a:srgbClr val="d1b6c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1" name="任意多边形: 形状 31"/>
            <p:cNvSpPr/>
            <p:nvPr/>
          </p:nvSpPr>
          <p:spPr>
            <a:xfrm>
              <a:off x="4944240" y="1586160"/>
              <a:ext cx="769320" cy="666720"/>
            </a:xfrm>
            <a:custGeom>
              <a:avLst/>
              <a:gdLst>
                <a:gd name="textAreaLeft" fmla="*/ 0 w 769320"/>
                <a:gd name="textAreaRight" fmla="*/ 769680 w 769320"/>
                <a:gd name="textAreaTop" fmla="*/ 0 h 666720"/>
                <a:gd name="textAreaBottom" fmla="*/ 667080 h 666720"/>
              </a:gdLst>
              <a:ahLst/>
              <a:rect l="textAreaLeft" t="textAreaTop" r="textAreaRight" b="textAreaBottom"/>
              <a:pathLst>
                <a:path w="285750" h="247650">
                  <a:moveTo>
                    <a:pt x="167183" y="7668"/>
                  </a:moveTo>
                  <a:cubicBezTo>
                    <a:pt x="76696" y="1953"/>
                    <a:pt x="7163" y="42911"/>
                    <a:pt x="7163" y="131493"/>
                  </a:cubicBezTo>
                  <a:lnTo>
                    <a:pt x="7163" y="164831"/>
                  </a:lnTo>
                  <a:cubicBezTo>
                    <a:pt x="7163" y="185786"/>
                    <a:pt x="6211" y="205788"/>
                    <a:pt x="17641" y="222933"/>
                  </a:cubicBezTo>
                  <a:lnTo>
                    <a:pt x="34786" y="247698"/>
                  </a:lnTo>
                  <a:lnTo>
                    <a:pt x="34786" y="166736"/>
                  </a:lnTo>
                  <a:cubicBezTo>
                    <a:pt x="34786" y="152448"/>
                    <a:pt x="37643" y="130541"/>
                    <a:pt x="44311" y="113396"/>
                  </a:cubicBezTo>
                  <a:cubicBezTo>
                    <a:pt x="62408" y="113396"/>
                    <a:pt x="89078" y="111491"/>
                    <a:pt x="125273" y="104823"/>
                  </a:cubicBezTo>
                  <a:cubicBezTo>
                    <a:pt x="185281" y="92441"/>
                    <a:pt x="217666" y="73391"/>
                    <a:pt x="225286" y="68628"/>
                  </a:cubicBezTo>
                  <a:cubicBezTo>
                    <a:pt x="240526" y="85773"/>
                    <a:pt x="258623" y="137208"/>
                    <a:pt x="258623" y="150543"/>
                  </a:cubicBezTo>
                  <a:lnTo>
                    <a:pt x="257671" y="231506"/>
                  </a:lnTo>
                  <a:cubicBezTo>
                    <a:pt x="283388" y="212456"/>
                    <a:pt x="287198" y="181976"/>
                    <a:pt x="287198" y="149591"/>
                  </a:cubicBezTo>
                  <a:lnTo>
                    <a:pt x="287198" y="148638"/>
                  </a:lnTo>
                  <a:cubicBezTo>
                    <a:pt x="288151" y="75296"/>
                    <a:pt x="242431" y="12431"/>
                    <a:pt x="167183" y="7668"/>
                  </a:cubicBezTo>
                  <a:close/>
                </a:path>
              </a:pathLst>
            </a:custGeom>
            <a:solidFill>
              <a:srgbClr val="8772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2" name="任意多边形: 形状 32"/>
            <p:cNvSpPr/>
            <p:nvPr/>
          </p:nvSpPr>
          <p:spPr>
            <a:xfrm>
              <a:off x="2075760" y="2936520"/>
              <a:ext cx="1307880" cy="1487160"/>
            </a:xfrm>
            <a:custGeom>
              <a:avLst/>
              <a:gdLst>
                <a:gd name="textAreaLeft" fmla="*/ 0 w 1307880"/>
                <a:gd name="textAreaRight" fmla="*/ 1308240 w 1307880"/>
                <a:gd name="textAreaTop" fmla="*/ 0 h 1487160"/>
                <a:gd name="textAreaBottom" fmla="*/ 1487520 h 1487160"/>
              </a:gdLst>
              <a:ahLst/>
              <a:rect l="textAreaLeft" t="textAreaTop" r="textAreaRight" b="textAreaBottom"/>
              <a:pathLst>
                <a:path w="485775" h="552450">
                  <a:moveTo>
                    <a:pt x="207591" y="7144"/>
                  </a:moveTo>
                  <a:cubicBezTo>
                    <a:pt x="193304" y="29051"/>
                    <a:pt x="123771" y="98584"/>
                    <a:pt x="123771" y="98584"/>
                  </a:cubicBezTo>
                  <a:cubicBezTo>
                    <a:pt x="123771" y="98584"/>
                    <a:pt x="-1006" y="523399"/>
                    <a:pt x="7566" y="523399"/>
                  </a:cubicBezTo>
                  <a:cubicBezTo>
                    <a:pt x="16139" y="523399"/>
                    <a:pt x="211401" y="545306"/>
                    <a:pt x="211401" y="545306"/>
                  </a:cubicBezTo>
                  <a:lnTo>
                    <a:pt x="273314" y="390049"/>
                  </a:lnTo>
                  <a:lnTo>
                    <a:pt x="293316" y="541496"/>
                  </a:lnTo>
                  <a:lnTo>
                    <a:pt x="481911" y="541496"/>
                  </a:lnTo>
                  <a:lnTo>
                    <a:pt x="468576" y="160496"/>
                  </a:lnTo>
                  <a:lnTo>
                    <a:pt x="332369" y="41434"/>
                  </a:lnTo>
                  <a:lnTo>
                    <a:pt x="207591" y="7144"/>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3" name="任意多边形: 形状 33"/>
            <p:cNvSpPr/>
            <p:nvPr/>
          </p:nvSpPr>
          <p:spPr>
            <a:xfrm>
              <a:off x="2884680" y="1095120"/>
              <a:ext cx="743760" cy="666720"/>
            </a:xfrm>
            <a:custGeom>
              <a:avLst/>
              <a:gdLst>
                <a:gd name="textAreaLeft" fmla="*/ 0 w 743760"/>
                <a:gd name="textAreaRight" fmla="*/ 744120 w 743760"/>
                <a:gd name="textAreaTop" fmla="*/ 0 h 666720"/>
                <a:gd name="textAreaBottom" fmla="*/ 667080 h 666720"/>
              </a:gdLst>
              <a:ahLst/>
              <a:rect l="textAreaLeft" t="textAreaTop" r="textAreaRight" b="textAreaBottom"/>
              <a:pathLst>
                <a:path w="276225" h="247650">
                  <a:moveTo>
                    <a:pt x="202406" y="47149"/>
                  </a:moveTo>
                  <a:cubicBezTo>
                    <a:pt x="202406" y="47149"/>
                    <a:pt x="180499" y="115729"/>
                    <a:pt x="192881" y="131921"/>
                  </a:cubicBezTo>
                  <a:cubicBezTo>
                    <a:pt x="205264" y="148114"/>
                    <a:pt x="270034" y="149066"/>
                    <a:pt x="274796" y="163354"/>
                  </a:cubicBezTo>
                  <a:cubicBezTo>
                    <a:pt x="278606" y="176689"/>
                    <a:pt x="237649" y="227171"/>
                    <a:pt x="190976" y="242411"/>
                  </a:cubicBezTo>
                  <a:cubicBezTo>
                    <a:pt x="144304" y="258604"/>
                    <a:pt x="44291" y="226219"/>
                    <a:pt x="30004" y="198596"/>
                  </a:cubicBezTo>
                  <a:cubicBezTo>
                    <a:pt x="16669" y="170974"/>
                    <a:pt x="12859" y="145256"/>
                    <a:pt x="7144" y="115729"/>
                  </a:cubicBezTo>
                  <a:cubicBezTo>
                    <a:pt x="7144" y="115729"/>
                    <a:pt x="10954" y="110966"/>
                    <a:pt x="53816" y="100489"/>
                  </a:cubicBezTo>
                  <a:cubicBezTo>
                    <a:pt x="97631" y="90011"/>
                    <a:pt x="101441" y="7144"/>
                    <a:pt x="101441" y="7144"/>
                  </a:cubicBezTo>
                  <a:lnTo>
                    <a:pt x="202406" y="47149"/>
                  </a:ln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4" name="任意多边形: 形状 34"/>
            <p:cNvSpPr/>
            <p:nvPr/>
          </p:nvSpPr>
          <p:spPr>
            <a:xfrm>
              <a:off x="2121120" y="2149200"/>
              <a:ext cx="307440" cy="256320"/>
            </a:xfrm>
            <a:custGeom>
              <a:avLst/>
              <a:gdLst>
                <a:gd name="textAreaLeft" fmla="*/ 0 w 307440"/>
                <a:gd name="textAreaRight" fmla="*/ 307800 w 307440"/>
                <a:gd name="textAreaTop" fmla="*/ 0 h 256320"/>
                <a:gd name="textAreaBottom" fmla="*/ 256680 h 256320"/>
              </a:gdLst>
              <a:ahLst/>
              <a:rect l="textAreaLeft" t="textAreaTop" r="textAreaRight" b="textAreaBottom"/>
              <a:pathLst>
                <a:path w="114300" h="95250">
                  <a:moveTo>
                    <a:pt x="56475" y="7144"/>
                  </a:moveTo>
                  <a:cubicBezTo>
                    <a:pt x="55522" y="10954"/>
                    <a:pt x="-3533" y="34766"/>
                    <a:pt x="8850" y="70961"/>
                  </a:cubicBezTo>
                  <a:cubicBezTo>
                    <a:pt x="22185" y="107156"/>
                    <a:pt x="93622" y="86201"/>
                    <a:pt x="100290" y="80486"/>
                  </a:cubicBezTo>
                  <a:cubicBezTo>
                    <a:pt x="107910" y="74771"/>
                    <a:pt x="113625" y="54769"/>
                    <a:pt x="113625" y="54769"/>
                  </a:cubicBezTo>
                  <a:lnTo>
                    <a:pt x="56475" y="7144"/>
                  </a:lnTo>
                  <a:close/>
                </a:path>
              </a:pathLst>
            </a:custGeom>
            <a:solidFill>
              <a:srgbClr val="4b556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5" name="任意多边形: 形状 35"/>
            <p:cNvSpPr/>
            <p:nvPr/>
          </p:nvSpPr>
          <p:spPr>
            <a:xfrm>
              <a:off x="2048040" y="2192760"/>
              <a:ext cx="256320" cy="204840"/>
            </a:xfrm>
            <a:custGeom>
              <a:avLst/>
              <a:gdLst>
                <a:gd name="textAreaLeft" fmla="*/ 0 w 256320"/>
                <a:gd name="textAreaRight" fmla="*/ 256680 w 256320"/>
                <a:gd name="textAreaTop" fmla="*/ 0 h 204840"/>
                <a:gd name="textAreaBottom" fmla="*/ 205200 h 204840"/>
              </a:gdLst>
              <a:ahLst/>
              <a:rect l="textAreaLeft" t="textAreaTop" r="textAreaRight" b="textAreaBottom"/>
              <a:pathLst>
                <a:path w="95250" h="76200">
                  <a:moveTo>
                    <a:pt x="22655" y="13811"/>
                  </a:moveTo>
                  <a:lnTo>
                    <a:pt x="9320" y="7144"/>
                  </a:lnTo>
                  <a:cubicBezTo>
                    <a:pt x="1701" y="23336"/>
                    <a:pt x="13130" y="60484"/>
                    <a:pt x="58851" y="75724"/>
                  </a:cubicBezTo>
                  <a:cubicBezTo>
                    <a:pt x="73138" y="80486"/>
                    <a:pt x="90283" y="63341"/>
                    <a:pt x="92188" y="60484"/>
                  </a:cubicBezTo>
                  <a:cubicBezTo>
                    <a:pt x="94093" y="57626"/>
                    <a:pt x="94093" y="52864"/>
                    <a:pt x="94093" y="52864"/>
                  </a:cubicBezTo>
                  <a:lnTo>
                    <a:pt x="31228" y="9049"/>
                  </a:lnTo>
                  <a:cubicBezTo>
                    <a:pt x="31228" y="9049"/>
                    <a:pt x="23608" y="13811"/>
                    <a:pt x="22655" y="13811"/>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6" name="任意多边形: 形状 36"/>
            <p:cNvSpPr/>
            <p:nvPr/>
          </p:nvSpPr>
          <p:spPr>
            <a:xfrm>
              <a:off x="2371320" y="1312920"/>
              <a:ext cx="1513080" cy="2077200"/>
            </a:xfrm>
            <a:custGeom>
              <a:avLst/>
              <a:gdLst>
                <a:gd name="textAreaLeft" fmla="*/ 0 w 1513080"/>
                <a:gd name="textAreaRight" fmla="*/ 1513440 w 1513080"/>
                <a:gd name="textAreaTop" fmla="*/ 0 h 2077200"/>
                <a:gd name="textAreaBottom" fmla="*/ 2077560 h 2077200"/>
              </a:gdLst>
              <a:ahLst/>
              <a:rect l="textAreaLeft" t="textAreaTop" r="textAreaRight" b="textAreaBottom"/>
              <a:pathLst>
                <a:path w="561975" h="771525">
                  <a:moveTo>
                    <a:pt x="261655" y="10954"/>
                  </a:moveTo>
                  <a:cubicBezTo>
                    <a:pt x="254035" y="11906"/>
                    <a:pt x="149260" y="7144"/>
                    <a:pt x="149260" y="7144"/>
                  </a:cubicBezTo>
                  <a:cubicBezTo>
                    <a:pt x="129257" y="117634"/>
                    <a:pt x="91157" y="411956"/>
                    <a:pt x="7337" y="700564"/>
                  </a:cubicBezTo>
                  <a:cubicBezTo>
                    <a:pt x="-283" y="727234"/>
                    <a:pt x="218792" y="788194"/>
                    <a:pt x="363572" y="759619"/>
                  </a:cubicBezTo>
                  <a:cubicBezTo>
                    <a:pt x="410245" y="311944"/>
                    <a:pt x="495970" y="314801"/>
                    <a:pt x="562645" y="138589"/>
                  </a:cubicBezTo>
                  <a:cubicBezTo>
                    <a:pt x="566455" y="129064"/>
                    <a:pt x="483587" y="82391"/>
                    <a:pt x="451202" y="70961"/>
                  </a:cubicBezTo>
                  <a:cubicBezTo>
                    <a:pt x="451202" y="70961"/>
                    <a:pt x="414055" y="147161"/>
                    <a:pt x="340712" y="148114"/>
                  </a:cubicBezTo>
                  <a:cubicBezTo>
                    <a:pt x="225460" y="150019"/>
                    <a:pt x="270227" y="10001"/>
                    <a:pt x="261655" y="10954"/>
                  </a:cubicBezTo>
                  <a:close/>
                </a:path>
              </a:pathLst>
            </a:custGeom>
            <a:solidFill>
              <a:srgbClr val="4b556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7" name="任意多边形: 形状 37"/>
            <p:cNvSpPr/>
            <p:nvPr/>
          </p:nvSpPr>
          <p:spPr>
            <a:xfrm>
              <a:off x="2556720" y="1513080"/>
              <a:ext cx="974520" cy="1000080"/>
            </a:xfrm>
            <a:custGeom>
              <a:avLst/>
              <a:gdLst>
                <a:gd name="textAreaLeft" fmla="*/ 0 w 974520"/>
                <a:gd name="textAreaRight" fmla="*/ 974880 w 974520"/>
                <a:gd name="textAreaTop" fmla="*/ 0 h 1000080"/>
                <a:gd name="textAreaBottom" fmla="*/ 1000440 h 1000080"/>
              </a:gdLst>
              <a:ahLst/>
              <a:rect l="textAreaLeft" t="textAreaTop" r="textAreaRight" b="textAreaBottom"/>
              <a:pathLst>
                <a:path w="361950" h="371475">
                  <a:moveTo>
                    <a:pt x="37624" y="186214"/>
                  </a:moveTo>
                  <a:cubicBezTo>
                    <a:pt x="29051" y="235744"/>
                    <a:pt x="18574" y="288131"/>
                    <a:pt x="7144" y="344329"/>
                  </a:cubicBezTo>
                  <a:cubicBezTo>
                    <a:pt x="61436" y="353854"/>
                    <a:pt x="151924" y="369094"/>
                    <a:pt x="151924" y="369094"/>
                  </a:cubicBezTo>
                  <a:lnTo>
                    <a:pt x="246221" y="105251"/>
                  </a:lnTo>
                  <a:cubicBezTo>
                    <a:pt x="246221" y="105251"/>
                    <a:pt x="302419" y="96679"/>
                    <a:pt x="330041" y="72866"/>
                  </a:cubicBezTo>
                  <a:cubicBezTo>
                    <a:pt x="357664" y="49054"/>
                    <a:pt x="362426" y="25241"/>
                    <a:pt x="362426" y="25241"/>
                  </a:cubicBezTo>
                  <a:cubicBezTo>
                    <a:pt x="344329" y="47149"/>
                    <a:pt x="313849" y="73819"/>
                    <a:pt x="270986" y="73819"/>
                  </a:cubicBezTo>
                  <a:cubicBezTo>
                    <a:pt x="217646" y="74771"/>
                    <a:pt x="198596" y="45244"/>
                    <a:pt x="191929" y="12859"/>
                  </a:cubicBezTo>
                  <a:lnTo>
                    <a:pt x="115729" y="7144"/>
                  </a:lnTo>
                  <a:lnTo>
                    <a:pt x="37624" y="186214"/>
                  </a:lnTo>
                  <a:close/>
                </a:path>
              </a:pathLst>
            </a:custGeom>
            <a:solidFill>
              <a:srgbClr val="44516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8" name="任意多边形: 形状 38"/>
            <p:cNvSpPr/>
            <p:nvPr/>
          </p:nvSpPr>
          <p:spPr>
            <a:xfrm>
              <a:off x="2371320" y="1741320"/>
              <a:ext cx="1359000" cy="1641240"/>
            </a:xfrm>
            <a:custGeom>
              <a:avLst/>
              <a:gdLst>
                <a:gd name="textAreaLeft" fmla="*/ 0 w 1359000"/>
                <a:gd name="textAreaRight" fmla="*/ 1359360 w 1359000"/>
                <a:gd name="textAreaTop" fmla="*/ 0 h 1641240"/>
                <a:gd name="textAreaBottom" fmla="*/ 1641600 h 1641240"/>
              </a:gdLst>
              <a:ahLst/>
              <a:rect l="textAreaLeft" t="textAreaTop" r="textAreaRight" b="textAreaBottom"/>
              <a:pathLst>
                <a:path w="504825" h="609600">
                  <a:moveTo>
                    <a:pt x="18767" y="501491"/>
                  </a:moveTo>
                  <a:cubicBezTo>
                    <a:pt x="14957" y="514826"/>
                    <a:pt x="11147" y="528161"/>
                    <a:pt x="7337" y="542449"/>
                  </a:cubicBezTo>
                  <a:cubicBezTo>
                    <a:pt x="-283" y="569119"/>
                    <a:pt x="218792" y="630079"/>
                    <a:pt x="363572" y="601504"/>
                  </a:cubicBezTo>
                  <a:cubicBezTo>
                    <a:pt x="396910" y="283369"/>
                    <a:pt x="449297" y="192881"/>
                    <a:pt x="501685" y="104299"/>
                  </a:cubicBezTo>
                  <a:cubicBezTo>
                    <a:pt x="484540" y="50959"/>
                    <a:pt x="471205" y="7144"/>
                    <a:pt x="471205" y="7144"/>
                  </a:cubicBezTo>
                  <a:lnTo>
                    <a:pt x="455012" y="124301"/>
                  </a:lnTo>
                  <a:cubicBezTo>
                    <a:pt x="455012" y="124301"/>
                    <a:pt x="440725" y="150019"/>
                    <a:pt x="405482" y="227171"/>
                  </a:cubicBezTo>
                  <a:cubicBezTo>
                    <a:pt x="370240" y="304324"/>
                    <a:pt x="333092" y="546259"/>
                    <a:pt x="333092" y="546259"/>
                  </a:cubicBezTo>
                  <a:cubicBezTo>
                    <a:pt x="333092" y="546259"/>
                    <a:pt x="258797" y="598646"/>
                    <a:pt x="158785" y="571024"/>
                  </a:cubicBezTo>
                  <a:cubicBezTo>
                    <a:pt x="101635" y="553879"/>
                    <a:pt x="53057" y="526256"/>
                    <a:pt x="18767" y="501491"/>
                  </a:cubicBezTo>
                  <a:close/>
                </a:path>
              </a:pathLst>
            </a:custGeom>
            <a:solidFill>
              <a:srgbClr val="43506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19" name="任意多边形: 形状 39"/>
            <p:cNvSpPr/>
            <p:nvPr/>
          </p:nvSpPr>
          <p:spPr>
            <a:xfrm>
              <a:off x="3130200" y="477360"/>
              <a:ext cx="692280" cy="948600"/>
            </a:xfrm>
            <a:custGeom>
              <a:avLst/>
              <a:gdLst>
                <a:gd name="textAreaLeft" fmla="*/ 0 w 692280"/>
                <a:gd name="textAreaRight" fmla="*/ 692640 w 692280"/>
                <a:gd name="textAreaTop" fmla="*/ 0 h 948600"/>
                <a:gd name="textAreaBottom" fmla="*/ 948960 h 948600"/>
              </a:gdLst>
              <a:ahLst/>
              <a:rect l="textAreaLeft" t="textAreaTop" r="textAreaRight" b="textAreaBottom"/>
              <a:pathLst>
                <a:path w="257175" h="352425">
                  <a:moveTo>
                    <a:pt x="93206" y="346164"/>
                  </a:moveTo>
                  <a:cubicBezTo>
                    <a:pt x="152261" y="357594"/>
                    <a:pt x="201791" y="274727"/>
                    <a:pt x="212269" y="217577"/>
                  </a:cubicBezTo>
                  <a:cubicBezTo>
                    <a:pt x="243701" y="189002"/>
                    <a:pt x="245606" y="169952"/>
                    <a:pt x="247511" y="156617"/>
                  </a:cubicBezTo>
                  <a:cubicBezTo>
                    <a:pt x="272276" y="106134"/>
                    <a:pt x="239891" y="49937"/>
                    <a:pt x="189409" y="26124"/>
                  </a:cubicBezTo>
                  <a:cubicBezTo>
                    <a:pt x="183694" y="23267"/>
                    <a:pt x="177979" y="20409"/>
                    <a:pt x="172264" y="17552"/>
                  </a:cubicBezTo>
                  <a:cubicBezTo>
                    <a:pt x="121781" y="-7213"/>
                    <a:pt x="61774" y="13742"/>
                    <a:pt x="37009" y="64224"/>
                  </a:cubicBezTo>
                  <a:cubicBezTo>
                    <a:pt x="24626" y="89942"/>
                    <a:pt x="39866" y="100419"/>
                    <a:pt x="27484" y="126137"/>
                  </a:cubicBezTo>
                  <a:cubicBezTo>
                    <a:pt x="7481" y="209004"/>
                    <a:pt x="-26809" y="315684"/>
                    <a:pt x="93206" y="346164"/>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0" name="任意多边形: 形状 40"/>
            <p:cNvSpPr/>
            <p:nvPr/>
          </p:nvSpPr>
          <p:spPr>
            <a:xfrm>
              <a:off x="3129840" y="856440"/>
              <a:ext cx="410040" cy="564120"/>
            </a:xfrm>
            <a:custGeom>
              <a:avLst/>
              <a:gdLst>
                <a:gd name="textAreaLeft" fmla="*/ 0 w 410040"/>
                <a:gd name="textAreaRight" fmla="*/ 410400 w 410040"/>
                <a:gd name="textAreaTop" fmla="*/ 0 h 564120"/>
                <a:gd name="textAreaBottom" fmla="*/ 564480 h 564120"/>
              </a:gdLst>
              <a:ahLst/>
              <a:rect l="textAreaLeft" t="textAreaTop" r="textAreaRight" b="textAreaBottom"/>
              <a:pathLst>
                <a:path w="152400" h="209550">
                  <a:moveTo>
                    <a:pt x="93271" y="205264"/>
                  </a:moveTo>
                  <a:cubicBezTo>
                    <a:pt x="112321" y="209074"/>
                    <a:pt x="130418" y="202406"/>
                    <a:pt x="146611" y="190976"/>
                  </a:cubicBezTo>
                  <a:cubicBezTo>
                    <a:pt x="103748" y="196691"/>
                    <a:pt x="44693" y="187166"/>
                    <a:pt x="19928" y="106204"/>
                  </a:cubicBezTo>
                  <a:cubicBezTo>
                    <a:pt x="15166" y="90011"/>
                    <a:pt x="37073" y="41434"/>
                    <a:pt x="37073" y="41434"/>
                  </a:cubicBezTo>
                  <a:lnTo>
                    <a:pt x="40883" y="7144"/>
                  </a:lnTo>
                  <a:cubicBezTo>
                    <a:pt x="40883" y="7144"/>
                    <a:pt x="27548" y="27146"/>
                    <a:pt x="12308" y="52864"/>
                  </a:cubicBezTo>
                  <a:cubicBezTo>
                    <a:pt x="-74" y="118586"/>
                    <a:pt x="3736" y="182404"/>
                    <a:pt x="93271" y="205264"/>
                  </a:cubicBezTo>
                  <a:close/>
                </a:path>
              </a:pathLst>
            </a:custGeom>
            <a:solidFill>
              <a:srgbClr val="d8bcc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1" name="任意多边形: 形状 41"/>
            <p:cNvSpPr/>
            <p:nvPr/>
          </p:nvSpPr>
          <p:spPr>
            <a:xfrm>
              <a:off x="3611520" y="1620360"/>
              <a:ext cx="897480" cy="1513080"/>
            </a:xfrm>
            <a:custGeom>
              <a:avLst/>
              <a:gdLst>
                <a:gd name="textAreaLeft" fmla="*/ 0 w 897480"/>
                <a:gd name="textAreaRight" fmla="*/ 897840 w 897480"/>
                <a:gd name="textAreaTop" fmla="*/ 0 h 1513080"/>
                <a:gd name="textAreaBottom" fmla="*/ 1513440 h 1513080"/>
              </a:gdLst>
              <a:ahLst/>
              <a:rect l="textAreaLeft" t="textAreaTop" r="textAreaRight" b="textAreaBottom"/>
              <a:pathLst>
                <a:path w="333375" h="561975">
                  <a:moveTo>
                    <a:pt x="165901" y="297811"/>
                  </a:moveTo>
                  <a:lnTo>
                    <a:pt x="334494" y="520696"/>
                  </a:lnTo>
                  <a:lnTo>
                    <a:pt x="291631" y="563558"/>
                  </a:lnTo>
                  <a:lnTo>
                    <a:pt x="86844" y="352103"/>
                  </a:lnTo>
                  <a:cubicBezTo>
                    <a:pt x="84939" y="351151"/>
                    <a:pt x="23979" y="198751"/>
                    <a:pt x="9691" y="108264"/>
                  </a:cubicBezTo>
                  <a:cubicBezTo>
                    <a:pt x="-1739" y="36826"/>
                    <a:pt x="27789" y="24444"/>
                    <a:pt x="48744" y="13014"/>
                  </a:cubicBezTo>
                  <a:cubicBezTo>
                    <a:pt x="81129" y="-5084"/>
                    <a:pt x="103036" y="24444"/>
                    <a:pt x="103036" y="24444"/>
                  </a:cubicBezTo>
                  <a:cubicBezTo>
                    <a:pt x="115419" y="113026"/>
                    <a:pt x="165901" y="297811"/>
                    <a:pt x="165901" y="297811"/>
                  </a:cubicBezTo>
                  <a:close/>
                </a:path>
              </a:pathLst>
            </a:custGeom>
            <a:solidFill>
              <a:srgbClr val="4b556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2" name="任意多边形: 形状 42"/>
            <p:cNvSpPr/>
            <p:nvPr/>
          </p:nvSpPr>
          <p:spPr>
            <a:xfrm>
              <a:off x="3610800" y="1741320"/>
              <a:ext cx="769320" cy="1333440"/>
            </a:xfrm>
            <a:custGeom>
              <a:avLst/>
              <a:gdLst>
                <a:gd name="textAreaLeft" fmla="*/ 0 w 769320"/>
                <a:gd name="textAreaRight" fmla="*/ 769680 w 769320"/>
                <a:gd name="textAreaTop" fmla="*/ 0 h 1333440"/>
                <a:gd name="textAreaBottom" fmla="*/ 1333800 h 1333440"/>
              </a:gdLst>
              <a:ahLst/>
              <a:rect l="textAreaLeft" t="textAreaTop" r="textAreaRight" b="textAreaBottom"/>
              <a:pathLst>
                <a:path w="285750" h="495300">
                  <a:moveTo>
                    <a:pt x="263366" y="488156"/>
                  </a:moveTo>
                  <a:lnTo>
                    <a:pt x="87154" y="306229"/>
                  </a:lnTo>
                  <a:cubicBezTo>
                    <a:pt x="85249" y="305276"/>
                    <a:pt x="24289" y="152876"/>
                    <a:pt x="10001" y="62389"/>
                  </a:cubicBezTo>
                  <a:cubicBezTo>
                    <a:pt x="8096" y="50006"/>
                    <a:pt x="7144" y="39529"/>
                    <a:pt x="7144" y="30956"/>
                  </a:cubicBezTo>
                  <a:lnTo>
                    <a:pt x="10954" y="7144"/>
                  </a:lnTo>
                  <a:cubicBezTo>
                    <a:pt x="10954" y="7144"/>
                    <a:pt x="86201" y="255746"/>
                    <a:pt x="113824" y="289084"/>
                  </a:cubicBezTo>
                  <a:cubicBezTo>
                    <a:pt x="141446" y="322421"/>
                    <a:pt x="280511" y="471964"/>
                    <a:pt x="280511" y="471964"/>
                  </a:cubicBezTo>
                  <a:lnTo>
                    <a:pt x="263366" y="488156"/>
                  </a:lnTo>
                  <a:close/>
                </a:path>
              </a:pathLst>
            </a:custGeom>
            <a:solidFill>
              <a:srgbClr val="43506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3" name="任意多边形: 形状 43"/>
            <p:cNvSpPr/>
            <p:nvPr/>
          </p:nvSpPr>
          <p:spPr>
            <a:xfrm>
              <a:off x="3078360" y="405360"/>
              <a:ext cx="743760" cy="717840"/>
            </a:xfrm>
            <a:custGeom>
              <a:avLst/>
              <a:gdLst>
                <a:gd name="textAreaLeft" fmla="*/ 0 w 743760"/>
                <a:gd name="textAreaRight" fmla="*/ 744120 w 743760"/>
                <a:gd name="textAreaTop" fmla="*/ 0 h 717840"/>
                <a:gd name="textAreaBottom" fmla="*/ 718200 h 717840"/>
              </a:gdLst>
              <a:ahLst/>
              <a:rect l="textAreaLeft" t="textAreaTop" r="textAreaRight" b="textAreaBottom"/>
              <a:pathLst>
                <a:path w="276225" h="266700">
                  <a:moveTo>
                    <a:pt x="99116" y="10851"/>
                  </a:moveTo>
                  <a:cubicBezTo>
                    <a:pt x="47681" y="18471"/>
                    <a:pt x="50539" y="46093"/>
                    <a:pt x="50539" y="46093"/>
                  </a:cubicBezTo>
                  <a:cubicBezTo>
                    <a:pt x="56" y="60381"/>
                    <a:pt x="2914" y="145153"/>
                    <a:pt x="13391" y="206113"/>
                  </a:cubicBezTo>
                  <a:cubicBezTo>
                    <a:pt x="13391" y="206113"/>
                    <a:pt x="26726" y="255643"/>
                    <a:pt x="28631" y="264216"/>
                  </a:cubicBezTo>
                  <a:cubicBezTo>
                    <a:pt x="38156" y="245166"/>
                    <a:pt x="28631" y="180396"/>
                    <a:pt x="37204" y="161346"/>
                  </a:cubicBezTo>
                  <a:cubicBezTo>
                    <a:pt x="37204" y="161346"/>
                    <a:pt x="45776" y="208018"/>
                    <a:pt x="51491" y="216591"/>
                  </a:cubicBezTo>
                  <a:cubicBezTo>
                    <a:pt x="52444" y="217543"/>
                    <a:pt x="98164" y="126103"/>
                    <a:pt x="106736" y="96576"/>
                  </a:cubicBezTo>
                  <a:cubicBezTo>
                    <a:pt x="162934" y="115626"/>
                    <a:pt x="275329" y="192778"/>
                    <a:pt x="277234" y="111816"/>
                  </a:cubicBezTo>
                  <a:cubicBezTo>
                    <a:pt x="264851" y="43236"/>
                    <a:pt x="183889" y="-7247"/>
                    <a:pt x="99116" y="10851"/>
                  </a:cubicBez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4" name="任意多边形: 形状 44"/>
            <p:cNvSpPr/>
            <p:nvPr/>
          </p:nvSpPr>
          <p:spPr>
            <a:xfrm>
              <a:off x="817560" y="2044080"/>
              <a:ext cx="435960" cy="769320"/>
            </a:xfrm>
            <a:custGeom>
              <a:avLst/>
              <a:gdLst>
                <a:gd name="textAreaLeft" fmla="*/ 0 w 435960"/>
                <a:gd name="textAreaRight" fmla="*/ 436320 w 435960"/>
                <a:gd name="textAreaTop" fmla="*/ 0 h 769320"/>
                <a:gd name="textAreaBottom" fmla="*/ 769680 h 769320"/>
              </a:gdLst>
              <a:ahLst/>
              <a:rect l="textAreaLeft" t="textAreaTop" r="textAreaRight" b="textAreaBottom"/>
              <a:pathLst>
                <a:path w="161925" h="285750">
                  <a:moveTo>
                    <a:pt x="7144" y="221456"/>
                  </a:moveTo>
                  <a:lnTo>
                    <a:pt x="64294" y="7144"/>
                  </a:lnTo>
                  <a:cubicBezTo>
                    <a:pt x="93821" y="52864"/>
                    <a:pt x="123349" y="97631"/>
                    <a:pt x="153829" y="143351"/>
                  </a:cubicBezTo>
                  <a:cubicBezTo>
                    <a:pt x="123349" y="193834"/>
                    <a:pt x="125254" y="241459"/>
                    <a:pt x="156686" y="287179"/>
                  </a:cubicBezTo>
                  <a:lnTo>
                    <a:pt x="7144" y="221456"/>
                  </a:ln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5" name="任意多边形: 形状 45"/>
            <p:cNvSpPr/>
            <p:nvPr/>
          </p:nvSpPr>
          <p:spPr>
            <a:xfrm>
              <a:off x="939600" y="1561680"/>
              <a:ext cx="769320" cy="1077120"/>
            </a:xfrm>
            <a:custGeom>
              <a:avLst/>
              <a:gdLst>
                <a:gd name="textAreaLeft" fmla="*/ 0 w 769320"/>
                <a:gd name="textAreaRight" fmla="*/ 769680 w 769320"/>
                <a:gd name="textAreaTop" fmla="*/ 0 h 1077120"/>
                <a:gd name="textAreaBottom" fmla="*/ 1077480 h 1077120"/>
              </a:gdLst>
              <a:ahLst/>
              <a:rect l="textAreaLeft" t="textAreaTop" r="textAreaRight" b="textAreaBottom"/>
              <a:pathLst>
                <a:path w="285750" h="400050">
                  <a:moveTo>
                    <a:pt x="146686" y="399581"/>
                  </a:moveTo>
                  <a:cubicBezTo>
                    <a:pt x="177166" y="404343"/>
                    <a:pt x="237173" y="352908"/>
                    <a:pt x="246698" y="304331"/>
                  </a:cubicBezTo>
                  <a:cubicBezTo>
                    <a:pt x="260986" y="299568"/>
                    <a:pt x="277178" y="300521"/>
                    <a:pt x="286703" y="287186"/>
                  </a:cubicBezTo>
                  <a:cubicBezTo>
                    <a:pt x="294323" y="275756"/>
                    <a:pt x="247651" y="273851"/>
                    <a:pt x="249556" y="215748"/>
                  </a:cubicBezTo>
                  <a:cubicBezTo>
                    <a:pt x="252413" y="197651"/>
                    <a:pt x="283846" y="170981"/>
                    <a:pt x="286703" y="151931"/>
                  </a:cubicBezTo>
                  <a:cubicBezTo>
                    <a:pt x="298133" y="89066"/>
                    <a:pt x="228601" y="25248"/>
                    <a:pt x="165736" y="12866"/>
                  </a:cubicBezTo>
                  <a:cubicBezTo>
                    <a:pt x="158116" y="11913"/>
                    <a:pt x="151448" y="10008"/>
                    <a:pt x="143828" y="9056"/>
                  </a:cubicBezTo>
                  <a:cubicBezTo>
                    <a:pt x="80963" y="-2374"/>
                    <a:pt x="20003" y="38583"/>
                    <a:pt x="7621" y="101448"/>
                  </a:cubicBezTo>
                  <a:cubicBezTo>
                    <a:pt x="1906" y="132881"/>
                    <a:pt x="49531" y="195746"/>
                    <a:pt x="43816" y="228131"/>
                  </a:cubicBezTo>
                  <a:cubicBezTo>
                    <a:pt x="23813" y="302426"/>
                    <a:pt x="55246" y="378626"/>
                    <a:pt x="146686" y="399581"/>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6" name="任意多边形: 形状 46"/>
            <p:cNvSpPr/>
            <p:nvPr/>
          </p:nvSpPr>
          <p:spPr>
            <a:xfrm>
              <a:off x="1384560" y="2009520"/>
              <a:ext cx="281880" cy="102240"/>
            </a:xfrm>
            <a:custGeom>
              <a:avLst/>
              <a:gdLst>
                <a:gd name="textAreaLeft" fmla="*/ 0 w 281880"/>
                <a:gd name="textAreaRight" fmla="*/ 282240 w 281880"/>
                <a:gd name="textAreaTop" fmla="*/ 0 h 102240"/>
                <a:gd name="textAreaBottom" fmla="*/ 102600 h 102240"/>
              </a:gdLst>
              <a:ahLst/>
              <a:rect l="textAreaLeft" t="textAreaTop" r="textAreaRight" b="textAreaBottom"/>
              <a:pathLst>
                <a:path w="104775" h="38100">
                  <a:moveTo>
                    <a:pt x="7144" y="22835"/>
                  </a:moveTo>
                  <a:cubicBezTo>
                    <a:pt x="7144" y="22835"/>
                    <a:pt x="26194" y="19025"/>
                    <a:pt x="47149" y="23787"/>
                  </a:cubicBezTo>
                  <a:cubicBezTo>
                    <a:pt x="68104" y="28550"/>
                    <a:pt x="81439" y="42837"/>
                    <a:pt x="90011" y="38075"/>
                  </a:cubicBezTo>
                  <a:cubicBezTo>
                    <a:pt x="98584" y="33312"/>
                    <a:pt x="106204" y="27597"/>
                    <a:pt x="95726" y="21882"/>
                  </a:cubicBezTo>
                  <a:cubicBezTo>
                    <a:pt x="85249" y="16167"/>
                    <a:pt x="61436" y="4737"/>
                    <a:pt x="35719" y="7595"/>
                  </a:cubicBezTo>
                  <a:cubicBezTo>
                    <a:pt x="10001" y="9500"/>
                    <a:pt x="7144" y="22835"/>
                    <a:pt x="7144" y="22835"/>
                  </a:cubicBezTo>
                  <a:close/>
                </a:path>
              </a:pathLst>
            </a:cu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7" name="任意多边形: 形状 47"/>
            <p:cNvSpPr/>
            <p:nvPr/>
          </p:nvSpPr>
          <p:spPr>
            <a:xfrm>
              <a:off x="1471680" y="2082960"/>
              <a:ext cx="102240" cy="102240"/>
            </a:xfrm>
            <a:custGeom>
              <a:avLst/>
              <a:gdLst>
                <a:gd name="textAreaLeft" fmla="*/ 0 w 102240"/>
                <a:gd name="textAreaRight" fmla="*/ 102600 w 102240"/>
                <a:gd name="textAreaTop" fmla="*/ 0 h 102240"/>
                <a:gd name="textAreaBottom" fmla="*/ 102600 h 102240"/>
              </a:gdLst>
              <a:ahLst/>
              <a:rect l="textAreaLeft" t="textAreaTop" r="textAreaRight" b="textAreaBottom"/>
              <a:pathLst>
                <a:path w="38100" h="38100">
                  <a:moveTo>
                    <a:pt x="-31715" y="27977"/>
                  </a:moveTo>
                  <a:cubicBezTo>
                    <a:pt x="30964" y="-28986"/>
                    <a:pt x="22391" y="-24224"/>
                    <a:pt x="15724" y="-27082"/>
                  </a:cubicBezTo>
                  <a:cubicBezTo>
                    <a:pt x="9056" y="-29939"/>
                    <a:pt x="5246" y="27025"/>
                    <a:pt x="8104" y="18452"/>
                  </a:cubicBezTo>
                  <a:cubicBezTo>
                    <a:pt x="10961" y="9879"/>
                    <a:pt x="19534" y="5117"/>
                    <a:pt x="26201" y="7975"/>
                  </a:cubicBezTo>
                  <a:cubicBezTo>
                    <a:pt x="-31715" y="10832"/>
                    <a:pt x="-28857" y="19404"/>
                    <a:pt x="-31715" y="27977"/>
                  </a:cubicBezTo>
                  <a:close/>
                </a:path>
              </a:pathLst>
            </a:cu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28" name="任意多边形: 形状 48"/>
            <p:cNvSpPr/>
            <p:nvPr/>
          </p:nvSpPr>
          <p:spPr>
            <a:xfrm>
              <a:off x="1506960" y="2104920"/>
              <a:ext cx="51120" cy="76680"/>
            </a:xfrm>
            <a:custGeom>
              <a:avLst/>
              <a:gdLst>
                <a:gd name="textAreaLeft" fmla="*/ 0 w 51120"/>
                <a:gd name="textAreaRight" fmla="*/ 51480 w 51120"/>
                <a:gd name="textAreaTop" fmla="*/ 0 h 76680"/>
                <a:gd name="textAreaBottom" fmla="*/ 77040 h 76680"/>
              </a:gdLst>
              <a:ahLst/>
              <a:rect l="textAreaLeft" t="textAreaTop" r="textAreaRight" b="textAreaBottom"/>
              <a:pathLst>
                <a:path w="19050" h="28575">
                  <a:moveTo>
                    <a:pt x="19774" y="16911"/>
                  </a:moveTo>
                  <a:cubicBezTo>
                    <a:pt x="17869" y="20722"/>
                    <a:pt x="14059" y="22627"/>
                    <a:pt x="11202" y="21674"/>
                  </a:cubicBezTo>
                  <a:cubicBezTo>
                    <a:pt x="8344" y="20722"/>
                    <a:pt x="6439" y="15959"/>
                    <a:pt x="7392" y="12149"/>
                  </a:cubicBezTo>
                  <a:cubicBezTo>
                    <a:pt x="9297" y="8339"/>
                    <a:pt x="13107" y="6434"/>
                    <a:pt x="15964" y="7386"/>
                  </a:cubicBezTo>
                  <a:cubicBezTo>
                    <a:pt x="19774" y="9292"/>
                    <a:pt x="21679" y="13102"/>
                    <a:pt x="19774" y="16911"/>
                  </a:cubicBezTo>
                  <a:close/>
                </a:path>
              </a:pathLst>
            </a:custGeom>
            <a:solidFill>
              <a:srgbClr val="f2f2f2"/>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Arial"/>
              </a:endParaRPr>
            </a:p>
          </p:txBody>
        </p:sp>
        <p:sp>
          <p:nvSpPr>
            <p:cNvPr id="1729" name="任意多边形: 形状 49"/>
            <p:cNvSpPr/>
            <p:nvPr/>
          </p:nvSpPr>
          <p:spPr>
            <a:xfrm>
              <a:off x="1197360" y="4305960"/>
              <a:ext cx="1359000" cy="1949040"/>
            </a:xfrm>
            <a:custGeom>
              <a:avLst/>
              <a:gdLst>
                <a:gd name="textAreaLeft" fmla="*/ 0 w 1359000"/>
                <a:gd name="textAreaRight" fmla="*/ 1359360 w 1359000"/>
                <a:gd name="textAreaTop" fmla="*/ 0 h 1949040"/>
                <a:gd name="textAreaBottom" fmla="*/ 1949400 h 1949040"/>
              </a:gdLst>
              <a:ahLst/>
              <a:rect l="textAreaLeft" t="textAreaTop" r="textAreaRight" b="textAreaBottom"/>
              <a:pathLst>
                <a:path w="504825" h="723900">
                  <a:moveTo>
                    <a:pt x="38576" y="7144"/>
                  </a:moveTo>
                  <a:lnTo>
                    <a:pt x="7144" y="143351"/>
                  </a:lnTo>
                  <a:lnTo>
                    <a:pt x="365284" y="222409"/>
                  </a:lnTo>
                  <a:cubicBezTo>
                    <a:pt x="338614" y="371951"/>
                    <a:pt x="327184" y="600551"/>
                    <a:pt x="313849" y="710089"/>
                  </a:cubicBezTo>
                  <a:cubicBezTo>
                    <a:pt x="337661" y="730091"/>
                    <a:pt x="372904" y="732949"/>
                    <a:pt x="394811" y="686276"/>
                  </a:cubicBezTo>
                  <a:lnTo>
                    <a:pt x="503396" y="241459"/>
                  </a:lnTo>
                  <a:cubicBezTo>
                    <a:pt x="511969" y="215741"/>
                    <a:pt x="501491" y="187166"/>
                    <a:pt x="478631" y="171926"/>
                  </a:cubicBezTo>
                  <a:lnTo>
                    <a:pt x="38576" y="7144"/>
                  </a:lnTo>
                  <a:close/>
                </a:path>
              </a:pathLst>
            </a:custGeom>
            <a:solidFill>
              <a:srgbClr val="0b141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0" name="任意多边形: 形状 50"/>
            <p:cNvSpPr/>
            <p:nvPr/>
          </p:nvSpPr>
          <p:spPr>
            <a:xfrm>
              <a:off x="2012760" y="6083280"/>
              <a:ext cx="717840" cy="358920"/>
            </a:xfrm>
            <a:custGeom>
              <a:avLst/>
              <a:gdLst>
                <a:gd name="textAreaLeft" fmla="*/ 0 w 717840"/>
                <a:gd name="textAreaRight" fmla="*/ 718200 w 717840"/>
                <a:gd name="textAreaTop" fmla="*/ 0 h 358920"/>
                <a:gd name="textAreaBottom" fmla="*/ 359280 h 358920"/>
              </a:gdLst>
              <a:ahLst/>
              <a:rect l="textAreaLeft" t="textAreaTop" r="textAreaRight" b="textAreaBottom"/>
              <a:pathLst>
                <a:path w="266700" h="133350">
                  <a:moveTo>
                    <a:pt x="7144" y="43339"/>
                  </a:moveTo>
                  <a:cubicBezTo>
                    <a:pt x="8096" y="70961"/>
                    <a:pt x="9049" y="99536"/>
                    <a:pt x="10001" y="127159"/>
                  </a:cubicBezTo>
                  <a:cubicBezTo>
                    <a:pt x="41434" y="127159"/>
                    <a:pt x="71914" y="128111"/>
                    <a:pt x="103346" y="128111"/>
                  </a:cubicBezTo>
                  <a:cubicBezTo>
                    <a:pt x="104299" y="126206"/>
                    <a:pt x="105251" y="123349"/>
                    <a:pt x="106204" y="121444"/>
                  </a:cubicBezTo>
                  <a:cubicBezTo>
                    <a:pt x="110014" y="122396"/>
                    <a:pt x="123349" y="126206"/>
                    <a:pt x="137636" y="127159"/>
                  </a:cubicBezTo>
                  <a:cubicBezTo>
                    <a:pt x="139541" y="127159"/>
                    <a:pt x="239554" y="129064"/>
                    <a:pt x="246221" y="127159"/>
                  </a:cubicBezTo>
                  <a:cubicBezTo>
                    <a:pt x="264319" y="126206"/>
                    <a:pt x="268129" y="104299"/>
                    <a:pt x="252889" y="103346"/>
                  </a:cubicBezTo>
                  <a:cubicBezTo>
                    <a:pt x="176689" y="79534"/>
                    <a:pt x="143351" y="60484"/>
                    <a:pt x="90011" y="7144"/>
                  </a:cubicBezTo>
                  <a:cubicBezTo>
                    <a:pt x="82391" y="9049"/>
                    <a:pt x="74771" y="37624"/>
                    <a:pt x="66199" y="39529"/>
                  </a:cubicBezTo>
                  <a:cubicBezTo>
                    <a:pt x="47149" y="44291"/>
                    <a:pt x="25241" y="38576"/>
                    <a:pt x="7144" y="43339"/>
                  </a:cubicBezTo>
                  <a:close/>
                </a:path>
              </a:pathLst>
            </a:custGeom>
            <a:solidFill>
              <a:srgbClr val="17202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1" name="任意多边形: 形状 51"/>
            <p:cNvSpPr/>
            <p:nvPr/>
          </p:nvSpPr>
          <p:spPr>
            <a:xfrm>
              <a:off x="595080" y="4287960"/>
              <a:ext cx="2385000" cy="1897560"/>
            </a:xfrm>
            <a:custGeom>
              <a:avLst/>
              <a:gdLst>
                <a:gd name="textAreaLeft" fmla="*/ 0 w 2385000"/>
                <a:gd name="textAreaRight" fmla="*/ 2385360 w 2385000"/>
                <a:gd name="textAreaTop" fmla="*/ 0 h 1897560"/>
                <a:gd name="textAreaBottom" fmla="*/ 1897920 h 1897560"/>
              </a:gdLst>
              <a:ahLst/>
              <a:rect l="textAreaLeft" t="textAreaTop" r="textAreaRight" b="textAreaBottom"/>
              <a:pathLst>
                <a:path w="885825" h="704850">
                  <a:moveTo>
                    <a:pt x="717568" y="99536"/>
                  </a:moveTo>
                  <a:lnTo>
                    <a:pt x="289896" y="27146"/>
                  </a:lnTo>
                  <a:cubicBezTo>
                    <a:pt x="203218" y="23336"/>
                    <a:pt x="98443" y="10954"/>
                    <a:pt x="11766" y="7144"/>
                  </a:cubicBezTo>
                  <a:cubicBezTo>
                    <a:pt x="5098" y="82391"/>
                    <a:pt x="-3474" y="158591"/>
                    <a:pt x="58438" y="178594"/>
                  </a:cubicBezTo>
                  <a:lnTo>
                    <a:pt x="208933" y="182404"/>
                  </a:lnTo>
                  <a:lnTo>
                    <a:pt x="602316" y="196691"/>
                  </a:lnTo>
                  <a:lnTo>
                    <a:pt x="800436" y="696754"/>
                  </a:lnTo>
                  <a:lnTo>
                    <a:pt x="879493" y="697706"/>
                  </a:lnTo>
                  <a:lnTo>
                    <a:pt x="735666" y="143351"/>
                  </a:lnTo>
                  <a:cubicBezTo>
                    <a:pt x="739476" y="126206"/>
                    <a:pt x="731856" y="109061"/>
                    <a:pt x="717568" y="99536"/>
                  </a:cubicBezTo>
                  <a:close/>
                </a:path>
              </a:pathLst>
            </a:custGeom>
            <a:solidFill>
              <a:srgbClr val="14202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2" name="任意多边形: 形状 52"/>
            <p:cNvSpPr/>
            <p:nvPr/>
          </p:nvSpPr>
          <p:spPr>
            <a:xfrm>
              <a:off x="2066760" y="3372480"/>
              <a:ext cx="564120" cy="230760"/>
            </a:xfrm>
            <a:custGeom>
              <a:avLst/>
              <a:gdLst>
                <a:gd name="textAreaLeft" fmla="*/ 0 w 564120"/>
                <a:gd name="textAreaRight" fmla="*/ 564480 w 564120"/>
                <a:gd name="textAreaTop" fmla="*/ 0 h 230760"/>
                <a:gd name="textAreaBottom" fmla="*/ 231120 h 230760"/>
              </a:gdLst>
              <a:ahLst/>
              <a:rect l="textAreaLeft" t="textAreaTop" r="textAreaRight" b="textAreaBottom"/>
              <a:pathLst>
                <a:path w="209550" h="85725">
                  <a:moveTo>
                    <a:pt x="132874" y="7144"/>
                  </a:moveTo>
                  <a:lnTo>
                    <a:pt x="198596" y="48101"/>
                  </a:lnTo>
                  <a:cubicBezTo>
                    <a:pt x="203359" y="50959"/>
                    <a:pt x="204311" y="57626"/>
                    <a:pt x="200501" y="62389"/>
                  </a:cubicBezTo>
                  <a:cubicBezTo>
                    <a:pt x="197644" y="65246"/>
                    <a:pt x="192881" y="66199"/>
                    <a:pt x="189071" y="65246"/>
                  </a:cubicBezTo>
                  <a:lnTo>
                    <a:pt x="181451" y="61436"/>
                  </a:lnTo>
                  <a:cubicBezTo>
                    <a:pt x="181451" y="62389"/>
                    <a:pt x="181451" y="64294"/>
                    <a:pt x="180499" y="65246"/>
                  </a:cubicBezTo>
                  <a:lnTo>
                    <a:pt x="179546" y="66199"/>
                  </a:lnTo>
                  <a:cubicBezTo>
                    <a:pt x="177641" y="70009"/>
                    <a:pt x="171926" y="71914"/>
                    <a:pt x="168116" y="69056"/>
                  </a:cubicBezTo>
                  <a:lnTo>
                    <a:pt x="164306" y="67151"/>
                  </a:lnTo>
                  <a:cubicBezTo>
                    <a:pt x="165259" y="69056"/>
                    <a:pt x="164306" y="71914"/>
                    <a:pt x="163354" y="73819"/>
                  </a:cubicBezTo>
                  <a:lnTo>
                    <a:pt x="162401" y="75724"/>
                  </a:lnTo>
                  <a:cubicBezTo>
                    <a:pt x="160496" y="79534"/>
                    <a:pt x="154781" y="81439"/>
                    <a:pt x="150971" y="78581"/>
                  </a:cubicBezTo>
                  <a:lnTo>
                    <a:pt x="121444" y="62389"/>
                  </a:lnTo>
                  <a:cubicBezTo>
                    <a:pt x="115729" y="66199"/>
                    <a:pt x="110014" y="70961"/>
                    <a:pt x="101441" y="73819"/>
                  </a:cubicBezTo>
                  <a:cubicBezTo>
                    <a:pt x="65246" y="87154"/>
                    <a:pt x="50006" y="84296"/>
                    <a:pt x="13811" y="81439"/>
                  </a:cubicBezTo>
                  <a:cubicBezTo>
                    <a:pt x="11906" y="63341"/>
                    <a:pt x="9049" y="46196"/>
                    <a:pt x="7144" y="28099"/>
                  </a:cubicBezTo>
                  <a:cubicBezTo>
                    <a:pt x="55721" y="30956"/>
                    <a:pt x="94774" y="19526"/>
                    <a:pt x="132874" y="7144"/>
                  </a:cubicBezTo>
                  <a:close/>
                </a:path>
              </a:pathLst>
            </a:custGeom>
            <a:solidFill>
              <a:srgbClr val="d6b5b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3" name="任意多边形: 形状 53"/>
            <p:cNvSpPr/>
            <p:nvPr/>
          </p:nvSpPr>
          <p:spPr>
            <a:xfrm>
              <a:off x="2061720" y="3482640"/>
              <a:ext cx="461520" cy="128160"/>
            </a:xfrm>
            <a:custGeom>
              <a:avLst/>
              <a:gdLst>
                <a:gd name="textAreaLeft" fmla="*/ 0 w 461520"/>
                <a:gd name="textAreaRight" fmla="*/ 461880 w 461520"/>
                <a:gd name="textAreaTop" fmla="*/ 0 h 128160"/>
                <a:gd name="textAreaBottom" fmla="*/ 128520 h 128160"/>
              </a:gdLst>
              <a:ahLst/>
              <a:rect l="textAreaLeft" t="textAreaTop" r="textAreaRight" b="textAreaBottom"/>
              <a:pathLst>
                <a:path w="171450" h="47625">
                  <a:moveTo>
                    <a:pt x="17621" y="40481"/>
                  </a:moveTo>
                  <a:cubicBezTo>
                    <a:pt x="18574" y="40481"/>
                    <a:pt x="20479" y="40481"/>
                    <a:pt x="21431" y="40481"/>
                  </a:cubicBezTo>
                  <a:cubicBezTo>
                    <a:pt x="20479" y="40481"/>
                    <a:pt x="18574" y="40481"/>
                    <a:pt x="17621" y="40481"/>
                  </a:cubicBezTo>
                  <a:close/>
                  <a:moveTo>
                    <a:pt x="16669" y="31909"/>
                  </a:moveTo>
                  <a:cubicBezTo>
                    <a:pt x="11906" y="31909"/>
                    <a:pt x="9049" y="31909"/>
                    <a:pt x="7144" y="30956"/>
                  </a:cubicBezTo>
                  <a:cubicBezTo>
                    <a:pt x="7144" y="30956"/>
                    <a:pt x="7144" y="35719"/>
                    <a:pt x="10001" y="40481"/>
                  </a:cubicBezTo>
                  <a:cubicBezTo>
                    <a:pt x="17621" y="39529"/>
                    <a:pt x="21431" y="39529"/>
                    <a:pt x="21431" y="39529"/>
                  </a:cubicBezTo>
                  <a:cubicBezTo>
                    <a:pt x="33814" y="40481"/>
                    <a:pt x="43339" y="41434"/>
                    <a:pt x="51911" y="41434"/>
                  </a:cubicBezTo>
                  <a:lnTo>
                    <a:pt x="55721" y="41434"/>
                  </a:lnTo>
                  <a:cubicBezTo>
                    <a:pt x="63341" y="41434"/>
                    <a:pt x="70961" y="40481"/>
                    <a:pt x="80486" y="38576"/>
                  </a:cubicBezTo>
                  <a:cubicBezTo>
                    <a:pt x="88106" y="36671"/>
                    <a:pt x="95726" y="34766"/>
                    <a:pt x="105251" y="30956"/>
                  </a:cubicBezTo>
                  <a:cubicBezTo>
                    <a:pt x="112871" y="28099"/>
                    <a:pt x="119539" y="24289"/>
                    <a:pt x="125254" y="19526"/>
                  </a:cubicBezTo>
                  <a:lnTo>
                    <a:pt x="154781" y="35719"/>
                  </a:lnTo>
                  <a:cubicBezTo>
                    <a:pt x="158591" y="37624"/>
                    <a:pt x="162401" y="36671"/>
                    <a:pt x="165259" y="33814"/>
                  </a:cubicBezTo>
                  <a:cubicBezTo>
                    <a:pt x="162401" y="32861"/>
                    <a:pt x="158591" y="30956"/>
                    <a:pt x="155734" y="29051"/>
                  </a:cubicBezTo>
                  <a:cubicBezTo>
                    <a:pt x="144304" y="22384"/>
                    <a:pt x="129064" y="7144"/>
                    <a:pt x="129064" y="7144"/>
                  </a:cubicBezTo>
                  <a:cubicBezTo>
                    <a:pt x="129064" y="7144"/>
                    <a:pt x="110966" y="18574"/>
                    <a:pt x="85249" y="25241"/>
                  </a:cubicBezTo>
                  <a:cubicBezTo>
                    <a:pt x="77629" y="27146"/>
                    <a:pt x="70009" y="28099"/>
                    <a:pt x="61436" y="29051"/>
                  </a:cubicBezTo>
                  <a:cubicBezTo>
                    <a:pt x="42386" y="30004"/>
                    <a:pt x="29051" y="30004"/>
                    <a:pt x="19526" y="30004"/>
                  </a:cubicBezTo>
                  <a:cubicBezTo>
                    <a:pt x="17621" y="31909"/>
                    <a:pt x="16669" y="31909"/>
                    <a:pt x="16669" y="31909"/>
                  </a:cubicBezTo>
                  <a:close/>
                </a:path>
              </a:pathLst>
            </a:custGeom>
            <a:solidFill>
              <a:srgbClr val="c8a8a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4" name="任意多边形: 形状 54"/>
            <p:cNvSpPr/>
            <p:nvPr/>
          </p:nvSpPr>
          <p:spPr>
            <a:xfrm>
              <a:off x="981720" y="2892960"/>
              <a:ext cx="1153800" cy="871920"/>
            </a:xfrm>
            <a:custGeom>
              <a:avLst/>
              <a:gdLst>
                <a:gd name="textAreaLeft" fmla="*/ 0 w 1153800"/>
                <a:gd name="textAreaRight" fmla="*/ 1154160 w 1153800"/>
                <a:gd name="textAreaTop" fmla="*/ 0 h 871920"/>
                <a:gd name="textAreaBottom" fmla="*/ 872280 h 871920"/>
              </a:gdLst>
              <a:ahLst/>
              <a:rect l="textAreaLeft" t="textAreaTop" r="textAreaRight" b="textAreaBottom"/>
              <a:pathLst>
                <a:path w="428625" h="323850">
                  <a:moveTo>
                    <a:pt x="409099" y="202406"/>
                  </a:moveTo>
                  <a:cubicBezTo>
                    <a:pt x="411004" y="205264"/>
                    <a:pt x="419576" y="259556"/>
                    <a:pt x="422434" y="259556"/>
                  </a:cubicBezTo>
                  <a:cubicBezTo>
                    <a:pt x="424339" y="259556"/>
                    <a:pt x="360521" y="257651"/>
                    <a:pt x="264319" y="279559"/>
                  </a:cubicBezTo>
                  <a:cubicBezTo>
                    <a:pt x="187166" y="296704"/>
                    <a:pt x="75724" y="319564"/>
                    <a:pt x="65246" y="317659"/>
                  </a:cubicBezTo>
                  <a:cubicBezTo>
                    <a:pt x="42386" y="311944"/>
                    <a:pt x="7144" y="90964"/>
                    <a:pt x="7144" y="90964"/>
                  </a:cubicBezTo>
                  <a:lnTo>
                    <a:pt x="22384" y="55721"/>
                  </a:lnTo>
                  <a:lnTo>
                    <a:pt x="62389" y="7144"/>
                  </a:lnTo>
                  <a:lnTo>
                    <a:pt x="81439" y="229076"/>
                  </a:lnTo>
                  <a:lnTo>
                    <a:pt x="409099" y="202406"/>
                  </a:lnTo>
                  <a:close/>
                </a:path>
              </a:pathLst>
            </a:custGeom>
            <a:solidFill>
              <a:srgbClr val="82504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5" name="任意多边形: 形状 55"/>
            <p:cNvSpPr/>
            <p:nvPr/>
          </p:nvSpPr>
          <p:spPr>
            <a:xfrm>
              <a:off x="533520" y="2485080"/>
              <a:ext cx="846000" cy="2154240"/>
            </a:xfrm>
            <a:custGeom>
              <a:avLst/>
              <a:gdLst>
                <a:gd name="textAreaLeft" fmla="*/ 0 w 846000"/>
                <a:gd name="textAreaRight" fmla="*/ 846360 w 846000"/>
                <a:gd name="textAreaTop" fmla="*/ 0 h 2154240"/>
                <a:gd name="textAreaBottom" fmla="*/ 2154600 h 2154240"/>
              </a:gdLst>
              <a:ahLst/>
              <a:rect l="textAreaLeft" t="textAreaTop" r="textAreaRight" b="textAreaBottom"/>
              <a:pathLst>
                <a:path w="314325" h="800100">
                  <a:moveTo>
                    <a:pt x="242220" y="711041"/>
                  </a:moveTo>
                  <a:cubicBezTo>
                    <a:pt x="198405" y="722471"/>
                    <a:pt x="154590" y="734854"/>
                    <a:pt x="110775" y="746284"/>
                  </a:cubicBezTo>
                  <a:cubicBezTo>
                    <a:pt x="83152" y="762476"/>
                    <a:pt x="56482" y="777716"/>
                    <a:pt x="28860" y="793909"/>
                  </a:cubicBezTo>
                  <a:cubicBezTo>
                    <a:pt x="7905" y="387191"/>
                    <a:pt x="-36863" y="121444"/>
                    <a:pt x="127920" y="7144"/>
                  </a:cubicBezTo>
                  <a:cubicBezTo>
                    <a:pt x="136492" y="20479"/>
                    <a:pt x="235552" y="96679"/>
                    <a:pt x="261270" y="115729"/>
                  </a:cubicBezTo>
                  <a:cubicBezTo>
                    <a:pt x="299370" y="167164"/>
                    <a:pt x="317467" y="263366"/>
                    <a:pt x="304132" y="357664"/>
                  </a:cubicBezTo>
                  <a:cubicBezTo>
                    <a:pt x="294607" y="423386"/>
                    <a:pt x="258412" y="553879"/>
                    <a:pt x="312705" y="695801"/>
                  </a:cubicBezTo>
                  <a:cubicBezTo>
                    <a:pt x="288892" y="700564"/>
                    <a:pt x="265080" y="706279"/>
                    <a:pt x="242220" y="711041"/>
                  </a:cubicBezTo>
                  <a:close/>
                </a:path>
              </a:pathLst>
            </a:custGeom>
            <a:solidFill>
              <a:srgbClr val="cd6f4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6" name="任意多边形: 形状 56"/>
            <p:cNvSpPr/>
            <p:nvPr/>
          </p:nvSpPr>
          <p:spPr>
            <a:xfrm>
              <a:off x="833040" y="1500120"/>
              <a:ext cx="974520" cy="846000"/>
            </a:xfrm>
            <a:custGeom>
              <a:avLst/>
              <a:gdLst>
                <a:gd name="textAreaLeft" fmla="*/ 0 w 974520"/>
                <a:gd name="textAreaRight" fmla="*/ 974880 w 974520"/>
                <a:gd name="textAreaTop" fmla="*/ 0 h 846000"/>
                <a:gd name="textAreaBottom" fmla="*/ 846360 h 846000"/>
              </a:gdLst>
              <a:ahLst/>
              <a:rect l="textAreaLeft" t="textAreaTop" r="textAreaRight" b="textAreaBottom"/>
              <a:pathLst>
                <a:path w="361950" h="314325">
                  <a:moveTo>
                    <a:pt x="122396" y="10047"/>
                  </a:moveTo>
                  <a:cubicBezTo>
                    <a:pt x="62389" y="14809"/>
                    <a:pt x="64294" y="47194"/>
                    <a:pt x="64294" y="47194"/>
                  </a:cubicBezTo>
                  <a:cubicBezTo>
                    <a:pt x="-4286" y="62434"/>
                    <a:pt x="20479" y="152922"/>
                    <a:pt x="7144" y="207214"/>
                  </a:cubicBezTo>
                  <a:cubicBezTo>
                    <a:pt x="12859" y="234837"/>
                    <a:pt x="27146" y="280557"/>
                    <a:pt x="32861" y="308179"/>
                  </a:cubicBezTo>
                  <a:cubicBezTo>
                    <a:pt x="45244" y="287224"/>
                    <a:pt x="48101" y="247219"/>
                    <a:pt x="60484" y="226264"/>
                  </a:cubicBezTo>
                  <a:cubicBezTo>
                    <a:pt x="71914" y="222454"/>
                    <a:pt x="90964" y="173877"/>
                    <a:pt x="102394" y="170067"/>
                  </a:cubicBezTo>
                  <a:cubicBezTo>
                    <a:pt x="105251" y="171972"/>
                    <a:pt x="97631" y="236742"/>
                    <a:pt x="109061" y="237694"/>
                  </a:cubicBezTo>
                  <a:cubicBezTo>
                    <a:pt x="124301" y="239599"/>
                    <a:pt x="131921" y="189117"/>
                    <a:pt x="138589" y="171019"/>
                  </a:cubicBezTo>
                  <a:cubicBezTo>
                    <a:pt x="201454" y="197689"/>
                    <a:pt x="340519" y="191974"/>
                    <a:pt x="358616" y="113869"/>
                  </a:cubicBezTo>
                  <a:cubicBezTo>
                    <a:pt x="337661" y="34812"/>
                    <a:pt x="221456" y="-4241"/>
                    <a:pt x="122396" y="10047"/>
                  </a:cubicBezTo>
                  <a:close/>
                </a:path>
              </a:pathLst>
            </a:custGeom>
            <a:solidFill>
              <a:srgbClr val="3e31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7" name="任意多边形: 形状 57"/>
            <p:cNvSpPr/>
            <p:nvPr/>
          </p:nvSpPr>
          <p:spPr>
            <a:xfrm>
              <a:off x="905400" y="1899720"/>
              <a:ext cx="204840" cy="333360"/>
            </a:xfrm>
            <a:custGeom>
              <a:avLst/>
              <a:gdLst>
                <a:gd name="textAreaLeft" fmla="*/ 0 w 204840"/>
                <a:gd name="textAreaRight" fmla="*/ 205200 w 204840"/>
                <a:gd name="textAreaTop" fmla="*/ 0 h 333360"/>
                <a:gd name="textAreaBottom" fmla="*/ 333720 h 333360"/>
              </a:gdLst>
              <a:ahLst/>
              <a:rect l="textAreaLeft" t="textAreaTop" r="textAreaRight" b="textAreaBottom"/>
              <a:pathLst>
                <a:path w="76200" h="123825">
                  <a:moveTo>
                    <a:pt x="55591" y="117831"/>
                  </a:moveTo>
                  <a:lnTo>
                    <a:pt x="74641" y="20676"/>
                  </a:lnTo>
                  <a:cubicBezTo>
                    <a:pt x="8918" y="-24091"/>
                    <a:pt x="-7274" y="52109"/>
                    <a:pt x="19396" y="105448"/>
                  </a:cubicBezTo>
                  <a:cubicBezTo>
                    <a:pt x="27016" y="121641"/>
                    <a:pt x="41303" y="126403"/>
                    <a:pt x="55591" y="117831"/>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8" name="任意多边形: 形状 58"/>
            <p:cNvSpPr/>
            <p:nvPr/>
          </p:nvSpPr>
          <p:spPr>
            <a:xfrm>
              <a:off x="2635920" y="6024240"/>
              <a:ext cx="692280" cy="410040"/>
            </a:xfrm>
            <a:custGeom>
              <a:avLst/>
              <a:gdLst>
                <a:gd name="textAreaLeft" fmla="*/ 0 w 692280"/>
                <a:gd name="textAreaRight" fmla="*/ 692640 w 692280"/>
                <a:gd name="textAreaTop" fmla="*/ 0 h 410040"/>
                <a:gd name="textAreaBottom" fmla="*/ 410400 h 410040"/>
              </a:gdLst>
              <a:ahLst/>
              <a:rect l="textAreaLeft" t="textAreaTop" r="textAreaRight" b="textAreaBottom"/>
              <a:pathLst>
                <a:path w="257175" h="152400">
                  <a:moveTo>
                    <a:pt x="29051" y="17621"/>
                  </a:moveTo>
                  <a:cubicBezTo>
                    <a:pt x="21431" y="44291"/>
                    <a:pt x="14764" y="71914"/>
                    <a:pt x="7144" y="98584"/>
                  </a:cubicBezTo>
                  <a:cubicBezTo>
                    <a:pt x="36671" y="108109"/>
                    <a:pt x="66199" y="117634"/>
                    <a:pt x="95726" y="127159"/>
                  </a:cubicBezTo>
                  <a:cubicBezTo>
                    <a:pt x="97631" y="125254"/>
                    <a:pt x="98584" y="123349"/>
                    <a:pt x="100489" y="121444"/>
                  </a:cubicBezTo>
                  <a:cubicBezTo>
                    <a:pt x="127159" y="133826"/>
                    <a:pt x="133826" y="143351"/>
                    <a:pt x="166211" y="148114"/>
                  </a:cubicBezTo>
                  <a:cubicBezTo>
                    <a:pt x="169069" y="148114"/>
                    <a:pt x="231934" y="148114"/>
                    <a:pt x="235744" y="149066"/>
                  </a:cubicBezTo>
                  <a:cubicBezTo>
                    <a:pt x="252889" y="152876"/>
                    <a:pt x="263366" y="132874"/>
                    <a:pt x="249079" y="128111"/>
                  </a:cubicBezTo>
                  <a:cubicBezTo>
                    <a:pt x="165259" y="97631"/>
                    <a:pt x="152876" y="74771"/>
                    <a:pt x="117634" y="7144"/>
                  </a:cubicBezTo>
                  <a:cubicBezTo>
                    <a:pt x="110014" y="7144"/>
                    <a:pt x="93821" y="31909"/>
                    <a:pt x="86201" y="30956"/>
                  </a:cubicBezTo>
                  <a:cubicBezTo>
                    <a:pt x="67151" y="30956"/>
                    <a:pt x="47149" y="18574"/>
                    <a:pt x="29051" y="17621"/>
                  </a:cubicBezTo>
                  <a:close/>
                </a:path>
              </a:pathLst>
            </a:custGeom>
            <a:solidFill>
              <a:srgbClr val="17202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39" name="任意多边形: 形状 59"/>
            <p:cNvSpPr/>
            <p:nvPr/>
          </p:nvSpPr>
          <p:spPr>
            <a:xfrm>
              <a:off x="2061720" y="3762360"/>
              <a:ext cx="8001720" cy="2666880"/>
            </a:xfrm>
            <a:custGeom>
              <a:avLst/>
              <a:gdLst>
                <a:gd name="textAreaLeft" fmla="*/ 0 w 8001720"/>
                <a:gd name="textAreaRight" fmla="*/ 8002080 w 8001720"/>
                <a:gd name="textAreaTop" fmla="*/ 0 h 2666880"/>
                <a:gd name="textAreaBottom" fmla="*/ 2667240 h 2666880"/>
              </a:gdLst>
              <a:ahLst/>
              <a:rect l="textAreaLeft" t="textAreaTop" r="textAreaRight" b="textAreaBottom"/>
              <a:pathLst>
                <a:path w="2971800" h="990600">
                  <a:moveTo>
                    <a:pt x="7144" y="7144"/>
                  </a:moveTo>
                  <a:lnTo>
                    <a:pt x="2971324" y="7144"/>
                  </a:lnTo>
                  <a:lnTo>
                    <a:pt x="2971324" y="986314"/>
                  </a:lnTo>
                  <a:lnTo>
                    <a:pt x="7144" y="986314"/>
                  </a:lnTo>
                  <a:lnTo>
                    <a:pt x="7144" y="71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0" name="任意多边形: 形状 60"/>
            <p:cNvSpPr/>
            <p:nvPr/>
          </p:nvSpPr>
          <p:spPr>
            <a:xfrm>
              <a:off x="2061720" y="3805920"/>
              <a:ext cx="8001720" cy="307440"/>
            </a:xfrm>
            <a:custGeom>
              <a:avLst/>
              <a:gdLst>
                <a:gd name="textAreaLeft" fmla="*/ 0 w 8001720"/>
                <a:gd name="textAreaRight" fmla="*/ 8002080 w 8001720"/>
                <a:gd name="textAreaTop" fmla="*/ 0 h 307440"/>
                <a:gd name="textAreaBottom" fmla="*/ 307800 h 307440"/>
              </a:gdLst>
              <a:ahLst/>
              <a:rect l="textAreaLeft" t="textAreaTop" r="textAreaRight" b="textAreaBottom"/>
              <a:pathLst>
                <a:path w="2971800" h="114300">
                  <a:moveTo>
                    <a:pt x="7144" y="7144"/>
                  </a:moveTo>
                  <a:lnTo>
                    <a:pt x="2970371" y="7144"/>
                  </a:lnTo>
                  <a:lnTo>
                    <a:pt x="2970371" y="110966"/>
                  </a:lnTo>
                  <a:lnTo>
                    <a:pt x="7144" y="110966"/>
                  </a:lnTo>
                  <a:lnTo>
                    <a:pt x="7144" y="7144"/>
                  </a:lnTo>
                  <a:close/>
                </a:path>
              </a:pathLst>
            </a:custGeom>
            <a:solidFill>
              <a:srgbClr val="c3cfe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1" name="任意多边形: 形状 61"/>
            <p:cNvSpPr/>
            <p:nvPr/>
          </p:nvSpPr>
          <p:spPr>
            <a:xfrm>
              <a:off x="2017800" y="6147360"/>
              <a:ext cx="8129880" cy="281880"/>
            </a:xfrm>
            <a:custGeom>
              <a:avLst/>
              <a:gdLst>
                <a:gd name="textAreaLeft" fmla="*/ 0 w 8129880"/>
                <a:gd name="textAreaRight" fmla="*/ 8130240 w 8129880"/>
                <a:gd name="textAreaTop" fmla="*/ 0 h 281880"/>
                <a:gd name="textAreaBottom" fmla="*/ 282240 h 281880"/>
              </a:gdLst>
              <a:ahLst/>
              <a:rect l="textAreaLeft" t="textAreaTop" r="textAreaRight" b="textAreaBottom"/>
              <a:pathLst>
                <a:path w="3019425" h="104775">
                  <a:moveTo>
                    <a:pt x="7144" y="7144"/>
                  </a:moveTo>
                  <a:lnTo>
                    <a:pt x="3015139" y="7144"/>
                  </a:lnTo>
                  <a:lnTo>
                    <a:pt x="3015139" y="104299"/>
                  </a:lnTo>
                  <a:lnTo>
                    <a:pt x="7144" y="104299"/>
                  </a:lnTo>
                  <a:lnTo>
                    <a:pt x="7144" y="7144"/>
                  </a:lnTo>
                  <a:close/>
                </a:path>
              </a:pathLst>
            </a:custGeom>
            <a:solidFill>
              <a:srgbClr val="15b0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2" name="任意多边形: 形状 62"/>
            <p:cNvSpPr/>
            <p:nvPr/>
          </p:nvSpPr>
          <p:spPr>
            <a:xfrm>
              <a:off x="6837120" y="3803400"/>
              <a:ext cx="1384920" cy="2615760"/>
            </a:xfrm>
            <a:custGeom>
              <a:avLst/>
              <a:gdLst>
                <a:gd name="textAreaLeft" fmla="*/ 0 w 1384920"/>
                <a:gd name="textAreaRight" fmla="*/ 1385280 w 1384920"/>
                <a:gd name="textAreaTop" fmla="*/ 0 h 2615760"/>
                <a:gd name="textAreaBottom" fmla="*/ 2616120 h 2615760"/>
              </a:gdLst>
              <a:ahLst/>
              <a:rect l="textAreaLeft" t="textAreaTop" r="textAreaRight" b="textAreaBottom"/>
              <a:pathLst>
                <a:path w="514350" h="971550">
                  <a:moveTo>
                    <a:pt x="164306" y="7144"/>
                  </a:moveTo>
                  <a:lnTo>
                    <a:pt x="7144" y="7144"/>
                  </a:lnTo>
                  <a:cubicBezTo>
                    <a:pt x="7144" y="7144"/>
                    <a:pt x="156686" y="834866"/>
                    <a:pt x="156686" y="852964"/>
                  </a:cubicBezTo>
                  <a:cubicBezTo>
                    <a:pt x="156686" y="871061"/>
                    <a:pt x="112871" y="895826"/>
                    <a:pt x="98584" y="928211"/>
                  </a:cubicBezTo>
                  <a:cubicBezTo>
                    <a:pt x="84296" y="960596"/>
                    <a:pt x="89059" y="971074"/>
                    <a:pt x="89059" y="971074"/>
                  </a:cubicBezTo>
                  <a:lnTo>
                    <a:pt x="508159" y="972026"/>
                  </a:lnTo>
                  <a:lnTo>
                    <a:pt x="465296" y="8096"/>
                  </a:lnTo>
                  <a:lnTo>
                    <a:pt x="164306" y="8096"/>
                  </a:lnTo>
                  <a:lnTo>
                    <a:pt x="164306" y="7144"/>
                  </a:lnTo>
                  <a:close/>
                </a:path>
              </a:pathLst>
            </a:custGeom>
            <a:solidFill>
              <a:srgbClr val="c3cfe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3" name="任意多边形: 形状 63"/>
            <p:cNvSpPr/>
            <p:nvPr/>
          </p:nvSpPr>
          <p:spPr>
            <a:xfrm>
              <a:off x="1540800" y="3649320"/>
              <a:ext cx="9207000" cy="179280"/>
            </a:xfrm>
            <a:custGeom>
              <a:avLst/>
              <a:gdLst>
                <a:gd name="textAreaLeft" fmla="*/ 0 w 9207000"/>
                <a:gd name="textAreaRight" fmla="*/ 9207360 w 9207000"/>
                <a:gd name="textAreaTop" fmla="*/ 0 h 179280"/>
                <a:gd name="textAreaBottom" fmla="*/ 179640 h 179280"/>
              </a:gdLst>
              <a:ahLst/>
              <a:rect l="textAreaLeft" t="textAreaTop" r="textAreaRight" b="textAreaBottom"/>
              <a:pathLst>
                <a:path w="3419475" h="66675">
                  <a:moveTo>
                    <a:pt x="3368516" y="64294"/>
                  </a:moveTo>
                  <a:lnTo>
                    <a:pt x="54769" y="64294"/>
                  </a:lnTo>
                  <a:cubicBezTo>
                    <a:pt x="28099" y="64294"/>
                    <a:pt x="7144" y="39529"/>
                    <a:pt x="7144" y="8096"/>
                  </a:cubicBezTo>
                  <a:lnTo>
                    <a:pt x="7144" y="7144"/>
                  </a:lnTo>
                  <a:lnTo>
                    <a:pt x="3416141" y="7144"/>
                  </a:lnTo>
                  <a:lnTo>
                    <a:pt x="3416141" y="8096"/>
                  </a:lnTo>
                  <a:cubicBezTo>
                    <a:pt x="3416141" y="39529"/>
                    <a:pt x="3395186" y="64294"/>
                    <a:pt x="3368516" y="64294"/>
                  </a:cubicBez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4" name="任意多边形: 形状 64"/>
            <p:cNvSpPr/>
            <p:nvPr/>
          </p:nvSpPr>
          <p:spPr>
            <a:xfrm>
              <a:off x="1553760" y="3718800"/>
              <a:ext cx="9181440" cy="102240"/>
            </a:xfrm>
            <a:custGeom>
              <a:avLst/>
              <a:gdLst>
                <a:gd name="textAreaLeft" fmla="*/ 0 w 9181440"/>
                <a:gd name="textAreaRight" fmla="*/ 9181800 w 9181440"/>
                <a:gd name="textAreaTop" fmla="*/ 0 h 102240"/>
                <a:gd name="textAreaBottom" fmla="*/ 102600 h 102240"/>
              </a:gdLst>
              <a:ahLst/>
              <a:rect l="textAreaLeft" t="textAreaTop" r="textAreaRight" b="textAreaBottom"/>
              <a:pathLst>
                <a:path w="3409950" h="38100">
                  <a:moveTo>
                    <a:pt x="3363754" y="38576"/>
                  </a:moveTo>
                  <a:lnTo>
                    <a:pt x="50006" y="38576"/>
                  </a:lnTo>
                  <a:cubicBezTo>
                    <a:pt x="30956" y="38576"/>
                    <a:pt x="14764" y="25241"/>
                    <a:pt x="7144" y="7144"/>
                  </a:cubicBezTo>
                  <a:lnTo>
                    <a:pt x="3406616" y="7144"/>
                  </a:lnTo>
                  <a:cubicBezTo>
                    <a:pt x="3398996" y="26194"/>
                    <a:pt x="3382804" y="38576"/>
                    <a:pt x="3363754" y="38576"/>
                  </a:cubicBezTo>
                  <a:close/>
                </a:path>
              </a:pathLst>
            </a:custGeom>
            <a:solidFill>
              <a:srgbClr val="1726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5" name="任意多边形: 形状 65"/>
            <p:cNvSpPr/>
            <p:nvPr/>
          </p:nvSpPr>
          <p:spPr>
            <a:xfrm>
              <a:off x="376560" y="3734280"/>
              <a:ext cx="410040" cy="1205280"/>
            </a:xfrm>
            <a:custGeom>
              <a:avLst/>
              <a:gdLst>
                <a:gd name="textAreaLeft" fmla="*/ 0 w 410040"/>
                <a:gd name="textAreaRight" fmla="*/ 410400 w 410040"/>
                <a:gd name="textAreaTop" fmla="*/ 0 h 1205280"/>
                <a:gd name="textAreaBottom" fmla="*/ 1205640 h 1205280"/>
              </a:gdLst>
              <a:ahLst/>
              <a:rect l="textAreaLeft" t="textAreaTop" r="textAreaRight" b="textAreaBottom"/>
              <a:pathLst>
                <a:path w="152400" h="447675">
                  <a:moveTo>
                    <a:pt x="130016" y="447199"/>
                  </a:moveTo>
                  <a:cubicBezTo>
                    <a:pt x="140494" y="447199"/>
                    <a:pt x="149066" y="438626"/>
                    <a:pt x="149066" y="428149"/>
                  </a:cubicBezTo>
                  <a:cubicBezTo>
                    <a:pt x="149066" y="417671"/>
                    <a:pt x="140494" y="409099"/>
                    <a:pt x="130016" y="409099"/>
                  </a:cubicBezTo>
                  <a:cubicBezTo>
                    <a:pt x="84296" y="409099"/>
                    <a:pt x="47149" y="371951"/>
                    <a:pt x="47149" y="326231"/>
                  </a:cubicBezTo>
                  <a:lnTo>
                    <a:pt x="45244" y="26194"/>
                  </a:lnTo>
                  <a:cubicBezTo>
                    <a:pt x="45244" y="15716"/>
                    <a:pt x="36671" y="7144"/>
                    <a:pt x="26194" y="7144"/>
                  </a:cubicBezTo>
                  <a:cubicBezTo>
                    <a:pt x="15716" y="7144"/>
                    <a:pt x="7144" y="15716"/>
                    <a:pt x="7144" y="26194"/>
                  </a:cubicBezTo>
                  <a:lnTo>
                    <a:pt x="9049" y="326231"/>
                  </a:lnTo>
                  <a:cubicBezTo>
                    <a:pt x="9049" y="392906"/>
                    <a:pt x="63341" y="447199"/>
                    <a:pt x="130016" y="447199"/>
                  </a:cubicBezTo>
                  <a:close/>
                </a:path>
              </a:pathLst>
            </a:custGeom>
            <a:solidFill>
              <a:srgbClr val="8da3b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6" name="任意多边形: 形状 66"/>
            <p:cNvSpPr/>
            <p:nvPr/>
          </p:nvSpPr>
          <p:spPr>
            <a:xfrm>
              <a:off x="345960" y="2823480"/>
              <a:ext cx="230760" cy="1153800"/>
            </a:xfrm>
            <a:custGeom>
              <a:avLst/>
              <a:gdLst>
                <a:gd name="textAreaLeft" fmla="*/ 0 w 230760"/>
                <a:gd name="textAreaRight" fmla="*/ 231120 w 230760"/>
                <a:gd name="textAreaTop" fmla="*/ 0 h 1153800"/>
                <a:gd name="textAreaBottom" fmla="*/ 1154160 h 1153800"/>
              </a:gdLst>
              <a:ahLst/>
              <a:rect l="textAreaLeft" t="textAreaTop" r="textAreaRight" b="textAreaBottom"/>
              <a:pathLst>
                <a:path w="85725" h="428625">
                  <a:moveTo>
                    <a:pt x="79534" y="385286"/>
                  </a:moveTo>
                  <a:lnTo>
                    <a:pt x="79534" y="43339"/>
                  </a:lnTo>
                  <a:cubicBezTo>
                    <a:pt x="79534" y="23336"/>
                    <a:pt x="63341" y="7144"/>
                    <a:pt x="43339" y="7144"/>
                  </a:cubicBezTo>
                  <a:cubicBezTo>
                    <a:pt x="23336" y="7144"/>
                    <a:pt x="7144" y="23336"/>
                    <a:pt x="7144" y="43339"/>
                  </a:cubicBezTo>
                  <a:lnTo>
                    <a:pt x="7144" y="385286"/>
                  </a:lnTo>
                  <a:cubicBezTo>
                    <a:pt x="7144" y="405289"/>
                    <a:pt x="23336" y="421481"/>
                    <a:pt x="43339" y="421481"/>
                  </a:cubicBezTo>
                  <a:cubicBezTo>
                    <a:pt x="63341" y="422434"/>
                    <a:pt x="79534" y="406241"/>
                    <a:pt x="79534" y="385286"/>
                  </a:cubicBezTo>
                  <a:close/>
                </a:path>
              </a:pathLst>
            </a:custGeom>
            <a:solidFill>
              <a:srgbClr val="0b25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7" name="任意多边形: 形状 67"/>
            <p:cNvSpPr/>
            <p:nvPr/>
          </p:nvSpPr>
          <p:spPr>
            <a:xfrm>
              <a:off x="553680" y="4752360"/>
              <a:ext cx="1513080" cy="230760"/>
            </a:xfrm>
            <a:custGeom>
              <a:avLst/>
              <a:gdLst>
                <a:gd name="textAreaLeft" fmla="*/ 0 w 1513080"/>
                <a:gd name="textAreaRight" fmla="*/ 1513440 w 1513080"/>
                <a:gd name="textAreaTop" fmla="*/ 0 h 230760"/>
                <a:gd name="textAreaBottom" fmla="*/ 231120 h 230760"/>
              </a:gdLst>
              <a:ahLst/>
              <a:rect l="textAreaLeft" t="textAreaTop" r="textAreaRight" b="textAreaBottom"/>
              <a:pathLst>
                <a:path w="561975" h="85725">
                  <a:moveTo>
                    <a:pt x="65246" y="79534"/>
                  </a:moveTo>
                  <a:lnTo>
                    <a:pt x="497681" y="79534"/>
                  </a:lnTo>
                  <a:cubicBezTo>
                    <a:pt x="530066" y="79534"/>
                    <a:pt x="555784" y="63341"/>
                    <a:pt x="555784" y="43339"/>
                  </a:cubicBezTo>
                  <a:cubicBezTo>
                    <a:pt x="555784" y="23336"/>
                    <a:pt x="530066" y="7144"/>
                    <a:pt x="497681" y="7144"/>
                  </a:cubicBezTo>
                  <a:lnTo>
                    <a:pt x="65246" y="7144"/>
                  </a:lnTo>
                  <a:cubicBezTo>
                    <a:pt x="32861" y="7144"/>
                    <a:pt x="7144" y="23336"/>
                    <a:pt x="7144" y="43339"/>
                  </a:cubicBezTo>
                  <a:cubicBezTo>
                    <a:pt x="7144" y="63341"/>
                    <a:pt x="32861" y="79534"/>
                    <a:pt x="65246" y="79534"/>
                  </a:cubicBezTo>
                  <a:close/>
                </a:path>
              </a:pathLst>
            </a:custGeom>
            <a:solidFill>
              <a:srgbClr val="071e3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8" name="任意多边形: 形状 68"/>
            <p:cNvSpPr/>
            <p:nvPr/>
          </p:nvSpPr>
          <p:spPr>
            <a:xfrm>
              <a:off x="1240920" y="5457600"/>
              <a:ext cx="128160" cy="846000"/>
            </a:xfrm>
            <a:custGeom>
              <a:avLst/>
              <a:gdLst>
                <a:gd name="textAreaLeft" fmla="*/ 0 w 128160"/>
                <a:gd name="textAreaRight" fmla="*/ 128520 w 128160"/>
                <a:gd name="textAreaTop" fmla="*/ 0 h 846000"/>
                <a:gd name="textAreaBottom" fmla="*/ 846360 h 846000"/>
              </a:gdLst>
              <a:ahLst/>
              <a:rect l="textAreaLeft" t="textAreaTop" r="textAreaRight" b="textAreaBottom"/>
              <a:pathLst>
                <a:path w="47625" h="314325">
                  <a:moveTo>
                    <a:pt x="7144" y="7144"/>
                  </a:moveTo>
                  <a:lnTo>
                    <a:pt x="45244" y="7144"/>
                  </a:lnTo>
                  <a:lnTo>
                    <a:pt x="45244" y="308134"/>
                  </a:lnTo>
                  <a:lnTo>
                    <a:pt x="7144" y="308134"/>
                  </a:lnTo>
                  <a:lnTo>
                    <a:pt x="7144" y="7144"/>
                  </a:lnTo>
                  <a:close/>
                </a:path>
              </a:pathLst>
            </a:custGeom>
            <a:solidFill>
              <a:srgbClr val="8da3b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49" name="任意多边形: 形状 69"/>
            <p:cNvSpPr/>
            <p:nvPr/>
          </p:nvSpPr>
          <p:spPr>
            <a:xfrm>
              <a:off x="1292040" y="5457600"/>
              <a:ext cx="76680" cy="846000"/>
            </a:xfrm>
            <a:custGeom>
              <a:avLst/>
              <a:gdLst>
                <a:gd name="textAreaLeft" fmla="*/ 0 w 76680"/>
                <a:gd name="textAreaRight" fmla="*/ 77040 w 76680"/>
                <a:gd name="textAreaTop" fmla="*/ 0 h 846000"/>
                <a:gd name="textAreaBottom" fmla="*/ 846360 h 846000"/>
              </a:gdLst>
              <a:ahLst/>
              <a:rect l="textAreaLeft" t="textAreaTop" r="textAreaRight" b="textAreaBottom"/>
              <a:pathLst>
                <a:path w="28575" h="314325">
                  <a:moveTo>
                    <a:pt x="7144" y="7144"/>
                  </a:moveTo>
                  <a:lnTo>
                    <a:pt x="26194" y="7144"/>
                  </a:lnTo>
                  <a:lnTo>
                    <a:pt x="26194" y="308134"/>
                  </a:lnTo>
                  <a:lnTo>
                    <a:pt x="7144" y="308134"/>
                  </a:lnTo>
                  <a:lnTo>
                    <a:pt x="7144" y="7144"/>
                  </a:lnTo>
                  <a:close/>
                </a:path>
              </a:pathLst>
            </a:custGeom>
            <a:solidFill>
              <a:srgbClr val="758ea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0" name="任意多边形: 形状 70"/>
            <p:cNvSpPr/>
            <p:nvPr/>
          </p:nvSpPr>
          <p:spPr>
            <a:xfrm>
              <a:off x="735480" y="6206400"/>
              <a:ext cx="1128240" cy="153720"/>
            </a:xfrm>
            <a:custGeom>
              <a:avLst/>
              <a:gdLst>
                <a:gd name="textAreaLeft" fmla="*/ 0 w 1128240"/>
                <a:gd name="textAreaRight" fmla="*/ 1128600 w 1128240"/>
                <a:gd name="textAreaTop" fmla="*/ 0 h 153720"/>
                <a:gd name="textAreaBottom" fmla="*/ 154080 h 153720"/>
              </a:gdLst>
              <a:ahLst/>
              <a:rect l="textAreaLeft" t="textAreaTop" r="textAreaRight" b="textAreaBottom"/>
              <a:pathLst>
                <a:path w="419100" h="57150">
                  <a:moveTo>
                    <a:pt x="7144" y="54769"/>
                  </a:moveTo>
                  <a:lnTo>
                    <a:pt x="420529" y="54769"/>
                  </a:lnTo>
                  <a:lnTo>
                    <a:pt x="420529" y="30004"/>
                  </a:lnTo>
                  <a:lnTo>
                    <a:pt x="213836" y="7144"/>
                  </a:lnTo>
                  <a:lnTo>
                    <a:pt x="7144" y="30004"/>
                  </a:lnTo>
                  <a:lnTo>
                    <a:pt x="7144" y="54769"/>
                  </a:ln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1" name="任意多边形: 形状 71"/>
            <p:cNvSpPr/>
            <p:nvPr/>
          </p:nvSpPr>
          <p:spPr>
            <a:xfrm>
              <a:off x="661320" y="6262920"/>
              <a:ext cx="179280" cy="179280"/>
            </a:xfrm>
            <a:custGeom>
              <a:avLst/>
              <a:gdLst>
                <a:gd name="textAreaLeft" fmla="*/ 0 w 179280"/>
                <a:gd name="textAreaRight" fmla="*/ 179640 w 179280"/>
                <a:gd name="textAreaTop" fmla="*/ 0 h 179280"/>
                <a:gd name="textAreaBottom" fmla="*/ 179640 h 179280"/>
              </a:gdLst>
              <a:ahLst/>
              <a:rect l="textAreaLeft" t="textAreaTop" r="textAreaRight" b="textAreaBottom"/>
              <a:pathLst>
                <a:path w="66675" h="66675">
                  <a:moveTo>
                    <a:pt x="7144" y="-31722"/>
                  </a:moveTo>
                  <a:cubicBezTo>
                    <a:pt x="7144" y="-16482"/>
                    <a:pt x="19526" y="-5052"/>
                    <a:pt x="-31722" y="-5052"/>
                  </a:cubicBezTo>
                  <a:cubicBezTo>
                    <a:pt x="-17435" y="-5052"/>
                    <a:pt x="-5052" y="-17435"/>
                    <a:pt x="-5052" y="-31722"/>
                  </a:cubicBezTo>
                  <a:cubicBezTo>
                    <a:pt x="-5052" y="18574"/>
                    <a:pt x="-17435" y="7144"/>
                    <a:pt x="-31722" y="7144"/>
                  </a:cubicBezTo>
                  <a:cubicBezTo>
                    <a:pt x="19526" y="7144"/>
                    <a:pt x="7144" y="18574"/>
                    <a:pt x="7144" y="-31722"/>
                  </a:cubicBez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2" name="任意多边形: 形状 72"/>
            <p:cNvSpPr/>
            <p:nvPr/>
          </p:nvSpPr>
          <p:spPr>
            <a:xfrm>
              <a:off x="1774440" y="6262920"/>
              <a:ext cx="179280" cy="179280"/>
            </a:xfrm>
            <a:custGeom>
              <a:avLst/>
              <a:gdLst>
                <a:gd name="textAreaLeft" fmla="*/ 0 w 179280"/>
                <a:gd name="textAreaRight" fmla="*/ 179640 w 179280"/>
                <a:gd name="textAreaTop" fmla="*/ 0 h 179280"/>
                <a:gd name="textAreaBottom" fmla="*/ 179640 h 179280"/>
              </a:gdLst>
              <a:ahLst/>
              <a:rect l="textAreaLeft" t="textAreaTop" r="textAreaRight" b="textAreaBottom"/>
              <a:pathLst>
                <a:path w="66675" h="66675">
                  <a:moveTo>
                    <a:pt x="7144" y="-31722"/>
                  </a:moveTo>
                  <a:cubicBezTo>
                    <a:pt x="7144" y="-16482"/>
                    <a:pt x="19526" y="-5052"/>
                    <a:pt x="-31722" y="-5052"/>
                  </a:cubicBezTo>
                  <a:cubicBezTo>
                    <a:pt x="-16482" y="-5052"/>
                    <a:pt x="-5052" y="-17435"/>
                    <a:pt x="-5052" y="-31722"/>
                  </a:cubicBezTo>
                  <a:cubicBezTo>
                    <a:pt x="-5052" y="18574"/>
                    <a:pt x="-17435" y="7144"/>
                    <a:pt x="-31722" y="7144"/>
                  </a:cubicBezTo>
                  <a:cubicBezTo>
                    <a:pt x="19526" y="7144"/>
                    <a:pt x="7144" y="18574"/>
                    <a:pt x="7144" y="-31722"/>
                  </a:cubicBez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3" name="任意多边形: 形状 73"/>
            <p:cNvSpPr/>
            <p:nvPr/>
          </p:nvSpPr>
          <p:spPr>
            <a:xfrm>
              <a:off x="1179360" y="4896000"/>
              <a:ext cx="256320" cy="666720"/>
            </a:xfrm>
            <a:custGeom>
              <a:avLst/>
              <a:gdLst>
                <a:gd name="textAreaLeft" fmla="*/ 0 w 256320"/>
                <a:gd name="textAreaRight" fmla="*/ 256680 w 256320"/>
                <a:gd name="textAreaTop" fmla="*/ 0 h 666720"/>
                <a:gd name="textAreaBottom" fmla="*/ 667080 h 666720"/>
              </a:gdLst>
              <a:ahLst/>
              <a:rect l="textAreaLeft" t="textAreaTop" r="textAreaRight" b="textAreaBottom"/>
              <a:pathLst>
                <a:path w="95250" h="247650">
                  <a:moveTo>
                    <a:pt x="49054" y="249079"/>
                  </a:moveTo>
                  <a:cubicBezTo>
                    <a:pt x="72866" y="249079"/>
                    <a:pt x="91916" y="230981"/>
                    <a:pt x="91916" y="209074"/>
                  </a:cubicBezTo>
                  <a:lnTo>
                    <a:pt x="91916" y="7144"/>
                  </a:lnTo>
                  <a:lnTo>
                    <a:pt x="7144" y="7144"/>
                  </a:lnTo>
                  <a:lnTo>
                    <a:pt x="7144" y="209074"/>
                  </a:lnTo>
                  <a:cubicBezTo>
                    <a:pt x="7144" y="230981"/>
                    <a:pt x="26194" y="249079"/>
                    <a:pt x="49054" y="249079"/>
                  </a:cubicBezTo>
                  <a:close/>
                </a:path>
              </a:pathLst>
            </a:custGeom>
            <a:solidFill>
              <a:srgbClr val="1a2a3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4" name="任意多边形: 形状 74"/>
            <p:cNvSpPr/>
            <p:nvPr/>
          </p:nvSpPr>
          <p:spPr>
            <a:xfrm>
              <a:off x="1256400" y="4898520"/>
              <a:ext cx="179280" cy="666720"/>
            </a:xfrm>
            <a:custGeom>
              <a:avLst/>
              <a:gdLst>
                <a:gd name="textAreaLeft" fmla="*/ 0 w 179280"/>
                <a:gd name="textAreaRight" fmla="*/ 179640 w 179280"/>
                <a:gd name="textAreaTop" fmla="*/ 0 h 666720"/>
                <a:gd name="textAreaBottom" fmla="*/ 667080 h 666720"/>
              </a:gdLst>
              <a:ahLst/>
              <a:rect l="textAreaLeft" t="textAreaTop" r="textAreaRight" b="textAreaBottom"/>
              <a:pathLst>
                <a:path w="66675" h="247650">
                  <a:moveTo>
                    <a:pt x="36671" y="205264"/>
                  </a:moveTo>
                  <a:lnTo>
                    <a:pt x="36671" y="7144"/>
                  </a:lnTo>
                  <a:lnTo>
                    <a:pt x="63341" y="7144"/>
                  </a:lnTo>
                  <a:lnTo>
                    <a:pt x="63341" y="205264"/>
                  </a:lnTo>
                  <a:cubicBezTo>
                    <a:pt x="63341" y="229076"/>
                    <a:pt x="44291" y="248126"/>
                    <a:pt x="20479" y="248126"/>
                  </a:cubicBezTo>
                  <a:cubicBezTo>
                    <a:pt x="15716" y="248126"/>
                    <a:pt x="10954" y="247174"/>
                    <a:pt x="7144" y="246221"/>
                  </a:cubicBezTo>
                  <a:cubicBezTo>
                    <a:pt x="24289" y="240506"/>
                    <a:pt x="36671" y="224314"/>
                    <a:pt x="36671" y="205264"/>
                  </a:cubicBezTo>
                  <a:close/>
                </a:path>
              </a:pathLst>
            </a:custGeom>
            <a:solidFill>
              <a:srgbClr val="15232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5" name="任意多边形: 形状 75"/>
            <p:cNvSpPr/>
            <p:nvPr/>
          </p:nvSpPr>
          <p:spPr>
            <a:xfrm>
              <a:off x="563760" y="4878000"/>
              <a:ext cx="1487520" cy="102240"/>
            </a:xfrm>
            <a:custGeom>
              <a:avLst/>
              <a:gdLst>
                <a:gd name="textAreaLeft" fmla="*/ 0 w 1487520"/>
                <a:gd name="textAreaRight" fmla="*/ 1487880 w 1487520"/>
                <a:gd name="textAreaTop" fmla="*/ 0 h 102240"/>
                <a:gd name="textAreaBottom" fmla="*/ 102600 h 102240"/>
              </a:gdLst>
              <a:ahLst/>
              <a:rect l="textAreaLeft" t="textAreaTop" r="textAreaRight" b="textAreaBottom"/>
              <a:pathLst>
                <a:path w="552450" h="38100">
                  <a:moveTo>
                    <a:pt x="548164" y="7144"/>
                  </a:moveTo>
                  <a:cubicBezTo>
                    <a:pt x="540544" y="21431"/>
                    <a:pt x="519589" y="32861"/>
                    <a:pt x="493871" y="32861"/>
                  </a:cubicBezTo>
                  <a:lnTo>
                    <a:pt x="61436" y="32861"/>
                  </a:lnTo>
                  <a:cubicBezTo>
                    <a:pt x="35719" y="32861"/>
                    <a:pt x="14764" y="22384"/>
                    <a:pt x="7144" y="7144"/>
                  </a:cubicBezTo>
                  <a:lnTo>
                    <a:pt x="548164" y="7144"/>
                  </a:lnTo>
                  <a:close/>
                </a:path>
              </a:pathLst>
            </a:custGeom>
            <a:solidFill>
              <a:srgbClr val="051b3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6" name="任意多边形: 形状 76"/>
            <p:cNvSpPr/>
            <p:nvPr/>
          </p:nvSpPr>
          <p:spPr>
            <a:xfrm>
              <a:off x="2354040" y="1210320"/>
              <a:ext cx="974520" cy="1230840"/>
            </a:xfrm>
            <a:custGeom>
              <a:avLst/>
              <a:gdLst>
                <a:gd name="textAreaLeft" fmla="*/ 0 w 974520"/>
                <a:gd name="textAreaRight" fmla="*/ 974880 w 974520"/>
                <a:gd name="textAreaTop" fmla="*/ 0 h 1230840"/>
                <a:gd name="textAreaBottom" fmla="*/ 1231200 h 1230840"/>
              </a:gdLst>
              <a:ahLst/>
              <a:rect l="textAreaLeft" t="textAreaTop" r="textAreaRight" b="textAreaBottom"/>
              <a:pathLst>
                <a:path w="361950" h="457200">
                  <a:moveTo>
                    <a:pt x="358616" y="58579"/>
                  </a:moveTo>
                  <a:cubicBezTo>
                    <a:pt x="344329" y="56674"/>
                    <a:pt x="110966" y="7144"/>
                    <a:pt x="110966" y="7144"/>
                  </a:cubicBezTo>
                  <a:lnTo>
                    <a:pt x="11906" y="177641"/>
                  </a:lnTo>
                  <a:lnTo>
                    <a:pt x="7144" y="427196"/>
                  </a:lnTo>
                  <a:lnTo>
                    <a:pt x="216694" y="455771"/>
                  </a:lnTo>
                  <a:lnTo>
                    <a:pt x="358616" y="58579"/>
                  </a:lnTo>
                  <a:close/>
                </a:path>
              </a:pathLst>
            </a:custGeom>
            <a:solidFill>
              <a:srgbClr val="15b0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7" name="任意多边形: 形状 77"/>
            <p:cNvSpPr/>
            <p:nvPr/>
          </p:nvSpPr>
          <p:spPr>
            <a:xfrm>
              <a:off x="1920600" y="977040"/>
              <a:ext cx="743760" cy="1384560"/>
            </a:xfrm>
            <a:custGeom>
              <a:avLst/>
              <a:gdLst>
                <a:gd name="textAreaLeft" fmla="*/ 0 w 743760"/>
                <a:gd name="textAreaRight" fmla="*/ 744120 w 743760"/>
                <a:gd name="textAreaTop" fmla="*/ 0 h 1384560"/>
                <a:gd name="textAreaBottom" fmla="*/ 1384920 h 1384560"/>
              </a:gdLst>
              <a:ahLst/>
              <a:rect l="textAreaLeft" t="textAreaTop" r="textAreaRight" b="textAreaBottom"/>
              <a:pathLst>
                <a:path w="276225" h="514350">
                  <a:moveTo>
                    <a:pt x="271939" y="94774"/>
                  </a:moveTo>
                  <a:cubicBezTo>
                    <a:pt x="257651" y="92869"/>
                    <a:pt x="95726" y="7144"/>
                    <a:pt x="95726" y="7144"/>
                  </a:cubicBezTo>
                  <a:lnTo>
                    <a:pt x="7144" y="432911"/>
                  </a:lnTo>
                  <a:lnTo>
                    <a:pt x="168116" y="514826"/>
                  </a:lnTo>
                  <a:lnTo>
                    <a:pt x="271939" y="94774"/>
                  </a:lnTo>
                  <a:close/>
                </a:path>
              </a:pathLst>
            </a:custGeom>
            <a:solidFill>
              <a:srgbClr val="1ad2b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8" name="任意多边形: 形状 78"/>
            <p:cNvSpPr/>
            <p:nvPr/>
          </p:nvSpPr>
          <p:spPr>
            <a:xfrm>
              <a:off x="2079360" y="2087280"/>
              <a:ext cx="128160" cy="204840"/>
            </a:xfrm>
            <a:custGeom>
              <a:avLst/>
              <a:gdLst>
                <a:gd name="textAreaLeft" fmla="*/ 0 w 128160"/>
                <a:gd name="textAreaRight" fmla="*/ 128520 w 128160"/>
                <a:gd name="textAreaTop" fmla="*/ 0 h 204840"/>
                <a:gd name="textAreaBottom" fmla="*/ 205200 h 204840"/>
              </a:gdLst>
              <a:ahLst/>
              <a:rect l="textAreaLeft" t="textAreaTop" r="textAreaRight" b="textAreaBottom"/>
              <a:pathLst>
                <a:path w="47625" h="76200">
                  <a:moveTo>
                    <a:pt x="34766" y="10165"/>
                  </a:moveTo>
                  <a:cubicBezTo>
                    <a:pt x="42386" y="1593"/>
                    <a:pt x="50006" y="13023"/>
                    <a:pt x="46196" y="22548"/>
                  </a:cubicBezTo>
                  <a:cubicBezTo>
                    <a:pt x="42386" y="32073"/>
                    <a:pt x="31909" y="63505"/>
                    <a:pt x="26194" y="73983"/>
                  </a:cubicBezTo>
                  <a:cubicBezTo>
                    <a:pt x="20479" y="84460"/>
                    <a:pt x="7144" y="73983"/>
                    <a:pt x="7144" y="67315"/>
                  </a:cubicBezTo>
                  <a:cubicBezTo>
                    <a:pt x="7144" y="55885"/>
                    <a:pt x="27146" y="17785"/>
                    <a:pt x="34766" y="10165"/>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59" name="任意多边形: 形状 79"/>
            <p:cNvSpPr/>
            <p:nvPr/>
          </p:nvSpPr>
          <p:spPr>
            <a:xfrm>
              <a:off x="2133360" y="2081880"/>
              <a:ext cx="153720" cy="230760"/>
            </a:xfrm>
            <a:custGeom>
              <a:avLst/>
              <a:gdLst>
                <a:gd name="textAreaLeft" fmla="*/ 0 w 153720"/>
                <a:gd name="textAreaRight" fmla="*/ 154080 w 153720"/>
                <a:gd name="textAreaTop" fmla="*/ 0 h 230760"/>
                <a:gd name="textAreaBottom" fmla="*/ 231120 h 230760"/>
              </a:gdLst>
              <a:ahLst/>
              <a:rect l="textAreaLeft" t="textAreaTop" r="textAreaRight" b="textAreaBottom"/>
              <a:pathLst>
                <a:path w="57150" h="85725">
                  <a:moveTo>
                    <a:pt x="38576" y="10165"/>
                  </a:moveTo>
                  <a:cubicBezTo>
                    <a:pt x="46196" y="1593"/>
                    <a:pt x="53816" y="13023"/>
                    <a:pt x="50006" y="22548"/>
                  </a:cubicBezTo>
                  <a:cubicBezTo>
                    <a:pt x="46196" y="32073"/>
                    <a:pt x="31909" y="72078"/>
                    <a:pt x="26194" y="82555"/>
                  </a:cubicBezTo>
                  <a:cubicBezTo>
                    <a:pt x="20479" y="93033"/>
                    <a:pt x="7144" y="82555"/>
                    <a:pt x="7144" y="75888"/>
                  </a:cubicBezTo>
                  <a:cubicBezTo>
                    <a:pt x="7144" y="65410"/>
                    <a:pt x="30956" y="18738"/>
                    <a:pt x="38576" y="10165"/>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0" name="任意多边形: 形状 80"/>
            <p:cNvSpPr/>
            <p:nvPr/>
          </p:nvSpPr>
          <p:spPr>
            <a:xfrm>
              <a:off x="2187360" y="2125800"/>
              <a:ext cx="128160" cy="204840"/>
            </a:xfrm>
            <a:custGeom>
              <a:avLst/>
              <a:gdLst>
                <a:gd name="textAreaLeft" fmla="*/ 0 w 128160"/>
                <a:gd name="textAreaRight" fmla="*/ 128520 w 128160"/>
                <a:gd name="textAreaTop" fmla="*/ 0 h 204840"/>
                <a:gd name="textAreaBottom" fmla="*/ 205200 h 204840"/>
              </a:gdLst>
              <a:ahLst/>
              <a:rect l="textAreaLeft" t="textAreaTop" r="textAreaRight" b="textAreaBottom"/>
              <a:pathLst>
                <a:path w="47625" h="76200">
                  <a:moveTo>
                    <a:pt x="34766" y="10165"/>
                  </a:moveTo>
                  <a:cubicBezTo>
                    <a:pt x="42386" y="1593"/>
                    <a:pt x="50006" y="13023"/>
                    <a:pt x="46196" y="22548"/>
                  </a:cubicBezTo>
                  <a:cubicBezTo>
                    <a:pt x="42386" y="32073"/>
                    <a:pt x="31909" y="63505"/>
                    <a:pt x="26194" y="73983"/>
                  </a:cubicBezTo>
                  <a:cubicBezTo>
                    <a:pt x="20479" y="84460"/>
                    <a:pt x="7144" y="73983"/>
                    <a:pt x="7144" y="67315"/>
                  </a:cubicBezTo>
                  <a:cubicBezTo>
                    <a:pt x="7144" y="56838"/>
                    <a:pt x="27146" y="18738"/>
                    <a:pt x="34766" y="10165"/>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1" name="任意多边形: 形状 81"/>
            <p:cNvSpPr/>
            <p:nvPr/>
          </p:nvSpPr>
          <p:spPr>
            <a:xfrm>
              <a:off x="2235960" y="2169720"/>
              <a:ext cx="128160" cy="204840"/>
            </a:xfrm>
            <a:custGeom>
              <a:avLst/>
              <a:gdLst>
                <a:gd name="textAreaLeft" fmla="*/ 0 w 128160"/>
                <a:gd name="textAreaRight" fmla="*/ 128520 w 128160"/>
                <a:gd name="textAreaTop" fmla="*/ 0 h 204840"/>
                <a:gd name="textAreaBottom" fmla="*/ 205200 h 204840"/>
              </a:gdLst>
              <a:ahLst/>
              <a:rect l="textAreaLeft" t="textAreaTop" r="textAreaRight" b="textAreaBottom"/>
              <a:pathLst>
                <a:path w="47625" h="76200">
                  <a:moveTo>
                    <a:pt x="30992" y="9929"/>
                  </a:moveTo>
                  <a:cubicBezTo>
                    <a:pt x="37660" y="2309"/>
                    <a:pt x="44327" y="11834"/>
                    <a:pt x="41470" y="20406"/>
                  </a:cubicBezTo>
                  <a:cubicBezTo>
                    <a:pt x="37660" y="28979"/>
                    <a:pt x="29087" y="56601"/>
                    <a:pt x="24325" y="66126"/>
                  </a:cubicBezTo>
                  <a:cubicBezTo>
                    <a:pt x="19562" y="74699"/>
                    <a:pt x="7180" y="66126"/>
                    <a:pt x="7180" y="59459"/>
                  </a:cubicBezTo>
                  <a:cubicBezTo>
                    <a:pt x="6227" y="51839"/>
                    <a:pt x="24325" y="17549"/>
                    <a:pt x="30992" y="9929"/>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2" name="任意多边形: 形状 82"/>
            <p:cNvSpPr/>
            <p:nvPr/>
          </p:nvSpPr>
          <p:spPr>
            <a:xfrm>
              <a:off x="3060360" y="803520"/>
              <a:ext cx="179280" cy="256320"/>
            </a:xfrm>
            <a:custGeom>
              <a:avLst/>
              <a:gdLst>
                <a:gd name="textAreaLeft" fmla="*/ 0 w 179280"/>
                <a:gd name="textAreaRight" fmla="*/ 179640 w 179280"/>
                <a:gd name="textAreaTop" fmla="*/ 0 h 256320"/>
                <a:gd name="textAreaBottom" fmla="*/ 256680 h 256320"/>
              </a:gdLst>
              <a:ahLst/>
              <a:rect l="textAreaLeft" t="textAreaTop" r="textAreaRight" b="textAreaBottom"/>
              <a:pathLst>
                <a:path w="66675" h="95250">
                  <a:moveTo>
                    <a:pt x="61041" y="24914"/>
                  </a:moveTo>
                  <a:cubicBezTo>
                    <a:pt x="61041" y="24914"/>
                    <a:pt x="51516" y="15389"/>
                    <a:pt x="44848" y="12532"/>
                  </a:cubicBezTo>
                  <a:cubicBezTo>
                    <a:pt x="38181" y="9674"/>
                    <a:pt x="22941" y="149"/>
                    <a:pt x="11511" y="16342"/>
                  </a:cubicBezTo>
                  <a:cubicBezTo>
                    <a:pt x="81" y="32534"/>
                    <a:pt x="13416" y="83017"/>
                    <a:pt x="24846" y="91589"/>
                  </a:cubicBezTo>
                  <a:cubicBezTo>
                    <a:pt x="36276" y="100162"/>
                    <a:pt x="46753" y="97304"/>
                    <a:pt x="49611" y="90637"/>
                  </a:cubicBezTo>
                  <a:cubicBezTo>
                    <a:pt x="52468" y="83969"/>
                    <a:pt x="59136" y="66824"/>
                    <a:pt x="59136" y="66824"/>
                  </a:cubicBezTo>
                  <a:lnTo>
                    <a:pt x="61041" y="24914"/>
                  </a:ln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3" name="任意多边形: 形状 83"/>
            <p:cNvSpPr/>
            <p:nvPr/>
          </p:nvSpPr>
          <p:spPr>
            <a:xfrm>
              <a:off x="3093840" y="839160"/>
              <a:ext cx="102240" cy="204840"/>
            </a:xfrm>
            <a:custGeom>
              <a:avLst/>
              <a:gdLst>
                <a:gd name="textAreaLeft" fmla="*/ 0 w 102240"/>
                <a:gd name="textAreaRight" fmla="*/ 102600 w 102240"/>
                <a:gd name="textAreaTop" fmla="*/ 0 h 204840"/>
                <a:gd name="textAreaBottom" fmla="*/ 205200 h 204840"/>
              </a:gdLst>
              <a:ahLst/>
              <a:rect l="textAreaLeft" t="textAreaTop" r="textAreaRight" b="textAreaBottom"/>
              <a:pathLst>
                <a:path w="38100" h="76200">
                  <a:moveTo>
                    <a:pt x="10429" y="9817"/>
                  </a:moveTo>
                  <a:cubicBezTo>
                    <a:pt x="1857" y="18390"/>
                    <a:pt x="12334" y="61252"/>
                    <a:pt x="16144" y="66967"/>
                  </a:cubicBezTo>
                  <a:cubicBezTo>
                    <a:pt x="19954" y="72682"/>
                    <a:pt x="30432" y="72682"/>
                    <a:pt x="33289" y="66015"/>
                  </a:cubicBezTo>
                  <a:cubicBezTo>
                    <a:pt x="36147" y="59347"/>
                    <a:pt x="35194" y="54585"/>
                    <a:pt x="31384" y="46965"/>
                  </a:cubicBezTo>
                  <a:cubicBezTo>
                    <a:pt x="27574" y="39345"/>
                    <a:pt x="38052" y="41250"/>
                    <a:pt x="39957" y="34582"/>
                  </a:cubicBezTo>
                  <a:cubicBezTo>
                    <a:pt x="41862" y="22200"/>
                    <a:pt x="19954" y="-660"/>
                    <a:pt x="10429" y="9817"/>
                  </a:cubicBezTo>
                  <a:close/>
                </a:path>
              </a:pathLst>
            </a:custGeom>
            <a:solidFill>
              <a:srgbClr val="c8a1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4" name="任意多边形: 形状 84"/>
            <p:cNvSpPr/>
            <p:nvPr/>
          </p:nvSpPr>
          <p:spPr>
            <a:xfrm>
              <a:off x="5616360" y="3385080"/>
              <a:ext cx="974520" cy="281880"/>
            </a:xfrm>
            <a:custGeom>
              <a:avLst/>
              <a:gdLst>
                <a:gd name="textAreaLeft" fmla="*/ 0 w 974520"/>
                <a:gd name="textAreaRight" fmla="*/ 974880 w 974520"/>
                <a:gd name="textAreaTop" fmla="*/ 0 h 281880"/>
                <a:gd name="textAreaBottom" fmla="*/ 282240 h 281880"/>
              </a:gdLst>
              <a:ahLst/>
              <a:rect l="textAreaLeft" t="textAreaTop" r="textAreaRight" b="textAreaBottom"/>
              <a:pathLst>
                <a:path w="361950" h="104775">
                  <a:moveTo>
                    <a:pt x="331946" y="105291"/>
                  </a:moveTo>
                  <a:lnTo>
                    <a:pt x="20479" y="105291"/>
                  </a:lnTo>
                  <a:lnTo>
                    <a:pt x="7144" y="57666"/>
                  </a:lnTo>
                  <a:cubicBezTo>
                    <a:pt x="87154" y="39568"/>
                    <a:pt x="162401" y="29091"/>
                    <a:pt x="242411" y="10993"/>
                  </a:cubicBezTo>
                  <a:cubicBezTo>
                    <a:pt x="345281" y="-9009"/>
                    <a:pt x="387191" y="52903"/>
                    <a:pt x="331946" y="105291"/>
                  </a:cubicBezTo>
                  <a:close/>
                </a:path>
              </a:pathLst>
            </a:custGeom>
            <a:solidFill>
              <a:srgbClr val="394c8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5" name="任意多边形: 形状 85"/>
            <p:cNvSpPr/>
            <p:nvPr/>
          </p:nvSpPr>
          <p:spPr>
            <a:xfrm>
              <a:off x="4859640" y="2828880"/>
              <a:ext cx="1179720" cy="846000"/>
            </a:xfrm>
            <a:custGeom>
              <a:avLst/>
              <a:gdLst>
                <a:gd name="textAreaLeft" fmla="*/ 0 w 1179720"/>
                <a:gd name="textAreaRight" fmla="*/ 1180080 w 1179720"/>
                <a:gd name="textAreaTop" fmla="*/ 0 h 846000"/>
                <a:gd name="textAreaBottom" fmla="*/ 846360 h 846000"/>
              </a:gdLst>
              <a:ahLst/>
              <a:rect l="textAreaLeft" t="textAreaTop" r="textAreaRight" b="textAreaBottom"/>
              <a:pathLst>
                <a:path w="438150" h="314325">
                  <a:moveTo>
                    <a:pt x="7144" y="7144"/>
                  </a:moveTo>
                  <a:lnTo>
                    <a:pt x="431006" y="7144"/>
                  </a:lnTo>
                  <a:lnTo>
                    <a:pt x="431006" y="310991"/>
                  </a:lnTo>
                  <a:lnTo>
                    <a:pt x="7144" y="310991"/>
                  </a:lnTo>
                  <a:lnTo>
                    <a:pt x="7144" y="7144"/>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6" name="任意多边形: 形状 86"/>
            <p:cNvSpPr/>
            <p:nvPr/>
          </p:nvSpPr>
          <p:spPr>
            <a:xfrm>
              <a:off x="4859640" y="3577680"/>
              <a:ext cx="1179720" cy="102240"/>
            </a:xfrm>
            <a:custGeom>
              <a:avLst/>
              <a:gdLst>
                <a:gd name="textAreaLeft" fmla="*/ 0 w 1179720"/>
                <a:gd name="textAreaRight" fmla="*/ 1180080 w 1179720"/>
                <a:gd name="textAreaTop" fmla="*/ 0 h 102240"/>
                <a:gd name="textAreaBottom" fmla="*/ 102600 h 102240"/>
              </a:gdLst>
              <a:ahLst/>
              <a:rect l="textAreaLeft" t="textAreaTop" r="textAreaRight" b="textAreaBottom"/>
              <a:pathLst>
                <a:path w="438150" h="38100">
                  <a:moveTo>
                    <a:pt x="7144" y="7144"/>
                  </a:moveTo>
                  <a:lnTo>
                    <a:pt x="431006" y="7144"/>
                  </a:lnTo>
                  <a:lnTo>
                    <a:pt x="431006" y="33814"/>
                  </a:lnTo>
                  <a:lnTo>
                    <a:pt x="7144" y="33814"/>
                  </a:lnTo>
                  <a:lnTo>
                    <a:pt x="7144" y="7144"/>
                  </a:lnTo>
                  <a:close/>
                </a:path>
              </a:pathLst>
            </a:custGeom>
            <a:solidFill>
              <a:srgbClr val="2b405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7" name="任意多边形: 形状 87"/>
            <p:cNvSpPr/>
            <p:nvPr/>
          </p:nvSpPr>
          <p:spPr>
            <a:xfrm>
              <a:off x="6921720" y="936000"/>
              <a:ext cx="897480" cy="794880"/>
            </a:xfrm>
            <a:custGeom>
              <a:avLst/>
              <a:gdLst>
                <a:gd name="textAreaLeft" fmla="*/ 0 w 897480"/>
                <a:gd name="textAreaRight" fmla="*/ 897840 w 897480"/>
                <a:gd name="textAreaTop" fmla="*/ 0 h 794880"/>
                <a:gd name="textAreaBottom" fmla="*/ 795240 h 794880"/>
              </a:gdLst>
              <a:ahLst/>
              <a:rect l="textAreaLeft" t="textAreaTop" r="textAreaRight" b="textAreaBottom"/>
              <a:pathLst>
                <a:path w="333375" h="295275">
                  <a:moveTo>
                    <a:pt x="232886" y="32861"/>
                  </a:moveTo>
                  <a:cubicBezTo>
                    <a:pt x="233839" y="46196"/>
                    <a:pt x="234791" y="110966"/>
                    <a:pt x="239554" y="141446"/>
                  </a:cubicBezTo>
                  <a:cubicBezTo>
                    <a:pt x="244316" y="171926"/>
                    <a:pt x="256699" y="199549"/>
                    <a:pt x="275749" y="219551"/>
                  </a:cubicBezTo>
                  <a:cubicBezTo>
                    <a:pt x="294799" y="239554"/>
                    <a:pt x="334804" y="224314"/>
                    <a:pt x="334804" y="224314"/>
                  </a:cubicBezTo>
                  <a:cubicBezTo>
                    <a:pt x="334804" y="224314"/>
                    <a:pt x="294799" y="249079"/>
                    <a:pt x="223361" y="275749"/>
                  </a:cubicBezTo>
                  <a:cubicBezTo>
                    <a:pt x="152876" y="303371"/>
                    <a:pt x="7144" y="279559"/>
                    <a:pt x="7144" y="279559"/>
                  </a:cubicBezTo>
                  <a:cubicBezTo>
                    <a:pt x="7144" y="279559"/>
                    <a:pt x="69056" y="230981"/>
                    <a:pt x="73819" y="208121"/>
                  </a:cubicBezTo>
                  <a:cubicBezTo>
                    <a:pt x="78581" y="185261"/>
                    <a:pt x="76676" y="185261"/>
                    <a:pt x="76676" y="185261"/>
                  </a:cubicBezTo>
                  <a:lnTo>
                    <a:pt x="82391" y="7144"/>
                  </a:lnTo>
                  <a:lnTo>
                    <a:pt x="232886" y="32861"/>
                  </a:ln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8" name="任意多边形: 形状 88"/>
            <p:cNvSpPr/>
            <p:nvPr/>
          </p:nvSpPr>
          <p:spPr>
            <a:xfrm>
              <a:off x="6775920" y="289080"/>
              <a:ext cx="871920" cy="1000080"/>
            </a:xfrm>
            <a:custGeom>
              <a:avLst/>
              <a:gdLst>
                <a:gd name="textAreaLeft" fmla="*/ 0 w 871920"/>
                <a:gd name="textAreaRight" fmla="*/ 872280 w 871920"/>
                <a:gd name="textAreaTop" fmla="*/ 0 h 1000080"/>
                <a:gd name="textAreaBottom" fmla="*/ 1000440 h 1000080"/>
              </a:gdLst>
              <a:ahLst/>
              <a:rect l="textAreaLeft" t="textAreaTop" r="textAreaRight" b="textAreaBottom"/>
              <a:pathLst>
                <a:path w="323850" h="371475">
                  <a:moveTo>
                    <a:pt x="245071" y="18900"/>
                  </a:moveTo>
                  <a:cubicBezTo>
                    <a:pt x="144106" y="-11580"/>
                    <a:pt x="56476" y="19852"/>
                    <a:pt x="24091" y="82717"/>
                  </a:cubicBezTo>
                  <a:cubicBezTo>
                    <a:pt x="-8294" y="145582"/>
                    <a:pt x="15518" y="176062"/>
                    <a:pt x="16471" y="195112"/>
                  </a:cubicBezTo>
                  <a:cubicBezTo>
                    <a:pt x="17423" y="205590"/>
                    <a:pt x="37426" y="229402"/>
                    <a:pt x="45046" y="251310"/>
                  </a:cubicBezTo>
                  <a:cubicBezTo>
                    <a:pt x="50761" y="266550"/>
                    <a:pt x="54571" y="277980"/>
                    <a:pt x="54571" y="277980"/>
                  </a:cubicBezTo>
                  <a:cubicBezTo>
                    <a:pt x="41236" y="195112"/>
                    <a:pt x="61238" y="202732"/>
                    <a:pt x="89813" y="266550"/>
                  </a:cubicBezTo>
                  <a:cubicBezTo>
                    <a:pt x="104101" y="297982"/>
                    <a:pt x="101243" y="345607"/>
                    <a:pt x="158393" y="361800"/>
                  </a:cubicBezTo>
                  <a:cubicBezTo>
                    <a:pt x="215543" y="378945"/>
                    <a:pt x="274598" y="366562"/>
                    <a:pt x="288886" y="340845"/>
                  </a:cubicBezTo>
                  <a:cubicBezTo>
                    <a:pt x="337463" y="255120"/>
                    <a:pt x="346988" y="49380"/>
                    <a:pt x="245071" y="18900"/>
                  </a:cubicBez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69" name="任意多边形: 形状 89"/>
            <p:cNvSpPr/>
            <p:nvPr/>
          </p:nvSpPr>
          <p:spPr>
            <a:xfrm>
              <a:off x="4249080" y="284940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180975" h="123825">
                  <a:moveTo>
                    <a:pt x="7144" y="56674"/>
                  </a:moveTo>
                  <a:cubicBezTo>
                    <a:pt x="14764" y="89059"/>
                    <a:pt x="17621" y="100489"/>
                    <a:pt x="53816" y="120491"/>
                  </a:cubicBezTo>
                  <a:cubicBezTo>
                    <a:pt x="68104" y="128111"/>
                    <a:pt x="124301" y="90011"/>
                    <a:pt x="124301" y="90011"/>
                  </a:cubicBezTo>
                  <a:cubicBezTo>
                    <a:pt x="124301" y="90011"/>
                    <a:pt x="169069" y="135731"/>
                    <a:pt x="177641" y="123349"/>
                  </a:cubicBezTo>
                  <a:cubicBezTo>
                    <a:pt x="184309" y="112871"/>
                    <a:pt x="128111" y="52864"/>
                    <a:pt x="112871" y="38576"/>
                  </a:cubicBezTo>
                  <a:cubicBezTo>
                    <a:pt x="103346" y="29051"/>
                    <a:pt x="55721" y="7144"/>
                    <a:pt x="55721" y="7144"/>
                  </a:cubicBezTo>
                  <a:cubicBezTo>
                    <a:pt x="38576" y="21431"/>
                    <a:pt x="24289" y="42386"/>
                    <a:pt x="7144" y="56674"/>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0" name="任意多边形: 形状 90"/>
            <p:cNvSpPr/>
            <p:nvPr/>
          </p:nvSpPr>
          <p:spPr>
            <a:xfrm>
              <a:off x="7236720" y="6085800"/>
              <a:ext cx="461520" cy="333360"/>
            </a:xfrm>
            <a:custGeom>
              <a:avLst/>
              <a:gdLst>
                <a:gd name="textAreaLeft" fmla="*/ 0 w 461520"/>
                <a:gd name="textAreaRight" fmla="*/ 461880 w 461520"/>
                <a:gd name="textAreaTop" fmla="*/ 0 h 333360"/>
                <a:gd name="textAreaBottom" fmla="*/ 333720 h 333360"/>
              </a:gdLst>
              <a:ahLst/>
              <a:rect l="textAreaLeft" t="textAreaTop" r="textAreaRight" b="textAreaBottom"/>
              <a:pathLst>
                <a:path w="171450" h="123825">
                  <a:moveTo>
                    <a:pt x="71080" y="7144"/>
                  </a:moveTo>
                  <a:cubicBezTo>
                    <a:pt x="62508" y="24289"/>
                    <a:pt x="60603" y="39529"/>
                    <a:pt x="54888" y="43339"/>
                  </a:cubicBezTo>
                  <a:cubicBezTo>
                    <a:pt x="49173" y="47149"/>
                    <a:pt x="29170" y="56674"/>
                    <a:pt x="16788" y="78581"/>
                  </a:cubicBezTo>
                  <a:cubicBezTo>
                    <a:pt x="5358" y="100489"/>
                    <a:pt x="7263" y="123349"/>
                    <a:pt x="7263" y="123349"/>
                  </a:cubicBezTo>
                  <a:lnTo>
                    <a:pt x="168236" y="123349"/>
                  </a:lnTo>
                  <a:cubicBezTo>
                    <a:pt x="168236" y="123349"/>
                    <a:pt x="172045" y="97631"/>
                    <a:pt x="166330" y="72866"/>
                  </a:cubicBezTo>
                  <a:cubicBezTo>
                    <a:pt x="160615" y="47149"/>
                    <a:pt x="153948" y="30004"/>
                    <a:pt x="153948" y="30004"/>
                  </a:cubicBezTo>
                  <a:lnTo>
                    <a:pt x="71080" y="7144"/>
                  </a:ln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1" name="任意多边形: 形状 91"/>
            <p:cNvSpPr/>
            <p:nvPr/>
          </p:nvSpPr>
          <p:spPr>
            <a:xfrm>
              <a:off x="7034400" y="1295280"/>
              <a:ext cx="641160" cy="281880"/>
            </a:xfrm>
            <a:custGeom>
              <a:avLst/>
              <a:gdLst>
                <a:gd name="textAreaLeft" fmla="*/ 0 w 641160"/>
                <a:gd name="textAreaRight" fmla="*/ 641520 w 641160"/>
                <a:gd name="textAreaTop" fmla="*/ 0 h 281880"/>
                <a:gd name="textAreaBottom" fmla="*/ 282240 h 281880"/>
              </a:gdLst>
              <a:ahLst/>
              <a:rect l="textAreaLeft" t="textAreaTop" r="textAreaRight" b="textAreaBottom"/>
              <a:pathLst>
                <a:path w="238125" h="104775">
                  <a:moveTo>
                    <a:pt x="212884" y="7144"/>
                  </a:moveTo>
                  <a:cubicBezTo>
                    <a:pt x="188119" y="9049"/>
                    <a:pt x="23336" y="33814"/>
                    <a:pt x="23336" y="33814"/>
                  </a:cubicBezTo>
                  <a:lnTo>
                    <a:pt x="7144" y="101441"/>
                  </a:lnTo>
                  <a:lnTo>
                    <a:pt x="56674" y="92869"/>
                  </a:lnTo>
                  <a:lnTo>
                    <a:pt x="238601" y="75724"/>
                  </a:lnTo>
                  <a:lnTo>
                    <a:pt x="212884" y="7144"/>
                  </a:lnTo>
                  <a:close/>
                </a:path>
              </a:pathLst>
            </a:custGeom>
            <a:solidFill>
              <a:srgbClr val="95575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2" name="任意多边形: 形状 92"/>
            <p:cNvSpPr/>
            <p:nvPr/>
          </p:nvSpPr>
          <p:spPr>
            <a:xfrm>
              <a:off x="8370720" y="3398040"/>
              <a:ext cx="281880" cy="256320"/>
            </a:xfrm>
            <a:custGeom>
              <a:avLst/>
              <a:gdLst>
                <a:gd name="textAreaLeft" fmla="*/ 0 w 281880"/>
                <a:gd name="textAreaRight" fmla="*/ 282240 w 281880"/>
                <a:gd name="textAreaTop" fmla="*/ 0 h 256320"/>
                <a:gd name="textAreaBottom" fmla="*/ 256680 h 256320"/>
              </a:gdLst>
              <a:ahLst/>
              <a:rect l="textAreaLeft" t="textAreaTop" r="textAreaRight" b="textAreaBottom"/>
              <a:pathLst>
                <a:path w="104775" h="95250">
                  <a:moveTo>
                    <a:pt x="30004" y="7144"/>
                  </a:moveTo>
                  <a:cubicBezTo>
                    <a:pt x="27146" y="26194"/>
                    <a:pt x="27146" y="60484"/>
                    <a:pt x="27146" y="60484"/>
                  </a:cubicBezTo>
                  <a:cubicBezTo>
                    <a:pt x="27146" y="60484"/>
                    <a:pt x="7144" y="90964"/>
                    <a:pt x="7144" y="93821"/>
                  </a:cubicBezTo>
                  <a:cubicBezTo>
                    <a:pt x="7144" y="96679"/>
                    <a:pt x="90964" y="98584"/>
                    <a:pt x="94774" y="95726"/>
                  </a:cubicBezTo>
                  <a:cubicBezTo>
                    <a:pt x="98584" y="92869"/>
                    <a:pt x="99536" y="80486"/>
                    <a:pt x="91916" y="63341"/>
                  </a:cubicBezTo>
                  <a:cubicBezTo>
                    <a:pt x="83344" y="46196"/>
                    <a:pt x="83344" y="44291"/>
                    <a:pt x="83344" y="44291"/>
                  </a:cubicBezTo>
                  <a:lnTo>
                    <a:pt x="30004" y="9049"/>
                  </a:lnTo>
                  <a:lnTo>
                    <a:pt x="30004" y="7144"/>
                  </a:ln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3" name="任意多边形: 形状 93"/>
            <p:cNvSpPr/>
            <p:nvPr/>
          </p:nvSpPr>
          <p:spPr>
            <a:xfrm>
              <a:off x="7806600" y="1577160"/>
              <a:ext cx="794880" cy="2000160"/>
            </a:xfrm>
            <a:custGeom>
              <a:avLst/>
              <a:gdLst>
                <a:gd name="textAreaLeft" fmla="*/ 0 w 794880"/>
                <a:gd name="textAreaRight" fmla="*/ 795240 w 794880"/>
                <a:gd name="textAreaTop" fmla="*/ 0 h 2000160"/>
                <a:gd name="textAreaBottom" fmla="*/ 2000520 h 2000160"/>
              </a:gdLst>
              <a:ahLst/>
              <a:rect l="textAreaLeft" t="textAreaTop" r="textAreaRight" b="textAreaBottom"/>
              <a:pathLst>
                <a:path w="295275" h="742950">
                  <a:moveTo>
                    <a:pt x="7144" y="50959"/>
                  </a:moveTo>
                  <a:cubicBezTo>
                    <a:pt x="35719" y="30004"/>
                    <a:pt x="118586" y="7144"/>
                    <a:pt x="118586" y="7144"/>
                  </a:cubicBezTo>
                  <a:cubicBezTo>
                    <a:pt x="118586" y="7144"/>
                    <a:pt x="193834" y="79534"/>
                    <a:pt x="198596" y="130969"/>
                  </a:cubicBezTo>
                  <a:cubicBezTo>
                    <a:pt x="202406" y="182404"/>
                    <a:pt x="294799" y="728186"/>
                    <a:pt x="294799" y="728186"/>
                  </a:cubicBezTo>
                  <a:lnTo>
                    <a:pt x="237649" y="735806"/>
                  </a:lnTo>
                  <a:lnTo>
                    <a:pt x="67151" y="102394"/>
                  </a:lnTo>
                  <a:lnTo>
                    <a:pt x="7144" y="50959"/>
                  </a:lnTo>
                  <a:close/>
                </a:path>
              </a:pathLst>
            </a:custGeom>
            <a:solidFill>
              <a:srgbClr val="82504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4" name="任意多边形: 形状 94"/>
            <p:cNvSpPr/>
            <p:nvPr/>
          </p:nvSpPr>
          <p:spPr>
            <a:xfrm>
              <a:off x="7792200" y="6073200"/>
              <a:ext cx="564120" cy="358920"/>
            </a:xfrm>
            <a:custGeom>
              <a:avLst/>
              <a:gdLst>
                <a:gd name="textAreaLeft" fmla="*/ 0 w 564120"/>
                <a:gd name="textAreaRight" fmla="*/ 564480 w 564120"/>
                <a:gd name="textAreaTop" fmla="*/ 0 h 358920"/>
                <a:gd name="textAreaBottom" fmla="*/ 359280 h 358920"/>
              </a:gdLst>
              <a:ahLst/>
              <a:rect l="textAreaLeft" t="textAreaTop" r="textAreaRight" b="textAreaBottom"/>
              <a:pathLst>
                <a:path w="209550" h="133350">
                  <a:moveTo>
                    <a:pt x="19131" y="10001"/>
                  </a:moveTo>
                  <a:cubicBezTo>
                    <a:pt x="16273" y="23336"/>
                    <a:pt x="9606" y="53816"/>
                    <a:pt x="8653" y="62389"/>
                  </a:cubicBezTo>
                  <a:cubicBezTo>
                    <a:pt x="7700" y="70961"/>
                    <a:pt x="5795" y="128111"/>
                    <a:pt x="8653" y="128111"/>
                  </a:cubicBezTo>
                  <a:cubicBezTo>
                    <a:pt x="20083" y="128111"/>
                    <a:pt x="208678" y="130969"/>
                    <a:pt x="208678" y="128111"/>
                  </a:cubicBezTo>
                  <a:cubicBezTo>
                    <a:pt x="209631" y="122396"/>
                    <a:pt x="209631" y="94774"/>
                    <a:pt x="195343" y="80486"/>
                  </a:cubicBezTo>
                  <a:cubicBezTo>
                    <a:pt x="181056" y="66199"/>
                    <a:pt x="162958" y="71914"/>
                    <a:pt x="138193" y="50006"/>
                  </a:cubicBezTo>
                  <a:cubicBezTo>
                    <a:pt x="113428" y="28099"/>
                    <a:pt x="97235" y="7144"/>
                    <a:pt x="97235" y="7144"/>
                  </a:cubicBezTo>
                  <a:lnTo>
                    <a:pt x="19131" y="10001"/>
                  </a:ln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5" name="任意多边形: 形状 95"/>
            <p:cNvSpPr/>
            <p:nvPr/>
          </p:nvSpPr>
          <p:spPr>
            <a:xfrm>
              <a:off x="7054920" y="2724120"/>
              <a:ext cx="1205280" cy="3539160"/>
            </a:xfrm>
            <a:custGeom>
              <a:avLst/>
              <a:gdLst>
                <a:gd name="textAreaLeft" fmla="*/ 0 w 1205280"/>
                <a:gd name="textAreaRight" fmla="*/ 1205640 w 1205280"/>
                <a:gd name="textAreaTop" fmla="*/ 0 h 3539160"/>
                <a:gd name="textAreaBottom" fmla="*/ 3539520 h 3539160"/>
              </a:gdLst>
              <a:ahLst/>
              <a:rect l="textAreaLeft" t="textAreaTop" r="textAreaRight" b="textAreaBottom"/>
              <a:pathLst>
                <a:path w="447675" h="1314450">
                  <a:moveTo>
                    <a:pt x="13897" y="350823"/>
                  </a:moveTo>
                  <a:cubicBezTo>
                    <a:pt x="-28966" y="-143525"/>
                    <a:pt x="456809" y="-73040"/>
                    <a:pt x="441569" y="361300"/>
                  </a:cubicBezTo>
                  <a:cubicBezTo>
                    <a:pt x="432997" y="599425"/>
                    <a:pt x="392992" y="1049958"/>
                    <a:pt x="383467" y="1210930"/>
                  </a:cubicBezTo>
                  <a:cubicBezTo>
                    <a:pt x="383467" y="1216645"/>
                    <a:pt x="400612" y="1286177"/>
                    <a:pt x="399659" y="1286177"/>
                  </a:cubicBezTo>
                  <a:cubicBezTo>
                    <a:pt x="392992" y="1287130"/>
                    <a:pt x="275834" y="1307133"/>
                    <a:pt x="275834" y="1307133"/>
                  </a:cubicBezTo>
                  <a:lnTo>
                    <a:pt x="278692" y="1231885"/>
                  </a:lnTo>
                  <a:lnTo>
                    <a:pt x="246307" y="536560"/>
                  </a:lnTo>
                  <a:lnTo>
                    <a:pt x="243449" y="545132"/>
                  </a:lnTo>
                  <a:lnTo>
                    <a:pt x="232019" y="1279510"/>
                  </a:lnTo>
                  <a:lnTo>
                    <a:pt x="232019" y="1308085"/>
                  </a:lnTo>
                  <a:lnTo>
                    <a:pt x="114862" y="1299513"/>
                  </a:lnTo>
                  <a:cubicBezTo>
                    <a:pt x="113909" y="1287130"/>
                    <a:pt x="124387" y="1254745"/>
                    <a:pt x="122482" y="1242363"/>
                  </a:cubicBezTo>
                  <a:cubicBezTo>
                    <a:pt x="77714" y="865173"/>
                    <a:pt x="30089" y="648955"/>
                    <a:pt x="8182" y="454645"/>
                  </a:cubicBezTo>
                  <a:cubicBezTo>
                    <a:pt x="3419" y="420355"/>
                    <a:pt x="16754" y="386065"/>
                    <a:pt x="13897" y="350823"/>
                  </a:cubicBez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6" name="任意多边形: 形状 96"/>
            <p:cNvSpPr/>
            <p:nvPr/>
          </p:nvSpPr>
          <p:spPr>
            <a:xfrm>
              <a:off x="7050960" y="3828960"/>
              <a:ext cx="641160" cy="2410560"/>
            </a:xfrm>
            <a:custGeom>
              <a:avLst/>
              <a:gdLst>
                <a:gd name="textAreaLeft" fmla="*/ 0 w 641160"/>
                <a:gd name="textAreaRight" fmla="*/ 641520 w 641160"/>
                <a:gd name="textAreaTop" fmla="*/ 0 h 2410560"/>
                <a:gd name="textAreaBottom" fmla="*/ 2410920 h 2410560"/>
              </a:gdLst>
              <a:ahLst/>
              <a:rect l="textAreaLeft" t="textAreaTop" r="textAreaRight" b="textAreaBottom"/>
              <a:pathLst>
                <a:path w="238125" h="895350">
                  <a:moveTo>
                    <a:pt x="233512" y="769144"/>
                  </a:moveTo>
                  <a:lnTo>
                    <a:pt x="231607" y="867251"/>
                  </a:lnTo>
                  <a:lnTo>
                    <a:pt x="231607" y="895826"/>
                  </a:lnTo>
                  <a:lnTo>
                    <a:pt x="114449" y="887254"/>
                  </a:lnTo>
                  <a:cubicBezTo>
                    <a:pt x="113497" y="874871"/>
                    <a:pt x="123974" y="842486"/>
                    <a:pt x="122069" y="830104"/>
                  </a:cubicBezTo>
                  <a:cubicBezTo>
                    <a:pt x="77302" y="452914"/>
                    <a:pt x="29677" y="236696"/>
                    <a:pt x="7769" y="42386"/>
                  </a:cubicBezTo>
                  <a:cubicBezTo>
                    <a:pt x="6817" y="30956"/>
                    <a:pt x="6817" y="19526"/>
                    <a:pt x="8722" y="7144"/>
                  </a:cubicBezTo>
                  <a:lnTo>
                    <a:pt x="101114" y="529114"/>
                  </a:lnTo>
                  <a:lnTo>
                    <a:pt x="149692" y="859631"/>
                  </a:lnTo>
                  <a:cubicBezTo>
                    <a:pt x="149692" y="859631"/>
                    <a:pt x="185887" y="883444"/>
                    <a:pt x="203032" y="862489"/>
                  </a:cubicBezTo>
                  <a:cubicBezTo>
                    <a:pt x="227797" y="834866"/>
                    <a:pt x="234464" y="760571"/>
                    <a:pt x="233512" y="769144"/>
                  </a:cubicBezTo>
                  <a:close/>
                </a:path>
              </a:pathLst>
            </a:custGeom>
            <a:solidFill>
              <a:srgbClr val="1b2d3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7" name="任意多边形: 形状 97"/>
            <p:cNvSpPr/>
            <p:nvPr/>
          </p:nvSpPr>
          <p:spPr>
            <a:xfrm>
              <a:off x="6626880" y="1477800"/>
              <a:ext cx="1666800" cy="2359440"/>
            </a:xfrm>
            <a:custGeom>
              <a:avLst/>
              <a:gdLst>
                <a:gd name="textAreaLeft" fmla="*/ 0 w 1666800"/>
                <a:gd name="textAreaRight" fmla="*/ 1667160 w 1666800"/>
                <a:gd name="textAreaTop" fmla="*/ 0 h 2359440"/>
                <a:gd name="textAreaBottom" fmla="*/ 2359800 h 2359440"/>
              </a:gdLst>
              <a:ahLst/>
              <a:rect l="textAreaLeft" t="textAreaTop" r="textAreaRight" b="textAreaBottom"/>
              <a:pathLst>
                <a:path w="619125" h="876300">
                  <a:moveTo>
                    <a:pt x="409099" y="9739"/>
                  </a:moveTo>
                  <a:cubicBezTo>
                    <a:pt x="458629" y="21169"/>
                    <a:pt x="508159" y="32600"/>
                    <a:pt x="556736" y="44030"/>
                  </a:cubicBezTo>
                  <a:cubicBezTo>
                    <a:pt x="551974" y="442175"/>
                    <a:pt x="563404" y="559332"/>
                    <a:pt x="616744" y="822222"/>
                  </a:cubicBezTo>
                  <a:cubicBezTo>
                    <a:pt x="464344" y="866990"/>
                    <a:pt x="307181" y="882230"/>
                    <a:pt x="165259" y="870800"/>
                  </a:cubicBezTo>
                  <a:cubicBezTo>
                    <a:pt x="134779" y="405980"/>
                    <a:pt x="94774" y="336447"/>
                    <a:pt x="7144" y="111657"/>
                  </a:cubicBezTo>
                  <a:cubicBezTo>
                    <a:pt x="50006" y="85939"/>
                    <a:pt x="93821" y="61175"/>
                    <a:pt x="136684" y="35457"/>
                  </a:cubicBezTo>
                  <a:cubicBezTo>
                    <a:pt x="227171" y="23075"/>
                    <a:pt x="318611" y="-738"/>
                    <a:pt x="409099" y="9739"/>
                  </a:cubicBezTo>
                  <a:close/>
                </a:path>
              </a:pathLst>
            </a:custGeom>
            <a:solidFill>
              <a:srgbClr val="82504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8" name="任意多边形: 形状 98"/>
            <p:cNvSpPr/>
            <p:nvPr/>
          </p:nvSpPr>
          <p:spPr>
            <a:xfrm>
              <a:off x="5889600" y="1694520"/>
              <a:ext cx="358920" cy="461520"/>
            </a:xfrm>
            <a:custGeom>
              <a:avLst/>
              <a:gdLst>
                <a:gd name="textAreaLeft" fmla="*/ 0 w 358920"/>
                <a:gd name="textAreaRight" fmla="*/ 359280 w 358920"/>
                <a:gd name="textAreaTop" fmla="*/ 0 h 461520"/>
                <a:gd name="textAreaBottom" fmla="*/ 461880 h 461520"/>
              </a:gdLst>
              <a:ahLst/>
              <a:rect l="textAreaLeft" t="textAreaTop" r="textAreaRight" b="textAreaBottom"/>
              <a:pathLst>
                <a:path w="133350" h="171450">
                  <a:moveTo>
                    <a:pt x="88548" y="90326"/>
                  </a:moveTo>
                  <a:cubicBezTo>
                    <a:pt x="86643" y="86516"/>
                    <a:pt x="58068" y="58893"/>
                    <a:pt x="43781" y="40796"/>
                  </a:cubicBezTo>
                  <a:cubicBezTo>
                    <a:pt x="29493" y="22698"/>
                    <a:pt x="13301" y="1743"/>
                    <a:pt x="7586" y="8411"/>
                  </a:cubicBezTo>
                  <a:cubicBezTo>
                    <a:pt x="1871" y="15078"/>
                    <a:pt x="53306" y="80801"/>
                    <a:pt x="61878" y="100803"/>
                  </a:cubicBezTo>
                  <a:cubicBezTo>
                    <a:pt x="70451" y="120806"/>
                    <a:pt x="98073" y="165573"/>
                    <a:pt x="108551" y="165573"/>
                  </a:cubicBezTo>
                  <a:cubicBezTo>
                    <a:pt x="119028" y="165573"/>
                    <a:pt x="131411" y="159858"/>
                    <a:pt x="127601" y="145571"/>
                  </a:cubicBezTo>
                  <a:cubicBezTo>
                    <a:pt x="123791" y="132236"/>
                    <a:pt x="88548" y="90326"/>
                    <a:pt x="88548" y="90326"/>
                  </a:cubicBezTo>
                  <a:close/>
                </a:path>
              </a:pathLst>
            </a:custGeom>
            <a:solidFill>
              <a:srgbClr val="d4b9c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79" name="任意多边形: 形状 99"/>
            <p:cNvSpPr/>
            <p:nvPr/>
          </p:nvSpPr>
          <p:spPr>
            <a:xfrm>
              <a:off x="5805360" y="1682640"/>
              <a:ext cx="410040" cy="384480"/>
            </a:xfrm>
            <a:custGeom>
              <a:avLst/>
              <a:gdLst>
                <a:gd name="textAreaLeft" fmla="*/ 0 w 410040"/>
                <a:gd name="textAreaRight" fmla="*/ 410400 w 410040"/>
                <a:gd name="textAreaTop" fmla="*/ 0 h 384480"/>
                <a:gd name="textAreaBottom" fmla="*/ 384840 h 384480"/>
              </a:gdLst>
              <a:ahLst/>
              <a:rect l="textAreaLeft" t="textAreaTop" r="textAreaRight" b="textAreaBottom"/>
              <a:pathLst>
                <a:path w="152400" h="142875">
                  <a:moveTo>
                    <a:pt x="102576" y="77554"/>
                  </a:moveTo>
                  <a:cubicBezTo>
                    <a:pt x="73048" y="51836"/>
                    <a:pt x="64476" y="36596"/>
                    <a:pt x="53046" y="28024"/>
                  </a:cubicBezTo>
                  <a:cubicBezTo>
                    <a:pt x="40663" y="19451"/>
                    <a:pt x="10183" y="1354"/>
                    <a:pt x="7326" y="8974"/>
                  </a:cubicBezTo>
                  <a:cubicBezTo>
                    <a:pt x="3516" y="17546"/>
                    <a:pt x="60666" y="68981"/>
                    <a:pt x="73048" y="86126"/>
                  </a:cubicBezTo>
                  <a:cubicBezTo>
                    <a:pt x="86383" y="103271"/>
                    <a:pt x="124483" y="140419"/>
                    <a:pt x="134961" y="137561"/>
                  </a:cubicBezTo>
                  <a:cubicBezTo>
                    <a:pt x="145438" y="134704"/>
                    <a:pt x="154963" y="126131"/>
                    <a:pt x="148296" y="112796"/>
                  </a:cubicBezTo>
                  <a:cubicBezTo>
                    <a:pt x="141628" y="101366"/>
                    <a:pt x="102576" y="77554"/>
                    <a:pt x="102576" y="77554"/>
                  </a:cubicBezTo>
                  <a:close/>
                </a:path>
              </a:pathLst>
            </a:custGeom>
            <a:solidFill>
              <a:srgbClr val="d4b9c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0" name="任意多边形: 形状 100"/>
            <p:cNvSpPr/>
            <p:nvPr/>
          </p:nvSpPr>
          <p:spPr>
            <a:xfrm>
              <a:off x="5721120" y="1655280"/>
              <a:ext cx="487080" cy="384480"/>
            </a:xfrm>
            <a:custGeom>
              <a:avLst/>
              <a:gdLst>
                <a:gd name="textAreaLeft" fmla="*/ 0 w 487080"/>
                <a:gd name="textAreaRight" fmla="*/ 487440 w 487080"/>
                <a:gd name="textAreaTop" fmla="*/ 0 h 384480"/>
                <a:gd name="textAreaBottom" fmla="*/ 384840 h 384480"/>
              </a:gdLst>
              <a:ahLst/>
              <a:rect l="textAreaLeft" t="textAreaTop" r="textAreaRight" b="textAreaBottom"/>
              <a:pathLst>
                <a:path w="180975" h="142875">
                  <a:moveTo>
                    <a:pt x="108196" y="83885"/>
                  </a:moveTo>
                  <a:cubicBezTo>
                    <a:pt x="105338" y="81027"/>
                    <a:pt x="72953" y="40070"/>
                    <a:pt x="53903" y="26735"/>
                  </a:cubicBezTo>
                  <a:cubicBezTo>
                    <a:pt x="34853" y="13400"/>
                    <a:pt x="10088" y="1970"/>
                    <a:pt x="7231" y="9590"/>
                  </a:cubicBezTo>
                  <a:cubicBezTo>
                    <a:pt x="4373" y="18162"/>
                    <a:pt x="72953" y="75312"/>
                    <a:pt x="87241" y="92457"/>
                  </a:cubicBezTo>
                  <a:cubicBezTo>
                    <a:pt x="100576" y="109602"/>
                    <a:pt x="141533" y="143892"/>
                    <a:pt x="151058" y="141035"/>
                  </a:cubicBezTo>
                  <a:cubicBezTo>
                    <a:pt x="161535" y="138177"/>
                    <a:pt x="192016" y="81980"/>
                    <a:pt x="161535" y="96267"/>
                  </a:cubicBezTo>
                  <a:cubicBezTo>
                    <a:pt x="131056" y="110555"/>
                    <a:pt x="108196" y="83885"/>
                    <a:pt x="108196" y="83885"/>
                  </a:cubicBezTo>
                  <a:close/>
                </a:path>
              </a:pathLst>
            </a:custGeom>
            <a:solidFill>
              <a:srgbClr val="d4b9c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1" name="任意多边形: 形状 101"/>
            <p:cNvSpPr/>
            <p:nvPr/>
          </p:nvSpPr>
          <p:spPr>
            <a:xfrm>
              <a:off x="5733720" y="1682280"/>
              <a:ext cx="538560" cy="538560"/>
            </a:xfrm>
            <a:custGeom>
              <a:avLst/>
              <a:gdLst>
                <a:gd name="textAreaLeft" fmla="*/ 0 w 538560"/>
                <a:gd name="textAreaRight" fmla="*/ 538920 w 538560"/>
                <a:gd name="textAreaTop" fmla="*/ 0 h 538560"/>
                <a:gd name="textAreaBottom" fmla="*/ 538920 h 538560"/>
              </a:gdLst>
              <a:ahLst/>
              <a:rect l="textAreaLeft" t="textAreaTop" r="textAreaRight" b="textAreaBottom"/>
              <a:pathLst>
                <a:path w="200025" h="200025">
                  <a:moveTo>
                    <a:pt x="168349" y="197650"/>
                  </a:moveTo>
                  <a:cubicBezTo>
                    <a:pt x="155967" y="188125"/>
                    <a:pt x="105484" y="131928"/>
                    <a:pt x="89292" y="114783"/>
                  </a:cubicBezTo>
                  <a:cubicBezTo>
                    <a:pt x="83577" y="108115"/>
                    <a:pt x="-7863" y="6198"/>
                    <a:pt x="9282" y="7150"/>
                  </a:cubicBezTo>
                  <a:cubicBezTo>
                    <a:pt x="46429" y="8103"/>
                    <a:pt x="121677" y="111925"/>
                    <a:pt x="142632" y="82398"/>
                  </a:cubicBezTo>
                  <a:cubicBezTo>
                    <a:pt x="145489" y="77635"/>
                    <a:pt x="137869" y="56681"/>
                    <a:pt x="137869" y="40488"/>
                  </a:cubicBezTo>
                  <a:cubicBezTo>
                    <a:pt x="137869" y="16675"/>
                    <a:pt x="156919" y="4293"/>
                    <a:pt x="157872" y="18581"/>
                  </a:cubicBezTo>
                  <a:cubicBezTo>
                    <a:pt x="160729" y="55728"/>
                    <a:pt x="200734" y="133833"/>
                    <a:pt x="197877" y="156693"/>
                  </a:cubicBezTo>
                  <a:cubicBezTo>
                    <a:pt x="196924" y="179553"/>
                    <a:pt x="168349" y="197650"/>
                    <a:pt x="168349" y="197650"/>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2" name="任意多边形: 形状 102"/>
            <p:cNvSpPr/>
            <p:nvPr/>
          </p:nvSpPr>
          <p:spPr>
            <a:xfrm>
              <a:off x="6067800" y="1670760"/>
              <a:ext cx="871920" cy="1282320"/>
            </a:xfrm>
            <a:custGeom>
              <a:avLst/>
              <a:gdLst>
                <a:gd name="textAreaLeft" fmla="*/ 0 w 871920"/>
                <a:gd name="textAreaRight" fmla="*/ 872280 w 871920"/>
                <a:gd name="textAreaTop" fmla="*/ 0 h 1282320"/>
                <a:gd name="textAreaBottom" fmla="*/ 1282680 h 1282320"/>
              </a:gdLst>
              <a:ahLst/>
              <a:rect l="textAreaLeft" t="textAreaTop" r="textAreaRight" b="textAreaBottom"/>
              <a:pathLst>
                <a:path w="323850" h="476250">
                  <a:moveTo>
                    <a:pt x="270986" y="7625"/>
                  </a:moveTo>
                  <a:cubicBezTo>
                    <a:pt x="215741" y="26675"/>
                    <a:pt x="204311" y="40962"/>
                    <a:pt x="195739" y="74300"/>
                  </a:cubicBezTo>
                  <a:cubicBezTo>
                    <a:pt x="181451" y="135260"/>
                    <a:pt x="187166" y="226700"/>
                    <a:pt x="175736" y="282897"/>
                  </a:cubicBezTo>
                  <a:cubicBezTo>
                    <a:pt x="137636" y="236225"/>
                    <a:pt x="106204" y="186695"/>
                    <a:pt x="68104" y="139070"/>
                  </a:cubicBezTo>
                  <a:cubicBezTo>
                    <a:pt x="53816" y="151452"/>
                    <a:pt x="21431" y="179075"/>
                    <a:pt x="7144" y="190505"/>
                  </a:cubicBezTo>
                  <a:cubicBezTo>
                    <a:pt x="44291" y="274325"/>
                    <a:pt x="140494" y="488637"/>
                    <a:pt x="224314" y="471492"/>
                  </a:cubicBezTo>
                  <a:cubicBezTo>
                    <a:pt x="370046" y="260990"/>
                    <a:pt x="310039" y="-5710"/>
                    <a:pt x="270986" y="7625"/>
                  </a:cubicBezTo>
                  <a:close/>
                </a:path>
              </a:pathLst>
            </a:custGeom>
            <a:solidFill>
              <a:srgbClr val="82504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3" name="任意多边形: 形状 103"/>
            <p:cNvSpPr/>
            <p:nvPr/>
          </p:nvSpPr>
          <p:spPr>
            <a:xfrm>
              <a:off x="11402280" y="3723840"/>
              <a:ext cx="410040" cy="1205280"/>
            </a:xfrm>
            <a:custGeom>
              <a:avLst/>
              <a:gdLst>
                <a:gd name="textAreaLeft" fmla="*/ 0 w 410040"/>
                <a:gd name="textAreaRight" fmla="*/ 410400 w 410040"/>
                <a:gd name="textAreaTop" fmla="*/ 0 h 1205280"/>
                <a:gd name="textAreaBottom" fmla="*/ 1205640 h 1205280"/>
              </a:gdLst>
              <a:ahLst/>
              <a:rect l="textAreaLeft" t="textAreaTop" r="textAreaRight" b="textAreaBottom"/>
              <a:pathLst>
                <a:path w="152400" h="447675">
                  <a:moveTo>
                    <a:pt x="26194" y="447199"/>
                  </a:moveTo>
                  <a:cubicBezTo>
                    <a:pt x="15716" y="447199"/>
                    <a:pt x="7144" y="438626"/>
                    <a:pt x="7144" y="428149"/>
                  </a:cubicBezTo>
                  <a:cubicBezTo>
                    <a:pt x="7144" y="417671"/>
                    <a:pt x="15716" y="409099"/>
                    <a:pt x="26194" y="409099"/>
                  </a:cubicBezTo>
                  <a:cubicBezTo>
                    <a:pt x="71914" y="409099"/>
                    <a:pt x="109061" y="371951"/>
                    <a:pt x="109061" y="326231"/>
                  </a:cubicBezTo>
                  <a:lnTo>
                    <a:pt x="110966" y="26194"/>
                  </a:lnTo>
                  <a:cubicBezTo>
                    <a:pt x="110966" y="15716"/>
                    <a:pt x="119539" y="7144"/>
                    <a:pt x="130016" y="7144"/>
                  </a:cubicBezTo>
                  <a:cubicBezTo>
                    <a:pt x="140494" y="7144"/>
                    <a:pt x="149066" y="15716"/>
                    <a:pt x="149066" y="26194"/>
                  </a:cubicBezTo>
                  <a:lnTo>
                    <a:pt x="147161" y="326231"/>
                  </a:lnTo>
                  <a:cubicBezTo>
                    <a:pt x="147161" y="392906"/>
                    <a:pt x="92869" y="447199"/>
                    <a:pt x="26194" y="447199"/>
                  </a:cubicBezTo>
                  <a:close/>
                </a:path>
              </a:pathLst>
            </a:custGeom>
            <a:solidFill>
              <a:srgbClr val="8da3b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4" name="任意多边形: 形状 104"/>
            <p:cNvSpPr/>
            <p:nvPr/>
          </p:nvSpPr>
          <p:spPr>
            <a:xfrm>
              <a:off x="11620080" y="2815920"/>
              <a:ext cx="230760" cy="1153800"/>
            </a:xfrm>
            <a:custGeom>
              <a:avLst/>
              <a:gdLst>
                <a:gd name="textAreaLeft" fmla="*/ 0 w 230760"/>
                <a:gd name="textAreaRight" fmla="*/ 231120 w 230760"/>
                <a:gd name="textAreaTop" fmla="*/ 0 h 1153800"/>
                <a:gd name="textAreaBottom" fmla="*/ 1154160 h 1153800"/>
              </a:gdLst>
              <a:ahLst/>
              <a:rect l="textAreaLeft" t="textAreaTop" r="textAreaRight" b="textAreaBottom"/>
              <a:pathLst>
                <a:path w="85725" h="428625">
                  <a:moveTo>
                    <a:pt x="7144" y="385286"/>
                  </a:moveTo>
                  <a:lnTo>
                    <a:pt x="7144" y="43339"/>
                  </a:lnTo>
                  <a:cubicBezTo>
                    <a:pt x="7144" y="23336"/>
                    <a:pt x="23336" y="7144"/>
                    <a:pt x="43339" y="7144"/>
                  </a:cubicBezTo>
                  <a:cubicBezTo>
                    <a:pt x="63341" y="7144"/>
                    <a:pt x="79534" y="23336"/>
                    <a:pt x="79534" y="43339"/>
                  </a:cubicBezTo>
                  <a:lnTo>
                    <a:pt x="79534" y="385286"/>
                  </a:lnTo>
                  <a:cubicBezTo>
                    <a:pt x="79534" y="405289"/>
                    <a:pt x="63341" y="421481"/>
                    <a:pt x="43339" y="421481"/>
                  </a:cubicBezTo>
                  <a:cubicBezTo>
                    <a:pt x="23336" y="421481"/>
                    <a:pt x="7144" y="405289"/>
                    <a:pt x="7144" y="385286"/>
                  </a:cubicBezTo>
                  <a:close/>
                </a:path>
              </a:pathLst>
            </a:custGeom>
            <a:solidFill>
              <a:srgbClr val="0b25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5" name="任意多边形: 形状 105"/>
            <p:cNvSpPr/>
            <p:nvPr/>
          </p:nvSpPr>
          <p:spPr>
            <a:xfrm>
              <a:off x="10130040" y="4741920"/>
              <a:ext cx="1513080" cy="230760"/>
            </a:xfrm>
            <a:custGeom>
              <a:avLst/>
              <a:gdLst>
                <a:gd name="textAreaLeft" fmla="*/ 0 w 1513080"/>
                <a:gd name="textAreaRight" fmla="*/ 1513440 w 1513080"/>
                <a:gd name="textAreaTop" fmla="*/ 0 h 230760"/>
                <a:gd name="textAreaBottom" fmla="*/ 231120 h 230760"/>
              </a:gdLst>
              <a:ahLst/>
              <a:rect l="textAreaLeft" t="textAreaTop" r="textAreaRight" b="textAreaBottom"/>
              <a:pathLst>
                <a:path w="561975" h="85725">
                  <a:moveTo>
                    <a:pt x="497681" y="79534"/>
                  </a:moveTo>
                  <a:lnTo>
                    <a:pt x="65246" y="79534"/>
                  </a:lnTo>
                  <a:cubicBezTo>
                    <a:pt x="32861" y="79534"/>
                    <a:pt x="7144" y="63341"/>
                    <a:pt x="7144" y="43339"/>
                  </a:cubicBezTo>
                  <a:cubicBezTo>
                    <a:pt x="7144" y="23336"/>
                    <a:pt x="32861" y="7144"/>
                    <a:pt x="65246" y="7144"/>
                  </a:cubicBezTo>
                  <a:lnTo>
                    <a:pt x="497681" y="7144"/>
                  </a:lnTo>
                  <a:cubicBezTo>
                    <a:pt x="530066" y="7144"/>
                    <a:pt x="555784" y="23336"/>
                    <a:pt x="555784" y="43339"/>
                  </a:cubicBezTo>
                  <a:cubicBezTo>
                    <a:pt x="555784" y="63341"/>
                    <a:pt x="529114" y="79534"/>
                    <a:pt x="497681" y="79534"/>
                  </a:cubicBezTo>
                  <a:close/>
                </a:path>
              </a:pathLst>
            </a:custGeom>
            <a:solidFill>
              <a:srgbClr val="0b25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6" name="任意多边形: 形状 106"/>
            <p:cNvSpPr/>
            <p:nvPr/>
          </p:nvSpPr>
          <p:spPr>
            <a:xfrm>
              <a:off x="10814760" y="5449680"/>
              <a:ext cx="128160" cy="846000"/>
            </a:xfrm>
            <a:custGeom>
              <a:avLst/>
              <a:gdLst>
                <a:gd name="textAreaLeft" fmla="*/ 0 w 128160"/>
                <a:gd name="textAreaRight" fmla="*/ 128520 w 128160"/>
                <a:gd name="textAreaTop" fmla="*/ 0 h 846000"/>
                <a:gd name="textAreaBottom" fmla="*/ 846360 h 846000"/>
              </a:gdLst>
              <a:ahLst/>
              <a:rect l="textAreaLeft" t="textAreaTop" r="textAreaRight" b="textAreaBottom"/>
              <a:pathLst>
                <a:path w="47625" h="314325">
                  <a:moveTo>
                    <a:pt x="7144" y="7144"/>
                  </a:moveTo>
                  <a:lnTo>
                    <a:pt x="45244" y="7144"/>
                  </a:lnTo>
                  <a:lnTo>
                    <a:pt x="45244" y="308134"/>
                  </a:lnTo>
                  <a:lnTo>
                    <a:pt x="7144" y="308134"/>
                  </a:lnTo>
                  <a:lnTo>
                    <a:pt x="7144" y="7144"/>
                  </a:lnTo>
                  <a:close/>
                </a:path>
              </a:pathLst>
            </a:custGeom>
            <a:solidFill>
              <a:srgbClr val="8da3b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7" name="任意多边形: 形状 107"/>
            <p:cNvSpPr/>
            <p:nvPr/>
          </p:nvSpPr>
          <p:spPr>
            <a:xfrm>
              <a:off x="10814760" y="5449680"/>
              <a:ext cx="76680" cy="846000"/>
            </a:xfrm>
            <a:custGeom>
              <a:avLst/>
              <a:gdLst>
                <a:gd name="textAreaLeft" fmla="*/ 0 w 76680"/>
                <a:gd name="textAreaRight" fmla="*/ 77040 w 76680"/>
                <a:gd name="textAreaTop" fmla="*/ 0 h 846000"/>
                <a:gd name="textAreaBottom" fmla="*/ 846360 h 846000"/>
              </a:gdLst>
              <a:ahLst/>
              <a:rect l="textAreaLeft" t="textAreaTop" r="textAreaRight" b="textAreaBottom"/>
              <a:pathLst>
                <a:path w="28575" h="314325">
                  <a:moveTo>
                    <a:pt x="7144" y="7144"/>
                  </a:moveTo>
                  <a:lnTo>
                    <a:pt x="26194" y="7144"/>
                  </a:lnTo>
                  <a:lnTo>
                    <a:pt x="26194" y="308134"/>
                  </a:lnTo>
                  <a:lnTo>
                    <a:pt x="7144" y="308134"/>
                  </a:lnTo>
                  <a:lnTo>
                    <a:pt x="7144" y="7144"/>
                  </a:lnTo>
                  <a:close/>
                </a:path>
              </a:pathLst>
            </a:custGeom>
            <a:solidFill>
              <a:srgbClr val="758ea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8" name="任意多边形: 形状 108"/>
            <p:cNvSpPr/>
            <p:nvPr/>
          </p:nvSpPr>
          <p:spPr>
            <a:xfrm>
              <a:off x="10312200" y="6196320"/>
              <a:ext cx="1128240" cy="153720"/>
            </a:xfrm>
            <a:custGeom>
              <a:avLst/>
              <a:gdLst>
                <a:gd name="textAreaLeft" fmla="*/ 0 w 1128240"/>
                <a:gd name="textAreaRight" fmla="*/ 1128600 w 1128240"/>
                <a:gd name="textAreaTop" fmla="*/ 0 h 153720"/>
                <a:gd name="textAreaBottom" fmla="*/ 154080 h 153720"/>
              </a:gdLst>
              <a:ahLst/>
              <a:rect l="textAreaLeft" t="textAreaTop" r="textAreaRight" b="textAreaBottom"/>
              <a:pathLst>
                <a:path w="419100" h="57150">
                  <a:moveTo>
                    <a:pt x="420529" y="55721"/>
                  </a:moveTo>
                  <a:lnTo>
                    <a:pt x="7144" y="55721"/>
                  </a:lnTo>
                  <a:lnTo>
                    <a:pt x="7144" y="30004"/>
                  </a:lnTo>
                  <a:lnTo>
                    <a:pt x="212884" y="7144"/>
                  </a:lnTo>
                  <a:lnTo>
                    <a:pt x="420529" y="30004"/>
                  </a:lnTo>
                  <a:lnTo>
                    <a:pt x="420529" y="55721"/>
                  </a:ln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89" name="任意多边形: 形状 109"/>
            <p:cNvSpPr/>
            <p:nvPr/>
          </p:nvSpPr>
          <p:spPr>
            <a:xfrm>
              <a:off x="11356200" y="6255000"/>
              <a:ext cx="179280" cy="179280"/>
            </a:xfrm>
            <a:custGeom>
              <a:avLst/>
              <a:gdLst>
                <a:gd name="textAreaLeft" fmla="*/ 0 w 179280"/>
                <a:gd name="textAreaRight" fmla="*/ 179640 w 179280"/>
                <a:gd name="textAreaTop" fmla="*/ 0 h 179280"/>
                <a:gd name="textAreaBottom" fmla="*/ 179640 h 179280"/>
              </a:gdLst>
              <a:ahLst/>
              <a:rect l="textAreaLeft" t="textAreaTop" r="textAreaRight" b="textAreaBottom"/>
              <a:pathLst>
                <a:path w="66675" h="66675">
                  <a:moveTo>
                    <a:pt x="-5052" y="-31671"/>
                  </a:moveTo>
                  <a:cubicBezTo>
                    <a:pt x="-5052" y="-16431"/>
                    <a:pt x="-17435" y="-5001"/>
                    <a:pt x="-31722" y="-5001"/>
                  </a:cubicBezTo>
                  <a:cubicBezTo>
                    <a:pt x="18574" y="-5001"/>
                    <a:pt x="7144" y="-17383"/>
                    <a:pt x="7144" y="-31671"/>
                  </a:cubicBezTo>
                  <a:cubicBezTo>
                    <a:pt x="7144" y="18625"/>
                    <a:pt x="19526" y="7195"/>
                    <a:pt x="-31722" y="7195"/>
                  </a:cubicBezTo>
                  <a:cubicBezTo>
                    <a:pt x="-17435" y="6243"/>
                    <a:pt x="-5052" y="18625"/>
                    <a:pt x="-5052" y="-31671"/>
                  </a:cubicBez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0" name="任意多边形: 形状 110"/>
            <p:cNvSpPr/>
            <p:nvPr/>
          </p:nvSpPr>
          <p:spPr>
            <a:xfrm>
              <a:off x="10243080" y="6255000"/>
              <a:ext cx="179280" cy="179280"/>
            </a:xfrm>
            <a:custGeom>
              <a:avLst/>
              <a:gdLst>
                <a:gd name="textAreaLeft" fmla="*/ 0 w 179280"/>
                <a:gd name="textAreaRight" fmla="*/ 179640 w 179280"/>
                <a:gd name="textAreaTop" fmla="*/ 0 h 179280"/>
                <a:gd name="textAreaBottom" fmla="*/ 179640 h 179280"/>
              </a:gdLst>
              <a:ahLst/>
              <a:rect l="textAreaLeft" t="textAreaTop" r="textAreaRight" b="textAreaBottom"/>
              <a:pathLst>
                <a:path w="66675" h="66675">
                  <a:moveTo>
                    <a:pt x="-5052" y="-31671"/>
                  </a:moveTo>
                  <a:cubicBezTo>
                    <a:pt x="-5052" y="-16431"/>
                    <a:pt x="-17435" y="-5001"/>
                    <a:pt x="-31722" y="-5001"/>
                  </a:cubicBezTo>
                  <a:cubicBezTo>
                    <a:pt x="18574" y="-5001"/>
                    <a:pt x="7144" y="-17383"/>
                    <a:pt x="7144" y="-31671"/>
                  </a:cubicBezTo>
                  <a:cubicBezTo>
                    <a:pt x="7144" y="18625"/>
                    <a:pt x="19526" y="7195"/>
                    <a:pt x="-31722" y="7195"/>
                  </a:cubicBezTo>
                  <a:cubicBezTo>
                    <a:pt x="-17435" y="6243"/>
                    <a:pt x="-5052" y="18625"/>
                    <a:pt x="-5052" y="-31671"/>
                  </a:cubicBezTo>
                  <a:close/>
                </a:path>
              </a:pathLst>
            </a:custGeom>
            <a:solidFill>
              <a:srgbClr val="0f151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1" name="任意多边形: 形状 111"/>
            <p:cNvSpPr/>
            <p:nvPr/>
          </p:nvSpPr>
          <p:spPr>
            <a:xfrm>
              <a:off x="10750680" y="4885560"/>
              <a:ext cx="256320" cy="666720"/>
            </a:xfrm>
            <a:custGeom>
              <a:avLst/>
              <a:gdLst>
                <a:gd name="textAreaLeft" fmla="*/ 0 w 256320"/>
                <a:gd name="textAreaRight" fmla="*/ 256680 w 256320"/>
                <a:gd name="textAreaTop" fmla="*/ 0 h 666720"/>
                <a:gd name="textAreaBottom" fmla="*/ 667080 h 666720"/>
              </a:gdLst>
              <a:ahLst/>
              <a:rect l="textAreaLeft" t="textAreaTop" r="textAreaRight" b="textAreaBottom"/>
              <a:pathLst>
                <a:path w="95250" h="247650">
                  <a:moveTo>
                    <a:pt x="50006" y="249079"/>
                  </a:moveTo>
                  <a:cubicBezTo>
                    <a:pt x="26194" y="249079"/>
                    <a:pt x="7144" y="230981"/>
                    <a:pt x="7144" y="209074"/>
                  </a:cubicBezTo>
                  <a:lnTo>
                    <a:pt x="7144" y="7144"/>
                  </a:lnTo>
                  <a:lnTo>
                    <a:pt x="91916" y="7144"/>
                  </a:lnTo>
                  <a:lnTo>
                    <a:pt x="91916" y="209074"/>
                  </a:lnTo>
                  <a:cubicBezTo>
                    <a:pt x="92869" y="231934"/>
                    <a:pt x="73819" y="249079"/>
                    <a:pt x="50006" y="249079"/>
                  </a:cubicBezTo>
                  <a:close/>
                </a:path>
              </a:pathLst>
            </a:custGeom>
            <a:solidFill>
              <a:srgbClr val="1a2a3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2" name="任意多边形: 形状 112"/>
            <p:cNvSpPr/>
            <p:nvPr/>
          </p:nvSpPr>
          <p:spPr>
            <a:xfrm>
              <a:off x="10753200" y="4890600"/>
              <a:ext cx="179280" cy="666720"/>
            </a:xfrm>
            <a:custGeom>
              <a:avLst/>
              <a:gdLst>
                <a:gd name="textAreaLeft" fmla="*/ 0 w 179280"/>
                <a:gd name="textAreaRight" fmla="*/ 179640 w 179280"/>
                <a:gd name="textAreaTop" fmla="*/ 0 h 666720"/>
                <a:gd name="textAreaBottom" fmla="*/ 667080 h 666720"/>
              </a:gdLst>
              <a:ahLst/>
              <a:rect l="textAreaLeft" t="textAreaTop" r="textAreaRight" b="textAreaBottom"/>
              <a:pathLst>
                <a:path w="66675" h="247650">
                  <a:moveTo>
                    <a:pt x="33814" y="205264"/>
                  </a:moveTo>
                  <a:lnTo>
                    <a:pt x="33814" y="7144"/>
                  </a:lnTo>
                  <a:lnTo>
                    <a:pt x="7144" y="7144"/>
                  </a:lnTo>
                  <a:lnTo>
                    <a:pt x="7144" y="205264"/>
                  </a:lnTo>
                  <a:cubicBezTo>
                    <a:pt x="7144" y="229076"/>
                    <a:pt x="26194" y="248126"/>
                    <a:pt x="50006" y="248126"/>
                  </a:cubicBezTo>
                  <a:cubicBezTo>
                    <a:pt x="54769" y="248126"/>
                    <a:pt x="59531" y="247174"/>
                    <a:pt x="63341" y="246221"/>
                  </a:cubicBezTo>
                  <a:cubicBezTo>
                    <a:pt x="46196" y="239554"/>
                    <a:pt x="33814" y="223361"/>
                    <a:pt x="33814" y="205264"/>
                  </a:cubicBezTo>
                  <a:close/>
                </a:path>
              </a:pathLst>
            </a:custGeom>
            <a:solidFill>
              <a:srgbClr val="15232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3" name="任意多边形: 形状 113"/>
            <p:cNvSpPr/>
            <p:nvPr/>
          </p:nvSpPr>
          <p:spPr>
            <a:xfrm>
              <a:off x="10140480" y="4870080"/>
              <a:ext cx="1487520" cy="102240"/>
            </a:xfrm>
            <a:custGeom>
              <a:avLst/>
              <a:gdLst>
                <a:gd name="textAreaLeft" fmla="*/ 0 w 1487520"/>
                <a:gd name="textAreaRight" fmla="*/ 1487880 w 1487520"/>
                <a:gd name="textAreaTop" fmla="*/ 0 h 102240"/>
                <a:gd name="textAreaBottom" fmla="*/ 102600 h 102240"/>
              </a:gdLst>
              <a:ahLst/>
              <a:rect l="textAreaLeft" t="textAreaTop" r="textAreaRight" b="textAreaBottom"/>
              <a:pathLst>
                <a:path w="552450" h="38100">
                  <a:moveTo>
                    <a:pt x="7144" y="7144"/>
                  </a:moveTo>
                  <a:cubicBezTo>
                    <a:pt x="14764" y="21431"/>
                    <a:pt x="35719" y="32861"/>
                    <a:pt x="61436" y="32861"/>
                  </a:cubicBezTo>
                  <a:lnTo>
                    <a:pt x="493871" y="32861"/>
                  </a:lnTo>
                  <a:cubicBezTo>
                    <a:pt x="519589" y="32861"/>
                    <a:pt x="540544" y="22384"/>
                    <a:pt x="548164" y="7144"/>
                  </a:cubicBezTo>
                  <a:lnTo>
                    <a:pt x="7144" y="7144"/>
                  </a:lnTo>
                  <a:close/>
                </a:path>
              </a:pathLst>
            </a:custGeom>
            <a:solidFill>
              <a:srgbClr val="051b3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4" name="任意多边形: 形状 114"/>
            <p:cNvSpPr/>
            <p:nvPr/>
          </p:nvSpPr>
          <p:spPr>
            <a:xfrm>
              <a:off x="10612080" y="1705320"/>
              <a:ext cx="692280" cy="1025640"/>
            </a:xfrm>
            <a:custGeom>
              <a:avLst/>
              <a:gdLst>
                <a:gd name="textAreaLeft" fmla="*/ 0 w 692280"/>
                <a:gd name="textAreaRight" fmla="*/ 692640 w 692280"/>
                <a:gd name="textAreaTop" fmla="*/ 0 h 1025640"/>
                <a:gd name="textAreaBottom" fmla="*/ 1026000 h 1025640"/>
              </a:gdLst>
              <a:ahLst/>
              <a:rect l="textAreaLeft" t="textAreaTop" r="textAreaRight" b="textAreaBottom"/>
              <a:pathLst>
                <a:path w="257175" h="381000">
                  <a:moveTo>
                    <a:pt x="107253" y="382474"/>
                  </a:moveTo>
                  <a:cubicBezTo>
                    <a:pt x="97728" y="383427"/>
                    <a:pt x="54866" y="333897"/>
                    <a:pt x="40578" y="289129"/>
                  </a:cubicBezTo>
                  <a:cubicBezTo>
                    <a:pt x="27243" y="284367"/>
                    <a:pt x="11051" y="290082"/>
                    <a:pt x="7241" y="279604"/>
                  </a:cubicBezTo>
                  <a:cubicBezTo>
                    <a:pt x="5336" y="272937"/>
                    <a:pt x="32006" y="250077"/>
                    <a:pt x="39626" y="211024"/>
                  </a:cubicBezTo>
                  <a:cubicBezTo>
                    <a:pt x="35816" y="199594"/>
                    <a:pt x="24386" y="159589"/>
                    <a:pt x="22481" y="141492"/>
                  </a:cubicBezTo>
                  <a:cubicBezTo>
                    <a:pt x="11051" y="81484"/>
                    <a:pt x="41531" y="24334"/>
                    <a:pt x="101538" y="12904"/>
                  </a:cubicBezTo>
                  <a:cubicBezTo>
                    <a:pt x="108206" y="11952"/>
                    <a:pt x="114874" y="10047"/>
                    <a:pt x="122493" y="9094"/>
                  </a:cubicBezTo>
                  <a:cubicBezTo>
                    <a:pt x="182501" y="-2336"/>
                    <a:pt x="240603" y="37669"/>
                    <a:pt x="252033" y="97677"/>
                  </a:cubicBezTo>
                  <a:cubicBezTo>
                    <a:pt x="257749" y="128157"/>
                    <a:pt x="212028" y="187212"/>
                    <a:pt x="217743" y="217692"/>
                  </a:cubicBezTo>
                  <a:cubicBezTo>
                    <a:pt x="235841" y="287224"/>
                    <a:pt x="181549" y="358662"/>
                    <a:pt x="107253" y="382474"/>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5" name="任意多边形: 形状 115"/>
            <p:cNvSpPr/>
            <p:nvPr/>
          </p:nvSpPr>
          <p:spPr>
            <a:xfrm>
              <a:off x="10548000" y="1628280"/>
              <a:ext cx="846000" cy="820440"/>
            </a:xfrm>
            <a:custGeom>
              <a:avLst/>
              <a:gdLst>
                <a:gd name="textAreaLeft" fmla="*/ 0 w 846000"/>
                <a:gd name="textAreaRight" fmla="*/ 846360 w 846000"/>
                <a:gd name="textAreaTop" fmla="*/ 0 h 820440"/>
                <a:gd name="textAreaBottom" fmla="*/ 820800 h 820440"/>
              </a:gdLst>
              <a:ahLst/>
              <a:rect l="textAreaLeft" t="textAreaTop" r="textAreaRight" b="textAreaBottom"/>
              <a:pathLst>
                <a:path w="314325" h="304800">
                  <a:moveTo>
                    <a:pt x="272891" y="43394"/>
                  </a:moveTo>
                  <a:cubicBezTo>
                    <a:pt x="329089" y="75778"/>
                    <a:pt x="300514" y="151026"/>
                    <a:pt x="313849" y="202461"/>
                  </a:cubicBezTo>
                  <a:cubicBezTo>
                    <a:pt x="308134" y="228178"/>
                    <a:pt x="294799" y="271994"/>
                    <a:pt x="289084" y="297711"/>
                  </a:cubicBezTo>
                  <a:cubicBezTo>
                    <a:pt x="277654" y="277708"/>
                    <a:pt x="274796" y="239608"/>
                    <a:pt x="263366" y="219606"/>
                  </a:cubicBezTo>
                  <a:cubicBezTo>
                    <a:pt x="252889" y="215796"/>
                    <a:pt x="241459" y="212938"/>
                    <a:pt x="230981" y="209128"/>
                  </a:cubicBezTo>
                  <a:cubicBezTo>
                    <a:pt x="224314" y="213891"/>
                    <a:pt x="216694" y="218653"/>
                    <a:pt x="210026" y="222463"/>
                  </a:cubicBezTo>
                  <a:cubicBezTo>
                    <a:pt x="203359" y="203413"/>
                    <a:pt x="196691" y="184363"/>
                    <a:pt x="189071" y="166266"/>
                  </a:cubicBezTo>
                  <a:cubicBezTo>
                    <a:pt x="129064" y="191031"/>
                    <a:pt x="39529" y="204366"/>
                    <a:pt x="7144" y="127213"/>
                  </a:cubicBezTo>
                  <a:cubicBezTo>
                    <a:pt x="10954" y="531"/>
                    <a:pt x="215741" y="-23281"/>
                    <a:pt x="272891" y="43394"/>
                  </a:cubicBez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6" name="任意多边形: 形状 116"/>
            <p:cNvSpPr/>
            <p:nvPr/>
          </p:nvSpPr>
          <p:spPr>
            <a:xfrm>
              <a:off x="10732680" y="1697040"/>
              <a:ext cx="769320" cy="1077120"/>
            </a:xfrm>
            <a:custGeom>
              <a:avLst/>
              <a:gdLst>
                <a:gd name="textAreaLeft" fmla="*/ 0 w 769320"/>
                <a:gd name="textAreaRight" fmla="*/ 769680 w 769320"/>
                <a:gd name="textAreaTop" fmla="*/ 0 h 1077120"/>
                <a:gd name="textAreaBottom" fmla="*/ 1077480 h 1077120"/>
              </a:gdLst>
              <a:ahLst/>
              <a:rect l="textAreaLeft" t="textAreaTop" r="textAreaRight" b="textAreaBottom"/>
              <a:pathLst>
                <a:path w="285750" h="400050">
                  <a:moveTo>
                    <a:pt x="7144" y="88356"/>
                  </a:moveTo>
                  <a:cubicBezTo>
                    <a:pt x="30956" y="107406"/>
                    <a:pt x="73819" y="94072"/>
                    <a:pt x="107156" y="146459"/>
                  </a:cubicBezTo>
                  <a:cubicBezTo>
                    <a:pt x="140494" y="198847"/>
                    <a:pt x="146209" y="284572"/>
                    <a:pt x="137636" y="327434"/>
                  </a:cubicBezTo>
                  <a:cubicBezTo>
                    <a:pt x="129064" y="369344"/>
                    <a:pt x="120491" y="396014"/>
                    <a:pt x="120491" y="396014"/>
                  </a:cubicBezTo>
                  <a:cubicBezTo>
                    <a:pt x="120491" y="396014"/>
                    <a:pt x="143351" y="386489"/>
                    <a:pt x="155734" y="371249"/>
                  </a:cubicBezTo>
                  <a:cubicBezTo>
                    <a:pt x="168116" y="356009"/>
                    <a:pt x="169069" y="352199"/>
                    <a:pt x="169069" y="354104"/>
                  </a:cubicBezTo>
                  <a:cubicBezTo>
                    <a:pt x="169069" y="356961"/>
                    <a:pt x="168116" y="365534"/>
                    <a:pt x="165259" y="382679"/>
                  </a:cubicBezTo>
                  <a:cubicBezTo>
                    <a:pt x="223361" y="365534"/>
                    <a:pt x="253841" y="365534"/>
                    <a:pt x="279559" y="300764"/>
                  </a:cubicBezTo>
                  <a:cubicBezTo>
                    <a:pt x="300514" y="246472"/>
                    <a:pt x="275749" y="-12609"/>
                    <a:pt x="153829" y="8347"/>
                  </a:cubicBezTo>
                  <a:cubicBezTo>
                    <a:pt x="107156" y="16919"/>
                    <a:pt x="7144" y="88356"/>
                    <a:pt x="7144" y="88356"/>
                  </a:cubicBez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7" name="任意多边形: 形状 117"/>
            <p:cNvSpPr/>
            <p:nvPr/>
          </p:nvSpPr>
          <p:spPr>
            <a:xfrm>
              <a:off x="10548000" y="1967040"/>
              <a:ext cx="435960" cy="230760"/>
            </a:xfrm>
            <a:custGeom>
              <a:avLst/>
              <a:gdLst>
                <a:gd name="textAreaLeft" fmla="*/ 0 w 435960"/>
                <a:gd name="textAreaRight" fmla="*/ 436320 w 435960"/>
                <a:gd name="textAreaTop" fmla="*/ 0 h 230760"/>
                <a:gd name="textAreaBottom" fmla="*/ 231120 h 230760"/>
              </a:gdLst>
              <a:ahLst/>
              <a:rect l="textAreaLeft" t="textAreaTop" r="textAreaRight" b="textAreaBottom"/>
              <a:pathLst>
                <a:path w="161925" h="85725">
                  <a:moveTo>
                    <a:pt x="7144" y="7144"/>
                  </a:moveTo>
                  <a:cubicBezTo>
                    <a:pt x="10001" y="12859"/>
                    <a:pt x="10001" y="23336"/>
                    <a:pt x="53816" y="59531"/>
                  </a:cubicBezTo>
                  <a:cubicBezTo>
                    <a:pt x="97631" y="95726"/>
                    <a:pt x="155734" y="83344"/>
                    <a:pt x="155734" y="83344"/>
                  </a:cubicBezTo>
                  <a:cubicBezTo>
                    <a:pt x="155734" y="83344"/>
                    <a:pt x="117634" y="85249"/>
                    <a:pt x="83344" y="60484"/>
                  </a:cubicBezTo>
                  <a:cubicBezTo>
                    <a:pt x="49054" y="35719"/>
                    <a:pt x="32861" y="13811"/>
                    <a:pt x="32861" y="13811"/>
                  </a:cubicBezTo>
                  <a:lnTo>
                    <a:pt x="7144" y="7144"/>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8" name="任意多边形: 形状 118"/>
            <p:cNvSpPr/>
            <p:nvPr/>
          </p:nvSpPr>
          <p:spPr>
            <a:xfrm>
              <a:off x="10596960" y="2003040"/>
              <a:ext cx="461520" cy="153720"/>
            </a:xfrm>
            <a:custGeom>
              <a:avLst/>
              <a:gdLst>
                <a:gd name="textAreaLeft" fmla="*/ 0 w 461520"/>
                <a:gd name="textAreaRight" fmla="*/ 461880 w 461520"/>
                <a:gd name="textAreaTop" fmla="*/ 0 h 153720"/>
                <a:gd name="textAreaBottom" fmla="*/ 154080 h 153720"/>
              </a:gdLst>
              <a:ahLst/>
              <a:rect l="textAreaLeft" t="textAreaTop" r="textAreaRight" b="textAreaBottom"/>
              <a:pathLst>
                <a:path w="171450" h="57150">
                  <a:moveTo>
                    <a:pt x="7144" y="7144"/>
                  </a:moveTo>
                  <a:cubicBezTo>
                    <a:pt x="11906" y="11906"/>
                    <a:pt x="13811" y="22384"/>
                    <a:pt x="65246" y="46196"/>
                  </a:cubicBezTo>
                  <a:cubicBezTo>
                    <a:pt x="116681" y="70009"/>
                    <a:pt x="170021" y="43339"/>
                    <a:pt x="170021" y="43339"/>
                  </a:cubicBezTo>
                  <a:cubicBezTo>
                    <a:pt x="170021" y="43339"/>
                    <a:pt x="133826" y="54769"/>
                    <a:pt x="94774" y="39529"/>
                  </a:cubicBezTo>
                  <a:cubicBezTo>
                    <a:pt x="55721" y="24289"/>
                    <a:pt x="33814" y="7144"/>
                    <a:pt x="33814" y="7144"/>
                  </a:cubicBezTo>
                  <a:lnTo>
                    <a:pt x="7144" y="7144"/>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799" name="任意多边形: 形状 119"/>
            <p:cNvSpPr/>
            <p:nvPr/>
          </p:nvSpPr>
          <p:spPr>
            <a:xfrm>
              <a:off x="8870760" y="3577680"/>
              <a:ext cx="1025640" cy="102240"/>
            </a:xfrm>
            <a:custGeom>
              <a:avLst/>
              <a:gdLst>
                <a:gd name="textAreaLeft" fmla="*/ 0 w 1025640"/>
                <a:gd name="textAreaRight" fmla="*/ 1026000 w 1025640"/>
                <a:gd name="textAreaTop" fmla="*/ 0 h 102240"/>
                <a:gd name="textAreaBottom" fmla="*/ 102600 h 102240"/>
              </a:gdLst>
              <a:ahLst/>
              <a:rect l="textAreaLeft" t="textAreaTop" r="textAreaRight" b="textAreaBottom"/>
              <a:pathLst>
                <a:path w="381000" h="38100">
                  <a:moveTo>
                    <a:pt x="7144" y="7144"/>
                  </a:moveTo>
                  <a:lnTo>
                    <a:pt x="381476" y="7144"/>
                  </a:lnTo>
                  <a:lnTo>
                    <a:pt x="381476" y="33814"/>
                  </a:lnTo>
                  <a:lnTo>
                    <a:pt x="7144" y="33814"/>
                  </a:lnTo>
                  <a:lnTo>
                    <a:pt x="7144" y="7144"/>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00" name="任意多边形: 形状 120"/>
            <p:cNvSpPr/>
            <p:nvPr/>
          </p:nvSpPr>
          <p:spPr>
            <a:xfrm>
              <a:off x="8870760" y="3613680"/>
              <a:ext cx="1025640" cy="51120"/>
            </a:xfrm>
            <a:custGeom>
              <a:avLst/>
              <a:gdLst>
                <a:gd name="textAreaLeft" fmla="*/ 0 w 1025640"/>
                <a:gd name="textAreaRight" fmla="*/ 1026000 w 1025640"/>
                <a:gd name="textAreaTop" fmla="*/ 0 h 51120"/>
                <a:gd name="textAreaBottom" fmla="*/ 51480 h 51120"/>
              </a:gdLst>
              <a:ahLst/>
              <a:rect l="textAreaLeft" t="textAreaTop" r="textAreaRight" b="textAreaBottom"/>
              <a:pathLst>
                <a:path w="381000" h="19050">
                  <a:moveTo>
                    <a:pt x="7144" y="7144"/>
                  </a:moveTo>
                  <a:lnTo>
                    <a:pt x="381476" y="7144"/>
                  </a:lnTo>
                  <a:lnTo>
                    <a:pt x="381476" y="20479"/>
                  </a:lnTo>
                  <a:lnTo>
                    <a:pt x="7144" y="20479"/>
                  </a:lnTo>
                  <a:lnTo>
                    <a:pt x="7144" y="7144"/>
                  </a:lnTo>
                  <a:close/>
                </a:path>
              </a:pathLst>
            </a:custGeom>
            <a:solidFill>
              <a:srgbClr val="1a2a36"/>
            </a:solidFill>
            <a:ln w="0">
              <a:noFill/>
            </a:ln>
          </p:spPr>
          <p:style>
            <a:lnRef idx="0"/>
            <a:fillRef idx="0"/>
            <a:effectRef idx="0"/>
            <a:fontRef idx="minor"/>
          </p:style>
          <p:txBody>
            <a:bodyPr lIns="90000" rIns="90000" tIns="4680" bIns="4680" anchor="ctr">
              <a:noAutofit/>
            </a:bodyPr>
            <a:p>
              <a:endParaRPr b="0" lang="en-US" sz="1800" spc="-1" strike="noStrike">
                <a:solidFill>
                  <a:srgbClr val="262626"/>
                </a:solidFill>
                <a:latin typeface="Arial"/>
              </a:endParaRPr>
            </a:p>
          </p:txBody>
        </p:sp>
        <p:sp>
          <p:nvSpPr>
            <p:cNvPr id="1801" name="任意多边形: 形状 121"/>
            <p:cNvSpPr/>
            <p:nvPr/>
          </p:nvSpPr>
          <p:spPr>
            <a:xfrm>
              <a:off x="8561880" y="2662200"/>
              <a:ext cx="384480" cy="1000080"/>
            </a:xfrm>
            <a:custGeom>
              <a:avLst/>
              <a:gdLst>
                <a:gd name="textAreaLeft" fmla="*/ 0 w 384480"/>
                <a:gd name="textAreaRight" fmla="*/ 384840 w 384480"/>
                <a:gd name="textAreaTop" fmla="*/ 0 h 1000080"/>
                <a:gd name="textAreaBottom" fmla="*/ 1000440 h 1000080"/>
              </a:gdLst>
              <a:ahLst/>
              <a:rect l="textAreaLeft" t="textAreaTop" r="textAreaRight" b="textAreaBottom"/>
              <a:pathLst>
                <a:path w="142875" h="371475">
                  <a:moveTo>
                    <a:pt x="114237" y="370999"/>
                  </a:moveTo>
                  <a:lnTo>
                    <a:pt x="24702" y="90964"/>
                  </a:lnTo>
                  <a:cubicBezTo>
                    <a:pt x="6604" y="33814"/>
                    <a:pt x="-3873" y="15716"/>
                    <a:pt x="25654" y="7144"/>
                  </a:cubicBezTo>
                  <a:lnTo>
                    <a:pt x="139954" y="363379"/>
                  </a:lnTo>
                  <a:lnTo>
                    <a:pt x="114237" y="370999"/>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02" name="任意多边形: 形状 122"/>
            <p:cNvSpPr/>
            <p:nvPr/>
          </p:nvSpPr>
          <p:spPr>
            <a:xfrm>
              <a:off x="8586000" y="2659680"/>
              <a:ext cx="333360" cy="948600"/>
            </a:xfrm>
            <a:custGeom>
              <a:avLst/>
              <a:gdLst>
                <a:gd name="textAreaLeft" fmla="*/ 0 w 333360"/>
                <a:gd name="textAreaRight" fmla="*/ 333720 w 333360"/>
                <a:gd name="textAreaTop" fmla="*/ 0 h 948600"/>
                <a:gd name="textAreaBottom" fmla="*/ 948960 h 948600"/>
              </a:gdLst>
              <a:ahLst/>
              <a:rect l="textAreaLeft" t="textAreaTop" r="textAreaRight" b="textAreaBottom"/>
              <a:pathLst>
                <a:path w="123825" h="352425">
                  <a:moveTo>
                    <a:pt x="7144" y="10954"/>
                  </a:moveTo>
                  <a:cubicBezTo>
                    <a:pt x="10001" y="10001"/>
                    <a:pt x="12859" y="8096"/>
                    <a:pt x="15716" y="7144"/>
                  </a:cubicBezTo>
                  <a:lnTo>
                    <a:pt x="125254" y="348139"/>
                  </a:lnTo>
                  <a:lnTo>
                    <a:pt x="120491" y="353854"/>
                  </a:lnTo>
                  <a:lnTo>
                    <a:pt x="7144" y="10954"/>
                  </a:lnTo>
                  <a:close/>
                </a:path>
              </a:pathLst>
            </a:custGeom>
            <a:solidFill>
              <a:srgbClr val="40536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03" name="任意多边形: 形状 123"/>
            <p:cNvSpPr/>
            <p:nvPr/>
          </p:nvSpPr>
          <p:spPr>
            <a:xfrm>
              <a:off x="8865720" y="3587760"/>
              <a:ext cx="102240" cy="76680"/>
            </a:xfrm>
            <a:custGeom>
              <a:avLst/>
              <a:gdLst>
                <a:gd name="textAreaLeft" fmla="*/ 0 w 102240"/>
                <a:gd name="textAreaRight" fmla="*/ 102600 w 102240"/>
                <a:gd name="textAreaTop" fmla="*/ 0 h 76680"/>
                <a:gd name="textAreaBottom" fmla="*/ 77040 h 76680"/>
              </a:gdLst>
              <a:ahLst/>
              <a:rect l="textAreaLeft" t="textAreaTop" r="textAreaRight" b="textAreaBottom"/>
              <a:pathLst>
                <a:path w="38100" h="28575">
                  <a:moveTo>
                    <a:pt x="19526" y="30004"/>
                  </a:moveTo>
                  <a:cubicBezTo>
                    <a:pt x="26194" y="30004"/>
                    <a:pt x="31909" y="24289"/>
                    <a:pt x="31909" y="18574"/>
                  </a:cubicBezTo>
                  <a:cubicBezTo>
                    <a:pt x="31909" y="11906"/>
                    <a:pt x="26194" y="7144"/>
                    <a:pt x="19526" y="7144"/>
                  </a:cubicBezTo>
                  <a:cubicBezTo>
                    <a:pt x="12859" y="7144"/>
                    <a:pt x="7144" y="12859"/>
                    <a:pt x="7144" y="18574"/>
                  </a:cubicBezTo>
                  <a:cubicBezTo>
                    <a:pt x="8096" y="24289"/>
                    <a:pt x="12859" y="30004"/>
                    <a:pt x="19526" y="30004"/>
                  </a:cubicBezTo>
                  <a:close/>
                </a:path>
              </a:pathLst>
            </a:custGeom>
            <a:solidFill>
              <a:srgbClr val="4b667f"/>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Arial"/>
              </a:endParaRPr>
            </a:p>
          </p:txBody>
        </p:sp>
        <p:sp>
          <p:nvSpPr>
            <p:cNvPr id="1804" name="任意多边形: 形状 124"/>
            <p:cNvSpPr/>
            <p:nvPr/>
          </p:nvSpPr>
          <p:spPr>
            <a:xfrm>
              <a:off x="1638000" y="3303360"/>
              <a:ext cx="743760" cy="307440"/>
            </a:xfrm>
            <a:custGeom>
              <a:avLst/>
              <a:gdLst>
                <a:gd name="textAreaLeft" fmla="*/ 0 w 743760"/>
                <a:gd name="textAreaRight" fmla="*/ 744120 w 743760"/>
                <a:gd name="textAreaTop" fmla="*/ 0 h 307440"/>
                <a:gd name="textAreaBottom" fmla="*/ 307800 h 307440"/>
              </a:gdLst>
              <a:ahLst/>
              <a:rect l="textAreaLeft" t="textAreaTop" r="textAreaRight" b="textAreaBottom"/>
              <a:pathLst>
                <a:path w="276225" h="114300">
                  <a:moveTo>
                    <a:pt x="194984" y="7144"/>
                  </a:moveTo>
                  <a:lnTo>
                    <a:pt x="269279" y="30956"/>
                  </a:lnTo>
                  <a:cubicBezTo>
                    <a:pt x="274994" y="32861"/>
                    <a:pt x="277852" y="39529"/>
                    <a:pt x="274994" y="44291"/>
                  </a:cubicBezTo>
                  <a:cubicBezTo>
                    <a:pt x="273089" y="48101"/>
                    <a:pt x="269279" y="50006"/>
                    <a:pt x="264517" y="49054"/>
                  </a:cubicBezTo>
                  <a:lnTo>
                    <a:pt x="255944" y="47149"/>
                  </a:lnTo>
                  <a:cubicBezTo>
                    <a:pt x="255944" y="48101"/>
                    <a:pt x="255944" y="50006"/>
                    <a:pt x="255944" y="50959"/>
                  </a:cubicBezTo>
                  <a:lnTo>
                    <a:pt x="255944" y="52864"/>
                  </a:lnTo>
                  <a:cubicBezTo>
                    <a:pt x="254992" y="57626"/>
                    <a:pt x="250229" y="60484"/>
                    <a:pt x="245467" y="58579"/>
                  </a:cubicBezTo>
                  <a:lnTo>
                    <a:pt x="241657" y="57626"/>
                  </a:lnTo>
                  <a:cubicBezTo>
                    <a:pt x="242609" y="59531"/>
                    <a:pt x="242609" y="61436"/>
                    <a:pt x="242609" y="64294"/>
                  </a:cubicBezTo>
                  <a:lnTo>
                    <a:pt x="242609" y="66199"/>
                  </a:lnTo>
                  <a:cubicBezTo>
                    <a:pt x="241657" y="70961"/>
                    <a:pt x="236894" y="73819"/>
                    <a:pt x="232132" y="71914"/>
                  </a:cubicBezTo>
                  <a:lnTo>
                    <a:pt x="199747" y="63341"/>
                  </a:lnTo>
                  <a:cubicBezTo>
                    <a:pt x="195937" y="69056"/>
                    <a:pt x="190222" y="73819"/>
                    <a:pt x="183554" y="78581"/>
                  </a:cubicBezTo>
                  <a:cubicBezTo>
                    <a:pt x="151169" y="100489"/>
                    <a:pt x="135929" y="101441"/>
                    <a:pt x="100687" y="107156"/>
                  </a:cubicBezTo>
                  <a:cubicBezTo>
                    <a:pt x="28297" y="118586"/>
                    <a:pt x="9247" y="91916"/>
                    <a:pt x="7342" y="88106"/>
                  </a:cubicBezTo>
                  <a:cubicBezTo>
                    <a:pt x="2579" y="75724"/>
                    <a:pt x="85447" y="70009"/>
                    <a:pt x="80684" y="57626"/>
                  </a:cubicBezTo>
                  <a:cubicBezTo>
                    <a:pt x="125452" y="49054"/>
                    <a:pt x="160694" y="28099"/>
                    <a:pt x="194984" y="7144"/>
                  </a:cubicBez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05" name="任意多边形: 形状 125"/>
            <p:cNvSpPr/>
            <p:nvPr/>
          </p:nvSpPr>
          <p:spPr>
            <a:xfrm>
              <a:off x="649440" y="2636640"/>
              <a:ext cx="1205280" cy="1205280"/>
            </a:xfrm>
            <a:custGeom>
              <a:avLst/>
              <a:gdLst>
                <a:gd name="textAreaLeft" fmla="*/ 0 w 1205280"/>
                <a:gd name="textAreaRight" fmla="*/ 1205640 w 1205280"/>
                <a:gd name="textAreaTop" fmla="*/ 0 h 1205280"/>
                <a:gd name="textAreaBottom" fmla="*/ 1205640 h 1205280"/>
              </a:gdLst>
              <a:ahLst/>
              <a:rect l="textAreaLeft" t="textAreaTop" r="textAreaRight" b="textAreaBottom"/>
              <a:pathLst>
                <a:path w="447675" h="447675">
                  <a:moveTo>
                    <a:pt x="170550" y="326126"/>
                  </a:moveTo>
                  <a:lnTo>
                    <a:pt x="447727" y="303266"/>
                  </a:lnTo>
                  <a:lnTo>
                    <a:pt x="442012" y="371846"/>
                  </a:lnTo>
                  <a:cubicBezTo>
                    <a:pt x="342952" y="383276"/>
                    <a:pt x="91492" y="469954"/>
                    <a:pt x="70537" y="431854"/>
                  </a:cubicBezTo>
                  <a:cubicBezTo>
                    <a:pt x="20055" y="346129"/>
                    <a:pt x="-48525" y="27994"/>
                    <a:pt x="83872" y="7991"/>
                  </a:cubicBezTo>
                  <a:cubicBezTo>
                    <a:pt x="198172" y="-9154"/>
                    <a:pt x="141022" y="238496"/>
                    <a:pt x="170550" y="326126"/>
                  </a:cubicBezTo>
                  <a:close/>
                </a:path>
              </a:pathLst>
            </a:custGeom>
            <a:solidFill>
              <a:srgbClr val="82504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06" name="任意多边形: 形状 126"/>
            <p:cNvSpPr/>
            <p:nvPr/>
          </p:nvSpPr>
          <p:spPr>
            <a:xfrm>
              <a:off x="652320" y="2733840"/>
              <a:ext cx="1205280" cy="1102680"/>
            </a:xfrm>
            <a:custGeom>
              <a:avLst/>
              <a:gdLst>
                <a:gd name="textAreaLeft" fmla="*/ 0 w 1205280"/>
                <a:gd name="textAreaRight" fmla="*/ 1205640 w 1205280"/>
                <a:gd name="textAreaTop" fmla="*/ 0 h 1102680"/>
                <a:gd name="textAreaBottom" fmla="*/ 1103040 h 1102680"/>
              </a:gdLst>
              <a:ahLst/>
              <a:rect l="textAreaLeft" t="textAreaTop" r="textAreaRight" b="textAreaBottom"/>
              <a:pathLst>
                <a:path w="447675" h="409575">
                  <a:moveTo>
                    <a:pt x="443864" y="312896"/>
                  </a:moveTo>
                  <a:lnTo>
                    <a:pt x="441959" y="335756"/>
                  </a:lnTo>
                  <a:cubicBezTo>
                    <a:pt x="342899" y="347186"/>
                    <a:pt x="91439" y="433864"/>
                    <a:pt x="70484" y="395764"/>
                  </a:cubicBezTo>
                  <a:cubicBezTo>
                    <a:pt x="28574" y="325279"/>
                    <a:pt x="-24766" y="96679"/>
                    <a:pt x="31432" y="7144"/>
                  </a:cubicBezTo>
                  <a:cubicBezTo>
                    <a:pt x="31432" y="10001"/>
                    <a:pt x="27622" y="126206"/>
                    <a:pt x="44767" y="228124"/>
                  </a:cubicBezTo>
                  <a:cubicBezTo>
                    <a:pt x="61912" y="330994"/>
                    <a:pt x="91439" y="376714"/>
                    <a:pt x="125729" y="379571"/>
                  </a:cubicBezTo>
                  <a:cubicBezTo>
                    <a:pt x="155257" y="381476"/>
                    <a:pt x="381952" y="327184"/>
                    <a:pt x="443864" y="312896"/>
                  </a:cubicBezTo>
                  <a:close/>
                </a:path>
              </a:pathLst>
            </a:custGeom>
            <a:solidFill>
              <a:srgbClr val="6a48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07" name="任意多边形: 形状 127"/>
            <p:cNvSpPr/>
            <p:nvPr/>
          </p:nvSpPr>
          <p:spPr>
            <a:xfrm>
              <a:off x="1851120" y="3577680"/>
              <a:ext cx="1025640" cy="102240"/>
            </a:xfrm>
            <a:custGeom>
              <a:avLst/>
              <a:gdLst>
                <a:gd name="textAreaLeft" fmla="*/ 0 w 1025640"/>
                <a:gd name="textAreaRight" fmla="*/ 1026000 w 1025640"/>
                <a:gd name="textAreaTop" fmla="*/ 0 h 102240"/>
                <a:gd name="textAreaBottom" fmla="*/ 102600 h 102240"/>
              </a:gdLst>
              <a:ahLst/>
              <a:rect l="textAreaLeft" t="textAreaTop" r="textAreaRight" b="textAreaBottom"/>
              <a:pathLst>
                <a:path w="381000" h="38100">
                  <a:moveTo>
                    <a:pt x="7144" y="7144"/>
                  </a:moveTo>
                  <a:lnTo>
                    <a:pt x="381476" y="7144"/>
                  </a:lnTo>
                  <a:lnTo>
                    <a:pt x="381476" y="33814"/>
                  </a:lnTo>
                  <a:lnTo>
                    <a:pt x="7144" y="33814"/>
                  </a:lnTo>
                  <a:lnTo>
                    <a:pt x="7144" y="7144"/>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08" name="任意多边形: 形状 128"/>
            <p:cNvSpPr/>
            <p:nvPr/>
          </p:nvSpPr>
          <p:spPr>
            <a:xfrm>
              <a:off x="1851120" y="3613680"/>
              <a:ext cx="1025640" cy="51120"/>
            </a:xfrm>
            <a:custGeom>
              <a:avLst/>
              <a:gdLst>
                <a:gd name="textAreaLeft" fmla="*/ 0 w 1025640"/>
                <a:gd name="textAreaRight" fmla="*/ 1026000 w 1025640"/>
                <a:gd name="textAreaTop" fmla="*/ 0 h 51120"/>
                <a:gd name="textAreaBottom" fmla="*/ 51480 h 51120"/>
              </a:gdLst>
              <a:ahLst/>
              <a:rect l="textAreaLeft" t="textAreaTop" r="textAreaRight" b="textAreaBottom"/>
              <a:pathLst>
                <a:path w="381000" h="19050">
                  <a:moveTo>
                    <a:pt x="7144" y="7144"/>
                  </a:moveTo>
                  <a:lnTo>
                    <a:pt x="381476" y="7144"/>
                  </a:lnTo>
                  <a:lnTo>
                    <a:pt x="381476" y="20479"/>
                  </a:lnTo>
                  <a:lnTo>
                    <a:pt x="7144" y="20479"/>
                  </a:lnTo>
                  <a:lnTo>
                    <a:pt x="7144" y="7144"/>
                  </a:lnTo>
                  <a:close/>
                </a:path>
              </a:pathLst>
            </a:custGeom>
            <a:solidFill>
              <a:srgbClr val="1a2a36"/>
            </a:solidFill>
            <a:ln w="0">
              <a:noFill/>
            </a:ln>
          </p:spPr>
          <p:style>
            <a:lnRef idx="0"/>
            <a:fillRef idx="0"/>
            <a:effectRef idx="0"/>
            <a:fontRef idx="minor"/>
          </p:style>
          <p:txBody>
            <a:bodyPr lIns="90000" rIns="90000" tIns="4680" bIns="4680" anchor="ctr">
              <a:noAutofit/>
            </a:bodyPr>
            <a:p>
              <a:endParaRPr b="0" lang="en-US" sz="1800" spc="-1" strike="noStrike">
                <a:solidFill>
                  <a:srgbClr val="262626"/>
                </a:solidFill>
                <a:latin typeface="Arial"/>
              </a:endParaRPr>
            </a:p>
          </p:txBody>
        </p:sp>
        <p:sp>
          <p:nvSpPr>
            <p:cNvPr id="1809" name="任意多边形: 形状 129"/>
            <p:cNvSpPr/>
            <p:nvPr/>
          </p:nvSpPr>
          <p:spPr>
            <a:xfrm>
              <a:off x="2810520" y="2662200"/>
              <a:ext cx="384480" cy="1000080"/>
            </a:xfrm>
            <a:custGeom>
              <a:avLst/>
              <a:gdLst>
                <a:gd name="textAreaLeft" fmla="*/ 0 w 384480"/>
                <a:gd name="textAreaRight" fmla="*/ 384840 w 384480"/>
                <a:gd name="textAreaTop" fmla="*/ 0 h 1000080"/>
                <a:gd name="textAreaBottom" fmla="*/ 1000440 h 1000080"/>
              </a:gdLst>
              <a:ahLst/>
              <a:rect l="textAreaLeft" t="textAreaTop" r="textAreaRight" b="textAreaBottom"/>
              <a:pathLst>
                <a:path w="142875" h="371475">
                  <a:moveTo>
                    <a:pt x="32861" y="370999"/>
                  </a:moveTo>
                  <a:lnTo>
                    <a:pt x="122396" y="90964"/>
                  </a:lnTo>
                  <a:cubicBezTo>
                    <a:pt x="140494" y="33814"/>
                    <a:pt x="150971" y="15716"/>
                    <a:pt x="121444" y="7144"/>
                  </a:cubicBezTo>
                  <a:lnTo>
                    <a:pt x="7144" y="363379"/>
                  </a:lnTo>
                  <a:lnTo>
                    <a:pt x="32861" y="370999"/>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0" name="任意多边形: 形状 130"/>
            <p:cNvSpPr/>
            <p:nvPr/>
          </p:nvSpPr>
          <p:spPr>
            <a:xfrm>
              <a:off x="2826000" y="2659680"/>
              <a:ext cx="333360" cy="948600"/>
            </a:xfrm>
            <a:custGeom>
              <a:avLst/>
              <a:gdLst>
                <a:gd name="textAreaLeft" fmla="*/ 0 w 333360"/>
                <a:gd name="textAreaRight" fmla="*/ 333720 w 333360"/>
                <a:gd name="textAreaTop" fmla="*/ 0 h 948600"/>
                <a:gd name="textAreaBottom" fmla="*/ 948960 h 948600"/>
              </a:gdLst>
              <a:ahLst/>
              <a:rect l="textAreaLeft" t="textAreaTop" r="textAreaRight" b="textAreaBottom"/>
              <a:pathLst>
                <a:path w="123825" h="352425">
                  <a:moveTo>
                    <a:pt x="125254" y="10954"/>
                  </a:moveTo>
                  <a:cubicBezTo>
                    <a:pt x="122396" y="10001"/>
                    <a:pt x="119539" y="8096"/>
                    <a:pt x="116681" y="7144"/>
                  </a:cubicBezTo>
                  <a:lnTo>
                    <a:pt x="7144" y="348139"/>
                  </a:lnTo>
                  <a:lnTo>
                    <a:pt x="11906" y="353854"/>
                  </a:lnTo>
                  <a:lnTo>
                    <a:pt x="125254" y="10954"/>
                  </a:lnTo>
                  <a:close/>
                </a:path>
              </a:pathLst>
            </a:custGeom>
            <a:solidFill>
              <a:srgbClr val="40536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1" name="任意多边形: 形状 131"/>
            <p:cNvSpPr/>
            <p:nvPr/>
          </p:nvSpPr>
          <p:spPr>
            <a:xfrm>
              <a:off x="2795040" y="3587760"/>
              <a:ext cx="102240" cy="76680"/>
            </a:xfrm>
            <a:custGeom>
              <a:avLst/>
              <a:gdLst>
                <a:gd name="textAreaLeft" fmla="*/ 0 w 102240"/>
                <a:gd name="textAreaRight" fmla="*/ 102600 w 102240"/>
                <a:gd name="textAreaTop" fmla="*/ 0 h 76680"/>
                <a:gd name="textAreaBottom" fmla="*/ 77040 h 76680"/>
              </a:gdLst>
              <a:ahLst/>
              <a:rect l="textAreaLeft" t="textAreaTop" r="textAreaRight" b="textAreaBottom"/>
              <a:pathLst>
                <a:path w="38100" h="28575">
                  <a:moveTo>
                    <a:pt x="19526" y="30004"/>
                  </a:moveTo>
                  <a:cubicBezTo>
                    <a:pt x="26194" y="30004"/>
                    <a:pt x="31909" y="24289"/>
                    <a:pt x="31909" y="18574"/>
                  </a:cubicBezTo>
                  <a:cubicBezTo>
                    <a:pt x="31909" y="11906"/>
                    <a:pt x="26194" y="7144"/>
                    <a:pt x="19526" y="7144"/>
                  </a:cubicBezTo>
                  <a:cubicBezTo>
                    <a:pt x="12859" y="7144"/>
                    <a:pt x="7144" y="12859"/>
                    <a:pt x="7144" y="18574"/>
                  </a:cubicBezTo>
                  <a:cubicBezTo>
                    <a:pt x="7144" y="24289"/>
                    <a:pt x="12859" y="30004"/>
                    <a:pt x="19526" y="30004"/>
                  </a:cubicBezTo>
                  <a:close/>
                </a:path>
              </a:pathLst>
            </a:custGeom>
            <a:solidFill>
              <a:srgbClr val="4b667f"/>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Arial"/>
              </a:endParaRPr>
            </a:p>
          </p:txBody>
        </p:sp>
        <p:sp>
          <p:nvSpPr>
            <p:cNvPr id="1812" name="任意多边形: 形状 132"/>
            <p:cNvSpPr/>
            <p:nvPr/>
          </p:nvSpPr>
          <p:spPr>
            <a:xfrm>
              <a:off x="1112760" y="1654200"/>
              <a:ext cx="692280" cy="435960"/>
            </a:xfrm>
            <a:custGeom>
              <a:avLst/>
              <a:gdLst>
                <a:gd name="textAreaLeft" fmla="*/ 0 w 692280"/>
                <a:gd name="textAreaRight" fmla="*/ 692640 w 692280"/>
                <a:gd name="textAreaTop" fmla="*/ 0 h 435960"/>
                <a:gd name="textAreaBottom" fmla="*/ 436320 h 435960"/>
              </a:gdLst>
              <a:ahLst/>
              <a:rect l="textAreaLeft" t="textAreaTop" r="textAreaRight" b="textAreaBottom"/>
              <a:pathLst>
                <a:path w="257175" h="161925">
                  <a:moveTo>
                    <a:pt x="197644" y="7144"/>
                  </a:moveTo>
                  <a:cubicBezTo>
                    <a:pt x="230981" y="31909"/>
                    <a:pt x="249079" y="44291"/>
                    <a:pt x="252889" y="54769"/>
                  </a:cubicBezTo>
                  <a:cubicBezTo>
                    <a:pt x="257651" y="65246"/>
                    <a:pt x="264319" y="87154"/>
                    <a:pt x="223361" y="126206"/>
                  </a:cubicBezTo>
                  <a:cubicBezTo>
                    <a:pt x="182404" y="164306"/>
                    <a:pt x="130016" y="164306"/>
                    <a:pt x="134779" y="161449"/>
                  </a:cubicBezTo>
                  <a:cubicBezTo>
                    <a:pt x="138589" y="159544"/>
                    <a:pt x="169069" y="137636"/>
                    <a:pt x="160496" y="141446"/>
                  </a:cubicBezTo>
                  <a:cubicBezTo>
                    <a:pt x="152876" y="145256"/>
                    <a:pt x="120491" y="150971"/>
                    <a:pt x="80486" y="145256"/>
                  </a:cubicBezTo>
                  <a:cubicBezTo>
                    <a:pt x="40481" y="138589"/>
                    <a:pt x="7144" y="95726"/>
                    <a:pt x="7144" y="95726"/>
                  </a:cubicBezTo>
                  <a:cubicBezTo>
                    <a:pt x="7144" y="95726"/>
                    <a:pt x="146209" y="37624"/>
                    <a:pt x="167164" y="22384"/>
                  </a:cubicBezTo>
                  <a:cubicBezTo>
                    <a:pt x="190024" y="8096"/>
                    <a:pt x="197644" y="7144"/>
                    <a:pt x="197644" y="7144"/>
                  </a:cubicBezTo>
                  <a:close/>
                </a:path>
              </a:pathLst>
            </a:custGeom>
            <a:solidFill>
              <a:srgbClr val="3e31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3" name="任意多边形: 形状 133"/>
            <p:cNvSpPr/>
            <p:nvPr/>
          </p:nvSpPr>
          <p:spPr>
            <a:xfrm>
              <a:off x="1340280" y="1667160"/>
              <a:ext cx="461520" cy="256320"/>
            </a:xfrm>
            <a:custGeom>
              <a:avLst/>
              <a:gdLst>
                <a:gd name="textAreaLeft" fmla="*/ 0 w 461520"/>
                <a:gd name="textAreaRight" fmla="*/ 461880 w 461520"/>
                <a:gd name="textAreaTop" fmla="*/ 0 h 256320"/>
                <a:gd name="textAreaBottom" fmla="*/ 256680 h 256320"/>
              </a:gdLst>
              <a:ahLst/>
              <a:rect l="textAreaLeft" t="textAreaTop" r="textAreaRight" b="textAreaBottom"/>
              <a:pathLst>
                <a:path w="171450" h="95250">
                  <a:moveTo>
                    <a:pt x="145494" y="7144"/>
                  </a:moveTo>
                  <a:cubicBezTo>
                    <a:pt x="158829" y="21431"/>
                    <a:pt x="165497" y="37624"/>
                    <a:pt x="171212" y="55721"/>
                  </a:cubicBezTo>
                  <a:cubicBezTo>
                    <a:pt x="155972" y="66199"/>
                    <a:pt x="136922" y="74771"/>
                    <a:pt x="115014" y="80486"/>
                  </a:cubicBezTo>
                  <a:cubicBezTo>
                    <a:pt x="45482" y="98584"/>
                    <a:pt x="10239" y="79534"/>
                    <a:pt x="7382" y="82391"/>
                  </a:cubicBezTo>
                  <a:cubicBezTo>
                    <a:pt x="4524" y="85249"/>
                    <a:pt x="28337" y="49054"/>
                    <a:pt x="28337" y="49054"/>
                  </a:cubicBezTo>
                  <a:cubicBezTo>
                    <a:pt x="28337" y="49054"/>
                    <a:pt x="25479" y="50006"/>
                    <a:pt x="9287" y="52864"/>
                  </a:cubicBezTo>
                  <a:cubicBezTo>
                    <a:pt x="35004" y="41434"/>
                    <a:pt x="60722" y="30004"/>
                    <a:pt x="75009" y="22384"/>
                  </a:cubicBezTo>
                  <a:cubicBezTo>
                    <a:pt x="83582" y="21431"/>
                    <a:pt x="93107" y="19526"/>
                    <a:pt x="103584" y="18574"/>
                  </a:cubicBezTo>
                  <a:cubicBezTo>
                    <a:pt x="113109" y="16669"/>
                    <a:pt x="137874" y="9049"/>
                    <a:pt x="145494" y="7144"/>
                  </a:cubicBezTo>
                  <a:close/>
                </a:path>
              </a:pathLst>
            </a:custGeom>
            <a:solidFill>
              <a:srgbClr val="372d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4" name="任意多边形: 形状 134"/>
            <p:cNvSpPr/>
            <p:nvPr/>
          </p:nvSpPr>
          <p:spPr>
            <a:xfrm>
              <a:off x="817560" y="2385000"/>
              <a:ext cx="435960" cy="487080"/>
            </a:xfrm>
            <a:custGeom>
              <a:avLst/>
              <a:gdLst>
                <a:gd name="textAreaLeft" fmla="*/ 0 w 435960"/>
                <a:gd name="textAreaRight" fmla="*/ 436320 w 435960"/>
                <a:gd name="textAreaTop" fmla="*/ 0 h 487080"/>
                <a:gd name="textAreaBottom" fmla="*/ 487440 h 487080"/>
              </a:gdLst>
              <a:ahLst/>
              <a:rect l="textAreaLeft" t="textAreaTop" r="textAreaRight" b="textAreaBottom"/>
              <a:pathLst>
                <a:path w="161925" h="180975">
                  <a:moveTo>
                    <a:pt x="23336" y="7144"/>
                  </a:moveTo>
                  <a:cubicBezTo>
                    <a:pt x="23336" y="7144"/>
                    <a:pt x="163354" y="111919"/>
                    <a:pt x="159544" y="111919"/>
                  </a:cubicBezTo>
                  <a:cubicBezTo>
                    <a:pt x="156686" y="111919"/>
                    <a:pt x="149066" y="178594"/>
                    <a:pt x="148114" y="174784"/>
                  </a:cubicBezTo>
                  <a:cubicBezTo>
                    <a:pt x="147161" y="171926"/>
                    <a:pt x="7144" y="43339"/>
                    <a:pt x="7144" y="43339"/>
                  </a:cubicBezTo>
                  <a:lnTo>
                    <a:pt x="23336" y="7144"/>
                  </a:lnTo>
                  <a:close/>
                </a:path>
              </a:pathLst>
            </a:custGeom>
            <a:solidFill>
              <a:srgbClr val="935c3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5" name="任意多边形: 形状 135"/>
            <p:cNvSpPr/>
            <p:nvPr/>
          </p:nvSpPr>
          <p:spPr>
            <a:xfrm>
              <a:off x="939960" y="1941840"/>
              <a:ext cx="128160" cy="256320"/>
            </a:xfrm>
            <a:custGeom>
              <a:avLst/>
              <a:gdLst>
                <a:gd name="textAreaLeft" fmla="*/ 0 w 128160"/>
                <a:gd name="textAreaRight" fmla="*/ 128520 w 128160"/>
                <a:gd name="textAreaTop" fmla="*/ 0 h 256320"/>
                <a:gd name="textAreaBottom" fmla="*/ 256680 h 256320"/>
              </a:gdLst>
              <a:ahLst/>
              <a:rect l="textAreaLeft" t="textAreaTop" r="textAreaRight" b="textAreaBottom"/>
              <a:pathLst>
                <a:path w="47625" h="95250">
                  <a:moveTo>
                    <a:pt x="43642" y="12712"/>
                  </a:moveTo>
                  <a:cubicBezTo>
                    <a:pt x="37927" y="9854"/>
                    <a:pt x="21735" y="329"/>
                    <a:pt x="13162" y="15569"/>
                  </a:cubicBezTo>
                  <a:cubicBezTo>
                    <a:pt x="4590" y="30809"/>
                    <a:pt x="4590" y="73672"/>
                    <a:pt x="16972" y="84149"/>
                  </a:cubicBezTo>
                  <a:cubicBezTo>
                    <a:pt x="29355" y="94627"/>
                    <a:pt x="43642" y="87007"/>
                    <a:pt x="38880" y="71767"/>
                  </a:cubicBezTo>
                  <a:cubicBezTo>
                    <a:pt x="34117" y="56527"/>
                    <a:pt x="24592" y="50812"/>
                    <a:pt x="34117" y="44144"/>
                  </a:cubicBezTo>
                  <a:cubicBezTo>
                    <a:pt x="43642" y="38429"/>
                    <a:pt x="48405" y="38429"/>
                    <a:pt x="49357" y="29857"/>
                  </a:cubicBezTo>
                  <a:cubicBezTo>
                    <a:pt x="49357" y="22237"/>
                    <a:pt x="43642" y="12712"/>
                    <a:pt x="43642" y="12712"/>
                  </a:cubicBezTo>
                  <a:close/>
                </a:path>
              </a:pathLst>
            </a:custGeom>
            <a:solidFill>
              <a:srgbClr val="c8a1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6" name="任意多边形: 形状 136"/>
            <p:cNvSpPr/>
            <p:nvPr/>
          </p:nvSpPr>
          <p:spPr>
            <a:xfrm>
              <a:off x="589320" y="3080160"/>
              <a:ext cx="794880" cy="1564200"/>
            </a:xfrm>
            <a:custGeom>
              <a:avLst/>
              <a:gdLst>
                <a:gd name="textAreaLeft" fmla="*/ 0 w 794880"/>
                <a:gd name="textAreaRight" fmla="*/ 795240 w 794880"/>
                <a:gd name="textAreaTop" fmla="*/ 0 h 1564200"/>
                <a:gd name="textAreaBottom" fmla="*/ 1564560 h 1564200"/>
              </a:gdLst>
              <a:ahLst/>
              <a:rect l="textAreaLeft" t="textAreaTop" r="textAreaRight" b="textAreaBottom"/>
              <a:pathLst>
                <a:path w="295275" h="581025">
                  <a:moveTo>
                    <a:pt x="90011" y="525304"/>
                  </a:moveTo>
                  <a:cubicBezTo>
                    <a:pt x="133826" y="513874"/>
                    <a:pt x="177641" y="501491"/>
                    <a:pt x="221456" y="490061"/>
                  </a:cubicBezTo>
                  <a:cubicBezTo>
                    <a:pt x="233839" y="487204"/>
                    <a:pt x="247174" y="484346"/>
                    <a:pt x="259556" y="482441"/>
                  </a:cubicBezTo>
                  <a:cubicBezTo>
                    <a:pt x="270034" y="480536"/>
                    <a:pt x="280511" y="477679"/>
                    <a:pt x="291941" y="475774"/>
                  </a:cubicBezTo>
                  <a:cubicBezTo>
                    <a:pt x="291941" y="474821"/>
                    <a:pt x="290989" y="473869"/>
                    <a:pt x="290989" y="473869"/>
                  </a:cubicBezTo>
                  <a:cubicBezTo>
                    <a:pt x="260509" y="392906"/>
                    <a:pt x="258604" y="316706"/>
                    <a:pt x="265271" y="252889"/>
                  </a:cubicBezTo>
                  <a:cubicBezTo>
                    <a:pt x="181451" y="272891"/>
                    <a:pt x="104299" y="288131"/>
                    <a:pt x="92869" y="268129"/>
                  </a:cubicBezTo>
                  <a:cubicBezTo>
                    <a:pt x="65246" y="221456"/>
                    <a:pt x="31909" y="106204"/>
                    <a:pt x="30004" y="7144"/>
                  </a:cubicBezTo>
                  <a:cubicBezTo>
                    <a:pt x="11906" y="140494"/>
                    <a:pt x="94774" y="256699"/>
                    <a:pt x="85249" y="400526"/>
                  </a:cubicBezTo>
                  <a:cubicBezTo>
                    <a:pt x="84296" y="421481"/>
                    <a:pt x="78581" y="441484"/>
                    <a:pt x="71914" y="460534"/>
                  </a:cubicBezTo>
                  <a:cubicBezTo>
                    <a:pt x="55721" y="502444"/>
                    <a:pt x="28099" y="537686"/>
                    <a:pt x="10954" y="559594"/>
                  </a:cubicBezTo>
                  <a:cubicBezTo>
                    <a:pt x="10001" y="561499"/>
                    <a:pt x="8096" y="562451"/>
                    <a:pt x="7144" y="564356"/>
                  </a:cubicBezTo>
                  <a:cubicBezTo>
                    <a:pt x="7144" y="568166"/>
                    <a:pt x="7144" y="571024"/>
                    <a:pt x="8096" y="574834"/>
                  </a:cubicBezTo>
                  <a:cubicBezTo>
                    <a:pt x="10001" y="573881"/>
                    <a:pt x="11906" y="572929"/>
                    <a:pt x="12859" y="571976"/>
                  </a:cubicBezTo>
                  <a:cubicBezTo>
                    <a:pt x="38576" y="554831"/>
                    <a:pt x="64294" y="539591"/>
                    <a:pt x="90011" y="525304"/>
                  </a:cubicBezTo>
                  <a:close/>
                </a:path>
              </a:pathLst>
            </a:custGeom>
            <a:solidFill>
              <a:srgbClr val="b5653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7" name="任意多边形: 形状 137"/>
            <p:cNvSpPr/>
            <p:nvPr/>
          </p:nvSpPr>
          <p:spPr>
            <a:xfrm>
              <a:off x="850680" y="1617840"/>
              <a:ext cx="692280" cy="384480"/>
            </a:xfrm>
            <a:custGeom>
              <a:avLst/>
              <a:gdLst>
                <a:gd name="textAreaLeft" fmla="*/ 0 w 692280"/>
                <a:gd name="textAreaRight" fmla="*/ 692640 w 692280"/>
                <a:gd name="textAreaTop" fmla="*/ 0 h 384480"/>
                <a:gd name="textAreaBottom" fmla="*/ 384840 h 384480"/>
              </a:gdLst>
              <a:ahLst/>
              <a:rect l="textAreaLeft" t="textAreaTop" r="textAreaRight" b="textAreaBottom"/>
              <a:pathLst>
                <a:path w="257175" h="142875">
                  <a:moveTo>
                    <a:pt x="205379" y="41654"/>
                  </a:moveTo>
                  <a:cubicBezTo>
                    <a:pt x="210141" y="40701"/>
                    <a:pt x="243479" y="12126"/>
                    <a:pt x="243479" y="12126"/>
                  </a:cubicBezTo>
                  <a:cubicBezTo>
                    <a:pt x="243479" y="12126"/>
                    <a:pt x="185376" y="15936"/>
                    <a:pt x="157754" y="22604"/>
                  </a:cubicBezTo>
                  <a:cubicBezTo>
                    <a:pt x="130131" y="29271"/>
                    <a:pt x="112986" y="33081"/>
                    <a:pt x="112986" y="33081"/>
                  </a:cubicBezTo>
                  <a:lnTo>
                    <a:pt x="146324" y="8316"/>
                  </a:lnTo>
                  <a:cubicBezTo>
                    <a:pt x="146324" y="8316"/>
                    <a:pt x="95841" y="-1209"/>
                    <a:pt x="61551" y="34034"/>
                  </a:cubicBezTo>
                  <a:cubicBezTo>
                    <a:pt x="27261" y="69276"/>
                    <a:pt x="5354" y="150239"/>
                    <a:pt x="7259" y="142619"/>
                  </a:cubicBezTo>
                  <a:cubicBezTo>
                    <a:pt x="8211" y="137856"/>
                    <a:pt x="23451" y="117854"/>
                    <a:pt x="41549" y="99756"/>
                  </a:cubicBezTo>
                  <a:cubicBezTo>
                    <a:pt x="52026" y="89279"/>
                    <a:pt x="62504" y="80706"/>
                    <a:pt x="72981" y="74991"/>
                  </a:cubicBezTo>
                  <a:cubicBezTo>
                    <a:pt x="101556" y="60704"/>
                    <a:pt x="107271" y="57846"/>
                    <a:pt x="104414" y="61656"/>
                  </a:cubicBezTo>
                  <a:cubicBezTo>
                    <a:pt x="101556" y="64514"/>
                    <a:pt x="85364" y="101661"/>
                    <a:pt x="87269" y="98804"/>
                  </a:cubicBezTo>
                  <a:cubicBezTo>
                    <a:pt x="89174" y="95946"/>
                    <a:pt x="125369" y="86421"/>
                    <a:pt x="164421" y="77849"/>
                  </a:cubicBezTo>
                  <a:cubicBezTo>
                    <a:pt x="175851" y="74991"/>
                    <a:pt x="184424" y="73086"/>
                    <a:pt x="191091" y="72134"/>
                  </a:cubicBezTo>
                  <a:cubicBezTo>
                    <a:pt x="216809" y="60704"/>
                    <a:pt x="242526" y="49274"/>
                    <a:pt x="256814" y="41654"/>
                  </a:cubicBezTo>
                  <a:cubicBezTo>
                    <a:pt x="216809" y="46416"/>
                    <a:pt x="201569" y="42606"/>
                    <a:pt x="205379" y="41654"/>
                  </a:cubicBezTo>
                  <a:close/>
                </a:path>
              </a:pathLst>
            </a:custGeom>
            <a:solidFill>
              <a:srgbClr val="372d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8" name="任意多边形: 形状 138"/>
            <p:cNvSpPr/>
            <p:nvPr/>
          </p:nvSpPr>
          <p:spPr>
            <a:xfrm>
              <a:off x="1125360" y="1956960"/>
              <a:ext cx="564120" cy="179280"/>
            </a:xfrm>
            <a:custGeom>
              <a:avLst/>
              <a:gdLst>
                <a:gd name="textAreaLeft" fmla="*/ 0 w 564120"/>
                <a:gd name="textAreaRight" fmla="*/ 564480 w 564120"/>
                <a:gd name="textAreaTop" fmla="*/ 0 h 179280"/>
                <a:gd name="textAreaBottom" fmla="*/ 179640 h 179280"/>
              </a:gdLst>
              <a:ahLst/>
              <a:rect l="textAreaLeft" t="textAreaTop" r="textAreaRight" b="textAreaBottom"/>
              <a:pathLst>
                <a:path w="209550" h="66675">
                  <a:moveTo>
                    <a:pt x="76676" y="32861"/>
                  </a:moveTo>
                  <a:cubicBezTo>
                    <a:pt x="57626" y="30004"/>
                    <a:pt x="39529" y="18574"/>
                    <a:pt x="26194" y="7144"/>
                  </a:cubicBezTo>
                  <a:cubicBezTo>
                    <a:pt x="21431" y="24289"/>
                    <a:pt x="15716" y="52864"/>
                    <a:pt x="7144" y="63341"/>
                  </a:cubicBezTo>
                  <a:cubicBezTo>
                    <a:pt x="8096" y="62389"/>
                    <a:pt x="9049" y="62389"/>
                    <a:pt x="10001" y="61436"/>
                  </a:cubicBezTo>
                  <a:cubicBezTo>
                    <a:pt x="15716" y="56674"/>
                    <a:pt x="29051" y="24289"/>
                    <a:pt x="29051" y="24289"/>
                  </a:cubicBezTo>
                  <a:cubicBezTo>
                    <a:pt x="29051" y="24289"/>
                    <a:pt x="32861" y="28099"/>
                    <a:pt x="59531" y="38576"/>
                  </a:cubicBezTo>
                  <a:cubicBezTo>
                    <a:pt x="86201" y="48101"/>
                    <a:pt x="133826" y="39529"/>
                    <a:pt x="133826" y="39529"/>
                  </a:cubicBezTo>
                  <a:cubicBezTo>
                    <a:pt x="133826" y="39529"/>
                    <a:pt x="106204" y="60484"/>
                    <a:pt x="102394" y="61436"/>
                  </a:cubicBezTo>
                  <a:cubicBezTo>
                    <a:pt x="99536" y="62389"/>
                    <a:pt x="118586" y="63341"/>
                    <a:pt x="150971" y="55721"/>
                  </a:cubicBezTo>
                  <a:cubicBezTo>
                    <a:pt x="162401" y="52864"/>
                    <a:pt x="172879" y="49054"/>
                    <a:pt x="182404" y="44291"/>
                  </a:cubicBezTo>
                  <a:cubicBezTo>
                    <a:pt x="182404" y="42386"/>
                    <a:pt x="205264" y="26194"/>
                    <a:pt x="206216" y="23336"/>
                  </a:cubicBezTo>
                  <a:cubicBezTo>
                    <a:pt x="170974" y="45244"/>
                    <a:pt x="126206" y="50959"/>
                    <a:pt x="129064" y="49054"/>
                  </a:cubicBezTo>
                  <a:cubicBezTo>
                    <a:pt x="132874" y="47149"/>
                    <a:pt x="163354" y="25241"/>
                    <a:pt x="154781" y="29051"/>
                  </a:cubicBezTo>
                  <a:cubicBezTo>
                    <a:pt x="148114" y="32861"/>
                    <a:pt x="116681" y="38576"/>
                    <a:pt x="76676" y="32861"/>
                  </a:cubicBezTo>
                  <a:close/>
                </a:path>
              </a:pathLst>
            </a:custGeom>
            <a:solidFill>
              <a:srgbClr val="f2f2f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19" name="任意多边形: 形状 139"/>
            <p:cNvSpPr/>
            <p:nvPr/>
          </p:nvSpPr>
          <p:spPr>
            <a:xfrm>
              <a:off x="604800" y="4424040"/>
              <a:ext cx="1487520" cy="384480"/>
            </a:xfrm>
            <a:custGeom>
              <a:avLst/>
              <a:gdLst>
                <a:gd name="textAreaLeft" fmla="*/ 0 w 1487520"/>
                <a:gd name="textAreaRight" fmla="*/ 1487880 w 1487520"/>
                <a:gd name="textAreaTop" fmla="*/ 0 h 384480"/>
                <a:gd name="textAreaBottom" fmla="*/ 384840 h 384480"/>
              </a:gdLst>
              <a:ahLst/>
              <a:rect l="textAreaLeft" t="textAreaTop" r="textAreaRight" b="textAreaBottom"/>
              <a:pathLst>
                <a:path w="552450" h="142875">
                  <a:moveTo>
                    <a:pt x="153829" y="7144"/>
                  </a:moveTo>
                  <a:cubicBezTo>
                    <a:pt x="130969" y="13811"/>
                    <a:pt x="107156" y="19526"/>
                    <a:pt x="84296" y="26194"/>
                  </a:cubicBezTo>
                  <a:cubicBezTo>
                    <a:pt x="58579" y="41434"/>
                    <a:pt x="32861" y="55721"/>
                    <a:pt x="7144" y="70961"/>
                  </a:cubicBezTo>
                  <a:cubicBezTo>
                    <a:pt x="12859" y="98584"/>
                    <a:pt x="27146" y="118586"/>
                    <a:pt x="54769" y="128111"/>
                  </a:cubicBezTo>
                  <a:lnTo>
                    <a:pt x="353854" y="128111"/>
                  </a:lnTo>
                  <a:lnTo>
                    <a:pt x="477679" y="128111"/>
                  </a:lnTo>
                  <a:cubicBezTo>
                    <a:pt x="496729" y="128111"/>
                    <a:pt x="513874" y="133826"/>
                    <a:pt x="524351" y="143351"/>
                  </a:cubicBezTo>
                  <a:lnTo>
                    <a:pt x="547211" y="144304"/>
                  </a:lnTo>
                  <a:lnTo>
                    <a:pt x="547211" y="90011"/>
                  </a:lnTo>
                  <a:cubicBezTo>
                    <a:pt x="457676" y="83344"/>
                    <a:pt x="319564" y="70009"/>
                    <a:pt x="235744" y="54769"/>
                  </a:cubicBezTo>
                  <a:cubicBezTo>
                    <a:pt x="202406" y="48101"/>
                    <a:pt x="177641" y="42386"/>
                    <a:pt x="169069" y="34766"/>
                  </a:cubicBezTo>
                  <a:cubicBezTo>
                    <a:pt x="160496" y="26194"/>
                    <a:pt x="154781" y="16669"/>
                    <a:pt x="153829" y="7144"/>
                  </a:cubicBezTo>
                  <a:close/>
                </a:path>
              </a:pathLst>
            </a:custGeom>
            <a:solidFill>
              <a:srgbClr val="0f1c2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0" name="任意多边形: 形状 140"/>
            <p:cNvSpPr/>
            <p:nvPr/>
          </p:nvSpPr>
          <p:spPr>
            <a:xfrm>
              <a:off x="443160" y="2826360"/>
              <a:ext cx="128160" cy="1153800"/>
            </a:xfrm>
            <a:custGeom>
              <a:avLst/>
              <a:gdLst>
                <a:gd name="textAreaLeft" fmla="*/ 0 w 128160"/>
                <a:gd name="textAreaRight" fmla="*/ 128520 w 128160"/>
                <a:gd name="textAreaTop" fmla="*/ 0 h 1153800"/>
                <a:gd name="textAreaBottom" fmla="*/ 1154160 h 1153800"/>
              </a:gdLst>
              <a:ahLst/>
              <a:rect l="textAreaLeft" t="textAreaTop" r="textAreaRight" b="textAreaBottom"/>
              <a:pathLst>
                <a:path w="47625" h="428625">
                  <a:moveTo>
                    <a:pt x="43339" y="43339"/>
                  </a:moveTo>
                  <a:cubicBezTo>
                    <a:pt x="43339" y="23336"/>
                    <a:pt x="27146" y="7144"/>
                    <a:pt x="7144" y="7144"/>
                  </a:cubicBezTo>
                  <a:lnTo>
                    <a:pt x="7144" y="345281"/>
                  </a:lnTo>
                  <a:lnTo>
                    <a:pt x="7144" y="421481"/>
                  </a:lnTo>
                  <a:cubicBezTo>
                    <a:pt x="11906" y="421481"/>
                    <a:pt x="16669" y="420529"/>
                    <a:pt x="21431" y="418624"/>
                  </a:cubicBezTo>
                  <a:cubicBezTo>
                    <a:pt x="34766" y="412909"/>
                    <a:pt x="43339" y="399574"/>
                    <a:pt x="43339" y="385286"/>
                  </a:cubicBezTo>
                  <a:lnTo>
                    <a:pt x="43339" y="344329"/>
                  </a:lnTo>
                  <a:lnTo>
                    <a:pt x="43339" y="142399"/>
                  </a:lnTo>
                  <a:lnTo>
                    <a:pt x="43339" y="43339"/>
                  </a:lnTo>
                  <a:close/>
                </a:path>
              </a:pathLst>
            </a:custGeom>
            <a:solidFill>
              <a:srgbClr val="071e3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1" name="任意多边形: 形状 141"/>
            <p:cNvSpPr/>
            <p:nvPr/>
          </p:nvSpPr>
          <p:spPr>
            <a:xfrm>
              <a:off x="1825560" y="3416040"/>
              <a:ext cx="461520" cy="179280"/>
            </a:xfrm>
            <a:custGeom>
              <a:avLst/>
              <a:gdLst>
                <a:gd name="textAreaLeft" fmla="*/ 0 w 461520"/>
                <a:gd name="textAreaRight" fmla="*/ 461880 w 461520"/>
                <a:gd name="textAreaTop" fmla="*/ 0 h 179280"/>
                <a:gd name="textAreaBottom" fmla="*/ 179640 h 179280"/>
              </a:gdLst>
              <a:ahLst/>
              <a:rect l="textAreaLeft" t="textAreaTop" r="textAreaRight" b="textAreaBottom"/>
              <a:pathLst>
                <a:path w="171450" h="66675">
                  <a:moveTo>
                    <a:pt x="9049" y="49054"/>
                  </a:moveTo>
                  <a:lnTo>
                    <a:pt x="8096" y="58579"/>
                  </a:lnTo>
                  <a:lnTo>
                    <a:pt x="7144" y="68104"/>
                  </a:lnTo>
                  <a:cubicBezTo>
                    <a:pt x="10001" y="68104"/>
                    <a:pt x="12859" y="68104"/>
                    <a:pt x="16669" y="67151"/>
                  </a:cubicBezTo>
                  <a:lnTo>
                    <a:pt x="16669" y="66199"/>
                  </a:lnTo>
                  <a:lnTo>
                    <a:pt x="22384" y="66199"/>
                  </a:lnTo>
                  <a:cubicBezTo>
                    <a:pt x="25241" y="66199"/>
                    <a:pt x="27146" y="65246"/>
                    <a:pt x="30004" y="65246"/>
                  </a:cubicBezTo>
                  <a:cubicBezTo>
                    <a:pt x="61436" y="59531"/>
                    <a:pt x="76676" y="58579"/>
                    <a:pt x="102394" y="43339"/>
                  </a:cubicBezTo>
                  <a:cubicBezTo>
                    <a:pt x="102394" y="43339"/>
                    <a:pt x="103346" y="43339"/>
                    <a:pt x="103346" y="42386"/>
                  </a:cubicBezTo>
                  <a:cubicBezTo>
                    <a:pt x="106204" y="40481"/>
                    <a:pt x="109061" y="38576"/>
                    <a:pt x="112871" y="36671"/>
                  </a:cubicBezTo>
                  <a:cubicBezTo>
                    <a:pt x="119539" y="31909"/>
                    <a:pt x="125254" y="26194"/>
                    <a:pt x="129064" y="21431"/>
                  </a:cubicBezTo>
                  <a:lnTo>
                    <a:pt x="161449" y="30004"/>
                  </a:lnTo>
                  <a:cubicBezTo>
                    <a:pt x="166211" y="30956"/>
                    <a:pt x="170974" y="28099"/>
                    <a:pt x="171926" y="24289"/>
                  </a:cubicBezTo>
                  <a:lnTo>
                    <a:pt x="171926" y="22384"/>
                  </a:lnTo>
                  <a:cubicBezTo>
                    <a:pt x="172879" y="20479"/>
                    <a:pt x="171926" y="17621"/>
                    <a:pt x="170974" y="15716"/>
                  </a:cubicBezTo>
                  <a:cubicBezTo>
                    <a:pt x="170974" y="15716"/>
                    <a:pt x="169069" y="25241"/>
                    <a:pt x="159544" y="25241"/>
                  </a:cubicBezTo>
                  <a:cubicBezTo>
                    <a:pt x="152876" y="25241"/>
                    <a:pt x="134779" y="16669"/>
                    <a:pt x="124301" y="10954"/>
                  </a:cubicBezTo>
                  <a:cubicBezTo>
                    <a:pt x="119539" y="9049"/>
                    <a:pt x="116681" y="7144"/>
                    <a:pt x="116681" y="7144"/>
                  </a:cubicBezTo>
                  <a:cubicBezTo>
                    <a:pt x="115729" y="7144"/>
                    <a:pt x="116681" y="9049"/>
                    <a:pt x="116681" y="10954"/>
                  </a:cubicBezTo>
                  <a:cubicBezTo>
                    <a:pt x="117634" y="12859"/>
                    <a:pt x="118586" y="15716"/>
                    <a:pt x="118586" y="16669"/>
                  </a:cubicBezTo>
                  <a:cubicBezTo>
                    <a:pt x="118586" y="17621"/>
                    <a:pt x="111919" y="26194"/>
                    <a:pt x="100489" y="33814"/>
                  </a:cubicBezTo>
                  <a:cubicBezTo>
                    <a:pt x="100489" y="33814"/>
                    <a:pt x="100489" y="33814"/>
                    <a:pt x="100489" y="33814"/>
                  </a:cubicBezTo>
                  <a:cubicBezTo>
                    <a:pt x="90011" y="41434"/>
                    <a:pt x="76676" y="48101"/>
                    <a:pt x="59531" y="49054"/>
                  </a:cubicBezTo>
                  <a:cubicBezTo>
                    <a:pt x="41434" y="51911"/>
                    <a:pt x="22384" y="50959"/>
                    <a:pt x="9049" y="49054"/>
                  </a:cubicBezTo>
                  <a:close/>
                </a:path>
              </a:pathLst>
            </a:custGeom>
            <a:solidFill>
              <a:srgbClr val="c8a8a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2" name="任意多边形: 形状 142"/>
            <p:cNvSpPr/>
            <p:nvPr/>
          </p:nvSpPr>
          <p:spPr>
            <a:xfrm>
              <a:off x="1021680" y="2169720"/>
              <a:ext cx="410040" cy="487080"/>
            </a:xfrm>
            <a:custGeom>
              <a:avLst/>
              <a:gdLst>
                <a:gd name="textAreaLeft" fmla="*/ 0 w 410040"/>
                <a:gd name="textAreaRight" fmla="*/ 410400 w 410040"/>
                <a:gd name="textAreaTop" fmla="*/ 0 h 487080"/>
                <a:gd name="textAreaBottom" fmla="*/ 487440 h 487080"/>
              </a:gdLst>
              <a:ahLst/>
              <a:rect l="textAreaLeft" t="textAreaTop" r="textAreaRight" b="textAreaBottom"/>
              <a:pathLst>
                <a:path w="152400" h="180975">
                  <a:moveTo>
                    <a:pt x="9442" y="18574"/>
                  </a:moveTo>
                  <a:cubicBezTo>
                    <a:pt x="869" y="68104"/>
                    <a:pt x="16109" y="117634"/>
                    <a:pt x="58019" y="148114"/>
                  </a:cubicBezTo>
                  <a:cubicBezTo>
                    <a:pt x="73259" y="159544"/>
                    <a:pt x="93262" y="168116"/>
                    <a:pt x="116122" y="173831"/>
                  </a:cubicBezTo>
                  <a:cubicBezTo>
                    <a:pt x="124694" y="174784"/>
                    <a:pt x="135172" y="171926"/>
                    <a:pt x="145649" y="166211"/>
                  </a:cubicBezTo>
                  <a:cubicBezTo>
                    <a:pt x="123742" y="164306"/>
                    <a:pt x="87547" y="157639"/>
                    <a:pt x="60877" y="131921"/>
                  </a:cubicBezTo>
                  <a:cubicBezTo>
                    <a:pt x="53257" y="124301"/>
                    <a:pt x="45637" y="114776"/>
                    <a:pt x="40874" y="104299"/>
                  </a:cubicBezTo>
                  <a:cubicBezTo>
                    <a:pt x="26587" y="74771"/>
                    <a:pt x="24682" y="34766"/>
                    <a:pt x="24682" y="16669"/>
                  </a:cubicBezTo>
                  <a:cubicBezTo>
                    <a:pt x="24682" y="10001"/>
                    <a:pt x="24682" y="7144"/>
                    <a:pt x="24682" y="7144"/>
                  </a:cubicBezTo>
                  <a:cubicBezTo>
                    <a:pt x="24682" y="7144"/>
                    <a:pt x="22777" y="9049"/>
                    <a:pt x="19919" y="10001"/>
                  </a:cubicBezTo>
                  <a:cubicBezTo>
                    <a:pt x="18014" y="10954"/>
                    <a:pt x="15157" y="12859"/>
                    <a:pt x="12299" y="13811"/>
                  </a:cubicBezTo>
                  <a:lnTo>
                    <a:pt x="12299" y="17621"/>
                  </a:lnTo>
                  <a:cubicBezTo>
                    <a:pt x="11347" y="17621"/>
                    <a:pt x="10394" y="18574"/>
                    <a:pt x="9442" y="18574"/>
                  </a:cubicBezTo>
                  <a:close/>
                </a:path>
              </a:pathLst>
            </a:custGeom>
            <a:solidFill>
              <a:srgbClr val="d8bcc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3" name="任意多边形: 形状 143"/>
            <p:cNvSpPr/>
            <p:nvPr/>
          </p:nvSpPr>
          <p:spPr>
            <a:xfrm>
              <a:off x="903600" y="2005560"/>
              <a:ext cx="153720" cy="230760"/>
            </a:xfrm>
            <a:custGeom>
              <a:avLst/>
              <a:gdLst>
                <a:gd name="textAreaLeft" fmla="*/ 0 w 153720"/>
                <a:gd name="textAreaRight" fmla="*/ 154080 w 153720"/>
                <a:gd name="textAreaTop" fmla="*/ 0 h 230760"/>
                <a:gd name="textAreaBottom" fmla="*/ 231120 h 230760"/>
              </a:gdLst>
              <a:ahLst/>
              <a:rect l="textAreaLeft" t="textAreaTop" r="textAreaRight" b="textAreaBottom"/>
              <a:pathLst>
                <a:path w="57150" h="85725">
                  <a:moveTo>
                    <a:pt x="21907" y="70009"/>
                  </a:moveTo>
                  <a:cubicBezTo>
                    <a:pt x="29528" y="82391"/>
                    <a:pt x="41910" y="86201"/>
                    <a:pt x="53340" y="80486"/>
                  </a:cubicBezTo>
                  <a:cubicBezTo>
                    <a:pt x="54292" y="80486"/>
                    <a:pt x="55245" y="79534"/>
                    <a:pt x="56198" y="78581"/>
                  </a:cubicBezTo>
                  <a:lnTo>
                    <a:pt x="57150" y="74771"/>
                  </a:lnTo>
                  <a:cubicBezTo>
                    <a:pt x="56198" y="74771"/>
                    <a:pt x="55245" y="75724"/>
                    <a:pt x="54292" y="75724"/>
                  </a:cubicBezTo>
                  <a:cubicBezTo>
                    <a:pt x="53340" y="75724"/>
                    <a:pt x="52388" y="76676"/>
                    <a:pt x="50482" y="76676"/>
                  </a:cubicBezTo>
                  <a:cubicBezTo>
                    <a:pt x="40957" y="77629"/>
                    <a:pt x="33338" y="76676"/>
                    <a:pt x="22860" y="63341"/>
                  </a:cubicBezTo>
                  <a:cubicBezTo>
                    <a:pt x="22860" y="62389"/>
                    <a:pt x="21907" y="62389"/>
                    <a:pt x="21907" y="61436"/>
                  </a:cubicBezTo>
                  <a:cubicBezTo>
                    <a:pt x="10478" y="46196"/>
                    <a:pt x="7620" y="7144"/>
                    <a:pt x="7620" y="7144"/>
                  </a:cubicBezTo>
                  <a:cubicBezTo>
                    <a:pt x="5715" y="25241"/>
                    <a:pt x="9525" y="48101"/>
                    <a:pt x="19050" y="67151"/>
                  </a:cubicBezTo>
                  <a:cubicBezTo>
                    <a:pt x="19050" y="67151"/>
                    <a:pt x="19050" y="68104"/>
                    <a:pt x="20003" y="68104"/>
                  </a:cubicBezTo>
                  <a:cubicBezTo>
                    <a:pt x="20955" y="68104"/>
                    <a:pt x="21907" y="69056"/>
                    <a:pt x="21907" y="70009"/>
                  </a:cubicBezTo>
                  <a:close/>
                </a:path>
              </a:pathLst>
            </a:custGeom>
            <a:solidFill>
              <a:srgbClr val="d8bcc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4" name="任意多边形: 形状 144"/>
            <p:cNvSpPr/>
            <p:nvPr/>
          </p:nvSpPr>
          <p:spPr>
            <a:xfrm>
              <a:off x="1515240" y="2290320"/>
              <a:ext cx="204840" cy="102240"/>
            </a:xfrm>
            <a:custGeom>
              <a:avLst/>
              <a:gdLst>
                <a:gd name="textAreaLeft" fmla="*/ 0 w 204840"/>
                <a:gd name="textAreaRight" fmla="*/ 205200 w 204840"/>
                <a:gd name="textAreaTop" fmla="*/ 0 h 102240"/>
                <a:gd name="textAreaBottom" fmla="*/ 102600 h 102240"/>
              </a:gdLst>
              <a:ahLst/>
              <a:rect l="textAreaLeft" t="textAreaTop" r="textAreaRight" b="textAreaBottom"/>
              <a:pathLst>
                <a:path w="76200" h="38100">
                  <a:moveTo>
                    <a:pt x="72866" y="17621"/>
                  </a:moveTo>
                  <a:cubicBezTo>
                    <a:pt x="73819" y="16669"/>
                    <a:pt x="73819" y="15716"/>
                    <a:pt x="73819" y="13811"/>
                  </a:cubicBezTo>
                  <a:cubicBezTo>
                    <a:pt x="73819" y="13811"/>
                    <a:pt x="58579" y="18574"/>
                    <a:pt x="40481" y="19526"/>
                  </a:cubicBezTo>
                  <a:cubicBezTo>
                    <a:pt x="22384" y="20479"/>
                    <a:pt x="7144" y="7144"/>
                    <a:pt x="7144" y="7144"/>
                  </a:cubicBezTo>
                  <a:lnTo>
                    <a:pt x="32861" y="33814"/>
                  </a:lnTo>
                  <a:cubicBezTo>
                    <a:pt x="47149" y="29051"/>
                    <a:pt x="64294" y="30956"/>
                    <a:pt x="72866" y="17621"/>
                  </a:cubicBez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5" name="任意多边形: 形状 145"/>
            <p:cNvSpPr/>
            <p:nvPr/>
          </p:nvSpPr>
          <p:spPr>
            <a:xfrm>
              <a:off x="3321000" y="472320"/>
              <a:ext cx="564120" cy="435960"/>
            </a:xfrm>
            <a:custGeom>
              <a:avLst/>
              <a:gdLst>
                <a:gd name="textAreaLeft" fmla="*/ 0 w 564120"/>
                <a:gd name="textAreaRight" fmla="*/ 564480 w 564120"/>
                <a:gd name="textAreaTop" fmla="*/ 0 h 435960"/>
                <a:gd name="textAreaBottom" fmla="*/ 436320 h 435960"/>
              </a:gdLst>
              <a:ahLst/>
              <a:rect l="textAreaLeft" t="textAreaTop" r="textAreaRight" b="textAreaBottom"/>
              <a:pathLst>
                <a:path w="209550" h="161925">
                  <a:moveTo>
                    <a:pt x="7144" y="71811"/>
                  </a:moveTo>
                  <a:cubicBezTo>
                    <a:pt x="7144" y="75621"/>
                    <a:pt x="47149" y="113721"/>
                    <a:pt x="155734" y="156584"/>
                  </a:cubicBezTo>
                  <a:cubicBezTo>
                    <a:pt x="243364" y="145154"/>
                    <a:pt x="202406" y="58476"/>
                    <a:pt x="135731" y="9899"/>
                  </a:cubicBezTo>
                  <a:cubicBezTo>
                    <a:pt x="129064" y="5136"/>
                    <a:pt x="110014" y="7994"/>
                    <a:pt x="110014" y="7994"/>
                  </a:cubicBezTo>
                  <a:lnTo>
                    <a:pt x="7144" y="71811"/>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6" name="任意多边形: 形状 146"/>
            <p:cNvSpPr/>
            <p:nvPr/>
          </p:nvSpPr>
          <p:spPr>
            <a:xfrm>
              <a:off x="1920600" y="1115640"/>
              <a:ext cx="512640" cy="1256400"/>
            </a:xfrm>
            <a:custGeom>
              <a:avLst/>
              <a:gdLst>
                <a:gd name="textAreaLeft" fmla="*/ 0 w 512640"/>
                <a:gd name="textAreaRight" fmla="*/ 513000 w 512640"/>
                <a:gd name="textAreaTop" fmla="*/ 0 h 1256400"/>
                <a:gd name="textAreaBottom" fmla="*/ 1256760 h 1256400"/>
              </a:gdLst>
              <a:ahLst/>
              <a:rect l="textAreaLeft" t="textAreaTop" r="textAreaRight" b="textAreaBottom"/>
              <a:pathLst>
                <a:path w="190500" h="466725">
                  <a:moveTo>
                    <a:pt x="84296" y="7144"/>
                  </a:moveTo>
                  <a:lnTo>
                    <a:pt x="7144" y="381476"/>
                  </a:lnTo>
                  <a:lnTo>
                    <a:pt x="56674" y="406241"/>
                  </a:lnTo>
                  <a:lnTo>
                    <a:pt x="70009" y="412909"/>
                  </a:lnTo>
                  <a:cubicBezTo>
                    <a:pt x="76676" y="397669"/>
                    <a:pt x="88106" y="375761"/>
                    <a:pt x="93821" y="370046"/>
                  </a:cubicBezTo>
                  <a:cubicBezTo>
                    <a:pt x="101441" y="361474"/>
                    <a:pt x="109061" y="372904"/>
                    <a:pt x="105251" y="382429"/>
                  </a:cubicBezTo>
                  <a:cubicBezTo>
                    <a:pt x="103346" y="387191"/>
                    <a:pt x="100489" y="395764"/>
                    <a:pt x="97631" y="404336"/>
                  </a:cubicBezTo>
                  <a:cubicBezTo>
                    <a:pt x="105251" y="389096"/>
                    <a:pt x="113824" y="372904"/>
                    <a:pt x="117634" y="369094"/>
                  </a:cubicBezTo>
                  <a:cubicBezTo>
                    <a:pt x="125254" y="360521"/>
                    <a:pt x="132874" y="371951"/>
                    <a:pt x="129064" y="381476"/>
                  </a:cubicBezTo>
                  <a:cubicBezTo>
                    <a:pt x="128111" y="384334"/>
                    <a:pt x="126206" y="390049"/>
                    <a:pt x="123349" y="396716"/>
                  </a:cubicBezTo>
                  <a:cubicBezTo>
                    <a:pt x="121444" y="401479"/>
                    <a:pt x="119539" y="407194"/>
                    <a:pt x="117634" y="412909"/>
                  </a:cubicBezTo>
                  <a:cubicBezTo>
                    <a:pt x="121444" y="406241"/>
                    <a:pt x="124301" y="399574"/>
                    <a:pt x="128111" y="394811"/>
                  </a:cubicBezTo>
                  <a:cubicBezTo>
                    <a:pt x="130969" y="391001"/>
                    <a:pt x="132874" y="388144"/>
                    <a:pt x="133826" y="386239"/>
                  </a:cubicBezTo>
                  <a:cubicBezTo>
                    <a:pt x="141446" y="377666"/>
                    <a:pt x="149066" y="389096"/>
                    <a:pt x="145256" y="398621"/>
                  </a:cubicBezTo>
                  <a:cubicBezTo>
                    <a:pt x="145256" y="399574"/>
                    <a:pt x="144304" y="401479"/>
                    <a:pt x="143351" y="403384"/>
                  </a:cubicBezTo>
                  <a:cubicBezTo>
                    <a:pt x="141446" y="408146"/>
                    <a:pt x="139541" y="413861"/>
                    <a:pt x="137636" y="419576"/>
                  </a:cubicBezTo>
                  <a:cubicBezTo>
                    <a:pt x="140494" y="413861"/>
                    <a:pt x="143351" y="409099"/>
                    <a:pt x="146209" y="405289"/>
                  </a:cubicBezTo>
                  <a:cubicBezTo>
                    <a:pt x="147161" y="404336"/>
                    <a:pt x="147161" y="403384"/>
                    <a:pt x="148114" y="402431"/>
                  </a:cubicBezTo>
                  <a:cubicBezTo>
                    <a:pt x="154781" y="394811"/>
                    <a:pt x="161449" y="404336"/>
                    <a:pt x="158591" y="412909"/>
                  </a:cubicBezTo>
                  <a:cubicBezTo>
                    <a:pt x="158591" y="412909"/>
                    <a:pt x="158591" y="413861"/>
                    <a:pt x="157639" y="413861"/>
                  </a:cubicBezTo>
                  <a:cubicBezTo>
                    <a:pt x="154781" y="421481"/>
                    <a:pt x="148114" y="439579"/>
                    <a:pt x="143351" y="451009"/>
                  </a:cubicBezTo>
                  <a:lnTo>
                    <a:pt x="167164" y="463391"/>
                  </a:lnTo>
                  <a:lnTo>
                    <a:pt x="175736" y="429101"/>
                  </a:lnTo>
                  <a:lnTo>
                    <a:pt x="191929" y="364331"/>
                  </a:lnTo>
                  <a:cubicBezTo>
                    <a:pt x="191929" y="364331"/>
                    <a:pt x="186214" y="354806"/>
                    <a:pt x="170021" y="337661"/>
                  </a:cubicBezTo>
                  <a:cubicBezTo>
                    <a:pt x="153829" y="321469"/>
                    <a:pt x="94774" y="331946"/>
                    <a:pt x="73819" y="312896"/>
                  </a:cubicBezTo>
                  <a:cubicBezTo>
                    <a:pt x="52864" y="294799"/>
                    <a:pt x="84296" y="7144"/>
                    <a:pt x="84296" y="7144"/>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7" name="任意多边形: 形状 147"/>
            <p:cNvSpPr/>
            <p:nvPr/>
          </p:nvSpPr>
          <p:spPr>
            <a:xfrm>
              <a:off x="2351520" y="2008080"/>
              <a:ext cx="743760" cy="435960"/>
            </a:xfrm>
            <a:custGeom>
              <a:avLst/>
              <a:gdLst>
                <a:gd name="textAreaLeft" fmla="*/ 0 w 743760"/>
                <a:gd name="textAreaRight" fmla="*/ 744120 w 743760"/>
                <a:gd name="textAreaTop" fmla="*/ 0 h 435960"/>
                <a:gd name="textAreaBottom" fmla="*/ 436320 h 435960"/>
              </a:gdLst>
              <a:ahLst/>
              <a:rect l="textAreaLeft" t="textAreaTop" r="textAreaRight" b="textAreaBottom"/>
              <a:pathLst>
                <a:path w="276225" h="161925">
                  <a:moveTo>
                    <a:pt x="101441" y="69056"/>
                  </a:moveTo>
                  <a:cubicBezTo>
                    <a:pt x="61436" y="58579"/>
                    <a:pt x="31909" y="32861"/>
                    <a:pt x="31909" y="32861"/>
                  </a:cubicBezTo>
                  <a:lnTo>
                    <a:pt x="15716" y="97631"/>
                  </a:lnTo>
                  <a:lnTo>
                    <a:pt x="7144" y="131921"/>
                  </a:lnTo>
                  <a:lnTo>
                    <a:pt x="13811" y="132874"/>
                  </a:lnTo>
                  <a:lnTo>
                    <a:pt x="86201" y="142399"/>
                  </a:lnTo>
                  <a:lnTo>
                    <a:pt x="216694" y="160496"/>
                  </a:lnTo>
                  <a:lnTo>
                    <a:pt x="270986" y="7144"/>
                  </a:lnTo>
                  <a:cubicBezTo>
                    <a:pt x="230981" y="35719"/>
                    <a:pt x="186214" y="64294"/>
                    <a:pt x="155734" y="70961"/>
                  </a:cubicBezTo>
                  <a:cubicBezTo>
                    <a:pt x="137636" y="75724"/>
                    <a:pt x="118586" y="73819"/>
                    <a:pt x="101441" y="69056"/>
                  </a:cubicBez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8" name="任意多边形: 形状 148"/>
            <p:cNvSpPr/>
            <p:nvPr/>
          </p:nvSpPr>
          <p:spPr>
            <a:xfrm>
              <a:off x="4316040" y="3041640"/>
              <a:ext cx="281880" cy="153720"/>
            </a:xfrm>
            <a:custGeom>
              <a:avLst/>
              <a:gdLst>
                <a:gd name="textAreaLeft" fmla="*/ 0 w 281880"/>
                <a:gd name="textAreaRight" fmla="*/ 282240 w 281880"/>
                <a:gd name="textAreaTop" fmla="*/ 0 h 153720"/>
                <a:gd name="textAreaBottom" fmla="*/ 154080 h 153720"/>
              </a:gdLst>
              <a:ahLst/>
              <a:rect l="textAreaLeft" t="textAreaTop" r="textAreaRight" b="textAreaBottom"/>
              <a:pathLst>
                <a:path w="104775" h="57150">
                  <a:moveTo>
                    <a:pt x="87154" y="7144"/>
                  </a:moveTo>
                  <a:cubicBezTo>
                    <a:pt x="93821" y="15716"/>
                    <a:pt x="105251" y="28099"/>
                    <a:pt x="98584" y="35719"/>
                  </a:cubicBezTo>
                  <a:cubicBezTo>
                    <a:pt x="90964" y="43339"/>
                    <a:pt x="72866" y="33814"/>
                    <a:pt x="72866" y="33814"/>
                  </a:cubicBezTo>
                  <a:cubicBezTo>
                    <a:pt x="72866" y="33814"/>
                    <a:pt x="71914" y="48101"/>
                    <a:pt x="66199" y="50006"/>
                  </a:cubicBezTo>
                  <a:cubicBezTo>
                    <a:pt x="60484" y="52864"/>
                    <a:pt x="50006" y="45244"/>
                    <a:pt x="50006" y="45244"/>
                  </a:cubicBezTo>
                  <a:cubicBezTo>
                    <a:pt x="50006" y="45244"/>
                    <a:pt x="51911" y="48101"/>
                    <a:pt x="45244" y="52864"/>
                  </a:cubicBezTo>
                  <a:cubicBezTo>
                    <a:pt x="39529" y="57626"/>
                    <a:pt x="21431" y="52864"/>
                    <a:pt x="14764" y="46196"/>
                  </a:cubicBezTo>
                  <a:cubicBezTo>
                    <a:pt x="8096" y="39529"/>
                    <a:pt x="7144" y="25241"/>
                    <a:pt x="7144" y="25241"/>
                  </a:cubicBezTo>
                  <a:lnTo>
                    <a:pt x="87154" y="7144"/>
                  </a:ln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29" name="任意多边形: 形状 149"/>
            <p:cNvSpPr/>
            <p:nvPr/>
          </p:nvSpPr>
          <p:spPr>
            <a:xfrm>
              <a:off x="3349080" y="715680"/>
              <a:ext cx="487080" cy="204840"/>
            </a:xfrm>
            <a:custGeom>
              <a:avLst/>
              <a:gdLst>
                <a:gd name="textAreaLeft" fmla="*/ 0 w 487080"/>
                <a:gd name="textAreaRight" fmla="*/ 487440 w 487080"/>
                <a:gd name="textAreaTop" fmla="*/ 0 h 204840"/>
                <a:gd name="textAreaBottom" fmla="*/ 205200 h 204840"/>
              </a:gdLst>
              <a:ahLst/>
              <a:rect l="textAreaLeft" t="textAreaTop" r="textAreaRight" b="textAreaBottom"/>
              <a:pathLst>
                <a:path w="180975" h="76200">
                  <a:moveTo>
                    <a:pt x="173831" y="56674"/>
                  </a:moveTo>
                  <a:cubicBezTo>
                    <a:pt x="173831" y="56674"/>
                    <a:pt x="160496" y="68104"/>
                    <a:pt x="139541" y="73819"/>
                  </a:cubicBezTo>
                  <a:cubicBezTo>
                    <a:pt x="118586" y="79534"/>
                    <a:pt x="49054" y="61436"/>
                    <a:pt x="53816" y="62389"/>
                  </a:cubicBezTo>
                  <a:cubicBezTo>
                    <a:pt x="58579" y="63341"/>
                    <a:pt x="102394" y="56674"/>
                    <a:pt x="101441" y="55721"/>
                  </a:cubicBezTo>
                  <a:cubicBezTo>
                    <a:pt x="89059" y="51911"/>
                    <a:pt x="32861" y="38576"/>
                    <a:pt x="7144" y="7144"/>
                  </a:cubicBezTo>
                  <a:lnTo>
                    <a:pt x="77629" y="19526"/>
                  </a:lnTo>
                  <a:lnTo>
                    <a:pt x="173831" y="56674"/>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0" name="任意多边形: 形状 150"/>
            <p:cNvSpPr/>
            <p:nvPr/>
          </p:nvSpPr>
          <p:spPr>
            <a:xfrm>
              <a:off x="3215520" y="433080"/>
              <a:ext cx="641160" cy="358920"/>
            </a:xfrm>
            <a:custGeom>
              <a:avLst/>
              <a:gdLst>
                <a:gd name="textAreaLeft" fmla="*/ 0 w 641160"/>
                <a:gd name="textAreaRight" fmla="*/ 641520 w 641160"/>
                <a:gd name="textAreaTop" fmla="*/ 0 h 358920"/>
                <a:gd name="textAreaBottom" fmla="*/ 359280 h 358920"/>
              </a:gdLst>
              <a:ahLst/>
              <a:rect l="textAreaLeft" t="textAreaTop" r="textAreaRight" b="textAreaBottom"/>
              <a:pathLst>
                <a:path w="238125" h="133350">
                  <a:moveTo>
                    <a:pt x="47158" y="13043"/>
                  </a:moveTo>
                  <a:cubicBezTo>
                    <a:pt x="14773" y="24473"/>
                    <a:pt x="10010" y="30188"/>
                    <a:pt x="10010" y="30188"/>
                  </a:cubicBezTo>
                  <a:cubicBezTo>
                    <a:pt x="10010" y="30188"/>
                    <a:pt x="87163" y="29236"/>
                    <a:pt x="84305" y="28283"/>
                  </a:cubicBezTo>
                  <a:cubicBezTo>
                    <a:pt x="81448" y="27331"/>
                    <a:pt x="6200" y="65431"/>
                    <a:pt x="7153" y="64478"/>
                  </a:cubicBezTo>
                  <a:cubicBezTo>
                    <a:pt x="9058" y="63526"/>
                    <a:pt x="79543" y="54953"/>
                    <a:pt x="100498" y="57811"/>
                  </a:cubicBezTo>
                  <a:cubicBezTo>
                    <a:pt x="121453" y="59716"/>
                    <a:pt x="121453" y="61621"/>
                    <a:pt x="119548" y="61621"/>
                  </a:cubicBezTo>
                  <a:cubicBezTo>
                    <a:pt x="117643" y="61621"/>
                    <a:pt x="61445" y="81623"/>
                    <a:pt x="66208" y="81623"/>
                  </a:cubicBezTo>
                  <a:cubicBezTo>
                    <a:pt x="70970" y="81623"/>
                    <a:pt x="116690" y="86386"/>
                    <a:pt x="138598" y="89243"/>
                  </a:cubicBezTo>
                  <a:cubicBezTo>
                    <a:pt x="160505" y="93053"/>
                    <a:pt x="177650" y="99721"/>
                    <a:pt x="170030" y="97816"/>
                  </a:cubicBezTo>
                  <a:cubicBezTo>
                    <a:pt x="162410" y="94958"/>
                    <a:pt x="109070" y="105436"/>
                    <a:pt x="112880" y="104483"/>
                  </a:cubicBezTo>
                  <a:cubicBezTo>
                    <a:pt x="116690" y="103531"/>
                    <a:pt x="233848" y="130201"/>
                    <a:pt x="233848" y="130201"/>
                  </a:cubicBezTo>
                  <a:cubicBezTo>
                    <a:pt x="233848" y="130201"/>
                    <a:pt x="226228" y="101626"/>
                    <a:pt x="194795" y="87338"/>
                  </a:cubicBezTo>
                  <a:cubicBezTo>
                    <a:pt x="163363" y="73051"/>
                    <a:pt x="150028" y="70193"/>
                    <a:pt x="153838" y="70193"/>
                  </a:cubicBezTo>
                  <a:cubicBezTo>
                    <a:pt x="157648" y="71146"/>
                    <a:pt x="171935" y="67336"/>
                    <a:pt x="216703" y="80671"/>
                  </a:cubicBezTo>
                  <a:cubicBezTo>
                    <a:pt x="199558" y="58763"/>
                    <a:pt x="127168" y="38761"/>
                    <a:pt x="125263" y="37808"/>
                  </a:cubicBezTo>
                  <a:cubicBezTo>
                    <a:pt x="123358" y="36856"/>
                    <a:pt x="155743" y="32093"/>
                    <a:pt x="179555" y="38761"/>
                  </a:cubicBezTo>
                  <a:cubicBezTo>
                    <a:pt x="160505" y="19711"/>
                    <a:pt x="97640" y="-4102"/>
                    <a:pt x="47158" y="13043"/>
                  </a:cubicBezTo>
                  <a:close/>
                </a:path>
              </a:pathLst>
            </a:custGeom>
            <a:solidFill>
              <a:srgbClr val="2238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1" name="任意多边形: 形状 151"/>
            <p:cNvSpPr/>
            <p:nvPr/>
          </p:nvSpPr>
          <p:spPr>
            <a:xfrm>
              <a:off x="4349520" y="2916720"/>
              <a:ext cx="204840" cy="204840"/>
            </a:xfrm>
            <a:custGeom>
              <a:avLst/>
              <a:gdLst>
                <a:gd name="textAreaLeft" fmla="*/ 0 w 204840"/>
                <a:gd name="textAreaRight" fmla="*/ 205200 w 204840"/>
                <a:gd name="textAreaTop" fmla="*/ 0 h 204840"/>
                <a:gd name="textAreaBottom" fmla="*/ 205200 h 204840"/>
              </a:gdLst>
              <a:ahLst/>
              <a:rect l="textAreaLeft" t="textAreaTop" r="textAreaRight" b="textAreaBottom"/>
              <a:pathLst>
                <a:path w="76200" h="76200">
                  <a:moveTo>
                    <a:pt x="71820" y="53507"/>
                  </a:moveTo>
                  <a:cubicBezTo>
                    <a:pt x="68962" y="61127"/>
                    <a:pt x="57532" y="69700"/>
                    <a:pt x="43245" y="69700"/>
                  </a:cubicBezTo>
                  <a:cubicBezTo>
                    <a:pt x="36577" y="69700"/>
                    <a:pt x="27052" y="70652"/>
                    <a:pt x="23242" y="63032"/>
                  </a:cubicBezTo>
                  <a:cubicBezTo>
                    <a:pt x="17527" y="51602"/>
                    <a:pt x="33720" y="39220"/>
                    <a:pt x="33720" y="39220"/>
                  </a:cubicBezTo>
                  <a:cubicBezTo>
                    <a:pt x="-570" y="42077"/>
                    <a:pt x="7050" y="19217"/>
                    <a:pt x="9907" y="13502"/>
                  </a:cubicBezTo>
                  <a:cubicBezTo>
                    <a:pt x="10860" y="12550"/>
                    <a:pt x="3240" y="43030"/>
                    <a:pt x="46102" y="31600"/>
                  </a:cubicBezTo>
                  <a:cubicBezTo>
                    <a:pt x="46102" y="32552"/>
                    <a:pt x="50865" y="39220"/>
                    <a:pt x="48960" y="41125"/>
                  </a:cubicBezTo>
                  <a:cubicBezTo>
                    <a:pt x="41340" y="47792"/>
                    <a:pt x="19432" y="55412"/>
                    <a:pt x="25148" y="63032"/>
                  </a:cubicBezTo>
                  <a:cubicBezTo>
                    <a:pt x="31815" y="72557"/>
                    <a:pt x="55627" y="64937"/>
                    <a:pt x="62295" y="61127"/>
                  </a:cubicBezTo>
                  <a:cubicBezTo>
                    <a:pt x="75630" y="53507"/>
                    <a:pt x="71820" y="18265"/>
                    <a:pt x="63248" y="10645"/>
                  </a:cubicBezTo>
                  <a:cubicBezTo>
                    <a:pt x="50865" y="-785"/>
                    <a:pt x="84202" y="16360"/>
                    <a:pt x="71820" y="53507"/>
                  </a:cubicBez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2" name="任意多边形: 形状 152"/>
            <p:cNvSpPr/>
            <p:nvPr/>
          </p:nvSpPr>
          <p:spPr>
            <a:xfrm>
              <a:off x="4249080" y="2964600"/>
              <a:ext cx="102240" cy="179280"/>
            </a:xfrm>
            <a:custGeom>
              <a:avLst/>
              <a:gdLst>
                <a:gd name="textAreaLeft" fmla="*/ 0 w 102240"/>
                <a:gd name="textAreaRight" fmla="*/ 102600 w 102240"/>
                <a:gd name="textAreaTop" fmla="*/ 0 h 179280"/>
                <a:gd name="textAreaBottom" fmla="*/ 179640 h 179280"/>
              </a:gdLst>
              <a:ahLst/>
              <a:rect l="textAreaLeft" t="textAreaTop" r="textAreaRight" b="textAreaBottom"/>
              <a:pathLst>
                <a:path w="38100" h="66675">
                  <a:moveTo>
                    <a:pt x="32861" y="54769"/>
                  </a:moveTo>
                  <a:cubicBezTo>
                    <a:pt x="32861" y="54769"/>
                    <a:pt x="32861" y="54769"/>
                    <a:pt x="32861" y="54769"/>
                  </a:cubicBezTo>
                  <a:close/>
                  <a:moveTo>
                    <a:pt x="7144" y="13811"/>
                  </a:moveTo>
                  <a:cubicBezTo>
                    <a:pt x="12859" y="39529"/>
                    <a:pt x="15716" y="51911"/>
                    <a:pt x="35719" y="66199"/>
                  </a:cubicBezTo>
                  <a:cubicBezTo>
                    <a:pt x="33814" y="60484"/>
                    <a:pt x="33814" y="54769"/>
                    <a:pt x="33814" y="54769"/>
                  </a:cubicBezTo>
                  <a:cubicBezTo>
                    <a:pt x="33814" y="54769"/>
                    <a:pt x="33814" y="54769"/>
                    <a:pt x="33814" y="54769"/>
                  </a:cubicBezTo>
                  <a:cubicBezTo>
                    <a:pt x="30956" y="51911"/>
                    <a:pt x="27146" y="46196"/>
                    <a:pt x="24289" y="37624"/>
                  </a:cubicBezTo>
                  <a:cubicBezTo>
                    <a:pt x="23336" y="33814"/>
                    <a:pt x="21431" y="30956"/>
                    <a:pt x="20479" y="27146"/>
                  </a:cubicBezTo>
                  <a:cubicBezTo>
                    <a:pt x="18574" y="19526"/>
                    <a:pt x="16669" y="12859"/>
                    <a:pt x="15716" y="7144"/>
                  </a:cubicBezTo>
                  <a:cubicBezTo>
                    <a:pt x="11906" y="10001"/>
                    <a:pt x="10001" y="11906"/>
                    <a:pt x="7144" y="13811"/>
                  </a:cubicBez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3" name="任意多边形: 形状 153"/>
            <p:cNvSpPr/>
            <p:nvPr/>
          </p:nvSpPr>
          <p:spPr>
            <a:xfrm>
              <a:off x="4318560" y="3044160"/>
              <a:ext cx="281880" cy="153720"/>
            </a:xfrm>
            <a:custGeom>
              <a:avLst/>
              <a:gdLst>
                <a:gd name="textAreaLeft" fmla="*/ 0 w 281880"/>
                <a:gd name="textAreaRight" fmla="*/ 282240 w 281880"/>
                <a:gd name="textAreaTop" fmla="*/ 0 h 153720"/>
                <a:gd name="textAreaBottom" fmla="*/ 154080 h 153720"/>
              </a:gdLst>
              <a:ahLst/>
              <a:rect l="textAreaLeft" t="textAreaTop" r="textAreaRight" b="textAreaBottom"/>
              <a:pathLst>
                <a:path w="104775" h="57150">
                  <a:moveTo>
                    <a:pt x="28099" y="46196"/>
                  </a:moveTo>
                  <a:cubicBezTo>
                    <a:pt x="15716" y="41434"/>
                    <a:pt x="10001" y="28099"/>
                    <a:pt x="10001" y="28099"/>
                  </a:cubicBezTo>
                  <a:cubicBezTo>
                    <a:pt x="10001" y="28099"/>
                    <a:pt x="9049" y="27146"/>
                    <a:pt x="7144" y="25241"/>
                  </a:cubicBezTo>
                  <a:cubicBezTo>
                    <a:pt x="7144" y="25241"/>
                    <a:pt x="7144" y="25241"/>
                    <a:pt x="7144" y="25241"/>
                  </a:cubicBezTo>
                  <a:lnTo>
                    <a:pt x="9049" y="36671"/>
                  </a:lnTo>
                  <a:cubicBezTo>
                    <a:pt x="10001" y="40481"/>
                    <a:pt x="11906" y="43339"/>
                    <a:pt x="13811" y="46196"/>
                  </a:cubicBezTo>
                  <a:cubicBezTo>
                    <a:pt x="17621" y="50006"/>
                    <a:pt x="24289" y="52864"/>
                    <a:pt x="30956" y="53816"/>
                  </a:cubicBezTo>
                  <a:cubicBezTo>
                    <a:pt x="35719" y="54769"/>
                    <a:pt x="41434" y="54769"/>
                    <a:pt x="43339" y="52864"/>
                  </a:cubicBezTo>
                  <a:cubicBezTo>
                    <a:pt x="47149" y="50006"/>
                    <a:pt x="48101" y="48101"/>
                    <a:pt x="48101" y="46196"/>
                  </a:cubicBezTo>
                  <a:cubicBezTo>
                    <a:pt x="48101" y="45244"/>
                    <a:pt x="48101" y="45244"/>
                    <a:pt x="48101" y="45244"/>
                  </a:cubicBezTo>
                  <a:cubicBezTo>
                    <a:pt x="48101" y="45244"/>
                    <a:pt x="48101" y="45244"/>
                    <a:pt x="49054" y="46196"/>
                  </a:cubicBezTo>
                  <a:cubicBezTo>
                    <a:pt x="51911" y="48101"/>
                    <a:pt x="59531" y="51911"/>
                    <a:pt x="64294" y="50006"/>
                  </a:cubicBezTo>
                  <a:cubicBezTo>
                    <a:pt x="68104" y="48101"/>
                    <a:pt x="70009" y="41434"/>
                    <a:pt x="70009" y="37624"/>
                  </a:cubicBezTo>
                  <a:cubicBezTo>
                    <a:pt x="70009" y="35719"/>
                    <a:pt x="70961" y="33814"/>
                    <a:pt x="70961" y="33814"/>
                  </a:cubicBezTo>
                  <a:cubicBezTo>
                    <a:pt x="70961" y="33814"/>
                    <a:pt x="72866" y="34766"/>
                    <a:pt x="74771" y="35719"/>
                  </a:cubicBezTo>
                  <a:cubicBezTo>
                    <a:pt x="80486" y="37624"/>
                    <a:pt x="91916" y="40481"/>
                    <a:pt x="96679" y="35719"/>
                  </a:cubicBezTo>
                  <a:cubicBezTo>
                    <a:pt x="98584" y="33814"/>
                    <a:pt x="99536" y="31909"/>
                    <a:pt x="98584" y="29051"/>
                  </a:cubicBezTo>
                  <a:cubicBezTo>
                    <a:pt x="97631" y="21431"/>
                    <a:pt x="90011" y="12859"/>
                    <a:pt x="85249" y="7144"/>
                  </a:cubicBezTo>
                  <a:lnTo>
                    <a:pt x="95726" y="24289"/>
                  </a:lnTo>
                  <a:cubicBezTo>
                    <a:pt x="95726" y="24289"/>
                    <a:pt x="96679" y="25241"/>
                    <a:pt x="96679" y="27146"/>
                  </a:cubicBezTo>
                  <a:cubicBezTo>
                    <a:pt x="96679" y="29051"/>
                    <a:pt x="96679" y="30956"/>
                    <a:pt x="94774" y="32861"/>
                  </a:cubicBezTo>
                  <a:cubicBezTo>
                    <a:pt x="91916" y="36671"/>
                    <a:pt x="84296" y="35719"/>
                    <a:pt x="79534" y="33814"/>
                  </a:cubicBezTo>
                  <a:cubicBezTo>
                    <a:pt x="78581" y="33814"/>
                    <a:pt x="77629" y="32861"/>
                    <a:pt x="76676" y="31909"/>
                  </a:cubicBezTo>
                  <a:cubicBezTo>
                    <a:pt x="73819" y="30004"/>
                    <a:pt x="70009" y="23336"/>
                    <a:pt x="68104" y="19526"/>
                  </a:cubicBezTo>
                  <a:cubicBezTo>
                    <a:pt x="66199" y="20479"/>
                    <a:pt x="64294" y="20479"/>
                    <a:pt x="62389" y="21431"/>
                  </a:cubicBezTo>
                  <a:cubicBezTo>
                    <a:pt x="64294" y="26194"/>
                    <a:pt x="69056" y="33814"/>
                    <a:pt x="69056" y="34766"/>
                  </a:cubicBezTo>
                  <a:cubicBezTo>
                    <a:pt x="69056" y="35719"/>
                    <a:pt x="68104" y="37624"/>
                    <a:pt x="66199" y="39529"/>
                  </a:cubicBezTo>
                  <a:cubicBezTo>
                    <a:pt x="63341" y="42386"/>
                    <a:pt x="59531" y="45244"/>
                    <a:pt x="55721" y="44291"/>
                  </a:cubicBezTo>
                  <a:cubicBezTo>
                    <a:pt x="53816" y="43339"/>
                    <a:pt x="50006" y="40481"/>
                    <a:pt x="45244" y="35719"/>
                  </a:cubicBezTo>
                  <a:cubicBezTo>
                    <a:pt x="42386" y="32861"/>
                    <a:pt x="39529" y="30004"/>
                    <a:pt x="36671" y="27146"/>
                  </a:cubicBezTo>
                  <a:cubicBezTo>
                    <a:pt x="34766" y="25241"/>
                    <a:pt x="31909" y="20479"/>
                    <a:pt x="30004" y="18574"/>
                  </a:cubicBezTo>
                  <a:lnTo>
                    <a:pt x="27146" y="21431"/>
                  </a:lnTo>
                  <a:cubicBezTo>
                    <a:pt x="29051" y="24289"/>
                    <a:pt x="30956" y="28099"/>
                    <a:pt x="33814" y="30956"/>
                  </a:cubicBezTo>
                  <a:cubicBezTo>
                    <a:pt x="36671" y="34766"/>
                    <a:pt x="39529" y="38576"/>
                    <a:pt x="42386" y="41434"/>
                  </a:cubicBezTo>
                  <a:cubicBezTo>
                    <a:pt x="45244" y="44291"/>
                    <a:pt x="46196" y="46196"/>
                    <a:pt x="46196" y="46196"/>
                  </a:cubicBezTo>
                  <a:cubicBezTo>
                    <a:pt x="46196" y="46196"/>
                    <a:pt x="43339" y="49054"/>
                    <a:pt x="36671" y="48101"/>
                  </a:cubicBezTo>
                  <a:cubicBezTo>
                    <a:pt x="33814" y="48101"/>
                    <a:pt x="30956" y="47149"/>
                    <a:pt x="28099" y="46196"/>
                  </a:cubicBez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4" name="任意多边形: 形状 154"/>
            <p:cNvSpPr/>
            <p:nvPr/>
          </p:nvSpPr>
          <p:spPr>
            <a:xfrm>
              <a:off x="4531320" y="3044160"/>
              <a:ext cx="204840" cy="153720"/>
            </a:xfrm>
            <a:custGeom>
              <a:avLst/>
              <a:gdLst>
                <a:gd name="textAreaLeft" fmla="*/ 0 w 204840"/>
                <a:gd name="textAreaRight" fmla="*/ 205200 w 204840"/>
                <a:gd name="textAreaTop" fmla="*/ 0 h 153720"/>
                <a:gd name="textAreaBottom" fmla="*/ 154080 h 153720"/>
              </a:gdLst>
              <a:ahLst/>
              <a:rect l="textAreaLeft" t="textAreaTop" r="textAreaRight" b="textAreaBottom"/>
              <a:pathLst>
                <a:path w="76200" h="57150">
                  <a:moveTo>
                    <a:pt x="16669" y="18574"/>
                  </a:moveTo>
                  <a:cubicBezTo>
                    <a:pt x="21431" y="24289"/>
                    <a:pt x="65246" y="63341"/>
                    <a:pt x="72866" y="51911"/>
                  </a:cubicBezTo>
                  <a:cubicBezTo>
                    <a:pt x="66199" y="50959"/>
                    <a:pt x="58579" y="46196"/>
                    <a:pt x="45244" y="38576"/>
                  </a:cubicBezTo>
                  <a:cubicBezTo>
                    <a:pt x="31909" y="30956"/>
                    <a:pt x="9049" y="7144"/>
                    <a:pt x="9049" y="7144"/>
                  </a:cubicBezTo>
                  <a:lnTo>
                    <a:pt x="7144" y="7144"/>
                  </a:lnTo>
                  <a:lnTo>
                    <a:pt x="8096" y="7144"/>
                  </a:lnTo>
                  <a:cubicBezTo>
                    <a:pt x="11906" y="12859"/>
                    <a:pt x="12859" y="13811"/>
                    <a:pt x="16669" y="18574"/>
                  </a:cubicBez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5" name="任意多边形: 形状 155"/>
            <p:cNvSpPr/>
            <p:nvPr/>
          </p:nvSpPr>
          <p:spPr>
            <a:xfrm>
              <a:off x="4368600" y="3023640"/>
              <a:ext cx="76680" cy="102240"/>
            </a:xfrm>
            <a:custGeom>
              <a:avLst/>
              <a:gdLst>
                <a:gd name="textAreaLeft" fmla="*/ 0 w 76680"/>
                <a:gd name="textAreaRight" fmla="*/ 77040 w 76680"/>
                <a:gd name="textAreaTop" fmla="*/ 0 h 102240"/>
                <a:gd name="textAreaBottom" fmla="*/ 102600 h 102240"/>
              </a:gdLst>
              <a:ahLst/>
              <a:rect l="textAreaLeft" t="textAreaTop" r="textAreaRight" b="textAreaBottom"/>
              <a:pathLst>
                <a:path w="28575" h="38100">
                  <a:moveTo>
                    <a:pt x="12348" y="-31722"/>
                  </a:moveTo>
                  <a:lnTo>
                    <a:pt x="12348" y="-31722"/>
                  </a:lnTo>
                  <a:cubicBezTo>
                    <a:pt x="10443" y="31909"/>
                    <a:pt x="5680" y="27146"/>
                    <a:pt x="7585" y="18574"/>
                  </a:cubicBezTo>
                  <a:cubicBezTo>
                    <a:pt x="9490" y="10001"/>
                    <a:pt x="23778" y="7144"/>
                    <a:pt x="23778" y="7144"/>
                  </a:cubicBezTo>
                  <a:lnTo>
                    <a:pt x="20920" y="10954"/>
                  </a:lnTo>
                  <a:cubicBezTo>
                    <a:pt x="20920" y="10954"/>
                    <a:pt x="12348" y="12859"/>
                    <a:pt x="11395" y="19526"/>
                  </a:cubicBezTo>
                  <a:cubicBezTo>
                    <a:pt x="9490" y="25241"/>
                    <a:pt x="13300" y="29051"/>
                    <a:pt x="15205" y="30956"/>
                  </a:cubicBezTo>
                  <a:lnTo>
                    <a:pt x="12348" y="-31722"/>
                  </a:ln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6" name="任意多边形: 形状 156"/>
            <p:cNvSpPr/>
            <p:nvPr/>
          </p:nvSpPr>
          <p:spPr>
            <a:xfrm>
              <a:off x="4312080" y="3045240"/>
              <a:ext cx="102240" cy="102240"/>
            </a:xfrm>
            <a:custGeom>
              <a:avLst/>
              <a:gdLst>
                <a:gd name="textAreaLeft" fmla="*/ 0 w 102240"/>
                <a:gd name="textAreaRight" fmla="*/ 102600 w 102240"/>
                <a:gd name="textAreaTop" fmla="*/ 0 h 102240"/>
                <a:gd name="textAreaBottom" fmla="*/ 102600 h 102240"/>
              </a:gdLst>
              <a:ahLst/>
              <a:rect l="textAreaLeft" t="textAreaTop" r="textAreaRight" b="textAreaBottom"/>
              <a:pathLst>
                <a:path w="38100" h="38100">
                  <a:moveTo>
                    <a:pt x="27675" y="13484"/>
                  </a:moveTo>
                  <a:lnTo>
                    <a:pt x="27675" y="13484"/>
                  </a:lnTo>
                  <a:cubicBezTo>
                    <a:pt x="26723" y="12532"/>
                    <a:pt x="24818" y="11579"/>
                    <a:pt x="21960" y="11579"/>
                  </a:cubicBezTo>
                  <a:cubicBezTo>
                    <a:pt x="19103" y="10627"/>
                    <a:pt x="15293" y="10627"/>
                    <a:pt x="13388" y="12532"/>
                  </a:cubicBezTo>
                  <a:lnTo>
                    <a:pt x="12435" y="12532"/>
                  </a:lnTo>
                  <a:cubicBezTo>
                    <a:pt x="7673" y="16342"/>
                    <a:pt x="14340" y="32534"/>
                    <a:pt x="14340" y="-32049"/>
                  </a:cubicBezTo>
                  <a:lnTo>
                    <a:pt x="10530" y="-30144"/>
                  </a:lnTo>
                  <a:cubicBezTo>
                    <a:pt x="10530" y="-30144"/>
                    <a:pt x="2910" y="15389"/>
                    <a:pt x="10530" y="9674"/>
                  </a:cubicBezTo>
                  <a:cubicBezTo>
                    <a:pt x="10530" y="9674"/>
                    <a:pt x="11483" y="8722"/>
                    <a:pt x="11483" y="8722"/>
                  </a:cubicBezTo>
                  <a:cubicBezTo>
                    <a:pt x="15293" y="6817"/>
                    <a:pt x="19103" y="6817"/>
                    <a:pt x="23865" y="7769"/>
                  </a:cubicBezTo>
                  <a:cubicBezTo>
                    <a:pt x="27675" y="8722"/>
                    <a:pt x="31485" y="10627"/>
                    <a:pt x="32438" y="11579"/>
                  </a:cubicBezTo>
                  <a:lnTo>
                    <a:pt x="27675" y="13484"/>
                  </a:ln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7" name="任意多边形: 形状 157"/>
            <p:cNvSpPr/>
            <p:nvPr/>
          </p:nvSpPr>
          <p:spPr>
            <a:xfrm>
              <a:off x="4956840" y="1488600"/>
              <a:ext cx="666720" cy="435960"/>
            </a:xfrm>
            <a:custGeom>
              <a:avLst/>
              <a:gdLst>
                <a:gd name="textAreaLeft" fmla="*/ 0 w 666720"/>
                <a:gd name="textAreaRight" fmla="*/ 667080 w 666720"/>
                <a:gd name="textAreaTop" fmla="*/ 0 h 435960"/>
                <a:gd name="textAreaBottom" fmla="*/ 436320 h 435960"/>
              </a:gdLst>
              <a:ahLst/>
              <a:rect l="textAreaLeft" t="textAreaTop" r="textAreaRight" b="textAreaBottom"/>
              <a:pathLst>
                <a:path w="247650" h="161925">
                  <a:moveTo>
                    <a:pt x="244466" y="121942"/>
                  </a:moveTo>
                  <a:cubicBezTo>
                    <a:pt x="245418" y="107654"/>
                    <a:pt x="260658" y="76222"/>
                    <a:pt x="222558" y="50504"/>
                  </a:cubicBezTo>
                  <a:cubicBezTo>
                    <a:pt x="184458" y="24787"/>
                    <a:pt x="150168" y="32407"/>
                    <a:pt x="123498" y="21929"/>
                  </a:cubicBezTo>
                  <a:cubicBezTo>
                    <a:pt x="96828" y="11452"/>
                    <a:pt x="93018" y="3832"/>
                    <a:pt x="93971" y="8594"/>
                  </a:cubicBezTo>
                  <a:cubicBezTo>
                    <a:pt x="94923" y="12404"/>
                    <a:pt x="97781" y="23834"/>
                    <a:pt x="97781" y="23834"/>
                  </a:cubicBezTo>
                  <a:lnTo>
                    <a:pt x="79683" y="7642"/>
                  </a:lnTo>
                  <a:cubicBezTo>
                    <a:pt x="79683" y="7642"/>
                    <a:pt x="68253" y="26692"/>
                    <a:pt x="50156" y="50504"/>
                  </a:cubicBezTo>
                  <a:cubicBezTo>
                    <a:pt x="32058" y="74317"/>
                    <a:pt x="9198" y="80984"/>
                    <a:pt x="7293" y="110512"/>
                  </a:cubicBezTo>
                  <a:cubicBezTo>
                    <a:pt x="4436" y="140039"/>
                    <a:pt x="43488" y="150517"/>
                    <a:pt x="43488" y="150517"/>
                  </a:cubicBezTo>
                  <a:cubicBezTo>
                    <a:pt x="43488" y="150517"/>
                    <a:pt x="93018" y="159089"/>
                    <a:pt x="131118" y="153374"/>
                  </a:cubicBezTo>
                  <a:cubicBezTo>
                    <a:pt x="170171" y="146707"/>
                    <a:pt x="244466" y="121942"/>
                    <a:pt x="244466" y="121942"/>
                  </a:cubicBezTo>
                  <a:close/>
                </a:path>
              </a:pathLst>
            </a:custGeom>
            <a:solidFill>
              <a:srgbClr val="8772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8" name="任意多边形: 形状 158"/>
            <p:cNvSpPr/>
            <p:nvPr/>
          </p:nvSpPr>
          <p:spPr>
            <a:xfrm>
              <a:off x="4958280" y="2039760"/>
              <a:ext cx="128160" cy="256320"/>
            </a:xfrm>
            <a:custGeom>
              <a:avLst/>
              <a:gdLst>
                <a:gd name="textAreaLeft" fmla="*/ 0 w 128160"/>
                <a:gd name="textAreaRight" fmla="*/ 128520 w 128160"/>
                <a:gd name="textAreaTop" fmla="*/ 0 h 256320"/>
                <a:gd name="textAreaBottom" fmla="*/ 256680 h 256320"/>
              </a:gdLst>
              <a:ahLst/>
              <a:rect l="textAreaLeft" t="textAreaTop" r="textAreaRight" b="textAreaBottom"/>
              <a:pathLst>
                <a:path w="47625" h="95250">
                  <a:moveTo>
                    <a:pt x="38132" y="22067"/>
                  </a:moveTo>
                  <a:cubicBezTo>
                    <a:pt x="38132" y="22067"/>
                    <a:pt x="31464" y="14447"/>
                    <a:pt x="27654" y="11590"/>
                  </a:cubicBezTo>
                  <a:cubicBezTo>
                    <a:pt x="23844" y="8732"/>
                    <a:pt x="14319" y="1112"/>
                    <a:pt x="8604" y="16352"/>
                  </a:cubicBezTo>
                  <a:cubicBezTo>
                    <a:pt x="2889" y="31592"/>
                    <a:pt x="15272" y="78265"/>
                    <a:pt x="22892" y="84932"/>
                  </a:cubicBezTo>
                  <a:cubicBezTo>
                    <a:pt x="30512" y="92552"/>
                    <a:pt x="36227" y="89695"/>
                    <a:pt x="37179" y="83027"/>
                  </a:cubicBezTo>
                  <a:cubicBezTo>
                    <a:pt x="38132" y="76360"/>
                    <a:pt x="40989" y="61120"/>
                    <a:pt x="40989" y="61120"/>
                  </a:cubicBezTo>
                  <a:lnTo>
                    <a:pt x="38132" y="22067"/>
                  </a:ln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39" name="任意多边形: 形状 159"/>
            <p:cNvSpPr/>
            <p:nvPr/>
          </p:nvSpPr>
          <p:spPr>
            <a:xfrm>
              <a:off x="4973400" y="2074680"/>
              <a:ext cx="76680" cy="179280"/>
            </a:xfrm>
            <a:custGeom>
              <a:avLst/>
              <a:gdLst>
                <a:gd name="textAreaLeft" fmla="*/ 0 w 76680"/>
                <a:gd name="textAreaRight" fmla="*/ 77040 w 76680"/>
                <a:gd name="textAreaTop" fmla="*/ 0 h 179280"/>
                <a:gd name="textAreaBottom" fmla="*/ 179640 h 179280"/>
              </a:gdLst>
              <a:ahLst/>
              <a:rect l="textAreaLeft" t="textAreaTop" r="textAreaRight" b="textAreaBottom"/>
              <a:pathLst>
                <a:path w="28575" h="66675">
                  <a:moveTo>
                    <a:pt x="7778" y="10006"/>
                  </a:moveTo>
                  <a:cubicBezTo>
                    <a:pt x="4920" y="18578"/>
                    <a:pt x="12540" y="56678"/>
                    <a:pt x="14445" y="62394"/>
                  </a:cubicBezTo>
                  <a:cubicBezTo>
                    <a:pt x="16350" y="68109"/>
                    <a:pt x="21113" y="67156"/>
                    <a:pt x="21113" y="60489"/>
                  </a:cubicBezTo>
                  <a:cubicBezTo>
                    <a:pt x="22065" y="54773"/>
                    <a:pt x="21113" y="50011"/>
                    <a:pt x="19208" y="42391"/>
                  </a:cubicBezTo>
                  <a:cubicBezTo>
                    <a:pt x="17303" y="35723"/>
                    <a:pt x="21113" y="36676"/>
                    <a:pt x="21113" y="30009"/>
                  </a:cubicBezTo>
                  <a:cubicBezTo>
                    <a:pt x="22065" y="20484"/>
                    <a:pt x="11588" y="-472"/>
                    <a:pt x="7778" y="10006"/>
                  </a:cubicBezTo>
                  <a:close/>
                </a:path>
              </a:pathLst>
            </a:custGeom>
            <a:solidFill>
              <a:srgbClr val="c8a1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0" name="任意多边形: 形状 160"/>
            <p:cNvSpPr/>
            <p:nvPr/>
          </p:nvSpPr>
          <p:spPr>
            <a:xfrm>
              <a:off x="5595840" y="2019240"/>
              <a:ext cx="128160" cy="256320"/>
            </a:xfrm>
            <a:custGeom>
              <a:avLst/>
              <a:gdLst>
                <a:gd name="textAreaLeft" fmla="*/ 0 w 128160"/>
                <a:gd name="textAreaRight" fmla="*/ 128520 w 128160"/>
                <a:gd name="textAreaTop" fmla="*/ 0 h 256320"/>
                <a:gd name="textAreaBottom" fmla="*/ 256680 h 256320"/>
              </a:gdLst>
              <a:ahLst/>
              <a:rect l="textAreaLeft" t="textAreaTop" r="textAreaRight" b="textAreaBottom"/>
              <a:pathLst>
                <a:path w="47625" h="95250">
                  <a:moveTo>
                    <a:pt x="10001" y="22067"/>
                  </a:moveTo>
                  <a:cubicBezTo>
                    <a:pt x="10001" y="22067"/>
                    <a:pt x="16669" y="14447"/>
                    <a:pt x="20479" y="11590"/>
                  </a:cubicBezTo>
                  <a:cubicBezTo>
                    <a:pt x="24289" y="8732"/>
                    <a:pt x="33814" y="1112"/>
                    <a:pt x="39529" y="16352"/>
                  </a:cubicBezTo>
                  <a:cubicBezTo>
                    <a:pt x="45244" y="31592"/>
                    <a:pt x="32861" y="78265"/>
                    <a:pt x="25241" y="84932"/>
                  </a:cubicBezTo>
                  <a:cubicBezTo>
                    <a:pt x="17621" y="92552"/>
                    <a:pt x="11906" y="89695"/>
                    <a:pt x="10954" y="83027"/>
                  </a:cubicBezTo>
                  <a:cubicBezTo>
                    <a:pt x="10001" y="76360"/>
                    <a:pt x="7144" y="61120"/>
                    <a:pt x="7144" y="61120"/>
                  </a:cubicBezTo>
                  <a:lnTo>
                    <a:pt x="10001" y="22067"/>
                  </a:lnTo>
                  <a:close/>
                </a:path>
              </a:pathLst>
            </a:custGeom>
            <a:solidFill>
              <a:srgbClr val="d8c1c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1" name="任意多边形: 形状 161"/>
            <p:cNvSpPr/>
            <p:nvPr/>
          </p:nvSpPr>
          <p:spPr>
            <a:xfrm>
              <a:off x="5630760" y="2052720"/>
              <a:ext cx="76680" cy="179280"/>
            </a:xfrm>
            <a:custGeom>
              <a:avLst/>
              <a:gdLst>
                <a:gd name="textAreaLeft" fmla="*/ 0 w 76680"/>
                <a:gd name="textAreaRight" fmla="*/ 77040 w 76680"/>
                <a:gd name="textAreaTop" fmla="*/ 0 h 179280"/>
                <a:gd name="textAreaBottom" fmla="*/ 179640 h 179280"/>
              </a:gdLst>
              <a:ahLst/>
              <a:rect l="textAreaLeft" t="textAreaTop" r="textAreaRight" b="textAreaBottom"/>
              <a:pathLst>
                <a:path w="28575" h="66675">
                  <a:moveTo>
                    <a:pt x="20852" y="9652"/>
                  </a:moveTo>
                  <a:cubicBezTo>
                    <a:pt x="23710" y="18224"/>
                    <a:pt x="16090" y="56324"/>
                    <a:pt x="14185" y="62039"/>
                  </a:cubicBezTo>
                  <a:cubicBezTo>
                    <a:pt x="12280" y="67754"/>
                    <a:pt x="7517" y="66802"/>
                    <a:pt x="7517" y="60134"/>
                  </a:cubicBezTo>
                  <a:cubicBezTo>
                    <a:pt x="6565" y="54419"/>
                    <a:pt x="7517" y="49657"/>
                    <a:pt x="9422" y="42037"/>
                  </a:cubicBezTo>
                  <a:cubicBezTo>
                    <a:pt x="11327" y="35369"/>
                    <a:pt x="7517" y="36322"/>
                    <a:pt x="7517" y="29654"/>
                  </a:cubicBezTo>
                  <a:cubicBezTo>
                    <a:pt x="7517" y="20129"/>
                    <a:pt x="17995" y="127"/>
                    <a:pt x="20852" y="9652"/>
                  </a:cubicBezTo>
                  <a:close/>
                </a:path>
              </a:pathLst>
            </a:custGeom>
            <a:solidFill>
              <a:srgbClr val="c8a1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2" name="任意多边形: 形状 162"/>
            <p:cNvSpPr/>
            <p:nvPr/>
          </p:nvSpPr>
          <p:spPr>
            <a:xfrm>
              <a:off x="4982760" y="1992600"/>
              <a:ext cx="76680" cy="256320"/>
            </a:xfrm>
            <a:custGeom>
              <a:avLst/>
              <a:gdLst>
                <a:gd name="textAreaLeft" fmla="*/ 0 w 76680"/>
                <a:gd name="textAreaRight" fmla="*/ 77040 w 76680"/>
                <a:gd name="textAreaTop" fmla="*/ 0 h 256320"/>
                <a:gd name="textAreaBottom" fmla="*/ 256680 h 256320"/>
              </a:gdLst>
              <a:ahLst/>
              <a:rect l="textAreaLeft" t="textAreaTop" r="textAreaRight" b="textAreaBottom"/>
              <a:pathLst>
                <a:path w="28575" h="95250">
                  <a:moveTo>
                    <a:pt x="7144" y="8096"/>
                  </a:moveTo>
                  <a:cubicBezTo>
                    <a:pt x="8096" y="11906"/>
                    <a:pt x="25241" y="98584"/>
                    <a:pt x="25241" y="96679"/>
                  </a:cubicBezTo>
                  <a:cubicBezTo>
                    <a:pt x="26194" y="94774"/>
                    <a:pt x="21431" y="7144"/>
                    <a:pt x="21431" y="7144"/>
                  </a:cubicBezTo>
                  <a:lnTo>
                    <a:pt x="7144" y="8096"/>
                  </a:lnTo>
                  <a:close/>
                </a:path>
              </a:pathLst>
            </a:custGeom>
            <a:solidFill>
              <a:srgbClr val="8772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3" name="任意多边形: 形状 163"/>
            <p:cNvSpPr/>
            <p:nvPr/>
          </p:nvSpPr>
          <p:spPr>
            <a:xfrm>
              <a:off x="5610600" y="2003040"/>
              <a:ext cx="76680" cy="256320"/>
            </a:xfrm>
            <a:custGeom>
              <a:avLst/>
              <a:gdLst>
                <a:gd name="textAreaLeft" fmla="*/ 0 w 76680"/>
                <a:gd name="textAreaRight" fmla="*/ 77040 w 76680"/>
                <a:gd name="textAreaTop" fmla="*/ 0 h 256320"/>
                <a:gd name="textAreaBottom" fmla="*/ 256680 h 256320"/>
              </a:gdLst>
              <a:ahLst/>
              <a:rect l="textAreaLeft" t="textAreaTop" r="textAreaRight" b="textAreaBottom"/>
              <a:pathLst>
                <a:path w="28575" h="95250">
                  <a:moveTo>
                    <a:pt x="25367" y="8096"/>
                  </a:moveTo>
                  <a:cubicBezTo>
                    <a:pt x="24415" y="11906"/>
                    <a:pt x="7270" y="98584"/>
                    <a:pt x="7270" y="96679"/>
                  </a:cubicBezTo>
                  <a:cubicBezTo>
                    <a:pt x="6317" y="94774"/>
                    <a:pt x="11080" y="7144"/>
                    <a:pt x="11080" y="7144"/>
                  </a:cubicBezTo>
                  <a:lnTo>
                    <a:pt x="25367" y="8096"/>
                  </a:lnTo>
                  <a:close/>
                </a:path>
              </a:pathLst>
            </a:custGeom>
            <a:solidFill>
              <a:srgbClr val="8772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4" name="任意多边形: 形状 164"/>
            <p:cNvSpPr/>
            <p:nvPr/>
          </p:nvSpPr>
          <p:spPr>
            <a:xfrm>
              <a:off x="5025240" y="1510560"/>
              <a:ext cx="615240" cy="384480"/>
            </a:xfrm>
            <a:custGeom>
              <a:avLst/>
              <a:gdLst>
                <a:gd name="textAreaLeft" fmla="*/ 0 w 615240"/>
                <a:gd name="textAreaRight" fmla="*/ 615600 w 615240"/>
                <a:gd name="textAreaTop" fmla="*/ 0 h 384480"/>
                <a:gd name="textAreaBottom" fmla="*/ 384840 h 384480"/>
              </a:gdLst>
              <a:ahLst/>
              <a:rect l="textAreaLeft" t="textAreaTop" r="textAreaRight" b="textAreaBottom"/>
              <a:pathLst>
                <a:path w="228600" h="142875">
                  <a:moveTo>
                    <a:pt x="77082" y="39529"/>
                  </a:moveTo>
                  <a:cubicBezTo>
                    <a:pt x="62794" y="20479"/>
                    <a:pt x="58032" y="7144"/>
                    <a:pt x="58032" y="7144"/>
                  </a:cubicBezTo>
                  <a:cubicBezTo>
                    <a:pt x="58032" y="7144"/>
                    <a:pt x="51364" y="24289"/>
                    <a:pt x="51364" y="42386"/>
                  </a:cubicBezTo>
                  <a:cubicBezTo>
                    <a:pt x="51364" y="60484"/>
                    <a:pt x="58984" y="79534"/>
                    <a:pt x="57079" y="75724"/>
                  </a:cubicBezTo>
                  <a:cubicBezTo>
                    <a:pt x="54222" y="71914"/>
                    <a:pt x="41839" y="36671"/>
                    <a:pt x="41839" y="36671"/>
                  </a:cubicBezTo>
                  <a:cubicBezTo>
                    <a:pt x="41839" y="36671"/>
                    <a:pt x="27552" y="53816"/>
                    <a:pt x="25647" y="74771"/>
                  </a:cubicBezTo>
                  <a:cubicBezTo>
                    <a:pt x="23742" y="95726"/>
                    <a:pt x="27552" y="108109"/>
                    <a:pt x="25647" y="105251"/>
                  </a:cubicBezTo>
                  <a:cubicBezTo>
                    <a:pt x="23742" y="102394"/>
                    <a:pt x="14217" y="69056"/>
                    <a:pt x="14217" y="69056"/>
                  </a:cubicBezTo>
                  <a:cubicBezTo>
                    <a:pt x="-4833" y="93821"/>
                    <a:pt x="17074" y="132874"/>
                    <a:pt x="50412" y="138589"/>
                  </a:cubicBezTo>
                  <a:lnTo>
                    <a:pt x="43744" y="115729"/>
                  </a:lnTo>
                  <a:cubicBezTo>
                    <a:pt x="43744" y="115729"/>
                    <a:pt x="60889" y="130969"/>
                    <a:pt x="78987" y="134779"/>
                  </a:cubicBezTo>
                  <a:cubicBezTo>
                    <a:pt x="97084" y="138589"/>
                    <a:pt x="103752" y="140494"/>
                    <a:pt x="99942" y="138589"/>
                  </a:cubicBezTo>
                  <a:cubicBezTo>
                    <a:pt x="96132" y="135731"/>
                    <a:pt x="75177" y="92869"/>
                    <a:pt x="75177" y="92869"/>
                  </a:cubicBezTo>
                  <a:cubicBezTo>
                    <a:pt x="75177" y="92869"/>
                    <a:pt x="118992" y="117634"/>
                    <a:pt x="128517" y="120491"/>
                  </a:cubicBezTo>
                  <a:cubicBezTo>
                    <a:pt x="138994" y="123349"/>
                    <a:pt x="145662" y="127159"/>
                    <a:pt x="140900" y="124301"/>
                  </a:cubicBezTo>
                  <a:cubicBezTo>
                    <a:pt x="136137" y="121444"/>
                    <a:pt x="123754" y="101441"/>
                    <a:pt x="123754" y="101441"/>
                  </a:cubicBezTo>
                  <a:lnTo>
                    <a:pt x="172332" y="110966"/>
                  </a:lnTo>
                  <a:lnTo>
                    <a:pt x="124707" y="64294"/>
                  </a:lnTo>
                  <a:cubicBezTo>
                    <a:pt x="124707" y="64294"/>
                    <a:pt x="173284" y="79534"/>
                    <a:pt x="193287" y="90011"/>
                  </a:cubicBezTo>
                  <a:cubicBezTo>
                    <a:pt x="213289" y="101441"/>
                    <a:pt x="229482" y="123349"/>
                    <a:pt x="229482" y="121444"/>
                  </a:cubicBezTo>
                  <a:cubicBezTo>
                    <a:pt x="229482" y="119539"/>
                    <a:pt x="216147" y="81439"/>
                    <a:pt x="191382" y="60484"/>
                  </a:cubicBezTo>
                  <a:cubicBezTo>
                    <a:pt x="165664" y="39529"/>
                    <a:pt x="118992" y="26194"/>
                    <a:pt x="122802" y="28099"/>
                  </a:cubicBezTo>
                  <a:cubicBezTo>
                    <a:pt x="126612" y="30004"/>
                    <a:pt x="138994" y="46196"/>
                    <a:pt x="138994" y="46196"/>
                  </a:cubicBezTo>
                  <a:cubicBezTo>
                    <a:pt x="138994" y="46196"/>
                    <a:pt x="111372" y="39529"/>
                    <a:pt x="98037" y="28099"/>
                  </a:cubicBezTo>
                  <a:cubicBezTo>
                    <a:pt x="83750" y="15716"/>
                    <a:pt x="83750" y="15716"/>
                    <a:pt x="83750" y="15716"/>
                  </a:cubicBezTo>
                  <a:cubicBezTo>
                    <a:pt x="83750" y="15716"/>
                    <a:pt x="98989" y="51911"/>
                    <a:pt x="98989" y="52864"/>
                  </a:cubicBezTo>
                  <a:cubicBezTo>
                    <a:pt x="98989" y="55721"/>
                    <a:pt x="77082" y="39529"/>
                    <a:pt x="77082" y="39529"/>
                  </a:cubicBezTo>
                  <a:close/>
                </a:path>
              </a:pathLst>
            </a:custGeom>
            <a:solidFill>
              <a:srgbClr val="947e4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5" name="任意多边形: 形状 165"/>
            <p:cNvSpPr/>
            <p:nvPr/>
          </p:nvSpPr>
          <p:spPr>
            <a:xfrm>
              <a:off x="5020560" y="2208240"/>
              <a:ext cx="641160" cy="410040"/>
            </a:xfrm>
            <a:custGeom>
              <a:avLst/>
              <a:gdLst>
                <a:gd name="textAreaLeft" fmla="*/ 0 w 641160"/>
                <a:gd name="textAreaRight" fmla="*/ 641520 w 641160"/>
                <a:gd name="textAreaTop" fmla="*/ 0 h 410040"/>
                <a:gd name="textAreaBottom" fmla="*/ 410400 h 410040"/>
              </a:gdLst>
              <a:ahLst/>
              <a:rect l="textAreaLeft" t="textAreaTop" r="textAreaRight" b="textAreaBottom"/>
              <a:pathLst>
                <a:path w="238125" h="152400">
                  <a:moveTo>
                    <a:pt x="96954" y="127159"/>
                  </a:moveTo>
                  <a:cubicBezTo>
                    <a:pt x="82666" y="121444"/>
                    <a:pt x="67426" y="110966"/>
                    <a:pt x="53139" y="97631"/>
                  </a:cubicBezTo>
                  <a:cubicBezTo>
                    <a:pt x="33136" y="78581"/>
                    <a:pt x="18849" y="37624"/>
                    <a:pt x="11229" y="11906"/>
                  </a:cubicBezTo>
                  <a:cubicBezTo>
                    <a:pt x="10276" y="11906"/>
                    <a:pt x="10276" y="7144"/>
                    <a:pt x="9324" y="7144"/>
                  </a:cubicBezTo>
                  <a:cubicBezTo>
                    <a:pt x="-1154" y="48101"/>
                    <a:pt x="28374" y="88106"/>
                    <a:pt x="50281" y="111919"/>
                  </a:cubicBezTo>
                  <a:cubicBezTo>
                    <a:pt x="57901" y="119539"/>
                    <a:pt x="65521" y="126206"/>
                    <a:pt x="73141" y="131921"/>
                  </a:cubicBezTo>
                  <a:cubicBezTo>
                    <a:pt x="91239" y="145256"/>
                    <a:pt x="110289" y="152876"/>
                    <a:pt x="123624" y="152876"/>
                  </a:cubicBezTo>
                  <a:cubicBezTo>
                    <a:pt x="144579" y="153829"/>
                    <a:pt x="166486" y="142399"/>
                    <a:pt x="186489" y="124301"/>
                  </a:cubicBezTo>
                  <a:cubicBezTo>
                    <a:pt x="189346" y="121444"/>
                    <a:pt x="192204" y="118586"/>
                    <a:pt x="195061" y="115729"/>
                  </a:cubicBezTo>
                  <a:cubicBezTo>
                    <a:pt x="218874" y="89059"/>
                    <a:pt x="234114" y="54769"/>
                    <a:pt x="234114" y="19526"/>
                  </a:cubicBezTo>
                  <a:cubicBezTo>
                    <a:pt x="233161" y="19526"/>
                    <a:pt x="227446" y="12859"/>
                    <a:pt x="226494" y="13811"/>
                  </a:cubicBezTo>
                  <a:cubicBezTo>
                    <a:pt x="221731" y="42386"/>
                    <a:pt x="211254" y="78581"/>
                    <a:pt x="191251" y="99536"/>
                  </a:cubicBezTo>
                  <a:cubicBezTo>
                    <a:pt x="182679" y="109061"/>
                    <a:pt x="173154" y="116681"/>
                    <a:pt x="162676" y="122396"/>
                  </a:cubicBezTo>
                  <a:cubicBezTo>
                    <a:pt x="149341" y="130016"/>
                    <a:pt x="136006" y="133826"/>
                    <a:pt x="122671" y="133826"/>
                  </a:cubicBezTo>
                  <a:cubicBezTo>
                    <a:pt x="115051" y="132874"/>
                    <a:pt x="106479" y="130969"/>
                    <a:pt x="96954" y="127159"/>
                  </a:cubicBezTo>
                  <a:close/>
                </a:path>
              </a:pathLst>
            </a:custGeom>
            <a:solidFill>
              <a:srgbClr val="8772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6" name="任意多边形: 形状 166"/>
            <p:cNvSpPr/>
            <p:nvPr/>
          </p:nvSpPr>
          <p:spPr>
            <a:xfrm>
              <a:off x="5016240" y="2226240"/>
              <a:ext cx="666720" cy="487080"/>
            </a:xfrm>
            <a:custGeom>
              <a:avLst/>
              <a:gdLst>
                <a:gd name="textAreaLeft" fmla="*/ 0 w 666720"/>
                <a:gd name="textAreaRight" fmla="*/ 667080 w 666720"/>
                <a:gd name="textAreaTop" fmla="*/ 0 h 487080"/>
                <a:gd name="textAreaBottom" fmla="*/ 487440 h 487080"/>
              </a:gdLst>
              <a:ahLst/>
              <a:rect l="textAreaLeft" t="textAreaTop" r="textAreaRight" b="textAreaBottom"/>
              <a:pathLst>
                <a:path w="247650" h="180975">
                  <a:moveTo>
                    <a:pt x="11906" y="20479"/>
                  </a:moveTo>
                  <a:lnTo>
                    <a:pt x="7144" y="20479"/>
                  </a:lnTo>
                  <a:cubicBezTo>
                    <a:pt x="7144" y="20479"/>
                    <a:pt x="12859" y="45244"/>
                    <a:pt x="14764" y="61436"/>
                  </a:cubicBezTo>
                  <a:cubicBezTo>
                    <a:pt x="16669" y="78581"/>
                    <a:pt x="28099" y="98584"/>
                    <a:pt x="27146" y="93821"/>
                  </a:cubicBezTo>
                  <a:cubicBezTo>
                    <a:pt x="26194" y="89059"/>
                    <a:pt x="28099" y="89059"/>
                    <a:pt x="28099" y="89059"/>
                  </a:cubicBezTo>
                  <a:cubicBezTo>
                    <a:pt x="31909" y="95726"/>
                    <a:pt x="57626" y="139541"/>
                    <a:pt x="56674" y="130969"/>
                  </a:cubicBezTo>
                  <a:cubicBezTo>
                    <a:pt x="56674" y="129064"/>
                    <a:pt x="56674" y="121444"/>
                    <a:pt x="56674" y="121444"/>
                  </a:cubicBezTo>
                  <a:cubicBezTo>
                    <a:pt x="56674" y="121444"/>
                    <a:pt x="69056" y="140494"/>
                    <a:pt x="80486" y="150019"/>
                  </a:cubicBezTo>
                  <a:cubicBezTo>
                    <a:pt x="91916" y="160496"/>
                    <a:pt x="105251" y="167164"/>
                    <a:pt x="106204" y="165259"/>
                  </a:cubicBezTo>
                  <a:cubicBezTo>
                    <a:pt x="107156" y="163354"/>
                    <a:pt x="98584" y="149066"/>
                    <a:pt x="98584" y="149066"/>
                  </a:cubicBezTo>
                  <a:cubicBezTo>
                    <a:pt x="98584" y="149066"/>
                    <a:pt x="132874" y="175736"/>
                    <a:pt x="132874" y="173831"/>
                  </a:cubicBezTo>
                  <a:cubicBezTo>
                    <a:pt x="132874" y="171926"/>
                    <a:pt x="132874" y="163354"/>
                    <a:pt x="132874" y="163354"/>
                  </a:cubicBezTo>
                  <a:cubicBezTo>
                    <a:pt x="132874" y="163354"/>
                    <a:pt x="135731" y="176689"/>
                    <a:pt x="135731" y="175736"/>
                  </a:cubicBezTo>
                  <a:cubicBezTo>
                    <a:pt x="135731" y="174784"/>
                    <a:pt x="167164" y="153829"/>
                    <a:pt x="169069" y="150019"/>
                  </a:cubicBezTo>
                  <a:cubicBezTo>
                    <a:pt x="170974" y="146209"/>
                    <a:pt x="171926" y="145256"/>
                    <a:pt x="170974" y="146209"/>
                  </a:cubicBezTo>
                  <a:cubicBezTo>
                    <a:pt x="170974" y="147161"/>
                    <a:pt x="164306" y="164306"/>
                    <a:pt x="165259" y="163354"/>
                  </a:cubicBezTo>
                  <a:cubicBezTo>
                    <a:pt x="166211" y="162401"/>
                    <a:pt x="191929" y="144304"/>
                    <a:pt x="196691" y="133826"/>
                  </a:cubicBezTo>
                  <a:cubicBezTo>
                    <a:pt x="201454" y="123349"/>
                    <a:pt x="201454" y="120491"/>
                    <a:pt x="202406" y="121444"/>
                  </a:cubicBezTo>
                  <a:cubicBezTo>
                    <a:pt x="202406" y="123349"/>
                    <a:pt x="202406" y="137636"/>
                    <a:pt x="204311" y="134779"/>
                  </a:cubicBezTo>
                  <a:cubicBezTo>
                    <a:pt x="211931" y="121444"/>
                    <a:pt x="229076" y="82391"/>
                    <a:pt x="229076" y="82391"/>
                  </a:cubicBezTo>
                  <a:cubicBezTo>
                    <a:pt x="229076" y="84296"/>
                    <a:pt x="231934" y="98584"/>
                    <a:pt x="231934" y="95726"/>
                  </a:cubicBezTo>
                  <a:cubicBezTo>
                    <a:pt x="240506" y="59531"/>
                    <a:pt x="247174" y="43339"/>
                    <a:pt x="232886" y="7144"/>
                  </a:cubicBezTo>
                  <a:cubicBezTo>
                    <a:pt x="232886" y="7144"/>
                    <a:pt x="216694" y="79534"/>
                    <a:pt x="193834" y="101441"/>
                  </a:cubicBezTo>
                  <a:cubicBezTo>
                    <a:pt x="170974" y="123349"/>
                    <a:pt x="148114" y="143351"/>
                    <a:pt x="120491" y="133826"/>
                  </a:cubicBezTo>
                  <a:cubicBezTo>
                    <a:pt x="92869" y="124301"/>
                    <a:pt x="51911" y="102394"/>
                    <a:pt x="41434" y="84296"/>
                  </a:cubicBezTo>
                  <a:cubicBezTo>
                    <a:pt x="30956" y="68104"/>
                    <a:pt x="11906" y="20479"/>
                    <a:pt x="11906" y="20479"/>
                  </a:cubicBezTo>
                  <a:close/>
                </a:path>
              </a:pathLst>
            </a:custGeom>
            <a:solidFill>
              <a:srgbClr val="8772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7" name="任意多边形: 形状 167"/>
            <p:cNvSpPr/>
            <p:nvPr/>
          </p:nvSpPr>
          <p:spPr>
            <a:xfrm>
              <a:off x="5110560" y="2318400"/>
              <a:ext cx="487080" cy="128160"/>
            </a:xfrm>
            <a:custGeom>
              <a:avLst/>
              <a:gdLst>
                <a:gd name="textAreaLeft" fmla="*/ 0 w 487080"/>
                <a:gd name="textAreaRight" fmla="*/ 487440 w 487080"/>
                <a:gd name="textAreaTop" fmla="*/ 0 h 128160"/>
                <a:gd name="textAreaBottom" fmla="*/ 128520 h 128160"/>
              </a:gdLst>
              <a:ahLst/>
              <a:rect l="textAreaLeft" t="textAreaTop" r="textAreaRight" b="textAreaBottom"/>
              <a:pathLst>
                <a:path w="180975" h="47625">
                  <a:moveTo>
                    <a:pt x="8250" y="16669"/>
                  </a:moveTo>
                  <a:cubicBezTo>
                    <a:pt x="-2227" y="50006"/>
                    <a:pt x="64448" y="60484"/>
                    <a:pt x="92070" y="33814"/>
                  </a:cubicBezTo>
                  <a:cubicBezTo>
                    <a:pt x="122550" y="56674"/>
                    <a:pt x="188273" y="38576"/>
                    <a:pt x="173033" y="7144"/>
                  </a:cubicBezTo>
                  <a:cubicBezTo>
                    <a:pt x="163508" y="39529"/>
                    <a:pt x="127313" y="-4286"/>
                    <a:pt x="90165" y="14764"/>
                  </a:cubicBezTo>
                  <a:cubicBezTo>
                    <a:pt x="52065" y="-476"/>
                    <a:pt x="21585" y="48101"/>
                    <a:pt x="8250" y="16669"/>
                  </a:cubicBezTo>
                  <a:close/>
                </a:path>
              </a:pathLst>
            </a:custGeom>
            <a:solidFill>
              <a:srgbClr val="87723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8" name="任意多边形: 形状 168"/>
            <p:cNvSpPr/>
            <p:nvPr/>
          </p:nvSpPr>
          <p:spPr>
            <a:xfrm>
              <a:off x="5031360" y="2513160"/>
              <a:ext cx="666720" cy="281880"/>
            </a:xfrm>
            <a:custGeom>
              <a:avLst/>
              <a:gdLst>
                <a:gd name="textAreaLeft" fmla="*/ 0 w 666720"/>
                <a:gd name="textAreaRight" fmla="*/ 667080 w 666720"/>
                <a:gd name="textAreaTop" fmla="*/ 0 h 281880"/>
                <a:gd name="textAreaBottom" fmla="*/ 282240 h 281880"/>
              </a:gdLst>
              <a:ahLst/>
              <a:rect l="textAreaLeft" t="textAreaTop" r="textAreaRight" b="textAreaBottom"/>
              <a:pathLst>
                <a:path w="247650" h="104775">
                  <a:moveTo>
                    <a:pt x="122396" y="83344"/>
                  </a:moveTo>
                  <a:cubicBezTo>
                    <a:pt x="85249" y="83344"/>
                    <a:pt x="23336" y="62389"/>
                    <a:pt x="23336" y="25241"/>
                  </a:cubicBezTo>
                  <a:cubicBezTo>
                    <a:pt x="30004" y="24289"/>
                    <a:pt x="36671" y="22384"/>
                    <a:pt x="41434" y="19526"/>
                  </a:cubicBezTo>
                  <a:lnTo>
                    <a:pt x="7144" y="26194"/>
                  </a:lnTo>
                  <a:cubicBezTo>
                    <a:pt x="11906" y="41434"/>
                    <a:pt x="16669" y="71914"/>
                    <a:pt x="50006" y="87154"/>
                  </a:cubicBezTo>
                  <a:cubicBezTo>
                    <a:pt x="84296" y="102394"/>
                    <a:pt x="134779" y="106204"/>
                    <a:pt x="165259" y="94774"/>
                  </a:cubicBezTo>
                  <a:cubicBezTo>
                    <a:pt x="195739" y="84296"/>
                    <a:pt x="244316" y="58579"/>
                    <a:pt x="240506" y="30004"/>
                  </a:cubicBezTo>
                  <a:cubicBezTo>
                    <a:pt x="239554" y="22384"/>
                    <a:pt x="237649" y="15716"/>
                    <a:pt x="235744" y="10001"/>
                  </a:cubicBezTo>
                  <a:lnTo>
                    <a:pt x="205264" y="7144"/>
                  </a:lnTo>
                  <a:cubicBezTo>
                    <a:pt x="210979" y="10954"/>
                    <a:pt x="217646" y="13811"/>
                    <a:pt x="226219" y="15716"/>
                  </a:cubicBezTo>
                  <a:cubicBezTo>
                    <a:pt x="244316" y="47149"/>
                    <a:pt x="158591" y="83344"/>
                    <a:pt x="122396" y="83344"/>
                  </a:cubicBezTo>
                  <a:close/>
                </a:path>
              </a:pathLst>
            </a:custGeom>
            <a:solidFill>
              <a:srgbClr val="5d567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49" name="任意多边形: 形状 169"/>
            <p:cNvSpPr/>
            <p:nvPr/>
          </p:nvSpPr>
          <p:spPr>
            <a:xfrm>
              <a:off x="4339080" y="2808360"/>
              <a:ext cx="538560" cy="666720"/>
            </a:xfrm>
            <a:custGeom>
              <a:avLst/>
              <a:gdLst>
                <a:gd name="textAreaLeft" fmla="*/ 0 w 538560"/>
                <a:gd name="textAreaRight" fmla="*/ 538920 w 538560"/>
                <a:gd name="textAreaTop" fmla="*/ 0 h 666720"/>
                <a:gd name="textAreaBottom" fmla="*/ 667080 h 666720"/>
              </a:gdLst>
              <a:ahLst/>
              <a:rect l="textAreaLeft" t="textAreaTop" r="textAreaRight" b="textAreaBottom"/>
              <a:pathLst>
                <a:path w="200025" h="247650">
                  <a:moveTo>
                    <a:pt x="188119" y="132874"/>
                  </a:moveTo>
                  <a:cubicBezTo>
                    <a:pt x="188119" y="132874"/>
                    <a:pt x="85249" y="228124"/>
                    <a:pt x="79534" y="226219"/>
                  </a:cubicBezTo>
                  <a:cubicBezTo>
                    <a:pt x="73819" y="224314"/>
                    <a:pt x="36671" y="222409"/>
                    <a:pt x="7144" y="230029"/>
                  </a:cubicBezTo>
                  <a:cubicBezTo>
                    <a:pt x="16669" y="229076"/>
                    <a:pt x="29051" y="230029"/>
                    <a:pt x="41434" y="232886"/>
                  </a:cubicBezTo>
                  <a:cubicBezTo>
                    <a:pt x="60484" y="237649"/>
                    <a:pt x="79534" y="241459"/>
                    <a:pt x="99536" y="246221"/>
                  </a:cubicBezTo>
                  <a:lnTo>
                    <a:pt x="200501" y="146209"/>
                  </a:lnTo>
                  <a:lnTo>
                    <a:pt x="200501" y="91916"/>
                  </a:lnTo>
                  <a:lnTo>
                    <a:pt x="200501" y="32861"/>
                  </a:lnTo>
                  <a:lnTo>
                    <a:pt x="194786" y="7144"/>
                  </a:lnTo>
                  <a:cubicBezTo>
                    <a:pt x="190976" y="8096"/>
                    <a:pt x="188119" y="8096"/>
                    <a:pt x="188119" y="8096"/>
                  </a:cubicBezTo>
                  <a:lnTo>
                    <a:pt x="188119" y="132874"/>
                  </a:lnTo>
                  <a:close/>
                </a:path>
              </a:pathLst>
            </a:custGeom>
            <a:solidFill>
              <a:srgbClr val="293b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0" name="任意多边形: 形状 170"/>
            <p:cNvSpPr/>
            <p:nvPr/>
          </p:nvSpPr>
          <p:spPr>
            <a:xfrm>
              <a:off x="5775120" y="2782440"/>
              <a:ext cx="666720" cy="666720"/>
            </a:xfrm>
            <a:custGeom>
              <a:avLst/>
              <a:gdLst>
                <a:gd name="textAreaLeft" fmla="*/ 0 w 666720"/>
                <a:gd name="textAreaRight" fmla="*/ 667080 w 666720"/>
                <a:gd name="textAreaTop" fmla="*/ 0 h 666720"/>
                <a:gd name="textAreaBottom" fmla="*/ 667080 h 666720"/>
              </a:gdLst>
              <a:ahLst/>
              <a:rect l="textAreaLeft" t="textAreaTop" r="textAreaRight" b="textAreaBottom"/>
              <a:pathLst>
                <a:path w="247650" h="247650">
                  <a:moveTo>
                    <a:pt x="90964" y="151924"/>
                  </a:moveTo>
                  <a:lnTo>
                    <a:pt x="155734" y="241459"/>
                  </a:lnTo>
                  <a:cubicBezTo>
                    <a:pt x="165259" y="239554"/>
                    <a:pt x="173831" y="237649"/>
                    <a:pt x="183356" y="235744"/>
                  </a:cubicBezTo>
                  <a:cubicBezTo>
                    <a:pt x="209074" y="230981"/>
                    <a:pt x="231934" y="230981"/>
                    <a:pt x="249079" y="234791"/>
                  </a:cubicBezTo>
                  <a:cubicBezTo>
                    <a:pt x="249079" y="234791"/>
                    <a:pt x="160496" y="215741"/>
                    <a:pt x="150019" y="199549"/>
                  </a:cubicBezTo>
                  <a:cubicBezTo>
                    <a:pt x="140494" y="183356"/>
                    <a:pt x="97631" y="119539"/>
                    <a:pt x="97631" y="119539"/>
                  </a:cubicBezTo>
                  <a:lnTo>
                    <a:pt x="99536" y="7144"/>
                  </a:lnTo>
                  <a:lnTo>
                    <a:pt x="73819" y="7144"/>
                  </a:lnTo>
                  <a:lnTo>
                    <a:pt x="20479" y="7144"/>
                  </a:lnTo>
                  <a:lnTo>
                    <a:pt x="7144" y="25241"/>
                  </a:lnTo>
                  <a:lnTo>
                    <a:pt x="70961" y="25241"/>
                  </a:lnTo>
                  <a:lnTo>
                    <a:pt x="90011" y="25241"/>
                  </a:lnTo>
                  <a:lnTo>
                    <a:pt x="90011" y="151924"/>
                  </a:lnTo>
                  <a:lnTo>
                    <a:pt x="90964" y="151924"/>
                  </a:lnTo>
                  <a:close/>
                </a:path>
              </a:pathLst>
            </a:custGeom>
            <a:solidFill>
              <a:srgbClr val="293b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1" name="任意多边形: 形状 171"/>
            <p:cNvSpPr/>
            <p:nvPr/>
          </p:nvSpPr>
          <p:spPr>
            <a:xfrm>
              <a:off x="4197240" y="3523680"/>
              <a:ext cx="692280" cy="153720"/>
            </a:xfrm>
            <a:custGeom>
              <a:avLst/>
              <a:gdLst>
                <a:gd name="textAreaLeft" fmla="*/ 0 w 692280"/>
                <a:gd name="textAreaRight" fmla="*/ 692640 w 692280"/>
                <a:gd name="textAreaTop" fmla="*/ 0 h 153720"/>
                <a:gd name="textAreaBottom" fmla="*/ 154080 h 153720"/>
              </a:gdLst>
              <a:ahLst/>
              <a:rect l="textAreaLeft" t="textAreaTop" r="textAreaRight" b="textAreaBottom"/>
              <a:pathLst>
                <a:path w="257175" h="57150">
                  <a:moveTo>
                    <a:pt x="7387" y="7144"/>
                  </a:moveTo>
                  <a:cubicBezTo>
                    <a:pt x="6434" y="16669"/>
                    <a:pt x="8339" y="28099"/>
                    <a:pt x="12149" y="38576"/>
                  </a:cubicBezTo>
                  <a:cubicBezTo>
                    <a:pt x="14054" y="43339"/>
                    <a:pt x="16912" y="49054"/>
                    <a:pt x="19769" y="53816"/>
                  </a:cubicBezTo>
                  <a:lnTo>
                    <a:pt x="75966" y="53816"/>
                  </a:lnTo>
                  <a:lnTo>
                    <a:pt x="253132" y="53816"/>
                  </a:lnTo>
                  <a:lnTo>
                    <a:pt x="253132" y="37624"/>
                  </a:lnTo>
                  <a:cubicBezTo>
                    <a:pt x="209316" y="35719"/>
                    <a:pt x="149309" y="31909"/>
                    <a:pt x="102637" y="29051"/>
                  </a:cubicBezTo>
                  <a:cubicBezTo>
                    <a:pt x="66441" y="26194"/>
                    <a:pt x="37866" y="24289"/>
                    <a:pt x="31199" y="21431"/>
                  </a:cubicBezTo>
                  <a:cubicBezTo>
                    <a:pt x="26437" y="19526"/>
                    <a:pt x="18816" y="15716"/>
                    <a:pt x="10244" y="10001"/>
                  </a:cubicBezTo>
                  <a:cubicBezTo>
                    <a:pt x="9291" y="8096"/>
                    <a:pt x="8339" y="8096"/>
                    <a:pt x="7387" y="7144"/>
                  </a:cubicBezTo>
                  <a:close/>
                </a:path>
              </a:pathLst>
            </a:custGeom>
            <a:solidFill>
              <a:srgbClr val="293b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2" name="任意多边形: 形状 172"/>
            <p:cNvSpPr/>
            <p:nvPr/>
          </p:nvSpPr>
          <p:spPr>
            <a:xfrm>
              <a:off x="6000840" y="3567240"/>
              <a:ext cx="564120" cy="102240"/>
            </a:xfrm>
            <a:custGeom>
              <a:avLst/>
              <a:gdLst>
                <a:gd name="textAreaLeft" fmla="*/ 0 w 564120"/>
                <a:gd name="textAreaRight" fmla="*/ 564480 w 564120"/>
                <a:gd name="textAreaTop" fmla="*/ 0 h 102240"/>
                <a:gd name="textAreaBottom" fmla="*/ 102600 h 102240"/>
              </a:gdLst>
              <a:ahLst/>
              <a:rect l="textAreaLeft" t="textAreaTop" r="textAreaRight" b="textAreaBottom"/>
              <a:pathLst>
                <a:path w="209550" h="38100">
                  <a:moveTo>
                    <a:pt x="7144" y="12859"/>
                  </a:moveTo>
                  <a:lnTo>
                    <a:pt x="7144" y="37624"/>
                  </a:lnTo>
                  <a:lnTo>
                    <a:pt x="189071" y="37624"/>
                  </a:lnTo>
                  <a:cubicBezTo>
                    <a:pt x="199549" y="27146"/>
                    <a:pt x="207169" y="16669"/>
                    <a:pt x="210026" y="7144"/>
                  </a:cubicBezTo>
                  <a:cubicBezTo>
                    <a:pt x="148114" y="10001"/>
                    <a:pt x="44291" y="13811"/>
                    <a:pt x="36671" y="12859"/>
                  </a:cubicBezTo>
                  <a:cubicBezTo>
                    <a:pt x="35719" y="11906"/>
                    <a:pt x="24289" y="11906"/>
                    <a:pt x="7144" y="12859"/>
                  </a:cubicBezTo>
                  <a:close/>
                </a:path>
              </a:pathLst>
            </a:custGeom>
            <a:solidFill>
              <a:srgbClr val="293b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3" name="任意多边形: 形状 173"/>
            <p:cNvSpPr/>
            <p:nvPr/>
          </p:nvSpPr>
          <p:spPr>
            <a:xfrm>
              <a:off x="6830280" y="844920"/>
              <a:ext cx="230760" cy="307440"/>
            </a:xfrm>
            <a:custGeom>
              <a:avLst/>
              <a:gdLst>
                <a:gd name="textAreaLeft" fmla="*/ 0 w 230760"/>
                <a:gd name="textAreaRight" fmla="*/ 231120 w 230760"/>
                <a:gd name="textAreaTop" fmla="*/ 0 h 307440"/>
                <a:gd name="textAreaBottom" fmla="*/ 307800 h 307440"/>
              </a:gdLst>
              <a:ahLst/>
              <a:rect l="textAreaLeft" t="textAreaTop" r="textAreaRight" b="textAreaBottom"/>
              <a:pathLst>
                <a:path w="85725" h="114300">
                  <a:moveTo>
                    <a:pt x="43005" y="13439"/>
                  </a:moveTo>
                  <a:cubicBezTo>
                    <a:pt x="22050" y="2961"/>
                    <a:pt x="15383" y="5819"/>
                    <a:pt x="8715" y="20106"/>
                  </a:cubicBezTo>
                  <a:cubicBezTo>
                    <a:pt x="3000" y="35346"/>
                    <a:pt x="12525" y="81066"/>
                    <a:pt x="43005" y="100116"/>
                  </a:cubicBezTo>
                  <a:cubicBezTo>
                    <a:pt x="74438" y="119166"/>
                    <a:pt x="82058" y="106784"/>
                    <a:pt x="79200" y="98211"/>
                  </a:cubicBezTo>
                  <a:cubicBezTo>
                    <a:pt x="77295" y="90591"/>
                    <a:pt x="44910" y="14391"/>
                    <a:pt x="43005" y="13439"/>
                  </a:cubicBezTo>
                  <a:close/>
                </a:path>
              </a:pathLst>
            </a:custGeom>
            <a:solidFill>
              <a:srgbClr val="d7b6b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4" name="任意多边形: 形状 174"/>
            <p:cNvSpPr/>
            <p:nvPr/>
          </p:nvSpPr>
          <p:spPr>
            <a:xfrm>
              <a:off x="6070320" y="2012400"/>
              <a:ext cx="846000" cy="948600"/>
            </a:xfrm>
            <a:custGeom>
              <a:avLst/>
              <a:gdLst>
                <a:gd name="textAreaLeft" fmla="*/ 0 w 846000"/>
                <a:gd name="textAreaRight" fmla="*/ 846360 w 846000"/>
                <a:gd name="textAreaTop" fmla="*/ 0 h 948600"/>
                <a:gd name="textAreaBottom" fmla="*/ 948960 h 948600"/>
              </a:gdLst>
              <a:ahLst/>
              <a:rect l="textAreaLeft" t="textAreaTop" r="textAreaRight" b="textAreaBottom"/>
              <a:pathLst>
                <a:path w="314325" h="352425">
                  <a:moveTo>
                    <a:pt x="286226" y="146468"/>
                  </a:moveTo>
                  <a:cubicBezTo>
                    <a:pt x="287179" y="153135"/>
                    <a:pt x="237649" y="261720"/>
                    <a:pt x="215741" y="300773"/>
                  </a:cubicBezTo>
                  <a:cubicBezTo>
                    <a:pt x="193834" y="339825"/>
                    <a:pt x="188119" y="313155"/>
                    <a:pt x="158591" y="276008"/>
                  </a:cubicBezTo>
                  <a:cubicBezTo>
                    <a:pt x="135731" y="247433"/>
                    <a:pt x="69056" y="128370"/>
                    <a:pt x="37624" y="72173"/>
                  </a:cubicBezTo>
                  <a:cubicBezTo>
                    <a:pt x="32861" y="64553"/>
                    <a:pt x="29051" y="57885"/>
                    <a:pt x="27146" y="52170"/>
                  </a:cubicBezTo>
                  <a:cubicBezTo>
                    <a:pt x="26194" y="51218"/>
                    <a:pt x="26194" y="50265"/>
                    <a:pt x="25241" y="49313"/>
                  </a:cubicBezTo>
                  <a:cubicBezTo>
                    <a:pt x="24289" y="50265"/>
                    <a:pt x="24289" y="50265"/>
                    <a:pt x="23336" y="51218"/>
                  </a:cubicBezTo>
                  <a:cubicBezTo>
                    <a:pt x="22384" y="52170"/>
                    <a:pt x="20479" y="53123"/>
                    <a:pt x="19526" y="54075"/>
                  </a:cubicBezTo>
                  <a:cubicBezTo>
                    <a:pt x="14764" y="57885"/>
                    <a:pt x="10001" y="61695"/>
                    <a:pt x="7144" y="64553"/>
                  </a:cubicBezTo>
                  <a:cubicBezTo>
                    <a:pt x="44291" y="148373"/>
                    <a:pt x="140494" y="362685"/>
                    <a:pt x="224314" y="345540"/>
                  </a:cubicBezTo>
                  <a:cubicBezTo>
                    <a:pt x="266224" y="285533"/>
                    <a:pt x="290989" y="220763"/>
                    <a:pt x="304324" y="159803"/>
                  </a:cubicBezTo>
                  <a:cubicBezTo>
                    <a:pt x="310039" y="133133"/>
                    <a:pt x="313849" y="107415"/>
                    <a:pt x="315754" y="83603"/>
                  </a:cubicBezTo>
                  <a:cubicBezTo>
                    <a:pt x="304324" y="40740"/>
                    <a:pt x="295751" y="10260"/>
                    <a:pt x="294799" y="7403"/>
                  </a:cubicBezTo>
                  <a:cubicBezTo>
                    <a:pt x="293846" y="2640"/>
                    <a:pt x="290036" y="64553"/>
                    <a:pt x="288131" y="107415"/>
                  </a:cubicBezTo>
                  <a:cubicBezTo>
                    <a:pt x="286226" y="127418"/>
                    <a:pt x="286226" y="143610"/>
                    <a:pt x="286226" y="146468"/>
                  </a:cubicBezTo>
                  <a:close/>
                </a:path>
              </a:pathLst>
            </a:custGeom>
            <a:solidFill>
              <a:srgbClr val="77474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5" name="任意多边形: 形状 175"/>
            <p:cNvSpPr/>
            <p:nvPr/>
          </p:nvSpPr>
          <p:spPr>
            <a:xfrm>
              <a:off x="6867720" y="2218320"/>
              <a:ext cx="1436040" cy="1615680"/>
            </a:xfrm>
            <a:custGeom>
              <a:avLst/>
              <a:gdLst>
                <a:gd name="textAreaLeft" fmla="*/ 0 w 1436040"/>
                <a:gd name="textAreaRight" fmla="*/ 1436400 w 1436040"/>
                <a:gd name="textAreaTop" fmla="*/ 0 h 1615680"/>
                <a:gd name="textAreaBottom" fmla="*/ 1616040 h 1615680"/>
              </a:gdLst>
              <a:ahLst/>
              <a:rect l="textAreaLeft" t="textAreaTop" r="textAreaRight" b="textAreaBottom"/>
              <a:pathLst>
                <a:path w="533400" h="600075">
                  <a:moveTo>
                    <a:pt x="75724" y="595789"/>
                  </a:moveTo>
                  <a:cubicBezTo>
                    <a:pt x="75724" y="595789"/>
                    <a:pt x="75724" y="595789"/>
                    <a:pt x="75724" y="595789"/>
                  </a:cubicBezTo>
                  <a:close/>
                  <a:moveTo>
                    <a:pt x="7144" y="83344"/>
                  </a:moveTo>
                  <a:cubicBezTo>
                    <a:pt x="35719" y="185261"/>
                    <a:pt x="55721" y="310039"/>
                    <a:pt x="71914" y="538639"/>
                  </a:cubicBezTo>
                  <a:cubicBezTo>
                    <a:pt x="72866" y="556736"/>
                    <a:pt x="74771" y="576739"/>
                    <a:pt x="75724" y="595789"/>
                  </a:cubicBezTo>
                  <a:cubicBezTo>
                    <a:pt x="78581" y="595789"/>
                    <a:pt x="80486" y="595789"/>
                    <a:pt x="83344" y="596741"/>
                  </a:cubicBezTo>
                  <a:cubicBezTo>
                    <a:pt x="141446" y="601504"/>
                    <a:pt x="202406" y="600551"/>
                    <a:pt x="264319" y="595789"/>
                  </a:cubicBezTo>
                  <a:cubicBezTo>
                    <a:pt x="345281" y="589121"/>
                    <a:pt x="429101" y="574834"/>
                    <a:pt x="511016" y="551974"/>
                  </a:cubicBezTo>
                  <a:cubicBezTo>
                    <a:pt x="516731" y="550069"/>
                    <a:pt x="522446" y="549116"/>
                    <a:pt x="528161" y="547211"/>
                  </a:cubicBezTo>
                  <a:cubicBezTo>
                    <a:pt x="527209" y="544354"/>
                    <a:pt x="527209" y="541496"/>
                    <a:pt x="526256" y="538639"/>
                  </a:cubicBezTo>
                  <a:cubicBezTo>
                    <a:pt x="521494" y="514826"/>
                    <a:pt x="516731" y="491966"/>
                    <a:pt x="512921" y="470059"/>
                  </a:cubicBezTo>
                  <a:cubicBezTo>
                    <a:pt x="511969" y="471964"/>
                    <a:pt x="510064" y="472916"/>
                    <a:pt x="509111" y="474821"/>
                  </a:cubicBezTo>
                  <a:cubicBezTo>
                    <a:pt x="496729" y="490061"/>
                    <a:pt x="484346" y="508159"/>
                    <a:pt x="481489" y="519589"/>
                  </a:cubicBezTo>
                  <a:cubicBezTo>
                    <a:pt x="479584" y="528161"/>
                    <a:pt x="448151" y="533876"/>
                    <a:pt x="404336" y="538639"/>
                  </a:cubicBezTo>
                  <a:cubicBezTo>
                    <a:pt x="304324" y="549116"/>
                    <a:pt x="140494" y="550069"/>
                    <a:pt x="129064" y="538639"/>
                  </a:cubicBezTo>
                  <a:cubicBezTo>
                    <a:pt x="119539" y="529114"/>
                    <a:pt x="110966" y="464344"/>
                    <a:pt x="103346" y="401479"/>
                  </a:cubicBezTo>
                  <a:cubicBezTo>
                    <a:pt x="97631" y="347186"/>
                    <a:pt x="92869" y="293846"/>
                    <a:pt x="90964" y="281464"/>
                  </a:cubicBezTo>
                  <a:cubicBezTo>
                    <a:pt x="88106" y="263366"/>
                    <a:pt x="45244" y="104299"/>
                    <a:pt x="19526" y="7144"/>
                  </a:cubicBezTo>
                  <a:cubicBezTo>
                    <a:pt x="16669" y="30956"/>
                    <a:pt x="12859" y="56674"/>
                    <a:pt x="7144" y="83344"/>
                  </a:cubicBezTo>
                  <a:close/>
                </a:path>
              </a:pathLst>
            </a:custGeom>
            <a:solidFill>
              <a:srgbClr val="77474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6" name="任意多边形: 形状 176"/>
            <p:cNvSpPr/>
            <p:nvPr/>
          </p:nvSpPr>
          <p:spPr>
            <a:xfrm>
              <a:off x="8106480" y="2044080"/>
              <a:ext cx="461520" cy="1513080"/>
            </a:xfrm>
            <a:custGeom>
              <a:avLst/>
              <a:gdLst>
                <a:gd name="textAreaLeft" fmla="*/ 0 w 461520"/>
                <a:gd name="textAreaRight" fmla="*/ 461880 w 461520"/>
                <a:gd name="textAreaTop" fmla="*/ 0 h 1513080"/>
                <a:gd name="textAreaBottom" fmla="*/ 1513440 h 1513080"/>
              </a:gdLst>
              <a:ahLst/>
              <a:rect l="textAreaLeft" t="textAreaTop" r="textAreaRight" b="textAreaBottom"/>
              <a:pathLst>
                <a:path w="171450" h="561975">
                  <a:moveTo>
                    <a:pt x="8096" y="126206"/>
                  </a:moveTo>
                  <a:lnTo>
                    <a:pt x="126206" y="563404"/>
                  </a:lnTo>
                  <a:lnTo>
                    <a:pt x="167164" y="557689"/>
                  </a:lnTo>
                  <a:lnTo>
                    <a:pt x="159544" y="532924"/>
                  </a:lnTo>
                  <a:lnTo>
                    <a:pt x="18574" y="86201"/>
                  </a:lnTo>
                  <a:lnTo>
                    <a:pt x="7144" y="7144"/>
                  </a:lnTo>
                  <a:cubicBezTo>
                    <a:pt x="7144" y="50006"/>
                    <a:pt x="7144" y="89059"/>
                    <a:pt x="8096" y="126206"/>
                  </a:cubicBezTo>
                  <a:close/>
                </a:path>
              </a:pathLst>
            </a:custGeom>
            <a:solidFill>
              <a:srgbClr val="77474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7" name="任意多边形: 形状 177"/>
            <p:cNvSpPr/>
            <p:nvPr/>
          </p:nvSpPr>
          <p:spPr>
            <a:xfrm>
              <a:off x="8067960" y="1825920"/>
              <a:ext cx="153720" cy="1461600"/>
            </a:xfrm>
            <a:custGeom>
              <a:avLst/>
              <a:gdLst>
                <a:gd name="textAreaLeft" fmla="*/ 0 w 153720"/>
                <a:gd name="textAreaRight" fmla="*/ 154080 w 153720"/>
                <a:gd name="textAreaTop" fmla="*/ 0 h 1461600"/>
                <a:gd name="textAreaBottom" fmla="*/ 1461960 h 1461600"/>
              </a:gdLst>
              <a:ahLst/>
              <a:rect l="textAreaLeft" t="textAreaTop" r="textAreaRight" b="textAreaBottom"/>
              <a:pathLst>
                <a:path w="57150" h="542925">
                  <a:moveTo>
                    <a:pt x="52864" y="538639"/>
                  </a:moveTo>
                  <a:cubicBezTo>
                    <a:pt x="34766" y="431959"/>
                    <a:pt x="26194" y="337661"/>
                    <a:pt x="23336" y="207169"/>
                  </a:cubicBezTo>
                  <a:cubicBezTo>
                    <a:pt x="22384" y="170974"/>
                    <a:pt x="21431" y="130969"/>
                    <a:pt x="21431" y="87154"/>
                  </a:cubicBezTo>
                  <a:lnTo>
                    <a:pt x="9049" y="7144"/>
                  </a:lnTo>
                  <a:cubicBezTo>
                    <a:pt x="9049" y="7144"/>
                    <a:pt x="7144" y="82391"/>
                    <a:pt x="7144" y="147161"/>
                  </a:cubicBezTo>
                  <a:cubicBezTo>
                    <a:pt x="7144" y="172879"/>
                    <a:pt x="7144" y="197644"/>
                    <a:pt x="7144" y="214789"/>
                  </a:cubicBezTo>
                  <a:cubicBezTo>
                    <a:pt x="9049" y="274796"/>
                    <a:pt x="52864" y="538639"/>
                    <a:pt x="52864" y="538639"/>
                  </a:cubicBezTo>
                  <a:close/>
                </a:path>
              </a:pathLst>
            </a:custGeom>
            <a:solidFill>
              <a:srgbClr val="77474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8" name="任意多边形: 形状 178"/>
            <p:cNvSpPr/>
            <p:nvPr/>
          </p:nvSpPr>
          <p:spPr>
            <a:xfrm>
              <a:off x="7410600" y="4080240"/>
              <a:ext cx="769320" cy="2179800"/>
            </a:xfrm>
            <a:custGeom>
              <a:avLst/>
              <a:gdLst>
                <a:gd name="textAreaLeft" fmla="*/ 0 w 769320"/>
                <a:gd name="textAreaRight" fmla="*/ 769680 w 769320"/>
                <a:gd name="textAreaTop" fmla="*/ 0 h 2179800"/>
                <a:gd name="textAreaBottom" fmla="*/ 2180160 h 2179800"/>
              </a:gdLst>
              <a:ahLst/>
              <a:rect l="textAreaLeft" t="textAreaTop" r="textAreaRight" b="textAreaBottom"/>
              <a:pathLst>
                <a:path w="285750" h="809625">
                  <a:moveTo>
                    <a:pt x="101784" y="568224"/>
                  </a:moveTo>
                  <a:lnTo>
                    <a:pt x="110356" y="39587"/>
                  </a:lnTo>
                  <a:lnTo>
                    <a:pt x="113214" y="31014"/>
                  </a:lnTo>
                  <a:lnTo>
                    <a:pt x="145599" y="716814"/>
                  </a:lnTo>
                  <a:cubicBezTo>
                    <a:pt x="149409" y="719672"/>
                    <a:pt x="141789" y="790157"/>
                    <a:pt x="143694" y="802539"/>
                  </a:cubicBezTo>
                  <a:cubicBezTo>
                    <a:pt x="143694" y="802539"/>
                    <a:pt x="273234" y="783489"/>
                    <a:pt x="279902" y="789204"/>
                  </a:cubicBezTo>
                  <a:cubicBezTo>
                    <a:pt x="279902" y="785394"/>
                    <a:pt x="238944" y="773012"/>
                    <a:pt x="211322" y="752057"/>
                  </a:cubicBezTo>
                  <a:cubicBezTo>
                    <a:pt x="203702" y="746342"/>
                    <a:pt x="176079" y="730149"/>
                    <a:pt x="176079" y="725387"/>
                  </a:cubicBezTo>
                  <a:cubicBezTo>
                    <a:pt x="175127" y="703479"/>
                    <a:pt x="156077" y="69114"/>
                    <a:pt x="156077" y="69114"/>
                  </a:cubicBezTo>
                  <a:cubicBezTo>
                    <a:pt x="156077" y="69114"/>
                    <a:pt x="206559" y="16727"/>
                    <a:pt x="214179" y="11964"/>
                  </a:cubicBezTo>
                  <a:cubicBezTo>
                    <a:pt x="221799" y="7202"/>
                    <a:pt x="178937" y="16727"/>
                    <a:pt x="171316" y="20537"/>
                  </a:cubicBezTo>
                  <a:cubicBezTo>
                    <a:pt x="163697" y="24347"/>
                    <a:pt x="117977" y="17679"/>
                    <a:pt x="117977" y="17679"/>
                  </a:cubicBezTo>
                  <a:lnTo>
                    <a:pt x="97974" y="20537"/>
                  </a:lnTo>
                  <a:cubicBezTo>
                    <a:pt x="97974" y="20537"/>
                    <a:pt x="13202" y="9107"/>
                    <a:pt x="7487" y="7202"/>
                  </a:cubicBezTo>
                  <a:cubicBezTo>
                    <a:pt x="1772" y="5297"/>
                    <a:pt x="69399" y="51017"/>
                    <a:pt x="69399" y="51017"/>
                  </a:cubicBezTo>
                  <a:cubicBezTo>
                    <a:pt x="69399" y="51017"/>
                    <a:pt x="80829" y="314859"/>
                    <a:pt x="80829" y="340577"/>
                  </a:cubicBezTo>
                  <a:cubicBezTo>
                    <a:pt x="80829" y="356769"/>
                    <a:pt x="92259" y="473927"/>
                    <a:pt x="101784" y="568224"/>
                  </a:cubicBezTo>
                  <a:close/>
                </a:path>
              </a:pathLst>
            </a:custGeom>
            <a:solidFill>
              <a:srgbClr val="1b2d3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59" name="任意多边形: 形状 179"/>
            <p:cNvSpPr/>
            <p:nvPr/>
          </p:nvSpPr>
          <p:spPr>
            <a:xfrm>
              <a:off x="10807200" y="2949480"/>
              <a:ext cx="615240" cy="538560"/>
            </a:xfrm>
            <a:custGeom>
              <a:avLst/>
              <a:gdLst>
                <a:gd name="textAreaLeft" fmla="*/ 0 w 615240"/>
                <a:gd name="textAreaRight" fmla="*/ 615600 w 615240"/>
                <a:gd name="textAreaTop" fmla="*/ 0 h 538560"/>
                <a:gd name="textAreaBottom" fmla="*/ 538920 h 538560"/>
              </a:gdLst>
              <a:ahLst/>
              <a:rect l="textAreaLeft" t="textAreaTop" r="textAreaRight" b="textAreaBottom"/>
              <a:pathLst>
                <a:path w="228600" h="200025">
                  <a:moveTo>
                    <a:pt x="7144" y="159544"/>
                  </a:moveTo>
                  <a:lnTo>
                    <a:pt x="10954" y="166211"/>
                  </a:lnTo>
                  <a:lnTo>
                    <a:pt x="23336" y="187166"/>
                  </a:lnTo>
                  <a:lnTo>
                    <a:pt x="29051" y="195739"/>
                  </a:lnTo>
                  <a:cubicBezTo>
                    <a:pt x="29051" y="195739"/>
                    <a:pt x="84296" y="167164"/>
                    <a:pt x="135731" y="131921"/>
                  </a:cubicBezTo>
                  <a:cubicBezTo>
                    <a:pt x="145256" y="125254"/>
                    <a:pt x="154781" y="118586"/>
                    <a:pt x="163354" y="111919"/>
                  </a:cubicBezTo>
                  <a:cubicBezTo>
                    <a:pt x="181451" y="98584"/>
                    <a:pt x="197644" y="85249"/>
                    <a:pt x="209074" y="72866"/>
                  </a:cubicBezTo>
                  <a:cubicBezTo>
                    <a:pt x="216694" y="64294"/>
                    <a:pt x="222409" y="56674"/>
                    <a:pt x="224314" y="49054"/>
                  </a:cubicBezTo>
                  <a:cubicBezTo>
                    <a:pt x="226219" y="32861"/>
                    <a:pt x="226219" y="18574"/>
                    <a:pt x="224314" y="7144"/>
                  </a:cubicBezTo>
                  <a:cubicBezTo>
                    <a:pt x="221456" y="11906"/>
                    <a:pt x="217646" y="17621"/>
                    <a:pt x="212884" y="23336"/>
                  </a:cubicBezTo>
                  <a:cubicBezTo>
                    <a:pt x="200501" y="41434"/>
                    <a:pt x="183356" y="64294"/>
                    <a:pt x="160496" y="83344"/>
                  </a:cubicBezTo>
                  <a:cubicBezTo>
                    <a:pt x="116681" y="120491"/>
                    <a:pt x="110014" y="122396"/>
                    <a:pt x="76676" y="138589"/>
                  </a:cubicBezTo>
                  <a:cubicBezTo>
                    <a:pt x="71914" y="140494"/>
                    <a:pt x="67151" y="143351"/>
                    <a:pt x="61436" y="145256"/>
                  </a:cubicBezTo>
                  <a:cubicBezTo>
                    <a:pt x="41434" y="156686"/>
                    <a:pt x="23336" y="159544"/>
                    <a:pt x="7144" y="159544"/>
                  </a:cubicBezTo>
                  <a:close/>
                </a:path>
              </a:pathLst>
            </a:custGeom>
            <a:solidFill>
              <a:srgbClr val="4093d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60" name="任意多边形: 形状 180"/>
            <p:cNvSpPr/>
            <p:nvPr/>
          </p:nvSpPr>
          <p:spPr>
            <a:xfrm>
              <a:off x="9845280" y="3395520"/>
              <a:ext cx="1025640" cy="256320"/>
            </a:xfrm>
            <a:custGeom>
              <a:avLst/>
              <a:gdLst>
                <a:gd name="textAreaLeft" fmla="*/ 0 w 1025640"/>
                <a:gd name="textAreaRight" fmla="*/ 1026000 w 1025640"/>
                <a:gd name="textAreaTop" fmla="*/ 0 h 256320"/>
                <a:gd name="textAreaBottom" fmla="*/ 256680 h 256320"/>
              </a:gdLst>
              <a:ahLst/>
              <a:rect l="textAreaLeft" t="textAreaTop" r="textAreaRight" b="textAreaBottom"/>
              <a:pathLst>
                <a:path w="381000" h="95250">
                  <a:moveTo>
                    <a:pt x="253841" y="70009"/>
                  </a:moveTo>
                  <a:cubicBezTo>
                    <a:pt x="242411" y="71914"/>
                    <a:pt x="215741" y="70009"/>
                    <a:pt x="188119" y="67151"/>
                  </a:cubicBezTo>
                  <a:cubicBezTo>
                    <a:pt x="123349" y="62389"/>
                    <a:pt x="36671" y="50959"/>
                    <a:pt x="36671" y="50959"/>
                  </a:cubicBezTo>
                  <a:cubicBezTo>
                    <a:pt x="36671" y="50959"/>
                    <a:pt x="28099" y="53816"/>
                    <a:pt x="15716" y="54769"/>
                  </a:cubicBezTo>
                  <a:cubicBezTo>
                    <a:pt x="15716" y="55721"/>
                    <a:pt x="8096" y="61436"/>
                    <a:pt x="7144" y="61436"/>
                  </a:cubicBezTo>
                  <a:lnTo>
                    <a:pt x="123349" y="71914"/>
                  </a:lnTo>
                  <a:cubicBezTo>
                    <a:pt x="172879" y="77629"/>
                    <a:pt x="254794" y="100489"/>
                    <a:pt x="270986" y="90011"/>
                  </a:cubicBezTo>
                  <a:lnTo>
                    <a:pt x="380524" y="19526"/>
                  </a:lnTo>
                  <a:cubicBezTo>
                    <a:pt x="380524" y="19526"/>
                    <a:pt x="373856" y="9049"/>
                    <a:pt x="372904" y="7144"/>
                  </a:cubicBezTo>
                  <a:cubicBezTo>
                    <a:pt x="352901" y="19526"/>
                    <a:pt x="325279" y="35719"/>
                    <a:pt x="299561" y="48101"/>
                  </a:cubicBezTo>
                  <a:cubicBezTo>
                    <a:pt x="281464" y="59531"/>
                    <a:pt x="265271" y="69056"/>
                    <a:pt x="253841" y="70009"/>
                  </a:cubicBezTo>
                  <a:close/>
                </a:path>
              </a:pathLst>
            </a:custGeom>
            <a:solidFill>
              <a:srgbClr val="c8a8a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61" name="任意多边形: 形状 181"/>
            <p:cNvSpPr/>
            <p:nvPr/>
          </p:nvSpPr>
          <p:spPr>
            <a:xfrm>
              <a:off x="10832760" y="3400560"/>
              <a:ext cx="51120" cy="51120"/>
            </a:xfrm>
            <a:custGeom>
              <a:avLst/>
              <a:gdLst>
                <a:gd name="textAreaLeft" fmla="*/ 0 w 51120"/>
                <a:gd name="textAreaRight" fmla="*/ 51480 w 51120"/>
                <a:gd name="textAreaTop" fmla="*/ 0 h 51120"/>
                <a:gd name="textAreaBottom" fmla="*/ 51480 h 51120"/>
              </a:gdLst>
              <a:ahLst/>
              <a:rect l="textAreaLeft" t="textAreaTop" r="textAreaRight" b="textAreaBottom"/>
              <a:pathLst>
                <a:path w="19050" h="19050">
                  <a:moveTo>
                    <a:pt x="14764" y="19526"/>
                  </a:moveTo>
                  <a:lnTo>
                    <a:pt x="7144" y="7144"/>
                  </a:lnTo>
                  <a:lnTo>
                    <a:pt x="14764" y="19526"/>
                  </a:lnTo>
                  <a:close/>
                </a:path>
              </a:pathLst>
            </a:custGeom>
            <a:solidFill>
              <a:srgbClr val="5c3d2a"/>
            </a:solidFill>
            <a:ln w="0">
              <a:noFill/>
            </a:ln>
          </p:spPr>
          <p:style>
            <a:lnRef idx="0"/>
            <a:fillRef idx="0"/>
            <a:effectRef idx="0"/>
            <a:fontRef idx="minor"/>
          </p:style>
          <p:txBody>
            <a:bodyPr lIns="90000" rIns="90000" tIns="4680" bIns="4680" anchor="ctr">
              <a:noAutofit/>
            </a:bodyPr>
            <a:p>
              <a:endParaRPr b="0" lang="en-US" sz="1800" spc="-1" strike="noStrike">
                <a:solidFill>
                  <a:srgbClr val="262626"/>
                </a:solidFill>
                <a:latin typeface="Arial"/>
              </a:endParaRPr>
            </a:p>
          </p:txBody>
        </p:sp>
        <p:sp>
          <p:nvSpPr>
            <p:cNvPr id="1862" name="任意多边形: 形状 182"/>
            <p:cNvSpPr/>
            <p:nvPr/>
          </p:nvSpPr>
          <p:spPr>
            <a:xfrm>
              <a:off x="9452880" y="3431520"/>
              <a:ext cx="435960" cy="153720"/>
            </a:xfrm>
            <a:custGeom>
              <a:avLst/>
              <a:gdLst>
                <a:gd name="textAreaLeft" fmla="*/ 0 w 435960"/>
                <a:gd name="textAreaRight" fmla="*/ 436320 w 435960"/>
                <a:gd name="textAreaTop" fmla="*/ 0 h 153720"/>
                <a:gd name="textAreaBottom" fmla="*/ 154080 h 153720"/>
              </a:gdLst>
              <a:ahLst/>
              <a:rect l="textAreaLeft" t="textAreaTop" r="textAreaRight" b="textAreaBottom"/>
              <a:pathLst>
                <a:path w="161925" h="57150">
                  <a:moveTo>
                    <a:pt x="148114" y="43299"/>
                  </a:moveTo>
                  <a:cubicBezTo>
                    <a:pt x="139541" y="43299"/>
                    <a:pt x="130969" y="41394"/>
                    <a:pt x="121444" y="38537"/>
                  </a:cubicBezTo>
                  <a:cubicBezTo>
                    <a:pt x="110014" y="33774"/>
                    <a:pt x="99536" y="29012"/>
                    <a:pt x="90011" y="24249"/>
                  </a:cubicBezTo>
                  <a:cubicBezTo>
                    <a:pt x="87154" y="22344"/>
                    <a:pt x="83344" y="21392"/>
                    <a:pt x="80486" y="19487"/>
                  </a:cubicBezTo>
                  <a:cubicBezTo>
                    <a:pt x="70009" y="13772"/>
                    <a:pt x="61436" y="9009"/>
                    <a:pt x="60484" y="8057"/>
                  </a:cubicBezTo>
                  <a:cubicBezTo>
                    <a:pt x="57626" y="5199"/>
                    <a:pt x="50006" y="9962"/>
                    <a:pt x="50006" y="9962"/>
                  </a:cubicBezTo>
                  <a:cubicBezTo>
                    <a:pt x="50006" y="9962"/>
                    <a:pt x="40481" y="12819"/>
                    <a:pt x="27146" y="15677"/>
                  </a:cubicBezTo>
                  <a:cubicBezTo>
                    <a:pt x="21431" y="17582"/>
                    <a:pt x="13811" y="18534"/>
                    <a:pt x="7144" y="18534"/>
                  </a:cubicBezTo>
                  <a:cubicBezTo>
                    <a:pt x="8096" y="23297"/>
                    <a:pt x="12859" y="26154"/>
                    <a:pt x="17621" y="24249"/>
                  </a:cubicBezTo>
                  <a:lnTo>
                    <a:pt x="50006" y="15677"/>
                  </a:lnTo>
                  <a:cubicBezTo>
                    <a:pt x="53816" y="20439"/>
                    <a:pt x="57626" y="25202"/>
                    <a:pt x="63341" y="29012"/>
                  </a:cubicBezTo>
                  <a:cubicBezTo>
                    <a:pt x="64294" y="29964"/>
                    <a:pt x="65246" y="30917"/>
                    <a:pt x="66199" y="30917"/>
                  </a:cubicBezTo>
                  <a:cubicBezTo>
                    <a:pt x="70009" y="32822"/>
                    <a:pt x="72866" y="35679"/>
                    <a:pt x="76676" y="37584"/>
                  </a:cubicBezTo>
                  <a:cubicBezTo>
                    <a:pt x="102394" y="52824"/>
                    <a:pt x="128111" y="56634"/>
                    <a:pt x="150971" y="49967"/>
                  </a:cubicBezTo>
                  <a:cubicBezTo>
                    <a:pt x="152876" y="49014"/>
                    <a:pt x="155734" y="48062"/>
                    <a:pt x="157639" y="48062"/>
                  </a:cubicBezTo>
                  <a:cubicBezTo>
                    <a:pt x="158591" y="46157"/>
                    <a:pt x="158591" y="45204"/>
                    <a:pt x="159544" y="43299"/>
                  </a:cubicBezTo>
                  <a:cubicBezTo>
                    <a:pt x="157639" y="43299"/>
                    <a:pt x="152876" y="43299"/>
                    <a:pt x="148114" y="43299"/>
                  </a:cubicBezTo>
                  <a:close/>
                </a:path>
              </a:pathLst>
            </a:custGeom>
            <a:solidFill>
              <a:srgbClr val="c8a8a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63" name="任意多边形: 形状 183"/>
            <p:cNvSpPr/>
            <p:nvPr/>
          </p:nvSpPr>
          <p:spPr>
            <a:xfrm>
              <a:off x="9237600" y="3500640"/>
              <a:ext cx="435960" cy="102240"/>
            </a:xfrm>
            <a:custGeom>
              <a:avLst/>
              <a:gdLst>
                <a:gd name="textAreaLeft" fmla="*/ 0 w 435960"/>
                <a:gd name="textAreaRight" fmla="*/ 436320 w 435960"/>
                <a:gd name="textAreaTop" fmla="*/ 0 h 102240"/>
                <a:gd name="textAreaBottom" fmla="*/ 102600 h 102240"/>
              </a:gdLst>
              <a:ahLst/>
              <a:rect l="textAreaLeft" t="textAreaTop" r="textAreaRight" b="textAreaBottom"/>
              <a:pathLst>
                <a:path w="161925" h="38100">
                  <a:moveTo>
                    <a:pt x="49054" y="14764"/>
                  </a:moveTo>
                  <a:cubicBezTo>
                    <a:pt x="54769" y="18574"/>
                    <a:pt x="60484" y="23336"/>
                    <a:pt x="69056" y="26194"/>
                  </a:cubicBezTo>
                  <a:cubicBezTo>
                    <a:pt x="90011" y="33814"/>
                    <a:pt x="103346" y="35719"/>
                    <a:pt x="118586" y="36671"/>
                  </a:cubicBezTo>
                  <a:lnTo>
                    <a:pt x="122396" y="36671"/>
                  </a:lnTo>
                  <a:cubicBezTo>
                    <a:pt x="132874" y="36671"/>
                    <a:pt x="143351" y="35719"/>
                    <a:pt x="156686" y="34766"/>
                  </a:cubicBezTo>
                  <a:cubicBezTo>
                    <a:pt x="156686" y="31909"/>
                    <a:pt x="157639" y="29051"/>
                    <a:pt x="157639" y="26194"/>
                  </a:cubicBezTo>
                  <a:cubicBezTo>
                    <a:pt x="120491" y="24289"/>
                    <a:pt x="98584" y="15716"/>
                    <a:pt x="92869" y="14764"/>
                  </a:cubicBezTo>
                  <a:cubicBezTo>
                    <a:pt x="91916" y="14764"/>
                    <a:pt x="90964" y="14764"/>
                    <a:pt x="90964" y="14764"/>
                  </a:cubicBezTo>
                  <a:cubicBezTo>
                    <a:pt x="90011" y="15716"/>
                    <a:pt x="93821" y="20479"/>
                    <a:pt x="95726" y="23336"/>
                  </a:cubicBezTo>
                  <a:cubicBezTo>
                    <a:pt x="96679" y="24289"/>
                    <a:pt x="96679" y="25241"/>
                    <a:pt x="94774" y="25241"/>
                  </a:cubicBezTo>
                  <a:cubicBezTo>
                    <a:pt x="90011" y="25241"/>
                    <a:pt x="49054" y="7144"/>
                    <a:pt x="49054" y="7144"/>
                  </a:cubicBezTo>
                  <a:cubicBezTo>
                    <a:pt x="49054" y="7144"/>
                    <a:pt x="24289" y="19526"/>
                    <a:pt x="7144" y="25241"/>
                  </a:cubicBezTo>
                  <a:cubicBezTo>
                    <a:pt x="7144" y="25241"/>
                    <a:pt x="7144" y="26194"/>
                    <a:pt x="8096" y="26194"/>
                  </a:cubicBezTo>
                  <a:lnTo>
                    <a:pt x="9049" y="28099"/>
                  </a:lnTo>
                  <a:cubicBezTo>
                    <a:pt x="10954" y="31909"/>
                    <a:pt x="16669" y="33814"/>
                    <a:pt x="20479" y="30956"/>
                  </a:cubicBezTo>
                  <a:lnTo>
                    <a:pt x="49054" y="14764"/>
                  </a:lnTo>
                  <a:close/>
                </a:path>
              </a:pathLst>
            </a:custGeom>
            <a:solidFill>
              <a:srgbClr val="c8a8a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64" name="任意多边形: 形状 184"/>
            <p:cNvSpPr/>
            <p:nvPr/>
          </p:nvSpPr>
          <p:spPr>
            <a:xfrm>
              <a:off x="10581480" y="1651320"/>
              <a:ext cx="794880" cy="641160"/>
            </a:xfrm>
            <a:custGeom>
              <a:avLst/>
              <a:gdLst>
                <a:gd name="textAreaLeft" fmla="*/ 0 w 794880"/>
                <a:gd name="textAreaRight" fmla="*/ 795240 w 794880"/>
                <a:gd name="textAreaTop" fmla="*/ 0 h 641160"/>
                <a:gd name="textAreaBottom" fmla="*/ 641520 h 641160"/>
              </a:gdLst>
              <a:ahLst/>
              <a:rect l="textAreaLeft" t="textAreaTop" r="textAreaRight" b="textAreaBottom"/>
              <a:pathLst>
                <a:path w="295275" h="238125">
                  <a:moveTo>
                    <a:pt x="7144" y="82492"/>
                  </a:moveTo>
                  <a:cubicBezTo>
                    <a:pt x="35719" y="96779"/>
                    <a:pt x="82391" y="158692"/>
                    <a:pt x="80486" y="155834"/>
                  </a:cubicBezTo>
                  <a:cubicBezTo>
                    <a:pt x="79534" y="152024"/>
                    <a:pt x="60484" y="119639"/>
                    <a:pt x="60484" y="119639"/>
                  </a:cubicBezTo>
                  <a:cubicBezTo>
                    <a:pt x="60484" y="119639"/>
                    <a:pt x="106204" y="150119"/>
                    <a:pt x="109061" y="152024"/>
                  </a:cubicBezTo>
                  <a:cubicBezTo>
                    <a:pt x="111919" y="153929"/>
                    <a:pt x="70961" y="91064"/>
                    <a:pt x="70961" y="91064"/>
                  </a:cubicBezTo>
                  <a:cubicBezTo>
                    <a:pt x="70961" y="91064"/>
                    <a:pt x="126206" y="110114"/>
                    <a:pt x="157639" y="139642"/>
                  </a:cubicBezTo>
                  <a:cubicBezTo>
                    <a:pt x="189071" y="168217"/>
                    <a:pt x="231934" y="244417"/>
                    <a:pt x="227171" y="238702"/>
                  </a:cubicBezTo>
                  <a:cubicBezTo>
                    <a:pt x="221456" y="232987"/>
                    <a:pt x="159544" y="95827"/>
                    <a:pt x="159544" y="95827"/>
                  </a:cubicBezTo>
                  <a:cubicBezTo>
                    <a:pt x="159544" y="95827"/>
                    <a:pt x="230029" y="164407"/>
                    <a:pt x="229076" y="159644"/>
                  </a:cubicBezTo>
                  <a:cubicBezTo>
                    <a:pt x="228124" y="153929"/>
                    <a:pt x="199549" y="101542"/>
                    <a:pt x="199549" y="101542"/>
                  </a:cubicBezTo>
                  <a:cubicBezTo>
                    <a:pt x="199549" y="101542"/>
                    <a:pt x="238601" y="112972"/>
                    <a:pt x="254794" y="128212"/>
                  </a:cubicBezTo>
                  <a:cubicBezTo>
                    <a:pt x="270034" y="143452"/>
                    <a:pt x="291941" y="172027"/>
                    <a:pt x="291941" y="172027"/>
                  </a:cubicBezTo>
                  <a:cubicBezTo>
                    <a:pt x="291941" y="172027"/>
                    <a:pt x="254794" y="80587"/>
                    <a:pt x="240506" y="66299"/>
                  </a:cubicBezTo>
                  <a:cubicBezTo>
                    <a:pt x="226219" y="52012"/>
                    <a:pt x="226219" y="52964"/>
                    <a:pt x="226219" y="52964"/>
                  </a:cubicBezTo>
                  <a:cubicBezTo>
                    <a:pt x="226219" y="52964"/>
                    <a:pt x="276701" y="86302"/>
                    <a:pt x="275749" y="85349"/>
                  </a:cubicBezTo>
                  <a:cubicBezTo>
                    <a:pt x="275749" y="84397"/>
                    <a:pt x="255746" y="46297"/>
                    <a:pt x="220504" y="29152"/>
                  </a:cubicBezTo>
                  <a:cubicBezTo>
                    <a:pt x="186214" y="12007"/>
                    <a:pt x="156686" y="6292"/>
                    <a:pt x="158591" y="7244"/>
                  </a:cubicBezTo>
                  <a:cubicBezTo>
                    <a:pt x="159544" y="7244"/>
                    <a:pt x="194786" y="44392"/>
                    <a:pt x="203359" y="55822"/>
                  </a:cubicBezTo>
                  <a:cubicBezTo>
                    <a:pt x="211931" y="68204"/>
                    <a:pt x="212884" y="72967"/>
                    <a:pt x="212884" y="71062"/>
                  </a:cubicBezTo>
                  <a:cubicBezTo>
                    <a:pt x="211931" y="69157"/>
                    <a:pt x="146209" y="33914"/>
                    <a:pt x="122396" y="29152"/>
                  </a:cubicBezTo>
                  <a:cubicBezTo>
                    <a:pt x="99536" y="24389"/>
                    <a:pt x="94774" y="25342"/>
                    <a:pt x="94774" y="25342"/>
                  </a:cubicBezTo>
                  <a:lnTo>
                    <a:pt x="148114" y="61537"/>
                  </a:lnTo>
                  <a:cubicBezTo>
                    <a:pt x="148114" y="61537"/>
                    <a:pt x="56674" y="39629"/>
                    <a:pt x="58579" y="40582"/>
                  </a:cubicBezTo>
                  <a:cubicBezTo>
                    <a:pt x="60484" y="40582"/>
                    <a:pt x="126206" y="87254"/>
                    <a:pt x="126206" y="87254"/>
                  </a:cubicBezTo>
                  <a:cubicBezTo>
                    <a:pt x="126206" y="87254"/>
                    <a:pt x="76676" y="67252"/>
                    <a:pt x="56674" y="64394"/>
                  </a:cubicBezTo>
                  <a:cubicBezTo>
                    <a:pt x="36671" y="61537"/>
                    <a:pt x="28099" y="62489"/>
                    <a:pt x="28099" y="62489"/>
                  </a:cubicBezTo>
                  <a:cubicBezTo>
                    <a:pt x="28099" y="62489"/>
                    <a:pt x="62389" y="106304"/>
                    <a:pt x="60484" y="104399"/>
                  </a:cubicBezTo>
                  <a:cubicBezTo>
                    <a:pt x="58579" y="102494"/>
                    <a:pt x="30004" y="86302"/>
                    <a:pt x="20479" y="85349"/>
                  </a:cubicBezTo>
                  <a:cubicBezTo>
                    <a:pt x="11906" y="80587"/>
                    <a:pt x="7144" y="82492"/>
                    <a:pt x="7144" y="82492"/>
                  </a:cubicBezTo>
                  <a:close/>
                </a:path>
              </a:pathLst>
            </a:custGeom>
            <a:solidFill>
              <a:srgbClr val="2335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65" name="任意多边形: 形状 185"/>
            <p:cNvSpPr/>
            <p:nvPr/>
          </p:nvSpPr>
          <p:spPr>
            <a:xfrm>
              <a:off x="10653480" y="2080080"/>
              <a:ext cx="461520" cy="666720"/>
            </a:xfrm>
            <a:custGeom>
              <a:avLst/>
              <a:gdLst>
                <a:gd name="textAreaLeft" fmla="*/ 0 w 461520"/>
                <a:gd name="textAreaRight" fmla="*/ 461880 w 461520"/>
                <a:gd name="textAreaTop" fmla="*/ 0 h 666720"/>
                <a:gd name="textAreaBottom" fmla="*/ 667080 h 666720"/>
              </a:gdLst>
              <a:ahLst/>
              <a:rect l="textAreaLeft" t="textAreaTop" r="textAreaRight" b="textAreaBottom"/>
              <a:pathLst>
                <a:path w="171450" h="247650">
                  <a:moveTo>
                    <a:pt x="150971" y="190976"/>
                  </a:moveTo>
                  <a:cubicBezTo>
                    <a:pt x="146209" y="199549"/>
                    <a:pt x="139541" y="206216"/>
                    <a:pt x="130969" y="212884"/>
                  </a:cubicBezTo>
                  <a:cubicBezTo>
                    <a:pt x="128111" y="215741"/>
                    <a:pt x="124301" y="217646"/>
                    <a:pt x="120491" y="219551"/>
                  </a:cubicBezTo>
                  <a:cubicBezTo>
                    <a:pt x="107156" y="228124"/>
                    <a:pt x="88106" y="230029"/>
                    <a:pt x="70961" y="228124"/>
                  </a:cubicBezTo>
                  <a:cubicBezTo>
                    <a:pt x="79534" y="237649"/>
                    <a:pt x="87154" y="243364"/>
                    <a:pt x="90964" y="243364"/>
                  </a:cubicBezTo>
                  <a:cubicBezTo>
                    <a:pt x="106204" y="238601"/>
                    <a:pt x="120491" y="231934"/>
                    <a:pt x="133826" y="223361"/>
                  </a:cubicBezTo>
                  <a:cubicBezTo>
                    <a:pt x="145256" y="215741"/>
                    <a:pt x="154781" y="208121"/>
                    <a:pt x="164306" y="198596"/>
                  </a:cubicBezTo>
                  <a:cubicBezTo>
                    <a:pt x="165259" y="194786"/>
                    <a:pt x="166211" y="190024"/>
                    <a:pt x="167164" y="186214"/>
                  </a:cubicBezTo>
                  <a:cubicBezTo>
                    <a:pt x="174784" y="147161"/>
                    <a:pt x="170974" y="70009"/>
                    <a:pt x="143351" y="17621"/>
                  </a:cubicBezTo>
                  <a:cubicBezTo>
                    <a:pt x="129064" y="23336"/>
                    <a:pt x="86201" y="37624"/>
                    <a:pt x="45244" y="19526"/>
                  </a:cubicBezTo>
                  <a:cubicBezTo>
                    <a:pt x="45244" y="19526"/>
                    <a:pt x="44291" y="19526"/>
                    <a:pt x="44291" y="19526"/>
                  </a:cubicBezTo>
                  <a:cubicBezTo>
                    <a:pt x="78581" y="44291"/>
                    <a:pt x="115729" y="42386"/>
                    <a:pt x="115729" y="42386"/>
                  </a:cubicBezTo>
                  <a:cubicBezTo>
                    <a:pt x="68104" y="51911"/>
                    <a:pt x="38576" y="39529"/>
                    <a:pt x="7144" y="7144"/>
                  </a:cubicBezTo>
                  <a:cubicBezTo>
                    <a:pt x="7144" y="11906"/>
                    <a:pt x="8096" y="16669"/>
                    <a:pt x="9049" y="21431"/>
                  </a:cubicBezTo>
                  <a:cubicBezTo>
                    <a:pt x="9049" y="21431"/>
                    <a:pt x="9049" y="21431"/>
                    <a:pt x="9049" y="21431"/>
                  </a:cubicBezTo>
                  <a:cubicBezTo>
                    <a:pt x="20479" y="31909"/>
                    <a:pt x="16669" y="32861"/>
                    <a:pt x="35719" y="43339"/>
                  </a:cubicBezTo>
                  <a:cubicBezTo>
                    <a:pt x="41434" y="46196"/>
                    <a:pt x="47149" y="49054"/>
                    <a:pt x="52864" y="50959"/>
                  </a:cubicBezTo>
                  <a:cubicBezTo>
                    <a:pt x="89059" y="62389"/>
                    <a:pt x="127159" y="44291"/>
                    <a:pt x="129064" y="44291"/>
                  </a:cubicBezTo>
                  <a:cubicBezTo>
                    <a:pt x="130969" y="44291"/>
                    <a:pt x="86201" y="34766"/>
                    <a:pt x="84296" y="33814"/>
                  </a:cubicBezTo>
                  <a:cubicBezTo>
                    <a:pt x="81439" y="33814"/>
                    <a:pt x="88106" y="33814"/>
                    <a:pt x="100489" y="34766"/>
                  </a:cubicBezTo>
                  <a:cubicBezTo>
                    <a:pt x="112871" y="35719"/>
                    <a:pt x="139541" y="28099"/>
                    <a:pt x="139541" y="28099"/>
                  </a:cubicBezTo>
                  <a:cubicBezTo>
                    <a:pt x="139541" y="28099"/>
                    <a:pt x="157639" y="124301"/>
                    <a:pt x="158591" y="155734"/>
                  </a:cubicBezTo>
                  <a:cubicBezTo>
                    <a:pt x="160496" y="168116"/>
                    <a:pt x="156686" y="180499"/>
                    <a:pt x="150971" y="190976"/>
                  </a:cubicBezTo>
                  <a:close/>
                </a:path>
              </a:pathLst>
            </a:custGeom>
            <a:solidFill>
              <a:srgbClr val="d8bcc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66" name="任意多边形: 形状 186"/>
            <p:cNvSpPr/>
            <p:nvPr/>
          </p:nvSpPr>
          <p:spPr>
            <a:xfrm>
              <a:off x="10750680" y="2136240"/>
              <a:ext cx="333360" cy="179280"/>
            </a:xfrm>
            <a:custGeom>
              <a:avLst/>
              <a:gdLst>
                <a:gd name="textAreaLeft" fmla="*/ 0 w 333360"/>
                <a:gd name="textAreaRight" fmla="*/ 333720 w 333360"/>
                <a:gd name="textAreaTop" fmla="*/ 0 h 179280"/>
                <a:gd name="textAreaBottom" fmla="*/ 179640 h 179280"/>
              </a:gdLst>
              <a:ahLst/>
              <a:rect l="textAreaLeft" t="textAreaTop" r="textAreaRight" b="textAreaBottom"/>
              <a:pathLst>
                <a:path w="123825" h="66675">
                  <a:moveTo>
                    <a:pt x="13811" y="51911"/>
                  </a:moveTo>
                  <a:cubicBezTo>
                    <a:pt x="10001" y="44291"/>
                    <a:pt x="7144" y="37624"/>
                    <a:pt x="7144" y="30956"/>
                  </a:cubicBezTo>
                  <a:lnTo>
                    <a:pt x="113824" y="7144"/>
                  </a:lnTo>
                  <a:lnTo>
                    <a:pt x="116681" y="13811"/>
                  </a:lnTo>
                  <a:cubicBezTo>
                    <a:pt x="82391" y="25241"/>
                    <a:pt x="26194" y="26194"/>
                    <a:pt x="20479" y="66199"/>
                  </a:cubicBezTo>
                  <a:lnTo>
                    <a:pt x="13811" y="51911"/>
                  </a:ln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67" name="任意多边形: 形状 187"/>
            <p:cNvSpPr/>
            <p:nvPr/>
          </p:nvSpPr>
          <p:spPr>
            <a:xfrm>
              <a:off x="10884240" y="2072160"/>
              <a:ext cx="153720" cy="76680"/>
            </a:xfrm>
            <a:custGeom>
              <a:avLst/>
              <a:gdLst>
                <a:gd name="textAreaLeft" fmla="*/ 0 w 153720"/>
                <a:gd name="textAreaRight" fmla="*/ 154080 w 153720"/>
                <a:gd name="textAreaTop" fmla="*/ 0 h 76680"/>
                <a:gd name="textAreaBottom" fmla="*/ 77040 h 76680"/>
              </a:gdLst>
              <a:ahLst/>
              <a:rect l="textAreaLeft" t="textAreaTop" r="textAreaRight" b="textAreaBottom"/>
              <a:pathLst>
                <a:path w="57150" h="28575">
                  <a:moveTo>
                    <a:pt x="7144" y="19526"/>
                  </a:moveTo>
                  <a:cubicBezTo>
                    <a:pt x="29051" y="24289"/>
                    <a:pt x="-17435" y="20479"/>
                    <a:pt x="-7910" y="18574"/>
                  </a:cubicBezTo>
                  <a:cubicBezTo>
                    <a:pt x="-9815" y="14764"/>
                    <a:pt x="-11720" y="10954"/>
                    <a:pt x="-14577" y="7144"/>
                  </a:cubicBezTo>
                  <a:cubicBezTo>
                    <a:pt x="-27912" y="12859"/>
                    <a:pt x="22384" y="16669"/>
                    <a:pt x="7144" y="19526"/>
                  </a:cubicBezTo>
                  <a:close/>
                </a:path>
              </a:pathLst>
            </a:custGeom>
            <a:solidFill>
              <a:srgbClr val="d8bcc4"/>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Arial"/>
              </a:endParaRPr>
            </a:p>
          </p:txBody>
        </p:sp>
        <p:sp>
          <p:nvSpPr>
            <p:cNvPr id="1868" name="任意多边形: 形状 188"/>
            <p:cNvSpPr/>
            <p:nvPr/>
          </p:nvSpPr>
          <p:spPr>
            <a:xfrm>
              <a:off x="10073520" y="4898520"/>
              <a:ext cx="230760" cy="743400"/>
            </a:xfrm>
            <a:custGeom>
              <a:avLst/>
              <a:gdLst>
                <a:gd name="textAreaLeft" fmla="*/ 0 w 230760"/>
                <a:gd name="textAreaRight" fmla="*/ 231120 w 230760"/>
                <a:gd name="textAreaTop" fmla="*/ 0 h 743400"/>
                <a:gd name="textAreaBottom" fmla="*/ 743760 h 743400"/>
              </a:gdLst>
              <a:ahLst/>
              <a:rect l="textAreaLeft" t="textAreaTop" r="textAreaRight" b="textAreaBottom"/>
              <a:pathLst>
                <a:path w="85725" h="276225">
                  <a:moveTo>
                    <a:pt x="85249" y="259556"/>
                  </a:moveTo>
                  <a:cubicBezTo>
                    <a:pt x="85249" y="259556"/>
                    <a:pt x="68104" y="128111"/>
                    <a:pt x="49054" y="78581"/>
                  </a:cubicBezTo>
                  <a:cubicBezTo>
                    <a:pt x="41434" y="60484"/>
                    <a:pt x="34766" y="33814"/>
                    <a:pt x="28099" y="7144"/>
                  </a:cubicBezTo>
                  <a:lnTo>
                    <a:pt x="7144" y="11906"/>
                  </a:lnTo>
                  <a:cubicBezTo>
                    <a:pt x="7144" y="12859"/>
                    <a:pt x="7144" y="13811"/>
                    <a:pt x="8096" y="15716"/>
                  </a:cubicBezTo>
                  <a:cubicBezTo>
                    <a:pt x="19526" y="93821"/>
                    <a:pt x="35719" y="201454"/>
                    <a:pt x="43339" y="227171"/>
                  </a:cubicBezTo>
                  <a:cubicBezTo>
                    <a:pt x="49054" y="245269"/>
                    <a:pt x="50006" y="259556"/>
                    <a:pt x="51911" y="270034"/>
                  </a:cubicBezTo>
                  <a:cubicBezTo>
                    <a:pt x="63341" y="267176"/>
                    <a:pt x="72866" y="263366"/>
                    <a:pt x="79534" y="262414"/>
                  </a:cubicBezTo>
                  <a:cubicBezTo>
                    <a:pt x="82391" y="259556"/>
                    <a:pt x="84296" y="259556"/>
                    <a:pt x="85249" y="259556"/>
                  </a:cubicBezTo>
                  <a:close/>
                </a:path>
              </a:pathLst>
            </a:custGeom>
            <a:solidFill>
              <a:srgbClr val="0b10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69" name="任意多边形: 形状 189"/>
            <p:cNvSpPr/>
            <p:nvPr/>
          </p:nvSpPr>
          <p:spPr>
            <a:xfrm>
              <a:off x="10042920" y="4280400"/>
              <a:ext cx="1282320" cy="333360"/>
            </a:xfrm>
            <a:custGeom>
              <a:avLst/>
              <a:gdLst>
                <a:gd name="textAreaLeft" fmla="*/ 0 w 1282320"/>
                <a:gd name="textAreaRight" fmla="*/ 1282680 w 1282320"/>
                <a:gd name="textAreaTop" fmla="*/ 0 h 333360"/>
                <a:gd name="textAreaBottom" fmla="*/ 333720 h 333360"/>
              </a:gdLst>
              <a:ahLst/>
              <a:rect l="textAreaLeft" t="textAreaTop" r="textAreaRight" b="textAreaBottom"/>
              <a:pathLst>
                <a:path w="476250" h="123825">
                  <a:moveTo>
                    <a:pt x="209074" y="34766"/>
                  </a:moveTo>
                  <a:cubicBezTo>
                    <a:pt x="162401" y="44291"/>
                    <a:pt x="108109" y="58579"/>
                    <a:pt x="48101" y="81439"/>
                  </a:cubicBezTo>
                  <a:cubicBezTo>
                    <a:pt x="33814" y="87154"/>
                    <a:pt x="20479" y="92869"/>
                    <a:pt x="7144" y="98584"/>
                  </a:cubicBezTo>
                  <a:lnTo>
                    <a:pt x="7144" y="124301"/>
                  </a:lnTo>
                  <a:cubicBezTo>
                    <a:pt x="66199" y="104299"/>
                    <a:pt x="194786" y="60484"/>
                    <a:pt x="197644" y="60484"/>
                  </a:cubicBezTo>
                  <a:cubicBezTo>
                    <a:pt x="201454" y="60484"/>
                    <a:pt x="290989" y="83344"/>
                    <a:pt x="364331" y="70961"/>
                  </a:cubicBezTo>
                  <a:cubicBezTo>
                    <a:pt x="437674" y="59531"/>
                    <a:pt x="470059" y="7144"/>
                    <a:pt x="470059" y="7144"/>
                  </a:cubicBezTo>
                  <a:cubicBezTo>
                    <a:pt x="470059" y="7144"/>
                    <a:pt x="468154" y="10001"/>
                    <a:pt x="413861" y="31909"/>
                  </a:cubicBezTo>
                  <a:cubicBezTo>
                    <a:pt x="408146" y="33814"/>
                    <a:pt x="402431" y="36671"/>
                    <a:pt x="395764" y="39529"/>
                  </a:cubicBezTo>
                  <a:cubicBezTo>
                    <a:pt x="323374" y="68104"/>
                    <a:pt x="209074" y="34766"/>
                    <a:pt x="209074" y="34766"/>
                  </a:cubicBezTo>
                  <a:close/>
                </a:path>
              </a:pathLst>
            </a:custGeom>
            <a:solidFill>
              <a:srgbClr val="0f141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0" name="任意多边形: 形状 190"/>
            <p:cNvSpPr/>
            <p:nvPr/>
          </p:nvSpPr>
          <p:spPr>
            <a:xfrm>
              <a:off x="10688400" y="2169720"/>
              <a:ext cx="128160" cy="281880"/>
            </a:xfrm>
            <a:custGeom>
              <a:avLst/>
              <a:gdLst>
                <a:gd name="textAreaLeft" fmla="*/ 0 w 128160"/>
                <a:gd name="textAreaRight" fmla="*/ 128520 w 128160"/>
                <a:gd name="textAreaTop" fmla="*/ 0 h 281880"/>
                <a:gd name="textAreaBottom" fmla="*/ 282240 h 281880"/>
              </a:gdLst>
              <a:ahLst/>
              <a:rect l="textAreaLeft" t="textAreaTop" r="textAreaRight" b="textAreaBottom"/>
              <a:pathLst>
                <a:path w="47625" h="104775">
                  <a:moveTo>
                    <a:pt x="14131" y="7144"/>
                  </a:moveTo>
                  <a:cubicBezTo>
                    <a:pt x="42706" y="7144"/>
                    <a:pt x="58898" y="101441"/>
                    <a:pt x="38896" y="101441"/>
                  </a:cubicBezTo>
                  <a:cubicBezTo>
                    <a:pt x="18893" y="102394"/>
                    <a:pt x="-4919" y="7144"/>
                    <a:pt x="14131" y="7144"/>
                  </a:cubicBezTo>
                  <a:close/>
                  <a:moveTo>
                    <a:pt x="16036" y="12859"/>
                  </a:moveTo>
                  <a:cubicBezTo>
                    <a:pt x="3653" y="12859"/>
                    <a:pt x="25561" y="95726"/>
                    <a:pt x="38896" y="95726"/>
                  </a:cubicBezTo>
                  <a:cubicBezTo>
                    <a:pt x="52231" y="95726"/>
                    <a:pt x="34133" y="12859"/>
                    <a:pt x="16036" y="12859"/>
                  </a:cubicBez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1" name="任意多边形: 形状 191"/>
            <p:cNvSpPr/>
            <p:nvPr/>
          </p:nvSpPr>
          <p:spPr>
            <a:xfrm>
              <a:off x="10700280" y="2182320"/>
              <a:ext cx="102240" cy="256320"/>
            </a:xfrm>
            <a:custGeom>
              <a:avLst/>
              <a:gdLst>
                <a:gd name="textAreaLeft" fmla="*/ 0 w 102240"/>
                <a:gd name="textAreaRight" fmla="*/ 102600 w 102240"/>
                <a:gd name="textAreaTop" fmla="*/ 0 h 256320"/>
                <a:gd name="textAreaBottom" fmla="*/ 256680 h 256320"/>
              </a:gdLst>
              <a:ahLst/>
              <a:rect l="textAreaLeft" t="textAreaTop" r="textAreaRight" b="textAreaBottom"/>
              <a:pathLst>
                <a:path w="38100" h="95250">
                  <a:moveTo>
                    <a:pt x="38250" y="72866"/>
                  </a:moveTo>
                  <a:cubicBezTo>
                    <a:pt x="37298" y="54769"/>
                    <a:pt x="29678" y="26194"/>
                    <a:pt x="20153" y="13811"/>
                  </a:cubicBezTo>
                  <a:cubicBezTo>
                    <a:pt x="17295" y="10001"/>
                    <a:pt x="13485" y="7144"/>
                    <a:pt x="10628" y="7144"/>
                  </a:cubicBezTo>
                  <a:cubicBezTo>
                    <a:pt x="3960" y="7144"/>
                    <a:pt x="7770" y="32861"/>
                    <a:pt x="14438" y="55721"/>
                  </a:cubicBezTo>
                  <a:cubicBezTo>
                    <a:pt x="20153" y="73819"/>
                    <a:pt x="27773" y="90011"/>
                    <a:pt x="33488" y="90011"/>
                  </a:cubicBezTo>
                  <a:cubicBezTo>
                    <a:pt x="37298" y="90011"/>
                    <a:pt x="38250" y="84296"/>
                    <a:pt x="38250" y="76676"/>
                  </a:cubicBezTo>
                  <a:cubicBezTo>
                    <a:pt x="39203" y="75724"/>
                    <a:pt x="39203" y="74771"/>
                    <a:pt x="38250" y="72866"/>
                  </a:cubicBezTo>
                  <a:close/>
                </a:path>
              </a:pathLst>
            </a:custGeom>
            <a:solidFill>
              <a:srgbClr val="cdd7e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2" name="任意多边形: 形状 192"/>
            <p:cNvSpPr/>
            <p:nvPr/>
          </p:nvSpPr>
          <p:spPr>
            <a:xfrm>
              <a:off x="10610640" y="2428560"/>
              <a:ext cx="153720" cy="51120"/>
            </a:xfrm>
            <a:custGeom>
              <a:avLst/>
              <a:gdLst>
                <a:gd name="textAreaLeft" fmla="*/ 0 w 153720"/>
                <a:gd name="textAreaRight" fmla="*/ 154080 w 153720"/>
                <a:gd name="textAreaTop" fmla="*/ 0 h 51120"/>
                <a:gd name="textAreaBottom" fmla="*/ 51480 h 51120"/>
              </a:gdLst>
              <a:ahLst/>
              <a:rect l="textAreaLeft" t="textAreaTop" r="textAreaRight" b="textAreaBottom"/>
              <a:pathLst>
                <a:path w="57150" h="19050">
                  <a:moveTo>
                    <a:pt x="-24399" y="19526"/>
                  </a:moveTo>
                  <a:cubicBezTo>
                    <a:pt x="-17731" y="21431"/>
                    <a:pt x="-12968" y="14764"/>
                    <a:pt x="-11064" y="12859"/>
                  </a:cubicBezTo>
                  <a:cubicBezTo>
                    <a:pt x="-11064" y="12859"/>
                    <a:pt x="18278" y="9049"/>
                    <a:pt x="7800" y="7144"/>
                  </a:cubicBezTo>
                  <a:cubicBezTo>
                    <a:pt x="2085" y="22384"/>
                    <a:pt x="-30114" y="18574"/>
                    <a:pt x="-24399" y="19526"/>
                  </a:cubicBezTo>
                  <a:close/>
                </a:path>
              </a:pathLst>
            </a:custGeom>
            <a:solidFill>
              <a:srgbClr val="d4aeb3"/>
            </a:solidFill>
            <a:ln w="0">
              <a:noFill/>
            </a:ln>
          </p:spPr>
          <p:style>
            <a:lnRef idx="0"/>
            <a:fillRef idx="0"/>
            <a:effectRef idx="0"/>
            <a:fontRef idx="minor"/>
          </p:style>
          <p:txBody>
            <a:bodyPr lIns="90000" rIns="90000" tIns="4680" bIns="4680" anchor="ctr">
              <a:noAutofit/>
            </a:bodyPr>
            <a:p>
              <a:endParaRPr b="0" lang="en-US" sz="1800" spc="-1" strike="noStrike">
                <a:solidFill>
                  <a:srgbClr val="262626"/>
                </a:solidFill>
                <a:latin typeface="Arial"/>
              </a:endParaRPr>
            </a:p>
          </p:txBody>
        </p:sp>
        <p:sp>
          <p:nvSpPr>
            <p:cNvPr id="1873" name="任意多边形: 形状 193"/>
            <p:cNvSpPr/>
            <p:nvPr/>
          </p:nvSpPr>
          <p:spPr>
            <a:xfrm>
              <a:off x="5269320" y="2031120"/>
              <a:ext cx="179280" cy="281880"/>
            </a:xfrm>
            <a:custGeom>
              <a:avLst/>
              <a:gdLst>
                <a:gd name="textAreaLeft" fmla="*/ 0 w 179280"/>
                <a:gd name="textAreaRight" fmla="*/ 179640 w 179280"/>
                <a:gd name="textAreaTop" fmla="*/ 0 h 281880"/>
                <a:gd name="textAreaBottom" fmla="*/ 282240 h 281880"/>
              </a:gdLst>
              <a:ahLst/>
              <a:rect l="textAreaLeft" t="textAreaTop" r="textAreaRight" b="textAreaBottom"/>
              <a:pathLst>
                <a:path w="66675" h="104775">
                  <a:moveTo>
                    <a:pt x="7449" y="88106"/>
                  </a:moveTo>
                  <a:cubicBezTo>
                    <a:pt x="7449" y="88106"/>
                    <a:pt x="5543" y="100489"/>
                    <a:pt x="11259" y="100489"/>
                  </a:cubicBezTo>
                  <a:cubicBezTo>
                    <a:pt x="16974" y="100489"/>
                    <a:pt x="52216" y="98584"/>
                    <a:pt x="56026" y="96679"/>
                  </a:cubicBezTo>
                  <a:cubicBezTo>
                    <a:pt x="58884" y="94774"/>
                    <a:pt x="66504" y="87154"/>
                    <a:pt x="65551" y="85249"/>
                  </a:cubicBezTo>
                  <a:cubicBezTo>
                    <a:pt x="64599" y="84296"/>
                    <a:pt x="51264" y="70009"/>
                    <a:pt x="50311" y="68104"/>
                  </a:cubicBezTo>
                  <a:cubicBezTo>
                    <a:pt x="49359" y="65246"/>
                    <a:pt x="40786" y="7144"/>
                    <a:pt x="40786" y="7144"/>
                  </a:cubicBezTo>
                  <a:lnTo>
                    <a:pt x="44596" y="74771"/>
                  </a:lnTo>
                  <a:cubicBezTo>
                    <a:pt x="44596" y="74771"/>
                    <a:pt x="56026" y="86201"/>
                    <a:pt x="55074" y="88106"/>
                  </a:cubicBezTo>
                  <a:cubicBezTo>
                    <a:pt x="54121" y="90011"/>
                    <a:pt x="25546" y="93821"/>
                    <a:pt x="18879" y="93821"/>
                  </a:cubicBezTo>
                  <a:cubicBezTo>
                    <a:pt x="13164" y="93821"/>
                    <a:pt x="11259" y="90011"/>
                    <a:pt x="11259" y="88106"/>
                  </a:cubicBezTo>
                  <a:cubicBezTo>
                    <a:pt x="11259" y="86201"/>
                    <a:pt x="11259" y="72866"/>
                    <a:pt x="10306" y="73819"/>
                  </a:cubicBezTo>
                  <a:cubicBezTo>
                    <a:pt x="10306" y="76676"/>
                    <a:pt x="7449" y="88106"/>
                    <a:pt x="7449" y="88106"/>
                  </a:cubicBez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4" name="任意多边形: 形状 194"/>
            <p:cNvSpPr/>
            <p:nvPr/>
          </p:nvSpPr>
          <p:spPr>
            <a:xfrm>
              <a:off x="3442680" y="1002600"/>
              <a:ext cx="153720" cy="204840"/>
            </a:xfrm>
            <a:custGeom>
              <a:avLst/>
              <a:gdLst>
                <a:gd name="textAreaLeft" fmla="*/ 0 w 153720"/>
                <a:gd name="textAreaRight" fmla="*/ 154080 w 153720"/>
                <a:gd name="textAreaTop" fmla="*/ 0 h 204840"/>
                <a:gd name="textAreaBottom" fmla="*/ 205200 h 204840"/>
              </a:gdLst>
              <a:ahLst/>
              <a:rect l="textAreaLeft" t="textAreaTop" r="textAreaRight" b="textAreaBottom"/>
              <a:pathLst>
                <a:path w="57150" h="76200">
                  <a:moveTo>
                    <a:pt x="8587" y="58579"/>
                  </a:moveTo>
                  <a:cubicBezTo>
                    <a:pt x="8587" y="58579"/>
                    <a:pt x="4777" y="67151"/>
                    <a:pt x="9539" y="68104"/>
                  </a:cubicBezTo>
                  <a:cubicBezTo>
                    <a:pt x="14302" y="69056"/>
                    <a:pt x="39067" y="73819"/>
                    <a:pt x="41924" y="73819"/>
                  </a:cubicBezTo>
                  <a:cubicBezTo>
                    <a:pt x="44782" y="72866"/>
                    <a:pt x="51449" y="69056"/>
                    <a:pt x="50497" y="68104"/>
                  </a:cubicBezTo>
                  <a:cubicBezTo>
                    <a:pt x="50497" y="67151"/>
                    <a:pt x="42877" y="54769"/>
                    <a:pt x="42877" y="52864"/>
                  </a:cubicBezTo>
                  <a:cubicBezTo>
                    <a:pt x="42877" y="50959"/>
                    <a:pt x="47639" y="7144"/>
                    <a:pt x="47639" y="7144"/>
                  </a:cubicBezTo>
                  <a:lnTo>
                    <a:pt x="38114" y="56674"/>
                  </a:lnTo>
                  <a:cubicBezTo>
                    <a:pt x="38114" y="56674"/>
                    <a:pt x="43829" y="67151"/>
                    <a:pt x="42877" y="68104"/>
                  </a:cubicBezTo>
                  <a:cubicBezTo>
                    <a:pt x="41924" y="69056"/>
                    <a:pt x="20017" y="67151"/>
                    <a:pt x="16207" y="66199"/>
                  </a:cubicBezTo>
                  <a:cubicBezTo>
                    <a:pt x="11444" y="65246"/>
                    <a:pt x="11444" y="62389"/>
                    <a:pt x="11444" y="61436"/>
                  </a:cubicBezTo>
                  <a:cubicBezTo>
                    <a:pt x="11444" y="59531"/>
                    <a:pt x="14302" y="50959"/>
                    <a:pt x="13349" y="50959"/>
                  </a:cubicBezTo>
                  <a:cubicBezTo>
                    <a:pt x="12397" y="50959"/>
                    <a:pt x="8587" y="58579"/>
                    <a:pt x="8587" y="58579"/>
                  </a:cubicBezTo>
                  <a:close/>
                </a:path>
              </a:pathLst>
            </a:custGeom>
            <a:solidFill>
              <a:srgbClr val="d4aeb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5" name="任意多边形: 形状 195"/>
            <p:cNvSpPr/>
            <p:nvPr/>
          </p:nvSpPr>
          <p:spPr>
            <a:xfrm>
              <a:off x="10801800" y="2598120"/>
              <a:ext cx="512640" cy="410040"/>
            </a:xfrm>
            <a:custGeom>
              <a:avLst/>
              <a:gdLst>
                <a:gd name="textAreaLeft" fmla="*/ 0 w 512640"/>
                <a:gd name="textAreaRight" fmla="*/ 513000 w 512640"/>
                <a:gd name="textAreaTop" fmla="*/ 0 h 410040"/>
                <a:gd name="textAreaBottom" fmla="*/ 410400 h 410040"/>
              </a:gdLst>
              <a:ahLst/>
              <a:rect l="textAreaLeft" t="textAreaTop" r="textAreaRight" b="textAreaBottom"/>
              <a:pathLst>
                <a:path w="190500" h="152400">
                  <a:moveTo>
                    <a:pt x="163448" y="51911"/>
                  </a:moveTo>
                  <a:cubicBezTo>
                    <a:pt x="163448" y="51911"/>
                    <a:pt x="153923" y="68104"/>
                    <a:pt x="138683" y="80486"/>
                  </a:cubicBezTo>
                  <a:cubicBezTo>
                    <a:pt x="123443" y="92869"/>
                    <a:pt x="85343" y="111919"/>
                    <a:pt x="44385" y="125254"/>
                  </a:cubicBezTo>
                  <a:cubicBezTo>
                    <a:pt x="33908" y="128111"/>
                    <a:pt x="25335" y="130016"/>
                    <a:pt x="18668" y="130969"/>
                  </a:cubicBezTo>
                  <a:cubicBezTo>
                    <a:pt x="14858" y="134779"/>
                    <a:pt x="10095" y="138589"/>
                    <a:pt x="7237" y="141446"/>
                  </a:cubicBezTo>
                  <a:cubicBezTo>
                    <a:pt x="7237" y="141446"/>
                    <a:pt x="3428" y="151924"/>
                    <a:pt x="44385" y="140494"/>
                  </a:cubicBezTo>
                  <a:cubicBezTo>
                    <a:pt x="73912" y="131921"/>
                    <a:pt x="162495" y="70961"/>
                    <a:pt x="190118" y="70961"/>
                  </a:cubicBezTo>
                  <a:cubicBezTo>
                    <a:pt x="186308" y="60484"/>
                    <a:pt x="182498" y="50006"/>
                    <a:pt x="179640" y="38576"/>
                  </a:cubicBezTo>
                  <a:cubicBezTo>
                    <a:pt x="168210" y="42386"/>
                    <a:pt x="154875" y="45244"/>
                    <a:pt x="140588" y="50006"/>
                  </a:cubicBezTo>
                  <a:cubicBezTo>
                    <a:pt x="143445" y="32861"/>
                    <a:pt x="145350" y="23336"/>
                    <a:pt x="144398" y="21431"/>
                  </a:cubicBezTo>
                  <a:cubicBezTo>
                    <a:pt x="144398" y="18574"/>
                    <a:pt x="143445" y="22384"/>
                    <a:pt x="131062" y="38576"/>
                  </a:cubicBezTo>
                  <a:cubicBezTo>
                    <a:pt x="118680" y="53816"/>
                    <a:pt x="95820" y="63341"/>
                    <a:pt x="95820" y="63341"/>
                  </a:cubicBezTo>
                  <a:cubicBezTo>
                    <a:pt x="95820" y="63341"/>
                    <a:pt x="102487" y="42386"/>
                    <a:pt x="110108" y="7144"/>
                  </a:cubicBezTo>
                  <a:cubicBezTo>
                    <a:pt x="107250" y="10001"/>
                    <a:pt x="104393" y="12859"/>
                    <a:pt x="101535" y="15716"/>
                  </a:cubicBezTo>
                  <a:cubicBezTo>
                    <a:pt x="94868" y="38576"/>
                    <a:pt x="87248" y="67151"/>
                    <a:pt x="86295" y="68104"/>
                  </a:cubicBezTo>
                  <a:cubicBezTo>
                    <a:pt x="85343" y="70009"/>
                    <a:pt x="106298" y="64294"/>
                    <a:pt x="117728" y="59531"/>
                  </a:cubicBezTo>
                  <a:cubicBezTo>
                    <a:pt x="130110" y="54769"/>
                    <a:pt x="132968" y="52864"/>
                    <a:pt x="132968" y="52864"/>
                  </a:cubicBezTo>
                  <a:cubicBezTo>
                    <a:pt x="132968" y="52864"/>
                    <a:pt x="121537" y="70961"/>
                    <a:pt x="124395" y="70009"/>
                  </a:cubicBezTo>
                  <a:cubicBezTo>
                    <a:pt x="127253" y="67151"/>
                    <a:pt x="163448" y="51911"/>
                    <a:pt x="163448" y="51911"/>
                  </a:cubicBezTo>
                  <a:close/>
                </a:path>
              </a:pathLst>
            </a:custGeom>
            <a:solidFill>
              <a:srgbClr val="d1a2a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6" name="任意多边形: 形状 196"/>
            <p:cNvSpPr/>
            <p:nvPr/>
          </p:nvSpPr>
          <p:spPr>
            <a:xfrm>
              <a:off x="6926760" y="861840"/>
              <a:ext cx="204840" cy="564120"/>
            </a:xfrm>
            <a:custGeom>
              <a:avLst/>
              <a:gdLst>
                <a:gd name="textAreaLeft" fmla="*/ 0 w 204840"/>
                <a:gd name="textAreaRight" fmla="*/ 205200 w 204840"/>
                <a:gd name="textAreaTop" fmla="*/ 0 h 564120"/>
                <a:gd name="textAreaBottom" fmla="*/ 564480 h 564120"/>
              </a:gdLst>
              <a:ahLst/>
              <a:rect l="textAreaLeft" t="textAreaTop" r="textAreaRight" b="textAreaBottom"/>
              <a:pathLst>
                <a:path w="76200" h="209550">
                  <a:moveTo>
                    <a:pt x="44291" y="98584"/>
                  </a:moveTo>
                  <a:cubicBezTo>
                    <a:pt x="47149" y="103346"/>
                    <a:pt x="53816" y="127159"/>
                    <a:pt x="55721" y="159544"/>
                  </a:cubicBezTo>
                  <a:cubicBezTo>
                    <a:pt x="56674" y="175736"/>
                    <a:pt x="55721" y="188119"/>
                    <a:pt x="54769" y="197644"/>
                  </a:cubicBezTo>
                  <a:cubicBezTo>
                    <a:pt x="56674" y="199549"/>
                    <a:pt x="59531" y="201454"/>
                    <a:pt x="61436" y="203359"/>
                  </a:cubicBezTo>
                  <a:lnTo>
                    <a:pt x="63341" y="194786"/>
                  </a:lnTo>
                  <a:cubicBezTo>
                    <a:pt x="63341" y="194786"/>
                    <a:pt x="67151" y="193834"/>
                    <a:pt x="74771" y="192881"/>
                  </a:cubicBezTo>
                  <a:lnTo>
                    <a:pt x="76676" y="135731"/>
                  </a:lnTo>
                  <a:cubicBezTo>
                    <a:pt x="47149" y="113824"/>
                    <a:pt x="46196" y="78581"/>
                    <a:pt x="34766" y="52864"/>
                  </a:cubicBezTo>
                  <a:cubicBezTo>
                    <a:pt x="24289" y="29051"/>
                    <a:pt x="14764" y="12859"/>
                    <a:pt x="7144" y="7144"/>
                  </a:cubicBezTo>
                  <a:cubicBezTo>
                    <a:pt x="8096" y="8096"/>
                    <a:pt x="40481" y="84296"/>
                    <a:pt x="43339" y="91916"/>
                  </a:cubicBezTo>
                  <a:cubicBezTo>
                    <a:pt x="45244" y="93821"/>
                    <a:pt x="45244" y="96679"/>
                    <a:pt x="44291" y="98584"/>
                  </a:cubicBezTo>
                  <a:close/>
                </a:path>
              </a:pathLst>
            </a:custGeom>
            <a:solidFill>
              <a:srgbClr val="d7b6b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7" name="任意多边形: 形状 197"/>
            <p:cNvSpPr/>
            <p:nvPr/>
          </p:nvSpPr>
          <p:spPr>
            <a:xfrm>
              <a:off x="5985720" y="3475080"/>
              <a:ext cx="717840" cy="204840"/>
            </a:xfrm>
            <a:custGeom>
              <a:avLst/>
              <a:gdLst>
                <a:gd name="textAreaLeft" fmla="*/ 0 w 717840"/>
                <a:gd name="textAreaRight" fmla="*/ 718200 w 717840"/>
                <a:gd name="textAreaTop" fmla="*/ 0 h 204840"/>
                <a:gd name="textAreaBottom" fmla="*/ 205200 h 204840"/>
              </a:gdLst>
              <a:ahLst/>
              <a:rect l="textAreaLeft" t="textAreaTop" r="textAreaRight" b="textAreaBottom"/>
              <a:pathLst>
                <a:path w="266700" h="76200">
                  <a:moveTo>
                    <a:pt x="268129" y="7144"/>
                  </a:moveTo>
                  <a:lnTo>
                    <a:pt x="7144" y="7144"/>
                  </a:lnTo>
                  <a:lnTo>
                    <a:pt x="7144" y="71914"/>
                  </a:lnTo>
                  <a:lnTo>
                    <a:pt x="268129" y="71914"/>
                  </a:lnTo>
                  <a:lnTo>
                    <a:pt x="268129" y="66199"/>
                  </a:lnTo>
                  <a:lnTo>
                    <a:pt x="246221" y="66199"/>
                  </a:lnTo>
                  <a:lnTo>
                    <a:pt x="246221" y="12859"/>
                  </a:lnTo>
                  <a:lnTo>
                    <a:pt x="268129" y="12859"/>
                  </a:lnTo>
                  <a:lnTo>
                    <a:pt x="268129" y="7144"/>
                  </a:lnTo>
                  <a:close/>
                </a:path>
              </a:pathLst>
            </a:custGeom>
            <a:solidFill>
              <a:srgbClr val="2241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8" name="任意多边形: 形状 198"/>
            <p:cNvSpPr/>
            <p:nvPr/>
          </p:nvSpPr>
          <p:spPr>
            <a:xfrm>
              <a:off x="6000840" y="3490560"/>
              <a:ext cx="717840" cy="179280"/>
            </a:xfrm>
            <a:custGeom>
              <a:avLst/>
              <a:gdLst>
                <a:gd name="textAreaLeft" fmla="*/ 0 w 717840"/>
                <a:gd name="textAreaRight" fmla="*/ 718200 w 717840"/>
                <a:gd name="textAreaTop" fmla="*/ 0 h 179280"/>
                <a:gd name="textAreaBottom" fmla="*/ 179640 h 179280"/>
              </a:gdLst>
              <a:ahLst/>
              <a:rect l="textAreaLeft" t="textAreaTop" r="textAreaRight" b="textAreaBottom"/>
              <a:pathLst>
                <a:path w="266700" h="66675">
                  <a:moveTo>
                    <a:pt x="257651" y="7144"/>
                  </a:moveTo>
                  <a:lnTo>
                    <a:pt x="7144" y="7144"/>
                  </a:lnTo>
                  <a:lnTo>
                    <a:pt x="7144" y="61436"/>
                  </a:lnTo>
                  <a:lnTo>
                    <a:pt x="259556" y="61436"/>
                  </a:lnTo>
                  <a:cubicBezTo>
                    <a:pt x="254794" y="52864"/>
                    <a:pt x="251936" y="43339"/>
                    <a:pt x="251936" y="31909"/>
                  </a:cubicBezTo>
                  <a:cubicBezTo>
                    <a:pt x="251936" y="22384"/>
                    <a:pt x="253841" y="13811"/>
                    <a:pt x="257651" y="7144"/>
                  </a:cubicBezTo>
                  <a:close/>
                </a:path>
              </a:pathLst>
            </a:custGeom>
            <a:solidFill>
              <a:srgbClr val="afbfd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79" name="任意多边形: 形状 199"/>
            <p:cNvSpPr/>
            <p:nvPr/>
          </p:nvSpPr>
          <p:spPr>
            <a:xfrm>
              <a:off x="5945040" y="3475080"/>
              <a:ext cx="435960" cy="204840"/>
            </a:xfrm>
            <a:custGeom>
              <a:avLst/>
              <a:gdLst>
                <a:gd name="textAreaLeft" fmla="*/ 0 w 435960"/>
                <a:gd name="textAreaRight" fmla="*/ 436320 w 435960"/>
                <a:gd name="textAreaTop" fmla="*/ 0 h 204840"/>
                <a:gd name="textAreaBottom" fmla="*/ 205200 h 204840"/>
              </a:gdLst>
              <a:ahLst/>
              <a:rect l="textAreaLeft" t="textAreaTop" r="textAreaRight" b="textAreaBottom"/>
              <a:pathLst>
                <a:path w="161925" h="76200">
                  <a:moveTo>
                    <a:pt x="164068" y="7144"/>
                  </a:moveTo>
                  <a:cubicBezTo>
                    <a:pt x="115491" y="7144"/>
                    <a:pt x="70723" y="7144"/>
                    <a:pt x="22146" y="7144"/>
                  </a:cubicBezTo>
                  <a:cubicBezTo>
                    <a:pt x="2143" y="7144"/>
                    <a:pt x="2143" y="71914"/>
                    <a:pt x="22146" y="71914"/>
                  </a:cubicBezTo>
                  <a:cubicBezTo>
                    <a:pt x="70723" y="71914"/>
                    <a:pt x="115491" y="71914"/>
                    <a:pt x="164068" y="71914"/>
                  </a:cubicBezTo>
                  <a:cubicBezTo>
                    <a:pt x="146923" y="60484"/>
                    <a:pt x="147876" y="20479"/>
                    <a:pt x="164068" y="7144"/>
                  </a:cubicBezTo>
                  <a:close/>
                </a:path>
              </a:pathLst>
            </a:custGeom>
            <a:solidFill>
              <a:srgbClr val="843e3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0" name="任意多边形: 形状 200"/>
            <p:cNvSpPr/>
            <p:nvPr/>
          </p:nvSpPr>
          <p:spPr>
            <a:xfrm>
              <a:off x="6321240" y="3472560"/>
              <a:ext cx="384480" cy="204840"/>
            </a:xfrm>
            <a:custGeom>
              <a:avLst/>
              <a:gdLst>
                <a:gd name="textAreaLeft" fmla="*/ 0 w 384480"/>
                <a:gd name="textAreaRight" fmla="*/ 384840 w 384480"/>
                <a:gd name="textAreaTop" fmla="*/ 0 h 204840"/>
                <a:gd name="textAreaBottom" fmla="*/ 205200 h 204840"/>
              </a:gdLst>
              <a:ahLst/>
              <a:rect l="textAreaLeft" t="textAreaTop" r="textAreaRight" b="textAreaBottom"/>
              <a:pathLst>
                <a:path w="142875" h="76200">
                  <a:moveTo>
                    <a:pt x="20602" y="67151"/>
                  </a:moveTo>
                  <a:lnTo>
                    <a:pt x="121567" y="67151"/>
                  </a:lnTo>
                  <a:lnTo>
                    <a:pt x="140617" y="67151"/>
                  </a:lnTo>
                  <a:lnTo>
                    <a:pt x="144427" y="67151"/>
                  </a:lnTo>
                  <a:lnTo>
                    <a:pt x="144427" y="71914"/>
                  </a:lnTo>
                  <a:lnTo>
                    <a:pt x="28222" y="71914"/>
                  </a:lnTo>
                  <a:lnTo>
                    <a:pt x="15839" y="71914"/>
                  </a:lnTo>
                  <a:cubicBezTo>
                    <a:pt x="4409" y="56674"/>
                    <a:pt x="4409" y="24289"/>
                    <a:pt x="14887" y="7144"/>
                  </a:cubicBezTo>
                  <a:lnTo>
                    <a:pt x="27269" y="7144"/>
                  </a:lnTo>
                  <a:lnTo>
                    <a:pt x="143474" y="7144"/>
                  </a:lnTo>
                  <a:lnTo>
                    <a:pt x="143474" y="11906"/>
                  </a:lnTo>
                  <a:lnTo>
                    <a:pt x="137759" y="11906"/>
                  </a:lnTo>
                  <a:lnTo>
                    <a:pt x="120614" y="11906"/>
                  </a:lnTo>
                  <a:lnTo>
                    <a:pt x="20602" y="11906"/>
                  </a:lnTo>
                  <a:cubicBezTo>
                    <a:pt x="11077" y="28099"/>
                    <a:pt x="11077" y="53816"/>
                    <a:pt x="20602" y="67151"/>
                  </a:cubicBezTo>
                  <a:close/>
                </a:path>
              </a:pathLst>
            </a:custGeom>
            <a:solidFill>
              <a:srgbClr val="6737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1" name="任意多边形: 形状 201"/>
            <p:cNvSpPr/>
            <p:nvPr/>
          </p:nvSpPr>
          <p:spPr>
            <a:xfrm>
              <a:off x="5929200" y="3303360"/>
              <a:ext cx="717840" cy="204840"/>
            </a:xfrm>
            <a:custGeom>
              <a:avLst/>
              <a:gdLst>
                <a:gd name="textAreaLeft" fmla="*/ 0 w 717840"/>
                <a:gd name="textAreaRight" fmla="*/ 718200 w 717840"/>
                <a:gd name="textAreaTop" fmla="*/ 0 h 204840"/>
                <a:gd name="textAreaBottom" fmla="*/ 205200 h 204840"/>
              </a:gdLst>
              <a:ahLst/>
              <a:rect l="textAreaLeft" t="textAreaTop" r="textAreaRight" b="textAreaBottom"/>
              <a:pathLst>
                <a:path w="266700" h="76200">
                  <a:moveTo>
                    <a:pt x="7144" y="7144"/>
                  </a:moveTo>
                  <a:lnTo>
                    <a:pt x="268129" y="7144"/>
                  </a:lnTo>
                  <a:lnTo>
                    <a:pt x="268129" y="70961"/>
                  </a:lnTo>
                  <a:lnTo>
                    <a:pt x="7144" y="70961"/>
                  </a:lnTo>
                  <a:lnTo>
                    <a:pt x="7144" y="66199"/>
                  </a:lnTo>
                  <a:lnTo>
                    <a:pt x="30004" y="66199"/>
                  </a:lnTo>
                  <a:lnTo>
                    <a:pt x="30004" y="11906"/>
                  </a:lnTo>
                  <a:lnTo>
                    <a:pt x="7144" y="11906"/>
                  </a:lnTo>
                  <a:lnTo>
                    <a:pt x="7144" y="7144"/>
                  </a:lnTo>
                  <a:close/>
                </a:path>
              </a:pathLst>
            </a:custGeom>
            <a:solidFill>
              <a:srgbClr val="2241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2" name="任意多边形: 形状 202"/>
            <p:cNvSpPr/>
            <p:nvPr/>
          </p:nvSpPr>
          <p:spPr>
            <a:xfrm>
              <a:off x="5939280" y="3315960"/>
              <a:ext cx="717840" cy="179280"/>
            </a:xfrm>
            <a:custGeom>
              <a:avLst/>
              <a:gdLst>
                <a:gd name="textAreaLeft" fmla="*/ 0 w 717840"/>
                <a:gd name="textAreaRight" fmla="*/ 718200 w 717840"/>
                <a:gd name="textAreaTop" fmla="*/ 0 h 179280"/>
                <a:gd name="textAreaBottom" fmla="*/ 179640 h 179280"/>
              </a:gdLst>
              <a:ahLst/>
              <a:rect l="textAreaLeft" t="textAreaTop" r="textAreaRight" b="textAreaBottom"/>
              <a:pathLst>
                <a:path w="266700" h="66675">
                  <a:moveTo>
                    <a:pt x="9049" y="7144"/>
                  </a:moveTo>
                  <a:lnTo>
                    <a:pt x="259556" y="7144"/>
                  </a:lnTo>
                  <a:lnTo>
                    <a:pt x="259556" y="61436"/>
                  </a:lnTo>
                  <a:lnTo>
                    <a:pt x="7144" y="61436"/>
                  </a:lnTo>
                  <a:cubicBezTo>
                    <a:pt x="11906" y="52864"/>
                    <a:pt x="14764" y="43339"/>
                    <a:pt x="14764" y="31909"/>
                  </a:cubicBezTo>
                  <a:cubicBezTo>
                    <a:pt x="13811" y="23336"/>
                    <a:pt x="11906" y="14764"/>
                    <a:pt x="9049" y="7144"/>
                  </a:cubicBezTo>
                  <a:close/>
                </a:path>
              </a:pathLst>
            </a:custGeom>
            <a:solidFill>
              <a:srgbClr val="afbfd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3" name="任意多边形: 形状 203"/>
            <p:cNvSpPr/>
            <p:nvPr/>
          </p:nvSpPr>
          <p:spPr>
            <a:xfrm>
              <a:off x="6249600" y="3303360"/>
              <a:ext cx="435960" cy="204840"/>
            </a:xfrm>
            <a:custGeom>
              <a:avLst/>
              <a:gdLst>
                <a:gd name="textAreaLeft" fmla="*/ 0 w 435960"/>
                <a:gd name="textAreaRight" fmla="*/ 436320 w 435960"/>
                <a:gd name="textAreaTop" fmla="*/ 0 h 204840"/>
                <a:gd name="textAreaBottom" fmla="*/ 205200 h 204840"/>
              </a:gdLst>
              <a:ahLst/>
              <a:rect l="textAreaLeft" t="textAreaTop" r="textAreaRight" b="textAreaBottom"/>
              <a:pathLst>
                <a:path w="161925" h="76200">
                  <a:moveTo>
                    <a:pt x="7144" y="7144"/>
                  </a:moveTo>
                  <a:cubicBezTo>
                    <a:pt x="55721" y="7144"/>
                    <a:pt x="100489" y="7144"/>
                    <a:pt x="149066" y="7144"/>
                  </a:cubicBezTo>
                  <a:cubicBezTo>
                    <a:pt x="169069" y="7144"/>
                    <a:pt x="169069" y="71914"/>
                    <a:pt x="149066" y="71914"/>
                  </a:cubicBezTo>
                  <a:cubicBezTo>
                    <a:pt x="100489" y="71914"/>
                    <a:pt x="55721" y="71914"/>
                    <a:pt x="7144" y="71914"/>
                  </a:cubicBezTo>
                  <a:cubicBezTo>
                    <a:pt x="24289" y="60484"/>
                    <a:pt x="23336" y="20479"/>
                    <a:pt x="7144" y="7144"/>
                  </a:cubicBezTo>
                  <a:close/>
                </a:path>
              </a:pathLst>
            </a:custGeom>
            <a:solidFill>
              <a:srgbClr val="414e6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4" name="任意多边形: 形状 204"/>
            <p:cNvSpPr/>
            <p:nvPr/>
          </p:nvSpPr>
          <p:spPr>
            <a:xfrm>
              <a:off x="5929200" y="3300840"/>
              <a:ext cx="384480" cy="204840"/>
            </a:xfrm>
            <a:custGeom>
              <a:avLst/>
              <a:gdLst>
                <a:gd name="textAreaLeft" fmla="*/ 0 w 384480"/>
                <a:gd name="textAreaRight" fmla="*/ 384840 w 384480"/>
                <a:gd name="textAreaTop" fmla="*/ 0 h 204840"/>
                <a:gd name="textAreaBottom" fmla="*/ 205200 h 204840"/>
              </a:gdLst>
              <a:ahLst/>
              <a:rect l="textAreaLeft" t="textAreaTop" r="textAreaRight" b="textAreaBottom"/>
              <a:pathLst>
                <a:path w="142875" h="76200">
                  <a:moveTo>
                    <a:pt x="130969" y="67151"/>
                  </a:moveTo>
                  <a:lnTo>
                    <a:pt x="30004" y="67151"/>
                  </a:lnTo>
                  <a:lnTo>
                    <a:pt x="10954" y="67151"/>
                  </a:lnTo>
                  <a:lnTo>
                    <a:pt x="7144" y="67151"/>
                  </a:lnTo>
                  <a:lnTo>
                    <a:pt x="7144" y="71914"/>
                  </a:lnTo>
                  <a:lnTo>
                    <a:pt x="123349" y="71914"/>
                  </a:lnTo>
                  <a:lnTo>
                    <a:pt x="135731" y="71914"/>
                  </a:lnTo>
                  <a:cubicBezTo>
                    <a:pt x="147161" y="56674"/>
                    <a:pt x="147161" y="24289"/>
                    <a:pt x="136684" y="7144"/>
                  </a:cubicBezTo>
                  <a:lnTo>
                    <a:pt x="123349" y="7144"/>
                  </a:lnTo>
                  <a:lnTo>
                    <a:pt x="7144" y="7144"/>
                  </a:lnTo>
                  <a:lnTo>
                    <a:pt x="7144" y="11906"/>
                  </a:lnTo>
                  <a:lnTo>
                    <a:pt x="12859" y="11906"/>
                  </a:lnTo>
                  <a:lnTo>
                    <a:pt x="30004" y="11906"/>
                  </a:lnTo>
                  <a:lnTo>
                    <a:pt x="130016" y="11906"/>
                  </a:lnTo>
                  <a:cubicBezTo>
                    <a:pt x="139541" y="27146"/>
                    <a:pt x="140494" y="53816"/>
                    <a:pt x="130969" y="67151"/>
                  </a:cubicBezTo>
                  <a:close/>
                </a:path>
              </a:pathLst>
            </a:custGeom>
            <a:solidFill>
              <a:srgbClr val="313f4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5" name="任意多边形: 形状 205"/>
            <p:cNvSpPr/>
            <p:nvPr/>
          </p:nvSpPr>
          <p:spPr>
            <a:xfrm>
              <a:off x="6016320" y="3164760"/>
              <a:ext cx="589680" cy="153720"/>
            </a:xfrm>
            <a:custGeom>
              <a:avLst/>
              <a:gdLst>
                <a:gd name="textAreaLeft" fmla="*/ 0 w 589680"/>
                <a:gd name="textAreaRight" fmla="*/ 590040 w 589680"/>
                <a:gd name="textAreaTop" fmla="*/ 0 h 153720"/>
                <a:gd name="textAreaBottom" fmla="*/ 154080 h 153720"/>
              </a:gdLst>
              <a:ahLst/>
              <a:rect l="textAreaLeft" t="textAreaTop" r="textAreaRight" b="textAreaBottom"/>
              <a:pathLst>
                <a:path w="219075" h="57150">
                  <a:moveTo>
                    <a:pt x="212884" y="7144"/>
                  </a:moveTo>
                  <a:lnTo>
                    <a:pt x="27146" y="7144"/>
                  </a:lnTo>
                  <a:cubicBezTo>
                    <a:pt x="16669" y="7144"/>
                    <a:pt x="7144" y="13811"/>
                    <a:pt x="7144" y="21431"/>
                  </a:cubicBezTo>
                  <a:lnTo>
                    <a:pt x="7144" y="44291"/>
                  </a:lnTo>
                  <a:cubicBezTo>
                    <a:pt x="7144" y="51911"/>
                    <a:pt x="15716" y="58579"/>
                    <a:pt x="27146" y="58579"/>
                  </a:cubicBezTo>
                  <a:lnTo>
                    <a:pt x="212884" y="58579"/>
                  </a:lnTo>
                  <a:lnTo>
                    <a:pt x="212884" y="54769"/>
                  </a:lnTo>
                  <a:lnTo>
                    <a:pt x="175736" y="54769"/>
                  </a:lnTo>
                  <a:lnTo>
                    <a:pt x="175736" y="10954"/>
                  </a:lnTo>
                  <a:lnTo>
                    <a:pt x="212884" y="10954"/>
                  </a:lnTo>
                  <a:lnTo>
                    <a:pt x="212884" y="7144"/>
                  </a:lnTo>
                  <a:close/>
                </a:path>
              </a:pathLst>
            </a:custGeom>
            <a:solidFill>
              <a:srgbClr val="3b464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6" name="任意多边形: 形状 206"/>
            <p:cNvSpPr/>
            <p:nvPr/>
          </p:nvSpPr>
          <p:spPr>
            <a:xfrm>
              <a:off x="6270120" y="3164760"/>
              <a:ext cx="333360" cy="153720"/>
            </a:xfrm>
            <a:custGeom>
              <a:avLst/>
              <a:gdLst>
                <a:gd name="textAreaLeft" fmla="*/ 0 w 333360"/>
                <a:gd name="textAreaRight" fmla="*/ 333720 w 333360"/>
                <a:gd name="textAreaTop" fmla="*/ 0 h 153720"/>
                <a:gd name="textAreaBottom" fmla="*/ 154080 h 153720"/>
              </a:gdLst>
              <a:ahLst/>
              <a:rect l="textAreaLeft" t="textAreaTop" r="textAreaRight" b="textAreaBottom"/>
              <a:pathLst>
                <a:path w="123825" h="57150">
                  <a:moveTo>
                    <a:pt x="118586" y="7144"/>
                  </a:moveTo>
                  <a:lnTo>
                    <a:pt x="7144" y="7144"/>
                  </a:lnTo>
                  <a:lnTo>
                    <a:pt x="7144" y="58579"/>
                  </a:lnTo>
                  <a:lnTo>
                    <a:pt x="118586" y="58579"/>
                  </a:lnTo>
                  <a:lnTo>
                    <a:pt x="118586" y="54769"/>
                  </a:lnTo>
                  <a:lnTo>
                    <a:pt x="81439" y="54769"/>
                  </a:lnTo>
                  <a:lnTo>
                    <a:pt x="81439" y="10954"/>
                  </a:lnTo>
                  <a:lnTo>
                    <a:pt x="118586" y="10954"/>
                  </a:lnTo>
                  <a:lnTo>
                    <a:pt x="118586" y="7144"/>
                  </a:lnTo>
                  <a:close/>
                </a:path>
              </a:pathLst>
            </a:custGeom>
            <a:solidFill>
              <a:srgbClr val="46545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7" name="任意多边形: 形状 207"/>
            <p:cNvSpPr/>
            <p:nvPr/>
          </p:nvSpPr>
          <p:spPr>
            <a:xfrm>
              <a:off x="6029280" y="3174840"/>
              <a:ext cx="564120" cy="153720"/>
            </a:xfrm>
            <a:custGeom>
              <a:avLst/>
              <a:gdLst>
                <a:gd name="textAreaLeft" fmla="*/ 0 w 564120"/>
                <a:gd name="textAreaRight" fmla="*/ 564480 w 564120"/>
                <a:gd name="textAreaTop" fmla="*/ 0 h 153720"/>
                <a:gd name="textAreaBottom" fmla="*/ 154080 h 153720"/>
              </a:gdLst>
              <a:ahLst/>
              <a:rect l="textAreaLeft" t="textAreaTop" r="textAreaRight" b="textAreaBottom"/>
              <a:pathLst>
                <a:path w="209550" h="57150">
                  <a:moveTo>
                    <a:pt x="204311" y="50959"/>
                  </a:moveTo>
                  <a:lnTo>
                    <a:pt x="21431" y="50959"/>
                  </a:lnTo>
                  <a:cubicBezTo>
                    <a:pt x="14764" y="50959"/>
                    <a:pt x="7144" y="47149"/>
                    <a:pt x="7144" y="40481"/>
                  </a:cubicBezTo>
                  <a:lnTo>
                    <a:pt x="7144" y="17621"/>
                  </a:lnTo>
                  <a:cubicBezTo>
                    <a:pt x="7144" y="11906"/>
                    <a:pt x="14764" y="7144"/>
                    <a:pt x="21431" y="7144"/>
                  </a:cubicBezTo>
                  <a:lnTo>
                    <a:pt x="204311" y="7144"/>
                  </a:lnTo>
                  <a:cubicBezTo>
                    <a:pt x="202406" y="13811"/>
                    <a:pt x="201454" y="21431"/>
                    <a:pt x="201454" y="29051"/>
                  </a:cubicBezTo>
                  <a:cubicBezTo>
                    <a:pt x="201454" y="36671"/>
                    <a:pt x="202406" y="44291"/>
                    <a:pt x="204311" y="50959"/>
                  </a:cubicBezTo>
                  <a:close/>
                </a:path>
              </a:pathLst>
            </a:custGeom>
            <a:solidFill>
              <a:srgbClr val="93acc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8" name="任意多边形: 形状 208"/>
            <p:cNvSpPr/>
            <p:nvPr/>
          </p:nvSpPr>
          <p:spPr>
            <a:xfrm>
              <a:off x="6255000" y="3174840"/>
              <a:ext cx="333360" cy="153720"/>
            </a:xfrm>
            <a:custGeom>
              <a:avLst/>
              <a:gdLst>
                <a:gd name="textAreaLeft" fmla="*/ 0 w 333360"/>
                <a:gd name="textAreaRight" fmla="*/ 333720 w 333360"/>
                <a:gd name="textAreaTop" fmla="*/ 0 h 153720"/>
                <a:gd name="textAreaBottom" fmla="*/ 154080 h 153720"/>
              </a:gdLst>
              <a:ahLst/>
              <a:rect l="textAreaLeft" t="textAreaTop" r="textAreaRight" b="textAreaBottom"/>
              <a:pathLst>
                <a:path w="123825" h="57150">
                  <a:moveTo>
                    <a:pt x="10001" y="50959"/>
                  </a:moveTo>
                  <a:cubicBezTo>
                    <a:pt x="8096" y="44291"/>
                    <a:pt x="7144" y="36671"/>
                    <a:pt x="7144" y="29051"/>
                  </a:cubicBezTo>
                  <a:cubicBezTo>
                    <a:pt x="7144" y="21431"/>
                    <a:pt x="8096" y="13811"/>
                    <a:pt x="10001" y="7144"/>
                  </a:cubicBezTo>
                  <a:lnTo>
                    <a:pt x="87154" y="7144"/>
                  </a:lnTo>
                  <a:lnTo>
                    <a:pt x="120491" y="7144"/>
                  </a:lnTo>
                  <a:cubicBezTo>
                    <a:pt x="118586" y="13811"/>
                    <a:pt x="117634" y="21431"/>
                    <a:pt x="117634" y="29051"/>
                  </a:cubicBezTo>
                  <a:cubicBezTo>
                    <a:pt x="117634" y="36671"/>
                    <a:pt x="118586" y="44291"/>
                    <a:pt x="120491" y="50959"/>
                  </a:cubicBezTo>
                  <a:lnTo>
                    <a:pt x="10001" y="50959"/>
                  </a:lnTo>
                  <a:close/>
                </a:path>
              </a:pathLst>
            </a:custGeom>
            <a:solidFill>
              <a:srgbClr val="afbfd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889" name="任意多边形: 形状 209"/>
            <p:cNvSpPr/>
            <p:nvPr/>
          </p:nvSpPr>
          <p:spPr>
            <a:xfrm>
              <a:off x="5965200" y="332640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0" name="任意多边形: 形状 210"/>
            <p:cNvSpPr/>
            <p:nvPr/>
          </p:nvSpPr>
          <p:spPr>
            <a:xfrm>
              <a:off x="5965200" y="333900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1" name="任意多边形: 形状 211"/>
            <p:cNvSpPr/>
            <p:nvPr/>
          </p:nvSpPr>
          <p:spPr>
            <a:xfrm>
              <a:off x="5965200" y="335196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2" name="任意多边形: 形状 212"/>
            <p:cNvSpPr/>
            <p:nvPr/>
          </p:nvSpPr>
          <p:spPr>
            <a:xfrm>
              <a:off x="5965200" y="336492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3" name="任意多边形: 形状 213"/>
            <p:cNvSpPr/>
            <p:nvPr/>
          </p:nvSpPr>
          <p:spPr>
            <a:xfrm>
              <a:off x="5965200" y="337500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4" name="任意多边形: 形状 214"/>
            <p:cNvSpPr/>
            <p:nvPr/>
          </p:nvSpPr>
          <p:spPr>
            <a:xfrm>
              <a:off x="5965200" y="338796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5" name="任意多边形: 形状 215"/>
            <p:cNvSpPr/>
            <p:nvPr/>
          </p:nvSpPr>
          <p:spPr>
            <a:xfrm>
              <a:off x="5965200" y="340056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6" name="任意多边形: 形状 216"/>
            <p:cNvSpPr/>
            <p:nvPr/>
          </p:nvSpPr>
          <p:spPr>
            <a:xfrm>
              <a:off x="5965200" y="341352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7" name="任意多边形: 形状 217"/>
            <p:cNvSpPr/>
            <p:nvPr/>
          </p:nvSpPr>
          <p:spPr>
            <a:xfrm>
              <a:off x="5965200" y="342648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8" name="任意多边形: 形状 218"/>
            <p:cNvSpPr/>
            <p:nvPr/>
          </p:nvSpPr>
          <p:spPr>
            <a:xfrm>
              <a:off x="5965200" y="343908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899" name="任意多边形: 形状 219"/>
            <p:cNvSpPr/>
            <p:nvPr/>
          </p:nvSpPr>
          <p:spPr>
            <a:xfrm>
              <a:off x="5965200" y="345204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0" name="任意多边形: 形状 220"/>
            <p:cNvSpPr/>
            <p:nvPr/>
          </p:nvSpPr>
          <p:spPr>
            <a:xfrm>
              <a:off x="6357600" y="350568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1" name="任意多边形: 形状 221"/>
            <p:cNvSpPr/>
            <p:nvPr/>
          </p:nvSpPr>
          <p:spPr>
            <a:xfrm>
              <a:off x="6357600" y="351864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2" name="任意多边形: 形状 222"/>
            <p:cNvSpPr/>
            <p:nvPr/>
          </p:nvSpPr>
          <p:spPr>
            <a:xfrm>
              <a:off x="6357600" y="353160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3" name="任意多边形: 形状 223"/>
            <p:cNvSpPr/>
            <p:nvPr/>
          </p:nvSpPr>
          <p:spPr>
            <a:xfrm>
              <a:off x="6357600" y="354420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4" name="任意多边形: 形状 224"/>
            <p:cNvSpPr/>
            <p:nvPr/>
          </p:nvSpPr>
          <p:spPr>
            <a:xfrm>
              <a:off x="6357600" y="355716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5" name="任意多边形: 形状 225"/>
            <p:cNvSpPr/>
            <p:nvPr/>
          </p:nvSpPr>
          <p:spPr>
            <a:xfrm>
              <a:off x="6357600" y="357012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6" name="任意多边形: 形状 226"/>
            <p:cNvSpPr/>
            <p:nvPr/>
          </p:nvSpPr>
          <p:spPr>
            <a:xfrm>
              <a:off x="6357600" y="358020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7" name="任意多边形: 形状 227"/>
            <p:cNvSpPr/>
            <p:nvPr/>
          </p:nvSpPr>
          <p:spPr>
            <a:xfrm>
              <a:off x="6357600" y="359316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8" name="任意多边形: 形状 228"/>
            <p:cNvSpPr/>
            <p:nvPr/>
          </p:nvSpPr>
          <p:spPr>
            <a:xfrm>
              <a:off x="6357600" y="360576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09" name="任意多边形: 形状 229"/>
            <p:cNvSpPr/>
            <p:nvPr/>
          </p:nvSpPr>
          <p:spPr>
            <a:xfrm>
              <a:off x="6357600" y="361872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9049"/>
                  </a:lnTo>
                  <a:lnTo>
                    <a:pt x="7144" y="9049"/>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0" name="任意多边形: 形状 230"/>
            <p:cNvSpPr/>
            <p:nvPr/>
          </p:nvSpPr>
          <p:spPr>
            <a:xfrm>
              <a:off x="6047280" y="318528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1" name="任意多边形: 形状 231"/>
            <p:cNvSpPr/>
            <p:nvPr/>
          </p:nvSpPr>
          <p:spPr>
            <a:xfrm>
              <a:off x="6047280" y="319536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2" name="任意多边形: 形状 232"/>
            <p:cNvSpPr/>
            <p:nvPr/>
          </p:nvSpPr>
          <p:spPr>
            <a:xfrm>
              <a:off x="6047280" y="320580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3" name="任意多边形: 形状 233"/>
            <p:cNvSpPr/>
            <p:nvPr/>
          </p:nvSpPr>
          <p:spPr>
            <a:xfrm>
              <a:off x="6047280" y="321876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4" name="任意多边形: 形状 234"/>
            <p:cNvSpPr/>
            <p:nvPr/>
          </p:nvSpPr>
          <p:spPr>
            <a:xfrm>
              <a:off x="6047280" y="322884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5" name="任意多边形: 形状 235"/>
            <p:cNvSpPr/>
            <p:nvPr/>
          </p:nvSpPr>
          <p:spPr>
            <a:xfrm>
              <a:off x="6047280" y="323928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6" name="任意多边形: 形状 236"/>
            <p:cNvSpPr/>
            <p:nvPr/>
          </p:nvSpPr>
          <p:spPr>
            <a:xfrm>
              <a:off x="6047280" y="324936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7" name="任意多边形: 形状 237"/>
            <p:cNvSpPr/>
            <p:nvPr/>
          </p:nvSpPr>
          <p:spPr>
            <a:xfrm>
              <a:off x="6047280" y="326232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8" name="任意多边形: 形状 238"/>
            <p:cNvSpPr/>
            <p:nvPr/>
          </p:nvSpPr>
          <p:spPr>
            <a:xfrm>
              <a:off x="6047280" y="327240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19" name="任意多边形: 形状 239"/>
            <p:cNvSpPr/>
            <p:nvPr/>
          </p:nvSpPr>
          <p:spPr>
            <a:xfrm>
              <a:off x="6047280" y="3282840"/>
              <a:ext cx="512640" cy="25560"/>
            </a:xfrm>
            <a:custGeom>
              <a:avLst/>
              <a:gdLst>
                <a:gd name="textAreaLeft" fmla="*/ 0 w 512640"/>
                <a:gd name="textAreaRight" fmla="*/ 513000 w 512640"/>
                <a:gd name="textAreaTop" fmla="*/ 0 h 25560"/>
                <a:gd name="textAreaBottom" fmla="*/ 25920 h 25560"/>
              </a:gdLst>
              <a:ahLst/>
              <a:rect l="textAreaLeft" t="textAreaTop" r="textAreaRight" b="textAreaBottom"/>
              <a:pathLst>
                <a:path w="190500" h="9525">
                  <a:moveTo>
                    <a:pt x="7144" y="7144"/>
                  </a:moveTo>
                  <a:lnTo>
                    <a:pt x="190976" y="7144"/>
                  </a:lnTo>
                  <a:lnTo>
                    <a:pt x="190976"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20" name="任意多边形: 形状 240"/>
            <p:cNvSpPr/>
            <p:nvPr/>
          </p:nvSpPr>
          <p:spPr>
            <a:xfrm>
              <a:off x="5988240" y="3039120"/>
              <a:ext cx="717840" cy="153720"/>
            </a:xfrm>
            <a:custGeom>
              <a:avLst/>
              <a:gdLst>
                <a:gd name="textAreaLeft" fmla="*/ 0 w 717840"/>
                <a:gd name="textAreaRight" fmla="*/ 718200 w 717840"/>
                <a:gd name="textAreaTop" fmla="*/ 0 h 153720"/>
                <a:gd name="textAreaBottom" fmla="*/ 154080 h 153720"/>
              </a:gdLst>
              <a:ahLst/>
              <a:rect l="textAreaLeft" t="textAreaTop" r="textAreaRight" b="textAreaBottom"/>
              <a:pathLst>
                <a:path w="266700" h="57150">
                  <a:moveTo>
                    <a:pt x="268129" y="7144"/>
                  </a:moveTo>
                  <a:lnTo>
                    <a:pt x="7144" y="7144"/>
                  </a:lnTo>
                  <a:lnTo>
                    <a:pt x="7144" y="53816"/>
                  </a:lnTo>
                  <a:lnTo>
                    <a:pt x="268129" y="53816"/>
                  </a:lnTo>
                  <a:lnTo>
                    <a:pt x="268129" y="50006"/>
                  </a:lnTo>
                  <a:lnTo>
                    <a:pt x="246221" y="50006"/>
                  </a:lnTo>
                  <a:lnTo>
                    <a:pt x="246221" y="10954"/>
                  </a:lnTo>
                  <a:lnTo>
                    <a:pt x="268129" y="10954"/>
                  </a:lnTo>
                  <a:lnTo>
                    <a:pt x="268129" y="7144"/>
                  </a:lnTo>
                  <a:close/>
                </a:path>
              </a:pathLst>
            </a:custGeom>
            <a:solidFill>
              <a:srgbClr val="2241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21" name="任意多边形: 形状 241"/>
            <p:cNvSpPr/>
            <p:nvPr/>
          </p:nvSpPr>
          <p:spPr>
            <a:xfrm>
              <a:off x="6003360" y="3049200"/>
              <a:ext cx="717840" cy="128160"/>
            </a:xfrm>
            <a:custGeom>
              <a:avLst/>
              <a:gdLst>
                <a:gd name="textAreaLeft" fmla="*/ 0 w 717840"/>
                <a:gd name="textAreaRight" fmla="*/ 718200 w 717840"/>
                <a:gd name="textAreaTop" fmla="*/ 0 h 128160"/>
                <a:gd name="textAreaBottom" fmla="*/ 128520 h 128160"/>
              </a:gdLst>
              <a:ahLst/>
              <a:rect l="textAreaLeft" t="textAreaTop" r="textAreaRight" b="textAreaBottom"/>
              <a:pathLst>
                <a:path w="266700" h="47625">
                  <a:moveTo>
                    <a:pt x="257651" y="7144"/>
                  </a:moveTo>
                  <a:lnTo>
                    <a:pt x="7144" y="7144"/>
                  </a:lnTo>
                  <a:lnTo>
                    <a:pt x="7144" y="46196"/>
                  </a:lnTo>
                  <a:lnTo>
                    <a:pt x="259556" y="46196"/>
                  </a:lnTo>
                  <a:cubicBezTo>
                    <a:pt x="254794" y="40481"/>
                    <a:pt x="251936" y="32861"/>
                    <a:pt x="251936" y="25241"/>
                  </a:cubicBezTo>
                  <a:cubicBezTo>
                    <a:pt x="251936" y="18574"/>
                    <a:pt x="253841" y="12859"/>
                    <a:pt x="257651" y="7144"/>
                  </a:cubicBezTo>
                  <a:close/>
                </a:path>
              </a:pathLst>
            </a:custGeom>
            <a:solidFill>
              <a:srgbClr val="afbfd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22" name="任意多边形: 形状 242"/>
            <p:cNvSpPr/>
            <p:nvPr/>
          </p:nvSpPr>
          <p:spPr>
            <a:xfrm>
              <a:off x="5947560" y="3039120"/>
              <a:ext cx="435960" cy="153720"/>
            </a:xfrm>
            <a:custGeom>
              <a:avLst/>
              <a:gdLst>
                <a:gd name="textAreaLeft" fmla="*/ 0 w 435960"/>
                <a:gd name="textAreaRight" fmla="*/ 436320 w 435960"/>
                <a:gd name="textAreaTop" fmla="*/ 0 h 153720"/>
                <a:gd name="textAreaBottom" fmla="*/ 154080 h 153720"/>
              </a:gdLst>
              <a:ahLst/>
              <a:rect l="textAreaLeft" t="textAreaTop" r="textAreaRight" b="textAreaBottom"/>
              <a:pathLst>
                <a:path w="161925" h="57150">
                  <a:moveTo>
                    <a:pt x="164068" y="7144"/>
                  </a:moveTo>
                  <a:cubicBezTo>
                    <a:pt x="115491" y="7144"/>
                    <a:pt x="70723" y="7144"/>
                    <a:pt x="22146" y="7144"/>
                  </a:cubicBezTo>
                  <a:cubicBezTo>
                    <a:pt x="2143" y="7144"/>
                    <a:pt x="2143" y="53816"/>
                    <a:pt x="22146" y="53816"/>
                  </a:cubicBezTo>
                  <a:cubicBezTo>
                    <a:pt x="70723" y="53816"/>
                    <a:pt x="115491" y="53816"/>
                    <a:pt x="164068" y="53816"/>
                  </a:cubicBezTo>
                  <a:cubicBezTo>
                    <a:pt x="146923" y="46196"/>
                    <a:pt x="148828" y="16669"/>
                    <a:pt x="164068" y="7144"/>
                  </a:cubicBezTo>
                  <a:close/>
                </a:path>
              </a:pathLst>
            </a:custGeom>
            <a:solidFill>
              <a:srgbClr val="5585a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23" name="任意多边形: 形状 243"/>
            <p:cNvSpPr/>
            <p:nvPr/>
          </p:nvSpPr>
          <p:spPr>
            <a:xfrm>
              <a:off x="6323760" y="3039120"/>
              <a:ext cx="384480" cy="153720"/>
            </a:xfrm>
            <a:custGeom>
              <a:avLst/>
              <a:gdLst>
                <a:gd name="textAreaLeft" fmla="*/ 0 w 384480"/>
                <a:gd name="textAreaRight" fmla="*/ 384840 w 384480"/>
                <a:gd name="textAreaTop" fmla="*/ 0 h 153720"/>
                <a:gd name="textAreaBottom" fmla="*/ 154080 h 153720"/>
              </a:gdLst>
              <a:ahLst/>
              <a:rect l="textAreaLeft" t="textAreaTop" r="textAreaRight" b="textAreaBottom"/>
              <a:pathLst>
                <a:path w="142875" h="57150">
                  <a:moveTo>
                    <a:pt x="20602" y="50006"/>
                  </a:moveTo>
                  <a:lnTo>
                    <a:pt x="121567" y="50006"/>
                  </a:lnTo>
                  <a:lnTo>
                    <a:pt x="140617" y="50006"/>
                  </a:lnTo>
                  <a:lnTo>
                    <a:pt x="144427" y="50006"/>
                  </a:lnTo>
                  <a:lnTo>
                    <a:pt x="144427" y="53816"/>
                  </a:lnTo>
                  <a:lnTo>
                    <a:pt x="28222" y="53816"/>
                  </a:lnTo>
                  <a:lnTo>
                    <a:pt x="15839" y="53816"/>
                  </a:lnTo>
                  <a:cubicBezTo>
                    <a:pt x="4409" y="42386"/>
                    <a:pt x="4409" y="18574"/>
                    <a:pt x="14887" y="7144"/>
                  </a:cubicBezTo>
                  <a:lnTo>
                    <a:pt x="27269" y="7144"/>
                  </a:lnTo>
                  <a:lnTo>
                    <a:pt x="143474" y="7144"/>
                  </a:lnTo>
                  <a:lnTo>
                    <a:pt x="143474" y="10954"/>
                  </a:lnTo>
                  <a:lnTo>
                    <a:pt x="138712" y="10954"/>
                  </a:lnTo>
                  <a:lnTo>
                    <a:pt x="121567" y="10954"/>
                  </a:lnTo>
                  <a:lnTo>
                    <a:pt x="21554" y="10954"/>
                  </a:lnTo>
                  <a:cubicBezTo>
                    <a:pt x="12029" y="21431"/>
                    <a:pt x="11077" y="40481"/>
                    <a:pt x="20602" y="50006"/>
                  </a:cubicBezTo>
                  <a:close/>
                </a:path>
              </a:pathLst>
            </a:custGeom>
            <a:solidFill>
              <a:srgbClr val="4d77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24" name="任意多边形: 形状 244"/>
            <p:cNvSpPr/>
            <p:nvPr/>
          </p:nvSpPr>
          <p:spPr>
            <a:xfrm>
              <a:off x="6360120" y="305964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25" name="任意多边形: 形状 245"/>
            <p:cNvSpPr/>
            <p:nvPr/>
          </p:nvSpPr>
          <p:spPr>
            <a:xfrm>
              <a:off x="6360120" y="306972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26" name="任意多边形: 形状 246"/>
            <p:cNvSpPr/>
            <p:nvPr/>
          </p:nvSpPr>
          <p:spPr>
            <a:xfrm>
              <a:off x="6360120" y="308016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27" name="任意多边形: 形状 247"/>
            <p:cNvSpPr/>
            <p:nvPr/>
          </p:nvSpPr>
          <p:spPr>
            <a:xfrm>
              <a:off x="6360120" y="308772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28" name="任意多边形: 形状 248"/>
            <p:cNvSpPr/>
            <p:nvPr/>
          </p:nvSpPr>
          <p:spPr>
            <a:xfrm>
              <a:off x="6360120" y="309816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29" name="任意多边形: 形状 249"/>
            <p:cNvSpPr/>
            <p:nvPr/>
          </p:nvSpPr>
          <p:spPr>
            <a:xfrm>
              <a:off x="6360120" y="310572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30" name="任意多边形: 形状 250"/>
            <p:cNvSpPr/>
            <p:nvPr/>
          </p:nvSpPr>
          <p:spPr>
            <a:xfrm>
              <a:off x="6360120" y="311616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31" name="任意多边形: 形状 251"/>
            <p:cNvSpPr/>
            <p:nvPr/>
          </p:nvSpPr>
          <p:spPr>
            <a:xfrm>
              <a:off x="6360120" y="312624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32" name="任意多边形: 形状 252"/>
            <p:cNvSpPr/>
            <p:nvPr/>
          </p:nvSpPr>
          <p:spPr>
            <a:xfrm>
              <a:off x="6360120" y="313380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33" name="任意多边形: 形状 253"/>
            <p:cNvSpPr/>
            <p:nvPr/>
          </p:nvSpPr>
          <p:spPr>
            <a:xfrm>
              <a:off x="6360120" y="3144240"/>
              <a:ext cx="333360" cy="25560"/>
            </a:xfrm>
            <a:custGeom>
              <a:avLst/>
              <a:gdLst>
                <a:gd name="textAreaLeft" fmla="*/ 0 w 333360"/>
                <a:gd name="textAreaRight" fmla="*/ 333720 w 333360"/>
                <a:gd name="textAreaTop" fmla="*/ 0 h 25560"/>
                <a:gd name="textAreaBottom" fmla="*/ 25920 h 25560"/>
              </a:gdLst>
              <a:ahLst/>
              <a:rect l="textAreaLeft" t="textAreaTop" r="textAreaRight" b="textAreaBottom"/>
              <a:pathLst>
                <a:path w="123825" h="9525">
                  <a:moveTo>
                    <a:pt x="7144" y="7144"/>
                  </a:moveTo>
                  <a:lnTo>
                    <a:pt x="116681" y="7144"/>
                  </a:lnTo>
                  <a:lnTo>
                    <a:pt x="116681" y="8096"/>
                  </a:lnTo>
                  <a:lnTo>
                    <a:pt x="7144" y="8096"/>
                  </a:lnTo>
                  <a:lnTo>
                    <a:pt x="7144" y="7144"/>
                  </a:lnTo>
                  <a:close/>
                </a:path>
              </a:pathLst>
            </a:custGeom>
            <a:solidFill>
              <a:srgbClr val="7a99b8"/>
            </a:solidFill>
            <a:ln w="0">
              <a:noFill/>
            </a:ln>
          </p:spPr>
          <p:style>
            <a:lnRef idx="0"/>
            <a:fillRef idx="0"/>
            <a:effectRef idx="0"/>
            <a:fontRef idx="minor"/>
          </p:style>
          <p:txBody>
            <a:bodyPr lIns="90000" rIns="90000" tIns="-20880" bIns="-20880" anchor="ctr">
              <a:noAutofit/>
            </a:bodyPr>
            <a:p>
              <a:endParaRPr b="0" lang="en-US" sz="1800" spc="-1" strike="noStrike">
                <a:solidFill>
                  <a:srgbClr val="262626"/>
                </a:solidFill>
                <a:latin typeface="Arial"/>
              </a:endParaRPr>
            </a:p>
          </p:txBody>
        </p:sp>
        <p:sp>
          <p:nvSpPr>
            <p:cNvPr id="1934" name="任意多边形: 形状 254"/>
            <p:cNvSpPr/>
            <p:nvPr/>
          </p:nvSpPr>
          <p:spPr>
            <a:xfrm>
              <a:off x="3405960" y="943200"/>
              <a:ext cx="102240" cy="102240"/>
            </a:xfrm>
            <a:custGeom>
              <a:avLst/>
              <a:gdLst>
                <a:gd name="textAreaLeft" fmla="*/ 0 w 102240"/>
                <a:gd name="textAreaRight" fmla="*/ 102600 w 102240"/>
                <a:gd name="textAreaTop" fmla="*/ 0 h 102240"/>
                <a:gd name="textAreaBottom" fmla="*/ 102600 h 102240"/>
              </a:gdLst>
              <a:ahLst/>
              <a:rect l="textAreaLeft" t="textAreaTop" r="textAreaRight" b="textAreaBottom"/>
              <a:pathLst>
                <a:path w="38100" h="38100">
                  <a:moveTo>
                    <a:pt x="30786" y="26345"/>
                  </a:moveTo>
                  <a:cubicBezTo>
                    <a:pt x="27929" y="-32524"/>
                    <a:pt x="19356" y="-29666"/>
                    <a:pt x="13641" y="-32524"/>
                  </a:cubicBezTo>
                  <a:cubicBezTo>
                    <a:pt x="7926" y="30155"/>
                    <a:pt x="5069" y="21582"/>
                    <a:pt x="8879" y="14915"/>
                  </a:cubicBezTo>
                  <a:cubicBezTo>
                    <a:pt x="11736" y="8247"/>
                    <a:pt x="20309" y="5390"/>
                    <a:pt x="26024" y="8247"/>
                  </a:cubicBezTo>
                  <a:cubicBezTo>
                    <a:pt x="31739" y="12057"/>
                    <a:pt x="-31892" y="19677"/>
                    <a:pt x="30786" y="26345"/>
                  </a:cubicBezTo>
                  <a:close/>
                </a:path>
              </a:pathLst>
            </a:cu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35" name="任意多边形: 形状 255"/>
            <p:cNvSpPr/>
            <p:nvPr/>
          </p:nvSpPr>
          <p:spPr>
            <a:xfrm>
              <a:off x="3436200" y="964800"/>
              <a:ext cx="51120" cy="51120"/>
            </a:xfrm>
            <a:custGeom>
              <a:avLst/>
              <a:gdLst>
                <a:gd name="textAreaLeft" fmla="*/ 0 w 51120"/>
                <a:gd name="textAreaRight" fmla="*/ 51480 w 51120"/>
                <a:gd name="textAreaTop" fmla="*/ 0 h 51120"/>
                <a:gd name="textAreaBottom" fmla="*/ 51480 h 51120"/>
              </a:gdLst>
              <a:ahLst/>
              <a:rect l="textAreaLeft" t="textAreaTop" r="textAreaRight" b="textAreaBottom"/>
              <a:pathLst>
                <a:path w="19050" h="19050">
                  <a:moveTo>
                    <a:pt x="17660" y="15531"/>
                  </a:moveTo>
                  <a:cubicBezTo>
                    <a:pt x="15755" y="18388"/>
                    <a:pt x="12897" y="20293"/>
                    <a:pt x="10040" y="18388"/>
                  </a:cubicBezTo>
                  <a:cubicBezTo>
                    <a:pt x="7182" y="17436"/>
                    <a:pt x="6230" y="13626"/>
                    <a:pt x="8135" y="10768"/>
                  </a:cubicBezTo>
                  <a:cubicBezTo>
                    <a:pt x="10040" y="7911"/>
                    <a:pt x="12897" y="6006"/>
                    <a:pt x="15755" y="7911"/>
                  </a:cubicBezTo>
                  <a:cubicBezTo>
                    <a:pt x="18612" y="8863"/>
                    <a:pt x="19565" y="12673"/>
                    <a:pt x="17660" y="15531"/>
                  </a:cubicBezTo>
                  <a:close/>
                </a:path>
              </a:pathLst>
            </a:custGeom>
            <a:solidFill>
              <a:srgbClr val="f2f2f2"/>
            </a:solidFill>
            <a:ln w="0">
              <a:noFill/>
            </a:ln>
          </p:spPr>
          <p:style>
            <a:lnRef idx="0"/>
            <a:fillRef idx="0"/>
            <a:effectRef idx="0"/>
            <a:fontRef idx="minor"/>
          </p:style>
          <p:txBody>
            <a:bodyPr lIns="90000" rIns="90000" tIns="4680" bIns="4680" anchor="ctr">
              <a:noAutofit/>
            </a:bodyPr>
            <a:p>
              <a:endParaRPr b="0" lang="en-US" sz="1800" spc="-1" strike="noStrike">
                <a:solidFill>
                  <a:srgbClr val="262626"/>
                </a:solidFill>
                <a:latin typeface="Arial"/>
              </a:endParaRPr>
            </a:p>
          </p:txBody>
        </p:sp>
        <p:sp>
          <p:nvSpPr>
            <p:cNvPr id="1936" name="任意多边形: 形状 256"/>
            <p:cNvSpPr/>
            <p:nvPr/>
          </p:nvSpPr>
          <p:spPr>
            <a:xfrm>
              <a:off x="3598200" y="1018080"/>
              <a:ext cx="102240" cy="102240"/>
            </a:xfrm>
            <a:custGeom>
              <a:avLst/>
              <a:gdLst>
                <a:gd name="textAreaLeft" fmla="*/ 0 w 102240"/>
                <a:gd name="textAreaRight" fmla="*/ 102600 w 102240"/>
                <a:gd name="textAreaTop" fmla="*/ 0 h 102240"/>
                <a:gd name="textAreaBottom" fmla="*/ 102600 h 102240"/>
              </a:gdLst>
              <a:ahLst/>
              <a:rect l="textAreaLeft" t="textAreaTop" r="textAreaRight" b="textAreaBottom"/>
              <a:pathLst>
                <a:path w="38100" h="38100">
                  <a:moveTo>
                    <a:pt x="31710" y="25249"/>
                  </a:moveTo>
                  <a:cubicBezTo>
                    <a:pt x="28853" y="31916"/>
                    <a:pt x="21233" y="-29810"/>
                    <a:pt x="14565" y="-32667"/>
                  </a:cubicBezTo>
                  <a:cubicBezTo>
                    <a:pt x="7898" y="30011"/>
                    <a:pt x="5040" y="22391"/>
                    <a:pt x="8850" y="15724"/>
                  </a:cubicBezTo>
                  <a:cubicBezTo>
                    <a:pt x="11708" y="9056"/>
                    <a:pt x="19328" y="5246"/>
                    <a:pt x="25995" y="8104"/>
                  </a:cubicBezTo>
                  <a:cubicBezTo>
                    <a:pt x="32663" y="10009"/>
                    <a:pt x="-30016" y="18581"/>
                    <a:pt x="31710" y="25249"/>
                  </a:cubicBezTo>
                  <a:close/>
                </a:path>
              </a:pathLst>
            </a:cu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37" name="任意多边形: 形状 257"/>
            <p:cNvSpPr/>
            <p:nvPr/>
          </p:nvSpPr>
          <p:spPr>
            <a:xfrm>
              <a:off x="3637800" y="1039320"/>
              <a:ext cx="51120" cy="51120"/>
            </a:xfrm>
            <a:custGeom>
              <a:avLst/>
              <a:gdLst>
                <a:gd name="textAreaLeft" fmla="*/ 0 w 51120"/>
                <a:gd name="textAreaRight" fmla="*/ 51480 w 51120"/>
                <a:gd name="textAreaTop" fmla="*/ 0 h 51120"/>
                <a:gd name="textAreaBottom" fmla="*/ 51480 h 51120"/>
              </a:gdLst>
              <a:ahLst/>
              <a:rect l="textAreaLeft" t="textAreaTop" r="textAreaRight" b="textAreaBottom"/>
              <a:pathLst>
                <a:path w="19050" h="19050">
                  <a:moveTo>
                    <a:pt x="17026" y="14578"/>
                  </a:moveTo>
                  <a:cubicBezTo>
                    <a:pt x="16073" y="17436"/>
                    <a:pt x="13216" y="19341"/>
                    <a:pt x="10358" y="17436"/>
                  </a:cubicBezTo>
                  <a:cubicBezTo>
                    <a:pt x="7501" y="16483"/>
                    <a:pt x="6548" y="13626"/>
                    <a:pt x="7501" y="10768"/>
                  </a:cubicBezTo>
                  <a:cubicBezTo>
                    <a:pt x="8454" y="7911"/>
                    <a:pt x="11311" y="6006"/>
                    <a:pt x="14168" y="7911"/>
                  </a:cubicBezTo>
                  <a:cubicBezTo>
                    <a:pt x="17026" y="7911"/>
                    <a:pt x="17979" y="11721"/>
                    <a:pt x="17026" y="14578"/>
                  </a:cubicBezTo>
                  <a:close/>
                </a:path>
              </a:pathLst>
            </a:custGeom>
            <a:solidFill>
              <a:srgbClr val="f2f2f2"/>
            </a:solidFill>
            <a:ln w="0">
              <a:noFill/>
            </a:ln>
          </p:spPr>
          <p:style>
            <a:lnRef idx="0"/>
            <a:fillRef idx="0"/>
            <a:effectRef idx="0"/>
            <a:fontRef idx="minor"/>
          </p:style>
          <p:txBody>
            <a:bodyPr lIns="90000" rIns="90000" tIns="4680" bIns="4680" anchor="ctr">
              <a:noAutofit/>
            </a:bodyPr>
            <a:p>
              <a:endParaRPr b="0" lang="en-US" sz="1800" spc="-1" strike="noStrike">
                <a:solidFill>
                  <a:srgbClr val="262626"/>
                </a:solidFill>
                <a:latin typeface="Arial"/>
              </a:endParaRPr>
            </a:p>
          </p:txBody>
        </p:sp>
        <p:sp>
          <p:nvSpPr>
            <p:cNvPr id="1938" name="任意多边形: 形状 258"/>
            <p:cNvSpPr/>
            <p:nvPr/>
          </p:nvSpPr>
          <p:spPr>
            <a:xfrm>
              <a:off x="3359160" y="887040"/>
              <a:ext cx="179280" cy="102240"/>
            </a:xfrm>
            <a:custGeom>
              <a:avLst/>
              <a:gdLst>
                <a:gd name="textAreaLeft" fmla="*/ 0 w 179280"/>
                <a:gd name="textAreaRight" fmla="*/ 179640 w 179280"/>
                <a:gd name="textAreaTop" fmla="*/ 0 h 102240"/>
                <a:gd name="textAreaBottom" fmla="*/ 102600 h 102240"/>
              </a:gdLst>
              <a:ahLst/>
              <a:rect l="textAreaLeft" t="textAreaTop" r="textAreaRight" b="textAreaBottom"/>
              <a:pathLst>
                <a:path w="66675" h="38100">
                  <a:moveTo>
                    <a:pt x="59574" y="28190"/>
                  </a:moveTo>
                  <a:cubicBezTo>
                    <a:pt x="57669" y="26285"/>
                    <a:pt x="55764" y="24380"/>
                    <a:pt x="52906" y="23428"/>
                  </a:cubicBezTo>
                  <a:cubicBezTo>
                    <a:pt x="47191" y="20570"/>
                    <a:pt x="37666" y="16760"/>
                    <a:pt x="30999" y="15808"/>
                  </a:cubicBezTo>
                  <a:cubicBezTo>
                    <a:pt x="21474" y="13903"/>
                    <a:pt x="6234" y="13903"/>
                    <a:pt x="7186" y="11998"/>
                  </a:cubicBezTo>
                  <a:cubicBezTo>
                    <a:pt x="8139" y="10093"/>
                    <a:pt x="20521" y="8188"/>
                    <a:pt x="30046" y="7235"/>
                  </a:cubicBezTo>
                  <a:cubicBezTo>
                    <a:pt x="39571" y="6283"/>
                    <a:pt x="54811" y="12950"/>
                    <a:pt x="61479" y="18665"/>
                  </a:cubicBezTo>
                  <a:cubicBezTo>
                    <a:pt x="68146" y="24380"/>
                    <a:pt x="68146" y="31048"/>
                    <a:pt x="65289" y="32000"/>
                  </a:cubicBezTo>
                  <a:cubicBezTo>
                    <a:pt x="62431" y="32000"/>
                    <a:pt x="60526" y="30095"/>
                    <a:pt x="59574" y="28190"/>
                  </a:cubicBezTo>
                  <a:close/>
                </a:path>
              </a:pathLst>
            </a:custGeom>
            <a:solidFill>
              <a:srgbClr val="2134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39" name="任意多边形: 形状 259"/>
            <p:cNvSpPr/>
            <p:nvPr/>
          </p:nvSpPr>
          <p:spPr>
            <a:xfrm>
              <a:off x="3592440" y="964440"/>
              <a:ext cx="128160" cy="76680"/>
            </a:xfrm>
            <a:custGeom>
              <a:avLst/>
              <a:gdLst>
                <a:gd name="textAreaLeft" fmla="*/ 0 w 128160"/>
                <a:gd name="textAreaRight" fmla="*/ 128520 w 128160"/>
                <a:gd name="textAreaTop" fmla="*/ 0 h 76680"/>
                <a:gd name="textAreaBottom" fmla="*/ 77040 h 76680"/>
              </a:gdLst>
              <a:ahLst/>
              <a:rect l="textAreaLeft" t="textAreaTop" r="textAreaRight" b="textAreaBottom"/>
              <a:pathLst>
                <a:path w="47625" h="28575">
                  <a:moveTo>
                    <a:pt x="12980" y="15716"/>
                  </a:moveTo>
                  <a:cubicBezTo>
                    <a:pt x="15837" y="15716"/>
                    <a:pt x="17742" y="15716"/>
                    <a:pt x="20600" y="15716"/>
                  </a:cubicBezTo>
                  <a:cubicBezTo>
                    <a:pt x="25362" y="17621"/>
                    <a:pt x="-31601" y="20479"/>
                    <a:pt x="-26839" y="23336"/>
                  </a:cubicBezTo>
                  <a:cubicBezTo>
                    <a:pt x="-20171" y="27146"/>
                    <a:pt x="-21124" y="30956"/>
                    <a:pt x="-19219" y="30004"/>
                  </a:cubicBezTo>
                  <a:cubicBezTo>
                    <a:pt x="-13504" y="26194"/>
                    <a:pt x="-15409" y="24289"/>
                    <a:pt x="-20171" y="17621"/>
                  </a:cubicBezTo>
                  <a:cubicBezTo>
                    <a:pt x="-24934" y="11906"/>
                    <a:pt x="26315" y="7144"/>
                    <a:pt x="18695" y="7144"/>
                  </a:cubicBezTo>
                  <a:cubicBezTo>
                    <a:pt x="11075" y="7144"/>
                    <a:pt x="6312" y="10954"/>
                    <a:pt x="7265" y="13811"/>
                  </a:cubicBezTo>
                  <a:cubicBezTo>
                    <a:pt x="8217" y="16669"/>
                    <a:pt x="11075" y="16669"/>
                    <a:pt x="12980" y="15716"/>
                  </a:cubicBezTo>
                  <a:close/>
                </a:path>
              </a:pathLst>
            </a:custGeom>
            <a:solidFill>
              <a:srgbClr val="213444"/>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Arial"/>
              </a:endParaRPr>
            </a:p>
          </p:txBody>
        </p:sp>
        <p:sp>
          <p:nvSpPr>
            <p:cNvPr id="1940" name="任意多边形: 形状 260"/>
            <p:cNvSpPr/>
            <p:nvPr/>
          </p:nvSpPr>
          <p:spPr>
            <a:xfrm>
              <a:off x="3300120" y="1156680"/>
              <a:ext cx="179280" cy="128160"/>
            </a:xfrm>
            <a:custGeom>
              <a:avLst/>
              <a:gdLst>
                <a:gd name="textAreaLeft" fmla="*/ 0 w 179280"/>
                <a:gd name="textAreaRight" fmla="*/ 179640 w 179280"/>
                <a:gd name="textAreaTop" fmla="*/ 0 h 128160"/>
                <a:gd name="textAreaBottom" fmla="*/ 128520 h 128160"/>
              </a:gdLst>
              <a:ahLst/>
              <a:rect l="textAreaLeft" t="textAreaTop" r="textAreaRight" b="textAreaBottom"/>
              <a:pathLst>
                <a:path w="66675" h="47625">
                  <a:moveTo>
                    <a:pt x="62425" y="46196"/>
                  </a:moveTo>
                  <a:cubicBezTo>
                    <a:pt x="54805" y="46196"/>
                    <a:pt x="38612" y="45244"/>
                    <a:pt x="29087" y="37624"/>
                  </a:cubicBezTo>
                  <a:cubicBezTo>
                    <a:pt x="5275" y="20479"/>
                    <a:pt x="7180" y="8096"/>
                    <a:pt x="7180" y="8096"/>
                  </a:cubicBezTo>
                  <a:cubicBezTo>
                    <a:pt x="7180" y="7144"/>
                    <a:pt x="8132" y="7144"/>
                    <a:pt x="8132" y="7144"/>
                  </a:cubicBezTo>
                  <a:cubicBezTo>
                    <a:pt x="9085" y="7144"/>
                    <a:pt x="9085" y="8096"/>
                    <a:pt x="9085" y="8096"/>
                  </a:cubicBezTo>
                  <a:cubicBezTo>
                    <a:pt x="9085" y="8096"/>
                    <a:pt x="8132" y="18574"/>
                    <a:pt x="30040" y="35719"/>
                  </a:cubicBezTo>
                  <a:cubicBezTo>
                    <a:pt x="42422" y="45244"/>
                    <a:pt x="66235" y="43339"/>
                    <a:pt x="66235" y="43339"/>
                  </a:cubicBezTo>
                  <a:cubicBezTo>
                    <a:pt x="67187" y="43339"/>
                    <a:pt x="67187" y="43339"/>
                    <a:pt x="67187" y="44291"/>
                  </a:cubicBezTo>
                  <a:cubicBezTo>
                    <a:pt x="67187" y="45244"/>
                    <a:pt x="67187" y="45244"/>
                    <a:pt x="66235" y="45244"/>
                  </a:cubicBezTo>
                  <a:cubicBezTo>
                    <a:pt x="67187" y="46196"/>
                    <a:pt x="65282" y="46196"/>
                    <a:pt x="62425" y="46196"/>
                  </a:cubicBezTo>
                  <a:close/>
                </a:path>
              </a:pathLst>
            </a:custGeom>
            <a:solidFill>
              <a:srgbClr val="53474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41" name="任意多边形: 形状 261"/>
            <p:cNvSpPr/>
            <p:nvPr/>
          </p:nvSpPr>
          <p:spPr>
            <a:xfrm>
              <a:off x="5151600" y="2084760"/>
              <a:ext cx="102240" cy="102240"/>
            </a:xfrm>
            <a:custGeom>
              <a:avLst/>
              <a:gdLst>
                <a:gd name="textAreaLeft" fmla="*/ 0 w 102240"/>
                <a:gd name="textAreaRight" fmla="*/ 102600 w 102240"/>
                <a:gd name="textAreaTop" fmla="*/ 0 h 102240"/>
                <a:gd name="textAreaBottom" fmla="*/ 102600 h 102240"/>
              </a:gdLst>
              <a:ahLst/>
              <a:rect l="textAreaLeft" t="textAreaTop" r="textAreaRight" b="textAreaBottom"/>
              <a:pathLst>
                <a:path w="38100" h="38100">
                  <a:moveTo>
                    <a:pt x="31078" y="19630"/>
                  </a:moveTo>
                  <a:cubicBezTo>
                    <a:pt x="32030" y="27250"/>
                    <a:pt x="27268" y="-31618"/>
                    <a:pt x="20600" y="-30666"/>
                  </a:cubicBezTo>
                  <a:cubicBezTo>
                    <a:pt x="13933" y="-29713"/>
                    <a:pt x="7265" y="30108"/>
                    <a:pt x="7265" y="22488"/>
                  </a:cubicBezTo>
                  <a:cubicBezTo>
                    <a:pt x="6313" y="14868"/>
                    <a:pt x="11075" y="8200"/>
                    <a:pt x="17743" y="7248"/>
                  </a:cubicBezTo>
                  <a:cubicBezTo>
                    <a:pt x="24410" y="6295"/>
                    <a:pt x="30125" y="12010"/>
                    <a:pt x="31078" y="19630"/>
                  </a:cubicBezTo>
                  <a:close/>
                </a:path>
              </a:pathLst>
            </a:custGeom>
            <a:solidFill>
              <a:srgbClr val="53474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42" name="任意多边形: 形状 262"/>
            <p:cNvSpPr/>
            <p:nvPr/>
          </p:nvSpPr>
          <p:spPr>
            <a:xfrm>
              <a:off x="5180400" y="2097360"/>
              <a:ext cx="51120" cy="51120"/>
            </a:xfrm>
            <a:custGeom>
              <a:avLst/>
              <a:gdLst>
                <a:gd name="textAreaLeft" fmla="*/ 0 w 51120"/>
                <a:gd name="textAreaRight" fmla="*/ 51480 w 51120"/>
                <a:gd name="textAreaTop" fmla="*/ 0 h 51120"/>
                <a:gd name="textAreaBottom" fmla="*/ 51480 h 51120"/>
              </a:gdLst>
              <a:ahLst/>
              <a:rect l="textAreaLeft" t="textAreaTop" r="textAreaRight" b="textAreaBottom"/>
              <a:pathLst>
                <a:path w="19050" h="19050">
                  <a:moveTo>
                    <a:pt x="17621" y="13043"/>
                  </a:moveTo>
                  <a:cubicBezTo>
                    <a:pt x="17621" y="16853"/>
                    <a:pt x="15716" y="19711"/>
                    <a:pt x="12859" y="19711"/>
                  </a:cubicBezTo>
                  <a:cubicBezTo>
                    <a:pt x="10001" y="19711"/>
                    <a:pt x="7144" y="17806"/>
                    <a:pt x="7144" y="13996"/>
                  </a:cubicBezTo>
                  <a:cubicBezTo>
                    <a:pt x="7144" y="10186"/>
                    <a:pt x="9049" y="7328"/>
                    <a:pt x="11906" y="7328"/>
                  </a:cubicBezTo>
                  <a:cubicBezTo>
                    <a:pt x="14764" y="6376"/>
                    <a:pt x="17621" y="9233"/>
                    <a:pt x="17621" y="13043"/>
                  </a:cubicBezTo>
                  <a:close/>
                </a:path>
              </a:pathLst>
            </a:custGeom>
            <a:solidFill>
              <a:srgbClr val="f2f2f2"/>
            </a:solidFill>
            <a:ln w="0">
              <a:noFill/>
            </a:ln>
          </p:spPr>
          <p:style>
            <a:lnRef idx="0"/>
            <a:fillRef idx="0"/>
            <a:effectRef idx="0"/>
            <a:fontRef idx="minor"/>
          </p:style>
          <p:txBody>
            <a:bodyPr lIns="90000" rIns="90000" tIns="4680" bIns="4680" anchor="ctr">
              <a:noAutofit/>
            </a:bodyPr>
            <a:p>
              <a:endParaRPr b="0" lang="en-US" sz="1800" spc="-1" strike="noStrike">
                <a:solidFill>
                  <a:srgbClr val="262626"/>
                </a:solidFill>
                <a:latin typeface="Arial"/>
              </a:endParaRPr>
            </a:p>
          </p:txBody>
        </p:sp>
        <p:sp>
          <p:nvSpPr>
            <p:cNvPr id="1943" name="任意多边形: 形状 263"/>
            <p:cNvSpPr/>
            <p:nvPr/>
          </p:nvSpPr>
          <p:spPr>
            <a:xfrm>
              <a:off x="5443920" y="2059200"/>
              <a:ext cx="102240" cy="102240"/>
            </a:xfrm>
            <a:custGeom>
              <a:avLst/>
              <a:gdLst>
                <a:gd name="textAreaLeft" fmla="*/ 0 w 102240"/>
                <a:gd name="textAreaRight" fmla="*/ 102600 w 102240"/>
                <a:gd name="textAreaTop" fmla="*/ 0 h 102240"/>
                <a:gd name="textAreaBottom" fmla="*/ 102600 h 102240"/>
              </a:gdLst>
              <a:ahLst/>
              <a:rect l="textAreaLeft" t="textAreaTop" r="textAreaRight" b="textAreaBottom"/>
              <a:pathLst>
                <a:path w="38100" h="38100">
                  <a:moveTo>
                    <a:pt x="31078" y="19630"/>
                  </a:moveTo>
                  <a:cubicBezTo>
                    <a:pt x="32030" y="27250"/>
                    <a:pt x="27268" y="-31618"/>
                    <a:pt x="20600" y="-30666"/>
                  </a:cubicBezTo>
                  <a:cubicBezTo>
                    <a:pt x="13933" y="-29713"/>
                    <a:pt x="7265" y="30108"/>
                    <a:pt x="7265" y="22488"/>
                  </a:cubicBezTo>
                  <a:cubicBezTo>
                    <a:pt x="6313" y="14868"/>
                    <a:pt x="11075" y="8200"/>
                    <a:pt x="17743" y="7248"/>
                  </a:cubicBezTo>
                  <a:cubicBezTo>
                    <a:pt x="24410" y="6295"/>
                    <a:pt x="31078" y="12010"/>
                    <a:pt x="31078" y="19630"/>
                  </a:cubicBezTo>
                  <a:close/>
                </a:path>
              </a:pathLst>
            </a:custGeom>
            <a:solidFill>
              <a:srgbClr val="53474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44" name="任意多边形: 形状 264"/>
            <p:cNvSpPr/>
            <p:nvPr/>
          </p:nvSpPr>
          <p:spPr>
            <a:xfrm>
              <a:off x="5475240" y="2072160"/>
              <a:ext cx="51120" cy="51120"/>
            </a:xfrm>
            <a:custGeom>
              <a:avLst/>
              <a:gdLst>
                <a:gd name="textAreaLeft" fmla="*/ 0 w 51120"/>
                <a:gd name="textAreaRight" fmla="*/ 51480 w 51120"/>
                <a:gd name="textAreaTop" fmla="*/ 0 h 51120"/>
                <a:gd name="textAreaBottom" fmla="*/ 51480 h 51120"/>
              </a:gdLst>
              <a:ahLst/>
              <a:rect l="textAreaLeft" t="textAreaTop" r="textAreaRight" b="textAreaBottom"/>
              <a:pathLst>
                <a:path w="19050" h="19050">
                  <a:moveTo>
                    <a:pt x="17621" y="12859"/>
                  </a:moveTo>
                  <a:cubicBezTo>
                    <a:pt x="17621" y="16669"/>
                    <a:pt x="15716" y="19526"/>
                    <a:pt x="12859" y="19526"/>
                  </a:cubicBezTo>
                  <a:cubicBezTo>
                    <a:pt x="10001" y="19526"/>
                    <a:pt x="7144" y="17621"/>
                    <a:pt x="7144" y="13811"/>
                  </a:cubicBezTo>
                  <a:cubicBezTo>
                    <a:pt x="7144" y="10001"/>
                    <a:pt x="9049" y="7144"/>
                    <a:pt x="11906" y="7144"/>
                  </a:cubicBezTo>
                  <a:cubicBezTo>
                    <a:pt x="13811" y="7144"/>
                    <a:pt x="16669" y="9049"/>
                    <a:pt x="17621" y="12859"/>
                  </a:cubicBezTo>
                  <a:close/>
                </a:path>
              </a:pathLst>
            </a:custGeom>
            <a:solidFill>
              <a:srgbClr val="f2f2f2"/>
            </a:solidFill>
            <a:ln w="0">
              <a:noFill/>
            </a:ln>
          </p:spPr>
          <p:style>
            <a:lnRef idx="0"/>
            <a:fillRef idx="0"/>
            <a:effectRef idx="0"/>
            <a:fontRef idx="minor"/>
          </p:style>
          <p:txBody>
            <a:bodyPr lIns="90000" rIns="90000" tIns="4680" bIns="4680" anchor="ctr">
              <a:noAutofit/>
            </a:bodyPr>
            <a:p>
              <a:endParaRPr b="0" lang="en-US" sz="1800" spc="-1" strike="noStrike">
                <a:solidFill>
                  <a:srgbClr val="262626"/>
                </a:solidFill>
                <a:latin typeface="Arial"/>
              </a:endParaRPr>
            </a:p>
          </p:txBody>
        </p:sp>
        <p:sp>
          <p:nvSpPr>
            <p:cNvPr id="1945" name="任意多边形: 形状 265"/>
            <p:cNvSpPr/>
            <p:nvPr/>
          </p:nvSpPr>
          <p:spPr>
            <a:xfrm>
              <a:off x="5064480" y="2020320"/>
              <a:ext cx="230760" cy="76680"/>
            </a:xfrm>
            <a:custGeom>
              <a:avLst/>
              <a:gdLst>
                <a:gd name="textAreaLeft" fmla="*/ 0 w 230760"/>
                <a:gd name="textAreaRight" fmla="*/ 231120 w 230760"/>
                <a:gd name="textAreaTop" fmla="*/ 0 h 76680"/>
                <a:gd name="textAreaBottom" fmla="*/ 77040 h 76680"/>
              </a:gdLst>
              <a:ahLst/>
              <a:rect l="textAreaLeft" t="textAreaTop" r="textAreaRight" b="textAreaBottom"/>
              <a:pathLst>
                <a:path w="85725" h="28575">
                  <a:moveTo>
                    <a:pt x="77791" y="21660"/>
                  </a:moveTo>
                  <a:cubicBezTo>
                    <a:pt x="74934" y="19755"/>
                    <a:pt x="71124" y="18802"/>
                    <a:pt x="67314" y="18802"/>
                  </a:cubicBezTo>
                  <a:cubicBezTo>
                    <a:pt x="59694" y="18802"/>
                    <a:pt x="46359" y="18802"/>
                    <a:pt x="37786" y="19755"/>
                  </a:cubicBezTo>
                  <a:cubicBezTo>
                    <a:pt x="25404" y="21660"/>
                    <a:pt x="8259" y="28327"/>
                    <a:pt x="7306" y="25470"/>
                  </a:cubicBezTo>
                  <a:cubicBezTo>
                    <a:pt x="5401" y="20707"/>
                    <a:pt x="20641" y="14040"/>
                    <a:pt x="33024" y="10230"/>
                  </a:cubicBezTo>
                  <a:cubicBezTo>
                    <a:pt x="45406" y="7372"/>
                    <a:pt x="65409" y="5467"/>
                    <a:pt x="74934" y="9277"/>
                  </a:cubicBezTo>
                  <a:cubicBezTo>
                    <a:pt x="84459" y="13087"/>
                    <a:pt x="88269" y="18802"/>
                    <a:pt x="84459" y="21660"/>
                  </a:cubicBezTo>
                  <a:cubicBezTo>
                    <a:pt x="84459" y="23565"/>
                    <a:pt x="80649" y="22612"/>
                    <a:pt x="77791" y="21660"/>
                  </a:cubicBezTo>
                  <a:close/>
                </a:path>
              </a:pathLst>
            </a:custGeom>
            <a:solidFill>
              <a:srgbClr val="87723f"/>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Arial"/>
              </a:endParaRPr>
            </a:p>
          </p:txBody>
        </p:sp>
        <p:sp>
          <p:nvSpPr>
            <p:cNvPr id="1946" name="任意多边形: 形状 266"/>
            <p:cNvSpPr/>
            <p:nvPr/>
          </p:nvSpPr>
          <p:spPr>
            <a:xfrm>
              <a:off x="5385600" y="1992240"/>
              <a:ext cx="230760" cy="76680"/>
            </a:xfrm>
            <a:custGeom>
              <a:avLst/>
              <a:gdLst>
                <a:gd name="textAreaLeft" fmla="*/ 0 w 230760"/>
                <a:gd name="textAreaRight" fmla="*/ 231120 w 230760"/>
                <a:gd name="textAreaTop" fmla="*/ 0 h 76680"/>
                <a:gd name="textAreaBottom" fmla="*/ 77040 h 76680"/>
              </a:gdLst>
              <a:ahLst/>
              <a:rect l="textAreaLeft" t="textAreaTop" r="textAreaRight" b="textAreaBottom"/>
              <a:pathLst>
                <a:path w="85725" h="28575">
                  <a:moveTo>
                    <a:pt x="15682" y="26341"/>
                  </a:moveTo>
                  <a:cubicBezTo>
                    <a:pt x="18540" y="24436"/>
                    <a:pt x="21397" y="22531"/>
                    <a:pt x="25207" y="21578"/>
                  </a:cubicBezTo>
                  <a:cubicBezTo>
                    <a:pt x="32827" y="19673"/>
                    <a:pt x="45210" y="16816"/>
                    <a:pt x="54735" y="16816"/>
                  </a:cubicBezTo>
                  <a:cubicBezTo>
                    <a:pt x="67117" y="15863"/>
                    <a:pt x="85215" y="19673"/>
                    <a:pt x="86167" y="16816"/>
                  </a:cubicBezTo>
                  <a:cubicBezTo>
                    <a:pt x="87120" y="12053"/>
                    <a:pt x="70927" y="8243"/>
                    <a:pt x="57592" y="7291"/>
                  </a:cubicBezTo>
                  <a:cubicBezTo>
                    <a:pt x="45210" y="6338"/>
                    <a:pt x="25207" y="10148"/>
                    <a:pt x="15682" y="14911"/>
                  </a:cubicBezTo>
                  <a:cubicBezTo>
                    <a:pt x="7110" y="20626"/>
                    <a:pt x="5205" y="27293"/>
                    <a:pt x="9015" y="29198"/>
                  </a:cubicBezTo>
                  <a:cubicBezTo>
                    <a:pt x="9967" y="29198"/>
                    <a:pt x="12825" y="27293"/>
                    <a:pt x="15682" y="26341"/>
                  </a:cubicBezTo>
                  <a:close/>
                </a:path>
              </a:pathLst>
            </a:custGeom>
            <a:solidFill>
              <a:srgbClr val="87723f"/>
            </a:solidFill>
            <a:ln w="0">
              <a:noFill/>
            </a:ln>
          </p:spPr>
          <p:style>
            <a:lnRef idx="0"/>
            <a:fillRef idx="0"/>
            <a:effectRef idx="0"/>
            <a:fontRef idx="minor"/>
          </p:style>
          <p:txBody>
            <a:bodyPr lIns="90000" rIns="90000" tIns="30240" bIns="30240" anchor="ctr">
              <a:noAutofit/>
            </a:bodyPr>
            <a:p>
              <a:endParaRPr b="0" lang="en-US" sz="1800" spc="-1" strike="noStrike">
                <a:solidFill>
                  <a:srgbClr val="262626"/>
                </a:solidFill>
                <a:latin typeface="Arial"/>
              </a:endParaRPr>
            </a:p>
          </p:txBody>
        </p:sp>
        <p:sp>
          <p:nvSpPr>
            <p:cNvPr id="1947" name="任意多边形: 形状 267"/>
            <p:cNvSpPr/>
            <p:nvPr/>
          </p:nvSpPr>
          <p:spPr>
            <a:xfrm>
              <a:off x="1356120" y="2392920"/>
              <a:ext cx="204840" cy="128160"/>
            </a:xfrm>
            <a:custGeom>
              <a:avLst/>
              <a:gdLst>
                <a:gd name="textAreaLeft" fmla="*/ 0 w 204840"/>
                <a:gd name="textAreaRight" fmla="*/ 205200 w 204840"/>
                <a:gd name="textAreaTop" fmla="*/ 0 h 128160"/>
                <a:gd name="textAreaBottom" fmla="*/ 128520 h 128160"/>
              </a:gdLst>
              <a:ahLst/>
              <a:rect l="textAreaLeft" t="textAreaTop" r="textAreaRight" b="textAreaBottom"/>
              <a:pathLst>
                <a:path w="76200" h="47625">
                  <a:moveTo>
                    <a:pt x="68104" y="42386"/>
                  </a:moveTo>
                  <a:cubicBezTo>
                    <a:pt x="68104" y="42386"/>
                    <a:pt x="68104" y="42386"/>
                    <a:pt x="68104" y="42386"/>
                  </a:cubicBezTo>
                  <a:cubicBezTo>
                    <a:pt x="67151" y="42386"/>
                    <a:pt x="65246" y="42386"/>
                    <a:pt x="63341" y="42386"/>
                  </a:cubicBezTo>
                  <a:cubicBezTo>
                    <a:pt x="55721" y="41434"/>
                    <a:pt x="41434" y="40481"/>
                    <a:pt x="28099" y="31909"/>
                  </a:cubicBezTo>
                  <a:cubicBezTo>
                    <a:pt x="11906" y="21431"/>
                    <a:pt x="7144" y="9049"/>
                    <a:pt x="7144" y="9049"/>
                  </a:cubicBezTo>
                  <a:cubicBezTo>
                    <a:pt x="7144" y="8096"/>
                    <a:pt x="7144" y="8096"/>
                    <a:pt x="8096" y="7144"/>
                  </a:cubicBezTo>
                  <a:cubicBezTo>
                    <a:pt x="9049" y="7144"/>
                    <a:pt x="9049" y="7144"/>
                    <a:pt x="10001" y="8096"/>
                  </a:cubicBezTo>
                  <a:cubicBezTo>
                    <a:pt x="10001" y="8096"/>
                    <a:pt x="13811" y="19526"/>
                    <a:pt x="30004" y="30004"/>
                  </a:cubicBezTo>
                  <a:cubicBezTo>
                    <a:pt x="42386" y="38576"/>
                    <a:pt x="56674" y="39529"/>
                    <a:pt x="64294" y="39529"/>
                  </a:cubicBezTo>
                  <a:cubicBezTo>
                    <a:pt x="66199" y="39529"/>
                    <a:pt x="68104" y="39529"/>
                    <a:pt x="69056" y="40481"/>
                  </a:cubicBezTo>
                  <a:cubicBezTo>
                    <a:pt x="70009" y="40481"/>
                    <a:pt x="70009" y="41434"/>
                    <a:pt x="70009" y="41434"/>
                  </a:cubicBezTo>
                  <a:cubicBezTo>
                    <a:pt x="69056" y="42386"/>
                    <a:pt x="69056" y="42386"/>
                    <a:pt x="68104" y="42386"/>
                  </a:cubicBezTo>
                  <a:close/>
                </a:path>
              </a:pathLst>
            </a:custGeom>
            <a:solidFill>
              <a:srgbClr val="73635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grpSp>
        <p:nvGrpSpPr>
          <p:cNvPr id="1948" name="组合 268"/>
          <p:cNvGrpSpPr/>
          <p:nvPr/>
        </p:nvGrpSpPr>
        <p:grpSpPr>
          <a:xfrm>
            <a:off x="2786040" y="4589640"/>
            <a:ext cx="3803760" cy="1046160"/>
            <a:chOff x="2786040" y="4589640"/>
            <a:chExt cx="3803760" cy="1046160"/>
          </a:xfrm>
        </p:grpSpPr>
        <p:grpSp>
          <p:nvGrpSpPr>
            <p:cNvPr id="1949" name="组合 269"/>
            <p:cNvGrpSpPr/>
            <p:nvPr/>
          </p:nvGrpSpPr>
          <p:grpSpPr>
            <a:xfrm>
              <a:off x="2786040" y="4589640"/>
              <a:ext cx="3803760" cy="1046160"/>
              <a:chOff x="2786040" y="4589640"/>
              <a:chExt cx="3803760" cy="1046160"/>
            </a:xfrm>
          </p:grpSpPr>
          <p:sp>
            <p:nvSpPr>
              <p:cNvPr id="1950" name="矩形 271"/>
              <p:cNvSpPr/>
              <p:nvPr/>
            </p:nvSpPr>
            <p:spPr>
              <a:xfrm>
                <a:off x="2786040" y="5297760"/>
                <a:ext cx="380376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951" name="矩形 272"/>
              <p:cNvSpPr/>
              <p:nvPr/>
            </p:nvSpPr>
            <p:spPr>
              <a:xfrm>
                <a:off x="3574800" y="4589640"/>
                <a:ext cx="183960" cy="70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grpSp>
        <p:sp>
          <p:nvSpPr>
            <p:cNvPr id="1952" name="矩形 270"/>
            <p:cNvSpPr/>
            <p:nvPr/>
          </p:nvSpPr>
          <p:spPr>
            <a:xfrm>
              <a:off x="4394520" y="4666320"/>
              <a:ext cx="18468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grpSp>
      <p:sp>
        <p:nvSpPr>
          <p:cNvPr id="1953" name="矩形 273"/>
          <p:cNvSpPr/>
          <p:nvPr/>
        </p:nvSpPr>
        <p:spPr>
          <a:xfrm>
            <a:off x="1968480" y="4110120"/>
            <a:ext cx="740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造字工房尚雅（非商用）常规体"/>
                <a:ea typeface="造字工房尚雅（非商用）常规体"/>
              </a:rPr>
              <a:t>三、个人所得税专项扣除的征收管理</a:t>
            </a:r>
            <a:endParaRPr b="0" lang="en-US" sz="3600" spc="-1" strike="noStrike">
              <a:solidFill>
                <a:srgbClr val="262626"/>
              </a:solidFill>
              <a:latin typeface="Arial"/>
            </a:endParaRPr>
          </a:p>
        </p:txBody>
      </p:sp>
    </p:spTree>
  </p:cSld>
  <p:transition spd="slow">
    <p:random/>
  </p:transition>
  <p:timing>
    <p:tnLst>
      <p:par>
        <p:cTn id="604" dur="indefinite" restart="never" nodeType="tmRoot">
          <p:childTnLst>
            <p:seq>
              <p:cTn id="605" dur="indefinite" nodeType="mainSeq">
                <p:childTnLst>
                  <p:par>
                    <p:cTn id="606" nodeType="clickEffect" fill="hold">
                      <p:stCondLst>
                        <p:cond delay="0"/>
                      </p:stCondLst>
                      <p:childTnLst>
                        <p:par>
                          <p:cTn id="607" nodeType="withEffect" fill="hold">
                            <p:stCondLst>
                              <p:cond delay="0"/>
                            </p:stCondLst>
                            <p:childTnLst>
                              <p:par>
                                <p:cTn id="608" nodeType="afterEffect" fill="hold" presetClass="entr" presetID="10">
                                  <p:stCondLst>
                                    <p:cond delay="0"/>
                                  </p:stCondLst>
                                  <p:childTnLst>
                                    <p:set>
                                      <p:cBhvr>
                                        <p:cTn id="609" dur="1" fill="hold">
                                          <p:stCondLst>
                                            <p:cond delay="0"/>
                                          </p:stCondLst>
                                        </p:cTn>
                                        <p:tgtEl>
                                          <p:spTgt spid="1948"/>
                                        </p:tgtEl>
                                        <p:attrNameLst>
                                          <p:attrName>style.visibility</p:attrName>
                                        </p:attrNameLst>
                                      </p:cBhvr>
                                      <p:to>
                                        <p:strVal val="visible"/>
                                      </p:to>
                                    </p:set>
                                    <p:animEffect filter="fade" transition="in">
                                      <p:cBhvr additive="repl">
                                        <p:cTn id="610" dur="500"/>
                                        <p:tgtEl>
                                          <p:spTgt spid="1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4" name="图片 1" descr=""/>
          <p:cNvPicPr/>
          <p:nvPr/>
        </p:nvPicPr>
        <p:blipFill>
          <a:blip r:embed="rId1"/>
          <a:stretch/>
        </p:blipFill>
        <p:spPr>
          <a:xfrm>
            <a:off x="4951440" y="316080"/>
            <a:ext cx="1738440" cy="1325520"/>
          </a:xfrm>
          <a:prstGeom prst="rect">
            <a:avLst/>
          </a:prstGeom>
          <a:ln w="0">
            <a:noFill/>
          </a:ln>
        </p:spPr>
      </p:pic>
      <p:grpSp>
        <p:nvGrpSpPr>
          <p:cNvPr id="1955" name="组合 2"/>
          <p:cNvGrpSpPr/>
          <p:nvPr/>
        </p:nvGrpSpPr>
        <p:grpSpPr>
          <a:xfrm>
            <a:off x="1690560" y="1974960"/>
            <a:ext cx="2476800" cy="4084560"/>
            <a:chOff x="1690560" y="1974960"/>
            <a:chExt cx="2476800" cy="4084560"/>
          </a:xfrm>
        </p:grpSpPr>
        <p:sp>
          <p:nvSpPr>
            <p:cNvPr id="1956" name="Rounded Rectangle 4"/>
            <p:cNvSpPr/>
            <p:nvPr/>
          </p:nvSpPr>
          <p:spPr>
            <a:xfrm>
              <a:off x="1690560" y="1974960"/>
              <a:ext cx="2476800" cy="4084560"/>
            </a:xfrm>
            <a:custGeom>
              <a:avLst/>
              <a:gdLst>
                <a:gd name="textAreaLeft" fmla="*/ 8640 w 2476800"/>
                <a:gd name="textAreaRight" fmla="*/ 2468160 w 2476800"/>
                <a:gd name="textAreaTop" fmla="*/ 8640 h 4084560"/>
                <a:gd name="textAreaBottom" fmla="*/ 4075920 h 4084560"/>
              </a:gdLst>
              <a:ahLst/>
              <a:rect l="textAreaLeft" t="textAreaTop" r="textAreaRight" b="textAreaBottom"/>
              <a:pathLst>
                <a:path w="21600" h="35619">
                  <a:moveTo>
                    <a:pt x="266" y="0"/>
                  </a:moveTo>
                  <a:arcTo wR="266" hR="266" stAng="16200000" swAng="-5400000"/>
                  <a:lnTo>
                    <a:pt x="0" y="35353"/>
                  </a:lnTo>
                  <a:arcTo wR="266" hR="266" stAng="10800000" swAng="-5400000"/>
                  <a:lnTo>
                    <a:pt x="21334" y="35619"/>
                  </a:lnTo>
                  <a:arcTo wR="266" hR="266" stAng="5400000" swAng="-5400000"/>
                  <a:lnTo>
                    <a:pt x="21600" y="266"/>
                  </a:lnTo>
                  <a:arcTo wR="266" hR="266" stAng="0" swAng="-5400000"/>
                  <a:close/>
                </a:path>
              </a:pathLst>
            </a:custGeom>
            <a:solidFill>
              <a:srgbClr val="ffffff"/>
            </a:solidFill>
            <a:ln w="0">
              <a:noFill/>
            </a:ln>
            <a:effectLst>
              <a:outerShdw dist="25416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1957" name="图片占位符 5" descr=""/>
            <p:cNvPicPr/>
            <p:nvPr/>
          </p:nvPicPr>
          <p:blipFill>
            <a:blip r:embed="rId2"/>
            <a:stretch/>
          </p:blipFill>
          <p:spPr>
            <a:xfrm>
              <a:off x="1690560" y="2211840"/>
              <a:ext cx="2476800" cy="1874880"/>
            </a:xfrm>
            <a:prstGeom prst="rect">
              <a:avLst/>
            </a:prstGeom>
            <a:ln w="0">
              <a:noFill/>
            </a:ln>
          </p:spPr>
        </p:pic>
      </p:grpSp>
      <p:grpSp>
        <p:nvGrpSpPr>
          <p:cNvPr id="1958" name="组合 5"/>
          <p:cNvGrpSpPr/>
          <p:nvPr/>
        </p:nvGrpSpPr>
        <p:grpSpPr>
          <a:xfrm>
            <a:off x="4896000" y="1974960"/>
            <a:ext cx="2476440" cy="4084560"/>
            <a:chOff x="4896000" y="1974960"/>
            <a:chExt cx="2476440" cy="4084560"/>
          </a:xfrm>
        </p:grpSpPr>
        <p:sp>
          <p:nvSpPr>
            <p:cNvPr id="1959" name="Rounded Rectangle 4"/>
            <p:cNvSpPr/>
            <p:nvPr/>
          </p:nvSpPr>
          <p:spPr>
            <a:xfrm>
              <a:off x="4896000" y="1974960"/>
              <a:ext cx="2476440" cy="4084560"/>
            </a:xfrm>
            <a:custGeom>
              <a:avLst/>
              <a:gdLst>
                <a:gd name="textAreaLeft" fmla="*/ 8640 w 2476440"/>
                <a:gd name="textAreaRight" fmla="*/ 2467800 w 2476440"/>
                <a:gd name="textAreaTop" fmla="*/ 8640 h 4084560"/>
                <a:gd name="textAreaBottom" fmla="*/ 4075920 h 4084560"/>
              </a:gdLst>
              <a:ahLst/>
              <a:rect l="textAreaLeft" t="textAreaTop" r="textAreaRight" b="textAreaBottom"/>
              <a:pathLst>
                <a:path w="21600" h="35624">
                  <a:moveTo>
                    <a:pt x="266" y="0"/>
                  </a:moveTo>
                  <a:arcTo wR="266" hR="266" stAng="16200000" swAng="-5400000"/>
                  <a:lnTo>
                    <a:pt x="0" y="35358"/>
                  </a:lnTo>
                  <a:arcTo wR="266" hR="266" stAng="10800000" swAng="-5400000"/>
                  <a:lnTo>
                    <a:pt x="21334" y="35624"/>
                  </a:lnTo>
                  <a:arcTo wR="266" hR="266" stAng="5400000" swAng="-5400000"/>
                  <a:lnTo>
                    <a:pt x="21600" y="266"/>
                  </a:lnTo>
                  <a:arcTo wR="266" hR="266" stAng="0" swAng="-5400000"/>
                  <a:close/>
                </a:path>
              </a:pathLst>
            </a:custGeom>
            <a:solidFill>
              <a:srgbClr val="ffffff"/>
            </a:solidFill>
            <a:ln w="0">
              <a:noFill/>
            </a:ln>
            <a:effectLst>
              <a:outerShdw dist="25416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1960" name="图片占位符 8" descr=""/>
            <p:cNvPicPr/>
            <p:nvPr/>
          </p:nvPicPr>
          <p:blipFill>
            <a:blip r:embed="rId3"/>
            <a:stretch/>
          </p:blipFill>
          <p:spPr>
            <a:xfrm>
              <a:off x="4896000" y="2211840"/>
              <a:ext cx="2476440" cy="1874880"/>
            </a:xfrm>
            <a:prstGeom prst="rect">
              <a:avLst/>
            </a:prstGeom>
            <a:ln w="0">
              <a:noFill/>
            </a:ln>
          </p:spPr>
        </p:pic>
      </p:grpSp>
      <p:grpSp>
        <p:nvGrpSpPr>
          <p:cNvPr id="1961" name="组合 8"/>
          <p:cNvGrpSpPr/>
          <p:nvPr/>
        </p:nvGrpSpPr>
        <p:grpSpPr>
          <a:xfrm>
            <a:off x="8099280" y="1974960"/>
            <a:ext cx="2476800" cy="4084560"/>
            <a:chOff x="8099280" y="1974960"/>
            <a:chExt cx="2476800" cy="4084560"/>
          </a:xfrm>
        </p:grpSpPr>
        <p:sp>
          <p:nvSpPr>
            <p:cNvPr id="1962" name="Rounded Rectangle 4"/>
            <p:cNvSpPr/>
            <p:nvPr/>
          </p:nvSpPr>
          <p:spPr>
            <a:xfrm>
              <a:off x="8099280" y="1974960"/>
              <a:ext cx="2476800" cy="4084560"/>
            </a:xfrm>
            <a:custGeom>
              <a:avLst/>
              <a:gdLst>
                <a:gd name="textAreaLeft" fmla="*/ 8640 w 2476800"/>
                <a:gd name="textAreaRight" fmla="*/ 2468160 w 2476800"/>
                <a:gd name="textAreaTop" fmla="*/ 8640 h 4084560"/>
                <a:gd name="textAreaBottom" fmla="*/ 4075920 h 4084560"/>
              </a:gdLst>
              <a:ahLst/>
              <a:rect l="textAreaLeft" t="textAreaTop" r="textAreaRight" b="textAreaBottom"/>
              <a:pathLst>
                <a:path w="21600" h="35619">
                  <a:moveTo>
                    <a:pt x="266" y="0"/>
                  </a:moveTo>
                  <a:arcTo wR="266" hR="266" stAng="16200000" swAng="-5400000"/>
                  <a:lnTo>
                    <a:pt x="0" y="35353"/>
                  </a:lnTo>
                  <a:arcTo wR="266" hR="266" stAng="10800000" swAng="-5400000"/>
                  <a:lnTo>
                    <a:pt x="21334" y="35619"/>
                  </a:lnTo>
                  <a:arcTo wR="266" hR="266" stAng="5400000" swAng="-5400000"/>
                  <a:lnTo>
                    <a:pt x="21600" y="266"/>
                  </a:lnTo>
                  <a:arcTo wR="266" hR="266" stAng="0" swAng="-5400000"/>
                  <a:close/>
                </a:path>
              </a:pathLst>
            </a:custGeom>
            <a:solidFill>
              <a:srgbClr val="ffffff"/>
            </a:solidFill>
            <a:ln w="0">
              <a:noFill/>
            </a:ln>
            <a:effectLst>
              <a:outerShdw dist="254160" dir="5400000" blurRad="0" rotWithShape="0">
                <a:srgbClr val="000000">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1963" name="图片占位符 6" descr=""/>
            <p:cNvPicPr/>
            <p:nvPr/>
          </p:nvPicPr>
          <p:blipFill>
            <a:blip r:embed="rId4"/>
            <a:stretch/>
          </p:blipFill>
          <p:spPr>
            <a:xfrm>
              <a:off x="8099280" y="2211840"/>
              <a:ext cx="2476800" cy="1874880"/>
            </a:xfrm>
            <a:prstGeom prst="rect">
              <a:avLst/>
            </a:prstGeom>
            <a:ln w="0">
              <a:noFill/>
            </a:ln>
          </p:spPr>
        </p:pic>
      </p:grpSp>
      <p:sp>
        <p:nvSpPr>
          <p:cNvPr id="1964" name="Rounded Rectangle 11"/>
          <p:cNvSpPr/>
          <p:nvPr/>
        </p:nvSpPr>
        <p:spPr>
          <a:xfrm>
            <a:off x="1917720" y="4216320"/>
            <a:ext cx="750960" cy="324000"/>
          </a:xfrm>
          <a:prstGeom prst="roundRect">
            <a:avLst>
              <a:gd name="adj" fmla="val 50000"/>
            </a:avLst>
          </a:prstGeom>
          <a:solidFill>
            <a:srgbClr val="89c9c7"/>
          </a:solidFill>
          <a:ln w="0">
            <a:noFill/>
          </a:ln>
          <a:effectLst>
            <a:outerShdw dist="190440" dir="5400000" blurRad="0" rotWithShape="0">
              <a:srgbClr val="000000">
                <a:alpha val="2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造字工房尚雅（非商用）常规体"/>
                <a:ea typeface="造字工房尚雅（非商用）常规体"/>
              </a:rPr>
              <a:t>01</a:t>
            </a:r>
            <a:endParaRPr b="0" lang="en-US" sz="1200" spc="-1" strike="noStrike">
              <a:solidFill>
                <a:srgbClr val="262626"/>
              </a:solidFill>
              <a:latin typeface="Arial"/>
            </a:endParaRPr>
          </a:p>
        </p:txBody>
      </p:sp>
      <p:sp>
        <p:nvSpPr>
          <p:cNvPr id="1965" name="Rounded Rectangle 11"/>
          <p:cNvSpPr/>
          <p:nvPr/>
        </p:nvSpPr>
        <p:spPr>
          <a:xfrm>
            <a:off x="5113440" y="4249800"/>
            <a:ext cx="750960" cy="236520"/>
          </a:xfrm>
          <a:prstGeom prst="roundRect">
            <a:avLst>
              <a:gd name="adj" fmla="val 50000"/>
            </a:avLst>
          </a:prstGeom>
          <a:solidFill>
            <a:srgbClr val="89c9c7"/>
          </a:solidFill>
          <a:ln w="0">
            <a:noFill/>
          </a:ln>
          <a:effectLst>
            <a:outerShdw dist="190440" dir="5400000" blurRad="0" rotWithShape="0">
              <a:srgbClr val="000000">
                <a:alpha val="2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造字工房尚雅（非商用）常规体"/>
                <a:ea typeface="造字工房尚雅（非商用）常规体"/>
              </a:rPr>
              <a:t>02</a:t>
            </a:r>
            <a:endParaRPr b="0" lang="en-US" sz="1200" spc="-1" strike="noStrike">
              <a:solidFill>
                <a:srgbClr val="262626"/>
              </a:solidFill>
              <a:latin typeface="Arial"/>
            </a:endParaRPr>
          </a:p>
        </p:txBody>
      </p:sp>
      <p:sp>
        <p:nvSpPr>
          <p:cNvPr id="1966" name="Rounded Rectangle 11"/>
          <p:cNvSpPr/>
          <p:nvPr/>
        </p:nvSpPr>
        <p:spPr>
          <a:xfrm>
            <a:off x="8313840" y="4227480"/>
            <a:ext cx="750960" cy="247680"/>
          </a:xfrm>
          <a:prstGeom prst="roundRect">
            <a:avLst>
              <a:gd name="adj" fmla="val 50000"/>
            </a:avLst>
          </a:prstGeom>
          <a:solidFill>
            <a:srgbClr val="89c9c7"/>
          </a:solidFill>
          <a:ln w="0">
            <a:noFill/>
          </a:ln>
          <a:effectLst>
            <a:outerShdw dist="190440" dir="5400000" blurRad="0" rotWithShape="0">
              <a:srgbClr val="000000">
                <a:alpha val="2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造字工房尚雅（非商用）常规体"/>
                <a:ea typeface="造字工房尚雅（非商用）常规体"/>
              </a:rPr>
              <a:t>03</a:t>
            </a:r>
            <a:endParaRPr b="0" lang="en-US" sz="1200" spc="-1" strike="noStrike">
              <a:solidFill>
                <a:srgbClr val="262626"/>
              </a:solidFill>
              <a:latin typeface="Arial"/>
            </a:endParaRPr>
          </a:p>
        </p:txBody>
      </p:sp>
      <p:sp>
        <p:nvSpPr>
          <p:cNvPr id="1967" name="矩形 14"/>
          <p:cNvSpPr/>
          <p:nvPr/>
        </p:nvSpPr>
        <p:spPr>
          <a:xfrm>
            <a:off x="1957320" y="4529160"/>
            <a:ext cx="248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3131"/>
                </a:solidFill>
                <a:latin typeface="造字工房尚雅（非商用）常规体"/>
                <a:ea typeface="造字工房尚雅（非商用）常规体"/>
              </a:rPr>
              <a:t>扣除凭证管理</a:t>
            </a:r>
            <a:endParaRPr b="0" lang="en-US" sz="1800" spc="-1" strike="noStrike">
              <a:solidFill>
                <a:srgbClr val="262626"/>
              </a:solidFill>
              <a:latin typeface="Arial"/>
            </a:endParaRPr>
          </a:p>
        </p:txBody>
      </p:sp>
      <p:sp>
        <p:nvSpPr>
          <p:cNvPr id="1968" name="TextBox 53"/>
          <p:cNvSpPr/>
          <p:nvPr/>
        </p:nvSpPr>
        <p:spPr>
          <a:xfrm>
            <a:off x="1968480" y="4970520"/>
            <a:ext cx="19368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Arial"/>
              </a:rPr>
              <a:t>纳税人向收款单位索取发票、财政票据、支出凭证，收款单位不得拒绝提供。</a:t>
            </a:r>
            <a:br>
              <a:rPr sz="1400"/>
            </a:br>
            <a:endParaRPr b="0" lang="en-US" sz="1400" spc="-1" strike="noStrike">
              <a:solidFill>
                <a:srgbClr val="262626"/>
              </a:solidFill>
              <a:latin typeface="Arial"/>
            </a:endParaRPr>
          </a:p>
        </p:txBody>
      </p:sp>
      <p:sp>
        <p:nvSpPr>
          <p:cNvPr id="1969" name="矩形 16"/>
          <p:cNvSpPr/>
          <p:nvPr/>
        </p:nvSpPr>
        <p:spPr>
          <a:xfrm>
            <a:off x="5056200" y="4529160"/>
            <a:ext cx="220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13131"/>
                </a:solidFill>
                <a:latin typeface="造字工房尚雅（非商用）常规体"/>
                <a:ea typeface="造字工房尚雅（非商用）常规体"/>
              </a:rPr>
              <a:t>专项附加扣除相关信息提交和报送</a:t>
            </a:r>
            <a:endParaRPr b="0" lang="en-US" sz="1400" spc="-1" strike="noStrike">
              <a:solidFill>
                <a:srgbClr val="262626"/>
              </a:solidFill>
              <a:latin typeface="Arial"/>
            </a:endParaRPr>
          </a:p>
        </p:txBody>
      </p:sp>
      <p:sp>
        <p:nvSpPr>
          <p:cNvPr id="1970" name="矩形 18"/>
          <p:cNvSpPr/>
          <p:nvPr/>
        </p:nvSpPr>
        <p:spPr>
          <a:xfrm>
            <a:off x="8240760" y="4538520"/>
            <a:ext cx="51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3131"/>
                </a:solidFill>
                <a:latin typeface="造字工房尚雅（非商用）常规体"/>
                <a:ea typeface="造字工房尚雅（非商用）常规体"/>
              </a:rPr>
              <a:t>相关部门和单位的</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3131"/>
                </a:solidFill>
                <a:latin typeface="造字工房尚雅（非商用）常规体"/>
                <a:ea typeface="造字工房尚雅（非商用）常规体"/>
              </a:rPr>
              <a:t>法定义务和法律责任</a:t>
            </a:r>
            <a:endParaRPr b="0" lang="en-US" sz="1800" spc="-1" strike="noStrike">
              <a:solidFill>
                <a:srgbClr val="262626"/>
              </a:solidFill>
              <a:latin typeface="Arial"/>
            </a:endParaRPr>
          </a:p>
        </p:txBody>
      </p:sp>
      <p:sp>
        <p:nvSpPr>
          <p:cNvPr id="1971" name="TextBox 53"/>
          <p:cNvSpPr/>
          <p:nvPr/>
        </p:nvSpPr>
        <p:spPr>
          <a:xfrm>
            <a:off x="8251920" y="5170320"/>
            <a:ext cx="2286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Arial"/>
                <a:ea typeface="宋体"/>
              </a:rPr>
              <a:t>公安、卫生健康部门、民政部门、教育部门、人力资源社会保障部门、财政部门、住房城乡建设部、自然资源部门、人民银行、医疗保障部</a:t>
            </a:r>
            <a:endParaRPr b="0" lang="en-US" sz="1200" spc="-1" strike="noStrike">
              <a:solidFill>
                <a:srgbClr val="262626"/>
              </a:solidFill>
              <a:latin typeface="Arial"/>
            </a:endParaRPr>
          </a:p>
        </p:txBody>
      </p:sp>
      <p:sp>
        <p:nvSpPr>
          <p:cNvPr id="1972" name="矩形 20"/>
          <p:cNvSpPr/>
          <p:nvPr/>
        </p:nvSpPr>
        <p:spPr>
          <a:xfrm>
            <a:off x="5121360" y="4991040"/>
            <a:ext cx="221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Arial"/>
                <a:ea typeface="宋体"/>
              </a:rPr>
              <a:t>纳税人首次享受专项附加扣除，应当将相关信息提交扣缴义务人或者税务机关，扣缴义务人应尽快将相关信息报送税务机关，纳税人对所提交信息的真实性负责</a:t>
            </a:r>
            <a:endParaRPr b="0" lang="en-US" sz="1200" spc="-1" strike="noStrike">
              <a:solidFill>
                <a:srgbClr val="262626"/>
              </a:solidFill>
              <a:latin typeface="Arial"/>
            </a:endParaRPr>
          </a:p>
        </p:txBody>
      </p:sp>
    </p:spTree>
  </p:cSld>
  <p:transition spd="slow">
    <p:random/>
  </p:transition>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withEffect" fill="hold" presetClass="entr" presetID="2" presetSubtype="8">
                                  <p:stCondLst>
                                    <p:cond delay="0"/>
                                  </p:stCondLst>
                                  <p:childTnLst>
                                    <p:set>
                                      <p:cBhvr>
                                        <p:cTn id="616" dur="1" fill="hold">
                                          <p:stCondLst>
                                            <p:cond delay="0"/>
                                          </p:stCondLst>
                                        </p:cTn>
                                        <p:tgtEl>
                                          <p:spTgt spid="1954"/>
                                        </p:tgtEl>
                                        <p:attrNameLst>
                                          <p:attrName>style.visibility</p:attrName>
                                        </p:attrNameLst>
                                      </p:cBhvr>
                                      <p:to>
                                        <p:strVal val="visible"/>
                                      </p:to>
                                    </p:set>
                                    <p:anim calcmode="lin" valueType="num">
                                      <p:cBhvr additive="base">
                                        <p:cTn id="617" dur="500" fill="hold"/>
                                        <p:tgtEl>
                                          <p:spTgt spid="1954"/>
                                        </p:tgtEl>
                                        <p:attrNameLst>
                                          <p:attrName>ppt_x</p:attrName>
                                        </p:attrNameLst>
                                      </p:cBhvr>
                                      <p:tavLst>
                                        <p:tav tm="0">
                                          <p:val>
                                            <p:strVal val="0-#ppt_w/2"/>
                                          </p:val>
                                        </p:tav>
                                        <p:tav tm="100000">
                                          <p:val>
                                            <p:strVal val="#ppt_x"/>
                                          </p:val>
                                        </p:tav>
                                      </p:tavLst>
                                    </p:anim>
                                    <p:anim calcmode="lin" valueType="num">
                                      <p:cBhvr additive="base">
                                        <p:cTn id="618" dur="500" fill="hold"/>
                                        <p:tgtEl>
                                          <p:spTgt spid="1954"/>
                                        </p:tgtEl>
                                        <p:attrNameLst>
                                          <p:attrName>ppt_y</p:attrName>
                                        </p:attrNameLst>
                                      </p:cBhvr>
                                      <p:tavLst>
                                        <p:tav tm="0">
                                          <p:val>
                                            <p:strVal val="#ppt_y"/>
                                          </p:val>
                                        </p:tav>
                                        <p:tav tm="100000">
                                          <p:val>
                                            <p:strVal val="#ppt_y"/>
                                          </p:val>
                                        </p:tav>
                                      </p:tavLst>
                                    </p:anim>
                                  </p:childTnLst>
                                </p:cTn>
                              </p:par>
                            </p:childTnLst>
                          </p:cTn>
                        </p:par>
                        <p:par>
                          <p:cTn id="619" nodeType="afterEffect" fill="hold">
                            <p:stCondLst>
                              <p:cond delay="500"/>
                            </p:stCondLst>
                            <p:childTnLst>
                              <p:par>
                                <p:cTn id="620" nodeType="afterEffect" fill="hold" presetClass="entr" presetID="53" presetSubtype="16">
                                  <p:stCondLst>
                                    <p:cond delay="0"/>
                                  </p:stCondLst>
                                  <p:childTnLst>
                                    <p:set>
                                      <p:cBhvr>
                                        <p:cTn id="621" dur="1" fill="hold">
                                          <p:stCondLst>
                                            <p:cond delay="0"/>
                                          </p:stCondLst>
                                        </p:cTn>
                                        <p:tgtEl>
                                          <p:spTgt spid="1955"/>
                                        </p:tgtEl>
                                        <p:attrNameLst>
                                          <p:attrName>style.visibility</p:attrName>
                                        </p:attrNameLst>
                                      </p:cBhvr>
                                      <p:to>
                                        <p:strVal val="visible"/>
                                      </p:to>
                                    </p:set>
                                    <p:anim calcmode="lin" valueType="num">
                                      <p:cBhvr additive="repl">
                                        <p:cTn id="622" dur="500" fill="hold"/>
                                        <p:tgtEl>
                                          <p:spTgt spid="1955"/>
                                        </p:tgtEl>
                                        <p:attrNameLst>
                                          <p:attrName>ppt_w</p:attrName>
                                        </p:attrNameLst>
                                      </p:cBhvr>
                                      <p:tavLst>
                                        <p:tav tm="0">
                                          <p:val>
                                            <p:fltVal val="0"/>
                                          </p:val>
                                        </p:tav>
                                        <p:tav tm="100000">
                                          <p:val>
                                            <p:strVal val="#ppt_w"/>
                                          </p:val>
                                        </p:tav>
                                      </p:tavLst>
                                    </p:anim>
                                    <p:anim calcmode="lin" valueType="num">
                                      <p:cBhvr additive="repl">
                                        <p:cTn id="623" dur="500" fill="hold"/>
                                        <p:tgtEl>
                                          <p:spTgt spid="1955"/>
                                        </p:tgtEl>
                                        <p:attrNameLst>
                                          <p:attrName>ppt_h</p:attrName>
                                        </p:attrNameLst>
                                      </p:cBhvr>
                                      <p:tavLst>
                                        <p:tav tm="0">
                                          <p:val>
                                            <p:fltVal val="0"/>
                                          </p:val>
                                        </p:tav>
                                        <p:tav tm="100000">
                                          <p:val>
                                            <p:strVal val="#ppt_h"/>
                                          </p:val>
                                        </p:tav>
                                      </p:tavLst>
                                    </p:anim>
                                    <p:animEffect filter="fade" transition="in">
                                      <p:cBhvr additive="repl">
                                        <p:cTn id="624" dur="500"/>
                                        <p:tgtEl>
                                          <p:spTgt spid="1955"/>
                                        </p:tgtEl>
                                      </p:cBhvr>
                                    </p:animEffect>
                                  </p:childTnLst>
                                </p:cTn>
                              </p:par>
                              <p:par>
                                <p:cTn id="625" nodeType="withEffect" fill="hold" presetClass="entr" presetID="53" presetSubtype="16">
                                  <p:stCondLst>
                                    <p:cond delay="0"/>
                                  </p:stCondLst>
                                  <p:childTnLst>
                                    <p:set>
                                      <p:cBhvr>
                                        <p:cTn id="626" dur="1" fill="hold">
                                          <p:stCondLst>
                                            <p:cond delay="0"/>
                                          </p:stCondLst>
                                        </p:cTn>
                                        <p:tgtEl>
                                          <p:spTgt spid="1958"/>
                                        </p:tgtEl>
                                        <p:attrNameLst>
                                          <p:attrName>style.visibility</p:attrName>
                                        </p:attrNameLst>
                                      </p:cBhvr>
                                      <p:to>
                                        <p:strVal val="visible"/>
                                      </p:to>
                                    </p:set>
                                    <p:anim calcmode="lin" valueType="num">
                                      <p:cBhvr additive="repl">
                                        <p:cTn id="627" dur="500" fill="hold"/>
                                        <p:tgtEl>
                                          <p:spTgt spid="1958"/>
                                        </p:tgtEl>
                                        <p:attrNameLst>
                                          <p:attrName>ppt_w</p:attrName>
                                        </p:attrNameLst>
                                      </p:cBhvr>
                                      <p:tavLst>
                                        <p:tav tm="0">
                                          <p:val>
                                            <p:fltVal val="0"/>
                                          </p:val>
                                        </p:tav>
                                        <p:tav tm="100000">
                                          <p:val>
                                            <p:strVal val="#ppt_w"/>
                                          </p:val>
                                        </p:tav>
                                      </p:tavLst>
                                    </p:anim>
                                    <p:anim calcmode="lin" valueType="num">
                                      <p:cBhvr additive="repl">
                                        <p:cTn id="628" dur="500" fill="hold"/>
                                        <p:tgtEl>
                                          <p:spTgt spid="1958"/>
                                        </p:tgtEl>
                                        <p:attrNameLst>
                                          <p:attrName>ppt_h</p:attrName>
                                        </p:attrNameLst>
                                      </p:cBhvr>
                                      <p:tavLst>
                                        <p:tav tm="0">
                                          <p:val>
                                            <p:fltVal val="0"/>
                                          </p:val>
                                        </p:tav>
                                        <p:tav tm="100000">
                                          <p:val>
                                            <p:strVal val="#ppt_h"/>
                                          </p:val>
                                        </p:tav>
                                      </p:tavLst>
                                    </p:anim>
                                    <p:animEffect filter="fade" transition="in">
                                      <p:cBhvr additive="repl">
                                        <p:cTn id="629" dur="500"/>
                                        <p:tgtEl>
                                          <p:spTgt spid="1958"/>
                                        </p:tgtEl>
                                      </p:cBhvr>
                                    </p:animEffect>
                                  </p:childTnLst>
                                </p:cTn>
                              </p:par>
                              <p:par>
                                <p:cTn id="630" nodeType="withEffect" fill="hold" presetClass="entr" presetID="53" presetSubtype="16">
                                  <p:stCondLst>
                                    <p:cond delay="0"/>
                                  </p:stCondLst>
                                  <p:childTnLst>
                                    <p:set>
                                      <p:cBhvr>
                                        <p:cTn id="631" dur="1" fill="hold">
                                          <p:stCondLst>
                                            <p:cond delay="0"/>
                                          </p:stCondLst>
                                        </p:cTn>
                                        <p:tgtEl>
                                          <p:spTgt spid="1961"/>
                                        </p:tgtEl>
                                        <p:attrNameLst>
                                          <p:attrName>style.visibility</p:attrName>
                                        </p:attrNameLst>
                                      </p:cBhvr>
                                      <p:to>
                                        <p:strVal val="visible"/>
                                      </p:to>
                                    </p:set>
                                    <p:anim calcmode="lin" valueType="num">
                                      <p:cBhvr additive="repl">
                                        <p:cTn id="632" dur="500" fill="hold"/>
                                        <p:tgtEl>
                                          <p:spTgt spid="1961"/>
                                        </p:tgtEl>
                                        <p:attrNameLst>
                                          <p:attrName>ppt_w</p:attrName>
                                        </p:attrNameLst>
                                      </p:cBhvr>
                                      <p:tavLst>
                                        <p:tav tm="0">
                                          <p:val>
                                            <p:fltVal val="0"/>
                                          </p:val>
                                        </p:tav>
                                        <p:tav tm="100000">
                                          <p:val>
                                            <p:strVal val="#ppt_w"/>
                                          </p:val>
                                        </p:tav>
                                      </p:tavLst>
                                    </p:anim>
                                    <p:anim calcmode="lin" valueType="num">
                                      <p:cBhvr additive="repl">
                                        <p:cTn id="633" dur="500" fill="hold"/>
                                        <p:tgtEl>
                                          <p:spTgt spid="1961"/>
                                        </p:tgtEl>
                                        <p:attrNameLst>
                                          <p:attrName>ppt_h</p:attrName>
                                        </p:attrNameLst>
                                      </p:cBhvr>
                                      <p:tavLst>
                                        <p:tav tm="0">
                                          <p:val>
                                            <p:fltVal val="0"/>
                                          </p:val>
                                        </p:tav>
                                        <p:tav tm="100000">
                                          <p:val>
                                            <p:strVal val="#ppt_h"/>
                                          </p:val>
                                        </p:tav>
                                      </p:tavLst>
                                    </p:anim>
                                    <p:animEffect filter="fade" transition="in">
                                      <p:cBhvr additive="repl">
                                        <p:cTn id="634" dur="500"/>
                                        <p:tgtEl>
                                          <p:spTgt spid="1961"/>
                                        </p:tgtEl>
                                      </p:cBhvr>
                                    </p:animEffect>
                                  </p:childTnLst>
                                </p:cTn>
                              </p:par>
                            </p:childTnLst>
                          </p:cTn>
                        </p:par>
                        <p:par>
                          <p:cTn id="635" nodeType="afterEffect" fill="hold">
                            <p:stCondLst>
                              <p:cond delay="1000"/>
                            </p:stCondLst>
                            <p:childTnLst>
                              <p:par>
                                <p:cTn id="636" nodeType="afterEffect" fill="hold" presetClass="entr" presetID="14" presetSubtype="10">
                                  <p:stCondLst>
                                    <p:cond delay="0"/>
                                  </p:stCondLst>
                                  <p:childTnLst>
                                    <p:set>
                                      <p:cBhvr>
                                        <p:cTn id="637" dur="1" fill="hold">
                                          <p:stCondLst>
                                            <p:cond delay="0"/>
                                          </p:stCondLst>
                                        </p:cTn>
                                        <p:tgtEl>
                                          <p:spTgt spid="1964"/>
                                        </p:tgtEl>
                                        <p:attrNameLst>
                                          <p:attrName>style.visibility</p:attrName>
                                        </p:attrNameLst>
                                      </p:cBhvr>
                                      <p:to>
                                        <p:strVal val="visible"/>
                                      </p:to>
                                    </p:set>
                                    <p:animEffect filter="randombar(horizontal)" transition="in">
                                      <p:cBhvr additive="repl">
                                        <p:cTn id="638" dur="500"/>
                                        <p:tgtEl>
                                          <p:spTgt spid="1964"/>
                                        </p:tgtEl>
                                      </p:cBhvr>
                                    </p:animEffect>
                                  </p:childTnLst>
                                </p:cTn>
                              </p:par>
                            </p:childTnLst>
                          </p:cTn>
                        </p:par>
                        <p:par>
                          <p:cTn id="639" nodeType="afterEffect" fill="hold">
                            <p:stCondLst>
                              <p:cond delay="1500"/>
                            </p:stCondLst>
                            <p:childTnLst>
                              <p:par>
                                <p:cTn id="640" nodeType="afterEffect" fill="hold" presetClass="entr" presetID="14" presetSubtype="10">
                                  <p:stCondLst>
                                    <p:cond delay="0"/>
                                  </p:stCondLst>
                                  <p:childTnLst>
                                    <p:set>
                                      <p:cBhvr>
                                        <p:cTn id="641" dur="1" fill="hold">
                                          <p:stCondLst>
                                            <p:cond delay="0"/>
                                          </p:stCondLst>
                                        </p:cTn>
                                        <p:tgtEl>
                                          <p:spTgt spid="1965"/>
                                        </p:tgtEl>
                                        <p:attrNameLst>
                                          <p:attrName>style.visibility</p:attrName>
                                        </p:attrNameLst>
                                      </p:cBhvr>
                                      <p:to>
                                        <p:strVal val="visible"/>
                                      </p:to>
                                    </p:set>
                                    <p:animEffect filter="randombar(horizontal)" transition="in">
                                      <p:cBhvr additive="repl">
                                        <p:cTn id="642" dur="500"/>
                                        <p:tgtEl>
                                          <p:spTgt spid="1965"/>
                                        </p:tgtEl>
                                      </p:cBhvr>
                                    </p:animEffect>
                                  </p:childTnLst>
                                </p:cTn>
                              </p:par>
                            </p:childTnLst>
                          </p:cTn>
                        </p:par>
                        <p:par>
                          <p:cTn id="643" nodeType="afterEffect" fill="hold">
                            <p:stCondLst>
                              <p:cond delay="2000"/>
                            </p:stCondLst>
                            <p:childTnLst>
                              <p:par>
                                <p:cTn id="644" nodeType="afterEffect" fill="hold" presetClass="entr" presetID="14" presetSubtype="10">
                                  <p:stCondLst>
                                    <p:cond delay="0"/>
                                  </p:stCondLst>
                                  <p:childTnLst>
                                    <p:set>
                                      <p:cBhvr>
                                        <p:cTn id="645" dur="1" fill="hold">
                                          <p:stCondLst>
                                            <p:cond delay="0"/>
                                          </p:stCondLst>
                                        </p:cTn>
                                        <p:tgtEl>
                                          <p:spTgt spid="1966"/>
                                        </p:tgtEl>
                                        <p:attrNameLst>
                                          <p:attrName>style.visibility</p:attrName>
                                        </p:attrNameLst>
                                      </p:cBhvr>
                                      <p:to>
                                        <p:strVal val="visible"/>
                                      </p:to>
                                    </p:set>
                                    <p:animEffect filter="randombar(horizontal)" transition="in">
                                      <p:cBhvr additive="repl">
                                        <p:cTn id="646" dur="500"/>
                                        <p:tgtEl>
                                          <p:spTgt spid="1966"/>
                                        </p:tgtEl>
                                      </p:cBhvr>
                                    </p:animEffect>
                                  </p:childTnLst>
                                </p:cTn>
                              </p:par>
                            </p:childTnLst>
                          </p:cTn>
                        </p:par>
                        <p:par>
                          <p:cTn id="647" nodeType="afterEffect" fill="hold">
                            <p:stCondLst>
                              <p:cond delay="2500"/>
                            </p:stCondLst>
                            <p:childTnLst>
                              <p:par>
                                <p:cTn id="648" nodeType="afterEffect" fill="hold" presetClass="entr" presetID="2" presetSubtype="2">
                                  <p:stCondLst>
                                    <p:cond delay="0"/>
                                  </p:stCondLst>
                                  <p:iterate type="lt">
                                    <p:tmAbs val="50"/>
                                  </p:iterate>
                                  <p:childTnLst>
                                    <p:set>
                                      <p:cBhvr>
                                        <p:cTn id="649" dur="1" fill="hold">
                                          <p:stCondLst>
                                            <p:cond delay="0"/>
                                          </p:stCondLst>
                                        </p:cTn>
                                        <p:tgtEl>
                                          <p:spTgt spid="1967"/>
                                        </p:tgtEl>
                                        <p:attrNameLst>
                                          <p:attrName>style.visibility</p:attrName>
                                        </p:attrNameLst>
                                      </p:cBhvr>
                                      <p:to>
                                        <p:strVal val="visible"/>
                                      </p:to>
                                    </p:set>
                                    <p:anim calcmode="lin" valueType="num">
                                      <p:cBhvr additive="base">
                                        <p:cTn id="650" dur="500" fill="hold"/>
                                        <p:tgtEl>
                                          <p:spTgt spid="1967"/>
                                        </p:tgtEl>
                                        <p:attrNameLst>
                                          <p:attrName>ppt_x</p:attrName>
                                        </p:attrNameLst>
                                      </p:cBhvr>
                                      <p:tavLst>
                                        <p:tav tm="0">
                                          <p:val>
                                            <p:strVal val="1+#ppt_w/2"/>
                                          </p:val>
                                        </p:tav>
                                        <p:tav tm="100000">
                                          <p:val>
                                            <p:strVal val="#ppt_x"/>
                                          </p:val>
                                        </p:tav>
                                      </p:tavLst>
                                    </p:anim>
                                    <p:anim calcmode="lin" valueType="num">
                                      <p:cBhvr additive="base">
                                        <p:cTn id="651" dur="500" fill="hold"/>
                                        <p:tgtEl>
                                          <p:spTgt spid="1967"/>
                                        </p:tgtEl>
                                        <p:attrNameLst>
                                          <p:attrName>ppt_y</p:attrName>
                                        </p:attrNameLst>
                                      </p:cBhvr>
                                      <p:tavLst>
                                        <p:tav tm="0">
                                          <p:val>
                                            <p:strVal val="#ppt_y"/>
                                          </p:val>
                                        </p:tav>
                                        <p:tav tm="100000">
                                          <p:val>
                                            <p:strVal val="#ppt_y"/>
                                          </p:val>
                                        </p:tav>
                                      </p:tavLst>
                                    </p:anim>
                                  </p:childTnLst>
                                </p:cTn>
                              </p:par>
                              <p:par>
                                <p:cTn id="652" nodeType="withEffect" fill="hold" presetClass="entr" presetID="2" presetSubtype="2">
                                  <p:stCondLst>
                                    <p:cond delay="600"/>
                                  </p:stCondLst>
                                  <p:childTnLst>
                                    <p:set>
                                      <p:cBhvr>
                                        <p:cTn id="653" dur="1" fill="hold">
                                          <p:stCondLst>
                                            <p:cond delay="0"/>
                                          </p:stCondLst>
                                        </p:cTn>
                                        <p:tgtEl>
                                          <p:spTgt spid="1968"/>
                                        </p:tgtEl>
                                        <p:attrNameLst>
                                          <p:attrName>style.visibility</p:attrName>
                                        </p:attrNameLst>
                                      </p:cBhvr>
                                      <p:to>
                                        <p:strVal val="visible"/>
                                      </p:to>
                                    </p:set>
                                    <p:anim calcmode="lin" valueType="num">
                                      <p:cBhvr additive="base">
                                        <p:cTn id="654" dur="1400" fill="hold"/>
                                        <p:tgtEl>
                                          <p:spTgt spid="1968"/>
                                        </p:tgtEl>
                                        <p:attrNameLst>
                                          <p:attrName>ppt_x</p:attrName>
                                        </p:attrNameLst>
                                      </p:cBhvr>
                                      <p:tavLst>
                                        <p:tav tm="0">
                                          <p:val>
                                            <p:strVal val="1+#ppt_w/2"/>
                                          </p:val>
                                        </p:tav>
                                        <p:tav tm="100000">
                                          <p:val>
                                            <p:strVal val="#ppt_x"/>
                                          </p:val>
                                        </p:tav>
                                      </p:tavLst>
                                    </p:anim>
                                    <p:anim calcmode="lin" valueType="num">
                                      <p:cBhvr additive="base">
                                        <p:cTn id="655" dur="1400" fill="hold"/>
                                        <p:tgtEl>
                                          <p:spTgt spid="1968"/>
                                        </p:tgtEl>
                                        <p:attrNameLst>
                                          <p:attrName>ppt_y</p:attrName>
                                        </p:attrNameLst>
                                      </p:cBhvr>
                                      <p:tavLst>
                                        <p:tav tm="0">
                                          <p:val>
                                            <p:strVal val="#ppt_y"/>
                                          </p:val>
                                        </p:tav>
                                        <p:tav tm="100000">
                                          <p:val>
                                            <p:strVal val="#ppt_y"/>
                                          </p:val>
                                        </p:tav>
                                      </p:tavLst>
                                    </p:anim>
                                  </p:childTnLst>
                                </p:cTn>
                              </p:par>
                              <p:par>
                                <p:cTn id="656" nodeType="withEffect" fill="hold" presetClass="entr" presetID="2" presetSubtype="2">
                                  <p:stCondLst>
                                    <p:cond delay="0"/>
                                  </p:stCondLst>
                                  <p:iterate type="lt">
                                    <p:tmAbs val="50"/>
                                  </p:iterate>
                                  <p:childTnLst>
                                    <p:set>
                                      <p:cBhvr>
                                        <p:cTn id="657" dur="1" fill="hold">
                                          <p:stCondLst>
                                            <p:cond delay="0"/>
                                          </p:stCondLst>
                                        </p:cTn>
                                        <p:tgtEl>
                                          <p:spTgt spid="1969"/>
                                        </p:tgtEl>
                                        <p:attrNameLst>
                                          <p:attrName>style.visibility</p:attrName>
                                        </p:attrNameLst>
                                      </p:cBhvr>
                                      <p:to>
                                        <p:strVal val="visible"/>
                                      </p:to>
                                    </p:set>
                                    <p:anim calcmode="lin" valueType="num">
                                      <p:cBhvr additive="base">
                                        <p:cTn id="658" dur="500" fill="hold"/>
                                        <p:tgtEl>
                                          <p:spTgt spid="1969"/>
                                        </p:tgtEl>
                                        <p:attrNameLst>
                                          <p:attrName>ppt_x</p:attrName>
                                        </p:attrNameLst>
                                      </p:cBhvr>
                                      <p:tavLst>
                                        <p:tav tm="0">
                                          <p:val>
                                            <p:strVal val="1+#ppt_w/2"/>
                                          </p:val>
                                        </p:tav>
                                        <p:tav tm="100000">
                                          <p:val>
                                            <p:strVal val="#ppt_x"/>
                                          </p:val>
                                        </p:tav>
                                      </p:tavLst>
                                    </p:anim>
                                    <p:anim calcmode="lin" valueType="num">
                                      <p:cBhvr additive="base">
                                        <p:cTn id="659" dur="500" fill="hold"/>
                                        <p:tgtEl>
                                          <p:spTgt spid="1969"/>
                                        </p:tgtEl>
                                        <p:attrNameLst>
                                          <p:attrName>ppt_y</p:attrName>
                                        </p:attrNameLst>
                                      </p:cBhvr>
                                      <p:tavLst>
                                        <p:tav tm="0">
                                          <p:val>
                                            <p:strVal val="#ppt_y"/>
                                          </p:val>
                                        </p:tav>
                                        <p:tav tm="100000">
                                          <p:val>
                                            <p:strVal val="#ppt_y"/>
                                          </p:val>
                                        </p:tav>
                                      </p:tavLst>
                                    </p:anim>
                                  </p:childTnLst>
                                </p:cTn>
                              </p:par>
                              <p:par>
                                <p:cTn id="660" nodeType="withEffect" fill="hold" presetClass="entr" presetID="2" presetSubtype="2">
                                  <p:stCondLst>
                                    <p:cond delay="0"/>
                                  </p:stCondLst>
                                  <p:iterate type="lt">
                                    <p:tmAbs val="50"/>
                                  </p:iterate>
                                  <p:childTnLst>
                                    <p:set>
                                      <p:cBhvr>
                                        <p:cTn id="661" dur="1" fill="hold">
                                          <p:stCondLst>
                                            <p:cond delay="0"/>
                                          </p:stCondLst>
                                        </p:cTn>
                                        <p:tgtEl>
                                          <p:spTgt spid="1970"/>
                                        </p:tgtEl>
                                        <p:attrNameLst>
                                          <p:attrName>style.visibility</p:attrName>
                                        </p:attrNameLst>
                                      </p:cBhvr>
                                      <p:to>
                                        <p:strVal val="visible"/>
                                      </p:to>
                                    </p:set>
                                    <p:anim calcmode="lin" valueType="num">
                                      <p:cBhvr additive="base">
                                        <p:cTn id="662" dur="500" fill="hold"/>
                                        <p:tgtEl>
                                          <p:spTgt spid="1970"/>
                                        </p:tgtEl>
                                        <p:attrNameLst>
                                          <p:attrName>ppt_x</p:attrName>
                                        </p:attrNameLst>
                                      </p:cBhvr>
                                      <p:tavLst>
                                        <p:tav tm="0">
                                          <p:val>
                                            <p:strVal val="1+#ppt_w/2"/>
                                          </p:val>
                                        </p:tav>
                                        <p:tav tm="100000">
                                          <p:val>
                                            <p:strVal val="#ppt_x"/>
                                          </p:val>
                                        </p:tav>
                                      </p:tavLst>
                                    </p:anim>
                                    <p:anim calcmode="lin" valueType="num">
                                      <p:cBhvr additive="base">
                                        <p:cTn id="663" dur="500" fill="hold"/>
                                        <p:tgtEl>
                                          <p:spTgt spid="1970"/>
                                        </p:tgtEl>
                                        <p:attrNameLst>
                                          <p:attrName>ppt_y</p:attrName>
                                        </p:attrNameLst>
                                      </p:cBhvr>
                                      <p:tavLst>
                                        <p:tav tm="0">
                                          <p:val>
                                            <p:strVal val="#ppt_y"/>
                                          </p:val>
                                        </p:tav>
                                        <p:tav tm="100000">
                                          <p:val>
                                            <p:strVal val="#ppt_y"/>
                                          </p:val>
                                        </p:tav>
                                      </p:tavLst>
                                    </p:anim>
                                  </p:childTnLst>
                                </p:cTn>
                              </p:par>
                              <p:par>
                                <p:cTn id="664" nodeType="withEffect" fill="hold" presetClass="entr" presetID="2" presetSubtype="2">
                                  <p:stCondLst>
                                    <p:cond delay="600"/>
                                  </p:stCondLst>
                                  <p:childTnLst>
                                    <p:set>
                                      <p:cBhvr>
                                        <p:cTn id="665" dur="1" fill="hold">
                                          <p:stCondLst>
                                            <p:cond delay="0"/>
                                          </p:stCondLst>
                                        </p:cTn>
                                        <p:tgtEl>
                                          <p:spTgt spid="1971"/>
                                        </p:tgtEl>
                                        <p:attrNameLst>
                                          <p:attrName>style.visibility</p:attrName>
                                        </p:attrNameLst>
                                      </p:cBhvr>
                                      <p:to>
                                        <p:strVal val="visible"/>
                                      </p:to>
                                    </p:set>
                                    <p:anim calcmode="lin" valueType="num">
                                      <p:cBhvr additive="base">
                                        <p:cTn id="666" dur="1400" fill="hold"/>
                                        <p:tgtEl>
                                          <p:spTgt spid="1971"/>
                                        </p:tgtEl>
                                        <p:attrNameLst>
                                          <p:attrName>ppt_x</p:attrName>
                                        </p:attrNameLst>
                                      </p:cBhvr>
                                      <p:tavLst>
                                        <p:tav tm="0">
                                          <p:val>
                                            <p:strVal val="1+#ppt_w/2"/>
                                          </p:val>
                                        </p:tav>
                                        <p:tav tm="100000">
                                          <p:val>
                                            <p:strVal val="#ppt_x"/>
                                          </p:val>
                                        </p:tav>
                                      </p:tavLst>
                                    </p:anim>
                                    <p:anim calcmode="lin" valueType="num">
                                      <p:cBhvr additive="base">
                                        <p:cTn id="667" dur="1400" fill="hold"/>
                                        <p:tgtEl>
                                          <p:spTgt spid="19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3" name="图片 16" descr=""/>
          <p:cNvPicPr/>
          <p:nvPr/>
        </p:nvPicPr>
        <p:blipFill>
          <a:blip r:embed="rId1"/>
          <a:stretch/>
        </p:blipFill>
        <p:spPr>
          <a:xfrm>
            <a:off x="4951440" y="316080"/>
            <a:ext cx="1738440" cy="1325520"/>
          </a:xfrm>
          <a:prstGeom prst="rect">
            <a:avLst/>
          </a:prstGeom>
          <a:ln w="0">
            <a:noFill/>
          </a:ln>
        </p:spPr>
      </p:pic>
      <p:pic>
        <p:nvPicPr>
          <p:cNvPr id="1974" name="矩形 17" descr=""/>
          <p:cNvPicPr/>
          <p:nvPr/>
        </p:nvPicPr>
        <p:blipFill>
          <a:blip r:embed="rId2"/>
          <a:stretch/>
        </p:blipFill>
        <p:spPr>
          <a:xfrm>
            <a:off x="438120" y="1414440"/>
            <a:ext cx="11376000" cy="5151600"/>
          </a:xfrm>
          <a:prstGeom prst="rect">
            <a:avLst/>
          </a:prstGeom>
          <a:ln w="0">
            <a:noFill/>
          </a:ln>
        </p:spPr>
      </p:pic>
    </p:spTree>
  </p:cSld>
  <p:transition spd="slow">
    <p:random/>
  </p:transition>
  <p:timing>
    <p:tnLst>
      <p:par>
        <p:cTn id="668" dur="indefinite" restart="never" nodeType="tmRoot">
          <p:childTnLst>
            <p:seq>
              <p:cTn id="669" dur="indefinite" nodeType="mainSeq">
                <p:childTnLst>
                  <p:par>
                    <p:cTn id="670" nodeType="clickEffect" fill="hold">
                      <p:stCondLst>
                        <p:cond delay="0"/>
                      </p:stCondLst>
                      <p:childTnLst>
                        <p:par>
                          <p:cTn id="671" nodeType="withEffect" fill="hold">
                            <p:stCondLst>
                              <p:cond delay="0"/>
                            </p:stCondLst>
                            <p:childTnLst>
                              <p:par>
                                <p:cTn id="672" nodeType="withEffect" fill="hold" presetClass="entr" presetID="2" presetSubtype="8">
                                  <p:stCondLst>
                                    <p:cond delay="0"/>
                                  </p:stCondLst>
                                  <p:childTnLst>
                                    <p:set>
                                      <p:cBhvr>
                                        <p:cTn id="673" dur="1" fill="hold">
                                          <p:stCondLst>
                                            <p:cond delay="0"/>
                                          </p:stCondLst>
                                        </p:cTn>
                                        <p:tgtEl>
                                          <p:spTgt spid="1973"/>
                                        </p:tgtEl>
                                        <p:attrNameLst>
                                          <p:attrName>style.visibility</p:attrName>
                                        </p:attrNameLst>
                                      </p:cBhvr>
                                      <p:to>
                                        <p:strVal val="visible"/>
                                      </p:to>
                                    </p:set>
                                    <p:anim calcmode="lin" valueType="num">
                                      <p:cBhvr additive="base">
                                        <p:cTn id="674" dur="500" fill="hold"/>
                                        <p:tgtEl>
                                          <p:spTgt spid="1973"/>
                                        </p:tgtEl>
                                        <p:attrNameLst>
                                          <p:attrName>ppt_x</p:attrName>
                                        </p:attrNameLst>
                                      </p:cBhvr>
                                      <p:tavLst>
                                        <p:tav tm="0">
                                          <p:val>
                                            <p:strVal val="0-#ppt_w/2"/>
                                          </p:val>
                                        </p:tav>
                                        <p:tav tm="100000">
                                          <p:val>
                                            <p:strVal val="#ppt_x"/>
                                          </p:val>
                                        </p:tav>
                                      </p:tavLst>
                                    </p:anim>
                                    <p:anim calcmode="lin" valueType="num">
                                      <p:cBhvr additive="base">
                                        <p:cTn id="675" dur="500" fill="hold"/>
                                        <p:tgtEl>
                                          <p:spTgt spid="19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5" name="图形 1"/>
          <p:cNvGrpSpPr/>
          <p:nvPr/>
        </p:nvGrpSpPr>
        <p:grpSpPr>
          <a:xfrm>
            <a:off x="687240" y="1595520"/>
            <a:ext cx="3819600" cy="3665520"/>
            <a:chOff x="687240" y="1595520"/>
            <a:chExt cx="3819600" cy="3665520"/>
          </a:xfrm>
        </p:grpSpPr>
        <p:sp>
          <p:nvSpPr>
            <p:cNvPr id="1976" name="任意多边形: 形状 3"/>
            <p:cNvSpPr/>
            <p:nvPr/>
          </p:nvSpPr>
          <p:spPr>
            <a:xfrm>
              <a:off x="3142080" y="4179960"/>
              <a:ext cx="1217160" cy="869400"/>
            </a:xfrm>
            <a:custGeom>
              <a:avLst/>
              <a:gdLst>
                <a:gd name="textAreaLeft" fmla="*/ 0 w 1217160"/>
                <a:gd name="textAreaRight" fmla="*/ 1217520 w 1217160"/>
                <a:gd name="textAreaTop" fmla="*/ 0 h 869400"/>
                <a:gd name="textAreaBottom" fmla="*/ 869760 h 869400"/>
              </a:gdLst>
              <a:ahLst/>
              <a:rect l="textAreaLeft" t="textAreaTop" r="textAreaRight" b="textAreaBottom"/>
              <a:pathLst>
                <a:path w="1019175" h="619125">
                  <a:moveTo>
                    <a:pt x="1012984" y="313849"/>
                  </a:moveTo>
                  <a:cubicBezTo>
                    <a:pt x="1012984" y="483237"/>
                    <a:pt x="787819" y="620554"/>
                    <a:pt x="510064" y="620554"/>
                  </a:cubicBezTo>
                  <a:cubicBezTo>
                    <a:pt x="232309" y="620554"/>
                    <a:pt x="7144" y="483237"/>
                    <a:pt x="7144" y="313849"/>
                  </a:cubicBezTo>
                  <a:cubicBezTo>
                    <a:pt x="7144" y="144460"/>
                    <a:pt x="232309" y="7144"/>
                    <a:pt x="510064" y="7144"/>
                  </a:cubicBezTo>
                  <a:cubicBezTo>
                    <a:pt x="787819" y="7144"/>
                    <a:pt x="1012984" y="144460"/>
                    <a:pt x="1012984" y="313849"/>
                  </a:cubicBezTo>
                  <a:close/>
                </a:path>
              </a:pathLst>
            </a:custGeom>
            <a:solidFill>
              <a:srgbClr val="0092a4">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77" name="任意多边形: 形状 4"/>
            <p:cNvSpPr/>
            <p:nvPr/>
          </p:nvSpPr>
          <p:spPr>
            <a:xfrm>
              <a:off x="1316160" y="4244040"/>
              <a:ext cx="1091880" cy="749160"/>
            </a:xfrm>
            <a:custGeom>
              <a:avLst/>
              <a:gdLst>
                <a:gd name="textAreaLeft" fmla="*/ 0 w 1091880"/>
                <a:gd name="textAreaRight" fmla="*/ 1092240 w 1091880"/>
                <a:gd name="textAreaTop" fmla="*/ 0 h 749160"/>
                <a:gd name="textAreaBottom" fmla="*/ 749520 h 749160"/>
              </a:gdLst>
              <a:ahLst/>
              <a:rect l="textAreaLeft" t="textAreaTop" r="textAreaRight" b="textAreaBottom"/>
              <a:pathLst>
                <a:path w="914400" h="533400">
                  <a:moveTo>
                    <a:pt x="909214" y="361580"/>
                  </a:moveTo>
                  <a:cubicBezTo>
                    <a:pt x="910166" y="359675"/>
                    <a:pt x="909214" y="357770"/>
                    <a:pt x="909214" y="355865"/>
                  </a:cubicBezTo>
                  <a:lnTo>
                    <a:pt x="909214" y="326337"/>
                  </a:lnTo>
                  <a:lnTo>
                    <a:pt x="847301" y="313955"/>
                  </a:lnTo>
                  <a:cubicBezTo>
                    <a:pt x="712046" y="235850"/>
                    <a:pt x="349143" y="26300"/>
                    <a:pt x="328189" y="13917"/>
                  </a:cubicBezTo>
                  <a:cubicBezTo>
                    <a:pt x="302471" y="-1323"/>
                    <a:pt x="276754" y="13917"/>
                    <a:pt x="276754" y="13917"/>
                  </a:cubicBezTo>
                  <a:cubicBezTo>
                    <a:pt x="276754" y="13917"/>
                    <a:pt x="98636" y="116787"/>
                    <a:pt x="36723" y="152982"/>
                  </a:cubicBezTo>
                  <a:lnTo>
                    <a:pt x="7196" y="147267"/>
                  </a:lnTo>
                  <a:lnTo>
                    <a:pt x="7196" y="176795"/>
                  </a:lnTo>
                  <a:cubicBezTo>
                    <a:pt x="6243" y="186320"/>
                    <a:pt x="18626" y="193940"/>
                    <a:pt x="18626" y="193940"/>
                  </a:cubicBezTo>
                  <a:cubicBezTo>
                    <a:pt x="18626" y="193940"/>
                    <a:pt x="561551" y="507312"/>
                    <a:pt x="588221" y="522552"/>
                  </a:cubicBezTo>
                  <a:cubicBezTo>
                    <a:pt x="596793" y="527315"/>
                    <a:pt x="604414" y="529220"/>
                    <a:pt x="612034" y="529220"/>
                  </a:cubicBezTo>
                  <a:cubicBezTo>
                    <a:pt x="628226" y="529220"/>
                    <a:pt x="639656" y="522552"/>
                    <a:pt x="639656" y="522552"/>
                  </a:cubicBezTo>
                  <a:lnTo>
                    <a:pt x="873018" y="388250"/>
                  </a:lnTo>
                  <a:cubicBezTo>
                    <a:pt x="873018" y="388250"/>
                    <a:pt x="873018" y="388250"/>
                    <a:pt x="898736" y="373010"/>
                  </a:cubicBezTo>
                  <a:cubicBezTo>
                    <a:pt x="904451" y="369200"/>
                    <a:pt x="907309" y="365390"/>
                    <a:pt x="909214" y="3615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78" name="任意多边形: 形状 5"/>
            <p:cNvSpPr/>
            <p:nvPr/>
          </p:nvSpPr>
          <p:spPr>
            <a:xfrm>
              <a:off x="1315080" y="4202640"/>
              <a:ext cx="1091880" cy="749160"/>
            </a:xfrm>
            <a:custGeom>
              <a:avLst/>
              <a:gdLst>
                <a:gd name="textAreaLeft" fmla="*/ 0 w 1091880"/>
                <a:gd name="textAreaRight" fmla="*/ 1092240 w 1091880"/>
                <a:gd name="textAreaTop" fmla="*/ 0 h 749160"/>
                <a:gd name="textAreaBottom" fmla="*/ 749520 h 749160"/>
              </a:gdLst>
              <a:ahLst/>
              <a:rect l="textAreaLeft" t="textAreaTop" r="textAreaRight" b="textAreaBottom"/>
              <a:pathLst>
                <a:path w="914400" h="533400">
                  <a:moveTo>
                    <a:pt x="872966" y="387297"/>
                  </a:moveTo>
                  <a:lnTo>
                    <a:pt x="639604" y="521600"/>
                  </a:lnTo>
                  <a:cubicBezTo>
                    <a:pt x="639604" y="521600"/>
                    <a:pt x="613886" y="536840"/>
                    <a:pt x="588169" y="521600"/>
                  </a:cubicBezTo>
                  <a:cubicBezTo>
                    <a:pt x="562451" y="506360"/>
                    <a:pt x="18574" y="192987"/>
                    <a:pt x="18574" y="192987"/>
                  </a:cubicBezTo>
                  <a:cubicBezTo>
                    <a:pt x="18574" y="192987"/>
                    <a:pt x="-7144" y="177747"/>
                    <a:pt x="18574" y="163460"/>
                  </a:cubicBezTo>
                  <a:cubicBezTo>
                    <a:pt x="44291" y="148220"/>
                    <a:pt x="277654" y="13917"/>
                    <a:pt x="277654" y="13917"/>
                  </a:cubicBezTo>
                  <a:cubicBezTo>
                    <a:pt x="277654" y="13917"/>
                    <a:pt x="303371" y="-1323"/>
                    <a:pt x="329089" y="13917"/>
                  </a:cubicBezTo>
                  <a:cubicBezTo>
                    <a:pt x="354806" y="29157"/>
                    <a:pt x="898684" y="342529"/>
                    <a:pt x="898684" y="342529"/>
                  </a:cubicBezTo>
                  <a:cubicBezTo>
                    <a:pt x="898684" y="342529"/>
                    <a:pt x="924401" y="357770"/>
                    <a:pt x="898684" y="372057"/>
                  </a:cubicBezTo>
                  <a:cubicBezTo>
                    <a:pt x="872966" y="387297"/>
                    <a:pt x="872966" y="387297"/>
                    <a:pt x="872966" y="38729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79" name="任意多边形: 形状 6"/>
            <p:cNvSpPr/>
            <p:nvPr/>
          </p:nvSpPr>
          <p:spPr>
            <a:xfrm>
              <a:off x="1391040" y="4255200"/>
              <a:ext cx="875880" cy="601920"/>
            </a:xfrm>
            <a:custGeom>
              <a:avLst/>
              <a:gdLst>
                <a:gd name="textAreaLeft" fmla="*/ 0 w 875880"/>
                <a:gd name="textAreaRight" fmla="*/ 876240 w 875880"/>
                <a:gd name="textAreaTop" fmla="*/ 0 h 601920"/>
                <a:gd name="textAreaBottom" fmla="*/ 602280 h 601920"/>
              </a:gdLst>
              <a:ahLst/>
              <a:rect l="textAreaLeft" t="textAreaTop" r="textAreaRight" b="textAreaBottom"/>
              <a:pathLst>
                <a:path w="733425" h="428625">
                  <a:moveTo>
                    <a:pt x="731044" y="275749"/>
                  </a:moveTo>
                  <a:lnTo>
                    <a:pt x="265271" y="7144"/>
                  </a:lnTo>
                  <a:lnTo>
                    <a:pt x="7144" y="156686"/>
                  </a:lnTo>
                  <a:lnTo>
                    <a:pt x="472916" y="425291"/>
                  </a:lnTo>
                  <a:lnTo>
                    <a:pt x="731044" y="275749"/>
                  </a:lnTo>
                  <a:close/>
                </a:path>
              </a:pathLst>
            </a:custGeom>
            <a:solidFill>
              <a:srgbClr val="80d2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80" name="任意多边形: 形状 7"/>
            <p:cNvSpPr/>
            <p:nvPr/>
          </p:nvSpPr>
          <p:spPr>
            <a:xfrm>
              <a:off x="2058480" y="4694040"/>
              <a:ext cx="204480" cy="146880"/>
            </a:xfrm>
            <a:custGeom>
              <a:avLst/>
              <a:gdLst>
                <a:gd name="textAreaLeft" fmla="*/ 0 w 204480"/>
                <a:gd name="textAreaRight" fmla="*/ 204840 w 204480"/>
                <a:gd name="textAreaTop" fmla="*/ 0 h 146880"/>
                <a:gd name="textAreaBottom" fmla="*/ 147240 h 146880"/>
              </a:gdLst>
              <a:ahLst/>
              <a:rect l="textAreaLeft" t="textAreaTop" r="textAreaRight" b="textAreaBottom"/>
              <a:pathLst>
                <a:path w="171450" h="104775">
                  <a:moveTo>
                    <a:pt x="169545" y="12859"/>
                  </a:moveTo>
                  <a:lnTo>
                    <a:pt x="164783" y="10001"/>
                  </a:lnTo>
                  <a:cubicBezTo>
                    <a:pt x="158115" y="6191"/>
                    <a:pt x="150495" y="6191"/>
                    <a:pt x="143827" y="10001"/>
                  </a:cubicBezTo>
                  <a:lnTo>
                    <a:pt x="11430" y="86201"/>
                  </a:lnTo>
                  <a:cubicBezTo>
                    <a:pt x="5715" y="89059"/>
                    <a:pt x="5715" y="96679"/>
                    <a:pt x="11430" y="100489"/>
                  </a:cubicBezTo>
                  <a:lnTo>
                    <a:pt x="13335" y="101441"/>
                  </a:lnTo>
                  <a:cubicBezTo>
                    <a:pt x="20955" y="106204"/>
                    <a:pt x="30480" y="106204"/>
                    <a:pt x="37148" y="101441"/>
                  </a:cubicBezTo>
                  <a:lnTo>
                    <a:pt x="169545" y="25241"/>
                  </a:lnTo>
                  <a:cubicBezTo>
                    <a:pt x="174308" y="22384"/>
                    <a:pt x="174308" y="15716"/>
                    <a:pt x="169545" y="1285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81" name="任意多边形: 形状 8"/>
            <p:cNvSpPr/>
            <p:nvPr/>
          </p:nvSpPr>
          <p:spPr>
            <a:xfrm>
              <a:off x="1498320" y="4327200"/>
              <a:ext cx="45360" cy="26640"/>
            </a:xfrm>
            <a:custGeom>
              <a:avLst/>
              <a:gdLst>
                <a:gd name="textAreaLeft" fmla="*/ 0 w 45360"/>
                <a:gd name="textAreaRight" fmla="*/ 45720 w 45360"/>
                <a:gd name="textAreaTop" fmla="*/ 0 h 26640"/>
                <a:gd name="textAreaBottom" fmla="*/ 27000 h 26640"/>
              </a:gdLst>
              <a:ahLst/>
              <a:rect l="textAreaLeft" t="textAreaTop" r="textAreaRight" b="textAreaBottom"/>
              <a:pathLst>
                <a:path w="38100" h="19050">
                  <a:moveTo>
                    <a:pt x="-31722" y="12859"/>
                  </a:moveTo>
                  <a:cubicBezTo>
                    <a:pt x="-31722" y="16015"/>
                    <a:pt x="27844" y="18574"/>
                    <a:pt x="20479" y="18574"/>
                  </a:cubicBezTo>
                  <a:cubicBezTo>
                    <a:pt x="13114" y="18574"/>
                    <a:pt x="7144" y="16015"/>
                    <a:pt x="7144" y="12859"/>
                  </a:cubicBezTo>
                  <a:cubicBezTo>
                    <a:pt x="7144" y="9703"/>
                    <a:pt x="13114" y="7144"/>
                    <a:pt x="20479" y="7144"/>
                  </a:cubicBezTo>
                  <a:cubicBezTo>
                    <a:pt x="27844" y="7144"/>
                    <a:pt x="-31722" y="9702"/>
                    <a:pt x="-31722" y="12859"/>
                  </a:cubicBezTo>
                  <a:close/>
                </a:path>
              </a:pathLst>
            </a:custGeom>
            <a:solidFill>
              <a:srgbClr val="0b3e5f"/>
            </a:solidFill>
            <a:ln w="0">
              <a:noFill/>
            </a:ln>
          </p:spPr>
          <p:style>
            <a:lnRef idx="0"/>
            <a:fillRef idx="0"/>
            <a:effectRef idx="0"/>
            <a:fontRef idx="minor"/>
          </p:style>
          <p:txBody>
            <a:bodyPr lIns="90000" rIns="90000" tIns="-19800" bIns="-19800" anchor="ctr">
              <a:noAutofit/>
            </a:bodyPr>
            <a:p>
              <a:endParaRPr b="0" lang="en-US" sz="1800" spc="-1" strike="noStrike">
                <a:solidFill>
                  <a:srgbClr val="262626"/>
                </a:solidFill>
                <a:latin typeface="Arial"/>
              </a:endParaRPr>
            </a:p>
          </p:txBody>
        </p:sp>
        <p:sp>
          <p:nvSpPr>
            <p:cNvPr id="1982" name="任意多边形: 形状 9"/>
            <p:cNvSpPr/>
            <p:nvPr/>
          </p:nvSpPr>
          <p:spPr>
            <a:xfrm>
              <a:off x="1315080" y="4204080"/>
              <a:ext cx="727920" cy="749160"/>
            </a:xfrm>
            <a:custGeom>
              <a:avLst/>
              <a:gdLst>
                <a:gd name="textAreaLeft" fmla="*/ 0 w 727920"/>
                <a:gd name="textAreaRight" fmla="*/ 728280 w 727920"/>
                <a:gd name="textAreaTop" fmla="*/ 0 h 749160"/>
                <a:gd name="textAreaBottom" fmla="*/ 749520 h 749160"/>
              </a:gdLst>
              <a:ahLst/>
              <a:rect l="textAreaLeft" t="textAreaTop" r="textAreaRight" b="textAreaBottom"/>
              <a:pathLst>
                <a:path w="609600" h="533400">
                  <a:moveTo>
                    <a:pt x="321469" y="10167"/>
                  </a:moveTo>
                  <a:cubicBezTo>
                    <a:pt x="298609" y="1594"/>
                    <a:pt x="277654" y="13977"/>
                    <a:pt x="277654" y="13977"/>
                  </a:cubicBezTo>
                  <a:cubicBezTo>
                    <a:pt x="277654" y="13977"/>
                    <a:pt x="45244" y="148279"/>
                    <a:pt x="18574" y="163519"/>
                  </a:cubicBezTo>
                  <a:cubicBezTo>
                    <a:pt x="-7144" y="178759"/>
                    <a:pt x="18574" y="193047"/>
                    <a:pt x="18574" y="193047"/>
                  </a:cubicBezTo>
                  <a:cubicBezTo>
                    <a:pt x="18574" y="193047"/>
                    <a:pt x="561499" y="506419"/>
                    <a:pt x="588169" y="521659"/>
                  </a:cubicBezTo>
                  <a:cubicBezTo>
                    <a:pt x="594836" y="525469"/>
                    <a:pt x="601504" y="527374"/>
                    <a:pt x="607219" y="528327"/>
                  </a:cubicBezTo>
                  <a:cubicBezTo>
                    <a:pt x="514826" y="359734"/>
                    <a:pt x="385286" y="125419"/>
                    <a:pt x="321469" y="10167"/>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83" name="任意多边形: 形状 10"/>
            <p:cNvSpPr/>
            <p:nvPr/>
          </p:nvSpPr>
          <p:spPr>
            <a:xfrm>
              <a:off x="1175040" y="3443040"/>
              <a:ext cx="2707200" cy="1257480"/>
            </a:xfrm>
            <a:custGeom>
              <a:avLst/>
              <a:gdLst>
                <a:gd name="textAreaLeft" fmla="*/ 0 w 2707200"/>
                <a:gd name="textAreaRight" fmla="*/ 2707560 w 2707200"/>
                <a:gd name="textAreaTop" fmla="*/ 0 h 1257480"/>
                <a:gd name="textAreaBottom" fmla="*/ 1257840 h 1257480"/>
              </a:gdLst>
              <a:ahLst/>
              <a:rect l="textAreaLeft" t="textAreaTop" r="textAreaRight" b="textAreaBottom"/>
              <a:pathLst>
                <a:path w="2266950" h="895350">
                  <a:moveTo>
                    <a:pt x="7144" y="7144"/>
                  </a:moveTo>
                  <a:lnTo>
                    <a:pt x="7144" y="83344"/>
                  </a:lnTo>
                  <a:lnTo>
                    <a:pt x="1415891" y="896779"/>
                  </a:lnTo>
                  <a:lnTo>
                    <a:pt x="2267426" y="408146"/>
                  </a:lnTo>
                  <a:lnTo>
                    <a:pt x="2267426" y="326231"/>
                  </a:lnTo>
                  <a:lnTo>
                    <a:pt x="7144" y="71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84" name="任意多边形: 形状 11"/>
            <p:cNvSpPr/>
            <p:nvPr/>
          </p:nvSpPr>
          <p:spPr>
            <a:xfrm>
              <a:off x="1173960" y="2846880"/>
              <a:ext cx="2718720" cy="1859760"/>
            </a:xfrm>
            <a:custGeom>
              <a:avLst/>
              <a:gdLst>
                <a:gd name="textAreaLeft" fmla="*/ 0 w 2718720"/>
                <a:gd name="textAreaRight" fmla="*/ 2719080 w 2718720"/>
                <a:gd name="textAreaTop" fmla="*/ 0 h 1859760"/>
                <a:gd name="textAreaBottom" fmla="*/ 1860120 h 1859760"/>
              </a:gdLst>
              <a:ahLst/>
              <a:rect l="textAreaLeft" t="textAreaTop" r="textAreaRight" b="textAreaBottom"/>
              <a:pathLst>
                <a:path w="2276475" h="1323975">
                  <a:moveTo>
                    <a:pt x="2182654" y="894345"/>
                  </a:moveTo>
                  <a:lnTo>
                    <a:pt x="1482566" y="1305825"/>
                  </a:lnTo>
                  <a:cubicBezTo>
                    <a:pt x="1482566" y="1305825"/>
                    <a:pt x="1422559" y="1340115"/>
                    <a:pt x="1361599" y="1305825"/>
                  </a:cubicBezTo>
                  <a:cubicBezTo>
                    <a:pt x="1301591" y="1271535"/>
                    <a:pt x="33814" y="539062"/>
                    <a:pt x="33814" y="539062"/>
                  </a:cubicBezTo>
                  <a:cubicBezTo>
                    <a:pt x="33814" y="539062"/>
                    <a:pt x="-26194" y="504772"/>
                    <a:pt x="33814" y="469530"/>
                  </a:cubicBezTo>
                  <a:cubicBezTo>
                    <a:pt x="93821" y="434287"/>
                    <a:pt x="794861" y="22807"/>
                    <a:pt x="794861" y="22807"/>
                  </a:cubicBezTo>
                  <a:cubicBezTo>
                    <a:pt x="794861" y="22807"/>
                    <a:pt x="854869" y="-12435"/>
                    <a:pt x="915829" y="22807"/>
                  </a:cubicBezTo>
                  <a:cubicBezTo>
                    <a:pt x="975836" y="58050"/>
                    <a:pt x="2243614" y="789570"/>
                    <a:pt x="2243614" y="789570"/>
                  </a:cubicBezTo>
                  <a:cubicBezTo>
                    <a:pt x="2243614" y="789570"/>
                    <a:pt x="2303621" y="823860"/>
                    <a:pt x="2243614" y="859102"/>
                  </a:cubicBezTo>
                  <a:cubicBezTo>
                    <a:pt x="2182654" y="894345"/>
                    <a:pt x="2182654" y="894345"/>
                    <a:pt x="2182654" y="8943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85" name="任意多边形: 形状 12"/>
            <p:cNvSpPr/>
            <p:nvPr/>
          </p:nvSpPr>
          <p:spPr>
            <a:xfrm>
              <a:off x="1173960" y="2749320"/>
              <a:ext cx="2718720" cy="1859760"/>
            </a:xfrm>
            <a:custGeom>
              <a:avLst/>
              <a:gdLst>
                <a:gd name="textAreaLeft" fmla="*/ 0 w 2718720"/>
                <a:gd name="textAreaRight" fmla="*/ 2719080 w 2718720"/>
                <a:gd name="textAreaTop" fmla="*/ 0 h 1859760"/>
                <a:gd name="textAreaBottom" fmla="*/ 1860120 h 1859760"/>
              </a:gdLst>
              <a:ahLst/>
              <a:rect l="textAreaLeft" t="textAreaTop" r="textAreaRight" b="textAreaBottom"/>
              <a:pathLst>
                <a:path w="2276475" h="1323975">
                  <a:moveTo>
                    <a:pt x="2182654" y="894345"/>
                  </a:moveTo>
                  <a:lnTo>
                    <a:pt x="1482566" y="1305825"/>
                  </a:lnTo>
                  <a:cubicBezTo>
                    <a:pt x="1482566" y="1305825"/>
                    <a:pt x="1422559" y="1340115"/>
                    <a:pt x="1361599" y="1305825"/>
                  </a:cubicBezTo>
                  <a:cubicBezTo>
                    <a:pt x="1301591" y="1271535"/>
                    <a:pt x="33814" y="539062"/>
                    <a:pt x="33814" y="539062"/>
                  </a:cubicBezTo>
                  <a:cubicBezTo>
                    <a:pt x="33814" y="539062"/>
                    <a:pt x="-26194" y="504772"/>
                    <a:pt x="33814" y="469530"/>
                  </a:cubicBezTo>
                  <a:cubicBezTo>
                    <a:pt x="93821" y="434287"/>
                    <a:pt x="794861" y="22807"/>
                    <a:pt x="794861" y="22807"/>
                  </a:cubicBezTo>
                  <a:cubicBezTo>
                    <a:pt x="794861" y="22807"/>
                    <a:pt x="854869" y="-12435"/>
                    <a:pt x="915829" y="22807"/>
                  </a:cubicBezTo>
                  <a:cubicBezTo>
                    <a:pt x="975836" y="58050"/>
                    <a:pt x="2243614" y="789570"/>
                    <a:pt x="2243614" y="789570"/>
                  </a:cubicBezTo>
                  <a:cubicBezTo>
                    <a:pt x="2243614" y="789570"/>
                    <a:pt x="2303621" y="823860"/>
                    <a:pt x="2243614" y="859102"/>
                  </a:cubicBezTo>
                  <a:cubicBezTo>
                    <a:pt x="2182654" y="894345"/>
                    <a:pt x="2182654" y="894345"/>
                    <a:pt x="2182654" y="894345"/>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86" name="任意多边形: 形状 13"/>
            <p:cNvSpPr/>
            <p:nvPr/>
          </p:nvSpPr>
          <p:spPr>
            <a:xfrm>
              <a:off x="1350360" y="2870280"/>
              <a:ext cx="2388600" cy="1632240"/>
            </a:xfrm>
            <a:custGeom>
              <a:avLst/>
              <a:gdLst>
                <a:gd name="textAreaLeft" fmla="*/ 0 w 2388600"/>
                <a:gd name="textAreaRight" fmla="*/ 2388960 w 2388600"/>
                <a:gd name="textAreaTop" fmla="*/ 0 h 1632240"/>
                <a:gd name="textAreaBottom" fmla="*/ 1632600 h 1632240"/>
              </a:gdLst>
              <a:ahLst/>
              <a:rect l="textAreaLeft" t="textAreaTop" r="textAreaRight" b="textAreaBottom"/>
              <a:pathLst>
                <a:path w="2000250" h="1162050">
                  <a:moveTo>
                    <a:pt x="1995964" y="717709"/>
                  </a:moveTo>
                  <a:lnTo>
                    <a:pt x="768191" y="7144"/>
                  </a:lnTo>
                  <a:lnTo>
                    <a:pt x="7144" y="453866"/>
                  </a:lnTo>
                  <a:lnTo>
                    <a:pt x="1236821" y="1163479"/>
                  </a:lnTo>
                  <a:lnTo>
                    <a:pt x="1995964" y="717709"/>
                  </a:lnTo>
                  <a:close/>
                </a:path>
              </a:pathLst>
            </a:custGeom>
            <a:solidFill>
              <a:srgbClr val="80d2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87" name="任意多边形: 形状 14"/>
            <p:cNvSpPr/>
            <p:nvPr/>
          </p:nvSpPr>
          <p:spPr>
            <a:xfrm>
              <a:off x="1730160" y="3112560"/>
              <a:ext cx="79560" cy="53280"/>
            </a:xfrm>
            <a:custGeom>
              <a:avLst/>
              <a:gdLst>
                <a:gd name="textAreaLeft" fmla="*/ 0 w 79560"/>
                <a:gd name="textAreaRight" fmla="*/ 79920 w 79560"/>
                <a:gd name="textAreaTop" fmla="*/ 0 h 53280"/>
                <a:gd name="textAreaBottom" fmla="*/ 53280 h 53280"/>
              </a:gdLst>
              <a:ahLst/>
              <a:rect l="textAreaLeft" t="textAreaTop" r="textAreaRight" b="textAreaBottom"/>
              <a:pathLst>
                <a:path w="66675" h="38100">
                  <a:moveTo>
                    <a:pt x="7144" y="19526"/>
                  </a:moveTo>
                  <a:cubicBezTo>
                    <a:pt x="7144" y="26194"/>
                    <a:pt x="20479" y="31909"/>
                    <a:pt x="37624" y="31909"/>
                  </a:cubicBezTo>
                  <a:cubicBezTo>
                    <a:pt x="53816" y="31909"/>
                    <a:pt x="68104" y="26194"/>
                    <a:pt x="68104" y="19526"/>
                  </a:cubicBezTo>
                  <a:cubicBezTo>
                    <a:pt x="68104" y="12859"/>
                    <a:pt x="54769" y="7144"/>
                    <a:pt x="37624" y="7144"/>
                  </a:cubicBezTo>
                  <a:cubicBezTo>
                    <a:pt x="21431" y="7144"/>
                    <a:pt x="7144" y="12859"/>
                    <a:pt x="7144" y="19526"/>
                  </a:cubicBezTo>
                  <a:close/>
                </a:path>
              </a:pathLst>
            </a:custGeom>
            <a:solidFill>
              <a:srgbClr val="071e27"/>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1988" name="任意多边形: 形状 15"/>
            <p:cNvSpPr/>
            <p:nvPr/>
          </p:nvSpPr>
          <p:spPr>
            <a:xfrm>
              <a:off x="1173960" y="2751120"/>
              <a:ext cx="1683360" cy="1859760"/>
            </a:xfrm>
            <a:custGeom>
              <a:avLst/>
              <a:gdLst>
                <a:gd name="textAreaLeft" fmla="*/ 0 w 1683360"/>
                <a:gd name="textAreaRight" fmla="*/ 1683720 w 1683360"/>
                <a:gd name="textAreaTop" fmla="*/ 0 h 1859760"/>
                <a:gd name="textAreaBottom" fmla="*/ 1860120 h 1859760"/>
              </a:gdLst>
              <a:ahLst/>
              <a:rect l="textAreaLeft" t="textAreaTop" r="textAreaRight" b="textAreaBottom"/>
              <a:pathLst>
                <a:path w="1409700" h="1323975">
                  <a:moveTo>
                    <a:pt x="896779" y="13844"/>
                  </a:moveTo>
                  <a:cubicBezTo>
                    <a:pt x="843439" y="-5206"/>
                    <a:pt x="794861" y="22417"/>
                    <a:pt x="794861" y="22417"/>
                  </a:cubicBezTo>
                  <a:cubicBezTo>
                    <a:pt x="794861" y="22417"/>
                    <a:pt x="94774" y="433897"/>
                    <a:pt x="33814" y="469139"/>
                  </a:cubicBezTo>
                  <a:cubicBezTo>
                    <a:pt x="-26194" y="504382"/>
                    <a:pt x="33814" y="538672"/>
                    <a:pt x="33814" y="538672"/>
                  </a:cubicBezTo>
                  <a:cubicBezTo>
                    <a:pt x="33814" y="538672"/>
                    <a:pt x="1300639" y="1270192"/>
                    <a:pt x="1361599" y="1305434"/>
                  </a:cubicBezTo>
                  <a:cubicBezTo>
                    <a:pt x="1376839" y="1314007"/>
                    <a:pt x="1392079" y="1318769"/>
                    <a:pt x="1406366" y="1319722"/>
                  </a:cubicBezTo>
                  <a:cubicBezTo>
                    <a:pt x="1190149" y="927292"/>
                    <a:pt x="1045369" y="284354"/>
                    <a:pt x="896779" y="13844"/>
                  </a:cubicBezTo>
                  <a:close/>
                </a:path>
              </a:pathLst>
            </a:custGeom>
            <a:solidFill>
              <a:srgbClr val="ffffff">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89" name="任意多边形: 形状 16"/>
            <p:cNvSpPr/>
            <p:nvPr/>
          </p:nvSpPr>
          <p:spPr>
            <a:xfrm>
              <a:off x="2657160" y="3674520"/>
              <a:ext cx="602640" cy="468000"/>
            </a:xfrm>
            <a:custGeom>
              <a:avLst/>
              <a:gdLst>
                <a:gd name="textAreaLeft" fmla="*/ 0 w 602640"/>
                <a:gd name="textAreaRight" fmla="*/ 603000 w 602640"/>
                <a:gd name="textAreaTop" fmla="*/ 0 h 468000"/>
                <a:gd name="textAreaBottom" fmla="*/ 468360 h 468000"/>
              </a:gdLst>
              <a:ahLst/>
              <a:rect l="textAreaLeft" t="textAreaTop" r="textAreaRight" b="textAreaBottom"/>
              <a:pathLst>
                <a:path w="504825" h="333375">
                  <a:moveTo>
                    <a:pt x="504349" y="47149"/>
                  </a:moveTo>
                  <a:lnTo>
                    <a:pt x="7144" y="334804"/>
                  </a:lnTo>
                  <a:lnTo>
                    <a:pt x="7144" y="293846"/>
                  </a:lnTo>
                  <a:lnTo>
                    <a:pt x="504349" y="7144"/>
                  </a:lnTo>
                  <a:lnTo>
                    <a:pt x="504349" y="47149"/>
                  </a:lnTo>
                  <a:close/>
                </a:path>
              </a:pathLst>
            </a:custGeom>
            <a:solidFill>
              <a:srgbClr val="007e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0" name="任意多边形: 形状 17"/>
            <p:cNvSpPr/>
            <p:nvPr/>
          </p:nvSpPr>
          <p:spPr>
            <a:xfrm>
              <a:off x="1893960" y="3155040"/>
              <a:ext cx="1364760" cy="936360"/>
            </a:xfrm>
            <a:custGeom>
              <a:avLst/>
              <a:gdLst>
                <a:gd name="textAreaLeft" fmla="*/ 0 w 1364760"/>
                <a:gd name="textAreaRight" fmla="*/ 1365120 w 1364760"/>
                <a:gd name="textAreaTop" fmla="*/ 0 h 936360"/>
                <a:gd name="textAreaBottom" fmla="*/ 936720 h 936360"/>
              </a:gdLst>
              <a:ahLst/>
              <a:rect l="textAreaLeft" t="textAreaTop" r="textAreaRight" b="textAreaBottom"/>
              <a:pathLst>
                <a:path w="1143000" h="666750">
                  <a:moveTo>
                    <a:pt x="1143476" y="376714"/>
                  </a:moveTo>
                  <a:lnTo>
                    <a:pt x="504349" y="7144"/>
                  </a:lnTo>
                  <a:lnTo>
                    <a:pt x="7144" y="293846"/>
                  </a:lnTo>
                  <a:lnTo>
                    <a:pt x="646271" y="663416"/>
                  </a:lnTo>
                  <a:lnTo>
                    <a:pt x="1143476" y="376714"/>
                  </a:lnTo>
                  <a:close/>
                </a:path>
              </a:pathLst>
            </a:custGeom>
            <a:solidFill>
              <a:srgbClr val="e2c1a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1" name="任意多边形: 形状 18"/>
            <p:cNvSpPr/>
            <p:nvPr/>
          </p:nvSpPr>
          <p:spPr>
            <a:xfrm>
              <a:off x="1893960" y="3557880"/>
              <a:ext cx="773280" cy="588600"/>
            </a:xfrm>
            <a:custGeom>
              <a:avLst/>
              <a:gdLst>
                <a:gd name="textAreaLeft" fmla="*/ 0 w 773280"/>
                <a:gd name="textAreaRight" fmla="*/ 773640 w 773280"/>
                <a:gd name="textAreaTop" fmla="*/ 0 h 588600"/>
                <a:gd name="textAreaBottom" fmla="*/ 588960 h 588600"/>
              </a:gdLst>
              <a:ahLst/>
              <a:rect l="textAreaLeft" t="textAreaTop" r="textAreaRight" b="textAreaBottom"/>
              <a:pathLst>
                <a:path w="647700" h="419100">
                  <a:moveTo>
                    <a:pt x="646271" y="417671"/>
                  </a:moveTo>
                  <a:lnTo>
                    <a:pt x="7144" y="48101"/>
                  </a:lnTo>
                  <a:lnTo>
                    <a:pt x="7144" y="7144"/>
                  </a:lnTo>
                  <a:lnTo>
                    <a:pt x="646271" y="376714"/>
                  </a:lnTo>
                  <a:lnTo>
                    <a:pt x="646271" y="417671"/>
                  </a:lnTo>
                  <a:close/>
                </a:path>
              </a:pathLst>
            </a:custGeom>
            <a:solidFill>
              <a:srgbClr val="003e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2" name="任意多边形: 形状 19"/>
            <p:cNvSpPr/>
            <p:nvPr/>
          </p:nvSpPr>
          <p:spPr>
            <a:xfrm>
              <a:off x="2657160" y="3441600"/>
              <a:ext cx="602640" cy="481320"/>
            </a:xfrm>
            <a:custGeom>
              <a:avLst/>
              <a:gdLst>
                <a:gd name="textAreaLeft" fmla="*/ 0 w 602640"/>
                <a:gd name="textAreaRight" fmla="*/ 603000 w 602640"/>
                <a:gd name="textAreaTop" fmla="*/ 0 h 481320"/>
                <a:gd name="textAreaBottom" fmla="*/ 481680 h 481320"/>
              </a:gdLst>
              <a:ahLst/>
              <a:rect l="textAreaLeft" t="textAreaTop" r="textAreaRight" b="textAreaBottom"/>
              <a:pathLst>
                <a:path w="504825" h="342900">
                  <a:moveTo>
                    <a:pt x="504349" y="48101"/>
                  </a:moveTo>
                  <a:lnTo>
                    <a:pt x="7144" y="335756"/>
                  </a:lnTo>
                  <a:lnTo>
                    <a:pt x="7144" y="293846"/>
                  </a:lnTo>
                  <a:lnTo>
                    <a:pt x="504349" y="7144"/>
                  </a:lnTo>
                  <a:lnTo>
                    <a:pt x="504349" y="48101"/>
                  </a:lnTo>
                  <a:close/>
                </a:path>
              </a:pathLst>
            </a:custGeom>
            <a:solidFill>
              <a:srgbClr val="007e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3" name="任意多边形: 形状 20"/>
            <p:cNvSpPr/>
            <p:nvPr/>
          </p:nvSpPr>
          <p:spPr>
            <a:xfrm>
              <a:off x="1893960" y="2923920"/>
              <a:ext cx="1364760" cy="936360"/>
            </a:xfrm>
            <a:custGeom>
              <a:avLst/>
              <a:gdLst>
                <a:gd name="textAreaLeft" fmla="*/ 0 w 1364760"/>
                <a:gd name="textAreaRight" fmla="*/ 1365120 w 1364760"/>
                <a:gd name="textAreaTop" fmla="*/ 0 h 936360"/>
                <a:gd name="textAreaBottom" fmla="*/ 936720 h 936360"/>
              </a:gdLst>
              <a:ahLst/>
              <a:rect l="textAreaLeft" t="textAreaTop" r="textAreaRight" b="textAreaBottom"/>
              <a:pathLst>
                <a:path w="1143000" h="666750">
                  <a:moveTo>
                    <a:pt x="7144" y="293846"/>
                  </a:moveTo>
                  <a:lnTo>
                    <a:pt x="646271" y="662464"/>
                  </a:lnTo>
                  <a:lnTo>
                    <a:pt x="1143476" y="375761"/>
                  </a:lnTo>
                  <a:lnTo>
                    <a:pt x="504349" y="7144"/>
                  </a:lnTo>
                  <a:lnTo>
                    <a:pt x="7144" y="293846"/>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4" name="任意多边形: 形状 21"/>
            <p:cNvSpPr/>
            <p:nvPr/>
          </p:nvSpPr>
          <p:spPr>
            <a:xfrm>
              <a:off x="1893960" y="3326400"/>
              <a:ext cx="773280" cy="588600"/>
            </a:xfrm>
            <a:custGeom>
              <a:avLst/>
              <a:gdLst>
                <a:gd name="textAreaLeft" fmla="*/ 0 w 773280"/>
                <a:gd name="textAreaRight" fmla="*/ 773640 w 773280"/>
                <a:gd name="textAreaTop" fmla="*/ 0 h 588600"/>
                <a:gd name="textAreaBottom" fmla="*/ 588960 h 588600"/>
              </a:gdLst>
              <a:ahLst/>
              <a:rect l="textAreaLeft" t="textAreaTop" r="textAreaRight" b="textAreaBottom"/>
              <a:pathLst>
                <a:path w="647700" h="419100">
                  <a:moveTo>
                    <a:pt x="646271" y="417671"/>
                  </a:moveTo>
                  <a:lnTo>
                    <a:pt x="7144" y="48101"/>
                  </a:lnTo>
                  <a:lnTo>
                    <a:pt x="7144" y="7144"/>
                  </a:lnTo>
                  <a:lnTo>
                    <a:pt x="646271" y="375761"/>
                  </a:lnTo>
                  <a:lnTo>
                    <a:pt x="646271" y="417671"/>
                  </a:lnTo>
                  <a:close/>
                </a:path>
              </a:pathLst>
            </a:custGeom>
            <a:solidFill>
              <a:srgbClr val="003e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5" name="任意多边形: 形状 22"/>
            <p:cNvSpPr/>
            <p:nvPr/>
          </p:nvSpPr>
          <p:spPr>
            <a:xfrm>
              <a:off x="1893960" y="3385440"/>
              <a:ext cx="1410480" cy="708840"/>
            </a:xfrm>
            <a:custGeom>
              <a:avLst/>
              <a:gdLst>
                <a:gd name="textAreaLeft" fmla="*/ 0 w 1410480"/>
                <a:gd name="textAreaRight" fmla="*/ 1410840 w 1410480"/>
                <a:gd name="textAreaTop" fmla="*/ 0 h 708840"/>
                <a:gd name="textAreaBottom" fmla="*/ 709200 h 708840"/>
              </a:gdLst>
              <a:ahLst/>
              <a:rect l="textAreaLeft" t="textAreaTop" r="textAreaRight" b="textAreaBottom"/>
              <a:pathLst>
                <a:path w="1181100" h="504825">
                  <a:moveTo>
                    <a:pt x="1143476" y="88106"/>
                  </a:moveTo>
                  <a:lnTo>
                    <a:pt x="1143476" y="88106"/>
                  </a:lnTo>
                  <a:cubicBezTo>
                    <a:pt x="1180624" y="110014"/>
                    <a:pt x="1188244" y="160496"/>
                    <a:pt x="1160621" y="192881"/>
                  </a:cubicBezTo>
                  <a:lnTo>
                    <a:pt x="1143476" y="212884"/>
                  </a:lnTo>
                  <a:lnTo>
                    <a:pt x="646271" y="499586"/>
                  </a:lnTo>
                  <a:lnTo>
                    <a:pt x="7144" y="130969"/>
                  </a:lnTo>
                  <a:lnTo>
                    <a:pt x="7144" y="7144"/>
                  </a:lnTo>
                  <a:lnTo>
                    <a:pt x="646271" y="375761"/>
                  </a:lnTo>
                  <a:lnTo>
                    <a:pt x="1143476" y="881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6" name="任意多边形: 形状 23"/>
            <p:cNvSpPr/>
            <p:nvPr/>
          </p:nvSpPr>
          <p:spPr>
            <a:xfrm>
              <a:off x="3251160" y="3441600"/>
              <a:ext cx="90720" cy="307440"/>
            </a:xfrm>
            <a:custGeom>
              <a:avLst/>
              <a:gdLst>
                <a:gd name="textAreaLeft" fmla="*/ 0 w 90720"/>
                <a:gd name="textAreaRight" fmla="*/ 91080 w 90720"/>
                <a:gd name="textAreaTop" fmla="*/ 0 h 307440"/>
                <a:gd name="textAreaBottom" fmla="*/ 307800 h 307440"/>
              </a:gdLst>
              <a:ahLst/>
              <a:rect l="textAreaLeft" t="textAreaTop" r="textAreaRight" b="textAreaBottom"/>
              <a:pathLst>
                <a:path w="76200" h="219075">
                  <a:moveTo>
                    <a:pt x="18574" y="13811"/>
                  </a:moveTo>
                  <a:lnTo>
                    <a:pt x="7144" y="7144"/>
                  </a:lnTo>
                  <a:lnTo>
                    <a:pt x="7144" y="48101"/>
                  </a:lnTo>
                  <a:cubicBezTo>
                    <a:pt x="44291" y="70009"/>
                    <a:pt x="51911" y="120491"/>
                    <a:pt x="24289" y="152876"/>
                  </a:cubicBezTo>
                  <a:lnTo>
                    <a:pt x="7144" y="172879"/>
                  </a:lnTo>
                  <a:lnTo>
                    <a:pt x="7144" y="213836"/>
                  </a:lnTo>
                  <a:lnTo>
                    <a:pt x="42386" y="176689"/>
                  </a:lnTo>
                  <a:cubicBezTo>
                    <a:pt x="88106" y="127159"/>
                    <a:pt x="76676" y="48101"/>
                    <a:pt x="18574" y="13811"/>
                  </a:cubicBezTo>
                  <a:close/>
                </a:path>
              </a:pathLst>
            </a:custGeom>
            <a:solidFill>
              <a:srgbClr val="007e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7" name="任意多边形: 形状 24"/>
            <p:cNvSpPr/>
            <p:nvPr/>
          </p:nvSpPr>
          <p:spPr>
            <a:xfrm>
              <a:off x="3209040" y="3674520"/>
              <a:ext cx="56520" cy="93600"/>
            </a:xfrm>
            <a:custGeom>
              <a:avLst/>
              <a:gdLst>
                <a:gd name="textAreaLeft" fmla="*/ 0 w 56520"/>
                <a:gd name="textAreaRight" fmla="*/ 56880 w 56520"/>
                <a:gd name="textAreaTop" fmla="*/ 0 h 93600"/>
                <a:gd name="textAreaBottom" fmla="*/ 93960 h 93600"/>
              </a:gdLst>
              <a:ahLst/>
              <a:rect l="textAreaLeft" t="textAreaTop" r="textAreaRight" b="textAreaBottom"/>
              <a:pathLst>
                <a:path w="47625" h="66675">
                  <a:moveTo>
                    <a:pt x="7144" y="68104"/>
                  </a:moveTo>
                  <a:lnTo>
                    <a:pt x="7144" y="27146"/>
                  </a:lnTo>
                  <a:lnTo>
                    <a:pt x="42386" y="7144"/>
                  </a:lnTo>
                  <a:lnTo>
                    <a:pt x="42386" y="47149"/>
                  </a:lnTo>
                  <a:lnTo>
                    <a:pt x="7144" y="68104"/>
                  </a:lnTo>
                  <a:close/>
                </a:path>
              </a:pathLst>
            </a:custGeom>
            <a:solidFill>
              <a:srgbClr val="007e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8" name="任意多边形: 形状 25"/>
            <p:cNvSpPr/>
            <p:nvPr/>
          </p:nvSpPr>
          <p:spPr>
            <a:xfrm>
              <a:off x="1893960" y="3384000"/>
              <a:ext cx="773280" cy="708840"/>
            </a:xfrm>
            <a:custGeom>
              <a:avLst/>
              <a:gdLst>
                <a:gd name="textAreaLeft" fmla="*/ 0 w 773280"/>
                <a:gd name="textAreaRight" fmla="*/ 773640 w 773280"/>
                <a:gd name="textAreaTop" fmla="*/ 0 h 708840"/>
                <a:gd name="textAreaBottom" fmla="*/ 709200 h 708840"/>
              </a:gdLst>
              <a:ahLst/>
              <a:rect l="textAreaLeft" t="textAreaTop" r="textAreaRight" b="textAreaBottom"/>
              <a:pathLst>
                <a:path w="647700" h="504825">
                  <a:moveTo>
                    <a:pt x="646271" y="376714"/>
                  </a:moveTo>
                  <a:lnTo>
                    <a:pt x="646271" y="500539"/>
                  </a:lnTo>
                  <a:lnTo>
                    <a:pt x="7144" y="130969"/>
                  </a:lnTo>
                  <a:lnTo>
                    <a:pt x="7144" y="7144"/>
                  </a:lnTo>
                  <a:lnTo>
                    <a:pt x="646271" y="376714"/>
                  </a:lnTo>
                  <a:close/>
                </a:path>
              </a:pathLst>
            </a:custGeom>
            <a:solidFill>
              <a:srgbClr val="7575f0">
                <a:alpha val="3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999" name="任意多边形: 形状 26"/>
            <p:cNvSpPr/>
            <p:nvPr/>
          </p:nvSpPr>
          <p:spPr>
            <a:xfrm>
              <a:off x="2084040" y="3422880"/>
              <a:ext cx="477720" cy="374400"/>
            </a:xfrm>
            <a:custGeom>
              <a:avLst/>
              <a:gdLst>
                <a:gd name="textAreaLeft" fmla="*/ 0 w 477720"/>
                <a:gd name="textAreaRight" fmla="*/ 478080 w 477720"/>
                <a:gd name="textAreaTop" fmla="*/ 0 h 374400"/>
                <a:gd name="textAreaBottom" fmla="*/ 374760 h 374400"/>
              </a:gdLst>
              <a:ahLst/>
              <a:rect l="textAreaLeft" t="textAreaTop" r="textAreaRight" b="textAreaBottom"/>
              <a:pathLst>
                <a:path w="400050" h="266700">
                  <a:moveTo>
                    <a:pt x="7144" y="39529"/>
                  </a:moveTo>
                  <a:lnTo>
                    <a:pt x="396716" y="264319"/>
                  </a:lnTo>
                  <a:lnTo>
                    <a:pt x="396716" y="231934"/>
                  </a:lnTo>
                  <a:lnTo>
                    <a:pt x="7144" y="7144"/>
                  </a:lnTo>
                  <a:lnTo>
                    <a:pt x="7144" y="39529"/>
                  </a:lnTo>
                  <a:close/>
                </a:path>
              </a:pathLst>
            </a:custGeom>
            <a:solidFill>
              <a:srgbClr val="fc4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0" name="任意多边形: 形状 27"/>
            <p:cNvSpPr/>
            <p:nvPr/>
          </p:nvSpPr>
          <p:spPr>
            <a:xfrm>
              <a:off x="2084040" y="3017520"/>
              <a:ext cx="1069200" cy="735840"/>
            </a:xfrm>
            <a:custGeom>
              <a:avLst/>
              <a:gdLst>
                <a:gd name="textAreaLeft" fmla="*/ 0 w 1069200"/>
                <a:gd name="textAreaRight" fmla="*/ 1069560 w 1069200"/>
                <a:gd name="textAreaTop" fmla="*/ 0 h 735840"/>
                <a:gd name="textAreaBottom" fmla="*/ 736200 h 735840"/>
              </a:gdLst>
              <a:ahLst/>
              <a:rect l="textAreaLeft" t="textAreaTop" r="textAreaRight" b="textAreaBottom"/>
              <a:pathLst>
                <a:path w="895350" h="523875">
                  <a:moveTo>
                    <a:pt x="7144" y="295751"/>
                  </a:moveTo>
                  <a:lnTo>
                    <a:pt x="508159" y="7144"/>
                  </a:lnTo>
                  <a:lnTo>
                    <a:pt x="896779" y="231934"/>
                  </a:lnTo>
                  <a:lnTo>
                    <a:pt x="396716" y="520541"/>
                  </a:lnTo>
                  <a:lnTo>
                    <a:pt x="7144" y="295751"/>
                  </a:lnTo>
                  <a:close/>
                </a:path>
              </a:pathLst>
            </a:custGeom>
            <a:solidFill>
              <a:srgbClr val="e2c1a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1" name="任意多边形: 形状 28"/>
            <p:cNvSpPr/>
            <p:nvPr/>
          </p:nvSpPr>
          <p:spPr>
            <a:xfrm>
              <a:off x="2549160" y="3333240"/>
              <a:ext cx="614160" cy="468000"/>
            </a:xfrm>
            <a:custGeom>
              <a:avLst/>
              <a:gdLst>
                <a:gd name="textAreaLeft" fmla="*/ 0 w 614160"/>
                <a:gd name="textAreaRight" fmla="*/ 614520 w 614160"/>
                <a:gd name="textAreaTop" fmla="*/ 0 h 468000"/>
                <a:gd name="textAreaBottom" fmla="*/ 468360 h 468000"/>
              </a:gdLst>
              <a:ahLst/>
              <a:rect l="textAreaLeft" t="textAreaTop" r="textAreaRight" b="textAreaBottom"/>
              <a:pathLst>
                <a:path w="514350" h="333375">
                  <a:moveTo>
                    <a:pt x="7144" y="328136"/>
                  </a:moveTo>
                  <a:lnTo>
                    <a:pt x="507206" y="39529"/>
                  </a:lnTo>
                  <a:lnTo>
                    <a:pt x="507206" y="7144"/>
                  </a:lnTo>
                  <a:lnTo>
                    <a:pt x="7144" y="295751"/>
                  </a:lnTo>
                  <a:lnTo>
                    <a:pt x="7144" y="328136"/>
                  </a:lnTo>
                  <a:close/>
                </a:path>
              </a:pathLst>
            </a:custGeom>
            <a:solidFill>
              <a:srgbClr val="ff9da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2" name="任意多边形: 形状 29"/>
            <p:cNvSpPr/>
            <p:nvPr/>
          </p:nvSpPr>
          <p:spPr>
            <a:xfrm>
              <a:off x="2084040" y="3242160"/>
              <a:ext cx="477720" cy="374400"/>
            </a:xfrm>
            <a:custGeom>
              <a:avLst/>
              <a:gdLst>
                <a:gd name="textAreaLeft" fmla="*/ 0 w 477720"/>
                <a:gd name="textAreaRight" fmla="*/ 478080 w 477720"/>
                <a:gd name="textAreaTop" fmla="*/ 0 h 374400"/>
                <a:gd name="textAreaBottom" fmla="*/ 374760 h 374400"/>
              </a:gdLst>
              <a:ahLst/>
              <a:rect l="textAreaLeft" t="textAreaTop" r="textAreaRight" b="textAreaBottom"/>
              <a:pathLst>
                <a:path w="400050" h="266700">
                  <a:moveTo>
                    <a:pt x="7144" y="38576"/>
                  </a:moveTo>
                  <a:lnTo>
                    <a:pt x="396716" y="263366"/>
                  </a:lnTo>
                  <a:lnTo>
                    <a:pt x="396716" y="230981"/>
                  </a:lnTo>
                  <a:lnTo>
                    <a:pt x="7144" y="7144"/>
                  </a:lnTo>
                  <a:lnTo>
                    <a:pt x="7144" y="38576"/>
                  </a:lnTo>
                  <a:close/>
                </a:path>
              </a:pathLst>
            </a:custGeom>
            <a:solidFill>
              <a:srgbClr val="fc4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3" name="任意多边形: 形状 30"/>
            <p:cNvSpPr/>
            <p:nvPr/>
          </p:nvSpPr>
          <p:spPr>
            <a:xfrm>
              <a:off x="2084040" y="2835360"/>
              <a:ext cx="1069200" cy="735840"/>
            </a:xfrm>
            <a:custGeom>
              <a:avLst/>
              <a:gdLst>
                <a:gd name="textAreaLeft" fmla="*/ 0 w 1069200"/>
                <a:gd name="textAreaRight" fmla="*/ 1069560 w 1069200"/>
                <a:gd name="textAreaTop" fmla="*/ 0 h 735840"/>
                <a:gd name="textAreaBottom" fmla="*/ 736200 h 735840"/>
              </a:gdLst>
              <a:ahLst/>
              <a:rect l="textAreaLeft" t="textAreaTop" r="textAreaRight" b="textAreaBottom"/>
              <a:pathLst>
                <a:path w="895350" h="523875">
                  <a:moveTo>
                    <a:pt x="896779" y="231934"/>
                  </a:moveTo>
                  <a:lnTo>
                    <a:pt x="396716" y="520541"/>
                  </a:lnTo>
                  <a:lnTo>
                    <a:pt x="7144" y="296704"/>
                  </a:lnTo>
                  <a:lnTo>
                    <a:pt x="508159" y="7144"/>
                  </a:lnTo>
                  <a:lnTo>
                    <a:pt x="896779" y="231934"/>
                  </a:lnTo>
                  <a:close/>
                </a:path>
              </a:pathLst>
            </a:custGeom>
            <a:solidFill>
              <a:srgbClr val="ff738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4" name="任意多边形: 形状 31"/>
            <p:cNvSpPr/>
            <p:nvPr/>
          </p:nvSpPr>
          <p:spPr>
            <a:xfrm>
              <a:off x="2549160" y="3151080"/>
              <a:ext cx="614160" cy="468000"/>
            </a:xfrm>
            <a:custGeom>
              <a:avLst/>
              <a:gdLst>
                <a:gd name="textAreaLeft" fmla="*/ 0 w 614160"/>
                <a:gd name="textAreaRight" fmla="*/ 614520 w 614160"/>
                <a:gd name="textAreaTop" fmla="*/ 0 h 468000"/>
                <a:gd name="textAreaBottom" fmla="*/ 468360 h 468000"/>
              </a:gdLst>
              <a:ahLst/>
              <a:rect l="textAreaLeft" t="textAreaTop" r="textAreaRight" b="textAreaBottom"/>
              <a:pathLst>
                <a:path w="514350" h="333375">
                  <a:moveTo>
                    <a:pt x="7144" y="328136"/>
                  </a:moveTo>
                  <a:lnTo>
                    <a:pt x="507206" y="39529"/>
                  </a:lnTo>
                  <a:lnTo>
                    <a:pt x="507206" y="7144"/>
                  </a:lnTo>
                  <a:lnTo>
                    <a:pt x="7144" y="295751"/>
                  </a:lnTo>
                  <a:lnTo>
                    <a:pt x="7144" y="328136"/>
                  </a:lnTo>
                  <a:close/>
                </a:path>
              </a:pathLst>
            </a:custGeom>
            <a:solidFill>
              <a:srgbClr val="ff9da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5" name="任意多边形: 形状 32"/>
            <p:cNvSpPr/>
            <p:nvPr/>
          </p:nvSpPr>
          <p:spPr>
            <a:xfrm>
              <a:off x="2052720" y="3196800"/>
              <a:ext cx="1103400" cy="561600"/>
            </a:xfrm>
            <a:custGeom>
              <a:avLst/>
              <a:gdLst>
                <a:gd name="textAreaLeft" fmla="*/ 0 w 1103400"/>
                <a:gd name="textAreaRight" fmla="*/ 1103760 w 1103400"/>
                <a:gd name="textAreaTop" fmla="*/ 0 h 561600"/>
                <a:gd name="textAreaBottom" fmla="*/ 561960 h 561600"/>
              </a:gdLst>
              <a:ahLst/>
              <a:rect l="textAreaLeft" t="textAreaTop" r="textAreaRight" b="textAreaBottom"/>
              <a:pathLst>
                <a:path w="923925" h="400050">
                  <a:moveTo>
                    <a:pt x="33479" y="70961"/>
                  </a:moveTo>
                  <a:lnTo>
                    <a:pt x="33479" y="70961"/>
                  </a:lnTo>
                  <a:cubicBezTo>
                    <a:pt x="4904" y="88106"/>
                    <a:pt x="-1764" y="127159"/>
                    <a:pt x="20144" y="152876"/>
                  </a:cubicBezTo>
                  <a:lnTo>
                    <a:pt x="33479" y="168116"/>
                  </a:lnTo>
                  <a:lnTo>
                    <a:pt x="422099" y="392906"/>
                  </a:lnTo>
                  <a:lnTo>
                    <a:pt x="922161" y="104299"/>
                  </a:lnTo>
                  <a:lnTo>
                    <a:pt x="922161" y="7144"/>
                  </a:lnTo>
                  <a:lnTo>
                    <a:pt x="422099" y="295751"/>
                  </a:lnTo>
                  <a:lnTo>
                    <a:pt x="33479" y="7096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6" name="任意多边形: 形状 33"/>
            <p:cNvSpPr/>
            <p:nvPr/>
          </p:nvSpPr>
          <p:spPr>
            <a:xfrm>
              <a:off x="2052720" y="3286440"/>
              <a:ext cx="511560" cy="468000"/>
            </a:xfrm>
            <a:custGeom>
              <a:avLst/>
              <a:gdLst>
                <a:gd name="textAreaLeft" fmla="*/ 0 w 511560"/>
                <a:gd name="textAreaRight" fmla="*/ 511920 w 511560"/>
                <a:gd name="textAreaTop" fmla="*/ 0 h 468000"/>
                <a:gd name="textAreaBottom" fmla="*/ 468360 h 468000"/>
              </a:gdLst>
              <a:ahLst/>
              <a:rect l="textAreaLeft" t="textAreaTop" r="textAreaRight" b="textAreaBottom"/>
              <a:pathLst>
                <a:path w="428625" h="333375">
                  <a:moveTo>
                    <a:pt x="33479" y="7144"/>
                  </a:moveTo>
                  <a:cubicBezTo>
                    <a:pt x="4904" y="24289"/>
                    <a:pt x="-1764" y="63341"/>
                    <a:pt x="20144" y="89059"/>
                  </a:cubicBezTo>
                  <a:lnTo>
                    <a:pt x="33479" y="104299"/>
                  </a:lnTo>
                  <a:lnTo>
                    <a:pt x="422099" y="329089"/>
                  </a:lnTo>
                  <a:lnTo>
                    <a:pt x="422099" y="231934"/>
                  </a:lnTo>
                  <a:lnTo>
                    <a:pt x="33479" y="7144"/>
                  </a:lnTo>
                  <a:close/>
                </a:path>
              </a:pathLst>
            </a:custGeom>
            <a:solidFill>
              <a:srgbClr val="7575f0">
                <a:alpha val="3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7" name="任意多边形: 形状 34"/>
            <p:cNvSpPr/>
            <p:nvPr/>
          </p:nvSpPr>
          <p:spPr>
            <a:xfrm>
              <a:off x="2025000" y="3242160"/>
              <a:ext cx="68040" cy="240480"/>
            </a:xfrm>
            <a:custGeom>
              <a:avLst/>
              <a:gdLst>
                <a:gd name="textAreaLeft" fmla="*/ 0 w 68040"/>
                <a:gd name="textAreaRight" fmla="*/ 68400 w 68040"/>
                <a:gd name="textAreaTop" fmla="*/ 0 h 240480"/>
                <a:gd name="textAreaBottom" fmla="*/ 240840 h 240480"/>
              </a:gdLst>
              <a:ahLst/>
              <a:rect l="textAreaLeft" t="textAreaTop" r="textAreaRight" b="textAreaBottom"/>
              <a:pathLst>
                <a:path w="57150" h="171450">
                  <a:moveTo>
                    <a:pt x="47909" y="11906"/>
                  </a:moveTo>
                  <a:lnTo>
                    <a:pt x="56482" y="7144"/>
                  </a:lnTo>
                  <a:lnTo>
                    <a:pt x="56482" y="39529"/>
                  </a:lnTo>
                  <a:cubicBezTo>
                    <a:pt x="27907" y="56674"/>
                    <a:pt x="21239" y="95726"/>
                    <a:pt x="43147" y="121444"/>
                  </a:cubicBezTo>
                  <a:lnTo>
                    <a:pt x="56482" y="136684"/>
                  </a:lnTo>
                  <a:lnTo>
                    <a:pt x="56482" y="169069"/>
                  </a:lnTo>
                  <a:lnTo>
                    <a:pt x="28859" y="139541"/>
                  </a:lnTo>
                  <a:cubicBezTo>
                    <a:pt x="-6383" y="100489"/>
                    <a:pt x="2189" y="38576"/>
                    <a:pt x="47909" y="11906"/>
                  </a:cubicBezTo>
                  <a:close/>
                </a:path>
              </a:pathLst>
            </a:custGeom>
            <a:solidFill>
              <a:srgbClr val="fc4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8" name="任意多边形: 形状 35"/>
            <p:cNvSpPr/>
            <p:nvPr/>
          </p:nvSpPr>
          <p:spPr>
            <a:xfrm>
              <a:off x="2317320" y="2993400"/>
              <a:ext cx="602640" cy="414720"/>
            </a:xfrm>
            <a:custGeom>
              <a:avLst/>
              <a:gdLst>
                <a:gd name="textAreaLeft" fmla="*/ 0 w 602640"/>
                <a:gd name="textAreaRight" fmla="*/ 603000 w 602640"/>
                <a:gd name="textAreaTop" fmla="*/ 0 h 414720"/>
                <a:gd name="textAreaBottom" fmla="*/ 415080 h 414720"/>
              </a:gdLst>
              <a:ahLst/>
              <a:rect l="textAreaLeft" t="textAreaTop" r="textAreaRight" b="textAreaBottom"/>
              <a:pathLst>
                <a:path w="504825" h="295275">
                  <a:moveTo>
                    <a:pt x="7144" y="200501"/>
                  </a:moveTo>
                  <a:lnTo>
                    <a:pt x="339566" y="7144"/>
                  </a:lnTo>
                  <a:lnTo>
                    <a:pt x="506254" y="104299"/>
                  </a:lnTo>
                  <a:lnTo>
                    <a:pt x="174784" y="296704"/>
                  </a:lnTo>
                  <a:lnTo>
                    <a:pt x="7144" y="20050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09" name="任意多边形: 形状 36"/>
            <p:cNvSpPr/>
            <p:nvPr/>
          </p:nvSpPr>
          <p:spPr>
            <a:xfrm>
              <a:off x="2670840" y="3214080"/>
              <a:ext cx="443520" cy="347760"/>
            </a:xfrm>
            <a:custGeom>
              <a:avLst/>
              <a:gdLst>
                <a:gd name="textAreaLeft" fmla="*/ 0 w 443520"/>
                <a:gd name="textAreaRight" fmla="*/ 443880 w 443520"/>
                <a:gd name="textAreaTop" fmla="*/ 0 h 347760"/>
                <a:gd name="textAreaBottom" fmla="*/ 348120 h 347760"/>
              </a:gdLst>
              <a:ahLst/>
              <a:rect l="textAreaLeft" t="textAreaTop" r="textAreaRight" b="textAreaBottom"/>
              <a:pathLst>
                <a:path w="371475" h="247650">
                  <a:moveTo>
                    <a:pt x="370046" y="36671"/>
                  </a:moveTo>
                  <a:lnTo>
                    <a:pt x="7144" y="246221"/>
                  </a:lnTo>
                  <a:lnTo>
                    <a:pt x="7144" y="215741"/>
                  </a:lnTo>
                  <a:lnTo>
                    <a:pt x="370046" y="7144"/>
                  </a:lnTo>
                  <a:lnTo>
                    <a:pt x="370046" y="36671"/>
                  </a:lnTo>
                  <a:close/>
                </a:path>
              </a:pathLst>
            </a:custGeom>
            <a:solidFill>
              <a:srgbClr val="ffc66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0" name="任意多边形: 形状 37"/>
            <p:cNvSpPr/>
            <p:nvPr/>
          </p:nvSpPr>
          <p:spPr>
            <a:xfrm>
              <a:off x="2114640" y="2836800"/>
              <a:ext cx="1000800" cy="682200"/>
            </a:xfrm>
            <a:custGeom>
              <a:avLst/>
              <a:gdLst>
                <a:gd name="textAreaLeft" fmla="*/ 0 w 1000800"/>
                <a:gd name="textAreaRight" fmla="*/ 1001160 w 1000800"/>
                <a:gd name="textAreaTop" fmla="*/ 0 h 682200"/>
                <a:gd name="textAreaBottom" fmla="*/ 682560 h 682200"/>
              </a:gdLst>
              <a:ahLst/>
              <a:rect l="textAreaLeft" t="textAreaTop" r="textAreaRight" b="textAreaBottom"/>
              <a:pathLst>
                <a:path w="838200" h="485775">
                  <a:moveTo>
                    <a:pt x="835819" y="275749"/>
                  </a:moveTo>
                  <a:lnTo>
                    <a:pt x="370046" y="7144"/>
                  </a:lnTo>
                  <a:lnTo>
                    <a:pt x="7144" y="215741"/>
                  </a:lnTo>
                  <a:lnTo>
                    <a:pt x="472916" y="484346"/>
                  </a:lnTo>
                  <a:lnTo>
                    <a:pt x="835819" y="275749"/>
                  </a:lnTo>
                  <a:close/>
                </a:path>
              </a:pathLst>
            </a:custGeom>
            <a:solidFill>
              <a:srgbClr val="e2c1a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1" name="任意多边形: 形状 38"/>
            <p:cNvSpPr/>
            <p:nvPr/>
          </p:nvSpPr>
          <p:spPr>
            <a:xfrm>
              <a:off x="2114640" y="3129840"/>
              <a:ext cx="568440" cy="428040"/>
            </a:xfrm>
            <a:custGeom>
              <a:avLst/>
              <a:gdLst>
                <a:gd name="textAreaLeft" fmla="*/ 0 w 568440"/>
                <a:gd name="textAreaRight" fmla="*/ 568800 w 568440"/>
                <a:gd name="textAreaTop" fmla="*/ 0 h 428040"/>
                <a:gd name="textAreaBottom" fmla="*/ 428400 h 428040"/>
              </a:gdLst>
              <a:ahLst/>
              <a:rect l="textAreaLeft" t="textAreaTop" r="textAreaRight" b="textAreaBottom"/>
              <a:pathLst>
                <a:path w="476250" h="304800">
                  <a:moveTo>
                    <a:pt x="472916" y="306229"/>
                  </a:moveTo>
                  <a:lnTo>
                    <a:pt x="7144" y="37624"/>
                  </a:lnTo>
                  <a:lnTo>
                    <a:pt x="7144" y="7144"/>
                  </a:lnTo>
                  <a:lnTo>
                    <a:pt x="472916" y="275749"/>
                  </a:lnTo>
                  <a:lnTo>
                    <a:pt x="472916" y="306229"/>
                  </a:lnTo>
                  <a:close/>
                </a:path>
              </a:pathLst>
            </a:custGeom>
            <a:solidFill>
              <a:srgbClr val="f792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2" name="任意多边形: 形状 39"/>
            <p:cNvSpPr/>
            <p:nvPr/>
          </p:nvSpPr>
          <p:spPr>
            <a:xfrm>
              <a:off x="2670840" y="3045600"/>
              <a:ext cx="443520" cy="347760"/>
            </a:xfrm>
            <a:custGeom>
              <a:avLst/>
              <a:gdLst>
                <a:gd name="textAreaLeft" fmla="*/ 0 w 443520"/>
                <a:gd name="textAreaRight" fmla="*/ 443880 w 443520"/>
                <a:gd name="textAreaTop" fmla="*/ 0 h 347760"/>
                <a:gd name="textAreaBottom" fmla="*/ 348120 h 347760"/>
              </a:gdLst>
              <a:ahLst/>
              <a:rect l="textAreaLeft" t="textAreaTop" r="textAreaRight" b="textAreaBottom"/>
              <a:pathLst>
                <a:path w="371475" h="247650">
                  <a:moveTo>
                    <a:pt x="370046" y="36671"/>
                  </a:moveTo>
                  <a:lnTo>
                    <a:pt x="7144" y="246221"/>
                  </a:lnTo>
                  <a:lnTo>
                    <a:pt x="7144" y="215741"/>
                  </a:lnTo>
                  <a:lnTo>
                    <a:pt x="370046" y="7144"/>
                  </a:lnTo>
                  <a:lnTo>
                    <a:pt x="370046" y="36671"/>
                  </a:lnTo>
                  <a:close/>
                </a:path>
              </a:pathLst>
            </a:custGeom>
            <a:solidFill>
              <a:srgbClr val="ffc66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3" name="任意多边形: 形状 40"/>
            <p:cNvSpPr/>
            <p:nvPr/>
          </p:nvSpPr>
          <p:spPr>
            <a:xfrm>
              <a:off x="2114640" y="2666880"/>
              <a:ext cx="1000800" cy="682200"/>
            </a:xfrm>
            <a:custGeom>
              <a:avLst/>
              <a:gdLst>
                <a:gd name="textAreaLeft" fmla="*/ 0 w 1000800"/>
                <a:gd name="textAreaRight" fmla="*/ 1001160 w 1000800"/>
                <a:gd name="textAreaTop" fmla="*/ 0 h 682200"/>
                <a:gd name="textAreaBottom" fmla="*/ 682560 h 682200"/>
              </a:gdLst>
              <a:ahLst/>
              <a:rect l="textAreaLeft" t="textAreaTop" r="textAreaRight" b="textAreaBottom"/>
              <a:pathLst>
                <a:path w="838200" h="485775">
                  <a:moveTo>
                    <a:pt x="7144" y="216694"/>
                  </a:moveTo>
                  <a:lnTo>
                    <a:pt x="472916" y="485299"/>
                  </a:lnTo>
                  <a:lnTo>
                    <a:pt x="835819" y="276701"/>
                  </a:lnTo>
                  <a:lnTo>
                    <a:pt x="370046" y="7144"/>
                  </a:lnTo>
                  <a:lnTo>
                    <a:pt x="7144" y="216694"/>
                  </a:lnTo>
                  <a:close/>
                </a:path>
              </a:pathLst>
            </a:custGeom>
            <a:solidFill>
              <a:srgbClr val="ffb02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4" name="任意多边形: 形状 41"/>
            <p:cNvSpPr/>
            <p:nvPr/>
          </p:nvSpPr>
          <p:spPr>
            <a:xfrm>
              <a:off x="2114640" y="2961360"/>
              <a:ext cx="568440" cy="428040"/>
            </a:xfrm>
            <a:custGeom>
              <a:avLst/>
              <a:gdLst>
                <a:gd name="textAreaLeft" fmla="*/ 0 w 568440"/>
                <a:gd name="textAreaRight" fmla="*/ 568800 w 568440"/>
                <a:gd name="textAreaTop" fmla="*/ 0 h 428040"/>
                <a:gd name="textAreaBottom" fmla="*/ 428400 h 428040"/>
              </a:gdLst>
              <a:ahLst/>
              <a:rect l="textAreaLeft" t="textAreaTop" r="textAreaRight" b="textAreaBottom"/>
              <a:pathLst>
                <a:path w="476250" h="304800">
                  <a:moveTo>
                    <a:pt x="472916" y="306229"/>
                  </a:moveTo>
                  <a:lnTo>
                    <a:pt x="7144" y="36671"/>
                  </a:lnTo>
                  <a:lnTo>
                    <a:pt x="7144" y="7144"/>
                  </a:lnTo>
                  <a:lnTo>
                    <a:pt x="472916" y="275749"/>
                  </a:lnTo>
                  <a:lnTo>
                    <a:pt x="472916" y="306229"/>
                  </a:lnTo>
                  <a:close/>
                </a:path>
              </a:pathLst>
            </a:custGeom>
            <a:solidFill>
              <a:srgbClr val="f792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5" name="任意多边形: 形状 42"/>
            <p:cNvSpPr/>
            <p:nvPr/>
          </p:nvSpPr>
          <p:spPr>
            <a:xfrm>
              <a:off x="2114640" y="3002760"/>
              <a:ext cx="1035000" cy="521640"/>
            </a:xfrm>
            <a:custGeom>
              <a:avLst/>
              <a:gdLst>
                <a:gd name="textAreaLeft" fmla="*/ 0 w 1035000"/>
                <a:gd name="textAreaRight" fmla="*/ 1035360 w 1035000"/>
                <a:gd name="textAreaTop" fmla="*/ 0 h 521640"/>
                <a:gd name="textAreaBottom" fmla="*/ 522000 h 521640"/>
              </a:gdLst>
              <a:ahLst/>
              <a:rect l="textAreaLeft" t="textAreaTop" r="textAreaRight" b="textAreaBottom"/>
              <a:pathLst>
                <a:path w="866775" h="371475">
                  <a:moveTo>
                    <a:pt x="835819" y="67151"/>
                  </a:moveTo>
                  <a:lnTo>
                    <a:pt x="835819" y="67151"/>
                  </a:lnTo>
                  <a:cubicBezTo>
                    <a:pt x="862489" y="83344"/>
                    <a:pt x="868204" y="119539"/>
                    <a:pt x="848201" y="143351"/>
                  </a:cubicBezTo>
                  <a:lnTo>
                    <a:pt x="835819" y="157639"/>
                  </a:lnTo>
                  <a:lnTo>
                    <a:pt x="473869" y="366236"/>
                  </a:lnTo>
                  <a:lnTo>
                    <a:pt x="7144" y="97631"/>
                  </a:lnTo>
                  <a:lnTo>
                    <a:pt x="7144" y="7144"/>
                  </a:lnTo>
                  <a:lnTo>
                    <a:pt x="472916" y="275749"/>
                  </a:lnTo>
                  <a:lnTo>
                    <a:pt x="835819" y="6715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6" name="任意多边形: 形状 43"/>
            <p:cNvSpPr/>
            <p:nvPr/>
          </p:nvSpPr>
          <p:spPr>
            <a:xfrm>
              <a:off x="3103200" y="3045600"/>
              <a:ext cx="68040" cy="227160"/>
            </a:xfrm>
            <a:custGeom>
              <a:avLst/>
              <a:gdLst>
                <a:gd name="textAreaLeft" fmla="*/ 0 w 68040"/>
                <a:gd name="textAreaRight" fmla="*/ 68400 w 68040"/>
                <a:gd name="textAreaTop" fmla="*/ 0 h 227160"/>
                <a:gd name="textAreaBottom" fmla="*/ 227520 h 227160"/>
              </a:gdLst>
              <a:ahLst/>
              <a:rect l="textAreaLeft" t="textAreaTop" r="textAreaRight" b="textAreaBottom"/>
              <a:pathLst>
                <a:path w="57150" h="161925">
                  <a:moveTo>
                    <a:pt x="15716" y="11906"/>
                  </a:moveTo>
                  <a:lnTo>
                    <a:pt x="7144" y="7144"/>
                  </a:lnTo>
                  <a:lnTo>
                    <a:pt x="7144" y="36671"/>
                  </a:lnTo>
                  <a:cubicBezTo>
                    <a:pt x="33814" y="52864"/>
                    <a:pt x="39529" y="89059"/>
                    <a:pt x="19526" y="112871"/>
                  </a:cubicBezTo>
                  <a:lnTo>
                    <a:pt x="7144" y="127159"/>
                  </a:lnTo>
                  <a:lnTo>
                    <a:pt x="7144" y="156686"/>
                  </a:lnTo>
                  <a:lnTo>
                    <a:pt x="32861" y="129064"/>
                  </a:lnTo>
                  <a:cubicBezTo>
                    <a:pt x="67151" y="93821"/>
                    <a:pt x="58579" y="36671"/>
                    <a:pt x="15716" y="11906"/>
                  </a:cubicBezTo>
                  <a:close/>
                </a:path>
              </a:pathLst>
            </a:custGeom>
            <a:solidFill>
              <a:srgbClr val="ffc66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7" name="任意多边形: 形状 44"/>
            <p:cNvSpPr/>
            <p:nvPr/>
          </p:nvSpPr>
          <p:spPr>
            <a:xfrm>
              <a:off x="2264760" y="2748600"/>
              <a:ext cx="727920" cy="508320"/>
            </a:xfrm>
            <a:custGeom>
              <a:avLst/>
              <a:gdLst>
                <a:gd name="textAreaLeft" fmla="*/ 0 w 727920"/>
                <a:gd name="textAreaRight" fmla="*/ 728280 w 727920"/>
                <a:gd name="textAreaTop" fmla="*/ 0 h 508320"/>
                <a:gd name="textAreaBottom" fmla="*/ 508680 h 508320"/>
              </a:gdLst>
              <a:ahLst/>
              <a:rect l="textAreaLeft" t="textAreaTop" r="textAreaRight" b="textAreaBottom"/>
              <a:pathLst>
                <a:path w="609600" h="361950">
                  <a:moveTo>
                    <a:pt x="7144" y="147161"/>
                  </a:moveTo>
                  <a:lnTo>
                    <a:pt x="369094" y="356711"/>
                  </a:lnTo>
                  <a:lnTo>
                    <a:pt x="609124" y="218599"/>
                  </a:lnTo>
                  <a:lnTo>
                    <a:pt x="245269" y="7144"/>
                  </a:lnTo>
                  <a:lnTo>
                    <a:pt x="7144" y="147161"/>
                  </a:lnTo>
                  <a:close/>
                </a:path>
              </a:pathLst>
            </a:custGeom>
            <a:solidFill>
              <a:srgbClr val="f7920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8" name="任意多边形: 形状 45"/>
            <p:cNvSpPr/>
            <p:nvPr/>
          </p:nvSpPr>
          <p:spPr>
            <a:xfrm>
              <a:off x="2114640" y="3002760"/>
              <a:ext cx="568440" cy="521640"/>
            </a:xfrm>
            <a:custGeom>
              <a:avLst/>
              <a:gdLst>
                <a:gd name="textAreaLeft" fmla="*/ 0 w 568440"/>
                <a:gd name="textAreaRight" fmla="*/ 568800 w 568440"/>
                <a:gd name="textAreaTop" fmla="*/ 0 h 521640"/>
                <a:gd name="textAreaBottom" fmla="*/ 522000 h 521640"/>
              </a:gdLst>
              <a:ahLst/>
              <a:rect l="textAreaLeft" t="textAreaTop" r="textAreaRight" b="textAreaBottom"/>
              <a:pathLst>
                <a:path w="476250" h="371475">
                  <a:moveTo>
                    <a:pt x="472916" y="366236"/>
                  </a:moveTo>
                  <a:lnTo>
                    <a:pt x="472916" y="276701"/>
                  </a:lnTo>
                  <a:lnTo>
                    <a:pt x="7144" y="7144"/>
                  </a:lnTo>
                  <a:lnTo>
                    <a:pt x="7144" y="97631"/>
                  </a:lnTo>
                  <a:lnTo>
                    <a:pt x="472916" y="366236"/>
                  </a:lnTo>
                  <a:close/>
                </a:path>
              </a:pathLst>
            </a:custGeom>
            <a:solidFill>
              <a:srgbClr val="7575f0">
                <a:alpha val="3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19" name="任意多边形: 形状 46"/>
            <p:cNvSpPr/>
            <p:nvPr/>
          </p:nvSpPr>
          <p:spPr>
            <a:xfrm>
              <a:off x="1987200" y="2563920"/>
              <a:ext cx="1251000" cy="468000"/>
            </a:xfrm>
            <a:custGeom>
              <a:avLst/>
              <a:gdLst>
                <a:gd name="textAreaLeft" fmla="*/ 0 w 1251000"/>
                <a:gd name="textAreaRight" fmla="*/ 1251360 w 1251000"/>
                <a:gd name="textAreaTop" fmla="*/ 0 h 468000"/>
                <a:gd name="textAreaBottom" fmla="*/ 468360 h 468000"/>
              </a:gdLst>
              <a:ahLst/>
              <a:rect l="textAreaLeft" t="textAreaTop" r="textAreaRight" b="textAreaBottom"/>
              <a:pathLst>
                <a:path w="1047750" h="333375">
                  <a:moveTo>
                    <a:pt x="1042511" y="8096"/>
                  </a:moveTo>
                  <a:lnTo>
                    <a:pt x="1042511" y="30956"/>
                  </a:lnTo>
                  <a:lnTo>
                    <a:pt x="525304" y="330041"/>
                  </a:lnTo>
                  <a:lnTo>
                    <a:pt x="7144" y="30956"/>
                  </a:lnTo>
                  <a:lnTo>
                    <a:pt x="7144" y="7144"/>
                  </a:lnTo>
                  <a:lnTo>
                    <a:pt x="1042511" y="8096"/>
                  </a:lnTo>
                  <a:close/>
                </a:path>
              </a:pathLst>
            </a:custGeom>
            <a:solidFill>
              <a:srgbClr val="3b546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0" name="任意多边形: 形状 47"/>
            <p:cNvSpPr/>
            <p:nvPr/>
          </p:nvSpPr>
          <p:spPr>
            <a:xfrm>
              <a:off x="2261520" y="2678760"/>
              <a:ext cx="705240" cy="508320"/>
            </a:xfrm>
            <a:custGeom>
              <a:avLst/>
              <a:gdLst>
                <a:gd name="textAreaLeft" fmla="*/ 0 w 705240"/>
                <a:gd name="textAreaRight" fmla="*/ 705600 w 705240"/>
                <a:gd name="textAreaTop" fmla="*/ 0 h 508320"/>
                <a:gd name="textAreaBottom" fmla="*/ 508680 h 508320"/>
              </a:gdLst>
              <a:ahLst/>
              <a:rect l="textAreaLeft" t="textAreaTop" r="textAreaRight" b="textAreaBottom"/>
              <a:pathLst>
                <a:path w="590550" h="361950">
                  <a:moveTo>
                    <a:pt x="7144" y="7144"/>
                  </a:moveTo>
                  <a:lnTo>
                    <a:pt x="7144" y="189071"/>
                  </a:lnTo>
                  <a:cubicBezTo>
                    <a:pt x="7144" y="284321"/>
                    <a:pt x="137636" y="361474"/>
                    <a:pt x="298609" y="361474"/>
                  </a:cubicBezTo>
                  <a:cubicBezTo>
                    <a:pt x="459581" y="361474"/>
                    <a:pt x="590074" y="284321"/>
                    <a:pt x="590074" y="189071"/>
                  </a:cubicBezTo>
                  <a:lnTo>
                    <a:pt x="590074" y="7144"/>
                  </a:lnTo>
                  <a:lnTo>
                    <a:pt x="7144" y="7144"/>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1" name="任意多边形: 形状 48"/>
            <p:cNvSpPr/>
            <p:nvPr/>
          </p:nvSpPr>
          <p:spPr>
            <a:xfrm>
              <a:off x="2266920" y="2689560"/>
              <a:ext cx="705240" cy="414720"/>
            </a:xfrm>
            <a:custGeom>
              <a:avLst/>
              <a:gdLst>
                <a:gd name="textAreaLeft" fmla="*/ 0 w 705240"/>
                <a:gd name="textAreaRight" fmla="*/ 705600 w 705240"/>
                <a:gd name="textAreaTop" fmla="*/ 0 h 414720"/>
                <a:gd name="textAreaBottom" fmla="*/ 415080 h 414720"/>
              </a:gdLst>
              <a:ahLst/>
              <a:rect l="textAreaLeft" t="textAreaTop" r="textAreaRight" b="textAreaBottom"/>
              <a:pathLst>
                <a:path w="590550" h="295275">
                  <a:moveTo>
                    <a:pt x="584668" y="79534"/>
                  </a:moveTo>
                  <a:lnTo>
                    <a:pt x="305585" y="289084"/>
                  </a:lnTo>
                  <a:cubicBezTo>
                    <a:pt x="305585" y="289084"/>
                    <a:pt x="-3977" y="80486"/>
                    <a:pt x="7453" y="77629"/>
                  </a:cubicBezTo>
                  <a:cubicBezTo>
                    <a:pt x="19835" y="73819"/>
                    <a:pt x="203668" y="7144"/>
                    <a:pt x="203668" y="7144"/>
                  </a:cubicBezTo>
                  <a:lnTo>
                    <a:pt x="584668" y="79534"/>
                  </a:lnTo>
                  <a:close/>
                </a:path>
              </a:pathLst>
            </a:custGeom>
            <a:solidFill>
              <a:srgbClr val="0f273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2" name="任意多边形: 形状 49"/>
            <p:cNvSpPr/>
            <p:nvPr/>
          </p:nvSpPr>
          <p:spPr>
            <a:xfrm>
              <a:off x="1987200" y="2178360"/>
              <a:ext cx="1251000" cy="856080"/>
            </a:xfrm>
            <a:custGeom>
              <a:avLst/>
              <a:gdLst>
                <a:gd name="textAreaLeft" fmla="*/ 0 w 1251000"/>
                <a:gd name="textAreaRight" fmla="*/ 1251360 w 1251000"/>
                <a:gd name="textAreaTop" fmla="*/ 0 h 856080"/>
                <a:gd name="textAreaBottom" fmla="*/ 856440 h 856080"/>
              </a:gdLst>
              <a:ahLst/>
              <a:rect l="textAreaLeft" t="textAreaTop" r="textAreaRight" b="textAreaBottom"/>
              <a:pathLst>
                <a:path w="1047750" h="609600">
                  <a:moveTo>
                    <a:pt x="7144" y="305276"/>
                  </a:moveTo>
                  <a:lnTo>
                    <a:pt x="525304" y="7144"/>
                  </a:lnTo>
                  <a:lnTo>
                    <a:pt x="1042511" y="305276"/>
                  </a:lnTo>
                  <a:lnTo>
                    <a:pt x="525304" y="604361"/>
                  </a:lnTo>
                  <a:lnTo>
                    <a:pt x="7144" y="305276"/>
                  </a:lnTo>
                  <a:close/>
                </a:path>
              </a:pathLst>
            </a:custGeom>
            <a:solidFill>
              <a:srgbClr val="02669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3" name="任意多边形: 形状 50"/>
            <p:cNvSpPr/>
            <p:nvPr/>
          </p:nvSpPr>
          <p:spPr>
            <a:xfrm>
              <a:off x="1987200" y="2144880"/>
              <a:ext cx="1251000" cy="856080"/>
            </a:xfrm>
            <a:custGeom>
              <a:avLst/>
              <a:gdLst>
                <a:gd name="textAreaLeft" fmla="*/ 0 w 1251000"/>
                <a:gd name="textAreaRight" fmla="*/ 1251360 w 1251000"/>
                <a:gd name="textAreaTop" fmla="*/ 0 h 856080"/>
                <a:gd name="textAreaBottom" fmla="*/ 856440 h 856080"/>
              </a:gdLst>
              <a:ahLst/>
              <a:rect l="textAreaLeft" t="textAreaTop" r="textAreaRight" b="textAreaBottom"/>
              <a:pathLst>
                <a:path w="1047750" h="609600">
                  <a:moveTo>
                    <a:pt x="7144" y="305276"/>
                  </a:moveTo>
                  <a:lnTo>
                    <a:pt x="525304" y="7144"/>
                  </a:lnTo>
                  <a:lnTo>
                    <a:pt x="1042511" y="306229"/>
                  </a:lnTo>
                  <a:lnTo>
                    <a:pt x="525304" y="604361"/>
                  </a:lnTo>
                  <a:lnTo>
                    <a:pt x="7144" y="305276"/>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4" name="任意多边形: 形状 51"/>
            <p:cNvSpPr/>
            <p:nvPr/>
          </p:nvSpPr>
          <p:spPr>
            <a:xfrm>
              <a:off x="1987200" y="2563920"/>
              <a:ext cx="625320" cy="468000"/>
            </a:xfrm>
            <a:custGeom>
              <a:avLst/>
              <a:gdLst>
                <a:gd name="textAreaLeft" fmla="*/ 0 w 625320"/>
                <a:gd name="textAreaRight" fmla="*/ 625680 w 625320"/>
                <a:gd name="textAreaTop" fmla="*/ 0 h 468000"/>
                <a:gd name="textAreaBottom" fmla="*/ 468360 h 468000"/>
              </a:gdLst>
              <a:ahLst/>
              <a:rect l="textAreaLeft" t="textAreaTop" r="textAreaRight" b="textAreaBottom"/>
              <a:pathLst>
                <a:path w="523875" h="333375">
                  <a:moveTo>
                    <a:pt x="525304" y="330041"/>
                  </a:moveTo>
                  <a:lnTo>
                    <a:pt x="525304" y="306229"/>
                  </a:lnTo>
                  <a:lnTo>
                    <a:pt x="7144" y="7144"/>
                  </a:lnTo>
                  <a:lnTo>
                    <a:pt x="7144" y="30956"/>
                  </a:lnTo>
                  <a:lnTo>
                    <a:pt x="525304" y="330041"/>
                  </a:lnTo>
                  <a:close/>
                </a:path>
              </a:pathLst>
            </a:custGeom>
            <a:solidFill>
              <a:srgbClr val="0f273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5" name="任意多边形: 形状 52"/>
            <p:cNvSpPr/>
            <p:nvPr/>
          </p:nvSpPr>
          <p:spPr>
            <a:xfrm>
              <a:off x="2897280" y="3037320"/>
              <a:ext cx="90720" cy="280800"/>
            </a:xfrm>
            <a:custGeom>
              <a:avLst/>
              <a:gdLst>
                <a:gd name="textAreaLeft" fmla="*/ 0 w 90720"/>
                <a:gd name="textAreaRight" fmla="*/ 91080 w 90720"/>
                <a:gd name="textAreaTop" fmla="*/ 0 h 280800"/>
                <a:gd name="textAreaBottom" fmla="*/ 281160 h 280800"/>
              </a:gdLst>
              <a:ahLst/>
              <a:rect l="textAreaLeft" t="textAreaTop" r="textAreaRight" b="textAreaBottom"/>
              <a:pathLst>
                <a:path w="76200" h="200025">
                  <a:moveTo>
                    <a:pt x="28165" y="197644"/>
                  </a:moveTo>
                  <a:lnTo>
                    <a:pt x="50072" y="197644"/>
                  </a:lnTo>
                  <a:cubicBezTo>
                    <a:pt x="62455" y="197644"/>
                    <a:pt x="71980" y="187166"/>
                    <a:pt x="71980" y="174784"/>
                  </a:cubicBezTo>
                  <a:lnTo>
                    <a:pt x="61502" y="27146"/>
                  </a:lnTo>
                  <a:cubicBezTo>
                    <a:pt x="60549" y="15716"/>
                    <a:pt x="51024" y="7144"/>
                    <a:pt x="39595" y="7144"/>
                  </a:cubicBezTo>
                  <a:cubicBezTo>
                    <a:pt x="28165" y="7144"/>
                    <a:pt x="18640" y="15716"/>
                    <a:pt x="17687" y="27146"/>
                  </a:cubicBezTo>
                  <a:lnTo>
                    <a:pt x="7209" y="174784"/>
                  </a:lnTo>
                  <a:cubicBezTo>
                    <a:pt x="6257" y="187166"/>
                    <a:pt x="15782" y="197644"/>
                    <a:pt x="28165" y="197644"/>
                  </a:cubicBezTo>
                  <a:close/>
                </a:path>
              </a:pathLst>
            </a:custGeom>
            <a:solidFill>
              <a:srgbClr val="eb3e5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6" name="任意多边形: 形状 53"/>
            <p:cNvSpPr/>
            <p:nvPr/>
          </p:nvSpPr>
          <p:spPr>
            <a:xfrm>
              <a:off x="2594880" y="2502360"/>
              <a:ext cx="363960" cy="695520"/>
            </a:xfrm>
            <a:custGeom>
              <a:avLst/>
              <a:gdLst>
                <a:gd name="textAreaLeft" fmla="*/ 0 w 363960"/>
                <a:gd name="textAreaRight" fmla="*/ 364320 w 363960"/>
                <a:gd name="textAreaTop" fmla="*/ 0 h 695520"/>
                <a:gd name="textAreaBottom" fmla="*/ 695880 h 695520"/>
              </a:gdLst>
              <a:ahLst/>
              <a:rect l="textAreaLeft" t="textAreaTop" r="textAreaRight" b="textAreaBottom"/>
              <a:pathLst>
                <a:path w="304800" h="495300">
                  <a:moveTo>
                    <a:pt x="287179" y="490061"/>
                  </a:moveTo>
                  <a:lnTo>
                    <a:pt x="297656" y="490061"/>
                  </a:lnTo>
                  <a:lnTo>
                    <a:pt x="297656" y="174784"/>
                  </a:lnTo>
                  <a:lnTo>
                    <a:pt x="11906" y="7144"/>
                  </a:lnTo>
                  <a:lnTo>
                    <a:pt x="7144" y="15716"/>
                  </a:lnTo>
                  <a:lnTo>
                    <a:pt x="287179" y="181451"/>
                  </a:lnTo>
                  <a:lnTo>
                    <a:pt x="287179" y="490061"/>
                  </a:lnTo>
                  <a:close/>
                </a:path>
              </a:pathLst>
            </a:custGeom>
            <a:solidFill>
              <a:srgbClr val="eb3e5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7" name="任意多边形: 形状 54"/>
            <p:cNvSpPr/>
            <p:nvPr/>
          </p:nvSpPr>
          <p:spPr>
            <a:xfrm>
              <a:off x="2907720" y="2951640"/>
              <a:ext cx="68040" cy="79920"/>
            </a:xfrm>
            <a:custGeom>
              <a:avLst/>
              <a:gdLst>
                <a:gd name="textAreaLeft" fmla="*/ 0 w 68040"/>
                <a:gd name="textAreaRight" fmla="*/ 68400 w 68040"/>
                <a:gd name="textAreaTop" fmla="*/ 0 h 79920"/>
                <a:gd name="textAreaBottom" fmla="*/ 80280 h 79920"/>
              </a:gdLst>
              <a:ahLst/>
              <a:rect l="textAreaLeft" t="textAreaTop" r="textAreaRight" b="textAreaBottom"/>
              <a:pathLst>
                <a:path w="57150" h="57150">
                  <a:moveTo>
                    <a:pt x="-10767" y="31012"/>
                  </a:moveTo>
                  <a:cubicBezTo>
                    <a:pt x="-10767" y="-21189"/>
                    <a:pt x="-21245" y="-10712"/>
                    <a:pt x="30956" y="-10712"/>
                  </a:cubicBezTo>
                  <a:cubicBezTo>
                    <a:pt x="17621" y="-10712"/>
                    <a:pt x="7144" y="-21189"/>
                    <a:pt x="7144" y="31012"/>
                  </a:cubicBezTo>
                  <a:cubicBezTo>
                    <a:pt x="7144" y="17677"/>
                    <a:pt x="17621" y="7199"/>
                    <a:pt x="30956" y="7199"/>
                  </a:cubicBezTo>
                  <a:cubicBezTo>
                    <a:pt x="-22197" y="6247"/>
                    <a:pt x="-10767" y="17677"/>
                    <a:pt x="-10767" y="31012"/>
                  </a:cubicBezTo>
                  <a:close/>
                </a:path>
              </a:pathLst>
            </a:custGeom>
            <a:solidFill>
              <a:srgbClr val="eb3e51"/>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2028" name="任意多边形: 形状 55"/>
            <p:cNvSpPr/>
            <p:nvPr/>
          </p:nvSpPr>
          <p:spPr>
            <a:xfrm>
              <a:off x="687240" y="3833640"/>
              <a:ext cx="739080" cy="534960"/>
            </a:xfrm>
            <a:custGeom>
              <a:avLst/>
              <a:gdLst>
                <a:gd name="textAreaLeft" fmla="*/ 0 w 739080"/>
                <a:gd name="textAreaRight" fmla="*/ 739440 w 739080"/>
                <a:gd name="textAreaTop" fmla="*/ 0 h 534960"/>
                <a:gd name="textAreaBottom" fmla="*/ 535320 h 534960"/>
              </a:gdLst>
              <a:ahLst/>
              <a:rect l="textAreaLeft" t="textAreaTop" r="textAreaRight" b="textAreaBottom"/>
              <a:pathLst>
                <a:path w="619125" h="381000">
                  <a:moveTo>
                    <a:pt x="614839" y="191929"/>
                  </a:moveTo>
                  <a:cubicBezTo>
                    <a:pt x="614839" y="293983"/>
                    <a:pt x="478802" y="376714"/>
                    <a:pt x="310991" y="376714"/>
                  </a:cubicBezTo>
                  <a:cubicBezTo>
                    <a:pt x="143181" y="376714"/>
                    <a:pt x="7144" y="293983"/>
                    <a:pt x="7144" y="191929"/>
                  </a:cubicBezTo>
                  <a:cubicBezTo>
                    <a:pt x="7144" y="89875"/>
                    <a:pt x="143181" y="7144"/>
                    <a:pt x="310991" y="7144"/>
                  </a:cubicBezTo>
                  <a:cubicBezTo>
                    <a:pt x="478802" y="7144"/>
                    <a:pt x="614839" y="89875"/>
                    <a:pt x="614839" y="191929"/>
                  </a:cubicBezTo>
                  <a:close/>
                </a:path>
              </a:pathLst>
            </a:custGeom>
            <a:solidFill>
              <a:srgbClr val="0092a4">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29" name="任意多边形: 形状 56"/>
            <p:cNvSpPr/>
            <p:nvPr/>
          </p:nvSpPr>
          <p:spPr>
            <a:xfrm>
              <a:off x="2948400" y="1595520"/>
              <a:ext cx="989640" cy="1016640"/>
            </a:xfrm>
            <a:custGeom>
              <a:avLst/>
              <a:gdLst>
                <a:gd name="textAreaLeft" fmla="*/ 0 w 989640"/>
                <a:gd name="textAreaRight" fmla="*/ 990000 w 989640"/>
                <a:gd name="textAreaTop" fmla="*/ 0 h 1016640"/>
                <a:gd name="textAreaBottom" fmla="*/ 1017000 h 1016640"/>
              </a:gdLst>
              <a:ahLst/>
              <a:rect l="textAreaLeft" t="textAreaTop" r="textAreaRight" b="textAreaBottom"/>
              <a:pathLst>
                <a:path w="828675" h="723900">
                  <a:moveTo>
                    <a:pt x="824389" y="664208"/>
                  </a:moveTo>
                  <a:cubicBezTo>
                    <a:pt x="824389" y="548003"/>
                    <a:pt x="754856" y="415605"/>
                    <a:pt x="668179" y="367028"/>
                  </a:cubicBezTo>
                  <a:cubicBezTo>
                    <a:pt x="662464" y="363218"/>
                    <a:pt x="656749" y="361313"/>
                    <a:pt x="650081" y="358455"/>
                  </a:cubicBezTo>
                  <a:cubicBezTo>
                    <a:pt x="623411" y="222248"/>
                    <a:pt x="539592" y="86993"/>
                    <a:pt x="440531" y="31748"/>
                  </a:cubicBezTo>
                  <a:cubicBezTo>
                    <a:pt x="377666" y="-3495"/>
                    <a:pt x="320516" y="315"/>
                    <a:pt x="280511" y="35558"/>
                  </a:cubicBezTo>
                  <a:cubicBezTo>
                    <a:pt x="278606" y="36510"/>
                    <a:pt x="276701" y="38415"/>
                    <a:pt x="274796" y="40320"/>
                  </a:cubicBezTo>
                  <a:cubicBezTo>
                    <a:pt x="272891" y="41273"/>
                    <a:pt x="270986" y="43178"/>
                    <a:pt x="269081" y="45083"/>
                  </a:cubicBezTo>
                  <a:cubicBezTo>
                    <a:pt x="267176" y="46035"/>
                    <a:pt x="265271" y="47940"/>
                    <a:pt x="263366" y="49845"/>
                  </a:cubicBezTo>
                  <a:cubicBezTo>
                    <a:pt x="261461" y="50798"/>
                    <a:pt x="259556" y="52703"/>
                    <a:pt x="257651" y="54608"/>
                  </a:cubicBezTo>
                  <a:cubicBezTo>
                    <a:pt x="255746" y="55560"/>
                    <a:pt x="253841" y="57465"/>
                    <a:pt x="251936" y="59370"/>
                  </a:cubicBezTo>
                  <a:cubicBezTo>
                    <a:pt x="250031" y="60323"/>
                    <a:pt x="248126" y="62228"/>
                    <a:pt x="246221" y="64133"/>
                  </a:cubicBezTo>
                  <a:cubicBezTo>
                    <a:pt x="244316" y="65085"/>
                    <a:pt x="242411" y="66990"/>
                    <a:pt x="240506" y="68895"/>
                  </a:cubicBezTo>
                  <a:cubicBezTo>
                    <a:pt x="238601" y="69848"/>
                    <a:pt x="236696" y="71753"/>
                    <a:pt x="234791" y="73658"/>
                  </a:cubicBezTo>
                  <a:cubicBezTo>
                    <a:pt x="217646" y="86993"/>
                    <a:pt x="203359" y="106043"/>
                    <a:pt x="192881" y="128903"/>
                  </a:cubicBezTo>
                  <a:cubicBezTo>
                    <a:pt x="153829" y="107948"/>
                    <a:pt x="118586" y="111758"/>
                    <a:pt x="93821" y="134618"/>
                  </a:cubicBezTo>
                  <a:cubicBezTo>
                    <a:pt x="91916" y="135570"/>
                    <a:pt x="90011" y="137475"/>
                    <a:pt x="88106" y="139380"/>
                  </a:cubicBezTo>
                  <a:cubicBezTo>
                    <a:pt x="86201" y="140333"/>
                    <a:pt x="84296" y="142238"/>
                    <a:pt x="82391" y="144143"/>
                  </a:cubicBezTo>
                  <a:cubicBezTo>
                    <a:pt x="80486" y="145095"/>
                    <a:pt x="78581" y="147000"/>
                    <a:pt x="76676" y="148905"/>
                  </a:cubicBezTo>
                  <a:cubicBezTo>
                    <a:pt x="74771" y="149858"/>
                    <a:pt x="72866" y="151763"/>
                    <a:pt x="70961" y="153668"/>
                  </a:cubicBezTo>
                  <a:cubicBezTo>
                    <a:pt x="69056" y="154620"/>
                    <a:pt x="67151" y="156525"/>
                    <a:pt x="65246" y="158430"/>
                  </a:cubicBezTo>
                  <a:cubicBezTo>
                    <a:pt x="63341" y="159383"/>
                    <a:pt x="61436" y="161288"/>
                    <a:pt x="59531" y="163193"/>
                  </a:cubicBezTo>
                  <a:cubicBezTo>
                    <a:pt x="57626" y="164145"/>
                    <a:pt x="55721" y="166050"/>
                    <a:pt x="53816" y="167955"/>
                  </a:cubicBezTo>
                  <a:cubicBezTo>
                    <a:pt x="51911" y="168908"/>
                    <a:pt x="50006" y="170813"/>
                    <a:pt x="48101" y="172718"/>
                  </a:cubicBezTo>
                  <a:cubicBezTo>
                    <a:pt x="22384" y="191768"/>
                    <a:pt x="7144" y="229868"/>
                    <a:pt x="7144" y="282255"/>
                  </a:cubicBezTo>
                  <a:cubicBezTo>
                    <a:pt x="7144" y="287970"/>
                    <a:pt x="7144" y="293685"/>
                    <a:pt x="8096" y="298448"/>
                  </a:cubicBezTo>
                  <a:lnTo>
                    <a:pt x="769144" y="725168"/>
                  </a:lnTo>
                  <a:cubicBezTo>
                    <a:pt x="769144" y="723263"/>
                    <a:pt x="769144" y="720405"/>
                    <a:pt x="769144" y="717548"/>
                  </a:cubicBezTo>
                  <a:lnTo>
                    <a:pt x="773906" y="720405"/>
                  </a:lnTo>
                  <a:cubicBezTo>
                    <a:pt x="773906" y="718500"/>
                    <a:pt x="773906" y="715643"/>
                    <a:pt x="773906" y="712785"/>
                  </a:cubicBezTo>
                  <a:lnTo>
                    <a:pt x="778669" y="715643"/>
                  </a:lnTo>
                  <a:cubicBezTo>
                    <a:pt x="778669" y="713738"/>
                    <a:pt x="778669" y="710880"/>
                    <a:pt x="778669" y="708023"/>
                  </a:cubicBezTo>
                  <a:lnTo>
                    <a:pt x="783431" y="710880"/>
                  </a:lnTo>
                  <a:cubicBezTo>
                    <a:pt x="783431" y="708975"/>
                    <a:pt x="783431" y="706118"/>
                    <a:pt x="783431" y="703260"/>
                  </a:cubicBezTo>
                  <a:lnTo>
                    <a:pt x="788194" y="706118"/>
                  </a:lnTo>
                  <a:cubicBezTo>
                    <a:pt x="788194" y="704213"/>
                    <a:pt x="788194" y="701355"/>
                    <a:pt x="788194" y="698498"/>
                  </a:cubicBezTo>
                  <a:lnTo>
                    <a:pt x="792956" y="701355"/>
                  </a:lnTo>
                  <a:cubicBezTo>
                    <a:pt x="792956" y="699450"/>
                    <a:pt x="792956" y="696593"/>
                    <a:pt x="792956" y="693735"/>
                  </a:cubicBezTo>
                  <a:lnTo>
                    <a:pt x="797719" y="696593"/>
                  </a:lnTo>
                  <a:cubicBezTo>
                    <a:pt x="797719" y="694688"/>
                    <a:pt x="797719" y="691830"/>
                    <a:pt x="797719" y="688973"/>
                  </a:cubicBezTo>
                  <a:lnTo>
                    <a:pt x="802481" y="691830"/>
                  </a:lnTo>
                  <a:cubicBezTo>
                    <a:pt x="802481" y="689925"/>
                    <a:pt x="802481" y="687068"/>
                    <a:pt x="802481" y="684210"/>
                  </a:cubicBezTo>
                  <a:lnTo>
                    <a:pt x="807244" y="687068"/>
                  </a:lnTo>
                  <a:cubicBezTo>
                    <a:pt x="807244" y="685163"/>
                    <a:pt x="807244" y="682305"/>
                    <a:pt x="807244" y="679448"/>
                  </a:cubicBezTo>
                  <a:lnTo>
                    <a:pt x="812006" y="682305"/>
                  </a:lnTo>
                  <a:cubicBezTo>
                    <a:pt x="824389" y="674685"/>
                    <a:pt x="824389" y="669923"/>
                    <a:pt x="824389" y="66420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0" name="任意多边形: 形状 57"/>
            <p:cNvSpPr/>
            <p:nvPr/>
          </p:nvSpPr>
          <p:spPr>
            <a:xfrm>
              <a:off x="2955240" y="1650240"/>
              <a:ext cx="921240" cy="963000"/>
            </a:xfrm>
            <a:custGeom>
              <a:avLst/>
              <a:gdLst>
                <a:gd name="textAreaLeft" fmla="*/ 0 w 921240"/>
                <a:gd name="textAreaRight" fmla="*/ 921600 w 921240"/>
                <a:gd name="textAreaTop" fmla="*/ 0 h 963000"/>
                <a:gd name="textAreaBottom" fmla="*/ 963360 h 963000"/>
              </a:gdLst>
              <a:ahLst/>
              <a:rect l="textAreaLeft" t="textAreaTop" r="textAreaRight" b="textAreaBottom"/>
              <a:pathLst>
                <a:path w="771525" h="685800">
                  <a:moveTo>
                    <a:pt x="770096" y="680273"/>
                  </a:moveTo>
                  <a:cubicBezTo>
                    <a:pt x="770096" y="675510"/>
                    <a:pt x="771049" y="669795"/>
                    <a:pt x="771049" y="664081"/>
                  </a:cubicBezTo>
                  <a:cubicBezTo>
                    <a:pt x="771049" y="547876"/>
                    <a:pt x="701516" y="415478"/>
                    <a:pt x="614839" y="366901"/>
                  </a:cubicBezTo>
                  <a:cubicBezTo>
                    <a:pt x="609124" y="363090"/>
                    <a:pt x="603409" y="361185"/>
                    <a:pt x="596741" y="358328"/>
                  </a:cubicBezTo>
                  <a:cubicBezTo>
                    <a:pt x="570071" y="222120"/>
                    <a:pt x="486251" y="86865"/>
                    <a:pt x="387191" y="31620"/>
                  </a:cubicBezTo>
                  <a:cubicBezTo>
                    <a:pt x="281464" y="-27435"/>
                    <a:pt x="192881" y="24001"/>
                    <a:pt x="172879" y="146873"/>
                  </a:cubicBezTo>
                  <a:cubicBezTo>
                    <a:pt x="164306" y="140205"/>
                    <a:pt x="155734" y="133538"/>
                    <a:pt x="146209" y="128776"/>
                  </a:cubicBezTo>
                  <a:cubicBezTo>
                    <a:pt x="70009" y="85913"/>
                    <a:pt x="7144" y="134490"/>
                    <a:pt x="7144" y="237360"/>
                  </a:cubicBezTo>
                  <a:cubicBezTo>
                    <a:pt x="7144" y="243076"/>
                    <a:pt x="7144" y="248790"/>
                    <a:pt x="8096" y="253553"/>
                  </a:cubicBezTo>
                  <a:lnTo>
                    <a:pt x="770096" y="68027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1" name="任意多边形: 形状 58"/>
            <p:cNvSpPr/>
            <p:nvPr/>
          </p:nvSpPr>
          <p:spPr>
            <a:xfrm>
              <a:off x="1190880" y="1691640"/>
              <a:ext cx="989640" cy="1016640"/>
            </a:xfrm>
            <a:custGeom>
              <a:avLst/>
              <a:gdLst>
                <a:gd name="textAreaLeft" fmla="*/ 0 w 989640"/>
                <a:gd name="textAreaRight" fmla="*/ 990000 w 989640"/>
                <a:gd name="textAreaTop" fmla="*/ 0 h 1016640"/>
                <a:gd name="textAreaBottom" fmla="*/ 1017000 h 1016640"/>
              </a:gdLst>
              <a:ahLst/>
              <a:rect l="textAreaLeft" t="textAreaTop" r="textAreaRight" b="textAreaBottom"/>
              <a:pathLst>
                <a:path w="828675" h="723900">
                  <a:moveTo>
                    <a:pt x="7144" y="664208"/>
                  </a:moveTo>
                  <a:cubicBezTo>
                    <a:pt x="7144" y="548003"/>
                    <a:pt x="76676" y="415605"/>
                    <a:pt x="163354" y="367028"/>
                  </a:cubicBezTo>
                  <a:cubicBezTo>
                    <a:pt x="169069" y="363218"/>
                    <a:pt x="174784" y="361313"/>
                    <a:pt x="181451" y="358455"/>
                  </a:cubicBezTo>
                  <a:cubicBezTo>
                    <a:pt x="208121" y="222248"/>
                    <a:pt x="291941" y="86993"/>
                    <a:pt x="391001" y="31748"/>
                  </a:cubicBezTo>
                  <a:cubicBezTo>
                    <a:pt x="453866" y="-3495"/>
                    <a:pt x="511016" y="315"/>
                    <a:pt x="551021" y="35558"/>
                  </a:cubicBezTo>
                  <a:cubicBezTo>
                    <a:pt x="552926" y="36510"/>
                    <a:pt x="554831" y="38415"/>
                    <a:pt x="556736" y="40320"/>
                  </a:cubicBezTo>
                  <a:cubicBezTo>
                    <a:pt x="558641" y="41273"/>
                    <a:pt x="560546" y="43178"/>
                    <a:pt x="562451" y="45083"/>
                  </a:cubicBezTo>
                  <a:cubicBezTo>
                    <a:pt x="564356" y="46035"/>
                    <a:pt x="566261" y="47940"/>
                    <a:pt x="568166" y="49845"/>
                  </a:cubicBezTo>
                  <a:cubicBezTo>
                    <a:pt x="570071" y="50798"/>
                    <a:pt x="571976" y="52703"/>
                    <a:pt x="573881" y="54608"/>
                  </a:cubicBezTo>
                  <a:cubicBezTo>
                    <a:pt x="575786" y="55560"/>
                    <a:pt x="577691" y="57465"/>
                    <a:pt x="579596" y="59370"/>
                  </a:cubicBezTo>
                  <a:cubicBezTo>
                    <a:pt x="581501" y="60323"/>
                    <a:pt x="583406" y="62228"/>
                    <a:pt x="585311" y="64133"/>
                  </a:cubicBezTo>
                  <a:cubicBezTo>
                    <a:pt x="587216" y="65085"/>
                    <a:pt x="589121" y="66990"/>
                    <a:pt x="591026" y="68895"/>
                  </a:cubicBezTo>
                  <a:cubicBezTo>
                    <a:pt x="592931" y="69848"/>
                    <a:pt x="594836" y="71753"/>
                    <a:pt x="596741" y="73658"/>
                  </a:cubicBezTo>
                  <a:cubicBezTo>
                    <a:pt x="613886" y="86993"/>
                    <a:pt x="628174" y="106043"/>
                    <a:pt x="638651" y="128903"/>
                  </a:cubicBezTo>
                  <a:cubicBezTo>
                    <a:pt x="677704" y="107948"/>
                    <a:pt x="712946" y="111758"/>
                    <a:pt x="737711" y="134618"/>
                  </a:cubicBezTo>
                  <a:cubicBezTo>
                    <a:pt x="739616" y="135570"/>
                    <a:pt x="741521" y="137475"/>
                    <a:pt x="743426" y="139380"/>
                  </a:cubicBezTo>
                  <a:cubicBezTo>
                    <a:pt x="745331" y="140333"/>
                    <a:pt x="747236" y="142238"/>
                    <a:pt x="749141" y="144143"/>
                  </a:cubicBezTo>
                  <a:cubicBezTo>
                    <a:pt x="751046" y="145095"/>
                    <a:pt x="752951" y="147000"/>
                    <a:pt x="754856" y="148905"/>
                  </a:cubicBezTo>
                  <a:cubicBezTo>
                    <a:pt x="756761" y="149858"/>
                    <a:pt x="758666" y="151763"/>
                    <a:pt x="760571" y="153668"/>
                  </a:cubicBezTo>
                  <a:cubicBezTo>
                    <a:pt x="762476" y="154620"/>
                    <a:pt x="764381" y="156525"/>
                    <a:pt x="766286" y="158430"/>
                  </a:cubicBezTo>
                  <a:cubicBezTo>
                    <a:pt x="768191" y="159383"/>
                    <a:pt x="770096" y="161288"/>
                    <a:pt x="772001" y="163193"/>
                  </a:cubicBezTo>
                  <a:cubicBezTo>
                    <a:pt x="773906" y="164145"/>
                    <a:pt x="775811" y="166050"/>
                    <a:pt x="777716" y="167955"/>
                  </a:cubicBezTo>
                  <a:cubicBezTo>
                    <a:pt x="779621" y="168908"/>
                    <a:pt x="781526" y="170813"/>
                    <a:pt x="783431" y="172718"/>
                  </a:cubicBezTo>
                  <a:cubicBezTo>
                    <a:pt x="809149" y="191768"/>
                    <a:pt x="824389" y="229868"/>
                    <a:pt x="824389" y="282255"/>
                  </a:cubicBezTo>
                  <a:cubicBezTo>
                    <a:pt x="824389" y="287970"/>
                    <a:pt x="824389" y="293685"/>
                    <a:pt x="823436" y="298448"/>
                  </a:cubicBezTo>
                  <a:lnTo>
                    <a:pt x="62389" y="725168"/>
                  </a:lnTo>
                  <a:cubicBezTo>
                    <a:pt x="62389" y="723263"/>
                    <a:pt x="62389" y="720405"/>
                    <a:pt x="62389" y="717548"/>
                  </a:cubicBezTo>
                  <a:lnTo>
                    <a:pt x="57626" y="720405"/>
                  </a:lnTo>
                  <a:cubicBezTo>
                    <a:pt x="57626" y="718500"/>
                    <a:pt x="57626" y="715643"/>
                    <a:pt x="57626" y="712785"/>
                  </a:cubicBezTo>
                  <a:lnTo>
                    <a:pt x="52864" y="715643"/>
                  </a:lnTo>
                  <a:cubicBezTo>
                    <a:pt x="52864" y="713738"/>
                    <a:pt x="52864" y="710880"/>
                    <a:pt x="52864" y="708023"/>
                  </a:cubicBezTo>
                  <a:lnTo>
                    <a:pt x="48101" y="710880"/>
                  </a:lnTo>
                  <a:cubicBezTo>
                    <a:pt x="48101" y="708975"/>
                    <a:pt x="48101" y="706118"/>
                    <a:pt x="48101" y="703260"/>
                  </a:cubicBezTo>
                  <a:lnTo>
                    <a:pt x="43339" y="706118"/>
                  </a:lnTo>
                  <a:cubicBezTo>
                    <a:pt x="43339" y="704213"/>
                    <a:pt x="43339" y="701355"/>
                    <a:pt x="43339" y="698498"/>
                  </a:cubicBezTo>
                  <a:lnTo>
                    <a:pt x="38576" y="701355"/>
                  </a:lnTo>
                  <a:cubicBezTo>
                    <a:pt x="38576" y="699450"/>
                    <a:pt x="38576" y="696593"/>
                    <a:pt x="38576" y="693735"/>
                  </a:cubicBezTo>
                  <a:lnTo>
                    <a:pt x="33814" y="696593"/>
                  </a:lnTo>
                  <a:cubicBezTo>
                    <a:pt x="33814" y="694688"/>
                    <a:pt x="33814" y="691830"/>
                    <a:pt x="33814" y="688973"/>
                  </a:cubicBezTo>
                  <a:lnTo>
                    <a:pt x="29051" y="691830"/>
                  </a:lnTo>
                  <a:cubicBezTo>
                    <a:pt x="29051" y="689925"/>
                    <a:pt x="29051" y="687068"/>
                    <a:pt x="29051" y="684210"/>
                  </a:cubicBezTo>
                  <a:lnTo>
                    <a:pt x="24289" y="687068"/>
                  </a:lnTo>
                  <a:cubicBezTo>
                    <a:pt x="24289" y="685163"/>
                    <a:pt x="24289" y="682305"/>
                    <a:pt x="24289" y="679448"/>
                  </a:cubicBezTo>
                  <a:lnTo>
                    <a:pt x="19526" y="682305"/>
                  </a:lnTo>
                  <a:cubicBezTo>
                    <a:pt x="7144" y="674685"/>
                    <a:pt x="7144" y="668970"/>
                    <a:pt x="7144" y="66420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2" name="任意多边形: 形状 59"/>
            <p:cNvSpPr/>
            <p:nvPr/>
          </p:nvSpPr>
          <p:spPr>
            <a:xfrm>
              <a:off x="1247760" y="1746720"/>
              <a:ext cx="921240" cy="963000"/>
            </a:xfrm>
            <a:custGeom>
              <a:avLst/>
              <a:gdLst>
                <a:gd name="textAreaLeft" fmla="*/ 0 w 921240"/>
                <a:gd name="textAreaRight" fmla="*/ 921600 w 921240"/>
                <a:gd name="textAreaTop" fmla="*/ 0 h 963000"/>
                <a:gd name="textAreaBottom" fmla="*/ 963360 h 963000"/>
              </a:gdLst>
              <a:ahLst/>
              <a:rect l="textAreaLeft" t="textAreaTop" r="textAreaRight" b="textAreaBottom"/>
              <a:pathLst>
                <a:path w="771525" h="685800">
                  <a:moveTo>
                    <a:pt x="8096" y="680273"/>
                  </a:moveTo>
                  <a:cubicBezTo>
                    <a:pt x="8096" y="675510"/>
                    <a:pt x="7144" y="669796"/>
                    <a:pt x="7144" y="664080"/>
                  </a:cubicBezTo>
                  <a:cubicBezTo>
                    <a:pt x="7144" y="547875"/>
                    <a:pt x="76676" y="415478"/>
                    <a:pt x="163354" y="366900"/>
                  </a:cubicBezTo>
                  <a:cubicBezTo>
                    <a:pt x="169069" y="363090"/>
                    <a:pt x="174784" y="361185"/>
                    <a:pt x="181451" y="358328"/>
                  </a:cubicBezTo>
                  <a:cubicBezTo>
                    <a:pt x="208121" y="222120"/>
                    <a:pt x="291941" y="86865"/>
                    <a:pt x="391001" y="31620"/>
                  </a:cubicBezTo>
                  <a:cubicBezTo>
                    <a:pt x="496729" y="-27435"/>
                    <a:pt x="585311" y="24000"/>
                    <a:pt x="605314" y="146873"/>
                  </a:cubicBezTo>
                  <a:cubicBezTo>
                    <a:pt x="613886" y="140205"/>
                    <a:pt x="622459" y="133538"/>
                    <a:pt x="631984" y="128775"/>
                  </a:cubicBezTo>
                  <a:cubicBezTo>
                    <a:pt x="708184" y="85913"/>
                    <a:pt x="771049" y="134490"/>
                    <a:pt x="771049" y="237360"/>
                  </a:cubicBezTo>
                  <a:cubicBezTo>
                    <a:pt x="771049" y="243075"/>
                    <a:pt x="771049" y="248790"/>
                    <a:pt x="770096" y="253553"/>
                  </a:cubicBezTo>
                  <a:lnTo>
                    <a:pt x="8096" y="68027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3" name="任意多边形: 形状 60"/>
            <p:cNvSpPr/>
            <p:nvPr/>
          </p:nvSpPr>
          <p:spPr>
            <a:xfrm>
              <a:off x="800640" y="3484440"/>
              <a:ext cx="511560" cy="816120"/>
            </a:xfrm>
            <a:custGeom>
              <a:avLst/>
              <a:gdLst>
                <a:gd name="textAreaLeft" fmla="*/ 0 w 511560"/>
                <a:gd name="textAreaRight" fmla="*/ 511920 w 511560"/>
                <a:gd name="textAreaTop" fmla="*/ 0 h 816120"/>
                <a:gd name="textAreaBottom" fmla="*/ 816480 h 816120"/>
              </a:gdLst>
              <a:ahLst/>
              <a:rect l="textAreaLeft" t="textAreaTop" r="textAreaRight" b="textAreaBottom"/>
              <a:pathLst>
                <a:path w="428625" h="581025">
                  <a:moveTo>
                    <a:pt x="283369" y="7144"/>
                  </a:moveTo>
                  <a:lnTo>
                    <a:pt x="7144" y="99536"/>
                  </a:lnTo>
                  <a:lnTo>
                    <a:pt x="7144" y="447199"/>
                  </a:lnTo>
                  <a:cubicBezTo>
                    <a:pt x="7144" y="517684"/>
                    <a:pt x="100489" y="574834"/>
                    <a:pt x="216694" y="574834"/>
                  </a:cubicBezTo>
                  <a:cubicBezTo>
                    <a:pt x="331946" y="574834"/>
                    <a:pt x="426244" y="517684"/>
                    <a:pt x="426244" y="447199"/>
                  </a:cubicBezTo>
                  <a:lnTo>
                    <a:pt x="426244" y="99536"/>
                  </a:lnTo>
                  <a:lnTo>
                    <a:pt x="283369" y="714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4" name="任意多边形: 形状 61"/>
            <p:cNvSpPr/>
            <p:nvPr/>
          </p:nvSpPr>
          <p:spPr>
            <a:xfrm>
              <a:off x="799560" y="3434760"/>
              <a:ext cx="511560" cy="374400"/>
            </a:xfrm>
            <a:custGeom>
              <a:avLst/>
              <a:gdLst>
                <a:gd name="textAreaLeft" fmla="*/ 0 w 511560"/>
                <a:gd name="textAreaRight" fmla="*/ 511920 w 511560"/>
                <a:gd name="textAreaTop" fmla="*/ 0 h 374400"/>
                <a:gd name="textAreaBottom" fmla="*/ 374760 h 374400"/>
              </a:gdLst>
              <a:ahLst/>
              <a:rect l="textAreaLeft" t="textAreaTop" r="textAreaRight" b="textAreaBottom"/>
              <a:pathLst>
                <a:path w="428625" h="266700">
                  <a:moveTo>
                    <a:pt x="426244" y="134779"/>
                  </a:moveTo>
                  <a:cubicBezTo>
                    <a:pt x="426244" y="205270"/>
                    <a:pt x="332425" y="262414"/>
                    <a:pt x="216694" y="262414"/>
                  </a:cubicBezTo>
                  <a:cubicBezTo>
                    <a:pt x="100962" y="262414"/>
                    <a:pt x="7144" y="205270"/>
                    <a:pt x="7144" y="134779"/>
                  </a:cubicBezTo>
                  <a:cubicBezTo>
                    <a:pt x="7144" y="64288"/>
                    <a:pt x="100962" y="7144"/>
                    <a:pt x="216694" y="7144"/>
                  </a:cubicBezTo>
                  <a:cubicBezTo>
                    <a:pt x="332425" y="7144"/>
                    <a:pt x="426244" y="64288"/>
                    <a:pt x="426244" y="13477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5" name="任意多边形: 形状 62"/>
            <p:cNvSpPr/>
            <p:nvPr/>
          </p:nvSpPr>
          <p:spPr>
            <a:xfrm>
              <a:off x="832680" y="3520440"/>
              <a:ext cx="443520" cy="280800"/>
            </a:xfrm>
            <a:custGeom>
              <a:avLst/>
              <a:gdLst>
                <a:gd name="textAreaLeft" fmla="*/ 0 w 443520"/>
                <a:gd name="textAreaRight" fmla="*/ 443880 w 443520"/>
                <a:gd name="textAreaTop" fmla="*/ 0 h 280800"/>
                <a:gd name="textAreaBottom" fmla="*/ 281160 h 280800"/>
              </a:gdLst>
              <a:ahLst/>
              <a:rect l="textAreaLeft" t="textAreaTop" r="textAreaRight" b="textAreaBottom"/>
              <a:pathLst>
                <a:path w="371475" h="200025">
                  <a:moveTo>
                    <a:pt x="10954" y="140494"/>
                  </a:moveTo>
                  <a:cubicBezTo>
                    <a:pt x="48101" y="176689"/>
                    <a:pt x="113824" y="201454"/>
                    <a:pt x="189071" y="201454"/>
                  </a:cubicBezTo>
                  <a:cubicBezTo>
                    <a:pt x="264319" y="201454"/>
                    <a:pt x="330041" y="177641"/>
                    <a:pt x="367189" y="140494"/>
                  </a:cubicBezTo>
                  <a:cubicBezTo>
                    <a:pt x="370046" y="132874"/>
                    <a:pt x="370999" y="125254"/>
                    <a:pt x="370999" y="117634"/>
                  </a:cubicBezTo>
                  <a:cubicBezTo>
                    <a:pt x="370999" y="56674"/>
                    <a:pt x="289084" y="7144"/>
                    <a:pt x="189071" y="7144"/>
                  </a:cubicBezTo>
                  <a:cubicBezTo>
                    <a:pt x="88106" y="7144"/>
                    <a:pt x="7144" y="56674"/>
                    <a:pt x="7144" y="117634"/>
                  </a:cubicBezTo>
                  <a:cubicBezTo>
                    <a:pt x="7144" y="126206"/>
                    <a:pt x="9049" y="133826"/>
                    <a:pt x="10954" y="140494"/>
                  </a:cubicBezTo>
                  <a:close/>
                </a:path>
              </a:pathLst>
            </a:custGeom>
            <a:solidFill>
              <a:srgbClr val="672d2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6" name="任意多边形: 形状 63"/>
            <p:cNvSpPr/>
            <p:nvPr/>
          </p:nvSpPr>
          <p:spPr>
            <a:xfrm>
              <a:off x="799560" y="3434760"/>
              <a:ext cx="511560" cy="374400"/>
            </a:xfrm>
            <a:custGeom>
              <a:avLst/>
              <a:gdLst>
                <a:gd name="textAreaLeft" fmla="*/ 0 w 511560"/>
                <a:gd name="textAreaRight" fmla="*/ 511920 w 511560"/>
                <a:gd name="textAreaTop" fmla="*/ 0 h 374400"/>
                <a:gd name="textAreaBottom" fmla="*/ 374760 h 374400"/>
              </a:gdLst>
              <a:ahLst/>
              <a:rect l="textAreaLeft" t="textAreaTop" r="textAreaRight" b="textAreaBottom"/>
              <a:pathLst>
                <a:path w="428625" h="266700">
                  <a:moveTo>
                    <a:pt x="216694" y="22384"/>
                  </a:moveTo>
                  <a:cubicBezTo>
                    <a:pt x="322421" y="22384"/>
                    <a:pt x="411004" y="73819"/>
                    <a:pt x="411004" y="134779"/>
                  </a:cubicBezTo>
                  <a:cubicBezTo>
                    <a:pt x="411004" y="195739"/>
                    <a:pt x="321469" y="247174"/>
                    <a:pt x="216694" y="247174"/>
                  </a:cubicBezTo>
                  <a:cubicBezTo>
                    <a:pt x="111919" y="247174"/>
                    <a:pt x="22384" y="195739"/>
                    <a:pt x="22384" y="134779"/>
                  </a:cubicBezTo>
                  <a:cubicBezTo>
                    <a:pt x="22384" y="73819"/>
                    <a:pt x="111919" y="22384"/>
                    <a:pt x="216694" y="22384"/>
                  </a:cubicBezTo>
                  <a:moveTo>
                    <a:pt x="216694" y="7144"/>
                  </a:moveTo>
                  <a:cubicBezTo>
                    <a:pt x="101441" y="7144"/>
                    <a:pt x="7144" y="64294"/>
                    <a:pt x="7144" y="134779"/>
                  </a:cubicBezTo>
                  <a:cubicBezTo>
                    <a:pt x="7144" y="205264"/>
                    <a:pt x="100489" y="262414"/>
                    <a:pt x="216694" y="262414"/>
                  </a:cubicBezTo>
                  <a:cubicBezTo>
                    <a:pt x="332899" y="262414"/>
                    <a:pt x="426244" y="205264"/>
                    <a:pt x="426244" y="134779"/>
                  </a:cubicBezTo>
                  <a:cubicBezTo>
                    <a:pt x="426244" y="64294"/>
                    <a:pt x="332899" y="7144"/>
                    <a:pt x="216694" y="714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7" name="任意多边形: 形状 64"/>
            <p:cNvSpPr/>
            <p:nvPr/>
          </p:nvSpPr>
          <p:spPr>
            <a:xfrm>
              <a:off x="1254600" y="3805560"/>
              <a:ext cx="159120" cy="307440"/>
            </a:xfrm>
            <a:custGeom>
              <a:avLst/>
              <a:gdLst>
                <a:gd name="textAreaLeft" fmla="*/ 0 w 159120"/>
                <a:gd name="textAreaRight" fmla="*/ 159480 w 159120"/>
                <a:gd name="textAreaTop" fmla="*/ 0 h 307440"/>
                <a:gd name="textAreaBottom" fmla="*/ 307800 h 307440"/>
              </a:gdLst>
              <a:ahLst/>
              <a:rect l="textAreaLeft" t="textAreaTop" r="textAreaRight" b="textAreaBottom"/>
              <a:pathLst>
                <a:path w="133350" h="219075">
                  <a:moveTo>
                    <a:pt x="14764" y="11906"/>
                  </a:moveTo>
                  <a:lnTo>
                    <a:pt x="7144" y="7144"/>
                  </a:lnTo>
                  <a:lnTo>
                    <a:pt x="7144" y="42386"/>
                  </a:lnTo>
                  <a:cubicBezTo>
                    <a:pt x="42386" y="66199"/>
                    <a:pt x="64294" y="106204"/>
                    <a:pt x="64294" y="150019"/>
                  </a:cubicBezTo>
                  <a:cubicBezTo>
                    <a:pt x="64294" y="163354"/>
                    <a:pt x="59531" y="176689"/>
                    <a:pt x="50959" y="186214"/>
                  </a:cubicBezTo>
                  <a:cubicBezTo>
                    <a:pt x="48101" y="186214"/>
                    <a:pt x="45244"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cubicBezTo>
                    <a:pt x="43339" y="187166"/>
                    <a:pt x="43339" y="187166"/>
                    <a:pt x="43339" y="187166"/>
                  </a:cubicBezTo>
                  <a:lnTo>
                    <a:pt x="43339" y="217646"/>
                  </a:lnTo>
                  <a:cubicBezTo>
                    <a:pt x="58579" y="217646"/>
                    <a:pt x="73819" y="21383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87154" y="206216"/>
                    <a:pt x="87154" y="206216"/>
                    <a:pt x="87154" y="206216"/>
                  </a:cubicBezTo>
                  <a:cubicBezTo>
                    <a:pt x="114776" y="190024"/>
                    <a:pt x="130969" y="162401"/>
                    <a:pt x="130969" y="130016"/>
                  </a:cubicBezTo>
                  <a:cubicBezTo>
                    <a:pt x="94774" y="92869"/>
                    <a:pt x="64294" y="40481"/>
                    <a:pt x="14764" y="119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8" name="任意多边形: 形状 65"/>
            <p:cNvSpPr/>
            <p:nvPr/>
          </p:nvSpPr>
          <p:spPr>
            <a:xfrm>
              <a:off x="1211400" y="3833640"/>
              <a:ext cx="113400" cy="334440"/>
            </a:xfrm>
            <a:custGeom>
              <a:avLst/>
              <a:gdLst>
                <a:gd name="textAreaLeft" fmla="*/ 0 w 113400"/>
                <a:gd name="textAreaRight" fmla="*/ 113760 w 113400"/>
                <a:gd name="textAreaTop" fmla="*/ 0 h 334440"/>
                <a:gd name="textAreaBottom" fmla="*/ 334800 h 334440"/>
              </a:gdLst>
              <a:ahLst/>
              <a:rect l="textAreaLeft" t="textAreaTop" r="textAreaRight" b="textAreaBottom"/>
              <a:pathLst>
                <a:path w="95250" h="238125">
                  <a:moveTo>
                    <a:pt x="14764" y="11906"/>
                  </a:moveTo>
                  <a:lnTo>
                    <a:pt x="7144" y="7144"/>
                  </a:lnTo>
                  <a:lnTo>
                    <a:pt x="7144" y="42386"/>
                  </a:lnTo>
                  <a:cubicBezTo>
                    <a:pt x="42386" y="66199"/>
                    <a:pt x="64294" y="106204"/>
                    <a:pt x="64294" y="150019"/>
                  </a:cubicBezTo>
                  <a:cubicBezTo>
                    <a:pt x="64294" y="170974"/>
                    <a:pt x="53816" y="189071"/>
                    <a:pt x="35719" y="199549"/>
                  </a:cubicBezTo>
                  <a:cubicBezTo>
                    <a:pt x="27146" y="204311"/>
                    <a:pt x="16669" y="207169"/>
                    <a:pt x="7144" y="207169"/>
                  </a:cubicBezTo>
                  <a:lnTo>
                    <a:pt x="7144" y="237649"/>
                  </a:lnTo>
                  <a:cubicBezTo>
                    <a:pt x="22384" y="237649"/>
                    <a:pt x="37624" y="233839"/>
                    <a:pt x="50959" y="226219"/>
                  </a:cubicBezTo>
                  <a:cubicBezTo>
                    <a:pt x="78581" y="210026"/>
                    <a:pt x="94774" y="182404"/>
                    <a:pt x="94774" y="150019"/>
                  </a:cubicBezTo>
                  <a:cubicBezTo>
                    <a:pt x="94774" y="92869"/>
                    <a:pt x="64294" y="40481"/>
                    <a:pt x="14764" y="1190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39" name="任意多边形: 形状 66"/>
            <p:cNvSpPr/>
            <p:nvPr/>
          </p:nvSpPr>
          <p:spPr>
            <a:xfrm>
              <a:off x="3011040" y="4114440"/>
              <a:ext cx="1478520" cy="1003320"/>
            </a:xfrm>
            <a:custGeom>
              <a:avLst/>
              <a:gdLst>
                <a:gd name="textAreaLeft" fmla="*/ 0 w 1478520"/>
                <a:gd name="textAreaRight" fmla="*/ 1478880 w 1478520"/>
                <a:gd name="textAreaTop" fmla="*/ 0 h 1003320"/>
                <a:gd name="textAreaBottom" fmla="*/ 1003680 h 1003320"/>
              </a:gdLst>
              <a:ahLst/>
              <a:rect l="textAreaLeft" t="textAreaTop" r="textAreaRight" b="textAreaBottom"/>
              <a:pathLst>
                <a:path w="1238250" h="714375">
                  <a:moveTo>
                    <a:pt x="7144" y="423386"/>
                  </a:moveTo>
                  <a:lnTo>
                    <a:pt x="728186" y="7144"/>
                  </a:lnTo>
                  <a:lnTo>
                    <a:pt x="1233011" y="298609"/>
                  </a:lnTo>
                  <a:lnTo>
                    <a:pt x="511969" y="714851"/>
                  </a:lnTo>
                  <a:lnTo>
                    <a:pt x="7144" y="42338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0" name="任意多边形: 形状 67"/>
            <p:cNvSpPr/>
            <p:nvPr/>
          </p:nvSpPr>
          <p:spPr>
            <a:xfrm>
              <a:off x="3525120" y="4818240"/>
              <a:ext cx="204480" cy="133560"/>
            </a:xfrm>
            <a:custGeom>
              <a:avLst/>
              <a:gdLst>
                <a:gd name="textAreaLeft" fmla="*/ 0 w 204480"/>
                <a:gd name="textAreaRight" fmla="*/ 204840 w 204480"/>
                <a:gd name="textAreaTop" fmla="*/ 0 h 133560"/>
                <a:gd name="textAreaBottom" fmla="*/ 133920 h 133560"/>
              </a:gdLst>
              <a:ahLst/>
              <a:rect l="textAreaLeft" t="textAreaTop" r="textAreaRight" b="textAreaBottom"/>
              <a:pathLst>
                <a:path w="171450" h="95250">
                  <a:moveTo>
                    <a:pt x="165259" y="48101"/>
                  </a:moveTo>
                  <a:cubicBezTo>
                    <a:pt x="165259" y="70721"/>
                    <a:pt x="129864" y="89059"/>
                    <a:pt x="86201" y="89059"/>
                  </a:cubicBezTo>
                  <a:cubicBezTo>
                    <a:pt x="42539" y="89059"/>
                    <a:pt x="7144" y="70721"/>
                    <a:pt x="7144" y="48101"/>
                  </a:cubicBezTo>
                  <a:cubicBezTo>
                    <a:pt x="7144" y="25481"/>
                    <a:pt x="42539" y="7144"/>
                    <a:pt x="86201" y="7144"/>
                  </a:cubicBezTo>
                  <a:cubicBezTo>
                    <a:pt x="129864" y="7144"/>
                    <a:pt x="165259" y="25481"/>
                    <a:pt x="165259" y="48101"/>
                  </a:cubicBezTo>
                  <a:close/>
                </a:path>
              </a:pathLst>
            </a:custGeom>
            <a:solidFill>
              <a:srgbClr val="ff738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1" name="任意多边形: 形状 68"/>
            <p:cNvSpPr/>
            <p:nvPr/>
          </p:nvSpPr>
          <p:spPr>
            <a:xfrm>
              <a:off x="3859560" y="4212360"/>
              <a:ext cx="454680" cy="334440"/>
            </a:xfrm>
            <a:custGeom>
              <a:avLst/>
              <a:gdLst>
                <a:gd name="textAreaLeft" fmla="*/ 0 w 454680"/>
                <a:gd name="textAreaRight" fmla="*/ 455040 w 454680"/>
                <a:gd name="textAreaTop" fmla="*/ 0 h 334440"/>
                <a:gd name="textAreaBottom" fmla="*/ 334800 h 334440"/>
              </a:gdLst>
              <a:ahLst/>
              <a:rect l="textAreaLeft" t="textAreaTop" r="textAreaRight" b="textAreaBottom"/>
              <a:pathLst>
                <a:path w="381000" h="238125">
                  <a:moveTo>
                    <a:pt x="9773" y="26219"/>
                  </a:moveTo>
                  <a:lnTo>
                    <a:pt x="19387" y="9773"/>
                  </a:lnTo>
                  <a:lnTo>
                    <a:pt x="376262" y="218408"/>
                  </a:lnTo>
                  <a:lnTo>
                    <a:pt x="366648" y="234854"/>
                  </a:lnTo>
                  <a:lnTo>
                    <a:pt x="9773" y="26219"/>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2" name="任意多边形: 形状 69"/>
            <p:cNvSpPr/>
            <p:nvPr/>
          </p:nvSpPr>
          <p:spPr>
            <a:xfrm>
              <a:off x="3771000" y="4272840"/>
              <a:ext cx="466200" cy="334440"/>
            </a:xfrm>
            <a:custGeom>
              <a:avLst/>
              <a:gdLst>
                <a:gd name="textAreaLeft" fmla="*/ 0 w 466200"/>
                <a:gd name="textAreaRight" fmla="*/ 466560 w 466200"/>
                <a:gd name="textAreaTop" fmla="*/ 0 h 334440"/>
                <a:gd name="textAreaBottom" fmla="*/ 334800 h 334440"/>
              </a:gdLst>
              <a:ahLst/>
              <a:rect l="textAreaLeft" t="textAreaTop" r="textAreaRight" b="textAreaBottom"/>
              <a:pathLst>
                <a:path w="390525" h="238125">
                  <a:moveTo>
                    <a:pt x="9747" y="26288"/>
                  </a:moveTo>
                  <a:lnTo>
                    <a:pt x="19198" y="9747"/>
                  </a:lnTo>
                  <a:lnTo>
                    <a:pt x="384756" y="218607"/>
                  </a:lnTo>
                  <a:lnTo>
                    <a:pt x="375306" y="235149"/>
                  </a:lnTo>
                  <a:lnTo>
                    <a:pt x="9747" y="26288"/>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3" name="任意多边形: 形状 70"/>
            <p:cNvSpPr/>
            <p:nvPr/>
          </p:nvSpPr>
          <p:spPr>
            <a:xfrm>
              <a:off x="3691080" y="4335120"/>
              <a:ext cx="454680" cy="320760"/>
            </a:xfrm>
            <a:custGeom>
              <a:avLst/>
              <a:gdLst>
                <a:gd name="textAreaLeft" fmla="*/ 0 w 454680"/>
                <a:gd name="textAreaRight" fmla="*/ 455040 w 454680"/>
                <a:gd name="textAreaTop" fmla="*/ 0 h 320760"/>
                <a:gd name="textAreaBottom" fmla="*/ 321120 h 320760"/>
              </a:gdLst>
              <a:ahLst/>
              <a:rect l="textAreaLeft" t="textAreaTop" r="textAreaRight" b="textAreaBottom"/>
              <a:pathLst>
                <a:path w="381000" h="228600">
                  <a:moveTo>
                    <a:pt x="9715" y="26363"/>
                  </a:moveTo>
                  <a:lnTo>
                    <a:pt x="18976" y="9716"/>
                  </a:lnTo>
                  <a:lnTo>
                    <a:pt x="379400" y="210199"/>
                  </a:lnTo>
                  <a:lnTo>
                    <a:pt x="370140" y="226847"/>
                  </a:lnTo>
                  <a:lnTo>
                    <a:pt x="9715" y="26363"/>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4" name="任意多边形: 形状 71"/>
            <p:cNvSpPr/>
            <p:nvPr/>
          </p:nvSpPr>
          <p:spPr>
            <a:xfrm>
              <a:off x="3600360" y="4389840"/>
              <a:ext cx="454680" cy="334440"/>
            </a:xfrm>
            <a:custGeom>
              <a:avLst/>
              <a:gdLst>
                <a:gd name="textAreaLeft" fmla="*/ 0 w 454680"/>
                <a:gd name="textAreaRight" fmla="*/ 455040 w 454680"/>
                <a:gd name="textAreaTop" fmla="*/ 0 h 334440"/>
                <a:gd name="textAreaBottom" fmla="*/ 334800 h 334440"/>
              </a:gdLst>
              <a:ahLst/>
              <a:rect l="textAreaLeft" t="textAreaTop" r="textAreaRight" b="textAreaBottom"/>
              <a:pathLst>
                <a:path w="381000" h="238125">
                  <a:moveTo>
                    <a:pt x="9743" y="26299"/>
                  </a:moveTo>
                  <a:lnTo>
                    <a:pt x="19167" y="9743"/>
                  </a:lnTo>
                  <a:lnTo>
                    <a:pt x="375956" y="212831"/>
                  </a:lnTo>
                  <a:lnTo>
                    <a:pt x="366532" y="229387"/>
                  </a:lnTo>
                  <a:lnTo>
                    <a:pt x="9743" y="26299"/>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5" name="任意多边形: 形状 72"/>
            <p:cNvSpPr/>
            <p:nvPr/>
          </p:nvSpPr>
          <p:spPr>
            <a:xfrm>
              <a:off x="3517920" y="4447440"/>
              <a:ext cx="454680" cy="334440"/>
            </a:xfrm>
            <a:custGeom>
              <a:avLst/>
              <a:gdLst>
                <a:gd name="textAreaLeft" fmla="*/ 0 w 454680"/>
                <a:gd name="textAreaRight" fmla="*/ 455040 w 454680"/>
                <a:gd name="textAreaTop" fmla="*/ 0 h 334440"/>
                <a:gd name="textAreaBottom" fmla="*/ 334800 h 334440"/>
              </a:gdLst>
              <a:ahLst/>
              <a:rect l="textAreaLeft" t="textAreaTop" r="textAreaRight" b="textAreaBottom"/>
              <a:pathLst>
                <a:path w="381000" h="238125">
                  <a:moveTo>
                    <a:pt x="9765" y="26239"/>
                  </a:moveTo>
                  <a:lnTo>
                    <a:pt x="19330" y="9765"/>
                  </a:lnTo>
                  <a:lnTo>
                    <a:pt x="380120" y="219238"/>
                  </a:lnTo>
                  <a:lnTo>
                    <a:pt x="370555" y="235713"/>
                  </a:lnTo>
                  <a:lnTo>
                    <a:pt x="9765" y="26239"/>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6" name="任意多边形: 形状 73"/>
            <p:cNvSpPr/>
            <p:nvPr/>
          </p:nvSpPr>
          <p:spPr>
            <a:xfrm>
              <a:off x="3436200" y="4509360"/>
              <a:ext cx="454680" cy="334440"/>
            </a:xfrm>
            <a:custGeom>
              <a:avLst/>
              <a:gdLst>
                <a:gd name="textAreaLeft" fmla="*/ 0 w 454680"/>
                <a:gd name="textAreaRight" fmla="*/ 455040 w 454680"/>
                <a:gd name="textAreaTop" fmla="*/ 0 h 334440"/>
                <a:gd name="textAreaBottom" fmla="*/ 334800 h 334440"/>
              </a:gdLst>
              <a:ahLst/>
              <a:rect l="textAreaLeft" t="textAreaTop" r="textAreaRight" b="textAreaBottom"/>
              <a:pathLst>
                <a:path w="381000" h="238125">
                  <a:moveTo>
                    <a:pt x="9773" y="26218"/>
                  </a:moveTo>
                  <a:lnTo>
                    <a:pt x="19387" y="9773"/>
                  </a:lnTo>
                  <a:lnTo>
                    <a:pt x="376262" y="218408"/>
                  </a:lnTo>
                  <a:lnTo>
                    <a:pt x="366648" y="234854"/>
                  </a:lnTo>
                  <a:lnTo>
                    <a:pt x="9773" y="26218"/>
                  </a:ln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7" name="任意多边形: 形状 74"/>
            <p:cNvSpPr/>
            <p:nvPr/>
          </p:nvSpPr>
          <p:spPr>
            <a:xfrm>
              <a:off x="3926880" y="3844440"/>
              <a:ext cx="579960" cy="374400"/>
            </a:xfrm>
            <a:custGeom>
              <a:avLst/>
              <a:gdLst>
                <a:gd name="textAreaLeft" fmla="*/ 0 w 579960"/>
                <a:gd name="textAreaRight" fmla="*/ 580320 w 579960"/>
                <a:gd name="textAreaTop" fmla="*/ 0 h 374400"/>
                <a:gd name="textAreaBottom" fmla="*/ 374760 h 374400"/>
              </a:gdLst>
              <a:ahLst/>
              <a:rect l="textAreaLeft" t="textAreaTop" r="textAreaRight" b="textAreaBottom"/>
              <a:pathLst>
                <a:path w="485775" h="266700">
                  <a:moveTo>
                    <a:pt x="7144" y="154781"/>
                  </a:moveTo>
                  <a:lnTo>
                    <a:pt x="262414" y="7144"/>
                  </a:lnTo>
                  <a:lnTo>
                    <a:pt x="484346" y="135731"/>
                  </a:lnTo>
                  <a:lnTo>
                    <a:pt x="260509" y="265271"/>
                  </a:lnTo>
                  <a:lnTo>
                    <a:pt x="198596" y="264319"/>
                  </a:lnTo>
                  <a:lnTo>
                    <a:pt x="7144" y="15478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48" name="任意多边形: 形状 75"/>
            <p:cNvSpPr/>
            <p:nvPr/>
          </p:nvSpPr>
          <p:spPr>
            <a:xfrm>
              <a:off x="4155480" y="4154760"/>
              <a:ext cx="90720" cy="66600"/>
            </a:xfrm>
            <a:custGeom>
              <a:avLst/>
              <a:gdLst>
                <a:gd name="textAreaLeft" fmla="*/ 0 w 90720"/>
                <a:gd name="textAreaRight" fmla="*/ 91080 w 90720"/>
                <a:gd name="textAreaTop" fmla="*/ 0 h 66600"/>
                <a:gd name="textAreaBottom" fmla="*/ 66960 h 66600"/>
              </a:gdLst>
              <a:ahLst/>
              <a:rect l="textAreaLeft" t="textAreaTop" r="textAreaRight" b="textAreaBottom"/>
              <a:pathLst>
                <a:path w="76200" h="47625">
                  <a:moveTo>
                    <a:pt x="38576" y="7144"/>
                  </a:moveTo>
                  <a:lnTo>
                    <a:pt x="7144" y="43339"/>
                  </a:lnTo>
                  <a:lnTo>
                    <a:pt x="69056" y="44291"/>
                  </a:lnTo>
                  <a:lnTo>
                    <a:pt x="38576" y="7144"/>
                  </a:lnTo>
                  <a:close/>
                </a:path>
              </a:pathLst>
            </a:custGeom>
            <a:solidFill>
              <a:srgbClr val="0b3e5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2049" name="任意多边形: 形状 76"/>
            <p:cNvSpPr/>
            <p:nvPr/>
          </p:nvSpPr>
          <p:spPr>
            <a:xfrm>
              <a:off x="2204640" y="4883760"/>
              <a:ext cx="579960" cy="374400"/>
            </a:xfrm>
            <a:custGeom>
              <a:avLst/>
              <a:gdLst>
                <a:gd name="textAreaLeft" fmla="*/ 0 w 579960"/>
                <a:gd name="textAreaRight" fmla="*/ 580320 w 579960"/>
                <a:gd name="textAreaTop" fmla="*/ 0 h 374400"/>
                <a:gd name="textAreaBottom" fmla="*/ 374760 h 374400"/>
              </a:gdLst>
              <a:ahLst/>
              <a:rect l="textAreaLeft" t="textAreaTop" r="textAreaRight" b="textAreaBottom"/>
              <a:pathLst>
                <a:path w="485775" h="266700">
                  <a:moveTo>
                    <a:pt x="7144" y="153829"/>
                  </a:moveTo>
                  <a:lnTo>
                    <a:pt x="261461" y="7144"/>
                  </a:lnTo>
                  <a:lnTo>
                    <a:pt x="483394" y="135731"/>
                  </a:lnTo>
                  <a:lnTo>
                    <a:pt x="260509" y="265271"/>
                  </a:lnTo>
                  <a:lnTo>
                    <a:pt x="197644" y="264319"/>
                  </a:lnTo>
                  <a:lnTo>
                    <a:pt x="7144" y="153829"/>
                  </a:lnTo>
                  <a:close/>
                </a:path>
              </a:pathLst>
            </a:custGeom>
            <a:solidFill>
              <a:srgbClr val="ff738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50" name="任意多边形: 形状 77"/>
            <p:cNvSpPr/>
            <p:nvPr/>
          </p:nvSpPr>
          <p:spPr>
            <a:xfrm>
              <a:off x="2432160" y="5194440"/>
              <a:ext cx="90720" cy="66600"/>
            </a:xfrm>
            <a:custGeom>
              <a:avLst/>
              <a:gdLst>
                <a:gd name="textAreaLeft" fmla="*/ 0 w 90720"/>
                <a:gd name="textAreaRight" fmla="*/ 91080 w 90720"/>
                <a:gd name="textAreaTop" fmla="*/ 0 h 66600"/>
                <a:gd name="textAreaBottom" fmla="*/ 66960 h 66600"/>
              </a:gdLst>
              <a:ahLst/>
              <a:rect l="textAreaLeft" t="textAreaTop" r="textAreaRight" b="textAreaBottom"/>
              <a:pathLst>
                <a:path w="76200" h="47625">
                  <a:moveTo>
                    <a:pt x="38576" y="7144"/>
                  </a:moveTo>
                  <a:lnTo>
                    <a:pt x="7144" y="43339"/>
                  </a:lnTo>
                  <a:lnTo>
                    <a:pt x="70009" y="44291"/>
                  </a:lnTo>
                  <a:lnTo>
                    <a:pt x="38576" y="7144"/>
                  </a:lnTo>
                  <a:close/>
                </a:path>
              </a:pathLst>
            </a:custGeom>
            <a:solidFill>
              <a:srgbClr val="fc435a"/>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2051" name="任意多边形: 形状 78"/>
            <p:cNvSpPr/>
            <p:nvPr/>
          </p:nvSpPr>
          <p:spPr>
            <a:xfrm>
              <a:off x="2679120" y="4754160"/>
              <a:ext cx="579960" cy="374400"/>
            </a:xfrm>
            <a:custGeom>
              <a:avLst/>
              <a:gdLst>
                <a:gd name="textAreaLeft" fmla="*/ 0 w 579960"/>
                <a:gd name="textAreaRight" fmla="*/ 580320 w 579960"/>
                <a:gd name="textAreaTop" fmla="*/ 0 h 374400"/>
                <a:gd name="textAreaBottom" fmla="*/ 374760 h 374400"/>
              </a:gdLst>
              <a:ahLst/>
              <a:rect l="textAreaLeft" t="textAreaTop" r="textAreaRight" b="textAreaBottom"/>
              <a:pathLst>
                <a:path w="485775" h="266700">
                  <a:moveTo>
                    <a:pt x="484346" y="153829"/>
                  </a:moveTo>
                  <a:lnTo>
                    <a:pt x="230029" y="7144"/>
                  </a:lnTo>
                  <a:lnTo>
                    <a:pt x="7144" y="135731"/>
                  </a:lnTo>
                  <a:lnTo>
                    <a:pt x="230981" y="265271"/>
                  </a:lnTo>
                  <a:lnTo>
                    <a:pt x="293846" y="264319"/>
                  </a:lnTo>
                  <a:lnTo>
                    <a:pt x="484346" y="153829"/>
                  </a:lnTo>
                  <a:close/>
                </a:path>
              </a:pathLst>
            </a:custGeom>
            <a:solidFill>
              <a:srgbClr val="edcf1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52" name="任意多边形: 形状 79"/>
            <p:cNvSpPr/>
            <p:nvPr/>
          </p:nvSpPr>
          <p:spPr>
            <a:xfrm>
              <a:off x="2946240" y="5064480"/>
              <a:ext cx="90720" cy="66600"/>
            </a:xfrm>
            <a:custGeom>
              <a:avLst/>
              <a:gdLst>
                <a:gd name="textAreaLeft" fmla="*/ 0 w 90720"/>
                <a:gd name="textAreaRight" fmla="*/ 91080 w 90720"/>
                <a:gd name="textAreaTop" fmla="*/ 0 h 66600"/>
                <a:gd name="textAreaBottom" fmla="*/ 66960 h 66600"/>
              </a:gdLst>
              <a:ahLst/>
              <a:rect l="textAreaLeft" t="textAreaTop" r="textAreaRight" b="textAreaBottom"/>
              <a:pathLst>
                <a:path w="76200" h="47625">
                  <a:moveTo>
                    <a:pt x="38576" y="7144"/>
                  </a:moveTo>
                  <a:lnTo>
                    <a:pt x="70009" y="43339"/>
                  </a:lnTo>
                  <a:lnTo>
                    <a:pt x="7144" y="44291"/>
                  </a:lnTo>
                  <a:lnTo>
                    <a:pt x="38576" y="7144"/>
                  </a:lnTo>
                  <a:close/>
                </a:path>
              </a:pathLst>
            </a:custGeom>
            <a:solidFill>
              <a:srgbClr val="a89231"/>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2053" name="任意多边形: 形状 80"/>
            <p:cNvSpPr/>
            <p:nvPr/>
          </p:nvSpPr>
          <p:spPr>
            <a:xfrm>
              <a:off x="3364920" y="2431080"/>
              <a:ext cx="705240" cy="1137240"/>
            </a:xfrm>
            <a:custGeom>
              <a:avLst/>
              <a:gdLst>
                <a:gd name="textAreaLeft" fmla="*/ 0 w 705240"/>
                <a:gd name="textAreaRight" fmla="*/ 705600 w 705240"/>
                <a:gd name="textAreaTop" fmla="*/ 0 h 1137240"/>
                <a:gd name="textAreaBottom" fmla="*/ 1137600 h 1137240"/>
              </a:gdLst>
              <a:ahLst/>
              <a:rect l="textAreaLeft" t="textAreaTop" r="textAreaRight" b="textAreaBottom"/>
              <a:pathLst>
                <a:path w="590550" h="809625">
                  <a:moveTo>
                    <a:pt x="551021" y="264617"/>
                  </a:moveTo>
                  <a:lnTo>
                    <a:pt x="98584" y="10300"/>
                  </a:lnTo>
                  <a:cubicBezTo>
                    <a:pt x="92869" y="6490"/>
                    <a:pt x="87154" y="6490"/>
                    <a:pt x="82391" y="8395"/>
                  </a:cubicBezTo>
                  <a:cubicBezTo>
                    <a:pt x="81439" y="8395"/>
                    <a:pt x="81439" y="8395"/>
                    <a:pt x="80486" y="9347"/>
                  </a:cubicBezTo>
                  <a:cubicBezTo>
                    <a:pt x="79534" y="9347"/>
                    <a:pt x="79534" y="9347"/>
                    <a:pt x="78581" y="10300"/>
                  </a:cubicBezTo>
                  <a:cubicBezTo>
                    <a:pt x="77629" y="10300"/>
                    <a:pt x="77629" y="10300"/>
                    <a:pt x="76676" y="11253"/>
                  </a:cubicBezTo>
                  <a:cubicBezTo>
                    <a:pt x="75724" y="11253"/>
                    <a:pt x="75724" y="11253"/>
                    <a:pt x="74771" y="12205"/>
                  </a:cubicBezTo>
                  <a:cubicBezTo>
                    <a:pt x="73819" y="12205"/>
                    <a:pt x="73819" y="12205"/>
                    <a:pt x="72866" y="13158"/>
                  </a:cubicBezTo>
                  <a:cubicBezTo>
                    <a:pt x="71914" y="13158"/>
                    <a:pt x="71914" y="13158"/>
                    <a:pt x="70961" y="14110"/>
                  </a:cubicBezTo>
                  <a:cubicBezTo>
                    <a:pt x="70009" y="14110"/>
                    <a:pt x="70009" y="14110"/>
                    <a:pt x="69056" y="15063"/>
                  </a:cubicBezTo>
                  <a:cubicBezTo>
                    <a:pt x="68104" y="15063"/>
                    <a:pt x="68104" y="15063"/>
                    <a:pt x="67151" y="16015"/>
                  </a:cubicBezTo>
                  <a:cubicBezTo>
                    <a:pt x="66199" y="16015"/>
                    <a:pt x="66199" y="16015"/>
                    <a:pt x="65246" y="16967"/>
                  </a:cubicBezTo>
                  <a:cubicBezTo>
                    <a:pt x="64294" y="16967"/>
                    <a:pt x="64294" y="16967"/>
                    <a:pt x="63341" y="17920"/>
                  </a:cubicBezTo>
                  <a:cubicBezTo>
                    <a:pt x="62389" y="17920"/>
                    <a:pt x="62389" y="17920"/>
                    <a:pt x="61436" y="18872"/>
                  </a:cubicBezTo>
                  <a:cubicBezTo>
                    <a:pt x="60484" y="18872"/>
                    <a:pt x="60484" y="18872"/>
                    <a:pt x="59531" y="19825"/>
                  </a:cubicBezTo>
                  <a:cubicBezTo>
                    <a:pt x="58579" y="19825"/>
                    <a:pt x="58579" y="19825"/>
                    <a:pt x="57626" y="20778"/>
                  </a:cubicBezTo>
                  <a:cubicBezTo>
                    <a:pt x="56674" y="20778"/>
                    <a:pt x="56674" y="20778"/>
                    <a:pt x="55721" y="21730"/>
                  </a:cubicBezTo>
                  <a:cubicBezTo>
                    <a:pt x="54769" y="21730"/>
                    <a:pt x="54769" y="21730"/>
                    <a:pt x="53816" y="22683"/>
                  </a:cubicBezTo>
                  <a:cubicBezTo>
                    <a:pt x="52864" y="22683"/>
                    <a:pt x="52864" y="22683"/>
                    <a:pt x="51911" y="23635"/>
                  </a:cubicBezTo>
                  <a:cubicBezTo>
                    <a:pt x="50959" y="23635"/>
                    <a:pt x="50959" y="23635"/>
                    <a:pt x="50006" y="24588"/>
                  </a:cubicBezTo>
                  <a:cubicBezTo>
                    <a:pt x="49054" y="24588"/>
                    <a:pt x="49054" y="24588"/>
                    <a:pt x="48101" y="25540"/>
                  </a:cubicBezTo>
                  <a:cubicBezTo>
                    <a:pt x="47149" y="25540"/>
                    <a:pt x="47149" y="25540"/>
                    <a:pt x="46196" y="26492"/>
                  </a:cubicBezTo>
                  <a:cubicBezTo>
                    <a:pt x="45244" y="26492"/>
                    <a:pt x="45244" y="26492"/>
                    <a:pt x="44291" y="27445"/>
                  </a:cubicBezTo>
                  <a:cubicBezTo>
                    <a:pt x="43339" y="27445"/>
                    <a:pt x="43339" y="27445"/>
                    <a:pt x="42386" y="28397"/>
                  </a:cubicBezTo>
                  <a:cubicBezTo>
                    <a:pt x="41434" y="28397"/>
                    <a:pt x="41434" y="28397"/>
                    <a:pt x="40481" y="29350"/>
                  </a:cubicBezTo>
                  <a:cubicBezTo>
                    <a:pt x="39529" y="29350"/>
                    <a:pt x="39529" y="29350"/>
                    <a:pt x="38576" y="30303"/>
                  </a:cubicBezTo>
                  <a:cubicBezTo>
                    <a:pt x="37624" y="30303"/>
                    <a:pt x="37624" y="30303"/>
                    <a:pt x="36671" y="31255"/>
                  </a:cubicBezTo>
                  <a:cubicBezTo>
                    <a:pt x="35719" y="31255"/>
                    <a:pt x="35719" y="31255"/>
                    <a:pt x="34766" y="32208"/>
                  </a:cubicBezTo>
                  <a:cubicBezTo>
                    <a:pt x="33814" y="32208"/>
                    <a:pt x="33814" y="32208"/>
                    <a:pt x="32861" y="33160"/>
                  </a:cubicBezTo>
                  <a:cubicBezTo>
                    <a:pt x="31909" y="33160"/>
                    <a:pt x="31909" y="33160"/>
                    <a:pt x="30956" y="34113"/>
                  </a:cubicBezTo>
                  <a:cubicBezTo>
                    <a:pt x="30004" y="34113"/>
                    <a:pt x="30004" y="34113"/>
                    <a:pt x="29051" y="35065"/>
                  </a:cubicBezTo>
                  <a:cubicBezTo>
                    <a:pt x="28099" y="35065"/>
                    <a:pt x="28099" y="35065"/>
                    <a:pt x="27146" y="36017"/>
                  </a:cubicBezTo>
                  <a:cubicBezTo>
                    <a:pt x="26194" y="36017"/>
                    <a:pt x="26194" y="36017"/>
                    <a:pt x="25241" y="36970"/>
                  </a:cubicBezTo>
                  <a:cubicBezTo>
                    <a:pt x="14764" y="39828"/>
                    <a:pt x="7144" y="54115"/>
                    <a:pt x="7144" y="76022"/>
                  </a:cubicBezTo>
                  <a:lnTo>
                    <a:pt x="7144" y="487503"/>
                  </a:lnTo>
                  <a:cubicBezTo>
                    <a:pt x="7144" y="517983"/>
                    <a:pt x="21431" y="551320"/>
                    <a:pt x="39529" y="561797"/>
                  </a:cubicBezTo>
                  <a:lnTo>
                    <a:pt x="103346" y="599897"/>
                  </a:lnTo>
                  <a:lnTo>
                    <a:pt x="103346" y="725628"/>
                  </a:lnTo>
                  <a:lnTo>
                    <a:pt x="105251" y="723722"/>
                  </a:lnTo>
                  <a:lnTo>
                    <a:pt x="105251" y="724675"/>
                  </a:lnTo>
                  <a:lnTo>
                    <a:pt x="107156" y="722770"/>
                  </a:lnTo>
                  <a:lnTo>
                    <a:pt x="107156" y="723722"/>
                  </a:lnTo>
                  <a:lnTo>
                    <a:pt x="109061" y="721818"/>
                  </a:lnTo>
                  <a:lnTo>
                    <a:pt x="109061" y="722770"/>
                  </a:lnTo>
                  <a:lnTo>
                    <a:pt x="110966" y="720865"/>
                  </a:lnTo>
                  <a:lnTo>
                    <a:pt x="110966" y="721818"/>
                  </a:lnTo>
                  <a:lnTo>
                    <a:pt x="112871" y="719913"/>
                  </a:lnTo>
                  <a:lnTo>
                    <a:pt x="112871" y="720865"/>
                  </a:lnTo>
                  <a:lnTo>
                    <a:pt x="114776" y="718960"/>
                  </a:lnTo>
                  <a:lnTo>
                    <a:pt x="114776" y="719913"/>
                  </a:lnTo>
                  <a:lnTo>
                    <a:pt x="116681" y="718007"/>
                  </a:lnTo>
                  <a:lnTo>
                    <a:pt x="116681" y="718960"/>
                  </a:lnTo>
                  <a:lnTo>
                    <a:pt x="118586" y="717055"/>
                  </a:lnTo>
                  <a:lnTo>
                    <a:pt x="118586" y="718007"/>
                  </a:lnTo>
                  <a:lnTo>
                    <a:pt x="120491" y="716103"/>
                  </a:lnTo>
                  <a:lnTo>
                    <a:pt x="120491" y="717055"/>
                  </a:lnTo>
                  <a:lnTo>
                    <a:pt x="122396" y="715150"/>
                  </a:lnTo>
                  <a:lnTo>
                    <a:pt x="122396" y="716103"/>
                  </a:lnTo>
                  <a:lnTo>
                    <a:pt x="124301" y="714197"/>
                  </a:lnTo>
                  <a:lnTo>
                    <a:pt x="124301" y="715150"/>
                  </a:lnTo>
                  <a:lnTo>
                    <a:pt x="126206" y="713245"/>
                  </a:lnTo>
                  <a:lnTo>
                    <a:pt x="126206" y="714197"/>
                  </a:lnTo>
                  <a:lnTo>
                    <a:pt x="128111" y="712293"/>
                  </a:lnTo>
                  <a:lnTo>
                    <a:pt x="128111" y="713245"/>
                  </a:lnTo>
                  <a:lnTo>
                    <a:pt x="130016" y="711340"/>
                  </a:lnTo>
                  <a:lnTo>
                    <a:pt x="130016" y="712293"/>
                  </a:lnTo>
                  <a:lnTo>
                    <a:pt x="131921" y="710388"/>
                  </a:lnTo>
                  <a:lnTo>
                    <a:pt x="131921" y="711340"/>
                  </a:lnTo>
                  <a:lnTo>
                    <a:pt x="133826" y="709435"/>
                  </a:lnTo>
                  <a:lnTo>
                    <a:pt x="133826" y="710388"/>
                  </a:lnTo>
                  <a:lnTo>
                    <a:pt x="135731" y="708482"/>
                  </a:lnTo>
                  <a:lnTo>
                    <a:pt x="135731" y="709435"/>
                  </a:lnTo>
                  <a:lnTo>
                    <a:pt x="137636" y="707530"/>
                  </a:lnTo>
                  <a:lnTo>
                    <a:pt x="137636" y="708482"/>
                  </a:lnTo>
                  <a:lnTo>
                    <a:pt x="139541" y="706578"/>
                  </a:lnTo>
                  <a:lnTo>
                    <a:pt x="139541" y="707530"/>
                  </a:lnTo>
                  <a:lnTo>
                    <a:pt x="141446" y="705625"/>
                  </a:lnTo>
                  <a:lnTo>
                    <a:pt x="141446" y="706578"/>
                  </a:lnTo>
                  <a:lnTo>
                    <a:pt x="143351" y="704672"/>
                  </a:lnTo>
                  <a:lnTo>
                    <a:pt x="143351" y="705625"/>
                  </a:lnTo>
                  <a:lnTo>
                    <a:pt x="145256" y="703720"/>
                  </a:lnTo>
                  <a:lnTo>
                    <a:pt x="145256" y="704672"/>
                  </a:lnTo>
                  <a:lnTo>
                    <a:pt x="147161" y="702768"/>
                  </a:lnTo>
                  <a:lnTo>
                    <a:pt x="147161" y="703720"/>
                  </a:lnTo>
                  <a:lnTo>
                    <a:pt x="149066" y="701815"/>
                  </a:lnTo>
                  <a:lnTo>
                    <a:pt x="149066" y="702768"/>
                  </a:lnTo>
                  <a:lnTo>
                    <a:pt x="150971" y="700863"/>
                  </a:lnTo>
                  <a:lnTo>
                    <a:pt x="150971" y="701815"/>
                  </a:lnTo>
                  <a:lnTo>
                    <a:pt x="152876" y="699910"/>
                  </a:lnTo>
                  <a:lnTo>
                    <a:pt x="152876" y="700863"/>
                  </a:lnTo>
                  <a:lnTo>
                    <a:pt x="154781" y="698957"/>
                  </a:lnTo>
                  <a:lnTo>
                    <a:pt x="154781" y="699910"/>
                  </a:lnTo>
                  <a:lnTo>
                    <a:pt x="156686" y="698005"/>
                  </a:lnTo>
                  <a:lnTo>
                    <a:pt x="156686" y="698957"/>
                  </a:lnTo>
                  <a:lnTo>
                    <a:pt x="158591" y="697053"/>
                  </a:lnTo>
                  <a:lnTo>
                    <a:pt x="158591" y="698005"/>
                  </a:lnTo>
                  <a:lnTo>
                    <a:pt x="160496" y="696100"/>
                  </a:lnTo>
                  <a:lnTo>
                    <a:pt x="160496" y="697053"/>
                  </a:lnTo>
                  <a:lnTo>
                    <a:pt x="162401" y="695147"/>
                  </a:lnTo>
                  <a:lnTo>
                    <a:pt x="162401" y="696100"/>
                  </a:lnTo>
                  <a:lnTo>
                    <a:pt x="215741" y="648475"/>
                  </a:lnTo>
                  <a:lnTo>
                    <a:pt x="511016" y="803732"/>
                  </a:lnTo>
                  <a:cubicBezTo>
                    <a:pt x="516731" y="807543"/>
                    <a:pt x="522446" y="807543"/>
                    <a:pt x="527209" y="805638"/>
                  </a:cubicBezTo>
                  <a:cubicBezTo>
                    <a:pt x="528161" y="805638"/>
                    <a:pt x="528161" y="805638"/>
                    <a:pt x="529114" y="804685"/>
                  </a:cubicBezTo>
                  <a:cubicBezTo>
                    <a:pt x="530066" y="804685"/>
                    <a:pt x="530066" y="804685"/>
                    <a:pt x="531019" y="803732"/>
                  </a:cubicBezTo>
                  <a:cubicBezTo>
                    <a:pt x="563404" y="790397"/>
                    <a:pt x="583406" y="791350"/>
                    <a:pt x="583406" y="749440"/>
                  </a:cubicBezTo>
                  <a:lnTo>
                    <a:pt x="583406" y="337960"/>
                  </a:lnTo>
                  <a:cubicBezTo>
                    <a:pt x="583406" y="309385"/>
                    <a:pt x="568166" y="276047"/>
                    <a:pt x="551021" y="26461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54" name="任意多边形: 形状 81"/>
            <p:cNvSpPr/>
            <p:nvPr/>
          </p:nvSpPr>
          <p:spPr>
            <a:xfrm>
              <a:off x="3375000" y="2454840"/>
              <a:ext cx="636840" cy="1110240"/>
            </a:xfrm>
            <a:custGeom>
              <a:avLst/>
              <a:gdLst>
                <a:gd name="textAreaLeft" fmla="*/ 0 w 636840"/>
                <a:gd name="textAreaRight" fmla="*/ 637200 w 636840"/>
                <a:gd name="textAreaTop" fmla="*/ 0 h 1110240"/>
                <a:gd name="textAreaBottom" fmla="*/ 1110600 h 1110240"/>
              </a:gdLst>
              <a:ahLst/>
              <a:rect l="textAreaLeft" t="textAreaTop" r="textAreaRight" b="textAreaBottom"/>
              <a:pathLst>
                <a:path w="533400" h="790575">
                  <a:moveTo>
                    <a:pt x="503396" y="264649"/>
                  </a:moveTo>
                  <a:lnTo>
                    <a:pt x="39529" y="10332"/>
                  </a:lnTo>
                  <a:cubicBezTo>
                    <a:pt x="21431" y="-146"/>
                    <a:pt x="7144" y="16047"/>
                    <a:pt x="7144" y="46527"/>
                  </a:cubicBezTo>
                  <a:lnTo>
                    <a:pt x="7144" y="458007"/>
                  </a:lnTo>
                  <a:cubicBezTo>
                    <a:pt x="7144" y="488487"/>
                    <a:pt x="21431" y="521824"/>
                    <a:pt x="39529" y="532302"/>
                  </a:cubicBezTo>
                  <a:lnTo>
                    <a:pt x="103346" y="570402"/>
                  </a:lnTo>
                  <a:lnTo>
                    <a:pt x="103346" y="696132"/>
                  </a:lnTo>
                  <a:lnTo>
                    <a:pt x="188119" y="619932"/>
                  </a:lnTo>
                  <a:lnTo>
                    <a:pt x="502444" y="786619"/>
                  </a:lnTo>
                  <a:cubicBezTo>
                    <a:pt x="520541" y="797097"/>
                    <a:pt x="534829" y="780904"/>
                    <a:pt x="534829" y="750424"/>
                  </a:cubicBezTo>
                  <a:lnTo>
                    <a:pt x="534829" y="338944"/>
                  </a:lnTo>
                  <a:cubicBezTo>
                    <a:pt x="535781" y="308464"/>
                    <a:pt x="520541" y="275127"/>
                    <a:pt x="503396" y="264649"/>
                  </a:cubicBezTo>
                  <a:close/>
                </a:path>
              </a:pathLst>
            </a:custGeom>
            <a:solidFill>
              <a:srgbClr val="80d2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55" name="任意多边形: 形状 82"/>
            <p:cNvSpPr/>
            <p:nvPr/>
          </p:nvSpPr>
          <p:spPr>
            <a:xfrm>
              <a:off x="3538800" y="2898360"/>
              <a:ext cx="56520" cy="93600"/>
            </a:xfrm>
            <a:custGeom>
              <a:avLst/>
              <a:gdLst>
                <a:gd name="textAreaLeft" fmla="*/ 0 w 56520"/>
                <a:gd name="textAreaRight" fmla="*/ 56880 w 56520"/>
                <a:gd name="textAreaTop" fmla="*/ 0 h 93600"/>
                <a:gd name="textAreaBottom" fmla="*/ 93960 h 93600"/>
              </a:gdLst>
              <a:ahLst/>
              <a:rect l="textAreaLeft" t="textAreaTop" r="textAreaRight" b="textAreaBottom"/>
              <a:pathLst>
                <a:path w="47625" h="66675">
                  <a:moveTo>
                    <a:pt x="41434" y="47968"/>
                  </a:moveTo>
                  <a:cubicBezTo>
                    <a:pt x="41434" y="64161"/>
                    <a:pt x="33814" y="72733"/>
                    <a:pt x="24289" y="67018"/>
                  </a:cubicBezTo>
                  <a:cubicBezTo>
                    <a:pt x="14764" y="61303"/>
                    <a:pt x="7144" y="44158"/>
                    <a:pt x="7144" y="27966"/>
                  </a:cubicBezTo>
                  <a:cubicBezTo>
                    <a:pt x="7144" y="11773"/>
                    <a:pt x="14764" y="3201"/>
                    <a:pt x="24289" y="8916"/>
                  </a:cubicBezTo>
                  <a:cubicBezTo>
                    <a:pt x="33814" y="14631"/>
                    <a:pt x="41434" y="31776"/>
                    <a:pt x="41434" y="47968"/>
                  </a:cubicBez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56" name="任意多边形: 形状 83"/>
            <p:cNvSpPr/>
            <p:nvPr/>
          </p:nvSpPr>
          <p:spPr>
            <a:xfrm>
              <a:off x="3658320" y="2982960"/>
              <a:ext cx="56520" cy="93600"/>
            </a:xfrm>
            <a:custGeom>
              <a:avLst/>
              <a:gdLst>
                <a:gd name="textAreaLeft" fmla="*/ 0 w 56520"/>
                <a:gd name="textAreaRight" fmla="*/ 56880 w 56520"/>
                <a:gd name="textAreaTop" fmla="*/ 0 h 93600"/>
                <a:gd name="textAreaBottom" fmla="*/ 93960 h 93600"/>
              </a:gdLst>
              <a:ahLst/>
              <a:rect l="textAreaLeft" t="textAreaTop" r="textAreaRight" b="textAreaBottom"/>
              <a:pathLst>
                <a:path w="47625" h="66675">
                  <a:moveTo>
                    <a:pt x="41434" y="47968"/>
                  </a:moveTo>
                  <a:cubicBezTo>
                    <a:pt x="41434" y="64161"/>
                    <a:pt x="33814" y="72733"/>
                    <a:pt x="24289" y="67018"/>
                  </a:cubicBezTo>
                  <a:cubicBezTo>
                    <a:pt x="14764" y="61303"/>
                    <a:pt x="7144" y="44158"/>
                    <a:pt x="7144" y="27966"/>
                  </a:cubicBezTo>
                  <a:cubicBezTo>
                    <a:pt x="7144" y="11773"/>
                    <a:pt x="14764" y="3201"/>
                    <a:pt x="24289" y="8916"/>
                  </a:cubicBezTo>
                  <a:cubicBezTo>
                    <a:pt x="33814" y="14631"/>
                    <a:pt x="41434" y="31776"/>
                    <a:pt x="41434" y="47968"/>
                  </a:cubicBez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057" name="任意多边形: 形状 84"/>
            <p:cNvSpPr/>
            <p:nvPr/>
          </p:nvSpPr>
          <p:spPr>
            <a:xfrm>
              <a:off x="3778920" y="3065760"/>
              <a:ext cx="56520" cy="93600"/>
            </a:xfrm>
            <a:custGeom>
              <a:avLst/>
              <a:gdLst>
                <a:gd name="textAreaLeft" fmla="*/ 0 w 56520"/>
                <a:gd name="textAreaRight" fmla="*/ 56880 w 56520"/>
                <a:gd name="textAreaTop" fmla="*/ 0 h 93600"/>
                <a:gd name="textAreaBottom" fmla="*/ 93960 h 93600"/>
              </a:gdLst>
              <a:ahLst/>
              <a:rect l="textAreaLeft" t="textAreaTop" r="textAreaRight" b="textAreaBottom"/>
              <a:pathLst>
                <a:path w="47625" h="66675">
                  <a:moveTo>
                    <a:pt x="41434" y="47968"/>
                  </a:moveTo>
                  <a:cubicBezTo>
                    <a:pt x="41434" y="64161"/>
                    <a:pt x="33814" y="72733"/>
                    <a:pt x="24289" y="67018"/>
                  </a:cubicBezTo>
                  <a:cubicBezTo>
                    <a:pt x="14764" y="61303"/>
                    <a:pt x="7144" y="44158"/>
                    <a:pt x="7144" y="27966"/>
                  </a:cubicBezTo>
                  <a:cubicBezTo>
                    <a:pt x="7144" y="11773"/>
                    <a:pt x="14764" y="3201"/>
                    <a:pt x="24289" y="8916"/>
                  </a:cubicBezTo>
                  <a:cubicBezTo>
                    <a:pt x="33814" y="14631"/>
                    <a:pt x="41434" y="31776"/>
                    <a:pt x="41434" y="47968"/>
                  </a:cubicBezTo>
                  <a:close/>
                </a:path>
              </a:pathLst>
            </a:custGeom>
            <a:solidFill>
              <a:srgbClr val="0b3e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sp>
        <p:nvSpPr>
          <p:cNvPr id="2058" name="TextBox 37"/>
          <p:cNvSpPr/>
          <p:nvPr/>
        </p:nvSpPr>
        <p:spPr>
          <a:xfrm>
            <a:off x="4281480" y="1279440"/>
            <a:ext cx="6461280" cy="11890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造字工房尚雅（非商用）常规体"/>
                <a:ea typeface="造字工房尚雅（非商用）常规体"/>
              </a:rPr>
              <a:t>扣缴义务人的义务：</a:t>
            </a:r>
            <a:endParaRPr b="0" lang="en-US" sz="2400" spc="-1" strike="noStrike">
              <a:solidFill>
                <a:srgbClr val="26262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pic>
        <p:nvPicPr>
          <p:cNvPr id="2059" name="图片 119" descr=""/>
          <p:cNvPicPr/>
          <p:nvPr/>
        </p:nvPicPr>
        <p:blipFill>
          <a:blip r:embed="rId1"/>
          <a:stretch/>
        </p:blipFill>
        <p:spPr>
          <a:xfrm>
            <a:off x="4951440" y="316080"/>
            <a:ext cx="1738440" cy="1325520"/>
          </a:xfrm>
          <a:prstGeom prst="rect">
            <a:avLst/>
          </a:prstGeom>
          <a:ln w="0">
            <a:noFill/>
          </a:ln>
        </p:spPr>
      </p:pic>
      <p:sp>
        <p:nvSpPr>
          <p:cNvPr id="2060" name="矩形 120"/>
          <p:cNvSpPr/>
          <p:nvPr/>
        </p:nvSpPr>
        <p:spPr>
          <a:xfrm>
            <a:off x="4497480" y="1893960"/>
            <a:ext cx="651816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rPr>
              <a:t>（</a:t>
            </a:r>
            <a:r>
              <a:rPr b="0" lang="en-US" sz="1800" spc="-1" strike="noStrike">
                <a:solidFill>
                  <a:srgbClr val="262626"/>
                </a:solidFill>
                <a:latin typeface="Arial"/>
              </a:rPr>
              <a:t>1</a:t>
            </a:r>
            <a:r>
              <a:rPr b="0" lang="zh-CN" sz="1800" spc="-1" strike="noStrike">
                <a:solidFill>
                  <a:srgbClr val="262626"/>
                </a:solidFill>
                <a:latin typeface="Arial"/>
              </a:rPr>
              <a:t>）居民个人向扣缴义务人提供专项附加扣除信息的，扣缴义务人按月预扣预缴税款时应当按照规定予以扣除，不得拒绝。</a:t>
            </a:r>
            <a:endParaRPr b="0" lang="en-US" sz="1800" spc="-1" strike="noStrike">
              <a:solidFill>
                <a:srgbClr val="26262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rPr>
              <a:t>（</a:t>
            </a:r>
            <a:r>
              <a:rPr b="0" lang="en-US" sz="1800" spc="-1" strike="noStrike">
                <a:solidFill>
                  <a:srgbClr val="262626"/>
                </a:solidFill>
                <a:latin typeface="Arial"/>
              </a:rPr>
              <a:t>2</a:t>
            </a:r>
            <a:r>
              <a:rPr b="0" lang="zh-CN" sz="1800" spc="-1" strike="noStrike">
                <a:solidFill>
                  <a:srgbClr val="262626"/>
                </a:solidFill>
                <a:latin typeface="Arial"/>
              </a:rPr>
              <a:t>）扣缴义务人应当按照纳税人提供的信息计算办理扣缴申报，不得擅自更改纳税人提供的相关信息。</a:t>
            </a:r>
            <a:endParaRPr b="0" lang="en-US" sz="1800" spc="-1" strike="noStrike">
              <a:solidFill>
                <a:srgbClr val="26262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Arial"/>
              </a:rPr>
              <a:t>（</a:t>
            </a:r>
            <a:r>
              <a:rPr b="0" lang="en-US" sz="1800" spc="-1" strike="noStrike">
                <a:solidFill>
                  <a:srgbClr val="262626"/>
                </a:solidFill>
                <a:latin typeface="Arial"/>
              </a:rPr>
              <a:t>3</a:t>
            </a:r>
            <a:r>
              <a:rPr b="0" lang="zh-CN" sz="1800" spc="-1" strike="noStrike">
                <a:solidFill>
                  <a:srgbClr val="262626"/>
                </a:solidFill>
                <a:latin typeface="Arial"/>
              </a:rPr>
              <a:t>）扣缴义务人发现纳税人申报虚假信息的，应当提醒纳税人更正；纳税人拒不改正的，扣缴义务人应当告知税务机关。</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造字工房尚雅（非商用）常规体"/>
                <a:ea typeface="造字工房尚雅（非商用）常规体"/>
              </a:rPr>
              <a:t>税务机关：</a:t>
            </a:r>
            <a:endParaRPr b="0" lang="en-US" sz="2400" spc="-1" strike="noStrike">
              <a:solidFill>
                <a:srgbClr val="26262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造字工房尚雅（非商用）常规体"/>
              </a:rPr>
              <a:t>    </a:t>
            </a:r>
            <a:r>
              <a:rPr b="0" lang="zh-CN" sz="1800" spc="-1" strike="noStrike">
                <a:solidFill>
                  <a:srgbClr val="262626"/>
                </a:solidFill>
                <a:latin typeface="Arial"/>
              </a:rPr>
              <a:t>税务机关核查专项附加扣除情况时，核查时首次发现纳税人拒不提供或者提供虚假资料凭据的，应通报纳税人和扣缴义务人，</a:t>
            </a:r>
            <a:r>
              <a:rPr b="0" lang="zh-CN" sz="1800" spc="-1" strike="noStrike">
                <a:solidFill>
                  <a:srgbClr val="0070c0"/>
                </a:solidFill>
                <a:latin typeface="Arial"/>
              </a:rPr>
              <a:t>五年</a:t>
            </a:r>
            <a:r>
              <a:rPr b="0" lang="zh-CN" sz="1800" spc="-1" strike="noStrike">
                <a:solidFill>
                  <a:srgbClr val="262626"/>
                </a:solidFill>
                <a:latin typeface="Arial"/>
              </a:rPr>
              <a:t>内再次发现上述情形的，记入纳税人信用记录，会同有关部门实施联合惩戒。</a:t>
            </a:r>
            <a:endParaRPr b="0" lang="en-US" sz="1800" spc="-1" strike="noStrike">
              <a:solidFill>
                <a:srgbClr val="26262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6262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Tree>
  </p:cSld>
  <p:transition spd="slow">
    <p:random/>
  </p:transition>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afterEffect" fill="hold" presetClass="entr" presetID="14" presetSubtype="10">
                                  <p:stCondLst>
                                    <p:cond delay="0"/>
                                  </p:stCondLst>
                                  <p:childTnLst>
                                    <p:set>
                                      <p:cBhvr>
                                        <p:cTn id="681" dur="1" fill="hold">
                                          <p:stCondLst>
                                            <p:cond delay="0"/>
                                          </p:stCondLst>
                                        </p:cTn>
                                        <p:tgtEl>
                                          <p:spTgt spid="2058"/>
                                        </p:tgtEl>
                                        <p:attrNameLst>
                                          <p:attrName>style.visibility</p:attrName>
                                        </p:attrNameLst>
                                      </p:cBhvr>
                                      <p:to>
                                        <p:strVal val="visible"/>
                                      </p:to>
                                    </p:set>
                                    <p:animEffect filter="randombar(horizontal)" transition="in">
                                      <p:cBhvr additive="repl">
                                        <p:cTn id="682" dur="500"/>
                                        <p:tgtEl>
                                          <p:spTgt spid="2058"/>
                                        </p:tgtEl>
                                      </p:cBhvr>
                                    </p:animEffect>
                                  </p:childTnLst>
                                </p:cTn>
                              </p:par>
                              <p:par>
                                <p:cTn id="683" nodeType="withEffect" fill="hold" presetClass="entr" presetID="2" presetSubtype="8">
                                  <p:stCondLst>
                                    <p:cond delay="0"/>
                                  </p:stCondLst>
                                  <p:childTnLst>
                                    <p:set>
                                      <p:cBhvr>
                                        <p:cTn id="684" dur="1" fill="hold">
                                          <p:stCondLst>
                                            <p:cond delay="0"/>
                                          </p:stCondLst>
                                        </p:cTn>
                                        <p:tgtEl>
                                          <p:spTgt spid="2059"/>
                                        </p:tgtEl>
                                        <p:attrNameLst>
                                          <p:attrName>style.visibility</p:attrName>
                                        </p:attrNameLst>
                                      </p:cBhvr>
                                      <p:to>
                                        <p:strVal val="visible"/>
                                      </p:to>
                                    </p:set>
                                    <p:anim calcmode="lin" valueType="num">
                                      <p:cBhvr additive="base">
                                        <p:cTn id="685" dur="500" fill="hold"/>
                                        <p:tgtEl>
                                          <p:spTgt spid="2059"/>
                                        </p:tgtEl>
                                        <p:attrNameLst>
                                          <p:attrName>ppt_x</p:attrName>
                                        </p:attrNameLst>
                                      </p:cBhvr>
                                      <p:tavLst>
                                        <p:tav tm="0">
                                          <p:val>
                                            <p:strVal val="0-#ppt_w/2"/>
                                          </p:val>
                                        </p:tav>
                                        <p:tav tm="100000">
                                          <p:val>
                                            <p:strVal val="#ppt_x"/>
                                          </p:val>
                                        </p:tav>
                                      </p:tavLst>
                                    </p:anim>
                                    <p:anim calcmode="lin" valueType="num">
                                      <p:cBhvr additive="base">
                                        <p:cTn id="686" dur="500" fill="hold"/>
                                        <p:tgtEl>
                                          <p:spTgt spid="20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1" name="组合 211"/>
          <p:cNvGrpSpPr/>
          <p:nvPr/>
        </p:nvGrpSpPr>
        <p:grpSpPr>
          <a:xfrm>
            <a:off x="1998720" y="-442800"/>
            <a:ext cx="7915320" cy="8026560"/>
            <a:chOff x="1998720" y="-442800"/>
            <a:chExt cx="7915320" cy="8026560"/>
          </a:xfrm>
        </p:grpSpPr>
        <p:sp>
          <p:nvSpPr>
            <p:cNvPr id="2062" name="AutoShape 202"/>
            <p:cNvSpPr/>
            <p:nvPr/>
          </p:nvSpPr>
          <p:spPr>
            <a:xfrm>
              <a:off x="2003400" y="-337680"/>
              <a:ext cx="7905960" cy="792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63" name="Rectangle 205"/>
            <p:cNvSpPr/>
            <p:nvPr/>
          </p:nvSpPr>
          <p:spPr>
            <a:xfrm>
              <a:off x="1998720" y="-333000"/>
              <a:ext cx="7915320" cy="7916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2064" name="Freeform 206"/>
            <p:cNvSpPr/>
            <p:nvPr/>
          </p:nvSpPr>
          <p:spPr>
            <a:xfrm>
              <a:off x="3232800" y="567360"/>
              <a:ext cx="5446800" cy="5333400"/>
            </a:xfrm>
            <a:custGeom>
              <a:avLst/>
              <a:gdLst>
                <a:gd name="textAreaLeft" fmla="*/ 0 w 5446800"/>
                <a:gd name="textAreaRight" fmla="*/ 5447160 w 5446800"/>
                <a:gd name="textAreaTop" fmla="*/ 0 h 5333400"/>
                <a:gd name="textAreaBottom" fmla="*/ 5333760 h 5333400"/>
              </a:gdLst>
              <a:ahLst/>
              <a:rect l="textAreaLeft" t="textAreaTop" r="textAreaRight" b="textAreaBottom"/>
              <a:pathLst>
                <a:path w="1194" h="1169">
                  <a:moveTo>
                    <a:pt x="1194" y="590"/>
                  </a:moveTo>
                  <a:cubicBezTo>
                    <a:pt x="1194" y="910"/>
                    <a:pt x="927" y="1169"/>
                    <a:pt x="597" y="1169"/>
                  </a:cubicBezTo>
                  <a:cubicBezTo>
                    <a:pt x="267" y="1169"/>
                    <a:pt x="0" y="910"/>
                    <a:pt x="0" y="590"/>
                  </a:cubicBezTo>
                  <a:cubicBezTo>
                    <a:pt x="0" y="271"/>
                    <a:pt x="228" y="0"/>
                    <a:pt x="558" y="0"/>
                  </a:cubicBezTo>
                  <a:cubicBezTo>
                    <a:pt x="887" y="0"/>
                    <a:pt x="1194" y="271"/>
                    <a:pt x="1194" y="590"/>
                  </a:cubicBezTo>
                </a:path>
              </a:pathLst>
            </a:custGeom>
            <a:solidFill>
              <a:srgbClr val="76bdc2"/>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65" name="Freeform 207"/>
            <p:cNvSpPr/>
            <p:nvPr/>
          </p:nvSpPr>
          <p:spPr>
            <a:xfrm>
              <a:off x="7097760" y="-28080"/>
              <a:ext cx="509760" cy="414360"/>
            </a:xfrm>
            <a:custGeom>
              <a:avLst/>
              <a:gdLst>
                <a:gd name="textAreaLeft" fmla="*/ 0 w 509760"/>
                <a:gd name="textAreaRight" fmla="*/ 510120 w 509760"/>
                <a:gd name="textAreaTop" fmla="*/ 0 h 414360"/>
                <a:gd name="textAreaBottom" fmla="*/ 414720 h 414360"/>
              </a:gdLst>
              <a:ahLst/>
              <a:rect l="textAreaLeft" t="textAreaTop" r="textAreaRight" b="textAreaBottom"/>
              <a:pathLst>
                <a:path w="112" h="91">
                  <a:moveTo>
                    <a:pt x="112" y="83"/>
                  </a:moveTo>
                  <a:cubicBezTo>
                    <a:pt x="0" y="91"/>
                    <a:pt x="0" y="91"/>
                    <a:pt x="0" y="91"/>
                  </a:cubicBezTo>
                  <a:cubicBezTo>
                    <a:pt x="0" y="91"/>
                    <a:pt x="5" y="50"/>
                    <a:pt x="25" y="29"/>
                  </a:cubicBezTo>
                  <a:cubicBezTo>
                    <a:pt x="53" y="1"/>
                    <a:pt x="99" y="0"/>
                    <a:pt x="112" y="83"/>
                  </a:cubicBez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66" name="Freeform 208"/>
            <p:cNvSpPr/>
            <p:nvPr/>
          </p:nvSpPr>
          <p:spPr>
            <a:xfrm>
              <a:off x="6621120" y="-442800"/>
              <a:ext cx="1396080" cy="1253520"/>
            </a:xfrm>
            <a:custGeom>
              <a:avLst/>
              <a:gdLst>
                <a:gd name="textAreaLeft" fmla="*/ 0 w 1396080"/>
                <a:gd name="textAreaRight" fmla="*/ 1396440 w 1396080"/>
                <a:gd name="textAreaTop" fmla="*/ 0 h 1253520"/>
                <a:gd name="textAreaBottom" fmla="*/ 1253880 h 1253520"/>
              </a:gdLst>
              <a:ahLst/>
              <a:rect l="textAreaLeft" t="textAreaTop" r="textAreaRight" b="textAreaBottom"/>
              <a:pathLst>
                <a:path w="306" h="275">
                  <a:moveTo>
                    <a:pt x="306" y="275"/>
                  </a:moveTo>
                  <a:cubicBezTo>
                    <a:pt x="0" y="265"/>
                    <a:pt x="0" y="265"/>
                    <a:pt x="0" y="265"/>
                  </a:cubicBezTo>
                  <a:cubicBezTo>
                    <a:pt x="0" y="265"/>
                    <a:pt x="170" y="0"/>
                    <a:pt x="306" y="27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67" name="Freeform 209"/>
            <p:cNvSpPr/>
            <p:nvPr/>
          </p:nvSpPr>
          <p:spPr>
            <a:xfrm>
              <a:off x="7350480" y="-333000"/>
              <a:ext cx="42840" cy="409680"/>
            </a:xfrm>
            <a:custGeom>
              <a:avLst/>
              <a:gdLst>
                <a:gd name="textAreaLeft" fmla="*/ 0 w 42840"/>
                <a:gd name="textAreaRight" fmla="*/ 43200 w 42840"/>
                <a:gd name="textAreaTop" fmla="*/ 0 h 409680"/>
                <a:gd name="textAreaBottom" fmla="*/ 410040 h 409680"/>
              </a:gdLst>
              <a:ahLst/>
              <a:rect l="textAreaLeft" t="textAreaTop" r="textAreaRight" b="textAreaBottom"/>
              <a:pathLst>
                <a:path w="9" h="86">
                  <a:moveTo>
                    <a:pt x="9" y="86"/>
                  </a:moveTo>
                  <a:lnTo>
                    <a:pt x="8" y="0"/>
                  </a:lnTo>
                  <a:lnTo>
                    <a:pt x="2" y="0"/>
                  </a:lnTo>
                  <a:lnTo>
                    <a:pt x="0" y="86"/>
                  </a:lnTo>
                  <a:lnTo>
                    <a:pt x="9" y="86"/>
                  </a:ln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68" name="Freeform 210"/>
            <p:cNvSpPr/>
            <p:nvPr/>
          </p:nvSpPr>
          <p:spPr>
            <a:xfrm>
              <a:off x="6831000" y="772560"/>
              <a:ext cx="1934640" cy="4327560"/>
            </a:xfrm>
            <a:custGeom>
              <a:avLst/>
              <a:gdLst>
                <a:gd name="textAreaLeft" fmla="*/ 0 w 1934640"/>
                <a:gd name="textAreaRight" fmla="*/ 1935000 w 1934640"/>
                <a:gd name="textAreaTop" fmla="*/ 0 h 4327560"/>
                <a:gd name="textAreaBottom" fmla="*/ 4327920 h 4327560"/>
              </a:gdLst>
              <a:ahLst/>
              <a:rect l="textAreaLeft" t="textAreaTop" r="textAreaRight" b="textAreaBottom"/>
              <a:pathLst>
                <a:path w="424" h="950">
                  <a:moveTo>
                    <a:pt x="373" y="733"/>
                  </a:moveTo>
                  <a:cubicBezTo>
                    <a:pt x="344" y="815"/>
                    <a:pt x="297" y="889"/>
                    <a:pt x="236" y="950"/>
                  </a:cubicBezTo>
                  <a:cubicBezTo>
                    <a:pt x="424" y="950"/>
                    <a:pt x="424" y="950"/>
                    <a:pt x="424" y="950"/>
                  </a:cubicBezTo>
                  <a:cubicBezTo>
                    <a:pt x="373" y="733"/>
                    <a:pt x="373" y="733"/>
                    <a:pt x="373" y="733"/>
                  </a:cubicBezTo>
                  <a:moveTo>
                    <a:pt x="0" y="0"/>
                  </a:moveTo>
                  <a:cubicBezTo>
                    <a:pt x="90" y="36"/>
                    <a:pt x="171" y="90"/>
                    <a:pt x="237" y="157"/>
                  </a:cubicBezTo>
                  <a:cubicBezTo>
                    <a:pt x="202" y="7"/>
                    <a:pt x="202" y="7"/>
                    <a:pt x="202" y="7"/>
                  </a:cubicBezTo>
                  <a:cubicBezTo>
                    <a:pt x="0" y="0"/>
                    <a:pt x="0" y="0"/>
                    <a:pt x="0" y="0"/>
                  </a:cubicBezTo>
                </a:path>
              </a:pathLst>
            </a:custGeom>
            <a:solidFill>
              <a:srgbClr val="aad6da"/>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69" name="Freeform 211"/>
            <p:cNvSpPr/>
            <p:nvPr/>
          </p:nvSpPr>
          <p:spPr>
            <a:xfrm>
              <a:off x="5110560" y="772560"/>
              <a:ext cx="3421440" cy="4327560"/>
            </a:xfrm>
            <a:custGeom>
              <a:avLst/>
              <a:gdLst>
                <a:gd name="textAreaLeft" fmla="*/ 0 w 3421440"/>
                <a:gd name="textAreaRight" fmla="*/ 3421800 w 3421440"/>
                <a:gd name="textAreaTop" fmla="*/ 0 h 4327560"/>
                <a:gd name="textAreaBottom" fmla="*/ 4327920 h 4327560"/>
              </a:gdLst>
              <a:ahLst/>
              <a:rect l="textAreaLeft" t="textAreaTop" r="textAreaRight" b="textAreaBottom"/>
              <a:pathLst>
                <a:path w="751" h="950">
                  <a:moveTo>
                    <a:pt x="371" y="0"/>
                  </a:moveTo>
                  <a:cubicBezTo>
                    <a:pt x="174" y="505"/>
                    <a:pt x="174" y="505"/>
                    <a:pt x="174" y="505"/>
                  </a:cubicBezTo>
                  <a:cubicBezTo>
                    <a:pt x="347" y="950"/>
                    <a:pt x="347" y="950"/>
                    <a:pt x="347" y="950"/>
                  </a:cubicBezTo>
                  <a:cubicBezTo>
                    <a:pt x="0" y="950"/>
                    <a:pt x="0" y="950"/>
                    <a:pt x="0" y="950"/>
                  </a:cubicBezTo>
                  <a:cubicBezTo>
                    <a:pt x="614" y="950"/>
                    <a:pt x="614" y="950"/>
                    <a:pt x="614" y="950"/>
                  </a:cubicBezTo>
                  <a:cubicBezTo>
                    <a:pt x="675" y="889"/>
                    <a:pt x="722" y="815"/>
                    <a:pt x="751" y="733"/>
                  </a:cubicBezTo>
                  <a:cubicBezTo>
                    <a:pt x="615" y="157"/>
                    <a:pt x="615" y="157"/>
                    <a:pt x="615" y="157"/>
                  </a:cubicBezTo>
                  <a:cubicBezTo>
                    <a:pt x="549" y="90"/>
                    <a:pt x="468" y="36"/>
                    <a:pt x="378" y="0"/>
                  </a:cubicBezTo>
                  <a:cubicBezTo>
                    <a:pt x="371" y="0"/>
                    <a:pt x="371" y="0"/>
                    <a:pt x="371" y="0"/>
                  </a:cubicBezTo>
                </a:path>
              </a:pathLst>
            </a:custGeom>
            <a:solidFill>
              <a:srgbClr val="90c9cd"/>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0" name="Freeform 212"/>
            <p:cNvSpPr/>
            <p:nvPr/>
          </p:nvSpPr>
          <p:spPr>
            <a:xfrm>
              <a:off x="6802200" y="529200"/>
              <a:ext cx="948240" cy="271440"/>
            </a:xfrm>
            <a:custGeom>
              <a:avLst/>
              <a:gdLst>
                <a:gd name="textAreaLeft" fmla="*/ 0 w 948240"/>
                <a:gd name="textAreaRight" fmla="*/ 948600 w 948240"/>
                <a:gd name="textAreaTop" fmla="*/ 0 h 271440"/>
                <a:gd name="textAreaBottom" fmla="*/ 271800 h 271440"/>
              </a:gdLst>
              <a:ahLst/>
              <a:rect l="textAreaLeft" t="textAreaTop" r="textAreaRight" b="textAreaBottom"/>
              <a:pathLst>
                <a:path w="199" h="57">
                  <a:moveTo>
                    <a:pt x="19" y="0"/>
                  </a:moveTo>
                  <a:lnTo>
                    <a:pt x="0" y="51"/>
                  </a:lnTo>
                  <a:lnTo>
                    <a:pt x="6" y="51"/>
                  </a:lnTo>
                  <a:lnTo>
                    <a:pt x="199" y="57"/>
                  </a:lnTo>
                  <a:lnTo>
                    <a:pt x="188" y="9"/>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1" name="Freeform 213"/>
            <p:cNvSpPr/>
            <p:nvPr/>
          </p:nvSpPr>
          <p:spPr>
            <a:xfrm>
              <a:off x="6802200" y="529200"/>
              <a:ext cx="948240" cy="271440"/>
            </a:xfrm>
            <a:custGeom>
              <a:avLst/>
              <a:gdLst>
                <a:gd name="textAreaLeft" fmla="*/ 0 w 948240"/>
                <a:gd name="textAreaRight" fmla="*/ 948600 w 948240"/>
                <a:gd name="textAreaTop" fmla="*/ 0 h 271440"/>
                <a:gd name="textAreaBottom" fmla="*/ 271800 h 271440"/>
              </a:gdLst>
              <a:ahLst/>
              <a:rect l="textAreaLeft" t="textAreaTop" r="textAreaRight" b="textAreaBottom"/>
              <a:pathLst>
                <a:path w="199" h="57">
                  <a:moveTo>
                    <a:pt x="19" y="0"/>
                  </a:moveTo>
                  <a:lnTo>
                    <a:pt x="0" y="51"/>
                  </a:lnTo>
                  <a:lnTo>
                    <a:pt x="6" y="51"/>
                  </a:lnTo>
                  <a:lnTo>
                    <a:pt x="199" y="57"/>
                  </a:lnTo>
                  <a:lnTo>
                    <a:pt x="188" y="9"/>
                  </a:lnTo>
                  <a:lnTo>
                    <a:pt x="1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2" name="Freeform 214"/>
            <p:cNvSpPr/>
            <p:nvPr/>
          </p:nvSpPr>
          <p:spPr>
            <a:xfrm>
              <a:off x="3256560" y="529200"/>
              <a:ext cx="1720080" cy="4570920"/>
            </a:xfrm>
            <a:custGeom>
              <a:avLst/>
              <a:gdLst>
                <a:gd name="textAreaLeft" fmla="*/ 0 w 1720080"/>
                <a:gd name="textAreaRight" fmla="*/ 1720440 w 1720080"/>
                <a:gd name="textAreaTop" fmla="*/ 0 h 4570920"/>
                <a:gd name="textAreaBottom" fmla="*/ 4571280 h 4570920"/>
              </a:gdLst>
              <a:ahLst/>
              <a:rect l="textAreaLeft" t="textAreaTop" r="textAreaRight" b="textAreaBottom"/>
              <a:pathLst>
                <a:path w="377" h="1003">
                  <a:moveTo>
                    <a:pt x="36" y="811"/>
                  </a:moveTo>
                  <a:cubicBezTo>
                    <a:pt x="0" y="1003"/>
                    <a:pt x="0" y="1003"/>
                    <a:pt x="0" y="1003"/>
                  </a:cubicBezTo>
                  <a:cubicBezTo>
                    <a:pt x="163" y="1003"/>
                    <a:pt x="163" y="1003"/>
                    <a:pt x="163" y="1003"/>
                  </a:cubicBezTo>
                  <a:cubicBezTo>
                    <a:pt x="109" y="948"/>
                    <a:pt x="65" y="883"/>
                    <a:pt x="36" y="811"/>
                  </a:cubicBezTo>
                  <a:moveTo>
                    <a:pt x="363" y="0"/>
                  </a:moveTo>
                  <a:cubicBezTo>
                    <a:pt x="186" y="10"/>
                    <a:pt x="186" y="10"/>
                    <a:pt x="186" y="10"/>
                  </a:cubicBezTo>
                  <a:cubicBezTo>
                    <a:pt x="154" y="180"/>
                    <a:pt x="154" y="180"/>
                    <a:pt x="154" y="180"/>
                  </a:cubicBezTo>
                  <a:cubicBezTo>
                    <a:pt x="214" y="115"/>
                    <a:pt x="290" y="65"/>
                    <a:pt x="377" y="37"/>
                  </a:cubicBezTo>
                  <a:cubicBezTo>
                    <a:pt x="363" y="0"/>
                    <a:pt x="363" y="0"/>
                    <a:pt x="363" y="0"/>
                  </a:cubicBezTo>
                </a:path>
              </a:pathLst>
            </a:custGeom>
            <a:solidFill>
              <a:srgbClr val="aad6da"/>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3" name="Freeform 215"/>
            <p:cNvSpPr/>
            <p:nvPr/>
          </p:nvSpPr>
          <p:spPr>
            <a:xfrm>
              <a:off x="3423600" y="696240"/>
              <a:ext cx="2477880" cy="4403880"/>
            </a:xfrm>
            <a:custGeom>
              <a:avLst/>
              <a:gdLst>
                <a:gd name="textAreaLeft" fmla="*/ 0 w 2477880"/>
                <a:gd name="textAreaRight" fmla="*/ 2478240 w 2477880"/>
                <a:gd name="textAreaTop" fmla="*/ 0 h 4403880"/>
                <a:gd name="textAreaBottom" fmla="*/ 4404240 h 4403880"/>
              </a:gdLst>
              <a:ahLst/>
              <a:rect l="textAreaLeft" t="textAreaTop" r="textAreaRight" b="textAreaBottom"/>
              <a:pathLst>
                <a:path w="544" h="966">
                  <a:moveTo>
                    <a:pt x="341" y="0"/>
                  </a:moveTo>
                  <a:cubicBezTo>
                    <a:pt x="254" y="28"/>
                    <a:pt x="178" y="78"/>
                    <a:pt x="118" y="143"/>
                  </a:cubicBezTo>
                  <a:cubicBezTo>
                    <a:pt x="0" y="774"/>
                    <a:pt x="0" y="774"/>
                    <a:pt x="0" y="774"/>
                  </a:cubicBezTo>
                  <a:cubicBezTo>
                    <a:pt x="29" y="846"/>
                    <a:pt x="73" y="911"/>
                    <a:pt x="127" y="966"/>
                  </a:cubicBezTo>
                  <a:cubicBezTo>
                    <a:pt x="370" y="966"/>
                    <a:pt x="370" y="966"/>
                    <a:pt x="370" y="966"/>
                  </a:cubicBezTo>
                  <a:cubicBezTo>
                    <a:pt x="544" y="521"/>
                    <a:pt x="544" y="521"/>
                    <a:pt x="544" y="521"/>
                  </a:cubicBezTo>
                  <a:cubicBezTo>
                    <a:pt x="341" y="0"/>
                    <a:pt x="341" y="0"/>
                    <a:pt x="341" y="0"/>
                  </a:cubicBezTo>
                </a:path>
              </a:pathLst>
            </a:custGeom>
            <a:solidFill>
              <a:srgbClr val="90c9cd"/>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4" name="Freeform 216"/>
            <p:cNvSpPr/>
            <p:nvPr/>
          </p:nvSpPr>
          <p:spPr>
            <a:xfrm>
              <a:off x="5110560" y="3074760"/>
              <a:ext cx="1581840" cy="2025360"/>
            </a:xfrm>
            <a:custGeom>
              <a:avLst/>
              <a:gdLst>
                <a:gd name="textAreaLeft" fmla="*/ 0 w 1581840"/>
                <a:gd name="textAreaRight" fmla="*/ 1582200 w 1581840"/>
                <a:gd name="textAreaTop" fmla="*/ 0 h 2025360"/>
                <a:gd name="textAreaBottom" fmla="*/ 2025720 h 2025360"/>
              </a:gdLst>
              <a:ahLst/>
              <a:rect l="textAreaLeft" t="textAreaTop" r="textAreaRight" b="textAreaBottom"/>
              <a:pathLst>
                <a:path w="332" h="425">
                  <a:moveTo>
                    <a:pt x="166" y="0"/>
                  </a:moveTo>
                  <a:lnTo>
                    <a:pt x="0" y="425"/>
                  </a:lnTo>
                  <a:lnTo>
                    <a:pt x="332" y="425"/>
                  </a:lnTo>
                  <a:lnTo>
                    <a:pt x="166" y="0"/>
                  </a:lnTo>
                  <a:close/>
                </a:path>
              </a:pathLst>
            </a:custGeom>
            <a:solidFill>
              <a:srgbClr val="a5d3d6"/>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5" name="Freeform 217"/>
            <p:cNvSpPr/>
            <p:nvPr/>
          </p:nvSpPr>
          <p:spPr>
            <a:xfrm>
              <a:off x="5110560" y="3074760"/>
              <a:ext cx="1581840" cy="2025360"/>
            </a:xfrm>
            <a:custGeom>
              <a:avLst/>
              <a:gdLst>
                <a:gd name="textAreaLeft" fmla="*/ 0 w 1581840"/>
                <a:gd name="textAreaRight" fmla="*/ 1582200 w 1581840"/>
                <a:gd name="textAreaTop" fmla="*/ 0 h 2025360"/>
                <a:gd name="textAreaBottom" fmla="*/ 2025720 h 2025360"/>
              </a:gdLst>
              <a:ahLst/>
              <a:rect l="textAreaLeft" t="textAreaTop" r="textAreaRight" b="textAreaBottom"/>
              <a:pathLst>
                <a:path w="332" h="425">
                  <a:moveTo>
                    <a:pt x="166" y="0"/>
                  </a:moveTo>
                  <a:lnTo>
                    <a:pt x="0" y="425"/>
                  </a:lnTo>
                  <a:lnTo>
                    <a:pt x="332" y="425"/>
                  </a:lnTo>
                  <a:lnTo>
                    <a:pt x="16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6" name="Freeform 218"/>
            <p:cNvSpPr/>
            <p:nvPr/>
          </p:nvSpPr>
          <p:spPr>
            <a:xfrm>
              <a:off x="4243320" y="-28080"/>
              <a:ext cx="509760" cy="414360"/>
            </a:xfrm>
            <a:custGeom>
              <a:avLst/>
              <a:gdLst>
                <a:gd name="textAreaLeft" fmla="*/ 0 w 509760"/>
                <a:gd name="textAreaRight" fmla="*/ 510120 w 509760"/>
                <a:gd name="textAreaTop" fmla="*/ 0 h 414360"/>
                <a:gd name="textAreaBottom" fmla="*/ 414720 h 414360"/>
              </a:gdLst>
              <a:ahLst/>
              <a:rect l="textAreaLeft" t="textAreaTop" r="textAreaRight" b="textAreaBottom"/>
              <a:pathLst>
                <a:path w="112" h="91">
                  <a:moveTo>
                    <a:pt x="0" y="83"/>
                  </a:moveTo>
                  <a:cubicBezTo>
                    <a:pt x="112" y="91"/>
                    <a:pt x="112" y="91"/>
                    <a:pt x="112" y="91"/>
                  </a:cubicBezTo>
                  <a:cubicBezTo>
                    <a:pt x="112" y="91"/>
                    <a:pt x="107" y="50"/>
                    <a:pt x="86" y="29"/>
                  </a:cubicBezTo>
                  <a:cubicBezTo>
                    <a:pt x="59" y="1"/>
                    <a:pt x="13" y="0"/>
                    <a:pt x="0" y="83"/>
                  </a:cubicBez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7" name="Freeform 219"/>
            <p:cNvSpPr/>
            <p:nvPr/>
          </p:nvSpPr>
          <p:spPr>
            <a:xfrm>
              <a:off x="3828600" y="-442800"/>
              <a:ext cx="1391400" cy="1253520"/>
            </a:xfrm>
            <a:custGeom>
              <a:avLst/>
              <a:gdLst>
                <a:gd name="textAreaLeft" fmla="*/ 0 w 1391400"/>
                <a:gd name="textAreaRight" fmla="*/ 1391760 w 1391400"/>
                <a:gd name="textAreaTop" fmla="*/ 0 h 1253520"/>
                <a:gd name="textAreaBottom" fmla="*/ 1253880 h 1253520"/>
              </a:gdLst>
              <a:ahLst/>
              <a:rect l="textAreaLeft" t="textAreaTop" r="textAreaRight" b="textAreaBottom"/>
              <a:pathLst>
                <a:path w="306" h="275">
                  <a:moveTo>
                    <a:pt x="0" y="275"/>
                  </a:moveTo>
                  <a:cubicBezTo>
                    <a:pt x="306" y="265"/>
                    <a:pt x="306" y="265"/>
                    <a:pt x="306" y="265"/>
                  </a:cubicBezTo>
                  <a:cubicBezTo>
                    <a:pt x="306" y="265"/>
                    <a:pt x="137" y="0"/>
                    <a:pt x="0" y="27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8" name="Freeform 220"/>
            <p:cNvSpPr/>
            <p:nvPr/>
          </p:nvSpPr>
          <p:spPr>
            <a:xfrm>
              <a:off x="4457520" y="-333000"/>
              <a:ext cx="37800" cy="409680"/>
            </a:xfrm>
            <a:custGeom>
              <a:avLst/>
              <a:gdLst>
                <a:gd name="textAreaLeft" fmla="*/ 0 w 37800"/>
                <a:gd name="textAreaRight" fmla="*/ 38160 w 37800"/>
                <a:gd name="textAreaTop" fmla="*/ 0 h 409680"/>
                <a:gd name="textAreaBottom" fmla="*/ 410040 h 409680"/>
              </a:gdLst>
              <a:ahLst/>
              <a:rect l="textAreaLeft" t="textAreaTop" r="textAreaRight" b="textAreaBottom"/>
              <a:pathLst>
                <a:path w="8" h="86">
                  <a:moveTo>
                    <a:pt x="0" y="86"/>
                  </a:moveTo>
                  <a:lnTo>
                    <a:pt x="0" y="0"/>
                  </a:lnTo>
                  <a:lnTo>
                    <a:pt x="5" y="0"/>
                  </a:lnTo>
                  <a:lnTo>
                    <a:pt x="8" y="86"/>
                  </a:lnTo>
                  <a:lnTo>
                    <a:pt x="0" y="86"/>
                  </a:ln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79" name="Freeform 221"/>
            <p:cNvSpPr/>
            <p:nvPr/>
          </p:nvSpPr>
          <p:spPr>
            <a:xfrm>
              <a:off x="7988760" y="4509360"/>
              <a:ext cx="733680" cy="443160"/>
            </a:xfrm>
            <a:custGeom>
              <a:avLst/>
              <a:gdLst>
                <a:gd name="textAreaLeft" fmla="*/ 0 w 733680"/>
                <a:gd name="textAreaRight" fmla="*/ 734040 w 733680"/>
                <a:gd name="textAreaTop" fmla="*/ 0 h 443160"/>
                <a:gd name="textAreaBottom" fmla="*/ 443520 h 443160"/>
              </a:gdLst>
              <a:ahLst/>
              <a:rect l="textAreaLeft" t="textAreaTop" r="textAreaRight" b="textAreaBottom"/>
              <a:pathLst>
                <a:path w="154" h="93">
                  <a:moveTo>
                    <a:pt x="154" y="10"/>
                  </a:moveTo>
                  <a:lnTo>
                    <a:pt x="154" y="69"/>
                  </a:lnTo>
                  <a:lnTo>
                    <a:pt x="0" y="93"/>
                  </a:lnTo>
                  <a:lnTo>
                    <a:pt x="7" y="0"/>
                  </a:lnTo>
                  <a:lnTo>
                    <a:pt x="154" y="10"/>
                  </a:ln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0" name="Freeform 222"/>
            <p:cNvSpPr/>
            <p:nvPr/>
          </p:nvSpPr>
          <p:spPr>
            <a:xfrm>
              <a:off x="8103240" y="3284280"/>
              <a:ext cx="228600" cy="171360"/>
            </a:xfrm>
            <a:custGeom>
              <a:avLst/>
              <a:gdLst>
                <a:gd name="textAreaLeft" fmla="*/ 0 w 228600"/>
                <a:gd name="textAreaRight" fmla="*/ 228960 w 228600"/>
                <a:gd name="textAreaTop" fmla="*/ 0 h 171360"/>
                <a:gd name="textAreaBottom" fmla="*/ 171720 h 171360"/>
              </a:gdLst>
              <a:ahLst/>
              <a:rect l="textAreaLeft" t="textAreaTop" r="textAreaRight" b="textAreaBottom"/>
              <a:pathLst>
                <a:path w="50" h="38">
                  <a:moveTo>
                    <a:pt x="0" y="22"/>
                  </a:moveTo>
                  <a:cubicBezTo>
                    <a:pt x="0" y="22"/>
                    <a:pt x="27" y="0"/>
                    <a:pt x="50" y="10"/>
                  </a:cubicBezTo>
                  <a:cubicBezTo>
                    <a:pt x="29" y="32"/>
                    <a:pt x="29" y="32"/>
                    <a:pt x="29" y="32"/>
                  </a:cubicBezTo>
                  <a:cubicBezTo>
                    <a:pt x="0" y="38"/>
                    <a:pt x="0" y="38"/>
                    <a:pt x="0" y="38"/>
                  </a:cubicBezTo>
                  <a:lnTo>
                    <a:pt x="0" y="22"/>
                  </a:ln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1" name="Freeform 223"/>
            <p:cNvSpPr/>
            <p:nvPr/>
          </p:nvSpPr>
          <p:spPr>
            <a:xfrm>
              <a:off x="7855560" y="3865680"/>
              <a:ext cx="1162800" cy="862560"/>
            </a:xfrm>
            <a:custGeom>
              <a:avLst/>
              <a:gdLst>
                <a:gd name="textAreaLeft" fmla="*/ 0 w 1162800"/>
                <a:gd name="textAreaRight" fmla="*/ 1163160 w 1162800"/>
                <a:gd name="textAreaTop" fmla="*/ 0 h 862560"/>
                <a:gd name="textAreaBottom" fmla="*/ 862920 h 862560"/>
              </a:gdLst>
              <a:ahLst/>
              <a:rect l="textAreaLeft" t="textAreaTop" r="textAreaRight" b="textAreaBottom"/>
              <a:pathLst>
                <a:path w="244" h="181">
                  <a:moveTo>
                    <a:pt x="0" y="6"/>
                  </a:moveTo>
                  <a:lnTo>
                    <a:pt x="244" y="0"/>
                  </a:lnTo>
                  <a:lnTo>
                    <a:pt x="236" y="181"/>
                  </a:lnTo>
                  <a:lnTo>
                    <a:pt x="0" y="165"/>
                  </a:lnTo>
                  <a:lnTo>
                    <a:pt x="0" y="6"/>
                  </a:lnTo>
                  <a:close/>
                </a:path>
              </a:pathLst>
            </a:custGeom>
            <a:solidFill>
              <a:srgbClr val="f2f2e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2" name="Freeform 224"/>
            <p:cNvSpPr/>
            <p:nvPr/>
          </p:nvSpPr>
          <p:spPr>
            <a:xfrm>
              <a:off x="8079480" y="4542480"/>
              <a:ext cx="199800" cy="171360"/>
            </a:xfrm>
            <a:custGeom>
              <a:avLst/>
              <a:gdLst>
                <a:gd name="textAreaLeft" fmla="*/ 0 w 199800"/>
                <a:gd name="textAreaRight" fmla="*/ 200160 w 199800"/>
                <a:gd name="textAreaTop" fmla="*/ 0 h 171360"/>
                <a:gd name="textAreaBottom" fmla="*/ 171720 h 171360"/>
              </a:gdLst>
              <a:ahLst/>
              <a:rect l="textAreaLeft" t="textAreaTop" r="textAreaRight" b="textAreaBottom"/>
              <a:pathLst>
                <a:path w="43" h="38">
                  <a:moveTo>
                    <a:pt x="16" y="1"/>
                  </a:moveTo>
                  <a:cubicBezTo>
                    <a:pt x="31" y="1"/>
                    <a:pt x="43" y="20"/>
                    <a:pt x="40" y="27"/>
                  </a:cubicBezTo>
                  <a:cubicBezTo>
                    <a:pt x="37" y="34"/>
                    <a:pt x="28" y="15"/>
                    <a:pt x="28" y="15"/>
                  </a:cubicBezTo>
                  <a:cubicBezTo>
                    <a:pt x="28" y="15"/>
                    <a:pt x="34" y="32"/>
                    <a:pt x="30" y="35"/>
                  </a:cubicBezTo>
                  <a:cubicBezTo>
                    <a:pt x="26" y="38"/>
                    <a:pt x="19" y="15"/>
                    <a:pt x="19" y="15"/>
                  </a:cubicBezTo>
                  <a:cubicBezTo>
                    <a:pt x="19" y="15"/>
                    <a:pt x="20" y="31"/>
                    <a:pt x="17" y="35"/>
                  </a:cubicBezTo>
                  <a:cubicBezTo>
                    <a:pt x="14" y="38"/>
                    <a:pt x="10" y="24"/>
                    <a:pt x="9" y="16"/>
                  </a:cubicBezTo>
                  <a:cubicBezTo>
                    <a:pt x="8" y="22"/>
                    <a:pt x="7" y="37"/>
                    <a:pt x="4" y="36"/>
                  </a:cubicBezTo>
                  <a:cubicBezTo>
                    <a:pt x="0" y="34"/>
                    <a:pt x="1" y="23"/>
                    <a:pt x="1" y="19"/>
                  </a:cubicBezTo>
                  <a:cubicBezTo>
                    <a:pt x="1" y="13"/>
                    <a:pt x="0" y="0"/>
                    <a:pt x="16" y="1"/>
                  </a:cubicBez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3" name="Freeform 225"/>
            <p:cNvSpPr/>
            <p:nvPr/>
          </p:nvSpPr>
          <p:spPr>
            <a:xfrm>
              <a:off x="8456040" y="4575960"/>
              <a:ext cx="204840" cy="200160"/>
            </a:xfrm>
            <a:custGeom>
              <a:avLst/>
              <a:gdLst>
                <a:gd name="textAreaLeft" fmla="*/ 0 w 204840"/>
                <a:gd name="textAreaRight" fmla="*/ 205200 w 204840"/>
                <a:gd name="textAreaTop" fmla="*/ 0 h 200160"/>
                <a:gd name="textAreaBottom" fmla="*/ 200520 h 200160"/>
              </a:gdLst>
              <a:ahLst/>
              <a:rect l="textAreaLeft" t="textAreaTop" r="textAreaRight" b="textAreaBottom"/>
              <a:pathLst>
                <a:path w="45" h="44">
                  <a:moveTo>
                    <a:pt x="25" y="5"/>
                  </a:moveTo>
                  <a:cubicBezTo>
                    <a:pt x="40" y="10"/>
                    <a:pt x="45" y="31"/>
                    <a:pt x="41" y="37"/>
                  </a:cubicBezTo>
                  <a:cubicBezTo>
                    <a:pt x="36" y="43"/>
                    <a:pt x="33" y="22"/>
                    <a:pt x="33" y="22"/>
                  </a:cubicBezTo>
                  <a:cubicBezTo>
                    <a:pt x="33" y="22"/>
                    <a:pt x="33" y="40"/>
                    <a:pt x="28" y="42"/>
                  </a:cubicBezTo>
                  <a:cubicBezTo>
                    <a:pt x="23" y="44"/>
                    <a:pt x="24" y="19"/>
                    <a:pt x="24" y="19"/>
                  </a:cubicBezTo>
                  <a:cubicBezTo>
                    <a:pt x="24" y="19"/>
                    <a:pt x="20" y="35"/>
                    <a:pt x="16" y="38"/>
                  </a:cubicBezTo>
                  <a:cubicBezTo>
                    <a:pt x="12" y="40"/>
                    <a:pt x="12" y="26"/>
                    <a:pt x="14" y="18"/>
                  </a:cubicBezTo>
                  <a:cubicBezTo>
                    <a:pt x="12" y="23"/>
                    <a:pt x="6" y="37"/>
                    <a:pt x="4" y="35"/>
                  </a:cubicBezTo>
                  <a:cubicBezTo>
                    <a:pt x="0" y="32"/>
                    <a:pt x="4" y="22"/>
                    <a:pt x="5" y="18"/>
                  </a:cubicBezTo>
                  <a:cubicBezTo>
                    <a:pt x="7" y="12"/>
                    <a:pt x="10" y="0"/>
                    <a:pt x="25" y="5"/>
                  </a:cubicBez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4" name="Freeform 226"/>
            <p:cNvSpPr/>
            <p:nvPr/>
          </p:nvSpPr>
          <p:spPr>
            <a:xfrm>
              <a:off x="7702920" y="3313080"/>
              <a:ext cx="1510560" cy="1301040"/>
            </a:xfrm>
            <a:custGeom>
              <a:avLst/>
              <a:gdLst>
                <a:gd name="textAreaLeft" fmla="*/ 0 w 1510560"/>
                <a:gd name="textAreaRight" fmla="*/ 1510920 w 1510560"/>
                <a:gd name="textAreaTop" fmla="*/ 0 h 1301040"/>
                <a:gd name="textAreaBottom" fmla="*/ 1301400 h 1301040"/>
              </a:gdLst>
              <a:ahLst/>
              <a:rect l="textAreaLeft" t="textAreaTop" r="textAreaRight" b="textAreaBottom"/>
              <a:pathLst>
                <a:path w="331" h="285">
                  <a:moveTo>
                    <a:pt x="179" y="0"/>
                  </a:moveTo>
                  <a:cubicBezTo>
                    <a:pt x="179" y="0"/>
                    <a:pt x="331" y="85"/>
                    <a:pt x="201" y="285"/>
                  </a:cubicBezTo>
                  <a:cubicBezTo>
                    <a:pt x="174" y="285"/>
                    <a:pt x="174" y="285"/>
                    <a:pt x="174" y="285"/>
                  </a:cubicBezTo>
                  <a:cubicBezTo>
                    <a:pt x="174" y="285"/>
                    <a:pt x="219" y="196"/>
                    <a:pt x="200" y="123"/>
                  </a:cubicBezTo>
                  <a:cubicBezTo>
                    <a:pt x="102" y="125"/>
                    <a:pt x="102" y="125"/>
                    <a:pt x="102" y="125"/>
                  </a:cubicBezTo>
                  <a:cubicBezTo>
                    <a:pt x="102" y="125"/>
                    <a:pt x="101" y="239"/>
                    <a:pt x="113" y="273"/>
                  </a:cubicBezTo>
                  <a:cubicBezTo>
                    <a:pt x="84" y="276"/>
                    <a:pt x="84" y="276"/>
                    <a:pt x="84" y="276"/>
                  </a:cubicBezTo>
                  <a:cubicBezTo>
                    <a:pt x="84" y="276"/>
                    <a:pt x="0" y="89"/>
                    <a:pt x="132" y="2"/>
                  </a:cubicBezTo>
                  <a:lnTo>
                    <a:pt x="179" y="0"/>
                  </a:ln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5" name="Freeform 227"/>
            <p:cNvSpPr/>
            <p:nvPr/>
          </p:nvSpPr>
          <p:spPr>
            <a:xfrm>
              <a:off x="8379720" y="2521800"/>
              <a:ext cx="976680" cy="709920"/>
            </a:xfrm>
            <a:custGeom>
              <a:avLst/>
              <a:gdLst>
                <a:gd name="textAreaLeft" fmla="*/ 0 w 976680"/>
                <a:gd name="textAreaRight" fmla="*/ 977040 w 976680"/>
                <a:gd name="textAreaTop" fmla="*/ 0 h 709920"/>
                <a:gd name="textAreaBottom" fmla="*/ 710280 h 709920"/>
              </a:gdLst>
              <a:ahLst/>
              <a:rect l="textAreaLeft" t="textAreaTop" r="textAreaRight" b="textAreaBottom"/>
              <a:pathLst>
                <a:path w="215" h="156">
                  <a:moveTo>
                    <a:pt x="139" y="54"/>
                  </a:moveTo>
                  <a:cubicBezTo>
                    <a:pt x="148" y="59"/>
                    <a:pt x="158" y="57"/>
                    <a:pt x="168" y="54"/>
                  </a:cubicBezTo>
                  <a:cubicBezTo>
                    <a:pt x="178" y="52"/>
                    <a:pt x="187" y="49"/>
                    <a:pt x="197" y="51"/>
                  </a:cubicBezTo>
                  <a:cubicBezTo>
                    <a:pt x="207" y="54"/>
                    <a:pt x="215" y="64"/>
                    <a:pt x="211" y="73"/>
                  </a:cubicBezTo>
                  <a:cubicBezTo>
                    <a:pt x="209" y="77"/>
                    <a:pt x="205" y="80"/>
                    <a:pt x="201" y="83"/>
                  </a:cubicBezTo>
                  <a:cubicBezTo>
                    <a:pt x="189" y="90"/>
                    <a:pt x="175" y="93"/>
                    <a:pt x="161" y="94"/>
                  </a:cubicBezTo>
                  <a:cubicBezTo>
                    <a:pt x="174" y="93"/>
                    <a:pt x="187" y="93"/>
                    <a:pt x="198" y="99"/>
                  </a:cubicBezTo>
                  <a:cubicBezTo>
                    <a:pt x="209" y="105"/>
                    <a:pt x="215" y="120"/>
                    <a:pt x="208" y="130"/>
                  </a:cubicBezTo>
                  <a:cubicBezTo>
                    <a:pt x="204" y="135"/>
                    <a:pt x="198" y="138"/>
                    <a:pt x="192" y="140"/>
                  </a:cubicBezTo>
                  <a:cubicBezTo>
                    <a:pt x="172" y="147"/>
                    <a:pt x="151" y="151"/>
                    <a:pt x="129" y="153"/>
                  </a:cubicBezTo>
                  <a:cubicBezTo>
                    <a:pt x="101" y="156"/>
                    <a:pt x="71" y="155"/>
                    <a:pt x="46" y="142"/>
                  </a:cubicBezTo>
                  <a:cubicBezTo>
                    <a:pt x="20" y="129"/>
                    <a:pt x="0" y="103"/>
                    <a:pt x="0" y="74"/>
                  </a:cubicBezTo>
                  <a:cubicBezTo>
                    <a:pt x="0" y="67"/>
                    <a:pt x="2" y="60"/>
                    <a:pt x="4" y="54"/>
                  </a:cubicBezTo>
                  <a:cubicBezTo>
                    <a:pt x="7" y="40"/>
                    <a:pt x="15" y="26"/>
                    <a:pt x="27" y="18"/>
                  </a:cubicBezTo>
                  <a:cubicBezTo>
                    <a:pt x="34" y="14"/>
                    <a:pt x="42" y="12"/>
                    <a:pt x="50" y="10"/>
                  </a:cubicBezTo>
                  <a:cubicBezTo>
                    <a:pt x="65" y="8"/>
                    <a:pt x="108" y="0"/>
                    <a:pt x="120" y="10"/>
                  </a:cubicBezTo>
                  <a:cubicBezTo>
                    <a:pt x="132" y="21"/>
                    <a:pt x="120" y="44"/>
                    <a:pt x="139" y="54"/>
                  </a:cubicBezTo>
                  <a:close/>
                </a:path>
              </a:pathLst>
            </a:custGeom>
            <a:solidFill>
              <a:srgbClr val="db7a3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6" name="Freeform 228"/>
            <p:cNvSpPr/>
            <p:nvPr/>
          </p:nvSpPr>
          <p:spPr>
            <a:xfrm>
              <a:off x="7655400" y="2454840"/>
              <a:ext cx="981360" cy="714600"/>
            </a:xfrm>
            <a:custGeom>
              <a:avLst/>
              <a:gdLst>
                <a:gd name="textAreaLeft" fmla="*/ 0 w 981360"/>
                <a:gd name="textAreaRight" fmla="*/ 981720 w 981360"/>
                <a:gd name="textAreaTop" fmla="*/ 0 h 714600"/>
                <a:gd name="textAreaBottom" fmla="*/ 714960 h 714600"/>
              </a:gdLst>
              <a:ahLst/>
              <a:rect l="textAreaLeft" t="textAreaTop" r="textAreaRight" b="textAreaBottom"/>
              <a:pathLst>
                <a:path w="215" h="157">
                  <a:moveTo>
                    <a:pt x="76" y="54"/>
                  </a:moveTo>
                  <a:cubicBezTo>
                    <a:pt x="68" y="59"/>
                    <a:pt x="57" y="57"/>
                    <a:pt x="48" y="54"/>
                  </a:cubicBezTo>
                  <a:cubicBezTo>
                    <a:pt x="38" y="52"/>
                    <a:pt x="28" y="49"/>
                    <a:pt x="19" y="51"/>
                  </a:cubicBezTo>
                  <a:cubicBezTo>
                    <a:pt x="9" y="54"/>
                    <a:pt x="1" y="64"/>
                    <a:pt x="4" y="73"/>
                  </a:cubicBezTo>
                  <a:cubicBezTo>
                    <a:pt x="6" y="78"/>
                    <a:pt x="11" y="81"/>
                    <a:pt x="15" y="83"/>
                  </a:cubicBezTo>
                  <a:cubicBezTo>
                    <a:pt x="27" y="90"/>
                    <a:pt x="41" y="94"/>
                    <a:pt x="54" y="94"/>
                  </a:cubicBezTo>
                  <a:cubicBezTo>
                    <a:pt x="42" y="93"/>
                    <a:pt x="29" y="93"/>
                    <a:pt x="18" y="99"/>
                  </a:cubicBezTo>
                  <a:cubicBezTo>
                    <a:pt x="7" y="105"/>
                    <a:pt x="0" y="120"/>
                    <a:pt x="8" y="130"/>
                  </a:cubicBezTo>
                  <a:cubicBezTo>
                    <a:pt x="11" y="135"/>
                    <a:pt x="18" y="138"/>
                    <a:pt x="24" y="140"/>
                  </a:cubicBezTo>
                  <a:cubicBezTo>
                    <a:pt x="44" y="147"/>
                    <a:pt x="65" y="151"/>
                    <a:pt x="86" y="154"/>
                  </a:cubicBezTo>
                  <a:cubicBezTo>
                    <a:pt x="115" y="157"/>
                    <a:pt x="144" y="155"/>
                    <a:pt x="170" y="142"/>
                  </a:cubicBezTo>
                  <a:cubicBezTo>
                    <a:pt x="195" y="129"/>
                    <a:pt x="215" y="103"/>
                    <a:pt x="215" y="74"/>
                  </a:cubicBezTo>
                  <a:cubicBezTo>
                    <a:pt x="215" y="67"/>
                    <a:pt x="214" y="61"/>
                    <a:pt x="212" y="54"/>
                  </a:cubicBezTo>
                  <a:cubicBezTo>
                    <a:pt x="208" y="40"/>
                    <a:pt x="201" y="26"/>
                    <a:pt x="189" y="18"/>
                  </a:cubicBezTo>
                  <a:cubicBezTo>
                    <a:pt x="182" y="14"/>
                    <a:pt x="174" y="12"/>
                    <a:pt x="166" y="11"/>
                  </a:cubicBezTo>
                  <a:cubicBezTo>
                    <a:pt x="151" y="8"/>
                    <a:pt x="108" y="0"/>
                    <a:pt x="95" y="11"/>
                  </a:cubicBezTo>
                  <a:cubicBezTo>
                    <a:pt x="84" y="21"/>
                    <a:pt x="96" y="44"/>
                    <a:pt x="76" y="54"/>
                  </a:cubicBezTo>
                  <a:close/>
                </a:path>
              </a:pathLst>
            </a:custGeom>
            <a:solidFill>
              <a:srgbClr val="db7a3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7" name="Freeform 229"/>
            <p:cNvSpPr/>
            <p:nvPr/>
          </p:nvSpPr>
          <p:spPr>
            <a:xfrm>
              <a:off x="8751240" y="1783080"/>
              <a:ext cx="352440" cy="762480"/>
            </a:xfrm>
            <a:custGeom>
              <a:avLst/>
              <a:gdLst>
                <a:gd name="textAreaLeft" fmla="*/ 0 w 352440"/>
                <a:gd name="textAreaRight" fmla="*/ 352800 w 352440"/>
                <a:gd name="textAreaTop" fmla="*/ 0 h 762480"/>
                <a:gd name="textAreaBottom" fmla="*/ 762840 h 762480"/>
              </a:gdLst>
              <a:ahLst/>
              <a:rect l="textAreaLeft" t="textAreaTop" r="textAreaRight" b="textAreaBottom"/>
              <a:pathLst>
                <a:path w="77" h="167">
                  <a:moveTo>
                    <a:pt x="74" y="38"/>
                  </a:moveTo>
                  <a:cubicBezTo>
                    <a:pt x="74" y="38"/>
                    <a:pt x="77" y="120"/>
                    <a:pt x="44" y="153"/>
                  </a:cubicBezTo>
                  <a:cubicBezTo>
                    <a:pt x="7" y="167"/>
                    <a:pt x="7" y="167"/>
                    <a:pt x="7" y="167"/>
                  </a:cubicBezTo>
                  <a:cubicBezTo>
                    <a:pt x="0" y="108"/>
                    <a:pt x="0" y="108"/>
                    <a:pt x="0" y="108"/>
                  </a:cubicBezTo>
                  <a:cubicBezTo>
                    <a:pt x="0" y="13"/>
                    <a:pt x="0" y="13"/>
                    <a:pt x="0" y="13"/>
                  </a:cubicBezTo>
                  <a:cubicBezTo>
                    <a:pt x="36" y="0"/>
                    <a:pt x="36" y="0"/>
                    <a:pt x="36" y="0"/>
                  </a:cubicBezTo>
                  <a:lnTo>
                    <a:pt x="74" y="38"/>
                  </a:lnTo>
                  <a:close/>
                </a:path>
              </a:pathLst>
            </a:custGeom>
            <a:solidFill>
              <a:srgbClr val="db7a3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8" name="Freeform 230"/>
            <p:cNvSpPr/>
            <p:nvPr/>
          </p:nvSpPr>
          <p:spPr>
            <a:xfrm>
              <a:off x="6778440" y="4294800"/>
              <a:ext cx="681480" cy="543240"/>
            </a:xfrm>
            <a:custGeom>
              <a:avLst/>
              <a:gdLst>
                <a:gd name="textAreaLeft" fmla="*/ 0 w 681480"/>
                <a:gd name="textAreaRight" fmla="*/ 681840 w 681480"/>
                <a:gd name="textAreaTop" fmla="*/ 0 h 543240"/>
                <a:gd name="textAreaBottom" fmla="*/ 543600 h 543240"/>
              </a:gdLst>
              <a:ahLst/>
              <a:rect l="textAreaLeft" t="textAreaTop" r="textAreaRight" b="textAreaBottom"/>
              <a:pathLst>
                <a:path w="150" h="119">
                  <a:moveTo>
                    <a:pt x="0" y="36"/>
                  </a:moveTo>
                  <a:cubicBezTo>
                    <a:pt x="0" y="112"/>
                    <a:pt x="0" y="112"/>
                    <a:pt x="0" y="112"/>
                  </a:cubicBezTo>
                  <a:cubicBezTo>
                    <a:pt x="145" y="119"/>
                    <a:pt x="145" y="119"/>
                    <a:pt x="145" y="119"/>
                  </a:cubicBezTo>
                  <a:cubicBezTo>
                    <a:pt x="145" y="119"/>
                    <a:pt x="150" y="35"/>
                    <a:pt x="133" y="0"/>
                  </a:cubicBezTo>
                  <a:lnTo>
                    <a:pt x="0" y="36"/>
                  </a:lnTo>
                  <a:close/>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89" name="Freeform 231"/>
            <p:cNvSpPr/>
            <p:nvPr/>
          </p:nvSpPr>
          <p:spPr>
            <a:xfrm>
              <a:off x="7116840" y="3169800"/>
              <a:ext cx="1038600" cy="800640"/>
            </a:xfrm>
            <a:custGeom>
              <a:avLst/>
              <a:gdLst>
                <a:gd name="textAreaLeft" fmla="*/ 0 w 1038600"/>
                <a:gd name="textAreaRight" fmla="*/ 1038960 w 1038600"/>
                <a:gd name="textAreaTop" fmla="*/ 0 h 800640"/>
                <a:gd name="textAreaBottom" fmla="*/ 801000 h 800640"/>
              </a:gdLst>
              <a:ahLst/>
              <a:rect l="textAreaLeft" t="textAreaTop" r="textAreaRight" b="textAreaBottom"/>
              <a:pathLst>
                <a:path w="228" h="176">
                  <a:moveTo>
                    <a:pt x="7" y="0"/>
                  </a:moveTo>
                  <a:cubicBezTo>
                    <a:pt x="7" y="0"/>
                    <a:pt x="89" y="80"/>
                    <a:pt x="221" y="41"/>
                  </a:cubicBezTo>
                  <a:cubicBezTo>
                    <a:pt x="228" y="68"/>
                    <a:pt x="228" y="68"/>
                    <a:pt x="228" y="68"/>
                  </a:cubicBezTo>
                  <a:cubicBezTo>
                    <a:pt x="228" y="68"/>
                    <a:pt x="127" y="176"/>
                    <a:pt x="0" y="59"/>
                  </a:cubicBezTo>
                  <a:lnTo>
                    <a:pt x="7" y="0"/>
                  </a:lnTo>
                  <a:close/>
                </a:path>
              </a:pathLst>
            </a:custGeom>
            <a:solidFill>
              <a:srgbClr val="f2f2e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0" name="Freeform 232"/>
            <p:cNvSpPr/>
            <p:nvPr/>
          </p:nvSpPr>
          <p:spPr>
            <a:xfrm>
              <a:off x="6711840" y="3112560"/>
              <a:ext cx="733680" cy="1443960"/>
            </a:xfrm>
            <a:custGeom>
              <a:avLst/>
              <a:gdLst>
                <a:gd name="textAreaLeft" fmla="*/ 0 w 733680"/>
                <a:gd name="textAreaRight" fmla="*/ 734040 w 733680"/>
                <a:gd name="textAreaTop" fmla="*/ 0 h 1443960"/>
                <a:gd name="textAreaBottom" fmla="*/ 1444320 h 1443960"/>
              </a:gdLst>
              <a:ahLst/>
              <a:rect l="textAreaLeft" t="textAreaTop" r="textAreaRight" b="textAreaBottom"/>
              <a:pathLst>
                <a:path w="161" h="316">
                  <a:moveTo>
                    <a:pt x="45" y="0"/>
                  </a:moveTo>
                  <a:cubicBezTo>
                    <a:pt x="45" y="0"/>
                    <a:pt x="21" y="10"/>
                    <a:pt x="0" y="24"/>
                  </a:cubicBezTo>
                  <a:cubicBezTo>
                    <a:pt x="0" y="24"/>
                    <a:pt x="9" y="253"/>
                    <a:pt x="3" y="302"/>
                  </a:cubicBezTo>
                  <a:cubicBezTo>
                    <a:pt x="3" y="302"/>
                    <a:pt x="81" y="316"/>
                    <a:pt x="161" y="291"/>
                  </a:cubicBezTo>
                  <a:cubicBezTo>
                    <a:pt x="161" y="291"/>
                    <a:pt x="161" y="153"/>
                    <a:pt x="95" y="12"/>
                  </a:cubicBezTo>
                  <a:cubicBezTo>
                    <a:pt x="64" y="0"/>
                    <a:pt x="64" y="0"/>
                    <a:pt x="64" y="0"/>
                  </a:cubicBezTo>
                  <a:lnTo>
                    <a:pt x="45" y="0"/>
                  </a:lnTo>
                  <a:close/>
                </a:path>
              </a:pathLst>
            </a:custGeom>
            <a:solidFill>
              <a:srgbClr val="509da2"/>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1" name="Freeform 233"/>
            <p:cNvSpPr/>
            <p:nvPr/>
          </p:nvSpPr>
          <p:spPr>
            <a:xfrm>
              <a:off x="6068520" y="3112560"/>
              <a:ext cx="867240" cy="1053360"/>
            </a:xfrm>
            <a:custGeom>
              <a:avLst/>
              <a:gdLst>
                <a:gd name="textAreaLeft" fmla="*/ 0 w 867240"/>
                <a:gd name="textAreaRight" fmla="*/ 867600 w 867240"/>
                <a:gd name="textAreaTop" fmla="*/ 0 h 1053360"/>
                <a:gd name="textAreaBottom" fmla="*/ 1053720 h 1053360"/>
              </a:gdLst>
              <a:ahLst/>
              <a:rect l="textAreaLeft" t="textAreaTop" r="textAreaRight" b="textAreaBottom"/>
              <a:pathLst>
                <a:path w="190" h="231">
                  <a:moveTo>
                    <a:pt x="186" y="0"/>
                  </a:moveTo>
                  <a:cubicBezTo>
                    <a:pt x="186" y="0"/>
                    <a:pt x="0" y="75"/>
                    <a:pt x="63" y="179"/>
                  </a:cubicBezTo>
                  <a:cubicBezTo>
                    <a:pt x="78" y="204"/>
                    <a:pt x="114" y="231"/>
                    <a:pt x="186" y="231"/>
                  </a:cubicBezTo>
                  <a:cubicBezTo>
                    <a:pt x="186" y="198"/>
                    <a:pt x="186" y="198"/>
                    <a:pt x="186" y="198"/>
                  </a:cubicBezTo>
                  <a:cubicBezTo>
                    <a:pt x="186" y="198"/>
                    <a:pt x="58" y="154"/>
                    <a:pt x="144" y="80"/>
                  </a:cubicBezTo>
                  <a:cubicBezTo>
                    <a:pt x="190" y="42"/>
                    <a:pt x="190" y="42"/>
                    <a:pt x="190" y="42"/>
                  </a:cubicBezTo>
                  <a:lnTo>
                    <a:pt x="186" y="0"/>
                  </a:lnTo>
                  <a:close/>
                </a:path>
              </a:pathLst>
            </a:custGeom>
            <a:solidFill>
              <a:srgbClr val="f2f2e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2" name="Freeform 234"/>
            <p:cNvSpPr/>
            <p:nvPr/>
          </p:nvSpPr>
          <p:spPr>
            <a:xfrm>
              <a:off x="6382800" y="1783080"/>
              <a:ext cx="462240" cy="867240"/>
            </a:xfrm>
            <a:custGeom>
              <a:avLst/>
              <a:gdLst>
                <a:gd name="textAreaLeft" fmla="*/ 0 w 462240"/>
                <a:gd name="textAreaRight" fmla="*/ 462600 w 462240"/>
                <a:gd name="textAreaTop" fmla="*/ 0 h 867240"/>
                <a:gd name="textAreaBottom" fmla="*/ 867600 h 867240"/>
              </a:gdLst>
              <a:ahLst/>
              <a:rect l="textAreaLeft" t="textAreaTop" r="textAreaRight" b="textAreaBottom"/>
              <a:pathLst>
                <a:path w="102" h="190">
                  <a:moveTo>
                    <a:pt x="38" y="3"/>
                  </a:moveTo>
                  <a:cubicBezTo>
                    <a:pt x="38" y="3"/>
                    <a:pt x="0" y="117"/>
                    <a:pt x="87" y="190"/>
                  </a:cubicBezTo>
                  <a:cubicBezTo>
                    <a:pt x="102" y="123"/>
                    <a:pt x="102" y="123"/>
                    <a:pt x="102" y="123"/>
                  </a:cubicBezTo>
                  <a:cubicBezTo>
                    <a:pt x="53" y="0"/>
                    <a:pt x="53" y="0"/>
                    <a:pt x="53" y="0"/>
                  </a:cubicBezTo>
                  <a:lnTo>
                    <a:pt x="38" y="3"/>
                  </a:lnTo>
                  <a:close/>
                </a:path>
              </a:pathLst>
            </a:custGeom>
            <a:solidFill>
              <a:srgbClr val="a6785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3" name="Freeform 235"/>
            <p:cNvSpPr/>
            <p:nvPr/>
          </p:nvSpPr>
          <p:spPr>
            <a:xfrm>
              <a:off x="6635520" y="1644840"/>
              <a:ext cx="1057680" cy="1567800"/>
            </a:xfrm>
            <a:custGeom>
              <a:avLst/>
              <a:gdLst>
                <a:gd name="textAreaLeft" fmla="*/ 0 w 1057680"/>
                <a:gd name="textAreaRight" fmla="*/ 1058040 w 1057680"/>
                <a:gd name="textAreaTop" fmla="*/ 0 h 1567800"/>
                <a:gd name="textAreaBottom" fmla="*/ 1568160 h 1567800"/>
              </a:gdLst>
              <a:ahLst/>
              <a:rect l="textAreaLeft" t="textAreaTop" r="textAreaRight" b="textAreaBottom"/>
              <a:pathLst>
                <a:path w="232" h="344">
                  <a:moveTo>
                    <a:pt x="88" y="334"/>
                  </a:moveTo>
                  <a:cubicBezTo>
                    <a:pt x="88" y="334"/>
                    <a:pt x="96" y="291"/>
                    <a:pt x="151" y="262"/>
                  </a:cubicBezTo>
                  <a:cubicBezTo>
                    <a:pt x="186" y="243"/>
                    <a:pt x="232" y="188"/>
                    <a:pt x="183" y="12"/>
                  </a:cubicBezTo>
                  <a:cubicBezTo>
                    <a:pt x="69" y="0"/>
                    <a:pt x="69" y="0"/>
                    <a:pt x="69" y="0"/>
                  </a:cubicBezTo>
                  <a:cubicBezTo>
                    <a:pt x="11" y="118"/>
                    <a:pt x="11" y="118"/>
                    <a:pt x="11" y="118"/>
                  </a:cubicBezTo>
                  <a:cubicBezTo>
                    <a:pt x="11" y="118"/>
                    <a:pt x="0" y="161"/>
                    <a:pt x="11" y="183"/>
                  </a:cubicBezTo>
                  <a:cubicBezTo>
                    <a:pt x="53" y="234"/>
                    <a:pt x="65" y="333"/>
                    <a:pt x="65" y="333"/>
                  </a:cubicBezTo>
                  <a:cubicBezTo>
                    <a:pt x="65" y="333"/>
                    <a:pt x="76" y="344"/>
                    <a:pt x="88" y="334"/>
                  </a:cubicBez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4" name="Freeform 236"/>
            <p:cNvSpPr/>
            <p:nvPr/>
          </p:nvSpPr>
          <p:spPr>
            <a:xfrm>
              <a:off x="6406560" y="2250000"/>
              <a:ext cx="318960" cy="266760"/>
            </a:xfrm>
            <a:custGeom>
              <a:avLst/>
              <a:gdLst>
                <a:gd name="textAreaLeft" fmla="*/ 0 w 318960"/>
                <a:gd name="textAreaRight" fmla="*/ 319320 w 318960"/>
                <a:gd name="textAreaTop" fmla="*/ 0 h 266760"/>
                <a:gd name="textAreaBottom" fmla="*/ 267120 h 266760"/>
              </a:gdLst>
              <a:ahLst/>
              <a:rect l="textAreaLeft" t="textAreaTop" r="textAreaRight" b="textAreaBottom"/>
              <a:pathLst>
                <a:path w="70" h="58">
                  <a:moveTo>
                    <a:pt x="68" y="41"/>
                  </a:moveTo>
                  <a:cubicBezTo>
                    <a:pt x="68" y="41"/>
                    <a:pt x="20" y="0"/>
                    <a:pt x="10" y="14"/>
                  </a:cubicBezTo>
                  <a:cubicBezTo>
                    <a:pt x="0" y="28"/>
                    <a:pt x="28" y="58"/>
                    <a:pt x="70" y="48"/>
                  </a:cubicBezTo>
                  <a:lnTo>
                    <a:pt x="68" y="41"/>
                  </a:ln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5" name="Freeform 237"/>
            <p:cNvSpPr/>
            <p:nvPr/>
          </p:nvSpPr>
          <p:spPr>
            <a:xfrm>
              <a:off x="6506640" y="1239480"/>
              <a:ext cx="1334160" cy="1329480"/>
            </a:xfrm>
            <a:custGeom>
              <a:avLst/>
              <a:gdLst>
                <a:gd name="textAreaLeft" fmla="*/ 0 w 1334160"/>
                <a:gd name="textAreaRight" fmla="*/ 1334520 w 1334160"/>
                <a:gd name="textAreaTop" fmla="*/ 0 h 1329480"/>
                <a:gd name="textAreaBottom" fmla="*/ 1329840 h 1329480"/>
              </a:gdLst>
              <a:ahLst/>
              <a:rect l="textAreaLeft" t="textAreaTop" r="textAreaRight" b="textAreaBottom"/>
              <a:pathLst>
                <a:path w="292" h="292">
                  <a:moveTo>
                    <a:pt x="36" y="258"/>
                  </a:moveTo>
                  <a:cubicBezTo>
                    <a:pt x="36" y="258"/>
                    <a:pt x="49" y="292"/>
                    <a:pt x="57" y="289"/>
                  </a:cubicBezTo>
                  <a:cubicBezTo>
                    <a:pt x="65" y="286"/>
                    <a:pt x="41" y="221"/>
                    <a:pt x="50" y="204"/>
                  </a:cubicBezTo>
                  <a:cubicBezTo>
                    <a:pt x="59" y="188"/>
                    <a:pt x="79" y="205"/>
                    <a:pt x="91" y="185"/>
                  </a:cubicBezTo>
                  <a:cubicBezTo>
                    <a:pt x="102" y="166"/>
                    <a:pt x="95" y="117"/>
                    <a:pt x="129" y="125"/>
                  </a:cubicBezTo>
                  <a:cubicBezTo>
                    <a:pt x="164" y="133"/>
                    <a:pt x="272" y="96"/>
                    <a:pt x="286" y="50"/>
                  </a:cubicBezTo>
                  <a:cubicBezTo>
                    <a:pt x="292" y="30"/>
                    <a:pt x="238" y="43"/>
                    <a:pt x="238" y="43"/>
                  </a:cubicBezTo>
                  <a:cubicBezTo>
                    <a:pt x="238" y="43"/>
                    <a:pt x="269" y="0"/>
                    <a:pt x="244" y="3"/>
                  </a:cubicBezTo>
                  <a:cubicBezTo>
                    <a:pt x="199" y="8"/>
                    <a:pt x="161" y="29"/>
                    <a:pt x="125" y="39"/>
                  </a:cubicBezTo>
                  <a:cubicBezTo>
                    <a:pt x="88" y="50"/>
                    <a:pt x="29" y="41"/>
                    <a:pt x="15" y="96"/>
                  </a:cubicBezTo>
                  <a:cubicBezTo>
                    <a:pt x="0" y="151"/>
                    <a:pt x="36" y="258"/>
                    <a:pt x="36" y="258"/>
                  </a:cubicBezTo>
                  <a:close/>
                </a:path>
              </a:pathLst>
            </a:custGeom>
            <a:solidFill>
              <a:srgbClr val="a6785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6" name="Freeform 238"/>
            <p:cNvSpPr/>
            <p:nvPr/>
          </p:nvSpPr>
          <p:spPr>
            <a:xfrm>
              <a:off x="6425640" y="1673280"/>
              <a:ext cx="166680" cy="166680"/>
            </a:xfrm>
            <a:custGeom>
              <a:avLst/>
              <a:gdLst>
                <a:gd name="textAreaLeft" fmla="*/ 0 w 166680"/>
                <a:gd name="textAreaRight" fmla="*/ 167040 w 166680"/>
                <a:gd name="textAreaTop" fmla="*/ 0 h 166680"/>
                <a:gd name="textAreaBottom" fmla="*/ 167040 h 166680"/>
              </a:gdLst>
              <a:ahLst/>
              <a:rect l="textAreaLeft" t="textAreaTop" r="textAreaRight" b="textAreaBottom"/>
              <a:pathLst>
                <a:path w="36" h="37">
                  <a:moveTo>
                    <a:pt x="36" y="20"/>
                  </a:moveTo>
                  <a:cubicBezTo>
                    <a:pt x="36" y="20"/>
                    <a:pt x="18" y="0"/>
                    <a:pt x="13" y="10"/>
                  </a:cubicBezTo>
                  <a:cubicBezTo>
                    <a:pt x="7" y="20"/>
                    <a:pt x="22" y="25"/>
                    <a:pt x="22" y="25"/>
                  </a:cubicBezTo>
                  <a:cubicBezTo>
                    <a:pt x="22" y="25"/>
                    <a:pt x="0" y="21"/>
                    <a:pt x="4" y="29"/>
                  </a:cubicBezTo>
                  <a:cubicBezTo>
                    <a:pt x="8" y="37"/>
                    <a:pt x="30" y="37"/>
                    <a:pt x="30" y="37"/>
                  </a:cubicBezTo>
                  <a:lnTo>
                    <a:pt x="36" y="20"/>
                  </a:lnTo>
                  <a:close/>
                </a:path>
              </a:pathLst>
            </a:custGeom>
            <a:solidFill>
              <a:srgbClr val="a6785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7" name="Freeform 239"/>
            <p:cNvSpPr/>
            <p:nvPr/>
          </p:nvSpPr>
          <p:spPr>
            <a:xfrm>
              <a:off x="6669000" y="2211840"/>
              <a:ext cx="967320" cy="896040"/>
            </a:xfrm>
            <a:custGeom>
              <a:avLst/>
              <a:gdLst>
                <a:gd name="textAreaLeft" fmla="*/ 0 w 967320"/>
                <a:gd name="textAreaRight" fmla="*/ 967680 w 967320"/>
                <a:gd name="textAreaTop" fmla="*/ 0 h 896040"/>
                <a:gd name="textAreaBottom" fmla="*/ 896400 h 896040"/>
              </a:gdLst>
              <a:ahLst/>
              <a:rect l="textAreaLeft" t="textAreaTop" r="textAreaRight" b="textAreaBottom"/>
              <a:pathLst>
                <a:path w="212" h="197">
                  <a:moveTo>
                    <a:pt x="16" y="29"/>
                  </a:moveTo>
                  <a:cubicBezTo>
                    <a:pt x="16" y="29"/>
                    <a:pt x="28" y="99"/>
                    <a:pt x="63" y="94"/>
                  </a:cubicBezTo>
                  <a:cubicBezTo>
                    <a:pt x="99" y="89"/>
                    <a:pt x="111" y="0"/>
                    <a:pt x="168" y="31"/>
                  </a:cubicBezTo>
                  <a:cubicBezTo>
                    <a:pt x="168" y="31"/>
                    <a:pt x="186" y="48"/>
                    <a:pt x="197" y="30"/>
                  </a:cubicBezTo>
                  <a:cubicBezTo>
                    <a:pt x="197" y="30"/>
                    <a:pt x="192" y="133"/>
                    <a:pt x="202" y="151"/>
                  </a:cubicBezTo>
                  <a:cubicBezTo>
                    <a:pt x="212" y="168"/>
                    <a:pt x="198" y="177"/>
                    <a:pt x="181" y="163"/>
                  </a:cubicBezTo>
                  <a:cubicBezTo>
                    <a:pt x="181" y="163"/>
                    <a:pt x="196" y="177"/>
                    <a:pt x="188" y="183"/>
                  </a:cubicBezTo>
                  <a:cubicBezTo>
                    <a:pt x="181" y="190"/>
                    <a:pt x="159" y="164"/>
                    <a:pt x="159" y="164"/>
                  </a:cubicBezTo>
                  <a:cubicBezTo>
                    <a:pt x="159" y="164"/>
                    <a:pt x="178" y="187"/>
                    <a:pt x="167" y="192"/>
                  </a:cubicBezTo>
                  <a:cubicBezTo>
                    <a:pt x="155" y="197"/>
                    <a:pt x="23" y="190"/>
                    <a:pt x="0" y="41"/>
                  </a:cubicBezTo>
                  <a:lnTo>
                    <a:pt x="16" y="29"/>
                  </a:lnTo>
                  <a:close/>
                </a:path>
              </a:pathLst>
            </a:custGeom>
            <a:solidFill>
              <a:srgbClr val="a6785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8" name="Freeform 240"/>
            <p:cNvSpPr/>
            <p:nvPr/>
          </p:nvSpPr>
          <p:spPr>
            <a:xfrm>
              <a:off x="7884000" y="1725840"/>
              <a:ext cx="1029240" cy="1563120"/>
            </a:xfrm>
            <a:custGeom>
              <a:avLst/>
              <a:gdLst>
                <a:gd name="textAreaLeft" fmla="*/ 0 w 1029240"/>
                <a:gd name="textAreaRight" fmla="*/ 1029600 w 1029240"/>
                <a:gd name="textAreaTop" fmla="*/ 0 h 1563120"/>
                <a:gd name="textAreaBottom" fmla="*/ 1563480 h 1563120"/>
              </a:gdLst>
              <a:ahLst/>
              <a:rect l="textAreaLeft" t="textAreaTop" r="textAreaRight" b="textAreaBottom"/>
              <a:pathLst>
                <a:path w="226" h="342">
                  <a:moveTo>
                    <a:pt x="103" y="331"/>
                  </a:moveTo>
                  <a:cubicBezTo>
                    <a:pt x="103" y="331"/>
                    <a:pt x="99" y="287"/>
                    <a:pt x="47" y="253"/>
                  </a:cubicBezTo>
                  <a:cubicBezTo>
                    <a:pt x="13" y="231"/>
                    <a:pt x="0" y="171"/>
                    <a:pt x="66" y="0"/>
                  </a:cubicBezTo>
                  <a:cubicBezTo>
                    <a:pt x="152" y="0"/>
                    <a:pt x="152" y="0"/>
                    <a:pt x="152" y="0"/>
                  </a:cubicBezTo>
                  <a:cubicBezTo>
                    <a:pt x="226" y="25"/>
                    <a:pt x="226" y="25"/>
                    <a:pt x="226" y="25"/>
                  </a:cubicBezTo>
                  <a:cubicBezTo>
                    <a:pt x="226" y="25"/>
                    <a:pt x="207" y="167"/>
                    <a:pt x="194" y="188"/>
                  </a:cubicBezTo>
                  <a:cubicBezTo>
                    <a:pt x="153" y="252"/>
                    <a:pt x="126" y="332"/>
                    <a:pt x="126" y="332"/>
                  </a:cubicBezTo>
                  <a:cubicBezTo>
                    <a:pt x="126" y="332"/>
                    <a:pt x="114" y="342"/>
                    <a:pt x="103" y="331"/>
                  </a:cubicBez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099" name="Freeform 241"/>
            <p:cNvSpPr/>
            <p:nvPr/>
          </p:nvSpPr>
          <p:spPr>
            <a:xfrm>
              <a:off x="8722800" y="2373840"/>
              <a:ext cx="333360" cy="262080"/>
            </a:xfrm>
            <a:custGeom>
              <a:avLst/>
              <a:gdLst>
                <a:gd name="textAreaLeft" fmla="*/ 0 w 333360"/>
                <a:gd name="textAreaRight" fmla="*/ 333720 w 333360"/>
                <a:gd name="textAreaTop" fmla="*/ 0 h 262080"/>
                <a:gd name="textAreaBottom" fmla="*/ 262440 h 262080"/>
              </a:gdLst>
              <a:ahLst/>
              <a:rect l="textAreaLeft" t="textAreaTop" r="textAreaRight" b="textAreaBottom"/>
              <a:pathLst>
                <a:path w="73" h="57">
                  <a:moveTo>
                    <a:pt x="3" y="36"/>
                  </a:moveTo>
                  <a:cubicBezTo>
                    <a:pt x="3" y="36"/>
                    <a:pt x="55" y="0"/>
                    <a:pt x="64" y="15"/>
                  </a:cubicBezTo>
                  <a:cubicBezTo>
                    <a:pt x="73" y="29"/>
                    <a:pt x="41" y="57"/>
                    <a:pt x="0" y="43"/>
                  </a:cubicBezTo>
                  <a:lnTo>
                    <a:pt x="3" y="36"/>
                  </a:ln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0" name="Freeform 242"/>
            <p:cNvSpPr/>
            <p:nvPr/>
          </p:nvSpPr>
          <p:spPr>
            <a:xfrm>
              <a:off x="6725880" y="3112560"/>
              <a:ext cx="390600" cy="481320"/>
            </a:xfrm>
            <a:custGeom>
              <a:avLst/>
              <a:gdLst>
                <a:gd name="textAreaLeft" fmla="*/ 0 w 390600"/>
                <a:gd name="textAreaRight" fmla="*/ 390960 w 390600"/>
                <a:gd name="textAreaTop" fmla="*/ 0 h 481320"/>
                <a:gd name="textAreaBottom" fmla="*/ 481680 h 481320"/>
              </a:gdLst>
              <a:ahLst/>
              <a:rect l="textAreaLeft" t="textAreaTop" r="textAreaRight" b="textAreaBottom"/>
              <a:pathLst>
                <a:path w="85" h="105">
                  <a:moveTo>
                    <a:pt x="42" y="0"/>
                  </a:moveTo>
                  <a:cubicBezTo>
                    <a:pt x="45" y="16"/>
                    <a:pt x="45" y="16"/>
                    <a:pt x="45" y="16"/>
                  </a:cubicBezTo>
                  <a:cubicBezTo>
                    <a:pt x="85" y="71"/>
                    <a:pt x="85" y="71"/>
                    <a:pt x="85" y="71"/>
                  </a:cubicBezTo>
                  <a:cubicBezTo>
                    <a:pt x="26" y="105"/>
                    <a:pt x="26" y="105"/>
                    <a:pt x="26" y="105"/>
                  </a:cubicBezTo>
                  <a:cubicBezTo>
                    <a:pt x="0" y="80"/>
                    <a:pt x="0" y="80"/>
                    <a:pt x="0" y="80"/>
                  </a:cubicBezTo>
                  <a:cubicBezTo>
                    <a:pt x="0" y="80"/>
                    <a:pt x="37" y="60"/>
                    <a:pt x="17" y="12"/>
                  </a:cubicBezTo>
                  <a:cubicBezTo>
                    <a:pt x="17" y="12"/>
                    <a:pt x="27" y="6"/>
                    <a:pt x="30" y="5"/>
                  </a:cubicBezTo>
                  <a:cubicBezTo>
                    <a:pt x="33" y="3"/>
                    <a:pt x="42" y="0"/>
                    <a:pt x="42" y="0"/>
                  </a:cubicBezTo>
                  <a:close/>
                </a:path>
              </a:pathLst>
            </a:custGeom>
            <a:solidFill>
              <a:srgbClr val="509da2"/>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1" name="Freeform 243"/>
            <p:cNvSpPr/>
            <p:nvPr/>
          </p:nvSpPr>
          <p:spPr>
            <a:xfrm>
              <a:off x="7903080" y="1368360"/>
              <a:ext cx="1186560" cy="719640"/>
            </a:xfrm>
            <a:custGeom>
              <a:avLst/>
              <a:gdLst>
                <a:gd name="textAreaLeft" fmla="*/ 0 w 1186560"/>
                <a:gd name="textAreaRight" fmla="*/ 1186920 w 1186560"/>
                <a:gd name="textAreaTop" fmla="*/ 0 h 719640"/>
                <a:gd name="textAreaBottom" fmla="*/ 720000 h 719640"/>
              </a:gdLst>
              <a:ahLst/>
              <a:rect l="textAreaLeft" t="textAreaTop" r="textAreaRight" b="textAreaBottom"/>
              <a:pathLst>
                <a:path w="260" h="158">
                  <a:moveTo>
                    <a:pt x="203" y="118"/>
                  </a:moveTo>
                  <a:cubicBezTo>
                    <a:pt x="203" y="118"/>
                    <a:pt x="183" y="158"/>
                    <a:pt x="165" y="156"/>
                  </a:cubicBezTo>
                  <a:cubicBezTo>
                    <a:pt x="148" y="154"/>
                    <a:pt x="154" y="118"/>
                    <a:pt x="154" y="118"/>
                  </a:cubicBezTo>
                  <a:cubicBezTo>
                    <a:pt x="154" y="118"/>
                    <a:pt x="131" y="147"/>
                    <a:pt x="119" y="145"/>
                  </a:cubicBezTo>
                  <a:cubicBezTo>
                    <a:pt x="106" y="143"/>
                    <a:pt x="106" y="118"/>
                    <a:pt x="106" y="118"/>
                  </a:cubicBezTo>
                  <a:cubicBezTo>
                    <a:pt x="106" y="118"/>
                    <a:pt x="88" y="150"/>
                    <a:pt x="73" y="148"/>
                  </a:cubicBezTo>
                  <a:cubicBezTo>
                    <a:pt x="58" y="146"/>
                    <a:pt x="65" y="118"/>
                    <a:pt x="65" y="118"/>
                  </a:cubicBezTo>
                  <a:cubicBezTo>
                    <a:pt x="65" y="118"/>
                    <a:pt x="47" y="138"/>
                    <a:pt x="24" y="125"/>
                  </a:cubicBezTo>
                  <a:cubicBezTo>
                    <a:pt x="0" y="111"/>
                    <a:pt x="73" y="0"/>
                    <a:pt x="164" y="24"/>
                  </a:cubicBezTo>
                  <a:cubicBezTo>
                    <a:pt x="255" y="48"/>
                    <a:pt x="260" y="129"/>
                    <a:pt x="260" y="129"/>
                  </a:cubicBezTo>
                  <a:lnTo>
                    <a:pt x="203" y="118"/>
                  </a:lnTo>
                  <a:close/>
                </a:path>
              </a:pathLst>
            </a:custGeom>
            <a:solidFill>
              <a:srgbClr val="db7a3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2" name="Freeform 244"/>
            <p:cNvSpPr/>
            <p:nvPr/>
          </p:nvSpPr>
          <p:spPr>
            <a:xfrm>
              <a:off x="8703720" y="1783080"/>
              <a:ext cx="314280" cy="709920"/>
            </a:xfrm>
            <a:custGeom>
              <a:avLst/>
              <a:gdLst>
                <a:gd name="textAreaLeft" fmla="*/ 0 w 314280"/>
                <a:gd name="textAreaRight" fmla="*/ 314640 w 314280"/>
                <a:gd name="textAreaTop" fmla="*/ 0 h 709920"/>
                <a:gd name="textAreaBottom" fmla="*/ 710280 h 709920"/>
              </a:gdLst>
              <a:ahLst/>
              <a:rect l="textAreaLeft" t="textAreaTop" r="textAreaRight" b="textAreaBottom"/>
              <a:pathLst>
                <a:path w="70" h="156">
                  <a:moveTo>
                    <a:pt x="23" y="156"/>
                  </a:moveTo>
                  <a:cubicBezTo>
                    <a:pt x="23" y="156"/>
                    <a:pt x="0" y="79"/>
                    <a:pt x="11" y="13"/>
                  </a:cubicBezTo>
                  <a:cubicBezTo>
                    <a:pt x="47" y="0"/>
                    <a:pt x="47" y="0"/>
                    <a:pt x="47" y="0"/>
                  </a:cubicBezTo>
                  <a:cubicBezTo>
                    <a:pt x="70" y="57"/>
                    <a:pt x="70" y="57"/>
                    <a:pt x="70" y="57"/>
                  </a:cubicBezTo>
                  <a:lnTo>
                    <a:pt x="23" y="156"/>
                  </a:lnTo>
                  <a:close/>
                </a:path>
              </a:pathLst>
            </a:custGeom>
            <a:solidFill>
              <a:srgbClr val="db7a3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3" name="Freeform 245"/>
            <p:cNvSpPr/>
            <p:nvPr/>
          </p:nvSpPr>
          <p:spPr>
            <a:xfrm>
              <a:off x="8289000" y="3165120"/>
              <a:ext cx="266760" cy="228600"/>
            </a:xfrm>
            <a:custGeom>
              <a:avLst/>
              <a:gdLst>
                <a:gd name="textAreaLeft" fmla="*/ 0 w 266760"/>
                <a:gd name="textAreaRight" fmla="*/ 267120 w 266760"/>
                <a:gd name="textAreaTop" fmla="*/ 0 h 228600"/>
                <a:gd name="textAreaBottom" fmla="*/ 228960 h 228600"/>
              </a:gdLst>
              <a:ahLst/>
              <a:rect l="textAreaLeft" t="textAreaTop" r="textAreaRight" b="textAreaBottom"/>
              <a:pathLst>
                <a:path w="58" h="50">
                  <a:moveTo>
                    <a:pt x="5" y="5"/>
                  </a:moveTo>
                  <a:cubicBezTo>
                    <a:pt x="8" y="0"/>
                    <a:pt x="55" y="6"/>
                    <a:pt x="55" y="6"/>
                  </a:cubicBezTo>
                  <a:cubicBezTo>
                    <a:pt x="55" y="6"/>
                    <a:pt x="58" y="33"/>
                    <a:pt x="55" y="42"/>
                  </a:cubicBezTo>
                  <a:cubicBezTo>
                    <a:pt x="52" y="50"/>
                    <a:pt x="0" y="42"/>
                    <a:pt x="0" y="42"/>
                  </a:cubicBezTo>
                  <a:cubicBezTo>
                    <a:pt x="0" y="42"/>
                    <a:pt x="1" y="12"/>
                    <a:pt x="5" y="5"/>
                  </a:cubicBezTo>
                  <a:close/>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4" name="Freeform 246"/>
            <p:cNvSpPr/>
            <p:nvPr/>
          </p:nvSpPr>
          <p:spPr>
            <a:xfrm>
              <a:off x="8132040" y="3355920"/>
              <a:ext cx="156960" cy="123840"/>
            </a:xfrm>
            <a:custGeom>
              <a:avLst/>
              <a:gdLst>
                <a:gd name="textAreaLeft" fmla="*/ 0 w 156960"/>
                <a:gd name="textAreaRight" fmla="*/ 157320 w 156960"/>
                <a:gd name="textAreaTop" fmla="*/ 0 h 123840"/>
                <a:gd name="textAreaBottom" fmla="*/ 124200 h 123840"/>
              </a:gdLst>
              <a:ahLst/>
              <a:rect l="textAreaLeft" t="textAreaTop" r="textAreaRight" b="textAreaBottom"/>
              <a:pathLst>
                <a:path w="35" h="27">
                  <a:moveTo>
                    <a:pt x="0" y="27"/>
                  </a:moveTo>
                  <a:cubicBezTo>
                    <a:pt x="0" y="27"/>
                    <a:pt x="35" y="19"/>
                    <a:pt x="35" y="10"/>
                  </a:cubicBezTo>
                  <a:cubicBezTo>
                    <a:pt x="35" y="0"/>
                    <a:pt x="0" y="16"/>
                    <a:pt x="0" y="16"/>
                  </a:cubicBezTo>
                  <a:lnTo>
                    <a:pt x="0" y="27"/>
                  </a:ln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5" name="Freeform 247"/>
            <p:cNvSpPr/>
            <p:nvPr/>
          </p:nvSpPr>
          <p:spPr>
            <a:xfrm>
              <a:off x="6864120" y="3870720"/>
              <a:ext cx="266760" cy="366840"/>
            </a:xfrm>
            <a:custGeom>
              <a:avLst/>
              <a:gdLst>
                <a:gd name="textAreaLeft" fmla="*/ 0 w 266760"/>
                <a:gd name="textAreaRight" fmla="*/ 267120 w 266760"/>
                <a:gd name="textAreaTop" fmla="*/ 0 h 366840"/>
                <a:gd name="textAreaBottom" fmla="*/ 367200 h 366840"/>
              </a:gdLst>
              <a:ahLst/>
              <a:rect l="textAreaLeft" t="textAreaTop" r="textAreaRight" b="textAreaBottom"/>
              <a:pathLst>
                <a:path w="59" h="80">
                  <a:moveTo>
                    <a:pt x="7" y="39"/>
                  </a:moveTo>
                  <a:cubicBezTo>
                    <a:pt x="9" y="36"/>
                    <a:pt x="34" y="0"/>
                    <a:pt x="38" y="2"/>
                  </a:cubicBezTo>
                  <a:cubicBezTo>
                    <a:pt x="52" y="11"/>
                    <a:pt x="27" y="31"/>
                    <a:pt x="24" y="34"/>
                  </a:cubicBezTo>
                  <a:cubicBezTo>
                    <a:pt x="28" y="33"/>
                    <a:pt x="31" y="32"/>
                    <a:pt x="38" y="32"/>
                  </a:cubicBezTo>
                  <a:cubicBezTo>
                    <a:pt x="42" y="33"/>
                    <a:pt x="57" y="32"/>
                    <a:pt x="58" y="36"/>
                  </a:cubicBezTo>
                  <a:cubicBezTo>
                    <a:pt x="58" y="40"/>
                    <a:pt x="48" y="41"/>
                    <a:pt x="40" y="42"/>
                  </a:cubicBezTo>
                  <a:cubicBezTo>
                    <a:pt x="37" y="42"/>
                    <a:pt x="32" y="42"/>
                    <a:pt x="29" y="43"/>
                  </a:cubicBezTo>
                  <a:cubicBezTo>
                    <a:pt x="38" y="43"/>
                    <a:pt x="59" y="44"/>
                    <a:pt x="58" y="49"/>
                  </a:cubicBezTo>
                  <a:cubicBezTo>
                    <a:pt x="56" y="55"/>
                    <a:pt x="33" y="52"/>
                    <a:pt x="26" y="51"/>
                  </a:cubicBezTo>
                  <a:cubicBezTo>
                    <a:pt x="35" y="53"/>
                    <a:pt x="59" y="56"/>
                    <a:pt x="57" y="62"/>
                  </a:cubicBezTo>
                  <a:cubicBezTo>
                    <a:pt x="55" y="65"/>
                    <a:pt x="33" y="60"/>
                    <a:pt x="28" y="59"/>
                  </a:cubicBezTo>
                  <a:cubicBezTo>
                    <a:pt x="31" y="61"/>
                    <a:pt x="49" y="67"/>
                    <a:pt x="46" y="72"/>
                  </a:cubicBezTo>
                  <a:cubicBezTo>
                    <a:pt x="43" y="80"/>
                    <a:pt x="20" y="64"/>
                    <a:pt x="16" y="61"/>
                  </a:cubicBezTo>
                  <a:cubicBezTo>
                    <a:pt x="12" y="58"/>
                    <a:pt x="0" y="47"/>
                    <a:pt x="7" y="39"/>
                  </a:cubicBezTo>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6" name="Freeform 248"/>
            <p:cNvSpPr/>
            <p:nvPr/>
          </p:nvSpPr>
          <p:spPr>
            <a:xfrm>
              <a:off x="6802200" y="4018320"/>
              <a:ext cx="114120" cy="147600"/>
            </a:xfrm>
            <a:custGeom>
              <a:avLst/>
              <a:gdLst>
                <a:gd name="textAreaLeft" fmla="*/ 0 w 114120"/>
                <a:gd name="textAreaRight" fmla="*/ 114480 w 114120"/>
                <a:gd name="textAreaTop" fmla="*/ 0 h 147600"/>
                <a:gd name="textAreaBottom" fmla="*/ 147960 h 147600"/>
              </a:gdLst>
              <a:ahLst/>
              <a:rect l="textAreaLeft" t="textAreaTop" r="textAreaRight" b="textAreaBottom"/>
              <a:pathLst>
                <a:path w="24" h="31">
                  <a:moveTo>
                    <a:pt x="24" y="31"/>
                  </a:moveTo>
                  <a:lnTo>
                    <a:pt x="24" y="0"/>
                  </a:lnTo>
                  <a:lnTo>
                    <a:pt x="0" y="0"/>
                  </a:lnTo>
                  <a:lnTo>
                    <a:pt x="1" y="19"/>
                  </a:lnTo>
                  <a:lnTo>
                    <a:pt x="24" y="31"/>
                  </a:lnTo>
                  <a:close/>
                </a:path>
              </a:pathLst>
            </a:custGeom>
            <a:solidFill>
              <a:srgbClr val="f2f2e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7" name="Freeform 249"/>
            <p:cNvSpPr/>
            <p:nvPr/>
          </p:nvSpPr>
          <p:spPr>
            <a:xfrm>
              <a:off x="7259760" y="2145240"/>
              <a:ext cx="156960" cy="285840"/>
            </a:xfrm>
            <a:custGeom>
              <a:avLst/>
              <a:gdLst>
                <a:gd name="textAreaLeft" fmla="*/ 0 w 156960"/>
                <a:gd name="textAreaRight" fmla="*/ 157320 w 156960"/>
                <a:gd name="textAreaTop" fmla="*/ 0 h 285840"/>
                <a:gd name="textAreaBottom" fmla="*/ 286200 h 285840"/>
              </a:gdLst>
              <a:ahLst/>
              <a:rect l="textAreaLeft" t="textAreaTop" r="textAreaRight" b="textAreaBottom"/>
              <a:pathLst>
                <a:path w="34" h="62">
                  <a:moveTo>
                    <a:pt x="10" y="0"/>
                  </a:moveTo>
                  <a:cubicBezTo>
                    <a:pt x="19" y="20"/>
                    <a:pt x="27" y="41"/>
                    <a:pt x="34" y="62"/>
                  </a:cubicBezTo>
                  <a:cubicBezTo>
                    <a:pt x="22" y="53"/>
                    <a:pt x="10" y="43"/>
                    <a:pt x="0" y="32"/>
                  </a:cubicBezTo>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8" name="Freeform 250"/>
            <p:cNvSpPr/>
            <p:nvPr/>
          </p:nvSpPr>
          <p:spPr>
            <a:xfrm>
              <a:off x="7250400" y="2140560"/>
              <a:ext cx="181080" cy="304920"/>
            </a:xfrm>
            <a:custGeom>
              <a:avLst/>
              <a:gdLst>
                <a:gd name="textAreaLeft" fmla="*/ 0 w 181080"/>
                <a:gd name="textAreaRight" fmla="*/ 181440 w 181080"/>
                <a:gd name="textAreaTop" fmla="*/ 0 h 304920"/>
                <a:gd name="textAreaBottom" fmla="*/ 305280 h 304920"/>
              </a:gdLst>
              <a:ahLst/>
              <a:rect l="textAreaLeft" t="textAreaTop" r="textAreaRight" b="textAreaBottom"/>
              <a:pathLst>
                <a:path w="39" h="67">
                  <a:moveTo>
                    <a:pt x="11" y="2"/>
                  </a:moveTo>
                  <a:cubicBezTo>
                    <a:pt x="19" y="23"/>
                    <a:pt x="27" y="44"/>
                    <a:pt x="34" y="65"/>
                  </a:cubicBezTo>
                  <a:cubicBezTo>
                    <a:pt x="35" y="64"/>
                    <a:pt x="36" y="63"/>
                    <a:pt x="37" y="63"/>
                  </a:cubicBezTo>
                  <a:cubicBezTo>
                    <a:pt x="25" y="53"/>
                    <a:pt x="14" y="43"/>
                    <a:pt x="2" y="33"/>
                  </a:cubicBezTo>
                  <a:cubicBezTo>
                    <a:pt x="1" y="32"/>
                    <a:pt x="0" y="34"/>
                    <a:pt x="1" y="35"/>
                  </a:cubicBezTo>
                  <a:cubicBezTo>
                    <a:pt x="10" y="47"/>
                    <a:pt x="23" y="57"/>
                    <a:pt x="35" y="66"/>
                  </a:cubicBezTo>
                  <a:cubicBezTo>
                    <a:pt x="37" y="67"/>
                    <a:pt x="39" y="65"/>
                    <a:pt x="38" y="64"/>
                  </a:cubicBezTo>
                  <a:cubicBezTo>
                    <a:pt x="31" y="42"/>
                    <a:pt x="23" y="22"/>
                    <a:pt x="13" y="1"/>
                  </a:cubicBezTo>
                  <a:cubicBezTo>
                    <a:pt x="12" y="0"/>
                    <a:pt x="10" y="1"/>
                    <a:pt x="11" y="2"/>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09" name="Freeform 251"/>
            <p:cNvSpPr/>
            <p:nvPr/>
          </p:nvSpPr>
          <p:spPr>
            <a:xfrm>
              <a:off x="8188920" y="2264400"/>
              <a:ext cx="147600" cy="204840"/>
            </a:xfrm>
            <a:custGeom>
              <a:avLst/>
              <a:gdLst>
                <a:gd name="textAreaLeft" fmla="*/ 0 w 147600"/>
                <a:gd name="textAreaRight" fmla="*/ 147960 w 147600"/>
                <a:gd name="textAreaTop" fmla="*/ 0 h 204840"/>
                <a:gd name="textAreaBottom" fmla="*/ 205200 h 204840"/>
              </a:gdLst>
              <a:ahLst/>
              <a:rect l="textAreaLeft" t="textAreaTop" r="textAreaRight" b="textAreaBottom"/>
              <a:pathLst>
                <a:path w="32" h="45">
                  <a:moveTo>
                    <a:pt x="25" y="2"/>
                  </a:moveTo>
                  <a:cubicBezTo>
                    <a:pt x="22" y="11"/>
                    <a:pt x="16" y="19"/>
                    <a:pt x="10" y="26"/>
                  </a:cubicBezTo>
                  <a:cubicBezTo>
                    <a:pt x="6" y="31"/>
                    <a:pt x="2" y="36"/>
                    <a:pt x="0" y="42"/>
                  </a:cubicBezTo>
                  <a:cubicBezTo>
                    <a:pt x="0" y="44"/>
                    <a:pt x="2" y="45"/>
                    <a:pt x="3" y="44"/>
                  </a:cubicBezTo>
                  <a:cubicBezTo>
                    <a:pt x="12" y="40"/>
                    <a:pt x="22" y="36"/>
                    <a:pt x="30" y="30"/>
                  </a:cubicBezTo>
                  <a:cubicBezTo>
                    <a:pt x="32" y="29"/>
                    <a:pt x="31" y="27"/>
                    <a:pt x="29" y="28"/>
                  </a:cubicBezTo>
                  <a:cubicBezTo>
                    <a:pt x="20" y="31"/>
                    <a:pt x="11" y="36"/>
                    <a:pt x="1" y="40"/>
                  </a:cubicBezTo>
                  <a:cubicBezTo>
                    <a:pt x="2" y="41"/>
                    <a:pt x="3" y="42"/>
                    <a:pt x="4" y="43"/>
                  </a:cubicBezTo>
                  <a:cubicBezTo>
                    <a:pt x="7" y="35"/>
                    <a:pt x="13" y="29"/>
                    <a:pt x="17" y="22"/>
                  </a:cubicBezTo>
                  <a:cubicBezTo>
                    <a:pt x="22" y="16"/>
                    <a:pt x="25" y="10"/>
                    <a:pt x="28" y="2"/>
                  </a:cubicBezTo>
                  <a:cubicBezTo>
                    <a:pt x="28" y="1"/>
                    <a:pt x="26" y="0"/>
                    <a:pt x="25" y="2"/>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10" name="Freeform 252"/>
            <p:cNvSpPr/>
            <p:nvPr/>
          </p:nvSpPr>
          <p:spPr>
            <a:xfrm>
              <a:off x="7450560" y="2250000"/>
              <a:ext cx="99720" cy="104760"/>
            </a:xfrm>
            <a:custGeom>
              <a:avLst/>
              <a:gdLst>
                <a:gd name="textAreaLeft" fmla="*/ 0 w 99720"/>
                <a:gd name="textAreaRight" fmla="*/ 100080 w 99720"/>
                <a:gd name="textAreaTop" fmla="*/ 0 h 104760"/>
                <a:gd name="textAreaBottom" fmla="*/ 105120 h 104760"/>
              </a:gdLst>
              <a:ahLst/>
              <a:rect l="textAreaLeft" t="textAreaTop" r="textAreaRight" b="textAreaBottom"/>
              <a:pathLst>
                <a:path w="22" h="23">
                  <a:moveTo>
                    <a:pt x="0" y="10"/>
                  </a:moveTo>
                  <a:cubicBezTo>
                    <a:pt x="1" y="4"/>
                    <a:pt x="6" y="0"/>
                    <a:pt x="12" y="0"/>
                  </a:cubicBezTo>
                  <a:cubicBezTo>
                    <a:pt x="18" y="1"/>
                    <a:pt x="22" y="6"/>
                    <a:pt x="22" y="12"/>
                  </a:cubicBezTo>
                  <a:cubicBezTo>
                    <a:pt x="21" y="18"/>
                    <a:pt x="19" y="23"/>
                    <a:pt x="13" y="22"/>
                  </a:cubicBezTo>
                  <a:cubicBezTo>
                    <a:pt x="7" y="22"/>
                    <a:pt x="0" y="16"/>
                    <a:pt x="0" y="10"/>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11" name="Freeform 253"/>
            <p:cNvSpPr/>
            <p:nvPr/>
          </p:nvSpPr>
          <p:spPr>
            <a:xfrm>
              <a:off x="8475120" y="244548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22" h="22">
                  <a:moveTo>
                    <a:pt x="0" y="10"/>
                  </a:moveTo>
                  <a:cubicBezTo>
                    <a:pt x="1" y="4"/>
                    <a:pt x="6" y="0"/>
                    <a:pt x="12" y="0"/>
                  </a:cubicBezTo>
                  <a:cubicBezTo>
                    <a:pt x="18" y="1"/>
                    <a:pt x="22" y="6"/>
                    <a:pt x="22" y="12"/>
                  </a:cubicBezTo>
                  <a:cubicBezTo>
                    <a:pt x="21" y="18"/>
                    <a:pt x="19" y="22"/>
                    <a:pt x="13" y="22"/>
                  </a:cubicBezTo>
                  <a:cubicBezTo>
                    <a:pt x="7" y="21"/>
                    <a:pt x="0" y="16"/>
                    <a:pt x="0" y="10"/>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12" name="Freeform 254"/>
            <p:cNvSpPr/>
            <p:nvPr/>
          </p:nvSpPr>
          <p:spPr>
            <a:xfrm>
              <a:off x="8441640" y="2254680"/>
              <a:ext cx="47520" cy="52200"/>
            </a:xfrm>
            <a:custGeom>
              <a:avLst/>
              <a:gdLst>
                <a:gd name="textAreaLeft" fmla="*/ 0 w 47520"/>
                <a:gd name="textAreaRight" fmla="*/ 47880 w 47520"/>
                <a:gd name="textAreaTop" fmla="*/ 0 h 52200"/>
                <a:gd name="textAreaBottom" fmla="*/ 52560 h 52200"/>
              </a:gdLst>
              <a:ahLst/>
              <a:rect l="textAreaLeft" t="textAreaTop" r="textAreaRight" b="textAreaBottom"/>
              <a:pathLst>
                <a:path w="11" h="11">
                  <a:moveTo>
                    <a:pt x="0" y="4"/>
                  </a:moveTo>
                  <a:cubicBezTo>
                    <a:pt x="1" y="2"/>
                    <a:pt x="4" y="0"/>
                    <a:pt x="7" y="1"/>
                  </a:cubicBezTo>
                  <a:cubicBezTo>
                    <a:pt x="10" y="2"/>
                    <a:pt x="11" y="5"/>
                    <a:pt x="11" y="7"/>
                  </a:cubicBezTo>
                  <a:cubicBezTo>
                    <a:pt x="10" y="10"/>
                    <a:pt x="9" y="11"/>
                    <a:pt x="6" y="11"/>
                  </a:cubicBezTo>
                  <a:cubicBezTo>
                    <a:pt x="3" y="10"/>
                    <a:pt x="0" y="7"/>
                    <a:pt x="0" y="4"/>
                  </a:cubicBezTo>
                  <a:close/>
                </a:path>
              </a:pathLst>
            </a:custGeom>
            <a:solidFill>
              <a:srgbClr val="474747"/>
            </a:solidFill>
            <a:ln w="0">
              <a:noFill/>
            </a:ln>
          </p:spPr>
          <p:style>
            <a:lnRef idx="0"/>
            <a:fillRef idx="0"/>
            <a:effectRef idx="0"/>
            <a:fontRef idx="minor"/>
          </p:style>
          <p:txBody>
            <a:bodyPr lIns="90000" rIns="90000" tIns="5760" bIns="5760" anchor="t">
              <a:noAutofit/>
            </a:bodyPr>
            <a:p>
              <a:endParaRPr b="0" lang="en-US" sz="1800" spc="-1" strike="noStrike">
                <a:solidFill>
                  <a:srgbClr val="262626"/>
                </a:solidFill>
                <a:latin typeface="Arial"/>
              </a:endParaRPr>
            </a:p>
          </p:txBody>
        </p:sp>
        <p:sp>
          <p:nvSpPr>
            <p:cNvPr id="2113" name="Freeform 255"/>
            <p:cNvSpPr/>
            <p:nvPr/>
          </p:nvSpPr>
          <p:spPr>
            <a:xfrm>
              <a:off x="7398000" y="2169000"/>
              <a:ext cx="47520" cy="52200"/>
            </a:xfrm>
            <a:custGeom>
              <a:avLst/>
              <a:gdLst>
                <a:gd name="textAreaLeft" fmla="*/ 0 w 47520"/>
                <a:gd name="textAreaRight" fmla="*/ 47880 w 47520"/>
                <a:gd name="textAreaTop" fmla="*/ 0 h 52200"/>
                <a:gd name="textAreaBottom" fmla="*/ 52560 h 52200"/>
              </a:gdLst>
              <a:ahLst/>
              <a:rect l="textAreaLeft" t="textAreaTop" r="textAreaRight" b="textAreaBottom"/>
              <a:pathLst>
                <a:path w="11" h="11">
                  <a:moveTo>
                    <a:pt x="0" y="4"/>
                  </a:moveTo>
                  <a:cubicBezTo>
                    <a:pt x="1" y="1"/>
                    <a:pt x="4" y="0"/>
                    <a:pt x="7" y="0"/>
                  </a:cubicBezTo>
                  <a:cubicBezTo>
                    <a:pt x="10" y="1"/>
                    <a:pt x="11" y="4"/>
                    <a:pt x="11" y="6"/>
                  </a:cubicBezTo>
                  <a:cubicBezTo>
                    <a:pt x="10" y="9"/>
                    <a:pt x="9" y="11"/>
                    <a:pt x="6" y="10"/>
                  </a:cubicBezTo>
                  <a:cubicBezTo>
                    <a:pt x="3" y="9"/>
                    <a:pt x="0" y="6"/>
                    <a:pt x="0" y="4"/>
                  </a:cubicBezTo>
                  <a:close/>
                </a:path>
              </a:pathLst>
            </a:custGeom>
            <a:solidFill>
              <a:srgbClr val="474747"/>
            </a:solidFill>
            <a:ln w="0">
              <a:noFill/>
            </a:ln>
          </p:spPr>
          <p:style>
            <a:lnRef idx="0"/>
            <a:fillRef idx="0"/>
            <a:effectRef idx="0"/>
            <a:fontRef idx="minor"/>
          </p:style>
          <p:txBody>
            <a:bodyPr lIns="90000" rIns="90000" tIns="5760" bIns="5760" anchor="t">
              <a:noAutofit/>
            </a:bodyPr>
            <a:p>
              <a:endParaRPr b="0" lang="en-US" sz="1800" spc="-1" strike="noStrike">
                <a:solidFill>
                  <a:srgbClr val="262626"/>
                </a:solidFill>
                <a:latin typeface="Arial"/>
              </a:endParaRPr>
            </a:p>
          </p:txBody>
        </p:sp>
        <p:sp>
          <p:nvSpPr>
            <p:cNvPr id="2114" name="Freeform 256"/>
            <p:cNvSpPr/>
            <p:nvPr/>
          </p:nvSpPr>
          <p:spPr>
            <a:xfrm>
              <a:off x="8193960" y="2216520"/>
              <a:ext cx="56880" cy="52200"/>
            </a:xfrm>
            <a:custGeom>
              <a:avLst/>
              <a:gdLst>
                <a:gd name="textAreaLeft" fmla="*/ 0 w 56880"/>
                <a:gd name="textAreaRight" fmla="*/ 57240 w 56880"/>
                <a:gd name="textAreaTop" fmla="*/ 0 h 52200"/>
                <a:gd name="textAreaBottom" fmla="*/ 52560 h 52200"/>
              </a:gdLst>
              <a:ahLst/>
              <a:rect l="textAreaLeft" t="textAreaTop" r="textAreaRight" b="textAreaBottom"/>
              <a:pathLst>
                <a:path w="12" h="12">
                  <a:moveTo>
                    <a:pt x="10" y="2"/>
                  </a:moveTo>
                  <a:cubicBezTo>
                    <a:pt x="12" y="4"/>
                    <a:pt x="12" y="7"/>
                    <a:pt x="10" y="9"/>
                  </a:cubicBezTo>
                  <a:cubicBezTo>
                    <a:pt x="8" y="11"/>
                    <a:pt x="5" y="12"/>
                    <a:pt x="3" y="10"/>
                  </a:cubicBezTo>
                  <a:cubicBezTo>
                    <a:pt x="1" y="8"/>
                    <a:pt x="0" y="6"/>
                    <a:pt x="2" y="4"/>
                  </a:cubicBezTo>
                  <a:cubicBezTo>
                    <a:pt x="4" y="2"/>
                    <a:pt x="8" y="0"/>
                    <a:pt x="10" y="2"/>
                  </a:cubicBezTo>
                  <a:close/>
                </a:path>
              </a:pathLst>
            </a:custGeom>
            <a:solidFill>
              <a:srgbClr val="474747"/>
            </a:solidFill>
            <a:ln w="0">
              <a:noFill/>
            </a:ln>
          </p:spPr>
          <p:style>
            <a:lnRef idx="0"/>
            <a:fillRef idx="0"/>
            <a:effectRef idx="0"/>
            <a:fontRef idx="minor"/>
          </p:style>
          <p:txBody>
            <a:bodyPr lIns="90000" rIns="90000" tIns="5760" bIns="5760" anchor="t">
              <a:noAutofit/>
            </a:bodyPr>
            <a:p>
              <a:endParaRPr b="0" lang="en-US" sz="1800" spc="-1" strike="noStrike">
                <a:solidFill>
                  <a:srgbClr val="262626"/>
                </a:solidFill>
                <a:latin typeface="Arial"/>
              </a:endParaRPr>
            </a:p>
          </p:txBody>
        </p:sp>
        <p:sp>
          <p:nvSpPr>
            <p:cNvPr id="2115" name="Freeform 257"/>
            <p:cNvSpPr/>
            <p:nvPr/>
          </p:nvSpPr>
          <p:spPr>
            <a:xfrm>
              <a:off x="7088040" y="222624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2" h="11">
                  <a:moveTo>
                    <a:pt x="10" y="1"/>
                  </a:moveTo>
                  <a:cubicBezTo>
                    <a:pt x="12" y="3"/>
                    <a:pt x="12" y="6"/>
                    <a:pt x="10" y="8"/>
                  </a:cubicBezTo>
                  <a:cubicBezTo>
                    <a:pt x="8" y="11"/>
                    <a:pt x="5" y="11"/>
                    <a:pt x="3" y="9"/>
                  </a:cubicBezTo>
                  <a:cubicBezTo>
                    <a:pt x="1" y="8"/>
                    <a:pt x="0" y="6"/>
                    <a:pt x="2" y="3"/>
                  </a:cubicBezTo>
                  <a:cubicBezTo>
                    <a:pt x="4" y="1"/>
                    <a:pt x="8" y="0"/>
                    <a:pt x="10" y="1"/>
                  </a:cubicBezTo>
                  <a:close/>
                </a:path>
              </a:pathLst>
            </a:custGeom>
            <a:solidFill>
              <a:srgbClr val="474747"/>
            </a:solidFill>
            <a:ln w="0">
              <a:noFill/>
            </a:ln>
          </p:spPr>
          <p:style>
            <a:lnRef idx="0"/>
            <a:fillRef idx="0"/>
            <a:effectRef idx="0"/>
            <a:fontRef idx="minor"/>
          </p:style>
          <p:txBody>
            <a:bodyPr lIns="90000" rIns="90000" tIns="1080" bIns="1080" anchor="t">
              <a:noAutofit/>
            </a:bodyPr>
            <a:p>
              <a:endParaRPr b="0" lang="en-US" sz="1800" spc="-1" strike="noStrike">
                <a:solidFill>
                  <a:srgbClr val="262626"/>
                </a:solidFill>
                <a:latin typeface="Arial"/>
              </a:endParaRPr>
            </a:p>
          </p:txBody>
        </p:sp>
        <p:sp>
          <p:nvSpPr>
            <p:cNvPr id="2116" name="Freeform 258"/>
            <p:cNvSpPr/>
            <p:nvPr/>
          </p:nvSpPr>
          <p:spPr>
            <a:xfrm>
              <a:off x="7026120" y="234540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22" h="22">
                  <a:moveTo>
                    <a:pt x="12" y="0"/>
                  </a:moveTo>
                  <a:cubicBezTo>
                    <a:pt x="18" y="0"/>
                    <a:pt x="22" y="5"/>
                    <a:pt x="22" y="11"/>
                  </a:cubicBezTo>
                  <a:cubicBezTo>
                    <a:pt x="22" y="17"/>
                    <a:pt x="17" y="22"/>
                    <a:pt x="11" y="21"/>
                  </a:cubicBezTo>
                  <a:cubicBezTo>
                    <a:pt x="5" y="21"/>
                    <a:pt x="0" y="19"/>
                    <a:pt x="1" y="13"/>
                  </a:cubicBezTo>
                  <a:cubicBezTo>
                    <a:pt x="1" y="7"/>
                    <a:pt x="6" y="0"/>
                    <a:pt x="12" y="0"/>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17" name="Freeform 259"/>
            <p:cNvSpPr/>
            <p:nvPr/>
          </p:nvSpPr>
          <p:spPr>
            <a:xfrm>
              <a:off x="8031960" y="237384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22" h="22">
                  <a:moveTo>
                    <a:pt x="12" y="0"/>
                  </a:moveTo>
                  <a:cubicBezTo>
                    <a:pt x="18" y="0"/>
                    <a:pt x="22" y="5"/>
                    <a:pt x="22" y="11"/>
                  </a:cubicBezTo>
                  <a:cubicBezTo>
                    <a:pt x="22" y="17"/>
                    <a:pt x="17" y="22"/>
                    <a:pt x="11" y="22"/>
                  </a:cubicBezTo>
                  <a:cubicBezTo>
                    <a:pt x="5" y="21"/>
                    <a:pt x="0" y="19"/>
                    <a:pt x="1" y="13"/>
                  </a:cubicBezTo>
                  <a:cubicBezTo>
                    <a:pt x="1" y="8"/>
                    <a:pt x="6" y="0"/>
                    <a:pt x="12" y="0"/>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18" name="Freeform 260"/>
            <p:cNvSpPr/>
            <p:nvPr/>
          </p:nvSpPr>
          <p:spPr>
            <a:xfrm>
              <a:off x="7207200" y="2478960"/>
              <a:ext cx="257040" cy="137880"/>
            </a:xfrm>
            <a:custGeom>
              <a:avLst/>
              <a:gdLst>
                <a:gd name="textAreaLeft" fmla="*/ 0 w 257040"/>
                <a:gd name="textAreaRight" fmla="*/ 257400 w 257040"/>
                <a:gd name="textAreaTop" fmla="*/ 0 h 137880"/>
                <a:gd name="textAreaBottom" fmla="*/ 138240 h 137880"/>
              </a:gdLst>
              <a:ahLst/>
              <a:rect l="textAreaLeft" t="textAreaTop" r="textAreaRight" b="textAreaBottom"/>
              <a:pathLst>
                <a:path w="57" h="30">
                  <a:moveTo>
                    <a:pt x="15" y="26"/>
                  </a:moveTo>
                  <a:cubicBezTo>
                    <a:pt x="9" y="25"/>
                    <a:pt x="3" y="21"/>
                    <a:pt x="1" y="15"/>
                  </a:cubicBezTo>
                  <a:cubicBezTo>
                    <a:pt x="0" y="13"/>
                    <a:pt x="0" y="11"/>
                    <a:pt x="0" y="9"/>
                  </a:cubicBezTo>
                  <a:cubicBezTo>
                    <a:pt x="0" y="7"/>
                    <a:pt x="0" y="4"/>
                    <a:pt x="1" y="3"/>
                  </a:cubicBezTo>
                  <a:cubicBezTo>
                    <a:pt x="3" y="0"/>
                    <a:pt x="8" y="0"/>
                    <a:pt x="12" y="2"/>
                  </a:cubicBezTo>
                  <a:cubicBezTo>
                    <a:pt x="15" y="4"/>
                    <a:pt x="18" y="7"/>
                    <a:pt x="21" y="8"/>
                  </a:cubicBezTo>
                  <a:cubicBezTo>
                    <a:pt x="25" y="9"/>
                    <a:pt x="30" y="8"/>
                    <a:pt x="33" y="7"/>
                  </a:cubicBezTo>
                  <a:cubicBezTo>
                    <a:pt x="37" y="6"/>
                    <a:pt x="41" y="4"/>
                    <a:pt x="45" y="4"/>
                  </a:cubicBezTo>
                  <a:cubicBezTo>
                    <a:pt x="49" y="4"/>
                    <a:pt x="54" y="6"/>
                    <a:pt x="55" y="10"/>
                  </a:cubicBezTo>
                  <a:cubicBezTo>
                    <a:pt x="57" y="13"/>
                    <a:pt x="55" y="18"/>
                    <a:pt x="52" y="20"/>
                  </a:cubicBezTo>
                  <a:cubicBezTo>
                    <a:pt x="43" y="30"/>
                    <a:pt x="27" y="29"/>
                    <a:pt x="15" y="26"/>
                  </a:cubicBezTo>
                  <a:close/>
                </a:path>
              </a:pathLst>
            </a:custGeom>
            <a:solidFill>
              <a:srgbClr val="9f3030"/>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19" name="Freeform 261"/>
            <p:cNvSpPr/>
            <p:nvPr/>
          </p:nvSpPr>
          <p:spPr>
            <a:xfrm>
              <a:off x="8232120" y="2507400"/>
              <a:ext cx="104760" cy="85680"/>
            </a:xfrm>
            <a:custGeom>
              <a:avLst/>
              <a:gdLst>
                <a:gd name="textAreaLeft" fmla="*/ 0 w 104760"/>
                <a:gd name="textAreaRight" fmla="*/ 105120 w 104760"/>
                <a:gd name="textAreaTop" fmla="*/ 0 h 85680"/>
                <a:gd name="textAreaBottom" fmla="*/ 86040 h 85680"/>
              </a:gdLst>
              <a:ahLst/>
              <a:rect l="textAreaLeft" t="textAreaTop" r="textAreaRight" b="textAreaBottom"/>
              <a:pathLst>
                <a:path w="23" h="19">
                  <a:moveTo>
                    <a:pt x="2" y="2"/>
                  </a:moveTo>
                  <a:cubicBezTo>
                    <a:pt x="0" y="8"/>
                    <a:pt x="6" y="17"/>
                    <a:pt x="12" y="18"/>
                  </a:cubicBezTo>
                  <a:cubicBezTo>
                    <a:pt x="19" y="19"/>
                    <a:pt x="23" y="7"/>
                    <a:pt x="22" y="1"/>
                  </a:cubicBezTo>
                  <a:cubicBezTo>
                    <a:pt x="22" y="0"/>
                    <a:pt x="20" y="1"/>
                    <a:pt x="20" y="1"/>
                  </a:cubicBezTo>
                  <a:cubicBezTo>
                    <a:pt x="19" y="4"/>
                    <a:pt x="19" y="6"/>
                    <a:pt x="18" y="8"/>
                  </a:cubicBezTo>
                  <a:cubicBezTo>
                    <a:pt x="17" y="11"/>
                    <a:pt x="14" y="16"/>
                    <a:pt x="11" y="14"/>
                  </a:cubicBezTo>
                  <a:cubicBezTo>
                    <a:pt x="6" y="11"/>
                    <a:pt x="5" y="7"/>
                    <a:pt x="4" y="2"/>
                  </a:cubicBezTo>
                  <a:cubicBezTo>
                    <a:pt x="4" y="1"/>
                    <a:pt x="3" y="1"/>
                    <a:pt x="2" y="2"/>
                  </a:cubicBezTo>
                  <a:close/>
                </a:path>
              </a:pathLst>
            </a:custGeom>
            <a:solidFill>
              <a:srgbClr val="9f3030"/>
            </a:solidFill>
            <a:ln w="0">
              <a:noFill/>
            </a:ln>
          </p:spPr>
          <p:style>
            <a:lnRef idx="0"/>
            <a:fillRef idx="0"/>
            <a:effectRef idx="0"/>
            <a:fontRef idx="minor"/>
          </p:style>
          <p:txBody>
            <a:bodyPr lIns="90000" rIns="90000" tIns="39240" bIns="39240" anchor="t">
              <a:noAutofit/>
            </a:bodyPr>
            <a:p>
              <a:endParaRPr b="0" lang="en-US" sz="1800" spc="-1" strike="noStrike">
                <a:solidFill>
                  <a:srgbClr val="262626"/>
                </a:solidFill>
                <a:latin typeface="Arial"/>
              </a:endParaRPr>
            </a:p>
          </p:txBody>
        </p:sp>
        <p:sp>
          <p:nvSpPr>
            <p:cNvPr id="2120" name="Freeform 262"/>
            <p:cNvSpPr/>
            <p:nvPr/>
          </p:nvSpPr>
          <p:spPr>
            <a:xfrm>
              <a:off x="6506640" y="2359800"/>
              <a:ext cx="118800" cy="71280"/>
            </a:xfrm>
            <a:custGeom>
              <a:avLst/>
              <a:gdLst>
                <a:gd name="textAreaLeft" fmla="*/ 0 w 118800"/>
                <a:gd name="textAreaRight" fmla="*/ 119160 w 118800"/>
                <a:gd name="textAreaTop" fmla="*/ 0 h 71280"/>
                <a:gd name="textAreaBottom" fmla="*/ 71640 h 71280"/>
              </a:gdLst>
              <a:ahLst/>
              <a:rect l="textAreaLeft" t="textAreaTop" r="textAreaRight" b="textAreaBottom"/>
              <a:pathLst>
                <a:path w="26" h="15">
                  <a:moveTo>
                    <a:pt x="1" y="2"/>
                  </a:moveTo>
                  <a:cubicBezTo>
                    <a:pt x="5" y="5"/>
                    <a:pt x="9" y="7"/>
                    <a:pt x="13" y="10"/>
                  </a:cubicBezTo>
                  <a:cubicBezTo>
                    <a:pt x="17" y="12"/>
                    <a:pt x="20" y="14"/>
                    <a:pt x="24" y="15"/>
                  </a:cubicBezTo>
                  <a:cubicBezTo>
                    <a:pt x="25" y="15"/>
                    <a:pt x="26" y="14"/>
                    <a:pt x="25" y="14"/>
                  </a:cubicBezTo>
                  <a:cubicBezTo>
                    <a:pt x="22" y="11"/>
                    <a:pt x="18" y="9"/>
                    <a:pt x="14" y="7"/>
                  </a:cubicBezTo>
                  <a:cubicBezTo>
                    <a:pt x="10" y="5"/>
                    <a:pt x="6" y="3"/>
                    <a:pt x="2" y="1"/>
                  </a:cubicBezTo>
                  <a:cubicBezTo>
                    <a:pt x="1" y="0"/>
                    <a:pt x="0" y="2"/>
                    <a:pt x="1" y="2"/>
                  </a:cubicBezTo>
                  <a:close/>
                </a:path>
              </a:pathLst>
            </a:custGeom>
            <a:solidFill>
              <a:srgbClr val="f6b2a9"/>
            </a:solidFill>
            <a:ln w="0">
              <a:noFill/>
            </a:ln>
          </p:spPr>
          <p:style>
            <a:lnRef idx="0"/>
            <a:fillRef idx="0"/>
            <a:effectRef idx="0"/>
            <a:fontRef idx="minor"/>
          </p:style>
          <p:txBody>
            <a:bodyPr lIns="90000" rIns="90000" tIns="24840" bIns="24840" anchor="t">
              <a:noAutofit/>
            </a:bodyPr>
            <a:p>
              <a:endParaRPr b="0" lang="en-US" sz="1800" spc="-1" strike="noStrike">
                <a:solidFill>
                  <a:srgbClr val="262626"/>
                </a:solidFill>
                <a:latin typeface="Arial"/>
              </a:endParaRPr>
            </a:p>
          </p:txBody>
        </p:sp>
        <p:sp>
          <p:nvSpPr>
            <p:cNvPr id="2121" name="Freeform 263"/>
            <p:cNvSpPr/>
            <p:nvPr/>
          </p:nvSpPr>
          <p:spPr>
            <a:xfrm>
              <a:off x="8803800" y="2498040"/>
              <a:ext cx="118800" cy="52200"/>
            </a:xfrm>
            <a:custGeom>
              <a:avLst/>
              <a:gdLst>
                <a:gd name="textAreaLeft" fmla="*/ 0 w 118800"/>
                <a:gd name="textAreaRight" fmla="*/ 119160 w 118800"/>
                <a:gd name="textAreaTop" fmla="*/ 0 h 52200"/>
                <a:gd name="textAreaBottom" fmla="*/ 52560 h 52200"/>
              </a:gdLst>
              <a:ahLst/>
              <a:rect l="textAreaLeft" t="textAreaTop" r="textAreaRight" b="textAreaBottom"/>
              <a:pathLst>
                <a:path w="27" h="11">
                  <a:moveTo>
                    <a:pt x="3" y="10"/>
                  </a:moveTo>
                  <a:cubicBezTo>
                    <a:pt x="7" y="9"/>
                    <a:pt x="11" y="7"/>
                    <a:pt x="15" y="6"/>
                  </a:cubicBezTo>
                  <a:cubicBezTo>
                    <a:pt x="18" y="5"/>
                    <a:pt x="22" y="5"/>
                    <a:pt x="26" y="3"/>
                  </a:cubicBezTo>
                  <a:cubicBezTo>
                    <a:pt x="27" y="2"/>
                    <a:pt x="26" y="1"/>
                    <a:pt x="25" y="1"/>
                  </a:cubicBezTo>
                  <a:cubicBezTo>
                    <a:pt x="21" y="0"/>
                    <a:pt x="17" y="2"/>
                    <a:pt x="13" y="3"/>
                  </a:cubicBezTo>
                  <a:cubicBezTo>
                    <a:pt x="9" y="4"/>
                    <a:pt x="5" y="6"/>
                    <a:pt x="2" y="8"/>
                  </a:cubicBezTo>
                  <a:cubicBezTo>
                    <a:pt x="0" y="8"/>
                    <a:pt x="1" y="11"/>
                    <a:pt x="3" y="10"/>
                  </a:cubicBezTo>
                  <a:close/>
                </a:path>
              </a:pathLst>
            </a:custGeom>
            <a:solidFill>
              <a:srgbClr val="f6b2a9"/>
            </a:solidFill>
            <a:ln w="0">
              <a:noFill/>
            </a:ln>
          </p:spPr>
          <p:style>
            <a:lnRef idx="0"/>
            <a:fillRef idx="0"/>
            <a:effectRef idx="0"/>
            <a:fontRef idx="minor"/>
          </p:style>
          <p:txBody>
            <a:bodyPr lIns="90000" rIns="90000" tIns="5760" bIns="5760" anchor="t">
              <a:noAutofit/>
            </a:bodyPr>
            <a:p>
              <a:endParaRPr b="0" lang="en-US" sz="1800" spc="-1" strike="noStrike">
                <a:solidFill>
                  <a:srgbClr val="262626"/>
                </a:solidFill>
                <a:latin typeface="Arial"/>
              </a:endParaRPr>
            </a:p>
          </p:txBody>
        </p:sp>
        <p:sp>
          <p:nvSpPr>
            <p:cNvPr id="2122" name="Freeform 264"/>
            <p:cNvSpPr/>
            <p:nvPr/>
          </p:nvSpPr>
          <p:spPr>
            <a:xfrm>
              <a:off x="8227080" y="2674080"/>
              <a:ext cx="109440" cy="52200"/>
            </a:xfrm>
            <a:custGeom>
              <a:avLst/>
              <a:gdLst>
                <a:gd name="textAreaLeft" fmla="*/ 0 w 109440"/>
                <a:gd name="textAreaRight" fmla="*/ 109800 w 109440"/>
                <a:gd name="textAreaTop" fmla="*/ 0 h 52200"/>
                <a:gd name="textAreaBottom" fmla="*/ 52560 h 52200"/>
              </a:gdLst>
              <a:ahLst/>
              <a:rect l="textAreaLeft" t="textAreaTop" r="textAreaRight" b="textAreaBottom"/>
              <a:pathLst>
                <a:path w="24" h="12">
                  <a:moveTo>
                    <a:pt x="1" y="2"/>
                  </a:moveTo>
                  <a:cubicBezTo>
                    <a:pt x="5" y="9"/>
                    <a:pt x="18" y="12"/>
                    <a:pt x="23" y="5"/>
                  </a:cubicBezTo>
                  <a:cubicBezTo>
                    <a:pt x="24" y="4"/>
                    <a:pt x="23" y="3"/>
                    <a:pt x="22" y="4"/>
                  </a:cubicBezTo>
                  <a:cubicBezTo>
                    <a:pt x="18" y="4"/>
                    <a:pt x="16" y="6"/>
                    <a:pt x="12" y="5"/>
                  </a:cubicBezTo>
                  <a:cubicBezTo>
                    <a:pt x="8" y="5"/>
                    <a:pt x="6" y="3"/>
                    <a:pt x="3" y="1"/>
                  </a:cubicBezTo>
                  <a:cubicBezTo>
                    <a:pt x="2" y="0"/>
                    <a:pt x="0" y="1"/>
                    <a:pt x="1" y="2"/>
                  </a:cubicBezTo>
                  <a:close/>
                </a:path>
              </a:pathLst>
            </a:custGeom>
            <a:solidFill>
              <a:srgbClr val="f6b2a9"/>
            </a:solidFill>
            <a:ln w="0">
              <a:noFill/>
            </a:ln>
          </p:spPr>
          <p:style>
            <a:lnRef idx="0"/>
            <a:fillRef idx="0"/>
            <a:effectRef idx="0"/>
            <a:fontRef idx="minor"/>
          </p:style>
          <p:txBody>
            <a:bodyPr lIns="90000" rIns="90000" tIns="5760" bIns="5760" anchor="t">
              <a:noAutofit/>
            </a:bodyPr>
            <a:p>
              <a:endParaRPr b="0" lang="en-US" sz="1800" spc="-1" strike="noStrike">
                <a:solidFill>
                  <a:srgbClr val="262626"/>
                </a:solidFill>
                <a:latin typeface="Arial"/>
              </a:endParaRPr>
            </a:p>
          </p:txBody>
        </p:sp>
        <p:sp>
          <p:nvSpPr>
            <p:cNvPr id="2123" name="Freeform 265"/>
            <p:cNvSpPr/>
            <p:nvPr/>
          </p:nvSpPr>
          <p:spPr>
            <a:xfrm>
              <a:off x="8436960" y="2116440"/>
              <a:ext cx="114120" cy="90360"/>
            </a:xfrm>
            <a:custGeom>
              <a:avLst/>
              <a:gdLst>
                <a:gd name="textAreaLeft" fmla="*/ 0 w 114120"/>
                <a:gd name="textAreaRight" fmla="*/ 114480 w 114120"/>
                <a:gd name="textAreaTop" fmla="*/ 0 h 90360"/>
                <a:gd name="textAreaBottom" fmla="*/ 90720 h 90360"/>
              </a:gdLst>
              <a:ahLst/>
              <a:rect l="textAreaLeft" t="textAreaTop" r="textAreaRight" b="textAreaBottom"/>
              <a:pathLst>
                <a:path w="25" h="20">
                  <a:moveTo>
                    <a:pt x="1" y="11"/>
                  </a:moveTo>
                  <a:cubicBezTo>
                    <a:pt x="2" y="14"/>
                    <a:pt x="5" y="15"/>
                    <a:pt x="7" y="17"/>
                  </a:cubicBezTo>
                  <a:cubicBezTo>
                    <a:pt x="9" y="18"/>
                    <a:pt x="11" y="19"/>
                    <a:pt x="13" y="19"/>
                  </a:cubicBezTo>
                  <a:cubicBezTo>
                    <a:pt x="18" y="20"/>
                    <a:pt x="22" y="19"/>
                    <a:pt x="23" y="15"/>
                  </a:cubicBezTo>
                  <a:cubicBezTo>
                    <a:pt x="25" y="11"/>
                    <a:pt x="23" y="6"/>
                    <a:pt x="20" y="4"/>
                  </a:cubicBezTo>
                  <a:cubicBezTo>
                    <a:pt x="15" y="2"/>
                    <a:pt x="8" y="0"/>
                    <a:pt x="3" y="3"/>
                  </a:cubicBezTo>
                  <a:cubicBezTo>
                    <a:pt x="0" y="4"/>
                    <a:pt x="0" y="8"/>
                    <a:pt x="1" y="11"/>
                  </a:cubicBezTo>
                  <a:close/>
                </a:path>
              </a:pathLst>
            </a:custGeom>
            <a:solidFill>
              <a:srgbClr val="db7a3b"/>
            </a:solidFill>
            <a:ln w="0">
              <a:noFill/>
            </a:ln>
          </p:spPr>
          <p:style>
            <a:lnRef idx="0"/>
            <a:fillRef idx="0"/>
            <a:effectRef idx="0"/>
            <a:fontRef idx="minor"/>
          </p:style>
          <p:txBody>
            <a:bodyPr lIns="90000" rIns="90000" tIns="43920" bIns="43920" anchor="t">
              <a:noAutofit/>
            </a:bodyPr>
            <a:p>
              <a:endParaRPr b="0" lang="en-US" sz="1800" spc="-1" strike="noStrike">
                <a:solidFill>
                  <a:srgbClr val="262626"/>
                </a:solidFill>
                <a:latin typeface="Arial"/>
              </a:endParaRPr>
            </a:p>
          </p:txBody>
        </p:sp>
        <p:sp>
          <p:nvSpPr>
            <p:cNvPr id="2124" name="Freeform 266"/>
            <p:cNvSpPr/>
            <p:nvPr/>
          </p:nvSpPr>
          <p:spPr>
            <a:xfrm>
              <a:off x="8174880" y="2107080"/>
              <a:ext cx="114120" cy="75960"/>
            </a:xfrm>
            <a:custGeom>
              <a:avLst/>
              <a:gdLst>
                <a:gd name="textAreaLeft" fmla="*/ 0 w 114120"/>
                <a:gd name="textAreaRight" fmla="*/ 114480 w 114120"/>
                <a:gd name="textAreaTop" fmla="*/ 0 h 75960"/>
                <a:gd name="textAreaBottom" fmla="*/ 76320 h 75960"/>
              </a:gdLst>
              <a:ahLst/>
              <a:rect l="textAreaLeft" t="textAreaTop" r="textAreaRight" b="textAreaBottom"/>
              <a:pathLst>
                <a:path w="26" h="17">
                  <a:moveTo>
                    <a:pt x="4" y="12"/>
                  </a:moveTo>
                  <a:cubicBezTo>
                    <a:pt x="9" y="17"/>
                    <a:pt x="20" y="17"/>
                    <a:pt x="24" y="11"/>
                  </a:cubicBezTo>
                  <a:cubicBezTo>
                    <a:pt x="26" y="8"/>
                    <a:pt x="25" y="3"/>
                    <a:pt x="21" y="1"/>
                  </a:cubicBezTo>
                  <a:cubicBezTo>
                    <a:pt x="19" y="0"/>
                    <a:pt x="18" y="0"/>
                    <a:pt x="15" y="0"/>
                  </a:cubicBezTo>
                  <a:cubicBezTo>
                    <a:pt x="16" y="0"/>
                    <a:pt x="16" y="0"/>
                    <a:pt x="14" y="0"/>
                  </a:cubicBezTo>
                  <a:cubicBezTo>
                    <a:pt x="13" y="0"/>
                    <a:pt x="13" y="0"/>
                    <a:pt x="13" y="0"/>
                  </a:cubicBezTo>
                  <a:cubicBezTo>
                    <a:pt x="14" y="0"/>
                    <a:pt x="14" y="0"/>
                    <a:pt x="13" y="0"/>
                  </a:cubicBezTo>
                  <a:cubicBezTo>
                    <a:pt x="11" y="1"/>
                    <a:pt x="10" y="1"/>
                    <a:pt x="11" y="1"/>
                  </a:cubicBezTo>
                  <a:cubicBezTo>
                    <a:pt x="10" y="1"/>
                    <a:pt x="8" y="1"/>
                    <a:pt x="7" y="1"/>
                  </a:cubicBezTo>
                  <a:cubicBezTo>
                    <a:pt x="3" y="3"/>
                    <a:pt x="0" y="9"/>
                    <a:pt x="4" y="12"/>
                  </a:cubicBezTo>
                  <a:close/>
                </a:path>
              </a:pathLst>
            </a:custGeom>
            <a:solidFill>
              <a:srgbClr val="db7a3b"/>
            </a:solidFill>
            <a:ln w="0">
              <a:noFill/>
            </a:ln>
          </p:spPr>
          <p:style>
            <a:lnRef idx="0"/>
            <a:fillRef idx="0"/>
            <a:effectRef idx="0"/>
            <a:fontRef idx="minor"/>
          </p:style>
          <p:txBody>
            <a:bodyPr lIns="90000" rIns="90000" tIns="29520" bIns="29520" anchor="t">
              <a:noAutofit/>
            </a:bodyPr>
            <a:p>
              <a:endParaRPr b="0" lang="en-US" sz="1800" spc="-1" strike="noStrike">
                <a:solidFill>
                  <a:srgbClr val="262626"/>
                </a:solidFill>
                <a:latin typeface="Arial"/>
              </a:endParaRPr>
            </a:p>
          </p:txBody>
        </p:sp>
        <p:sp>
          <p:nvSpPr>
            <p:cNvPr id="2125" name="Freeform 267"/>
            <p:cNvSpPr/>
            <p:nvPr/>
          </p:nvSpPr>
          <p:spPr>
            <a:xfrm>
              <a:off x="7002360" y="2073600"/>
              <a:ext cx="109440" cy="90360"/>
            </a:xfrm>
            <a:custGeom>
              <a:avLst/>
              <a:gdLst>
                <a:gd name="textAreaLeft" fmla="*/ 0 w 109440"/>
                <a:gd name="textAreaRight" fmla="*/ 109800 w 109440"/>
                <a:gd name="textAreaTop" fmla="*/ 0 h 90360"/>
                <a:gd name="textAreaBottom" fmla="*/ 90720 h 90360"/>
              </a:gdLst>
              <a:ahLst/>
              <a:rect l="textAreaLeft" t="textAreaTop" r="textAreaRight" b="textAreaBottom"/>
              <a:pathLst>
                <a:path w="24" h="20">
                  <a:moveTo>
                    <a:pt x="5" y="19"/>
                  </a:moveTo>
                  <a:cubicBezTo>
                    <a:pt x="5" y="19"/>
                    <a:pt x="6" y="19"/>
                    <a:pt x="6" y="19"/>
                  </a:cubicBezTo>
                  <a:cubicBezTo>
                    <a:pt x="7" y="19"/>
                    <a:pt x="7" y="19"/>
                    <a:pt x="7" y="19"/>
                  </a:cubicBezTo>
                  <a:cubicBezTo>
                    <a:pt x="6" y="19"/>
                    <a:pt x="6" y="19"/>
                    <a:pt x="7" y="20"/>
                  </a:cubicBezTo>
                  <a:cubicBezTo>
                    <a:pt x="8" y="20"/>
                    <a:pt x="8" y="20"/>
                    <a:pt x="9" y="20"/>
                  </a:cubicBezTo>
                  <a:cubicBezTo>
                    <a:pt x="10" y="20"/>
                    <a:pt x="12" y="19"/>
                    <a:pt x="13" y="19"/>
                  </a:cubicBezTo>
                  <a:cubicBezTo>
                    <a:pt x="16" y="18"/>
                    <a:pt x="19" y="17"/>
                    <a:pt x="21" y="14"/>
                  </a:cubicBezTo>
                  <a:cubicBezTo>
                    <a:pt x="23" y="12"/>
                    <a:pt x="24" y="8"/>
                    <a:pt x="22" y="5"/>
                  </a:cubicBezTo>
                  <a:cubicBezTo>
                    <a:pt x="21" y="3"/>
                    <a:pt x="17" y="0"/>
                    <a:pt x="14" y="2"/>
                  </a:cubicBezTo>
                  <a:cubicBezTo>
                    <a:pt x="11" y="3"/>
                    <a:pt x="9" y="4"/>
                    <a:pt x="7" y="5"/>
                  </a:cubicBezTo>
                  <a:cubicBezTo>
                    <a:pt x="6" y="6"/>
                    <a:pt x="5" y="7"/>
                    <a:pt x="4" y="8"/>
                  </a:cubicBezTo>
                  <a:cubicBezTo>
                    <a:pt x="4" y="8"/>
                    <a:pt x="3" y="9"/>
                    <a:pt x="3" y="10"/>
                  </a:cubicBezTo>
                  <a:cubicBezTo>
                    <a:pt x="2" y="10"/>
                    <a:pt x="4" y="9"/>
                    <a:pt x="2" y="10"/>
                  </a:cubicBezTo>
                  <a:cubicBezTo>
                    <a:pt x="0" y="13"/>
                    <a:pt x="1" y="19"/>
                    <a:pt x="5" y="19"/>
                  </a:cubicBezTo>
                  <a:close/>
                </a:path>
              </a:pathLst>
            </a:custGeom>
            <a:solidFill>
              <a:srgbClr val="a67859"/>
            </a:solidFill>
            <a:ln w="0">
              <a:noFill/>
            </a:ln>
          </p:spPr>
          <p:style>
            <a:lnRef idx="0"/>
            <a:fillRef idx="0"/>
            <a:effectRef idx="0"/>
            <a:fontRef idx="minor"/>
          </p:style>
          <p:txBody>
            <a:bodyPr lIns="90000" rIns="90000" tIns="43920" bIns="43920" anchor="t">
              <a:noAutofit/>
            </a:bodyPr>
            <a:p>
              <a:endParaRPr b="0" lang="en-US" sz="1800" spc="-1" strike="noStrike">
                <a:solidFill>
                  <a:srgbClr val="262626"/>
                </a:solidFill>
                <a:latin typeface="Arial"/>
              </a:endParaRPr>
            </a:p>
          </p:txBody>
        </p:sp>
        <p:sp>
          <p:nvSpPr>
            <p:cNvPr id="2126" name="Freeform 268"/>
            <p:cNvSpPr/>
            <p:nvPr/>
          </p:nvSpPr>
          <p:spPr>
            <a:xfrm>
              <a:off x="7321680" y="2011680"/>
              <a:ext cx="114120" cy="90360"/>
            </a:xfrm>
            <a:custGeom>
              <a:avLst/>
              <a:gdLst>
                <a:gd name="textAreaLeft" fmla="*/ 0 w 114120"/>
                <a:gd name="textAreaRight" fmla="*/ 114480 w 114120"/>
                <a:gd name="textAreaTop" fmla="*/ 0 h 90360"/>
                <a:gd name="textAreaBottom" fmla="*/ 90720 h 90360"/>
              </a:gdLst>
              <a:ahLst/>
              <a:rect l="textAreaLeft" t="textAreaTop" r="textAreaRight" b="textAreaBottom"/>
              <a:pathLst>
                <a:path w="26" h="20">
                  <a:moveTo>
                    <a:pt x="1" y="11"/>
                  </a:moveTo>
                  <a:cubicBezTo>
                    <a:pt x="1" y="12"/>
                    <a:pt x="1" y="12"/>
                    <a:pt x="1" y="12"/>
                  </a:cubicBezTo>
                  <a:cubicBezTo>
                    <a:pt x="1" y="11"/>
                    <a:pt x="1" y="10"/>
                    <a:pt x="0" y="9"/>
                  </a:cubicBezTo>
                  <a:cubicBezTo>
                    <a:pt x="1" y="13"/>
                    <a:pt x="4" y="15"/>
                    <a:pt x="7" y="17"/>
                  </a:cubicBezTo>
                  <a:cubicBezTo>
                    <a:pt x="10" y="18"/>
                    <a:pt x="13" y="19"/>
                    <a:pt x="15" y="19"/>
                  </a:cubicBezTo>
                  <a:cubicBezTo>
                    <a:pt x="19" y="20"/>
                    <a:pt x="24" y="18"/>
                    <a:pt x="25" y="14"/>
                  </a:cubicBezTo>
                  <a:cubicBezTo>
                    <a:pt x="26" y="9"/>
                    <a:pt x="24" y="5"/>
                    <a:pt x="19" y="4"/>
                  </a:cubicBezTo>
                  <a:cubicBezTo>
                    <a:pt x="14" y="2"/>
                    <a:pt x="5" y="0"/>
                    <a:pt x="1" y="6"/>
                  </a:cubicBezTo>
                  <a:cubicBezTo>
                    <a:pt x="2" y="5"/>
                    <a:pt x="3" y="5"/>
                    <a:pt x="3" y="4"/>
                  </a:cubicBezTo>
                  <a:cubicBezTo>
                    <a:pt x="3" y="4"/>
                    <a:pt x="3" y="4"/>
                    <a:pt x="3" y="4"/>
                  </a:cubicBezTo>
                  <a:cubicBezTo>
                    <a:pt x="0" y="6"/>
                    <a:pt x="0" y="8"/>
                    <a:pt x="1" y="11"/>
                  </a:cubicBezTo>
                  <a:close/>
                </a:path>
              </a:pathLst>
            </a:custGeom>
            <a:solidFill>
              <a:srgbClr val="a67859"/>
            </a:solidFill>
            <a:ln w="0">
              <a:noFill/>
            </a:ln>
          </p:spPr>
          <p:style>
            <a:lnRef idx="0"/>
            <a:fillRef idx="0"/>
            <a:effectRef idx="0"/>
            <a:fontRef idx="minor"/>
          </p:style>
          <p:txBody>
            <a:bodyPr lIns="90000" rIns="90000" tIns="43920" bIns="43920" anchor="t">
              <a:noAutofit/>
            </a:bodyPr>
            <a:p>
              <a:endParaRPr b="0" lang="en-US" sz="1800" spc="-1" strike="noStrike">
                <a:solidFill>
                  <a:srgbClr val="262626"/>
                </a:solidFill>
                <a:latin typeface="Arial"/>
              </a:endParaRPr>
            </a:p>
          </p:txBody>
        </p:sp>
        <p:sp>
          <p:nvSpPr>
            <p:cNvPr id="2127" name="Freeform 269"/>
            <p:cNvSpPr/>
            <p:nvPr/>
          </p:nvSpPr>
          <p:spPr>
            <a:xfrm>
              <a:off x="6759360" y="1544760"/>
              <a:ext cx="852840" cy="319320"/>
            </a:xfrm>
            <a:custGeom>
              <a:avLst/>
              <a:gdLst>
                <a:gd name="textAreaLeft" fmla="*/ 0 w 852840"/>
                <a:gd name="textAreaRight" fmla="*/ 853200 w 852840"/>
                <a:gd name="textAreaTop" fmla="*/ 0 h 319320"/>
                <a:gd name="textAreaBottom" fmla="*/ 319680 h 319320"/>
              </a:gdLst>
              <a:ahLst/>
              <a:rect l="textAreaLeft" t="textAreaTop" r="textAreaRight" b="textAreaBottom"/>
              <a:pathLst>
                <a:path w="187" h="70">
                  <a:moveTo>
                    <a:pt x="3" y="69"/>
                  </a:moveTo>
                  <a:cubicBezTo>
                    <a:pt x="31" y="41"/>
                    <a:pt x="64" y="29"/>
                    <a:pt x="103" y="25"/>
                  </a:cubicBezTo>
                  <a:cubicBezTo>
                    <a:pt x="131" y="23"/>
                    <a:pt x="163" y="23"/>
                    <a:pt x="185" y="4"/>
                  </a:cubicBezTo>
                  <a:cubicBezTo>
                    <a:pt x="187" y="2"/>
                    <a:pt x="184" y="0"/>
                    <a:pt x="183" y="1"/>
                  </a:cubicBezTo>
                  <a:cubicBezTo>
                    <a:pt x="148" y="20"/>
                    <a:pt x="112" y="16"/>
                    <a:pt x="75" y="25"/>
                  </a:cubicBezTo>
                  <a:cubicBezTo>
                    <a:pt x="46" y="31"/>
                    <a:pt x="21" y="46"/>
                    <a:pt x="1" y="67"/>
                  </a:cubicBezTo>
                  <a:cubicBezTo>
                    <a:pt x="0" y="68"/>
                    <a:pt x="1" y="70"/>
                    <a:pt x="3" y="69"/>
                  </a:cubicBezTo>
                  <a:close/>
                </a:path>
              </a:pathLst>
            </a:custGeom>
            <a:solidFill>
              <a:srgbClr val="9b6a4c"/>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28" name="Freeform 270"/>
            <p:cNvSpPr/>
            <p:nvPr/>
          </p:nvSpPr>
          <p:spPr>
            <a:xfrm>
              <a:off x="6744960" y="1358640"/>
              <a:ext cx="810000" cy="414360"/>
            </a:xfrm>
            <a:custGeom>
              <a:avLst/>
              <a:gdLst>
                <a:gd name="textAreaLeft" fmla="*/ 0 w 810000"/>
                <a:gd name="textAreaRight" fmla="*/ 810360 w 810000"/>
                <a:gd name="textAreaTop" fmla="*/ 0 h 414360"/>
                <a:gd name="textAreaBottom" fmla="*/ 414720 h 414360"/>
              </a:gdLst>
              <a:ahLst/>
              <a:rect l="textAreaLeft" t="textAreaTop" r="textAreaRight" b="textAreaBottom"/>
              <a:pathLst>
                <a:path w="178" h="91">
                  <a:moveTo>
                    <a:pt x="3" y="90"/>
                  </a:moveTo>
                  <a:cubicBezTo>
                    <a:pt x="28" y="62"/>
                    <a:pt x="60" y="44"/>
                    <a:pt x="96" y="35"/>
                  </a:cubicBezTo>
                  <a:cubicBezTo>
                    <a:pt x="123" y="28"/>
                    <a:pt x="156" y="26"/>
                    <a:pt x="176" y="5"/>
                  </a:cubicBezTo>
                  <a:cubicBezTo>
                    <a:pt x="178" y="3"/>
                    <a:pt x="176" y="0"/>
                    <a:pt x="174" y="1"/>
                  </a:cubicBezTo>
                  <a:cubicBezTo>
                    <a:pt x="143" y="22"/>
                    <a:pt x="110" y="23"/>
                    <a:pt x="77" y="35"/>
                  </a:cubicBezTo>
                  <a:cubicBezTo>
                    <a:pt x="47" y="46"/>
                    <a:pt x="22" y="65"/>
                    <a:pt x="1" y="88"/>
                  </a:cubicBezTo>
                  <a:cubicBezTo>
                    <a:pt x="0" y="89"/>
                    <a:pt x="2" y="91"/>
                    <a:pt x="3" y="90"/>
                  </a:cubicBezTo>
                  <a:close/>
                </a:path>
              </a:pathLst>
            </a:custGeom>
            <a:solidFill>
              <a:srgbClr val="9b6a4c"/>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29" name="Freeform 271"/>
            <p:cNvSpPr/>
            <p:nvPr/>
          </p:nvSpPr>
          <p:spPr>
            <a:xfrm>
              <a:off x="6659280" y="1573200"/>
              <a:ext cx="176040" cy="152280"/>
            </a:xfrm>
            <a:custGeom>
              <a:avLst/>
              <a:gdLst>
                <a:gd name="textAreaLeft" fmla="*/ 0 w 176040"/>
                <a:gd name="textAreaRight" fmla="*/ 176400 w 176040"/>
                <a:gd name="textAreaTop" fmla="*/ 0 h 152280"/>
                <a:gd name="textAreaBottom" fmla="*/ 152640 h 152280"/>
              </a:gdLst>
              <a:ahLst/>
              <a:rect l="textAreaLeft" t="textAreaTop" r="textAreaRight" b="textAreaBottom"/>
              <a:pathLst>
                <a:path w="39" h="34">
                  <a:moveTo>
                    <a:pt x="3" y="33"/>
                  </a:moveTo>
                  <a:cubicBezTo>
                    <a:pt x="7" y="25"/>
                    <a:pt x="13" y="19"/>
                    <a:pt x="20" y="13"/>
                  </a:cubicBezTo>
                  <a:cubicBezTo>
                    <a:pt x="25" y="9"/>
                    <a:pt x="33" y="7"/>
                    <a:pt x="38" y="2"/>
                  </a:cubicBezTo>
                  <a:cubicBezTo>
                    <a:pt x="39" y="1"/>
                    <a:pt x="38" y="0"/>
                    <a:pt x="37" y="0"/>
                  </a:cubicBezTo>
                  <a:cubicBezTo>
                    <a:pt x="30" y="0"/>
                    <a:pt x="23" y="6"/>
                    <a:pt x="17" y="11"/>
                  </a:cubicBezTo>
                  <a:cubicBezTo>
                    <a:pt x="11" y="17"/>
                    <a:pt x="5" y="24"/>
                    <a:pt x="1" y="31"/>
                  </a:cubicBezTo>
                  <a:cubicBezTo>
                    <a:pt x="0" y="33"/>
                    <a:pt x="2" y="34"/>
                    <a:pt x="3" y="33"/>
                  </a:cubicBezTo>
                  <a:close/>
                </a:path>
              </a:pathLst>
            </a:custGeom>
            <a:solidFill>
              <a:srgbClr val="9b6a4c"/>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30" name="Freeform 272"/>
            <p:cNvSpPr/>
            <p:nvPr/>
          </p:nvSpPr>
          <p:spPr>
            <a:xfrm>
              <a:off x="6625800" y="1954440"/>
              <a:ext cx="66600" cy="285840"/>
            </a:xfrm>
            <a:custGeom>
              <a:avLst/>
              <a:gdLst>
                <a:gd name="textAreaLeft" fmla="*/ 0 w 66600"/>
                <a:gd name="textAreaRight" fmla="*/ 66960 w 66600"/>
                <a:gd name="textAreaTop" fmla="*/ 0 h 285840"/>
                <a:gd name="textAreaBottom" fmla="*/ 286200 h 285840"/>
              </a:gdLst>
              <a:ahLst/>
              <a:rect l="textAreaLeft" t="textAreaTop" r="textAreaRight" b="textAreaBottom"/>
              <a:pathLst>
                <a:path w="14" h="62">
                  <a:moveTo>
                    <a:pt x="11" y="1"/>
                  </a:moveTo>
                  <a:cubicBezTo>
                    <a:pt x="3" y="19"/>
                    <a:pt x="0" y="42"/>
                    <a:pt x="9" y="60"/>
                  </a:cubicBezTo>
                  <a:cubicBezTo>
                    <a:pt x="10" y="62"/>
                    <a:pt x="12" y="61"/>
                    <a:pt x="11" y="59"/>
                  </a:cubicBezTo>
                  <a:cubicBezTo>
                    <a:pt x="7" y="39"/>
                    <a:pt x="6" y="21"/>
                    <a:pt x="14" y="2"/>
                  </a:cubicBezTo>
                  <a:cubicBezTo>
                    <a:pt x="14" y="1"/>
                    <a:pt x="12" y="0"/>
                    <a:pt x="11" y="1"/>
                  </a:cubicBezTo>
                  <a:close/>
                </a:path>
              </a:pathLst>
            </a:custGeom>
            <a:solidFill>
              <a:srgbClr val="9b6a4c"/>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31" name="Freeform 273"/>
            <p:cNvSpPr/>
            <p:nvPr/>
          </p:nvSpPr>
          <p:spPr>
            <a:xfrm>
              <a:off x="6845040" y="2674080"/>
              <a:ext cx="75960" cy="90360"/>
            </a:xfrm>
            <a:custGeom>
              <a:avLst/>
              <a:gdLst>
                <a:gd name="textAreaLeft" fmla="*/ 0 w 75960"/>
                <a:gd name="textAreaRight" fmla="*/ 76320 w 75960"/>
                <a:gd name="textAreaTop" fmla="*/ 0 h 90360"/>
                <a:gd name="textAreaBottom" fmla="*/ 90720 h 90360"/>
              </a:gdLst>
              <a:ahLst/>
              <a:rect l="textAreaLeft" t="textAreaTop" r="textAreaRight" b="textAreaBottom"/>
              <a:pathLst>
                <a:path w="17" h="19">
                  <a:moveTo>
                    <a:pt x="1" y="4"/>
                  </a:moveTo>
                  <a:cubicBezTo>
                    <a:pt x="3" y="7"/>
                    <a:pt x="5" y="9"/>
                    <a:pt x="7" y="12"/>
                  </a:cubicBezTo>
                  <a:cubicBezTo>
                    <a:pt x="9" y="15"/>
                    <a:pt x="12" y="18"/>
                    <a:pt x="15" y="19"/>
                  </a:cubicBezTo>
                  <a:cubicBezTo>
                    <a:pt x="16" y="19"/>
                    <a:pt x="17" y="19"/>
                    <a:pt x="17" y="17"/>
                  </a:cubicBezTo>
                  <a:cubicBezTo>
                    <a:pt x="15" y="15"/>
                    <a:pt x="12" y="13"/>
                    <a:pt x="10" y="11"/>
                  </a:cubicBezTo>
                  <a:cubicBezTo>
                    <a:pt x="8" y="8"/>
                    <a:pt x="6" y="5"/>
                    <a:pt x="4" y="2"/>
                  </a:cubicBezTo>
                  <a:cubicBezTo>
                    <a:pt x="3" y="0"/>
                    <a:pt x="0" y="2"/>
                    <a:pt x="1" y="4"/>
                  </a:cubicBezTo>
                  <a:close/>
                </a:path>
              </a:pathLst>
            </a:custGeom>
            <a:solidFill>
              <a:srgbClr val="9b6a4c"/>
            </a:solidFill>
            <a:ln w="0">
              <a:noFill/>
            </a:ln>
          </p:spPr>
          <p:style>
            <a:lnRef idx="0"/>
            <a:fillRef idx="0"/>
            <a:effectRef idx="0"/>
            <a:fontRef idx="minor"/>
          </p:style>
          <p:txBody>
            <a:bodyPr lIns="90000" rIns="90000" tIns="43920" bIns="43920" anchor="t">
              <a:noAutofit/>
            </a:bodyPr>
            <a:p>
              <a:endParaRPr b="0" lang="en-US" sz="1800" spc="-1" strike="noStrike">
                <a:solidFill>
                  <a:srgbClr val="262626"/>
                </a:solidFill>
                <a:latin typeface="Arial"/>
              </a:endParaRPr>
            </a:p>
          </p:txBody>
        </p:sp>
        <p:sp>
          <p:nvSpPr>
            <p:cNvPr id="2132" name="Freeform 274"/>
            <p:cNvSpPr/>
            <p:nvPr/>
          </p:nvSpPr>
          <p:spPr>
            <a:xfrm>
              <a:off x="6993000" y="2698200"/>
              <a:ext cx="61920" cy="95040"/>
            </a:xfrm>
            <a:custGeom>
              <a:avLst/>
              <a:gdLst>
                <a:gd name="textAreaLeft" fmla="*/ 0 w 61920"/>
                <a:gd name="textAreaRight" fmla="*/ 62280 w 61920"/>
                <a:gd name="textAreaTop" fmla="*/ 0 h 95040"/>
                <a:gd name="textAreaBottom" fmla="*/ 95400 h 95040"/>
              </a:gdLst>
              <a:ahLst/>
              <a:rect l="textAreaLeft" t="textAreaTop" r="textAreaRight" b="textAreaBottom"/>
              <a:pathLst>
                <a:path w="14" h="21">
                  <a:moveTo>
                    <a:pt x="0" y="2"/>
                  </a:moveTo>
                  <a:cubicBezTo>
                    <a:pt x="1" y="6"/>
                    <a:pt x="2" y="10"/>
                    <a:pt x="4" y="14"/>
                  </a:cubicBezTo>
                  <a:cubicBezTo>
                    <a:pt x="6" y="16"/>
                    <a:pt x="9" y="20"/>
                    <a:pt x="12" y="21"/>
                  </a:cubicBezTo>
                  <a:cubicBezTo>
                    <a:pt x="13" y="21"/>
                    <a:pt x="14" y="20"/>
                    <a:pt x="14" y="19"/>
                  </a:cubicBezTo>
                  <a:cubicBezTo>
                    <a:pt x="12" y="16"/>
                    <a:pt x="9" y="15"/>
                    <a:pt x="7" y="12"/>
                  </a:cubicBezTo>
                  <a:cubicBezTo>
                    <a:pt x="5" y="9"/>
                    <a:pt x="4" y="5"/>
                    <a:pt x="3" y="2"/>
                  </a:cubicBezTo>
                  <a:cubicBezTo>
                    <a:pt x="3" y="0"/>
                    <a:pt x="0" y="1"/>
                    <a:pt x="0" y="2"/>
                  </a:cubicBezTo>
                  <a:close/>
                </a:path>
              </a:pathLst>
            </a:custGeom>
            <a:solidFill>
              <a:srgbClr val="9b6a4c"/>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33" name="Freeform 275"/>
            <p:cNvSpPr/>
            <p:nvPr/>
          </p:nvSpPr>
          <p:spPr>
            <a:xfrm>
              <a:off x="7102440" y="264096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8" h="14">
                  <a:moveTo>
                    <a:pt x="1" y="3"/>
                  </a:moveTo>
                  <a:cubicBezTo>
                    <a:pt x="2" y="5"/>
                    <a:pt x="3" y="7"/>
                    <a:pt x="3" y="9"/>
                  </a:cubicBezTo>
                  <a:cubicBezTo>
                    <a:pt x="4" y="10"/>
                    <a:pt x="5" y="12"/>
                    <a:pt x="6" y="14"/>
                  </a:cubicBezTo>
                  <a:cubicBezTo>
                    <a:pt x="7" y="14"/>
                    <a:pt x="8" y="14"/>
                    <a:pt x="8" y="13"/>
                  </a:cubicBezTo>
                  <a:cubicBezTo>
                    <a:pt x="8" y="11"/>
                    <a:pt x="7" y="9"/>
                    <a:pt x="6" y="7"/>
                  </a:cubicBezTo>
                  <a:cubicBezTo>
                    <a:pt x="6" y="6"/>
                    <a:pt x="5" y="4"/>
                    <a:pt x="4" y="2"/>
                  </a:cubicBezTo>
                  <a:cubicBezTo>
                    <a:pt x="3" y="0"/>
                    <a:pt x="0" y="1"/>
                    <a:pt x="1" y="3"/>
                  </a:cubicBezTo>
                  <a:close/>
                </a:path>
              </a:pathLst>
            </a:custGeom>
            <a:solidFill>
              <a:srgbClr val="9b6a4c"/>
            </a:solidFill>
            <a:ln w="0">
              <a:noFill/>
            </a:ln>
          </p:spPr>
          <p:style>
            <a:lnRef idx="0"/>
            <a:fillRef idx="0"/>
            <a:effectRef idx="0"/>
            <a:fontRef idx="minor"/>
          </p:style>
          <p:txBody>
            <a:bodyPr lIns="90000" rIns="90000" tIns="15480" bIns="15480" anchor="t">
              <a:noAutofit/>
            </a:bodyPr>
            <a:p>
              <a:endParaRPr b="0" lang="en-US" sz="1800" spc="-1" strike="noStrike">
                <a:solidFill>
                  <a:srgbClr val="262626"/>
                </a:solidFill>
                <a:latin typeface="Arial"/>
              </a:endParaRPr>
            </a:p>
          </p:txBody>
        </p:sp>
        <p:sp>
          <p:nvSpPr>
            <p:cNvPr id="2134" name="Freeform 276"/>
            <p:cNvSpPr/>
            <p:nvPr/>
          </p:nvSpPr>
          <p:spPr>
            <a:xfrm>
              <a:off x="7216920" y="2626560"/>
              <a:ext cx="37800" cy="66600"/>
            </a:xfrm>
            <a:custGeom>
              <a:avLst/>
              <a:gdLst>
                <a:gd name="textAreaLeft" fmla="*/ 0 w 37800"/>
                <a:gd name="textAreaRight" fmla="*/ 38160 w 37800"/>
                <a:gd name="textAreaTop" fmla="*/ 0 h 66600"/>
                <a:gd name="textAreaBottom" fmla="*/ 66960 h 66600"/>
              </a:gdLst>
              <a:ahLst/>
              <a:rect l="textAreaLeft" t="textAreaTop" r="textAreaRight" b="textAreaBottom"/>
              <a:pathLst>
                <a:path w="9" h="15">
                  <a:moveTo>
                    <a:pt x="1" y="3"/>
                  </a:moveTo>
                  <a:cubicBezTo>
                    <a:pt x="3" y="5"/>
                    <a:pt x="4" y="7"/>
                    <a:pt x="5" y="9"/>
                  </a:cubicBezTo>
                  <a:cubicBezTo>
                    <a:pt x="5" y="11"/>
                    <a:pt x="5" y="13"/>
                    <a:pt x="6" y="15"/>
                  </a:cubicBezTo>
                  <a:cubicBezTo>
                    <a:pt x="7" y="15"/>
                    <a:pt x="8" y="15"/>
                    <a:pt x="8" y="14"/>
                  </a:cubicBezTo>
                  <a:cubicBezTo>
                    <a:pt x="9" y="12"/>
                    <a:pt x="8" y="10"/>
                    <a:pt x="8" y="8"/>
                  </a:cubicBezTo>
                  <a:cubicBezTo>
                    <a:pt x="7" y="6"/>
                    <a:pt x="5" y="3"/>
                    <a:pt x="4" y="1"/>
                  </a:cubicBezTo>
                  <a:cubicBezTo>
                    <a:pt x="3" y="0"/>
                    <a:pt x="0" y="1"/>
                    <a:pt x="1" y="3"/>
                  </a:cubicBezTo>
                  <a:close/>
                </a:path>
              </a:pathLst>
            </a:custGeom>
            <a:solidFill>
              <a:srgbClr val="9b6a4c"/>
            </a:solidFill>
            <a:ln w="0">
              <a:noFill/>
            </a:ln>
          </p:spPr>
          <p:style>
            <a:lnRef idx="0"/>
            <a:fillRef idx="0"/>
            <a:effectRef idx="0"/>
            <a:fontRef idx="minor"/>
          </p:style>
          <p:txBody>
            <a:bodyPr lIns="90000" rIns="90000" tIns="20160" bIns="20160" anchor="t">
              <a:noAutofit/>
            </a:bodyPr>
            <a:p>
              <a:endParaRPr b="0" lang="en-US" sz="1800" spc="-1" strike="noStrike">
                <a:solidFill>
                  <a:srgbClr val="262626"/>
                </a:solidFill>
                <a:latin typeface="Arial"/>
              </a:endParaRPr>
            </a:p>
          </p:txBody>
        </p:sp>
        <p:sp>
          <p:nvSpPr>
            <p:cNvPr id="2135" name="Freeform 277"/>
            <p:cNvSpPr/>
            <p:nvPr/>
          </p:nvSpPr>
          <p:spPr>
            <a:xfrm>
              <a:off x="7097760" y="2883960"/>
              <a:ext cx="52200" cy="42840"/>
            </a:xfrm>
            <a:custGeom>
              <a:avLst/>
              <a:gdLst>
                <a:gd name="textAreaLeft" fmla="*/ 0 w 52200"/>
                <a:gd name="textAreaRight" fmla="*/ 52560 w 52200"/>
                <a:gd name="textAreaTop" fmla="*/ 0 h 42840"/>
                <a:gd name="textAreaBottom" fmla="*/ 43200 h 42840"/>
              </a:gdLst>
              <a:ahLst/>
              <a:rect l="textAreaLeft" t="textAreaTop" r="textAreaRight" b="textAreaBottom"/>
              <a:pathLst>
                <a:path w="12" h="9">
                  <a:moveTo>
                    <a:pt x="1" y="2"/>
                  </a:moveTo>
                  <a:cubicBezTo>
                    <a:pt x="3" y="4"/>
                    <a:pt x="4" y="5"/>
                    <a:pt x="6" y="6"/>
                  </a:cubicBezTo>
                  <a:cubicBezTo>
                    <a:pt x="7" y="7"/>
                    <a:pt x="9" y="8"/>
                    <a:pt x="11" y="8"/>
                  </a:cubicBezTo>
                  <a:cubicBezTo>
                    <a:pt x="11" y="9"/>
                    <a:pt x="12" y="8"/>
                    <a:pt x="11" y="7"/>
                  </a:cubicBezTo>
                  <a:cubicBezTo>
                    <a:pt x="10" y="6"/>
                    <a:pt x="9" y="5"/>
                    <a:pt x="7" y="4"/>
                  </a:cubicBezTo>
                  <a:cubicBezTo>
                    <a:pt x="5" y="3"/>
                    <a:pt x="4" y="2"/>
                    <a:pt x="2" y="0"/>
                  </a:cubicBezTo>
                  <a:cubicBezTo>
                    <a:pt x="1" y="0"/>
                    <a:pt x="0" y="2"/>
                    <a:pt x="1" y="2"/>
                  </a:cubicBezTo>
                  <a:close/>
                </a:path>
              </a:pathLst>
            </a:custGeom>
            <a:solidFill>
              <a:srgbClr val="9b6a4c"/>
            </a:solidFill>
            <a:ln w="0">
              <a:noFill/>
            </a:ln>
          </p:spPr>
          <p:style>
            <a:lnRef idx="0"/>
            <a:fillRef idx="0"/>
            <a:effectRef idx="0"/>
            <a:fontRef idx="minor"/>
          </p:style>
          <p:txBody>
            <a:bodyPr lIns="90000" rIns="90000" tIns="-3600" bIns="-3600" anchor="t">
              <a:noAutofit/>
            </a:bodyPr>
            <a:p>
              <a:endParaRPr b="0" lang="en-US" sz="1800" spc="-1" strike="noStrike">
                <a:solidFill>
                  <a:srgbClr val="262626"/>
                </a:solidFill>
                <a:latin typeface="Arial"/>
              </a:endParaRPr>
            </a:p>
          </p:txBody>
        </p:sp>
        <p:sp>
          <p:nvSpPr>
            <p:cNvPr id="2136" name="Freeform 278"/>
            <p:cNvSpPr/>
            <p:nvPr/>
          </p:nvSpPr>
          <p:spPr>
            <a:xfrm>
              <a:off x="7188120" y="2812320"/>
              <a:ext cx="42840" cy="56880"/>
            </a:xfrm>
            <a:custGeom>
              <a:avLst/>
              <a:gdLst>
                <a:gd name="textAreaLeft" fmla="*/ 0 w 42840"/>
                <a:gd name="textAreaRight" fmla="*/ 43200 w 42840"/>
                <a:gd name="textAreaTop" fmla="*/ 0 h 56880"/>
                <a:gd name="textAreaBottom" fmla="*/ 57240 h 56880"/>
              </a:gdLst>
              <a:ahLst/>
              <a:rect l="textAreaLeft" t="textAreaTop" r="textAreaRight" b="textAreaBottom"/>
              <a:pathLst>
                <a:path w="10" h="12">
                  <a:moveTo>
                    <a:pt x="2" y="4"/>
                  </a:moveTo>
                  <a:cubicBezTo>
                    <a:pt x="3" y="5"/>
                    <a:pt x="4" y="7"/>
                    <a:pt x="5" y="9"/>
                  </a:cubicBezTo>
                  <a:cubicBezTo>
                    <a:pt x="6" y="10"/>
                    <a:pt x="7" y="12"/>
                    <a:pt x="8" y="12"/>
                  </a:cubicBezTo>
                  <a:cubicBezTo>
                    <a:pt x="9" y="12"/>
                    <a:pt x="10" y="12"/>
                    <a:pt x="10" y="11"/>
                  </a:cubicBezTo>
                  <a:cubicBezTo>
                    <a:pt x="10" y="10"/>
                    <a:pt x="9" y="8"/>
                    <a:pt x="8" y="7"/>
                  </a:cubicBezTo>
                  <a:cubicBezTo>
                    <a:pt x="7" y="5"/>
                    <a:pt x="6" y="4"/>
                    <a:pt x="5" y="2"/>
                  </a:cubicBezTo>
                  <a:cubicBezTo>
                    <a:pt x="3" y="0"/>
                    <a:pt x="0" y="2"/>
                    <a:pt x="2" y="4"/>
                  </a:cubicBezTo>
                  <a:close/>
                </a:path>
              </a:pathLst>
            </a:custGeom>
            <a:solidFill>
              <a:srgbClr val="9b6a4c"/>
            </a:solidFill>
            <a:ln w="0">
              <a:noFill/>
            </a:ln>
          </p:spPr>
          <p:style>
            <a:lnRef idx="0"/>
            <a:fillRef idx="0"/>
            <a:effectRef idx="0"/>
            <a:fontRef idx="minor"/>
          </p:style>
          <p:txBody>
            <a:bodyPr lIns="90000" rIns="90000" tIns="10440" bIns="10440" anchor="t">
              <a:noAutofit/>
            </a:bodyPr>
            <a:p>
              <a:endParaRPr b="0" lang="en-US" sz="1800" spc="-1" strike="noStrike">
                <a:solidFill>
                  <a:srgbClr val="262626"/>
                </a:solidFill>
                <a:latin typeface="Arial"/>
              </a:endParaRPr>
            </a:p>
          </p:txBody>
        </p:sp>
        <p:sp>
          <p:nvSpPr>
            <p:cNvPr id="2137" name="Freeform 279"/>
            <p:cNvSpPr/>
            <p:nvPr/>
          </p:nvSpPr>
          <p:spPr>
            <a:xfrm>
              <a:off x="7364520" y="2779200"/>
              <a:ext cx="42840" cy="52200"/>
            </a:xfrm>
            <a:custGeom>
              <a:avLst/>
              <a:gdLst>
                <a:gd name="textAreaLeft" fmla="*/ 0 w 42840"/>
                <a:gd name="textAreaRight" fmla="*/ 43200 w 42840"/>
                <a:gd name="textAreaTop" fmla="*/ 0 h 52200"/>
                <a:gd name="textAreaBottom" fmla="*/ 52560 h 52200"/>
              </a:gdLst>
              <a:ahLst/>
              <a:rect l="textAreaLeft" t="textAreaTop" r="textAreaRight" b="textAreaBottom"/>
              <a:pathLst>
                <a:path w="9" h="12">
                  <a:moveTo>
                    <a:pt x="1" y="3"/>
                  </a:moveTo>
                  <a:cubicBezTo>
                    <a:pt x="2" y="5"/>
                    <a:pt x="3" y="6"/>
                    <a:pt x="3" y="8"/>
                  </a:cubicBezTo>
                  <a:cubicBezTo>
                    <a:pt x="4" y="9"/>
                    <a:pt x="5" y="11"/>
                    <a:pt x="6" y="11"/>
                  </a:cubicBezTo>
                  <a:cubicBezTo>
                    <a:pt x="7" y="12"/>
                    <a:pt x="9" y="11"/>
                    <a:pt x="9" y="10"/>
                  </a:cubicBezTo>
                  <a:cubicBezTo>
                    <a:pt x="9" y="8"/>
                    <a:pt x="8" y="7"/>
                    <a:pt x="7" y="6"/>
                  </a:cubicBezTo>
                  <a:cubicBezTo>
                    <a:pt x="6" y="4"/>
                    <a:pt x="5" y="3"/>
                    <a:pt x="4" y="2"/>
                  </a:cubicBezTo>
                  <a:cubicBezTo>
                    <a:pt x="3" y="0"/>
                    <a:pt x="0" y="1"/>
                    <a:pt x="1" y="3"/>
                  </a:cubicBezTo>
                  <a:close/>
                </a:path>
              </a:pathLst>
            </a:custGeom>
            <a:solidFill>
              <a:srgbClr val="9b6a4c"/>
            </a:solidFill>
            <a:ln w="0">
              <a:noFill/>
            </a:ln>
          </p:spPr>
          <p:style>
            <a:lnRef idx="0"/>
            <a:fillRef idx="0"/>
            <a:effectRef idx="0"/>
            <a:fontRef idx="minor"/>
          </p:style>
          <p:txBody>
            <a:bodyPr lIns="90000" rIns="90000" tIns="5760" bIns="5760" anchor="t">
              <a:noAutofit/>
            </a:bodyPr>
            <a:p>
              <a:endParaRPr b="0" lang="en-US" sz="1800" spc="-1" strike="noStrike">
                <a:solidFill>
                  <a:srgbClr val="262626"/>
                </a:solidFill>
                <a:latin typeface="Arial"/>
              </a:endParaRPr>
            </a:p>
          </p:txBody>
        </p:sp>
        <p:sp>
          <p:nvSpPr>
            <p:cNvPr id="2138" name="Freeform 280"/>
            <p:cNvSpPr/>
            <p:nvPr/>
          </p:nvSpPr>
          <p:spPr>
            <a:xfrm>
              <a:off x="7464600" y="2660040"/>
              <a:ext cx="33120" cy="56880"/>
            </a:xfrm>
            <a:custGeom>
              <a:avLst/>
              <a:gdLst>
                <a:gd name="textAreaLeft" fmla="*/ 0 w 33120"/>
                <a:gd name="textAreaRight" fmla="*/ 33480 w 33120"/>
                <a:gd name="textAreaTop" fmla="*/ 0 h 56880"/>
                <a:gd name="textAreaBottom" fmla="*/ 57240 h 56880"/>
              </a:gdLst>
              <a:ahLst/>
              <a:rect l="textAreaLeft" t="textAreaTop" r="textAreaRight" b="textAreaBottom"/>
              <a:pathLst>
                <a:path w="7" h="13">
                  <a:moveTo>
                    <a:pt x="1" y="4"/>
                  </a:moveTo>
                  <a:cubicBezTo>
                    <a:pt x="2" y="6"/>
                    <a:pt x="2" y="9"/>
                    <a:pt x="4" y="12"/>
                  </a:cubicBezTo>
                  <a:cubicBezTo>
                    <a:pt x="5" y="13"/>
                    <a:pt x="6" y="12"/>
                    <a:pt x="7" y="11"/>
                  </a:cubicBezTo>
                  <a:cubicBezTo>
                    <a:pt x="7" y="8"/>
                    <a:pt x="6" y="5"/>
                    <a:pt x="5" y="3"/>
                  </a:cubicBezTo>
                  <a:cubicBezTo>
                    <a:pt x="5" y="0"/>
                    <a:pt x="0" y="1"/>
                    <a:pt x="1" y="4"/>
                  </a:cubicBezTo>
                  <a:close/>
                </a:path>
              </a:pathLst>
            </a:custGeom>
            <a:solidFill>
              <a:srgbClr val="9b6a4c"/>
            </a:solidFill>
            <a:ln w="0">
              <a:noFill/>
            </a:ln>
          </p:spPr>
          <p:style>
            <a:lnRef idx="0"/>
            <a:fillRef idx="0"/>
            <a:effectRef idx="0"/>
            <a:fontRef idx="minor"/>
          </p:style>
          <p:txBody>
            <a:bodyPr lIns="90000" rIns="90000" tIns="10440" bIns="10440" anchor="t">
              <a:noAutofit/>
            </a:bodyPr>
            <a:p>
              <a:endParaRPr b="0" lang="en-US" sz="1800" spc="-1" strike="noStrike">
                <a:solidFill>
                  <a:srgbClr val="262626"/>
                </a:solidFill>
                <a:latin typeface="Arial"/>
              </a:endParaRPr>
            </a:p>
          </p:txBody>
        </p:sp>
        <p:sp>
          <p:nvSpPr>
            <p:cNvPr id="2139" name="Freeform 281"/>
            <p:cNvSpPr/>
            <p:nvPr/>
          </p:nvSpPr>
          <p:spPr>
            <a:xfrm>
              <a:off x="7498080" y="2454840"/>
              <a:ext cx="28440" cy="42840"/>
            </a:xfrm>
            <a:custGeom>
              <a:avLst/>
              <a:gdLst>
                <a:gd name="textAreaLeft" fmla="*/ 0 w 28440"/>
                <a:gd name="textAreaRight" fmla="*/ 28800 w 28440"/>
                <a:gd name="textAreaTop" fmla="*/ 0 h 42840"/>
                <a:gd name="textAreaBottom" fmla="*/ 43200 h 42840"/>
              </a:gdLst>
              <a:ahLst/>
              <a:rect l="textAreaLeft" t="textAreaTop" r="textAreaRight" b="textAreaBottom"/>
              <a:pathLst>
                <a:path w="6" h="10">
                  <a:moveTo>
                    <a:pt x="1" y="3"/>
                  </a:moveTo>
                  <a:cubicBezTo>
                    <a:pt x="1" y="5"/>
                    <a:pt x="2" y="7"/>
                    <a:pt x="3" y="9"/>
                  </a:cubicBezTo>
                  <a:cubicBezTo>
                    <a:pt x="4" y="10"/>
                    <a:pt x="6" y="9"/>
                    <a:pt x="6" y="8"/>
                  </a:cubicBezTo>
                  <a:cubicBezTo>
                    <a:pt x="5" y="6"/>
                    <a:pt x="5" y="4"/>
                    <a:pt x="4" y="2"/>
                  </a:cubicBezTo>
                  <a:cubicBezTo>
                    <a:pt x="4" y="0"/>
                    <a:pt x="0" y="1"/>
                    <a:pt x="1" y="3"/>
                  </a:cubicBezTo>
                  <a:close/>
                </a:path>
              </a:pathLst>
            </a:custGeom>
            <a:solidFill>
              <a:srgbClr val="9b6a4c"/>
            </a:solidFill>
            <a:ln w="0">
              <a:noFill/>
            </a:ln>
          </p:spPr>
          <p:style>
            <a:lnRef idx="0"/>
            <a:fillRef idx="0"/>
            <a:effectRef idx="0"/>
            <a:fontRef idx="minor"/>
          </p:style>
          <p:txBody>
            <a:bodyPr lIns="90000" rIns="90000" tIns="-3600" bIns="-3600" anchor="t">
              <a:noAutofit/>
            </a:bodyPr>
            <a:p>
              <a:endParaRPr b="0" lang="en-US" sz="1800" spc="-1" strike="noStrike">
                <a:solidFill>
                  <a:srgbClr val="262626"/>
                </a:solidFill>
                <a:latin typeface="Arial"/>
              </a:endParaRPr>
            </a:p>
          </p:txBody>
        </p:sp>
        <p:sp>
          <p:nvSpPr>
            <p:cNvPr id="2140" name="Freeform 282"/>
            <p:cNvSpPr/>
            <p:nvPr/>
          </p:nvSpPr>
          <p:spPr>
            <a:xfrm>
              <a:off x="7302600" y="2407320"/>
              <a:ext cx="18720" cy="47520"/>
            </a:xfrm>
            <a:custGeom>
              <a:avLst/>
              <a:gdLst>
                <a:gd name="textAreaLeft" fmla="*/ 0 w 18720"/>
                <a:gd name="textAreaRight" fmla="*/ 19080 w 18720"/>
                <a:gd name="textAreaTop" fmla="*/ 0 h 47520"/>
                <a:gd name="textAreaBottom" fmla="*/ 47880 h 47520"/>
              </a:gdLst>
              <a:ahLst/>
              <a:rect l="textAreaLeft" t="textAreaTop" r="textAreaRight" b="textAreaBottom"/>
              <a:pathLst>
                <a:path w="4" h="10">
                  <a:moveTo>
                    <a:pt x="4" y="8"/>
                  </a:moveTo>
                  <a:cubicBezTo>
                    <a:pt x="4" y="6"/>
                    <a:pt x="4" y="3"/>
                    <a:pt x="3" y="1"/>
                  </a:cubicBezTo>
                  <a:cubicBezTo>
                    <a:pt x="3" y="0"/>
                    <a:pt x="1" y="0"/>
                    <a:pt x="1" y="1"/>
                  </a:cubicBezTo>
                  <a:cubicBezTo>
                    <a:pt x="0" y="3"/>
                    <a:pt x="0" y="6"/>
                    <a:pt x="0" y="8"/>
                  </a:cubicBezTo>
                  <a:cubicBezTo>
                    <a:pt x="0" y="10"/>
                    <a:pt x="3" y="10"/>
                    <a:pt x="4" y="8"/>
                  </a:cubicBezTo>
                  <a:close/>
                </a:path>
              </a:pathLst>
            </a:custGeom>
            <a:solidFill>
              <a:srgbClr val="9b6a4c"/>
            </a:solidFill>
            <a:ln w="0">
              <a:noFill/>
            </a:ln>
          </p:spPr>
          <p:style>
            <a:lnRef idx="0"/>
            <a:fillRef idx="0"/>
            <a:effectRef idx="0"/>
            <a:fontRef idx="minor"/>
          </p:style>
          <p:txBody>
            <a:bodyPr lIns="90000" rIns="90000" tIns="1080" bIns="1080" anchor="t">
              <a:noAutofit/>
            </a:bodyPr>
            <a:p>
              <a:endParaRPr b="0" lang="en-US" sz="1800" spc="-1" strike="noStrike">
                <a:solidFill>
                  <a:srgbClr val="262626"/>
                </a:solidFill>
                <a:latin typeface="Arial"/>
              </a:endParaRPr>
            </a:p>
          </p:txBody>
        </p:sp>
        <p:sp>
          <p:nvSpPr>
            <p:cNvPr id="2141" name="Freeform 283"/>
            <p:cNvSpPr/>
            <p:nvPr/>
          </p:nvSpPr>
          <p:spPr>
            <a:xfrm>
              <a:off x="7212240" y="2984040"/>
              <a:ext cx="52200" cy="33120"/>
            </a:xfrm>
            <a:custGeom>
              <a:avLst/>
              <a:gdLst>
                <a:gd name="textAreaLeft" fmla="*/ 0 w 52200"/>
                <a:gd name="textAreaRight" fmla="*/ 52560 w 52200"/>
                <a:gd name="textAreaTop" fmla="*/ 0 h 33120"/>
                <a:gd name="textAreaBottom" fmla="*/ 33480 h 33120"/>
              </a:gdLst>
              <a:ahLst/>
              <a:rect l="textAreaLeft" t="textAreaTop" r="textAreaRight" b="textAreaBottom"/>
              <a:pathLst>
                <a:path w="12" h="8">
                  <a:moveTo>
                    <a:pt x="2" y="5"/>
                  </a:moveTo>
                  <a:cubicBezTo>
                    <a:pt x="4" y="6"/>
                    <a:pt x="7" y="8"/>
                    <a:pt x="10" y="7"/>
                  </a:cubicBezTo>
                  <a:cubicBezTo>
                    <a:pt x="12" y="7"/>
                    <a:pt x="12" y="5"/>
                    <a:pt x="11" y="5"/>
                  </a:cubicBezTo>
                  <a:cubicBezTo>
                    <a:pt x="10" y="4"/>
                    <a:pt x="8" y="4"/>
                    <a:pt x="7" y="3"/>
                  </a:cubicBezTo>
                  <a:cubicBezTo>
                    <a:pt x="6" y="3"/>
                    <a:pt x="5" y="2"/>
                    <a:pt x="4" y="2"/>
                  </a:cubicBezTo>
                  <a:cubicBezTo>
                    <a:pt x="2" y="0"/>
                    <a:pt x="0" y="3"/>
                    <a:pt x="2" y="5"/>
                  </a:cubicBezTo>
                  <a:close/>
                </a:path>
              </a:pathLst>
            </a:custGeom>
            <a:solidFill>
              <a:srgbClr val="9b6a4c"/>
            </a:solidFill>
            <a:ln w="0">
              <a:noFill/>
            </a:ln>
          </p:spPr>
          <p:style>
            <a:lnRef idx="0"/>
            <a:fillRef idx="0"/>
            <a:effectRef idx="0"/>
            <a:fontRef idx="minor"/>
          </p:style>
          <p:txBody>
            <a:bodyPr lIns="90000" rIns="90000" tIns="-13320" bIns="-13320" anchor="t">
              <a:noAutofit/>
            </a:bodyPr>
            <a:p>
              <a:endParaRPr b="0" lang="en-US" sz="1800" spc="-1" strike="noStrike">
                <a:solidFill>
                  <a:srgbClr val="262626"/>
                </a:solidFill>
                <a:latin typeface="Arial"/>
              </a:endParaRPr>
            </a:p>
          </p:txBody>
        </p:sp>
        <p:sp>
          <p:nvSpPr>
            <p:cNvPr id="2142" name="Freeform 284"/>
            <p:cNvSpPr/>
            <p:nvPr/>
          </p:nvSpPr>
          <p:spPr>
            <a:xfrm>
              <a:off x="7321680" y="2879280"/>
              <a:ext cx="42840" cy="56880"/>
            </a:xfrm>
            <a:custGeom>
              <a:avLst/>
              <a:gdLst>
                <a:gd name="textAreaLeft" fmla="*/ 0 w 42840"/>
                <a:gd name="textAreaRight" fmla="*/ 43200 w 42840"/>
                <a:gd name="textAreaTop" fmla="*/ 0 h 56880"/>
                <a:gd name="textAreaBottom" fmla="*/ 57240 h 56880"/>
              </a:gdLst>
              <a:ahLst/>
              <a:rect l="textAreaLeft" t="textAreaTop" r="textAreaRight" b="textAreaBottom"/>
              <a:pathLst>
                <a:path w="10" h="13">
                  <a:moveTo>
                    <a:pt x="2" y="4"/>
                  </a:moveTo>
                  <a:cubicBezTo>
                    <a:pt x="2" y="6"/>
                    <a:pt x="3" y="8"/>
                    <a:pt x="4" y="9"/>
                  </a:cubicBezTo>
                  <a:cubicBezTo>
                    <a:pt x="5" y="11"/>
                    <a:pt x="6" y="12"/>
                    <a:pt x="7" y="13"/>
                  </a:cubicBezTo>
                  <a:cubicBezTo>
                    <a:pt x="8" y="13"/>
                    <a:pt x="9" y="13"/>
                    <a:pt x="10" y="12"/>
                  </a:cubicBezTo>
                  <a:cubicBezTo>
                    <a:pt x="10" y="10"/>
                    <a:pt x="9" y="8"/>
                    <a:pt x="8" y="7"/>
                  </a:cubicBezTo>
                  <a:cubicBezTo>
                    <a:pt x="7" y="5"/>
                    <a:pt x="6" y="4"/>
                    <a:pt x="5" y="2"/>
                  </a:cubicBezTo>
                  <a:cubicBezTo>
                    <a:pt x="4" y="0"/>
                    <a:pt x="0" y="2"/>
                    <a:pt x="2" y="4"/>
                  </a:cubicBezTo>
                  <a:close/>
                </a:path>
              </a:pathLst>
            </a:custGeom>
            <a:solidFill>
              <a:srgbClr val="9b6a4c"/>
            </a:solidFill>
            <a:ln w="0">
              <a:noFill/>
            </a:ln>
          </p:spPr>
          <p:style>
            <a:lnRef idx="0"/>
            <a:fillRef idx="0"/>
            <a:effectRef idx="0"/>
            <a:fontRef idx="minor"/>
          </p:style>
          <p:txBody>
            <a:bodyPr lIns="90000" rIns="90000" tIns="10440" bIns="10440" anchor="t">
              <a:noAutofit/>
            </a:bodyPr>
            <a:p>
              <a:endParaRPr b="0" lang="en-US" sz="1800" spc="-1" strike="noStrike">
                <a:solidFill>
                  <a:srgbClr val="262626"/>
                </a:solidFill>
                <a:latin typeface="Arial"/>
              </a:endParaRPr>
            </a:p>
          </p:txBody>
        </p:sp>
        <p:sp>
          <p:nvSpPr>
            <p:cNvPr id="2143" name="Freeform 285"/>
            <p:cNvSpPr/>
            <p:nvPr/>
          </p:nvSpPr>
          <p:spPr>
            <a:xfrm>
              <a:off x="8827560" y="2683800"/>
              <a:ext cx="233280" cy="252360"/>
            </a:xfrm>
            <a:custGeom>
              <a:avLst/>
              <a:gdLst>
                <a:gd name="textAreaLeft" fmla="*/ 0 w 233280"/>
                <a:gd name="textAreaRight" fmla="*/ 233640 w 233280"/>
                <a:gd name="textAreaTop" fmla="*/ 0 h 252360"/>
                <a:gd name="textAreaBottom" fmla="*/ 252720 h 252360"/>
              </a:gdLst>
              <a:ahLst/>
              <a:rect l="textAreaLeft" t="textAreaTop" r="textAreaRight" b="textAreaBottom"/>
              <a:pathLst>
                <a:path w="51" h="55">
                  <a:moveTo>
                    <a:pt x="0" y="3"/>
                  </a:moveTo>
                  <a:cubicBezTo>
                    <a:pt x="2" y="27"/>
                    <a:pt x="22" y="55"/>
                    <a:pt x="49" y="53"/>
                  </a:cubicBezTo>
                  <a:cubicBezTo>
                    <a:pt x="51" y="53"/>
                    <a:pt x="51" y="51"/>
                    <a:pt x="50" y="50"/>
                  </a:cubicBezTo>
                  <a:cubicBezTo>
                    <a:pt x="38" y="46"/>
                    <a:pt x="27" y="43"/>
                    <a:pt x="18" y="34"/>
                  </a:cubicBezTo>
                  <a:cubicBezTo>
                    <a:pt x="10" y="25"/>
                    <a:pt x="5" y="14"/>
                    <a:pt x="3" y="2"/>
                  </a:cubicBezTo>
                  <a:cubicBezTo>
                    <a:pt x="3" y="0"/>
                    <a:pt x="0" y="1"/>
                    <a:pt x="0" y="3"/>
                  </a:cubicBezTo>
                  <a:close/>
                </a:path>
              </a:pathLst>
            </a:custGeom>
            <a:solidFill>
              <a:srgbClr val="c3632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44" name="Freeform 286"/>
            <p:cNvSpPr/>
            <p:nvPr/>
          </p:nvSpPr>
          <p:spPr>
            <a:xfrm>
              <a:off x="8737200" y="2822040"/>
              <a:ext cx="352440" cy="295200"/>
            </a:xfrm>
            <a:custGeom>
              <a:avLst/>
              <a:gdLst>
                <a:gd name="textAreaLeft" fmla="*/ 0 w 352440"/>
                <a:gd name="textAreaRight" fmla="*/ 352800 w 352440"/>
                <a:gd name="textAreaTop" fmla="*/ 0 h 295200"/>
                <a:gd name="textAreaBottom" fmla="*/ 295560 h 295200"/>
              </a:gdLst>
              <a:ahLst/>
              <a:rect l="textAreaLeft" t="textAreaTop" r="textAreaRight" b="textAreaBottom"/>
              <a:pathLst>
                <a:path w="77" h="65">
                  <a:moveTo>
                    <a:pt x="1" y="4"/>
                  </a:moveTo>
                  <a:cubicBezTo>
                    <a:pt x="15" y="31"/>
                    <a:pt x="42" y="60"/>
                    <a:pt x="74" y="64"/>
                  </a:cubicBezTo>
                  <a:cubicBezTo>
                    <a:pt x="76" y="65"/>
                    <a:pt x="77" y="62"/>
                    <a:pt x="75" y="62"/>
                  </a:cubicBezTo>
                  <a:cubicBezTo>
                    <a:pt x="61" y="55"/>
                    <a:pt x="48" y="50"/>
                    <a:pt x="35" y="40"/>
                  </a:cubicBezTo>
                  <a:cubicBezTo>
                    <a:pt x="22" y="30"/>
                    <a:pt x="12" y="17"/>
                    <a:pt x="4" y="2"/>
                  </a:cubicBezTo>
                  <a:cubicBezTo>
                    <a:pt x="3" y="0"/>
                    <a:pt x="0" y="2"/>
                    <a:pt x="1" y="4"/>
                  </a:cubicBezTo>
                  <a:close/>
                </a:path>
              </a:pathLst>
            </a:custGeom>
            <a:solidFill>
              <a:srgbClr val="c3632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45" name="Freeform 287"/>
            <p:cNvSpPr/>
            <p:nvPr/>
          </p:nvSpPr>
          <p:spPr>
            <a:xfrm>
              <a:off x="8675280" y="2945880"/>
              <a:ext cx="156960" cy="152280"/>
            </a:xfrm>
            <a:custGeom>
              <a:avLst/>
              <a:gdLst>
                <a:gd name="textAreaLeft" fmla="*/ 0 w 156960"/>
                <a:gd name="textAreaRight" fmla="*/ 157320 w 156960"/>
                <a:gd name="textAreaTop" fmla="*/ 0 h 152280"/>
                <a:gd name="textAreaBottom" fmla="*/ 152640 h 152280"/>
              </a:gdLst>
              <a:ahLst/>
              <a:rect l="textAreaLeft" t="textAreaTop" r="textAreaRight" b="textAreaBottom"/>
              <a:pathLst>
                <a:path w="35" h="33">
                  <a:moveTo>
                    <a:pt x="1" y="5"/>
                  </a:moveTo>
                  <a:cubicBezTo>
                    <a:pt x="7" y="15"/>
                    <a:pt x="18" y="33"/>
                    <a:pt x="32" y="32"/>
                  </a:cubicBezTo>
                  <a:cubicBezTo>
                    <a:pt x="34" y="32"/>
                    <a:pt x="35" y="30"/>
                    <a:pt x="33" y="29"/>
                  </a:cubicBezTo>
                  <a:cubicBezTo>
                    <a:pt x="27" y="26"/>
                    <a:pt x="22" y="24"/>
                    <a:pt x="17" y="19"/>
                  </a:cubicBezTo>
                  <a:cubicBezTo>
                    <a:pt x="12" y="14"/>
                    <a:pt x="8" y="9"/>
                    <a:pt x="5" y="3"/>
                  </a:cubicBezTo>
                  <a:cubicBezTo>
                    <a:pt x="4" y="0"/>
                    <a:pt x="0" y="2"/>
                    <a:pt x="1" y="5"/>
                  </a:cubicBezTo>
                  <a:close/>
                </a:path>
              </a:pathLst>
            </a:custGeom>
            <a:solidFill>
              <a:srgbClr val="c3632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46" name="Freeform 288"/>
            <p:cNvSpPr/>
            <p:nvPr/>
          </p:nvSpPr>
          <p:spPr>
            <a:xfrm>
              <a:off x="7969680" y="3055680"/>
              <a:ext cx="195120" cy="47520"/>
            </a:xfrm>
            <a:custGeom>
              <a:avLst/>
              <a:gdLst>
                <a:gd name="textAreaLeft" fmla="*/ 0 w 195120"/>
                <a:gd name="textAreaRight" fmla="*/ 195480 w 195120"/>
                <a:gd name="textAreaTop" fmla="*/ 0 h 47520"/>
                <a:gd name="textAreaBottom" fmla="*/ 47880 h 47520"/>
              </a:gdLst>
              <a:ahLst/>
              <a:rect l="textAreaLeft" t="textAreaTop" r="textAreaRight" b="textAreaBottom"/>
              <a:pathLst>
                <a:path w="42" h="11">
                  <a:moveTo>
                    <a:pt x="2" y="8"/>
                  </a:moveTo>
                  <a:cubicBezTo>
                    <a:pt x="14" y="11"/>
                    <a:pt x="33" y="11"/>
                    <a:pt x="41" y="2"/>
                  </a:cubicBezTo>
                  <a:cubicBezTo>
                    <a:pt x="42" y="1"/>
                    <a:pt x="41" y="0"/>
                    <a:pt x="40" y="0"/>
                  </a:cubicBezTo>
                  <a:cubicBezTo>
                    <a:pt x="35" y="1"/>
                    <a:pt x="30" y="4"/>
                    <a:pt x="24" y="5"/>
                  </a:cubicBezTo>
                  <a:cubicBezTo>
                    <a:pt x="17" y="7"/>
                    <a:pt x="10" y="7"/>
                    <a:pt x="3" y="5"/>
                  </a:cubicBezTo>
                  <a:cubicBezTo>
                    <a:pt x="1" y="5"/>
                    <a:pt x="0" y="8"/>
                    <a:pt x="2" y="8"/>
                  </a:cubicBezTo>
                  <a:close/>
                </a:path>
              </a:pathLst>
            </a:custGeom>
            <a:solidFill>
              <a:srgbClr val="c36329"/>
            </a:solidFill>
            <a:ln w="0">
              <a:noFill/>
            </a:ln>
          </p:spPr>
          <p:style>
            <a:lnRef idx="0"/>
            <a:fillRef idx="0"/>
            <a:effectRef idx="0"/>
            <a:fontRef idx="minor"/>
          </p:style>
          <p:txBody>
            <a:bodyPr lIns="90000" rIns="90000" tIns="1080" bIns="1080" anchor="t">
              <a:noAutofit/>
            </a:bodyPr>
            <a:p>
              <a:endParaRPr b="0" lang="en-US" sz="1800" spc="-1" strike="noStrike">
                <a:solidFill>
                  <a:srgbClr val="262626"/>
                </a:solidFill>
                <a:latin typeface="Arial"/>
              </a:endParaRPr>
            </a:p>
          </p:txBody>
        </p:sp>
        <p:sp>
          <p:nvSpPr>
            <p:cNvPr id="2147" name="Freeform 289"/>
            <p:cNvSpPr/>
            <p:nvPr/>
          </p:nvSpPr>
          <p:spPr>
            <a:xfrm>
              <a:off x="7826760" y="2926800"/>
              <a:ext cx="228600" cy="104760"/>
            </a:xfrm>
            <a:custGeom>
              <a:avLst/>
              <a:gdLst>
                <a:gd name="textAreaLeft" fmla="*/ 0 w 228600"/>
                <a:gd name="textAreaRight" fmla="*/ 228960 w 228600"/>
                <a:gd name="textAreaTop" fmla="*/ 0 h 104760"/>
                <a:gd name="textAreaBottom" fmla="*/ 105120 h 104760"/>
              </a:gdLst>
              <a:ahLst/>
              <a:rect l="textAreaLeft" t="textAreaTop" r="textAreaRight" b="textAreaBottom"/>
              <a:pathLst>
                <a:path w="50" h="23">
                  <a:moveTo>
                    <a:pt x="1" y="17"/>
                  </a:moveTo>
                  <a:cubicBezTo>
                    <a:pt x="17" y="23"/>
                    <a:pt x="41" y="19"/>
                    <a:pt x="49" y="3"/>
                  </a:cubicBezTo>
                  <a:cubicBezTo>
                    <a:pt x="50" y="2"/>
                    <a:pt x="49" y="0"/>
                    <a:pt x="47" y="1"/>
                  </a:cubicBezTo>
                  <a:cubicBezTo>
                    <a:pt x="40" y="5"/>
                    <a:pt x="34" y="11"/>
                    <a:pt x="26" y="13"/>
                  </a:cubicBezTo>
                  <a:cubicBezTo>
                    <a:pt x="18" y="16"/>
                    <a:pt x="10" y="16"/>
                    <a:pt x="2" y="15"/>
                  </a:cubicBezTo>
                  <a:cubicBezTo>
                    <a:pt x="0" y="15"/>
                    <a:pt x="0" y="17"/>
                    <a:pt x="1" y="17"/>
                  </a:cubicBezTo>
                  <a:close/>
                </a:path>
              </a:pathLst>
            </a:custGeom>
            <a:solidFill>
              <a:srgbClr val="c3632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48" name="Freeform 290"/>
            <p:cNvSpPr/>
            <p:nvPr/>
          </p:nvSpPr>
          <p:spPr>
            <a:xfrm>
              <a:off x="7845840" y="2750400"/>
              <a:ext cx="95040" cy="66600"/>
            </a:xfrm>
            <a:custGeom>
              <a:avLst/>
              <a:gdLst>
                <a:gd name="textAreaLeft" fmla="*/ 0 w 95040"/>
                <a:gd name="textAreaRight" fmla="*/ 95400 w 95040"/>
                <a:gd name="textAreaTop" fmla="*/ 0 h 66600"/>
                <a:gd name="textAreaBottom" fmla="*/ 66960 h 66600"/>
              </a:gdLst>
              <a:ahLst/>
              <a:rect l="textAreaLeft" t="textAreaTop" r="textAreaRight" b="textAreaBottom"/>
              <a:pathLst>
                <a:path w="21" h="15">
                  <a:moveTo>
                    <a:pt x="3" y="14"/>
                  </a:moveTo>
                  <a:cubicBezTo>
                    <a:pt x="7" y="13"/>
                    <a:pt x="11" y="12"/>
                    <a:pt x="14" y="9"/>
                  </a:cubicBezTo>
                  <a:cubicBezTo>
                    <a:pt x="16" y="8"/>
                    <a:pt x="21" y="5"/>
                    <a:pt x="19" y="3"/>
                  </a:cubicBezTo>
                  <a:cubicBezTo>
                    <a:pt x="18" y="0"/>
                    <a:pt x="15" y="3"/>
                    <a:pt x="14" y="4"/>
                  </a:cubicBezTo>
                  <a:cubicBezTo>
                    <a:pt x="11" y="7"/>
                    <a:pt x="7" y="9"/>
                    <a:pt x="3" y="11"/>
                  </a:cubicBezTo>
                  <a:cubicBezTo>
                    <a:pt x="0" y="11"/>
                    <a:pt x="1" y="15"/>
                    <a:pt x="3" y="14"/>
                  </a:cubicBezTo>
                  <a:close/>
                </a:path>
              </a:pathLst>
            </a:custGeom>
            <a:solidFill>
              <a:srgbClr val="c36329"/>
            </a:solidFill>
            <a:ln w="0">
              <a:noFill/>
            </a:ln>
          </p:spPr>
          <p:style>
            <a:lnRef idx="0"/>
            <a:fillRef idx="0"/>
            <a:effectRef idx="0"/>
            <a:fontRef idx="minor"/>
          </p:style>
          <p:txBody>
            <a:bodyPr lIns="90000" rIns="90000" tIns="20160" bIns="20160" anchor="t">
              <a:noAutofit/>
            </a:bodyPr>
            <a:p>
              <a:endParaRPr b="0" lang="en-US" sz="1800" spc="-1" strike="noStrike">
                <a:solidFill>
                  <a:srgbClr val="262626"/>
                </a:solidFill>
                <a:latin typeface="Arial"/>
              </a:endParaRPr>
            </a:p>
          </p:txBody>
        </p:sp>
        <p:sp>
          <p:nvSpPr>
            <p:cNvPr id="2149" name="Freeform 291"/>
            <p:cNvSpPr/>
            <p:nvPr/>
          </p:nvSpPr>
          <p:spPr>
            <a:xfrm>
              <a:off x="8151120" y="1554120"/>
              <a:ext cx="324000" cy="214200"/>
            </a:xfrm>
            <a:custGeom>
              <a:avLst/>
              <a:gdLst>
                <a:gd name="textAreaLeft" fmla="*/ 0 w 324000"/>
                <a:gd name="textAreaRight" fmla="*/ 324360 w 324000"/>
                <a:gd name="textAreaTop" fmla="*/ 0 h 214200"/>
                <a:gd name="textAreaBottom" fmla="*/ 214560 h 214200"/>
              </a:gdLst>
              <a:ahLst/>
              <a:rect l="textAreaLeft" t="textAreaTop" r="textAreaRight" b="textAreaBottom"/>
              <a:pathLst>
                <a:path w="71" h="47">
                  <a:moveTo>
                    <a:pt x="4" y="45"/>
                  </a:moveTo>
                  <a:cubicBezTo>
                    <a:pt x="24" y="28"/>
                    <a:pt x="47" y="17"/>
                    <a:pt x="69" y="3"/>
                  </a:cubicBezTo>
                  <a:cubicBezTo>
                    <a:pt x="71" y="2"/>
                    <a:pt x="70" y="0"/>
                    <a:pt x="68" y="1"/>
                  </a:cubicBezTo>
                  <a:cubicBezTo>
                    <a:pt x="44" y="8"/>
                    <a:pt x="21" y="26"/>
                    <a:pt x="2" y="43"/>
                  </a:cubicBezTo>
                  <a:cubicBezTo>
                    <a:pt x="0" y="45"/>
                    <a:pt x="2" y="47"/>
                    <a:pt x="4" y="45"/>
                  </a:cubicBezTo>
                  <a:close/>
                </a:path>
              </a:pathLst>
            </a:custGeom>
            <a:solidFill>
              <a:srgbClr val="c3632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50" name="Freeform 292"/>
            <p:cNvSpPr/>
            <p:nvPr/>
          </p:nvSpPr>
          <p:spPr>
            <a:xfrm>
              <a:off x="8308080" y="1616040"/>
              <a:ext cx="257040" cy="185760"/>
            </a:xfrm>
            <a:custGeom>
              <a:avLst/>
              <a:gdLst>
                <a:gd name="textAreaLeft" fmla="*/ 0 w 257040"/>
                <a:gd name="textAreaRight" fmla="*/ 257400 w 257040"/>
                <a:gd name="textAreaTop" fmla="*/ 0 h 185760"/>
                <a:gd name="textAreaBottom" fmla="*/ 186120 h 185760"/>
              </a:gdLst>
              <a:ahLst/>
              <a:rect l="textAreaLeft" t="textAreaTop" r="textAreaRight" b="textAreaBottom"/>
              <a:pathLst>
                <a:path w="56" h="41">
                  <a:moveTo>
                    <a:pt x="4" y="39"/>
                  </a:moveTo>
                  <a:cubicBezTo>
                    <a:pt x="13" y="32"/>
                    <a:pt x="22" y="26"/>
                    <a:pt x="31" y="19"/>
                  </a:cubicBezTo>
                  <a:cubicBezTo>
                    <a:pt x="39" y="14"/>
                    <a:pt x="47" y="9"/>
                    <a:pt x="54" y="3"/>
                  </a:cubicBezTo>
                  <a:cubicBezTo>
                    <a:pt x="56" y="2"/>
                    <a:pt x="54" y="0"/>
                    <a:pt x="52" y="1"/>
                  </a:cubicBezTo>
                  <a:cubicBezTo>
                    <a:pt x="34" y="9"/>
                    <a:pt x="17" y="24"/>
                    <a:pt x="2" y="37"/>
                  </a:cubicBezTo>
                  <a:cubicBezTo>
                    <a:pt x="0" y="38"/>
                    <a:pt x="2" y="41"/>
                    <a:pt x="4" y="39"/>
                  </a:cubicBezTo>
                  <a:close/>
                </a:path>
              </a:pathLst>
            </a:custGeom>
            <a:solidFill>
              <a:srgbClr val="c3632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51" name="Freeform 293"/>
            <p:cNvSpPr/>
            <p:nvPr/>
          </p:nvSpPr>
          <p:spPr>
            <a:xfrm>
              <a:off x="8594280" y="1630440"/>
              <a:ext cx="109440" cy="162000"/>
            </a:xfrm>
            <a:custGeom>
              <a:avLst/>
              <a:gdLst>
                <a:gd name="textAreaLeft" fmla="*/ 0 w 109440"/>
                <a:gd name="textAreaRight" fmla="*/ 109800 w 109440"/>
                <a:gd name="textAreaTop" fmla="*/ 0 h 162000"/>
                <a:gd name="textAreaBottom" fmla="*/ 162360 h 162000"/>
              </a:gdLst>
              <a:ahLst/>
              <a:rect l="textAreaLeft" t="textAreaTop" r="textAreaRight" b="textAreaBottom"/>
              <a:pathLst>
                <a:path w="24" h="35">
                  <a:moveTo>
                    <a:pt x="4" y="33"/>
                  </a:moveTo>
                  <a:cubicBezTo>
                    <a:pt x="7" y="28"/>
                    <a:pt x="10" y="23"/>
                    <a:pt x="13" y="18"/>
                  </a:cubicBezTo>
                  <a:cubicBezTo>
                    <a:pt x="16" y="13"/>
                    <a:pt x="21" y="9"/>
                    <a:pt x="23" y="3"/>
                  </a:cubicBezTo>
                  <a:cubicBezTo>
                    <a:pt x="24" y="2"/>
                    <a:pt x="22" y="0"/>
                    <a:pt x="21" y="1"/>
                  </a:cubicBezTo>
                  <a:cubicBezTo>
                    <a:pt x="12" y="8"/>
                    <a:pt x="6" y="21"/>
                    <a:pt x="1" y="32"/>
                  </a:cubicBezTo>
                  <a:cubicBezTo>
                    <a:pt x="0" y="34"/>
                    <a:pt x="3" y="35"/>
                    <a:pt x="4" y="33"/>
                  </a:cubicBezTo>
                  <a:close/>
                </a:path>
              </a:pathLst>
            </a:custGeom>
            <a:solidFill>
              <a:srgbClr val="c3632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52" name="Freeform 294"/>
            <p:cNvSpPr/>
            <p:nvPr/>
          </p:nvSpPr>
          <p:spPr>
            <a:xfrm>
              <a:off x="8760960" y="1635120"/>
              <a:ext cx="52200" cy="343080"/>
            </a:xfrm>
            <a:custGeom>
              <a:avLst/>
              <a:gdLst>
                <a:gd name="textAreaLeft" fmla="*/ 0 w 52200"/>
                <a:gd name="textAreaRight" fmla="*/ 52560 w 52200"/>
                <a:gd name="textAreaTop" fmla="*/ 0 h 343080"/>
                <a:gd name="textAreaBottom" fmla="*/ 343440 h 343080"/>
              </a:gdLst>
              <a:ahLst/>
              <a:rect l="textAreaLeft" t="textAreaTop" r="textAreaRight" b="textAreaBottom"/>
              <a:pathLst>
                <a:path w="12" h="75">
                  <a:moveTo>
                    <a:pt x="2" y="3"/>
                  </a:moveTo>
                  <a:cubicBezTo>
                    <a:pt x="6" y="27"/>
                    <a:pt x="3" y="49"/>
                    <a:pt x="1" y="72"/>
                  </a:cubicBezTo>
                  <a:cubicBezTo>
                    <a:pt x="0" y="75"/>
                    <a:pt x="3" y="75"/>
                    <a:pt x="4" y="73"/>
                  </a:cubicBezTo>
                  <a:cubicBezTo>
                    <a:pt x="12" y="51"/>
                    <a:pt x="10" y="25"/>
                    <a:pt x="6" y="2"/>
                  </a:cubicBezTo>
                  <a:cubicBezTo>
                    <a:pt x="5" y="0"/>
                    <a:pt x="2" y="1"/>
                    <a:pt x="2" y="3"/>
                  </a:cubicBezTo>
                  <a:close/>
                </a:path>
              </a:pathLst>
            </a:custGeom>
            <a:solidFill>
              <a:srgbClr val="c3632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53" name="Freeform 295"/>
            <p:cNvSpPr/>
            <p:nvPr/>
          </p:nvSpPr>
          <p:spPr>
            <a:xfrm>
              <a:off x="8903880" y="1716120"/>
              <a:ext cx="47520" cy="447840"/>
            </a:xfrm>
            <a:custGeom>
              <a:avLst/>
              <a:gdLst>
                <a:gd name="textAreaLeft" fmla="*/ 0 w 47520"/>
                <a:gd name="textAreaRight" fmla="*/ 47880 w 47520"/>
                <a:gd name="textAreaTop" fmla="*/ 0 h 447840"/>
                <a:gd name="textAreaBottom" fmla="*/ 448200 h 447840"/>
              </a:gdLst>
              <a:ahLst/>
              <a:rect l="textAreaLeft" t="textAreaTop" r="textAreaRight" b="textAreaBottom"/>
              <a:pathLst>
                <a:path w="11" h="99">
                  <a:moveTo>
                    <a:pt x="7" y="2"/>
                  </a:moveTo>
                  <a:cubicBezTo>
                    <a:pt x="4" y="33"/>
                    <a:pt x="0" y="66"/>
                    <a:pt x="1" y="97"/>
                  </a:cubicBezTo>
                  <a:cubicBezTo>
                    <a:pt x="1" y="99"/>
                    <a:pt x="3" y="99"/>
                    <a:pt x="3" y="98"/>
                  </a:cubicBezTo>
                  <a:cubicBezTo>
                    <a:pt x="9" y="66"/>
                    <a:pt x="9" y="33"/>
                    <a:pt x="10" y="2"/>
                  </a:cubicBezTo>
                  <a:cubicBezTo>
                    <a:pt x="11" y="0"/>
                    <a:pt x="7" y="0"/>
                    <a:pt x="7" y="2"/>
                  </a:cubicBezTo>
                  <a:close/>
                </a:path>
              </a:pathLst>
            </a:custGeom>
            <a:solidFill>
              <a:srgbClr val="c3632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54" name="Freeform 296"/>
            <p:cNvSpPr/>
            <p:nvPr/>
          </p:nvSpPr>
          <p:spPr>
            <a:xfrm>
              <a:off x="6869160" y="3279600"/>
              <a:ext cx="85680" cy="75960"/>
            </a:xfrm>
            <a:custGeom>
              <a:avLst/>
              <a:gdLst>
                <a:gd name="textAreaLeft" fmla="*/ 0 w 85680"/>
                <a:gd name="textAreaRight" fmla="*/ 86040 w 85680"/>
                <a:gd name="textAreaTop" fmla="*/ 0 h 75960"/>
                <a:gd name="textAreaBottom" fmla="*/ 76320 h 75960"/>
              </a:gdLst>
              <a:ahLst/>
              <a:rect l="textAreaLeft" t="textAreaTop" r="textAreaRight" b="textAreaBottom"/>
              <a:pathLst>
                <a:path w="19" h="17">
                  <a:moveTo>
                    <a:pt x="1" y="5"/>
                  </a:moveTo>
                  <a:cubicBezTo>
                    <a:pt x="3" y="8"/>
                    <a:pt x="5" y="12"/>
                    <a:pt x="7" y="16"/>
                  </a:cubicBezTo>
                  <a:cubicBezTo>
                    <a:pt x="8" y="17"/>
                    <a:pt x="11" y="17"/>
                    <a:pt x="12" y="16"/>
                  </a:cubicBezTo>
                  <a:cubicBezTo>
                    <a:pt x="13" y="13"/>
                    <a:pt x="14" y="11"/>
                    <a:pt x="16" y="8"/>
                  </a:cubicBezTo>
                  <a:cubicBezTo>
                    <a:pt x="17" y="6"/>
                    <a:pt x="19" y="4"/>
                    <a:pt x="19" y="2"/>
                  </a:cubicBezTo>
                  <a:cubicBezTo>
                    <a:pt x="19" y="1"/>
                    <a:pt x="18" y="0"/>
                    <a:pt x="17" y="0"/>
                  </a:cubicBezTo>
                  <a:cubicBezTo>
                    <a:pt x="15" y="1"/>
                    <a:pt x="13" y="3"/>
                    <a:pt x="12" y="5"/>
                  </a:cubicBezTo>
                  <a:cubicBezTo>
                    <a:pt x="10" y="8"/>
                    <a:pt x="9" y="11"/>
                    <a:pt x="7" y="13"/>
                  </a:cubicBezTo>
                  <a:cubicBezTo>
                    <a:pt x="9" y="13"/>
                    <a:pt x="10" y="13"/>
                    <a:pt x="12" y="13"/>
                  </a:cubicBezTo>
                  <a:cubicBezTo>
                    <a:pt x="9" y="10"/>
                    <a:pt x="6" y="6"/>
                    <a:pt x="3" y="3"/>
                  </a:cubicBezTo>
                  <a:cubicBezTo>
                    <a:pt x="2" y="1"/>
                    <a:pt x="0" y="3"/>
                    <a:pt x="1" y="5"/>
                  </a:cubicBezTo>
                  <a:close/>
                </a:path>
              </a:pathLst>
            </a:custGeom>
            <a:solidFill>
              <a:srgbClr val="97cdd2"/>
            </a:solidFill>
            <a:ln w="0">
              <a:noFill/>
            </a:ln>
          </p:spPr>
          <p:style>
            <a:lnRef idx="0"/>
            <a:fillRef idx="0"/>
            <a:effectRef idx="0"/>
            <a:fontRef idx="minor"/>
          </p:style>
          <p:txBody>
            <a:bodyPr lIns="90000" rIns="90000" tIns="29520" bIns="29520" anchor="t">
              <a:noAutofit/>
            </a:bodyPr>
            <a:p>
              <a:endParaRPr b="0" lang="en-US" sz="1800" spc="-1" strike="noStrike">
                <a:solidFill>
                  <a:srgbClr val="262626"/>
                </a:solidFill>
                <a:latin typeface="Arial"/>
              </a:endParaRPr>
            </a:p>
          </p:txBody>
        </p:sp>
        <p:sp>
          <p:nvSpPr>
            <p:cNvPr id="2155" name="Freeform 297"/>
            <p:cNvSpPr/>
            <p:nvPr/>
          </p:nvSpPr>
          <p:spPr>
            <a:xfrm>
              <a:off x="7059600" y="336996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15" h="15">
                  <a:moveTo>
                    <a:pt x="1" y="3"/>
                  </a:moveTo>
                  <a:cubicBezTo>
                    <a:pt x="2" y="7"/>
                    <a:pt x="4" y="10"/>
                    <a:pt x="6" y="13"/>
                  </a:cubicBezTo>
                  <a:cubicBezTo>
                    <a:pt x="7" y="15"/>
                    <a:pt x="9" y="14"/>
                    <a:pt x="10" y="13"/>
                  </a:cubicBezTo>
                  <a:cubicBezTo>
                    <a:pt x="11" y="11"/>
                    <a:pt x="12" y="9"/>
                    <a:pt x="13" y="8"/>
                  </a:cubicBezTo>
                  <a:cubicBezTo>
                    <a:pt x="14" y="6"/>
                    <a:pt x="15" y="4"/>
                    <a:pt x="15" y="3"/>
                  </a:cubicBezTo>
                  <a:cubicBezTo>
                    <a:pt x="15" y="2"/>
                    <a:pt x="14" y="1"/>
                    <a:pt x="13" y="1"/>
                  </a:cubicBezTo>
                  <a:cubicBezTo>
                    <a:pt x="12" y="2"/>
                    <a:pt x="11" y="3"/>
                    <a:pt x="10" y="5"/>
                  </a:cubicBezTo>
                  <a:cubicBezTo>
                    <a:pt x="8" y="7"/>
                    <a:pt x="7" y="9"/>
                    <a:pt x="6" y="11"/>
                  </a:cubicBezTo>
                  <a:cubicBezTo>
                    <a:pt x="7" y="11"/>
                    <a:pt x="8" y="10"/>
                    <a:pt x="10" y="10"/>
                  </a:cubicBezTo>
                  <a:cubicBezTo>
                    <a:pt x="8" y="8"/>
                    <a:pt x="6" y="5"/>
                    <a:pt x="5" y="2"/>
                  </a:cubicBezTo>
                  <a:cubicBezTo>
                    <a:pt x="4" y="0"/>
                    <a:pt x="0" y="1"/>
                    <a:pt x="1" y="3"/>
                  </a:cubicBezTo>
                  <a:close/>
                </a:path>
              </a:pathLst>
            </a:custGeom>
            <a:solidFill>
              <a:srgbClr val="97cdd2"/>
            </a:solidFill>
            <a:ln w="0">
              <a:noFill/>
            </a:ln>
          </p:spPr>
          <p:style>
            <a:lnRef idx="0"/>
            <a:fillRef idx="0"/>
            <a:effectRef idx="0"/>
            <a:fontRef idx="minor"/>
          </p:style>
          <p:txBody>
            <a:bodyPr lIns="90000" rIns="90000" tIns="20160" bIns="20160" anchor="t">
              <a:noAutofit/>
            </a:bodyPr>
            <a:p>
              <a:endParaRPr b="0" lang="en-US" sz="1800" spc="-1" strike="noStrike">
                <a:solidFill>
                  <a:srgbClr val="262626"/>
                </a:solidFill>
                <a:latin typeface="Arial"/>
              </a:endParaRPr>
            </a:p>
          </p:txBody>
        </p:sp>
        <p:sp>
          <p:nvSpPr>
            <p:cNvPr id="2156" name="Freeform 298"/>
            <p:cNvSpPr/>
            <p:nvPr/>
          </p:nvSpPr>
          <p:spPr>
            <a:xfrm>
              <a:off x="6940440" y="3508200"/>
              <a:ext cx="75960" cy="66600"/>
            </a:xfrm>
            <a:custGeom>
              <a:avLst/>
              <a:gdLst>
                <a:gd name="textAreaLeft" fmla="*/ 0 w 75960"/>
                <a:gd name="textAreaRight" fmla="*/ 76320 w 75960"/>
                <a:gd name="textAreaTop" fmla="*/ 0 h 66600"/>
                <a:gd name="textAreaBottom" fmla="*/ 66960 h 66600"/>
              </a:gdLst>
              <a:ahLst/>
              <a:rect l="textAreaLeft" t="textAreaTop" r="textAreaRight" b="textAreaBottom"/>
              <a:pathLst>
                <a:path w="17" h="15">
                  <a:moveTo>
                    <a:pt x="1" y="4"/>
                  </a:moveTo>
                  <a:cubicBezTo>
                    <a:pt x="3" y="7"/>
                    <a:pt x="5" y="10"/>
                    <a:pt x="6" y="13"/>
                  </a:cubicBezTo>
                  <a:cubicBezTo>
                    <a:pt x="7" y="14"/>
                    <a:pt x="9" y="15"/>
                    <a:pt x="10" y="14"/>
                  </a:cubicBezTo>
                  <a:cubicBezTo>
                    <a:pt x="13" y="11"/>
                    <a:pt x="17" y="6"/>
                    <a:pt x="16" y="2"/>
                  </a:cubicBezTo>
                  <a:cubicBezTo>
                    <a:pt x="15" y="1"/>
                    <a:pt x="14" y="1"/>
                    <a:pt x="14" y="2"/>
                  </a:cubicBezTo>
                  <a:cubicBezTo>
                    <a:pt x="12" y="2"/>
                    <a:pt x="11" y="4"/>
                    <a:pt x="10" y="5"/>
                  </a:cubicBezTo>
                  <a:cubicBezTo>
                    <a:pt x="9" y="7"/>
                    <a:pt x="8" y="9"/>
                    <a:pt x="7" y="10"/>
                  </a:cubicBezTo>
                  <a:cubicBezTo>
                    <a:pt x="8" y="11"/>
                    <a:pt x="9" y="11"/>
                    <a:pt x="10" y="11"/>
                  </a:cubicBezTo>
                  <a:cubicBezTo>
                    <a:pt x="9" y="7"/>
                    <a:pt x="7" y="4"/>
                    <a:pt x="4" y="1"/>
                  </a:cubicBezTo>
                  <a:cubicBezTo>
                    <a:pt x="2" y="0"/>
                    <a:pt x="0" y="2"/>
                    <a:pt x="1" y="4"/>
                  </a:cubicBezTo>
                  <a:close/>
                </a:path>
              </a:pathLst>
            </a:custGeom>
            <a:solidFill>
              <a:srgbClr val="97cdd2"/>
            </a:solidFill>
            <a:ln w="0">
              <a:noFill/>
            </a:ln>
          </p:spPr>
          <p:style>
            <a:lnRef idx="0"/>
            <a:fillRef idx="0"/>
            <a:effectRef idx="0"/>
            <a:fontRef idx="minor"/>
          </p:style>
          <p:txBody>
            <a:bodyPr lIns="90000" rIns="90000" tIns="20160" bIns="20160" anchor="t">
              <a:noAutofit/>
            </a:bodyPr>
            <a:p>
              <a:endParaRPr b="0" lang="en-US" sz="1800" spc="-1" strike="noStrike">
                <a:solidFill>
                  <a:srgbClr val="262626"/>
                </a:solidFill>
                <a:latin typeface="Arial"/>
              </a:endParaRPr>
            </a:p>
          </p:txBody>
        </p:sp>
        <p:sp>
          <p:nvSpPr>
            <p:cNvPr id="2157" name="Freeform 299"/>
            <p:cNvSpPr/>
            <p:nvPr/>
          </p:nvSpPr>
          <p:spPr>
            <a:xfrm>
              <a:off x="7093080" y="3565440"/>
              <a:ext cx="81000" cy="66600"/>
            </a:xfrm>
            <a:custGeom>
              <a:avLst/>
              <a:gdLst>
                <a:gd name="textAreaLeft" fmla="*/ 0 w 81000"/>
                <a:gd name="textAreaRight" fmla="*/ 81360 w 81000"/>
                <a:gd name="textAreaTop" fmla="*/ 0 h 66600"/>
                <a:gd name="textAreaBottom" fmla="*/ 66960 h 66600"/>
              </a:gdLst>
              <a:ahLst/>
              <a:rect l="textAreaLeft" t="textAreaTop" r="textAreaRight" b="textAreaBottom"/>
              <a:pathLst>
                <a:path w="18" h="15">
                  <a:moveTo>
                    <a:pt x="2" y="5"/>
                  </a:moveTo>
                  <a:cubicBezTo>
                    <a:pt x="4" y="8"/>
                    <a:pt x="7" y="11"/>
                    <a:pt x="9" y="14"/>
                  </a:cubicBezTo>
                  <a:cubicBezTo>
                    <a:pt x="10" y="15"/>
                    <a:pt x="12" y="15"/>
                    <a:pt x="13" y="14"/>
                  </a:cubicBezTo>
                  <a:cubicBezTo>
                    <a:pt x="15" y="11"/>
                    <a:pt x="18" y="7"/>
                    <a:pt x="18" y="3"/>
                  </a:cubicBezTo>
                  <a:cubicBezTo>
                    <a:pt x="18" y="1"/>
                    <a:pt x="15" y="0"/>
                    <a:pt x="14" y="2"/>
                  </a:cubicBezTo>
                  <a:cubicBezTo>
                    <a:pt x="12" y="5"/>
                    <a:pt x="11" y="8"/>
                    <a:pt x="9" y="11"/>
                  </a:cubicBezTo>
                  <a:cubicBezTo>
                    <a:pt x="10" y="11"/>
                    <a:pt x="11" y="11"/>
                    <a:pt x="13" y="11"/>
                  </a:cubicBezTo>
                  <a:cubicBezTo>
                    <a:pt x="10" y="8"/>
                    <a:pt x="7" y="5"/>
                    <a:pt x="5" y="2"/>
                  </a:cubicBezTo>
                  <a:cubicBezTo>
                    <a:pt x="3" y="0"/>
                    <a:pt x="0" y="3"/>
                    <a:pt x="2" y="5"/>
                  </a:cubicBezTo>
                  <a:close/>
                </a:path>
              </a:pathLst>
            </a:custGeom>
            <a:solidFill>
              <a:srgbClr val="97cdd2"/>
            </a:solidFill>
            <a:ln w="0">
              <a:noFill/>
            </a:ln>
          </p:spPr>
          <p:style>
            <a:lnRef idx="0"/>
            <a:fillRef idx="0"/>
            <a:effectRef idx="0"/>
            <a:fontRef idx="minor"/>
          </p:style>
          <p:txBody>
            <a:bodyPr lIns="90000" rIns="90000" tIns="20160" bIns="20160" anchor="t">
              <a:noAutofit/>
            </a:bodyPr>
            <a:p>
              <a:endParaRPr b="0" lang="en-US" sz="1800" spc="-1" strike="noStrike">
                <a:solidFill>
                  <a:srgbClr val="262626"/>
                </a:solidFill>
                <a:latin typeface="Arial"/>
              </a:endParaRPr>
            </a:p>
          </p:txBody>
        </p:sp>
        <p:sp>
          <p:nvSpPr>
            <p:cNvPr id="2158" name="Freeform 300"/>
            <p:cNvSpPr/>
            <p:nvPr/>
          </p:nvSpPr>
          <p:spPr>
            <a:xfrm>
              <a:off x="6845040" y="3684600"/>
              <a:ext cx="95040" cy="56880"/>
            </a:xfrm>
            <a:custGeom>
              <a:avLst/>
              <a:gdLst>
                <a:gd name="textAreaLeft" fmla="*/ 0 w 95040"/>
                <a:gd name="textAreaRight" fmla="*/ 95400 w 95040"/>
                <a:gd name="textAreaTop" fmla="*/ 0 h 56880"/>
                <a:gd name="textAreaBottom" fmla="*/ 57240 h 56880"/>
              </a:gdLst>
              <a:ahLst/>
              <a:rect l="textAreaLeft" t="textAreaTop" r="textAreaRight" b="textAreaBottom"/>
              <a:pathLst>
                <a:path w="21" h="13">
                  <a:moveTo>
                    <a:pt x="2" y="5"/>
                  </a:moveTo>
                  <a:cubicBezTo>
                    <a:pt x="4" y="7"/>
                    <a:pt x="6" y="8"/>
                    <a:pt x="8" y="10"/>
                  </a:cubicBezTo>
                  <a:cubicBezTo>
                    <a:pt x="10" y="11"/>
                    <a:pt x="11" y="13"/>
                    <a:pt x="13" y="13"/>
                  </a:cubicBezTo>
                  <a:cubicBezTo>
                    <a:pt x="15" y="13"/>
                    <a:pt x="16" y="11"/>
                    <a:pt x="17" y="9"/>
                  </a:cubicBezTo>
                  <a:cubicBezTo>
                    <a:pt x="19" y="7"/>
                    <a:pt x="21" y="5"/>
                    <a:pt x="20" y="3"/>
                  </a:cubicBezTo>
                  <a:cubicBezTo>
                    <a:pt x="20" y="2"/>
                    <a:pt x="19" y="1"/>
                    <a:pt x="18" y="1"/>
                  </a:cubicBezTo>
                  <a:cubicBezTo>
                    <a:pt x="17" y="2"/>
                    <a:pt x="16" y="3"/>
                    <a:pt x="15" y="4"/>
                  </a:cubicBezTo>
                  <a:cubicBezTo>
                    <a:pt x="14" y="5"/>
                    <a:pt x="13" y="8"/>
                    <a:pt x="12" y="9"/>
                  </a:cubicBezTo>
                  <a:cubicBezTo>
                    <a:pt x="13" y="9"/>
                    <a:pt x="13" y="9"/>
                    <a:pt x="14" y="8"/>
                  </a:cubicBezTo>
                  <a:cubicBezTo>
                    <a:pt x="12" y="8"/>
                    <a:pt x="10" y="6"/>
                    <a:pt x="9" y="5"/>
                  </a:cubicBezTo>
                  <a:cubicBezTo>
                    <a:pt x="7" y="4"/>
                    <a:pt x="6" y="3"/>
                    <a:pt x="4" y="2"/>
                  </a:cubicBezTo>
                  <a:cubicBezTo>
                    <a:pt x="2" y="0"/>
                    <a:pt x="0" y="3"/>
                    <a:pt x="2" y="5"/>
                  </a:cubicBezTo>
                  <a:close/>
                </a:path>
              </a:pathLst>
            </a:custGeom>
            <a:solidFill>
              <a:srgbClr val="97cdd2"/>
            </a:solidFill>
            <a:ln w="0">
              <a:noFill/>
            </a:ln>
          </p:spPr>
          <p:style>
            <a:lnRef idx="0"/>
            <a:fillRef idx="0"/>
            <a:effectRef idx="0"/>
            <a:fontRef idx="minor"/>
          </p:style>
          <p:txBody>
            <a:bodyPr lIns="90000" rIns="90000" tIns="10440" bIns="10440" anchor="t">
              <a:noAutofit/>
            </a:bodyPr>
            <a:p>
              <a:endParaRPr b="0" lang="en-US" sz="1800" spc="-1" strike="noStrike">
                <a:solidFill>
                  <a:srgbClr val="262626"/>
                </a:solidFill>
                <a:latin typeface="Arial"/>
              </a:endParaRPr>
            </a:p>
          </p:txBody>
        </p:sp>
        <p:sp>
          <p:nvSpPr>
            <p:cNvPr id="2159" name="Freeform 301"/>
            <p:cNvSpPr/>
            <p:nvPr/>
          </p:nvSpPr>
          <p:spPr>
            <a:xfrm>
              <a:off x="7116840" y="376560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14" h="14">
                  <a:moveTo>
                    <a:pt x="1" y="7"/>
                  </a:moveTo>
                  <a:cubicBezTo>
                    <a:pt x="3" y="9"/>
                    <a:pt x="5" y="12"/>
                    <a:pt x="7" y="13"/>
                  </a:cubicBezTo>
                  <a:cubicBezTo>
                    <a:pt x="8" y="14"/>
                    <a:pt x="10" y="13"/>
                    <a:pt x="10" y="12"/>
                  </a:cubicBezTo>
                  <a:cubicBezTo>
                    <a:pt x="12" y="9"/>
                    <a:pt x="14" y="5"/>
                    <a:pt x="14" y="2"/>
                  </a:cubicBezTo>
                  <a:cubicBezTo>
                    <a:pt x="14" y="1"/>
                    <a:pt x="13" y="0"/>
                    <a:pt x="12" y="1"/>
                  </a:cubicBezTo>
                  <a:cubicBezTo>
                    <a:pt x="9" y="3"/>
                    <a:pt x="8" y="7"/>
                    <a:pt x="6" y="10"/>
                  </a:cubicBezTo>
                  <a:cubicBezTo>
                    <a:pt x="7" y="10"/>
                    <a:pt x="8" y="10"/>
                    <a:pt x="9" y="9"/>
                  </a:cubicBezTo>
                  <a:cubicBezTo>
                    <a:pt x="7" y="8"/>
                    <a:pt x="6" y="7"/>
                    <a:pt x="4" y="5"/>
                  </a:cubicBezTo>
                  <a:cubicBezTo>
                    <a:pt x="3" y="3"/>
                    <a:pt x="0" y="5"/>
                    <a:pt x="1" y="7"/>
                  </a:cubicBezTo>
                  <a:close/>
                </a:path>
              </a:pathLst>
            </a:custGeom>
            <a:solidFill>
              <a:srgbClr val="97cdd2"/>
            </a:solidFill>
            <a:ln w="0">
              <a:noFill/>
            </a:ln>
          </p:spPr>
          <p:style>
            <a:lnRef idx="0"/>
            <a:fillRef idx="0"/>
            <a:effectRef idx="0"/>
            <a:fontRef idx="minor"/>
          </p:style>
          <p:txBody>
            <a:bodyPr lIns="90000" rIns="90000" tIns="20160" bIns="20160" anchor="t">
              <a:noAutofit/>
            </a:bodyPr>
            <a:p>
              <a:endParaRPr b="0" lang="en-US" sz="1800" spc="-1" strike="noStrike">
                <a:solidFill>
                  <a:srgbClr val="262626"/>
                </a:solidFill>
                <a:latin typeface="Arial"/>
              </a:endParaRPr>
            </a:p>
          </p:txBody>
        </p:sp>
        <p:sp>
          <p:nvSpPr>
            <p:cNvPr id="2160" name="Freeform 302"/>
            <p:cNvSpPr/>
            <p:nvPr/>
          </p:nvSpPr>
          <p:spPr>
            <a:xfrm>
              <a:off x="7193160" y="39610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15" h="16">
                  <a:moveTo>
                    <a:pt x="0" y="9"/>
                  </a:moveTo>
                  <a:cubicBezTo>
                    <a:pt x="1" y="11"/>
                    <a:pt x="1" y="13"/>
                    <a:pt x="3" y="15"/>
                  </a:cubicBezTo>
                  <a:cubicBezTo>
                    <a:pt x="4" y="16"/>
                    <a:pt x="6" y="16"/>
                    <a:pt x="8" y="15"/>
                  </a:cubicBezTo>
                  <a:cubicBezTo>
                    <a:pt x="10" y="14"/>
                    <a:pt x="11" y="11"/>
                    <a:pt x="12" y="9"/>
                  </a:cubicBezTo>
                  <a:cubicBezTo>
                    <a:pt x="13" y="7"/>
                    <a:pt x="15" y="5"/>
                    <a:pt x="15" y="2"/>
                  </a:cubicBezTo>
                  <a:cubicBezTo>
                    <a:pt x="15" y="1"/>
                    <a:pt x="13" y="0"/>
                    <a:pt x="12" y="1"/>
                  </a:cubicBezTo>
                  <a:cubicBezTo>
                    <a:pt x="10" y="2"/>
                    <a:pt x="8" y="6"/>
                    <a:pt x="7" y="8"/>
                  </a:cubicBezTo>
                  <a:cubicBezTo>
                    <a:pt x="6" y="9"/>
                    <a:pt x="6" y="10"/>
                    <a:pt x="5" y="11"/>
                  </a:cubicBezTo>
                  <a:cubicBezTo>
                    <a:pt x="6" y="11"/>
                    <a:pt x="6" y="11"/>
                    <a:pt x="6" y="11"/>
                  </a:cubicBezTo>
                  <a:cubicBezTo>
                    <a:pt x="6" y="11"/>
                    <a:pt x="5" y="10"/>
                    <a:pt x="5" y="10"/>
                  </a:cubicBezTo>
                  <a:cubicBezTo>
                    <a:pt x="5" y="9"/>
                    <a:pt x="4" y="8"/>
                    <a:pt x="3" y="7"/>
                  </a:cubicBezTo>
                  <a:cubicBezTo>
                    <a:pt x="2" y="6"/>
                    <a:pt x="0" y="8"/>
                    <a:pt x="0" y="9"/>
                  </a:cubicBezTo>
                  <a:close/>
                </a:path>
              </a:pathLst>
            </a:custGeom>
            <a:solidFill>
              <a:srgbClr val="97cdd2"/>
            </a:solidFill>
            <a:ln w="0">
              <a:noFill/>
            </a:ln>
          </p:spPr>
          <p:style>
            <a:lnRef idx="0"/>
            <a:fillRef idx="0"/>
            <a:effectRef idx="0"/>
            <a:fontRef idx="minor"/>
          </p:style>
          <p:txBody>
            <a:bodyPr lIns="90000" rIns="90000" tIns="29520" bIns="29520" anchor="t">
              <a:noAutofit/>
            </a:bodyPr>
            <a:p>
              <a:endParaRPr b="0" lang="en-US" sz="1800" spc="-1" strike="noStrike">
                <a:solidFill>
                  <a:srgbClr val="262626"/>
                </a:solidFill>
                <a:latin typeface="Arial"/>
              </a:endParaRPr>
            </a:p>
          </p:txBody>
        </p:sp>
        <p:sp>
          <p:nvSpPr>
            <p:cNvPr id="2161" name="Freeform 303"/>
            <p:cNvSpPr/>
            <p:nvPr/>
          </p:nvSpPr>
          <p:spPr>
            <a:xfrm>
              <a:off x="6845040" y="4285080"/>
              <a:ext cx="99720" cy="71280"/>
            </a:xfrm>
            <a:custGeom>
              <a:avLst/>
              <a:gdLst>
                <a:gd name="textAreaLeft" fmla="*/ 0 w 99720"/>
                <a:gd name="textAreaRight" fmla="*/ 100080 w 99720"/>
                <a:gd name="textAreaTop" fmla="*/ 0 h 71280"/>
                <a:gd name="textAreaBottom" fmla="*/ 71640 h 71280"/>
              </a:gdLst>
              <a:ahLst/>
              <a:rect l="textAreaLeft" t="textAreaTop" r="textAreaRight" b="textAreaBottom"/>
              <a:pathLst>
                <a:path w="22" h="15">
                  <a:moveTo>
                    <a:pt x="1" y="5"/>
                  </a:moveTo>
                  <a:cubicBezTo>
                    <a:pt x="5" y="8"/>
                    <a:pt x="8" y="11"/>
                    <a:pt x="11" y="14"/>
                  </a:cubicBezTo>
                  <a:cubicBezTo>
                    <a:pt x="12" y="15"/>
                    <a:pt x="14" y="15"/>
                    <a:pt x="15" y="14"/>
                  </a:cubicBezTo>
                  <a:cubicBezTo>
                    <a:pt x="18" y="11"/>
                    <a:pt x="22" y="6"/>
                    <a:pt x="21" y="2"/>
                  </a:cubicBezTo>
                  <a:cubicBezTo>
                    <a:pt x="20" y="0"/>
                    <a:pt x="19" y="0"/>
                    <a:pt x="18" y="1"/>
                  </a:cubicBezTo>
                  <a:cubicBezTo>
                    <a:pt x="16" y="2"/>
                    <a:pt x="16" y="4"/>
                    <a:pt x="15" y="5"/>
                  </a:cubicBezTo>
                  <a:cubicBezTo>
                    <a:pt x="14" y="7"/>
                    <a:pt x="13" y="9"/>
                    <a:pt x="11" y="10"/>
                  </a:cubicBezTo>
                  <a:cubicBezTo>
                    <a:pt x="12" y="10"/>
                    <a:pt x="13" y="10"/>
                    <a:pt x="14" y="10"/>
                  </a:cubicBezTo>
                  <a:cubicBezTo>
                    <a:pt x="11" y="7"/>
                    <a:pt x="7" y="5"/>
                    <a:pt x="4" y="2"/>
                  </a:cubicBezTo>
                  <a:cubicBezTo>
                    <a:pt x="2" y="1"/>
                    <a:pt x="0" y="4"/>
                    <a:pt x="1" y="5"/>
                  </a:cubicBezTo>
                  <a:close/>
                </a:path>
              </a:pathLst>
            </a:custGeom>
            <a:solidFill>
              <a:srgbClr val="97cdd2"/>
            </a:solidFill>
            <a:ln w="0">
              <a:noFill/>
            </a:ln>
          </p:spPr>
          <p:style>
            <a:lnRef idx="0"/>
            <a:fillRef idx="0"/>
            <a:effectRef idx="0"/>
            <a:fontRef idx="minor"/>
          </p:style>
          <p:txBody>
            <a:bodyPr lIns="90000" rIns="90000" tIns="24840" bIns="24840" anchor="t">
              <a:noAutofit/>
            </a:bodyPr>
            <a:p>
              <a:endParaRPr b="0" lang="en-US" sz="1800" spc="-1" strike="noStrike">
                <a:solidFill>
                  <a:srgbClr val="262626"/>
                </a:solidFill>
                <a:latin typeface="Arial"/>
              </a:endParaRPr>
            </a:p>
          </p:txBody>
        </p:sp>
        <p:sp>
          <p:nvSpPr>
            <p:cNvPr id="2162" name="Freeform 304"/>
            <p:cNvSpPr/>
            <p:nvPr/>
          </p:nvSpPr>
          <p:spPr>
            <a:xfrm>
              <a:off x="7059600" y="4313880"/>
              <a:ext cx="71280" cy="75960"/>
            </a:xfrm>
            <a:custGeom>
              <a:avLst/>
              <a:gdLst>
                <a:gd name="textAreaLeft" fmla="*/ 0 w 71280"/>
                <a:gd name="textAreaRight" fmla="*/ 71640 w 71280"/>
                <a:gd name="textAreaTop" fmla="*/ 0 h 75960"/>
                <a:gd name="textAreaBottom" fmla="*/ 76320 h 75960"/>
              </a:gdLst>
              <a:ahLst/>
              <a:rect l="textAreaLeft" t="textAreaTop" r="textAreaRight" b="textAreaBottom"/>
              <a:pathLst>
                <a:path w="16" h="17">
                  <a:moveTo>
                    <a:pt x="1" y="9"/>
                  </a:moveTo>
                  <a:cubicBezTo>
                    <a:pt x="3" y="11"/>
                    <a:pt x="6" y="13"/>
                    <a:pt x="8" y="16"/>
                  </a:cubicBezTo>
                  <a:cubicBezTo>
                    <a:pt x="9" y="17"/>
                    <a:pt x="11" y="16"/>
                    <a:pt x="12" y="15"/>
                  </a:cubicBezTo>
                  <a:cubicBezTo>
                    <a:pt x="13" y="11"/>
                    <a:pt x="16" y="6"/>
                    <a:pt x="16" y="1"/>
                  </a:cubicBezTo>
                  <a:cubicBezTo>
                    <a:pt x="16" y="0"/>
                    <a:pt x="15" y="0"/>
                    <a:pt x="14" y="0"/>
                  </a:cubicBezTo>
                  <a:cubicBezTo>
                    <a:pt x="10" y="3"/>
                    <a:pt x="9" y="9"/>
                    <a:pt x="7" y="13"/>
                  </a:cubicBezTo>
                  <a:cubicBezTo>
                    <a:pt x="9" y="13"/>
                    <a:pt x="10" y="13"/>
                    <a:pt x="11" y="12"/>
                  </a:cubicBezTo>
                  <a:cubicBezTo>
                    <a:pt x="8" y="11"/>
                    <a:pt x="6" y="9"/>
                    <a:pt x="4" y="6"/>
                  </a:cubicBezTo>
                  <a:cubicBezTo>
                    <a:pt x="3" y="5"/>
                    <a:pt x="0" y="7"/>
                    <a:pt x="1" y="9"/>
                  </a:cubicBezTo>
                  <a:close/>
                </a:path>
              </a:pathLst>
            </a:custGeom>
            <a:solidFill>
              <a:srgbClr val="97cdd2"/>
            </a:solidFill>
            <a:ln w="0">
              <a:noFill/>
            </a:ln>
          </p:spPr>
          <p:style>
            <a:lnRef idx="0"/>
            <a:fillRef idx="0"/>
            <a:effectRef idx="0"/>
            <a:fontRef idx="minor"/>
          </p:style>
          <p:txBody>
            <a:bodyPr lIns="90000" rIns="90000" tIns="29520" bIns="29520" anchor="t">
              <a:noAutofit/>
            </a:bodyPr>
            <a:p>
              <a:endParaRPr b="0" lang="en-US" sz="1800" spc="-1" strike="noStrike">
                <a:solidFill>
                  <a:srgbClr val="262626"/>
                </a:solidFill>
                <a:latin typeface="Arial"/>
              </a:endParaRPr>
            </a:p>
          </p:txBody>
        </p:sp>
        <p:sp>
          <p:nvSpPr>
            <p:cNvPr id="2163" name="Freeform 305"/>
            <p:cNvSpPr/>
            <p:nvPr/>
          </p:nvSpPr>
          <p:spPr>
            <a:xfrm>
              <a:off x="7245360" y="4142160"/>
              <a:ext cx="85680" cy="71280"/>
            </a:xfrm>
            <a:custGeom>
              <a:avLst/>
              <a:gdLst>
                <a:gd name="textAreaLeft" fmla="*/ 0 w 85680"/>
                <a:gd name="textAreaRight" fmla="*/ 86040 w 85680"/>
                <a:gd name="textAreaTop" fmla="*/ 0 h 71280"/>
                <a:gd name="textAreaBottom" fmla="*/ 71640 h 71280"/>
              </a:gdLst>
              <a:ahLst/>
              <a:rect l="textAreaLeft" t="textAreaTop" r="textAreaRight" b="textAreaBottom"/>
              <a:pathLst>
                <a:path w="18" h="16">
                  <a:moveTo>
                    <a:pt x="2" y="8"/>
                  </a:moveTo>
                  <a:cubicBezTo>
                    <a:pt x="4" y="11"/>
                    <a:pt x="7" y="13"/>
                    <a:pt x="10" y="16"/>
                  </a:cubicBezTo>
                  <a:cubicBezTo>
                    <a:pt x="11" y="16"/>
                    <a:pt x="13" y="16"/>
                    <a:pt x="14" y="15"/>
                  </a:cubicBezTo>
                  <a:cubicBezTo>
                    <a:pt x="14" y="12"/>
                    <a:pt x="15" y="10"/>
                    <a:pt x="16" y="7"/>
                  </a:cubicBezTo>
                  <a:cubicBezTo>
                    <a:pt x="16" y="5"/>
                    <a:pt x="18" y="3"/>
                    <a:pt x="17" y="1"/>
                  </a:cubicBezTo>
                  <a:cubicBezTo>
                    <a:pt x="17" y="1"/>
                    <a:pt x="16" y="0"/>
                    <a:pt x="16" y="0"/>
                  </a:cubicBezTo>
                  <a:cubicBezTo>
                    <a:pt x="14" y="1"/>
                    <a:pt x="13" y="3"/>
                    <a:pt x="12" y="5"/>
                  </a:cubicBezTo>
                  <a:cubicBezTo>
                    <a:pt x="11" y="8"/>
                    <a:pt x="10" y="11"/>
                    <a:pt x="10" y="14"/>
                  </a:cubicBezTo>
                  <a:cubicBezTo>
                    <a:pt x="11" y="13"/>
                    <a:pt x="12" y="13"/>
                    <a:pt x="13" y="13"/>
                  </a:cubicBezTo>
                  <a:cubicBezTo>
                    <a:pt x="10" y="10"/>
                    <a:pt x="7" y="8"/>
                    <a:pt x="4" y="5"/>
                  </a:cubicBezTo>
                  <a:cubicBezTo>
                    <a:pt x="2" y="4"/>
                    <a:pt x="0" y="6"/>
                    <a:pt x="2" y="8"/>
                  </a:cubicBezTo>
                  <a:close/>
                </a:path>
              </a:pathLst>
            </a:custGeom>
            <a:solidFill>
              <a:srgbClr val="97cdd2"/>
            </a:solidFill>
            <a:ln w="0">
              <a:noFill/>
            </a:ln>
          </p:spPr>
          <p:style>
            <a:lnRef idx="0"/>
            <a:fillRef idx="0"/>
            <a:effectRef idx="0"/>
            <a:fontRef idx="minor"/>
          </p:style>
          <p:txBody>
            <a:bodyPr lIns="90000" rIns="90000" tIns="24840" bIns="24840" anchor="t">
              <a:noAutofit/>
            </a:bodyPr>
            <a:p>
              <a:endParaRPr b="0" lang="en-US" sz="1800" spc="-1" strike="noStrike">
                <a:solidFill>
                  <a:srgbClr val="262626"/>
                </a:solidFill>
                <a:latin typeface="Arial"/>
              </a:endParaRPr>
            </a:p>
          </p:txBody>
        </p:sp>
        <p:sp>
          <p:nvSpPr>
            <p:cNvPr id="2164" name="Freeform 306"/>
            <p:cNvSpPr/>
            <p:nvPr/>
          </p:nvSpPr>
          <p:spPr>
            <a:xfrm>
              <a:off x="7293240" y="433764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15" h="15">
                  <a:moveTo>
                    <a:pt x="1" y="7"/>
                  </a:moveTo>
                  <a:cubicBezTo>
                    <a:pt x="2" y="10"/>
                    <a:pt x="4" y="12"/>
                    <a:pt x="6" y="14"/>
                  </a:cubicBezTo>
                  <a:cubicBezTo>
                    <a:pt x="7" y="15"/>
                    <a:pt x="9" y="15"/>
                    <a:pt x="9" y="14"/>
                  </a:cubicBezTo>
                  <a:cubicBezTo>
                    <a:pt x="10" y="12"/>
                    <a:pt x="11" y="10"/>
                    <a:pt x="12" y="8"/>
                  </a:cubicBezTo>
                  <a:cubicBezTo>
                    <a:pt x="13" y="7"/>
                    <a:pt x="15" y="5"/>
                    <a:pt x="15" y="3"/>
                  </a:cubicBezTo>
                  <a:cubicBezTo>
                    <a:pt x="15" y="2"/>
                    <a:pt x="14" y="0"/>
                    <a:pt x="13" y="1"/>
                  </a:cubicBezTo>
                  <a:cubicBezTo>
                    <a:pt x="11" y="2"/>
                    <a:pt x="10" y="4"/>
                    <a:pt x="9" y="6"/>
                  </a:cubicBezTo>
                  <a:cubicBezTo>
                    <a:pt x="8" y="8"/>
                    <a:pt x="7" y="10"/>
                    <a:pt x="6" y="12"/>
                  </a:cubicBezTo>
                  <a:cubicBezTo>
                    <a:pt x="7" y="11"/>
                    <a:pt x="8" y="11"/>
                    <a:pt x="9" y="11"/>
                  </a:cubicBezTo>
                  <a:cubicBezTo>
                    <a:pt x="7" y="10"/>
                    <a:pt x="6" y="8"/>
                    <a:pt x="5" y="6"/>
                  </a:cubicBezTo>
                  <a:cubicBezTo>
                    <a:pt x="4" y="4"/>
                    <a:pt x="0" y="5"/>
                    <a:pt x="1" y="7"/>
                  </a:cubicBezTo>
                  <a:close/>
                </a:path>
              </a:pathLst>
            </a:custGeom>
            <a:solidFill>
              <a:srgbClr val="97cdd2"/>
            </a:solidFill>
            <a:ln w="0">
              <a:noFill/>
            </a:ln>
          </p:spPr>
          <p:style>
            <a:lnRef idx="0"/>
            <a:fillRef idx="0"/>
            <a:effectRef idx="0"/>
            <a:fontRef idx="minor"/>
          </p:style>
          <p:txBody>
            <a:bodyPr lIns="90000" rIns="90000" tIns="20160" bIns="20160" anchor="t">
              <a:noAutofit/>
            </a:bodyPr>
            <a:p>
              <a:endParaRPr b="0" lang="en-US" sz="1800" spc="-1" strike="noStrike">
                <a:solidFill>
                  <a:srgbClr val="262626"/>
                </a:solidFill>
                <a:latin typeface="Arial"/>
              </a:endParaRPr>
            </a:p>
          </p:txBody>
        </p:sp>
        <p:sp>
          <p:nvSpPr>
            <p:cNvPr id="2165" name="Freeform 307"/>
            <p:cNvSpPr/>
            <p:nvPr/>
          </p:nvSpPr>
          <p:spPr>
            <a:xfrm>
              <a:off x="6802200" y="3846600"/>
              <a:ext cx="66600" cy="56880"/>
            </a:xfrm>
            <a:custGeom>
              <a:avLst/>
              <a:gdLst>
                <a:gd name="textAreaLeft" fmla="*/ 0 w 66600"/>
                <a:gd name="textAreaRight" fmla="*/ 66960 w 66600"/>
                <a:gd name="textAreaTop" fmla="*/ 0 h 56880"/>
                <a:gd name="textAreaBottom" fmla="*/ 57240 h 56880"/>
              </a:gdLst>
              <a:ahLst/>
              <a:rect l="textAreaLeft" t="textAreaTop" r="textAreaRight" b="textAreaBottom"/>
              <a:pathLst>
                <a:path w="14" h="12">
                  <a:moveTo>
                    <a:pt x="1" y="5"/>
                  </a:moveTo>
                  <a:cubicBezTo>
                    <a:pt x="2" y="8"/>
                    <a:pt x="5" y="11"/>
                    <a:pt x="8" y="12"/>
                  </a:cubicBezTo>
                  <a:cubicBezTo>
                    <a:pt x="9" y="12"/>
                    <a:pt x="11" y="12"/>
                    <a:pt x="11" y="11"/>
                  </a:cubicBezTo>
                  <a:cubicBezTo>
                    <a:pt x="12" y="8"/>
                    <a:pt x="14" y="5"/>
                    <a:pt x="14" y="2"/>
                  </a:cubicBezTo>
                  <a:cubicBezTo>
                    <a:pt x="14" y="1"/>
                    <a:pt x="13" y="0"/>
                    <a:pt x="12" y="0"/>
                  </a:cubicBezTo>
                  <a:cubicBezTo>
                    <a:pt x="9" y="2"/>
                    <a:pt x="8" y="6"/>
                    <a:pt x="7" y="9"/>
                  </a:cubicBezTo>
                  <a:cubicBezTo>
                    <a:pt x="8" y="8"/>
                    <a:pt x="9" y="8"/>
                    <a:pt x="10" y="8"/>
                  </a:cubicBezTo>
                  <a:cubicBezTo>
                    <a:pt x="7" y="7"/>
                    <a:pt x="5" y="5"/>
                    <a:pt x="4" y="3"/>
                  </a:cubicBezTo>
                  <a:cubicBezTo>
                    <a:pt x="3" y="2"/>
                    <a:pt x="0" y="3"/>
                    <a:pt x="1" y="5"/>
                  </a:cubicBezTo>
                  <a:close/>
                </a:path>
              </a:pathLst>
            </a:custGeom>
            <a:solidFill>
              <a:srgbClr val="97cdd2"/>
            </a:solidFill>
            <a:ln w="0">
              <a:noFill/>
            </a:ln>
          </p:spPr>
          <p:style>
            <a:lnRef idx="0"/>
            <a:fillRef idx="0"/>
            <a:effectRef idx="0"/>
            <a:fontRef idx="minor"/>
          </p:style>
          <p:txBody>
            <a:bodyPr lIns="90000" rIns="90000" tIns="10440" bIns="10440" anchor="t">
              <a:noAutofit/>
            </a:bodyPr>
            <a:p>
              <a:endParaRPr b="0" lang="en-US" sz="1800" spc="-1" strike="noStrike">
                <a:solidFill>
                  <a:srgbClr val="262626"/>
                </a:solidFill>
                <a:latin typeface="Arial"/>
              </a:endParaRPr>
            </a:p>
          </p:txBody>
        </p:sp>
        <p:sp>
          <p:nvSpPr>
            <p:cNvPr id="2166" name="Freeform 308"/>
            <p:cNvSpPr/>
            <p:nvPr/>
          </p:nvSpPr>
          <p:spPr>
            <a:xfrm>
              <a:off x="4462200" y="2383560"/>
              <a:ext cx="90360" cy="190440"/>
            </a:xfrm>
            <a:custGeom>
              <a:avLst/>
              <a:gdLst>
                <a:gd name="textAreaLeft" fmla="*/ 0 w 90360"/>
                <a:gd name="textAreaRight" fmla="*/ 90720 w 90360"/>
                <a:gd name="textAreaTop" fmla="*/ 0 h 190440"/>
                <a:gd name="textAreaBottom" fmla="*/ 190800 h 190440"/>
              </a:gdLst>
              <a:ahLst/>
              <a:rect l="textAreaLeft" t="textAreaTop" r="textAreaRight" b="textAreaBottom"/>
              <a:pathLst>
                <a:path w="19" h="40">
                  <a:moveTo>
                    <a:pt x="19" y="2"/>
                  </a:moveTo>
                  <a:lnTo>
                    <a:pt x="19" y="40"/>
                  </a:lnTo>
                  <a:lnTo>
                    <a:pt x="0" y="40"/>
                  </a:lnTo>
                  <a:lnTo>
                    <a:pt x="0" y="0"/>
                  </a:lnTo>
                  <a:lnTo>
                    <a:pt x="19" y="2"/>
                  </a:ln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67" name="Freeform 309"/>
            <p:cNvSpPr/>
            <p:nvPr/>
          </p:nvSpPr>
          <p:spPr>
            <a:xfrm>
              <a:off x="2684880" y="2679120"/>
              <a:ext cx="156960" cy="266760"/>
            </a:xfrm>
            <a:custGeom>
              <a:avLst/>
              <a:gdLst>
                <a:gd name="textAreaLeft" fmla="*/ 0 w 156960"/>
                <a:gd name="textAreaRight" fmla="*/ 157320 w 156960"/>
                <a:gd name="textAreaTop" fmla="*/ 0 h 266760"/>
                <a:gd name="textAreaBottom" fmla="*/ 267120 h 266760"/>
              </a:gdLst>
              <a:ahLst/>
              <a:rect l="textAreaLeft" t="textAreaTop" r="textAreaRight" b="textAreaBottom"/>
              <a:pathLst>
                <a:path w="33" h="56">
                  <a:moveTo>
                    <a:pt x="16" y="0"/>
                  </a:moveTo>
                  <a:lnTo>
                    <a:pt x="33" y="46"/>
                  </a:lnTo>
                  <a:lnTo>
                    <a:pt x="17" y="56"/>
                  </a:lnTo>
                  <a:lnTo>
                    <a:pt x="0" y="5"/>
                  </a:lnTo>
                  <a:lnTo>
                    <a:pt x="16" y="0"/>
                  </a:ln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68" name="Freeform 310"/>
            <p:cNvSpPr/>
            <p:nvPr/>
          </p:nvSpPr>
          <p:spPr>
            <a:xfrm>
              <a:off x="2737080" y="2535840"/>
              <a:ext cx="2120400" cy="2363760"/>
            </a:xfrm>
            <a:custGeom>
              <a:avLst/>
              <a:gdLst>
                <a:gd name="textAreaLeft" fmla="*/ 0 w 2120400"/>
                <a:gd name="textAreaRight" fmla="*/ 2120760 w 2120400"/>
                <a:gd name="textAreaTop" fmla="*/ 0 h 2363760"/>
                <a:gd name="textAreaBottom" fmla="*/ 2364120 h 2363760"/>
              </a:gdLst>
              <a:ahLst/>
              <a:rect l="textAreaLeft" t="textAreaTop" r="textAreaRight" b="textAreaBottom"/>
              <a:pathLst>
                <a:path w="465" h="519">
                  <a:moveTo>
                    <a:pt x="236" y="171"/>
                  </a:moveTo>
                  <a:cubicBezTo>
                    <a:pt x="236" y="171"/>
                    <a:pt x="355" y="204"/>
                    <a:pt x="373" y="0"/>
                  </a:cubicBezTo>
                  <a:cubicBezTo>
                    <a:pt x="405" y="1"/>
                    <a:pt x="405" y="1"/>
                    <a:pt x="405" y="1"/>
                  </a:cubicBezTo>
                  <a:cubicBezTo>
                    <a:pt x="405" y="1"/>
                    <a:pt x="465" y="196"/>
                    <a:pt x="307" y="251"/>
                  </a:cubicBezTo>
                  <a:cubicBezTo>
                    <a:pt x="307" y="251"/>
                    <a:pt x="351" y="348"/>
                    <a:pt x="360" y="435"/>
                  </a:cubicBezTo>
                  <a:cubicBezTo>
                    <a:pt x="363" y="462"/>
                    <a:pt x="362" y="488"/>
                    <a:pt x="356" y="510"/>
                  </a:cubicBezTo>
                  <a:cubicBezTo>
                    <a:pt x="176" y="519"/>
                    <a:pt x="176" y="519"/>
                    <a:pt x="176" y="519"/>
                  </a:cubicBezTo>
                  <a:cubicBezTo>
                    <a:pt x="176" y="519"/>
                    <a:pt x="174" y="485"/>
                    <a:pt x="172" y="441"/>
                  </a:cubicBezTo>
                  <a:cubicBezTo>
                    <a:pt x="169" y="379"/>
                    <a:pt x="165" y="299"/>
                    <a:pt x="160" y="273"/>
                  </a:cubicBezTo>
                  <a:cubicBezTo>
                    <a:pt x="160" y="273"/>
                    <a:pt x="45" y="274"/>
                    <a:pt x="0" y="77"/>
                  </a:cubicBezTo>
                  <a:cubicBezTo>
                    <a:pt x="20" y="68"/>
                    <a:pt x="20" y="68"/>
                    <a:pt x="20" y="68"/>
                  </a:cubicBezTo>
                  <a:cubicBezTo>
                    <a:pt x="20" y="68"/>
                    <a:pt x="68" y="200"/>
                    <a:pt x="216" y="174"/>
                  </a:cubicBezTo>
                  <a:lnTo>
                    <a:pt x="236" y="171"/>
                  </a:lnTo>
                  <a:close/>
                </a:path>
              </a:pathLst>
            </a:custGeom>
            <a:solidFill>
              <a:srgbClr val="f2f2e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69" name="Freeform 311"/>
            <p:cNvSpPr/>
            <p:nvPr/>
          </p:nvSpPr>
          <p:spPr>
            <a:xfrm>
              <a:off x="4362120" y="2207160"/>
              <a:ext cx="314280" cy="266760"/>
            </a:xfrm>
            <a:custGeom>
              <a:avLst/>
              <a:gdLst>
                <a:gd name="textAreaLeft" fmla="*/ 0 w 314280"/>
                <a:gd name="textAreaRight" fmla="*/ 314640 w 314280"/>
                <a:gd name="textAreaTop" fmla="*/ 0 h 266760"/>
                <a:gd name="textAreaBottom" fmla="*/ 267120 h 266760"/>
              </a:gdLst>
              <a:ahLst/>
              <a:rect l="textAreaLeft" t="textAreaTop" r="textAreaRight" b="textAreaBottom"/>
              <a:pathLst>
                <a:path w="69" h="59">
                  <a:moveTo>
                    <a:pt x="23" y="51"/>
                  </a:moveTo>
                  <a:cubicBezTo>
                    <a:pt x="21" y="48"/>
                    <a:pt x="0" y="19"/>
                    <a:pt x="3" y="15"/>
                  </a:cubicBezTo>
                  <a:cubicBezTo>
                    <a:pt x="8" y="10"/>
                    <a:pt x="18" y="30"/>
                    <a:pt x="20" y="33"/>
                  </a:cubicBezTo>
                  <a:cubicBezTo>
                    <a:pt x="20" y="28"/>
                    <a:pt x="20" y="25"/>
                    <a:pt x="21" y="19"/>
                  </a:cubicBezTo>
                  <a:cubicBezTo>
                    <a:pt x="22" y="15"/>
                    <a:pt x="24" y="0"/>
                    <a:pt x="28" y="0"/>
                  </a:cubicBezTo>
                  <a:cubicBezTo>
                    <a:pt x="32" y="0"/>
                    <a:pt x="31" y="10"/>
                    <a:pt x="30" y="19"/>
                  </a:cubicBezTo>
                  <a:cubicBezTo>
                    <a:pt x="30" y="21"/>
                    <a:pt x="30" y="26"/>
                    <a:pt x="30" y="29"/>
                  </a:cubicBezTo>
                  <a:cubicBezTo>
                    <a:pt x="31" y="21"/>
                    <a:pt x="36" y="0"/>
                    <a:pt x="41" y="2"/>
                  </a:cubicBezTo>
                  <a:cubicBezTo>
                    <a:pt x="46" y="4"/>
                    <a:pt x="40" y="27"/>
                    <a:pt x="37" y="33"/>
                  </a:cubicBezTo>
                  <a:cubicBezTo>
                    <a:pt x="41" y="25"/>
                    <a:pt x="47" y="2"/>
                    <a:pt x="53" y="5"/>
                  </a:cubicBezTo>
                  <a:cubicBezTo>
                    <a:pt x="57" y="7"/>
                    <a:pt x="47" y="28"/>
                    <a:pt x="46" y="33"/>
                  </a:cubicBezTo>
                  <a:cubicBezTo>
                    <a:pt x="48" y="30"/>
                    <a:pt x="57" y="14"/>
                    <a:pt x="62" y="17"/>
                  </a:cubicBezTo>
                  <a:cubicBezTo>
                    <a:pt x="69" y="22"/>
                    <a:pt x="49" y="41"/>
                    <a:pt x="46" y="45"/>
                  </a:cubicBezTo>
                  <a:cubicBezTo>
                    <a:pt x="43" y="48"/>
                    <a:pt x="30" y="59"/>
                    <a:pt x="23" y="51"/>
                  </a:cubicBezTo>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70" name="Freeform 312"/>
            <p:cNvSpPr/>
            <p:nvPr/>
          </p:nvSpPr>
          <p:spPr>
            <a:xfrm>
              <a:off x="2527560" y="2493000"/>
              <a:ext cx="299880" cy="271440"/>
            </a:xfrm>
            <a:custGeom>
              <a:avLst/>
              <a:gdLst>
                <a:gd name="textAreaLeft" fmla="*/ 0 w 299880"/>
                <a:gd name="textAreaRight" fmla="*/ 300240 w 299880"/>
                <a:gd name="textAreaTop" fmla="*/ 0 h 271440"/>
                <a:gd name="textAreaBottom" fmla="*/ 271800 h 271440"/>
              </a:gdLst>
              <a:ahLst/>
              <a:rect l="textAreaLeft" t="textAreaTop" r="textAreaRight" b="textAreaBottom"/>
              <a:pathLst>
                <a:path w="66" h="59">
                  <a:moveTo>
                    <a:pt x="52" y="49"/>
                  </a:moveTo>
                  <a:cubicBezTo>
                    <a:pt x="53" y="46"/>
                    <a:pt x="66" y="12"/>
                    <a:pt x="62" y="9"/>
                  </a:cubicBezTo>
                  <a:cubicBezTo>
                    <a:pt x="56" y="6"/>
                    <a:pt x="51" y="27"/>
                    <a:pt x="50" y="31"/>
                  </a:cubicBezTo>
                  <a:cubicBezTo>
                    <a:pt x="49" y="27"/>
                    <a:pt x="48" y="24"/>
                    <a:pt x="45" y="18"/>
                  </a:cubicBezTo>
                  <a:cubicBezTo>
                    <a:pt x="43" y="14"/>
                    <a:pt x="38" y="0"/>
                    <a:pt x="34" y="1"/>
                  </a:cubicBezTo>
                  <a:cubicBezTo>
                    <a:pt x="30" y="2"/>
                    <a:pt x="34" y="12"/>
                    <a:pt x="36" y="20"/>
                  </a:cubicBezTo>
                  <a:cubicBezTo>
                    <a:pt x="37" y="22"/>
                    <a:pt x="39" y="28"/>
                    <a:pt x="39" y="30"/>
                  </a:cubicBezTo>
                  <a:cubicBezTo>
                    <a:pt x="36" y="22"/>
                    <a:pt x="26" y="3"/>
                    <a:pt x="22" y="7"/>
                  </a:cubicBezTo>
                  <a:cubicBezTo>
                    <a:pt x="18" y="10"/>
                    <a:pt x="30" y="30"/>
                    <a:pt x="34" y="36"/>
                  </a:cubicBezTo>
                  <a:cubicBezTo>
                    <a:pt x="28" y="29"/>
                    <a:pt x="16" y="8"/>
                    <a:pt x="11" y="13"/>
                  </a:cubicBezTo>
                  <a:cubicBezTo>
                    <a:pt x="8" y="16"/>
                    <a:pt x="23" y="33"/>
                    <a:pt x="25" y="38"/>
                  </a:cubicBezTo>
                  <a:cubicBezTo>
                    <a:pt x="22" y="36"/>
                    <a:pt x="9" y="22"/>
                    <a:pt x="5" y="27"/>
                  </a:cubicBezTo>
                  <a:cubicBezTo>
                    <a:pt x="0" y="33"/>
                    <a:pt x="24" y="47"/>
                    <a:pt x="28" y="49"/>
                  </a:cubicBezTo>
                  <a:cubicBezTo>
                    <a:pt x="32" y="52"/>
                    <a:pt x="48" y="59"/>
                    <a:pt x="52" y="49"/>
                  </a:cubicBezTo>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71" name="Freeform 313"/>
            <p:cNvSpPr/>
            <p:nvPr/>
          </p:nvSpPr>
          <p:spPr>
            <a:xfrm>
              <a:off x="3528360" y="4509360"/>
              <a:ext cx="857520" cy="176040"/>
            </a:xfrm>
            <a:custGeom>
              <a:avLst/>
              <a:gdLst>
                <a:gd name="textAreaLeft" fmla="*/ 0 w 857520"/>
                <a:gd name="textAreaRight" fmla="*/ 857880 w 857520"/>
                <a:gd name="textAreaTop" fmla="*/ 0 h 176040"/>
                <a:gd name="textAreaBottom" fmla="*/ 176400 h 176040"/>
              </a:gdLst>
              <a:ahLst/>
              <a:rect l="textAreaLeft" t="textAreaTop" r="textAreaRight" b="textAreaBottom"/>
              <a:pathLst>
                <a:path w="189" h="39">
                  <a:moveTo>
                    <a:pt x="0" y="26"/>
                  </a:moveTo>
                  <a:cubicBezTo>
                    <a:pt x="0" y="26"/>
                    <a:pt x="141" y="0"/>
                    <a:pt x="188" y="10"/>
                  </a:cubicBezTo>
                  <a:cubicBezTo>
                    <a:pt x="189" y="26"/>
                    <a:pt x="189" y="26"/>
                    <a:pt x="189" y="26"/>
                  </a:cubicBezTo>
                  <a:cubicBezTo>
                    <a:pt x="189" y="26"/>
                    <a:pt x="66" y="24"/>
                    <a:pt x="1" y="39"/>
                  </a:cubicBezTo>
                  <a:lnTo>
                    <a:pt x="0" y="26"/>
                  </a:lnTo>
                  <a:close/>
                </a:path>
              </a:pathLst>
            </a:custGeom>
            <a:solidFill>
              <a:srgbClr val="a6785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72" name="Freeform 314"/>
            <p:cNvSpPr/>
            <p:nvPr/>
          </p:nvSpPr>
          <p:spPr>
            <a:xfrm>
              <a:off x="3533040" y="4590360"/>
              <a:ext cx="862560" cy="309600"/>
            </a:xfrm>
            <a:custGeom>
              <a:avLst/>
              <a:gdLst>
                <a:gd name="textAreaLeft" fmla="*/ 0 w 862560"/>
                <a:gd name="textAreaRight" fmla="*/ 862920 w 862560"/>
                <a:gd name="textAreaTop" fmla="*/ 0 h 309600"/>
                <a:gd name="textAreaBottom" fmla="*/ 309960 h 309600"/>
              </a:gdLst>
              <a:ahLst/>
              <a:rect l="textAreaLeft" t="textAreaTop" r="textAreaRight" b="textAreaBottom"/>
              <a:pathLst>
                <a:path w="190" h="68">
                  <a:moveTo>
                    <a:pt x="0" y="21"/>
                  </a:moveTo>
                  <a:cubicBezTo>
                    <a:pt x="2" y="68"/>
                    <a:pt x="2" y="68"/>
                    <a:pt x="2" y="68"/>
                  </a:cubicBezTo>
                  <a:cubicBezTo>
                    <a:pt x="185" y="68"/>
                    <a:pt x="185" y="68"/>
                    <a:pt x="185" y="68"/>
                  </a:cubicBezTo>
                  <a:cubicBezTo>
                    <a:pt x="185" y="68"/>
                    <a:pt x="190" y="40"/>
                    <a:pt x="188" y="8"/>
                  </a:cubicBezTo>
                  <a:cubicBezTo>
                    <a:pt x="188" y="8"/>
                    <a:pt x="74" y="0"/>
                    <a:pt x="0" y="21"/>
                  </a:cubicBezTo>
                  <a:close/>
                </a:path>
              </a:pathLst>
            </a:custGeom>
            <a:solidFill>
              <a:srgbClr val="384a5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73" name="Freeform 315"/>
            <p:cNvSpPr/>
            <p:nvPr/>
          </p:nvSpPr>
          <p:spPr>
            <a:xfrm>
              <a:off x="3733200" y="3350880"/>
              <a:ext cx="85680" cy="95040"/>
            </a:xfrm>
            <a:custGeom>
              <a:avLst/>
              <a:gdLst>
                <a:gd name="textAreaLeft" fmla="*/ 0 w 85680"/>
                <a:gd name="textAreaRight" fmla="*/ 86040 w 85680"/>
                <a:gd name="textAreaTop" fmla="*/ 0 h 95040"/>
                <a:gd name="textAreaBottom" fmla="*/ 95400 h 95040"/>
              </a:gdLst>
              <a:ahLst/>
              <a:rect l="textAreaLeft" t="textAreaTop" r="textAreaRight" b="textAreaBottom"/>
              <a:pathLst>
                <a:path w="18" h="20">
                  <a:moveTo>
                    <a:pt x="0" y="4"/>
                  </a:moveTo>
                  <a:lnTo>
                    <a:pt x="7" y="20"/>
                  </a:lnTo>
                  <a:lnTo>
                    <a:pt x="12" y="19"/>
                  </a:lnTo>
                  <a:lnTo>
                    <a:pt x="18" y="0"/>
                  </a:lnTo>
                  <a:lnTo>
                    <a:pt x="0" y="4"/>
                  </a:lnTo>
                  <a:close/>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74" name="Freeform 316"/>
            <p:cNvSpPr/>
            <p:nvPr/>
          </p:nvSpPr>
          <p:spPr>
            <a:xfrm>
              <a:off x="3618720" y="3313080"/>
              <a:ext cx="314280" cy="195120"/>
            </a:xfrm>
            <a:custGeom>
              <a:avLst/>
              <a:gdLst>
                <a:gd name="textAreaLeft" fmla="*/ 0 w 314280"/>
                <a:gd name="textAreaRight" fmla="*/ 314640 w 314280"/>
                <a:gd name="textAreaTop" fmla="*/ 0 h 195120"/>
                <a:gd name="textAreaBottom" fmla="*/ 195480 h 195120"/>
              </a:gdLst>
              <a:ahLst/>
              <a:rect l="textAreaLeft" t="textAreaTop" r="textAreaRight" b="textAreaBottom"/>
              <a:pathLst>
                <a:path w="69" h="42">
                  <a:moveTo>
                    <a:pt x="23" y="3"/>
                  </a:moveTo>
                  <a:cubicBezTo>
                    <a:pt x="23" y="3"/>
                    <a:pt x="0" y="30"/>
                    <a:pt x="7" y="36"/>
                  </a:cubicBezTo>
                  <a:cubicBezTo>
                    <a:pt x="14" y="42"/>
                    <a:pt x="34" y="12"/>
                    <a:pt x="34" y="12"/>
                  </a:cubicBezTo>
                  <a:cubicBezTo>
                    <a:pt x="34" y="12"/>
                    <a:pt x="55" y="39"/>
                    <a:pt x="62" y="37"/>
                  </a:cubicBezTo>
                  <a:cubicBezTo>
                    <a:pt x="69" y="35"/>
                    <a:pt x="43" y="0"/>
                    <a:pt x="43" y="0"/>
                  </a:cubicBezTo>
                  <a:lnTo>
                    <a:pt x="23"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75" name="Freeform 317"/>
            <p:cNvSpPr/>
            <p:nvPr/>
          </p:nvSpPr>
          <p:spPr>
            <a:xfrm>
              <a:off x="3766680" y="3441600"/>
              <a:ext cx="199800" cy="690840"/>
            </a:xfrm>
            <a:custGeom>
              <a:avLst/>
              <a:gdLst>
                <a:gd name="textAreaLeft" fmla="*/ 0 w 199800"/>
                <a:gd name="textAreaRight" fmla="*/ 200160 w 199800"/>
                <a:gd name="textAreaTop" fmla="*/ 0 h 690840"/>
                <a:gd name="textAreaBottom" fmla="*/ 691200 h 690840"/>
              </a:gdLst>
              <a:ahLst/>
              <a:rect l="textAreaLeft" t="textAreaTop" r="textAreaRight" b="textAreaBottom"/>
              <a:pathLst>
                <a:path w="42" h="145">
                  <a:moveTo>
                    <a:pt x="0" y="1"/>
                  </a:moveTo>
                  <a:lnTo>
                    <a:pt x="11" y="132"/>
                  </a:lnTo>
                  <a:lnTo>
                    <a:pt x="29" y="145"/>
                  </a:lnTo>
                  <a:lnTo>
                    <a:pt x="42" y="127"/>
                  </a:lnTo>
                  <a:lnTo>
                    <a:pt x="5" y="0"/>
                  </a:lnTo>
                  <a:lnTo>
                    <a:pt x="0" y="1"/>
                  </a:lnTo>
                  <a:close/>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76" name="Freeform 318"/>
            <p:cNvSpPr/>
            <p:nvPr/>
          </p:nvSpPr>
          <p:spPr>
            <a:xfrm>
              <a:off x="3904920" y="4514040"/>
              <a:ext cx="195120" cy="156960"/>
            </a:xfrm>
            <a:custGeom>
              <a:avLst/>
              <a:gdLst>
                <a:gd name="textAreaLeft" fmla="*/ 0 w 195120"/>
                <a:gd name="textAreaRight" fmla="*/ 195480 w 195120"/>
                <a:gd name="textAreaTop" fmla="*/ 0 h 156960"/>
                <a:gd name="textAreaBottom" fmla="*/ 157320 h 156960"/>
              </a:gdLst>
              <a:ahLst/>
              <a:rect l="textAreaLeft" t="textAreaTop" r="textAreaRight" b="textAreaBottom"/>
              <a:pathLst>
                <a:path w="41" h="33">
                  <a:moveTo>
                    <a:pt x="0" y="4"/>
                  </a:moveTo>
                  <a:lnTo>
                    <a:pt x="4" y="33"/>
                  </a:lnTo>
                  <a:lnTo>
                    <a:pt x="41" y="33"/>
                  </a:lnTo>
                  <a:lnTo>
                    <a:pt x="41" y="0"/>
                  </a:lnTo>
                  <a:lnTo>
                    <a:pt x="0" y="4"/>
                  </a:lnTo>
                  <a:close/>
                </a:path>
              </a:pathLst>
            </a:custGeom>
            <a:solidFill>
              <a:srgbClr val="ce956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77" name="Freeform 319"/>
            <p:cNvSpPr/>
            <p:nvPr/>
          </p:nvSpPr>
          <p:spPr>
            <a:xfrm>
              <a:off x="3943080" y="4556880"/>
              <a:ext cx="118800" cy="81000"/>
            </a:xfrm>
            <a:custGeom>
              <a:avLst/>
              <a:gdLst>
                <a:gd name="textAreaLeft" fmla="*/ 0 w 118800"/>
                <a:gd name="textAreaRight" fmla="*/ 119160 w 118800"/>
                <a:gd name="textAreaTop" fmla="*/ 0 h 81000"/>
                <a:gd name="textAreaBottom" fmla="*/ 81360 h 81000"/>
              </a:gdLst>
              <a:ahLst/>
              <a:rect l="textAreaLeft" t="textAreaTop" r="textAreaRight" b="textAreaBottom"/>
              <a:pathLst>
                <a:path w="25" h="17">
                  <a:moveTo>
                    <a:pt x="0" y="2"/>
                  </a:moveTo>
                  <a:lnTo>
                    <a:pt x="2" y="17"/>
                  </a:lnTo>
                  <a:lnTo>
                    <a:pt x="25" y="17"/>
                  </a:lnTo>
                  <a:lnTo>
                    <a:pt x="25" y="0"/>
                  </a:lnTo>
                  <a:lnTo>
                    <a:pt x="0" y="2"/>
                  </a:lnTo>
                  <a:close/>
                </a:path>
              </a:pathLst>
            </a:custGeom>
            <a:solidFill>
              <a:srgbClr val="a67859"/>
            </a:solidFill>
            <a:ln w="0">
              <a:noFill/>
            </a:ln>
          </p:spPr>
          <p:style>
            <a:lnRef idx="0"/>
            <a:fillRef idx="0"/>
            <a:effectRef idx="0"/>
            <a:fontRef idx="minor"/>
          </p:style>
          <p:txBody>
            <a:bodyPr lIns="90000" rIns="90000" tIns="34560" bIns="34560" anchor="t">
              <a:noAutofit/>
            </a:bodyPr>
            <a:p>
              <a:endParaRPr b="0" lang="en-US" sz="1800" spc="-1" strike="noStrike">
                <a:solidFill>
                  <a:srgbClr val="262626"/>
                </a:solidFill>
                <a:latin typeface="Arial"/>
              </a:endParaRPr>
            </a:p>
          </p:txBody>
        </p:sp>
        <p:sp>
          <p:nvSpPr>
            <p:cNvPr id="2178" name="Freeform 320"/>
            <p:cNvSpPr/>
            <p:nvPr/>
          </p:nvSpPr>
          <p:spPr>
            <a:xfrm>
              <a:off x="3943080" y="4580640"/>
              <a:ext cx="56880" cy="28440"/>
            </a:xfrm>
            <a:custGeom>
              <a:avLst/>
              <a:gdLst>
                <a:gd name="textAreaLeft" fmla="*/ 0 w 56880"/>
                <a:gd name="textAreaRight" fmla="*/ 57240 w 56880"/>
                <a:gd name="textAreaTop" fmla="*/ 0 h 28440"/>
                <a:gd name="textAreaBottom" fmla="*/ 28800 h 28440"/>
              </a:gdLst>
              <a:ahLst/>
              <a:rect l="textAreaLeft" t="textAreaTop" r="textAreaRight" b="textAreaBottom"/>
              <a:pathLst>
                <a:path w="13" h="6">
                  <a:moveTo>
                    <a:pt x="0" y="2"/>
                  </a:moveTo>
                  <a:cubicBezTo>
                    <a:pt x="0" y="2"/>
                    <a:pt x="10" y="0"/>
                    <a:pt x="11" y="2"/>
                  </a:cubicBezTo>
                  <a:cubicBezTo>
                    <a:pt x="13" y="4"/>
                    <a:pt x="8" y="5"/>
                    <a:pt x="0" y="6"/>
                  </a:cubicBezTo>
                  <a:lnTo>
                    <a:pt x="0" y="2"/>
                  </a:lnTo>
                  <a:close/>
                </a:path>
              </a:pathLst>
            </a:custGeom>
            <a:solidFill>
              <a:srgbClr val="ce956b"/>
            </a:solidFill>
            <a:ln w="0">
              <a:noFill/>
            </a:ln>
          </p:spPr>
          <p:style>
            <a:lnRef idx="0"/>
            <a:fillRef idx="0"/>
            <a:effectRef idx="0"/>
            <a:fontRef idx="minor"/>
          </p:style>
          <p:txBody>
            <a:bodyPr lIns="90000" rIns="90000" tIns="-18000" bIns="-18000" anchor="t">
              <a:noAutofit/>
            </a:bodyPr>
            <a:p>
              <a:endParaRPr b="0" lang="en-US" sz="1800" spc="-1" strike="noStrike">
                <a:solidFill>
                  <a:srgbClr val="262626"/>
                </a:solidFill>
                <a:latin typeface="Arial"/>
              </a:endParaRPr>
            </a:p>
          </p:txBody>
        </p:sp>
        <p:sp>
          <p:nvSpPr>
            <p:cNvPr id="2179" name="Freeform 321"/>
            <p:cNvSpPr/>
            <p:nvPr/>
          </p:nvSpPr>
          <p:spPr>
            <a:xfrm>
              <a:off x="2927880" y="2221560"/>
              <a:ext cx="533520" cy="690840"/>
            </a:xfrm>
            <a:custGeom>
              <a:avLst/>
              <a:gdLst>
                <a:gd name="textAreaLeft" fmla="*/ 0 w 533520"/>
                <a:gd name="textAreaRight" fmla="*/ 533880 w 533520"/>
                <a:gd name="textAreaTop" fmla="*/ 0 h 690840"/>
                <a:gd name="textAreaBottom" fmla="*/ 691200 h 690840"/>
              </a:gdLst>
              <a:ahLst/>
              <a:rect l="textAreaLeft" t="textAreaTop" r="textAreaRight" b="textAreaBottom"/>
              <a:pathLst>
                <a:path w="117" h="152">
                  <a:moveTo>
                    <a:pt x="0" y="8"/>
                  </a:moveTo>
                  <a:cubicBezTo>
                    <a:pt x="0" y="8"/>
                    <a:pt x="12" y="123"/>
                    <a:pt x="117" y="152"/>
                  </a:cubicBezTo>
                  <a:cubicBezTo>
                    <a:pt x="104" y="88"/>
                    <a:pt x="104" y="88"/>
                    <a:pt x="104" y="88"/>
                  </a:cubicBezTo>
                  <a:cubicBezTo>
                    <a:pt x="12" y="0"/>
                    <a:pt x="12" y="0"/>
                    <a:pt x="12" y="0"/>
                  </a:cubicBezTo>
                  <a:lnTo>
                    <a:pt x="0" y="8"/>
                  </a:lnTo>
                  <a:close/>
                </a:path>
              </a:pathLst>
            </a:custGeom>
            <a:solidFill>
              <a:srgbClr val="384a5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80" name="Freeform 322"/>
            <p:cNvSpPr/>
            <p:nvPr/>
          </p:nvSpPr>
          <p:spPr>
            <a:xfrm>
              <a:off x="3199320" y="1806840"/>
              <a:ext cx="1010160" cy="1567800"/>
            </a:xfrm>
            <a:custGeom>
              <a:avLst/>
              <a:gdLst>
                <a:gd name="textAreaLeft" fmla="*/ 0 w 1010160"/>
                <a:gd name="textAreaRight" fmla="*/ 1010520 w 1010160"/>
                <a:gd name="textAreaTop" fmla="*/ 0 h 1567800"/>
                <a:gd name="textAreaBottom" fmla="*/ 1568160 h 1567800"/>
              </a:gdLst>
              <a:ahLst/>
              <a:rect l="textAreaLeft" t="textAreaTop" r="textAreaRight" b="textAreaBottom"/>
              <a:pathLst>
                <a:path w="222" h="344">
                  <a:moveTo>
                    <a:pt x="135" y="331"/>
                  </a:moveTo>
                  <a:cubicBezTo>
                    <a:pt x="135" y="331"/>
                    <a:pt x="144" y="280"/>
                    <a:pt x="180" y="232"/>
                  </a:cubicBezTo>
                  <a:cubicBezTo>
                    <a:pt x="204" y="202"/>
                    <a:pt x="222" y="135"/>
                    <a:pt x="108" y="0"/>
                  </a:cubicBezTo>
                  <a:cubicBezTo>
                    <a:pt x="4" y="35"/>
                    <a:pt x="4" y="35"/>
                    <a:pt x="4" y="35"/>
                  </a:cubicBezTo>
                  <a:cubicBezTo>
                    <a:pt x="0" y="162"/>
                    <a:pt x="0" y="162"/>
                    <a:pt x="0" y="162"/>
                  </a:cubicBezTo>
                  <a:cubicBezTo>
                    <a:pt x="0" y="162"/>
                    <a:pt x="7" y="204"/>
                    <a:pt x="26" y="219"/>
                  </a:cubicBezTo>
                  <a:cubicBezTo>
                    <a:pt x="83" y="265"/>
                    <a:pt x="115" y="334"/>
                    <a:pt x="115" y="334"/>
                  </a:cubicBezTo>
                  <a:cubicBezTo>
                    <a:pt x="115" y="334"/>
                    <a:pt x="128" y="344"/>
                    <a:pt x="135" y="331"/>
                  </a:cubicBez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81" name="Freeform 323"/>
            <p:cNvSpPr/>
            <p:nvPr/>
          </p:nvSpPr>
          <p:spPr>
            <a:xfrm>
              <a:off x="3032640" y="2679120"/>
              <a:ext cx="318960" cy="214200"/>
            </a:xfrm>
            <a:custGeom>
              <a:avLst/>
              <a:gdLst>
                <a:gd name="textAreaLeft" fmla="*/ 0 w 318960"/>
                <a:gd name="textAreaRight" fmla="*/ 319320 w 318960"/>
                <a:gd name="textAreaTop" fmla="*/ 0 h 214200"/>
                <a:gd name="textAreaBottom" fmla="*/ 214560 h 214200"/>
              </a:gdLst>
              <a:ahLst/>
              <a:rect l="textAreaLeft" t="textAreaTop" r="textAreaRight" b="textAreaBottom"/>
              <a:pathLst>
                <a:path w="70" h="47">
                  <a:moveTo>
                    <a:pt x="65" y="16"/>
                  </a:moveTo>
                  <a:cubicBezTo>
                    <a:pt x="65" y="16"/>
                    <a:pt x="6" y="0"/>
                    <a:pt x="3" y="16"/>
                  </a:cubicBezTo>
                  <a:cubicBezTo>
                    <a:pt x="0" y="32"/>
                    <a:pt x="37" y="47"/>
                    <a:pt x="70" y="22"/>
                  </a:cubicBezTo>
                  <a:lnTo>
                    <a:pt x="65" y="16"/>
                  </a:ln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82" name="Freeform 324"/>
            <p:cNvSpPr/>
            <p:nvPr/>
          </p:nvSpPr>
          <p:spPr>
            <a:xfrm>
              <a:off x="2861280" y="1344240"/>
              <a:ext cx="972000" cy="1520280"/>
            </a:xfrm>
            <a:custGeom>
              <a:avLst/>
              <a:gdLst>
                <a:gd name="textAreaLeft" fmla="*/ 0 w 972000"/>
                <a:gd name="textAreaRight" fmla="*/ 972360 w 972000"/>
                <a:gd name="textAreaTop" fmla="*/ 0 h 1520280"/>
                <a:gd name="textAreaBottom" fmla="*/ 1520640 h 1520280"/>
              </a:gdLst>
              <a:ahLst/>
              <a:rect l="textAreaLeft" t="textAreaTop" r="textAreaRight" b="textAreaBottom"/>
              <a:pathLst>
                <a:path w="213" h="333">
                  <a:moveTo>
                    <a:pt x="92" y="309"/>
                  </a:moveTo>
                  <a:cubicBezTo>
                    <a:pt x="92" y="309"/>
                    <a:pt x="118" y="333"/>
                    <a:pt x="123" y="328"/>
                  </a:cubicBezTo>
                  <a:cubicBezTo>
                    <a:pt x="129" y="322"/>
                    <a:pt x="82" y="274"/>
                    <a:pt x="83" y="256"/>
                  </a:cubicBezTo>
                  <a:cubicBezTo>
                    <a:pt x="85" y="238"/>
                    <a:pt x="109" y="245"/>
                    <a:pt x="112" y="224"/>
                  </a:cubicBezTo>
                  <a:cubicBezTo>
                    <a:pt x="114" y="202"/>
                    <a:pt x="88" y="162"/>
                    <a:pt x="122" y="155"/>
                  </a:cubicBezTo>
                  <a:cubicBezTo>
                    <a:pt x="155" y="149"/>
                    <a:pt x="213" y="143"/>
                    <a:pt x="207" y="98"/>
                  </a:cubicBezTo>
                  <a:cubicBezTo>
                    <a:pt x="200" y="53"/>
                    <a:pt x="170" y="0"/>
                    <a:pt x="132" y="23"/>
                  </a:cubicBezTo>
                  <a:cubicBezTo>
                    <a:pt x="94" y="46"/>
                    <a:pt x="111" y="58"/>
                    <a:pt x="83" y="81"/>
                  </a:cubicBezTo>
                  <a:cubicBezTo>
                    <a:pt x="55" y="105"/>
                    <a:pt x="0" y="121"/>
                    <a:pt x="9" y="175"/>
                  </a:cubicBezTo>
                  <a:cubicBezTo>
                    <a:pt x="18" y="230"/>
                    <a:pt x="92" y="309"/>
                    <a:pt x="92" y="309"/>
                  </a:cubicBezTo>
                  <a:close/>
                </a:path>
              </a:pathLst>
            </a:custGeom>
            <a:solidFill>
              <a:srgbClr val="384a5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83" name="Freeform 325"/>
            <p:cNvSpPr/>
            <p:nvPr/>
          </p:nvSpPr>
          <p:spPr>
            <a:xfrm>
              <a:off x="2804040" y="2164320"/>
              <a:ext cx="152280" cy="171360"/>
            </a:xfrm>
            <a:custGeom>
              <a:avLst/>
              <a:gdLst>
                <a:gd name="textAreaLeft" fmla="*/ 0 w 152280"/>
                <a:gd name="textAreaRight" fmla="*/ 152640 w 152280"/>
                <a:gd name="textAreaTop" fmla="*/ 0 h 171360"/>
                <a:gd name="textAreaBottom" fmla="*/ 171720 h 171360"/>
              </a:gdLst>
              <a:ahLst/>
              <a:rect l="textAreaLeft" t="textAreaTop" r="textAreaRight" b="textAreaBottom"/>
              <a:pathLst>
                <a:path w="33" h="37">
                  <a:moveTo>
                    <a:pt x="31" y="11"/>
                  </a:moveTo>
                  <a:cubicBezTo>
                    <a:pt x="31" y="11"/>
                    <a:pt x="7" y="0"/>
                    <a:pt x="7" y="11"/>
                  </a:cubicBezTo>
                  <a:cubicBezTo>
                    <a:pt x="6" y="22"/>
                    <a:pt x="21" y="21"/>
                    <a:pt x="21" y="21"/>
                  </a:cubicBezTo>
                  <a:cubicBezTo>
                    <a:pt x="21" y="21"/>
                    <a:pt x="0" y="26"/>
                    <a:pt x="7" y="31"/>
                  </a:cubicBezTo>
                  <a:cubicBezTo>
                    <a:pt x="13" y="37"/>
                    <a:pt x="33" y="28"/>
                    <a:pt x="33" y="28"/>
                  </a:cubicBezTo>
                  <a:lnTo>
                    <a:pt x="31" y="11"/>
                  </a:lnTo>
                  <a:close/>
                </a:path>
              </a:pathLst>
            </a:custGeom>
            <a:solidFill>
              <a:srgbClr val="384a5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84" name="Freeform 326"/>
            <p:cNvSpPr/>
            <p:nvPr/>
          </p:nvSpPr>
          <p:spPr>
            <a:xfrm>
              <a:off x="3637800" y="2269080"/>
              <a:ext cx="299880" cy="204840"/>
            </a:xfrm>
            <a:custGeom>
              <a:avLst/>
              <a:gdLst>
                <a:gd name="textAreaLeft" fmla="*/ 0 w 299880"/>
                <a:gd name="textAreaRight" fmla="*/ 300240 w 299880"/>
                <a:gd name="textAreaTop" fmla="*/ 0 h 204840"/>
                <a:gd name="textAreaBottom" fmla="*/ 205200 h 204840"/>
              </a:gdLst>
              <a:ahLst/>
              <a:rect l="textAreaLeft" t="textAreaTop" r="textAreaRight" b="textAreaBottom"/>
              <a:pathLst>
                <a:path w="66" h="45">
                  <a:moveTo>
                    <a:pt x="1" y="2"/>
                  </a:moveTo>
                  <a:cubicBezTo>
                    <a:pt x="11" y="9"/>
                    <a:pt x="22" y="16"/>
                    <a:pt x="33" y="23"/>
                  </a:cubicBezTo>
                  <a:cubicBezTo>
                    <a:pt x="42" y="29"/>
                    <a:pt x="55" y="35"/>
                    <a:pt x="63" y="44"/>
                  </a:cubicBezTo>
                  <a:cubicBezTo>
                    <a:pt x="63" y="43"/>
                    <a:pt x="63" y="42"/>
                    <a:pt x="64" y="41"/>
                  </a:cubicBezTo>
                  <a:cubicBezTo>
                    <a:pt x="51" y="40"/>
                    <a:pt x="38" y="38"/>
                    <a:pt x="26" y="36"/>
                  </a:cubicBezTo>
                  <a:cubicBezTo>
                    <a:pt x="24" y="35"/>
                    <a:pt x="24" y="37"/>
                    <a:pt x="25" y="38"/>
                  </a:cubicBezTo>
                  <a:cubicBezTo>
                    <a:pt x="37" y="42"/>
                    <a:pt x="51" y="44"/>
                    <a:pt x="64" y="44"/>
                  </a:cubicBezTo>
                  <a:cubicBezTo>
                    <a:pt x="65" y="45"/>
                    <a:pt x="66" y="43"/>
                    <a:pt x="65" y="42"/>
                  </a:cubicBezTo>
                  <a:cubicBezTo>
                    <a:pt x="58" y="34"/>
                    <a:pt x="47" y="29"/>
                    <a:pt x="38" y="23"/>
                  </a:cubicBezTo>
                  <a:cubicBezTo>
                    <a:pt x="26" y="15"/>
                    <a:pt x="15" y="7"/>
                    <a:pt x="2" y="0"/>
                  </a:cubicBezTo>
                  <a:cubicBezTo>
                    <a:pt x="1" y="0"/>
                    <a:pt x="0" y="1"/>
                    <a:pt x="1" y="2"/>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85" name="Freeform 327"/>
            <p:cNvSpPr/>
            <p:nvPr/>
          </p:nvSpPr>
          <p:spPr>
            <a:xfrm>
              <a:off x="3490200" y="2593080"/>
              <a:ext cx="114120" cy="114120"/>
            </a:xfrm>
            <a:custGeom>
              <a:avLst/>
              <a:gdLst>
                <a:gd name="textAreaLeft" fmla="*/ 0 w 114120"/>
                <a:gd name="textAreaRight" fmla="*/ 114480 w 114120"/>
                <a:gd name="textAreaTop" fmla="*/ 0 h 114120"/>
                <a:gd name="textAreaBottom" fmla="*/ 114480 h 114120"/>
              </a:gdLst>
              <a:ahLst/>
              <a:rect l="textAreaLeft" t="textAreaTop" r="textAreaRight" b="textAreaBottom"/>
              <a:pathLst>
                <a:path w="25" h="25">
                  <a:moveTo>
                    <a:pt x="7" y="22"/>
                  </a:moveTo>
                  <a:cubicBezTo>
                    <a:pt x="2" y="19"/>
                    <a:pt x="0" y="13"/>
                    <a:pt x="2" y="8"/>
                  </a:cubicBezTo>
                  <a:cubicBezTo>
                    <a:pt x="5" y="2"/>
                    <a:pt x="11" y="0"/>
                    <a:pt x="17" y="3"/>
                  </a:cubicBezTo>
                  <a:cubicBezTo>
                    <a:pt x="22" y="5"/>
                    <a:pt x="25" y="9"/>
                    <a:pt x="23" y="14"/>
                  </a:cubicBezTo>
                  <a:cubicBezTo>
                    <a:pt x="20" y="20"/>
                    <a:pt x="12" y="25"/>
                    <a:pt x="7" y="22"/>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86" name="Freeform 328"/>
            <p:cNvSpPr/>
            <p:nvPr/>
          </p:nvSpPr>
          <p:spPr>
            <a:xfrm>
              <a:off x="3943080" y="2378880"/>
              <a:ext cx="109440" cy="109440"/>
            </a:xfrm>
            <a:custGeom>
              <a:avLst/>
              <a:gdLst>
                <a:gd name="textAreaLeft" fmla="*/ 0 w 109440"/>
                <a:gd name="textAreaRight" fmla="*/ 109800 w 109440"/>
                <a:gd name="textAreaTop" fmla="*/ 0 h 109440"/>
                <a:gd name="textAreaBottom" fmla="*/ 109800 h 109440"/>
              </a:gdLst>
              <a:ahLst/>
              <a:rect l="textAreaLeft" t="textAreaTop" r="textAreaRight" b="textAreaBottom"/>
              <a:pathLst>
                <a:path w="24" h="24">
                  <a:moveTo>
                    <a:pt x="7" y="21"/>
                  </a:moveTo>
                  <a:cubicBezTo>
                    <a:pt x="2" y="19"/>
                    <a:pt x="0" y="12"/>
                    <a:pt x="2" y="7"/>
                  </a:cubicBezTo>
                  <a:cubicBezTo>
                    <a:pt x="5" y="2"/>
                    <a:pt x="11" y="0"/>
                    <a:pt x="17" y="2"/>
                  </a:cubicBezTo>
                  <a:cubicBezTo>
                    <a:pt x="22" y="5"/>
                    <a:pt x="24" y="10"/>
                    <a:pt x="22" y="16"/>
                  </a:cubicBezTo>
                  <a:cubicBezTo>
                    <a:pt x="19" y="21"/>
                    <a:pt x="12" y="24"/>
                    <a:pt x="7" y="21"/>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87" name="Freeform 329"/>
            <p:cNvSpPr/>
            <p:nvPr/>
          </p:nvSpPr>
          <p:spPr>
            <a:xfrm>
              <a:off x="3561840" y="238356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11" h="12">
                  <a:moveTo>
                    <a:pt x="7" y="1"/>
                  </a:moveTo>
                  <a:cubicBezTo>
                    <a:pt x="9" y="2"/>
                    <a:pt x="11" y="4"/>
                    <a:pt x="10" y="7"/>
                  </a:cubicBezTo>
                  <a:cubicBezTo>
                    <a:pt x="9" y="10"/>
                    <a:pt x="7" y="12"/>
                    <a:pt x="4" y="11"/>
                  </a:cubicBezTo>
                  <a:cubicBezTo>
                    <a:pt x="2" y="11"/>
                    <a:pt x="0" y="9"/>
                    <a:pt x="1" y="7"/>
                  </a:cubicBezTo>
                  <a:cubicBezTo>
                    <a:pt x="1" y="4"/>
                    <a:pt x="4" y="0"/>
                    <a:pt x="7" y="1"/>
                  </a:cubicBezTo>
                  <a:close/>
                </a:path>
              </a:pathLst>
            </a:custGeom>
            <a:solidFill>
              <a:srgbClr val="474747"/>
            </a:solidFill>
            <a:ln w="0">
              <a:noFill/>
            </a:ln>
          </p:spPr>
          <p:style>
            <a:lnRef idx="0"/>
            <a:fillRef idx="0"/>
            <a:effectRef idx="0"/>
            <a:fontRef idx="minor"/>
          </p:style>
          <p:txBody>
            <a:bodyPr lIns="90000" rIns="90000" tIns="10440" bIns="10440" anchor="t">
              <a:noAutofit/>
            </a:bodyPr>
            <a:p>
              <a:endParaRPr b="0" lang="en-US" sz="1800" spc="-1" strike="noStrike">
                <a:solidFill>
                  <a:srgbClr val="262626"/>
                </a:solidFill>
                <a:latin typeface="Arial"/>
              </a:endParaRPr>
            </a:p>
          </p:txBody>
        </p:sp>
        <p:sp>
          <p:nvSpPr>
            <p:cNvPr id="2188" name="Freeform 330"/>
            <p:cNvSpPr/>
            <p:nvPr/>
          </p:nvSpPr>
          <p:spPr>
            <a:xfrm>
              <a:off x="3818880" y="2230920"/>
              <a:ext cx="47520" cy="52200"/>
            </a:xfrm>
            <a:custGeom>
              <a:avLst/>
              <a:gdLst>
                <a:gd name="textAreaLeft" fmla="*/ 0 w 47520"/>
                <a:gd name="textAreaRight" fmla="*/ 47880 w 47520"/>
                <a:gd name="textAreaTop" fmla="*/ 0 h 52200"/>
                <a:gd name="textAreaBottom" fmla="*/ 52560 h 52200"/>
              </a:gdLst>
              <a:ahLst/>
              <a:rect l="textAreaLeft" t="textAreaTop" r="textAreaRight" b="textAreaBottom"/>
              <a:pathLst>
                <a:path w="11" h="12">
                  <a:moveTo>
                    <a:pt x="1" y="2"/>
                  </a:moveTo>
                  <a:cubicBezTo>
                    <a:pt x="3" y="0"/>
                    <a:pt x="6" y="0"/>
                    <a:pt x="8" y="2"/>
                  </a:cubicBezTo>
                  <a:cubicBezTo>
                    <a:pt x="11" y="4"/>
                    <a:pt x="11" y="7"/>
                    <a:pt x="9" y="9"/>
                  </a:cubicBezTo>
                  <a:cubicBezTo>
                    <a:pt x="8" y="11"/>
                    <a:pt x="6" y="12"/>
                    <a:pt x="3" y="10"/>
                  </a:cubicBezTo>
                  <a:cubicBezTo>
                    <a:pt x="1" y="8"/>
                    <a:pt x="0" y="4"/>
                    <a:pt x="1" y="2"/>
                  </a:cubicBezTo>
                  <a:close/>
                </a:path>
              </a:pathLst>
            </a:custGeom>
            <a:solidFill>
              <a:srgbClr val="474747"/>
            </a:solidFill>
            <a:ln w="0">
              <a:noFill/>
            </a:ln>
          </p:spPr>
          <p:style>
            <a:lnRef idx="0"/>
            <a:fillRef idx="0"/>
            <a:effectRef idx="0"/>
            <a:fontRef idx="minor"/>
          </p:style>
          <p:txBody>
            <a:bodyPr lIns="90000" rIns="90000" tIns="5760" bIns="5760" anchor="t">
              <a:noAutofit/>
            </a:bodyPr>
            <a:p>
              <a:endParaRPr b="0" lang="en-US" sz="1800" spc="-1" strike="noStrike">
                <a:solidFill>
                  <a:srgbClr val="262626"/>
                </a:solidFill>
                <a:latin typeface="Arial"/>
              </a:endParaRPr>
            </a:p>
          </p:txBody>
        </p:sp>
        <p:sp>
          <p:nvSpPr>
            <p:cNvPr id="2189" name="Freeform 331"/>
            <p:cNvSpPr/>
            <p:nvPr/>
          </p:nvSpPr>
          <p:spPr>
            <a:xfrm>
              <a:off x="3685680" y="2526480"/>
              <a:ext cx="290520" cy="171360"/>
            </a:xfrm>
            <a:custGeom>
              <a:avLst/>
              <a:gdLst>
                <a:gd name="textAreaLeft" fmla="*/ 0 w 290520"/>
                <a:gd name="textAreaRight" fmla="*/ 290880 w 290520"/>
                <a:gd name="textAreaTop" fmla="*/ 0 h 171360"/>
                <a:gd name="textAreaBottom" fmla="*/ 171720 h 171360"/>
              </a:gdLst>
              <a:ahLst/>
              <a:rect l="textAreaLeft" t="textAreaTop" r="textAreaRight" b="textAreaBottom"/>
              <a:pathLst>
                <a:path w="64" h="38">
                  <a:moveTo>
                    <a:pt x="7" y="24"/>
                  </a:moveTo>
                  <a:cubicBezTo>
                    <a:pt x="4" y="22"/>
                    <a:pt x="2" y="20"/>
                    <a:pt x="1" y="17"/>
                  </a:cubicBezTo>
                  <a:cubicBezTo>
                    <a:pt x="0" y="14"/>
                    <a:pt x="0" y="11"/>
                    <a:pt x="2" y="9"/>
                  </a:cubicBezTo>
                  <a:cubicBezTo>
                    <a:pt x="4" y="5"/>
                    <a:pt x="9" y="4"/>
                    <a:pt x="13" y="4"/>
                  </a:cubicBezTo>
                  <a:cubicBezTo>
                    <a:pt x="18" y="5"/>
                    <a:pt x="22" y="6"/>
                    <a:pt x="26" y="8"/>
                  </a:cubicBezTo>
                  <a:cubicBezTo>
                    <a:pt x="30" y="9"/>
                    <a:pt x="33" y="12"/>
                    <a:pt x="37" y="11"/>
                  </a:cubicBezTo>
                  <a:cubicBezTo>
                    <a:pt x="41" y="9"/>
                    <a:pt x="43" y="4"/>
                    <a:pt x="47" y="2"/>
                  </a:cubicBezTo>
                  <a:cubicBezTo>
                    <a:pt x="51" y="0"/>
                    <a:pt x="55" y="1"/>
                    <a:pt x="58" y="4"/>
                  </a:cubicBezTo>
                  <a:cubicBezTo>
                    <a:pt x="61" y="6"/>
                    <a:pt x="64" y="10"/>
                    <a:pt x="63" y="14"/>
                  </a:cubicBezTo>
                  <a:cubicBezTo>
                    <a:pt x="61" y="21"/>
                    <a:pt x="46" y="33"/>
                    <a:pt x="40" y="35"/>
                  </a:cubicBezTo>
                  <a:cubicBezTo>
                    <a:pt x="29" y="38"/>
                    <a:pt x="14" y="31"/>
                    <a:pt x="7" y="24"/>
                  </a:cubicBezTo>
                  <a:close/>
                </a:path>
              </a:pathLst>
            </a:custGeom>
            <a:solidFill>
              <a:srgbClr val="9f3030"/>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90" name="Freeform 332"/>
            <p:cNvSpPr/>
            <p:nvPr/>
          </p:nvSpPr>
          <p:spPr>
            <a:xfrm>
              <a:off x="3113640" y="2774160"/>
              <a:ext cx="123840" cy="23760"/>
            </a:xfrm>
            <a:custGeom>
              <a:avLst/>
              <a:gdLst>
                <a:gd name="textAreaLeft" fmla="*/ 0 w 123840"/>
                <a:gd name="textAreaRight" fmla="*/ 124200 w 123840"/>
                <a:gd name="textAreaTop" fmla="*/ 0 h 23760"/>
                <a:gd name="textAreaBottom" fmla="*/ 24120 h 23760"/>
              </a:gdLst>
              <a:ahLst/>
              <a:rect l="textAreaLeft" t="textAreaTop" r="textAreaRight" b="textAreaBottom"/>
              <a:pathLst>
                <a:path w="27" h="6">
                  <a:moveTo>
                    <a:pt x="1" y="2"/>
                  </a:moveTo>
                  <a:cubicBezTo>
                    <a:pt x="6" y="3"/>
                    <a:pt x="10" y="3"/>
                    <a:pt x="15" y="4"/>
                  </a:cubicBezTo>
                  <a:cubicBezTo>
                    <a:pt x="18" y="5"/>
                    <a:pt x="22" y="6"/>
                    <a:pt x="26" y="6"/>
                  </a:cubicBezTo>
                  <a:cubicBezTo>
                    <a:pt x="27" y="6"/>
                    <a:pt x="27" y="4"/>
                    <a:pt x="26" y="4"/>
                  </a:cubicBezTo>
                  <a:cubicBezTo>
                    <a:pt x="19" y="1"/>
                    <a:pt x="9" y="0"/>
                    <a:pt x="1" y="0"/>
                  </a:cubicBezTo>
                  <a:cubicBezTo>
                    <a:pt x="0" y="0"/>
                    <a:pt x="0" y="2"/>
                    <a:pt x="1" y="2"/>
                  </a:cubicBezTo>
                  <a:close/>
                </a:path>
              </a:pathLst>
            </a:custGeom>
            <a:solidFill>
              <a:srgbClr val="f6b2a9"/>
            </a:solidFill>
            <a:ln w="0">
              <a:noFill/>
            </a:ln>
          </p:spPr>
          <p:style>
            <a:lnRef idx="0"/>
            <a:fillRef idx="0"/>
            <a:effectRef idx="0"/>
            <a:fontRef idx="minor"/>
          </p:style>
          <p:txBody>
            <a:bodyPr lIns="90000" rIns="90000" tIns="-22680" bIns="-22680" anchor="t">
              <a:noAutofit/>
            </a:bodyPr>
            <a:p>
              <a:endParaRPr b="0" lang="en-US" sz="1800" spc="-1" strike="noStrike">
                <a:solidFill>
                  <a:srgbClr val="262626"/>
                </a:solidFill>
                <a:latin typeface="Arial"/>
              </a:endParaRPr>
            </a:p>
          </p:txBody>
        </p:sp>
        <p:sp>
          <p:nvSpPr>
            <p:cNvPr id="2191" name="Freeform 333"/>
            <p:cNvSpPr/>
            <p:nvPr/>
          </p:nvSpPr>
          <p:spPr>
            <a:xfrm>
              <a:off x="3447360" y="2230920"/>
              <a:ext cx="114120" cy="123840"/>
            </a:xfrm>
            <a:custGeom>
              <a:avLst/>
              <a:gdLst>
                <a:gd name="textAreaLeft" fmla="*/ 0 w 114120"/>
                <a:gd name="textAreaRight" fmla="*/ 114480 w 114120"/>
                <a:gd name="textAreaTop" fmla="*/ 0 h 123840"/>
                <a:gd name="textAreaBottom" fmla="*/ 124200 h 123840"/>
              </a:gdLst>
              <a:ahLst/>
              <a:rect l="textAreaLeft" t="textAreaTop" r="textAreaRight" b="textAreaBottom"/>
              <a:pathLst>
                <a:path w="25" h="27">
                  <a:moveTo>
                    <a:pt x="10" y="25"/>
                  </a:moveTo>
                  <a:cubicBezTo>
                    <a:pt x="13" y="23"/>
                    <a:pt x="15" y="21"/>
                    <a:pt x="17" y="19"/>
                  </a:cubicBezTo>
                  <a:cubicBezTo>
                    <a:pt x="19" y="17"/>
                    <a:pt x="22" y="14"/>
                    <a:pt x="23" y="12"/>
                  </a:cubicBezTo>
                  <a:cubicBezTo>
                    <a:pt x="25" y="8"/>
                    <a:pt x="24" y="4"/>
                    <a:pt x="21" y="2"/>
                  </a:cubicBezTo>
                  <a:cubicBezTo>
                    <a:pt x="18" y="0"/>
                    <a:pt x="15" y="1"/>
                    <a:pt x="12" y="3"/>
                  </a:cubicBezTo>
                  <a:cubicBezTo>
                    <a:pt x="10" y="4"/>
                    <a:pt x="8" y="7"/>
                    <a:pt x="6" y="9"/>
                  </a:cubicBezTo>
                  <a:cubicBezTo>
                    <a:pt x="4" y="11"/>
                    <a:pt x="2" y="14"/>
                    <a:pt x="1" y="18"/>
                  </a:cubicBezTo>
                  <a:cubicBezTo>
                    <a:pt x="0" y="23"/>
                    <a:pt x="6" y="27"/>
                    <a:pt x="10" y="25"/>
                  </a:cubicBezTo>
                  <a:close/>
                </a:path>
              </a:pathLst>
            </a:custGeom>
            <a:solidFill>
              <a:srgbClr val="384a5b"/>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92" name="Freeform 334"/>
            <p:cNvSpPr/>
            <p:nvPr/>
          </p:nvSpPr>
          <p:spPr>
            <a:xfrm>
              <a:off x="3709440" y="2107080"/>
              <a:ext cx="137880" cy="66600"/>
            </a:xfrm>
            <a:custGeom>
              <a:avLst/>
              <a:gdLst>
                <a:gd name="textAreaLeft" fmla="*/ 0 w 137880"/>
                <a:gd name="textAreaRight" fmla="*/ 138240 w 137880"/>
                <a:gd name="textAreaTop" fmla="*/ 0 h 66600"/>
                <a:gd name="textAreaBottom" fmla="*/ 66960 h 66600"/>
              </a:gdLst>
              <a:ahLst/>
              <a:rect l="textAreaLeft" t="textAreaTop" r="textAreaRight" b="textAreaBottom"/>
              <a:pathLst>
                <a:path w="30" h="15">
                  <a:moveTo>
                    <a:pt x="7" y="14"/>
                  </a:moveTo>
                  <a:cubicBezTo>
                    <a:pt x="11" y="15"/>
                    <a:pt x="15" y="15"/>
                    <a:pt x="19" y="15"/>
                  </a:cubicBezTo>
                  <a:cubicBezTo>
                    <a:pt x="24" y="15"/>
                    <a:pt x="30" y="13"/>
                    <a:pt x="30" y="7"/>
                  </a:cubicBezTo>
                  <a:cubicBezTo>
                    <a:pt x="30" y="2"/>
                    <a:pt x="24" y="0"/>
                    <a:pt x="20" y="0"/>
                  </a:cubicBezTo>
                  <a:cubicBezTo>
                    <a:pt x="15" y="0"/>
                    <a:pt x="11" y="0"/>
                    <a:pt x="7" y="1"/>
                  </a:cubicBezTo>
                  <a:cubicBezTo>
                    <a:pt x="0" y="3"/>
                    <a:pt x="0" y="12"/>
                    <a:pt x="7" y="14"/>
                  </a:cubicBezTo>
                  <a:close/>
                </a:path>
              </a:pathLst>
            </a:custGeom>
            <a:solidFill>
              <a:srgbClr val="384a5b"/>
            </a:solidFill>
            <a:ln w="0">
              <a:noFill/>
            </a:ln>
          </p:spPr>
          <p:style>
            <a:lnRef idx="0"/>
            <a:fillRef idx="0"/>
            <a:effectRef idx="0"/>
            <a:fontRef idx="minor"/>
          </p:style>
          <p:txBody>
            <a:bodyPr lIns="90000" rIns="90000" tIns="20160" bIns="20160" anchor="t">
              <a:noAutofit/>
            </a:bodyPr>
            <a:p>
              <a:endParaRPr b="0" lang="en-US" sz="1800" spc="-1" strike="noStrike">
                <a:solidFill>
                  <a:srgbClr val="262626"/>
                </a:solidFill>
                <a:latin typeface="Arial"/>
              </a:endParaRPr>
            </a:p>
          </p:txBody>
        </p:sp>
        <p:sp>
          <p:nvSpPr>
            <p:cNvPr id="2193" name="Freeform 335"/>
            <p:cNvSpPr/>
            <p:nvPr/>
          </p:nvSpPr>
          <p:spPr>
            <a:xfrm>
              <a:off x="3185280" y="1739880"/>
              <a:ext cx="495360" cy="409680"/>
            </a:xfrm>
            <a:custGeom>
              <a:avLst/>
              <a:gdLst>
                <a:gd name="textAreaLeft" fmla="*/ 0 w 495360"/>
                <a:gd name="textAreaRight" fmla="*/ 495720 w 495360"/>
                <a:gd name="textAreaTop" fmla="*/ 0 h 409680"/>
                <a:gd name="textAreaBottom" fmla="*/ 410040 h 409680"/>
              </a:gdLst>
              <a:ahLst/>
              <a:rect l="textAreaLeft" t="textAreaTop" r="textAreaRight" b="textAreaBottom"/>
              <a:pathLst>
                <a:path w="109" h="90">
                  <a:moveTo>
                    <a:pt x="3" y="88"/>
                  </a:moveTo>
                  <a:cubicBezTo>
                    <a:pt x="4" y="44"/>
                    <a:pt x="48" y="48"/>
                    <a:pt x="78" y="37"/>
                  </a:cubicBezTo>
                  <a:cubicBezTo>
                    <a:pt x="94" y="32"/>
                    <a:pt x="109" y="20"/>
                    <a:pt x="108" y="2"/>
                  </a:cubicBezTo>
                  <a:cubicBezTo>
                    <a:pt x="108" y="0"/>
                    <a:pt x="106" y="0"/>
                    <a:pt x="105" y="2"/>
                  </a:cubicBezTo>
                  <a:cubicBezTo>
                    <a:pt x="96" y="39"/>
                    <a:pt x="56" y="32"/>
                    <a:pt x="29" y="44"/>
                  </a:cubicBezTo>
                  <a:cubicBezTo>
                    <a:pt x="10" y="52"/>
                    <a:pt x="0" y="67"/>
                    <a:pt x="0" y="88"/>
                  </a:cubicBezTo>
                  <a:cubicBezTo>
                    <a:pt x="0" y="90"/>
                    <a:pt x="3" y="90"/>
                    <a:pt x="3" y="88"/>
                  </a:cubicBezTo>
                  <a:close/>
                </a:path>
              </a:pathLst>
            </a:custGeom>
            <a:solidFill>
              <a:srgbClr val="273948"/>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94" name="Freeform 336"/>
            <p:cNvSpPr/>
            <p:nvPr/>
          </p:nvSpPr>
          <p:spPr>
            <a:xfrm>
              <a:off x="3066120" y="1596960"/>
              <a:ext cx="490680" cy="471600"/>
            </a:xfrm>
            <a:custGeom>
              <a:avLst/>
              <a:gdLst>
                <a:gd name="textAreaLeft" fmla="*/ 0 w 490680"/>
                <a:gd name="textAreaRight" fmla="*/ 491040 w 490680"/>
                <a:gd name="textAreaTop" fmla="*/ 0 h 471600"/>
                <a:gd name="textAreaBottom" fmla="*/ 471960 h 471600"/>
              </a:gdLst>
              <a:ahLst/>
              <a:rect l="textAreaLeft" t="textAreaTop" r="textAreaRight" b="textAreaBottom"/>
              <a:pathLst>
                <a:path w="108" h="104">
                  <a:moveTo>
                    <a:pt x="3" y="103"/>
                  </a:moveTo>
                  <a:cubicBezTo>
                    <a:pt x="11" y="51"/>
                    <a:pt x="108" y="67"/>
                    <a:pt x="98" y="2"/>
                  </a:cubicBezTo>
                  <a:cubicBezTo>
                    <a:pt x="98" y="0"/>
                    <a:pt x="95" y="1"/>
                    <a:pt x="95" y="2"/>
                  </a:cubicBezTo>
                  <a:cubicBezTo>
                    <a:pt x="90" y="43"/>
                    <a:pt x="63" y="48"/>
                    <a:pt x="31" y="64"/>
                  </a:cubicBezTo>
                  <a:cubicBezTo>
                    <a:pt x="15" y="72"/>
                    <a:pt x="2" y="84"/>
                    <a:pt x="0" y="102"/>
                  </a:cubicBezTo>
                  <a:cubicBezTo>
                    <a:pt x="0" y="104"/>
                    <a:pt x="2" y="104"/>
                    <a:pt x="3" y="103"/>
                  </a:cubicBezTo>
                  <a:close/>
                </a:path>
              </a:pathLst>
            </a:custGeom>
            <a:solidFill>
              <a:srgbClr val="273948"/>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95" name="Freeform 337"/>
            <p:cNvSpPr/>
            <p:nvPr/>
          </p:nvSpPr>
          <p:spPr>
            <a:xfrm>
              <a:off x="3228120" y="1639800"/>
              <a:ext cx="190440" cy="176040"/>
            </a:xfrm>
            <a:custGeom>
              <a:avLst/>
              <a:gdLst>
                <a:gd name="textAreaLeft" fmla="*/ 0 w 190440"/>
                <a:gd name="textAreaRight" fmla="*/ 190800 w 190440"/>
                <a:gd name="textAreaTop" fmla="*/ 0 h 176040"/>
                <a:gd name="textAreaBottom" fmla="*/ 176400 h 176040"/>
              </a:gdLst>
              <a:ahLst/>
              <a:rect l="textAreaLeft" t="textAreaTop" r="textAreaRight" b="textAreaBottom"/>
              <a:pathLst>
                <a:path w="41" h="38">
                  <a:moveTo>
                    <a:pt x="4" y="37"/>
                  </a:moveTo>
                  <a:cubicBezTo>
                    <a:pt x="12" y="32"/>
                    <a:pt x="20" y="27"/>
                    <a:pt x="27" y="21"/>
                  </a:cubicBezTo>
                  <a:cubicBezTo>
                    <a:pt x="32" y="16"/>
                    <a:pt x="40" y="9"/>
                    <a:pt x="41" y="1"/>
                  </a:cubicBezTo>
                  <a:cubicBezTo>
                    <a:pt x="41" y="0"/>
                    <a:pt x="40" y="0"/>
                    <a:pt x="39" y="0"/>
                  </a:cubicBezTo>
                  <a:cubicBezTo>
                    <a:pt x="36" y="2"/>
                    <a:pt x="34" y="5"/>
                    <a:pt x="32" y="7"/>
                  </a:cubicBezTo>
                  <a:cubicBezTo>
                    <a:pt x="30" y="11"/>
                    <a:pt x="27" y="14"/>
                    <a:pt x="23" y="17"/>
                  </a:cubicBezTo>
                  <a:cubicBezTo>
                    <a:pt x="17" y="24"/>
                    <a:pt x="10" y="29"/>
                    <a:pt x="2" y="33"/>
                  </a:cubicBezTo>
                  <a:cubicBezTo>
                    <a:pt x="0" y="35"/>
                    <a:pt x="2" y="38"/>
                    <a:pt x="4" y="37"/>
                  </a:cubicBezTo>
                  <a:close/>
                </a:path>
              </a:pathLst>
            </a:custGeom>
            <a:solidFill>
              <a:srgbClr val="273948"/>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96" name="Freeform 338"/>
            <p:cNvSpPr/>
            <p:nvPr/>
          </p:nvSpPr>
          <p:spPr>
            <a:xfrm>
              <a:off x="3085200" y="2264400"/>
              <a:ext cx="137880" cy="357120"/>
            </a:xfrm>
            <a:custGeom>
              <a:avLst/>
              <a:gdLst>
                <a:gd name="textAreaLeft" fmla="*/ 0 w 137880"/>
                <a:gd name="textAreaRight" fmla="*/ 138240 w 137880"/>
                <a:gd name="textAreaTop" fmla="*/ 0 h 357120"/>
                <a:gd name="textAreaBottom" fmla="*/ 357120 h 357120"/>
              </a:gdLst>
              <a:ahLst/>
              <a:rect l="textAreaLeft" t="textAreaTop" r="textAreaRight" b="textAreaBottom"/>
              <a:pathLst>
                <a:path w="31" h="78">
                  <a:moveTo>
                    <a:pt x="17" y="2"/>
                  </a:moveTo>
                  <a:cubicBezTo>
                    <a:pt x="8" y="14"/>
                    <a:pt x="0" y="28"/>
                    <a:pt x="3" y="44"/>
                  </a:cubicBezTo>
                  <a:cubicBezTo>
                    <a:pt x="6" y="57"/>
                    <a:pt x="17" y="70"/>
                    <a:pt x="28" y="77"/>
                  </a:cubicBezTo>
                  <a:cubicBezTo>
                    <a:pt x="29" y="78"/>
                    <a:pt x="31" y="76"/>
                    <a:pt x="30" y="75"/>
                  </a:cubicBezTo>
                  <a:cubicBezTo>
                    <a:pt x="24" y="66"/>
                    <a:pt x="15" y="59"/>
                    <a:pt x="10" y="48"/>
                  </a:cubicBezTo>
                  <a:cubicBezTo>
                    <a:pt x="4" y="32"/>
                    <a:pt x="11" y="17"/>
                    <a:pt x="20" y="4"/>
                  </a:cubicBezTo>
                  <a:cubicBezTo>
                    <a:pt x="21" y="2"/>
                    <a:pt x="19" y="0"/>
                    <a:pt x="17" y="2"/>
                  </a:cubicBezTo>
                  <a:close/>
                </a:path>
              </a:pathLst>
            </a:custGeom>
            <a:solidFill>
              <a:srgbClr val="273948"/>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97" name="Freeform 339"/>
            <p:cNvSpPr/>
            <p:nvPr/>
          </p:nvSpPr>
          <p:spPr>
            <a:xfrm>
              <a:off x="3004200" y="2183400"/>
              <a:ext cx="66600" cy="314280"/>
            </a:xfrm>
            <a:custGeom>
              <a:avLst/>
              <a:gdLst>
                <a:gd name="textAreaLeft" fmla="*/ 0 w 66600"/>
                <a:gd name="textAreaRight" fmla="*/ 66960 w 66600"/>
                <a:gd name="textAreaTop" fmla="*/ 0 h 314280"/>
                <a:gd name="textAreaBottom" fmla="*/ 314640 h 314280"/>
              </a:gdLst>
              <a:ahLst/>
              <a:rect l="textAreaLeft" t="textAreaTop" r="textAreaRight" b="textAreaBottom"/>
              <a:pathLst>
                <a:path w="15" h="69">
                  <a:moveTo>
                    <a:pt x="3" y="3"/>
                  </a:moveTo>
                  <a:cubicBezTo>
                    <a:pt x="0" y="24"/>
                    <a:pt x="2" y="49"/>
                    <a:pt x="13" y="68"/>
                  </a:cubicBezTo>
                  <a:cubicBezTo>
                    <a:pt x="13" y="69"/>
                    <a:pt x="15" y="68"/>
                    <a:pt x="15" y="67"/>
                  </a:cubicBezTo>
                  <a:cubicBezTo>
                    <a:pt x="10" y="45"/>
                    <a:pt x="4" y="25"/>
                    <a:pt x="6" y="3"/>
                  </a:cubicBezTo>
                  <a:cubicBezTo>
                    <a:pt x="6" y="0"/>
                    <a:pt x="3" y="0"/>
                    <a:pt x="3" y="3"/>
                  </a:cubicBezTo>
                  <a:close/>
                </a:path>
              </a:pathLst>
            </a:custGeom>
            <a:solidFill>
              <a:srgbClr val="273948"/>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98" name="Freeform 340"/>
            <p:cNvSpPr/>
            <p:nvPr/>
          </p:nvSpPr>
          <p:spPr>
            <a:xfrm>
              <a:off x="3066120" y="2188080"/>
              <a:ext cx="47520" cy="133200"/>
            </a:xfrm>
            <a:custGeom>
              <a:avLst/>
              <a:gdLst>
                <a:gd name="textAreaLeft" fmla="*/ 0 w 47520"/>
                <a:gd name="textAreaRight" fmla="*/ 47880 w 47520"/>
                <a:gd name="textAreaTop" fmla="*/ 0 h 133200"/>
                <a:gd name="textAreaBottom" fmla="*/ 133560 h 133200"/>
              </a:gdLst>
              <a:ahLst/>
              <a:rect l="textAreaLeft" t="textAreaTop" r="textAreaRight" b="textAreaBottom"/>
              <a:pathLst>
                <a:path w="11" h="29">
                  <a:moveTo>
                    <a:pt x="7" y="2"/>
                  </a:moveTo>
                  <a:cubicBezTo>
                    <a:pt x="6" y="6"/>
                    <a:pt x="5" y="11"/>
                    <a:pt x="3" y="15"/>
                  </a:cubicBezTo>
                  <a:cubicBezTo>
                    <a:pt x="2" y="19"/>
                    <a:pt x="0" y="23"/>
                    <a:pt x="0" y="27"/>
                  </a:cubicBezTo>
                  <a:cubicBezTo>
                    <a:pt x="0" y="28"/>
                    <a:pt x="1" y="29"/>
                    <a:pt x="2" y="28"/>
                  </a:cubicBezTo>
                  <a:cubicBezTo>
                    <a:pt x="8" y="22"/>
                    <a:pt x="9" y="11"/>
                    <a:pt x="10" y="3"/>
                  </a:cubicBezTo>
                  <a:cubicBezTo>
                    <a:pt x="11" y="1"/>
                    <a:pt x="8" y="0"/>
                    <a:pt x="7" y="2"/>
                  </a:cubicBezTo>
                  <a:close/>
                </a:path>
              </a:pathLst>
            </a:custGeom>
            <a:solidFill>
              <a:srgbClr val="273948"/>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199" name="Freeform 341"/>
            <p:cNvSpPr/>
            <p:nvPr/>
          </p:nvSpPr>
          <p:spPr>
            <a:xfrm>
              <a:off x="2970720" y="1892520"/>
              <a:ext cx="109440" cy="152280"/>
            </a:xfrm>
            <a:custGeom>
              <a:avLst/>
              <a:gdLst>
                <a:gd name="textAreaLeft" fmla="*/ 0 w 109440"/>
                <a:gd name="textAreaRight" fmla="*/ 109800 w 109440"/>
                <a:gd name="textAreaTop" fmla="*/ 0 h 152280"/>
                <a:gd name="textAreaBottom" fmla="*/ 152640 h 152280"/>
              </a:gdLst>
              <a:ahLst/>
              <a:rect l="textAreaLeft" t="textAreaTop" r="textAreaRight" b="textAreaBottom"/>
              <a:pathLst>
                <a:path w="24" h="34">
                  <a:moveTo>
                    <a:pt x="3" y="32"/>
                  </a:moveTo>
                  <a:cubicBezTo>
                    <a:pt x="3" y="25"/>
                    <a:pt x="7" y="19"/>
                    <a:pt x="11" y="14"/>
                  </a:cubicBezTo>
                  <a:cubicBezTo>
                    <a:pt x="15" y="10"/>
                    <a:pt x="20" y="6"/>
                    <a:pt x="24" y="2"/>
                  </a:cubicBezTo>
                  <a:cubicBezTo>
                    <a:pt x="24" y="1"/>
                    <a:pt x="23" y="0"/>
                    <a:pt x="22" y="0"/>
                  </a:cubicBezTo>
                  <a:cubicBezTo>
                    <a:pt x="11" y="6"/>
                    <a:pt x="1" y="19"/>
                    <a:pt x="0" y="32"/>
                  </a:cubicBezTo>
                  <a:cubicBezTo>
                    <a:pt x="0" y="34"/>
                    <a:pt x="2" y="34"/>
                    <a:pt x="3" y="32"/>
                  </a:cubicBezTo>
                  <a:close/>
                </a:path>
              </a:pathLst>
            </a:custGeom>
            <a:solidFill>
              <a:srgbClr val="273948"/>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0" name="Freeform 342"/>
            <p:cNvSpPr/>
            <p:nvPr/>
          </p:nvSpPr>
          <p:spPr>
            <a:xfrm>
              <a:off x="5010480" y="4399560"/>
              <a:ext cx="771840" cy="509760"/>
            </a:xfrm>
            <a:custGeom>
              <a:avLst/>
              <a:gdLst>
                <a:gd name="textAreaLeft" fmla="*/ 0 w 771840"/>
                <a:gd name="textAreaRight" fmla="*/ 772200 w 771840"/>
                <a:gd name="textAreaTop" fmla="*/ 0 h 509760"/>
                <a:gd name="textAreaBottom" fmla="*/ 510120 h 509760"/>
              </a:gdLst>
              <a:ahLst/>
              <a:rect l="textAreaLeft" t="textAreaTop" r="textAreaRight" b="textAreaBottom"/>
              <a:pathLst>
                <a:path w="162" h="107">
                  <a:moveTo>
                    <a:pt x="162" y="24"/>
                  </a:moveTo>
                  <a:lnTo>
                    <a:pt x="162" y="107"/>
                  </a:lnTo>
                  <a:lnTo>
                    <a:pt x="3" y="101"/>
                  </a:lnTo>
                  <a:lnTo>
                    <a:pt x="0" y="12"/>
                  </a:lnTo>
                  <a:lnTo>
                    <a:pt x="77" y="0"/>
                  </a:lnTo>
                  <a:lnTo>
                    <a:pt x="162" y="24"/>
                  </a:ln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1" name="Freeform 343"/>
            <p:cNvSpPr/>
            <p:nvPr/>
          </p:nvSpPr>
          <p:spPr>
            <a:xfrm>
              <a:off x="4876920" y="2392920"/>
              <a:ext cx="590760" cy="767160"/>
            </a:xfrm>
            <a:custGeom>
              <a:avLst/>
              <a:gdLst>
                <a:gd name="textAreaLeft" fmla="*/ 0 w 590760"/>
                <a:gd name="textAreaRight" fmla="*/ 591120 w 590760"/>
                <a:gd name="textAreaTop" fmla="*/ 0 h 767160"/>
                <a:gd name="textAreaBottom" fmla="*/ 767520 h 767160"/>
              </a:gdLst>
              <a:ahLst/>
              <a:rect l="textAreaLeft" t="textAreaTop" r="textAreaRight" b="textAreaBottom"/>
              <a:pathLst>
                <a:path w="130" h="168">
                  <a:moveTo>
                    <a:pt x="41" y="156"/>
                  </a:moveTo>
                  <a:cubicBezTo>
                    <a:pt x="58" y="168"/>
                    <a:pt x="82" y="155"/>
                    <a:pt x="102" y="158"/>
                  </a:cubicBezTo>
                  <a:cubicBezTo>
                    <a:pt x="130" y="161"/>
                    <a:pt x="121" y="151"/>
                    <a:pt x="120" y="132"/>
                  </a:cubicBezTo>
                  <a:cubicBezTo>
                    <a:pt x="120" y="125"/>
                    <a:pt x="119" y="118"/>
                    <a:pt x="117" y="111"/>
                  </a:cubicBezTo>
                  <a:cubicBezTo>
                    <a:pt x="108" y="85"/>
                    <a:pt x="74" y="0"/>
                    <a:pt x="35" y="29"/>
                  </a:cubicBezTo>
                  <a:cubicBezTo>
                    <a:pt x="0" y="55"/>
                    <a:pt x="2" y="118"/>
                    <a:pt x="30" y="147"/>
                  </a:cubicBezTo>
                  <a:cubicBezTo>
                    <a:pt x="33" y="151"/>
                    <a:pt x="37" y="154"/>
                    <a:pt x="41" y="156"/>
                  </a:cubicBezTo>
                  <a:close/>
                </a:path>
              </a:pathLst>
            </a:custGeom>
            <a:solidFill>
              <a:srgbClr val="ff819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2" name="Freeform 344"/>
            <p:cNvSpPr/>
            <p:nvPr/>
          </p:nvSpPr>
          <p:spPr>
            <a:xfrm>
              <a:off x="4805640" y="3069720"/>
              <a:ext cx="1072080" cy="1505880"/>
            </a:xfrm>
            <a:custGeom>
              <a:avLst/>
              <a:gdLst>
                <a:gd name="textAreaLeft" fmla="*/ 0 w 1072080"/>
                <a:gd name="textAreaRight" fmla="*/ 1072440 w 1072080"/>
                <a:gd name="textAreaTop" fmla="*/ 0 h 1505880"/>
                <a:gd name="textAreaBottom" fmla="*/ 1506240 h 1505880"/>
              </a:gdLst>
              <a:ahLst/>
              <a:rect l="textAreaLeft" t="textAreaTop" r="textAreaRight" b="textAreaBottom"/>
              <a:pathLst>
                <a:path w="225" h="316">
                  <a:moveTo>
                    <a:pt x="106" y="0"/>
                  </a:moveTo>
                  <a:lnTo>
                    <a:pt x="168" y="11"/>
                  </a:lnTo>
                  <a:lnTo>
                    <a:pt x="225" y="99"/>
                  </a:lnTo>
                  <a:lnTo>
                    <a:pt x="208" y="223"/>
                  </a:lnTo>
                  <a:lnTo>
                    <a:pt x="218" y="313"/>
                  </a:lnTo>
                  <a:lnTo>
                    <a:pt x="140" y="316"/>
                  </a:lnTo>
                  <a:lnTo>
                    <a:pt x="129" y="254"/>
                  </a:lnTo>
                  <a:lnTo>
                    <a:pt x="100" y="254"/>
                  </a:lnTo>
                  <a:lnTo>
                    <a:pt x="96" y="316"/>
                  </a:lnTo>
                  <a:lnTo>
                    <a:pt x="21" y="310"/>
                  </a:lnTo>
                  <a:lnTo>
                    <a:pt x="40" y="185"/>
                  </a:lnTo>
                  <a:lnTo>
                    <a:pt x="0" y="132"/>
                  </a:lnTo>
                  <a:lnTo>
                    <a:pt x="6" y="60"/>
                  </a:lnTo>
                  <a:lnTo>
                    <a:pt x="60" y="19"/>
                  </a:lnTo>
                  <a:lnTo>
                    <a:pt x="106" y="0"/>
                  </a:lnTo>
                  <a:close/>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3" name="Freeform 345"/>
            <p:cNvSpPr/>
            <p:nvPr/>
          </p:nvSpPr>
          <p:spPr>
            <a:xfrm>
              <a:off x="5391720" y="3079440"/>
              <a:ext cx="176040" cy="466920"/>
            </a:xfrm>
            <a:custGeom>
              <a:avLst/>
              <a:gdLst>
                <a:gd name="textAreaLeft" fmla="*/ 0 w 176040"/>
                <a:gd name="textAreaRight" fmla="*/ 176400 w 176040"/>
                <a:gd name="textAreaTop" fmla="*/ 0 h 466920"/>
                <a:gd name="textAreaBottom" fmla="*/ 467280 h 466920"/>
              </a:gdLst>
              <a:ahLst/>
              <a:rect l="textAreaLeft" t="textAreaTop" r="textAreaRight" b="textAreaBottom"/>
              <a:pathLst>
                <a:path w="37" h="98">
                  <a:moveTo>
                    <a:pt x="7" y="96"/>
                  </a:moveTo>
                  <a:lnTo>
                    <a:pt x="37" y="63"/>
                  </a:lnTo>
                  <a:lnTo>
                    <a:pt x="24" y="50"/>
                  </a:lnTo>
                  <a:lnTo>
                    <a:pt x="33" y="37"/>
                  </a:lnTo>
                  <a:lnTo>
                    <a:pt x="17" y="0"/>
                  </a:lnTo>
                  <a:lnTo>
                    <a:pt x="7" y="20"/>
                  </a:lnTo>
                  <a:lnTo>
                    <a:pt x="0" y="98"/>
                  </a:lnTo>
                  <a:lnTo>
                    <a:pt x="7" y="96"/>
                  </a:ln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4" name="Freeform 346"/>
            <p:cNvSpPr/>
            <p:nvPr/>
          </p:nvSpPr>
          <p:spPr>
            <a:xfrm>
              <a:off x="5048640" y="3050640"/>
              <a:ext cx="262080" cy="176040"/>
            </a:xfrm>
            <a:custGeom>
              <a:avLst/>
              <a:gdLst>
                <a:gd name="textAreaLeft" fmla="*/ 0 w 262080"/>
                <a:gd name="textAreaRight" fmla="*/ 262440 w 262080"/>
                <a:gd name="textAreaTop" fmla="*/ 0 h 176040"/>
                <a:gd name="textAreaBottom" fmla="*/ 176400 h 176040"/>
              </a:gdLst>
              <a:ahLst/>
              <a:rect l="textAreaLeft" t="textAreaTop" r="textAreaRight" b="textAreaBottom"/>
              <a:pathLst>
                <a:path w="57" h="39">
                  <a:moveTo>
                    <a:pt x="0" y="19"/>
                  </a:moveTo>
                  <a:cubicBezTo>
                    <a:pt x="0" y="19"/>
                    <a:pt x="31" y="5"/>
                    <a:pt x="57" y="0"/>
                  </a:cubicBezTo>
                  <a:cubicBezTo>
                    <a:pt x="42" y="36"/>
                    <a:pt x="42" y="36"/>
                    <a:pt x="42" y="36"/>
                  </a:cubicBezTo>
                  <a:cubicBezTo>
                    <a:pt x="0" y="39"/>
                    <a:pt x="0" y="39"/>
                    <a:pt x="0" y="39"/>
                  </a:cubicBezTo>
                  <a:lnTo>
                    <a:pt x="0" y="19"/>
                  </a:lnTo>
                  <a:close/>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5" name="Freeform 347"/>
            <p:cNvSpPr/>
            <p:nvPr/>
          </p:nvSpPr>
          <p:spPr>
            <a:xfrm>
              <a:off x="5139000" y="3050640"/>
              <a:ext cx="171360" cy="486000"/>
            </a:xfrm>
            <a:custGeom>
              <a:avLst/>
              <a:gdLst>
                <a:gd name="textAreaLeft" fmla="*/ 0 w 171360"/>
                <a:gd name="textAreaRight" fmla="*/ 171720 w 171360"/>
                <a:gd name="textAreaTop" fmla="*/ 0 h 486000"/>
                <a:gd name="textAreaBottom" fmla="*/ 486360 h 486000"/>
              </a:gdLst>
              <a:ahLst/>
              <a:rect l="textAreaLeft" t="textAreaTop" r="textAreaRight" b="textAreaBottom"/>
              <a:pathLst>
                <a:path w="36" h="102">
                  <a:moveTo>
                    <a:pt x="26" y="102"/>
                  </a:moveTo>
                  <a:lnTo>
                    <a:pt x="0" y="72"/>
                  </a:lnTo>
                  <a:lnTo>
                    <a:pt x="13" y="52"/>
                  </a:lnTo>
                  <a:lnTo>
                    <a:pt x="0" y="23"/>
                  </a:lnTo>
                  <a:lnTo>
                    <a:pt x="36" y="0"/>
                  </a:lnTo>
                  <a:lnTo>
                    <a:pt x="32" y="102"/>
                  </a:lnTo>
                  <a:lnTo>
                    <a:pt x="26" y="102"/>
                  </a:ln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6" name="Freeform 348"/>
            <p:cNvSpPr/>
            <p:nvPr/>
          </p:nvSpPr>
          <p:spPr>
            <a:xfrm>
              <a:off x="5229720" y="4371120"/>
              <a:ext cx="357120" cy="142920"/>
            </a:xfrm>
            <a:custGeom>
              <a:avLst/>
              <a:gdLst>
                <a:gd name="textAreaLeft" fmla="*/ 0 w 357120"/>
                <a:gd name="textAreaRight" fmla="*/ 357480 w 357120"/>
                <a:gd name="textAreaTop" fmla="*/ 0 h 142920"/>
                <a:gd name="textAreaBottom" fmla="*/ 143280 h 142920"/>
              </a:gdLst>
              <a:ahLst/>
              <a:rect l="textAreaLeft" t="textAreaTop" r="textAreaRight" b="textAreaBottom"/>
              <a:pathLst>
                <a:path w="75" h="30">
                  <a:moveTo>
                    <a:pt x="0" y="30"/>
                  </a:moveTo>
                  <a:lnTo>
                    <a:pt x="67" y="30"/>
                  </a:lnTo>
                  <a:lnTo>
                    <a:pt x="75" y="0"/>
                  </a:lnTo>
                  <a:lnTo>
                    <a:pt x="0" y="6"/>
                  </a:lnTo>
                  <a:lnTo>
                    <a:pt x="0" y="30"/>
                  </a:lnTo>
                  <a:close/>
                </a:path>
              </a:pathLst>
            </a:custGeom>
            <a:solidFill>
              <a:srgbClr val="f2f2e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7" name="Freeform 349"/>
            <p:cNvSpPr/>
            <p:nvPr/>
          </p:nvSpPr>
          <p:spPr>
            <a:xfrm>
              <a:off x="4910400" y="3394080"/>
              <a:ext cx="281160" cy="519480"/>
            </a:xfrm>
            <a:custGeom>
              <a:avLst/>
              <a:gdLst>
                <a:gd name="textAreaLeft" fmla="*/ 0 w 281160"/>
                <a:gd name="textAreaRight" fmla="*/ 281520 w 281160"/>
                <a:gd name="textAreaTop" fmla="*/ 0 h 519480"/>
                <a:gd name="textAreaBottom" fmla="*/ 519840 h 519480"/>
              </a:gdLst>
              <a:ahLst/>
              <a:rect l="textAreaLeft" t="textAreaTop" r="textAreaRight" b="textAreaBottom"/>
              <a:pathLst>
                <a:path w="61" h="114">
                  <a:moveTo>
                    <a:pt x="23" y="0"/>
                  </a:moveTo>
                  <a:cubicBezTo>
                    <a:pt x="23" y="0"/>
                    <a:pt x="9" y="76"/>
                    <a:pt x="61" y="99"/>
                  </a:cubicBezTo>
                  <a:cubicBezTo>
                    <a:pt x="55" y="114"/>
                    <a:pt x="55" y="114"/>
                    <a:pt x="55" y="114"/>
                  </a:cubicBezTo>
                  <a:cubicBezTo>
                    <a:pt x="6" y="71"/>
                    <a:pt x="6" y="71"/>
                    <a:pt x="6" y="71"/>
                  </a:cubicBezTo>
                  <a:cubicBezTo>
                    <a:pt x="6" y="71"/>
                    <a:pt x="0" y="20"/>
                    <a:pt x="23" y="0"/>
                  </a:cubicBez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8" name="Freeform 350"/>
            <p:cNvSpPr/>
            <p:nvPr/>
          </p:nvSpPr>
          <p:spPr>
            <a:xfrm>
              <a:off x="5701320" y="3489120"/>
              <a:ext cx="257040" cy="486000"/>
            </a:xfrm>
            <a:custGeom>
              <a:avLst/>
              <a:gdLst>
                <a:gd name="textAreaLeft" fmla="*/ 0 w 257040"/>
                <a:gd name="textAreaRight" fmla="*/ 257400 w 257040"/>
                <a:gd name="textAreaTop" fmla="*/ 0 h 486000"/>
                <a:gd name="textAreaBottom" fmla="*/ 486360 h 486000"/>
              </a:gdLst>
              <a:ahLst/>
              <a:rect l="textAreaLeft" t="textAreaTop" r="textAreaRight" b="textAreaBottom"/>
              <a:pathLst>
                <a:path w="56" h="107">
                  <a:moveTo>
                    <a:pt x="0" y="88"/>
                  </a:moveTo>
                  <a:cubicBezTo>
                    <a:pt x="0" y="88"/>
                    <a:pt x="34" y="46"/>
                    <a:pt x="20" y="3"/>
                  </a:cubicBezTo>
                  <a:cubicBezTo>
                    <a:pt x="19" y="0"/>
                    <a:pt x="56" y="46"/>
                    <a:pt x="56" y="46"/>
                  </a:cubicBezTo>
                  <a:cubicBezTo>
                    <a:pt x="28" y="107"/>
                    <a:pt x="28" y="107"/>
                    <a:pt x="28" y="107"/>
                  </a:cubicBezTo>
                  <a:lnTo>
                    <a:pt x="0" y="88"/>
                  </a:lnTo>
                  <a:close/>
                </a:path>
              </a:pathLst>
            </a:cu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09" name="Freeform 351"/>
            <p:cNvSpPr/>
            <p:nvPr/>
          </p:nvSpPr>
          <p:spPr>
            <a:xfrm>
              <a:off x="5229720" y="3069720"/>
              <a:ext cx="218880" cy="495360"/>
            </a:xfrm>
            <a:custGeom>
              <a:avLst/>
              <a:gdLst>
                <a:gd name="textAreaLeft" fmla="*/ 0 w 218880"/>
                <a:gd name="textAreaRight" fmla="*/ 219240 w 218880"/>
                <a:gd name="textAreaTop" fmla="*/ 0 h 495360"/>
                <a:gd name="textAreaBottom" fmla="*/ 495720 h 495360"/>
              </a:gdLst>
              <a:ahLst/>
              <a:rect l="textAreaLeft" t="textAreaTop" r="textAreaRight" b="textAreaBottom"/>
              <a:pathLst>
                <a:path w="46" h="104">
                  <a:moveTo>
                    <a:pt x="23" y="0"/>
                  </a:moveTo>
                  <a:lnTo>
                    <a:pt x="0" y="16"/>
                  </a:lnTo>
                  <a:lnTo>
                    <a:pt x="1" y="19"/>
                  </a:lnTo>
                  <a:lnTo>
                    <a:pt x="14" y="104"/>
                  </a:lnTo>
                  <a:lnTo>
                    <a:pt x="34" y="104"/>
                  </a:lnTo>
                  <a:lnTo>
                    <a:pt x="46" y="19"/>
                  </a:lnTo>
                  <a:lnTo>
                    <a:pt x="23" y="0"/>
                  </a:lnTo>
                  <a:close/>
                </a:path>
              </a:pathLst>
            </a:custGeom>
            <a:solidFill>
              <a:srgbClr val="f2f2e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10" name="Freeform 352"/>
            <p:cNvSpPr/>
            <p:nvPr/>
          </p:nvSpPr>
          <p:spPr>
            <a:xfrm>
              <a:off x="5139000" y="3503520"/>
              <a:ext cx="619200" cy="952920"/>
            </a:xfrm>
            <a:custGeom>
              <a:avLst/>
              <a:gdLst>
                <a:gd name="textAreaLeft" fmla="*/ 0 w 619200"/>
                <a:gd name="textAreaRight" fmla="*/ 619560 w 619200"/>
                <a:gd name="textAreaTop" fmla="*/ 0 h 952920"/>
                <a:gd name="textAreaBottom" fmla="*/ 953280 h 952920"/>
              </a:gdLst>
              <a:ahLst/>
              <a:rect l="textAreaLeft" t="textAreaTop" r="textAreaRight" b="textAreaBottom"/>
              <a:pathLst>
                <a:path w="130" h="200">
                  <a:moveTo>
                    <a:pt x="8" y="0"/>
                  </a:moveTo>
                  <a:lnTo>
                    <a:pt x="115" y="0"/>
                  </a:lnTo>
                  <a:lnTo>
                    <a:pt x="130" y="197"/>
                  </a:lnTo>
                  <a:lnTo>
                    <a:pt x="0" y="200"/>
                  </a:lnTo>
                  <a:lnTo>
                    <a:pt x="8" y="0"/>
                  </a:lnTo>
                  <a:close/>
                </a:path>
              </a:pathLst>
            </a:custGeom>
            <a:solidFill>
              <a:srgbClr val="97cdd2"/>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11" name="Freeform 353"/>
            <p:cNvSpPr/>
            <p:nvPr/>
          </p:nvSpPr>
          <p:spPr>
            <a:xfrm>
              <a:off x="5644080" y="3737160"/>
              <a:ext cx="176040" cy="200160"/>
            </a:xfrm>
            <a:custGeom>
              <a:avLst/>
              <a:gdLst>
                <a:gd name="textAreaLeft" fmla="*/ 0 w 176040"/>
                <a:gd name="textAreaRight" fmla="*/ 176400 w 176040"/>
                <a:gd name="textAreaTop" fmla="*/ 0 h 200160"/>
                <a:gd name="textAreaBottom" fmla="*/ 200520 h 200160"/>
              </a:gdLst>
              <a:ahLst/>
              <a:rect l="textAreaLeft" t="textAreaTop" r="textAreaRight" b="textAreaBottom"/>
              <a:pathLst>
                <a:path w="39" h="43">
                  <a:moveTo>
                    <a:pt x="1" y="27"/>
                  </a:moveTo>
                  <a:cubicBezTo>
                    <a:pt x="2" y="11"/>
                    <a:pt x="21" y="0"/>
                    <a:pt x="28" y="3"/>
                  </a:cubicBezTo>
                  <a:cubicBezTo>
                    <a:pt x="35" y="6"/>
                    <a:pt x="16" y="15"/>
                    <a:pt x="16" y="15"/>
                  </a:cubicBezTo>
                  <a:cubicBezTo>
                    <a:pt x="16" y="15"/>
                    <a:pt x="34" y="10"/>
                    <a:pt x="36" y="14"/>
                  </a:cubicBezTo>
                  <a:cubicBezTo>
                    <a:pt x="39" y="18"/>
                    <a:pt x="16" y="24"/>
                    <a:pt x="16" y="24"/>
                  </a:cubicBezTo>
                  <a:cubicBezTo>
                    <a:pt x="16" y="24"/>
                    <a:pt x="32" y="24"/>
                    <a:pt x="36" y="27"/>
                  </a:cubicBezTo>
                  <a:cubicBezTo>
                    <a:pt x="39" y="30"/>
                    <a:pt x="25" y="34"/>
                    <a:pt x="17" y="34"/>
                  </a:cubicBezTo>
                  <a:cubicBezTo>
                    <a:pt x="23" y="35"/>
                    <a:pt x="37" y="37"/>
                    <a:pt x="36" y="39"/>
                  </a:cubicBezTo>
                  <a:cubicBezTo>
                    <a:pt x="34" y="43"/>
                    <a:pt x="23" y="43"/>
                    <a:pt x="19" y="43"/>
                  </a:cubicBezTo>
                  <a:cubicBezTo>
                    <a:pt x="13" y="42"/>
                    <a:pt x="0" y="42"/>
                    <a:pt x="1" y="27"/>
                  </a:cubicBez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12" name="Freeform 354"/>
            <p:cNvSpPr/>
            <p:nvPr/>
          </p:nvSpPr>
          <p:spPr>
            <a:xfrm>
              <a:off x="5587200" y="384192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21" h="21">
                  <a:moveTo>
                    <a:pt x="16" y="0"/>
                  </a:moveTo>
                  <a:lnTo>
                    <a:pt x="0" y="4"/>
                  </a:lnTo>
                  <a:lnTo>
                    <a:pt x="4" y="21"/>
                  </a:lnTo>
                  <a:lnTo>
                    <a:pt x="21" y="14"/>
                  </a:lnTo>
                  <a:lnTo>
                    <a:pt x="16" y="0"/>
                  </a:ln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13" name="Freeform 355"/>
            <p:cNvSpPr/>
            <p:nvPr/>
          </p:nvSpPr>
          <p:spPr>
            <a:xfrm>
              <a:off x="5110560" y="4180320"/>
              <a:ext cx="190440" cy="204840"/>
            </a:xfrm>
            <a:custGeom>
              <a:avLst/>
              <a:gdLst>
                <a:gd name="textAreaLeft" fmla="*/ 0 w 190440"/>
                <a:gd name="textAreaRight" fmla="*/ 190800 w 190440"/>
                <a:gd name="textAreaTop" fmla="*/ 0 h 204840"/>
                <a:gd name="textAreaBottom" fmla="*/ 205200 h 204840"/>
              </a:gdLst>
              <a:ahLst/>
              <a:rect l="textAreaLeft" t="textAreaTop" r="textAreaRight" b="textAreaBottom"/>
              <a:pathLst>
                <a:path w="42" h="45">
                  <a:moveTo>
                    <a:pt x="39" y="22"/>
                  </a:moveTo>
                  <a:cubicBezTo>
                    <a:pt x="35" y="37"/>
                    <a:pt x="15" y="45"/>
                    <a:pt x="8" y="41"/>
                  </a:cubicBezTo>
                  <a:cubicBezTo>
                    <a:pt x="2" y="37"/>
                    <a:pt x="22" y="32"/>
                    <a:pt x="22" y="32"/>
                  </a:cubicBezTo>
                  <a:cubicBezTo>
                    <a:pt x="22" y="32"/>
                    <a:pt x="4" y="33"/>
                    <a:pt x="2" y="29"/>
                  </a:cubicBezTo>
                  <a:cubicBezTo>
                    <a:pt x="0" y="24"/>
                    <a:pt x="24" y="23"/>
                    <a:pt x="24" y="23"/>
                  </a:cubicBezTo>
                  <a:cubicBezTo>
                    <a:pt x="24" y="23"/>
                    <a:pt x="8" y="20"/>
                    <a:pt x="5" y="16"/>
                  </a:cubicBezTo>
                  <a:cubicBezTo>
                    <a:pt x="2" y="13"/>
                    <a:pt x="17" y="11"/>
                    <a:pt x="25" y="12"/>
                  </a:cubicBezTo>
                  <a:cubicBezTo>
                    <a:pt x="19" y="11"/>
                    <a:pt x="5" y="6"/>
                    <a:pt x="7" y="4"/>
                  </a:cubicBezTo>
                  <a:cubicBezTo>
                    <a:pt x="9" y="0"/>
                    <a:pt x="19" y="3"/>
                    <a:pt x="24" y="4"/>
                  </a:cubicBezTo>
                  <a:cubicBezTo>
                    <a:pt x="30" y="5"/>
                    <a:pt x="42" y="7"/>
                    <a:pt x="39" y="22"/>
                  </a:cubicBez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14" name="Freeform 356"/>
            <p:cNvSpPr/>
            <p:nvPr/>
          </p:nvSpPr>
          <p:spPr>
            <a:xfrm>
              <a:off x="5248800" y="4232880"/>
              <a:ext cx="123840" cy="90360"/>
            </a:xfrm>
            <a:custGeom>
              <a:avLst/>
              <a:gdLst>
                <a:gd name="textAreaLeft" fmla="*/ 0 w 123840"/>
                <a:gd name="textAreaRight" fmla="*/ 124200 w 123840"/>
                <a:gd name="textAreaTop" fmla="*/ 0 h 90360"/>
                <a:gd name="textAreaBottom" fmla="*/ 90720 h 90360"/>
              </a:gdLst>
              <a:ahLst/>
              <a:rect l="textAreaLeft" t="textAreaTop" r="textAreaRight" b="textAreaBottom"/>
              <a:pathLst>
                <a:path w="26" h="19">
                  <a:moveTo>
                    <a:pt x="23" y="0"/>
                  </a:moveTo>
                  <a:lnTo>
                    <a:pt x="1" y="0"/>
                  </a:lnTo>
                  <a:lnTo>
                    <a:pt x="0" y="19"/>
                  </a:lnTo>
                  <a:lnTo>
                    <a:pt x="26" y="16"/>
                  </a:lnTo>
                  <a:lnTo>
                    <a:pt x="23" y="0"/>
                  </a:lnTo>
                  <a:close/>
                </a:path>
              </a:pathLst>
            </a:custGeom>
            <a:solidFill>
              <a:srgbClr val="ffded7"/>
            </a:solidFill>
            <a:ln w="0">
              <a:noFill/>
            </a:ln>
          </p:spPr>
          <p:style>
            <a:lnRef idx="0"/>
            <a:fillRef idx="0"/>
            <a:effectRef idx="0"/>
            <a:fontRef idx="minor"/>
          </p:style>
          <p:txBody>
            <a:bodyPr lIns="90000" rIns="90000" tIns="43920" bIns="43920" anchor="t">
              <a:noAutofit/>
            </a:bodyPr>
            <a:p>
              <a:endParaRPr b="0" lang="en-US" sz="1800" spc="-1" strike="noStrike">
                <a:solidFill>
                  <a:srgbClr val="262626"/>
                </a:solidFill>
                <a:latin typeface="Arial"/>
              </a:endParaRPr>
            </a:p>
          </p:txBody>
        </p:sp>
        <p:sp>
          <p:nvSpPr>
            <p:cNvPr id="2215" name="Freeform 357"/>
            <p:cNvSpPr/>
            <p:nvPr/>
          </p:nvSpPr>
          <p:spPr>
            <a:xfrm>
              <a:off x="5606280" y="3827520"/>
              <a:ext cx="56880" cy="123840"/>
            </a:xfrm>
            <a:custGeom>
              <a:avLst/>
              <a:gdLst>
                <a:gd name="textAreaLeft" fmla="*/ 0 w 56880"/>
                <a:gd name="textAreaRight" fmla="*/ 57240 w 56880"/>
                <a:gd name="textAreaTop" fmla="*/ 0 h 123840"/>
                <a:gd name="textAreaBottom" fmla="*/ 124200 h 123840"/>
              </a:gdLst>
              <a:ahLst/>
              <a:rect l="textAreaLeft" t="textAreaTop" r="textAreaRight" b="textAreaBottom"/>
              <a:pathLst>
                <a:path w="12" h="26">
                  <a:moveTo>
                    <a:pt x="0" y="2"/>
                  </a:moveTo>
                  <a:lnTo>
                    <a:pt x="7" y="0"/>
                  </a:lnTo>
                  <a:lnTo>
                    <a:pt x="12" y="25"/>
                  </a:lnTo>
                  <a:lnTo>
                    <a:pt x="2" y="26"/>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16" name="Freeform 358"/>
            <p:cNvSpPr/>
            <p:nvPr/>
          </p:nvSpPr>
          <p:spPr>
            <a:xfrm>
              <a:off x="5296320" y="4213800"/>
              <a:ext cx="71280" cy="123840"/>
            </a:xfrm>
            <a:custGeom>
              <a:avLst/>
              <a:gdLst>
                <a:gd name="textAreaLeft" fmla="*/ 0 w 71280"/>
                <a:gd name="textAreaRight" fmla="*/ 71640 w 71280"/>
                <a:gd name="textAreaTop" fmla="*/ 0 h 123840"/>
                <a:gd name="textAreaBottom" fmla="*/ 124200 h 123840"/>
              </a:gdLst>
              <a:ahLst/>
              <a:rect l="textAreaLeft" t="textAreaTop" r="textAreaRight" b="textAreaBottom"/>
              <a:pathLst>
                <a:path w="15" h="26">
                  <a:moveTo>
                    <a:pt x="10" y="0"/>
                  </a:moveTo>
                  <a:lnTo>
                    <a:pt x="0" y="2"/>
                  </a:lnTo>
                  <a:lnTo>
                    <a:pt x="0" y="26"/>
                  </a:lnTo>
                  <a:lnTo>
                    <a:pt x="15" y="26"/>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17" name="Freeform 359"/>
            <p:cNvSpPr/>
            <p:nvPr/>
          </p:nvSpPr>
          <p:spPr>
            <a:xfrm>
              <a:off x="5329800" y="3036600"/>
              <a:ext cx="786240" cy="1324800"/>
            </a:xfrm>
            <a:custGeom>
              <a:avLst/>
              <a:gdLst>
                <a:gd name="textAreaLeft" fmla="*/ 0 w 786240"/>
                <a:gd name="textAreaRight" fmla="*/ 786600 w 786240"/>
                <a:gd name="textAreaTop" fmla="*/ 0 h 1324800"/>
                <a:gd name="textAreaBottom" fmla="*/ 1325160 h 1324800"/>
              </a:gdLst>
              <a:ahLst/>
              <a:rect l="textAreaLeft" t="textAreaTop" r="textAreaRight" b="textAreaBottom"/>
              <a:pathLst>
                <a:path w="172" h="290">
                  <a:moveTo>
                    <a:pt x="14" y="0"/>
                  </a:moveTo>
                  <a:cubicBezTo>
                    <a:pt x="14" y="0"/>
                    <a:pt x="152" y="41"/>
                    <a:pt x="162" y="135"/>
                  </a:cubicBezTo>
                  <a:cubicBezTo>
                    <a:pt x="172" y="229"/>
                    <a:pt x="85" y="286"/>
                    <a:pt x="3" y="290"/>
                  </a:cubicBezTo>
                  <a:cubicBezTo>
                    <a:pt x="0" y="256"/>
                    <a:pt x="0" y="256"/>
                    <a:pt x="0" y="256"/>
                  </a:cubicBezTo>
                  <a:cubicBezTo>
                    <a:pt x="0" y="256"/>
                    <a:pt x="143" y="221"/>
                    <a:pt x="99" y="97"/>
                  </a:cubicBezTo>
                  <a:lnTo>
                    <a:pt x="14" y="0"/>
                  </a:lnTo>
                  <a:close/>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18" name="Freeform 360"/>
            <p:cNvSpPr/>
            <p:nvPr/>
          </p:nvSpPr>
          <p:spPr>
            <a:xfrm>
              <a:off x="4848480" y="1277640"/>
              <a:ext cx="1634400" cy="2116080"/>
            </a:xfrm>
            <a:custGeom>
              <a:avLst/>
              <a:gdLst>
                <a:gd name="textAreaLeft" fmla="*/ 0 w 1634400"/>
                <a:gd name="textAreaRight" fmla="*/ 1634760 w 1634400"/>
                <a:gd name="textAreaTop" fmla="*/ 0 h 2116080"/>
                <a:gd name="textAreaBottom" fmla="*/ 2116440 h 2116080"/>
              </a:gdLst>
              <a:ahLst/>
              <a:rect l="textAreaLeft" t="textAreaTop" r="textAreaRight" b="textAreaBottom"/>
              <a:pathLst>
                <a:path w="358" h="464">
                  <a:moveTo>
                    <a:pt x="135" y="426"/>
                  </a:moveTo>
                  <a:cubicBezTo>
                    <a:pt x="160" y="449"/>
                    <a:pt x="193" y="462"/>
                    <a:pt x="227" y="463"/>
                  </a:cubicBezTo>
                  <a:cubicBezTo>
                    <a:pt x="261" y="464"/>
                    <a:pt x="295" y="453"/>
                    <a:pt x="321" y="432"/>
                  </a:cubicBezTo>
                  <a:cubicBezTo>
                    <a:pt x="333" y="422"/>
                    <a:pt x="344" y="411"/>
                    <a:pt x="349" y="396"/>
                  </a:cubicBezTo>
                  <a:cubicBezTo>
                    <a:pt x="358" y="371"/>
                    <a:pt x="349" y="342"/>
                    <a:pt x="337" y="318"/>
                  </a:cubicBezTo>
                  <a:cubicBezTo>
                    <a:pt x="315" y="274"/>
                    <a:pt x="283" y="233"/>
                    <a:pt x="277" y="185"/>
                  </a:cubicBezTo>
                  <a:cubicBezTo>
                    <a:pt x="275" y="169"/>
                    <a:pt x="269" y="132"/>
                    <a:pt x="263" y="119"/>
                  </a:cubicBezTo>
                  <a:cubicBezTo>
                    <a:pt x="243" y="77"/>
                    <a:pt x="210" y="39"/>
                    <a:pt x="166" y="21"/>
                  </a:cubicBezTo>
                  <a:cubicBezTo>
                    <a:pt x="127" y="5"/>
                    <a:pt x="79" y="0"/>
                    <a:pt x="44" y="25"/>
                  </a:cubicBezTo>
                  <a:cubicBezTo>
                    <a:pt x="26" y="38"/>
                    <a:pt x="23" y="70"/>
                    <a:pt x="23" y="70"/>
                  </a:cubicBezTo>
                  <a:cubicBezTo>
                    <a:pt x="23" y="70"/>
                    <a:pt x="12" y="85"/>
                    <a:pt x="9" y="98"/>
                  </a:cubicBezTo>
                  <a:cubicBezTo>
                    <a:pt x="0" y="128"/>
                    <a:pt x="2" y="140"/>
                    <a:pt x="14" y="170"/>
                  </a:cubicBezTo>
                  <a:cubicBezTo>
                    <a:pt x="25" y="199"/>
                    <a:pt x="42" y="226"/>
                    <a:pt x="57" y="254"/>
                  </a:cubicBezTo>
                  <a:cubicBezTo>
                    <a:pt x="62" y="265"/>
                    <a:pt x="68" y="277"/>
                    <a:pt x="73" y="288"/>
                  </a:cubicBezTo>
                  <a:cubicBezTo>
                    <a:pt x="84" y="311"/>
                    <a:pt x="101" y="336"/>
                    <a:pt x="104" y="361"/>
                  </a:cubicBezTo>
                  <a:cubicBezTo>
                    <a:pt x="107" y="388"/>
                    <a:pt x="114" y="408"/>
                    <a:pt x="135" y="426"/>
                  </a:cubicBezTo>
                  <a:close/>
                </a:path>
              </a:pathLst>
            </a:custGeom>
            <a:solidFill>
              <a:srgbClr val="ff819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19" name="Freeform 361"/>
            <p:cNvSpPr/>
            <p:nvPr/>
          </p:nvSpPr>
          <p:spPr>
            <a:xfrm>
              <a:off x="4719600" y="1677960"/>
              <a:ext cx="1095840" cy="1429560"/>
            </a:xfrm>
            <a:custGeom>
              <a:avLst/>
              <a:gdLst>
                <a:gd name="textAreaLeft" fmla="*/ 0 w 1095840"/>
                <a:gd name="textAreaRight" fmla="*/ 1096200 w 1095840"/>
                <a:gd name="textAreaTop" fmla="*/ 0 h 1429560"/>
                <a:gd name="textAreaBottom" fmla="*/ 1429920 h 1429560"/>
              </a:gdLst>
              <a:ahLst/>
              <a:rect l="textAreaLeft" t="textAreaTop" r="textAreaRight" b="textAreaBottom"/>
              <a:pathLst>
                <a:path w="240" h="314">
                  <a:moveTo>
                    <a:pt x="128" y="304"/>
                  </a:moveTo>
                  <a:cubicBezTo>
                    <a:pt x="128" y="304"/>
                    <a:pt x="129" y="279"/>
                    <a:pt x="84" y="239"/>
                  </a:cubicBezTo>
                  <a:cubicBezTo>
                    <a:pt x="43" y="203"/>
                    <a:pt x="0" y="165"/>
                    <a:pt x="64" y="0"/>
                  </a:cubicBezTo>
                  <a:cubicBezTo>
                    <a:pt x="164" y="21"/>
                    <a:pt x="164" y="21"/>
                    <a:pt x="164" y="21"/>
                  </a:cubicBezTo>
                  <a:cubicBezTo>
                    <a:pt x="227" y="88"/>
                    <a:pt x="227" y="88"/>
                    <a:pt x="227" y="88"/>
                  </a:cubicBezTo>
                  <a:cubicBezTo>
                    <a:pt x="227" y="88"/>
                    <a:pt x="240" y="123"/>
                    <a:pt x="227" y="143"/>
                  </a:cubicBezTo>
                  <a:cubicBezTo>
                    <a:pt x="188" y="205"/>
                    <a:pt x="151" y="304"/>
                    <a:pt x="151" y="304"/>
                  </a:cubicBezTo>
                  <a:cubicBezTo>
                    <a:pt x="151" y="304"/>
                    <a:pt x="139" y="314"/>
                    <a:pt x="128" y="304"/>
                  </a:cubicBez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20" name="Freeform 362"/>
            <p:cNvSpPr/>
            <p:nvPr/>
          </p:nvSpPr>
          <p:spPr>
            <a:xfrm>
              <a:off x="5639400" y="2254680"/>
              <a:ext cx="318960" cy="247680"/>
            </a:xfrm>
            <a:custGeom>
              <a:avLst/>
              <a:gdLst>
                <a:gd name="textAreaLeft" fmla="*/ 0 w 318960"/>
                <a:gd name="textAreaRight" fmla="*/ 319320 w 318960"/>
                <a:gd name="textAreaTop" fmla="*/ 0 h 247680"/>
                <a:gd name="textAreaBottom" fmla="*/ 248040 h 247680"/>
              </a:gdLst>
              <a:ahLst/>
              <a:rect l="textAreaLeft" t="textAreaTop" r="textAreaRight" b="textAreaBottom"/>
              <a:pathLst>
                <a:path w="70" h="54">
                  <a:moveTo>
                    <a:pt x="3" y="32"/>
                  </a:moveTo>
                  <a:cubicBezTo>
                    <a:pt x="3" y="32"/>
                    <a:pt x="54" y="0"/>
                    <a:pt x="62" y="15"/>
                  </a:cubicBezTo>
                  <a:cubicBezTo>
                    <a:pt x="70" y="29"/>
                    <a:pt x="38" y="54"/>
                    <a:pt x="0" y="39"/>
                  </a:cubicBezTo>
                  <a:lnTo>
                    <a:pt x="3" y="32"/>
                  </a:lnTo>
                  <a:close/>
                </a:path>
              </a:pathLst>
            </a:custGeom>
            <a:solidFill>
              <a:srgbClr val="ffded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21" name="Freeform 363"/>
            <p:cNvSpPr/>
            <p:nvPr/>
          </p:nvSpPr>
          <p:spPr>
            <a:xfrm>
              <a:off x="4957920" y="1563480"/>
              <a:ext cx="1019520" cy="786240"/>
            </a:xfrm>
            <a:custGeom>
              <a:avLst/>
              <a:gdLst>
                <a:gd name="textAreaLeft" fmla="*/ 0 w 1019520"/>
                <a:gd name="textAreaRight" fmla="*/ 1019880 w 1019520"/>
                <a:gd name="textAreaTop" fmla="*/ 0 h 786240"/>
                <a:gd name="textAreaBottom" fmla="*/ 786600 h 786240"/>
              </a:gdLst>
              <a:ahLst/>
              <a:rect l="textAreaLeft" t="textAreaTop" r="textAreaRight" b="textAreaBottom"/>
              <a:pathLst>
                <a:path w="224" h="172">
                  <a:moveTo>
                    <a:pt x="10" y="18"/>
                  </a:moveTo>
                  <a:cubicBezTo>
                    <a:pt x="10" y="18"/>
                    <a:pt x="0" y="137"/>
                    <a:pt x="173" y="172"/>
                  </a:cubicBezTo>
                  <a:cubicBezTo>
                    <a:pt x="224" y="117"/>
                    <a:pt x="224" y="117"/>
                    <a:pt x="224" y="117"/>
                  </a:cubicBezTo>
                  <a:cubicBezTo>
                    <a:pt x="83" y="0"/>
                    <a:pt x="83" y="0"/>
                    <a:pt x="83" y="0"/>
                  </a:cubicBezTo>
                  <a:lnTo>
                    <a:pt x="10" y="18"/>
                  </a:lnTo>
                  <a:close/>
                </a:path>
              </a:pathLst>
            </a:custGeom>
            <a:solidFill>
              <a:srgbClr val="ff819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22" name="Freeform 364"/>
            <p:cNvSpPr/>
            <p:nvPr/>
          </p:nvSpPr>
          <p:spPr>
            <a:xfrm>
              <a:off x="5134320" y="3045960"/>
              <a:ext cx="409680" cy="247680"/>
            </a:xfrm>
            <a:custGeom>
              <a:avLst/>
              <a:gdLst>
                <a:gd name="textAreaLeft" fmla="*/ 0 w 409680"/>
                <a:gd name="textAreaRight" fmla="*/ 410040 w 409680"/>
                <a:gd name="textAreaTop" fmla="*/ 0 h 247680"/>
                <a:gd name="textAreaBottom" fmla="*/ 248040 h 247680"/>
              </a:gdLst>
              <a:ahLst/>
              <a:rect l="textAreaLeft" t="textAreaTop" r="textAreaRight" b="textAreaBottom"/>
              <a:pathLst>
                <a:path w="90" h="54">
                  <a:moveTo>
                    <a:pt x="37" y="1"/>
                  </a:moveTo>
                  <a:cubicBezTo>
                    <a:pt x="37" y="1"/>
                    <a:pt x="0" y="33"/>
                    <a:pt x="5" y="44"/>
                  </a:cubicBezTo>
                  <a:cubicBezTo>
                    <a:pt x="11" y="54"/>
                    <a:pt x="42" y="19"/>
                    <a:pt x="42" y="19"/>
                  </a:cubicBezTo>
                  <a:cubicBezTo>
                    <a:pt x="42" y="19"/>
                    <a:pt x="68" y="51"/>
                    <a:pt x="79" y="46"/>
                  </a:cubicBezTo>
                  <a:cubicBezTo>
                    <a:pt x="90" y="40"/>
                    <a:pt x="61" y="0"/>
                    <a:pt x="61" y="0"/>
                  </a:cubicBezTo>
                  <a:cubicBezTo>
                    <a:pt x="61" y="0"/>
                    <a:pt x="46" y="10"/>
                    <a:pt x="37"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23" name="Freeform 365"/>
            <p:cNvSpPr/>
            <p:nvPr/>
          </p:nvSpPr>
          <p:spPr>
            <a:xfrm>
              <a:off x="4595760" y="3088800"/>
              <a:ext cx="1048320" cy="1210320"/>
            </a:xfrm>
            <a:custGeom>
              <a:avLst/>
              <a:gdLst>
                <a:gd name="textAreaLeft" fmla="*/ 0 w 1048320"/>
                <a:gd name="textAreaRight" fmla="*/ 1048680 w 1048320"/>
                <a:gd name="textAreaTop" fmla="*/ 0 h 1210320"/>
                <a:gd name="textAreaBottom" fmla="*/ 1210680 h 1210320"/>
              </a:gdLst>
              <a:ahLst/>
              <a:rect l="textAreaLeft" t="textAreaTop" r="textAreaRight" b="textAreaBottom"/>
              <a:pathLst>
                <a:path w="230" h="266">
                  <a:moveTo>
                    <a:pt x="224" y="159"/>
                  </a:moveTo>
                  <a:cubicBezTo>
                    <a:pt x="230" y="192"/>
                    <a:pt x="230" y="192"/>
                    <a:pt x="230" y="192"/>
                  </a:cubicBezTo>
                  <a:cubicBezTo>
                    <a:pt x="230" y="192"/>
                    <a:pt x="139" y="266"/>
                    <a:pt x="59" y="184"/>
                  </a:cubicBezTo>
                  <a:cubicBezTo>
                    <a:pt x="0" y="124"/>
                    <a:pt x="42" y="49"/>
                    <a:pt x="95" y="13"/>
                  </a:cubicBezTo>
                  <a:cubicBezTo>
                    <a:pt x="115" y="0"/>
                    <a:pt x="114" y="41"/>
                    <a:pt x="114" y="41"/>
                  </a:cubicBezTo>
                  <a:cubicBezTo>
                    <a:pt x="92" y="67"/>
                    <a:pt x="92" y="67"/>
                    <a:pt x="92" y="67"/>
                  </a:cubicBezTo>
                  <a:cubicBezTo>
                    <a:pt x="92" y="67"/>
                    <a:pt x="77" y="106"/>
                    <a:pt x="86" y="130"/>
                  </a:cubicBezTo>
                  <a:cubicBezTo>
                    <a:pt x="99" y="163"/>
                    <a:pt x="133" y="195"/>
                    <a:pt x="224" y="159"/>
                  </a:cubicBezTo>
                  <a:close/>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24" name="Freeform 366"/>
            <p:cNvSpPr/>
            <p:nvPr/>
          </p:nvSpPr>
          <p:spPr>
            <a:xfrm>
              <a:off x="5320080" y="3198600"/>
              <a:ext cx="33120" cy="33120"/>
            </a:xfrm>
            <a:custGeom>
              <a:avLst/>
              <a:gdLst>
                <a:gd name="textAreaLeft" fmla="*/ 0 w 33120"/>
                <a:gd name="textAreaRight" fmla="*/ 33480 w 33120"/>
                <a:gd name="textAreaTop" fmla="*/ 0 h 33120"/>
                <a:gd name="textAreaBottom" fmla="*/ 33480 h 33120"/>
              </a:gdLst>
              <a:ahLst/>
              <a:rect l="textAreaLeft" t="textAreaTop" r="textAreaRight" b="textAreaBottom"/>
              <a:pathLst>
                <a:path w="8" h="8">
                  <a:moveTo>
                    <a:pt x="3" y="7"/>
                  </a:moveTo>
                  <a:cubicBezTo>
                    <a:pt x="3" y="7"/>
                    <a:pt x="3" y="7"/>
                    <a:pt x="3" y="7"/>
                  </a:cubicBezTo>
                  <a:cubicBezTo>
                    <a:pt x="5" y="8"/>
                    <a:pt x="8" y="5"/>
                    <a:pt x="7" y="3"/>
                  </a:cubicBezTo>
                  <a:cubicBezTo>
                    <a:pt x="7" y="3"/>
                    <a:pt x="7" y="3"/>
                    <a:pt x="7" y="3"/>
                  </a:cubicBezTo>
                  <a:cubicBezTo>
                    <a:pt x="6" y="1"/>
                    <a:pt x="3" y="0"/>
                    <a:pt x="2" y="2"/>
                  </a:cubicBezTo>
                  <a:cubicBezTo>
                    <a:pt x="0" y="3"/>
                    <a:pt x="1" y="6"/>
                    <a:pt x="3" y="7"/>
                  </a:cubicBezTo>
                  <a:close/>
                </a:path>
              </a:pathLst>
            </a:custGeom>
            <a:solidFill>
              <a:srgbClr val="474747"/>
            </a:solidFill>
            <a:ln w="0">
              <a:noFill/>
            </a:ln>
          </p:spPr>
          <p:style>
            <a:lnRef idx="0"/>
            <a:fillRef idx="0"/>
            <a:effectRef idx="0"/>
            <a:fontRef idx="minor"/>
          </p:style>
          <p:txBody>
            <a:bodyPr lIns="90000" rIns="90000" tIns="-13320" bIns="-13320" anchor="t">
              <a:noAutofit/>
            </a:bodyPr>
            <a:p>
              <a:endParaRPr b="0" lang="en-US" sz="1800" spc="-1" strike="noStrike">
                <a:solidFill>
                  <a:srgbClr val="262626"/>
                </a:solidFill>
                <a:latin typeface="Arial"/>
              </a:endParaRPr>
            </a:p>
          </p:txBody>
        </p:sp>
        <p:sp>
          <p:nvSpPr>
            <p:cNvPr id="2225" name="Freeform 367"/>
            <p:cNvSpPr/>
            <p:nvPr/>
          </p:nvSpPr>
          <p:spPr>
            <a:xfrm>
              <a:off x="5320080" y="336528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7" h="6">
                  <a:moveTo>
                    <a:pt x="4" y="6"/>
                  </a:moveTo>
                  <a:cubicBezTo>
                    <a:pt x="7" y="6"/>
                    <a:pt x="7" y="0"/>
                    <a:pt x="4" y="0"/>
                  </a:cubicBezTo>
                  <a:cubicBezTo>
                    <a:pt x="0" y="0"/>
                    <a:pt x="0" y="6"/>
                    <a:pt x="4" y="6"/>
                  </a:cubicBezTo>
                  <a:close/>
                </a:path>
              </a:pathLst>
            </a:custGeom>
            <a:solidFill>
              <a:srgbClr val="474747"/>
            </a:solidFill>
            <a:ln w="0">
              <a:noFill/>
            </a:ln>
          </p:spPr>
          <p:style>
            <a:lnRef idx="0"/>
            <a:fillRef idx="0"/>
            <a:effectRef idx="0"/>
            <a:fontRef idx="minor"/>
          </p:style>
          <p:txBody>
            <a:bodyPr lIns="90000" rIns="90000" tIns="-18000" bIns="-18000" anchor="t">
              <a:noAutofit/>
            </a:bodyPr>
            <a:p>
              <a:endParaRPr b="0" lang="en-US" sz="1800" spc="-1" strike="noStrike">
                <a:solidFill>
                  <a:srgbClr val="262626"/>
                </a:solidFill>
                <a:latin typeface="Arial"/>
              </a:endParaRPr>
            </a:p>
          </p:txBody>
        </p:sp>
        <p:sp>
          <p:nvSpPr>
            <p:cNvPr id="2226" name="Freeform 368"/>
            <p:cNvSpPr/>
            <p:nvPr/>
          </p:nvSpPr>
          <p:spPr>
            <a:xfrm>
              <a:off x="5010480" y="2269080"/>
              <a:ext cx="147600" cy="295200"/>
            </a:xfrm>
            <a:custGeom>
              <a:avLst/>
              <a:gdLst>
                <a:gd name="textAreaLeft" fmla="*/ 0 w 147600"/>
                <a:gd name="textAreaRight" fmla="*/ 147960 w 147600"/>
                <a:gd name="textAreaTop" fmla="*/ 0 h 295200"/>
                <a:gd name="textAreaBottom" fmla="*/ 295560 h 295200"/>
              </a:gdLst>
              <a:ahLst/>
              <a:rect l="textAreaLeft" t="textAreaTop" r="textAreaRight" b="textAreaBottom"/>
              <a:pathLst>
                <a:path w="32" h="64">
                  <a:moveTo>
                    <a:pt x="29" y="1"/>
                  </a:moveTo>
                  <a:cubicBezTo>
                    <a:pt x="22" y="13"/>
                    <a:pt x="16" y="25"/>
                    <a:pt x="11" y="38"/>
                  </a:cubicBezTo>
                  <a:cubicBezTo>
                    <a:pt x="8" y="43"/>
                    <a:pt x="0" y="56"/>
                    <a:pt x="2" y="62"/>
                  </a:cubicBezTo>
                  <a:cubicBezTo>
                    <a:pt x="2" y="62"/>
                    <a:pt x="3" y="63"/>
                    <a:pt x="3" y="63"/>
                  </a:cubicBezTo>
                  <a:cubicBezTo>
                    <a:pt x="7" y="64"/>
                    <a:pt x="9" y="61"/>
                    <a:pt x="12" y="59"/>
                  </a:cubicBezTo>
                  <a:cubicBezTo>
                    <a:pt x="19" y="54"/>
                    <a:pt x="25" y="50"/>
                    <a:pt x="31" y="44"/>
                  </a:cubicBezTo>
                  <a:cubicBezTo>
                    <a:pt x="32" y="43"/>
                    <a:pt x="31" y="42"/>
                    <a:pt x="30" y="42"/>
                  </a:cubicBezTo>
                  <a:cubicBezTo>
                    <a:pt x="23" y="46"/>
                    <a:pt x="17" y="51"/>
                    <a:pt x="10" y="56"/>
                  </a:cubicBezTo>
                  <a:cubicBezTo>
                    <a:pt x="9" y="57"/>
                    <a:pt x="3" y="58"/>
                    <a:pt x="5" y="60"/>
                  </a:cubicBezTo>
                  <a:cubicBezTo>
                    <a:pt x="5" y="60"/>
                    <a:pt x="10" y="47"/>
                    <a:pt x="11" y="47"/>
                  </a:cubicBezTo>
                  <a:cubicBezTo>
                    <a:pt x="17" y="32"/>
                    <a:pt x="22" y="16"/>
                    <a:pt x="31" y="3"/>
                  </a:cubicBezTo>
                  <a:cubicBezTo>
                    <a:pt x="32" y="1"/>
                    <a:pt x="30" y="0"/>
                    <a:pt x="29" y="1"/>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27" name="Freeform 369"/>
            <p:cNvSpPr/>
            <p:nvPr/>
          </p:nvSpPr>
          <p:spPr>
            <a:xfrm>
              <a:off x="5291640" y="225000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12" h="11">
                  <a:moveTo>
                    <a:pt x="1" y="4"/>
                  </a:moveTo>
                  <a:cubicBezTo>
                    <a:pt x="1" y="2"/>
                    <a:pt x="4" y="0"/>
                    <a:pt x="7" y="1"/>
                  </a:cubicBezTo>
                  <a:cubicBezTo>
                    <a:pt x="10" y="2"/>
                    <a:pt x="12" y="5"/>
                    <a:pt x="11" y="7"/>
                  </a:cubicBezTo>
                  <a:cubicBezTo>
                    <a:pt x="10" y="10"/>
                    <a:pt x="9" y="11"/>
                    <a:pt x="6" y="11"/>
                  </a:cubicBezTo>
                  <a:cubicBezTo>
                    <a:pt x="3" y="10"/>
                    <a:pt x="0" y="7"/>
                    <a:pt x="1" y="4"/>
                  </a:cubicBezTo>
                  <a:close/>
                </a:path>
              </a:pathLst>
            </a:custGeom>
            <a:solidFill>
              <a:srgbClr val="474747"/>
            </a:solidFill>
            <a:ln w="0">
              <a:noFill/>
            </a:ln>
          </p:spPr>
          <p:style>
            <a:lnRef idx="0"/>
            <a:fillRef idx="0"/>
            <a:effectRef idx="0"/>
            <a:fontRef idx="minor"/>
          </p:style>
          <p:txBody>
            <a:bodyPr lIns="90000" rIns="90000" tIns="5760" bIns="5760" anchor="t">
              <a:noAutofit/>
            </a:bodyPr>
            <a:p>
              <a:endParaRPr b="0" lang="en-US" sz="1800" spc="-1" strike="noStrike">
                <a:solidFill>
                  <a:srgbClr val="262626"/>
                </a:solidFill>
                <a:latin typeface="Arial"/>
              </a:endParaRPr>
            </a:p>
          </p:txBody>
        </p:sp>
        <p:sp>
          <p:nvSpPr>
            <p:cNvPr id="2228" name="Freeform 370"/>
            <p:cNvSpPr/>
            <p:nvPr/>
          </p:nvSpPr>
          <p:spPr>
            <a:xfrm>
              <a:off x="5019840" y="2211840"/>
              <a:ext cx="56880" cy="52200"/>
            </a:xfrm>
            <a:custGeom>
              <a:avLst/>
              <a:gdLst>
                <a:gd name="textAreaLeft" fmla="*/ 0 w 56880"/>
                <a:gd name="textAreaRight" fmla="*/ 57240 w 56880"/>
                <a:gd name="textAreaTop" fmla="*/ 0 h 52200"/>
                <a:gd name="textAreaBottom" fmla="*/ 52560 h 52200"/>
              </a:gdLst>
              <a:ahLst/>
              <a:rect l="textAreaLeft" t="textAreaTop" r="textAreaRight" b="textAreaBottom"/>
              <a:pathLst>
                <a:path w="12" h="12">
                  <a:moveTo>
                    <a:pt x="10" y="2"/>
                  </a:moveTo>
                  <a:cubicBezTo>
                    <a:pt x="12" y="4"/>
                    <a:pt x="12" y="7"/>
                    <a:pt x="10" y="9"/>
                  </a:cubicBezTo>
                  <a:cubicBezTo>
                    <a:pt x="8" y="11"/>
                    <a:pt x="5" y="12"/>
                    <a:pt x="3" y="10"/>
                  </a:cubicBezTo>
                  <a:cubicBezTo>
                    <a:pt x="1" y="8"/>
                    <a:pt x="0" y="6"/>
                    <a:pt x="2" y="4"/>
                  </a:cubicBezTo>
                  <a:cubicBezTo>
                    <a:pt x="4" y="2"/>
                    <a:pt x="8" y="0"/>
                    <a:pt x="10" y="2"/>
                  </a:cubicBezTo>
                  <a:close/>
                </a:path>
              </a:pathLst>
            </a:custGeom>
            <a:solidFill>
              <a:srgbClr val="474747"/>
            </a:solidFill>
            <a:ln w="0">
              <a:noFill/>
            </a:ln>
          </p:spPr>
          <p:style>
            <a:lnRef idx="0"/>
            <a:fillRef idx="0"/>
            <a:effectRef idx="0"/>
            <a:fontRef idx="minor"/>
          </p:style>
          <p:txBody>
            <a:bodyPr lIns="90000" rIns="90000" tIns="5760" bIns="5760" anchor="t">
              <a:noAutofit/>
            </a:bodyPr>
            <a:p>
              <a:endParaRPr b="0" lang="en-US" sz="1800" spc="-1" strike="noStrike">
                <a:solidFill>
                  <a:srgbClr val="262626"/>
                </a:solidFill>
                <a:latin typeface="Arial"/>
              </a:endParaRPr>
            </a:p>
          </p:txBody>
        </p:sp>
        <p:sp>
          <p:nvSpPr>
            <p:cNvPr id="2229" name="Freeform 371"/>
            <p:cNvSpPr/>
            <p:nvPr/>
          </p:nvSpPr>
          <p:spPr>
            <a:xfrm>
              <a:off x="5334480" y="2397600"/>
              <a:ext cx="114120" cy="109440"/>
            </a:xfrm>
            <a:custGeom>
              <a:avLst/>
              <a:gdLst>
                <a:gd name="textAreaLeft" fmla="*/ 0 w 114120"/>
                <a:gd name="textAreaRight" fmla="*/ 114480 w 114120"/>
                <a:gd name="textAreaTop" fmla="*/ 0 h 109440"/>
                <a:gd name="textAreaBottom" fmla="*/ 109800 h 109440"/>
              </a:gdLst>
              <a:ahLst/>
              <a:rect l="textAreaLeft" t="textAreaTop" r="textAreaRight" b="textAreaBottom"/>
              <a:pathLst>
                <a:path w="25" h="24">
                  <a:moveTo>
                    <a:pt x="22" y="7"/>
                  </a:moveTo>
                  <a:cubicBezTo>
                    <a:pt x="25" y="13"/>
                    <a:pt x="22" y="19"/>
                    <a:pt x="17" y="21"/>
                  </a:cubicBezTo>
                  <a:cubicBezTo>
                    <a:pt x="11" y="24"/>
                    <a:pt x="5" y="21"/>
                    <a:pt x="3" y="16"/>
                  </a:cubicBezTo>
                  <a:cubicBezTo>
                    <a:pt x="0" y="10"/>
                    <a:pt x="0" y="5"/>
                    <a:pt x="6" y="3"/>
                  </a:cubicBezTo>
                  <a:cubicBezTo>
                    <a:pt x="11" y="0"/>
                    <a:pt x="20" y="2"/>
                    <a:pt x="22" y="7"/>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30" name="Freeform 372"/>
            <p:cNvSpPr/>
            <p:nvPr/>
          </p:nvSpPr>
          <p:spPr>
            <a:xfrm>
              <a:off x="4919760" y="2297520"/>
              <a:ext cx="114120" cy="109440"/>
            </a:xfrm>
            <a:custGeom>
              <a:avLst/>
              <a:gdLst>
                <a:gd name="textAreaLeft" fmla="*/ 0 w 114120"/>
                <a:gd name="textAreaRight" fmla="*/ 114480 w 114120"/>
                <a:gd name="textAreaTop" fmla="*/ 0 h 109440"/>
                <a:gd name="textAreaBottom" fmla="*/ 109800 h 109440"/>
              </a:gdLst>
              <a:ahLst/>
              <a:rect l="textAreaLeft" t="textAreaTop" r="textAreaRight" b="textAreaBottom"/>
              <a:pathLst>
                <a:path w="25" h="24">
                  <a:moveTo>
                    <a:pt x="7" y="22"/>
                  </a:moveTo>
                  <a:cubicBezTo>
                    <a:pt x="2" y="19"/>
                    <a:pt x="0" y="12"/>
                    <a:pt x="2" y="7"/>
                  </a:cubicBezTo>
                  <a:cubicBezTo>
                    <a:pt x="5" y="2"/>
                    <a:pt x="11" y="0"/>
                    <a:pt x="17" y="2"/>
                  </a:cubicBezTo>
                  <a:cubicBezTo>
                    <a:pt x="22" y="5"/>
                    <a:pt x="25" y="9"/>
                    <a:pt x="23" y="14"/>
                  </a:cubicBezTo>
                  <a:cubicBezTo>
                    <a:pt x="20" y="19"/>
                    <a:pt x="12" y="24"/>
                    <a:pt x="7" y="22"/>
                  </a:cubicBezTo>
                  <a:close/>
                </a:path>
              </a:pathLst>
            </a:custGeom>
            <a:solidFill>
              <a:srgbClr val="f6b2a9"/>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31" name="Freeform 373"/>
            <p:cNvSpPr/>
            <p:nvPr/>
          </p:nvSpPr>
          <p:spPr>
            <a:xfrm>
              <a:off x="5129640" y="2540880"/>
              <a:ext cx="162000" cy="85680"/>
            </a:xfrm>
            <a:custGeom>
              <a:avLst/>
              <a:gdLst>
                <a:gd name="textAreaLeft" fmla="*/ 0 w 162000"/>
                <a:gd name="textAreaRight" fmla="*/ 162360 w 162000"/>
                <a:gd name="textAreaTop" fmla="*/ 0 h 85680"/>
                <a:gd name="textAreaBottom" fmla="*/ 86040 h 85680"/>
              </a:gdLst>
              <a:ahLst/>
              <a:rect l="textAreaLeft" t="textAreaTop" r="textAreaRight" b="textAreaBottom"/>
              <a:pathLst>
                <a:path w="35" h="19">
                  <a:moveTo>
                    <a:pt x="1" y="6"/>
                  </a:moveTo>
                  <a:cubicBezTo>
                    <a:pt x="8" y="19"/>
                    <a:pt x="32" y="18"/>
                    <a:pt x="35" y="2"/>
                  </a:cubicBezTo>
                  <a:cubicBezTo>
                    <a:pt x="35" y="1"/>
                    <a:pt x="33" y="0"/>
                    <a:pt x="32" y="1"/>
                  </a:cubicBezTo>
                  <a:cubicBezTo>
                    <a:pt x="29" y="7"/>
                    <a:pt x="25" y="12"/>
                    <a:pt x="18" y="12"/>
                  </a:cubicBezTo>
                  <a:cubicBezTo>
                    <a:pt x="12" y="12"/>
                    <a:pt x="7" y="9"/>
                    <a:pt x="3" y="5"/>
                  </a:cubicBezTo>
                  <a:cubicBezTo>
                    <a:pt x="2" y="4"/>
                    <a:pt x="0" y="5"/>
                    <a:pt x="1" y="6"/>
                  </a:cubicBezTo>
                  <a:close/>
                </a:path>
              </a:pathLst>
            </a:custGeom>
            <a:solidFill>
              <a:srgbClr val="9f3030"/>
            </a:solidFill>
            <a:ln w="0">
              <a:noFill/>
            </a:ln>
          </p:spPr>
          <p:style>
            <a:lnRef idx="0"/>
            <a:fillRef idx="0"/>
            <a:effectRef idx="0"/>
            <a:fontRef idx="minor"/>
          </p:style>
          <p:txBody>
            <a:bodyPr lIns="90000" rIns="90000" tIns="39240" bIns="39240" anchor="t">
              <a:noAutofit/>
            </a:bodyPr>
            <a:p>
              <a:endParaRPr b="0" lang="en-US" sz="1800" spc="-1" strike="noStrike">
                <a:solidFill>
                  <a:srgbClr val="262626"/>
                </a:solidFill>
                <a:latin typeface="Arial"/>
              </a:endParaRPr>
            </a:p>
          </p:txBody>
        </p:sp>
        <p:sp>
          <p:nvSpPr>
            <p:cNvPr id="2232" name="Freeform 374"/>
            <p:cNvSpPr/>
            <p:nvPr/>
          </p:nvSpPr>
          <p:spPr>
            <a:xfrm>
              <a:off x="5691960" y="2378880"/>
              <a:ext cx="152280" cy="28440"/>
            </a:xfrm>
            <a:custGeom>
              <a:avLst/>
              <a:gdLst>
                <a:gd name="textAreaLeft" fmla="*/ 0 w 152280"/>
                <a:gd name="textAreaRight" fmla="*/ 152640 w 152280"/>
                <a:gd name="textAreaTop" fmla="*/ 0 h 28440"/>
                <a:gd name="textAreaBottom" fmla="*/ 28800 h 28440"/>
              </a:gdLst>
              <a:ahLst/>
              <a:rect l="textAreaLeft" t="textAreaTop" r="textAreaRight" b="textAreaBottom"/>
              <a:pathLst>
                <a:path w="33" h="6">
                  <a:moveTo>
                    <a:pt x="1" y="6"/>
                  </a:moveTo>
                  <a:cubicBezTo>
                    <a:pt x="11" y="4"/>
                    <a:pt x="22" y="4"/>
                    <a:pt x="32" y="3"/>
                  </a:cubicBezTo>
                  <a:cubicBezTo>
                    <a:pt x="33" y="3"/>
                    <a:pt x="33" y="2"/>
                    <a:pt x="32" y="2"/>
                  </a:cubicBezTo>
                  <a:cubicBezTo>
                    <a:pt x="22" y="0"/>
                    <a:pt x="11" y="2"/>
                    <a:pt x="1" y="4"/>
                  </a:cubicBezTo>
                  <a:cubicBezTo>
                    <a:pt x="0" y="4"/>
                    <a:pt x="0" y="6"/>
                    <a:pt x="1" y="6"/>
                  </a:cubicBezTo>
                  <a:close/>
                </a:path>
              </a:pathLst>
            </a:custGeom>
            <a:solidFill>
              <a:srgbClr val="f6b2a9"/>
            </a:solidFill>
            <a:ln w="0">
              <a:noFill/>
            </a:ln>
          </p:spPr>
          <p:style>
            <a:lnRef idx="0"/>
            <a:fillRef idx="0"/>
            <a:effectRef idx="0"/>
            <a:fontRef idx="minor"/>
          </p:style>
          <p:txBody>
            <a:bodyPr lIns="90000" rIns="90000" tIns="-18000" bIns="-18000" anchor="t">
              <a:noAutofit/>
            </a:bodyPr>
            <a:p>
              <a:endParaRPr b="0" lang="en-US" sz="1800" spc="-1" strike="noStrike">
                <a:solidFill>
                  <a:srgbClr val="262626"/>
                </a:solidFill>
                <a:latin typeface="Arial"/>
              </a:endParaRPr>
            </a:p>
          </p:txBody>
        </p:sp>
        <p:sp>
          <p:nvSpPr>
            <p:cNvPr id="2233" name="Freeform 375"/>
            <p:cNvSpPr/>
            <p:nvPr/>
          </p:nvSpPr>
          <p:spPr>
            <a:xfrm>
              <a:off x="4981680" y="2068920"/>
              <a:ext cx="109440" cy="81000"/>
            </a:xfrm>
            <a:custGeom>
              <a:avLst/>
              <a:gdLst>
                <a:gd name="textAreaLeft" fmla="*/ 0 w 109440"/>
                <a:gd name="textAreaRight" fmla="*/ 109800 w 109440"/>
                <a:gd name="textAreaTop" fmla="*/ 0 h 81000"/>
                <a:gd name="textAreaBottom" fmla="*/ 81360 h 81000"/>
              </a:gdLst>
              <a:ahLst/>
              <a:rect l="textAreaLeft" t="textAreaTop" r="textAreaRight" b="textAreaBottom"/>
              <a:pathLst>
                <a:path w="24" h="18">
                  <a:moveTo>
                    <a:pt x="2" y="13"/>
                  </a:moveTo>
                  <a:cubicBezTo>
                    <a:pt x="6" y="17"/>
                    <a:pt x="12" y="18"/>
                    <a:pt x="17" y="17"/>
                  </a:cubicBezTo>
                  <a:cubicBezTo>
                    <a:pt x="24" y="15"/>
                    <a:pt x="24" y="3"/>
                    <a:pt x="17" y="1"/>
                  </a:cubicBezTo>
                  <a:cubicBezTo>
                    <a:pt x="12" y="0"/>
                    <a:pt x="6" y="1"/>
                    <a:pt x="2" y="5"/>
                  </a:cubicBezTo>
                  <a:cubicBezTo>
                    <a:pt x="0" y="7"/>
                    <a:pt x="0" y="11"/>
                    <a:pt x="2" y="13"/>
                  </a:cubicBezTo>
                  <a:close/>
                </a:path>
              </a:pathLst>
            </a:custGeom>
            <a:solidFill>
              <a:srgbClr val="ff8197"/>
            </a:solidFill>
            <a:ln w="0">
              <a:noFill/>
            </a:ln>
          </p:spPr>
          <p:style>
            <a:lnRef idx="0"/>
            <a:fillRef idx="0"/>
            <a:effectRef idx="0"/>
            <a:fontRef idx="minor"/>
          </p:style>
          <p:txBody>
            <a:bodyPr lIns="90000" rIns="90000" tIns="34560" bIns="34560" anchor="t">
              <a:noAutofit/>
            </a:bodyPr>
            <a:p>
              <a:endParaRPr b="0" lang="en-US" sz="1800" spc="-1" strike="noStrike">
                <a:solidFill>
                  <a:srgbClr val="262626"/>
                </a:solidFill>
                <a:latin typeface="Arial"/>
              </a:endParaRPr>
            </a:p>
          </p:txBody>
        </p:sp>
        <p:sp>
          <p:nvSpPr>
            <p:cNvPr id="2234" name="Freeform 376"/>
            <p:cNvSpPr/>
            <p:nvPr/>
          </p:nvSpPr>
          <p:spPr>
            <a:xfrm>
              <a:off x="5058000" y="1535040"/>
              <a:ext cx="486000" cy="595440"/>
            </a:xfrm>
            <a:custGeom>
              <a:avLst/>
              <a:gdLst>
                <a:gd name="textAreaLeft" fmla="*/ 0 w 486000"/>
                <a:gd name="textAreaRight" fmla="*/ 486360 w 486000"/>
                <a:gd name="textAreaTop" fmla="*/ 0 h 595440"/>
                <a:gd name="textAreaBottom" fmla="*/ 595800 h 595440"/>
              </a:gdLst>
              <a:ahLst/>
              <a:rect l="textAreaLeft" t="textAreaTop" r="textAreaRight" b="textAreaBottom"/>
              <a:pathLst>
                <a:path w="107" h="130">
                  <a:moveTo>
                    <a:pt x="0" y="2"/>
                  </a:moveTo>
                  <a:cubicBezTo>
                    <a:pt x="4" y="62"/>
                    <a:pt x="56" y="102"/>
                    <a:pt x="104" y="130"/>
                  </a:cubicBezTo>
                  <a:cubicBezTo>
                    <a:pt x="106" y="130"/>
                    <a:pt x="107" y="128"/>
                    <a:pt x="106" y="127"/>
                  </a:cubicBezTo>
                  <a:cubicBezTo>
                    <a:pt x="61" y="95"/>
                    <a:pt x="9" y="63"/>
                    <a:pt x="4" y="2"/>
                  </a:cubicBezTo>
                  <a:cubicBezTo>
                    <a:pt x="4" y="0"/>
                    <a:pt x="0" y="0"/>
                    <a:pt x="0" y="2"/>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35" name="Freeform 377"/>
            <p:cNvSpPr/>
            <p:nvPr/>
          </p:nvSpPr>
          <p:spPr>
            <a:xfrm>
              <a:off x="5158080" y="1454040"/>
              <a:ext cx="543240" cy="571680"/>
            </a:xfrm>
            <a:custGeom>
              <a:avLst/>
              <a:gdLst>
                <a:gd name="textAreaLeft" fmla="*/ 0 w 543240"/>
                <a:gd name="textAreaRight" fmla="*/ 543600 w 543240"/>
                <a:gd name="textAreaTop" fmla="*/ 0 h 571680"/>
                <a:gd name="textAreaBottom" fmla="*/ 572040 h 571680"/>
              </a:gdLst>
              <a:ahLst/>
              <a:rect l="textAreaLeft" t="textAreaTop" r="textAreaRight" b="textAreaBottom"/>
              <a:pathLst>
                <a:path w="119" h="125">
                  <a:moveTo>
                    <a:pt x="1" y="4"/>
                  </a:moveTo>
                  <a:cubicBezTo>
                    <a:pt x="47" y="38"/>
                    <a:pt x="81" y="79"/>
                    <a:pt x="117" y="124"/>
                  </a:cubicBezTo>
                  <a:cubicBezTo>
                    <a:pt x="117" y="125"/>
                    <a:pt x="119" y="124"/>
                    <a:pt x="118" y="123"/>
                  </a:cubicBezTo>
                  <a:cubicBezTo>
                    <a:pt x="91" y="74"/>
                    <a:pt x="47" y="34"/>
                    <a:pt x="2" y="2"/>
                  </a:cubicBezTo>
                  <a:cubicBezTo>
                    <a:pt x="1" y="0"/>
                    <a:pt x="0" y="3"/>
                    <a:pt x="1" y="4"/>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36" name="Freeform 378"/>
            <p:cNvSpPr/>
            <p:nvPr/>
          </p:nvSpPr>
          <p:spPr>
            <a:xfrm>
              <a:off x="5453640" y="1468440"/>
              <a:ext cx="419040" cy="719640"/>
            </a:xfrm>
            <a:custGeom>
              <a:avLst/>
              <a:gdLst>
                <a:gd name="textAreaLeft" fmla="*/ 0 w 419040"/>
                <a:gd name="textAreaRight" fmla="*/ 419400 w 419040"/>
                <a:gd name="textAreaTop" fmla="*/ 0 h 719640"/>
                <a:gd name="textAreaBottom" fmla="*/ 720000 h 719640"/>
              </a:gdLst>
              <a:ahLst/>
              <a:rect l="textAreaLeft" t="textAreaTop" r="textAreaRight" b="textAreaBottom"/>
              <a:pathLst>
                <a:path w="92" h="158">
                  <a:moveTo>
                    <a:pt x="1" y="3"/>
                  </a:moveTo>
                  <a:cubicBezTo>
                    <a:pt x="25" y="22"/>
                    <a:pt x="45" y="45"/>
                    <a:pt x="61" y="71"/>
                  </a:cubicBezTo>
                  <a:cubicBezTo>
                    <a:pt x="76" y="99"/>
                    <a:pt x="83" y="127"/>
                    <a:pt x="90" y="157"/>
                  </a:cubicBezTo>
                  <a:cubicBezTo>
                    <a:pt x="91" y="158"/>
                    <a:pt x="92" y="158"/>
                    <a:pt x="92" y="157"/>
                  </a:cubicBezTo>
                  <a:cubicBezTo>
                    <a:pt x="90" y="96"/>
                    <a:pt x="50" y="37"/>
                    <a:pt x="4" y="1"/>
                  </a:cubicBezTo>
                  <a:cubicBezTo>
                    <a:pt x="2" y="0"/>
                    <a:pt x="0" y="2"/>
                    <a:pt x="1" y="3"/>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37" name="Freeform 379"/>
            <p:cNvSpPr/>
            <p:nvPr/>
          </p:nvSpPr>
          <p:spPr>
            <a:xfrm>
              <a:off x="5539320" y="2550240"/>
              <a:ext cx="309600" cy="500400"/>
            </a:xfrm>
            <a:custGeom>
              <a:avLst/>
              <a:gdLst>
                <a:gd name="textAreaLeft" fmla="*/ 0 w 309600"/>
                <a:gd name="textAreaRight" fmla="*/ 309600 w 309600"/>
                <a:gd name="textAreaTop" fmla="*/ 0 h 500400"/>
                <a:gd name="textAreaBottom" fmla="*/ 500760 h 500400"/>
              </a:gdLst>
              <a:ahLst/>
              <a:rect l="textAreaLeft" t="textAreaTop" r="textAreaRight" b="textAreaBottom"/>
              <a:pathLst>
                <a:path w="67" h="110">
                  <a:moveTo>
                    <a:pt x="2" y="110"/>
                  </a:moveTo>
                  <a:cubicBezTo>
                    <a:pt x="48" y="108"/>
                    <a:pt x="67" y="38"/>
                    <a:pt x="61" y="2"/>
                  </a:cubicBezTo>
                  <a:cubicBezTo>
                    <a:pt x="60" y="0"/>
                    <a:pt x="57" y="0"/>
                    <a:pt x="58" y="2"/>
                  </a:cubicBezTo>
                  <a:cubicBezTo>
                    <a:pt x="58" y="23"/>
                    <a:pt x="56" y="43"/>
                    <a:pt x="48" y="62"/>
                  </a:cubicBezTo>
                  <a:cubicBezTo>
                    <a:pt x="40" y="81"/>
                    <a:pt x="25" y="105"/>
                    <a:pt x="2" y="107"/>
                  </a:cubicBezTo>
                  <a:cubicBezTo>
                    <a:pt x="0" y="108"/>
                    <a:pt x="0" y="110"/>
                    <a:pt x="2" y="110"/>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38" name="Freeform 380"/>
            <p:cNvSpPr/>
            <p:nvPr/>
          </p:nvSpPr>
          <p:spPr>
            <a:xfrm>
              <a:off x="5668200" y="2488320"/>
              <a:ext cx="385920" cy="686160"/>
            </a:xfrm>
            <a:custGeom>
              <a:avLst/>
              <a:gdLst>
                <a:gd name="textAreaLeft" fmla="*/ 0 w 385920"/>
                <a:gd name="textAreaRight" fmla="*/ 386280 w 385920"/>
                <a:gd name="textAreaTop" fmla="*/ 0 h 686160"/>
                <a:gd name="textAreaBottom" fmla="*/ 686520 h 686160"/>
              </a:gdLst>
              <a:ahLst/>
              <a:rect l="textAreaLeft" t="textAreaTop" r="textAreaRight" b="textAreaBottom"/>
              <a:pathLst>
                <a:path w="84" h="150">
                  <a:moveTo>
                    <a:pt x="2" y="150"/>
                  </a:moveTo>
                  <a:cubicBezTo>
                    <a:pt x="34" y="146"/>
                    <a:pt x="64" y="125"/>
                    <a:pt x="75" y="94"/>
                  </a:cubicBezTo>
                  <a:cubicBezTo>
                    <a:pt x="84" y="65"/>
                    <a:pt x="77" y="23"/>
                    <a:pt x="56" y="1"/>
                  </a:cubicBezTo>
                  <a:cubicBezTo>
                    <a:pt x="54" y="0"/>
                    <a:pt x="52" y="2"/>
                    <a:pt x="53" y="3"/>
                  </a:cubicBezTo>
                  <a:cubicBezTo>
                    <a:pt x="69" y="28"/>
                    <a:pt x="79" y="59"/>
                    <a:pt x="71" y="88"/>
                  </a:cubicBezTo>
                  <a:cubicBezTo>
                    <a:pt x="63" y="120"/>
                    <a:pt x="34" y="142"/>
                    <a:pt x="2" y="146"/>
                  </a:cubicBezTo>
                  <a:cubicBezTo>
                    <a:pt x="0" y="147"/>
                    <a:pt x="0" y="150"/>
                    <a:pt x="2" y="150"/>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39" name="Freeform 381"/>
            <p:cNvSpPr/>
            <p:nvPr/>
          </p:nvSpPr>
          <p:spPr>
            <a:xfrm>
              <a:off x="5906520" y="2454840"/>
              <a:ext cx="414360" cy="815040"/>
            </a:xfrm>
            <a:custGeom>
              <a:avLst/>
              <a:gdLst>
                <a:gd name="textAreaLeft" fmla="*/ 0 w 414360"/>
                <a:gd name="textAreaRight" fmla="*/ 414720 w 414360"/>
                <a:gd name="textAreaTop" fmla="*/ 0 h 815040"/>
                <a:gd name="textAreaBottom" fmla="*/ 815400 h 815040"/>
              </a:gdLst>
              <a:ahLst/>
              <a:rect l="textAreaLeft" t="textAreaTop" r="textAreaRight" b="textAreaBottom"/>
              <a:pathLst>
                <a:path w="91" h="179">
                  <a:moveTo>
                    <a:pt x="3" y="178"/>
                  </a:moveTo>
                  <a:cubicBezTo>
                    <a:pt x="41" y="166"/>
                    <a:pt x="79" y="151"/>
                    <a:pt x="85" y="107"/>
                  </a:cubicBezTo>
                  <a:cubicBezTo>
                    <a:pt x="91" y="65"/>
                    <a:pt x="75" y="25"/>
                    <a:pt x="40" y="1"/>
                  </a:cubicBezTo>
                  <a:cubicBezTo>
                    <a:pt x="39" y="0"/>
                    <a:pt x="37" y="1"/>
                    <a:pt x="38" y="2"/>
                  </a:cubicBezTo>
                  <a:cubicBezTo>
                    <a:pt x="47" y="15"/>
                    <a:pt x="60" y="26"/>
                    <a:pt x="69" y="39"/>
                  </a:cubicBezTo>
                  <a:cubicBezTo>
                    <a:pt x="79" y="57"/>
                    <a:pt x="82" y="76"/>
                    <a:pt x="81" y="96"/>
                  </a:cubicBezTo>
                  <a:cubicBezTo>
                    <a:pt x="78" y="143"/>
                    <a:pt x="43" y="161"/>
                    <a:pt x="2" y="175"/>
                  </a:cubicBezTo>
                  <a:cubicBezTo>
                    <a:pt x="0" y="175"/>
                    <a:pt x="1" y="179"/>
                    <a:pt x="3" y="178"/>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40" name="Freeform 382"/>
            <p:cNvSpPr/>
            <p:nvPr/>
          </p:nvSpPr>
          <p:spPr>
            <a:xfrm>
              <a:off x="5834880" y="2702880"/>
              <a:ext cx="123840" cy="266760"/>
            </a:xfrm>
            <a:custGeom>
              <a:avLst/>
              <a:gdLst>
                <a:gd name="textAreaLeft" fmla="*/ 0 w 123840"/>
                <a:gd name="textAreaRight" fmla="*/ 124200 w 123840"/>
                <a:gd name="textAreaTop" fmla="*/ 0 h 266760"/>
                <a:gd name="textAreaBottom" fmla="*/ 267120 h 266760"/>
              </a:gdLst>
              <a:ahLst/>
              <a:rect l="textAreaLeft" t="textAreaTop" r="textAreaRight" b="textAreaBottom"/>
              <a:pathLst>
                <a:path w="28" h="58">
                  <a:moveTo>
                    <a:pt x="4" y="56"/>
                  </a:moveTo>
                  <a:cubicBezTo>
                    <a:pt x="17" y="40"/>
                    <a:pt x="28" y="22"/>
                    <a:pt x="18" y="2"/>
                  </a:cubicBezTo>
                  <a:cubicBezTo>
                    <a:pt x="18" y="0"/>
                    <a:pt x="16" y="1"/>
                    <a:pt x="16" y="2"/>
                  </a:cubicBezTo>
                  <a:cubicBezTo>
                    <a:pt x="17" y="13"/>
                    <a:pt x="19" y="21"/>
                    <a:pt x="15" y="31"/>
                  </a:cubicBezTo>
                  <a:cubicBezTo>
                    <a:pt x="12" y="40"/>
                    <a:pt x="7" y="47"/>
                    <a:pt x="1" y="54"/>
                  </a:cubicBezTo>
                  <a:cubicBezTo>
                    <a:pt x="0" y="56"/>
                    <a:pt x="3" y="58"/>
                    <a:pt x="4" y="56"/>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41" name="Freeform 383"/>
            <p:cNvSpPr/>
            <p:nvPr/>
          </p:nvSpPr>
          <p:spPr>
            <a:xfrm>
              <a:off x="5606280" y="2602800"/>
              <a:ext cx="104760" cy="266760"/>
            </a:xfrm>
            <a:custGeom>
              <a:avLst/>
              <a:gdLst>
                <a:gd name="textAreaLeft" fmla="*/ 0 w 104760"/>
                <a:gd name="textAreaRight" fmla="*/ 105120 w 104760"/>
                <a:gd name="textAreaTop" fmla="*/ 0 h 266760"/>
                <a:gd name="textAreaBottom" fmla="*/ 267120 h 266760"/>
              </a:gdLst>
              <a:ahLst/>
              <a:rect l="textAreaLeft" t="textAreaTop" r="textAreaRight" b="textAreaBottom"/>
              <a:pathLst>
                <a:path w="23" h="58">
                  <a:moveTo>
                    <a:pt x="4" y="56"/>
                  </a:moveTo>
                  <a:cubicBezTo>
                    <a:pt x="14" y="41"/>
                    <a:pt x="23" y="21"/>
                    <a:pt x="22" y="2"/>
                  </a:cubicBezTo>
                  <a:cubicBezTo>
                    <a:pt x="22" y="1"/>
                    <a:pt x="20" y="0"/>
                    <a:pt x="20" y="2"/>
                  </a:cubicBezTo>
                  <a:cubicBezTo>
                    <a:pt x="14" y="20"/>
                    <a:pt x="12" y="37"/>
                    <a:pt x="1" y="54"/>
                  </a:cubicBezTo>
                  <a:cubicBezTo>
                    <a:pt x="0" y="56"/>
                    <a:pt x="3" y="58"/>
                    <a:pt x="4" y="56"/>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42" name="Freeform 384"/>
            <p:cNvSpPr/>
            <p:nvPr/>
          </p:nvSpPr>
          <p:spPr>
            <a:xfrm>
              <a:off x="6063480" y="2626560"/>
              <a:ext cx="104760" cy="381240"/>
            </a:xfrm>
            <a:custGeom>
              <a:avLst/>
              <a:gdLst>
                <a:gd name="textAreaLeft" fmla="*/ 0 w 104760"/>
                <a:gd name="textAreaRight" fmla="*/ 105120 w 104760"/>
                <a:gd name="textAreaTop" fmla="*/ 0 h 381240"/>
                <a:gd name="textAreaBottom" fmla="*/ 381600 h 381240"/>
              </a:gdLst>
              <a:ahLst/>
              <a:rect l="textAreaLeft" t="textAreaTop" r="textAreaRight" b="textAreaBottom"/>
              <a:pathLst>
                <a:path w="23" h="84">
                  <a:moveTo>
                    <a:pt x="1" y="3"/>
                  </a:moveTo>
                  <a:cubicBezTo>
                    <a:pt x="15" y="28"/>
                    <a:pt x="16" y="54"/>
                    <a:pt x="11" y="81"/>
                  </a:cubicBezTo>
                  <a:cubicBezTo>
                    <a:pt x="10" y="83"/>
                    <a:pt x="13" y="84"/>
                    <a:pt x="13" y="82"/>
                  </a:cubicBezTo>
                  <a:cubicBezTo>
                    <a:pt x="23" y="55"/>
                    <a:pt x="17" y="26"/>
                    <a:pt x="4" y="2"/>
                  </a:cubicBezTo>
                  <a:cubicBezTo>
                    <a:pt x="3" y="0"/>
                    <a:pt x="0" y="2"/>
                    <a:pt x="1" y="3"/>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43" name="Freeform 385"/>
            <p:cNvSpPr/>
            <p:nvPr/>
          </p:nvSpPr>
          <p:spPr>
            <a:xfrm>
              <a:off x="5868360" y="1739880"/>
              <a:ext cx="257040" cy="614520"/>
            </a:xfrm>
            <a:custGeom>
              <a:avLst/>
              <a:gdLst>
                <a:gd name="textAreaLeft" fmla="*/ 0 w 257040"/>
                <a:gd name="textAreaRight" fmla="*/ 257400 w 257040"/>
                <a:gd name="textAreaTop" fmla="*/ 0 h 614520"/>
                <a:gd name="textAreaBottom" fmla="*/ 614880 h 614520"/>
              </a:gdLst>
              <a:ahLst/>
              <a:rect l="textAreaLeft" t="textAreaTop" r="textAreaRight" b="textAreaBottom"/>
              <a:pathLst>
                <a:path w="56" h="134">
                  <a:moveTo>
                    <a:pt x="1" y="4"/>
                  </a:moveTo>
                  <a:cubicBezTo>
                    <a:pt x="31" y="41"/>
                    <a:pt x="19" y="99"/>
                    <a:pt x="52" y="133"/>
                  </a:cubicBezTo>
                  <a:cubicBezTo>
                    <a:pt x="54" y="134"/>
                    <a:pt x="56" y="133"/>
                    <a:pt x="55" y="131"/>
                  </a:cubicBezTo>
                  <a:cubicBezTo>
                    <a:pt x="41" y="108"/>
                    <a:pt x="35" y="85"/>
                    <a:pt x="29" y="59"/>
                  </a:cubicBezTo>
                  <a:cubicBezTo>
                    <a:pt x="24" y="38"/>
                    <a:pt x="17" y="18"/>
                    <a:pt x="3" y="2"/>
                  </a:cubicBezTo>
                  <a:cubicBezTo>
                    <a:pt x="2" y="0"/>
                    <a:pt x="0" y="2"/>
                    <a:pt x="1" y="4"/>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44" name="Freeform 386"/>
            <p:cNvSpPr/>
            <p:nvPr/>
          </p:nvSpPr>
          <p:spPr>
            <a:xfrm>
              <a:off x="5005800" y="2774160"/>
              <a:ext cx="104760" cy="233280"/>
            </a:xfrm>
            <a:custGeom>
              <a:avLst/>
              <a:gdLst>
                <a:gd name="textAreaLeft" fmla="*/ 0 w 104760"/>
                <a:gd name="textAreaRight" fmla="*/ 105120 w 104760"/>
                <a:gd name="textAreaTop" fmla="*/ 0 h 233280"/>
                <a:gd name="textAreaBottom" fmla="*/ 233640 h 233280"/>
              </a:gdLst>
              <a:ahLst/>
              <a:rect l="textAreaLeft" t="textAreaTop" r="textAreaRight" b="textAreaBottom"/>
              <a:pathLst>
                <a:path w="23" h="52">
                  <a:moveTo>
                    <a:pt x="1" y="3"/>
                  </a:moveTo>
                  <a:cubicBezTo>
                    <a:pt x="0" y="20"/>
                    <a:pt x="3" y="43"/>
                    <a:pt x="20" y="51"/>
                  </a:cubicBezTo>
                  <a:cubicBezTo>
                    <a:pt x="21" y="52"/>
                    <a:pt x="23" y="51"/>
                    <a:pt x="22" y="50"/>
                  </a:cubicBezTo>
                  <a:cubicBezTo>
                    <a:pt x="12" y="35"/>
                    <a:pt x="4" y="21"/>
                    <a:pt x="4" y="3"/>
                  </a:cubicBezTo>
                  <a:cubicBezTo>
                    <a:pt x="4" y="0"/>
                    <a:pt x="1" y="0"/>
                    <a:pt x="1" y="3"/>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45" name="Freeform 387"/>
            <p:cNvSpPr/>
            <p:nvPr/>
          </p:nvSpPr>
          <p:spPr>
            <a:xfrm>
              <a:off x="5110560" y="2841120"/>
              <a:ext cx="75960" cy="147600"/>
            </a:xfrm>
            <a:custGeom>
              <a:avLst/>
              <a:gdLst>
                <a:gd name="textAreaLeft" fmla="*/ 0 w 75960"/>
                <a:gd name="textAreaRight" fmla="*/ 76320 w 75960"/>
                <a:gd name="textAreaTop" fmla="*/ 0 h 147600"/>
                <a:gd name="textAreaBottom" fmla="*/ 147960 h 147600"/>
              </a:gdLst>
              <a:ahLst/>
              <a:rect l="textAreaLeft" t="textAreaTop" r="textAreaRight" b="textAreaBottom"/>
              <a:pathLst>
                <a:path w="17" h="32">
                  <a:moveTo>
                    <a:pt x="0" y="3"/>
                  </a:moveTo>
                  <a:cubicBezTo>
                    <a:pt x="1" y="12"/>
                    <a:pt x="5" y="26"/>
                    <a:pt x="14" y="31"/>
                  </a:cubicBezTo>
                  <a:cubicBezTo>
                    <a:pt x="15" y="32"/>
                    <a:pt x="17" y="31"/>
                    <a:pt x="16" y="30"/>
                  </a:cubicBezTo>
                  <a:cubicBezTo>
                    <a:pt x="15" y="25"/>
                    <a:pt x="12" y="22"/>
                    <a:pt x="9" y="18"/>
                  </a:cubicBezTo>
                  <a:cubicBezTo>
                    <a:pt x="7" y="13"/>
                    <a:pt x="5" y="7"/>
                    <a:pt x="4" y="2"/>
                  </a:cubicBezTo>
                  <a:cubicBezTo>
                    <a:pt x="3" y="0"/>
                    <a:pt x="0" y="1"/>
                    <a:pt x="0" y="3"/>
                  </a:cubicBezTo>
                  <a:close/>
                </a:path>
              </a:pathLst>
            </a:custGeom>
            <a:solidFill>
              <a:srgbClr val="fc627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46" name="Freeform 388"/>
            <p:cNvSpPr/>
            <p:nvPr/>
          </p:nvSpPr>
          <p:spPr>
            <a:xfrm>
              <a:off x="3413880" y="5181480"/>
              <a:ext cx="5384880" cy="1158120"/>
            </a:xfrm>
            <a:custGeom>
              <a:avLst/>
              <a:gdLst>
                <a:gd name="textAreaLeft" fmla="*/ 0 w 5384880"/>
                <a:gd name="textAreaRight" fmla="*/ 5385240 w 5384880"/>
                <a:gd name="textAreaTop" fmla="*/ 0 h 1158120"/>
                <a:gd name="textAreaBottom" fmla="*/ 1158480 h 1158120"/>
              </a:gdLst>
              <a:ahLst/>
              <a:rect l="textAreaLeft" t="textAreaTop" r="textAreaRight" b="textAreaBottom"/>
              <a:pathLst>
                <a:path w="1130" h="243">
                  <a:moveTo>
                    <a:pt x="1113" y="243"/>
                  </a:moveTo>
                  <a:lnTo>
                    <a:pt x="17" y="243"/>
                  </a:lnTo>
                  <a:lnTo>
                    <a:pt x="0" y="0"/>
                  </a:lnTo>
                  <a:lnTo>
                    <a:pt x="1130" y="0"/>
                  </a:lnTo>
                  <a:lnTo>
                    <a:pt x="1113" y="243"/>
                  </a:lnTo>
                  <a:close/>
                </a:path>
              </a:pathLst>
            </a:custGeom>
            <a:solidFill>
              <a:srgbClr val="76bec3"/>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47" name="Freeform 389"/>
            <p:cNvSpPr/>
            <p:nvPr/>
          </p:nvSpPr>
          <p:spPr>
            <a:xfrm>
              <a:off x="3027960" y="4804920"/>
              <a:ext cx="6152400" cy="1324800"/>
            </a:xfrm>
            <a:custGeom>
              <a:avLst/>
              <a:gdLst>
                <a:gd name="textAreaLeft" fmla="*/ 0 w 6152400"/>
                <a:gd name="textAreaRight" fmla="*/ 6152760 w 6152400"/>
                <a:gd name="textAreaTop" fmla="*/ 0 h 1324800"/>
                <a:gd name="textAreaBottom" fmla="*/ 1325160 h 1324800"/>
              </a:gdLst>
              <a:ahLst/>
              <a:rect l="textAreaLeft" t="textAreaTop" r="textAreaRight" b="textAreaBottom"/>
              <a:pathLst>
                <a:path w="1291" h="278">
                  <a:moveTo>
                    <a:pt x="1272" y="278"/>
                  </a:moveTo>
                  <a:lnTo>
                    <a:pt x="19" y="278"/>
                  </a:lnTo>
                  <a:lnTo>
                    <a:pt x="0" y="0"/>
                  </a:lnTo>
                  <a:lnTo>
                    <a:pt x="1291" y="0"/>
                  </a:lnTo>
                  <a:lnTo>
                    <a:pt x="1272"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grpSp>
      <p:grpSp>
        <p:nvGrpSpPr>
          <p:cNvPr id="2248" name="组合 212"/>
          <p:cNvGrpSpPr/>
          <p:nvPr/>
        </p:nvGrpSpPr>
        <p:grpSpPr>
          <a:xfrm>
            <a:off x="5078520" y="5273640"/>
            <a:ext cx="3803400" cy="1046160"/>
            <a:chOff x="5078520" y="5273640"/>
            <a:chExt cx="3803400" cy="1046160"/>
          </a:xfrm>
        </p:grpSpPr>
        <p:grpSp>
          <p:nvGrpSpPr>
            <p:cNvPr id="2249" name="组合 213"/>
            <p:cNvGrpSpPr/>
            <p:nvPr/>
          </p:nvGrpSpPr>
          <p:grpSpPr>
            <a:xfrm>
              <a:off x="5078520" y="5273640"/>
              <a:ext cx="3803400" cy="1046160"/>
              <a:chOff x="5078520" y="5273640"/>
              <a:chExt cx="3803400" cy="1046160"/>
            </a:xfrm>
          </p:grpSpPr>
          <p:sp>
            <p:nvSpPr>
              <p:cNvPr id="2250" name="矩形 215"/>
              <p:cNvSpPr/>
              <p:nvPr/>
            </p:nvSpPr>
            <p:spPr>
              <a:xfrm>
                <a:off x="5078520" y="5981760"/>
                <a:ext cx="38034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2251" name="矩形 216"/>
              <p:cNvSpPr/>
              <p:nvPr/>
            </p:nvSpPr>
            <p:spPr>
              <a:xfrm>
                <a:off x="5867280" y="5273640"/>
                <a:ext cx="183960" cy="70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grpSp>
        <p:sp>
          <p:nvSpPr>
            <p:cNvPr id="2252" name="矩形 214"/>
            <p:cNvSpPr/>
            <p:nvPr/>
          </p:nvSpPr>
          <p:spPr>
            <a:xfrm>
              <a:off x="6686640" y="5350320"/>
              <a:ext cx="18468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grpSp>
      <p:sp>
        <p:nvSpPr>
          <p:cNvPr id="2253" name="矩形 193"/>
          <p:cNvSpPr/>
          <p:nvPr/>
        </p:nvSpPr>
        <p:spPr>
          <a:xfrm>
            <a:off x="3409920" y="5141880"/>
            <a:ext cx="573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造字工房尚雅（非商用）常规体"/>
                <a:ea typeface="造字工房尚雅（非商用）常规体"/>
              </a:rPr>
              <a:t>四、案例及最新精神</a:t>
            </a:r>
            <a:endParaRPr b="0" lang="en-US" sz="3600" spc="-1" strike="noStrike">
              <a:solidFill>
                <a:srgbClr val="262626"/>
              </a:solidFill>
              <a:latin typeface="Arial"/>
            </a:endParaRPr>
          </a:p>
        </p:txBody>
      </p:sp>
    </p:spTree>
  </p:cSld>
  <p:transition spd="slow">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0">
                                  <p:stCondLst>
                                    <p:cond delay="0"/>
                                  </p:stCondLst>
                                  <p:childTnLst>
                                    <p:set>
                                      <p:cBhvr>
                                        <p:cTn id="692" dur="1" fill="hold">
                                          <p:stCondLst>
                                            <p:cond delay="0"/>
                                          </p:stCondLst>
                                        </p:cTn>
                                        <p:tgtEl>
                                          <p:spTgt spid="2248"/>
                                        </p:tgtEl>
                                        <p:attrNameLst>
                                          <p:attrName>style.visibility</p:attrName>
                                        </p:attrNameLst>
                                      </p:cBhvr>
                                      <p:to>
                                        <p:strVal val="visible"/>
                                      </p:to>
                                    </p:set>
                                    <p:animEffect filter="fade" transition="in">
                                      <p:cBhvr additive="repl">
                                        <p:cTn id="693" dur="500"/>
                                        <p:tgtEl>
                                          <p:spTgt spid="2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4" name="图片 41" descr=""/>
          <p:cNvPicPr/>
          <p:nvPr/>
        </p:nvPicPr>
        <p:blipFill>
          <a:blip r:embed="rId1"/>
          <a:stretch/>
        </p:blipFill>
        <p:spPr>
          <a:xfrm>
            <a:off x="4957920" y="173160"/>
            <a:ext cx="1749240" cy="1322280"/>
          </a:xfrm>
          <a:prstGeom prst="rect">
            <a:avLst/>
          </a:prstGeom>
          <a:ln w="0">
            <a:noFill/>
          </a:ln>
        </p:spPr>
      </p:pic>
      <p:sp>
        <p:nvSpPr>
          <p:cNvPr id="2255" name="TextBox 42"/>
          <p:cNvSpPr/>
          <p:nvPr/>
        </p:nvSpPr>
        <p:spPr>
          <a:xfrm>
            <a:off x="1473120" y="1204920"/>
            <a:ext cx="991872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仿宋"/>
                <a:ea typeface="华文仿宋"/>
              </a:rPr>
              <a:t>案例</a:t>
            </a:r>
            <a:r>
              <a:rPr b="0" lang="en-US" sz="2400" spc="-1" strike="noStrike">
                <a:solidFill>
                  <a:srgbClr val="ff0000"/>
                </a:solidFill>
                <a:latin typeface="华文仿宋"/>
                <a:ea typeface="华文仿宋"/>
              </a:rPr>
              <a:t>1</a:t>
            </a:r>
            <a:r>
              <a:rPr b="0" lang="zh-CN" sz="2400" spc="-1" strike="noStrike">
                <a:solidFill>
                  <a:srgbClr val="ff0000"/>
                </a:solidFill>
                <a:latin typeface="华文仿宋"/>
                <a:ea typeface="华文仿宋"/>
              </a:rPr>
              <a:t>：</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2019</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a:t>
            </a:r>
            <a:r>
              <a:rPr b="0" lang="en-US" sz="2000" spc="-1" strike="noStrike">
                <a:solidFill>
                  <a:srgbClr val="262626"/>
                </a:solidFill>
                <a:latin typeface="华文仿宋"/>
                <a:ea typeface="华文仿宋"/>
              </a:rPr>
              <a:t>8</a:t>
            </a:r>
            <a:r>
              <a:rPr b="0" lang="zh-CN" sz="2000" spc="-1" strike="noStrike">
                <a:solidFill>
                  <a:srgbClr val="262626"/>
                </a:solidFill>
                <a:latin typeface="华文仿宋"/>
                <a:ea typeface="华文仿宋"/>
              </a:rPr>
              <a:t>日，科技公司应向王先生支付工资薪金</a:t>
            </a:r>
            <a:r>
              <a:rPr b="0" lang="en-US" sz="2000" spc="-1" strike="noStrike">
                <a:solidFill>
                  <a:srgbClr val="262626"/>
                </a:solidFill>
                <a:latin typeface="华文仿宋"/>
                <a:ea typeface="华文仿宋"/>
              </a:rPr>
              <a:t>13500</a:t>
            </a:r>
            <a:r>
              <a:rPr b="0" lang="zh-CN" sz="2000" spc="-1" strike="noStrike">
                <a:solidFill>
                  <a:srgbClr val="262626"/>
                </a:solidFill>
                <a:latin typeface="华文仿宋"/>
                <a:ea typeface="华文仿宋"/>
              </a:rPr>
              <a:t>元，王先生该月除由任职单位扣缴</a:t>
            </a:r>
            <a:r>
              <a:rPr b="0" lang="zh-CN" sz="2000" spc="-1" strike="noStrike">
                <a:solidFill>
                  <a:srgbClr val="7030a0"/>
                </a:solidFill>
                <a:latin typeface="华文仿宋"/>
                <a:ea typeface="华文仿宋"/>
              </a:rPr>
              <a:t>“三险一金”</a:t>
            </a:r>
            <a:r>
              <a:rPr b="0" lang="en-US" sz="2000" spc="-1" strike="noStrike">
                <a:solidFill>
                  <a:srgbClr val="7030a0"/>
                </a:solidFill>
                <a:latin typeface="华文仿宋"/>
                <a:ea typeface="华文仿宋"/>
              </a:rPr>
              <a:t>2560</a:t>
            </a:r>
            <a:r>
              <a:rPr b="0" lang="zh-CN" sz="2000" spc="-1" strike="noStrike">
                <a:solidFill>
                  <a:srgbClr val="7030a0"/>
                </a:solidFill>
                <a:latin typeface="华文仿宋"/>
                <a:ea typeface="华文仿宋"/>
              </a:rPr>
              <a:t>元</a:t>
            </a:r>
            <a:r>
              <a:rPr b="0" lang="zh-CN" sz="2000" spc="-1" strike="noStrike">
                <a:solidFill>
                  <a:srgbClr val="262626"/>
                </a:solidFill>
                <a:latin typeface="华文仿宋"/>
                <a:ea typeface="华文仿宋"/>
              </a:rPr>
              <a:t>外，还通过单位缴付个人承担的</a:t>
            </a:r>
            <a:r>
              <a:rPr b="0" lang="zh-CN" sz="2000" spc="-1" strike="noStrike">
                <a:solidFill>
                  <a:srgbClr val="7030a0"/>
                </a:solidFill>
                <a:latin typeface="华文仿宋"/>
                <a:ea typeface="华文仿宋"/>
              </a:rPr>
              <a:t>企业年金</a:t>
            </a:r>
            <a:r>
              <a:rPr b="0" lang="en-US" sz="2000" spc="-1" strike="noStrike">
                <a:solidFill>
                  <a:srgbClr val="7030a0"/>
                </a:solidFill>
                <a:latin typeface="华文仿宋"/>
                <a:ea typeface="华文仿宋"/>
              </a:rPr>
              <a:t>540</a:t>
            </a:r>
            <a:r>
              <a:rPr b="0" lang="zh-CN" sz="2000" spc="-1" strike="noStrike">
                <a:solidFill>
                  <a:srgbClr val="7030a0"/>
                </a:solidFill>
                <a:latin typeface="华文仿宋"/>
                <a:ea typeface="华文仿宋"/>
              </a:rPr>
              <a:t>元</a:t>
            </a:r>
            <a:r>
              <a:rPr b="0" lang="zh-CN" sz="2000" spc="-1" strike="noStrike">
                <a:solidFill>
                  <a:srgbClr val="262626"/>
                </a:solidFill>
                <a:latin typeface="华文仿宋"/>
                <a:ea typeface="华文仿宋"/>
              </a:rPr>
              <a:t>，自行支付税优</a:t>
            </a:r>
            <a:r>
              <a:rPr b="0" lang="zh-CN" sz="2000" spc="-1" strike="noStrike">
                <a:solidFill>
                  <a:srgbClr val="7030a0"/>
                </a:solidFill>
                <a:latin typeface="华文仿宋"/>
                <a:ea typeface="华文仿宋"/>
              </a:rPr>
              <a:t>商业健康保险费</a:t>
            </a:r>
            <a:r>
              <a:rPr b="0" lang="en-US" sz="2000" spc="-1" strike="noStrike">
                <a:solidFill>
                  <a:srgbClr val="7030a0"/>
                </a:solidFill>
                <a:latin typeface="华文仿宋"/>
                <a:ea typeface="华文仿宋"/>
              </a:rPr>
              <a:t>200</a:t>
            </a:r>
            <a:r>
              <a:rPr b="0" lang="zh-CN" sz="2000" spc="-1" strike="noStrike">
                <a:solidFill>
                  <a:srgbClr val="7030a0"/>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王先生已于</a:t>
            </a:r>
            <a:r>
              <a:rPr b="0" lang="en-US" sz="2000" spc="-1" strike="noStrike">
                <a:solidFill>
                  <a:srgbClr val="262626"/>
                </a:solidFill>
                <a:latin typeface="华文仿宋"/>
                <a:ea typeface="华文仿宋"/>
              </a:rPr>
              <a:t>2018</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9</a:t>
            </a:r>
            <a:r>
              <a:rPr b="0" lang="zh-CN" sz="2000" spc="-1" strike="noStrike">
                <a:solidFill>
                  <a:srgbClr val="262626"/>
                </a:solidFill>
                <a:latin typeface="华文仿宋"/>
                <a:ea typeface="华文仿宋"/>
              </a:rPr>
              <a:t>月支付了</a:t>
            </a:r>
            <a:r>
              <a:rPr b="0" lang="zh-CN" sz="2000" spc="-1" strike="noStrike">
                <a:solidFill>
                  <a:srgbClr val="7030a0"/>
                </a:solidFill>
                <a:latin typeface="华文仿宋"/>
                <a:ea typeface="华文仿宋"/>
              </a:rPr>
              <a:t>女儿学前教育</a:t>
            </a:r>
            <a:r>
              <a:rPr b="0" lang="zh-CN" sz="2000" spc="-1" strike="noStrike">
                <a:solidFill>
                  <a:srgbClr val="262626"/>
                </a:solidFill>
                <a:latin typeface="华文仿宋"/>
                <a:ea typeface="华文仿宋"/>
              </a:rPr>
              <a:t>的</a:t>
            </a:r>
            <a:r>
              <a:rPr b="0" lang="en-US" sz="2000" spc="-1" strike="noStrike">
                <a:solidFill>
                  <a:srgbClr val="262626"/>
                </a:solidFill>
                <a:latin typeface="华文仿宋"/>
                <a:ea typeface="华文仿宋"/>
              </a:rPr>
              <a:t>2018</a:t>
            </a:r>
            <a:r>
              <a:rPr b="0" lang="zh-CN" sz="2000" spc="-1" strike="noStrike">
                <a:solidFill>
                  <a:srgbClr val="262626"/>
                </a:solidFill>
                <a:latin typeface="华文仿宋"/>
                <a:ea typeface="华文仿宋"/>
              </a:rPr>
              <a:t>年下学期（</a:t>
            </a:r>
            <a:r>
              <a:rPr b="0" lang="en-US" sz="2000" spc="-1" strike="noStrike">
                <a:solidFill>
                  <a:srgbClr val="262626"/>
                </a:solidFill>
                <a:latin typeface="华文仿宋"/>
                <a:ea typeface="华文仿宋"/>
              </a:rPr>
              <a:t>2018</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9</a:t>
            </a:r>
            <a:r>
              <a:rPr b="0" lang="zh-CN" sz="2000" spc="-1" strike="noStrike">
                <a:solidFill>
                  <a:srgbClr val="262626"/>
                </a:solidFill>
                <a:latin typeface="华文仿宋"/>
                <a:ea typeface="华文仿宋"/>
              </a:rPr>
              <a:t>月至</a:t>
            </a:r>
            <a:r>
              <a:rPr b="0" lang="en-US" sz="2000" spc="-1" strike="noStrike">
                <a:solidFill>
                  <a:srgbClr val="262626"/>
                </a:solidFill>
                <a:latin typeface="华文仿宋"/>
                <a:ea typeface="华文仿宋"/>
              </a:rPr>
              <a:t>2019</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学费</a:t>
            </a:r>
            <a:r>
              <a:rPr b="0" lang="en-US" sz="2000" spc="-1" strike="noStrike">
                <a:solidFill>
                  <a:srgbClr val="262626"/>
                </a:solidFill>
                <a:latin typeface="华文仿宋"/>
                <a:ea typeface="华文仿宋"/>
              </a:rPr>
              <a:t>7000</a:t>
            </a:r>
            <a:r>
              <a:rPr b="0" lang="zh-CN" sz="2000" spc="-1" strike="noStrike">
                <a:solidFill>
                  <a:srgbClr val="262626"/>
                </a:solidFill>
                <a:latin typeface="华文仿宋"/>
                <a:ea typeface="华文仿宋"/>
              </a:rPr>
              <a:t>元，</a:t>
            </a:r>
            <a:r>
              <a:rPr b="0" lang="zh-CN" sz="2000" spc="-1" strike="noStrike">
                <a:solidFill>
                  <a:srgbClr val="7030a0"/>
                </a:solidFill>
                <a:latin typeface="华文仿宋"/>
                <a:ea typeface="华文仿宋"/>
              </a:rPr>
              <a:t>大儿子正在上小学，</a:t>
            </a:r>
            <a:r>
              <a:rPr b="0" lang="zh-CN" sz="2000" spc="-1" strike="noStrike">
                <a:solidFill>
                  <a:srgbClr val="262626"/>
                </a:solidFill>
                <a:latin typeface="华文仿宋"/>
                <a:ea typeface="华文仿宋"/>
              </a:rPr>
              <a:t>现与妻子约定由王先生方按</a:t>
            </a:r>
            <a:r>
              <a:rPr b="0" lang="en-US" sz="2000" spc="-1" strike="noStrike">
                <a:solidFill>
                  <a:srgbClr val="262626"/>
                </a:solidFill>
                <a:latin typeface="华文仿宋"/>
                <a:ea typeface="华文仿宋"/>
              </a:rPr>
              <a:t>100%</a:t>
            </a:r>
            <a:r>
              <a:rPr b="0" lang="zh-CN" sz="2000" spc="-1" strike="noStrike">
                <a:solidFill>
                  <a:srgbClr val="262626"/>
                </a:solidFill>
                <a:latin typeface="华文仿宋"/>
                <a:ea typeface="华文仿宋"/>
              </a:rPr>
              <a:t>扣除子女教育专项附加扣除费用。</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王先生本人是在读</a:t>
            </a:r>
            <a:r>
              <a:rPr b="0" lang="zh-CN" sz="2000" spc="-1" strike="noStrike">
                <a:solidFill>
                  <a:srgbClr val="7030a0"/>
                </a:solidFill>
                <a:latin typeface="华文仿宋"/>
                <a:ea typeface="华文仿宋"/>
              </a:rPr>
              <a:t>在职</a:t>
            </a:r>
            <a:r>
              <a:rPr b="0" lang="en-US" sz="2000" spc="-1" strike="noStrike">
                <a:solidFill>
                  <a:srgbClr val="7030a0"/>
                </a:solidFill>
                <a:latin typeface="华文仿宋"/>
                <a:ea typeface="华文仿宋"/>
              </a:rPr>
              <a:t>MBA</a:t>
            </a:r>
            <a:r>
              <a:rPr b="0" lang="zh-CN" sz="2000" spc="-1" strike="noStrike">
                <a:solidFill>
                  <a:srgbClr val="7030a0"/>
                </a:solidFill>
                <a:latin typeface="华文仿宋"/>
                <a:ea typeface="华文仿宋"/>
              </a:rPr>
              <a:t>研究生</a:t>
            </a:r>
            <a:r>
              <a:rPr b="0" lang="zh-CN" sz="2000" spc="-1" strike="noStrike">
                <a:solidFill>
                  <a:srgbClr val="262626"/>
                </a:solidFill>
                <a:latin typeface="华文仿宋"/>
                <a:ea typeface="华文仿宋"/>
              </a:rPr>
              <a:t>。</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王先生去年使用商业银行</a:t>
            </a:r>
            <a:r>
              <a:rPr b="0" lang="zh-CN" sz="2000" spc="-1" strike="noStrike">
                <a:solidFill>
                  <a:srgbClr val="7030a0"/>
                </a:solidFill>
                <a:latin typeface="华文仿宋"/>
                <a:ea typeface="华文仿宋"/>
              </a:rPr>
              <a:t>个人住房贷款</a:t>
            </a:r>
            <a:r>
              <a:rPr b="0" lang="zh-CN" sz="2000" spc="-1" strike="noStrike">
                <a:solidFill>
                  <a:srgbClr val="262626"/>
                </a:solidFill>
                <a:latin typeface="华文仿宋"/>
                <a:ea typeface="华文仿宋"/>
              </a:rPr>
              <a:t>（或住房公积金贷款）购买了首套住房，现处于</a:t>
            </a:r>
            <a:r>
              <a:rPr b="0" lang="zh-CN" sz="2000" spc="-1" strike="noStrike">
                <a:solidFill>
                  <a:srgbClr val="7030a0"/>
                </a:solidFill>
                <a:latin typeface="华文仿宋"/>
                <a:ea typeface="华文仿宋"/>
              </a:rPr>
              <a:t>偿还贷款期间，</a:t>
            </a:r>
            <a:r>
              <a:rPr b="0" lang="zh-CN" sz="2000" spc="-1" strike="noStrike">
                <a:solidFill>
                  <a:srgbClr val="262626"/>
                </a:solidFill>
                <a:latin typeface="华文仿宋"/>
                <a:ea typeface="华文仿宋"/>
              </a:rPr>
              <a:t>每月需支付贷款利息</a:t>
            </a:r>
            <a:r>
              <a:rPr b="0" lang="en-US" sz="2000" spc="-1" strike="noStrike">
                <a:solidFill>
                  <a:srgbClr val="262626"/>
                </a:solidFill>
                <a:latin typeface="华文仿宋"/>
                <a:ea typeface="华文仿宋"/>
              </a:rPr>
              <a:t>1300</a:t>
            </a:r>
            <a:r>
              <a:rPr b="0" lang="zh-CN" sz="2000" spc="-1" strike="noStrike">
                <a:solidFill>
                  <a:srgbClr val="262626"/>
                </a:solidFill>
                <a:latin typeface="华文仿宋"/>
                <a:ea typeface="华文仿宋"/>
              </a:rPr>
              <a:t>元，已与妻子约定由王先生进行住房贷款利息专项附加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因王先生所购住房距离孩子上学的学校较远，以每月租金</a:t>
            </a:r>
            <a:r>
              <a:rPr b="0" lang="en-US" sz="2000" spc="-1" strike="noStrike">
                <a:solidFill>
                  <a:srgbClr val="262626"/>
                </a:solidFill>
                <a:latin typeface="华文仿宋"/>
                <a:ea typeface="华文仿宋"/>
              </a:rPr>
              <a:t>2200</a:t>
            </a:r>
            <a:r>
              <a:rPr b="0" lang="zh-CN" sz="2000" spc="-1" strike="noStrike">
                <a:solidFill>
                  <a:srgbClr val="262626"/>
                </a:solidFill>
                <a:latin typeface="华文仿宋"/>
                <a:ea typeface="华文仿宋"/>
              </a:rPr>
              <a:t>元在（本市）孩子学校附近</a:t>
            </a:r>
            <a:r>
              <a:rPr b="0" lang="zh-CN" sz="2000" spc="-1" strike="noStrike">
                <a:solidFill>
                  <a:srgbClr val="7030a0"/>
                </a:solidFill>
                <a:latin typeface="华文仿宋"/>
                <a:ea typeface="华文仿宋"/>
              </a:rPr>
              <a:t>租住了一套房屋</a:t>
            </a:r>
            <a:r>
              <a:rPr b="0" lang="zh-CN" sz="2000" spc="-1" strike="noStrike">
                <a:solidFill>
                  <a:srgbClr val="262626"/>
                </a:solidFill>
                <a:latin typeface="华文仿宋"/>
                <a:ea typeface="华文仿宋"/>
              </a:rPr>
              <a:t>（位于省会城市）；</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王先生的父母均已满</a:t>
            </a:r>
            <a:r>
              <a:rPr b="0" lang="en-US" sz="2000" spc="-1" strike="noStrike">
                <a:solidFill>
                  <a:srgbClr val="262626"/>
                </a:solidFill>
                <a:latin typeface="华文仿宋"/>
                <a:ea typeface="华文仿宋"/>
              </a:rPr>
              <a:t>60</a:t>
            </a:r>
            <a:r>
              <a:rPr b="0" lang="zh-CN" sz="2000" spc="-1" strike="noStrike">
                <a:solidFill>
                  <a:srgbClr val="262626"/>
                </a:solidFill>
                <a:latin typeface="华文仿宋"/>
                <a:ea typeface="华文仿宋"/>
              </a:rPr>
              <a:t>岁（每月均领取养老保险金），王先生与姐姐和弟弟签订书面</a:t>
            </a:r>
            <a:r>
              <a:rPr b="0" lang="zh-CN" sz="2000" spc="-1" strike="noStrike">
                <a:solidFill>
                  <a:srgbClr val="7030a0"/>
                </a:solidFill>
                <a:latin typeface="华文仿宋"/>
                <a:ea typeface="华文仿宋"/>
              </a:rPr>
              <a:t>分摊</a:t>
            </a:r>
            <a:r>
              <a:rPr b="0" lang="zh-CN" sz="2000" spc="-1" strike="noStrike">
                <a:solidFill>
                  <a:srgbClr val="262626"/>
                </a:solidFill>
                <a:latin typeface="华文仿宋"/>
                <a:ea typeface="华文仿宋"/>
              </a:rPr>
              <a:t>协议，约定由王先生分摊赡养老人专项附加扣除</a:t>
            </a:r>
            <a:r>
              <a:rPr b="0" lang="en-US" sz="2000" spc="-1" strike="noStrike">
                <a:solidFill>
                  <a:srgbClr val="7030a0"/>
                </a:solidFill>
                <a:latin typeface="华文仿宋"/>
                <a:ea typeface="华文仿宋"/>
              </a:rPr>
              <a:t>800</a:t>
            </a:r>
            <a:r>
              <a:rPr b="0" lang="zh-CN" sz="2000" spc="-1" strike="noStrike">
                <a:solidFill>
                  <a:srgbClr val="7030a0"/>
                </a:solidFill>
                <a:latin typeface="华文仿宋"/>
                <a:ea typeface="华文仿宋"/>
              </a:rPr>
              <a:t>元</a:t>
            </a:r>
            <a:r>
              <a:rPr b="0" lang="zh-CN" sz="2000" spc="-1" strike="noStrike">
                <a:solidFill>
                  <a:srgbClr val="262626"/>
                </a:solidFill>
                <a:latin typeface="华文仿宋"/>
                <a:ea typeface="华文仿宋"/>
              </a:rPr>
              <a:t>。</a:t>
            </a:r>
            <a:endParaRPr b="0" lang="en-US" sz="2000" spc="-1" strike="noStrike">
              <a:solidFill>
                <a:srgbClr val="262626"/>
              </a:solidFill>
              <a:latin typeface="Arial"/>
            </a:endParaRPr>
          </a:p>
        </p:txBody>
      </p:sp>
    </p:spTree>
  </p:cSld>
  <p:transition spd="slow">
    <p:random/>
  </p:transition>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withEffect" fill="hold" presetClass="entr" presetID="2" presetSubtype="8">
                                  <p:stCondLst>
                                    <p:cond delay="0"/>
                                  </p:stCondLst>
                                  <p:childTnLst>
                                    <p:set>
                                      <p:cBhvr>
                                        <p:cTn id="699" dur="1" fill="hold">
                                          <p:stCondLst>
                                            <p:cond delay="0"/>
                                          </p:stCondLst>
                                        </p:cTn>
                                        <p:tgtEl>
                                          <p:spTgt spid="2254"/>
                                        </p:tgtEl>
                                        <p:attrNameLst>
                                          <p:attrName>style.visibility</p:attrName>
                                        </p:attrNameLst>
                                      </p:cBhvr>
                                      <p:to>
                                        <p:strVal val="visible"/>
                                      </p:to>
                                    </p:set>
                                    <p:anim calcmode="lin" valueType="num">
                                      <p:cBhvr additive="base">
                                        <p:cTn id="700" dur="500" fill="hold"/>
                                        <p:tgtEl>
                                          <p:spTgt spid="2254"/>
                                        </p:tgtEl>
                                        <p:attrNameLst>
                                          <p:attrName>ppt_x</p:attrName>
                                        </p:attrNameLst>
                                      </p:cBhvr>
                                      <p:tavLst>
                                        <p:tav tm="0">
                                          <p:val>
                                            <p:strVal val="0-#ppt_w/2"/>
                                          </p:val>
                                        </p:tav>
                                        <p:tav tm="100000">
                                          <p:val>
                                            <p:strVal val="#ppt_x"/>
                                          </p:val>
                                        </p:tav>
                                      </p:tavLst>
                                    </p:anim>
                                    <p:anim calcmode="lin" valueType="num">
                                      <p:cBhvr additive="base">
                                        <p:cTn id="701" dur="500" fill="hold"/>
                                        <p:tgtEl>
                                          <p:spTgt spid="2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6" name="图片 41" descr=""/>
          <p:cNvPicPr/>
          <p:nvPr/>
        </p:nvPicPr>
        <p:blipFill>
          <a:blip r:embed="rId1"/>
          <a:stretch/>
        </p:blipFill>
        <p:spPr>
          <a:xfrm>
            <a:off x="4957920" y="173160"/>
            <a:ext cx="1749240" cy="1322280"/>
          </a:xfrm>
          <a:prstGeom prst="rect">
            <a:avLst/>
          </a:prstGeom>
          <a:ln w="0">
            <a:noFill/>
          </a:ln>
        </p:spPr>
      </p:pic>
      <p:sp>
        <p:nvSpPr>
          <p:cNvPr id="2257" name="TextBox 42"/>
          <p:cNvSpPr/>
          <p:nvPr/>
        </p:nvSpPr>
        <p:spPr>
          <a:xfrm>
            <a:off x="1473120" y="1204920"/>
            <a:ext cx="991872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仿宋"/>
                <a:ea typeface="华文仿宋"/>
              </a:rPr>
              <a:t>解析：</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一）计算王先生</a:t>
            </a:r>
            <a:r>
              <a:rPr b="0" lang="en-US" sz="2000" spc="-1" strike="noStrike">
                <a:solidFill>
                  <a:srgbClr val="262626"/>
                </a:solidFill>
                <a:latin typeface="华文仿宋"/>
                <a:ea typeface="华文仿宋"/>
              </a:rPr>
              <a:t>2019</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份个人所得税时可扣除项目和金额：</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基本扣除费用</a:t>
            </a:r>
            <a:r>
              <a:rPr b="0" lang="en-US" sz="2000" spc="-1" strike="noStrike">
                <a:solidFill>
                  <a:srgbClr val="262626"/>
                </a:solidFill>
                <a:latin typeface="华文仿宋"/>
                <a:ea typeface="华文仿宋"/>
              </a:rPr>
              <a:t>50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专项扣除（三险一金）：</a:t>
            </a:r>
            <a:r>
              <a:rPr b="0" lang="en-US" sz="2000" spc="-1" strike="noStrike">
                <a:solidFill>
                  <a:srgbClr val="262626"/>
                </a:solidFill>
                <a:latin typeface="华文仿宋"/>
                <a:ea typeface="华文仿宋"/>
              </a:rPr>
              <a:t>256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3</a:t>
            </a:r>
            <a:r>
              <a:rPr b="0" lang="zh-CN" sz="2000" spc="-1" strike="noStrike">
                <a:solidFill>
                  <a:srgbClr val="262626"/>
                </a:solidFill>
                <a:latin typeface="华文仿宋"/>
                <a:ea typeface="华文仿宋"/>
              </a:rPr>
              <a:t>、专项附加扣除：</a:t>
            </a:r>
            <a:r>
              <a:rPr b="0" lang="en-US" sz="2000" spc="-1" strike="noStrike">
                <a:solidFill>
                  <a:srgbClr val="262626"/>
                </a:solidFill>
                <a:latin typeface="华文仿宋"/>
                <a:ea typeface="华文仿宋"/>
              </a:rPr>
              <a:t>42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子女教育专项附加扣除：</a:t>
            </a:r>
            <a:r>
              <a:rPr b="0" lang="en-US" sz="2000" spc="-1" strike="noStrike">
                <a:solidFill>
                  <a:srgbClr val="262626"/>
                </a:solidFill>
                <a:latin typeface="华文仿宋"/>
                <a:ea typeface="华文仿宋"/>
              </a:rPr>
              <a:t>2000</a:t>
            </a:r>
            <a:r>
              <a:rPr b="0" lang="zh-CN" sz="2000" spc="-1" strike="noStrike">
                <a:solidFill>
                  <a:srgbClr val="262626"/>
                </a:solidFill>
                <a:latin typeface="华文仿宋"/>
                <a:ea typeface="华文仿宋"/>
              </a:rPr>
              <a:t>元（女儿和儿子各</a:t>
            </a:r>
            <a:r>
              <a:rPr b="0" lang="en-US" sz="2000" spc="-1" strike="noStrike">
                <a:solidFill>
                  <a:srgbClr val="262626"/>
                </a:solidFill>
                <a:latin typeface="华文仿宋"/>
                <a:ea typeface="华文仿宋"/>
              </a:rPr>
              <a:t>10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继续教育专项附加扣除：</a:t>
            </a:r>
            <a:r>
              <a:rPr b="0" lang="en-US" sz="2000" spc="-1" strike="noStrike">
                <a:solidFill>
                  <a:srgbClr val="262626"/>
                </a:solidFill>
                <a:latin typeface="华文仿宋"/>
                <a:ea typeface="华文仿宋"/>
              </a:rPr>
              <a:t>4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3</a:t>
            </a:r>
            <a:r>
              <a:rPr b="0" lang="zh-CN" sz="2000" spc="-1" strike="noStrike">
                <a:solidFill>
                  <a:srgbClr val="262626"/>
                </a:solidFill>
                <a:latin typeface="华文仿宋"/>
                <a:ea typeface="华文仿宋"/>
              </a:rPr>
              <a:t>）住房贷款利息专项附加扣除：</a:t>
            </a:r>
            <a:r>
              <a:rPr b="0" lang="en-US" sz="2000" spc="-1" strike="noStrike">
                <a:solidFill>
                  <a:srgbClr val="262626"/>
                </a:solidFill>
                <a:latin typeface="华文仿宋"/>
                <a:ea typeface="华文仿宋"/>
              </a:rPr>
              <a:t>1000</a:t>
            </a:r>
            <a:r>
              <a:rPr b="0" lang="zh-CN" sz="2000" spc="-1" strike="noStrike">
                <a:solidFill>
                  <a:srgbClr val="262626"/>
                </a:solidFill>
                <a:latin typeface="华文仿宋"/>
                <a:ea typeface="华文仿宋"/>
              </a:rPr>
              <a:t>元；（</a:t>
            </a:r>
            <a:r>
              <a:rPr b="0" lang="zh-CN" sz="2000" spc="-1" strike="noStrike">
                <a:solidFill>
                  <a:srgbClr val="ff0000"/>
                </a:solidFill>
                <a:latin typeface="华文仿宋"/>
                <a:ea typeface="华文仿宋"/>
              </a:rPr>
              <a:t>注</a:t>
            </a:r>
            <a:r>
              <a:rPr b="0" lang="zh-CN" sz="2000" spc="-1" strike="noStrike">
                <a:solidFill>
                  <a:srgbClr val="262626"/>
                </a:solidFill>
                <a:latin typeface="华文仿宋"/>
                <a:ea typeface="华文仿宋"/>
              </a:rPr>
              <a:t>：王先生虽然在本市的工作单位附件租住了一套房屋，但因其在本市已购有住房，不属于在主要工作城市没有住房的情形，不允许再扣除住房租金专项附加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4</a:t>
            </a:r>
            <a:r>
              <a:rPr b="0" lang="zh-CN" sz="2000" spc="-1" strike="noStrike">
                <a:solidFill>
                  <a:srgbClr val="262626"/>
                </a:solidFill>
                <a:latin typeface="华文仿宋"/>
                <a:ea typeface="华文仿宋"/>
              </a:rPr>
              <a:t>）赡养老人专项附加扣除</a:t>
            </a:r>
            <a:r>
              <a:rPr b="0" lang="en-US" sz="2000" spc="-1" strike="noStrike">
                <a:solidFill>
                  <a:srgbClr val="262626"/>
                </a:solidFill>
                <a:latin typeface="华文仿宋"/>
                <a:ea typeface="华文仿宋"/>
              </a:rPr>
              <a:t>8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4</a:t>
            </a:r>
            <a:r>
              <a:rPr b="0" lang="zh-CN" sz="2000" spc="-1" strike="noStrike">
                <a:solidFill>
                  <a:srgbClr val="262626"/>
                </a:solidFill>
                <a:latin typeface="华文仿宋"/>
                <a:ea typeface="华文仿宋"/>
              </a:rPr>
              <a:t>、依法确定的其他扣除</a:t>
            </a:r>
            <a:r>
              <a:rPr b="0" lang="en-US" sz="2000" spc="-1" strike="noStrike">
                <a:solidFill>
                  <a:srgbClr val="262626"/>
                </a:solidFill>
                <a:latin typeface="华文仿宋"/>
                <a:ea typeface="华文仿宋"/>
              </a:rPr>
              <a:t>740</a:t>
            </a:r>
            <a:r>
              <a:rPr b="0" lang="zh-CN" sz="2000" spc="-1" strike="noStrike">
                <a:solidFill>
                  <a:srgbClr val="262626"/>
                </a:solidFill>
                <a:latin typeface="华文仿宋"/>
                <a:ea typeface="华文仿宋"/>
              </a:rPr>
              <a:t>元（企业年金</a:t>
            </a:r>
            <a:r>
              <a:rPr b="0" lang="en-US" sz="2000" spc="-1" strike="noStrike">
                <a:solidFill>
                  <a:srgbClr val="262626"/>
                </a:solidFill>
                <a:latin typeface="华文仿宋"/>
                <a:ea typeface="华文仿宋"/>
              </a:rPr>
              <a:t>540</a:t>
            </a:r>
            <a:r>
              <a:rPr b="0" lang="zh-CN" sz="2000" spc="-1" strike="noStrike">
                <a:solidFill>
                  <a:srgbClr val="262626"/>
                </a:solidFill>
                <a:latin typeface="华文仿宋"/>
                <a:ea typeface="华文仿宋"/>
              </a:rPr>
              <a:t>元，支付税优商业健康保险</a:t>
            </a:r>
            <a:r>
              <a:rPr b="0" lang="en-US" sz="2000" spc="-1" strike="noStrike">
                <a:solidFill>
                  <a:srgbClr val="262626"/>
                </a:solidFill>
                <a:latin typeface="华文仿宋"/>
                <a:ea typeface="华文仿宋"/>
              </a:rPr>
              <a:t>2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二）王先生</a:t>
            </a:r>
            <a:r>
              <a:rPr b="0" lang="en-US" sz="2000" spc="-1" strike="noStrike">
                <a:solidFill>
                  <a:srgbClr val="262626"/>
                </a:solidFill>
                <a:latin typeface="华文仿宋"/>
                <a:ea typeface="华文仿宋"/>
              </a:rPr>
              <a:t>2019</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份应累计预缴应纳税所得额</a:t>
            </a:r>
            <a:r>
              <a:rPr b="0" lang="en-US" sz="2000" spc="-1" strike="noStrike">
                <a:solidFill>
                  <a:srgbClr val="262626"/>
                </a:solidFill>
                <a:latin typeface="华文仿宋"/>
                <a:ea typeface="华文仿宋"/>
              </a:rPr>
              <a:t>=13500-5000-2560-4200-740=10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三）该科技公司应在</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份预扣王先生个人所得税</a:t>
            </a:r>
            <a:r>
              <a:rPr b="0" lang="en-US" sz="2000" spc="-1" strike="noStrike">
                <a:solidFill>
                  <a:srgbClr val="262626"/>
                </a:solidFill>
                <a:latin typeface="华文仿宋"/>
                <a:ea typeface="华文仿宋"/>
              </a:rPr>
              <a:t>=100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3%=3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四）该科技公司应在</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月份申报预缴王先生个人所得税</a:t>
            </a:r>
            <a:r>
              <a:rPr b="0" lang="en-US" sz="2000" spc="-1" strike="noStrike">
                <a:solidFill>
                  <a:srgbClr val="262626"/>
                </a:solidFill>
                <a:latin typeface="华文仿宋"/>
                <a:ea typeface="华文仿宋"/>
              </a:rPr>
              <a:t>=3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p:txBody>
      </p:sp>
    </p:spTree>
  </p:cSld>
  <p:transition spd="slow">
    <p:random/>
  </p:transition>
  <p:timing>
    <p:tnLst>
      <p:par>
        <p:cTn id="702" dur="indefinite" restart="never" nodeType="tmRoot">
          <p:childTnLst>
            <p:seq>
              <p:cTn id="703" dur="indefinite" nodeType="mainSeq">
                <p:childTnLst>
                  <p:par>
                    <p:cTn id="704" nodeType="clickEffect" fill="hold">
                      <p:stCondLst>
                        <p:cond delay="0"/>
                      </p:stCondLst>
                      <p:childTnLst>
                        <p:par>
                          <p:cTn id="705" nodeType="withEffect" fill="hold">
                            <p:stCondLst>
                              <p:cond delay="0"/>
                            </p:stCondLst>
                            <p:childTnLst>
                              <p:par>
                                <p:cTn id="706" nodeType="withEffect" fill="hold" presetClass="entr" presetID="2" presetSubtype="8">
                                  <p:stCondLst>
                                    <p:cond delay="0"/>
                                  </p:stCondLst>
                                  <p:childTnLst>
                                    <p:set>
                                      <p:cBhvr>
                                        <p:cTn id="707" dur="1" fill="hold">
                                          <p:stCondLst>
                                            <p:cond delay="0"/>
                                          </p:stCondLst>
                                        </p:cTn>
                                        <p:tgtEl>
                                          <p:spTgt spid="2256"/>
                                        </p:tgtEl>
                                        <p:attrNameLst>
                                          <p:attrName>style.visibility</p:attrName>
                                        </p:attrNameLst>
                                      </p:cBhvr>
                                      <p:to>
                                        <p:strVal val="visible"/>
                                      </p:to>
                                    </p:set>
                                    <p:anim calcmode="lin" valueType="num">
                                      <p:cBhvr additive="base">
                                        <p:cTn id="708" dur="500" fill="hold"/>
                                        <p:tgtEl>
                                          <p:spTgt spid="2256"/>
                                        </p:tgtEl>
                                        <p:attrNameLst>
                                          <p:attrName>ppt_x</p:attrName>
                                        </p:attrNameLst>
                                      </p:cBhvr>
                                      <p:tavLst>
                                        <p:tav tm="0">
                                          <p:val>
                                            <p:strVal val="0-#ppt_w/2"/>
                                          </p:val>
                                        </p:tav>
                                        <p:tav tm="100000">
                                          <p:val>
                                            <p:strVal val="#ppt_x"/>
                                          </p:val>
                                        </p:tav>
                                      </p:tavLst>
                                    </p:anim>
                                    <p:anim calcmode="lin" valueType="num">
                                      <p:cBhvr additive="base">
                                        <p:cTn id="709" dur="500" fill="hold"/>
                                        <p:tgtEl>
                                          <p:spTgt spid="2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8" name="图片 41" descr=""/>
          <p:cNvPicPr/>
          <p:nvPr/>
        </p:nvPicPr>
        <p:blipFill>
          <a:blip r:embed="rId1"/>
          <a:stretch/>
        </p:blipFill>
        <p:spPr>
          <a:xfrm>
            <a:off x="4957920" y="173160"/>
            <a:ext cx="1749240" cy="1322280"/>
          </a:xfrm>
          <a:prstGeom prst="rect">
            <a:avLst/>
          </a:prstGeom>
          <a:ln w="0">
            <a:noFill/>
          </a:ln>
        </p:spPr>
      </p:pic>
      <p:sp>
        <p:nvSpPr>
          <p:cNvPr id="2259" name="TextBox 42"/>
          <p:cNvSpPr/>
          <p:nvPr/>
        </p:nvSpPr>
        <p:spPr>
          <a:xfrm>
            <a:off x="1473120" y="1204920"/>
            <a:ext cx="991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假设王先生因接受专业技术人员职业资格继续教育（或技能人员职业资格继续教育），在</a:t>
            </a:r>
            <a:r>
              <a:rPr b="0" lang="en-US" sz="2000" spc="-1" strike="noStrike">
                <a:solidFill>
                  <a:srgbClr val="262626"/>
                </a:solidFill>
                <a:latin typeface="华文仿宋"/>
                <a:ea typeface="华文仿宋"/>
              </a:rPr>
              <a:t>2019</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份取得了相关证书，则可再扣除继续教育专项附加扣除</a:t>
            </a:r>
            <a:r>
              <a:rPr b="0" lang="en-US" sz="2000" spc="-1" strike="noStrike">
                <a:solidFill>
                  <a:srgbClr val="262626"/>
                </a:solidFill>
                <a:latin typeface="华文仿宋"/>
                <a:ea typeface="华文仿宋"/>
              </a:rPr>
              <a:t>3600</a:t>
            </a:r>
            <a:r>
              <a:rPr b="0" lang="zh-CN" sz="2000" spc="-1" strike="noStrike">
                <a:solidFill>
                  <a:srgbClr val="262626"/>
                </a:solidFill>
                <a:latin typeface="华文仿宋"/>
                <a:ea typeface="华文仿宋"/>
              </a:rPr>
              <a:t>元，其</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份的应纳税所得额为</a:t>
            </a:r>
            <a:r>
              <a:rPr b="0" lang="en-US" sz="2000" spc="-1" strike="noStrike">
                <a:solidFill>
                  <a:srgbClr val="262626"/>
                </a:solidFill>
                <a:latin typeface="华文仿宋"/>
                <a:ea typeface="华文仿宋"/>
              </a:rPr>
              <a:t>-2600</a:t>
            </a:r>
            <a:r>
              <a:rPr b="0" lang="zh-CN" sz="2000" spc="-1" strike="noStrike">
                <a:solidFill>
                  <a:srgbClr val="262626"/>
                </a:solidFill>
                <a:latin typeface="华文仿宋"/>
                <a:ea typeface="华文仿宋"/>
              </a:rPr>
              <a:t>元（</a:t>
            </a:r>
            <a:r>
              <a:rPr b="0" lang="en-US" sz="2000" spc="-1" strike="noStrike">
                <a:solidFill>
                  <a:srgbClr val="262626"/>
                </a:solidFill>
                <a:latin typeface="华文仿宋"/>
                <a:ea typeface="华文仿宋"/>
              </a:rPr>
              <a:t>1000-3600=-2600</a:t>
            </a:r>
            <a:r>
              <a:rPr b="0" lang="zh-CN" sz="2000" spc="-1" strike="noStrike">
                <a:solidFill>
                  <a:srgbClr val="262626"/>
                </a:solidFill>
                <a:latin typeface="华文仿宋"/>
                <a:ea typeface="华文仿宋"/>
              </a:rPr>
              <a:t>），王先生当月无需缴纳个人所得税。尚未扣除的继续教育专项附加扣除</a:t>
            </a:r>
            <a:r>
              <a:rPr b="0" lang="en-US" sz="2000" spc="-1" strike="noStrike">
                <a:solidFill>
                  <a:srgbClr val="262626"/>
                </a:solidFill>
                <a:latin typeface="华文仿宋"/>
                <a:ea typeface="华文仿宋"/>
              </a:rPr>
              <a:t>2600</a:t>
            </a:r>
            <a:r>
              <a:rPr b="0" lang="zh-CN" sz="2000" spc="-1" strike="noStrike">
                <a:solidFill>
                  <a:srgbClr val="262626"/>
                </a:solidFill>
                <a:latin typeface="华文仿宋"/>
                <a:ea typeface="华文仿宋"/>
              </a:rPr>
              <a:t>元可结转本年度的下月继续扣除，但不结转以后年度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仿宋"/>
                <a:ea typeface="华文仿宋"/>
              </a:rPr>
              <a:t>例</a:t>
            </a:r>
            <a:r>
              <a:rPr b="0" lang="en-US" sz="2000" spc="-1" strike="noStrike">
                <a:solidFill>
                  <a:srgbClr val="ff0000"/>
                </a:solidFill>
                <a:latin typeface="华文仿宋"/>
                <a:ea typeface="华文仿宋"/>
              </a:rPr>
              <a:t>2</a:t>
            </a:r>
            <a:r>
              <a:rPr b="0" lang="zh-CN" sz="2000" spc="-1" strike="noStrike">
                <a:solidFill>
                  <a:srgbClr val="ff0000"/>
                </a:solidFill>
                <a:latin typeface="华文仿宋"/>
                <a:ea typeface="华文仿宋"/>
              </a:rPr>
              <a:t>：</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仿宋"/>
                <a:ea typeface="华文仿宋"/>
              </a:rPr>
              <a:t>    </a:t>
            </a:r>
            <a:r>
              <a:rPr b="0" lang="en-US" sz="2000" spc="-1" strike="noStrike">
                <a:solidFill>
                  <a:srgbClr val="262626"/>
                </a:solidFill>
                <a:latin typeface="华文仿宋"/>
                <a:ea typeface="华文仿宋"/>
              </a:rPr>
              <a:t>2019</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月</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日，科技公司应支付王先生工资</a:t>
            </a:r>
            <a:r>
              <a:rPr b="0" lang="en-US" sz="2000" spc="-1" strike="noStrike">
                <a:solidFill>
                  <a:srgbClr val="262626"/>
                </a:solidFill>
                <a:latin typeface="华文仿宋"/>
                <a:ea typeface="华文仿宋"/>
              </a:rPr>
              <a:t>13500</a:t>
            </a:r>
            <a:r>
              <a:rPr b="0" lang="zh-CN" sz="2000" spc="-1" strike="noStrike">
                <a:solidFill>
                  <a:srgbClr val="262626"/>
                </a:solidFill>
                <a:latin typeface="华文仿宋"/>
                <a:ea typeface="华文仿宋"/>
              </a:rPr>
              <a:t>元，同时发放春季过节福利费</a:t>
            </a:r>
            <a:r>
              <a:rPr b="0" lang="en-US" sz="2000" spc="-1" strike="noStrike">
                <a:solidFill>
                  <a:srgbClr val="262626"/>
                </a:solidFill>
                <a:latin typeface="华文仿宋"/>
                <a:ea typeface="华文仿宋"/>
              </a:rPr>
              <a:t>4500</a:t>
            </a:r>
            <a:r>
              <a:rPr b="0" lang="zh-CN" sz="2000" spc="-1" strike="noStrike">
                <a:solidFill>
                  <a:srgbClr val="262626"/>
                </a:solidFill>
                <a:latin typeface="华文仿宋"/>
                <a:ea typeface="华文仿宋"/>
              </a:rPr>
              <a:t>元，合计</a:t>
            </a:r>
            <a:r>
              <a:rPr b="0" lang="en-US" sz="2000" spc="-1" strike="noStrike">
                <a:solidFill>
                  <a:srgbClr val="262626"/>
                </a:solidFill>
                <a:latin typeface="华文仿宋"/>
                <a:ea typeface="华文仿宋"/>
              </a:rPr>
              <a:t>180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  </a:t>
            </a:r>
            <a:r>
              <a:rPr b="0" lang="zh-CN" sz="2000" spc="-1" strike="noStrike">
                <a:solidFill>
                  <a:srgbClr val="262626"/>
                </a:solidFill>
                <a:latin typeface="华文仿宋"/>
                <a:ea typeface="华文仿宋"/>
              </a:rPr>
              <a:t>单位扣缴王先生的“三险一金” ，王先生缴付企业年金、支付税优商业健康保险费等金额均与</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份相同，王先生可享受的各类专项附加扣除信息没有变化。</a:t>
            </a:r>
            <a:endParaRPr b="0" lang="en-US" sz="2000" spc="-1" strike="noStrike">
              <a:solidFill>
                <a:srgbClr val="262626"/>
              </a:solidFill>
              <a:latin typeface="Arial"/>
            </a:endParaRPr>
          </a:p>
        </p:txBody>
      </p:sp>
    </p:spTree>
  </p:cSld>
  <p:transition spd="slow">
    <p:random/>
  </p:transition>
  <p:timing>
    <p:tnLst>
      <p:par>
        <p:cTn id="710" dur="indefinite" restart="never" nodeType="tmRoot">
          <p:childTnLst>
            <p:seq>
              <p:cTn id="711" dur="indefinite" nodeType="mainSeq">
                <p:childTnLst>
                  <p:par>
                    <p:cTn id="712" nodeType="clickEffect" fill="hold">
                      <p:stCondLst>
                        <p:cond delay="0"/>
                      </p:stCondLst>
                      <p:childTnLst>
                        <p:par>
                          <p:cTn id="713" nodeType="withEffect" fill="hold">
                            <p:stCondLst>
                              <p:cond delay="0"/>
                            </p:stCondLst>
                            <p:childTnLst>
                              <p:par>
                                <p:cTn id="714" nodeType="withEffect" fill="hold" presetClass="entr" presetID="2" presetSubtype="8">
                                  <p:stCondLst>
                                    <p:cond delay="0"/>
                                  </p:stCondLst>
                                  <p:childTnLst>
                                    <p:set>
                                      <p:cBhvr>
                                        <p:cTn id="715" dur="1" fill="hold">
                                          <p:stCondLst>
                                            <p:cond delay="0"/>
                                          </p:stCondLst>
                                        </p:cTn>
                                        <p:tgtEl>
                                          <p:spTgt spid="2258"/>
                                        </p:tgtEl>
                                        <p:attrNameLst>
                                          <p:attrName>style.visibility</p:attrName>
                                        </p:attrNameLst>
                                      </p:cBhvr>
                                      <p:to>
                                        <p:strVal val="visible"/>
                                      </p:to>
                                    </p:set>
                                    <p:anim calcmode="lin" valueType="num">
                                      <p:cBhvr additive="base">
                                        <p:cTn id="716" dur="500" fill="hold"/>
                                        <p:tgtEl>
                                          <p:spTgt spid="2258"/>
                                        </p:tgtEl>
                                        <p:attrNameLst>
                                          <p:attrName>ppt_x</p:attrName>
                                        </p:attrNameLst>
                                      </p:cBhvr>
                                      <p:tavLst>
                                        <p:tav tm="0">
                                          <p:val>
                                            <p:strVal val="0-#ppt_w/2"/>
                                          </p:val>
                                        </p:tav>
                                        <p:tav tm="100000">
                                          <p:val>
                                            <p:strVal val="#ppt_x"/>
                                          </p:val>
                                        </p:tav>
                                      </p:tavLst>
                                    </p:anim>
                                    <p:anim calcmode="lin" valueType="num">
                                      <p:cBhvr additive="base">
                                        <p:cTn id="717" dur="500" fill="hold"/>
                                        <p:tgtEl>
                                          <p:spTgt spid="2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0" name="图片 41" descr=""/>
          <p:cNvPicPr/>
          <p:nvPr/>
        </p:nvPicPr>
        <p:blipFill>
          <a:blip r:embed="rId1"/>
          <a:stretch/>
        </p:blipFill>
        <p:spPr>
          <a:xfrm>
            <a:off x="4957920" y="173160"/>
            <a:ext cx="1749240" cy="1322280"/>
          </a:xfrm>
          <a:prstGeom prst="rect">
            <a:avLst/>
          </a:prstGeom>
          <a:ln w="0">
            <a:noFill/>
          </a:ln>
        </p:spPr>
      </p:pic>
      <p:sp>
        <p:nvSpPr>
          <p:cNvPr id="2261" name="TextBox 42"/>
          <p:cNvSpPr/>
          <p:nvPr/>
        </p:nvSpPr>
        <p:spPr>
          <a:xfrm>
            <a:off x="1473120" y="1204920"/>
            <a:ext cx="99187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仿宋"/>
                <a:ea typeface="华文仿宋"/>
              </a:rPr>
              <a:t>解析：</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一）计算王先生</a:t>
            </a:r>
            <a:r>
              <a:rPr b="0" lang="en-US" sz="2000" spc="-1" strike="noStrike">
                <a:solidFill>
                  <a:srgbClr val="262626"/>
                </a:solidFill>
                <a:latin typeface="华文仿宋"/>
                <a:ea typeface="华文仿宋"/>
              </a:rPr>
              <a:t>2019</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月份个人所得税时可扣除项目和金额同</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份：</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二）王先生</a:t>
            </a:r>
            <a:r>
              <a:rPr b="0" lang="en-US" sz="2000" spc="-1" strike="noStrike">
                <a:solidFill>
                  <a:srgbClr val="262626"/>
                </a:solidFill>
                <a:latin typeface="华文仿宋"/>
                <a:ea typeface="华文仿宋"/>
              </a:rPr>
              <a:t>2019</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月份应累计预缴应纳税所得额</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13500+1800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500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2-256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2-420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2-74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2=65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三）该科技公司应在</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月份应累计预扣王先生个人所得税</a:t>
            </a:r>
            <a:r>
              <a:rPr b="0" lang="en-US" sz="2000" spc="-1" strike="noStrike">
                <a:solidFill>
                  <a:srgbClr val="262626"/>
                </a:solidFill>
                <a:latin typeface="华文仿宋"/>
                <a:ea typeface="华文仿宋"/>
              </a:rPr>
              <a:t>=650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3%=195</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a:t>
            </a:r>
            <a:r>
              <a:rPr b="0" lang="zh-CN" sz="2000" spc="-1" strike="noStrike">
                <a:solidFill>
                  <a:srgbClr val="ff0000"/>
                </a:solidFill>
                <a:latin typeface="华文仿宋"/>
                <a:ea typeface="华文仿宋"/>
              </a:rPr>
              <a:t>提示：</a:t>
            </a:r>
            <a:r>
              <a:rPr b="0" lang="zh-CN" sz="2000" spc="-1" strike="noStrike">
                <a:solidFill>
                  <a:srgbClr val="262626"/>
                </a:solidFill>
                <a:latin typeface="华文仿宋"/>
                <a:ea typeface="华文仿宋"/>
              </a:rPr>
              <a:t>适用税率级次：将当月累计预缴时的应纳税所得额视为全年应纳税所得额，适用对应税率）</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四）该科技公司实际在</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月份预扣王先生个人所得税</a:t>
            </a:r>
            <a:r>
              <a:rPr b="0" lang="en-US" sz="2000" spc="-1" strike="noStrike">
                <a:solidFill>
                  <a:srgbClr val="262626"/>
                </a:solidFill>
                <a:latin typeface="华文仿宋"/>
                <a:ea typeface="华文仿宋"/>
              </a:rPr>
              <a:t>=195-30=165</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华文仿宋"/>
                <a:ea typeface="华文仿宋"/>
              </a:rPr>
              <a:t>（五）该科技公司应在</a:t>
            </a:r>
            <a:r>
              <a:rPr b="0" lang="en-US" sz="2000" spc="-1" strike="noStrike">
                <a:solidFill>
                  <a:srgbClr val="0070c0"/>
                </a:solidFill>
                <a:latin typeface="华文仿宋"/>
                <a:ea typeface="华文仿宋"/>
              </a:rPr>
              <a:t>3</a:t>
            </a:r>
            <a:r>
              <a:rPr b="0" lang="zh-CN" sz="2000" spc="-1" strike="noStrike">
                <a:solidFill>
                  <a:srgbClr val="0070c0"/>
                </a:solidFill>
                <a:latin typeface="华文仿宋"/>
                <a:ea typeface="华文仿宋"/>
              </a:rPr>
              <a:t>月份的法定申报期内预缴王先生个人所得税</a:t>
            </a:r>
            <a:r>
              <a:rPr b="0" lang="en-US" sz="2000" spc="-1" strike="noStrike">
                <a:solidFill>
                  <a:srgbClr val="0070c0"/>
                </a:solidFill>
                <a:latin typeface="华文仿宋"/>
                <a:ea typeface="华文仿宋"/>
              </a:rPr>
              <a:t>165</a:t>
            </a:r>
            <a:r>
              <a:rPr b="0" lang="zh-CN" sz="2000" spc="-1" strike="noStrike">
                <a:solidFill>
                  <a:srgbClr val="0070c0"/>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仿宋"/>
                <a:ea typeface="华文仿宋"/>
              </a:rPr>
              <a:t>提示：</a:t>
            </a:r>
            <a:r>
              <a:rPr b="0" lang="zh-CN" sz="2000" spc="-1" strike="noStrike">
                <a:solidFill>
                  <a:srgbClr val="262626"/>
                </a:solidFill>
                <a:latin typeface="华文仿宋"/>
                <a:ea typeface="华文仿宋"/>
              </a:rPr>
              <a:t>单位每月支付工资、薪金时预扣的个人所得税，依法应当在次月的法定申报期内申报解缴。</a:t>
            </a:r>
            <a:endParaRPr b="0" lang="en-US" sz="2000" spc="-1" strike="noStrike">
              <a:solidFill>
                <a:srgbClr val="262626"/>
              </a:solidFill>
              <a:latin typeface="Arial"/>
            </a:endParaRPr>
          </a:p>
        </p:txBody>
      </p:sp>
    </p:spTree>
  </p:cSld>
  <p:transition spd="slow">
    <p:random/>
  </p:transition>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withEffect" fill="hold" presetClass="entr" presetID="2" presetSubtype="8">
                                  <p:stCondLst>
                                    <p:cond delay="0"/>
                                  </p:stCondLst>
                                  <p:childTnLst>
                                    <p:set>
                                      <p:cBhvr>
                                        <p:cTn id="723" dur="1" fill="hold">
                                          <p:stCondLst>
                                            <p:cond delay="0"/>
                                          </p:stCondLst>
                                        </p:cTn>
                                        <p:tgtEl>
                                          <p:spTgt spid="2260"/>
                                        </p:tgtEl>
                                        <p:attrNameLst>
                                          <p:attrName>style.visibility</p:attrName>
                                        </p:attrNameLst>
                                      </p:cBhvr>
                                      <p:to>
                                        <p:strVal val="visible"/>
                                      </p:to>
                                    </p:set>
                                    <p:anim calcmode="lin" valueType="num">
                                      <p:cBhvr additive="base">
                                        <p:cTn id="724" dur="500" fill="hold"/>
                                        <p:tgtEl>
                                          <p:spTgt spid="2260"/>
                                        </p:tgtEl>
                                        <p:attrNameLst>
                                          <p:attrName>ppt_x</p:attrName>
                                        </p:attrNameLst>
                                      </p:cBhvr>
                                      <p:tavLst>
                                        <p:tav tm="0">
                                          <p:val>
                                            <p:strVal val="0-#ppt_w/2"/>
                                          </p:val>
                                        </p:tav>
                                        <p:tav tm="100000">
                                          <p:val>
                                            <p:strVal val="#ppt_x"/>
                                          </p:val>
                                        </p:tav>
                                      </p:tavLst>
                                    </p:anim>
                                    <p:anim calcmode="lin" valueType="num">
                                      <p:cBhvr additive="base">
                                        <p:cTn id="725" dur="500" fill="hold"/>
                                        <p:tgtEl>
                                          <p:spTgt spid="2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2" name="图片 41" descr=""/>
          <p:cNvPicPr/>
          <p:nvPr/>
        </p:nvPicPr>
        <p:blipFill>
          <a:blip r:embed="rId1"/>
          <a:stretch/>
        </p:blipFill>
        <p:spPr>
          <a:xfrm>
            <a:off x="4957920" y="173160"/>
            <a:ext cx="1749240" cy="1322280"/>
          </a:xfrm>
          <a:prstGeom prst="rect">
            <a:avLst/>
          </a:prstGeom>
          <a:ln w="0">
            <a:noFill/>
          </a:ln>
        </p:spPr>
      </p:pic>
      <p:sp>
        <p:nvSpPr>
          <p:cNvPr id="2263" name="TextBox 42"/>
          <p:cNvSpPr/>
          <p:nvPr/>
        </p:nvSpPr>
        <p:spPr>
          <a:xfrm>
            <a:off x="1473120" y="1441440"/>
            <a:ext cx="9918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如考虑王先生还因接受专业技术人员职业资格继续教育，在</a:t>
            </a:r>
            <a:r>
              <a:rPr b="0" lang="en-US" sz="2000" spc="-1" strike="noStrike">
                <a:solidFill>
                  <a:srgbClr val="262626"/>
                </a:solidFill>
                <a:latin typeface="华文仿宋"/>
                <a:ea typeface="华文仿宋"/>
              </a:rPr>
              <a:t>1</a:t>
            </a:r>
            <a:r>
              <a:rPr b="0" lang="zh-CN" sz="2000" spc="-1" strike="noStrike">
                <a:solidFill>
                  <a:srgbClr val="262626"/>
                </a:solidFill>
                <a:latin typeface="华文仿宋"/>
                <a:ea typeface="华文仿宋"/>
              </a:rPr>
              <a:t>月份尚未扣除完的继续教育专项附加扣除</a:t>
            </a:r>
            <a:r>
              <a:rPr b="0" lang="en-US" sz="2000" spc="-1" strike="noStrike">
                <a:solidFill>
                  <a:srgbClr val="262626"/>
                </a:solidFill>
                <a:latin typeface="华文仿宋"/>
                <a:ea typeface="华文仿宋"/>
              </a:rPr>
              <a:t>26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仿宋"/>
                <a:ea typeface="华文仿宋"/>
              </a:rPr>
              <a:t>则：</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一）王先生</a:t>
            </a:r>
            <a:r>
              <a:rPr b="0" lang="en-US" sz="2000" spc="-1" strike="noStrike">
                <a:solidFill>
                  <a:srgbClr val="262626"/>
                </a:solidFill>
                <a:latin typeface="华文仿宋"/>
                <a:ea typeface="华文仿宋"/>
              </a:rPr>
              <a:t>2019</a:t>
            </a:r>
            <a:r>
              <a:rPr b="0" lang="zh-CN" sz="2000" spc="-1" strike="noStrike">
                <a:solidFill>
                  <a:srgbClr val="262626"/>
                </a:solidFill>
                <a:latin typeface="华文仿宋"/>
                <a:ea typeface="华文仿宋"/>
              </a:rPr>
              <a:t>年</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月份累计预缴应纳税所得额</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仿宋"/>
                <a:ea typeface="华文仿宋"/>
              </a:rPr>
              <a:t>=</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13500+1800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500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2-256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2-420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2-74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2-2600=3900</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三）该科技公司应在</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月份应累计预扣王先生个人所得税</a:t>
            </a:r>
            <a:r>
              <a:rPr b="0" lang="en-US" sz="2000" spc="-1" strike="noStrike">
                <a:solidFill>
                  <a:srgbClr val="262626"/>
                </a:solidFill>
                <a:latin typeface="华文仿宋"/>
                <a:ea typeface="华文仿宋"/>
              </a:rPr>
              <a:t>=3900</a:t>
            </a:r>
            <a:r>
              <a:rPr b="0" lang="zh-CN" sz="2000" spc="-1" strike="noStrike">
                <a:solidFill>
                  <a:srgbClr val="262626"/>
                </a:solidFill>
                <a:latin typeface="华文仿宋"/>
                <a:ea typeface="华文仿宋"/>
              </a:rPr>
              <a:t>*</a:t>
            </a:r>
            <a:r>
              <a:rPr b="0" lang="en-US" sz="2000" spc="-1" strike="noStrike">
                <a:solidFill>
                  <a:srgbClr val="262626"/>
                </a:solidFill>
                <a:latin typeface="华文仿宋"/>
                <a:ea typeface="华文仿宋"/>
              </a:rPr>
              <a:t>3%=117</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华文仿宋"/>
                <a:ea typeface="华文仿宋"/>
              </a:rPr>
              <a:t>（四）该科技公司实际在</a:t>
            </a:r>
            <a:r>
              <a:rPr b="0" lang="en-US" sz="2000" spc="-1" strike="noStrike">
                <a:solidFill>
                  <a:srgbClr val="262626"/>
                </a:solidFill>
                <a:latin typeface="华文仿宋"/>
                <a:ea typeface="华文仿宋"/>
              </a:rPr>
              <a:t>2</a:t>
            </a:r>
            <a:r>
              <a:rPr b="0" lang="zh-CN" sz="2000" spc="-1" strike="noStrike">
                <a:solidFill>
                  <a:srgbClr val="262626"/>
                </a:solidFill>
                <a:latin typeface="华文仿宋"/>
                <a:ea typeface="华文仿宋"/>
              </a:rPr>
              <a:t>月份预扣王先生个人所得税</a:t>
            </a:r>
            <a:r>
              <a:rPr b="0" lang="en-US" sz="2000" spc="-1" strike="noStrike">
                <a:solidFill>
                  <a:srgbClr val="262626"/>
                </a:solidFill>
                <a:latin typeface="华文仿宋"/>
                <a:ea typeface="华文仿宋"/>
              </a:rPr>
              <a:t>=117-0=117</a:t>
            </a:r>
            <a:r>
              <a:rPr b="0" lang="zh-CN" sz="2000" spc="-1" strike="noStrike">
                <a:solidFill>
                  <a:srgbClr val="262626"/>
                </a:solidFill>
                <a:latin typeface="华文仿宋"/>
                <a:ea typeface="华文仿宋"/>
              </a:rPr>
              <a:t>元</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华文仿宋"/>
                <a:ea typeface="华文仿宋"/>
              </a:rPr>
              <a:t>（五）该科技公司应在</a:t>
            </a:r>
            <a:r>
              <a:rPr b="0" lang="en-US" sz="2000" spc="-1" strike="noStrike">
                <a:solidFill>
                  <a:srgbClr val="0070c0"/>
                </a:solidFill>
                <a:latin typeface="华文仿宋"/>
                <a:ea typeface="华文仿宋"/>
              </a:rPr>
              <a:t>3</a:t>
            </a:r>
            <a:r>
              <a:rPr b="0" lang="zh-CN" sz="2000" spc="-1" strike="noStrike">
                <a:solidFill>
                  <a:srgbClr val="0070c0"/>
                </a:solidFill>
                <a:latin typeface="华文仿宋"/>
                <a:ea typeface="华文仿宋"/>
              </a:rPr>
              <a:t>月份的法定申报期内预缴王先生个人所得税</a:t>
            </a:r>
            <a:r>
              <a:rPr b="0" lang="en-US" sz="2000" spc="-1" strike="noStrike">
                <a:solidFill>
                  <a:srgbClr val="0070c0"/>
                </a:solidFill>
                <a:latin typeface="华文仿宋"/>
                <a:ea typeface="华文仿宋"/>
              </a:rPr>
              <a:t>117</a:t>
            </a:r>
            <a:r>
              <a:rPr b="0" lang="zh-CN" sz="2000" spc="-1" strike="noStrike">
                <a:solidFill>
                  <a:srgbClr val="0070c0"/>
                </a:solidFill>
                <a:latin typeface="华文仿宋"/>
                <a:ea typeface="华文仿宋"/>
              </a:rPr>
              <a:t>元。</a:t>
            </a:r>
            <a:endParaRPr b="0" lang="en-US" sz="2000" spc="-1" strike="noStrike">
              <a:solidFill>
                <a:srgbClr val="262626"/>
              </a:solidFill>
              <a:latin typeface="Arial"/>
            </a:endParaRPr>
          </a:p>
        </p:txBody>
      </p:sp>
    </p:spTree>
  </p:cSld>
  <p:transition spd="slow">
    <p:random/>
  </p:transition>
  <p:timing>
    <p:tnLst>
      <p:par>
        <p:cTn id="726" dur="indefinite" restart="never" nodeType="tmRoot">
          <p:childTnLst>
            <p:seq>
              <p:cTn id="727" dur="indefinite" nodeType="mainSeq">
                <p:childTnLst>
                  <p:par>
                    <p:cTn id="728" nodeType="clickEffect" fill="hold">
                      <p:stCondLst>
                        <p:cond delay="0"/>
                      </p:stCondLst>
                      <p:childTnLst>
                        <p:par>
                          <p:cTn id="729" nodeType="withEffect" fill="hold">
                            <p:stCondLst>
                              <p:cond delay="0"/>
                            </p:stCondLst>
                            <p:childTnLst>
                              <p:par>
                                <p:cTn id="730" nodeType="withEffect" fill="hold" presetClass="entr" presetID="2" presetSubtype="8">
                                  <p:stCondLst>
                                    <p:cond delay="0"/>
                                  </p:stCondLst>
                                  <p:childTnLst>
                                    <p:set>
                                      <p:cBhvr>
                                        <p:cTn id="731" dur="1" fill="hold">
                                          <p:stCondLst>
                                            <p:cond delay="0"/>
                                          </p:stCondLst>
                                        </p:cTn>
                                        <p:tgtEl>
                                          <p:spTgt spid="2262"/>
                                        </p:tgtEl>
                                        <p:attrNameLst>
                                          <p:attrName>style.visibility</p:attrName>
                                        </p:attrNameLst>
                                      </p:cBhvr>
                                      <p:to>
                                        <p:strVal val="visible"/>
                                      </p:to>
                                    </p:set>
                                    <p:anim calcmode="lin" valueType="num">
                                      <p:cBhvr additive="base">
                                        <p:cTn id="732" dur="500" fill="hold"/>
                                        <p:tgtEl>
                                          <p:spTgt spid="2262"/>
                                        </p:tgtEl>
                                        <p:attrNameLst>
                                          <p:attrName>ppt_x</p:attrName>
                                        </p:attrNameLst>
                                      </p:cBhvr>
                                      <p:tavLst>
                                        <p:tav tm="0">
                                          <p:val>
                                            <p:strVal val="0-#ppt_w/2"/>
                                          </p:val>
                                        </p:tav>
                                        <p:tav tm="100000">
                                          <p:val>
                                            <p:strVal val="#ppt_x"/>
                                          </p:val>
                                        </p:tav>
                                      </p:tavLst>
                                    </p:anim>
                                    <p:anim calcmode="lin" valueType="num">
                                      <p:cBhvr additive="base">
                                        <p:cTn id="733" dur="500" fill="hold"/>
                                        <p:tgtEl>
                                          <p:spTgt spid="2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图形 2"/>
          <p:cNvGrpSpPr/>
          <p:nvPr/>
        </p:nvGrpSpPr>
        <p:grpSpPr>
          <a:xfrm>
            <a:off x="-10440" y="1445040"/>
            <a:ext cx="12202920" cy="5419440"/>
            <a:chOff x="-10440" y="1445040"/>
            <a:chExt cx="12202920" cy="5419440"/>
          </a:xfrm>
        </p:grpSpPr>
        <p:sp>
          <p:nvSpPr>
            <p:cNvPr id="428" name="任意多边形: 形状 4"/>
            <p:cNvSpPr/>
            <p:nvPr/>
          </p:nvSpPr>
          <p:spPr>
            <a:xfrm>
              <a:off x="-10440" y="5513760"/>
              <a:ext cx="12202920" cy="1350720"/>
            </a:xfrm>
            <a:custGeom>
              <a:avLst/>
              <a:gdLst>
                <a:gd name="textAreaLeft" fmla="*/ 0 w 12202920"/>
                <a:gd name="textAreaRight" fmla="*/ 12203280 w 12202920"/>
                <a:gd name="textAreaTop" fmla="*/ 0 h 1350720"/>
                <a:gd name="textAreaBottom" fmla="*/ 1351080 h 1350720"/>
              </a:gdLst>
              <a:ahLst/>
              <a:rect l="textAreaLeft" t="textAreaTop" r="textAreaRight" b="textAreaBottom"/>
              <a:pathLst>
                <a:path w="6634396" h="1350715">
                  <a:moveTo>
                    <a:pt x="9932" y="9932"/>
                  </a:moveTo>
                  <a:lnTo>
                    <a:pt x="6631086" y="9932"/>
                  </a:lnTo>
                  <a:lnTo>
                    <a:pt x="6631086" y="1347405"/>
                  </a:lnTo>
                  <a:lnTo>
                    <a:pt x="9932" y="1347405"/>
                  </a:lnTo>
                  <a:lnTo>
                    <a:pt x="9932" y="9932"/>
                  </a:lnTo>
                  <a:close/>
                </a:path>
              </a:pathLst>
            </a:custGeom>
            <a:solidFill>
              <a:srgbClr val="76c0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29" name="任意多边形: 形状 5"/>
            <p:cNvSpPr/>
            <p:nvPr/>
          </p:nvSpPr>
          <p:spPr>
            <a:xfrm>
              <a:off x="248760" y="6103080"/>
              <a:ext cx="6091920" cy="317520"/>
            </a:xfrm>
            <a:custGeom>
              <a:avLst/>
              <a:gdLst>
                <a:gd name="textAreaLeft" fmla="*/ 0 w 6091920"/>
                <a:gd name="textAreaRight" fmla="*/ 6092280 w 6091920"/>
                <a:gd name="textAreaTop" fmla="*/ 0 h 317520"/>
                <a:gd name="textAreaBottom" fmla="*/ 317880 h 317520"/>
              </a:gdLst>
              <a:ahLst/>
              <a:rect l="textAreaLeft" t="textAreaTop" r="textAreaRight" b="textAreaBottom"/>
              <a:pathLst>
                <a:path w="6091461" h="317815">
                  <a:moveTo>
                    <a:pt x="6082855" y="163542"/>
                  </a:moveTo>
                  <a:cubicBezTo>
                    <a:pt x="6082855" y="248293"/>
                    <a:pt x="4722869" y="317153"/>
                    <a:pt x="3046393" y="317153"/>
                  </a:cubicBezTo>
                  <a:cubicBezTo>
                    <a:pt x="1368593" y="317153"/>
                    <a:pt x="9932" y="248293"/>
                    <a:pt x="9932" y="163542"/>
                  </a:cubicBezTo>
                  <a:cubicBezTo>
                    <a:pt x="9932" y="78791"/>
                    <a:pt x="1369917" y="9932"/>
                    <a:pt x="3046393" y="9932"/>
                  </a:cubicBezTo>
                  <a:cubicBezTo>
                    <a:pt x="4724194" y="9932"/>
                    <a:pt x="6082855" y="78791"/>
                    <a:pt x="6082855" y="163542"/>
                  </a:cubicBezTo>
                  <a:close/>
                </a:path>
              </a:pathLst>
            </a:custGeom>
            <a:solidFill>
              <a:srgbClr val="69acb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30" name="任意多边形: 形状 6"/>
            <p:cNvSpPr/>
            <p:nvPr/>
          </p:nvSpPr>
          <p:spPr>
            <a:xfrm>
              <a:off x="-10440" y="1905840"/>
              <a:ext cx="1284480" cy="92520"/>
            </a:xfrm>
            <a:custGeom>
              <a:avLst/>
              <a:gdLst>
                <a:gd name="textAreaLeft" fmla="*/ 0 w 1284480"/>
                <a:gd name="textAreaRight" fmla="*/ 1284840 w 1284480"/>
                <a:gd name="textAreaTop" fmla="*/ 0 h 92520"/>
                <a:gd name="textAreaBottom" fmla="*/ 92880 h 92520"/>
              </a:gdLst>
              <a:ahLst/>
              <a:rect l="textAreaLeft" t="textAreaTop" r="textAreaRight" b="textAreaBottom"/>
              <a:pathLst>
                <a:path w="1284503" h="92696">
                  <a:moveTo>
                    <a:pt x="9932" y="9932"/>
                  </a:moveTo>
                  <a:lnTo>
                    <a:pt x="1283842" y="9932"/>
                  </a:lnTo>
                  <a:lnTo>
                    <a:pt x="1283842" y="94683"/>
                  </a:lnTo>
                  <a:lnTo>
                    <a:pt x="9932" y="94683"/>
                  </a:lnTo>
                  <a:lnTo>
                    <a:pt x="9932" y="9932"/>
                  </a:ln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431" name="任意多边形: 形状 7"/>
            <p:cNvSpPr/>
            <p:nvPr/>
          </p:nvSpPr>
          <p:spPr>
            <a:xfrm>
              <a:off x="1178280" y="1948320"/>
              <a:ext cx="92520" cy="1589040"/>
            </a:xfrm>
            <a:custGeom>
              <a:avLst/>
              <a:gdLst>
                <a:gd name="textAreaLeft" fmla="*/ 0 w 92520"/>
                <a:gd name="textAreaRight" fmla="*/ 92880 w 92520"/>
                <a:gd name="textAreaTop" fmla="*/ 0 h 1589040"/>
                <a:gd name="textAreaBottom" fmla="*/ 1589400 h 1589040"/>
              </a:gdLst>
              <a:ahLst/>
              <a:rect l="textAreaLeft" t="textAreaTop" r="textAreaRight" b="textAreaBottom"/>
              <a:pathLst>
                <a:path w="92696" h="1589077">
                  <a:moveTo>
                    <a:pt x="9932" y="9932"/>
                  </a:moveTo>
                  <a:lnTo>
                    <a:pt x="94683" y="9932"/>
                  </a:lnTo>
                  <a:lnTo>
                    <a:pt x="94683" y="1580470"/>
                  </a:lnTo>
                  <a:lnTo>
                    <a:pt x="9932" y="1580470"/>
                  </a:lnTo>
                  <a:lnTo>
                    <a:pt x="9932" y="99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32" name="任意多边形: 形状 8"/>
            <p:cNvSpPr/>
            <p:nvPr/>
          </p:nvSpPr>
          <p:spPr>
            <a:xfrm>
              <a:off x="212760" y="3072600"/>
              <a:ext cx="52920" cy="238320"/>
            </a:xfrm>
            <a:custGeom>
              <a:avLst/>
              <a:gdLst>
                <a:gd name="textAreaLeft" fmla="*/ 0 w 52920"/>
                <a:gd name="textAreaRight" fmla="*/ 53280 w 52920"/>
                <a:gd name="textAreaTop" fmla="*/ 0 h 238320"/>
                <a:gd name="textAreaBottom" fmla="*/ 238680 h 238320"/>
              </a:gdLst>
              <a:ahLst/>
              <a:rect l="textAreaLeft" t="textAreaTop" r="textAreaRight" b="textAreaBottom"/>
              <a:pathLst>
                <a:path w="52969" h="238361">
                  <a:moveTo>
                    <a:pt x="9932" y="9932"/>
                  </a:moveTo>
                  <a:lnTo>
                    <a:pt x="47010" y="9932"/>
                  </a:lnTo>
                  <a:lnTo>
                    <a:pt x="47010" y="240348"/>
                  </a:lnTo>
                  <a:lnTo>
                    <a:pt x="9932" y="240348"/>
                  </a:lnTo>
                  <a:lnTo>
                    <a:pt x="9932" y="9932"/>
                  </a:lnTo>
                  <a:close/>
                </a:path>
              </a:pathLst>
            </a:custGeom>
            <a:solidFill>
              <a:srgbClr val="f9ac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33" name="任意多边形: 形状 9"/>
            <p:cNvSpPr/>
            <p:nvPr/>
          </p:nvSpPr>
          <p:spPr>
            <a:xfrm>
              <a:off x="218160" y="3067200"/>
              <a:ext cx="39600" cy="26280"/>
            </a:xfrm>
            <a:custGeom>
              <a:avLst/>
              <a:gdLst>
                <a:gd name="textAreaLeft" fmla="*/ 0 w 39600"/>
                <a:gd name="textAreaRight" fmla="*/ 39960 w 39600"/>
                <a:gd name="textAreaTop" fmla="*/ 0 h 26280"/>
                <a:gd name="textAreaBottom" fmla="*/ 26640 h 26280"/>
              </a:gdLst>
              <a:ahLst/>
              <a:rect l="textAreaLeft" t="textAreaTop" r="textAreaRight" b="textAreaBottom"/>
              <a:pathLst>
                <a:path w="39726" h="26484">
                  <a:moveTo>
                    <a:pt x="9932" y="9932"/>
                  </a:moveTo>
                  <a:lnTo>
                    <a:pt x="-29120" y="9932"/>
                  </a:lnTo>
                  <a:lnTo>
                    <a:pt x="-29120" y="19201"/>
                  </a:lnTo>
                  <a:lnTo>
                    <a:pt x="9932" y="19201"/>
                  </a:lnTo>
                  <a:lnTo>
                    <a:pt x="9932" y="9932"/>
                  </a:lnTo>
                  <a:close/>
                </a:path>
              </a:pathLst>
            </a:custGeom>
            <a:solidFill>
              <a:srgbClr val="f9ac2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434" name="任意多边形: 形状 10"/>
            <p:cNvSpPr/>
            <p:nvPr/>
          </p:nvSpPr>
          <p:spPr>
            <a:xfrm>
              <a:off x="224640" y="305676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9932"/>
                  </a:moveTo>
                  <a:lnTo>
                    <a:pt x="23174" y="9932"/>
                  </a:lnTo>
                  <a:lnTo>
                    <a:pt x="23174" y="21850"/>
                  </a:lnTo>
                  <a:lnTo>
                    <a:pt x="9932" y="21850"/>
                  </a:lnTo>
                  <a:lnTo>
                    <a:pt x="9932" y="9932"/>
                  </a:lnTo>
                  <a:close/>
                </a:path>
              </a:pathLst>
            </a:custGeom>
            <a:solidFill>
              <a:srgbClr val="f9ac2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435" name="任意多边形: 形状 11"/>
            <p:cNvSpPr/>
            <p:nvPr/>
          </p:nvSpPr>
          <p:spPr>
            <a:xfrm>
              <a:off x="230040" y="3047400"/>
              <a:ext cx="12960" cy="26280"/>
            </a:xfrm>
            <a:custGeom>
              <a:avLst/>
              <a:gdLst>
                <a:gd name="textAreaLeft" fmla="*/ 0 w 12960"/>
                <a:gd name="textAreaRight" fmla="*/ 13320 w 12960"/>
                <a:gd name="textAreaTop" fmla="*/ 0 h 26280"/>
                <a:gd name="textAreaBottom" fmla="*/ 26640 h 26280"/>
              </a:gdLst>
              <a:ahLst/>
              <a:rect l="textAreaLeft" t="textAreaTop" r="textAreaRight" b="textAreaBottom"/>
              <a:pathLst>
                <a:path w="13242" h="26484">
                  <a:moveTo>
                    <a:pt x="12580" y="19201"/>
                  </a:moveTo>
                  <a:cubicBezTo>
                    <a:pt x="12580" y="20526"/>
                    <a:pt x="12580" y="20526"/>
                    <a:pt x="11256" y="20526"/>
                  </a:cubicBezTo>
                  <a:cubicBezTo>
                    <a:pt x="9932" y="20526"/>
                    <a:pt x="9932" y="19201"/>
                    <a:pt x="9932" y="19201"/>
                  </a:cubicBezTo>
                  <a:lnTo>
                    <a:pt x="9932" y="11256"/>
                  </a:lnTo>
                  <a:cubicBezTo>
                    <a:pt x="9932" y="9932"/>
                    <a:pt x="9932" y="9932"/>
                    <a:pt x="11256" y="9932"/>
                  </a:cubicBezTo>
                  <a:cubicBezTo>
                    <a:pt x="12580" y="9932"/>
                    <a:pt x="12580" y="11256"/>
                    <a:pt x="12580" y="11256"/>
                  </a:cubicBezTo>
                  <a:lnTo>
                    <a:pt x="12580" y="19201"/>
                  </a:lnTo>
                  <a:close/>
                </a:path>
              </a:pathLst>
            </a:custGeom>
            <a:solidFill>
              <a:srgbClr val="f9ac2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436" name="任意多边形: 形状 12"/>
            <p:cNvSpPr/>
            <p:nvPr/>
          </p:nvSpPr>
          <p:spPr>
            <a:xfrm>
              <a:off x="149040" y="3058560"/>
              <a:ext cx="105840" cy="304560"/>
            </a:xfrm>
            <a:custGeom>
              <a:avLst/>
              <a:gdLst>
                <a:gd name="textAreaLeft" fmla="*/ 0 w 105840"/>
                <a:gd name="textAreaRight" fmla="*/ 106200 w 105840"/>
                <a:gd name="textAreaTop" fmla="*/ 0 h 304560"/>
                <a:gd name="textAreaBottom" fmla="*/ 304920 h 304560"/>
              </a:gdLst>
              <a:ahLst/>
              <a:rect l="textAreaLeft" t="textAreaTop" r="textAreaRight" b="textAreaBottom"/>
              <a:pathLst>
                <a:path w="105938" h="304573">
                  <a:moveTo>
                    <a:pt x="11722" y="19160"/>
                  </a:moveTo>
                  <a:lnTo>
                    <a:pt x="48048" y="11722"/>
                  </a:lnTo>
                  <a:lnTo>
                    <a:pt x="106489" y="297139"/>
                  </a:lnTo>
                  <a:lnTo>
                    <a:pt x="70163" y="304577"/>
                  </a:lnTo>
                  <a:lnTo>
                    <a:pt x="11722" y="19160"/>
                  </a:lnTo>
                  <a:close/>
                </a:path>
              </a:pathLst>
            </a:custGeom>
            <a:solidFill>
              <a:srgbClr val="286a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37" name="任意多边形: 形状 13"/>
            <p:cNvSpPr/>
            <p:nvPr/>
          </p:nvSpPr>
          <p:spPr>
            <a:xfrm>
              <a:off x="140760" y="2998080"/>
              <a:ext cx="65880" cy="132120"/>
            </a:xfrm>
            <a:custGeom>
              <a:avLst/>
              <a:gdLst>
                <a:gd name="textAreaLeft" fmla="*/ 0 w 65880"/>
                <a:gd name="textAreaRight" fmla="*/ 66240 w 65880"/>
                <a:gd name="textAreaTop" fmla="*/ 0 h 132120"/>
                <a:gd name="textAreaBottom" fmla="*/ 132480 h 132120"/>
              </a:gdLst>
              <a:ahLst/>
              <a:rect l="textAreaLeft" t="textAreaTop" r="textAreaRight" b="textAreaBottom"/>
              <a:pathLst>
                <a:path w="66211" h="132423">
                  <a:moveTo>
                    <a:pt x="67458" y="123075"/>
                  </a:moveTo>
                  <a:cubicBezTo>
                    <a:pt x="67458" y="121751"/>
                    <a:pt x="67458" y="121751"/>
                    <a:pt x="67458" y="121751"/>
                  </a:cubicBezTo>
                  <a:lnTo>
                    <a:pt x="47594" y="25082"/>
                  </a:lnTo>
                  <a:cubicBezTo>
                    <a:pt x="44946" y="14488"/>
                    <a:pt x="35676" y="7867"/>
                    <a:pt x="25082" y="10516"/>
                  </a:cubicBezTo>
                  <a:cubicBezTo>
                    <a:pt x="14488" y="13164"/>
                    <a:pt x="7867" y="22434"/>
                    <a:pt x="10516" y="33028"/>
                  </a:cubicBezTo>
                  <a:lnTo>
                    <a:pt x="30379" y="129697"/>
                  </a:lnTo>
                  <a:cubicBezTo>
                    <a:pt x="30379" y="131021"/>
                    <a:pt x="30379" y="131021"/>
                    <a:pt x="30379" y="131021"/>
                  </a:cubicBezTo>
                  <a:lnTo>
                    <a:pt x="67458" y="123075"/>
                  </a:lnTo>
                  <a:close/>
                </a:path>
              </a:pathLst>
            </a:custGeom>
            <a:solidFill>
              <a:srgbClr val="1b52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38" name="任意多边形: 形状 14"/>
            <p:cNvSpPr/>
            <p:nvPr/>
          </p:nvSpPr>
          <p:spPr>
            <a:xfrm>
              <a:off x="174600" y="301572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7147" y="20526"/>
                  </a:moveTo>
                  <a:lnTo>
                    <a:pt x="12580" y="23174"/>
                  </a:lnTo>
                  <a:lnTo>
                    <a:pt x="9932" y="12580"/>
                  </a:lnTo>
                  <a:lnTo>
                    <a:pt x="24498" y="9932"/>
                  </a:lnTo>
                  <a:lnTo>
                    <a:pt x="27147" y="20526"/>
                  </a:lnTo>
                  <a:close/>
                </a:path>
              </a:pathLst>
            </a:custGeom>
            <a:solidFill>
              <a:srgbClr val="1b526d"/>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439" name="任意多边形: 形状 15"/>
            <p:cNvSpPr/>
            <p:nvPr/>
          </p:nvSpPr>
          <p:spPr>
            <a:xfrm>
              <a:off x="180720" y="3014280"/>
              <a:ext cx="52920" cy="132120"/>
            </a:xfrm>
            <a:custGeom>
              <a:avLst/>
              <a:gdLst>
                <a:gd name="textAreaLeft" fmla="*/ 0 w 52920"/>
                <a:gd name="textAreaRight" fmla="*/ 53280 w 52920"/>
                <a:gd name="textAreaTop" fmla="*/ 0 h 132120"/>
                <a:gd name="textAreaBottom" fmla="*/ 132480 h 132120"/>
              </a:gdLst>
              <a:ahLst/>
              <a:rect l="textAreaLeft" t="textAreaTop" r="textAreaRight" b="textAreaBottom"/>
              <a:pathLst>
                <a:path w="52969" h="132423">
                  <a:moveTo>
                    <a:pt x="11744" y="13360"/>
                  </a:moveTo>
                  <a:lnTo>
                    <a:pt x="19524" y="11744"/>
                  </a:lnTo>
                  <a:lnTo>
                    <a:pt x="43226" y="125841"/>
                  </a:lnTo>
                  <a:lnTo>
                    <a:pt x="35447" y="127457"/>
                  </a:lnTo>
                  <a:lnTo>
                    <a:pt x="11744" y="13360"/>
                  </a:lnTo>
                  <a:close/>
                </a:path>
              </a:pathLst>
            </a:custGeom>
            <a:solidFill>
              <a:srgbClr val="1b52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40" name="任意多边形: 形状 16"/>
            <p:cNvSpPr/>
            <p:nvPr/>
          </p:nvSpPr>
          <p:spPr>
            <a:xfrm>
              <a:off x="269640" y="2991600"/>
              <a:ext cx="52920" cy="251640"/>
            </a:xfrm>
            <a:custGeom>
              <a:avLst/>
              <a:gdLst>
                <a:gd name="textAreaLeft" fmla="*/ 0 w 52920"/>
                <a:gd name="textAreaRight" fmla="*/ 53280 w 52920"/>
                <a:gd name="textAreaTop" fmla="*/ 0 h 251640"/>
                <a:gd name="textAreaBottom" fmla="*/ 252000 h 251640"/>
              </a:gdLst>
              <a:ahLst/>
              <a:rect l="textAreaLeft" t="textAreaTop" r="textAreaRight" b="textAreaBottom"/>
              <a:pathLst>
                <a:path w="52969" h="251603">
                  <a:moveTo>
                    <a:pt x="11158" y="244797"/>
                  </a:moveTo>
                  <a:lnTo>
                    <a:pt x="42343" y="11158"/>
                  </a:lnTo>
                  <a:lnTo>
                    <a:pt x="54156" y="12735"/>
                  </a:lnTo>
                  <a:lnTo>
                    <a:pt x="22972" y="246374"/>
                  </a:lnTo>
                  <a:lnTo>
                    <a:pt x="11158" y="244797"/>
                  </a:lnTo>
                  <a:close/>
                </a:path>
              </a:pathLst>
            </a:custGeom>
            <a:solidFill>
              <a:srgbClr val="f9ac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41" name="任意多边形: 形状 17"/>
            <p:cNvSpPr/>
            <p:nvPr/>
          </p:nvSpPr>
          <p:spPr>
            <a:xfrm>
              <a:off x="280800" y="2993760"/>
              <a:ext cx="52920" cy="251640"/>
            </a:xfrm>
            <a:custGeom>
              <a:avLst/>
              <a:gdLst>
                <a:gd name="textAreaLeft" fmla="*/ 0 w 52920"/>
                <a:gd name="textAreaRight" fmla="*/ 53280 w 52920"/>
                <a:gd name="textAreaTop" fmla="*/ 0 h 251640"/>
                <a:gd name="textAreaBottom" fmla="*/ 252000 h 251640"/>
              </a:gdLst>
              <a:ahLst/>
              <a:rect l="textAreaLeft" t="textAreaTop" r="textAreaRight" b="textAreaBottom"/>
              <a:pathLst>
                <a:path w="52969" h="251603">
                  <a:moveTo>
                    <a:pt x="11187" y="244708"/>
                  </a:moveTo>
                  <a:lnTo>
                    <a:pt x="43173" y="11187"/>
                  </a:lnTo>
                  <a:lnTo>
                    <a:pt x="54981" y="12804"/>
                  </a:lnTo>
                  <a:lnTo>
                    <a:pt x="22994" y="246325"/>
                  </a:lnTo>
                  <a:lnTo>
                    <a:pt x="11187" y="244708"/>
                  </a:lnTo>
                  <a:close/>
                </a:path>
              </a:pathLst>
            </a:custGeom>
            <a:solidFill>
              <a:srgbClr val="f7ca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42" name="任意多边形: 形状 18"/>
            <p:cNvSpPr/>
            <p:nvPr/>
          </p:nvSpPr>
          <p:spPr>
            <a:xfrm>
              <a:off x="293760" y="2994480"/>
              <a:ext cx="52920" cy="251640"/>
            </a:xfrm>
            <a:custGeom>
              <a:avLst/>
              <a:gdLst>
                <a:gd name="textAreaLeft" fmla="*/ 0 w 52920"/>
                <a:gd name="textAreaRight" fmla="*/ 53280 w 52920"/>
                <a:gd name="textAreaTop" fmla="*/ 0 h 251640"/>
                <a:gd name="textAreaBottom" fmla="*/ 252000 h 251640"/>
              </a:gdLst>
              <a:ahLst/>
              <a:rect l="textAreaLeft" t="textAreaTop" r="textAreaRight" b="textAreaBottom"/>
              <a:pathLst>
                <a:path w="52969" h="251603">
                  <a:moveTo>
                    <a:pt x="11161" y="244800"/>
                  </a:moveTo>
                  <a:lnTo>
                    <a:pt x="42417" y="11161"/>
                  </a:lnTo>
                  <a:lnTo>
                    <a:pt x="54230" y="12742"/>
                  </a:lnTo>
                  <a:lnTo>
                    <a:pt x="22974" y="246380"/>
                  </a:lnTo>
                  <a:lnTo>
                    <a:pt x="11161" y="244800"/>
                  </a:lnTo>
                  <a:close/>
                </a:path>
              </a:pathLst>
            </a:custGeom>
            <a:solidFill>
              <a:srgbClr val="f9ac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43" name="任意多边形: 形状 19"/>
            <p:cNvSpPr/>
            <p:nvPr/>
          </p:nvSpPr>
          <p:spPr>
            <a:xfrm>
              <a:off x="301680" y="2936160"/>
              <a:ext cx="52920" cy="79200"/>
            </a:xfrm>
            <a:custGeom>
              <a:avLst/>
              <a:gdLst>
                <a:gd name="textAreaLeft" fmla="*/ 0 w 52920"/>
                <a:gd name="textAreaRight" fmla="*/ 53280 w 52920"/>
                <a:gd name="textAreaTop" fmla="*/ 0 h 79200"/>
                <a:gd name="textAreaBottom" fmla="*/ 79560 h 79200"/>
              </a:gdLst>
              <a:ahLst/>
              <a:rect l="textAreaLeft" t="textAreaTop" r="textAreaRight" b="textAreaBottom"/>
              <a:pathLst>
                <a:path w="52969" h="79453">
                  <a:moveTo>
                    <a:pt x="9932" y="66874"/>
                  </a:moveTo>
                  <a:lnTo>
                    <a:pt x="36416" y="9932"/>
                  </a:lnTo>
                  <a:lnTo>
                    <a:pt x="47010" y="70846"/>
                  </a:lnTo>
                  <a:lnTo>
                    <a:pt x="9932" y="66874"/>
                  </a:lnTo>
                  <a:close/>
                </a:path>
              </a:pathLst>
            </a:custGeom>
            <a:solidFill>
              <a:srgbClr val="f7d9ab"/>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444" name="任意多边形: 形状 20"/>
            <p:cNvSpPr/>
            <p:nvPr/>
          </p:nvSpPr>
          <p:spPr>
            <a:xfrm>
              <a:off x="320040" y="2936160"/>
              <a:ext cx="26280" cy="39600"/>
            </a:xfrm>
            <a:custGeom>
              <a:avLst/>
              <a:gdLst>
                <a:gd name="textAreaLeft" fmla="*/ 0 w 26280"/>
                <a:gd name="textAreaRight" fmla="*/ 26640 w 26280"/>
                <a:gd name="textAreaTop" fmla="*/ 0 h 39600"/>
                <a:gd name="textAreaBottom" fmla="*/ 39960 h 39600"/>
              </a:gdLst>
              <a:ahLst/>
              <a:rect l="textAreaLeft" t="textAreaTop" r="textAreaRight" b="textAreaBottom"/>
              <a:pathLst>
                <a:path w="26484" h="39726">
                  <a:moveTo>
                    <a:pt x="21850" y="29795"/>
                  </a:moveTo>
                  <a:lnTo>
                    <a:pt x="17877" y="9932"/>
                  </a:lnTo>
                  <a:lnTo>
                    <a:pt x="9932" y="28471"/>
                  </a:lnTo>
                  <a:cubicBezTo>
                    <a:pt x="12580" y="29795"/>
                    <a:pt x="17877" y="29795"/>
                    <a:pt x="21850" y="29795"/>
                  </a:cubicBezTo>
                  <a:close/>
                </a:path>
              </a:pathLst>
            </a:custGeom>
            <a:solidFill>
              <a:srgbClr val="f9ac23"/>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445" name="任意多边形: 形状 21"/>
            <p:cNvSpPr/>
            <p:nvPr/>
          </p:nvSpPr>
          <p:spPr>
            <a:xfrm>
              <a:off x="138600" y="3174840"/>
              <a:ext cx="225000" cy="277920"/>
            </a:xfrm>
            <a:custGeom>
              <a:avLst/>
              <a:gdLst>
                <a:gd name="textAreaLeft" fmla="*/ 0 w 225000"/>
                <a:gd name="textAreaRight" fmla="*/ 225360 w 225000"/>
                <a:gd name="textAreaTop" fmla="*/ 0 h 277920"/>
                <a:gd name="textAreaBottom" fmla="*/ 278280 h 277920"/>
              </a:gdLst>
              <a:ahLst/>
              <a:rect l="textAreaLeft" t="textAreaTop" r="textAreaRight" b="textAreaBottom"/>
              <a:pathLst>
                <a:path w="225119" h="278088">
                  <a:moveTo>
                    <a:pt x="192676" y="276102"/>
                  </a:moveTo>
                  <a:lnTo>
                    <a:pt x="39065" y="276102"/>
                  </a:lnTo>
                  <a:lnTo>
                    <a:pt x="9932" y="9932"/>
                  </a:lnTo>
                  <a:lnTo>
                    <a:pt x="219160" y="9932"/>
                  </a:lnTo>
                  <a:lnTo>
                    <a:pt x="192676" y="276102"/>
                  </a:lnTo>
                  <a:close/>
                </a:path>
              </a:pathLst>
            </a:custGeom>
            <a:solidFill>
              <a:srgbClr val="994a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46" name="任意多边形: 形状 22"/>
            <p:cNvSpPr/>
            <p:nvPr/>
          </p:nvSpPr>
          <p:spPr>
            <a:xfrm>
              <a:off x="138600" y="3174840"/>
              <a:ext cx="225000" cy="277920"/>
            </a:xfrm>
            <a:custGeom>
              <a:avLst/>
              <a:gdLst>
                <a:gd name="textAreaLeft" fmla="*/ 0 w 225000"/>
                <a:gd name="textAreaRight" fmla="*/ 225360 w 225000"/>
                <a:gd name="textAreaTop" fmla="*/ 0 h 277920"/>
                <a:gd name="textAreaBottom" fmla="*/ 278280 h 277920"/>
              </a:gdLst>
              <a:ahLst/>
              <a:rect l="textAreaLeft" t="textAreaTop" r="textAreaRight" b="textAreaBottom"/>
              <a:pathLst>
                <a:path w="225119" h="278088">
                  <a:moveTo>
                    <a:pt x="192676" y="276102"/>
                  </a:moveTo>
                  <a:lnTo>
                    <a:pt x="39065" y="276102"/>
                  </a:lnTo>
                  <a:lnTo>
                    <a:pt x="9932" y="9932"/>
                  </a:lnTo>
                  <a:lnTo>
                    <a:pt x="219160" y="9932"/>
                  </a:lnTo>
                  <a:lnTo>
                    <a:pt x="192676" y="276102"/>
                  </a:lnTo>
                  <a:close/>
                </a:path>
              </a:pathLst>
            </a:custGeom>
            <a:solidFill>
              <a:srgbClr val="773c2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47" name="任意多边形: 形状 23"/>
            <p:cNvSpPr/>
            <p:nvPr/>
          </p:nvSpPr>
          <p:spPr>
            <a:xfrm>
              <a:off x="138600" y="3174840"/>
              <a:ext cx="79200" cy="277920"/>
            </a:xfrm>
            <a:custGeom>
              <a:avLst/>
              <a:gdLst>
                <a:gd name="textAreaLeft" fmla="*/ 0 w 79200"/>
                <a:gd name="textAreaRight" fmla="*/ 79560 w 79200"/>
                <a:gd name="textAreaTop" fmla="*/ 0 h 277920"/>
                <a:gd name="textAreaBottom" fmla="*/ 278280 h 277920"/>
              </a:gdLst>
              <a:ahLst/>
              <a:rect l="textAreaLeft" t="textAreaTop" r="textAreaRight" b="textAreaBottom"/>
              <a:pathLst>
                <a:path w="79453" h="278088">
                  <a:moveTo>
                    <a:pt x="9932" y="9932"/>
                  </a:moveTo>
                  <a:lnTo>
                    <a:pt x="39065" y="276102"/>
                  </a:lnTo>
                  <a:lnTo>
                    <a:pt x="74819" y="276102"/>
                  </a:lnTo>
                  <a:lnTo>
                    <a:pt x="45686" y="9932"/>
                  </a:lnTo>
                  <a:lnTo>
                    <a:pt x="9932" y="9932"/>
                  </a:lnTo>
                  <a:close/>
                </a:path>
              </a:pathLst>
            </a:custGeom>
            <a:solidFill>
              <a:srgbClr val="89633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48" name="任意多边形: 形状 24"/>
            <p:cNvSpPr/>
            <p:nvPr/>
          </p:nvSpPr>
          <p:spPr>
            <a:xfrm>
              <a:off x="506880" y="3014280"/>
              <a:ext cx="609120" cy="105840"/>
            </a:xfrm>
            <a:custGeom>
              <a:avLst/>
              <a:gdLst>
                <a:gd name="textAreaLeft" fmla="*/ 0 w 609120"/>
                <a:gd name="textAreaRight" fmla="*/ 609480 w 609120"/>
                <a:gd name="textAreaTop" fmla="*/ 0 h 105840"/>
                <a:gd name="textAreaBottom" fmla="*/ 106200 h 105840"/>
              </a:gdLst>
              <a:ahLst/>
              <a:rect l="textAreaLeft" t="textAreaTop" r="textAreaRight" b="textAreaBottom"/>
              <a:pathLst>
                <a:path w="609146" h="105938">
                  <a:moveTo>
                    <a:pt x="9932" y="9932"/>
                  </a:moveTo>
                  <a:lnTo>
                    <a:pt x="611133" y="9932"/>
                  </a:lnTo>
                  <a:lnTo>
                    <a:pt x="611133" y="105276"/>
                  </a:lnTo>
                  <a:lnTo>
                    <a:pt x="9932" y="105276"/>
                  </a:lnTo>
                  <a:lnTo>
                    <a:pt x="9932" y="9932"/>
                  </a:lnTo>
                  <a:close/>
                </a:path>
              </a:pathLst>
            </a:custGeom>
            <a:solidFill>
              <a:srgbClr val="ed622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49" name="任意多边形: 形状 25"/>
            <p:cNvSpPr/>
            <p:nvPr/>
          </p:nvSpPr>
          <p:spPr>
            <a:xfrm>
              <a:off x="554400" y="3043440"/>
              <a:ext cx="172080" cy="52920"/>
            </a:xfrm>
            <a:custGeom>
              <a:avLst/>
              <a:gdLst>
                <a:gd name="textAreaLeft" fmla="*/ 0 w 172080"/>
                <a:gd name="textAreaRight" fmla="*/ 172440 w 172080"/>
                <a:gd name="textAreaTop" fmla="*/ 0 h 52920"/>
                <a:gd name="textAreaBottom" fmla="*/ 53280 h 52920"/>
              </a:gdLst>
              <a:ahLst/>
              <a:rect l="textAreaLeft" t="textAreaTop" r="textAreaRight" b="textAreaBottom"/>
              <a:pathLst>
                <a:path w="172150" h="52969">
                  <a:moveTo>
                    <a:pt x="9932" y="9932"/>
                  </a:moveTo>
                  <a:lnTo>
                    <a:pt x="174136" y="9932"/>
                  </a:lnTo>
                  <a:lnTo>
                    <a:pt x="174136" y="47010"/>
                  </a:lnTo>
                  <a:lnTo>
                    <a:pt x="9932" y="47010"/>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450" name="任意多边形: 形状 26"/>
            <p:cNvSpPr/>
            <p:nvPr/>
          </p:nvSpPr>
          <p:spPr>
            <a:xfrm>
              <a:off x="1039320" y="3043440"/>
              <a:ext cx="39600" cy="52920"/>
            </a:xfrm>
            <a:custGeom>
              <a:avLst/>
              <a:gdLst>
                <a:gd name="textAreaLeft" fmla="*/ 0 w 39600"/>
                <a:gd name="textAreaRight" fmla="*/ 39960 w 39600"/>
                <a:gd name="textAreaTop" fmla="*/ 0 h 52920"/>
                <a:gd name="textAreaBottom" fmla="*/ 53280 h 52920"/>
              </a:gdLst>
              <a:ahLst/>
              <a:rect l="textAreaLeft" t="textAreaTop" r="textAreaRight" b="textAreaBottom"/>
              <a:pathLst>
                <a:path w="39726" h="52969">
                  <a:moveTo>
                    <a:pt x="9932" y="9932"/>
                  </a:moveTo>
                  <a:lnTo>
                    <a:pt x="31119" y="9932"/>
                  </a:lnTo>
                  <a:lnTo>
                    <a:pt x="31119" y="-18526"/>
                  </a:lnTo>
                  <a:lnTo>
                    <a:pt x="9932" y="-18526"/>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451" name="任意多边形: 形状 27"/>
            <p:cNvSpPr/>
            <p:nvPr/>
          </p:nvSpPr>
          <p:spPr>
            <a:xfrm>
              <a:off x="538560" y="2918880"/>
              <a:ext cx="609120" cy="105840"/>
            </a:xfrm>
            <a:custGeom>
              <a:avLst/>
              <a:gdLst>
                <a:gd name="textAreaLeft" fmla="*/ 0 w 609120"/>
                <a:gd name="textAreaRight" fmla="*/ 609480 w 609120"/>
                <a:gd name="textAreaTop" fmla="*/ 0 h 105840"/>
                <a:gd name="textAreaBottom" fmla="*/ 106200 h 105840"/>
              </a:gdLst>
              <a:ahLst/>
              <a:rect l="textAreaLeft" t="textAreaTop" r="textAreaRight" b="textAreaBottom"/>
              <a:pathLst>
                <a:path w="609146" h="105938">
                  <a:moveTo>
                    <a:pt x="9932" y="9932"/>
                  </a:moveTo>
                  <a:lnTo>
                    <a:pt x="611133" y="9932"/>
                  </a:lnTo>
                  <a:lnTo>
                    <a:pt x="611133" y="105276"/>
                  </a:lnTo>
                  <a:lnTo>
                    <a:pt x="9932" y="105276"/>
                  </a:lnTo>
                  <a:lnTo>
                    <a:pt x="9932" y="9932"/>
                  </a:lnTo>
                  <a:close/>
                </a:path>
              </a:pathLst>
            </a:custGeom>
            <a:solidFill>
              <a:srgbClr val="a10d1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52" name="任意多边形: 形状 28"/>
            <p:cNvSpPr/>
            <p:nvPr/>
          </p:nvSpPr>
          <p:spPr>
            <a:xfrm>
              <a:off x="586440" y="2949480"/>
              <a:ext cx="172080" cy="52920"/>
            </a:xfrm>
            <a:custGeom>
              <a:avLst/>
              <a:gdLst>
                <a:gd name="textAreaLeft" fmla="*/ 0 w 172080"/>
                <a:gd name="textAreaRight" fmla="*/ 172440 w 172080"/>
                <a:gd name="textAreaTop" fmla="*/ 0 h 52920"/>
                <a:gd name="textAreaBottom" fmla="*/ 53280 h 52920"/>
              </a:gdLst>
              <a:ahLst/>
              <a:rect l="textAreaLeft" t="textAreaTop" r="textAreaRight" b="textAreaBottom"/>
              <a:pathLst>
                <a:path w="172150" h="52969">
                  <a:moveTo>
                    <a:pt x="9932" y="9932"/>
                  </a:moveTo>
                  <a:lnTo>
                    <a:pt x="174136" y="9932"/>
                  </a:lnTo>
                  <a:lnTo>
                    <a:pt x="174136" y="47010"/>
                  </a:lnTo>
                  <a:lnTo>
                    <a:pt x="9932" y="47010"/>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453" name="任意多边形: 形状 29"/>
            <p:cNvSpPr/>
            <p:nvPr/>
          </p:nvSpPr>
          <p:spPr>
            <a:xfrm>
              <a:off x="1071000" y="2949480"/>
              <a:ext cx="39600" cy="52920"/>
            </a:xfrm>
            <a:custGeom>
              <a:avLst/>
              <a:gdLst>
                <a:gd name="textAreaLeft" fmla="*/ 0 w 39600"/>
                <a:gd name="textAreaRight" fmla="*/ 39960 w 39600"/>
                <a:gd name="textAreaTop" fmla="*/ 0 h 52920"/>
                <a:gd name="textAreaBottom" fmla="*/ 53280 h 52920"/>
              </a:gdLst>
              <a:ahLst/>
              <a:rect l="textAreaLeft" t="textAreaTop" r="textAreaRight" b="textAreaBottom"/>
              <a:pathLst>
                <a:path w="39726" h="52969">
                  <a:moveTo>
                    <a:pt x="9932" y="9932"/>
                  </a:moveTo>
                  <a:lnTo>
                    <a:pt x="31119" y="9932"/>
                  </a:lnTo>
                  <a:lnTo>
                    <a:pt x="31119" y="-18526"/>
                  </a:lnTo>
                  <a:lnTo>
                    <a:pt x="9932" y="-18526"/>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454" name="任意多边形: 形状 30"/>
            <p:cNvSpPr/>
            <p:nvPr/>
          </p:nvSpPr>
          <p:spPr>
            <a:xfrm>
              <a:off x="480240" y="3232800"/>
              <a:ext cx="662040" cy="211680"/>
            </a:xfrm>
            <a:custGeom>
              <a:avLst/>
              <a:gdLst>
                <a:gd name="textAreaLeft" fmla="*/ 0 w 662040"/>
                <a:gd name="textAreaRight" fmla="*/ 662400 w 662040"/>
                <a:gd name="textAreaTop" fmla="*/ 0 h 211680"/>
                <a:gd name="textAreaBottom" fmla="*/ 212040 h 211680"/>
              </a:gdLst>
              <a:ahLst/>
              <a:rect l="textAreaLeft" t="textAreaTop" r="textAreaRight" b="textAreaBottom"/>
              <a:pathLst>
                <a:path w="662115" h="211876">
                  <a:moveTo>
                    <a:pt x="605836" y="9932"/>
                  </a:moveTo>
                  <a:lnTo>
                    <a:pt x="33768" y="9932"/>
                  </a:lnTo>
                  <a:cubicBezTo>
                    <a:pt x="8608" y="9932"/>
                    <a:pt x="13904" y="28471"/>
                    <a:pt x="9932" y="52307"/>
                  </a:cubicBezTo>
                  <a:lnTo>
                    <a:pt x="623051" y="52307"/>
                  </a:lnTo>
                  <a:lnTo>
                    <a:pt x="623051" y="171488"/>
                  </a:lnTo>
                  <a:lnTo>
                    <a:pt x="11256" y="171488"/>
                  </a:lnTo>
                  <a:cubicBezTo>
                    <a:pt x="15229" y="194000"/>
                    <a:pt x="11256" y="211215"/>
                    <a:pt x="35092" y="211215"/>
                  </a:cubicBezTo>
                  <a:lnTo>
                    <a:pt x="605836" y="211215"/>
                  </a:lnTo>
                  <a:cubicBezTo>
                    <a:pt x="632320" y="211215"/>
                    <a:pt x="654832" y="188703"/>
                    <a:pt x="654832" y="162218"/>
                  </a:cubicBezTo>
                  <a:lnTo>
                    <a:pt x="654832" y="60253"/>
                  </a:lnTo>
                  <a:cubicBezTo>
                    <a:pt x="654832" y="32444"/>
                    <a:pt x="632320" y="9932"/>
                    <a:pt x="605836" y="9932"/>
                  </a:cubicBezTo>
                  <a:close/>
                </a:path>
              </a:pathLst>
            </a:custGeom>
            <a:solidFill>
              <a:srgbClr val="994a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55" name="任意多边形: 形状 31"/>
            <p:cNvSpPr/>
            <p:nvPr/>
          </p:nvSpPr>
          <p:spPr>
            <a:xfrm>
              <a:off x="495000" y="3275280"/>
              <a:ext cx="609120" cy="132120"/>
            </a:xfrm>
            <a:custGeom>
              <a:avLst/>
              <a:gdLst>
                <a:gd name="textAreaLeft" fmla="*/ 0 w 609120"/>
                <a:gd name="textAreaRight" fmla="*/ 609480 w 609120"/>
                <a:gd name="textAreaTop" fmla="*/ 0 h 132120"/>
                <a:gd name="textAreaBottom" fmla="*/ 132480 h 132120"/>
              </a:gdLst>
              <a:ahLst/>
              <a:rect l="textAreaLeft" t="textAreaTop" r="textAreaRight" b="textAreaBottom"/>
              <a:pathLst>
                <a:path w="609146" h="132423">
                  <a:moveTo>
                    <a:pt x="609808" y="9932"/>
                  </a:moveTo>
                  <a:lnTo>
                    <a:pt x="11256" y="9932"/>
                  </a:lnTo>
                  <a:cubicBezTo>
                    <a:pt x="11256" y="12580"/>
                    <a:pt x="9932" y="15229"/>
                    <a:pt x="9932" y="17877"/>
                  </a:cubicBezTo>
                  <a:lnTo>
                    <a:pt x="9932" y="119843"/>
                  </a:lnTo>
                  <a:cubicBezTo>
                    <a:pt x="9932" y="123816"/>
                    <a:pt x="9932" y="126464"/>
                    <a:pt x="11256" y="129113"/>
                  </a:cubicBezTo>
                  <a:lnTo>
                    <a:pt x="608484" y="129113"/>
                  </a:lnTo>
                  <a:lnTo>
                    <a:pt x="608484" y="9932"/>
                  </a:lnTo>
                  <a:lnTo>
                    <a:pt x="609808" y="99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56" name="任意多边形: 形状 32"/>
            <p:cNvSpPr/>
            <p:nvPr/>
          </p:nvSpPr>
          <p:spPr>
            <a:xfrm>
              <a:off x="495000" y="3301920"/>
              <a:ext cx="609120" cy="26280"/>
            </a:xfrm>
            <a:custGeom>
              <a:avLst/>
              <a:gdLst>
                <a:gd name="textAreaLeft" fmla="*/ 0 w 609120"/>
                <a:gd name="textAreaRight" fmla="*/ 609480 w 609120"/>
                <a:gd name="textAreaTop" fmla="*/ 0 h 26280"/>
                <a:gd name="textAreaBottom" fmla="*/ 26640 h 26280"/>
              </a:gdLst>
              <a:ahLst/>
              <a:rect l="textAreaLeft" t="textAreaTop" r="textAreaRight" b="textAreaBottom"/>
              <a:pathLst>
                <a:path w="609146" h="26484">
                  <a:moveTo>
                    <a:pt x="609808" y="9932"/>
                  </a:moveTo>
                  <a:lnTo>
                    <a:pt x="11256" y="9932"/>
                  </a:lnTo>
                  <a:cubicBezTo>
                    <a:pt x="11256" y="9932"/>
                    <a:pt x="9932" y="11256"/>
                    <a:pt x="9932" y="11256"/>
                  </a:cubicBezTo>
                  <a:lnTo>
                    <a:pt x="9932" y="25822"/>
                  </a:lnTo>
                  <a:cubicBezTo>
                    <a:pt x="9932" y="25822"/>
                    <a:pt x="9932" y="27147"/>
                    <a:pt x="11256" y="27147"/>
                  </a:cubicBezTo>
                  <a:lnTo>
                    <a:pt x="608484" y="27147"/>
                  </a:lnTo>
                  <a:lnTo>
                    <a:pt x="608484" y="9932"/>
                  </a:lnTo>
                  <a:lnTo>
                    <a:pt x="609808" y="9932"/>
                  </a:lnTo>
                  <a:close/>
                </a:path>
              </a:pathLst>
            </a:custGeom>
            <a:solidFill>
              <a:srgbClr val="e6e7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457" name="任意多边形: 形状 33"/>
            <p:cNvSpPr/>
            <p:nvPr/>
          </p:nvSpPr>
          <p:spPr>
            <a:xfrm>
              <a:off x="495000" y="3346920"/>
              <a:ext cx="609120" cy="26280"/>
            </a:xfrm>
            <a:custGeom>
              <a:avLst/>
              <a:gdLst>
                <a:gd name="textAreaLeft" fmla="*/ 0 w 609120"/>
                <a:gd name="textAreaRight" fmla="*/ 609480 w 609120"/>
                <a:gd name="textAreaTop" fmla="*/ 0 h 26280"/>
                <a:gd name="textAreaBottom" fmla="*/ 26640 h 26280"/>
              </a:gdLst>
              <a:ahLst/>
              <a:rect l="textAreaLeft" t="textAreaTop" r="textAreaRight" b="textAreaBottom"/>
              <a:pathLst>
                <a:path w="609146" h="26484">
                  <a:moveTo>
                    <a:pt x="609808" y="9932"/>
                  </a:moveTo>
                  <a:lnTo>
                    <a:pt x="11256" y="9932"/>
                  </a:lnTo>
                  <a:cubicBezTo>
                    <a:pt x="11256" y="9932"/>
                    <a:pt x="9932" y="11256"/>
                    <a:pt x="9932" y="11256"/>
                  </a:cubicBezTo>
                  <a:lnTo>
                    <a:pt x="9932" y="25822"/>
                  </a:lnTo>
                  <a:cubicBezTo>
                    <a:pt x="9932" y="25822"/>
                    <a:pt x="9932" y="27147"/>
                    <a:pt x="11256" y="27147"/>
                  </a:cubicBezTo>
                  <a:lnTo>
                    <a:pt x="608484" y="27147"/>
                  </a:lnTo>
                  <a:lnTo>
                    <a:pt x="608484" y="9932"/>
                  </a:lnTo>
                  <a:lnTo>
                    <a:pt x="609808" y="9932"/>
                  </a:lnTo>
                  <a:close/>
                </a:path>
              </a:pathLst>
            </a:custGeom>
            <a:solidFill>
              <a:srgbClr val="e6e7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458" name="任意多边形: 形状 34"/>
            <p:cNvSpPr/>
            <p:nvPr/>
          </p:nvSpPr>
          <p:spPr>
            <a:xfrm>
              <a:off x="480240" y="3113640"/>
              <a:ext cx="595800" cy="132120"/>
            </a:xfrm>
            <a:custGeom>
              <a:avLst/>
              <a:gdLst>
                <a:gd name="textAreaLeft" fmla="*/ 0 w 595800"/>
                <a:gd name="textAreaRight" fmla="*/ 596160 w 595800"/>
                <a:gd name="textAreaTop" fmla="*/ 0 h 132120"/>
                <a:gd name="textAreaBottom" fmla="*/ 132480 h 132120"/>
              </a:gdLst>
              <a:ahLst/>
              <a:rect l="textAreaLeft" t="textAreaTop" r="textAreaRight" b="textAreaBottom"/>
              <a:pathLst>
                <a:path w="595903" h="132423">
                  <a:moveTo>
                    <a:pt x="9932" y="9932"/>
                  </a:moveTo>
                  <a:lnTo>
                    <a:pt x="592593" y="9932"/>
                  </a:lnTo>
                  <a:lnTo>
                    <a:pt x="592593" y="129113"/>
                  </a:lnTo>
                  <a:lnTo>
                    <a:pt x="9932" y="129113"/>
                  </a:lnTo>
                  <a:lnTo>
                    <a:pt x="9932" y="9932"/>
                  </a:lnTo>
                  <a:close/>
                </a:path>
              </a:pathLst>
            </a:custGeom>
            <a:solidFill>
              <a:srgbClr val="94c73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59" name="任意多边形: 形状 35"/>
            <p:cNvSpPr/>
            <p:nvPr/>
          </p:nvSpPr>
          <p:spPr>
            <a:xfrm>
              <a:off x="990360" y="3113640"/>
              <a:ext cx="39600" cy="132120"/>
            </a:xfrm>
            <a:custGeom>
              <a:avLst/>
              <a:gdLst>
                <a:gd name="textAreaLeft" fmla="*/ 0 w 39600"/>
                <a:gd name="textAreaRight" fmla="*/ 39960 w 39600"/>
                <a:gd name="textAreaTop" fmla="*/ 0 h 132120"/>
                <a:gd name="textAreaBottom" fmla="*/ 132480 h 132120"/>
              </a:gdLst>
              <a:ahLst/>
              <a:rect l="textAreaLeft" t="textAreaTop" r="textAreaRight" b="textAreaBottom"/>
              <a:pathLst>
                <a:path w="39726" h="132423">
                  <a:moveTo>
                    <a:pt x="9932" y="9932"/>
                  </a:moveTo>
                  <a:lnTo>
                    <a:pt x="41713" y="9932"/>
                  </a:lnTo>
                  <a:lnTo>
                    <a:pt x="41713" y="129113"/>
                  </a:lnTo>
                  <a:lnTo>
                    <a:pt x="9932" y="129113"/>
                  </a:lnTo>
                  <a:lnTo>
                    <a:pt x="9932" y="9932"/>
                  </a:ln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60" name="任意多边形: 形状 36"/>
            <p:cNvSpPr/>
            <p:nvPr/>
          </p:nvSpPr>
          <p:spPr>
            <a:xfrm>
              <a:off x="942480" y="3113640"/>
              <a:ext cx="39600" cy="132120"/>
            </a:xfrm>
            <a:custGeom>
              <a:avLst/>
              <a:gdLst>
                <a:gd name="textAreaLeft" fmla="*/ 0 w 39600"/>
                <a:gd name="textAreaRight" fmla="*/ 39960 w 39600"/>
                <a:gd name="textAreaTop" fmla="*/ 0 h 132120"/>
                <a:gd name="textAreaBottom" fmla="*/ 132480 h 132120"/>
              </a:gdLst>
              <a:ahLst/>
              <a:rect l="textAreaLeft" t="textAreaTop" r="textAreaRight" b="textAreaBottom"/>
              <a:pathLst>
                <a:path w="39726" h="132423">
                  <a:moveTo>
                    <a:pt x="9932" y="9932"/>
                  </a:moveTo>
                  <a:lnTo>
                    <a:pt x="41713" y="9932"/>
                  </a:lnTo>
                  <a:lnTo>
                    <a:pt x="41713" y="129113"/>
                  </a:lnTo>
                  <a:lnTo>
                    <a:pt x="9932" y="129113"/>
                  </a:lnTo>
                  <a:lnTo>
                    <a:pt x="9932" y="9932"/>
                  </a:ln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61" name="任意多边形: 形状 37"/>
            <p:cNvSpPr/>
            <p:nvPr/>
          </p:nvSpPr>
          <p:spPr>
            <a:xfrm>
              <a:off x="514800" y="3113640"/>
              <a:ext cx="39600" cy="132120"/>
            </a:xfrm>
            <a:custGeom>
              <a:avLst/>
              <a:gdLst>
                <a:gd name="textAreaLeft" fmla="*/ 0 w 39600"/>
                <a:gd name="textAreaRight" fmla="*/ 39960 w 39600"/>
                <a:gd name="textAreaTop" fmla="*/ 0 h 132120"/>
                <a:gd name="textAreaBottom" fmla="*/ 132480 h 132120"/>
              </a:gdLst>
              <a:ahLst/>
              <a:rect l="textAreaLeft" t="textAreaTop" r="textAreaRight" b="textAreaBottom"/>
              <a:pathLst>
                <a:path w="39726" h="132423">
                  <a:moveTo>
                    <a:pt x="9932" y="9932"/>
                  </a:moveTo>
                  <a:lnTo>
                    <a:pt x="41713" y="9932"/>
                  </a:lnTo>
                  <a:lnTo>
                    <a:pt x="41713" y="129113"/>
                  </a:lnTo>
                  <a:lnTo>
                    <a:pt x="9932" y="129113"/>
                  </a:lnTo>
                  <a:lnTo>
                    <a:pt x="9932" y="9932"/>
                  </a:ln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62" name="任意多边形: 形状 38"/>
            <p:cNvSpPr/>
            <p:nvPr/>
          </p:nvSpPr>
          <p:spPr>
            <a:xfrm>
              <a:off x="883080" y="2046240"/>
              <a:ext cx="172080" cy="648720"/>
            </a:xfrm>
            <a:custGeom>
              <a:avLst/>
              <a:gdLst>
                <a:gd name="textAreaLeft" fmla="*/ 0 w 172080"/>
                <a:gd name="textAreaRight" fmla="*/ 172440 w 172080"/>
                <a:gd name="textAreaTop" fmla="*/ 0 h 648720"/>
                <a:gd name="textAreaBottom" fmla="*/ 649080 h 648720"/>
              </a:gdLst>
              <a:ahLst/>
              <a:rect l="textAreaLeft" t="textAreaTop" r="textAreaRight" b="textAreaBottom"/>
              <a:pathLst>
                <a:path w="172150" h="648873">
                  <a:moveTo>
                    <a:pt x="9932" y="9932"/>
                  </a:moveTo>
                  <a:lnTo>
                    <a:pt x="168839" y="9932"/>
                  </a:lnTo>
                  <a:lnTo>
                    <a:pt x="168839" y="642914"/>
                  </a:lnTo>
                  <a:lnTo>
                    <a:pt x="9932" y="642914"/>
                  </a:lnTo>
                  <a:lnTo>
                    <a:pt x="9932" y="9932"/>
                  </a:lnTo>
                  <a:close/>
                </a:path>
              </a:pathLst>
            </a:custGeom>
            <a:solidFill>
              <a:srgbClr val="0327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63" name="任意多边形: 形状 39"/>
            <p:cNvSpPr/>
            <p:nvPr/>
          </p:nvSpPr>
          <p:spPr>
            <a:xfrm>
              <a:off x="904320" y="2080800"/>
              <a:ext cx="132120" cy="52920"/>
            </a:xfrm>
            <a:custGeom>
              <a:avLst/>
              <a:gdLst>
                <a:gd name="textAreaLeft" fmla="*/ 0 w 132120"/>
                <a:gd name="textAreaRight" fmla="*/ 132480 w 132120"/>
                <a:gd name="textAreaTop" fmla="*/ 0 h 52920"/>
                <a:gd name="textAreaBottom" fmla="*/ 53280 h 52920"/>
              </a:gdLst>
              <a:ahLst/>
              <a:rect l="textAreaLeft" t="textAreaTop" r="textAreaRight" b="textAreaBottom"/>
              <a:pathLst>
                <a:path w="132423" h="52969">
                  <a:moveTo>
                    <a:pt x="9932" y="9932"/>
                  </a:moveTo>
                  <a:lnTo>
                    <a:pt x="126464" y="9932"/>
                  </a:lnTo>
                  <a:lnTo>
                    <a:pt x="126464" y="45686"/>
                  </a:lnTo>
                  <a:lnTo>
                    <a:pt x="9932" y="45686"/>
                  </a:lnTo>
                  <a:lnTo>
                    <a:pt x="9932" y="9932"/>
                  </a:lnTo>
                  <a:close/>
                </a:path>
              </a:pathLst>
            </a:custGeom>
            <a:solidFill>
              <a:srgbClr val="c1e5e2"/>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464" name="任意多边形: 形状 40"/>
            <p:cNvSpPr/>
            <p:nvPr/>
          </p:nvSpPr>
          <p:spPr>
            <a:xfrm>
              <a:off x="904320" y="2136240"/>
              <a:ext cx="132120" cy="39600"/>
            </a:xfrm>
            <a:custGeom>
              <a:avLst/>
              <a:gdLst>
                <a:gd name="textAreaLeft" fmla="*/ 0 w 132120"/>
                <a:gd name="textAreaRight" fmla="*/ 132480 w 132120"/>
                <a:gd name="textAreaTop" fmla="*/ 0 h 39600"/>
                <a:gd name="textAreaBottom" fmla="*/ 39960 h 39600"/>
              </a:gdLst>
              <a:ahLst/>
              <a:rect l="textAreaLeft" t="textAreaTop" r="textAreaRight" b="textAreaBottom"/>
              <a:pathLst>
                <a:path w="132423" h="39726">
                  <a:moveTo>
                    <a:pt x="9932" y="9932"/>
                  </a:moveTo>
                  <a:lnTo>
                    <a:pt x="126464" y="9932"/>
                  </a:lnTo>
                  <a:lnTo>
                    <a:pt x="126464" y="41713"/>
                  </a:lnTo>
                  <a:lnTo>
                    <a:pt x="9932" y="41713"/>
                  </a:lnTo>
                  <a:lnTo>
                    <a:pt x="9932" y="9932"/>
                  </a:lnTo>
                  <a:close/>
                </a:path>
              </a:pathLst>
            </a:custGeom>
            <a:solidFill>
              <a:srgbClr val="c1e5e2"/>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465" name="任意多边形: 形状 41"/>
            <p:cNvSpPr/>
            <p:nvPr/>
          </p:nvSpPr>
          <p:spPr>
            <a:xfrm>
              <a:off x="904320" y="2218320"/>
              <a:ext cx="132120" cy="437040"/>
            </a:xfrm>
            <a:custGeom>
              <a:avLst/>
              <a:gdLst>
                <a:gd name="textAreaLeft" fmla="*/ 0 w 132120"/>
                <a:gd name="textAreaRight" fmla="*/ 132480 w 132120"/>
                <a:gd name="textAreaTop" fmla="*/ 0 h 437040"/>
                <a:gd name="textAreaBottom" fmla="*/ 437400 h 437040"/>
              </a:gdLst>
              <a:ahLst/>
              <a:rect l="textAreaLeft" t="textAreaTop" r="textAreaRight" b="textAreaBottom"/>
              <a:pathLst>
                <a:path w="132423" h="436996">
                  <a:moveTo>
                    <a:pt x="9932" y="9932"/>
                  </a:moveTo>
                  <a:lnTo>
                    <a:pt x="126464" y="9932"/>
                  </a:lnTo>
                  <a:lnTo>
                    <a:pt x="126464" y="427064"/>
                  </a:lnTo>
                  <a:lnTo>
                    <a:pt x="9932" y="427064"/>
                  </a:lnTo>
                  <a:lnTo>
                    <a:pt x="9932" y="9932"/>
                  </a:lnTo>
                  <a:close/>
                </a:path>
              </a:pathLst>
            </a:custGeom>
            <a:solidFill>
              <a:srgbClr val="c1e5e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66" name="任意多边形: 形状 42"/>
            <p:cNvSpPr/>
            <p:nvPr/>
          </p:nvSpPr>
          <p:spPr>
            <a:xfrm>
              <a:off x="711000" y="2039760"/>
              <a:ext cx="172080" cy="648720"/>
            </a:xfrm>
            <a:custGeom>
              <a:avLst/>
              <a:gdLst>
                <a:gd name="textAreaLeft" fmla="*/ 0 w 172080"/>
                <a:gd name="textAreaRight" fmla="*/ 172440 w 172080"/>
                <a:gd name="textAreaTop" fmla="*/ 0 h 648720"/>
                <a:gd name="textAreaBottom" fmla="*/ 649080 h 648720"/>
              </a:gdLst>
              <a:ahLst/>
              <a:rect l="textAreaLeft" t="textAreaTop" r="textAreaRight" b="textAreaBottom"/>
              <a:pathLst>
                <a:path w="172150" h="648873">
                  <a:moveTo>
                    <a:pt x="9932" y="9932"/>
                  </a:moveTo>
                  <a:lnTo>
                    <a:pt x="168839" y="9932"/>
                  </a:lnTo>
                  <a:lnTo>
                    <a:pt x="168839" y="642914"/>
                  </a:lnTo>
                  <a:lnTo>
                    <a:pt x="9932" y="642914"/>
                  </a:lnTo>
                  <a:lnTo>
                    <a:pt x="9932" y="9932"/>
                  </a:lnTo>
                  <a:close/>
                </a:path>
              </a:pathLst>
            </a:custGeom>
            <a:solidFill>
              <a:srgbClr val="ed622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67" name="任意多边形: 形状 43"/>
            <p:cNvSpPr/>
            <p:nvPr/>
          </p:nvSpPr>
          <p:spPr>
            <a:xfrm>
              <a:off x="730800" y="2075400"/>
              <a:ext cx="132120" cy="52920"/>
            </a:xfrm>
            <a:custGeom>
              <a:avLst/>
              <a:gdLst>
                <a:gd name="textAreaLeft" fmla="*/ 0 w 132120"/>
                <a:gd name="textAreaRight" fmla="*/ 132480 w 132120"/>
                <a:gd name="textAreaTop" fmla="*/ 0 h 52920"/>
                <a:gd name="textAreaBottom" fmla="*/ 53280 h 52920"/>
              </a:gdLst>
              <a:ahLst/>
              <a:rect l="textAreaLeft" t="textAreaTop" r="textAreaRight" b="textAreaBottom"/>
              <a:pathLst>
                <a:path w="132423" h="52969">
                  <a:moveTo>
                    <a:pt x="9932" y="9932"/>
                  </a:moveTo>
                  <a:lnTo>
                    <a:pt x="126464" y="9932"/>
                  </a:lnTo>
                  <a:lnTo>
                    <a:pt x="126464" y="45686"/>
                  </a:lnTo>
                  <a:lnTo>
                    <a:pt x="9932" y="45686"/>
                  </a:lnTo>
                  <a:lnTo>
                    <a:pt x="9932" y="9932"/>
                  </a:lnTo>
                  <a:close/>
                </a:path>
              </a:pathLst>
            </a:custGeom>
            <a:solidFill>
              <a:srgbClr val="f4bb06"/>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468" name="任意多边形: 形状 44"/>
            <p:cNvSpPr/>
            <p:nvPr/>
          </p:nvSpPr>
          <p:spPr>
            <a:xfrm>
              <a:off x="730800" y="2129760"/>
              <a:ext cx="132120" cy="39600"/>
            </a:xfrm>
            <a:custGeom>
              <a:avLst/>
              <a:gdLst>
                <a:gd name="textAreaLeft" fmla="*/ 0 w 132120"/>
                <a:gd name="textAreaRight" fmla="*/ 132480 w 132120"/>
                <a:gd name="textAreaTop" fmla="*/ 0 h 39600"/>
                <a:gd name="textAreaBottom" fmla="*/ 39960 h 39600"/>
              </a:gdLst>
              <a:ahLst/>
              <a:rect l="textAreaLeft" t="textAreaTop" r="textAreaRight" b="textAreaBottom"/>
              <a:pathLst>
                <a:path w="132423" h="39726">
                  <a:moveTo>
                    <a:pt x="9932" y="9932"/>
                  </a:moveTo>
                  <a:lnTo>
                    <a:pt x="126464" y="9932"/>
                  </a:lnTo>
                  <a:lnTo>
                    <a:pt x="126464" y="41713"/>
                  </a:lnTo>
                  <a:lnTo>
                    <a:pt x="9932" y="41713"/>
                  </a:lnTo>
                  <a:lnTo>
                    <a:pt x="9932" y="9932"/>
                  </a:lnTo>
                  <a:close/>
                </a:path>
              </a:pathLst>
            </a:custGeom>
            <a:solidFill>
              <a:srgbClr val="f4bb06"/>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469" name="任意多边形: 形状 45"/>
            <p:cNvSpPr/>
            <p:nvPr/>
          </p:nvSpPr>
          <p:spPr>
            <a:xfrm>
              <a:off x="730800" y="2212920"/>
              <a:ext cx="132120" cy="437040"/>
            </a:xfrm>
            <a:custGeom>
              <a:avLst/>
              <a:gdLst>
                <a:gd name="textAreaLeft" fmla="*/ 0 w 132120"/>
                <a:gd name="textAreaRight" fmla="*/ 132480 w 132120"/>
                <a:gd name="textAreaTop" fmla="*/ 0 h 437040"/>
                <a:gd name="textAreaBottom" fmla="*/ 437400 h 437040"/>
              </a:gdLst>
              <a:ahLst/>
              <a:rect l="textAreaLeft" t="textAreaTop" r="textAreaRight" b="textAreaBottom"/>
              <a:pathLst>
                <a:path w="132423" h="436996">
                  <a:moveTo>
                    <a:pt x="9932" y="9932"/>
                  </a:moveTo>
                  <a:lnTo>
                    <a:pt x="126464" y="9932"/>
                  </a:lnTo>
                  <a:lnTo>
                    <a:pt x="126464" y="427064"/>
                  </a:lnTo>
                  <a:lnTo>
                    <a:pt x="9932" y="427064"/>
                  </a:lnTo>
                  <a:lnTo>
                    <a:pt x="9932" y="9932"/>
                  </a:lnTo>
                  <a:close/>
                </a:path>
              </a:pathLst>
            </a:custGeom>
            <a:solidFill>
              <a:srgbClr val="f4bb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70" name="任意多边形: 形状 46"/>
            <p:cNvSpPr/>
            <p:nvPr/>
          </p:nvSpPr>
          <p:spPr>
            <a:xfrm>
              <a:off x="350280" y="2019240"/>
              <a:ext cx="370800" cy="675360"/>
            </a:xfrm>
            <a:custGeom>
              <a:avLst/>
              <a:gdLst>
                <a:gd name="textAreaLeft" fmla="*/ 0 w 370800"/>
                <a:gd name="textAreaRight" fmla="*/ 371160 w 370800"/>
                <a:gd name="textAreaTop" fmla="*/ 0 h 675360"/>
                <a:gd name="textAreaBottom" fmla="*/ 675720 h 675360"/>
              </a:gdLst>
              <a:ahLst/>
              <a:rect l="textAreaLeft" t="textAreaTop" r="textAreaRight" b="textAreaBottom"/>
              <a:pathLst>
                <a:path w="370784" h="675357">
                  <a:moveTo>
                    <a:pt x="12624" y="611109"/>
                  </a:moveTo>
                  <a:lnTo>
                    <a:pt x="218723" y="12624"/>
                  </a:lnTo>
                  <a:lnTo>
                    <a:pt x="368971" y="64365"/>
                  </a:lnTo>
                  <a:lnTo>
                    <a:pt x="162871" y="662849"/>
                  </a:lnTo>
                  <a:lnTo>
                    <a:pt x="12624" y="611109"/>
                  </a:lnTo>
                  <a:close/>
                </a:path>
              </a:pathLst>
            </a:custGeom>
            <a:solidFill>
              <a:srgbClr val="00b0c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71" name="任意多边形: 形状 47"/>
            <p:cNvSpPr/>
            <p:nvPr/>
          </p:nvSpPr>
          <p:spPr>
            <a:xfrm>
              <a:off x="553680" y="2058480"/>
              <a:ext cx="145440" cy="92520"/>
            </a:xfrm>
            <a:custGeom>
              <a:avLst/>
              <a:gdLst>
                <a:gd name="textAreaLeft" fmla="*/ 0 w 145440"/>
                <a:gd name="textAreaRight" fmla="*/ 145800 w 145440"/>
                <a:gd name="textAreaTop" fmla="*/ 0 h 92520"/>
                <a:gd name="textAreaBottom" fmla="*/ 92880 h 92520"/>
              </a:gdLst>
              <a:ahLst/>
              <a:rect l="textAreaLeft" t="textAreaTop" r="textAreaRight" b="textAreaBottom"/>
              <a:pathLst>
                <a:path w="145665" h="92696">
                  <a:moveTo>
                    <a:pt x="12623" y="46429"/>
                  </a:moveTo>
                  <a:lnTo>
                    <a:pt x="24261" y="12623"/>
                  </a:lnTo>
                  <a:lnTo>
                    <a:pt x="134443" y="50555"/>
                  </a:lnTo>
                  <a:lnTo>
                    <a:pt x="122805" y="84360"/>
                  </a:lnTo>
                  <a:lnTo>
                    <a:pt x="12623" y="46429"/>
                  </a:lnTo>
                  <a:close/>
                </a:path>
              </a:pathLst>
            </a:custGeom>
            <a:solidFill>
              <a:srgbClr val="c1e5e2"/>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472" name="任意多边形: 形状 48"/>
            <p:cNvSpPr/>
            <p:nvPr/>
          </p:nvSpPr>
          <p:spPr>
            <a:xfrm>
              <a:off x="536040" y="2110680"/>
              <a:ext cx="145440" cy="92520"/>
            </a:xfrm>
            <a:custGeom>
              <a:avLst/>
              <a:gdLst>
                <a:gd name="textAreaLeft" fmla="*/ 0 w 145440"/>
                <a:gd name="textAreaRight" fmla="*/ 145800 w 145440"/>
                <a:gd name="textAreaTop" fmla="*/ 0 h 92520"/>
                <a:gd name="textAreaBottom" fmla="*/ 92880 h 92520"/>
              </a:gdLst>
              <a:ahLst/>
              <a:rect l="textAreaLeft" t="textAreaTop" r="textAreaRight" b="textAreaBottom"/>
              <a:pathLst>
                <a:path w="145665" h="92696">
                  <a:moveTo>
                    <a:pt x="12623" y="42673"/>
                  </a:moveTo>
                  <a:lnTo>
                    <a:pt x="22968" y="12623"/>
                  </a:lnTo>
                  <a:lnTo>
                    <a:pt x="133149" y="50554"/>
                  </a:lnTo>
                  <a:lnTo>
                    <a:pt x="122805" y="80604"/>
                  </a:lnTo>
                  <a:lnTo>
                    <a:pt x="12623" y="42673"/>
                  </a:lnTo>
                  <a:close/>
                </a:path>
              </a:pathLst>
            </a:custGeom>
            <a:solidFill>
              <a:srgbClr val="c1e5e2"/>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473" name="任意多边形: 形状 49"/>
            <p:cNvSpPr/>
            <p:nvPr/>
          </p:nvSpPr>
          <p:spPr>
            <a:xfrm>
              <a:off x="384480" y="2188440"/>
              <a:ext cx="264600" cy="450000"/>
            </a:xfrm>
            <a:custGeom>
              <a:avLst/>
              <a:gdLst>
                <a:gd name="textAreaLeft" fmla="*/ 0 w 264600"/>
                <a:gd name="textAreaRight" fmla="*/ 264960 w 264600"/>
                <a:gd name="textAreaTop" fmla="*/ 0 h 450000"/>
                <a:gd name="textAreaBottom" fmla="*/ 450360 h 450000"/>
              </a:gdLst>
              <a:ahLst/>
              <a:rect l="textAreaLeft" t="textAreaTop" r="textAreaRight" b="textAreaBottom"/>
              <a:pathLst>
                <a:path w="264846" h="450238">
                  <a:moveTo>
                    <a:pt x="12624" y="407023"/>
                  </a:moveTo>
                  <a:lnTo>
                    <a:pt x="148443" y="12624"/>
                  </a:lnTo>
                  <a:lnTo>
                    <a:pt x="258624" y="50567"/>
                  </a:lnTo>
                  <a:lnTo>
                    <a:pt x="122806" y="444966"/>
                  </a:lnTo>
                  <a:lnTo>
                    <a:pt x="12624" y="407023"/>
                  </a:lnTo>
                  <a:close/>
                </a:path>
              </a:pathLst>
            </a:custGeom>
            <a:solidFill>
              <a:srgbClr val="c1e5e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74" name="任意多边形: 形状 50"/>
            <p:cNvSpPr/>
            <p:nvPr/>
          </p:nvSpPr>
          <p:spPr>
            <a:xfrm>
              <a:off x="133200" y="2021400"/>
              <a:ext cx="423720" cy="662040"/>
            </a:xfrm>
            <a:custGeom>
              <a:avLst/>
              <a:gdLst>
                <a:gd name="textAreaLeft" fmla="*/ 0 w 423720"/>
                <a:gd name="textAreaRight" fmla="*/ 424080 w 423720"/>
                <a:gd name="textAreaTop" fmla="*/ 0 h 662040"/>
                <a:gd name="textAreaBottom" fmla="*/ 662400 h 662040"/>
              </a:gdLst>
              <a:ahLst/>
              <a:rect l="textAreaLeft" t="textAreaTop" r="textAreaRight" b="textAreaBottom"/>
              <a:pathLst>
                <a:path w="423753" h="662115">
                  <a:moveTo>
                    <a:pt x="13104" y="591840"/>
                  </a:moveTo>
                  <a:lnTo>
                    <a:pt x="269525" y="13104"/>
                  </a:lnTo>
                  <a:lnTo>
                    <a:pt x="414814" y="77477"/>
                  </a:lnTo>
                  <a:lnTo>
                    <a:pt x="158393" y="656213"/>
                  </a:lnTo>
                  <a:lnTo>
                    <a:pt x="13104" y="591840"/>
                  </a:lnTo>
                  <a:close/>
                </a:path>
              </a:pathLst>
            </a:custGeom>
            <a:solidFill>
              <a:srgbClr val="f4bb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75" name="任意多边形: 形状 51"/>
            <p:cNvSpPr/>
            <p:nvPr/>
          </p:nvSpPr>
          <p:spPr>
            <a:xfrm>
              <a:off x="380880" y="2061000"/>
              <a:ext cx="145440" cy="105840"/>
            </a:xfrm>
            <a:custGeom>
              <a:avLst/>
              <a:gdLst>
                <a:gd name="textAreaLeft" fmla="*/ 0 w 145440"/>
                <a:gd name="textAreaRight" fmla="*/ 145800 w 145440"/>
                <a:gd name="textAreaTop" fmla="*/ 0 h 105840"/>
                <a:gd name="textAreaBottom" fmla="*/ 106200 h 105840"/>
              </a:gdLst>
              <a:ahLst/>
              <a:rect l="textAreaLeft" t="textAreaTop" r="textAreaRight" b="textAreaBottom"/>
              <a:pathLst>
                <a:path w="145665" h="105938">
                  <a:moveTo>
                    <a:pt x="13104" y="45794"/>
                  </a:moveTo>
                  <a:lnTo>
                    <a:pt x="27588" y="13104"/>
                  </a:lnTo>
                  <a:lnTo>
                    <a:pt x="134133" y="60311"/>
                  </a:lnTo>
                  <a:lnTo>
                    <a:pt x="119649" y="93001"/>
                  </a:lnTo>
                  <a:lnTo>
                    <a:pt x="13104" y="4579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76" name="任意多边形: 形状 52"/>
            <p:cNvSpPr/>
            <p:nvPr/>
          </p:nvSpPr>
          <p:spPr>
            <a:xfrm>
              <a:off x="360720" y="2111760"/>
              <a:ext cx="132120" cy="92520"/>
            </a:xfrm>
            <a:custGeom>
              <a:avLst/>
              <a:gdLst>
                <a:gd name="textAreaLeft" fmla="*/ 0 w 132120"/>
                <a:gd name="textAreaRight" fmla="*/ 132480 w 132120"/>
                <a:gd name="textAreaTop" fmla="*/ 0 h 92520"/>
                <a:gd name="textAreaBottom" fmla="*/ 92880 h 92520"/>
              </a:gdLst>
              <a:ahLst/>
              <a:rect l="textAreaLeft" t="textAreaTop" r="textAreaRight" b="textAreaBottom"/>
              <a:pathLst>
                <a:path w="132423" h="92696">
                  <a:moveTo>
                    <a:pt x="13103" y="42161"/>
                  </a:moveTo>
                  <a:lnTo>
                    <a:pt x="25974" y="13103"/>
                  </a:lnTo>
                  <a:lnTo>
                    <a:pt x="132520" y="60299"/>
                  </a:lnTo>
                  <a:lnTo>
                    <a:pt x="119648" y="89356"/>
                  </a:lnTo>
                  <a:lnTo>
                    <a:pt x="13103" y="42161"/>
                  </a:ln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477" name="任意多边形: 形状 53"/>
            <p:cNvSpPr/>
            <p:nvPr/>
          </p:nvSpPr>
          <p:spPr>
            <a:xfrm>
              <a:off x="171000" y="2187720"/>
              <a:ext cx="291240" cy="450000"/>
            </a:xfrm>
            <a:custGeom>
              <a:avLst/>
              <a:gdLst>
                <a:gd name="textAreaLeft" fmla="*/ 0 w 291240"/>
                <a:gd name="textAreaRight" fmla="*/ 291600 w 291240"/>
                <a:gd name="textAreaTop" fmla="*/ 0 h 450000"/>
                <a:gd name="textAreaBottom" fmla="*/ 450360 h 450000"/>
              </a:gdLst>
              <a:ahLst/>
              <a:rect l="textAreaLeft" t="textAreaTop" r="textAreaRight" b="textAreaBottom"/>
              <a:pathLst>
                <a:path w="291330" h="450238">
                  <a:moveTo>
                    <a:pt x="13104" y="394488"/>
                  </a:moveTo>
                  <a:lnTo>
                    <a:pt x="182084" y="13104"/>
                  </a:lnTo>
                  <a:lnTo>
                    <a:pt x="288630" y="60311"/>
                  </a:lnTo>
                  <a:lnTo>
                    <a:pt x="119649" y="441696"/>
                  </a:lnTo>
                  <a:lnTo>
                    <a:pt x="13104" y="39448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78" name="任意多边形: 形状 54"/>
            <p:cNvSpPr/>
            <p:nvPr/>
          </p:nvSpPr>
          <p:spPr>
            <a:xfrm>
              <a:off x="1048680" y="2085840"/>
              <a:ext cx="132120" cy="595800"/>
            </a:xfrm>
            <a:custGeom>
              <a:avLst/>
              <a:gdLst>
                <a:gd name="textAreaLeft" fmla="*/ 0 w 132120"/>
                <a:gd name="textAreaRight" fmla="*/ 132480 w 132120"/>
                <a:gd name="textAreaTop" fmla="*/ 0 h 595800"/>
                <a:gd name="textAreaBottom" fmla="*/ 596160 h 595800"/>
              </a:gdLst>
              <a:ahLst/>
              <a:rect l="textAreaLeft" t="textAreaTop" r="textAreaRight" b="textAreaBottom"/>
              <a:pathLst>
                <a:path w="132423" h="595903">
                  <a:moveTo>
                    <a:pt x="9932" y="9932"/>
                  </a:moveTo>
                  <a:lnTo>
                    <a:pt x="129113" y="9932"/>
                  </a:lnTo>
                  <a:lnTo>
                    <a:pt x="129113" y="592593"/>
                  </a:lnTo>
                  <a:lnTo>
                    <a:pt x="9932" y="592593"/>
                  </a:lnTo>
                  <a:lnTo>
                    <a:pt x="9932" y="9932"/>
                  </a:lnTo>
                  <a:close/>
                </a:path>
              </a:pathLst>
            </a:custGeom>
            <a:solidFill>
              <a:srgbClr val="94c73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79" name="任意多边形: 形状 55"/>
            <p:cNvSpPr/>
            <p:nvPr/>
          </p:nvSpPr>
          <p:spPr>
            <a:xfrm>
              <a:off x="1048680" y="2126880"/>
              <a:ext cx="132120" cy="39600"/>
            </a:xfrm>
            <a:custGeom>
              <a:avLst/>
              <a:gdLst>
                <a:gd name="textAreaLeft" fmla="*/ 0 w 132120"/>
                <a:gd name="textAreaRight" fmla="*/ 132480 w 132120"/>
                <a:gd name="textAreaTop" fmla="*/ 0 h 39600"/>
                <a:gd name="textAreaBottom" fmla="*/ 39960 h 39600"/>
              </a:gdLst>
              <a:ahLst/>
              <a:rect l="textAreaLeft" t="textAreaTop" r="textAreaRight" b="textAreaBottom"/>
              <a:pathLst>
                <a:path w="132423" h="39726">
                  <a:moveTo>
                    <a:pt x="9932" y="9932"/>
                  </a:moveTo>
                  <a:lnTo>
                    <a:pt x="129113" y="9932"/>
                  </a:lnTo>
                  <a:lnTo>
                    <a:pt x="129113" y="41713"/>
                  </a:lnTo>
                  <a:lnTo>
                    <a:pt x="9932" y="41713"/>
                  </a:lnTo>
                  <a:lnTo>
                    <a:pt x="9932" y="9932"/>
                  </a:lnTo>
                  <a:close/>
                </a:path>
              </a:pathLst>
            </a:custGeom>
            <a:solidFill>
              <a:srgbClr val="e6e7e8"/>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480" name="任意多边形: 形状 56"/>
            <p:cNvSpPr/>
            <p:nvPr/>
          </p:nvSpPr>
          <p:spPr>
            <a:xfrm>
              <a:off x="1048680" y="2174760"/>
              <a:ext cx="132120" cy="39600"/>
            </a:xfrm>
            <a:custGeom>
              <a:avLst/>
              <a:gdLst>
                <a:gd name="textAreaLeft" fmla="*/ 0 w 132120"/>
                <a:gd name="textAreaRight" fmla="*/ 132480 w 132120"/>
                <a:gd name="textAreaTop" fmla="*/ 0 h 39600"/>
                <a:gd name="textAreaBottom" fmla="*/ 39960 h 39600"/>
              </a:gdLst>
              <a:ahLst/>
              <a:rect l="textAreaLeft" t="textAreaTop" r="textAreaRight" b="textAreaBottom"/>
              <a:pathLst>
                <a:path w="132423" h="39726">
                  <a:moveTo>
                    <a:pt x="9932" y="9932"/>
                  </a:moveTo>
                  <a:lnTo>
                    <a:pt x="129113" y="9932"/>
                  </a:lnTo>
                  <a:lnTo>
                    <a:pt x="129113" y="41713"/>
                  </a:lnTo>
                  <a:lnTo>
                    <a:pt x="9932" y="41713"/>
                  </a:lnTo>
                  <a:lnTo>
                    <a:pt x="9932" y="9932"/>
                  </a:lnTo>
                  <a:close/>
                </a:path>
              </a:pathLst>
            </a:custGeom>
            <a:solidFill>
              <a:srgbClr val="e6e7e8"/>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481" name="任意多边形: 形状 57"/>
            <p:cNvSpPr/>
            <p:nvPr/>
          </p:nvSpPr>
          <p:spPr>
            <a:xfrm>
              <a:off x="1048680" y="2603880"/>
              <a:ext cx="132120" cy="39600"/>
            </a:xfrm>
            <a:custGeom>
              <a:avLst/>
              <a:gdLst>
                <a:gd name="textAreaLeft" fmla="*/ 0 w 132120"/>
                <a:gd name="textAreaRight" fmla="*/ 132480 w 132120"/>
                <a:gd name="textAreaTop" fmla="*/ 0 h 39600"/>
                <a:gd name="textAreaBottom" fmla="*/ 39960 h 39600"/>
              </a:gdLst>
              <a:ahLst/>
              <a:rect l="textAreaLeft" t="textAreaTop" r="textAreaRight" b="textAreaBottom"/>
              <a:pathLst>
                <a:path w="132423" h="39726">
                  <a:moveTo>
                    <a:pt x="9932" y="9932"/>
                  </a:moveTo>
                  <a:lnTo>
                    <a:pt x="129113" y="9932"/>
                  </a:lnTo>
                  <a:lnTo>
                    <a:pt x="129113" y="41713"/>
                  </a:lnTo>
                  <a:lnTo>
                    <a:pt x="9932" y="41713"/>
                  </a:lnTo>
                  <a:lnTo>
                    <a:pt x="9932" y="9932"/>
                  </a:lnTo>
                  <a:close/>
                </a:path>
              </a:pathLst>
            </a:custGeom>
            <a:solidFill>
              <a:srgbClr val="e6e7e8"/>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482" name="任意多边形: 形状 58"/>
            <p:cNvSpPr/>
            <p:nvPr/>
          </p:nvSpPr>
          <p:spPr>
            <a:xfrm>
              <a:off x="-10440" y="3434400"/>
              <a:ext cx="1284480" cy="92520"/>
            </a:xfrm>
            <a:custGeom>
              <a:avLst/>
              <a:gdLst>
                <a:gd name="textAreaLeft" fmla="*/ 0 w 1284480"/>
                <a:gd name="textAreaRight" fmla="*/ 1284840 w 1284480"/>
                <a:gd name="textAreaTop" fmla="*/ 0 h 92520"/>
                <a:gd name="textAreaBottom" fmla="*/ 92880 h 92520"/>
              </a:gdLst>
              <a:ahLst/>
              <a:rect l="textAreaLeft" t="textAreaTop" r="textAreaRight" b="textAreaBottom"/>
              <a:pathLst>
                <a:path w="1284503" h="92696">
                  <a:moveTo>
                    <a:pt x="9932" y="9932"/>
                  </a:moveTo>
                  <a:lnTo>
                    <a:pt x="1283842" y="9932"/>
                  </a:lnTo>
                  <a:lnTo>
                    <a:pt x="1283842" y="94682"/>
                  </a:lnTo>
                  <a:lnTo>
                    <a:pt x="9932" y="94682"/>
                  </a:lnTo>
                  <a:lnTo>
                    <a:pt x="9932" y="9932"/>
                  </a:ln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483" name="任意多边形: 形状 59"/>
            <p:cNvSpPr/>
            <p:nvPr/>
          </p:nvSpPr>
          <p:spPr>
            <a:xfrm>
              <a:off x="-10440" y="2672640"/>
              <a:ext cx="1284480" cy="92520"/>
            </a:xfrm>
            <a:custGeom>
              <a:avLst/>
              <a:gdLst>
                <a:gd name="textAreaLeft" fmla="*/ 0 w 1284480"/>
                <a:gd name="textAreaRight" fmla="*/ 1284840 w 1284480"/>
                <a:gd name="textAreaTop" fmla="*/ 0 h 92520"/>
                <a:gd name="textAreaBottom" fmla="*/ 92880 h 92520"/>
              </a:gdLst>
              <a:ahLst/>
              <a:rect l="textAreaLeft" t="textAreaTop" r="textAreaRight" b="textAreaBottom"/>
              <a:pathLst>
                <a:path w="1284503" h="92696">
                  <a:moveTo>
                    <a:pt x="9932" y="9932"/>
                  </a:moveTo>
                  <a:lnTo>
                    <a:pt x="1283842" y="9932"/>
                  </a:lnTo>
                  <a:lnTo>
                    <a:pt x="1283842" y="94682"/>
                  </a:lnTo>
                  <a:lnTo>
                    <a:pt x="9932" y="94682"/>
                  </a:lnTo>
                  <a:lnTo>
                    <a:pt x="9932" y="9932"/>
                  </a:lnTo>
                  <a:close/>
                </a:path>
              </a:pathLst>
            </a:custGeom>
            <a:solidFill>
              <a:srgbClr val="ffffff"/>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484" name="任意多边形: 形状 60"/>
            <p:cNvSpPr/>
            <p:nvPr/>
          </p:nvSpPr>
          <p:spPr>
            <a:xfrm>
              <a:off x="5395320" y="1445040"/>
              <a:ext cx="834120" cy="834120"/>
            </a:xfrm>
            <a:custGeom>
              <a:avLst/>
              <a:gdLst>
                <a:gd name="textAreaLeft" fmla="*/ 0 w 834120"/>
                <a:gd name="textAreaRight" fmla="*/ 834480 w 834120"/>
                <a:gd name="textAreaTop" fmla="*/ 0 h 834120"/>
                <a:gd name="textAreaBottom" fmla="*/ 834480 h 834120"/>
              </a:gdLst>
              <a:ahLst/>
              <a:rect l="textAreaLeft" t="textAreaTop" r="textAreaRight" b="textAreaBottom"/>
              <a:pathLst>
                <a:path w="834265" h="834265">
                  <a:moveTo>
                    <a:pt x="836252" y="423092"/>
                  </a:moveTo>
                  <a:cubicBezTo>
                    <a:pt x="836252" y="650860"/>
                    <a:pt x="650859" y="836252"/>
                    <a:pt x="423092" y="836252"/>
                  </a:cubicBezTo>
                  <a:cubicBezTo>
                    <a:pt x="194000" y="836252"/>
                    <a:pt x="9932" y="650860"/>
                    <a:pt x="9932" y="423092"/>
                  </a:cubicBezTo>
                  <a:cubicBezTo>
                    <a:pt x="9932" y="195324"/>
                    <a:pt x="194000" y="9932"/>
                    <a:pt x="423092" y="9932"/>
                  </a:cubicBezTo>
                  <a:cubicBezTo>
                    <a:pt x="650859" y="9932"/>
                    <a:pt x="836252" y="195324"/>
                    <a:pt x="836252" y="423092"/>
                  </a:cubicBezTo>
                  <a:close/>
                </a:path>
              </a:pathLst>
            </a:custGeom>
            <a:solidFill>
              <a:srgbClr val="7c90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85" name="任意多边形: 形状 61"/>
            <p:cNvSpPr/>
            <p:nvPr/>
          </p:nvSpPr>
          <p:spPr>
            <a:xfrm>
              <a:off x="5441400" y="1491120"/>
              <a:ext cx="741600" cy="741600"/>
            </a:xfrm>
            <a:custGeom>
              <a:avLst/>
              <a:gdLst>
                <a:gd name="textAreaLeft" fmla="*/ 0 w 741600"/>
                <a:gd name="textAreaRight" fmla="*/ 741960 w 741600"/>
                <a:gd name="textAreaTop" fmla="*/ 0 h 741600"/>
                <a:gd name="textAreaBottom" fmla="*/ 741960 h 741600"/>
              </a:gdLst>
              <a:ahLst/>
              <a:rect l="textAreaLeft" t="textAreaTop" r="textAreaRight" b="textAreaBottom"/>
              <a:pathLst>
                <a:path w="741569" h="741569">
                  <a:moveTo>
                    <a:pt x="743556" y="376744"/>
                  </a:moveTo>
                  <a:cubicBezTo>
                    <a:pt x="743556" y="579351"/>
                    <a:pt x="579351" y="743556"/>
                    <a:pt x="376743" y="743556"/>
                  </a:cubicBezTo>
                  <a:cubicBezTo>
                    <a:pt x="174136" y="743556"/>
                    <a:pt x="9932" y="579351"/>
                    <a:pt x="9932" y="376744"/>
                  </a:cubicBezTo>
                  <a:cubicBezTo>
                    <a:pt x="9932" y="174136"/>
                    <a:pt x="174136" y="9932"/>
                    <a:pt x="376743" y="9932"/>
                  </a:cubicBezTo>
                  <a:cubicBezTo>
                    <a:pt x="579351" y="9932"/>
                    <a:pt x="743556" y="174136"/>
                    <a:pt x="743556" y="376744"/>
                  </a:cubicBezTo>
                  <a:close/>
                </a:path>
              </a:pathLst>
            </a:custGeom>
            <a:solidFill>
              <a:srgbClr val="787b7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86" name="任意多边形: 形状 62"/>
            <p:cNvSpPr/>
            <p:nvPr/>
          </p:nvSpPr>
          <p:spPr>
            <a:xfrm>
              <a:off x="5449320" y="1499040"/>
              <a:ext cx="728280" cy="728280"/>
            </a:xfrm>
            <a:custGeom>
              <a:avLst/>
              <a:gdLst>
                <a:gd name="textAreaLeft" fmla="*/ 0 w 728280"/>
                <a:gd name="textAreaRight" fmla="*/ 728640 w 728280"/>
                <a:gd name="textAreaTop" fmla="*/ 0 h 728280"/>
                <a:gd name="textAreaBottom" fmla="*/ 728640 h 728280"/>
              </a:gdLst>
              <a:ahLst/>
              <a:rect l="textAreaLeft" t="textAreaTop" r="textAreaRight" b="textAreaBottom"/>
              <a:pathLst>
                <a:path w="728326" h="728326">
                  <a:moveTo>
                    <a:pt x="727665" y="368798"/>
                  </a:moveTo>
                  <a:cubicBezTo>
                    <a:pt x="727665" y="567433"/>
                    <a:pt x="567433" y="727665"/>
                    <a:pt x="368798" y="727665"/>
                  </a:cubicBezTo>
                  <a:cubicBezTo>
                    <a:pt x="170164" y="727665"/>
                    <a:pt x="9932" y="567433"/>
                    <a:pt x="9932" y="368798"/>
                  </a:cubicBezTo>
                  <a:cubicBezTo>
                    <a:pt x="9932" y="170164"/>
                    <a:pt x="170164" y="9932"/>
                    <a:pt x="368798" y="9932"/>
                  </a:cubicBezTo>
                  <a:cubicBezTo>
                    <a:pt x="567433" y="9932"/>
                    <a:pt x="727665" y="171488"/>
                    <a:pt x="727665" y="368798"/>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87" name="任意多边形: 形状 63"/>
            <p:cNvSpPr/>
            <p:nvPr/>
          </p:nvSpPr>
          <p:spPr>
            <a:xfrm>
              <a:off x="5811840" y="1641600"/>
              <a:ext cx="185400" cy="225000"/>
            </a:xfrm>
            <a:custGeom>
              <a:avLst/>
              <a:gdLst>
                <a:gd name="textAreaLeft" fmla="*/ 0 w 185400"/>
                <a:gd name="textAreaRight" fmla="*/ 185760 w 185400"/>
                <a:gd name="textAreaTop" fmla="*/ 0 h 225000"/>
                <a:gd name="textAreaBottom" fmla="*/ 225360 h 225000"/>
              </a:gdLst>
              <a:ahLst/>
              <a:rect l="textAreaLeft" t="textAreaTop" r="textAreaRight" b="textAreaBottom"/>
              <a:pathLst>
                <a:path w="185392" h="225119">
                  <a:moveTo>
                    <a:pt x="7799" y="7799"/>
                  </a:moveTo>
                  <a:lnTo>
                    <a:pt x="7799" y="226298"/>
                  </a:lnTo>
                  <a:lnTo>
                    <a:pt x="185246" y="226298"/>
                  </a:lnTo>
                </a:path>
              </a:pathLst>
            </a:custGeom>
            <a:noFill/>
            <a:ln cap="rnd" w="7560">
              <a:solidFill>
                <a:srgbClr val="1b526d"/>
              </a:solidFill>
              <a:round/>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88" name="任意多边形: 形状 64"/>
            <p:cNvSpPr/>
            <p:nvPr/>
          </p:nvSpPr>
          <p:spPr>
            <a:xfrm>
              <a:off x="5797800" y="1520280"/>
              <a:ext cx="39600" cy="79200"/>
            </a:xfrm>
            <a:custGeom>
              <a:avLst/>
              <a:gdLst>
                <a:gd name="textAreaLeft" fmla="*/ 0 w 39600"/>
                <a:gd name="textAreaRight" fmla="*/ 39960 w 39600"/>
                <a:gd name="textAreaTop" fmla="*/ 0 h 79200"/>
                <a:gd name="textAreaBottom" fmla="*/ 79560 h 79200"/>
              </a:gdLst>
              <a:ahLst/>
              <a:rect l="textAreaLeft" t="textAreaTop" r="textAreaRight" b="textAreaBottom"/>
              <a:pathLst>
                <a:path w="39726" h="79453">
                  <a:moveTo>
                    <a:pt x="33768" y="66874"/>
                  </a:moveTo>
                  <a:cubicBezTo>
                    <a:pt x="33768" y="72171"/>
                    <a:pt x="29795" y="77468"/>
                    <a:pt x="25822" y="77468"/>
                  </a:cubicBezTo>
                  <a:lnTo>
                    <a:pt x="17877" y="77468"/>
                  </a:lnTo>
                  <a:cubicBezTo>
                    <a:pt x="12580" y="77468"/>
                    <a:pt x="9932" y="72171"/>
                    <a:pt x="9932" y="66874"/>
                  </a:cubicBezTo>
                  <a:lnTo>
                    <a:pt x="9932" y="20526"/>
                  </a:lnTo>
                  <a:cubicBezTo>
                    <a:pt x="9932" y="15229"/>
                    <a:pt x="13904" y="9932"/>
                    <a:pt x="17877" y="9932"/>
                  </a:cubicBezTo>
                  <a:lnTo>
                    <a:pt x="25822" y="9932"/>
                  </a:lnTo>
                  <a:cubicBezTo>
                    <a:pt x="31120" y="9932"/>
                    <a:pt x="33768" y="15229"/>
                    <a:pt x="33768" y="20526"/>
                  </a:cubicBezTo>
                  <a:lnTo>
                    <a:pt x="33768" y="66874"/>
                  </a:lnTo>
                  <a:close/>
                </a:path>
              </a:pathLst>
            </a:custGeom>
            <a:solidFill>
              <a:srgbClr val="b3b3b3"/>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489" name="任意多边形: 形状 65"/>
            <p:cNvSpPr/>
            <p:nvPr/>
          </p:nvSpPr>
          <p:spPr>
            <a:xfrm>
              <a:off x="5797800" y="2118960"/>
              <a:ext cx="39600" cy="79200"/>
            </a:xfrm>
            <a:custGeom>
              <a:avLst/>
              <a:gdLst>
                <a:gd name="textAreaLeft" fmla="*/ 0 w 39600"/>
                <a:gd name="textAreaRight" fmla="*/ 39960 w 39600"/>
                <a:gd name="textAreaTop" fmla="*/ 0 h 79200"/>
                <a:gd name="textAreaBottom" fmla="*/ 79560 h 79200"/>
              </a:gdLst>
              <a:ahLst/>
              <a:rect l="textAreaLeft" t="textAreaTop" r="textAreaRight" b="textAreaBottom"/>
              <a:pathLst>
                <a:path w="39726" h="79453">
                  <a:moveTo>
                    <a:pt x="33768" y="66874"/>
                  </a:moveTo>
                  <a:cubicBezTo>
                    <a:pt x="33768" y="72171"/>
                    <a:pt x="29795" y="77467"/>
                    <a:pt x="25822" y="77467"/>
                  </a:cubicBezTo>
                  <a:lnTo>
                    <a:pt x="17877" y="77467"/>
                  </a:lnTo>
                  <a:cubicBezTo>
                    <a:pt x="12580" y="77467"/>
                    <a:pt x="9932" y="72171"/>
                    <a:pt x="9932" y="66874"/>
                  </a:cubicBezTo>
                  <a:lnTo>
                    <a:pt x="9932" y="20526"/>
                  </a:lnTo>
                  <a:cubicBezTo>
                    <a:pt x="9932" y="15229"/>
                    <a:pt x="13904" y="9932"/>
                    <a:pt x="17877" y="9932"/>
                  </a:cubicBezTo>
                  <a:lnTo>
                    <a:pt x="25822" y="9932"/>
                  </a:lnTo>
                  <a:cubicBezTo>
                    <a:pt x="31120" y="9932"/>
                    <a:pt x="33768" y="15229"/>
                    <a:pt x="33768" y="20526"/>
                  </a:cubicBezTo>
                  <a:lnTo>
                    <a:pt x="33768" y="66874"/>
                  </a:lnTo>
                  <a:close/>
                </a:path>
              </a:pathLst>
            </a:custGeom>
            <a:solidFill>
              <a:srgbClr val="b3b3b3"/>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490" name="任意多边形: 形状 66"/>
            <p:cNvSpPr/>
            <p:nvPr/>
          </p:nvSpPr>
          <p:spPr>
            <a:xfrm>
              <a:off x="5475960" y="1841040"/>
              <a:ext cx="79200" cy="39600"/>
            </a:xfrm>
            <a:custGeom>
              <a:avLst/>
              <a:gdLst>
                <a:gd name="textAreaLeft" fmla="*/ 0 w 79200"/>
                <a:gd name="textAreaRight" fmla="*/ 79560 w 79200"/>
                <a:gd name="textAreaTop" fmla="*/ 0 h 39600"/>
                <a:gd name="textAreaBottom" fmla="*/ 39960 h 39600"/>
              </a:gdLst>
              <a:ahLst/>
              <a:rect l="textAreaLeft" t="textAreaTop" r="textAreaRight" b="textAreaBottom"/>
              <a:pathLst>
                <a:path w="79453" h="39726">
                  <a:moveTo>
                    <a:pt x="66874" y="9932"/>
                  </a:moveTo>
                  <a:cubicBezTo>
                    <a:pt x="72171" y="9932"/>
                    <a:pt x="77468" y="13904"/>
                    <a:pt x="77468" y="17877"/>
                  </a:cubicBezTo>
                  <a:lnTo>
                    <a:pt x="77468" y="25823"/>
                  </a:lnTo>
                  <a:cubicBezTo>
                    <a:pt x="77468" y="31119"/>
                    <a:pt x="72171" y="33768"/>
                    <a:pt x="66874" y="33768"/>
                  </a:cubicBezTo>
                  <a:lnTo>
                    <a:pt x="20526" y="33768"/>
                  </a:lnTo>
                  <a:cubicBezTo>
                    <a:pt x="15229" y="33768"/>
                    <a:pt x="9932" y="29795"/>
                    <a:pt x="9932" y="25823"/>
                  </a:cubicBezTo>
                  <a:lnTo>
                    <a:pt x="9932" y="17877"/>
                  </a:lnTo>
                  <a:cubicBezTo>
                    <a:pt x="9932" y="12580"/>
                    <a:pt x="13905" y="9932"/>
                    <a:pt x="20526" y="9932"/>
                  </a:cubicBezTo>
                  <a:lnTo>
                    <a:pt x="66874" y="9932"/>
                  </a:lnTo>
                  <a:close/>
                </a:path>
              </a:pathLst>
            </a:custGeom>
            <a:solidFill>
              <a:srgbClr val="b3b3b3"/>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491" name="任意多边形: 形状 67"/>
            <p:cNvSpPr/>
            <p:nvPr/>
          </p:nvSpPr>
          <p:spPr>
            <a:xfrm>
              <a:off x="6073200" y="1841040"/>
              <a:ext cx="79200" cy="39600"/>
            </a:xfrm>
            <a:custGeom>
              <a:avLst/>
              <a:gdLst>
                <a:gd name="textAreaLeft" fmla="*/ 0 w 79200"/>
                <a:gd name="textAreaRight" fmla="*/ 79560 w 79200"/>
                <a:gd name="textAreaTop" fmla="*/ 0 h 39600"/>
                <a:gd name="textAreaBottom" fmla="*/ 39960 h 39600"/>
              </a:gdLst>
              <a:ahLst/>
              <a:rect l="textAreaLeft" t="textAreaTop" r="textAreaRight" b="textAreaBottom"/>
              <a:pathLst>
                <a:path w="79453" h="39726">
                  <a:moveTo>
                    <a:pt x="66874" y="9932"/>
                  </a:moveTo>
                  <a:cubicBezTo>
                    <a:pt x="72171" y="9932"/>
                    <a:pt x="77468" y="13904"/>
                    <a:pt x="77468" y="17877"/>
                  </a:cubicBezTo>
                  <a:lnTo>
                    <a:pt x="77468" y="25823"/>
                  </a:lnTo>
                  <a:cubicBezTo>
                    <a:pt x="77468" y="31119"/>
                    <a:pt x="72171" y="33768"/>
                    <a:pt x="66874" y="33768"/>
                  </a:cubicBezTo>
                  <a:lnTo>
                    <a:pt x="20526" y="33768"/>
                  </a:lnTo>
                  <a:cubicBezTo>
                    <a:pt x="15229" y="33768"/>
                    <a:pt x="9932" y="29795"/>
                    <a:pt x="9932" y="25823"/>
                  </a:cubicBezTo>
                  <a:lnTo>
                    <a:pt x="9932" y="17877"/>
                  </a:lnTo>
                  <a:cubicBezTo>
                    <a:pt x="9932" y="12580"/>
                    <a:pt x="15229" y="9932"/>
                    <a:pt x="20526" y="9932"/>
                  </a:cubicBezTo>
                  <a:lnTo>
                    <a:pt x="66874" y="9932"/>
                  </a:lnTo>
                  <a:close/>
                </a:path>
              </a:pathLst>
            </a:custGeom>
            <a:solidFill>
              <a:srgbClr val="b3b3b3"/>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492" name="任意多边形: 形状 68"/>
            <p:cNvSpPr/>
            <p:nvPr/>
          </p:nvSpPr>
          <p:spPr>
            <a:xfrm>
              <a:off x="5779080" y="182916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68198" y="39065"/>
                  </a:moveTo>
                  <a:cubicBezTo>
                    <a:pt x="68198" y="54956"/>
                    <a:pt x="54955" y="68198"/>
                    <a:pt x="39065" y="68198"/>
                  </a:cubicBezTo>
                  <a:cubicBezTo>
                    <a:pt x="23174" y="68198"/>
                    <a:pt x="9932" y="54956"/>
                    <a:pt x="9932" y="39065"/>
                  </a:cubicBezTo>
                  <a:cubicBezTo>
                    <a:pt x="9932" y="23174"/>
                    <a:pt x="23174" y="9932"/>
                    <a:pt x="39065" y="9932"/>
                  </a:cubicBezTo>
                  <a:cubicBezTo>
                    <a:pt x="54955" y="9932"/>
                    <a:pt x="68198" y="23174"/>
                    <a:pt x="68198" y="39065"/>
                  </a:cubicBezTo>
                  <a:close/>
                </a:path>
              </a:pathLst>
            </a:custGeom>
            <a:solidFill>
              <a:srgbClr val="b3b3b3"/>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493" name="任意多边形: 形状 69"/>
            <p:cNvSpPr/>
            <p:nvPr/>
          </p:nvSpPr>
          <p:spPr>
            <a:xfrm>
              <a:off x="1485720" y="3686040"/>
              <a:ext cx="3641760" cy="158760"/>
            </a:xfrm>
            <a:custGeom>
              <a:avLst/>
              <a:gdLst>
                <a:gd name="textAreaLeft" fmla="*/ 0 w 3641760"/>
                <a:gd name="textAreaRight" fmla="*/ 3642120 w 3641760"/>
                <a:gd name="textAreaTop" fmla="*/ 0 h 158760"/>
                <a:gd name="textAreaBottom" fmla="*/ 159120 h 158760"/>
              </a:gdLst>
              <a:ahLst/>
              <a:rect l="textAreaLeft" t="textAreaTop" r="textAreaRight" b="textAreaBottom"/>
              <a:pathLst>
                <a:path w="3641634" h="158907">
                  <a:moveTo>
                    <a:pt x="9932" y="9932"/>
                  </a:moveTo>
                  <a:lnTo>
                    <a:pt x="3638324" y="9932"/>
                  </a:lnTo>
                  <a:lnTo>
                    <a:pt x="3638324" y="155597"/>
                  </a:lnTo>
                  <a:lnTo>
                    <a:pt x="9932" y="155597"/>
                  </a:lnTo>
                  <a:lnTo>
                    <a:pt x="9932" y="9932"/>
                  </a:lnTo>
                  <a:close/>
                </a:path>
              </a:pathLst>
            </a:custGeom>
            <a:solidFill>
              <a:srgbClr val="6e7c84">
                <a:alpha val="3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94" name="任意多边形: 形状 70"/>
            <p:cNvSpPr/>
            <p:nvPr/>
          </p:nvSpPr>
          <p:spPr>
            <a:xfrm>
              <a:off x="1484280" y="1474200"/>
              <a:ext cx="3641760" cy="2331000"/>
            </a:xfrm>
            <a:custGeom>
              <a:avLst/>
              <a:gdLst>
                <a:gd name="textAreaLeft" fmla="*/ 0 w 3641760"/>
                <a:gd name="textAreaRight" fmla="*/ 3642120 w 3641760"/>
                <a:gd name="textAreaTop" fmla="*/ 0 h 2331000"/>
                <a:gd name="textAreaBottom" fmla="*/ 2331360 h 2331000"/>
              </a:gdLst>
              <a:ahLst/>
              <a:rect l="textAreaLeft" t="textAreaTop" r="textAreaRight" b="textAreaBottom"/>
              <a:pathLst>
                <a:path w="3641634" h="2330646">
                  <a:moveTo>
                    <a:pt x="9932" y="9932"/>
                  </a:moveTo>
                  <a:lnTo>
                    <a:pt x="3639648" y="9932"/>
                  </a:lnTo>
                  <a:lnTo>
                    <a:pt x="3639648" y="2329984"/>
                  </a:lnTo>
                  <a:lnTo>
                    <a:pt x="9932" y="2329984"/>
                  </a:lnTo>
                  <a:lnTo>
                    <a:pt x="9932" y="99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95" name="任意多边形: 形状 71"/>
            <p:cNvSpPr/>
            <p:nvPr/>
          </p:nvSpPr>
          <p:spPr>
            <a:xfrm>
              <a:off x="1435320" y="1456920"/>
              <a:ext cx="3747960" cy="132120"/>
            </a:xfrm>
            <a:custGeom>
              <a:avLst/>
              <a:gdLst>
                <a:gd name="textAreaLeft" fmla="*/ 0 w 3747960"/>
                <a:gd name="textAreaRight" fmla="*/ 3748320 w 3747960"/>
                <a:gd name="textAreaTop" fmla="*/ 0 h 132120"/>
                <a:gd name="textAreaBottom" fmla="*/ 132480 h 132120"/>
              </a:gdLst>
              <a:ahLst/>
              <a:rect l="textAreaLeft" t="textAreaTop" r="textAreaRight" b="textAreaBottom"/>
              <a:pathLst>
                <a:path w="3747573" h="132423">
                  <a:moveTo>
                    <a:pt x="9932" y="9932"/>
                  </a:moveTo>
                  <a:lnTo>
                    <a:pt x="3740290" y="9932"/>
                  </a:lnTo>
                  <a:lnTo>
                    <a:pt x="3740290" y="130437"/>
                  </a:lnTo>
                  <a:lnTo>
                    <a:pt x="9932" y="130437"/>
                  </a:lnTo>
                  <a:lnTo>
                    <a:pt x="9932" y="9932"/>
                  </a:lnTo>
                  <a:close/>
                </a:path>
              </a:pathLst>
            </a:custGeom>
            <a:solidFill>
              <a:srgbClr val="9395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96" name="任意多边形: 形状 72"/>
            <p:cNvSpPr/>
            <p:nvPr/>
          </p:nvSpPr>
          <p:spPr>
            <a:xfrm>
              <a:off x="2135880" y="2701800"/>
              <a:ext cx="185400" cy="688680"/>
            </a:xfrm>
            <a:custGeom>
              <a:avLst/>
              <a:gdLst>
                <a:gd name="textAreaLeft" fmla="*/ 0 w 185400"/>
                <a:gd name="textAreaRight" fmla="*/ 185760 w 185400"/>
                <a:gd name="textAreaTop" fmla="*/ 0 h 688680"/>
                <a:gd name="textAreaBottom" fmla="*/ 689040 h 688680"/>
              </a:gdLst>
              <a:ahLst/>
              <a:rect l="textAreaLeft" t="textAreaTop" r="textAreaRight" b="textAreaBottom"/>
              <a:pathLst>
                <a:path w="185392" h="688600">
                  <a:moveTo>
                    <a:pt x="9932" y="9932"/>
                  </a:moveTo>
                  <a:lnTo>
                    <a:pt x="175461" y="9932"/>
                  </a:lnTo>
                  <a:lnTo>
                    <a:pt x="175461" y="678668"/>
                  </a:lnTo>
                  <a:lnTo>
                    <a:pt x="9932" y="678668"/>
                  </a:lnTo>
                  <a:lnTo>
                    <a:pt x="9932" y="9932"/>
                  </a:lnTo>
                  <a:close/>
                </a:path>
              </a:pathLst>
            </a:custGeom>
            <a:solidFill>
              <a:srgbClr val="006dc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97" name="任意多边形: 形状 73"/>
            <p:cNvSpPr/>
            <p:nvPr/>
          </p:nvSpPr>
          <p:spPr>
            <a:xfrm>
              <a:off x="2449800" y="2754720"/>
              <a:ext cx="185400" cy="635400"/>
            </a:xfrm>
            <a:custGeom>
              <a:avLst/>
              <a:gdLst>
                <a:gd name="textAreaLeft" fmla="*/ 0 w 185400"/>
                <a:gd name="textAreaRight" fmla="*/ 185760 w 185400"/>
                <a:gd name="textAreaTop" fmla="*/ 0 h 635400"/>
                <a:gd name="textAreaBottom" fmla="*/ 635760 h 635400"/>
              </a:gdLst>
              <a:ahLst/>
              <a:rect l="textAreaLeft" t="textAreaTop" r="textAreaRight" b="textAreaBottom"/>
              <a:pathLst>
                <a:path w="185392" h="635630">
                  <a:moveTo>
                    <a:pt x="9932" y="9932"/>
                  </a:moveTo>
                  <a:lnTo>
                    <a:pt x="175461" y="9932"/>
                  </a:lnTo>
                  <a:lnTo>
                    <a:pt x="175461" y="627023"/>
                  </a:lnTo>
                  <a:lnTo>
                    <a:pt x="9932" y="627023"/>
                  </a:lnTo>
                  <a:lnTo>
                    <a:pt x="9932" y="9932"/>
                  </a:lnTo>
                  <a:close/>
                </a:path>
              </a:pathLst>
            </a:custGeom>
            <a:solidFill>
              <a:srgbClr val="f4bb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98" name="任意多边形: 形状 74"/>
            <p:cNvSpPr/>
            <p:nvPr/>
          </p:nvSpPr>
          <p:spPr>
            <a:xfrm>
              <a:off x="2747880" y="2533680"/>
              <a:ext cx="185400" cy="847440"/>
            </a:xfrm>
            <a:custGeom>
              <a:avLst/>
              <a:gdLst>
                <a:gd name="textAreaLeft" fmla="*/ 0 w 185400"/>
                <a:gd name="textAreaRight" fmla="*/ 185760 w 185400"/>
                <a:gd name="textAreaTop" fmla="*/ 0 h 847440"/>
                <a:gd name="textAreaBottom" fmla="*/ 847800 h 847440"/>
              </a:gdLst>
              <a:ahLst/>
              <a:rect l="textAreaLeft" t="textAreaTop" r="textAreaRight" b="textAreaBottom"/>
              <a:pathLst>
                <a:path w="185392" h="847507">
                  <a:moveTo>
                    <a:pt x="9932" y="9932"/>
                  </a:moveTo>
                  <a:lnTo>
                    <a:pt x="175461" y="9932"/>
                  </a:lnTo>
                  <a:lnTo>
                    <a:pt x="175461" y="848170"/>
                  </a:lnTo>
                  <a:lnTo>
                    <a:pt x="9932" y="848170"/>
                  </a:lnTo>
                  <a:lnTo>
                    <a:pt x="9932" y="9932"/>
                  </a:lnTo>
                  <a:close/>
                </a:path>
              </a:pathLst>
            </a:custGeom>
            <a:solidFill>
              <a:srgbClr val="94c73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499" name="任意多边形: 形状 75"/>
            <p:cNvSpPr/>
            <p:nvPr/>
          </p:nvSpPr>
          <p:spPr>
            <a:xfrm>
              <a:off x="3069720" y="2468880"/>
              <a:ext cx="185400" cy="913680"/>
            </a:xfrm>
            <a:custGeom>
              <a:avLst/>
              <a:gdLst>
                <a:gd name="textAreaLeft" fmla="*/ 0 w 185400"/>
                <a:gd name="textAreaRight" fmla="*/ 185760 w 185400"/>
                <a:gd name="textAreaTop" fmla="*/ 0 h 913680"/>
                <a:gd name="textAreaBottom" fmla="*/ 914040 h 913680"/>
              </a:gdLst>
              <a:ahLst/>
              <a:rect l="textAreaLeft" t="textAreaTop" r="textAreaRight" b="textAreaBottom"/>
              <a:pathLst>
                <a:path w="185392" h="913719">
                  <a:moveTo>
                    <a:pt x="9932" y="9932"/>
                  </a:moveTo>
                  <a:lnTo>
                    <a:pt x="175461" y="9932"/>
                  </a:lnTo>
                  <a:lnTo>
                    <a:pt x="175461" y="913057"/>
                  </a:lnTo>
                  <a:lnTo>
                    <a:pt x="9932" y="913057"/>
                  </a:lnTo>
                  <a:lnTo>
                    <a:pt x="9932" y="9932"/>
                  </a:lnTo>
                  <a:close/>
                </a:path>
              </a:pathLst>
            </a:custGeom>
            <a:solidFill>
              <a:srgbClr val="ed622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00" name="任意多边形: 形状 76"/>
            <p:cNvSpPr/>
            <p:nvPr/>
          </p:nvSpPr>
          <p:spPr>
            <a:xfrm>
              <a:off x="3407400" y="2403720"/>
              <a:ext cx="185400" cy="979920"/>
            </a:xfrm>
            <a:custGeom>
              <a:avLst/>
              <a:gdLst>
                <a:gd name="textAreaLeft" fmla="*/ 0 w 185400"/>
                <a:gd name="textAreaRight" fmla="*/ 185760 w 185400"/>
                <a:gd name="textAreaTop" fmla="*/ 0 h 979920"/>
                <a:gd name="textAreaBottom" fmla="*/ 980280 h 979920"/>
              </a:gdLst>
              <a:ahLst/>
              <a:rect l="textAreaLeft" t="textAreaTop" r="textAreaRight" b="textAreaBottom"/>
              <a:pathLst>
                <a:path w="185392" h="979930">
                  <a:moveTo>
                    <a:pt x="9932" y="9932"/>
                  </a:moveTo>
                  <a:lnTo>
                    <a:pt x="175461" y="9932"/>
                  </a:lnTo>
                  <a:lnTo>
                    <a:pt x="175461" y="977945"/>
                  </a:lnTo>
                  <a:lnTo>
                    <a:pt x="9932" y="977945"/>
                  </a:lnTo>
                  <a:lnTo>
                    <a:pt x="9932" y="9932"/>
                  </a:lnTo>
                  <a:close/>
                </a:path>
              </a:pathLst>
            </a:custGeom>
            <a:solidFill>
              <a:srgbClr val="00b0c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01" name="任意多边形: 形状 77"/>
            <p:cNvSpPr/>
            <p:nvPr/>
          </p:nvSpPr>
          <p:spPr>
            <a:xfrm>
              <a:off x="1659240" y="3402360"/>
              <a:ext cx="1999800" cy="26280"/>
            </a:xfrm>
            <a:custGeom>
              <a:avLst/>
              <a:gdLst>
                <a:gd name="textAreaLeft" fmla="*/ 0 w 1999800"/>
                <a:gd name="textAreaRight" fmla="*/ 2000160 w 1999800"/>
                <a:gd name="textAreaTop" fmla="*/ 0 h 26280"/>
                <a:gd name="textAreaBottom" fmla="*/ 26640 h 26280"/>
              </a:gdLst>
              <a:ahLst/>
              <a:rect l="textAreaLeft" t="textAreaTop" r="textAreaRight" b="textAreaBottom"/>
              <a:pathLst>
                <a:path w="1999588" h="26484">
                  <a:moveTo>
                    <a:pt x="9932" y="9932"/>
                  </a:moveTo>
                  <a:lnTo>
                    <a:pt x="1996278" y="9932"/>
                  </a:lnTo>
                  <a:lnTo>
                    <a:pt x="1996278" y="25823"/>
                  </a:lnTo>
                  <a:lnTo>
                    <a:pt x="9932" y="25823"/>
                  </a:lnTo>
                  <a:lnTo>
                    <a:pt x="9932" y="9932"/>
                  </a:lnTo>
                  <a:close/>
                </a:path>
              </a:pathLst>
            </a:custGeom>
            <a:solidFill>
              <a:srgbClr val="231f20"/>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502" name="任意多边形: 形状 78"/>
            <p:cNvSpPr/>
            <p:nvPr/>
          </p:nvSpPr>
          <p:spPr>
            <a:xfrm>
              <a:off x="3607200" y="2303280"/>
              <a:ext cx="26280" cy="1125720"/>
            </a:xfrm>
            <a:custGeom>
              <a:avLst/>
              <a:gdLst>
                <a:gd name="textAreaLeft" fmla="*/ 0 w 26280"/>
                <a:gd name="textAreaRight" fmla="*/ 26640 w 26280"/>
                <a:gd name="textAreaTop" fmla="*/ 0 h 1125720"/>
                <a:gd name="textAreaBottom" fmla="*/ 1126080 h 1125720"/>
              </a:gdLst>
              <a:ahLst/>
              <a:rect l="textAreaLeft" t="textAreaTop" r="textAreaRight" b="textAreaBottom"/>
              <a:pathLst>
                <a:path w="26484" h="1125596">
                  <a:moveTo>
                    <a:pt x="9932" y="9932"/>
                  </a:moveTo>
                  <a:lnTo>
                    <a:pt x="28471" y="9932"/>
                  </a:lnTo>
                  <a:lnTo>
                    <a:pt x="28471" y="1124934"/>
                  </a:lnTo>
                  <a:lnTo>
                    <a:pt x="9932" y="1124934"/>
                  </a:lnTo>
                  <a:lnTo>
                    <a:pt x="9932" y="9932"/>
                  </a:lnTo>
                  <a:close/>
                </a:path>
              </a:pathLst>
            </a:custGeom>
            <a:solidFill>
              <a:srgbClr val="231f2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03" name="任意多边形: 形状 79"/>
            <p:cNvSpPr/>
            <p:nvPr/>
          </p:nvSpPr>
          <p:spPr>
            <a:xfrm>
              <a:off x="1758240" y="2117520"/>
              <a:ext cx="1761120" cy="794520"/>
            </a:xfrm>
            <a:custGeom>
              <a:avLst/>
              <a:gdLst>
                <a:gd name="textAreaLeft" fmla="*/ 0 w 1761120"/>
                <a:gd name="textAreaRight" fmla="*/ 1761480 w 1761120"/>
                <a:gd name="textAreaTop" fmla="*/ 0 h 794520"/>
                <a:gd name="textAreaBottom" fmla="*/ 794880 h 794520"/>
              </a:gdLst>
              <a:ahLst/>
              <a:rect l="textAreaLeft" t="textAreaTop" r="textAreaRight" b="textAreaBottom"/>
              <a:pathLst>
                <a:path w="1761226" h="794538">
                  <a:moveTo>
                    <a:pt x="6096" y="799310"/>
                  </a:moveTo>
                  <a:lnTo>
                    <a:pt x="470901" y="441768"/>
                  </a:lnTo>
                  <a:lnTo>
                    <a:pt x="783420" y="594055"/>
                  </a:lnTo>
                  <a:lnTo>
                    <a:pt x="1090641" y="247106"/>
                  </a:lnTo>
                  <a:lnTo>
                    <a:pt x="1413754" y="276239"/>
                  </a:lnTo>
                  <a:lnTo>
                    <a:pt x="1760702" y="6096"/>
                  </a:lnTo>
                </a:path>
              </a:pathLst>
            </a:custGeom>
            <a:noFill/>
            <a:ln w="5760">
              <a:solidFill>
                <a:srgbClr val="231f20"/>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04" name="任意多边形: 形状 80"/>
            <p:cNvSpPr/>
            <p:nvPr/>
          </p:nvSpPr>
          <p:spPr>
            <a:xfrm>
              <a:off x="1730520" y="288324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7932" y="-31667"/>
                  </a:moveTo>
                  <a:cubicBezTo>
                    <a:pt x="-7932" y="-18425"/>
                    <a:pt x="-18526" y="-7831"/>
                    <a:pt x="-31768" y="-7831"/>
                  </a:cubicBezTo>
                  <a:cubicBezTo>
                    <a:pt x="20526" y="-7831"/>
                    <a:pt x="9932" y="-18425"/>
                    <a:pt x="9932" y="-31667"/>
                  </a:cubicBezTo>
                  <a:cubicBezTo>
                    <a:pt x="9932" y="20626"/>
                    <a:pt x="20526" y="10033"/>
                    <a:pt x="-31768" y="10033"/>
                  </a:cubicBezTo>
                  <a:cubicBezTo>
                    <a:pt x="-18526" y="8708"/>
                    <a:pt x="-7932" y="20626"/>
                    <a:pt x="-7932" y="-31667"/>
                  </a:cubicBezTo>
                  <a:close/>
                </a:path>
              </a:pathLst>
            </a:custGeom>
            <a:solidFill>
              <a:srgbClr val="231f20"/>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05" name="任意多边形: 形状 81"/>
            <p:cNvSpPr/>
            <p:nvPr/>
          </p:nvSpPr>
          <p:spPr>
            <a:xfrm>
              <a:off x="3129120" y="235728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7932" y="-31667"/>
                  </a:moveTo>
                  <a:cubicBezTo>
                    <a:pt x="-7932" y="-18425"/>
                    <a:pt x="-18526" y="-7831"/>
                    <a:pt x="-31768" y="-7831"/>
                  </a:cubicBezTo>
                  <a:cubicBezTo>
                    <a:pt x="20525" y="-7831"/>
                    <a:pt x="9932" y="-18425"/>
                    <a:pt x="9932" y="-31667"/>
                  </a:cubicBezTo>
                  <a:cubicBezTo>
                    <a:pt x="9932" y="20626"/>
                    <a:pt x="20525" y="10033"/>
                    <a:pt x="-31768" y="10033"/>
                  </a:cubicBezTo>
                  <a:cubicBezTo>
                    <a:pt x="-18526" y="8708"/>
                    <a:pt x="-7932" y="20626"/>
                    <a:pt x="-7932" y="-31667"/>
                  </a:cubicBezTo>
                  <a:close/>
                </a:path>
              </a:pathLst>
            </a:custGeom>
            <a:solidFill>
              <a:srgbClr val="231f20"/>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06" name="任意多边形: 形状 82"/>
            <p:cNvSpPr/>
            <p:nvPr/>
          </p:nvSpPr>
          <p:spPr>
            <a:xfrm>
              <a:off x="3485520" y="208980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7932" y="-31667"/>
                  </a:moveTo>
                  <a:cubicBezTo>
                    <a:pt x="-7932" y="-18425"/>
                    <a:pt x="-18526" y="-7831"/>
                    <a:pt x="-31768" y="-7831"/>
                  </a:cubicBezTo>
                  <a:cubicBezTo>
                    <a:pt x="20525" y="-7831"/>
                    <a:pt x="9932" y="-18425"/>
                    <a:pt x="9932" y="-31667"/>
                  </a:cubicBezTo>
                  <a:cubicBezTo>
                    <a:pt x="9932" y="20626"/>
                    <a:pt x="20525" y="10033"/>
                    <a:pt x="-31768" y="10033"/>
                  </a:cubicBezTo>
                  <a:cubicBezTo>
                    <a:pt x="-18526" y="8708"/>
                    <a:pt x="-7932" y="20626"/>
                    <a:pt x="-7932" y="-31667"/>
                  </a:cubicBezTo>
                  <a:close/>
                </a:path>
              </a:pathLst>
            </a:custGeom>
            <a:solidFill>
              <a:srgbClr val="231f20"/>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07" name="任意多边形: 形状 83"/>
            <p:cNvSpPr/>
            <p:nvPr/>
          </p:nvSpPr>
          <p:spPr>
            <a:xfrm>
              <a:off x="2815200" y="233244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7932" y="-31768"/>
                  </a:moveTo>
                  <a:cubicBezTo>
                    <a:pt x="-7932" y="-18526"/>
                    <a:pt x="-18526" y="-7932"/>
                    <a:pt x="-31768" y="-7932"/>
                  </a:cubicBezTo>
                  <a:cubicBezTo>
                    <a:pt x="20526" y="-7932"/>
                    <a:pt x="9932" y="-18526"/>
                    <a:pt x="9932" y="-31768"/>
                  </a:cubicBezTo>
                  <a:cubicBezTo>
                    <a:pt x="9932" y="20526"/>
                    <a:pt x="20526" y="9932"/>
                    <a:pt x="-31768" y="9932"/>
                  </a:cubicBezTo>
                  <a:cubicBezTo>
                    <a:pt x="-19850" y="9932"/>
                    <a:pt x="-7932" y="20526"/>
                    <a:pt x="-7932" y="-31768"/>
                  </a:cubicBezTo>
                  <a:close/>
                </a:path>
              </a:pathLst>
            </a:custGeom>
            <a:solidFill>
              <a:srgbClr val="231f20"/>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08" name="任意多边形: 形状 84"/>
            <p:cNvSpPr/>
            <p:nvPr/>
          </p:nvSpPr>
          <p:spPr>
            <a:xfrm>
              <a:off x="2508120" y="267408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7932" y="-31667"/>
                  </a:moveTo>
                  <a:cubicBezTo>
                    <a:pt x="-7932" y="-18425"/>
                    <a:pt x="-18526" y="-7831"/>
                    <a:pt x="-31768" y="-7831"/>
                  </a:cubicBezTo>
                  <a:cubicBezTo>
                    <a:pt x="20526" y="-7831"/>
                    <a:pt x="9932" y="-18425"/>
                    <a:pt x="9932" y="-31667"/>
                  </a:cubicBezTo>
                  <a:cubicBezTo>
                    <a:pt x="9932" y="20626"/>
                    <a:pt x="20526" y="10033"/>
                    <a:pt x="-31768" y="10033"/>
                  </a:cubicBezTo>
                  <a:cubicBezTo>
                    <a:pt x="-18526" y="8708"/>
                    <a:pt x="-7932" y="20626"/>
                    <a:pt x="-7932" y="-31667"/>
                  </a:cubicBezTo>
                  <a:close/>
                </a:path>
              </a:pathLst>
            </a:custGeom>
            <a:solidFill>
              <a:srgbClr val="231f20"/>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09" name="任意多边形: 形状 85"/>
            <p:cNvSpPr/>
            <p:nvPr/>
          </p:nvSpPr>
          <p:spPr>
            <a:xfrm>
              <a:off x="2200680" y="253620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6608" y="-31768"/>
                  </a:moveTo>
                  <a:cubicBezTo>
                    <a:pt x="-6608" y="-18526"/>
                    <a:pt x="-17202" y="-7932"/>
                    <a:pt x="-31768" y="-7932"/>
                  </a:cubicBezTo>
                  <a:cubicBezTo>
                    <a:pt x="20526" y="-7932"/>
                    <a:pt x="9932" y="-18526"/>
                    <a:pt x="9932" y="-31768"/>
                  </a:cubicBezTo>
                  <a:cubicBezTo>
                    <a:pt x="9932" y="20526"/>
                    <a:pt x="20526" y="9932"/>
                    <a:pt x="-31768" y="9932"/>
                  </a:cubicBezTo>
                  <a:cubicBezTo>
                    <a:pt x="-17202" y="9932"/>
                    <a:pt x="-6608" y="20526"/>
                    <a:pt x="-6608" y="-31768"/>
                  </a:cubicBezTo>
                  <a:close/>
                </a:path>
              </a:pathLst>
            </a:custGeom>
            <a:solidFill>
              <a:srgbClr val="231f20"/>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10" name="任意多边形: 形状 86"/>
            <p:cNvSpPr/>
            <p:nvPr/>
          </p:nvSpPr>
          <p:spPr>
            <a:xfrm>
              <a:off x="4220280" y="2556000"/>
              <a:ext cx="423720" cy="450000"/>
            </a:xfrm>
            <a:custGeom>
              <a:avLst/>
              <a:gdLst>
                <a:gd name="textAreaLeft" fmla="*/ 0 w 423720"/>
                <a:gd name="textAreaRight" fmla="*/ 424080 w 423720"/>
                <a:gd name="textAreaTop" fmla="*/ 0 h 450000"/>
                <a:gd name="textAreaBottom" fmla="*/ 450360 h 450000"/>
              </a:gdLst>
              <a:ahLst/>
              <a:rect l="textAreaLeft" t="textAreaTop" r="textAreaRight" b="textAreaBottom"/>
              <a:pathLst>
                <a:path w="423753" h="450238">
                  <a:moveTo>
                    <a:pt x="359529" y="9932"/>
                  </a:moveTo>
                  <a:lnTo>
                    <a:pt x="9932" y="227106"/>
                  </a:lnTo>
                  <a:lnTo>
                    <a:pt x="359529" y="444279"/>
                  </a:lnTo>
                  <a:cubicBezTo>
                    <a:pt x="397931" y="380716"/>
                    <a:pt x="420443" y="306559"/>
                    <a:pt x="420443" y="225781"/>
                  </a:cubicBezTo>
                  <a:cubicBezTo>
                    <a:pt x="420443" y="148976"/>
                    <a:pt x="397931" y="73495"/>
                    <a:pt x="359529" y="9932"/>
                  </a:cubicBezTo>
                  <a:close/>
                </a:path>
              </a:pathLst>
            </a:custGeom>
            <a:solidFill>
              <a:srgbClr val="006dc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11" name="任意多边形: 形状 87"/>
            <p:cNvSpPr/>
            <p:nvPr/>
          </p:nvSpPr>
          <p:spPr>
            <a:xfrm>
              <a:off x="4220280" y="2389320"/>
              <a:ext cx="357480" cy="397080"/>
            </a:xfrm>
            <a:custGeom>
              <a:avLst/>
              <a:gdLst>
                <a:gd name="textAreaLeft" fmla="*/ 0 w 357480"/>
                <a:gd name="textAreaRight" fmla="*/ 357840 w 357480"/>
                <a:gd name="textAreaTop" fmla="*/ 0 h 397080"/>
                <a:gd name="textAreaBottom" fmla="*/ 397440 h 397080"/>
              </a:gdLst>
              <a:ahLst/>
              <a:rect l="textAreaLeft" t="textAreaTop" r="textAreaRight" b="textAreaBottom"/>
              <a:pathLst>
                <a:path w="357542" h="397269">
                  <a:moveTo>
                    <a:pt x="359529" y="176785"/>
                  </a:moveTo>
                  <a:cubicBezTo>
                    <a:pt x="314505" y="102628"/>
                    <a:pt x="245645" y="44362"/>
                    <a:pt x="164867" y="9932"/>
                  </a:cubicBezTo>
                  <a:lnTo>
                    <a:pt x="9932" y="393959"/>
                  </a:lnTo>
                  <a:lnTo>
                    <a:pt x="359529" y="176785"/>
                  </a:lnTo>
                  <a:close/>
                </a:path>
              </a:pathLst>
            </a:custGeom>
            <a:solidFill>
              <a:srgbClr val="ed622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12" name="任意多边形: 形状 88"/>
            <p:cNvSpPr/>
            <p:nvPr/>
          </p:nvSpPr>
          <p:spPr>
            <a:xfrm>
              <a:off x="4008600" y="2358720"/>
              <a:ext cx="383760" cy="423720"/>
            </a:xfrm>
            <a:custGeom>
              <a:avLst/>
              <a:gdLst>
                <a:gd name="textAreaLeft" fmla="*/ 0 w 383760"/>
                <a:gd name="textAreaRight" fmla="*/ 384120 w 383760"/>
                <a:gd name="textAreaTop" fmla="*/ 0 h 423720"/>
                <a:gd name="textAreaBottom" fmla="*/ 424080 h 423720"/>
              </a:gdLst>
              <a:ahLst/>
              <a:rect l="textAreaLeft" t="textAreaTop" r="textAreaRight" b="textAreaBottom"/>
              <a:pathLst>
                <a:path w="384026" h="423753">
                  <a:moveTo>
                    <a:pt x="376744" y="41713"/>
                  </a:moveTo>
                  <a:cubicBezTo>
                    <a:pt x="327747" y="20526"/>
                    <a:pt x="273454" y="9932"/>
                    <a:pt x="216512" y="9932"/>
                  </a:cubicBezTo>
                  <a:cubicBezTo>
                    <a:pt x="141031" y="9932"/>
                    <a:pt x="70846" y="29795"/>
                    <a:pt x="9932" y="64225"/>
                  </a:cubicBezTo>
                  <a:lnTo>
                    <a:pt x="221809" y="425740"/>
                  </a:lnTo>
                  <a:lnTo>
                    <a:pt x="376744" y="41713"/>
                  </a:lnTo>
                  <a:close/>
                </a:path>
              </a:pathLst>
            </a:custGeom>
            <a:solidFill>
              <a:srgbClr val="f4bb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13" name="任意多边形: 形状 89"/>
            <p:cNvSpPr/>
            <p:nvPr/>
          </p:nvSpPr>
          <p:spPr>
            <a:xfrm>
              <a:off x="3808440" y="2774520"/>
              <a:ext cx="781200" cy="423720"/>
            </a:xfrm>
            <a:custGeom>
              <a:avLst/>
              <a:gdLst>
                <a:gd name="textAreaLeft" fmla="*/ 0 w 781200"/>
                <a:gd name="textAreaRight" fmla="*/ 781560 w 781200"/>
                <a:gd name="textAreaTop" fmla="*/ 0 h 423720"/>
                <a:gd name="textAreaBottom" fmla="*/ 424080 h 423720"/>
              </a:gdLst>
              <a:ahLst/>
              <a:rect l="textAreaLeft" t="textAreaTop" r="textAreaRight" b="textAreaBottom"/>
              <a:pathLst>
                <a:path w="781296" h="423753">
                  <a:moveTo>
                    <a:pt x="421768" y="9932"/>
                  </a:moveTo>
                  <a:lnTo>
                    <a:pt x="9932" y="99979"/>
                  </a:lnTo>
                  <a:cubicBezTo>
                    <a:pt x="50983" y="286696"/>
                    <a:pt x="217836" y="425740"/>
                    <a:pt x="416471" y="425740"/>
                  </a:cubicBezTo>
                  <a:cubicBezTo>
                    <a:pt x="566109" y="425740"/>
                    <a:pt x="697207" y="346286"/>
                    <a:pt x="771364" y="227106"/>
                  </a:cubicBezTo>
                  <a:lnTo>
                    <a:pt x="421768" y="9932"/>
                  </a:lnTo>
                  <a:close/>
                </a:path>
              </a:pathLst>
            </a:custGeom>
            <a:solidFill>
              <a:srgbClr val="e6e6e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14" name="任意多边形: 形状 90"/>
            <p:cNvSpPr/>
            <p:nvPr/>
          </p:nvSpPr>
          <p:spPr>
            <a:xfrm>
              <a:off x="3798000" y="2413080"/>
              <a:ext cx="437040" cy="463320"/>
            </a:xfrm>
            <a:custGeom>
              <a:avLst/>
              <a:gdLst>
                <a:gd name="textAreaLeft" fmla="*/ 0 w 437040"/>
                <a:gd name="textAreaRight" fmla="*/ 437400 w 437040"/>
                <a:gd name="textAreaTop" fmla="*/ 0 h 463320"/>
                <a:gd name="textAreaBottom" fmla="*/ 463680 h 463320"/>
              </a:gdLst>
              <a:ahLst/>
              <a:rect l="textAreaLeft" t="textAreaTop" r="textAreaRight" b="textAreaBottom"/>
              <a:pathLst>
                <a:path w="436996" h="463480">
                  <a:moveTo>
                    <a:pt x="220484" y="9932"/>
                  </a:moveTo>
                  <a:cubicBezTo>
                    <a:pt x="94682" y="81440"/>
                    <a:pt x="9932" y="216512"/>
                    <a:pt x="9932" y="371447"/>
                  </a:cubicBezTo>
                  <a:cubicBezTo>
                    <a:pt x="9932" y="403228"/>
                    <a:pt x="13904" y="432361"/>
                    <a:pt x="20525" y="461494"/>
                  </a:cubicBezTo>
                  <a:lnTo>
                    <a:pt x="432361" y="371447"/>
                  </a:lnTo>
                  <a:lnTo>
                    <a:pt x="220484" y="9932"/>
                  </a:lnTo>
                  <a:close/>
                </a:path>
              </a:pathLst>
            </a:custGeom>
            <a:solidFill>
              <a:srgbClr val="00b0c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15" name="任意多边形: 形状 91"/>
            <p:cNvSpPr/>
            <p:nvPr/>
          </p:nvSpPr>
          <p:spPr>
            <a:xfrm>
              <a:off x="4420800" y="2319480"/>
              <a:ext cx="383760" cy="238320"/>
            </a:xfrm>
            <a:custGeom>
              <a:avLst/>
              <a:gdLst>
                <a:gd name="textAreaLeft" fmla="*/ 0 w 383760"/>
                <a:gd name="textAreaRight" fmla="*/ 384120 w 383760"/>
                <a:gd name="textAreaTop" fmla="*/ 0 h 238320"/>
                <a:gd name="textAreaBottom" fmla="*/ 238680 h 238320"/>
              </a:gdLst>
              <a:ahLst/>
              <a:rect l="textAreaLeft" t="textAreaTop" r="textAreaRight" b="textAreaBottom"/>
              <a:pathLst>
                <a:path w="384026" h="238361">
                  <a:moveTo>
                    <a:pt x="2929" y="246587"/>
                  </a:moveTo>
                  <a:lnTo>
                    <a:pt x="209509" y="2929"/>
                  </a:lnTo>
                  <a:lnTo>
                    <a:pt x="392253" y="2929"/>
                  </a:lnTo>
                </a:path>
              </a:pathLst>
            </a:custGeom>
            <a:noFill/>
            <a:ln w="2880">
              <a:solidFill>
                <a:srgbClr val="3c2415"/>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16" name="任意多边形: 形状 93"/>
            <p:cNvSpPr/>
            <p:nvPr/>
          </p:nvSpPr>
          <p:spPr>
            <a:xfrm>
              <a:off x="4420800" y="3026880"/>
              <a:ext cx="423720" cy="198360"/>
            </a:xfrm>
            <a:custGeom>
              <a:avLst/>
              <a:gdLst>
                <a:gd name="textAreaLeft" fmla="*/ 0 w 423720"/>
                <a:gd name="textAreaRight" fmla="*/ 424080 w 423720"/>
                <a:gd name="textAreaTop" fmla="*/ 0 h 198360"/>
                <a:gd name="textAreaBottom" fmla="*/ 198720 h 198360"/>
              </a:gdLst>
              <a:ahLst/>
              <a:rect l="textAreaLeft" t="textAreaTop" r="textAreaRight" b="textAreaBottom"/>
              <a:pathLst>
                <a:path w="423753" h="198634">
                  <a:moveTo>
                    <a:pt x="2929" y="2929"/>
                  </a:moveTo>
                  <a:lnTo>
                    <a:pt x="239966" y="201563"/>
                  </a:lnTo>
                  <a:lnTo>
                    <a:pt x="429331" y="201563"/>
                  </a:lnTo>
                </a:path>
              </a:pathLst>
            </a:custGeom>
            <a:noFill/>
            <a:ln w="2880">
              <a:solidFill>
                <a:srgbClr val="3c2415"/>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17" name="任意多边形: 形状 94"/>
            <p:cNvSpPr/>
            <p:nvPr/>
          </p:nvSpPr>
          <p:spPr>
            <a:xfrm>
              <a:off x="1643040" y="2864880"/>
              <a:ext cx="3853800" cy="2039400"/>
            </a:xfrm>
            <a:custGeom>
              <a:avLst/>
              <a:gdLst>
                <a:gd name="textAreaLeft" fmla="*/ 0 w 3853800"/>
                <a:gd name="textAreaRight" fmla="*/ 3854160 w 3853800"/>
                <a:gd name="textAreaTop" fmla="*/ 0 h 2039400"/>
                <a:gd name="textAreaBottom" fmla="*/ 2039760 h 2039400"/>
              </a:gdLst>
              <a:ahLst/>
              <a:rect l="textAreaLeft" t="textAreaTop" r="textAreaRight" b="textAreaBottom"/>
              <a:pathLst>
                <a:path w="3853511" h="2039315">
                  <a:moveTo>
                    <a:pt x="9932" y="9932"/>
                  </a:moveTo>
                  <a:lnTo>
                    <a:pt x="3851525" y="9932"/>
                  </a:lnTo>
                  <a:lnTo>
                    <a:pt x="3851525" y="2034681"/>
                  </a:lnTo>
                  <a:lnTo>
                    <a:pt x="9932" y="2034681"/>
                  </a:lnTo>
                  <a:lnTo>
                    <a:pt x="9932" y="9932"/>
                  </a:lnTo>
                  <a:close/>
                </a:path>
              </a:pathLst>
            </a:custGeom>
            <a:no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18" name="任意多边形: 形状 95"/>
            <p:cNvSpPr/>
            <p:nvPr/>
          </p:nvSpPr>
          <p:spPr>
            <a:xfrm>
              <a:off x="5440320" y="4718880"/>
              <a:ext cx="569160" cy="39600"/>
            </a:xfrm>
            <a:custGeom>
              <a:avLst/>
              <a:gdLst>
                <a:gd name="textAreaLeft" fmla="*/ 0 w 569160"/>
                <a:gd name="textAreaRight" fmla="*/ 569520 w 569160"/>
                <a:gd name="textAreaTop" fmla="*/ 0 h 39600"/>
                <a:gd name="textAreaBottom" fmla="*/ 39960 h 39600"/>
              </a:gdLst>
              <a:ahLst/>
              <a:rect l="textAreaLeft" t="textAreaTop" r="textAreaRight" b="textAreaBottom"/>
              <a:pathLst>
                <a:path w="569419" h="39726">
                  <a:moveTo>
                    <a:pt x="568757" y="24498"/>
                  </a:moveTo>
                  <a:cubicBezTo>
                    <a:pt x="568757" y="32444"/>
                    <a:pt x="563460" y="39065"/>
                    <a:pt x="556839" y="39065"/>
                  </a:cubicBezTo>
                  <a:lnTo>
                    <a:pt x="21850" y="39065"/>
                  </a:lnTo>
                  <a:cubicBezTo>
                    <a:pt x="15229" y="39065"/>
                    <a:pt x="9932" y="32444"/>
                    <a:pt x="9932" y="24498"/>
                  </a:cubicBezTo>
                  <a:cubicBezTo>
                    <a:pt x="9932" y="16553"/>
                    <a:pt x="15229" y="9932"/>
                    <a:pt x="21850" y="9932"/>
                  </a:cubicBezTo>
                  <a:lnTo>
                    <a:pt x="556839" y="9932"/>
                  </a:lnTo>
                  <a:cubicBezTo>
                    <a:pt x="563460" y="9932"/>
                    <a:pt x="568757" y="16553"/>
                    <a:pt x="568757" y="24498"/>
                  </a:cubicBezTo>
                  <a:close/>
                </a:path>
              </a:pathLst>
            </a:custGeom>
            <a:solidFill>
              <a:srgbClr val="f1f2f2"/>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519" name="任意多边形: 形状 96"/>
            <p:cNvSpPr/>
            <p:nvPr/>
          </p:nvSpPr>
          <p:spPr>
            <a:xfrm>
              <a:off x="6075720" y="4639320"/>
              <a:ext cx="172080" cy="185400"/>
            </a:xfrm>
            <a:custGeom>
              <a:avLst/>
              <a:gdLst>
                <a:gd name="textAreaLeft" fmla="*/ 0 w 172080"/>
                <a:gd name="textAreaRight" fmla="*/ 172440 w 172080"/>
                <a:gd name="textAreaTop" fmla="*/ 0 h 185400"/>
                <a:gd name="textAreaBottom" fmla="*/ 185760 h 185400"/>
              </a:gdLst>
              <a:ahLst/>
              <a:rect l="textAreaLeft" t="textAreaTop" r="textAreaRight" b="textAreaBottom"/>
              <a:pathLst>
                <a:path w="172150" h="185392">
                  <a:moveTo>
                    <a:pt x="103952" y="163583"/>
                  </a:moveTo>
                  <a:cubicBezTo>
                    <a:pt x="103952" y="163583"/>
                    <a:pt x="162218" y="73535"/>
                    <a:pt x="162218" y="64265"/>
                  </a:cubicBezTo>
                  <a:cubicBezTo>
                    <a:pt x="162218" y="54996"/>
                    <a:pt x="111897" y="702"/>
                    <a:pt x="103952" y="11296"/>
                  </a:cubicBezTo>
                  <a:lnTo>
                    <a:pt x="15229" y="73535"/>
                  </a:lnTo>
                  <a:cubicBezTo>
                    <a:pt x="12580" y="74859"/>
                    <a:pt x="11256" y="77508"/>
                    <a:pt x="9932" y="80156"/>
                  </a:cubicBezTo>
                  <a:lnTo>
                    <a:pt x="9932" y="86777"/>
                  </a:lnTo>
                  <a:lnTo>
                    <a:pt x="86737" y="182122"/>
                  </a:lnTo>
                  <a:lnTo>
                    <a:pt x="103952" y="163583"/>
                  </a:lnTo>
                  <a:close/>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20" name="任意多边形: 形状 97"/>
            <p:cNvSpPr/>
            <p:nvPr/>
          </p:nvSpPr>
          <p:spPr>
            <a:xfrm>
              <a:off x="4791240" y="3475080"/>
              <a:ext cx="767880" cy="701640"/>
            </a:xfrm>
            <a:custGeom>
              <a:avLst/>
              <a:gdLst>
                <a:gd name="textAreaLeft" fmla="*/ 0 w 767880"/>
                <a:gd name="textAreaRight" fmla="*/ 768240 w 767880"/>
                <a:gd name="textAreaTop" fmla="*/ 0 h 701640"/>
                <a:gd name="textAreaBottom" fmla="*/ 702000 h 701640"/>
              </a:gdLst>
              <a:ahLst/>
              <a:rect l="textAreaLeft" t="textAreaTop" r="textAreaRight" b="textAreaBottom"/>
              <a:pathLst>
                <a:path w="768053" h="701842">
                  <a:moveTo>
                    <a:pt x="717071" y="12815"/>
                  </a:moveTo>
                  <a:cubicBezTo>
                    <a:pt x="648211" y="81675"/>
                    <a:pt x="420443" y="361088"/>
                    <a:pt x="323774" y="480269"/>
                  </a:cubicBezTo>
                  <a:cubicBezTo>
                    <a:pt x="240348" y="480269"/>
                    <a:pt x="15229" y="474972"/>
                    <a:pt x="9932" y="493511"/>
                  </a:cubicBezTo>
                  <a:cubicBezTo>
                    <a:pt x="33768" y="553102"/>
                    <a:pt x="72170" y="682876"/>
                    <a:pt x="72170" y="682876"/>
                  </a:cubicBezTo>
                  <a:cubicBezTo>
                    <a:pt x="72170" y="682876"/>
                    <a:pt x="319802" y="718630"/>
                    <a:pt x="420443" y="678903"/>
                  </a:cubicBezTo>
                  <a:cubicBezTo>
                    <a:pt x="522409" y="639177"/>
                    <a:pt x="694559" y="436569"/>
                    <a:pt x="694559" y="436569"/>
                  </a:cubicBezTo>
                  <a:cubicBezTo>
                    <a:pt x="694559" y="436569"/>
                    <a:pt x="850818" y="-30884"/>
                    <a:pt x="717071" y="12815"/>
                  </a:cubicBezTo>
                  <a:close/>
                </a:path>
              </a:pathLst>
            </a:custGeom>
            <a:solidFill>
              <a:srgbClr val="3b3e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21" name="任意多边形: 形状 98"/>
            <p:cNvSpPr/>
            <p:nvPr/>
          </p:nvSpPr>
          <p:spPr>
            <a:xfrm>
              <a:off x="5248080" y="6140160"/>
              <a:ext cx="463320" cy="211680"/>
            </a:xfrm>
            <a:custGeom>
              <a:avLst/>
              <a:gdLst>
                <a:gd name="textAreaLeft" fmla="*/ 0 w 463320"/>
                <a:gd name="textAreaRight" fmla="*/ 463680 w 463320"/>
                <a:gd name="textAreaTop" fmla="*/ 0 h 211680"/>
                <a:gd name="textAreaBottom" fmla="*/ 212040 h 211680"/>
              </a:gdLst>
              <a:ahLst/>
              <a:rect l="textAreaLeft" t="textAreaTop" r="textAreaRight" b="textAreaBottom"/>
              <a:pathLst>
                <a:path w="463480" h="211876">
                  <a:moveTo>
                    <a:pt x="457522" y="43038"/>
                  </a:moveTo>
                  <a:lnTo>
                    <a:pt x="457522" y="148976"/>
                  </a:lnTo>
                  <a:cubicBezTo>
                    <a:pt x="457522" y="148976"/>
                    <a:pt x="411174" y="190027"/>
                    <a:pt x="156921" y="201945"/>
                  </a:cubicBezTo>
                  <a:cubicBezTo>
                    <a:pt x="156921" y="201945"/>
                    <a:pt x="21850" y="201945"/>
                    <a:pt x="9932" y="141031"/>
                  </a:cubicBezTo>
                  <a:cubicBezTo>
                    <a:pt x="9932" y="141031"/>
                    <a:pt x="23174" y="94682"/>
                    <a:pt x="105276" y="88061"/>
                  </a:cubicBezTo>
                  <a:cubicBezTo>
                    <a:pt x="105276" y="88061"/>
                    <a:pt x="254914" y="68198"/>
                    <a:pt x="286696" y="9932"/>
                  </a:cubicBezTo>
                  <a:lnTo>
                    <a:pt x="457522" y="43038"/>
                  </a:lnTo>
                  <a:close/>
                </a:path>
              </a:pathLst>
            </a:custGeom>
            <a:solidFill>
              <a:srgbClr val="2c18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22" name="任意多边形: 形状 99"/>
            <p:cNvSpPr/>
            <p:nvPr/>
          </p:nvSpPr>
          <p:spPr>
            <a:xfrm>
              <a:off x="5456160" y="4491360"/>
              <a:ext cx="741600" cy="1695240"/>
            </a:xfrm>
            <a:custGeom>
              <a:avLst/>
              <a:gdLst>
                <a:gd name="textAreaLeft" fmla="*/ 0 w 741600"/>
                <a:gd name="textAreaRight" fmla="*/ 741960 w 741600"/>
                <a:gd name="textAreaTop" fmla="*/ 0 h 1695240"/>
                <a:gd name="textAreaBottom" fmla="*/ 1695600 h 1695240"/>
              </a:gdLst>
              <a:ahLst/>
              <a:rect l="textAreaLeft" t="textAreaTop" r="textAreaRight" b="textAreaBottom"/>
              <a:pathLst>
                <a:path w="741569" h="1695015">
                  <a:moveTo>
                    <a:pt x="9932" y="1691705"/>
                  </a:moveTo>
                  <a:lnTo>
                    <a:pt x="250942" y="1691705"/>
                  </a:lnTo>
                  <a:lnTo>
                    <a:pt x="380716" y="364825"/>
                  </a:lnTo>
                  <a:cubicBezTo>
                    <a:pt x="380716" y="364825"/>
                    <a:pt x="386014" y="890545"/>
                    <a:pt x="391310" y="1007077"/>
                  </a:cubicBezTo>
                  <a:cubicBezTo>
                    <a:pt x="401904" y="1256033"/>
                    <a:pt x="431037" y="1617548"/>
                    <a:pt x="431037" y="1669193"/>
                  </a:cubicBezTo>
                  <a:lnTo>
                    <a:pt x="674696" y="1669193"/>
                  </a:lnTo>
                  <a:cubicBezTo>
                    <a:pt x="674696" y="1669193"/>
                    <a:pt x="754150" y="305235"/>
                    <a:pt x="734286" y="16553"/>
                  </a:cubicBezTo>
                  <a:lnTo>
                    <a:pt x="45686" y="9932"/>
                  </a:lnTo>
                  <a:cubicBezTo>
                    <a:pt x="41714" y="276102"/>
                    <a:pt x="28471" y="1569876"/>
                    <a:pt x="9932" y="1691705"/>
                  </a:cubicBezTo>
                  <a:close/>
                </a:path>
              </a:pathLst>
            </a:custGeom>
            <a:solidFill>
              <a:srgbClr val="35343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23" name="任意多边形: 形状 100"/>
            <p:cNvSpPr/>
            <p:nvPr/>
          </p:nvSpPr>
          <p:spPr>
            <a:xfrm>
              <a:off x="5498280" y="4439520"/>
              <a:ext cx="582480" cy="92520"/>
            </a:xfrm>
            <a:custGeom>
              <a:avLst/>
              <a:gdLst>
                <a:gd name="textAreaLeft" fmla="*/ 0 w 582480"/>
                <a:gd name="textAreaRight" fmla="*/ 582480 w 582480"/>
                <a:gd name="textAreaTop" fmla="*/ 0 h 92520"/>
                <a:gd name="textAreaBottom" fmla="*/ 92880 h 92520"/>
              </a:gdLst>
              <a:ahLst/>
              <a:rect l="textAreaLeft" t="textAreaTop" r="textAreaRight" b="textAreaBottom"/>
              <a:pathLst>
                <a:path w="582661" h="92696">
                  <a:moveTo>
                    <a:pt x="11256" y="9932"/>
                  </a:moveTo>
                  <a:cubicBezTo>
                    <a:pt x="11256" y="9932"/>
                    <a:pt x="11256" y="56280"/>
                    <a:pt x="9932" y="86737"/>
                  </a:cubicBezTo>
                  <a:lnTo>
                    <a:pt x="572730" y="57604"/>
                  </a:lnTo>
                  <a:cubicBezTo>
                    <a:pt x="571406" y="36416"/>
                    <a:pt x="568757" y="20525"/>
                    <a:pt x="567433" y="9932"/>
                  </a:cubicBezTo>
                  <a:lnTo>
                    <a:pt x="11256" y="9932"/>
                  </a:lnTo>
                  <a:close/>
                </a:path>
              </a:pathLst>
            </a:custGeom>
            <a:solidFill>
              <a:srgbClr val="939598"/>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524" name="任意多边形: 形状 101"/>
            <p:cNvSpPr/>
            <p:nvPr/>
          </p:nvSpPr>
          <p:spPr>
            <a:xfrm>
              <a:off x="6051960" y="4638600"/>
              <a:ext cx="185400" cy="225000"/>
            </a:xfrm>
            <a:custGeom>
              <a:avLst/>
              <a:gdLst>
                <a:gd name="textAreaLeft" fmla="*/ 0 w 185400"/>
                <a:gd name="textAreaRight" fmla="*/ 185760 w 185400"/>
                <a:gd name="textAreaTop" fmla="*/ 0 h 225000"/>
                <a:gd name="textAreaBottom" fmla="*/ 225360 h 225000"/>
              </a:gdLst>
              <a:ahLst/>
              <a:rect l="textAreaLeft" t="textAreaTop" r="textAreaRight" b="textAreaBottom"/>
              <a:pathLst>
                <a:path w="185392" h="225119">
                  <a:moveTo>
                    <a:pt x="127788" y="10992"/>
                  </a:moveTo>
                  <a:lnTo>
                    <a:pt x="39065" y="74555"/>
                  </a:lnTo>
                  <a:cubicBezTo>
                    <a:pt x="36416" y="75880"/>
                    <a:pt x="35092" y="78528"/>
                    <a:pt x="33768" y="81176"/>
                  </a:cubicBezTo>
                  <a:lnTo>
                    <a:pt x="35092" y="99716"/>
                  </a:lnTo>
                  <a:lnTo>
                    <a:pt x="11256" y="191088"/>
                  </a:lnTo>
                  <a:cubicBezTo>
                    <a:pt x="8608" y="197709"/>
                    <a:pt x="9932" y="204330"/>
                    <a:pt x="15229" y="208303"/>
                  </a:cubicBezTo>
                  <a:lnTo>
                    <a:pt x="19201" y="212275"/>
                  </a:lnTo>
                  <a:lnTo>
                    <a:pt x="60253" y="224193"/>
                  </a:lnTo>
                  <a:cubicBezTo>
                    <a:pt x="68198" y="228166"/>
                    <a:pt x="74819" y="225518"/>
                    <a:pt x="81440" y="218896"/>
                  </a:cubicBezTo>
                  <a:lnTo>
                    <a:pt x="129112" y="164603"/>
                  </a:lnTo>
                  <a:cubicBezTo>
                    <a:pt x="129112" y="164603"/>
                    <a:pt x="187379" y="74555"/>
                    <a:pt x="187379" y="65286"/>
                  </a:cubicBezTo>
                  <a:cubicBezTo>
                    <a:pt x="184730" y="56016"/>
                    <a:pt x="135733" y="1723"/>
                    <a:pt x="127788" y="10992"/>
                  </a:cubicBezTo>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25" name="任意多边形: 形状 102"/>
            <p:cNvSpPr/>
            <p:nvPr/>
          </p:nvSpPr>
          <p:spPr>
            <a:xfrm>
              <a:off x="6125040" y="4651560"/>
              <a:ext cx="132120" cy="65880"/>
            </a:xfrm>
            <a:custGeom>
              <a:avLst/>
              <a:gdLst>
                <a:gd name="textAreaLeft" fmla="*/ 0 w 132120"/>
                <a:gd name="textAreaRight" fmla="*/ 132480 w 132120"/>
                <a:gd name="textAreaTop" fmla="*/ 0 h 65880"/>
                <a:gd name="textAreaBottom" fmla="*/ 66240 h 65880"/>
              </a:gdLst>
              <a:ahLst/>
              <a:rect l="textAreaLeft" t="textAreaTop" r="textAreaRight" b="textAreaBottom"/>
              <a:pathLst>
                <a:path w="132423" h="66211">
                  <a:moveTo>
                    <a:pt x="130437" y="29795"/>
                  </a:moveTo>
                  <a:lnTo>
                    <a:pt x="17877" y="9932"/>
                  </a:lnTo>
                  <a:lnTo>
                    <a:pt x="9932" y="31119"/>
                  </a:lnTo>
                  <a:lnTo>
                    <a:pt x="110573" y="66874"/>
                  </a:lnTo>
                  <a:lnTo>
                    <a:pt x="130437" y="29795"/>
                  </a:lnTo>
                  <a:close/>
                </a:path>
              </a:pathLst>
            </a:custGeom>
            <a:solidFill>
              <a:srgbClr val="e5e5e5"/>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26" name="任意多边形: 形状 103"/>
            <p:cNvSpPr/>
            <p:nvPr/>
          </p:nvSpPr>
          <p:spPr>
            <a:xfrm>
              <a:off x="5688000" y="6142680"/>
              <a:ext cx="463320" cy="225000"/>
            </a:xfrm>
            <a:custGeom>
              <a:avLst/>
              <a:gdLst>
                <a:gd name="textAreaLeft" fmla="*/ 0 w 463320"/>
                <a:gd name="textAreaRight" fmla="*/ 463680 w 463320"/>
                <a:gd name="textAreaTop" fmla="*/ 0 h 225000"/>
                <a:gd name="textAreaBottom" fmla="*/ 225360 h 225000"/>
              </a:gdLst>
              <a:ahLst/>
              <a:rect l="textAreaLeft" t="textAreaTop" r="textAreaRight" b="textAreaBottom"/>
              <a:pathLst>
                <a:path w="463480" h="225119">
                  <a:moveTo>
                    <a:pt x="435010" y="12580"/>
                  </a:moveTo>
                  <a:lnTo>
                    <a:pt x="453549" y="117194"/>
                  </a:lnTo>
                  <a:cubicBezTo>
                    <a:pt x="453549" y="117194"/>
                    <a:pt x="415146" y="166191"/>
                    <a:pt x="166191" y="221809"/>
                  </a:cubicBezTo>
                  <a:cubicBezTo>
                    <a:pt x="166191" y="221809"/>
                    <a:pt x="32444" y="245645"/>
                    <a:pt x="9932" y="187379"/>
                  </a:cubicBezTo>
                  <a:cubicBezTo>
                    <a:pt x="9932" y="187379"/>
                    <a:pt x="15229" y="139706"/>
                    <a:pt x="94683" y="118518"/>
                  </a:cubicBezTo>
                  <a:cubicBezTo>
                    <a:pt x="94683" y="118518"/>
                    <a:pt x="194000" y="73495"/>
                    <a:pt x="215188" y="9932"/>
                  </a:cubicBezTo>
                  <a:lnTo>
                    <a:pt x="435010" y="12580"/>
                  </a:lnTo>
                  <a:close/>
                </a:path>
              </a:pathLst>
            </a:custGeom>
            <a:solidFill>
              <a:srgbClr val="2c181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27" name="任意多边形: 形状 104"/>
            <p:cNvSpPr/>
            <p:nvPr/>
          </p:nvSpPr>
          <p:spPr>
            <a:xfrm>
              <a:off x="5716800" y="3379320"/>
              <a:ext cx="304560" cy="92520"/>
            </a:xfrm>
            <a:custGeom>
              <a:avLst/>
              <a:gdLst>
                <a:gd name="textAreaLeft" fmla="*/ 0 w 304560"/>
                <a:gd name="textAreaRight" fmla="*/ 304920 w 304560"/>
                <a:gd name="textAreaTop" fmla="*/ 0 h 92520"/>
                <a:gd name="textAreaBottom" fmla="*/ 92880 h 92520"/>
              </a:gdLst>
              <a:ahLst/>
              <a:rect l="textAreaLeft" t="textAreaTop" r="textAreaRight" b="textAreaBottom"/>
              <a:pathLst>
                <a:path w="304573" h="92696">
                  <a:moveTo>
                    <a:pt x="35092" y="23900"/>
                  </a:moveTo>
                  <a:cubicBezTo>
                    <a:pt x="35092" y="23900"/>
                    <a:pt x="274778" y="-1260"/>
                    <a:pt x="297290" y="15955"/>
                  </a:cubicBezTo>
                  <a:cubicBezTo>
                    <a:pt x="319802" y="33170"/>
                    <a:pt x="297290" y="94084"/>
                    <a:pt x="297290" y="94084"/>
                  </a:cubicBezTo>
                  <a:lnTo>
                    <a:pt x="9932" y="94084"/>
                  </a:lnTo>
                  <a:lnTo>
                    <a:pt x="35092" y="23900"/>
                  </a:lnTo>
                  <a:close/>
                </a:path>
              </a:pathLst>
            </a:custGeom>
            <a:solidFill>
              <a:srgbClr val="a7a9ac"/>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528" name="任意多边形: 形状 105"/>
            <p:cNvSpPr/>
            <p:nvPr/>
          </p:nvSpPr>
          <p:spPr>
            <a:xfrm>
              <a:off x="5638680" y="3456720"/>
              <a:ext cx="410400" cy="344160"/>
            </a:xfrm>
            <a:custGeom>
              <a:avLst/>
              <a:gdLst>
                <a:gd name="textAreaLeft" fmla="*/ 0 w 410400"/>
                <a:gd name="textAreaRight" fmla="*/ 410760 w 410400"/>
                <a:gd name="textAreaTop" fmla="*/ 0 h 344160"/>
                <a:gd name="textAreaBottom" fmla="*/ 344520 h 344160"/>
              </a:gdLst>
              <a:ahLst/>
              <a:rect l="textAreaLeft" t="textAreaTop" r="textAreaRight" b="textAreaBottom"/>
              <a:pathLst>
                <a:path w="410511" h="344300">
                  <a:moveTo>
                    <a:pt x="396607" y="37741"/>
                  </a:moveTo>
                  <a:cubicBezTo>
                    <a:pt x="396607" y="37741"/>
                    <a:pt x="412498" y="115870"/>
                    <a:pt x="396607" y="141031"/>
                  </a:cubicBezTo>
                  <a:cubicBezTo>
                    <a:pt x="380716" y="166191"/>
                    <a:pt x="325099" y="266833"/>
                    <a:pt x="311856" y="286696"/>
                  </a:cubicBezTo>
                  <a:cubicBezTo>
                    <a:pt x="298614" y="306560"/>
                    <a:pt x="143679" y="344962"/>
                    <a:pt x="133085" y="335693"/>
                  </a:cubicBezTo>
                  <a:cubicBezTo>
                    <a:pt x="122491" y="327747"/>
                    <a:pt x="9932" y="126464"/>
                    <a:pt x="9932" y="121167"/>
                  </a:cubicBezTo>
                  <a:cubicBezTo>
                    <a:pt x="9932" y="115870"/>
                    <a:pt x="15229" y="21850"/>
                    <a:pt x="15229" y="21850"/>
                  </a:cubicBezTo>
                  <a:lnTo>
                    <a:pt x="47010" y="9932"/>
                  </a:lnTo>
                  <a:lnTo>
                    <a:pt x="170164" y="105277"/>
                  </a:lnTo>
                  <a:lnTo>
                    <a:pt x="256239" y="106601"/>
                  </a:lnTo>
                  <a:lnTo>
                    <a:pt x="294641" y="77468"/>
                  </a:lnTo>
                  <a:lnTo>
                    <a:pt x="397931" y="31120"/>
                  </a:lnTo>
                </a:path>
              </a:pathLst>
            </a:custGeom>
            <a:solidFill>
              <a:srgbClr val="e5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29" name="任意多边形: 形状 106"/>
            <p:cNvSpPr/>
            <p:nvPr/>
          </p:nvSpPr>
          <p:spPr>
            <a:xfrm>
              <a:off x="5486400" y="3432240"/>
              <a:ext cx="754560" cy="1059480"/>
            </a:xfrm>
            <a:custGeom>
              <a:avLst/>
              <a:gdLst>
                <a:gd name="textAreaLeft" fmla="*/ 0 w 754560"/>
                <a:gd name="textAreaRight" fmla="*/ 754920 w 754560"/>
                <a:gd name="textAreaTop" fmla="*/ 0 h 1059480"/>
                <a:gd name="textAreaBottom" fmla="*/ 1059840 h 1059480"/>
              </a:gdLst>
              <a:ahLst/>
              <a:rect l="textAreaLeft" t="textAreaTop" r="textAreaRight" b="textAreaBottom"/>
              <a:pathLst>
                <a:path w="754811" h="1059384">
                  <a:moveTo>
                    <a:pt x="567433" y="437184"/>
                  </a:moveTo>
                  <a:cubicBezTo>
                    <a:pt x="521085" y="291519"/>
                    <a:pt x="755474" y="135260"/>
                    <a:pt x="755474" y="135260"/>
                  </a:cubicBezTo>
                  <a:cubicBezTo>
                    <a:pt x="755474" y="135260"/>
                    <a:pt x="658805" y="43888"/>
                    <a:pt x="593918" y="10782"/>
                  </a:cubicBezTo>
                  <a:cubicBezTo>
                    <a:pt x="583324" y="5485"/>
                    <a:pt x="548893" y="26673"/>
                    <a:pt x="548893" y="26673"/>
                  </a:cubicBezTo>
                  <a:cubicBezTo>
                    <a:pt x="552866" y="41239"/>
                    <a:pt x="554191" y="55806"/>
                    <a:pt x="554191" y="73021"/>
                  </a:cubicBezTo>
                  <a:cubicBezTo>
                    <a:pt x="554191" y="192201"/>
                    <a:pt x="473413" y="284898"/>
                    <a:pt x="372771" y="284898"/>
                  </a:cubicBezTo>
                  <a:cubicBezTo>
                    <a:pt x="272129" y="284898"/>
                    <a:pt x="191351" y="188229"/>
                    <a:pt x="191351" y="69048"/>
                  </a:cubicBezTo>
                  <a:cubicBezTo>
                    <a:pt x="191351" y="53157"/>
                    <a:pt x="191351" y="34618"/>
                    <a:pt x="194000" y="20051"/>
                  </a:cubicBezTo>
                  <a:cubicBezTo>
                    <a:pt x="194000" y="20051"/>
                    <a:pt x="21850" y="74345"/>
                    <a:pt x="9932" y="92884"/>
                  </a:cubicBezTo>
                  <a:cubicBezTo>
                    <a:pt x="9932" y="231928"/>
                    <a:pt x="19201" y="1050303"/>
                    <a:pt x="19201" y="1050303"/>
                  </a:cubicBezTo>
                  <a:lnTo>
                    <a:pt x="600539" y="1009252"/>
                  </a:lnTo>
                  <a:lnTo>
                    <a:pt x="581999" y="459696"/>
                  </a:lnTo>
                  <a:cubicBezTo>
                    <a:pt x="584648" y="461020"/>
                    <a:pt x="578027" y="451751"/>
                    <a:pt x="567433" y="437184"/>
                  </a:cubicBezTo>
                  <a:close/>
                </a:path>
              </a:pathLst>
            </a:custGeom>
            <a:solidFill>
              <a:srgbClr val="e5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30" name="任意多边形: 形状 107"/>
            <p:cNvSpPr/>
            <p:nvPr/>
          </p:nvSpPr>
          <p:spPr>
            <a:xfrm>
              <a:off x="5499720" y="3254040"/>
              <a:ext cx="754560" cy="344160"/>
            </a:xfrm>
            <a:custGeom>
              <a:avLst/>
              <a:gdLst>
                <a:gd name="textAreaLeft" fmla="*/ 0 w 754560"/>
                <a:gd name="textAreaRight" fmla="*/ 754920 w 754560"/>
                <a:gd name="textAreaTop" fmla="*/ 0 h 344160"/>
                <a:gd name="textAreaBottom" fmla="*/ 344520 h 344160"/>
              </a:gdLst>
              <a:ahLst/>
              <a:rect l="textAreaLeft" t="textAreaTop" r="textAreaRight" b="textAreaBottom"/>
              <a:pathLst>
                <a:path w="754811" h="344300">
                  <a:moveTo>
                    <a:pt x="254914" y="172812"/>
                  </a:moveTo>
                  <a:cubicBezTo>
                    <a:pt x="256239" y="171488"/>
                    <a:pt x="257563" y="168839"/>
                    <a:pt x="258887" y="166191"/>
                  </a:cubicBezTo>
                  <a:cubicBezTo>
                    <a:pt x="258887" y="163542"/>
                    <a:pt x="260211" y="160894"/>
                    <a:pt x="260211" y="159570"/>
                  </a:cubicBezTo>
                  <a:cubicBezTo>
                    <a:pt x="261536" y="156921"/>
                    <a:pt x="261536" y="155597"/>
                    <a:pt x="262860" y="152949"/>
                  </a:cubicBezTo>
                  <a:cubicBezTo>
                    <a:pt x="270805" y="115870"/>
                    <a:pt x="262860" y="45686"/>
                    <a:pt x="262860" y="25822"/>
                  </a:cubicBezTo>
                  <a:cubicBezTo>
                    <a:pt x="262860" y="25822"/>
                    <a:pt x="315829" y="24498"/>
                    <a:pt x="370122" y="21850"/>
                  </a:cubicBezTo>
                  <a:cubicBezTo>
                    <a:pt x="423092" y="16553"/>
                    <a:pt x="477385" y="9932"/>
                    <a:pt x="477385" y="9932"/>
                  </a:cubicBezTo>
                  <a:cubicBezTo>
                    <a:pt x="481358" y="29795"/>
                    <a:pt x="484006" y="99979"/>
                    <a:pt x="498573" y="135734"/>
                  </a:cubicBezTo>
                  <a:cubicBezTo>
                    <a:pt x="499897" y="137058"/>
                    <a:pt x="501221" y="139706"/>
                    <a:pt x="501221" y="141031"/>
                  </a:cubicBezTo>
                  <a:cubicBezTo>
                    <a:pt x="502545" y="142355"/>
                    <a:pt x="503870" y="145003"/>
                    <a:pt x="503870" y="147652"/>
                  </a:cubicBezTo>
                  <a:cubicBezTo>
                    <a:pt x="505194" y="150300"/>
                    <a:pt x="506518" y="151624"/>
                    <a:pt x="509167" y="152949"/>
                  </a:cubicBezTo>
                  <a:cubicBezTo>
                    <a:pt x="530354" y="170164"/>
                    <a:pt x="694559" y="252266"/>
                    <a:pt x="740907" y="274778"/>
                  </a:cubicBezTo>
                  <a:cubicBezTo>
                    <a:pt x="816388" y="310532"/>
                    <a:pt x="39065" y="388662"/>
                    <a:pt x="9932" y="310532"/>
                  </a:cubicBezTo>
                  <a:cubicBezTo>
                    <a:pt x="32443" y="261536"/>
                    <a:pt x="237699" y="194000"/>
                    <a:pt x="254914" y="172812"/>
                  </a:cubicBezTo>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31" name="任意多边形: 形状 108"/>
            <p:cNvSpPr/>
            <p:nvPr/>
          </p:nvSpPr>
          <p:spPr>
            <a:xfrm>
              <a:off x="5498280" y="3258000"/>
              <a:ext cx="502920" cy="330840"/>
            </a:xfrm>
            <a:custGeom>
              <a:avLst/>
              <a:gdLst>
                <a:gd name="textAreaLeft" fmla="*/ 0 w 502920"/>
                <a:gd name="textAreaRight" fmla="*/ 503280 w 502920"/>
                <a:gd name="textAreaTop" fmla="*/ 0 h 330840"/>
                <a:gd name="textAreaBottom" fmla="*/ 331200 h 330840"/>
              </a:gdLst>
              <a:ahLst/>
              <a:rect l="textAreaLeft" t="textAreaTop" r="textAreaRight" b="textAreaBottom"/>
              <a:pathLst>
                <a:path w="503207" h="331057">
                  <a:moveTo>
                    <a:pt x="9932" y="306560"/>
                  </a:moveTo>
                  <a:cubicBezTo>
                    <a:pt x="32444" y="257563"/>
                    <a:pt x="240348" y="191352"/>
                    <a:pt x="257563" y="171488"/>
                  </a:cubicBezTo>
                  <a:cubicBezTo>
                    <a:pt x="258887" y="170164"/>
                    <a:pt x="260211" y="167515"/>
                    <a:pt x="261536" y="164867"/>
                  </a:cubicBezTo>
                  <a:cubicBezTo>
                    <a:pt x="261536" y="162218"/>
                    <a:pt x="262860" y="159570"/>
                    <a:pt x="262860" y="158246"/>
                  </a:cubicBezTo>
                  <a:cubicBezTo>
                    <a:pt x="264184" y="156921"/>
                    <a:pt x="264184" y="154273"/>
                    <a:pt x="265508" y="151625"/>
                  </a:cubicBezTo>
                  <a:cubicBezTo>
                    <a:pt x="273454" y="114546"/>
                    <a:pt x="265508" y="45686"/>
                    <a:pt x="265508" y="25823"/>
                  </a:cubicBezTo>
                  <a:cubicBezTo>
                    <a:pt x="265508" y="25823"/>
                    <a:pt x="318477" y="24498"/>
                    <a:pt x="371447" y="21850"/>
                  </a:cubicBezTo>
                  <a:cubicBezTo>
                    <a:pt x="424416" y="16553"/>
                    <a:pt x="477385" y="9932"/>
                    <a:pt x="477385" y="9932"/>
                  </a:cubicBezTo>
                  <a:cubicBezTo>
                    <a:pt x="481358" y="29795"/>
                    <a:pt x="486655" y="81440"/>
                    <a:pt x="495925" y="119843"/>
                  </a:cubicBezTo>
                  <a:cubicBezTo>
                    <a:pt x="489303" y="122491"/>
                    <a:pt x="194000" y="268157"/>
                    <a:pt x="37741" y="326423"/>
                  </a:cubicBezTo>
                  <a:cubicBezTo>
                    <a:pt x="21850" y="321126"/>
                    <a:pt x="12580" y="314505"/>
                    <a:pt x="9932" y="306560"/>
                  </a:cubicBezTo>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32" name="任意多边形: 形状 109"/>
            <p:cNvSpPr/>
            <p:nvPr/>
          </p:nvSpPr>
          <p:spPr>
            <a:xfrm>
              <a:off x="5989680" y="3062160"/>
              <a:ext cx="105840" cy="185400"/>
            </a:xfrm>
            <a:custGeom>
              <a:avLst/>
              <a:gdLst>
                <a:gd name="textAreaLeft" fmla="*/ 0 w 105840"/>
                <a:gd name="textAreaRight" fmla="*/ 106200 w 105840"/>
                <a:gd name="textAreaTop" fmla="*/ 0 h 185400"/>
                <a:gd name="textAreaBottom" fmla="*/ 185760 h 185400"/>
              </a:gdLst>
              <a:ahLst/>
              <a:rect l="textAreaLeft" t="textAreaTop" r="textAreaRight" b="textAreaBottom"/>
              <a:pathLst>
                <a:path w="105938" h="185392">
                  <a:moveTo>
                    <a:pt x="106824" y="9932"/>
                  </a:moveTo>
                  <a:cubicBezTo>
                    <a:pt x="106824" y="9932"/>
                    <a:pt x="68421" y="133085"/>
                    <a:pt x="35315" y="164867"/>
                  </a:cubicBezTo>
                  <a:cubicBezTo>
                    <a:pt x="885" y="196648"/>
                    <a:pt x="24722" y="180758"/>
                    <a:pt x="10155" y="178109"/>
                  </a:cubicBezTo>
                  <a:cubicBezTo>
                    <a:pt x="6182" y="121167"/>
                    <a:pt x="56503" y="25823"/>
                    <a:pt x="56503" y="25823"/>
                  </a:cubicBezTo>
                  <a:lnTo>
                    <a:pt x="106824" y="9932"/>
                  </a:lnTo>
                  <a:close/>
                </a:path>
              </a:pathLst>
            </a:custGeom>
            <a:solidFill>
              <a:srgbClr val="5b28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33" name="任意多边形: 形状 110"/>
            <p:cNvSpPr/>
            <p:nvPr/>
          </p:nvSpPr>
          <p:spPr>
            <a:xfrm>
              <a:off x="5553360" y="2691000"/>
              <a:ext cx="489960" cy="688680"/>
            </a:xfrm>
            <a:custGeom>
              <a:avLst/>
              <a:gdLst>
                <a:gd name="textAreaLeft" fmla="*/ 0 w 489960"/>
                <a:gd name="textAreaRight" fmla="*/ 490320 w 489960"/>
                <a:gd name="textAreaTop" fmla="*/ 0 h 688680"/>
                <a:gd name="textAreaBottom" fmla="*/ 689040 h 688680"/>
              </a:gdLst>
              <a:ahLst/>
              <a:rect l="textAreaLeft" t="textAreaTop" r="textAreaRight" b="textAreaBottom"/>
              <a:pathLst>
                <a:path w="489965" h="688600">
                  <a:moveTo>
                    <a:pt x="492565" y="372871"/>
                  </a:moveTo>
                  <a:cubicBezTo>
                    <a:pt x="485944" y="211315"/>
                    <a:pt x="386627" y="4735"/>
                    <a:pt x="254204" y="10032"/>
                  </a:cubicBezTo>
                  <a:cubicBezTo>
                    <a:pt x="123105" y="15329"/>
                    <a:pt x="-21236" y="21950"/>
                    <a:pt x="15842" y="372871"/>
                  </a:cubicBezTo>
                  <a:cubicBezTo>
                    <a:pt x="25112" y="458946"/>
                    <a:pt x="55569" y="545021"/>
                    <a:pt x="103242" y="604611"/>
                  </a:cubicBezTo>
                  <a:cubicBezTo>
                    <a:pt x="144292" y="657581"/>
                    <a:pt x="197262" y="690686"/>
                    <a:pt x="258176" y="688038"/>
                  </a:cubicBezTo>
                  <a:cubicBezTo>
                    <a:pt x="389275" y="684065"/>
                    <a:pt x="499187" y="534427"/>
                    <a:pt x="492565" y="372871"/>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34" name="任意多边形: 形状 111"/>
            <p:cNvSpPr/>
            <p:nvPr/>
          </p:nvSpPr>
          <p:spPr>
            <a:xfrm>
              <a:off x="5525640" y="2636280"/>
              <a:ext cx="622440" cy="410400"/>
            </a:xfrm>
            <a:custGeom>
              <a:avLst/>
              <a:gdLst>
                <a:gd name="textAreaLeft" fmla="*/ 0 w 622440"/>
                <a:gd name="textAreaRight" fmla="*/ 622800 w 622440"/>
                <a:gd name="textAreaTop" fmla="*/ 0 h 410400"/>
                <a:gd name="textAreaBottom" fmla="*/ 410760 h 410400"/>
              </a:gdLst>
              <a:ahLst/>
              <a:rect l="textAreaLeft" t="textAreaTop" r="textAreaRight" b="textAreaBottom"/>
              <a:pathLst>
                <a:path w="622388" h="410511">
                  <a:moveTo>
                    <a:pt x="500463" y="107148"/>
                  </a:moveTo>
                  <a:cubicBezTo>
                    <a:pt x="500463" y="107148"/>
                    <a:pt x="446169" y="-67650"/>
                    <a:pt x="128354" y="51530"/>
                  </a:cubicBezTo>
                  <a:cubicBezTo>
                    <a:pt x="1227" y="99203"/>
                    <a:pt x="9173" y="154820"/>
                    <a:pt x="10497" y="174684"/>
                  </a:cubicBezTo>
                  <a:cubicBezTo>
                    <a:pt x="42279" y="206465"/>
                    <a:pt x="239589" y="255462"/>
                    <a:pt x="399821" y="174684"/>
                  </a:cubicBezTo>
                  <a:cubicBezTo>
                    <a:pt x="401145" y="236923"/>
                    <a:pt x="470005" y="382588"/>
                    <a:pt x="493841" y="381264"/>
                  </a:cubicBezTo>
                  <a:cubicBezTo>
                    <a:pt x="520326" y="356103"/>
                    <a:pt x="590510" y="283271"/>
                    <a:pt x="597131" y="413045"/>
                  </a:cubicBezTo>
                  <a:cubicBezTo>
                    <a:pt x="614347" y="373318"/>
                    <a:pt x="647452" y="125687"/>
                    <a:pt x="500463" y="107148"/>
                  </a:cubicBezTo>
                  <a:close/>
                </a:path>
              </a:pathLst>
            </a:custGeom>
            <a:solidFill>
              <a:srgbClr val="5b28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35" name="任意多边形: 形状 112"/>
            <p:cNvSpPr/>
            <p:nvPr/>
          </p:nvSpPr>
          <p:spPr>
            <a:xfrm>
              <a:off x="5542560" y="2809440"/>
              <a:ext cx="52920" cy="185400"/>
            </a:xfrm>
            <a:custGeom>
              <a:avLst/>
              <a:gdLst>
                <a:gd name="textAreaLeft" fmla="*/ 0 w 52920"/>
                <a:gd name="textAreaRight" fmla="*/ 53280 w 52920"/>
                <a:gd name="textAreaTop" fmla="*/ 0 h 185400"/>
                <a:gd name="textAreaBottom" fmla="*/ 185760 h 185400"/>
              </a:gdLst>
              <a:ahLst/>
              <a:rect l="textAreaLeft" t="textAreaTop" r="textAreaRight" b="textAreaBottom"/>
              <a:pathLst>
                <a:path w="52969" h="185392">
                  <a:moveTo>
                    <a:pt x="50424" y="22783"/>
                  </a:moveTo>
                  <a:cubicBezTo>
                    <a:pt x="50424" y="22783"/>
                    <a:pt x="17318" y="119452"/>
                    <a:pt x="22615" y="184339"/>
                  </a:cubicBezTo>
                  <a:cubicBezTo>
                    <a:pt x="9373" y="149909"/>
                    <a:pt x="5400" y="49268"/>
                    <a:pt x="15994" y="14838"/>
                  </a:cubicBezTo>
                  <a:cubicBezTo>
                    <a:pt x="42479" y="271"/>
                    <a:pt x="50424" y="22783"/>
                    <a:pt x="50424" y="22783"/>
                  </a:cubicBezTo>
                  <a:close/>
                </a:path>
              </a:pathLst>
            </a:custGeom>
            <a:solidFill>
              <a:srgbClr val="5b28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36" name="任意多边形: 形状 113"/>
            <p:cNvSpPr/>
            <p:nvPr/>
          </p:nvSpPr>
          <p:spPr>
            <a:xfrm>
              <a:off x="5793840" y="3009600"/>
              <a:ext cx="145440" cy="79200"/>
            </a:xfrm>
            <a:custGeom>
              <a:avLst/>
              <a:gdLst>
                <a:gd name="textAreaLeft" fmla="*/ 0 w 145440"/>
                <a:gd name="textAreaRight" fmla="*/ 145800 w 145440"/>
                <a:gd name="textAreaTop" fmla="*/ 0 h 79200"/>
                <a:gd name="textAreaBottom" fmla="*/ 79560 h 79200"/>
              </a:gdLst>
              <a:ahLst/>
              <a:rect l="textAreaLeft" t="textAreaTop" r="textAreaRight" b="textAreaBottom"/>
              <a:pathLst>
                <a:path w="145665" h="79453">
                  <a:moveTo>
                    <a:pt x="9932" y="62239"/>
                  </a:moveTo>
                  <a:cubicBezTo>
                    <a:pt x="9932" y="62239"/>
                    <a:pt x="20526" y="17215"/>
                    <a:pt x="61577" y="11918"/>
                  </a:cubicBezTo>
                  <a:cubicBezTo>
                    <a:pt x="102628" y="6621"/>
                    <a:pt x="129113" y="11918"/>
                    <a:pt x="141031" y="27809"/>
                  </a:cubicBezTo>
                  <a:cubicBezTo>
                    <a:pt x="147652" y="38403"/>
                    <a:pt x="151625" y="58266"/>
                    <a:pt x="127789" y="66212"/>
                  </a:cubicBezTo>
                  <a:cubicBezTo>
                    <a:pt x="105277" y="75481"/>
                    <a:pt x="44362" y="83426"/>
                    <a:pt x="9932" y="62239"/>
                  </a:cubicBezTo>
                  <a:close/>
                </a:path>
              </a:pathLst>
            </a:custGeom>
            <a:solidFill>
              <a:srgbClr val="f4c78c"/>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537" name="任意多边形: 形状 114"/>
            <p:cNvSpPr/>
            <p:nvPr/>
          </p:nvSpPr>
          <p:spPr>
            <a:xfrm>
              <a:off x="5797800" y="3020760"/>
              <a:ext cx="132120" cy="65880"/>
            </a:xfrm>
            <a:custGeom>
              <a:avLst/>
              <a:gdLst>
                <a:gd name="textAreaLeft" fmla="*/ 0 w 132120"/>
                <a:gd name="textAreaRight" fmla="*/ 132480 w 132120"/>
                <a:gd name="textAreaTop" fmla="*/ 0 h 65880"/>
                <a:gd name="textAreaBottom" fmla="*/ 66240 h 65880"/>
              </a:gdLst>
              <a:ahLst/>
              <a:rect l="textAreaLeft" t="textAreaTop" r="textAreaRight" b="textAreaBottom"/>
              <a:pathLst>
                <a:path w="132423" h="66211">
                  <a:moveTo>
                    <a:pt x="134409" y="36774"/>
                  </a:moveTo>
                  <a:cubicBezTo>
                    <a:pt x="134409" y="36774"/>
                    <a:pt x="110573" y="64583"/>
                    <a:pt x="60252" y="65907"/>
                  </a:cubicBezTo>
                  <a:cubicBezTo>
                    <a:pt x="37741" y="65907"/>
                    <a:pt x="9932" y="51340"/>
                    <a:pt x="9932" y="51340"/>
                  </a:cubicBezTo>
                  <a:cubicBezTo>
                    <a:pt x="9932" y="51340"/>
                    <a:pt x="43038" y="12938"/>
                    <a:pt x="65549" y="10289"/>
                  </a:cubicBezTo>
                  <a:cubicBezTo>
                    <a:pt x="106600" y="6316"/>
                    <a:pt x="134409" y="36774"/>
                    <a:pt x="134409" y="36774"/>
                  </a:cubicBezTo>
                  <a:close/>
                </a:path>
              </a:pathLst>
            </a:custGeom>
            <a:solidFill>
              <a:srgbClr val="ffffff"/>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38" name="任意多边形: 形状 115"/>
            <p:cNvSpPr/>
            <p:nvPr/>
          </p:nvSpPr>
          <p:spPr>
            <a:xfrm>
              <a:off x="5823000" y="302112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9932" y="-27795"/>
                  </a:moveTo>
                  <a:cubicBezTo>
                    <a:pt x="9932" y="23174"/>
                    <a:pt x="20525" y="9932"/>
                    <a:pt x="-30444" y="9932"/>
                  </a:cubicBezTo>
                  <a:cubicBezTo>
                    <a:pt x="-15877" y="9932"/>
                    <a:pt x="-5284" y="21850"/>
                    <a:pt x="-3959" y="-29120"/>
                  </a:cubicBezTo>
                  <a:cubicBezTo>
                    <a:pt x="-3959" y="-14553"/>
                    <a:pt x="-14553" y="-1311"/>
                    <a:pt x="-29120" y="-1311"/>
                  </a:cubicBezTo>
                  <a:cubicBezTo>
                    <a:pt x="21850" y="-1311"/>
                    <a:pt x="9932" y="-13229"/>
                    <a:pt x="9932" y="-27795"/>
                  </a:cubicBezTo>
                  <a:close/>
                </a:path>
              </a:pathLst>
            </a:custGeom>
            <a:solidFill>
              <a:srgbClr val="2d0201"/>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39" name="任意多边形: 形状 116"/>
            <p:cNvSpPr/>
            <p:nvPr/>
          </p:nvSpPr>
          <p:spPr>
            <a:xfrm>
              <a:off x="5824080" y="302364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9932" y="-30444"/>
                  </a:moveTo>
                  <a:cubicBezTo>
                    <a:pt x="9932" y="21850"/>
                    <a:pt x="20525" y="9932"/>
                    <a:pt x="32443" y="9932"/>
                  </a:cubicBezTo>
                  <a:cubicBezTo>
                    <a:pt x="-19850" y="9932"/>
                    <a:pt x="-9256" y="20526"/>
                    <a:pt x="-9256" y="-30444"/>
                  </a:cubicBezTo>
                  <a:cubicBezTo>
                    <a:pt x="-9256" y="-17202"/>
                    <a:pt x="-19850" y="-5283"/>
                    <a:pt x="32443" y="-5283"/>
                  </a:cubicBezTo>
                  <a:cubicBezTo>
                    <a:pt x="20525" y="-5283"/>
                    <a:pt x="9932" y="-17202"/>
                    <a:pt x="9932" y="-30444"/>
                  </a:cubicBezTo>
                  <a:close/>
                </a:path>
              </a:pathLst>
            </a:custGeom>
            <a:solidFill>
              <a:srgbClr val="6d2f06"/>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40" name="任意多边形: 形状 117"/>
            <p:cNvSpPr/>
            <p:nvPr/>
          </p:nvSpPr>
          <p:spPr>
            <a:xfrm>
              <a:off x="5833440" y="304632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9201"/>
                  </a:moveTo>
                  <a:cubicBezTo>
                    <a:pt x="9932" y="13904"/>
                    <a:pt x="13905" y="9932"/>
                    <a:pt x="19202" y="9932"/>
                  </a:cubicBezTo>
                  <a:cubicBezTo>
                    <a:pt x="24498" y="9932"/>
                    <a:pt x="28471" y="13904"/>
                    <a:pt x="28471" y="19201"/>
                  </a:cubicBezTo>
                  <a:cubicBezTo>
                    <a:pt x="28471" y="24498"/>
                    <a:pt x="24498" y="28471"/>
                    <a:pt x="19202" y="28471"/>
                  </a:cubicBezTo>
                  <a:cubicBezTo>
                    <a:pt x="13905" y="28471"/>
                    <a:pt x="9932" y="24498"/>
                    <a:pt x="9932" y="19201"/>
                  </a:cubicBezTo>
                  <a:close/>
                </a:path>
              </a:pathLst>
            </a:custGeom>
            <a:solidFill>
              <a:srgbClr val="8e0404"/>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541" name="任意多边形: 形状 118"/>
            <p:cNvSpPr/>
            <p:nvPr/>
          </p:nvSpPr>
          <p:spPr>
            <a:xfrm>
              <a:off x="5840280" y="303948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9201"/>
                  </a:moveTo>
                  <a:cubicBezTo>
                    <a:pt x="9932" y="13904"/>
                    <a:pt x="13905" y="11256"/>
                    <a:pt x="17877" y="9932"/>
                  </a:cubicBezTo>
                  <a:cubicBezTo>
                    <a:pt x="21850" y="9932"/>
                    <a:pt x="25823" y="13904"/>
                    <a:pt x="25823" y="17877"/>
                  </a:cubicBezTo>
                  <a:cubicBezTo>
                    <a:pt x="25823" y="23174"/>
                    <a:pt x="21850" y="25822"/>
                    <a:pt x="17877" y="27147"/>
                  </a:cubicBezTo>
                  <a:cubicBezTo>
                    <a:pt x="13905" y="27147"/>
                    <a:pt x="9932" y="23174"/>
                    <a:pt x="9932" y="19201"/>
                  </a:cubicBezTo>
                  <a:close/>
                </a:path>
              </a:pathLst>
            </a:custGeom>
            <a:solidFill>
              <a:srgbClr val="42030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542" name="任意多边形: 形状 119"/>
            <p:cNvSpPr/>
            <p:nvPr/>
          </p:nvSpPr>
          <p:spPr>
            <a:xfrm>
              <a:off x="5837400" y="304884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13242" h="13242">
                  <a:moveTo>
                    <a:pt x="13904" y="12580"/>
                  </a:moveTo>
                  <a:cubicBezTo>
                    <a:pt x="13904" y="13904"/>
                    <a:pt x="12580" y="15229"/>
                    <a:pt x="12580" y="15229"/>
                  </a:cubicBezTo>
                  <a:cubicBezTo>
                    <a:pt x="11256" y="15229"/>
                    <a:pt x="11256" y="13904"/>
                    <a:pt x="9932" y="12580"/>
                  </a:cubicBezTo>
                  <a:cubicBezTo>
                    <a:pt x="9932" y="11256"/>
                    <a:pt x="11256" y="9932"/>
                    <a:pt x="11256" y="9932"/>
                  </a:cubicBezTo>
                  <a:cubicBezTo>
                    <a:pt x="13904" y="11256"/>
                    <a:pt x="13904" y="12580"/>
                    <a:pt x="13904" y="12580"/>
                  </a:cubicBezTo>
                  <a:close/>
                </a:path>
              </a:pathLst>
            </a:custGeom>
            <a:solidFill>
              <a:srgbClr val="ffffff"/>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543" name="任意多边形: 形状 120"/>
            <p:cNvSpPr/>
            <p:nvPr/>
          </p:nvSpPr>
          <p:spPr>
            <a:xfrm>
              <a:off x="5848200" y="30344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5229"/>
                  </a:moveTo>
                  <a:cubicBezTo>
                    <a:pt x="9932" y="12580"/>
                    <a:pt x="11256" y="9932"/>
                    <a:pt x="13905" y="9932"/>
                  </a:cubicBezTo>
                  <a:cubicBezTo>
                    <a:pt x="16553" y="9932"/>
                    <a:pt x="19202" y="12580"/>
                    <a:pt x="19202" y="15229"/>
                  </a:cubicBezTo>
                  <a:cubicBezTo>
                    <a:pt x="19202" y="17877"/>
                    <a:pt x="16553" y="20526"/>
                    <a:pt x="15229" y="20526"/>
                  </a:cubicBezTo>
                  <a:cubicBezTo>
                    <a:pt x="11256" y="20526"/>
                    <a:pt x="9932" y="17877"/>
                    <a:pt x="9932" y="15229"/>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544" name="任意多边形: 形状 121"/>
            <p:cNvSpPr/>
            <p:nvPr/>
          </p:nvSpPr>
          <p:spPr>
            <a:xfrm>
              <a:off x="5799240" y="3017160"/>
              <a:ext cx="145440" cy="52920"/>
            </a:xfrm>
            <a:custGeom>
              <a:avLst/>
              <a:gdLst>
                <a:gd name="textAreaLeft" fmla="*/ 0 w 145440"/>
                <a:gd name="textAreaRight" fmla="*/ 145800 w 145440"/>
                <a:gd name="textAreaTop" fmla="*/ 0 h 52920"/>
                <a:gd name="textAreaBottom" fmla="*/ 53280 h 52920"/>
              </a:gdLst>
              <a:ahLst/>
              <a:rect l="textAreaLeft" t="textAreaTop" r="textAreaRight" b="textAreaBottom"/>
              <a:pathLst>
                <a:path w="145665" h="52969">
                  <a:moveTo>
                    <a:pt x="9932" y="50983"/>
                  </a:moveTo>
                  <a:cubicBezTo>
                    <a:pt x="9932" y="50983"/>
                    <a:pt x="16553" y="44362"/>
                    <a:pt x="28471" y="36416"/>
                  </a:cubicBezTo>
                  <a:cubicBezTo>
                    <a:pt x="31119" y="35092"/>
                    <a:pt x="35092" y="32444"/>
                    <a:pt x="37740" y="31120"/>
                  </a:cubicBezTo>
                  <a:cubicBezTo>
                    <a:pt x="40389" y="28471"/>
                    <a:pt x="44361" y="27147"/>
                    <a:pt x="48334" y="25823"/>
                  </a:cubicBezTo>
                  <a:cubicBezTo>
                    <a:pt x="52307" y="24498"/>
                    <a:pt x="56280" y="23174"/>
                    <a:pt x="60252" y="21850"/>
                  </a:cubicBezTo>
                  <a:lnTo>
                    <a:pt x="66873" y="20526"/>
                  </a:lnTo>
                  <a:cubicBezTo>
                    <a:pt x="69522" y="20526"/>
                    <a:pt x="70846" y="20526"/>
                    <a:pt x="73495" y="20526"/>
                  </a:cubicBezTo>
                  <a:cubicBezTo>
                    <a:pt x="77467" y="19201"/>
                    <a:pt x="81440" y="20526"/>
                    <a:pt x="86737" y="20526"/>
                  </a:cubicBezTo>
                  <a:cubicBezTo>
                    <a:pt x="90709" y="20526"/>
                    <a:pt x="94682" y="21850"/>
                    <a:pt x="98655" y="23174"/>
                  </a:cubicBezTo>
                  <a:cubicBezTo>
                    <a:pt x="102628" y="24498"/>
                    <a:pt x="106600" y="25823"/>
                    <a:pt x="109249" y="27147"/>
                  </a:cubicBezTo>
                  <a:cubicBezTo>
                    <a:pt x="113222" y="28471"/>
                    <a:pt x="115870" y="31120"/>
                    <a:pt x="118518" y="32444"/>
                  </a:cubicBezTo>
                  <a:cubicBezTo>
                    <a:pt x="121167" y="33768"/>
                    <a:pt x="123815" y="35092"/>
                    <a:pt x="126464" y="37741"/>
                  </a:cubicBezTo>
                  <a:cubicBezTo>
                    <a:pt x="129113" y="39065"/>
                    <a:pt x="130436" y="40389"/>
                    <a:pt x="133085" y="41713"/>
                  </a:cubicBezTo>
                  <a:cubicBezTo>
                    <a:pt x="137058" y="44362"/>
                    <a:pt x="138382" y="45686"/>
                    <a:pt x="138382" y="45686"/>
                  </a:cubicBezTo>
                  <a:cubicBezTo>
                    <a:pt x="138382" y="45686"/>
                    <a:pt x="137058" y="44362"/>
                    <a:pt x="134409" y="40389"/>
                  </a:cubicBezTo>
                  <a:cubicBezTo>
                    <a:pt x="133085" y="39065"/>
                    <a:pt x="131761" y="36416"/>
                    <a:pt x="129113" y="35092"/>
                  </a:cubicBezTo>
                  <a:cubicBezTo>
                    <a:pt x="127788" y="32444"/>
                    <a:pt x="125140" y="31120"/>
                    <a:pt x="122491" y="28471"/>
                  </a:cubicBezTo>
                  <a:cubicBezTo>
                    <a:pt x="119843" y="25823"/>
                    <a:pt x="117194" y="23174"/>
                    <a:pt x="113222" y="21850"/>
                  </a:cubicBezTo>
                  <a:cubicBezTo>
                    <a:pt x="109249" y="20526"/>
                    <a:pt x="105276" y="17877"/>
                    <a:pt x="101304" y="15229"/>
                  </a:cubicBezTo>
                  <a:cubicBezTo>
                    <a:pt x="97331" y="13904"/>
                    <a:pt x="92034" y="12580"/>
                    <a:pt x="88061" y="11256"/>
                  </a:cubicBezTo>
                  <a:cubicBezTo>
                    <a:pt x="82764" y="11256"/>
                    <a:pt x="78791" y="9932"/>
                    <a:pt x="73495" y="9932"/>
                  </a:cubicBezTo>
                  <a:cubicBezTo>
                    <a:pt x="70846" y="9932"/>
                    <a:pt x="68198" y="9932"/>
                    <a:pt x="65549" y="11256"/>
                  </a:cubicBezTo>
                  <a:lnTo>
                    <a:pt x="58928" y="12580"/>
                  </a:lnTo>
                  <a:cubicBezTo>
                    <a:pt x="53631" y="13904"/>
                    <a:pt x="49659" y="16553"/>
                    <a:pt x="45686" y="17877"/>
                  </a:cubicBezTo>
                  <a:cubicBezTo>
                    <a:pt x="37740" y="21850"/>
                    <a:pt x="31119" y="27147"/>
                    <a:pt x="25822" y="32444"/>
                  </a:cubicBezTo>
                  <a:cubicBezTo>
                    <a:pt x="13904" y="41713"/>
                    <a:pt x="9932" y="50983"/>
                    <a:pt x="9932" y="50983"/>
                  </a:cubicBezTo>
                  <a:close/>
                </a:path>
              </a:pathLst>
            </a:custGeom>
            <a:solidFill>
              <a:srgbClr val="3c241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545" name="任意多边形: 形状 122"/>
            <p:cNvSpPr/>
            <p:nvPr/>
          </p:nvSpPr>
          <p:spPr>
            <a:xfrm>
              <a:off x="5893200" y="304488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9726" h="39726">
                  <a:moveTo>
                    <a:pt x="-29120" y="9932"/>
                  </a:moveTo>
                  <a:cubicBezTo>
                    <a:pt x="-29120" y="9932"/>
                    <a:pt x="29795" y="16553"/>
                    <a:pt x="23174" y="21850"/>
                  </a:cubicBezTo>
                  <a:cubicBezTo>
                    <a:pt x="20526" y="24498"/>
                    <a:pt x="16553" y="27147"/>
                    <a:pt x="13905" y="28471"/>
                  </a:cubicBezTo>
                  <a:cubicBezTo>
                    <a:pt x="11256" y="29795"/>
                    <a:pt x="9932" y="31119"/>
                    <a:pt x="9932" y="31119"/>
                  </a:cubicBezTo>
                  <a:cubicBezTo>
                    <a:pt x="9932" y="31119"/>
                    <a:pt x="11256" y="29795"/>
                    <a:pt x="15229" y="28471"/>
                  </a:cubicBezTo>
                  <a:cubicBezTo>
                    <a:pt x="17877" y="27147"/>
                    <a:pt x="21850" y="25822"/>
                    <a:pt x="25823" y="23174"/>
                  </a:cubicBezTo>
                  <a:cubicBezTo>
                    <a:pt x="-31768" y="19201"/>
                    <a:pt x="-25147" y="13904"/>
                    <a:pt x="-25147" y="13904"/>
                  </a:cubicBezTo>
                  <a:lnTo>
                    <a:pt x="-29120" y="9932"/>
                  </a:lnTo>
                  <a:close/>
                </a:path>
              </a:pathLst>
            </a:custGeom>
            <a:solidFill>
              <a:srgbClr val="3c2415"/>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546" name="任意多边形: 形状 123"/>
            <p:cNvSpPr/>
            <p:nvPr/>
          </p:nvSpPr>
          <p:spPr>
            <a:xfrm>
              <a:off x="5774760" y="2955960"/>
              <a:ext cx="172080" cy="65880"/>
            </a:xfrm>
            <a:custGeom>
              <a:avLst/>
              <a:gdLst>
                <a:gd name="textAreaLeft" fmla="*/ 0 w 172080"/>
                <a:gd name="textAreaRight" fmla="*/ 172440 w 172080"/>
                <a:gd name="textAreaTop" fmla="*/ 0 h 65880"/>
                <a:gd name="textAreaBottom" fmla="*/ 66240 h 65880"/>
              </a:gdLst>
              <a:ahLst/>
              <a:rect l="textAreaLeft" t="textAreaTop" r="textAreaRight" b="textAreaBottom"/>
              <a:pathLst>
                <a:path w="172150" h="66211">
                  <a:moveTo>
                    <a:pt x="36774" y="26020"/>
                  </a:moveTo>
                  <a:cubicBezTo>
                    <a:pt x="36774" y="26020"/>
                    <a:pt x="6317" y="32641"/>
                    <a:pt x="10289" y="55153"/>
                  </a:cubicBezTo>
                  <a:cubicBezTo>
                    <a:pt x="12938" y="67071"/>
                    <a:pt x="19559" y="72368"/>
                    <a:pt x="55313" y="53829"/>
                  </a:cubicBezTo>
                  <a:cubicBezTo>
                    <a:pt x="92392" y="35289"/>
                    <a:pt x="161251" y="32641"/>
                    <a:pt x="162576" y="27344"/>
                  </a:cubicBezTo>
                  <a:cubicBezTo>
                    <a:pt x="154630" y="14102"/>
                    <a:pt x="153306" y="8805"/>
                    <a:pt x="112255" y="10129"/>
                  </a:cubicBezTo>
                  <a:cubicBezTo>
                    <a:pt x="72528" y="12778"/>
                    <a:pt x="36774" y="26020"/>
                    <a:pt x="36774" y="26020"/>
                  </a:cubicBezTo>
                  <a:close/>
                </a:path>
              </a:pathLst>
            </a:custGeom>
            <a:solidFill>
              <a:srgbClr val="7a3404"/>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47" name="任意多边形: 形状 124"/>
            <p:cNvSpPr/>
            <p:nvPr/>
          </p:nvSpPr>
          <p:spPr>
            <a:xfrm>
              <a:off x="5568480" y="2980080"/>
              <a:ext cx="145440" cy="52920"/>
            </a:xfrm>
            <a:custGeom>
              <a:avLst/>
              <a:gdLst>
                <a:gd name="textAreaLeft" fmla="*/ 0 w 145440"/>
                <a:gd name="textAreaRight" fmla="*/ 145800 w 145440"/>
                <a:gd name="textAreaTop" fmla="*/ 0 h 52920"/>
                <a:gd name="textAreaBottom" fmla="*/ 53280 h 52920"/>
              </a:gdLst>
              <a:ahLst/>
              <a:rect l="textAreaLeft" t="textAreaTop" r="textAreaRight" b="textAreaBottom"/>
              <a:pathLst>
                <a:path w="145665" h="52969">
                  <a:moveTo>
                    <a:pt x="146347" y="35097"/>
                  </a:moveTo>
                  <a:cubicBezTo>
                    <a:pt x="146347" y="45691"/>
                    <a:pt x="142374" y="50988"/>
                    <a:pt x="109268" y="43042"/>
                  </a:cubicBezTo>
                  <a:cubicBezTo>
                    <a:pt x="76162" y="35097"/>
                    <a:pt x="8627" y="40394"/>
                    <a:pt x="9951" y="36421"/>
                  </a:cubicBezTo>
                  <a:cubicBezTo>
                    <a:pt x="13924" y="23179"/>
                    <a:pt x="17896" y="17882"/>
                    <a:pt x="51002" y="12585"/>
                  </a:cubicBezTo>
                  <a:cubicBezTo>
                    <a:pt x="85432" y="4640"/>
                    <a:pt x="145023" y="15234"/>
                    <a:pt x="146347" y="35097"/>
                  </a:cubicBezTo>
                  <a:close/>
                </a:path>
              </a:pathLst>
            </a:custGeom>
            <a:solidFill>
              <a:srgbClr val="7a3404"/>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548" name="任意多边形: 形状 125"/>
            <p:cNvSpPr/>
            <p:nvPr/>
          </p:nvSpPr>
          <p:spPr>
            <a:xfrm>
              <a:off x="5587200" y="3024720"/>
              <a:ext cx="132120" cy="79200"/>
            </a:xfrm>
            <a:custGeom>
              <a:avLst/>
              <a:gdLst>
                <a:gd name="textAreaLeft" fmla="*/ 0 w 132120"/>
                <a:gd name="textAreaRight" fmla="*/ 132480 w 132120"/>
                <a:gd name="textAreaTop" fmla="*/ 0 h 79200"/>
                <a:gd name="textAreaBottom" fmla="*/ 79560 h 79200"/>
              </a:gdLst>
              <a:ahLst/>
              <a:rect l="textAreaLeft" t="textAreaTop" r="textAreaRight" b="textAreaBottom"/>
              <a:pathLst>
                <a:path w="132423" h="79453">
                  <a:moveTo>
                    <a:pt x="126542" y="51108"/>
                  </a:moveTo>
                  <a:cubicBezTo>
                    <a:pt x="126542" y="51108"/>
                    <a:pt x="113299" y="11381"/>
                    <a:pt x="77545" y="10057"/>
                  </a:cubicBezTo>
                  <a:cubicBezTo>
                    <a:pt x="43115" y="8733"/>
                    <a:pt x="20603" y="18003"/>
                    <a:pt x="12658" y="32569"/>
                  </a:cubicBezTo>
                  <a:cubicBezTo>
                    <a:pt x="8685" y="43163"/>
                    <a:pt x="6037" y="61702"/>
                    <a:pt x="27224" y="66999"/>
                  </a:cubicBezTo>
                  <a:cubicBezTo>
                    <a:pt x="47088" y="72296"/>
                    <a:pt x="98733" y="73620"/>
                    <a:pt x="126542" y="51108"/>
                  </a:cubicBezTo>
                  <a:close/>
                </a:path>
              </a:pathLst>
            </a:custGeom>
            <a:solidFill>
              <a:srgbClr val="f4c78c"/>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549" name="任意多边形: 形状 126"/>
            <p:cNvSpPr/>
            <p:nvPr/>
          </p:nvSpPr>
          <p:spPr>
            <a:xfrm>
              <a:off x="5593680" y="3033000"/>
              <a:ext cx="119160" cy="65880"/>
            </a:xfrm>
            <a:custGeom>
              <a:avLst/>
              <a:gdLst>
                <a:gd name="textAreaLeft" fmla="*/ 0 w 119160"/>
                <a:gd name="textAreaRight" fmla="*/ 119520 w 119160"/>
                <a:gd name="textAreaTop" fmla="*/ 0 h 65880"/>
                <a:gd name="textAreaBottom" fmla="*/ 66240 h 65880"/>
              </a:gdLst>
              <a:ahLst/>
              <a:rect l="textAreaLeft" t="textAreaTop" r="textAreaRight" b="textAreaBottom"/>
              <a:pathLst>
                <a:path w="119180" h="66211">
                  <a:moveTo>
                    <a:pt x="9932" y="41713"/>
                  </a:moveTo>
                  <a:cubicBezTo>
                    <a:pt x="9932" y="41713"/>
                    <a:pt x="33768" y="65549"/>
                    <a:pt x="76143" y="60252"/>
                  </a:cubicBezTo>
                  <a:cubicBezTo>
                    <a:pt x="94682" y="58928"/>
                    <a:pt x="118518" y="41713"/>
                    <a:pt x="118518" y="41713"/>
                  </a:cubicBezTo>
                  <a:cubicBezTo>
                    <a:pt x="118518" y="41713"/>
                    <a:pt x="86737" y="9932"/>
                    <a:pt x="66873" y="9932"/>
                  </a:cubicBezTo>
                  <a:cubicBezTo>
                    <a:pt x="29795" y="11256"/>
                    <a:pt x="9932" y="41713"/>
                    <a:pt x="9932" y="41713"/>
                  </a:cubicBezTo>
                  <a:close/>
                </a:path>
              </a:pathLst>
            </a:custGeom>
            <a:solidFill>
              <a:srgbClr val="ffffff"/>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50" name="任意多边形: 形状 127"/>
            <p:cNvSpPr/>
            <p:nvPr/>
          </p:nvSpPr>
          <p:spPr>
            <a:xfrm>
              <a:off x="5611680" y="3035880"/>
              <a:ext cx="52920" cy="65880"/>
            </a:xfrm>
            <a:custGeom>
              <a:avLst/>
              <a:gdLst>
                <a:gd name="textAreaLeft" fmla="*/ 0 w 52920"/>
                <a:gd name="textAreaRight" fmla="*/ 53280 w 52920"/>
                <a:gd name="textAreaTop" fmla="*/ 0 h 65880"/>
                <a:gd name="textAreaBottom" fmla="*/ 66240 h 65880"/>
              </a:gdLst>
              <a:ahLst/>
              <a:rect l="textAreaLeft" t="textAreaTop" r="textAreaRight" b="textAreaBottom"/>
              <a:pathLst>
                <a:path w="52969" h="66211">
                  <a:moveTo>
                    <a:pt x="-27216" y="-5582"/>
                  </a:moveTo>
                  <a:cubicBezTo>
                    <a:pt x="-15298" y="-9554"/>
                    <a:pt x="-8676" y="-24121"/>
                    <a:pt x="-11325" y="28173"/>
                  </a:cubicBezTo>
                  <a:cubicBezTo>
                    <a:pt x="-15298" y="14931"/>
                    <a:pt x="-27216" y="6985"/>
                    <a:pt x="26402" y="10958"/>
                  </a:cubicBezTo>
                  <a:cubicBezTo>
                    <a:pt x="14484" y="14931"/>
                    <a:pt x="7863" y="29497"/>
                    <a:pt x="10511" y="-22797"/>
                  </a:cubicBezTo>
                  <a:cubicBezTo>
                    <a:pt x="13160" y="-9554"/>
                    <a:pt x="26402" y="-1609"/>
                    <a:pt x="-27216" y="-5582"/>
                  </a:cubicBezTo>
                  <a:close/>
                </a:path>
              </a:pathLst>
            </a:custGeom>
            <a:solidFill>
              <a:srgbClr val="2d0201"/>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51" name="任意多边形: 形状 128"/>
            <p:cNvSpPr/>
            <p:nvPr/>
          </p:nvSpPr>
          <p:spPr>
            <a:xfrm>
              <a:off x="5613120" y="3038400"/>
              <a:ext cx="52920" cy="65880"/>
            </a:xfrm>
            <a:custGeom>
              <a:avLst/>
              <a:gdLst>
                <a:gd name="textAreaLeft" fmla="*/ 0 w 52920"/>
                <a:gd name="textAreaRight" fmla="*/ 53280 w 52920"/>
                <a:gd name="textAreaTop" fmla="*/ 0 h 65880"/>
                <a:gd name="textAreaBottom" fmla="*/ 66240 h 65880"/>
              </a:gdLst>
              <a:ahLst/>
              <a:rect l="textAreaLeft" t="textAreaTop" r="textAreaRight" b="textAreaBottom"/>
              <a:pathLst>
                <a:path w="52969" h="66211">
                  <a:moveTo>
                    <a:pt x="-29860" y="-9547"/>
                  </a:moveTo>
                  <a:cubicBezTo>
                    <a:pt x="-19266" y="-13520"/>
                    <a:pt x="-12645" y="-26762"/>
                    <a:pt x="-15293" y="26856"/>
                  </a:cubicBezTo>
                  <a:cubicBezTo>
                    <a:pt x="-17942" y="14938"/>
                    <a:pt x="-29860" y="6992"/>
                    <a:pt x="25082" y="10965"/>
                  </a:cubicBezTo>
                  <a:cubicBezTo>
                    <a:pt x="14488" y="14938"/>
                    <a:pt x="7867" y="28180"/>
                    <a:pt x="10516" y="-25438"/>
                  </a:cubicBezTo>
                  <a:cubicBezTo>
                    <a:pt x="13164" y="-13520"/>
                    <a:pt x="25082" y="-6899"/>
                    <a:pt x="-29860" y="-9547"/>
                  </a:cubicBezTo>
                  <a:close/>
                </a:path>
              </a:pathLst>
            </a:custGeom>
            <a:solidFill>
              <a:srgbClr val="6d2f06"/>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52" name="任意多边形: 形状 129"/>
            <p:cNvSpPr/>
            <p:nvPr/>
          </p:nvSpPr>
          <p:spPr>
            <a:xfrm>
              <a:off x="5622480" y="306036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9546" y="27484"/>
                  </a:moveTo>
                  <a:cubicBezTo>
                    <a:pt x="23519" y="26160"/>
                    <a:pt x="26167" y="20863"/>
                    <a:pt x="24843" y="16890"/>
                  </a:cubicBezTo>
                  <a:cubicBezTo>
                    <a:pt x="23519" y="11593"/>
                    <a:pt x="19546" y="8945"/>
                    <a:pt x="15573" y="10269"/>
                  </a:cubicBezTo>
                  <a:cubicBezTo>
                    <a:pt x="11601" y="11593"/>
                    <a:pt x="8952" y="16890"/>
                    <a:pt x="10276" y="20863"/>
                  </a:cubicBezTo>
                  <a:cubicBezTo>
                    <a:pt x="10276" y="26160"/>
                    <a:pt x="15573" y="28808"/>
                    <a:pt x="19546" y="27484"/>
                  </a:cubicBezTo>
                  <a:close/>
                </a:path>
              </a:pathLst>
            </a:custGeom>
            <a:solidFill>
              <a:srgbClr val="8e0404"/>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553" name="任意多边形: 形状 130"/>
            <p:cNvSpPr/>
            <p:nvPr/>
          </p:nvSpPr>
          <p:spPr>
            <a:xfrm>
              <a:off x="5625360" y="30524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9546" y="26167"/>
                  </a:moveTo>
                  <a:cubicBezTo>
                    <a:pt x="23519" y="24843"/>
                    <a:pt x="26167" y="20870"/>
                    <a:pt x="24843" y="15573"/>
                  </a:cubicBezTo>
                  <a:cubicBezTo>
                    <a:pt x="23519" y="11600"/>
                    <a:pt x="19546" y="8952"/>
                    <a:pt x="15573" y="10276"/>
                  </a:cubicBezTo>
                  <a:cubicBezTo>
                    <a:pt x="11601" y="11600"/>
                    <a:pt x="8952" y="15573"/>
                    <a:pt x="10276" y="19546"/>
                  </a:cubicBezTo>
                  <a:cubicBezTo>
                    <a:pt x="12924" y="26167"/>
                    <a:pt x="16897" y="27491"/>
                    <a:pt x="19546" y="26167"/>
                  </a:cubicBezTo>
                  <a:close/>
                </a:path>
              </a:pathLst>
            </a:custGeom>
            <a:solidFill>
              <a:srgbClr val="42030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554" name="任意多边形: 形状 131"/>
            <p:cNvSpPr/>
            <p:nvPr/>
          </p:nvSpPr>
          <p:spPr>
            <a:xfrm>
              <a:off x="5630760" y="306828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13242" h="13242">
                  <a:moveTo>
                    <a:pt x="11256" y="10480"/>
                  </a:moveTo>
                  <a:cubicBezTo>
                    <a:pt x="9932" y="10480"/>
                    <a:pt x="9932" y="11804"/>
                    <a:pt x="9932" y="13129"/>
                  </a:cubicBezTo>
                  <a:cubicBezTo>
                    <a:pt x="9932" y="14453"/>
                    <a:pt x="11256" y="14453"/>
                    <a:pt x="12580" y="14453"/>
                  </a:cubicBezTo>
                  <a:cubicBezTo>
                    <a:pt x="13904" y="14453"/>
                    <a:pt x="13904" y="13129"/>
                    <a:pt x="13904" y="11804"/>
                  </a:cubicBezTo>
                  <a:cubicBezTo>
                    <a:pt x="12580" y="10480"/>
                    <a:pt x="12580" y="9156"/>
                    <a:pt x="11256" y="10480"/>
                  </a:cubicBezTo>
                  <a:close/>
                </a:path>
              </a:pathLst>
            </a:custGeom>
            <a:solidFill>
              <a:srgbClr val="ffffff"/>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555" name="任意多边形: 形状 132"/>
            <p:cNvSpPr/>
            <p:nvPr/>
          </p:nvSpPr>
          <p:spPr>
            <a:xfrm>
              <a:off x="5634360" y="30510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5748" y="18397"/>
                  </a:moveTo>
                  <a:cubicBezTo>
                    <a:pt x="18397" y="17072"/>
                    <a:pt x="19721" y="15748"/>
                    <a:pt x="18397" y="13100"/>
                  </a:cubicBezTo>
                  <a:cubicBezTo>
                    <a:pt x="18397" y="10451"/>
                    <a:pt x="15748" y="9127"/>
                    <a:pt x="13100" y="10451"/>
                  </a:cubicBezTo>
                  <a:cubicBezTo>
                    <a:pt x="10451" y="11775"/>
                    <a:pt x="9127" y="13100"/>
                    <a:pt x="10451" y="15748"/>
                  </a:cubicBezTo>
                  <a:cubicBezTo>
                    <a:pt x="11775" y="17072"/>
                    <a:pt x="14424" y="19721"/>
                    <a:pt x="15748" y="18397"/>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556" name="任意多边形: 形状 133"/>
            <p:cNvSpPr/>
            <p:nvPr/>
          </p:nvSpPr>
          <p:spPr>
            <a:xfrm>
              <a:off x="5588640" y="302904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119843" y="43038"/>
                  </a:moveTo>
                  <a:cubicBezTo>
                    <a:pt x="119843" y="43038"/>
                    <a:pt x="115870" y="35092"/>
                    <a:pt x="106601" y="27147"/>
                  </a:cubicBezTo>
                  <a:cubicBezTo>
                    <a:pt x="101304" y="23174"/>
                    <a:pt x="96007" y="17877"/>
                    <a:pt x="88062" y="15229"/>
                  </a:cubicBezTo>
                  <a:cubicBezTo>
                    <a:pt x="84089" y="13904"/>
                    <a:pt x="80116" y="12580"/>
                    <a:pt x="76143" y="11256"/>
                  </a:cubicBezTo>
                  <a:lnTo>
                    <a:pt x="69522" y="9932"/>
                  </a:lnTo>
                  <a:cubicBezTo>
                    <a:pt x="66874" y="9932"/>
                    <a:pt x="65550" y="9932"/>
                    <a:pt x="62901" y="9932"/>
                  </a:cubicBezTo>
                  <a:cubicBezTo>
                    <a:pt x="58928" y="9932"/>
                    <a:pt x="53632" y="11256"/>
                    <a:pt x="49659" y="12580"/>
                  </a:cubicBezTo>
                  <a:cubicBezTo>
                    <a:pt x="45686" y="13904"/>
                    <a:pt x="41714" y="16553"/>
                    <a:pt x="37741" y="17877"/>
                  </a:cubicBezTo>
                  <a:cubicBezTo>
                    <a:pt x="33768" y="20526"/>
                    <a:pt x="31120" y="23174"/>
                    <a:pt x="28471" y="24498"/>
                  </a:cubicBezTo>
                  <a:cubicBezTo>
                    <a:pt x="25823" y="27147"/>
                    <a:pt x="23174" y="29795"/>
                    <a:pt x="21850" y="32444"/>
                  </a:cubicBezTo>
                  <a:cubicBezTo>
                    <a:pt x="19202" y="35092"/>
                    <a:pt x="17877" y="37741"/>
                    <a:pt x="16553" y="39065"/>
                  </a:cubicBezTo>
                  <a:cubicBezTo>
                    <a:pt x="15229" y="41713"/>
                    <a:pt x="13905" y="43038"/>
                    <a:pt x="12580" y="44362"/>
                  </a:cubicBezTo>
                  <a:cubicBezTo>
                    <a:pt x="11256" y="47010"/>
                    <a:pt x="9932" y="49659"/>
                    <a:pt x="9932" y="49659"/>
                  </a:cubicBezTo>
                  <a:cubicBezTo>
                    <a:pt x="9932" y="49659"/>
                    <a:pt x="11256" y="48334"/>
                    <a:pt x="13905" y="45686"/>
                  </a:cubicBezTo>
                  <a:cubicBezTo>
                    <a:pt x="15229" y="44362"/>
                    <a:pt x="16553" y="43038"/>
                    <a:pt x="19202" y="41713"/>
                  </a:cubicBezTo>
                  <a:cubicBezTo>
                    <a:pt x="20526" y="40389"/>
                    <a:pt x="23174" y="37741"/>
                    <a:pt x="25823" y="36416"/>
                  </a:cubicBezTo>
                  <a:cubicBezTo>
                    <a:pt x="28471" y="35092"/>
                    <a:pt x="31120" y="32444"/>
                    <a:pt x="33768" y="31119"/>
                  </a:cubicBezTo>
                  <a:cubicBezTo>
                    <a:pt x="36416" y="29795"/>
                    <a:pt x="40389" y="28471"/>
                    <a:pt x="43038" y="25823"/>
                  </a:cubicBezTo>
                  <a:cubicBezTo>
                    <a:pt x="47010" y="24498"/>
                    <a:pt x="49659" y="23174"/>
                    <a:pt x="53632" y="21850"/>
                  </a:cubicBezTo>
                  <a:cubicBezTo>
                    <a:pt x="57604" y="21850"/>
                    <a:pt x="60253" y="20526"/>
                    <a:pt x="64225" y="20526"/>
                  </a:cubicBezTo>
                  <a:cubicBezTo>
                    <a:pt x="65550" y="20526"/>
                    <a:pt x="68198" y="20526"/>
                    <a:pt x="69522" y="20526"/>
                  </a:cubicBezTo>
                  <a:lnTo>
                    <a:pt x="74819" y="21850"/>
                  </a:lnTo>
                  <a:cubicBezTo>
                    <a:pt x="78792" y="21850"/>
                    <a:pt x="81441" y="23174"/>
                    <a:pt x="85413" y="24498"/>
                  </a:cubicBezTo>
                  <a:cubicBezTo>
                    <a:pt x="89386" y="25823"/>
                    <a:pt x="92034" y="27147"/>
                    <a:pt x="94683" y="28471"/>
                  </a:cubicBezTo>
                  <a:cubicBezTo>
                    <a:pt x="97331" y="29795"/>
                    <a:pt x="99980" y="31119"/>
                    <a:pt x="102628" y="32444"/>
                  </a:cubicBezTo>
                  <a:cubicBezTo>
                    <a:pt x="113222" y="37741"/>
                    <a:pt x="119843" y="43038"/>
                    <a:pt x="119843" y="43038"/>
                  </a:cubicBezTo>
                  <a:close/>
                </a:path>
              </a:pathLst>
            </a:custGeom>
            <a:solidFill>
              <a:srgbClr val="3c241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557" name="任意多边形: 形状 134"/>
            <p:cNvSpPr/>
            <p:nvPr/>
          </p:nvSpPr>
          <p:spPr>
            <a:xfrm>
              <a:off x="6015960" y="2958120"/>
              <a:ext cx="119160" cy="185400"/>
            </a:xfrm>
            <a:custGeom>
              <a:avLst/>
              <a:gdLst>
                <a:gd name="textAreaLeft" fmla="*/ 0 w 119160"/>
                <a:gd name="textAreaRight" fmla="*/ 119520 w 119160"/>
                <a:gd name="textAreaTop" fmla="*/ 0 h 185400"/>
                <a:gd name="textAreaBottom" fmla="*/ 185760 h 185400"/>
              </a:gdLst>
              <a:ahLst/>
              <a:rect l="textAreaLeft" t="textAreaTop" r="textAreaRight" b="textAreaBottom"/>
              <a:pathLst>
                <a:path w="119180" h="185392">
                  <a:moveTo>
                    <a:pt x="18136" y="41181"/>
                  </a:moveTo>
                  <a:cubicBezTo>
                    <a:pt x="18136" y="41181"/>
                    <a:pt x="37999" y="4102"/>
                    <a:pt x="81699" y="10724"/>
                  </a:cubicBezTo>
                  <a:cubicBezTo>
                    <a:pt x="139965" y="18669"/>
                    <a:pt x="108183" y="190819"/>
                    <a:pt x="12839" y="182874"/>
                  </a:cubicBezTo>
                  <a:cubicBezTo>
                    <a:pt x="12839" y="181549"/>
                    <a:pt x="3569" y="72962"/>
                    <a:pt x="18136" y="41181"/>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58" name="任意多边形: 形状 135"/>
            <p:cNvSpPr/>
            <p:nvPr/>
          </p:nvSpPr>
          <p:spPr>
            <a:xfrm>
              <a:off x="6026040" y="2990160"/>
              <a:ext cx="65880" cy="119160"/>
            </a:xfrm>
            <a:custGeom>
              <a:avLst/>
              <a:gdLst>
                <a:gd name="textAreaLeft" fmla="*/ 0 w 65880"/>
                <a:gd name="textAreaRight" fmla="*/ 66240 w 65880"/>
                <a:gd name="textAreaTop" fmla="*/ 0 h 119160"/>
                <a:gd name="textAreaBottom" fmla="*/ 119520 h 119160"/>
              </a:gdLst>
              <a:ahLst/>
              <a:rect l="textAreaLeft" t="textAreaTop" r="textAreaRight" b="textAreaBottom"/>
              <a:pathLst>
                <a:path w="66211" h="119180">
                  <a:moveTo>
                    <a:pt x="10925" y="111051"/>
                  </a:moveTo>
                  <a:cubicBezTo>
                    <a:pt x="10925" y="111051"/>
                    <a:pt x="6952" y="54109"/>
                    <a:pt x="14898" y="34246"/>
                  </a:cubicBezTo>
                  <a:cubicBezTo>
                    <a:pt x="25491" y="9085"/>
                    <a:pt x="67867" y="-4157"/>
                    <a:pt x="65218" y="32922"/>
                  </a:cubicBezTo>
                  <a:cubicBezTo>
                    <a:pt x="62570" y="93836"/>
                    <a:pt x="16222" y="118997"/>
                    <a:pt x="10925" y="111051"/>
                  </a:cubicBezTo>
                  <a:close/>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59" name="任意多边形: 形状 136"/>
            <p:cNvSpPr/>
            <p:nvPr/>
          </p:nvSpPr>
          <p:spPr>
            <a:xfrm>
              <a:off x="5526360" y="2794680"/>
              <a:ext cx="397080" cy="65880"/>
            </a:xfrm>
            <a:custGeom>
              <a:avLst/>
              <a:gdLst>
                <a:gd name="textAreaLeft" fmla="*/ 0 w 397080"/>
                <a:gd name="textAreaRight" fmla="*/ 397440 w 397080"/>
                <a:gd name="textAreaTop" fmla="*/ 0 h 65880"/>
                <a:gd name="textAreaBottom" fmla="*/ 66240 h 65880"/>
              </a:gdLst>
              <a:ahLst/>
              <a:rect l="textAreaLeft" t="textAreaTop" r="textAreaRight" b="textAreaBottom"/>
              <a:pathLst>
                <a:path w="397269" h="66211">
                  <a:moveTo>
                    <a:pt x="9932" y="16553"/>
                  </a:moveTo>
                  <a:cubicBezTo>
                    <a:pt x="44362" y="48334"/>
                    <a:pt x="232402" y="94683"/>
                    <a:pt x="388662" y="19201"/>
                  </a:cubicBezTo>
                  <a:cubicBezTo>
                    <a:pt x="391310" y="16553"/>
                    <a:pt x="393959" y="12580"/>
                    <a:pt x="396607" y="9932"/>
                  </a:cubicBezTo>
                  <a:cubicBezTo>
                    <a:pt x="253590" y="73495"/>
                    <a:pt x="66873" y="32444"/>
                    <a:pt x="9932" y="16553"/>
                  </a:cubicBezTo>
                  <a:close/>
                </a:path>
              </a:pathLst>
            </a:custGeom>
            <a:solidFill>
              <a:srgbClr val="893d04"/>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60" name="任意多边形: 形状 137"/>
            <p:cNvSpPr/>
            <p:nvPr/>
          </p:nvSpPr>
          <p:spPr>
            <a:xfrm>
              <a:off x="5695920" y="3218400"/>
              <a:ext cx="145440" cy="65880"/>
            </a:xfrm>
            <a:custGeom>
              <a:avLst/>
              <a:gdLst>
                <a:gd name="textAreaLeft" fmla="*/ 0 w 145440"/>
                <a:gd name="textAreaRight" fmla="*/ 145800 w 145440"/>
                <a:gd name="textAreaTop" fmla="*/ 0 h 65880"/>
                <a:gd name="textAreaBottom" fmla="*/ 66240 h 65880"/>
              </a:gdLst>
              <a:ahLst/>
              <a:rect l="textAreaLeft" t="textAreaTop" r="textAreaRight" b="textAreaBottom"/>
              <a:pathLst>
                <a:path w="145665" h="66211">
                  <a:moveTo>
                    <a:pt x="9932" y="23174"/>
                  </a:moveTo>
                  <a:cubicBezTo>
                    <a:pt x="9932" y="23174"/>
                    <a:pt x="33768" y="54956"/>
                    <a:pt x="52307" y="60253"/>
                  </a:cubicBezTo>
                  <a:cubicBezTo>
                    <a:pt x="66874" y="64225"/>
                    <a:pt x="86737" y="62901"/>
                    <a:pt x="101304" y="56280"/>
                  </a:cubicBezTo>
                  <a:cubicBezTo>
                    <a:pt x="118519" y="48335"/>
                    <a:pt x="143679" y="16553"/>
                    <a:pt x="146328" y="9932"/>
                  </a:cubicBezTo>
                  <a:cubicBezTo>
                    <a:pt x="145003" y="11256"/>
                    <a:pt x="86737" y="58928"/>
                    <a:pt x="9932" y="23174"/>
                  </a:cubicBezTo>
                  <a:close/>
                </a:path>
              </a:pathLst>
            </a:custGeom>
            <a:solidFill>
              <a:srgbClr val="f7bb8d"/>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561" name="任意多边形: 形状 138"/>
            <p:cNvSpPr/>
            <p:nvPr/>
          </p:nvSpPr>
          <p:spPr>
            <a:xfrm>
              <a:off x="5695920" y="3219840"/>
              <a:ext cx="145440" cy="39600"/>
            </a:xfrm>
            <a:custGeom>
              <a:avLst/>
              <a:gdLst>
                <a:gd name="textAreaLeft" fmla="*/ 0 w 145440"/>
                <a:gd name="textAreaRight" fmla="*/ 145800 w 145440"/>
                <a:gd name="textAreaTop" fmla="*/ 0 h 39600"/>
                <a:gd name="textAreaBottom" fmla="*/ 39960 h 39600"/>
              </a:gdLst>
              <a:ahLst/>
              <a:rect l="textAreaLeft" t="textAreaTop" r="textAreaRight" b="textAreaBottom"/>
              <a:pathLst>
                <a:path w="145665" h="39726">
                  <a:moveTo>
                    <a:pt x="9932" y="21850"/>
                  </a:moveTo>
                  <a:cubicBezTo>
                    <a:pt x="9932" y="21850"/>
                    <a:pt x="45686" y="19201"/>
                    <a:pt x="52307" y="23174"/>
                  </a:cubicBezTo>
                  <a:cubicBezTo>
                    <a:pt x="57604" y="25822"/>
                    <a:pt x="62901" y="25822"/>
                    <a:pt x="70846" y="23174"/>
                  </a:cubicBezTo>
                  <a:cubicBezTo>
                    <a:pt x="80116" y="19201"/>
                    <a:pt x="146328" y="9932"/>
                    <a:pt x="146328" y="9932"/>
                  </a:cubicBezTo>
                  <a:cubicBezTo>
                    <a:pt x="146328" y="9932"/>
                    <a:pt x="110573" y="37741"/>
                    <a:pt x="73495" y="40389"/>
                  </a:cubicBezTo>
                  <a:cubicBezTo>
                    <a:pt x="33768" y="41713"/>
                    <a:pt x="9932" y="21850"/>
                    <a:pt x="9932" y="21850"/>
                  </a:cubicBezTo>
                  <a:close/>
                </a:path>
              </a:pathLst>
            </a:custGeom>
            <a:solidFill>
              <a:srgbClr val="f7b07c"/>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562" name="任意多边形: 形状 139"/>
            <p:cNvSpPr/>
            <p:nvPr/>
          </p:nvSpPr>
          <p:spPr>
            <a:xfrm>
              <a:off x="5711760" y="3149640"/>
              <a:ext cx="79200" cy="39600"/>
            </a:xfrm>
            <a:custGeom>
              <a:avLst/>
              <a:gdLst>
                <a:gd name="textAreaLeft" fmla="*/ 0 w 79200"/>
                <a:gd name="textAreaRight" fmla="*/ 79560 w 79200"/>
                <a:gd name="textAreaTop" fmla="*/ 0 h 39600"/>
                <a:gd name="textAreaBottom" fmla="*/ 39960 h 39600"/>
              </a:gdLst>
              <a:ahLst/>
              <a:rect l="textAreaLeft" t="textAreaTop" r="textAreaRight" b="textAreaBottom"/>
              <a:pathLst>
                <a:path w="79453" h="39726">
                  <a:moveTo>
                    <a:pt x="37741" y="17877"/>
                  </a:moveTo>
                  <a:cubicBezTo>
                    <a:pt x="24498" y="19201"/>
                    <a:pt x="19201" y="16553"/>
                    <a:pt x="9932" y="13904"/>
                  </a:cubicBezTo>
                  <a:cubicBezTo>
                    <a:pt x="15229" y="27147"/>
                    <a:pt x="24498" y="36416"/>
                    <a:pt x="41713" y="35092"/>
                  </a:cubicBezTo>
                  <a:cubicBezTo>
                    <a:pt x="58928" y="33768"/>
                    <a:pt x="77468" y="23174"/>
                    <a:pt x="81440" y="9932"/>
                  </a:cubicBezTo>
                  <a:cubicBezTo>
                    <a:pt x="70846" y="13904"/>
                    <a:pt x="52307" y="16553"/>
                    <a:pt x="37741" y="17877"/>
                  </a:cubicBezTo>
                  <a:close/>
                </a:path>
              </a:pathLst>
            </a:custGeom>
            <a:solidFill>
              <a:srgbClr val="f4c78c"/>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563" name="任意多边形: 形状 140"/>
            <p:cNvSpPr/>
            <p:nvPr/>
          </p:nvSpPr>
          <p:spPr>
            <a:xfrm>
              <a:off x="5416560" y="3405240"/>
              <a:ext cx="317520" cy="1271160"/>
            </a:xfrm>
            <a:custGeom>
              <a:avLst/>
              <a:gdLst>
                <a:gd name="textAreaLeft" fmla="*/ 0 w 317520"/>
                <a:gd name="textAreaRight" fmla="*/ 317880 w 317520"/>
                <a:gd name="textAreaTop" fmla="*/ 0 h 1271160"/>
                <a:gd name="textAreaBottom" fmla="*/ 1271520 h 1271160"/>
              </a:gdLst>
              <a:ahLst/>
              <a:rect l="textAreaLeft" t="textAreaTop" r="textAreaRight" b="textAreaBottom"/>
              <a:pathLst>
                <a:path w="317815" h="1271261">
                  <a:moveTo>
                    <a:pt x="312794" y="9932"/>
                  </a:moveTo>
                  <a:cubicBezTo>
                    <a:pt x="312794" y="9932"/>
                    <a:pt x="327360" y="1081234"/>
                    <a:pt x="254528" y="1257357"/>
                  </a:cubicBezTo>
                  <a:cubicBezTo>
                    <a:pt x="254528" y="1257357"/>
                    <a:pt x="122105" y="1266627"/>
                    <a:pt x="14842" y="1257357"/>
                  </a:cubicBezTo>
                  <a:cubicBezTo>
                    <a:pt x="-10319" y="1160688"/>
                    <a:pt x="69135" y="932921"/>
                    <a:pt x="74433" y="595242"/>
                  </a:cubicBezTo>
                  <a:cubicBezTo>
                    <a:pt x="75756" y="526382"/>
                    <a:pt x="34706" y="438982"/>
                    <a:pt x="34706" y="372771"/>
                  </a:cubicBezTo>
                  <a:cubicBezTo>
                    <a:pt x="34706" y="298614"/>
                    <a:pt x="47948" y="242996"/>
                    <a:pt x="45299" y="180757"/>
                  </a:cubicBezTo>
                  <a:cubicBezTo>
                    <a:pt x="45299" y="180757"/>
                    <a:pt x="49272" y="99979"/>
                    <a:pt x="92972" y="82764"/>
                  </a:cubicBezTo>
                  <a:lnTo>
                    <a:pt x="312794" y="9932"/>
                  </a:lnTo>
                  <a:close/>
                </a:path>
              </a:pathLst>
            </a:custGeom>
            <a:solidFill>
              <a:srgbClr val="3b3e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64" name="任意多边形: 形状 141"/>
            <p:cNvSpPr/>
            <p:nvPr/>
          </p:nvSpPr>
          <p:spPr>
            <a:xfrm>
              <a:off x="5743440" y="3550680"/>
              <a:ext cx="172080" cy="675360"/>
            </a:xfrm>
            <a:custGeom>
              <a:avLst/>
              <a:gdLst>
                <a:gd name="textAreaLeft" fmla="*/ 0 w 172080"/>
                <a:gd name="textAreaRight" fmla="*/ 172440 w 172080"/>
                <a:gd name="textAreaTop" fmla="*/ 0 h 675360"/>
                <a:gd name="textAreaBottom" fmla="*/ 675720 h 675360"/>
              </a:gdLst>
              <a:ahLst/>
              <a:rect l="textAreaLeft" t="textAreaTop" r="textAreaRight" b="textAreaBottom"/>
              <a:pathLst>
                <a:path w="172150" h="675357">
                  <a:moveTo>
                    <a:pt x="134409" y="113242"/>
                  </a:moveTo>
                  <a:cubicBezTo>
                    <a:pt x="134409" y="113242"/>
                    <a:pt x="162218" y="73515"/>
                    <a:pt x="162218" y="16573"/>
                  </a:cubicBezTo>
                  <a:cubicBezTo>
                    <a:pt x="162218" y="9952"/>
                    <a:pt x="134409" y="9952"/>
                    <a:pt x="134409" y="9952"/>
                  </a:cubicBezTo>
                  <a:cubicBezTo>
                    <a:pt x="134409" y="9952"/>
                    <a:pt x="66873" y="11276"/>
                    <a:pt x="62901" y="9952"/>
                  </a:cubicBezTo>
                  <a:cubicBezTo>
                    <a:pt x="58928" y="8628"/>
                    <a:pt x="40389" y="72191"/>
                    <a:pt x="40389" y="72191"/>
                  </a:cubicBezTo>
                  <a:cubicBezTo>
                    <a:pt x="40389" y="72191"/>
                    <a:pt x="58928" y="97351"/>
                    <a:pt x="68198" y="111918"/>
                  </a:cubicBezTo>
                  <a:lnTo>
                    <a:pt x="66873" y="121187"/>
                  </a:lnTo>
                  <a:lnTo>
                    <a:pt x="9932" y="607180"/>
                  </a:lnTo>
                  <a:lnTo>
                    <a:pt x="86737" y="670743"/>
                  </a:lnTo>
                  <a:lnTo>
                    <a:pt x="143679" y="593938"/>
                  </a:lnTo>
                  <a:lnTo>
                    <a:pt x="134409" y="113242"/>
                  </a:lnTo>
                  <a:close/>
                </a:path>
              </a:pathLst>
            </a:custGeom>
            <a:solidFill>
              <a:srgbClr val="006ec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65" name="任意多边形: 形状 142"/>
            <p:cNvSpPr/>
            <p:nvPr/>
          </p:nvSpPr>
          <p:spPr>
            <a:xfrm>
              <a:off x="5879880" y="3385080"/>
              <a:ext cx="211680" cy="277920"/>
            </a:xfrm>
            <a:custGeom>
              <a:avLst/>
              <a:gdLst>
                <a:gd name="textAreaLeft" fmla="*/ 0 w 211680"/>
                <a:gd name="textAreaRight" fmla="*/ 212040 w 211680"/>
                <a:gd name="textAreaTop" fmla="*/ 0 h 277920"/>
                <a:gd name="textAreaBottom" fmla="*/ 278280 h 277920"/>
              </a:gdLst>
              <a:ahLst/>
              <a:rect l="textAreaLeft" t="textAreaTop" r="textAreaRight" b="textAreaBottom"/>
              <a:pathLst>
                <a:path w="211876" h="278088">
                  <a:moveTo>
                    <a:pt x="134410" y="9932"/>
                  </a:moveTo>
                  <a:cubicBezTo>
                    <a:pt x="134410" y="9932"/>
                    <a:pt x="98655" y="126464"/>
                    <a:pt x="9932" y="176785"/>
                  </a:cubicBezTo>
                  <a:cubicBezTo>
                    <a:pt x="33768" y="236375"/>
                    <a:pt x="62901" y="276102"/>
                    <a:pt x="62901" y="276102"/>
                  </a:cubicBezTo>
                  <a:cubicBezTo>
                    <a:pt x="62901" y="276102"/>
                    <a:pt x="154273" y="171488"/>
                    <a:pt x="178109" y="131761"/>
                  </a:cubicBezTo>
                  <a:cubicBezTo>
                    <a:pt x="186055" y="118519"/>
                    <a:pt x="205918" y="64225"/>
                    <a:pt x="205918" y="64225"/>
                  </a:cubicBezTo>
                  <a:lnTo>
                    <a:pt x="134410" y="99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66" name="任意多边形: 形状 143"/>
            <p:cNvSpPr/>
            <p:nvPr/>
          </p:nvSpPr>
          <p:spPr>
            <a:xfrm>
              <a:off x="5670720" y="3393360"/>
              <a:ext cx="145440" cy="264600"/>
            </a:xfrm>
            <a:custGeom>
              <a:avLst/>
              <a:gdLst>
                <a:gd name="textAreaLeft" fmla="*/ 0 w 145440"/>
                <a:gd name="textAreaRight" fmla="*/ 145800 w 145440"/>
                <a:gd name="textAreaTop" fmla="*/ 0 h 264600"/>
                <a:gd name="textAreaBottom" fmla="*/ 264960 h 264600"/>
              </a:gdLst>
              <a:ahLst/>
              <a:rect l="textAreaLeft" t="textAreaTop" r="textAreaRight" b="textAreaBottom"/>
              <a:pathLst>
                <a:path w="145665" h="264846">
                  <a:moveTo>
                    <a:pt x="81188" y="9932"/>
                  </a:moveTo>
                  <a:cubicBezTo>
                    <a:pt x="81188" y="9932"/>
                    <a:pt x="71918" y="135734"/>
                    <a:pt x="143427" y="167515"/>
                  </a:cubicBezTo>
                  <a:cubicBezTo>
                    <a:pt x="114293" y="232402"/>
                    <a:pt x="93106" y="262860"/>
                    <a:pt x="93106" y="262860"/>
                  </a:cubicBezTo>
                  <a:cubicBezTo>
                    <a:pt x="93106" y="262860"/>
                    <a:pt x="34840" y="186054"/>
                    <a:pt x="17625" y="142355"/>
                  </a:cubicBezTo>
                  <a:cubicBezTo>
                    <a:pt x="3058" y="105276"/>
                    <a:pt x="13652" y="61577"/>
                    <a:pt x="13652" y="61577"/>
                  </a:cubicBezTo>
                  <a:lnTo>
                    <a:pt x="81188" y="99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67" name="任意多边形: 形状 144"/>
            <p:cNvSpPr/>
            <p:nvPr/>
          </p:nvSpPr>
          <p:spPr>
            <a:xfrm>
              <a:off x="5587200" y="3405240"/>
              <a:ext cx="145440" cy="688680"/>
            </a:xfrm>
            <a:custGeom>
              <a:avLst/>
              <a:gdLst>
                <a:gd name="textAreaLeft" fmla="*/ 0 w 145440"/>
                <a:gd name="textAreaRight" fmla="*/ 145800 w 145440"/>
                <a:gd name="textAreaTop" fmla="*/ 0 h 688680"/>
                <a:gd name="textAreaBottom" fmla="*/ 689040 h 688680"/>
              </a:gdLst>
              <a:ahLst/>
              <a:rect l="textAreaLeft" t="textAreaTop" r="textAreaRight" b="textAreaBottom"/>
              <a:pathLst>
                <a:path w="145665" h="688600">
                  <a:moveTo>
                    <a:pt x="101304" y="23174"/>
                  </a:moveTo>
                  <a:lnTo>
                    <a:pt x="9932" y="306559"/>
                  </a:lnTo>
                  <a:lnTo>
                    <a:pt x="57604" y="325099"/>
                  </a:lnTo>
                  <a:lnTo>
                    <a:pt x="9932" y="346286"/>
                  </a:lnTo>
                  <a:lnTo>
                    <a:pt x="137058" y="683965"/>
                  </a:lnTo>
                  <a:cubicBezTo>
                    <a:pt x="137058" y="683965"/>
                    <a:pt x="151624" y="126464"/>
                    <a:pt x="141031" y="9932"/>
                  </a:cubicBezTo>
                  <a:lnTo>
                    <a:pt x="101304" y="23174"/>
                  </a:lnTo>
                  <a:close/>
                </a:path>
              </a:pathLst>
            </a:custGeom>
            <a:solidFill>
              <a:srgbClr val="4d4a4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68" name="任意多边形: 形状 145"/>
            <p:cNvSpPr/>
            <p:nvPr/>
          </p:nvSpPr>
          <p:spPr>
            <a:xfrm>
              <a:off x="5821200" y="3403800"/>
              <a:ext cx="489960" cy="1297800"/>
            </a:xfrm>
            <a:custGeom>
              <a:avLst/>
              <a:gdLst>
                <a:gd name="textAreaLeft" fmla="*/ 0 w 489960"/>
                <a:gd name="textAreaRight" fmla="*/ 490320 w 489960"/>
                <a:gd name="textAreaTop" fmla="*/ 0 h 1297800"/>
                <a:gd name="textAreaBottom" fmla="*/ 1298160 h 1297800"/>
              </a:gdLst>
              <a:ahLst/>
              <a:rect l="textAreaLeft" t="textAreaTop" r="textAreaRight" b="textAreaBottom"/>
              <a:pathLst>
                <a:path w="489965" h="1297746">
                  <a:moveTo>
                    <a:pt x="415588" y="458846"/>
                  </a:moveTo>
                  <a:cubicBezTo>
                    <a:pt x="432803" y="298614"/>
                    <a:pt x="442072" y="200621"/>
                    <a:pt x="485772" y="178109"/>
                  </a:cubicBezTo>
                  <a:cubicBezTo>
                    <a:pt x="411615" y="92034"/>
                    <a:pt x="219602" y="9932"/>
                    <a:pt x="219602" y="9932"/>
                  </a:cubicBezTo>
                  <a:cubicBezTo>
                    <a:pt x="92475" y="156921"/>
                    <a:pt x="38182" y="391310"/>
                    <a:pt x="38182" y="391310"/>
                  </a:cubicBezTo>
                  <a:cubicBezTo>
                    <a:pt x="-25381" y="836252"/>
                    <a:pt x="38182" y="1281193"/>
                    <a:pt x="38182" y="1281193"/>
                  </a:cubicBezTo>
                  <a:cubicBezTo>
                    <a:pt x="121608" y="1315624"/>
                    <a:pt x="382482" y="1249412"/>
                    <a:pt x="378509" y="1246764"/>
                  </a:cubicBezTo>
                  <a:cubicBezTo>
                    <a:pt x="381158" y="1175255"/>
                    <a:pt x="412939" y="583324"/>
                    <a:pt x="415588" y="458846"/>
                  </a:cubicBezTo>
                  <a:close/>
                </a:path>
              </a:pathLst>
            </a:custGeom>
            <a:solidFill>
              <a:srgbClr val="3b3e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69" name="任意多边形: 形状 146"/>
            <p:cNvSpPr/>
            <p:nvPr/>
          </p:nvSpPr>
          <p:spPr>
            <a:xfrm>
              <a:off x="5983200" y="3623760"/>
              <a:ext cx="291240" cy="1072800"/>
            </a:xfrm>
            <a:custGeom>
              <a:avLst/>
              <a:gdLst>
                <a:gd name="textAreaLeft" fmla="*/ 0 w 291240"/>
                <a:gd name="textAreaRight" fmla="*/ 291600 w 291240"/>
                <a:gd name="textAreaTop" fmla="*/ 0 h 1072800"/>
                <a:gd name="textAreaBottom" fmla="*/ 1073160 h 1072800"/>
              </a:gdLst>
              <a:ahLst/>
              <a:rect l="textAreaLeft" t="textAreaTop" r="textAreaRight" b="textAreaBottom"/>
              <a:pathLst>
                <a:path w="291330" h="1072627">
                  <a:moveTo>
                    <a:pt x="213863" y="151624"/>
                  </a:moveTo>
                  <a:cubicBezTo>
                    <a:pt x="154273" y="472088"/>
                    <a:pt x="203270" y="698532"/>
                    <a:pt x="9932" y="1069317"/>
                  </a:cubicBezTo>
                  <a:cubicBezTo>
                    <a:pt x="109249" y="1058723"/>
                    <a:pt x="216512" y="1030914"/>
                    <a:pt x="213863" y="1029590"/>
                  </a:cubicBezTo>
                  <a:cubicBezTo>
                    <a:pt x="215188" y="958081"/>
                    <a:pt x="248293" y="366150"/>
                    <a:pt x="250942" y="241672"/>
                  </a:cubicBezTo>
                  <a:cubicBezTo>
                    <a:pt x="261536" y="135734"/>
                    <a:pt x="269481" y="58928"/>
                    <a:pt x="286696" y="9932"/>
                  </a:cubicBezTo>
                  <a:cubicBezTo>
                    <a:pt x="236375" y="44362"/>
                    <a:pt x="224457" y="107925"/>
                    <a:pt x="213863" y="151624"/>
                  </a:cubicBezTo>
                  <a:close/>
                </a:path>
              </a:pathLst>
            </a:custGeom>
            <a:solidFill>
              <a:srgbClr val="2a2a2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0" name="任意多边形: 形状 147"/>
            <p:cNvSpPr/>
            <p:nvPr/>
          </p:nvSpPr>
          <p:spPr>
            <a:xfrm>
              <a:off x="5820480" y="3405240"/>
              <a:ext cx="291240" cy="701640"/>
            </a:xfrm>
            <a:custGeom>
              <a:avLst/>
              <a:gdLst>
                <a:gd name="textAreaLeft" fmla="*/ 0 w 291240"/>
                <a:gd name="textAreaRight" fmla="*/ 291600 w 291240"/>
                <a:gd name="textAreaTop" fmla="*/ 0 h 701640"/>
                <a:gd name="textAreaBottom" fmla="*/ 702000 h 701640"/>
              </a:gdLst>
              <a:ahLst/>
              <a:rect l="textAreaLeft" t="textAreaTop" r="textAreaRight" b="textAreaBottom"/>
              <a:pathLst>
                <a:path w="291330" h="701842">
                  <a:moveTo>
                    <a:pt x="11011" y="699862"/>
                  </a:moveTo>
                  <a:lnTo>
                    <a:pt x="159325" y="358210"/>
                  </a:lnTo>
                  <a:lnTo>
                    <a:pt x="135489" y="322456"/>
                  </a:lnTo>
                  <a:lnTo>
                    <a:pt x="193755" y="307889"/>
                  </a:lnTo>
                  <a:cubicBezTo>
                    <a:pt x="193755" y="307889"/>
                    <a:pt x="269236" y="146333"/>
                    <a:pt x="293072" y="39070"/>
                  </a:cubicBezTo>
                  <a:lnTo>
                    <a:pt x="218915" y="9937"/>
                  </a:lnTo>
                  <a:cubicBezTo>
                    <a:pt x="218915" y="8613"/>
                    <a:pt x="-7528" y="237705"/>
                    <a:pt x="11011" y="699862"/>
                  </a:cubicBezTo>
                  <a:close/>
                </a:path>
              </a:pathLst>
            </a:custGeom>
            <a:solidFill>
              <a:srgbClr val="4d4a4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1" name="任意多边形: 形状 148"/>
            <p:cNvSpPr/>
            <p:nvPr/>
          </p:nvSpPr>
          <p:spPr>
            <a:xfrm>
              <a:off x="6051960" y="4718880"/>
              <a:ext cx="119160" cy="145440"/>
            </a:xfrm>
            <a:custGeom>
              <a:avLst/>
              <a:gdLst>
                <a:gd name="textAreaLeft" fmla="*/ 0 w 119160"/>
                <a:gd name="textAreaRight" fmla="*/ 119520 w 119160"/>
                <a:gd name="textAreaTop" fmla="*/ 0 h 145440"/>
                <a:gd name="textAreaBottom" fmla="*/ 145800 h 145440"/>
              </a:gdLst>
              <a:ahLst/>
              <a:rect l="textAreaLeft" t="textAreaTop" r="textAreaRight" b="textAreaBottom"/>
              <a:pathLst>
                <a:path w="119180" h="145665">
                  <a:moveTo>
                    <a:pt x="11256" y="111897"/>
                  </a:moveTo>
                  <a:cubicBezTo>
                    <a:pt x="8608" y="118519"/>
                    <a:pt x="9932" y="125140"/>
                    <a:pt x="15229" y="129113"/>
                  </a:cubicBezTo>
                  <a:lnTo>
                    <a:pt x="19201" y="133085"/>
                  </a:lnTo>
                  <a:lnTo>
                    <a:pt x="60253" y="145003"/>
                  </a:lnTo>
                  <a:cubicBezTo>
                    <a:pt x="68198" y="148976"/>
                    <a:pt x="74819" y="146328"/>
                    <a:pt x="81440" y="139706"/>
                  </a:cubicBezTo>
                  <a:lnTo>
                    <a:pt x="111897" y="105276"/>
                  </a:lnTo>
                  <a:lnTo>
                    <a:pt x="35092" y="9932"/>
                  </a:lnTo>
                  <a:lnTo>
                    <a:pt x="35092" y="21850"/>
                  </a:lnTo>
                  <a:lnTo>
                    <a:pt x="11256" y="111897"/>
                  </a:lnTo>
                  <a:close/>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2" name="任意多边形: 形状 149"/>
            <p:cNvSpPr/>
            <p:nvPr/>
          </p:nvSpPr>
          <p:spPr>
            <a:xfrm>
              <a:off x="6090480" y="3532320"/>
              <a:ext cx="317520" cy="1165320"/>
            </a:xfrm>
            <a:custGeom>
              <a:avLst/>
              <a:gdLst>
                <a:gd name="textAreaLeft" fmla="*/ 0 w 317520"/>
                <a:gd name="textAreaRight" fmla="*/ 317880 w 317520"/>
                <a:gd name="textAreaTop" fmla="*/ 0 h 1165320"/>
                <a:gd name="textAreaBottom" fmla="*/ 1165680 h 1165320"/>
              </a:gdLst>
              <a:ahLst/>
              <a:rect l="textAreaLeft" t="textAreaTop" r="textAreaRight" b="textAreaBottom"/>
              <a:pathLst>
                <a:path w="317815" h="1165323">
                  <a:moveTo>
                    <a:pt x="209890" y="44386"/>
                  </a:moveTo>
                  <a:cubicBezTo>
                    <a:pt x="142355" y="-12556"/>
                    <a:pt x="82764" y="-12556"/>
                    <a:pt x="53631" y="150324"/>
                  </a:cubicBezTo>
                  <a:cubicBezTo>
                    <a:pt x="29795" y="281423"/>
                    <a:pt x="103952" y="578051"/>
                    <a:pt x="117194" y="670747"/>
                  </a:cubicBezTo>
                  <a:cubicBezTo>
                    <a:pt x="53631" y="876003"/>
                    <a:pt x="13904" y="1106419"/>
                    <a:pt x="9932" y="1127607"/>
                  </a:cubicBezTo>
                  <a:cubicBezTo>
                    <a:pt x="60252" y="1143498"/>
                    <a:pt x="184730" y="1159388"/>
                    <a:pt x="184730" y="1159388"/>
                  </a:cubicBezTo>
                  <a:cubicBezTo>
                    <a:pt x="208566" y="1117013"/>
                    <a:pt x="232402" y="1070665"/>
                    <a:pt x="307884" y="658829"/>
                  </a:cubicBezTo>
                  <a:cubicBezTo>
                    <a:pt x="309208" y="502570"/>
                    <a:pt x="265508" y="159594"/>
                    <a:pt x="209890" y="44386"/>
                  </a:cubicBezTo>
                  <a:close/>
                </a:path>
              </a:pathLst>
            </a:custGeom>
            <a:solidFill>
              <a:srgbClr val="3b3e4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3" name="任意多边形: 形状 150"/>
            <p:cNvSpPr/>
            <p:nvPr/>
          </p:nvSpPr>
          <p:spPr>
            <a:xfrm>
              <a:off x="4852080" y="564480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121167" y="27147"/>
                  </a:moveTo>
                  <a:cubicBezTo>
                    <a:pt x="121167" y="36416"/>
                    <a:pt x="96007" y="44362"/>
                    <a:pt x="65549" y="44362"/>
                  </a:cubicBezTo>
                  <a:cubicBezTo>
                    <a:pt x="35092" y="44362"/>
                    <a:pt x="9932" y="36416"/>
                    <a:pt x="9932" y="27147"/>
                  </a:cubicBezTo>
                  <a:cubicBezTo>
                    <a:pt x="9932" y="17877"/>
                    <a:pt x="35092" y="9932"/>
                    <a:pt x="65549" y="9932"/>
                  </a:cubicBezTo>
                  <a:cubicBezTo>
                    <a:pt x="96007" y="9932"/>
                    <a:pt x="121167" y="17877"/>
                    <a:pt x="121167" y="27147"/>
                  </a:cubicBezTo>
                  <a:close/>
                </a:path>
              </a:pathLst>
            </a:custGeom>
            <a:solidFill>
              <a:srgbClr val="5f7673"/>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574" name="任意多边形: 形状 151"/>
            <p:cNvSpPr/>
            <p:nvPr/>
          </p:nvSpPr>
          <p:spPr>
            <a:xfrm>
              <a:off x="4869360" y="5369400"/>
              <a:ext cx="92520" cy="450000"/>
            </a:xfrm>
            <a:custGeom>
              <a:avLst/>
              <a:gdLst>
                <a:gd name="textAreaLeft" fmla="*/ 0 w 92520"/>
                <a:gd name="textAreaRight" fmla="*/ 92880 w 92520"/>
                <a:gd name="textAreaTop" fmla="*/ 0 h 450000"/>
                <a:gd name="textAreaBottom" fmla="*/ 450360 h 450000"/>
              </a:gdLst>
              <a:ahLst/>
              <a:rect l="textAreaLeft" t="textAreaTop" r="textAreaRight" b="textAreaBottom"/>
              <a:pathLst>
                <a:path w="92696" h="450238">
                  <a:moveTo>
                    <a:pt x="9932" y="9932"/>
                  </a:moveTo>
                  <a:lnTo>
                    <a:pt x="86737" y="9932"/>
                  </a:lnTo>
                  <a:lnTo>
                    <a:pt x="86737" y="442955"/>
                  </a:lnTo>
                  <a:lnTo>
                    <a:pt x="9932" y="442955"/>
                  </a:lnTo>
                  <a:lnTo>
                    <a:pt x="9932" y="9932"/>
                  </a:lnTo>
                  <a:close/>
                </a:path>
              </a:pathLst>
            </a:custGeom>
            <a:solidFill>
              <a:srgbClr val="d3d2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5" name="任意多边形: 形状 152"/>
            <p:cNvSpPr/>
            <p:nvPr/>
          </p:nvSpPr>
          <p:spPr>
            <a:xfrm>
              <a:off x="4852080" y="5660640"/>
              <a:ext cx="119160" cy="198360"/>
            </a:xfrm>
            <a:custGeom>
              <a:avLst/>
              <a:gdLst>
                <a:gd name="textAreaLeft" fmla="*/ 0 w 119160"/>
                <a:gd name="textAreaRight" fmla="*/ 119520 w 119160"/>
                <a:gd name="textAreaTop" fmla="*/ 0 h 198360"/>
                <a:gd name="textAreaBottom" fmla="*/ 198720 h 198360"/>
              </a:gdLst>
              <a:ahLst/>
              <a:rect l="textAreaLeft" t="textAreaTop" r="textAreaRight" b="textAreaBottom"/>
              <a:pathLst>
                <a:path w="119180" h="198634">
                  <a:moveTo>
                    <a:pt x="9932" y="187379"/>
                  </a:moveTo>
                  <a:cubicBezTo>
                    <a:pt x="9932" y="187379"/>
                    <a:pt x="37740" y="194000"/>
                    <a:pt x="65549" y="194000"/>
                  </a:cubicBezTo>
                  <a:cubicBezTo>
                    <a:pt x="93358" y="194000"/>
                    <a:pt x="121167" y="187379"/>
                    <a:pt x="121167" y="187379"/>
                  </a:cubicBezTo>
                  <a:lnTo>
                    <a:pt x="121167" y="9932"/>
                  </a:lnTo>
                  <a:cubicBezTo>
                    <a:pt x="121167" y="9932"/>
                    <a:pt x="102628" y="20526"/>
                    <a:pt x="65549" y="20526"/>
                  </a:cubicBezTo>
                  <a:cubicBezTo>
                    <a:pt x="28471" y="20526"/>
                    <a:pt x="9932" y="9932"/>
                    <a:pt x="9932" y="9932"/>
                  </a:cubicBezTo>
                  <a:lnTo>
                    <a:pt x="9932" y="187379"/>
                  </a:lnTo>
                  <a:close/>
                </a:path>
              </a:pathLst>
            </a:custGeom>
            <a:solidFill>
              <a:srgbClr val="6e7c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6" name="任意多边形: 形状 153"/>
            <p:cNvSpPr/>
            <p:nvPr/>
          </p:nvSpPr>
          <p:spPr>
            <a:xfrm>
              <a:off x="4310640" y="5799600"/>
              <a:ext cx="1204920" cy="291240"/>
            </a:xfrm>
            <a:custGeom>
              <a:avLst/>
              <a:gdLst>
                <a:gd name="textAreaLeft" fmla="*/ 0 w 1204920"/>
                <a:gd name="textAreaRight" fmla="*/ 1205280 w 1204920"/>
                <a:gd name="textAreaTop" fmla="*/ 0 h 291240"/>
                <a:gd name="textAreaBottom" fmla="*/ 291600 h 291240"/>
              </a:gdLst>
              <a:ahLst/>
              <a:rect l="textAreaLeft" t="textAreaTop" r="textAreaRight" b="textAreaBottom"/>
              <a:pathLst>
                <a:path w="1205050" h="291330">
                  <a:moveTo>
                    <a:pt x="74819" y="109249"/>
                  </a:moveTo>
                  <a:cubicBezTo>
                    <a:pt x="118519" y="77468"/>
                    <a:pt x="435010" y="76143"/>
                    <a:pt x="501221" y="57604"/>
                  </a:cubicBezTo>
                  <a:cubicBezTo>
                    <a:pt x="559488" y="41714"/>
                    <a:pt x="567433" y="9932"/>
                    <a:pt x="567433" y="9932"/>
                  </a:cubicBezTo>
                  <a:lnTo>
                    <a:pt x="646887" y="9932"/>
                  </a:lnTo>
                  <a:cubicBezTo>
                    <a:pt x="646887" y="9932"/>
                    <a:pt x="653508" y="41714"/>
                    <a:pt x="713098" y="57604"/>
                  </a:cubicBezTo>
                  <a:cubicBezTo>
                    <a:pt x="779310" y="76143"/>
                    <a:pt x="1095801" y="77468"/>
                    <a:pt x="1139501" y="109249"/>
                  </a:cubicBezTo>
                  <a:cubicBezTo>
                    <a:pt x="1183200" y="141031"/>
                    <a:pt x="1204388" y="244321"/>
                    <a:pt x="1204388" y="244321"/>
                  </a:cubicBezTo>
                  <a:lnTo>
                    <a:pt x="1162013" y="254914"/>
                  </a:lnTo>
                  <a:cubicBezTo>
                    <a:pt x="1162013" y="254914"/>
                    <a:pt x="1138177" y="191352"/>
                    <a:pt x="1086532" y="152949"/>
                  </a:cubicBezTo>
                  <a:cubicBezTo>
                    <a:pt x="1052102" y="127789"/>
                    <a:pt x="679993" y="155597"/>
                    <a:pt x="679993" y="155597"/>
                  </a:cubicBezTo>
                  <a:lnTo>
                    <a:pt x="636293" y="284048"/>
                  </a:lnTo>
                  <a:lnTo>
                    <a:pt x="628348" y="284048"/>
                  </a:lnTo>
                  <a:lnTo>
                    <a:pt x="607160" y="284048"/>
                  </a:lnTo>
                  <a:lnTo>
                    <a:pt x="578027" y="284048"/>
                  </a:lnTo>
                  <a:lnTo>
                    <a:pt x="534327" y="155597"/>
                  </a:lnTo>
                  <a:cubicBezTo>
                    <a:pt x="534327" y="155597"/>
                    <a:pt x="162218" y="127789"/>
                    <a:pt x="127789" y="152949"/>
                  </a:cubicBezTo>
                  <a:cubicBezTo>
                    <a:pt x="76143" y="191352"/>
                    <a:pt x="52307" y="254914"/>
                    <a:pt x="52307" y="254914"/>
                  </a:cubicBezTo>
                  <a:lnTo>
                    <a:pt x="9932" y="244321"/>
                  </a:lnTo>
                  <a:cubicBezTo>
                    <a:pt x="9932" y="242996"/>
                    <a:pt x="31120" y="141031"/>
                    <a:pt x="74819" y="109249"/>
                  </a:cubicBezTo>
                  <a:close/>
                </a:path>
              </a:pathLst>
            </a:custGeom>
            <a:solidFill>
              <a:srgbClr val="5a5a5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7" name="任意多边形: 形状 154"/>
            <p:cNvSpPr/>
            <p:nvPr/>
          </p:nvSpPr>
          <p:spPr>
            <a:xfrm>
              <a:off x="4842720" y="601164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145665" h="145665">
                  <a:moveTo>
                    <a:pt x="9932" y="74819"/>
                  </a:moveTo>
                  <a:cubicBezTo>
                    <a:pt x="9932" y="110573"/>
                    <a:pt x="39065" y="139707"/>
                    <a:pt x="74819" y="139707"/>
                  </a:cubicBezTo>
                  <a:cubicBezTo>
                    <a:pt x="110573" y="139707"/>
                    <a:pt x="139706" y="110573"/>
                    <a:pt x="139706" y="74819"/>
                  </a:cubicBezTo>
                  <a:cubicBezTo>
                    <a:pt x="139706" y="39065"/>
                    <a:pt x="110573" y="9932"/>
                    <a:pt x="74819" y="9932"/>
                  </a:cubicBezTo>
                  <a:cubicBezTo>
                    <a:pt x="39065" y="11256"/>
                    <a:pt x="9932" y="39065"/>
                    <a:pt x="9932" y="7481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8" name="任意多边形: 形状 155"/>
            <p:cNvSpPr/>
            <p:nvPr/>
          </p:nvSpPr>
          <p:spPr>
            <a:xfrm>
              <a:off x="5421600" y="601164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145665" h="145665">
                  <a:moveTo>
                    <a:pt x="9932" y="74819"/>
                  </a:moveTo>
                  <a:cubicBezTo>
                    <a:pt x="9932" y="110573"/>
                    <a:pt x="39065" y="139707"/>
                    <a:pt x="74819" y="139707"/>
                  </a:cubicBezTo>
                  <a:cubicBezTo>
                    <a:pt x="110573" y="139707"/>
                    <a:pt x="139706" y="110573"/>
                    <a:pt x="139706" y="74819"/>
                  </a:cubicBezTo>
                  <a:cubicBezTo>
                    <a:pt x="139706" y="39065"/>
                    <a:pt x="110573" y="9932"/>
                    <a:pt x="74819" y="9932"/>
                  </a:cubicBezTo>
                  <a:cubicBezTo>
                    <a:pt x="37740" y="11256"/>
                    <a:pt x="9932" y="39065"/>
                    <a:pt x="9932" y="7481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79" name="任意多边形: 形状 156"/>
            <p:cNvSpPr/>
            <p:nvPr/>
          </p:nvSpPr>
          <p:spPr>
            <a:xfrm>
              <a:off x="4268160" y="601164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145665" h="145665">
                  <a:moveTo>
                    <a:pt x="9932" y="74819"/>
                  </a:moveTo>
                  <a:cubicBezTo>
                    <a:pt x="9932" y="110573"/>
                    <a:pt x="39065" y="139707"/>
                    <a:pt x="74819" y="139707"/>
                  </a:cubicBezTo>
                  <a:cubicBezTo>
                    <a:pt x="110573" y="139707"/>
                    <a:pt x="139706" y="110573"/>
                    <a:pt x="139706" y="74819"/>
                  </a:cubicBezTo>
                  <a:cubicBezTo>
                    <a:pt x="139706" y="39065"/>
                    <a:pt x="110573" y="9932"/>
                    <a:pt x="74819" y="9932"/>
                  </a:cubicBezTo>
                  <a:cubicBezTo>
                    <a:pt x="37741" y="11256"/>
                    <a:pt x="9932" y="39065"/>
                    <a:pt x="9932" y="7481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80" name="任意多边形: 形状 157"/>
            <p:cNvSpPr/>
            <p:nvPr/>
          </p:nvSpPr>
          <p:spPr>
            <a:xfrm>
              <a:off x="4759560" y="5317560"/>
              <a:ext cx="304560" cy="92520"/>
            </a:xfrm>
            <a:custGeom>
              <a:avLst/>
              <a:gdLst>
                <a:gd name="textAreaLeft" fmla="*/ 0 w 304560"/>
                <a:gd name="textAreaRight" fmla="*/ 304920 w 304560"/>
                <a:gd name="textAreaTop" fmla="*/ 0 h 92520"/>
                <a:gd name="textAreaBottom" fmla="*/ 92880 h 92520"/>
              </a:gdLst>
              <a:ahLst/>
              <a:rect l="textAreaLeft" t="textAreaTop" r="textAreaRight" b="textAreaBottom"/>
              <a:pathLst>
                <a:path w="304573" h="92696">
                  <a:moveTo>
                    <a:pt x="32443" y="88061"/>
                  </a:moveTo>
                  <a:lnTo>
                    <a:pt x="284047" y="86737"/>
                  </a:lnTo>
                  <a:lnTo>
                    <a:pt x="305235" y="9932"/>
                  </a:lnTo>
                  <a:lnTo>
                    <a:pt x="9932" y="9932"/>
                  </a:lnTo>
                  <a:lnTo>
                    <a:pt x="32443" y="88061"/>
                  </a:lnTo>
                  <a:close/>
                </a:path>
              </a:pathLst>
            </a:custGeom>
            <a:solidFill>
              <a:srgbClr val="5f7673"/>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581" name="任意多边形: 形状 158"/>
            <p:cNvSpPr/>
            <p:nvPr/>
          </p:nvSpPr>
          <p:spPr>
            <a:xfrm>
              <a:off x="4496040" y="5287320"/>
              <a:ext cx="781200" cy="52920"/>
            </a:xfrm>
            <a:custGeom>
              <a:avLst/>
              <a:gdLst>
                <a:gd name="textAreaLeft" fmla="*/ 0 w 781200"/>
                <a:gd name="textAreaRight" fmla="*/ 781560 w 781200"/>
                <a:gd name="textAreaTop" fmla="*/ 0 h 52920"/>
                <a:gd name="textAreaBottom" fmla="*/ 53280 h 52920"/>
              </a:gdLst>
              <a:ahLst/>
              <a:rect l="textAreaLeft" t="textAreaTop" r="textAreaRight" b="textAreaBottom"/>
              <a:pathLst>
                <a:path w="781296" h="52969">
                  <a:moveTo>
                    <a:pt x="9932" y="31120"/>
                  </a:moveTo>
                  <a:cubicBezTo>
                    <a:pt x="9932" y="43038"/>
                    <a:pt x="21850" y="52307"/>
                    <a:pt x="37741" y="52307"/>
                  </a:cubicBezTo>
                  <a:lnTo>
                    <a:pt x="754150" y="52307"/>
                  </a:lnTo>
                  <a:cubicBezTo>
                    <a:pt x="770041" y="52307"/>
                    <a:pt x="781959" y="43038"/>
                    <a:pt x="781959" y="31120"/>
                  </a:cubicBezTo>
                  <a:cubicBezTo>
                    <a:pt x="781959" y="19201"/>
                    <a:pt x="770041" y="9932"/>
                    <a:pt x="754150" y="9932"/>
                  </a:cubicBezTo>
                  <a:lnTo>
                    <a:pt x="37741" y="9932"/>
                  </a:lnTo>
                  <a:cubicBezTo>
                    <a:pt x="23174" y="9932"/>
                    <a:pt x="9932" y="19201"/>
                    <a:pt x="9932" y="31120"/>
                  </a:cubicBezTo>
                  <a:close/>
                </a:path>
              </a:pathLst>
            </a:custGeom>
            <a:solidFill>
              <a:srgbClr val="5a5a5c"/>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582" name="任意多边形: 形状 159"/>
            <p:cNvSpPr/>
            <p:nvPr/>
          </p:nvSpPr>
          <p:spPr>
            <a:xfrm>
              <a:off x="4425840" y="5132160"/>
              <a:ext cx="939960" cy="185400"/>
            </a:xfrm>
            <a:custGeom>
              <a:avLst/>
              <a:gdLst>
                <a:gd name="textAreaLeft" fmla="*/ 0 w 939960"/>
                <a:gd name="textAreaRight" fmla="*/ 940320 w 939960"/>
                <a:gd name="textAreaTop" fmla="*/ 0 h 185400"/>
                <a:gd name="textAreaBottom" fmla="*/ 185760 h 185400"/>
              </a:gdLst>
              <a:ahLst/>
              <a:rect l="textAreaLeft" t="textAreaTop" r="textAreaRight" b="textAreaBottom"/>
              <a:pathLst>
                <a:path w="940203" h="185392">
                  <a:moveTo>
                    <a:pt x="9932" y="153192"/>
                  </a:moveTo>
                  <a:cubicBezTo>
                    <a:pt x="9932" y="167758"/>
                    <a:pt x="24498" y="178352"/>
                    <a:pt x="43038" y="178352"/>
                  </a:cubicBezTo>
                  <a:lnTo>
                    <a:pt x="906436" y="178352"/>
                  </a:lnTo>
                  <a:cubicBezTo>
                    <a:pt x="924975" y="178352"/>
                    <a:pt x="939542" y="166434"/>
                    <a:pt x="939542" y="153192"/>
                  </a:cubicBezTo>
                  <a:lnTo>
                    <a:pt x="939542" y="40632"/>
                  </a:lnTo>
                  <a:cubicBezTo>
                    <a:pt x="939542" y="26066"/>
                    <a:pt x="931596" y="8850"/>
                    <a:pt x="869357" y="14148"/>
                  </a:cubicBezTo>
                  <a:cubicBezTo>
                    <a:pt x="792552" y="20769"/>
                    <a:pt x="703829" y="26066"/>
                    <a:pt x="469440" y="27390"/>
                  </a:cubicBezTo>
                  <a:cubicBezTo>
                    <a:pt x="242996" y="27390"/>
                    <a:pt x="151625" y="7527"/>
                    <a:pt x="84089" y="10175"/>
                  </a:cubicBezTo>
                  <a:cubicBezTo>
                    <a:pt x="28471" y="12823"/>
                    <a:pt x="9932" y="27390"/>
                    <a:pt x="9932" y="41956"/>
                  </a:cubicBezTo>
                  <a:lnTo>
                    <a:pt x="9932" y="153192"/>
                  </a:lnTo>
                  <a:close/>
                </a:path>
              </a:pathLst>
            </a:custGeom>
            <a:solidFill>
              <a:srgbClr val="6e7c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83" name="任意多边形: 形状 160"/>
            <p:cNvSpPr/>
            <p:nvPr/>
          </p:nvSpPr>
          <p:spPr>
            <a:xfrm>
              <a:off x="4869360" y="4668840"/>
              <a:ext cx="92520" cy="542880"/>
            </a:xfrm>
            <a:custGeom>
              <a:avLst/>
              <a:gdLst>
                <a:gd name="textAreaLeft" fmla="*/ 0 w 92520"/>
                <a:gd name="textAreaRight" fmla="*/ 92880 w 92520"/>
                <a:gd name="textAreaTop" fmla="*/ 0 h 542880"/>
                <a:gd name="textAreaBottom" fmla="*/ 543240 h 542880"/>
              </a:gdLst>
              <a:ahLst/>
              <a:rect l="textAreaLeft" t="textAreaTop" r="textAreaRight" b="textAreaBottom"/>
              <a:pathLst>
                <a:path w="92696" h="542934">
                  <a:moveTo>
                    <a:pt x="9932" y="9932"/>
                  </a:moveTo>
                  <a:lnTo>
                    <a:pt x="92034" y="9932"/>
                  </a:lnTo>
                  <a:lnTo>
                    <a:pt x="92034" y="534327"/>
                  </a:lnTo>
                  <a:lnTo>
                    <a:pt x="9932" y="534327"/>
                  </a:lnTo>
                  <a:lnTo>
                    <a:pt x="9932" y="9932"/>
                  </a:lnTo>
                  <a:close/>
                </a:path>
              </a:pathLst>
            </a:custGeom>
            <a:solidFill>
              <a:srgbClr val="5a5a5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84" name="任意多边形: 形状 161"/>
            <p:cNvSpPr/>
            <p:nvPr/>
          </p:nvSpPr>
          <p:spPr>
            <a:xfrm>
              <a:off x="4425840" y="3981240"/>
              <a:ext cx="927000" cy="834120"/>
            </a:xfrm>
            <a:custGeom>
              <a:avLst/>
              <a:gdLst>
                <a:gd name="textAreaLeft" fmla="*/ 0 w 927000"/>
                <a:gd name="textAreaRight" fmla="*/ 927360 w 927000"/>
                <a:gd name="textAreaTop" fmla="*/ 0 h 834120"/>
                <a:gd name="textAreaBottom" fmla="*/ 834480 h 834120"/>
              </a:gdLst>
              <a:ahLst/>
              <a:rect l="textAreaLeft" t="textAreaTop" r="textAreaRight" b="textAreaBottom"/>
              <a:pathLst>
                <a:path w="926961" h="834265">
                  <a:moveTo>
                    <a:pt x="9932" y="735610"/>
                  </a:moveTo>
                  <a:cubicBezTo>
                    <a:pt x="9932" y="785931"/>
                    <a:pt x="49659" y="825658"/>
                    <a:pt x="99979" y="825658"/>
                  </a:cubicBezTo>
                  <a:lnTo>
                    <a:pt x="830955" y="825658"/>
                  </a:lnTo>
                  <a:cubicBezTo>
                    <a:pt x="881275" y="825658"/>
                    <a:pt x="921002" y="785931"/>
                    <a:pt x="921002" y="735610"/>
                  </a:cubicBezTo>
                  <a:lnTo>
                    <a:pt x="921002" y="99979"/>
                  </a:lnTo>
                  <a:cubicBezTo>
                    <a:pt x="921002" y="49659"/>
                    <a:pt x="881275" y="9932"/>
                    <a:pt x="830955" y="9932"/>
                  </a:cubicBezTo>
                  <a:lnTo>
                    <a:pt x="99979" y="9932"/>
                  </a:lnTo>
                  <a:cubicBezTo>
                    <a:pt x="49659" y="9932"/>
                    <a:pt x="9932" y="49659"/>
                    <a:pt x="9932" y="99979"/>
                  </a:cubicBezTo>
                  <a:lnTo>
                    <a:pt x="9932" y="735610"/>
                  </a:lnTo>
                  <a:close/>
                </a:path>
              </a:pathLst>
            </a:custGeom>
            <a:solidFill>
              <a:srgbClr val="566b7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85" name="任意多边形: 形状 162"/>
            <p:cNvSpPr/>
            <p:nvPr/>
          </p:nvSpPr>
          <p:spPr>
            <a:xfrm>
              <a:off x="2212560" y="4646160"/>
              <a:ext cx="92520" cy="542880"/>
            </a:xfrm>
            <a:custGeom>
              <a:avLst/>
              <a:gdLst>
                <a:gd name="textAreaLeft" fmla="*/ 0 w 92520"/>
                <a:gd name="textAreaRight" fmla="*/ 92880 w 92520"/>
                <a:gd name="textAreaTop" fmla="*/ 0 h 542880"/>
                <a:gd name="textAreaBottom" fmla="*/ 543240 h 542880"/>
              </a:gdLst>
              <a:ahLst/>
              <a:rect l="textAreaLeft" t="textAreaTop" r="textAreaRight" b="textAreaBottom"/>
              <a:pathLst>
                <a:path w="92696" h="542934">
                  <a:moveTo>
                    <a:pt x="9932" y="9932"/>
                  </a:moveTo>
                  <a:lnTo>
                    <a:pt x="92034" y="9932"/>
                  </a:lnTo>
                  <a:lnTo>
                    <a:pt x="92034" y="534327"/>
                  </a:lnTo>
                  <a:lnTo>
                    <a:pt x="9932" y="534327"/>
                  </a:lnTo>
                  <a:lnTo>
                    <a:pt x="9932" y="9932"/>
                  </a:lnTo>
                  <a:close/>
                </a:path>
              </a:pathLst>
            </a:custGeom>
            <a:solidFill>
              <a:srgbClr val="5a5a5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86" name="任意多边形: 形状 163"/>
            <p:cNvSpPr/>
            <p:nvPr/>
          </p:nvSpPr>
          <p:spPr>
            <a:xfrm>
              <a:off x="2200680" y="562212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9932" y="27147"/>
                  </a:moveTo>
                  <a:cubicBezTo>
                    <a:pt x="9932" y="36416"/>
                    <a:pt x="35092" y="44362"/>
                    <a:pt x="65549" y="44362"/>
                  </a:cubicBezTo>
                  <a:cubicBezTo>
                    <a:pt x="96007" y="44362"/>
                    <a:pt x="121167" y="36416"/>
                    <a:pt x="121167" y="27147"/>
                  </a:cubicBezTo>
                  <a:cubicBezTo>
                    <a:pt x="121167" y="17877"/>
                    <a:pt x="96007" y="9932"/>
                    <a:pt x="65549" y="9932"/>
                  </a:cubicBezTo>
                  <a:cubicBezTo>
                    <a:pt x="35092" y="9932"/>
                    <a:pt x="9932" y="17877"/>
                    <a:pt x="9932" y="27147"/>
                  </a:cubicBezTo>
                  <a:close/>
                </a:path>
              </a:pathLst>
            </a:custGeom>
            <a:solidFill>
              <a:srgbClr val="5f7673"/>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587" name="任意多边形: 形状 164"/>
            <p:cNvSpPr/>
            <p:nvPr/>
          </p:nvSpPr>
          <p:spPr>
            <a:xfrm>
              <a:off x="2217960" y="5346720"/>
              <a:ext cx="92520" cy="450000"/>
            </a:xfrm>
            <a:custGeom>
              <a:avLst/>
              <a:gdLst>
                <a:gd name="textAreaLeft" fmla="*/ 0 w 92520"/>
                <a:gd name="textAreaRight" fmla="*/ 92880 w 92520"/>
                <a:gd name="textAreaTop" fmla="*/ 0 h 450000"/>
                <a:gd name="textAreaBottom" fmla="*/ 450360 h 450000"/>
              </a:gdLst>
              <a:ahLst/>
              <a:rect l="textAreaLeft" t="textAreaTop" r="textAreaRight" b="textAreaBottom"/>
              <a:pathLst>
                <a:path w="92696" h="450238">
                  <a:moveTo>
                    <a:pt x="9932" y="9932"/>
                  </a:moveTo>
                  <a:lnTo>
                    <a:pt x="86737" y="9932"/>
                  </a:lnTo>
                  <a:lnTo>
                    <a:pt x="86737" y="442955"/>
                  </a:lnTo>
                  <a:lnTo>
                    <a:pt x="9932" y="442955"/>
                  </a:lnTo>
                  <a:lnTo>
                    <a:pt x="9932" y="9932"/>
                  </a:lnTo>
                  <a:close/>
                </a:path>
              </a:pathLst>
            </a:custGeom>
            <a:solidFill>
              <a:srgbClr val="d3d2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88" name="任意多边形: 形状 165"/>
            <p:cNvSpPr/>
            <p:nvPr/>
          </p:nvSpPr>
          <p:spPr>
            <a:xfrm>
              <a:off x="2200680" y="5636880"/>
              <a:ext cx="119160" cy="198360"/>
            </a:xfrm>
            <a:custGeom>
              <a:avLst/>
              <a:gdLst>
                <a:gd name="textAreaLeft" fmla="*/ 0 w 119160"/>
                <a:gd name="textAreaRight" fmla="*/ 119520 w 119160"/>
                <a:gd name="textAreaTop" fmla="*/ 0 h 198360"/>
                <a:gd name="textAreaBottom" fmla="*/ 198720 h 198360"/>
              </a:gdLst>
              <a:ahLst/>
              <a:rect l="textAreaLeft" t="textAreaTop" r="textAreaRight" b="textAreaBottom"/>
              <a:pathLst>
                <a:path w="119180" h="198634">
                  <a:moveTo>
                    <a:pt x="121167" y="188703"/>
                  </a:moveTo>
                  <a:cubicBezTo>
                    <a:pt x="121167" y="188703"/>
                    <a:pt x="93358" y="195324"/>
                    <a:pt x="65549" y="195324"/>
                  </a:cubicBezTo>
                  <a:cubicBezTo>
                    <a:pt x="37741" y="195324"/>
                    <a:pt x="9932" y="188703"/>
                    <a:pt x="9932" y="188703"/>
                  </a:cubicBezTo>
                  <a:lnTo>
                    <a:pt x="9932" y="9932"/>
                  </a:lnTo>
                  <a:cubicBezTo>
                    <a:pt x="9932" y="9932"/>
                    <a:pt x="28471" y="20525"/>
                    <a:pt x="65549" y="20525"/>
                  </a:cubicBezTo>
                  <a:cubicBezTo>
                    <a:pt x="102628" y="20525"/>
                    <a:pt x="121167" y="9932"/>
                    <a:pt x="121167" y="9932"/>
                  </a:cubicBezTo>
                  <a:lnTo>
                    <a:pt x="121167" y="188703"/>
                  </a:lnTo>
                  <a:close/>
                </a:path>
              </a:pathLst>
            </a:custGeom>
            <a:solidFill>
              <a:srgbClr val="6e7c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89" name="任意多边形: 形状 166"/>
            <p:cNvSpPr/>
            <p:nvPr/>
          </p:nvSpPr>
          <p:spPr>
            <a:xfrm>
              <a:off x="1659240" y="5775840"/>
              <a:ext cx="1204920" cy="291240"/>
            </a:xfrm>
            <a:custGeom>
              <a:avLst/>
              <a:gdLst>
                <a:gd name="textAreaLeft" fmla="*/ 0 w 1204920"/>
                <a:gd name="textAreaRight" fmla="*/ 1205280 w 1204920"/>
                <a:gd name="textAreaTop" fmla="*/ 0 h 291240"/>
                <a:gd name="textAreaBottom" fmla="*/ 291600 h 291240"/>
              </a:gdLst>
              <a:ahLst/>
              <a:rect l="textAreaLeft" t="textAreaTop" r="textAreaRight" b="textAreaBottom"/>
              <a:pathLst>
                <a:path w="1205050" h="291330">
                  <a:moveTo>
                    <a:pt x="1139501" y="109249"/>
                  </a:moveTo>
                  <a:cubicBezTo>
                    <a:pt x="1095801" y="77468"/>
                    <a:pt x="779310" y="76143"/>
                    <a:pt x="713098" y="57604"/>
                  </a:cubicBezTo>
                  <a:cubicBezTo>
                    <a:pt x="654832" y="41713"/>
                    <a:pt x="646887" y="9932"/>
                    <a:pt x="646887" y="9932"/>
                  </a:cubicBezTo>
                  <a:lnTo>
                    <a:pt x="567433" y="9932"/>
                  </a:lnTo>
                  <a:cubicBezTo>
                    <a:pt x="567433" y="9932"/>
                    <a:pt x="560812" y="41713"/>
                    <a:pt x="501221" y="57604"/>
                  </a:cubicBezTo>
                  <a:cubicBezTo>
                    <a:pt x="435010" y="76143"/>
                    <a:pt x="118519" y="77468"/>
                    <a:pt x="74819" y="109249"/>
                  </a:cubicBezTo>
                  <a:cubicBezTo>
                    <a:pt x="31119" y="141031"/>
                    <a:pt x="9932" y="244321"/>
                    <a:pt x="9932" y="244321"/>
                  </a:cubicBezTo>
                  <a:lnTo>
                    <a:pt x="52307" y="254914"/>
                  </a:lnTo>
                  <a:cubicBezTo>
                    <a:pt x="52307" y="254914"/>
                    <a:pt x="76143" y="191352"/>
                    <a:pt x="127788" y="152949"/>
                  </a:cubicBezTo>
                  <a:cubicBezTo>
                    <a:pt x="162218" y="127788"/>
                    <a:pt x="534327" y="155597"/>
                    <a:pt x="534327" y="155597"/>
                  </a:cubicBezTo>
                  <a:lnTo>
                    <a:pt x="578027" y="284048"/>
                  </a:lnTo>
                  <a:lnTo>
                    <a:pt x="585972" y="284048"/>
                  </a:lnTo>
                  <a:lnTo>
                    <a:pt x="607160" y="284048"/>
                  </a:lnTo>
                  <a:lnTo>
                    <a:pt x="636293" y="284048"/>
                  </a:lnTo>
                  <a:lnTo>
                    <a:pt x="679993" y="155597"/>
                  </a:lnTo>
                  <a:cubicBezTo>
                    <a:pt x="679993" y="155597"/>
                    <a:pt x="1052101" y="127788"/>
                    <a:pt x="1086531" y="152949"/>
                  </a:cubicBezTo>
                  <a:cubicBezTo>
                    <a:pt x="1138176" y="191352"/>
                    <a:pt x="1162013" y="254914"/>
                    <a:pt x="1162013" y="254914"/>
                  </a:cubicBezTo>
                  <a:lnTo>
                    <a:pt x="1204388" y="244321"/>
                  </a:lnTo>
                  <a:cubicBezTo>
                    <a:pt x="1204388" y="244321"/>
                    <a:pt x="1181876" y="141031"/>
                    <a:pt x="1139501" y="109249"/>
                  </a:cubicBezTo>
                  <a:close/>
                </a:path>
              </a:pathLst>
            </a:custGeom>
            <a:solidFill>
              <a:srgbClr val="5a5a5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90" name="任意多边形: 形状 167"/>
            <p:cNvSpPr/>
            <p:nvPr/>
          </p:nvSpPr>
          <p:spPr>
            <a:xfrm>
              <a:off x="2190240" y="598932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145665" h="145665">
                  <a:moveTo>
                    <a:pt x="139706" y="74819"/>
                  </a:moveTo>
                  <a:cubicBezTo>
                    <a:pt x="139706" y="110573"/>
                    <a:pt x="110573" y="139706"/>
                    <a:pt x="74819" y="139706"/>
                  </a:cubicBezTo>
                  <a:cubicBezTo>
                    <a:pt x="39065" y="139706"/>
                    <a:pt x="9932" y="110573"/>
                    <a:pt x="9932" y="74819"/>
                  </a:cubicBezTo>
                  <a:cubicBezTo>
                    <a:pt x="9932" y="39065"/>
                    <a:pt x="39065" y="9932"/>
                    <a:pt x="74819" y="9932"/>
                  </a:cubicBezTo>
                  <a:cubicBezTo>
                    <a:pt x="111897" y="9932"/>
                    <a:pt x="139706" y="39065"/>
                    <a:pt x="139706" y="7481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91" name="任意多边形: 形状 168"/>
            <p:cNvSpPr/>
            <p:nvPr/>
          </p:nvSpPr>
          <p:spPr>
            <a:xfrm>
              <a:off x="1612800" y="598932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145665" h="145665">
                  <a:moveTo>
                    <a:pt x="139706" y="74819"/>
                  </a:moveTo>
                  <a:cubicBezTo>
                    <a:pt x="139706" y="110573"/>
                    <a:pt x="110573" y="139706"/>
                    <a:pt x="74819" y="139706"/>
                  </a:cubicBezTo>
                  <a:cubicBezTo>
                    <a:pt x="39065" y="139706"/>
                    <a:pt x="9932" y="110573"/>
                    <a:pt x="9932" y="74819"/>
                  </a:cubicBezTo>
                  <a:cubicBezTo>
                    <a:pt x="9932" y="39065"/>
                    <a:pt x="39065" y="9932"/>
                    <a:pt x="74819" y="9932"/>
                  </a:cubicBezTo>
                  <a:cubicBezTo>
                    <a:pt x="110573" y="9932"/>
                    <a:pt x="139706" y="39065"/>
                    <a:pt x="139706" y="7481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92" name="任意多边形: 形状 169"/>
            <p:cNvSpPr/>
            <p:nvPr/>
          </p:nvSpPr>
          <p:spPr>
            <a:xfrm>
              <a:off x="2766240" y="598932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145665" h="145665">
                  <a:moveTo>
                    <a:pt x="139706" y="74819"/>
                  </a:moveTo>
                  <a:cubicBezTo>
                    <a:pt x="139706" y="110573"/>
                    <a:pt x="110573" y="139706"/>
                    <a:pt x="74819" y="139706"/>
                  </a:cubicBezTo>
                  <a:cubicBezTo>
                    <a:pt x="39065" y="139706"/>
                    <a:pt x="9932" y="110573"/>
                    <a:pt x="9932" y="74819"/>
                  </a:cubicBezTo>
                  <a:cubicBezTo>
                    <a:pt x="9932" y="39065"/>
                    <a:pt x="39065" y="9932"/>
                    <a:pt x="74819" y="9932"/>
                  </a:cubicBezTo>
                  <a:cubicBezTo>
                    <a:pt x="110573" y="9932"/>
                    <a:pt x="139706" y="39065"/>
                    <a:pt x="139706" y="7481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93" name="任意多边形: 形状 170"/>
            <p:cNvSpPr/>
            <p:nvPr/>
          </p:nvSpPr>
          <p:spPr>
            <a:xfrm>
              <a:off x="2108160" y="5293800"/>
              <a:ext cx="304560" cy="92520"/>
            </a:xfrm>
            <a:custGeom>
              <a:avLst/>
              <a:gdLst>
                <a:gd name="textAreaLeft" fmla="*/ 0 w 304560"/>
                <a:gd name="textAreaRight" fmla="*/ 304920 w 304560"/>
                <a:gd name="textAreaTop" fmla="*/ 0 h 92520"/>
                <a:gd name="textAreaBottom" fmla="*/ 92880 h 92520"/>
              </a:gdLst>
              <a:ahLst/>
              <a:rect l="textAreaLeft" t="textAreaTop" r="textAreaRight" b="textAreaBottom"/>
              <a:pathLst>
                <a:path w="304573" h="92696">
                  <a:moveTo>
                    <a:pt x="284047" y="89386"/>
                  </a:moveTo>
                  <a:lnTo>
                    <a:pt x="31120" y="88061"/>
                  </a:lnTo>
                  <a:lnTo>
                    <a:pt x="9932" y="9932"/>
                  </a:lnTo>
                  <a:lnTo>
                    <a:pt x="306559" y="9932"/>
                  </a:lnTo>
                  <a:lnTo>
                    <a:pt x="284047" y="89386"/>
                  </a:lnTo>
                  <a:close/>
                </a:path>
              </a:pathLst>
            </a:custGeom>
            <a:solidFill>
              <a:srgbClr val="5f7673"/>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594" name="任意多边形: 形状 171"/>
            <p:cNvSpPr/>
            <p:nvPr/>
          </p:nvSpPr>
          <p:spPr>
            <a:xfrm>
              <a:off x="1894680" y="5264640"/>
              <a:ext cx="781200" cy="52920"/>
            </a:xfrm>
            <a:custGeom>
              <a:avLst/>
              <a:gdLst>
                <a:gd name="textAreaLeft" fmla="*/ 0 w 781200"/>
                <a:gd name="textAreaRight" fmla="*/ 781560 w 781200"/>
                <a:gd name="textAreaTop" fmla="*/ 0 h 52920"/>
                <a:gd name="textAreaBottom" fmla="*/ 53280 h 52920"/>
              </a:gdLst>
              <a:ahLst/>
              <a:rect l="textAreaLeft" t="textAreaTop" r="textAreaRight" b="textAreaBottom"/>
              <a:pathLst>
                <a:path w="781296" h="52969">
                  <a:moveTo>
                    <a:pt x="781958" y="31232"/>
                  </a:moveTo>
                  <a:cubicBezTo>
                    <a:pt x="781958" y="43150"/>
                    <a:pt x="770040" y="52420"/>
                    <a:pt x="754150" y="52420"/>
                  </a:cubicBezTo>
                  <a:lnTo>
                    <a:pt x="37741" y="52420"/>
                  </a:lnTo>
                  <a:cubicBezTo>
                    <a:pt x="21850" y="52420"/>
                    <a:pt x="9932" y="43150"/>
                    <a:pt x="9932" y="31232"/>
                  </a:cubicBezTo>
                  <a:cubicBezTo>
                    <a:pt x="9932" y="19314"/>
                    <a:pt x="21850" y="10044"/>
                    <a:pt x="37741" y="10044"/>
                  </a:cubicBezTo>
                  <a:lnTo>
                    <a:pt x="754150" y="10044"/>
                  </a:lnTo>
                  <a:cubicBezTo>
                    <a:pt x="770040" y="8720"/>
                    <a:pt x="781958" y="19314"/>
                    <a:pt x="781958" y="31232"/>
                  </a:cubicBezTo>
                  <a:close/>
                </a:path>
              </a:pathLst>
            </a:custGeom>
            <a:solidFill>
              <a:srgbClr val="5a5a5c"/>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595" name="任意多边形: 形状 172"/>
            <p:cNvSpPr/>
            <p:nvPr/>
          </p:nvSpPr>
          <p:spPr>
            <a:xfrm>
              <a:off x="1807560" y="5109480"/>
              <a:ext cx="939960" cy="185400"/>
            </a:xfrm>
            <a:custGeom>
              <a:avLst/>
              <a:gdLst>
                <a:gd name="textAreaLeft" fmla="*/ 0 w 939960"/>
                <a:gd name="textAreaRight" fmla="*/ 940320 w 939960"/>
                <a:gd name="textAreaTop" fmla="*/ 0 h 185400"/>
                <a:gd name="textAreaBottom" fmla="*/ 185760 h 185400"/>
              </a:gdLst>
              <a:ahLst/>
              <a:rect l="textAreaLeft" t="textAreaTop" r="textAreaRight" b="textAreaBottom"/>
              <a:pathLst>
                <a:path w="940203" h="185392">
                  <a:moveTo>
                    <a:pt x="939542" y="153192"/>
                  </a:moveTo>
                  <a:cubicBezTo>
                    <a:pt x="939542" y="167758"/>
                    <a:pt x="924975" y="178352"/>
                    <a:pt x="906436" y="178352"/>
                  </a:cubicBezTo>
                  <a:lnTo>
                    <a:pt x="43038" y="178352"/>
                  </a:lnTo>
                  <a:cubicBezTo>
                    <a:pt x="24498" y="178352"/>
                    <a:pt x="9932" y="166434"/>
                    <a:pt x="9932" y="153192"/>
                  </a:cubicBezTo>
                  <a:lnTo>
                    <a:pt x="9932" y="40632"/>
                  </a:lnTo>
                  <a:cubicBezTo>
                    <a:pt x="9932" y="26065"/>
                    <a:pt x="17877" y="8851"/>
                    <a:pt x="80116" y="14147"/>
                  </a:cubicBezTo>
                  <a:cubicBezTo>
                    <a:pt x="156921" y="20769"/>
                    <a:pt x="245645" y="26065"/>
                    <a:pt x="480034" y="27390"/>
                  </a:cubicBezTo>
                  <a:cubicBezTo>
                    <a:pt x="706477" y="27390"/>
                    <a:pt x="797849" y="7526"/>
                    <a:pt x="865385" y="10175"/>
                  </a:cubicBezTo>
                  <a:cubicBezTo>
                    <a:pt x="921003" y="12823"/>
                    <a:pt x="939542" y="27390"/>
                    <a:pt x="939542" y="41956"/>
                  </a:cubicBezTo>
                  <a:lnTo>
                    <a:pt x="939542" y="153192"/>
                  </a:lnTo>
                  <a:close/>
                </a:path>
              </a:pathLst>
            </a:custGeom>
            <a:solidFill>
              <a:srgbClr val="6e7c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96" name="任意多边形: 形状 173"/>
            <p:cNvSpPr/>
            <p:nvPr/>
          </p:nvSpPr>
          <p:spPr>
            <a:xfrm>
              <a:off x="1825920" y="3957480"/>
              <a:ext cx="927000" cy="834120"/>
            </a:xfrm>
            <a:custGeom>
              <a:avLst/>
              <a:gdLst>
                <a:gd name="textAreaLeft" fmla="*/ 0 w 927000"/>
                <a:gd name="textAreaRight" fmla="*/ 927360 w 927000"/>
                <a:gd name="textAreaTop" fmla="*/ 0 h 834120"/>
                <a:gd name="textAreaBottom" fmla="*/ 834480 h 834120"/>
              </a:gdLst>
              <a:ahLst/>
              <a:rect l="textAreaLeft" t="textAreaTop" r="textAreaRight" b="textAreaBottom"/>
              <a:pathLst>
                <a:path w="926961" h="834265">
                  <a:moveTo>
                    <a:pt x="921003" y="735610"/>
                  </a:moveTo>
                  <a:cubicBezTo>
                    <a:pt x="921003" y="785931"/>
                    <a:pt x="881276" y="825658"/>
                    <a:pt x="830955" y="825658"/>
                  </a:cubicBezTo>
                  <a:lnTo>
                    <a:pt x="99979" y="825658"/>
                  </a:lnTo>
                  <a:cubicBezTo>
                    <a:pt x="49659" y="825658"/>
                    <a:pt x="9932" y="785931"/>
                    <a:pt x="9932" y="735610"/>
                  </a:cubicBezTo>
                  <a:lnTo>
                    <a:pt x="9932" y="99979"/>
                  </a:lnTo>
                  <a:cubicBezTo>
                    <a:pt x="9932" y="49659"/>
                    <a:pt x="49659" y="9932"/>
                    <a:pt x="99979" y="9932"/>
                  </a:cubicBezTo>
                  <a:lnTo>
                    <a:pt x="830955" y="9932"/>
                  </a:lnTo>
                  <a:cubicBezTo>
                    <a:pt x="881276" y="9932"/>
                    <a:pt x="921003" y="49659"/>
                    <a:pt x="921003" y="99979"/>
                  </a:cubicBezTo>
                  <a:lnTo>
                    <a:pt x="921003" y="735610"/>
                  </a:lnTo>
                  <a:close/>
                </a:path>
              </a:pathLst>
            </a:custGeom>
            <a:solidFill>
              <a:srgbClr val="566b7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97" name="任意多边形: 形状 174"/>
            <p:cNvSpPr/>
            <p:nvPr/>
          </p:nvSpPr>
          <p:spPr>
            <a:xfrm>
              <a:off x="2096280" y="6099120"/>
              <a:ext cx="225000" cy="238320"/>
            </a:xfrm>
            <a:custGeom>
              <a:avLst/>
              <a:gdLst>
                <a:gd name="textAreaLeft" fmla="*/ 0 w 225000"/>
                <a:gd name="textAreaRight" fmla="*/ 225360 w 225000"/>
                <a:gd name="textAreaTop" fmla="*/ 0 h 238320"/>
                <a:gd name="textAreaBottom" fmla="*/ 238680 h 238320"/>
              </a:gdLst>
              <a:ahLst/>
              <a:rect l="textAreaLeft" t="textAreaTop" r="textAreaRight" b="textAreaBottom"/>
              <a:pathLst>
                <a:path w="225119" h="238361">
                  <a:moveTo>
                    <a:pt x="9932" y="9932"/>
                  </a:moveTo>
                  <a:lnTo>
                    <a:pt x="175461" y="9932"/>
                  </a:lnTo>
                  <a:cubicBezTo>
                    <a:pt x="175461" y="9932"/>
                    <a:pt x="298614" y="225782"/>
                    <a:pt x="156921" y="237700"/>
                  </a:cubicBezTo>
                  <a:cubicBezTo>
                    <a:pt x="155597" y="237700"/>
                    <a:pt x="27147" y="246969"/>
                    <a:pt x="9932" y="9932"/>
                  </a:cubicBezTo>
                  <a:close/>
                </a:path>
              </a:pathLst>
            </a:custGeom>
            <a:solidFill>
              <a:srgbClr val="4420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598" name="任意多边形: 形状 175"/>
            <p:cNvSpPr/>
            <p:nvPr/>
          </p:nvSpPr>
          <p:spPr>
            <a:xfrm>
              <a:off x="4430880" y="3967200"/>
              <a:ext cx="304560" cy="92520"/>
            </a:xfrm>
            <a:custGeom>
              <a:avLst/>
              <a:gdLst>
                <a:gd name="textAreaLeft" fmla="*/ 0 w 304560"/>
                <a:gd name="textAreaRight" fmla="*/ 304920 w 304560"/>
                <a:gd name="textAreaTop" fmla="*/ 0 h 92520"/>
                <a:gd name="textAreaBottom" fmla="*/ 92880 h 92520"/>
              </a:gdLst>
              <a:ahLst/>
              <a:rect l="textAreaLeft" t="textAreaTop" r="textAreaRight" b="textAreaBottom"/>
              <a:pathLst>
                <a:path w="304573" h="92696">
                  <a:moveTo>
                    <a:pt x="33768" y="23900"/>
                  </a:moveTo>
                  <a:cubicBezTo>
                    <a:pt x="33768" y="23900"/>
                    <a:pt x="268157" y="-1260"/>
                    <a:pt x="289345" y="15955"/>
                  </a:cubicBezTo>
                  <a:cubicBezTo>
                    <a:pt x="310532" y="33170"/>
                    <a:pt x="289345" y="92760"/>
                    <a:pt x="289345" y="92760"/>
                  </a:cubicBezTo>
                  <a:lnTo>
                    <a:pt x="9932" y="92760"/>
                  </a:lnTo>
                  <a:lnTo>
                    <a:pt x="33768" y="23900"/>
                  </a:lnTo>
                  <a:close/>
                </a:path>
              </a:pathLst>
            </a:custGeom>
            <a:solidFill>
              <a:srgbClr val="aeaeaf"/>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599" name="任意多边形: 形状 176"/>
            <p:cNvSpPr/>
            <p:nvPr/>
          </p:nvSpPr>
          <p:spPr>
            <a:xfrm>
              <a:off x="4215240" y="3850200"/>
              <a:ext cx="767880" cy="317520"/>
            </a:xfrm>
            <a:custGeom>
              <a:avLst/>
              <a:gdLst>
                <a:gd name="textAreaLeft" fmla="*/ 0 w 767880"/>
                <a:gd name="textAreaRight" fmla="*/ 768240 w 767880"/>
                <a:gd name="textAreaTop" fmla="*/ 0 h 317520"/>
                <a:gd name="textAreaBottom" fmla="*/ 317880 h 317520"/>
              </a:gdLst>
              <a:ahLst/>
              <a:rect l="textAreaLeft" t="textAreaTop" r="textAreaRight" b="textAreaBottom"/>
              <a:pathLst>
                <a:path w="768053" h="317815">
                  <a:moveTo>
                    <a:pt x="254914" y="160894"/>
                  </a:moveTo>
                  <a:cubicBezTo>
                    <a:pt x="256239" y="159570"/>
                    <a:pt x="257563" y="156921"/>
                    <a:pt x="258887" y="154273"/>
                  </a:cubicBezTo>
                  <a:cubicBezTo>
                    <a:pt x="258887" y="151624"/>
                    <a:pt x="260211" y="148976"/>
                    <a:pt x="261536" y="147652"/>
                  </a:cubicBezTo>
                  <a:cubicBezTo>
                    <a:pt x="262860" y="146327"/>
                    <a:pt x="262860" y="143679"/>
                    <a:pt x="264184" y="142355"/>
                  </a:cubicBezTo>
                  <a:cubicBezTo>
                    <a:pt x="273454" y="106600"/>
                    <a:pt x="269481" y="37740"/>
                    <a:pt x="269481" y="17877"/>
                  </a:cubicBezTo>
                  <a:cubicBezTo>
                    <a:pt x="269481" y="17877"/>
                    <a:pt x="321126" y="19201"/>
                    <a:pt x="374095" y="17877"/>
                  </a:cubicBezTo>
                  <a:cubicBezTo>
                    <a:pt x="427064" y="15229"/>
                    <a:pt x="478709" y="9932"/>
                    <a:pt x="478709" y="9932"/>
                  </a:cubicBezTo>
                  <a:cubicBezTo>
                    <a:pt x="481358" y="29795"/>
                    <a:pt x="481358" y="97331"/>
                    <a:pt x="493276" y="133085"/>
                  </a:cubicBezTo>
                  <a:cubicBezTo>
                    <a:pt x="494600" y="135734"/>
                    <a:pt x="494600" y="137058"/>
                    <a:pt x="495924" y="138382"/>
                  </a:cubicBezTo>
                  <a:cubicBezTo>
                    <a:pt x="497249" y="139706"/>
                    <a:pt x="497249" y="142355"/>
                    <a:pt x="498573" y="145003"/>
                  </a:cubicBezTo>
                  <a:cubicBezTo>
                    <a:pt x="499897" y="147652"/>
                    <a:pt x="501221" y="148976"/>
                    <a:pt x="502545" y="151624"/>
                  </a:cubicBezTo>
                  <a:cubicBezTo>
                    <a:pt x="522409" y="170164"/>
                    <a:pt x="715747" y="232402"/>
                    <a:pt x="759446" y="256239"/>
                  </a:cubicBezTo>
                  <a:cubicBezTo>
                    <a:pt x="830955" y="294641"/>
                    <a:pt x="36416" y="362177"/>
                    <a:pt x="9932" y="285372"/>
                  </a:cubicBezTo>
                  <a:cubicBezTo>
                    <a:pt x="33768" y="237699"/>
                    <a:pt x="236375" y="179433"/>
                    <a:pt x="254914" y="160894"/>
                  </a:cubicBezTo>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00" name="任意多边形: 形状 177"/>
            <p:cNvSpPr/>
            <p:nvPr/>
          </p:nvSpPr>
          <p:spPr>
            <a:xfrm>
              <a:off x="4215240" y="3852720"/>
              <a:ext cx="489960" cy="304560"/>
            </a:xfrm>
            <a:custGeom>
              <a:avLst/>
              <a:gdLst>
                <a:gd name="textAreaLeft" fmla="*/ 0 w 489960"/>
                <a:gd name="textAreaRight" fmla="*/ 490320 w 489960"/>
                <a:gd name="textAreaTop" fmla="*/ 0 h 304560"/>
                <a:gd name="textAreaBottom" fmla="*/ 304920 h 304560"/>
              </a:gdLst>
              <a:ahLst/>
              <a:rect l="textAreaLeft" t="textAreaTop" r="textAreaRight" b="textAreaBottom"/>
              <a:pathLst>
                <a:path w="489965" h="304573">
                  <a:moveTo>
                    <a:pt x="9932" y="281399"/>
                  </a:moveTo>
                  <a:cubicBezTo>
                    <a:pt x="33768" y="235051"/>
                    <a:pt x="237699" y="178109"/>
                    <a:pt x="256239" y="159570"/>
                  </a:cubicBezTo>
                  <a:cubicBezTo>
                    <a:pt x="257563" y="158246"/>
                    <a:pt x="258887" y="155597"/>
                    <a:pt x="260211" y="152949"/>
                  </a:cubicBezTo>
                  <a:cubicBezTo>
                    <a:pt x="260211" y="150300"/>
                    <a:pt x="261536" y="147652"/>
                    <a:pt x="262860" y="146328"/>
                  </a:cubicBezTo>
                  <a:cubicBezTo>
                    <a:pt x="264184" y="145003"/>
                    <a:pt x="264184" y="142355"/>
                    <a:pt x="265508" y="141031"/>
                  </a:cubicBezTo>
                  <a:cubicBezTo>
                    <a:pt x="274778" y="105276"/>
                    <a:pt x="270805" y="37740"/>
                    <a:pt x="270805" y="17877"/>
                  </a:cubicBezTo>
                  <a:cubicBezTo>
                    <a:pt x="270805" y="17877"/>
                    <a:pt x="322450" y="19201"/>
                    <a:pt x="374095" y="17877"/>
                  </a:cubicBezTo>
                  <a:cubicBezTo>
                    <a:pt x="425740" y="15229"/>
                    <a:pt x="477385" y="9932"/>
                    <a:pt x="477385" y="9932"/>
                  </a:cubicBezTo>
                  <a:cubicBezTo>
                    <a:pt x="480034" y="29795"/>
                    <a:pt x="482682" y="80116"/>
                    <a:pt x="490627" y="117194"/>
                  </a:cubicBezTo>
                  <a:cubicBezTo>
                    <a:pt x="484006" y="119843"/>
                    <a:pt x="191351" y="249617"/>
                    <a:pt x="37741" y="299938"/>
                  </a:cubicBezTo>
                  <a:cubicBezTo>
                    <a:pt x="21850" y="295965"/>
                    <a:pt x="12580" y="289344"/>
                    <a:pt x="9932" y="281399"/>
                  </a:cubicBezTo>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01" name="任意多边形: 形状 178"/>
            <p:cNvSpPr/>
            <p:nvPr/>
          </p:nvSpPr>
          <p:spPr>
            <a:xfrm>
              <a:off x="4706280" y="3656880"/>
              <a:ext cx="145440" cy="185400"/>
            </a:xfrm>
            <a:custGeom>
              <a:avLst/>
              <a:gdLst>
                <a:gd name="textAreaLeft" fmla="*/ 0 w 145440"/>
                <a:gd name="textAreaRight" fmla="*/ 145800 w 145440"/>
                <a:gd name="textAreaTop" fmla="*/ 0 h 185400"/>
                <a:gd name="textAreaBottom" fmla="*/ 185760 h 185400"/>
              </a:gdLst>
              <a:ahLst/>
              <a:rect l="textAreaLeft" t="textAreaTop" r="textAreaRight" b="textAreaBottom"/>
              <a:pathLst>
                <a:path w="145665" h="185392">
                  <a:moveTo>
                    <a:pt x="138478" y="9932"/>
                  </a:moveTo>
                  <a:cubicBezTo>
                    <a:pt x="138478" y="9932"/>
                    <a:pt x="98751" y="126464"/>
                    <a:pt x="64321" y="155597"/>
                  </a:cubicBezTo>
                  <a:cubicBezTo>
                    <a:pt x="29891" y="184730"/>
                    <a:pt x="24594" y="186054"/>
                    <a:pt x="10028" y="182082"/>
                  </a:cubicBezTo>
                  <a:cubicBezTo>
                    <a:pt x="7379" y="126464"/>
                    <a:pt x="60348" y="36416"/>
                    <a:pt x="60348" y="36416"/>
                  </a:cubicBezTo>
                  <a:lnTo>
                    <a:pt x="138478" y="9932"/>
                  </a:lnTo>
                  <a:close/>
                </a:path>
              </a:pathLst>
            </a:custGeom>
            <a:solidFill>
              <a:srgbClr val="994a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02" name="任意多边形: 形状 179"/>
            <p:cNvSpPr/>
            <p:nvPr/>
          </p:nvSpPr>
          <p:spPr>
            <a:xfrm>
              <a:off x="4286160" y="3297960"/>
              <a:ext cx="489960" cy="662040"/>
            </a:xfrm>
            <a:custGeom>
              <a:avLst/>
              <a:gdLst>
                <a:gd name="textAreaLeft" fmla="*/ 0 w 489960"/>
                <a:gd name="textAreaRight" fmla="*/ 490320 w 489960"/>
                <a:gd name="textAreaTop" fmla="*/ 0 h 662040"/>
                <a:gd name="textAreaBottom" fmla="*/ 662400 h 662040"/>
              </a:gdLst>
              <a:ahLst/>
              <a:rect l="textAreaLeft" t="textAreaTop" r="textAreaRight" b="textAreaBottom"/>
              <a:pathLst>
                <a:path w="489965" h="662115">
                  <a:moveTo>
                    <a:pt x="481815" y="371447"/>
                  </a:moveTo>
                  <a:cubicBezTo>
                    <a:pt x="481815" y="213863"/>
                    <a:pt x="393092" y="9932"/>
                    <a:pt x="264642" y="9932"/>
                  </a:cubicBezTo>
                  <a:cubicBezTo>
                    <a:pt x="158703" y="9932"/>
                    <a:pt x="35550" y="9932"/>
                    <a:pt x="11714" y="205918"/>
                  </a:cubicBezTo>
                  <a:cubicBezTo>
                    <a:pt x="6417" y="246969"/>
                    <a:pt x="14362" y="266833"/>
                    <a:pt x="17010" y="325099"/>
                  </a:cubicBezTo>
                  <a:cubicBezTo>
                    <a:pt x="18335" y="339665"/>
                    <a:pt x="17010" y="372771"/>
                    <a:pt x="19659" y="387338"/>
                  </a:cubicBezTo>
                  <a:cubicBezTo>
                    <a:pt x="30253" y="450901"/>
                    <a:pt x="36874" y="469440"/>
                    <a:pt x="48792" y="501221"/>
                  </a:cubicBezTo>
                  <a:cubicBezTo>
                    <a:pt x="85871" y="597890"/>
                    <a:pt x="93816" y="648211"/>
                    <a:pt x="179891" y="661454"/>
                  </a:cubicBezTo>
                  <a:cubicBezTo>
                    <a:pt x="287153" y="678668"/>
                    <a:pt x="390444" y="629672"/>
                    <a:pt x="426198" y="568757"/>
                  </a:cubicBezTo>
                  <a:cubicBezTo>
                    <a:pt x="461952" y="507843"/>
                    <a:pt x="481815" y="429713"/>
                    <a:pt x="481815" y="371447"/>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03" name="任意多边形: 形状 180"/>
            <p:cNvSpPr/>
            <p:nvPr/>
          </p:nvSpPr>
          <p:spPr>
            <a:xfrm>
              <a:off x="4272120" y="3242880"/>
              <a:ext cx="609120" cy="437040"/>
            </a:xfrm>
            <a:custGeom>
              <a:avLst/>
              <a:gdLst>
                <a:gd name="textAreaLeft" fmla="*/ 0 w 609120"/>
                <a:gd name="textAreaRight" fmla="*/ 609480 w 609120"/>
                <a:gd name="textAreaTop" fmla="*/ 0 h 437040"/>
                <a:gd name="textAreaBottom" fmla="*/ 437400 h 437040"/>
              </a:gdLst>
              <a:ahLst/>
              <a:rect l="textAreaLeft" t="textAreaTop" r="textAreaRight" b="textAreaBottom"/>
              <a:pathLst>
                <a:path w="609146" h="436996">
                  <a:moveTo>
                    <a:pt x="494600" y="99390"/>
                  </a:moveTo>
                  <a:cubicBezTo>
                    <a:pt x="494600" y="99390"/>
                    <a:pt x="450901" y="-10521"/>
                    <a:pt x="192676" y="13315"/>
                  </a:cubicBezTo>
                  <a:cubicBezTo>
                    <a:pt x="21850" y="29206"/>
                    <a:pt x="32444" y="151035"/>
                    <a:pt x="9932" y="160305"/>
                  </a:cubicBezTo>
                  <a:cubicBezTo>
                    <a:pt x="40389" y="192087"/>
                    <a:pt x="205918" y="258298"/>
                    <a:pt x="395283" y="189438"/>
                  </a:cubicBezTo>
                  <a:cubicBezTo>
                    <a:pt x="393959" y="249029"/>
                    <a:pt x="440307" y="417206"/>
                    <a:pt x="462819" y="415882"/>
                  </a:cubicBezTo>
                  <a:cubicBezTo>
                    <a:pt x="493276" y="337752"/>
                    <a:pt x="564784" y="307295"/>
                    <a:pt x="567433" y="434421"/>
                  </a:cubicBezTo>
                  <a:cubicBezTo>
                    <a:pt x="608484" y="393370"/>
                    <a:pt x="636293" y="123227"/>
                    <a:pt x="494600" y="99390"/>
                  </a:cubicBezTo>
                  <a:close/>
                </a:path>
              </a:pathLst>
            </a:custGeom>
            <a:solidFill>
              <a:srgbClr val="994a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04" name="任意多边形: 形状 181"/>
            <p:cNvSpPr/>
            <p:nvPr/>
          </p:nvSpPr>
          <p:spPr>
            <a:xfrm>
              <a:off x="4285440" y="3402360"/>
              <a:ext cx="52920" cy="185400"/>
            </a:xfrm>
            <a:custGeom>
              <a:avLst/>
              <a:gdLst>
                <a:gd name="textAreaLeft" fmla="*/ 0 w 52920"/>
                <a:gd name="textAreaRight" fmla="*/ 53280 w 52920"/>
                <a:gd name="textAreaTop" fmla="*/ 0 h 185400"/>
                <a:gd name="textAreaBottom" fmla="*/ 185760 h 185400"/>
              </a:gdLst>
              <a:ahLst/>
              <a:rect l="textAreaLeft" t="textAreaTop" r="textAreaRight" b="textAreaBottom"/>
              <a:pathLst>
                <a:path w="52969" h="185392">
                  <a:moveTo>
                    <a:pt x="52307" y="23374"/>
                  </a:moveTo>
                  <a:cubicBezTo>
                    <a:pt x="52307" y="23374"/>
                    <a:pt x="16553" y="116070"/>
                    <a:pt x="17877" y="179633"/>
                  </a:cubicBezTo>
                  <a:cubicBezTo>
                    <a:pt x="7283" y="145203"/>
                    <a:pt x="7283" y="47210"/>
                    <a:pt x="17877" y="14104"/>
                  </a:cubicBezTo>
                  <a:cubicBezTo>
                    <a:pt x="45686" y="862"/>
                    <a:pt x="52307" y="23374"/>
                    <a:pt x="52307" y="23374"/>
                  </a:cubicBezTo>
                  <a:close/>
                </a:path>
              </a:pathLst>
            </a:custGeom>
            <a:solidFill>
              <a:srgbClr val="994a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05" name="任意多边形: 形状 182"/>
            <p:cNvSpPr/>
            <p:nvPr/>
          </p:nvSpPr>
          <p:spPr>
            <a:xfrm>
              <a:off x="4389120" y="3781800"/>
              <a:ext cx="198360" cy="198360"/>
            </a:xfrm>
            <a:custGeom>
              <a:avLst/>
              <a:gdLst>
                <a:gd name="textAreaLeft" fmla="*/ 0 w 198360"/>
                <a:gd name="textAreaRight" fmla="*/ 198720 w 198360"/>
                <a:gd name="textAreaTop" fmla="*/ 0 h 198360"/>
                <a:gd name="textAreaBottom" fmla="*/ 198720 h 198360"/>
              </a:gdLst>
              <a:ahLst/>
              <a:rect l="textAreaLeft" t="textAreaTop" r="textAreaRight" b="textAreaBottom"/>
              <a:pathLst>
                <a:path w="198634" h="198634">
                  <a:moveTo>
                    <a:pt x="26506" y="161743"/>
                  </a:moveTo>
                  <a:cubicBezTo>
                    <a:pt x="39748" y="197497"/>
                    <a:pt x="95366" y="202794"/>
                    <a:pt x="115229" y="200146"/>
                  </a:cubicBezTo>
                  <a:cubicBezTo>
                    <a:pt x="136417" y="197497"/>
                    <a:pt x="149659" y="196173"/>
                    <a:pt x="168199" y="185579"/>
                  </a:cubicBezTo>
                  <a:cubicBezTo>
                    <a:pt x="186738" y="174985"/>
                    <a:pt x="192035" y="152473"/>
                    <a:pt x="193359" y="75668"/>
                  </a:cubicBezTo>
                  <a:cubicBezTo>
                    <a:pt x="194683" y="-2462"/>
                    <a:pt x="113905" y="10780"/>
                    <a:pt x="113905" y="10780"/>
                  </a:cubicBezTo>
                  <a:cubicBezTo>
                    <a:pt x="26506" y="10780"/>
                    <a:pt x="18560" y="35941"/>
                    <a:pt x="11939" y="53156"/>
                  </a:cubicBezTo>
                  <a:cubicBezTo>
                    <a:pt x="6642" y="67722"/>
                    <a:pt x="11939" y="124664"/>
                    <a:pt x="26506" y="161743"/>
                  </a:cubicBezTo>
                  <a:close/>
                  <a:moveTo>
                    <a:pt x="26506" y="67722"/>
                  </a:moveTo>
                  <a:cubicBezTo>
                    <a:pt x="26506" y="45211"/>
                    <a:pt x="58287" y="26671"/>
                    <a:pt x="99339" y="25347"/>
                  </a:cubicBezTo>
                  <a:cubicBezTo>
                    <a:pt x="139065" y="25347"/>
                    <a:pt x="172171" y="43886"/>
                    <a:pt x="172171" y="66398"/>
                  </a:cubicBezTo>
                  <a:cubicBezTo>
                    <a:pt x="172171" y="88910"/>
                    <a:pt x="140390" y="107449"/>
                    <a:pt x="99339" y="108773"/>
                  </a:cubicBezTo>
                  <a:cubicBezTo>
                    <a:pt x="59612" y="110098"/>
                    <a:pt x="26506" y="91559"/>
                    <a:pt x="26506" y="67722"/>
                  </a:cubicBezTo>
                  <a:close/>
                </a:path>
              </a:pathLst>
            </a:custGeom>
            <a:solidFill>
              <a:srgbClr val="7f370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06" name="任意多边形: 形状 183"/>
            <p:cNvSpPr/>
            <p:nvPr/>
          </p:nvSpPr>
          <p:spPr>
            <a:xfrm>
              <a:off x="4522320" y="3610800"/>
              <a:ext cx="145440" cy="79200"/>
            </a:xfrm>
            <a:custGeom>
              <a:avLst/>
              <a:gdLst>
                <a:gd name="textAreaLeft" fmla="*/ 0 w 145440"/>
                <a:gd name="textAreaRight" fmla="*/ 145800 w 145440"/>
                <a:gd name="textAreaTop" fmla="*/ 0 h 79200"/>
                <a:gd name="textAreaBottom" fmla="*/ 79560 h 79200"/>
              </a:gdLst>
              <a:ahLst/>
              <a:rect l="textAreaLeft" t="textAreaTop" r="textAreaRight" b="textAreaBottom"/>
              <a:pathLst>
                <a:path w="145665" h="79453">
                  <a:moveTo>
                    <a:pt x="9932" y="57299"/>
                  </a:moveTo>
                  <a:cubicBezTo>
                    <a:pt x="9932" y="57299"/>
                    <a:pt x="23174" y="14923"/>
                    <a:pt x="62901" y="10951"/>
                  </a:cubicBezTo>
                  <a:cubicBezTo>
                    <a:pt x="102628" y="6978"/>
                    <a:pt x="127789" y="14923"/>
                    <a:pt x="138382" y="29490"/>
                  </a:cubicBezTo>
                  <a:cubicBezTo>
                    <a:pt x="143679" y="40084"/>
                    <a:pt x="147652" y="58623"/>
                    <a:pt x="123816" y="66569"/>
                  </a:cubicBezTo>
                  <a:cubicBezTo>
                    <a:pt x="101304" y="71865"/>
                    <a:pt x="43038" y="78487"/>
                    <a:pt x="9932" y="57299"/>
                  </a:cubicBezTo>
                  <a:close/>
                </a:path>
              </a:pathLst>
            </a:custGeom>
            <a:solidFill>
              <a:srgbClr val="f4c78c"/>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607" name="任意多边形: 形状 184"/>
            <p:cNvSpPr/>
            <p:nvPr/>
          </p:nvSpPr>
          <p:spPr>
            <a:xfrm>
              <a:off x="4523760" y="3619440"/>
              <a:ext cx="132120" cy="65880"/>
            </a:xfrm>
            <a:custGeom>
              <a:avLst/>
              <a:gdLst>
                <a:gd name="textAreaLeft" fmla="*/ 0 w 132120"/>
                <a:gd name="textAreaRight" fmla="*/ 132480 w 132120"/>
                <a:gd name="textAreaTop" fmla="*/ 0 h 65880"/>
                <a:gd name="textAreaBottom" fmla="*/ 66240 h 65880"/>
              </a:gdLst>
              <a:ahLst/>
              <a:rect l="textAreaLeft" t="textAreaTop" r="textAreaRight" b="textAreaBottom"/>
              <a:pathLst>
                <a:path w="132423" h="66211">
                  <a:moveTo>
                    <a:pt x="133085" y="37904"/>
                  </a:moveTo>
                  <a:cubicBezTo>
                    <a:pt x="133085" y="37904"/>
                    <a:pt x="107925" y="64389"/>
                    <a:pt x="58928" y="63064"/>
                  </a:cubicBezTo>
                  <a:cubicBezTo>
                    <a:pt x="36416" y="63064"/>
                    <a:pt x="9932" y="47173"/>
                    <a:pt x="9932" y="47173"/>
                  </a:cubicBezTo>
                  <a:cubicBezTo>
                    <a:pt x="9932" y="47173"/>
                    <a:pt x="44362" y="11419"/>
                    <a:pt x="65550" y="10095"/>
                  </a:cubicBezTo>
                  <a:cubicBezTo>
                    <a:pt x="107925" y="7447"/>
                    <a:pt x="133085" y="37904"/>
                    <a:pt x="133085" y="37904"/>
                  </a:cubicBezTo>
                  <a:close/>
                </a:path>
              </a:pathLst>
            </a:custGeom>
            <a:solidFill>
              <a:srgbClr val="ffffff"/>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08" name="任意多边形: 形状 185"/>
            <p:cNvSpPr/>
            <p:nvPr/>
          </p:nvSpPr>
          <p:spPr>
            <a:xfrm>
              <a:off x="4550040" y="361944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9932" y="-30343"/>
                  </a:moveTo>
                  <a:cubicBezTo>
                    <a:pt x="9932" y="20626"/>
                    <a:pt x="21850" y="8708"/>
                    <a:pt x="-30444" y="10032"/>
                  </a:cubicBezTo>
                  <a:cubicBezTo>
                    <a:pt x="-17202" y="10032"/>
                    <a:pt x="-5283" y="21951"/>
                    <a:pt x="-6608" y="-29019"/>
                  </a:cubicBezTo>
                  <a:cubicBezTo>
                    <a:pt x="-6608" y="-14452"/>
                    <a:pt x="-18526" y="-2534"/>
                    <a:pt x="-31768" y="-3858"/>
                  </a:cubicBezTo>
                  <a:cubicBezTo>
                    <a:pt x="20526" y="-2534"/>
                    <a:pt x="9932" y="-15777"/>
                    <a:pt x="9932" y="-30343"/>
                  </a:cubicBezTo>
                  <a:close/>
                </a:path>
              </a:pathLst>
            </a:custGeom>
            <a:solidFill>
              <a:srgbClr val="2d0201"/>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09" name="任意多边形: 形状 186"/>
            <p:cNvSpPr/>
            <p:nvPr/>
          </p:nvSpPr>
          <p:spPr>
            <a:xfrm>
              <a:off x="4552560" y="362232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10044" y="-31768"/>
                  </a:moveTo>
                  <a:cubicBezTo>
                    <a:pt x="10044" y="20526"/>
                    <a:pt x="20637" y="9932"/>
                    <a:pt x="-31656" y="9932"/>
                  </a:cubicBezTo>
                  <a:cubicBezTo>
                    <a:pt x="-18414" y="9932"/>
                    <a:pt x="-9144" y="21850"/>
                    <a:pt x="-9144" y="-30444"/>
                  </a:cubicBezTo>
                  <a:cubicBezTo>
                    <a:pt x="-9144" y="-17201"/>
                    <a:pt x="-19738" y="-6608"/>
                    <a:pt x="32555" y="-6608"/>
                  </a:cubicBezTo>
                  <a:cubicBezTo>
                    <a:pt x="19313" y="-7932"/>
                    <a:pt x="8719" y="-18526"/>
                    <a:pt x="10044" y="-31768"/>
                  </a:cubicBezTo>
                  <a:close/>
                </a:path>
              </a:pathLst>
            </a:custGeom>
            <a:solidFill>
              <a:srgbClr val="6d2f06"/>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10" name="任意多边形: 形状 187"/>
            <p:cNvSpPr/>
            <p:nvPr/>
          </p:nvSpPr>
          <p:spPr>
            <a:xfrm>
              <a:off x="4560840" y="364212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9202"/>
                  </a:moveTo>
                  <a:cubicBezTo>
                    <a:pt x="9932" y="13904"/>
                    <a:pt x="13904" y="9932"/>
                    <a:pt x="19201" y="9932"/>
                  </a:cubicBezTo>
                  <a:cubicBezTo>
                    <a:pt x="24498" y="9932"/>
                    <a:pt x="28471" y="13904"/>
                    <a:pt x="27147" y="19202"/>
                  </a:cubicBezTo>
                  <a:cubicBezTo>
                    <a:pt x="27147" y="24498"/>
                    <a:pt x="23174" y="28471"/>
                    <a:pt x="17877" y="28471"/>
                  </a:cubicBezTo>
                  <a:cubicBezTo>
                    <a:pt x="13904" y="28471"/>
                    <a:pt x="9932" y="24498"/>
                    <a:pt x="9932" y="19202"/>
                  </a:cubicBezTo>
                  <a:close/>
                </a:path>
              </a:pathLst>
            </a:custGeom>
            <a:solidFill>
              <a:srgbClr val="8e0404"/>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11" name="任意多边形: 形状 188"/>
            <p:cNvSpPr/>
            <p:nvPr/>
          </p:nvSpPr>
          <p:spPr>
            <a:xfrm>
              <a:off x="4567320" y="363816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7877"/>
                  </a:moveTo>
                  <a:cubicBezTo>
                    <a:pt x="9932" y="13904"/>
                    <a:pt x="13904" y="9932"/>
                    <a:pt x="17877" y="9932"/>
                  </a:cubicBezTo>
                  <a:cubicBezTo>
                    <a:pt x="21850" y="9932"/>
                    <a:pt x="25822" y="13904"/>
                    <a:pt x="25822" y="17877"/>
                  </a:cubicBezTo>
                  <a:cubicBezTo>
                    <a:pt x="25822" y="21850"/>
                    <a:pt x="21850" y="25822"/>
                    <a:pt x="17877" y="25822"/>
                  </a:cubicBezTo>
                  <a:cubicBezTo>
                    <a:pt x="12580" y="25822"/>
                    <a:pt x="9932" y="21850"/>
                    <a:pt x="9932" y="17877"/>
                  </a:cubicBezTo>
                  <a:close/>
                </a:path>
              </a:pathLst>
            </a:custGeom>
            <a:solidFill>
              <a:srgbClr val="42030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12" name="任意多边形: 形状 189"/>
            <p:cNvSpPr/>
            <p:nvPr/>
          </p:nvSpPr>
          <p:spPr>
            <a:xfrm>
              <a:off x="4564800" y="364608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13242" h="13242">
                  <a:moveTo>
                    <a:pt x="13904" y="12580"/>
                  </a:moveTo>
                  <a:cubicBezTo>
                    <a:pt x="13904" y="13904"/>
                    <a:pt x="12580" y="13904"/>
                    <a:pt x="11256" y="13904"/>
                  </a:cubicBezTo>
                  <a:cubicBezTo>
                    <a:pt x="9932" y="13904"/>
                    <a:pt x="9932" y="12580"/>
                    <a:pt x="9932" y="11256"/>
                  </a:cubicBezTo>
                  <a:cubicBezTo>
                    <a:pt x="9932" y="9932"/>
                    <a:pt x="11256" y="9932"/>
                    <a:pt x="12580" y="9932"/>
                  </a:cubicBezTo>
                  <a:cubicBezTo>
                    <a:pt x="13904" y="11256"/>
                    <a:pt x="13904" y="12580"/>
                    <a:pt x="13904" y="12580"/>
                  </a:cubicBezTo>
                  <a:close/>
                </a:path>
              </a:pathLst>
            </a:custGeom>
            <a:solidFill>
              <a:srgbClr val="ffffff"/>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613" name="任意多边形: 形状 190"/>
            <p:cNvSpPr/>
            <p:nvPr/>
          </p:nvSpPr>
          <p:spPr>
            <a:xfrm>
              <a:off x="4575240" y="36324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4257"/>
                  </a:moveTo>
                  <a:cubicBezTo>
                    <a:pt x="9932" y="11608"/>
                    <a:pt x="12580" y="8960"/>
                    <a:pt x="15229" y="10284"/>
                  </a:cubicBezTo>
                  <a:cubicBezTo>
                    <a:pt x="17877" y="10284"/>
                    <a:pt x="19202" y="12932"/>
                    <a:pt x="19202" y="15581"/>
                  </a:cubicBezTo>
                  <a:cubicBezTo>
                    <a:pt x="19202" y="18229"/>
                    <a:pt x="16553" y="20878"/>
                    <a:pt x="13905" y="20878"/>
                  </a:cubicBezTo>
                  <a:cubicBezTo>
                    <a:pt x="11256" y="19553"/>
                    <a:pt x="9932" y="16905"/>
                    <a:pt x="9932" y="14257"/>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14" name="任意多边形: 形状 191"/>
            <p:cNvSpPr/>
            <p:nvPr/>
          </p:nvSpPr>
          <p:spPr>
            <a:xfrm>
              <a:off x="4527720" y="3612960"/>
              <a:ext cx="145440" cy="52920"/>
            </a:xfrm>
            <a:custGeom>
              <a:avLst/>
              <a:gdLst>
                <a:gd name="textAreaLeft" fmla="*/ 0 w 145440"/>
                <a:gd name="textAreaRight" fmla="*/ 145800 w 145440"/>
                <a:gd name="textAreaTop" fmla="*/ 0 h 52920"/>
                <a:gd name="textAreaBottom" fmla="*/ 53280 h 52920"/>
              </a:gdLst>
              <a:ahLst/>
              <a:rect l="textAreaLeft" t="textAreaTop" r="textAreaRight" b="textAreaBottom"/>
              <a:pathLst>
                <a:path w="145665" h="52969">
                  <a:moveTo>
                    <a:pt x="9932" y="49659"/>
                  </a:moveTo>
                  <a:cubicBezTo>
                    <a:pt x="9932" y="49659"/>
                    <a:pt x="16553" y="43038"/>
                    <a:pt x="28471" y="36416"/>
                  </a:cubicBezTo>
                  <a:cubicBezTo>
                    <a:pt x="31119" y="35092"/>
                    <a:pt x="33768" y="32444"/>
                    <a:pt x="37740" y="31120"/>
                  </a:cubicBezTo>
                  <a:cubicBezTo>
                    <a:pt x="40389" y="29795"/>
                    <a:pt x="44361" y="28471"/>
                    <a:pt x="48334" y="25822"/>
                  </a:cubicBezTo>
                  <a:cubicBezTo>
                    <a:pt x="52307" y="24498"/>
                    <a:pt x="56280" y="23174"/>
                    <a:pt x="60252" y="21850"/>
                  </a:cubicBezTo>
                  <a:lnTo>
                    <a:pt x="66873" y="20526"/>
                  </a:lnTo>
                  <a:cubicBezTo>
                    <a:pt x="69522" y="20526"/>
                    <a:pt x="70846" y="20526"/>
                    <a:pt x="73495" y="20526"/>
                  </a:cubicBezTo>
                  <a:cubicBezTo>
                    <a:pt x="77467" y="20526"/>
                    <a:pt x="81440" y="20526"/>
                    <a:pt x="85413" y="21850"/>
                  </a:cubicBezTo>
                  <a:cubicBezTo>
                    <a:pt x="89386" y="21850"/>
                    <a:pt x="93358" y="24498"/>
                    <a:pt x="97331" y="24498"/>
                  </a:cubicBezTo>
                  <a:cubicBezTo>
                    <a:pt x="101304" y="25822"/>
                    <a:pt x="103952" y="27147"/>
                    <a:pt x="107925" y="28471"/>
                  </a:cubicBezTo>
                  <a:cubicBezTo>
                    <a:pt x="111897" y="29795"/>
                    <a:pt x="114546" y="32444"/>
                    <a:pt x="117194" y="33768"/>
                  </a:cubicBezTo>
                  <a:cubicBezTo>
                    <a:pt x="119843" y="35092"/>
                    <a:pt x="122491" y="36416"/>
                    <a:pt x="125140" y="39065"/>
                  </a:cubicBezTo>
                  <a:cubicBezTo>
                    <a:pt x="127788" y="40389"/>
                    <a:pt x="129113" y="41713"/>
                    <a:pt x="130436" y="43038"/>
                  </a:cubicBezTo>
                  <a:cubicBezTo>
                    <a:pt x="134409" y="45686"/>
                    <a:pt x="135734" y="47010"/>
                    <a:pt x="135734" y="47010"/>
                  </a:cubicBezTo>
                  <a:cubicBezTo>
                    <a:pt x="135734" y="47010"/>
                    <a:pt x="134409" y="45686"/>
                    <a:pt x="131761" y="41713"/>
                  </a:cubicBezTo>
                  <a:cubicBezTo>
                    <a:pt x="130436" y="40389"/>
                    <a:pt x="129113" y="37741"/>
                    <a:pt x="127788" y="36416"/>
                  </a:cubicBezTo>
                  <a:cubicBezTo>
                    <a:pt x="126464" y="33768"/>
                    <a:pt x="123815" y="32444"/>
                    <a:pt x="121167" y="29795"/>
                  </a:cubicBezTo>
                  <a:cubicBezTo>
                    <a:pt x="118518" y="27147"/>
                    <a:pt x="115870" y="24498"/>
                    <a:pt x="111897" y="21850"/>
                  </a:cubicBezTo>
                  <a:cubicBezTo>
                    <a:pt x="107925" y="19201"/>
                    <a:pt x="105276" y="17877"/>
                    <a:pt x="101304" y="15229"/>
                  </a:cubicBezTo>
                  <a:cubicBezTo>
                    <a:pt x="97331" y="13904"/>
                    <a:pt x="93358" y="11256"/>
                    <a:pt x="88061" y="11256"/>
                  </a:cubicBezTo>
                  <a:cubicBezTo>
                    <a:pt x="82764" y="11256"/>
                    <a:pt x="78791" y="9932"/>
                    <a:pt x="73495" y="9932"/>
                  </a:cubicBezTo>
                  <a:cubicBezTo>
                    <a:pt x="70846" y="9932"/>
                    <a:pt x="68198" y="9932"/>
                    <a:pt x="66873" y="9932"/>
                  </a:cubicBezTo>
                  <a:lnTo>
                    <a:pt x="60252" y="11256"/>
                  </a:lnTo>
                  <a:cubicBezTo>
                    <a:pt x="54955" y="12580"/>
                    <a:pt x="50983" y="13904"/>
                    <a:pt x="47010" y="16553"/>
                  </a:cubicBezTo>
                  <a:cubicBezTo>
                    <a:pt x="39065" y="20526"/>
                    <a:pt x="32443" y="25822"/>
                    <a:pt x="27147" y="31120"/>
                  </a:cubicBezTo>
                  <a:cubicBezTo>
                    <a:pt x="13904" y="41713"/>
                    <a:pt x="9932" y="49659"/>
                    <a:pt x="9932" y="49659"/>
                  </a:cubicBezTo>
                  <a:close/>
                </a:path>
              </a:pathLst>
            </a:custGeom>
            <a:solidFill>
              <a:srgbClr val="3c241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15" name="任意多边形: 形状 192"/>
            <p:cNvSpPr/>
            <p:nvPr/>
          </p:nvSpPr>
          <p:spPr>
            <a:xfrm>
              <a:off x="4619160" y="364608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9726" h="39726">
                  <a:moveTo>
                    <a:pt x="-29120" y="9932"/>
                  </a:moveTo>
                  <a:cubicBezTo>
                    <a:pt x="-29120" y="9932"/>
                    <a:pt x="29795" y="15229"/>
                    <a:pt x="23174" y="20526"/>
                  </a:cubicBezTo>
                  <a:cubicBezTo>
                    <a:pt x="20525" y="23174"/>
                    <a:pt x="16553" y="25822"/>
                    <a:pt x="13904" y="27147"/>
                  </a:cubicBezTo>
                  <a:cubicBezTo>
                    <a:pt x="11256" y="28471"/>
                    <a:pt x="9932" y="29795"/>
                    <a:pt x="9932" y="29795"/>
                  </a:cubicBezTo>
                  <a:cubicBezTo>
                    <a:pt x="9932" y="29795"/>
                    <a:pt x="11256" y="28471"/>
                    <a:pt x="15229" y="28471"/>
                  </a:cubicBezTo>
                  <a:cubicBezTo>
                    <a:pt x="17877" y="27147"/>
                    <a:pt x="21850" y="25822"/>
                    <a:pt x="25822" y="23174"/>
                  </a:cubicBezTo>
                  <a:cubicBezTo>
                    <a:pt x="-31768" y="19201"/>
                    <a:pt x="-25147" y="13904"/>
                    <a:pt x="-25147" y="13904"/>
                  </a:cubicBezTo>
                  <a:lnTo>
                    <a:pt x="-29120" y="9932"/>
                  </a:lnTo>
                  <a:close/>
                </a:path>
              </a:pathLst>
            </a:custGeom>
            <a:solidFill>
              <a:srgbClr val="3c2415"/>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616" name="任意多边形: 形状 193"/>
            <p:cNvSpPr/>
            <p:nvPr/>
          </p:nvSpPr>
          <p:spPr>
            <a:xfrm>
              <a:off x="4437720" y="3749400"/>
              <a:ext cx="92520" cy="39600"/>
            </a:xfrm>
            <a:custGeom>
              <a:avLst/>
              <a:gdLst>
                <a:gd name="textAreaLeft" fmla="*/ 0 w 92520"/>
                <a:gd name="textAreaRight" fmla="*/ 92880 w 92520"/>
                <a:gd name="textAreaTop" fmla="*/ 0 h 39600"/>
                <a:gd name="textAreaBottom" fmla="*/ 39960 h 39600"/>
              </a:gdLst>
              <a:ahLst/>
              <a:rect l="textAreaLeft" t="textAreaTop" r="textAreaRight" b="textAreaBottom"/>
              <a:pathLst>
                <a:path w="92696" h="39726">
                  <a:moveTo>
                    <a:pt x="39065" y="16553"/>
                  </a:moveTo>
                  <a:cubicBezTo>
                    <a:pt x="25823" y="16553"/>
                    <a:pt x="19202" y="13904"/>
                    <a:pt x="9932" y="9932"/>
                  </a:cubicBezTo>
                  <a:cubicBezTo>
                    <a:pt x="13905" y="24498"/>
                    <a:pt x="23174" y="33768"/>
                    <a:pt x="41713" y="35092"/>
                  </a:cubicBezTo>
                  <a:cubicBezTo>
                    <a:pt x="60253" y="35092"/>
                    <a:pt x="80116" y="25822"/>
                    <a:pt x="85413" y="11256"/>
                  </a:cubicBezTo>
                  <a:cubicBezTo>
                    <a:pt x="74819" y="13904"/>
                    <a:pt x="53632" y="16553"/>
                    <a:pt x="39065" y="16553"/>
                  </a:cubicBezTo>
                  <a:close/>
                </a:path>
              </a:pathLst>
            </a:custGeom>
            <a:solidFill>
              <a:srgbClr val="f4c78c"/>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617" name="任意多边形: 形状 194"/>
            <p:cNvSpPr/>
            <p:nvPr/>
          </p:nvSpPr>
          <p:spPr>
            <a:xfrm>
              <a:off x="4318920" y="3614040"/>
              <a:ext cx="132120" cy="65880"/>
            </a:xfrm>
            <a:custGeom>
              <a:avLst/>
              <a:gdLst>
                <a:gd name="textAreaLeft" fmla="*/ 0 w 132120"/>
                <a:gd name="textAreaRight" fmla="*/ 132480 w 132120"/>
                <a:gd name="textAreaTop" fmla="*/ 0 h 65880"/>
                <a:gd name="textAreaBottom" fmla="*/ 66240 h 65880"/>
              </a:gdLst>
              <a:ahLst/>
              <a:rect l="textAreaLeft" t="textAreaTop" r="textAreaRight" b="textAreaBottom"/>
              <a:pathLst>
                <a:path w="132423" h="66211">
                  <a:moveTo>
                    <a:pt x="124543" y="52812"/>
                  </a:moveTo>
                  <a:cubicBezTo>
                    <a:pt x="124543" y="52812"/>
                    <a:pt x="112625" y="13085"/>
                    <a:pt x="78195" y="10436"/>
                  </a:cubicBezTo>
                  <a:cubicBezTo>
                    <a:pt x="43765" y="7788"/>
                    <a:pt x="22577" y="15733"/>
                    <a:pt x="13308" y="30300"/>
                  </a:cubicBezTo>
                  <a:cubicBezTo>
                    <a:pt x="8011" y="39569"/>
                    <a:pt x="6687" y="58109"/>
                    <a:pt x="26550" y="64730"/>
                  </a:cubicBezTo>
                  <a:cubicBezTo>
                    <a:pt x="47738" y="71351"/>
                    <a:pt x="98059" y="73999"/>
                    <a:pt x="124543" y="52812"/>
                  </a:cubicBezTo>
                  <a:close/>
                </a:path>
              </a:pathLst>
            </a:custGeom>
            <a:solidFill>
              <a:srgbClr val="f4c78c"/>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18" name="任意多边形: 形状 195"/>
            <p:cNvSpPr/>
            <p:nvPr/>
          </p:nvSpPr>
          <p:spPr>
            <a:xfrm>
              <a:off x="4327560" y="3622320"/>
              <a:ext cx="119160" cy="65880"/>
            </a:xfrm>
            <a:custGeom>
              <a:avLst/>
              <a:gdLst>
                <a:gd name="textAreaLeft" fmla="*/ 0 w 119160"/>
                <a:gd name="textAreaRight" fmla="*/ 119520 w 119160"/>
                <a:gd name="textAreaTop" fmla="*/ 0 h 65880"/>
                <a:gd name="textAreaBottom" fmla="*/ 66240 h 65880"/>
              </a:gdLst>
              <a:ahLst/>
              <a:rect l="textAreaLeft" t="textAreaTop" r="textAreaRight" b="textAreaBottom"/>
              <a:pathLst>
                <a:path w="119180" h="66211">
                  <a:moveTo>
                    <a:pt x="9932" y="39065"/>
                  </a:moveTo>
                  <a:cubicBezTo>
                    <a:pt x="9932" y="39065"/>
                    <a:pt x="31120" y="62901"/>
                    <a:pt x="73495" y="60253"/>
                  </a:cubicBezTo>
                  <a:cubicBezTo>
                    <a:pt x="92034" y="58928"/>
                    <a:pt x="114546" y="43038"/>
                    <a:pt x="114546" y="43038"/>
                  </a:cubicBezTo>
                  <a:cubicBezTo>
                    <a:pt x="114546" y="43038"/>
                    <a:pt x="84089" y="11256"/>
                    <a:pt x="65549" y="9932"/>
                  </a:cubicBezTo>
                  <a:cubicBezTo>
                    <a:pt x="31120" y="9932"/>
                    <a:pt x="9932" y="39065"/>
                    <a:pt x="9932" y="39065"/>
                  </a:cubicBezTo>
                  <a:close/>
                </a:path>
              </a:pathLst>
            </a:custGeom>
            <a:solidFill>
              <a:srgbClr val="ffffff"/>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19" name="任意多边形: 形状 196"/>
            <p:cNvSpPr/>
            <p:nvPr/>
          </p:nvSpPr>
          <p:spPr>
            <a:xfrm>
              <a:off x="4343760" y="3624480"/>
              <a:ext cx="52920" cy="65880"/>
            </a:xfrm>
            <a:custGeom>
              <a:avLst/>
              <a:gdLst>
                <a:gd name="textAreaLeft" fmla="*/ 0 w 52920"/>
                <a:gd name="textAreaRight" fmla="*/ 53280 w 52920"/>
                <a:gd name="textAreaTop" fmla="*/ 0 h 65880"/>
                <a:gd name="textAreaBottom" fmla="*/ 66240 h 65880"/>
              </a:gdLst>
              <a:ahLst/>
              <a:rect l="textAreaLeft" t="textAreaTop" r="textAreaRight" b="textAreaBottom"/>
              <a:pathLst>
                <a:path w="52969" h="66211">
                  <a:moveTo>
                    <a:pt x="-28086" y="-6100"/>
                  </a:moveTo>
                  <a:cubicBezTo>
                    <a:pt x="-16168" y="-8749"/>
                    <a:pt x="-9547" y="-23315"/>
                    <a:pt x="-12195" y="28978"/>
                  </a:cubicBezTo>
                  <a:cubicBezTo>
                    <a:pt x="-14844" y="15736"/>
                    <a:pt x="-26762" y="7791"/>
                    <a:pt x="26856" y="10439"/>
                  </a:cubicBezTo>
                  <a:cubicBezTo>
                    <a:pt x="14938" y="13088"/>
                    <a:pt x="6993" y="27654"/>
                    <a:pt x="10965" y="-24640"/>
                  </a:cubicBezTo>
                  <a:cubicBezTo>
                    <a:pt x="13614" y="-11397"/>
                    <a:pt x="25532" y="-2128"/>
                    <a:pt x="-28086" y="-6100"/>
                  </a:cubicBezTo>
                  <a:close/>
                </a:path>
              </a:pathLst>
            </a:custGeom>
            <a:solidFill>
              <a:srgbClr val="2d0201"/>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20" name="任意多边形: 形状 197"/>
            <p:cNvSpPr/>
            <p:nvPr/>
          </p:nvSpPr>
          <p:spPr>
            <a:xfrm>
              <a:off x="4347000" y="3627000"/>
              <a:ext cx="52920" cy="52920"/>
            </a:xfrm>
            <a:custGeom>
              <a:avLst/>
              <a:gdLst>
                <a:gd name="textAreaLeft" fmla="*/ 0 w 52920"/>
                <a:gd name="textAreaRight" fmla="*/ 53280 w 52920"/>
                <a:gd name="textAreaTop" fmla="*/ 0 h 52920"/>
                <a:gd name="textAreaBottom" fmla="*/ 53280 h 52920"/>
              </a:gdLst>
              <a:ahLst/>
              <a:rect l="textAreaLeft" t="textAreaTop" r="textAreaRight" b="textAreaBottom"/>
              <a:pathLst>
                <a:path w="52969" h="52969">
                  <a:moveTo>
                    <a:pt x="-31184" y="-10070"/>
                  </a:moveTo>
                  <a:cubicBezTo>
                    <a:pt x="-20590" y="-12719"/>
                    <a:pt x="-13969" y="-25961"/>
                    <a:pt x="-16618" y="27657"/>
                  </a:cubicBezTo>
                  <a:cubicBezTo>
                    <a:pt x="-19266" y="15739"/>
                    <a:pt x="-29860" y="7794"/>
                    <a:pt x="25082" y="10442"/>
                  </a:cubicBezTo>
                  <a:cubicBezTo>
                    <a:pt x="14488" y="13090"/>
                    <a:pt x="7867" y="26333"/>
                    <a:pt x="10516" y="-27285"/>
                  </a:cubicBezTo>
                  <a:cubicBezTo>
                    <a:pt x="11840" y="-15367"/>
                    <a:pt x="22434" y="-7422"/>
                    <a:pt x="-31184" y="-10070"/>
                  </a:cubicBezTo>
                  <a:close/>
                </a:path>
              </a:pathLst>
            </a:custGeom>
            <a:solidFill>
              <a:srgbClr val="6d2f06"/>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21" name="任意多边形: 形状 198"/>
            <p:cNvSpPr/>
            <p:nvPr/>
          </p:nvSpPr>
          <p:spPr>
            <a:xfrm>
              <a:off x="4355280" y="36486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9546" y="27484"/>
                  </a:moveTo>
                  <a:cubicBezTo>
                    <a:pt x="23519" y="26160"/>
                    <a:pt x="26167" y="22187"/>
                    <a:pt x="24842" y="16890"/>
                  </a:cubicBezTo>
                  <a:cubicBezTo>
                    <a:pt x="23519" y="11593"/>
                    <a:pt x="19546" y="8945"/>
                    <a:pt x="15573" y="10269"/>
                  </a:cubicBezTo>
                  <a:cubicBezTo>
                    <a:pt x="11600" y="11593"/>
                    <a:pt x="8952" y="15566"/>
                    <a:pt x="10276" y="20863"/>
                  </a:cubicBezTo>
                  <a:cubicBezTo>
                    <a:pt x="10276" y="24836"/>
                    <a:pt x="14249" y="28808"/>
                    <a:pt x="19546" y="27484"/>
                  </a:cubicBezTo>
                  <a:close/>
                </a:path>
              </a:pathLst>
            </a:custGeom>
            <a:solidFill>
              <a:srgbClr val="8e0404"/>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22" name="任意多边形: 形状 199"/>
            <p:cNvSpPr/>
            <p:nvPr/>
          </p:nvSpPr>
          <p:spPr>
            <a:xfrm>
              <a:off x="4359240" y="36432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8222" y="24843"/>
                  </a:moveTo>
                  <a:cubicBezTo>
                    <a:pt x="22194" y="23519"/>
                    <a:pt x="24843" y="19546"/>
                    <a:pt x="23519" y="15573"/>
                  </a:cubicBezTo>
                  <a:cubicBezTo>
                    <a:pt x="22194" y="11601"/>
                    <a:pt x="19546" y="8952"/>
                    <a:pt x="15573" y="10276"/>
                  </a:cubicBezTo>
                  <a:cubicBezTo>
                    <a:pt x="11601" y="11601"/>
                    <a:pt x="8952" y="15573"/>
                    <a:pt x="10276" y="19546"/>
                  </a:cubicBezTo>
                  <a:cubicBezTo>
                    <a:pt x="11601" y="23519"/>
                    <a:pt x="14249" y="24843"/>
                    <a:pt x="18222" y="24843"/>
                  </a:cubicBezTo>
                  <a:close/>
                </a:path>
              </a:pathLst>
            </a:custGeom>
            <a:solidFill>
              <a:srgbClr val="42030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23" name="任意多边形: 形状 200"/>
            <p:cNvSpPr/>
            <p:nvPr/>
          </p:nvSpPr>
          <p:spPr>
            <a:xfrm>
              <a:off x="4363560" y="365688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13242" h="13242">
                  <a:moveTo>
                    <a:pt x="11256" y="9932"/>
                  </a:moveTo>
                  <a:cubicBezTo>
                    <a:pt x="9932" y="9932"/>
                    <a:pt x="9932" y="11256"/>
                    <a:pt x="9932" y="12580"/>
                  </a:cubicBezTo>
                  <a:cubicBezTo>
                    <a:pt x="9932" y="13904"/>
                    <a:pt x="11256" y="13904"/>
                    <a:pt x="12580" y="13904"/>
                  </a:cubicBezTo>
                  <a:cubicBezTo>
                    <a:pt x="13905" y="13904"/>
                    <a:pt x="13905" y="12580"/>
                    <a:pt x="13905" y="11256"/>
                  </a:cubicBezTo>
                  <a:cubicBezTo>
                    <a:pt x="12580" y="9932"/>
                    <a:pt x="12580" y="9932"/>
                    <a:pt x="11256" y="9932"/>
                  </a:cubicBezTo>
                  <a:close/>
                </a:path>
              </a:pathLst>
            </a:custGeom>
            <a:solidFill>
              <a:srgbClr val="ffffff"/>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624" name="任意多边形: 形状 201"/>
            <p:cNvSpPr/>
            <p:nvPr/>
          </p:nvSpPr>
          <p:spPr>
            <a:xfrm>
              <a:off x="4366800" y="36396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5748" y="19201"/>
                  </a:moveTo>
                  <a:cubicBezTo>
                    <a:pt x="18397" y="19201"/>
                    <a:pt x="19721" y="16553"/>
                    <a:pt x="18397" y="13904"/>
                  </a:cubicBezTo>
                  <a:cubicBezTo>
                    <a:pt x="18397" y="11256"/>
                    <a:pt x="15748" y="9932"/>
                    <a:pt x="13099" y="9932"/>
                  </a:cubicBezTo>
                  <a:cubicBezTo>
                    <a:pt x="10451" y="9932"/>
                    <a:pt x="9127" y="12580"/>
                    <a:pt x="10451" y="15229"/>
                  </a:cubicBezTo>
                  <a:cubicBezTo>
                    <a:pt x="11776" y="17877"/>
                    <a:pt x="14424" y="19201"/>
                    <a:pt x="15748" y="19201"/>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25" name="任意多边形: 形状 202"/>
            <p:cNvSpPr/>
            <p:nvPr/>
          </p:nvSpPr>
          <p:spPr>
            <a:xfrm>
              <a:off x="4322520" y="361980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117194" y="44362"/>
                  </a:moveTo>
                  <a:cubicBezTo>
                    <a:pt x="117194" y="44362"/>
                    <a:pt x="113222" y="36416"/>
                    <a:pt x="105276" y="28471"/>
                  </a:cubicBezTo>
                  <a:cubicBezTo>
                    <a:pt x="101304" y="24498"/>
                    <a:pt x="94682" y="19201"/>
                    <a:pt x="88061" y="15229"/>
                  </a:cubicBezTo>
                  <a:cubicBezTo>
                    <a:pt x="84088" y="13904"/>
                    <a:pt x="80116" y="11256"/>
                    <a:pt x="76143" y="11256"/>
                  </a:cubicBezTo>
                  <a:lnTo>
                    <a:pt x="69522" y="9932"/>
                  </a:lnTo>
                  <a:cubicBezTo>
                    <a:pt x="66873" y="9932"/>
                    <a:pt x="65549" y="9932"/>
                    <a:pt x="62901" y="9932"/>
                  </a:cubicBezTo>
                  <a:cubicBezTo>
                    <a:pt x="58928" y="9932"/>
                    <a:pt x="53631" y="11256"/>
                    <a:pt x="49659" y="11256"/>
                  </a:cubicBezTo>
                  <a:cubicBezTo>
                    <a:pt x="45686" y="12580"/>
                    <a:pt x="41713" y="13904"/>
                    <a:pt x="37740" y="16553"/>
                  </a:cubicBezTo>
                  <a:cubicBezTo>
                    <a:pt x="33768" y="19201"/>
                    <a:pt x="31119" y="20526"/>
                    <a:pt x="28471" y="23174"/>
                  </a:cubicBezTo>
                  <a:cubicBezTo>
                    <a:pt x="25822" y="25822"/>
                    <a:pt x="23174" y="28471"/>
                    <a:pt x="21850" y="29795"/>
                  </a:cubicBezTo>
                  <a:cubicBezTo>
                    <a:pt x="19201" y="32444"/>
                    <a:pt x="17877" y="33768"/>
                    <a:pt x="16553" y="36416"/>
                  </a:cubicBezTo>
                  <a:cubicBezTo>
                    <a:pt x="15229" y="39065"/>
                    <a:pt x="13904" y="40389"/>
                    <a:pt x="12580" y="41713"/>
                  </a:cubicBezTo>
                  <a:cubicBezTo>
                    <a:pt x="11256" y="44362"/>
                    <a:pt x="9932" y="47010"/>
                    <a:pt x="9932" y="47010"/>
                  </a:cubicBezTo>
                  <a:cubicBezTo>
                    <a:pt x="9932" y="47010"/>
                    <a:pt x="11256" y="45686"/>
                    <a:pt x="13904" y="43038"/>
                  </a:cubicBezTo>
                  <a:cubicBezTo>
                    <a:pt x="15229" y="41713"/>
                    <a:pt x="16553" y="40389"/>
                    <a:pt x="19201" y="39065"/>
                  </a:cubicBezTo>
                  <a:cubicBezTo>
                    <a:pt x="20525" y="37741"/>
                    <a:pt x="23174" y="36416"/>
                    <a:pt x="25822" y="33768"/>
                  </a:cubicBezTo>
                  <a:cubicBezTo>
                    <a:pt x="28471" y="32444"/>
                    <a:pt x="31119" y="29795"/>
                    <a:pt x="33768" y="28471"/>
                  </a:cubicBezTo>
                  <a:cubicBezTo>
                    <a:pt x="36416" y="27147"/>
                    <a:pt x="40389" y="25822"/>
                    <a:pt x="43038" y="24498"/>
                  </a:cubicBezTo>
                  <a:cubicBezTo>
                    <a:pt x="45686" y="23174"/>
                    <a:pt x="49659" y="21850"/>
                    <a:pt x="53631" y="21850"/>
                  </a:cubicBezTo>
                  <a:cubicBezTo>
                    <a:pt x="57604" y="21850"/>
                    <a:pt x="60252" y="20526"/>
                    <a:pt x="64225" y="20526"/>
                  </a:cubicBezTo>
                  <a:cubicBezTo>
                    <a:pt x="65549" y="20526"/>
                    <a:pt x="68198" y="20526"/>
                    <a:pt x="69522" y="20526"/>
                  </a:cubicBezTo>
                  <a:lnTo>
                    <a:pt x="74819" y="21850"/>
                  </a:lnTo>
                  <a:cubicBezTo>
                    <a:pt x="78791" y="21850"/>
                    <a:pt x="81440" y="23174"/>
                    <a:pt x="85413" y="24498"/>
                  </a:cubicBezTo>
                  <a:cubicBezTo>
                    <a:pt x="88061" y="25822"/>
                    <a:pt x="92034" y="27147"/>
                    <a:pt x="94682" y="28471"/>
                  </a:cubicBezTo>
                  <a:cubicBezTo>
                    <a:pt x="97331" y="29795"/>
                    <a:pt x="99979" y="31120"/>
                    <a:pt x="102628" y="32444"/>
                  </a:cubicBezTo>
                  <a:cubicBezTo>
                    <a:pt x="110573" y="39065"/>
                    <a:pt x="117194" y="44362"/>
                    <a:pt x="117194" y="44362"/>
                  </a:cubicBezTo>
                  <a:close/>
                </a:path>
              </a:pathLst>
            </a:custGeom>
            <a:solidFill>
              <a:srgbClr val="3c241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26" name="任意多边形: 形状 203"/>
            <p:cNvSpPr/>
            <p:nvPr/>
          </p:nvSpPr>
          <p:spPr>
            <a:xfrm>
              <a:off x="4420440" y="3822480"/>
              <a:ext cx="119160" cy="39600"/>
            </a:xfrm>
            <a:custGeom>
              <a:avLst/>
              <a:gdLst>
                <a:gd name="textAreaLeft" fmla="*/ 0 w 119160"/>
                <a:gd name="textAreaRight" fmla="*/ 119520 w 119160"/>
                <a:gd name="textAreaTop" fmla="*/ 0 h 39600"/>
                <a:gd name="textAreaBottom" fmla="*/ 39960 h 39600"/>
              </a:gdLst>
              <a:ahLst/>
              <a:rect l="textAreaLeft" t="textAreaTop" r="textAreaRight" b="textAreaBottom"/>
              <a:pathLst>
                <a:path w="119180" h="39726">
                  <a:moveTo>
                    <a:pt x="118518" y="9932"/>
                  </a:moveTo>
                  <a:cubicBezTo>
                    <a:pt x="118518" y="9932"/>
                    <a:pt x="117195" y="11256"/>
                    <a:pt x="114546" y="12580"/>
                  </a:cubicBezTo>
                  <a:cubicBezTo>
                    <a:pt x="113222" y="13904"/>
                    <a:pt x="111897" y="13904"/>
                    <a:pt x="109249" y="15229"/>
                  </a:cubicBezTo>
                  <a:cubicBezTo>
                    <a:pt x="107925" y="16553"/>
                    <a:pt x="105276" y="16553"/>
                    <a:pt x="102628" y="17877"/>
                  </a:cubicBezTo>
                  <a:cubicBezTo>
                    <a:pt x="99979" y="19201"/>
                    <a:pt x="97331" y="19201"/>
                    <a:pt x="94682" y="20526"/>
                  </a:cubicBezTo>
                  <a:cubicBezTo>
                    <a:pt x="92034" y="20526"/>
                    <a:pt x="89386" y="21850"/>
                    <a:pt x="85413" y="21850"/>
                  </a:cubicBezTo>
                  <a:cubicBezTo>
                    <a:pt x="82764" y="23174"/>
                    <a:pt x="78791" y="23174"/>
                    <a:pt x="76143" y="23174"/>
                  </a:cubicBezTo>
                  <a:cubicBezTo>
                    <a:pt x="72170" y="23174"/>
                    <a:pt x="69522" y="23174"/>
                    <a:pt x="65549" y="24498"/>
                  </a:cubicBezTo>
                  <a:cubicBezTo>
                    <a:pt x="61577" y="24498"/>
                    <a:pt x="58928" y="24498"/>
                    <a:pt x="54955" y="24498"/>
                  </a:cubicBezTo>
                  <a:cubicBezTo>
                    <a:pt x="50983" y="24498"/>
                    <a:pt x="48334" y="24498"/>
                    <a:pt x="44362" y="24498"/>
                  </a:cubicBezTo>
                  <a:cubicBezTo>
                    <a:pt x="41713" y="24498"/>
                    <a:pt x="37741" y="24498"/>
                    <a:pt x="35092" y="24498"/>
                  </a:cubicBezTo>
                  <a:cubicBezTo>
                    <a:pt x="32443" y="24498"/>
                    <a:pt x="29795" y="24498"/>
                    <a:pt x="27147" y="24498"/>
                  </a:cubicBezTo>
                  <a:cubicBezTo>
                    <a:pt x="16553" y="24498"/>
                    <a:pt x="9932" y="24498"/>
                    <a:pt x="9932" y="24498"/>
                  </a:cubicBezTo>
                  <a:cubicBezTo>
                    <a:pt x="9932" y="24498"/>
                    <a:pt x="16553" y="27147"/>
                    <a:pt x="27147" y="29795"/>
                  </a:cubicBezTo>
                  <a:cubicBezTo>
                    <a:pt x="32443" y="31120"/>
                    <a:pt x="39065" y="33768"/>
                    <a:pt x="45686" y="33768"/>
                  </a:cubicBezTo>
                  <a:cubicBezTo>
                    <a:pt x="49659" y="33768"/>
                    <a:pt x="52307" y="35092"/>
                    <a:pt x="56280" y="35092"/>
                  </a:cubicBezTo>
                  <a:cubicBezTo>
                    <a:pt x="60252" y="35092"/>
                    <a:pt x="62901" y="35092"/>
                    <a:pt x="66873" y="35092"/>
                  </a:cubicBezTo>
                  <a:cubicBezTo>
                    <a:pt x="73495" y="33768"/>
                    <a:pt x="81440" y="33768"/>
                    <a:pt x="88061" y="31120"/>
                  </a:cubicBezTo>
                  <a:cubicBezTo>
                    <a:pt x="92034" y="29795"/>
                    <a:pt x="94682" y="28471"/>
                    <a:pt x="97331" y="28471"/>
                  </a:cubicBezTo>
                  <a:cubicBezTo>
                    <a:pt x="99979" y="27147"/>
                    <a:pt x="102628" y="25822"/>
                    <a:pt x="105276" y="24498"/>
                  </a:cubicBezTo>
                  <a:cubicBezTo>
                    <a:pt x="107925" y="23174"/>
                    <a:pt x="109249" y="21850"/>
                    <a:pt x="111897" y="19201"/>
                  </a:cubicBezTo>
                  <a:cubicBezTo>
                    <a:pt x="113222" y="17877"/>
                    <a:pt x="114546" y="16553"/>
                    <a:pt x="115870" y="15229"/>
                  </a:cubicBezTo>
                  <a:cubicBezTo>
                    <a:pt x="117195" y="11256"/>
                    <a:pt x="118518" y="9932"/>
                    <a:pt x="118518" y="9932"/>
                  </a:cubicBezTo>
                  <a:close/>
                </a:path>
              </a:pathLst>
            </a:custGeom>
            <a:solidFill>
              <a:srgbClr val="f48978"/>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627" name="任意多边形: 形状 204"/>
            <p:cNvSpPr/>
            <p:nvPr/>
          </p:nvSpPr>
          <p:spPr>
            <a:xfrm>
              <a:off x="4737240" y="3565440"/>
              <a:ext cx="119160" cy="185400"/>
            </a:xfrm>
            <a:custGeom>
              <a:avLst/>
              <a:gdLst>
                <a:gd name="textAreaLeft" fmla="*/ 0 w 119160"/>
                <a:gd name="textAreaRight" fmla="*/ 119520 w 119160"/>
                <a:gd name="textAreaTop" fmla="*/ 0 h 185400"/>
                <a:gd name="textAreaBottom" fmla="*/ 185760 h 185400"/>
              </a:gdLst>
              <a:ahLst/>
              <a:rect l="textAreaLeft" t="textAreaTop" r="textAreaRight" b="textAreaBottom"/>
              <a:pathLst>
                <a:path w="119180" h="185392">
                  <a:moveTo>
                    <a:pt x="21373" y="38893"/>
                  </a:moveTo>
                  <a:cubicBezTo>
                    <a:pt x="21373" y="38893"/>
                    <a:pt x="42561" y="3139"/>
                    <a:pt x="84936" y="11084"/>
                  </a:cubicBezTo>
                  <a:cubicBezTo>
                    <a:pt x="140554" y="21678"/>
                    <a:pt x="103475" y="187207"/>
                    <a:pt x="10779" y="175289"/>
                  </a:cubicBezTo>
                  <a:cubicBezTo>
                    <a:pt x="10779" y="176613"/>
                    <a:pt x="5482" y="70674"/>
                    <a:pt x="21373" y="38893"/>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28" name="任意多边形: 形状 205"/>
            <p:cNvSpPr/>
            <p:nvPr/>
          </p:nvSpPr>
          <p:spPr>
            <a:xfrm>
              <a:off x="4747320" y="3597480"/>
              <a:ext cx="65880" cy="105840"/>
            </a:xfrm>
            <a:custGeom>
              <a:avLst/>
              <a:gdLst>
                <a:gd name="textAreaLeft" fmla="*/ 0 w 65880"/>
                <a:gd name="textAreaRight" fmla="*/ 66240 w 65880"/>
                <a:gd name="textAreaTop" fmla="*/ 0 h 105840"/>
                <a:gd name="textAreaBottom" fmla="*/ 106200 h 105840"/>
              </a:gdLst>
              <a:ahLst/>
              <a:rect l="textAreaLeft" t="textAreaTop" r="textAreaRight" b="textAreaBottom"/>
              <a:pathLst>
                <a:path w="66211" h="105938">
                  <a:moveTo>
                    <a:pt x="10014" y="106116"/>
                  </a:moveTo>
                  <a:cubicBezTo>
                    <a:pt x="10014" y="106116"/>
                    <a:pt x="8691" y="50499"/>
                    <a:pt x="16636" y="31959"/>
                  </a:cubicBezTo>
                  <a:cubicBezTo>
                    <a:pt x="27230" y="8123"/>
                    <a:pt x="69605" y="-2471"/>
                    <a:pt x="65632" y="31959"/>
                  </a:cubicBezTo>
                  <a:cubicBezTo>
                    <a:pt x="60335" y="92874"/>
                    <a:pt x="13987" y="115386"/>
                    <a:pt x="10014" y="106116"/>
                  </a:cubicBezTo>
                  <a:close/>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29" name="任意多边形: 形状 206"/>
            <p:cNvSpPr/>
            <p:nvPr/>
          </p:nvSpPr>
          <p:spPr>
            <a:xfrm>
              <a:off x="4272120" y="3393360"/>
              <a:ext cx="383760" cy="65880"/>
            </a:xfrm>
            <a:custGeom>
              <a:avLst/>
              <a:gdLst>
                <a:gd name="textAreaLeft" fmla="*/ 0 w 383760"/>
                <a:gd name="textAreaRight" fmla="*/ 384120 w 383760"/>
                <a:gd name="textAreaTop" fmla="*/ 0 h 65880"/>
                <a:gd name="textAreaBottom" fmla="*/ 66240 h 65880"/>
              </a:gdLst>
              <a:ahLst/>
              <a:rect l="textAreaLeft" t="textAreaTop" r="textAreaRight" b="textAreaBottom"/>
              <a:pathLst>
                <a:path w="384026" h="66211">
                  <a:moveTo>
                    <a:pt x="9932" y="9932"/>
                  </a:moveTo>
                  <a:cubicBezTo>
                    <a:pt x="41713" y="41713"/>
                    <a:pt x="223133" y="94682"/>
                    <a:pt x="378068" y="28471"/>
                  </a:cubicBezTo>
                  <a:cubicBezTo>
                    <a:pt x="380716" y="25822"/>
                    <a:pt x="383365" y="21850"/>
                    <a:pt x="386013" y="19201"/>
                  </a:cubicBezTo>
                  <a:cubicBezTo>
                    <a:pt x="245645" y="74819"/>
                    <a:pt x="64225" y="27147"/>
                    <a:pt x="9932" y="9932"/>
                  </a:cubicBezTo>
                  <a:close/>
                </a:path>
              </a:pathLst>
            </a:custGeom>
            <a:solidFill>
              <a:srgbClr val="893d04"/>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30" name="任意多边形: 形状 207"/>
            <p:cNvSpPr/>
            <p:nvPr/>
          </p:nvSpPr>
          <p:spPr>
            <a:xfrm>
              <a:off x="4355640" y="4043520"/>
              <a:ext cx="397080" cy="330840"/>
            </a:xfrm>
            <a:custGeom>
              <a:avLst/>
              <a:gdLst>
                <a:gd name="textAreaLeft" fmla="*/ 0 w 397080"/>
                <a:gd name="textAreaRight" fmla="*/ 397440 w 397080"/>
                <a:gd name="textAreaTop" fmla="*/ 0 h 330840"/>
                <a:gd name="textAreaBottom" fmla="*/ 331200 h 330840"/>
              </a:gdLst>
              <a:ahLst/>
              <a:rect l="textAreaLeft" t="textAreaTop" r="textAreaRight" b="textAreaBottom"/>
              <a:pathLst>
                <a:path w="397269" h="331057">
                  <a:moveTo>
                    <a:pt x="386013" y="36416"/>
                  </a:moveTo>
                  <a:cubicBezTo>
                    <a:pt x="386013" y="36416"/>
                    <a:pt x="400580" y="111897"/>
                    <a:pt x="386013" y="137058"/>
                  </a:cubicBezTo>
                  <a:cubicBezTo>
                    <a:pt x="371447" y="162218"/>
                    <a:pt x="317153" y="258887"/>
                    <a:pt x="303911" y="278751"/>
                  </a:cubicBezTo>
                  <a:cubicBezTo>
                    <a:pt x="290668" y="298614"/>
                    <a:pt x="141031" y="334368"/>
                    <a:pt x="130436" y="326423"/>
                  </a:cubicBezTo>
                  <a:cubicBezTo>
                    <a:pt x="119843" y="318478"/>
                    <a:pt x="9932" y="123816"/>
                    <a:pt x="9932" y="118519"/>
                  </a:cubicBezTo>
                  <a:cubicBezTo>
                    <a:pt x="9932" y="113222"/>
                    <a:pt x="15229" y="21850"/>
                    <a:pt x="15229" y="21850"/>
                  </a:cubicBezTo>
                  <a:lnTo>
                    <a:pt x="47010" y="9932"/>
                  </a:lnTo>
                  <a:lnTo>
                    <a:pt x="167515" y="102628"/>
                  </a:lnTo>
                  <a:lnTo>
                    <a:pt x="252266" y="103952"/>
                  </a:lnTo>
                  <a:lnTo>
                    <a:pt x="289344" y="74819"/>
                  </a:lnTo>
                  <a:lnTo>
                    <a:pt x="389986" y="29795"/>
                  </a:lnTo>
                </a:path>
              </a:pathLst>
            </a:custGeom>
            <a:solidFill>
              <a:srgbClr val="e5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31" name="任意多边形: 形状 208"/>
            <p:cNvSpPr/>
            <p:nvPr/>
          </p:nvSpPr>
          <p:spPr>
            <a:xfrm>
              <a:off x="3758040" y="4097880"/>
              <a:ext cx="556200" cy="821160"/>
            </a:xfrm>
            <a:custGeom>
              <a:avLst/>
              <a:gdLst>
                <a:gd name="textAreaLeft" fmla="*/ 0 w 556200"/>
                <a:gd name="textAreaRight" fmla="*/ 556560 w 556200"/>
                <a:gd name="textAreaTop" fmla="*/ 0 h 821160"/>
                <a:gd name="textAreaBottom" fmla="*/ 821520 h 821160"/>
              </a:gdLst>
              <a:ahLst/>
              <a:rect l="textAreaLeft" t="textAreaTop" r="textAreaRight" b="textAreaBottom"/>
              <a:pathLst>
                <a:path w="556176" h="821023">
                  <a:moveTo>
                    <a:pt x="498573" y="27147"/>
                  </a:moveTo>
                  <a:lnTo>
                    <a:pt x="464143" y="9932"/>
                  </a:lnTo>
                  <a:cubicBezTo>
                    <a:pt x="464143" y="9932"/>
                    <a:pt x="445604" y="16553"/>
                    <a:pt x="417795" y="57604"/>
                  </a:cubicBezTo>
                  <a:cubicBezTo>
                    <a:pt x="339665" y="175461"/>
                    <a:pt x="313181" y="612457"/>
                    <a:pt x="313181" y="612457"/>
                  </a:cubicBezTo>
                  <a:lnTo>
                    <a:pt x="29795" y="666750"/>
                  </a:lnTo>
                  <a:lnTo>
                    <a:pt x="9932" y="815064"/>
                  </a:lnTo>
                  <a:lnTo>
                    <a:pt x="538300" y="758122"/>
                  </a:lnTo>
                  <a:lnTo>
                    <a:pt x="546245" y="505194"/>
                  </a:lnTo>
                  <a:lnTo>
                    <a:pt x="498573" y="27147"/>
                  </a:lnTo>
                  <a:close/>
                </a:path>
              </a:pathLst>
            </a:custGeom>
            <a:solidFill>
              <a:srgbClr val="e5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32" name="任意多边形: 形状 209"/>
            <p:cNvSpPr/>
            <p:nvPr/>
          </p:nvSpPr>
          <p:spPr>
            <a:xfrm>
              <a:off x="4290480" y="4739040"/>
              <a:ext cx="330840" cy="119160"/>
            </a:xfrm>
            <a:custGeom>
              <a:avLst/>
              <a:gdLst>
                <a:gd name="textAreaLeft" fmla="*/ 0 w 330840"/>
                <a:gd name="textAreaRight" fmla="*/ 331200 w 330840"/>
                <a:gd name="textAreaTop" fmla="*/ 0 h 119160"/>
                <a:gd name="textAreaBottom" fmla="*/ 119520 h 119160"/>
              </a:gdLst>
              <a:ahLst/>
              <a:rect l="textAreaLeft" t="textAreaTop" r="textAreaRight" b="textAreaBottom"/>
              <a:pathLst>
                <a:path w="331057" h="119180">
                  <a:moveTo>
                    <a:pt x="330396" y="9932"/>
                  </a:moveTo>
                  <a:lnTo>
                    <a:pt x="190027" y="9932"/>
                  </a:lnTo>
                  <a:lnTo>
                    <a:pt x="19202" y="68198"/>
                  </a:lnTo>
                  <a:lnTo>
                    <a:pt x="9932" y="114546"/>
                  </a:lnTo>
                  <a:lnTo>
                    <a:pt x="330396" y="109249"/>
                  </a:lnTo>
                  <a:lnTo>
                    <a:pt x="330396" y="9932"/>
                  </a:ln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33" name="任意多边形: 形状 210"/>
            <p:cNvSpPr/>
            <p:nvPr/>
          </p:nvSpPr>
          <p:spPr>
            <a:xfrm>
              <a:off x="4486680" y="4134960"/>
              <a:ext cx="132120" cy="185400"/>
            </a:xfrm>
            <a:custGeom>
              <a:avLst/>
              <a:gdLst>
                <a:gd name="textAreaLeft" fmla="*/ 0 w 132120"/>
                <a:gd name="textAreaRight" fmla="*/ 132480 w 132120"/>
                <a:gd name="textAreaTop" fmla="*/ 0 h 185400"/>
                <a:gd name="textAreaBottom" fmla="*/ 185760 h 185400"/>
              </a:gdLst>
              <a:ahLst/>
              <a:rect l="textAreaLeft" t="textAreaTop" r="textAreaRight" b="textAreaBottom"/>
              <a:pathLst>
                <a:path w="132423" h="185392">
                  <a:moveTo>
                    <a:pt x="101304" y="102651"/>
                  </a:moveTo>
                  <a:cubicBezTo>
                    <a:pt x="101304" y="102651"/>
                    <a:pt x="130437" y="20548"/>
                    <a:pt x="127788" y="15251"/>
                  </a:cubicBezTo>
                  <a:cubicBezTo>
                    <a:pt x="125140" y="9954"/>
                    <a:pt x="101304" y="9954"/>
                    <a:pt x="101304" y="9954"/>
                  </a:cubicBezTo>
                  <a:cubicBezTo>
                    <a:pt x="101304" y="9954"/>
                    <a:pt x="35092" y="11279"/>
                    <a:pt x="31120" y="9954"/>
                  </a:cubicBezTo>
                  <a:cubicBezTo>
                    <a:pt x="27147" y="8630"/>
                    <a:pt x="9932" y="65572"/>
                    <a:pt x="9932" y="65572"/>
                  </a:cubicBezTo>
                  <a:cubicBezTo>
                    <a:pt x="9932" y="65572"/>
                    <a:pt x="27147" y="96029"/>
                    <a:pt x="36416" y="109272"/>
                  </a:cubicBezTo>
                  <a:cubicBezTo>
                    <a:pt x="36416" y="109272"/>
                    <a:pt x="29795" y="130459"/>
                    <a:pt x="24498" y="172835"/>
                  </a:cubicBezTo>
                  <a:cubicBezTo>
                    <a:pt x="68198" y="197995"/>
                    <a:pt x="129113" y="172835"/>
                    <a:pt x="129113" y="172835"/>
                  </a:cubicBezTo>
                  <a:lnTo>
                    <a:pt x="101304" y="102651"/>
                  </a:lnTo>
                  <a:close/>
                </a:path>
              </a:pathLst>
            </a:custGeom>
            <a:solidFill>
              <a:srgbClr val="1bc1b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34" name="任意多边形: 形状 211"/>
            <p:cNvSpPr/>
            <p:nvPr/>
          </p:nvSpPr>
          <p:spPr>
            <a:xfrm>
              <a:off x="4546080" y="4070160"/>
              <a:ext cx="635400" cy="781200"/>
            </a:xfrm>
            <a:custGeom>
              <a:avLst/>
              <a:gdLst>
                <a:gd name="textAreaLeft" fmla="*/ 0 w 635400"/>
                <a:gd name="textAreaRight" fmla="*/ 635760 w 635400"/>
                <a:gd name="textAreaTop" fmla="*/ 0 h 781200"/>
                <a:gd name="textAreaBottom" fmla="*/ 781560 h 781200"/>
              </a:gdLst>
              <a:ahLst/>
              <a:rect l="textAreaLeft" t="textAreaTop" r="textAreaRight" b="textAreaBottom"/>
              <a:pathLst>
                <a:path w="635630" h="781296">
                  <a:moveTo>
                    <a:pt x="363501" y="20526"/>
                  </a:moveTo>
                  <a:lnTo>
                    <a:pt x="389986" y="9932"/>
                  </a:lnTo>
                  <a:cubicBezTo>
                    <a:pt x="389986" y="9932"/>
                    <a:pt x="566109" y="52307"/>
                    <a:pt x="605836" y="334368"/>
                  </a:cubicBezTo>
                  <a:cubicBezTo>
                    <a:pt x="645563" y="616430"/>
                    <a:pt x="633645" y="768716"/>
                    <a:pt x="633645" y="768716"/>
                  </a:cubicBezTo>
                  <a:lnTo>
                    <a:pt x="9932" y="777986"/>
                  </a:lnTo>
                  <a:lnTo>
                    <a:pt x="17877" y="633645"/>
                  </a:lnTo>
                  <a:cubicBezTo>
                    <a:pt x="17877" y="633645"/>
                    <a:pt x="453549" y="601863"/>
                    <a:pt x="453549" y="588621"/>
                  </a:cubicBezTo>
                  <a:cubicBezTo>
                    <a:pt x="453549" y="576703"/>
                    <a:pt x="404552" y="411174"/>
                    <a:pt x="404552" y="411174"/>
                  </a:cubicBezTo>
                  <a:lnTo>
                    <a:pt x="294641" y="352908"/>
                  </a:lnTo>
                  <a:lnTo>
                    <a:pt x="346286" y="105276"/>
                  </a:lnTo>
                  <a:lnTo>
                    <a:pt x="363501" y="20526"/>
                  </a:lnTo>
                  <a:close/>
                </a:path>
              </a:pathLst>
            </a:custGeom>
            <a:solidFill>
              <a:srgbClr val="e5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35" name="任意多边形: 形状 212"/>
            <p:cNvSpPr/>
            <p:nvPr/>
          </p:nvSpPr>
          <p:spPr>
            <a:xfrm>
              <a:off x="4208400" y="4020840"/>
              <a:ext cx="741600" cy="781200"/>
            </a:xfrm>
            <a:custGeom>
              <a:avLst/>
              <a:gdLst>
                <a:gd name="textAreaLeft" fmla="*/ 0 w 741600"/>
                <a:gd name="textAreaRight" fmla="*/ 741960 w 741600"/>
                <a:gd name="textAreaTop" fmla="*/ 0 h 781200"/>
                <a:gd name="textAreaBottom" fmla="*/ 781560 h 781200"/>
              </a:gdLst>
              <a:ahLst/>
              <a:rect l="textAreaLeft" t="textAreaTop" r="textAreaRight" b="textAreaBottom"/>
              <a:pathLst>
                <a:path w="741569" h="781296">
                  <a:moveTo>
                    <a:pt x="725016" y="435269"/>
                  </a:moveTo>
                  <a:cubicBezTo>
                    <a:pt x="679993" y="293576"/>
                    <a:pt x="734286" y="59187"/>
                    <a:pt x="734286" y="59187"/>
                  </a:cubicBezTo>
                  <a:cubicBezTo>
                    <a:pt x="734286" y="59187"/>
                    <a:pt x="654832" y="32703"/>
                    <a:pt x="576702" y="10191"/>
                  </a:cubicBezTo>
                  <a:cubicBezTo>
                    <a:pt x="566109" y="7542"/>
                    <a:pt x="533003" y="26081"/>
                    <a:pt x="533003" y="26081"/>
                  </a:cubicBezTo>
                  <a:cubicBezTo>
                    <a:pt x="535651" y="40648"/>
                    <a:pt x="538300" y="53890"/>
                    <a:pt x="538300" y="71105"/>
                  </a:cubicBezTo>
                  <a:cubicBezTo>
                    <a:pt x="538300" y="187638"/>
                    <a:pt x="458846" y="277685"/>
                    <a:pt x="362177" y="277685"/>
                  </a:cubicBezTo>
                  <a:cubicBezTo>
                    <a:pt x="264184" y="277685"/>
                    <a:pt x="186054" y="183665"/>
                    <a:pt x="186054" y="67133"/>
                  </a:cubicBezTo>
                  <a:cubicBezTo>
                    <a:pt x="186054" y="52566"/>
                    <a:pt x="186054" y="32703"/>
                    <a:pt x="188703" y="19460"/>
                  </a:cubicBezTo>
                  <a:cubicBezTo>
                    <a:pt x="188703" y="19460"/>
                    <a:pt x="20525" y="72430"/>
                    <a:pt x="9932" y="90969"/>
                  </a:cubicBezTo>
                  <a:cubicBezTo>
                    <a:pt x="9932" y="226040"/>
                    <a:pt x="41713" y="778245"/>
                    <a:pt x="41713" y="778245"/>
                  </a:cubicBezTo>
                  <a:lnTo>
                    <a:pt x="721043" y="770299"/>
                  </a:lnTo>
                  <a:lnTo>
                    <a:pt x="742231" y="459105"/>
                  </a:lnTo>
                  <a:cubicBezTo>
                    <a:pt x="742231" y="459105"/>
                    <a:pt x="735610" y="449835"/>
                    <a:pt x="725016" y="435269"/>
                  </a:cubicBezTo>
                  <a:close/>
                </a:path>
              </a:pathLst>
            </a:custGeom>
            <a:solidFill>
              <a:srgbClr val="4084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36" name="任意多边形: 形状 213"/>
            <p:cNvSpPr/>
            <p:nvPr/>
          </p:nvSpPr>
          <p:spPr>
            <a:xfrm>
              <a:off x="4588560" y="3973320"/>
              <a:ext cx="198360" cy="277920"/>
            </a:xfrm>
            <a:custGeom>
              <a:avLst/>
              <a:gdLst>
                <a:gd name="textAreaLeft" fmla="*/ 0 w 198360"/>
                <a:gd name="textAreaRight" fmla="*/ 198720 w 198360"/>
                <a:gd name="textAreaTop" fmla="*/ 0 h 277920"/>
                <a:gd name="textAreaBottom" fmla="*/ 278280 h 277920"/>
              </a:gdLst>
              <a:ahLst/>
              <a:rect l="textAreaLeft" t="textAreaTop" r="textAreaRight" b="textAreaBottom"/>
              <a:pathLst>
                <a:path w="198634" h="278088">
                  <a:moveTo>
                    <a:pt x="131761" y="9932"/>
                  </a:moveTo>
                  <a:cubicBezTo>
                    <a:pt x="131761" y="9932"/>
                    <a:pt x="97331" y="123816"/>
                    <a:pt x="9932" y="171488"/>
                  </a:cubicBezTo>
                  <a:cubicBezTo>
                    <a:pt x="32444" y="229754"/>
                    <a:pt x="61577" y="268157"/>
                    <a:pt x="61577" y="268157"/>
                  </a:cubicBezTo>
                  <a:cubicBezTo>
                    <a:pt x="61577" y="268157"/>
                    <a:pt x="150300" y="166191"/>
                    <a:pt x="172812" y="127788"/>
                  </a:cubicBezTo>
                  <a:cubicBezTo>
                    <a:pt x="180758" y="114546"/>
                    <a:pt x="199297" y="61577"/>
                    <a:pt x="199297" y="61577"/>
                  </a:cubicBezTo>
                  <a:lnTo>
                    <a:pt x="131761" y="9932"/>
                  </a:lnTo>
                  <a:close/>
                </a:path>
              </a:pathLst>
            </a:custGeom>
            <a:solidFill>
              <a:srgbClr val="c8ccc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37" name="任意多边形: 形状 214"/>
            <p:cNvSpPr/>
            <p:nvPr/>
          </p:nvSpPr>
          <p:spPr>
            <a:xfrm>
              <a:off x="4377960" y="3981240"/>
              <a:ext cx="145440" cy="264600"/>
            </a:xfrm>
            <a:custGeom>
              <a:avLst/>
              <a:gdLst>
                <a:gd name="textAreaLeft" fmla="*/ 0 w 145440"/>
                <a:gd name="textAreaRight" fmla="*/ 145800 w 145440"/>
                <a:gd name="textAreaTop" fmla="*/ 0 h 264600"/>
                <a:gd name="textAreaBottom" fmla="*/ 264960 h 264600"/>
              </a:gdLst>
              <a:ahLst/>
              <a:rect l="textAreaLeft" t="textAreaTop" r="textAreaRight" b="textAreaBottom"/>
              <a:pathLst>
                <a:path w="145665" h="264846">
                  <a:moveTo>
                    <a:pt x="86769" y="9932"/>
                  </a:moveTo>
                  <a:cubicBezTo>
                    <a:pt x="86769" y="9932"/>
                    <a:pt x="77499" y="133085"/>
                    <a:pt x="146359" y="163543"/>
                  </a:cubicBezTo>
                  <a:cubicBezTo>
                    <a:pt x="118550" y="227106"/>
                    <a:pt x="97362" y="256239"/>
                    <a:pt x="97362" y="256239"/>
                  </a:cubicBezTo>
                  <a:cubicBezTo>
                    <a:pt x="97362" y="256239"/>
                    <a:pt x="40421" y="182082"/>
                    <a:pt x="23205" y="138382"/>
                  </a:cubicBezTo>
                  <a:cubicBezTo>
                    <a:pt x="8639" y="102628"/>
                    <a:pt x="9963" y="61577"/>
                    <a:pt x="9963" y="61577"/>
                  </a:cubicBezTo>
                  <a:lnTo>
                    <a:pt x="86769" y="9932"/>
                  </a:lnTo>
                  <a:close/>
                </a:path>
              </a:pathLst>
            </a:custGeom>
            <a:solidFill>
              <a:srgbClr val="c8ccc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38" name="任意多边形: 形状 215"/>
            <p:cNvSpPr/>
            <p:nvPr/>
          </p:nvSpPr>
          <p:spPr>
            <a:xfrm>
              <a:off x="4515840" y="3572280"/>
              <a:ext cx="158760" cy="52920"/>
            </a:xfrm>
            <a:custGeom>
              <a:avLst/>
              <a:gdLst>
                <a:gd name="textAreaLeft" fmla="*/ 0 w 158760"/>
                <a:gd name="textAreaRight" fmla="*/ 159120 w 158760"/>
                <a:gd name="textAreaTop" fmla="*/ 0 h 52920"/>
                <a:gd name="textAreaBottom" fmla="*/ 53280 h 52920"/>
              </a:gdLst>
              <a:ahLst/>
              <a:rect l="textAreaLeft" t="textAreaTop" r="textAreaRight" b="textAreaBottom"/>
              <a:pathLst>
                <a:path w="158907" h="52969">
                  <a:moveTo>
                    <a:pt x="41714" y="10925"/>
                  </a:moveTo>
                  <a:cubicBezTo>
                    <a:pt x="41714" y="10925"/>
                    <a:pt x="11256" y="9601"/>
                    <a:pt x="9932" y="30788"/>
                  </a:cubicBezTo>
                  <a:cubicBezTo>
                    <a:pt x="9932" y="42707"/>
                    <a:pt x="13905" y="49328"/>
                    <a:pt x="52307" y="41382"/>
                  </a:cubicBezTo>
                  <a:cubicBezTo>
                    <a:pt x="90710" y="33437"/>
                    <a:pt x="156921" y="48003"/>
                    <a:pt x="159570" y="42707"/>
                  </a:cubicBezTo>
                  <a:cubicBezTo>
                    <a:pt x="155597" y="28140"/>
                    <a:pt x="155597" y="22843"/>
                    <a:pt x="117195" y="14898"/>
                  </a:cubicBezTo>
                  <a:cubicBezTo>
                    <a:pt x="78792" y="6952"/>
                    <a:pt x="41714" y="10925"/>
                    <a:pt x="41714" y="10925"/>
                  </a:cubicBezTo>
                  <a:close/>
                </a:path>
              </a:pathLst>
            </a:custGeom>
            <a:solidFill>
              <a:srgbClr val="7a3404"/>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39" name="任意多边形: 形状 216"/>
            <p:cNvSpPr/>
            <p:nvPr/>
          </p:nvSpPr>
          <p:spPr>
            <a:xfrm>
              <a:off x="4306680" y="3575160"/>
              <a:ext cx="132120" cy="39600"/>
            </a:xfrm>
            <a:custGeom>
              <a:avLst/>
              <a:gdLst>
                <a:gd name="textAreaLeft" fmla="*/ 0 w 132120"/>
                <a:gd name="textAreaRight" fmla="*/ 132480 w 132120"/>
                <a:gd name="textAreaTop" fmla="*/ 0 h 39600"/>
                <a:gd name="textAreaBottom" fmla="*/ 39960 h 39600"/>
              </a:gdLst>
              <a:ahLst/>
              <a:rect l="textAreaLeft" t="textAreaTop" r="textAreaRight" b="textAreaBottom"/>
              <a:pathLst>
                <a:path w="132423" h="39726">
                  <a:moveTo>
                    <a:pt x="125140" y="27985"/>
                  </a:moveTo>
                  <a:cubicBezTo>
                    <a:pt x="127788" y="38579"/>
                    <a:pt x="125140" y="43876"/>
                    <a:pt x="94682" y="38579"/>
                  </a:cubicBezTo>
                  <a:cubicBezTo>
                    <a:pt x="65550" y="33282"/>
                    <a:pt x="9932" y="46525"/>
                    <a:pt x="9932" y="41228"/>
                  </a:cubicBezTo>
                  <a:cubicBezTo>
                    <a:pt x="9932" y="29310"/>
                    <a:pt x="13904" y="24012"/>
                    <a:pt x="40389" y="14743"/>
                  </a:cubicBezTo>
                  <a:cubicBezTo>
                    <a:pt x="69522" y="5473"/>
                    <a:pt x="121167" y="9446"/>
                    <a:pt x="125140" y="27985"/>
                  </a:cubicBezTo>
                  <a:close/>
                </a:path>
              </a:pathLst>
            </a:custGeom>
            <a:solidFill>
              <a:srgbClr val="7a3404"/>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640" name="任意多边形: 形状 217"/>
            <p:cNvSpPr/>
            <p:nvPr/>
          </p:nvSpPr>
          <p:spPr>
            <a:xfrm>
              <a:off x="2368800" y="6023520"/>
              <a:ext cx="277920" cy="277920"/>
            </a:xfrm>
            <a:custGeom>
              <a:avLst/>
              <a:gdLst>
                <a:gd name="textAreaLeft" fmla="*/ 0 w 277920"/>
                <a:gd name="textAreaRight" fmla="*/ 278280 w 277920"/>
                <a:gd name="textAreaTop" fmla="*/ 0 h 277920"/>
                <a:gd name="textAreaBottom" fmla="*/ 278280 h 277920"/>
              </a:gdLst>
              <a:ahLst/>
              <a:rect l="textAreaLeft" t="textAreaTop" r="textAreaRight" b="textAreaBottom"/>
              <a:pathLst>
                <a:path w="278088" h="278088">
                  <a:moveTo>
                    <a:pt x="191457" y="44361"/>
                  </a:moveTo>
                  <a:lnTo>
                    <a:pt x="28577" y="9932"/>
                  </a:lnTo>
                  <a:cubicBezTo>
                    <a:pt x="28577" y="9932"/>
                    <a:pt x="-556" y="58928"/>
                    <a:pt x="14010" y="102628"/>
                  </a:cubicBezTo>
                  <a:cubicBezTo>
                    <a:pt x="17983" y="113222"/>
                    <a:pt x="56386" y="147652"/>
                    <a:pt x="60358" y="158245"/>
                  </a:cubicBezTo>
                  <a:cubicBezTo>
                    <a:pt x="86843" y="223133"/>
                    <a:pt x="133191" y="277426"/>
                    <a:pt x="207348" y="272129"/>
                  </a:cubicBezTo>
                  <a:cubicBezTo>
                    <a:pt x="207348" y="272129"/>
                    <a:pt x="356986" y="248293"/>
                    <a:pt x="191457" y="44361"/>
                  </a:cubicBezTo>
                  <a:close/>
                </a:path>
              </a:pathLst>
            </a:custGeom>
            <a:solidFill>
              <a:srgbClr val="4420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41" name="任意多边形: 形状 218"/>
            <p:cNvSpPr/>
            <p:nvPr/>
          </p:nvSpPr>
          <p:spPr>
            <a:xfrm>
              <a:off x="1995840" y="4885920"/>
              <a:ext cx="887040" cy="1231560"/>
            </a:xfrm>
            <a:custGeom>
              <a:avLst/>
              <a:gdLst>
                <a:gd name="textAreaLeft" fmla="*/ 0 w 887040"/>
                <a:gd name="textAreaRight" fmla="*/ 887400 w 887040"/>
                <a:gd name="textAreaTop" fmla="*/ 0 h 1231560"/>
                <a:gd name="textAreaBottom" fmla="*/ 1231920 h 1231560"/>
              </a:gdLst>
              <a:ahLst/>
              <a:rect l="textAreaLeft" t="textAreaTop" r="textAreaRight" b="textAreaBottom"/>
              <a:pathLst>
                <a:path w="887234" h="1231534">
                  <a:moveTo>
                    <a:pt x="144660" y="9932"/>
                  </a:moveTo>
                  <a:lnTo>
                    <a:pt x="821342" y="9932"/>
                  </a:lnTo>
                  <a:cubicBezTo>
                    <a:pt x="821342" y="9932"/>
                    <a:pt x="918011" y="60253"/>
                    <a:pt x="870338" y="264184"/>
                  </a:cubicBezTo>
                  <a:cubicBezTo>
                    <a:pt x="870338" y="264184"/>
                    <a:pt x="737915" y="877303"/>
                    <a:pt x="571062" y="1181876"/>
                  </a:cubicBezTo>
                  <a:lnTo>
                    <a:pt x="386994" y="1181876"/>
                  </a:lnTo>
                  <a:cubicBezTo>
                    <a:pt x="386994" y="1181876"/>
                    <a:pt x="568414" y="364826"/>
                    <a:pt x="527362" y="322450"/>
                  </a:cubicBezTo>
                  <a:cubicBezTo>
                    <a:pt x="409506" y="272130"/>
                    <a:pt x="344619" y="302587"/>
                    <a:pt x="324755" y="322450"/>
                  </a:cubicBezTo>
                  <a:cubicBezTo>
                    <a:pt x="290325" y="392635"/>
                    <a:pt x="286352" y="1224252"/>
                    <a:pt x="286352" y="1224252"/>
                  </a:cubicBezTo>
                  <a:lnTo>
                    <a:pt x="103609" y="1224252"/>
                  </a:lnTo>
                  <a:cubicBezTo>
                    <a:pt x="42694" y="1091829"/>
                    <a:pt x="-3654" y="462819"/>
                    <a:pt x="13561" y="215188"/>
                  </a:cubicBezTo>
                  <a:cubicBezTo>
                    <a:pt x="29452" y="154273"/>
                    <a:pt x="95663" y="44362"/>
                    <a:pt x="144660" y="9932"/>
                  </a:cubicBezTo>
                  <a:close/>
                </a:path>
              </a:pathLst>
            </a:custGeom>
            <a:solidFill>
              <a:srgbClr val="35343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42" name="任意多边形: 形状 219"/>
            <p:cNvSpPr/>
            <p:nvPr/>
          </p:nvSpPr>
          <p:spPr>
            <a:xfrm>
              <a:off x="3562200" y="4638240"/>
              <a:ext cx="92520" cy="542880"/>
            </a:xfrm>
            <a:custGeom>
              <a:avLst/>
              <a:gdLst>
                <a:gd name="textAreaLeft" fmla="*/ 0 w 92520"/>
                <a:gd name="textAreaRight" fmla="*/ 92880 w 92520"/>
                <a:gd name="textAreaTop" fmla="*/ 0 h 542880"/>
                <a:gd name="textAreaBottom" fmla="*/ 543240 h 542880"/>
              </a:gdLst>
              <a:ahLst/>
              <a:rect l="textAreaLeft" t="textAreaTop" r="textAreaRight" b="textAreaBottom"/>
              <a:pathLst>
                <a:path w="92696" h="542934">
                  <a:moveTo>
                    <a:pt x="9932" y="9932"/>
                  </a:moveTo>
                  <a:lnTo>
                    <a:pt x="92034" y="9932"/>
                  </a:lnTo>
                  <a:lnTo>
                    <a:pt x="92034" y="534327"/>
                  </a:lnTo>
                  <a:lnTo>
                    <a:pt x="9932" y="534327"/>
                  </a:lnTo>
                  <a:lnTo>
                    <a:pt x="9932" y="9932"/>
                  </a:lnTo>
                  <a:close/>
                </a:path>
              </a:pathLst>
            </a:custGeom>
            <a:solidFill>
              <a:srgbClr val="5a5a5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43" name="任意多边形: 形状 220"/>
            <p:cNvSpPr/>
            <p:nvPr/>
          </p:nvSpPr>
          <p:spPr>
            <a:xfrm>
              <a:off x="3550320" y="561420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9932" y="27147"/>
                  </a:moveTo>
                  <a:cubicBezTo>
                    <a:pt x="9932" y="36416"/>
                    <a:pt x="35092" y="44362"/>
                    <a:pt x="65550" y="44362"/>
                  </a:cubicBezTo>
                  <a:cubicBezTo>
                    <a:pt x="96007" y="44362"/>
                    <a:pt x="121167" y="36416"/>
                    <a:pt x="121167" y="27147"/>
                  </a:cubicBezTo>
                  <a:cubicBezTo>
                    <a:pt x="121167" y="17877"/>
                    <a:pt x="96007" y="9932"/>
                    <a:pt x="65550" y="9932"/>
                  </a:cubicBezTo>
                  <a:cubicBezTo>
                    <a:pt x="35092" y="11256"/>
                    <a:pt x="9932" y="17877"/>
                    <a:pt x="9932" y="27147"/>
                  </a:cubicBezTo>
                  <a:close/>
                </a:path>
              </a:pathLst>
            </a:custGeom>
            <a:solidFill>
              <a:srgbClr val="5f7673"/>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44" name="任意多边形: 形状 221"/>
            <p:cNvSpPr/>
            <p:nvPr/>
          </p:nvSpPr>
          <p:spPr>
            <a:xfrm>
              <a:off x="3567600" y="5340240"/>
              <a:ext cx="92520" cy="450000"/>
            </a:xfrm>
            <a:custGeom>
              <a:avLst/>
              <a:gdLst>
                <a:gd name="textAreaLeft" fmla="*/ 0 w 92520"/>
                <a:gd name="textAreaRight" fmla="*/ 92880 w 92520"/>
                <a:gd name="textAreaTop" fmla="*/ 0 h 450000"/>
                <a:gd name="textAreaBottom" fmla="*/ 450360 h 450000"/>
              </a:gdLst>
              <a:ahLst/>
              <a:rect l="textAreaLeft" t="textAreaTop" r="textAreaRight" b="textAreaBottom"/>
              <a:pathLst>
                <a:path w="92696" h="450238">
                  <a:moveTo>
                    <a:pt x="9932" y="9932"/>
                  </a:moveTo>
                  <a:lnTo>
                    <a:pt x="86737" y="9932"/>
                  </a:lnTo>
                  <a:lnTo>
                    <a:pt x="86737" y="442955"/>
                  </a:lnTo>
                  <a:lnTo>
                    <a:pt x="9932" y="442955"/>
                  </a:lnTo>
                  <a:lnTo>
                    <a:pt x="9932" y="9932"/>
                  </a:lnTo>
                  <a:close/>
                </a:path>
              </a:pathLst>
            </a:custGeom>
            <a:solidFill>
              <a:srgbClr val="d3d2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45" name="任意多边形: 形状 222"/>
            <p:cNvSpPr/>
            <p:nvPr/>
          </p:nvSpPr>
          <p:spPr>
            <a:xfrm>
              <a:off x="3550320" y="5630400"/>
              <a:ext cx="119160" cy="198360"/>
            </a:xfrm>
            <a:custGeom>
              <a:avLst/>
              <a:gdLst>
                <a:gd name="textAreaLeft" fmla="*/ 0 w 119160"/>
                <a:gd name="textAreaRight" fmla="*/ 119520 w 119160"/>
                <a:gd name="textAreaTop" fmla="*/ 0 h 198360"/>
                <a:gd name="textAreaBottom" fmla="*/ 198720 h 198360"/>
              </a:gdLst>
              <a:ahLst/>
              <a:rect l="textAreaLeft" t="textAreaTop" r="textAreaRight" b="textAreaBottom"/>
              <a:pathLst>
                <a:path w="119180" h="198634">
                  <a:moveTo>
                    <a:pt x="121167" y="187379"/>
                  </a:moveTo>
                  <a:cubicBezTo>
                    <a:pt x="121167" y="187379"/>
                    <a:pt x="93359" y="194000"/>
                    <a:pt x="65550" y="194000"/>
                  </a:cubicBezTo>
                  <a:cubicBezTo>
                    <a:pt x="37741" y="194000"/>
                    <a:pt x="9932" y="187379"/>
                    <a:pt x="9932" y="187379"/>
                  </a:cubicBezTo>
                  <a:lnTo>
                    <a:pt x="9932" y="9932"/>
                  </a:lnTo>
                  <a:cubicBezTo>
                    <a:pt x="9932" y="9932"/>
                    <a:pt x="28471" y="20525"/>
                    <a:pt x="65550" y="20525"/>
                  </a:cubicBezTo>
                  <a:cubicBezTo>
                    <a:pt x="102628" y="20525"/>
                    <a:pt x="121167" y="9932"/>
                    <a:pt x="121167" y="9932"/>
                  </a:cubicBezTo>
                  <a:lnTo>
                    <a:pt x="121167" y="187379"/>
                  </a:lnTo>
                  <a:close/>
                </a:path>
              </a:pathLst>
            </a:custGeom>
            <a:solidFill>
              <a:srgbClr val="6e7c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46" name="任意多边形: 形状 223"/>
            <p:cNvSpPr/>
            <p:nvPr/>
          </p:nvSpPr>
          <p:spPr>
            <a:xfrm>
              <a:off x="3007440" y="5769360"/>
              <a:ext cx="1204920" cy="291240"/>
            </a:xfrm>
            <a:custGeom>
              <a:avLst/>
              <a:gdLst>
                <a:gd name="textAreaLeft" fmla="*/ 0 w 1204920"/>
                <a:gd name="textAreaRight" fmla="*/ 1205280 w 1204920"/>
                <a:gd name="textAreaTop" fmla="*/ 0 h 291240"/>
                <a:gd name="textAreaBottom" fmla="*/ 291600 h 291240"/>
              </a:gdLst>
              <a:ahLst/>
              <a:rect l="textAreaLeft" t="textAreaTop" r="textAreaRight" b="textAreaBottom"/>
              <a:pathLst>
                <a:path w="1205050" h="291330">
                  <a:moveTo>
                    <a:pt x="1139501" y="109249"/>
                  </a:moveTo>
                  <a:cubicBezTo>
                    <a:pt x="1095801" y="77468"/>
                    <a:pt x="779310" y="76143"/>
                    <a:pt x="713098" y="57604"/>
                  </a:cubicBezTo>
                  <a:cubicBezTo>
                    <a:pt x="654832" y="41713"/>
                    <a:pt x="646887" y="9932"/>
                    <a:pt x="646887" y="9932"/>
                  </a:cubicBezTo>
                  <a:lnTo>
                    <a:pt x="567433" y="9932"/>
                  </a:lnTo>
                  <a:cubicBezTo>
                    <a:pt x="567433" y="9932"/>
                    <a:pt x="560812" y="41713"/>
                    <a:pt x="501221" y="57604"/>
                  </a:cubicBezTo>
                  <a:cubicBezTo>
                    <a:pt x="435010" y="76143"/>
                    <a:pt x="118519" y="76143"/>
                    <a:pt x="74819" y="109249"/>
                  </a:cubicBezTo>
                  <a:cubicBezTo>
                    <a:pt x="31120" y="141031"/>
                    <a:pt x="9932" y="244321"/>
                    <a:pt x="9932" y="244321"/>
                  </a:cubicBezTo>
                  <a:lnTo>
                    <a:pt x="52307" y="254914"/>
                  </a:lnTo>
                  <a:cubicBezTo>
                    <a:pt x="52307" y="254914"/>
                    <a:pt x="76143" y="191352"/>
                    <a:pt x="127788" y="152949"/>
                  </a:cubicBezTo>
                  <a:cubicBezTo>
                    <a:pt x="162218" y="127788"/>
                    <a:pt x="534327" y="155597"/>
                    <a:pt x="534327" y="155597"/>
                  </a:cubicBezTo>
                  <a:lnTo>
                    <a:pt x="578027" y="284048"/>
                  </a:lnTo>
                  <a:lnTo>
                    <a:pt x="585972" y="284048"/>
                  </a:lnTo>
                  <a:lnTo>
                    <a:pt x="607160" y="284048"/>
                  </a:lnTo>
                  <a:lnTo>
                    <a:pt x="636293" y="284048"/>
                  </a:lnTo>
                  <a:lnTo>
                    <a:pt x="679993" y="155597"/>
                  </a:lnTo>
                  <a:cubicBezTo>
                    <a:pt x="679993" y="155597"/>
                    <a:pt x="1052102" y="127788"/>
                    <a:pt x="1086532" y="152949"/>
                  </a:cubicBezTo>
                  <a:cubicBezTo>
                    <a:pt x="1138177" y="191352"/>
                    <a:pt x="1162013" y="254914"/>
                    <a:pt x="1162013" y="254914"/>
                  </a:cubicBezTo>
                  <a:lnTo>
                    <a:pt x="1204388" y="244321"/>
                  </a:lnTo>
                  <a:cubicBezTo>
                    <a:pt x="1204388" y="242996"/>
                    <a:pt x="1183200" y="141031"/>
                    <a:pt x="1139501" y="109249"/>
                  </a:cubicBezTo>
                  <a:close/>
                </a:path>
              </a:pathLst>
            </a:custGeom>
            <a:solidFill>
              <a:srgbClr val="5a5a5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47" name="任意多边形: 形状 224"/>
            <p:cNvSpPr/>
            <p:nvPr/>
          </p:nvSpPr>
          <p:spPr>
            <a:xfrm>
              <a:off x="3539520" y="598248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145665" h="145665">
                  <a:moveTo>
                    <a:pt x="139706" y="74819"/>
                  </a:moveTo>
                  <a:cubicBezTo>
                    <a:pt x="139706" y="110573"/>
                    <a:pt x="110573" y="139706"/>
                    <a:pt x="74819" y="139706"/>
                  </a:cubicBezTo>
                  <a:cubicBezTo>
                    <a:pt x="39065" y="139706"/>
                    <a:pt x="9932" y="110573"/>
                    <a:pt x="9932" y="74819"/>
                  </a:cubicBezTo>
                  <a:cubicBezTo>
                    <a:pt x="9932" y="39065"/>
                    <a:pt x="39065" y="9932"/>
                    <a:pt x="74819" y="9932"/>
                  </a:cubicBezTo>
                  <a:cubicBezTo>
                    <a:pt x="110573" y="9932"/>
                    <a:pt x="139706" y="39065"/>
                    <a:pt x="139706" y="7481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48" name="任意多边形: 形状 225"/>
            <p:cNvSpPr/>
            <p:nvPr/>
          </p:nvSpPr>
          <p:spPr>
            <a:xfrm>
              <a:off x="2962440" y="598248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145665" h="145665">
                  <a:moveTo>
                    <a:pt x="139706" y="74819"/>
                  </a:moveTo>
                  <a:cubicBezTo>
                    <a:pt x="139706" y="110573"/>
                    <a:pt x="110573" y="139706"/>
                    <a:pt x="74819" y="139706"/>
                  </a:cubicBezTo>
                  <a:cubicBezTo>
                    <a:pt x="39065" y="139706"/>
                    <a:pt x="9932" y="110573"/>
                    <a:pt x="9932" y="74819"/>
                  </a:cubicBezTo>
                  <a:cubicBezTo>
                    <a:pt x="9932" y="39065"/>
                    <a:pt x="39065" y="9932"/>
                    <a:pt x="74819" y="9932"/>
                  </a:cubicBezTo>
                  <a:cubicBezTo>
                    <a:pt x="110573" y="9932"/>
                    <a:pt x="139706" y="39065"/>
                    <a:pt x="139706" y="7481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49" name="任意多边形: 形状 226"/>
            <p:cNvSpPr/>
            <p:nvPr/>
          </p:nvSpPr>
          <p:spPr>
            <a:xfrm>
              <a:off x="4115880" y="598248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145665" h="145665">
                  <a:moveTo>
                    <a:pt x="139706" y="74819"/>
                  </a:moveTo>
                  <a:cubicBezTo>
                    <a:pt x="139706" y="110573"/>
                    <a:pt x="110573" y="139706"/>
                    <a:pt x="74819" y="139706"/>
                  </a:cubicBezTo>
                  <a:cubicBezTo>
                    <a:pt x="39065" y="139706"/>
                    <a:pt x="9932" y="110573"/>
                    <a:pt x="9932" y="74819"/>
                  </a:cubicBezTo>
                  <a:cubicBezTo>
                    <a:pt x="9932" y="39065"/>
                    <a:pt x="39065" y="9932"/>
                    <a:pt x="74819" y="9932"/>
                  </a:cubicBezTo>
                  <a:cubicBezTo>
                    <a:pt x="110573" y="9932"/>
                    <a:pt x="139706" y="39065"/>
                    <a:pt x="139706" y="7481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50" name="任意多边形: 形状 227"/>
            <p:cNvSpPr/>
            <p:nvPr/>
          </p:nvSpPr>
          <p:spPr>
            <a:xfrm>
              <a:off x="3457440" y="5287320"/>
              <a:ext cx="304560" cy="92520"/>
            </a:xfrm>
            <a:custGeom>
              <a:avLst/>
              <a:gdLst>
                <a:gd name="textAreaLeft" fmla="*/ 0 w 304560"/>
                <a:gd name="textAreaRight" fmla="*/ 304920 w 304560"/>
                <a:gd name="textAreaTop" fmla="*/ 0 h 92520"/>
                <a:gd name="textAreaBottom" fmla="*/ 92880 h 92520"/>
              </a:gdLst>
              <a:ahLst/>
              <a:rect l="textAreaLeft" t="textAreaTop" r="textAreaRight" b="textAreaBottom"/>
              <a:pathLst>
                <a:path w="304573" h="92696">
                  <a:moveTo>
                    <a:pt x="284048" y="88061"/>
                  </a:moveTo>
                  <a:lnTo>
                    <a:pt x="31120" y="88061"/>
                  </a:lnTo>
                  <a:lnTo>
                    <a:pt x="9932" y="9932"/>
                  </a:lnTo>
                  <a:lnTo>
                    <a:pt x="306559" y="9932"/>
                  </a:lnTo>
                  <a:lnTo>
                    <a:pt x="284048" y="88061"/>
                  </a:lnTo>
                  <a:close/>
                </a:path>
              </a:pathLst>
            </a:custGeom>
            <a:solidFill>
              <a:srgbClr val="5f7673"/>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651" name="任意多边形: 形状 228"/>
            <p:cNvSpPr/>
            <p:nvPr/>
          </p:nvSpPr>
          <p:spPr>
            <a:xfrm>
              <a:off x="3244320" y="5256720"/>
              <a:ext cx="781200" cy="52920"/>
            </a:xfrm>
            <a:custGeom>
              <a:avLst/>
              <a:gdLst>
                <a:gd name="textAreaLeft" fmla="*/ 0 w 781200"/>
                <a:gd name="textAreaRight" fmla="*/ 781560 w 781200"/>
                <a:gd name="textAreaTop" fmla="*/ 0 h 52920"/>
                <a:gd name="textAreaBottom" fmla="*/ 53280 h 52920"/>
              </a:gdLst>
              <a:ahLst/>
              <a:rect l="textAreaLeft" t="textAreaTop" r="textAreaRight" b="textAreaBottom"/>
              <a:pathLst>
                <a:path w="781296" h="52969">
                  <a:moveTo>
                    <a:pt x="781958" y="31120"/>
                  </a:moveTo>
                  <a:cubicBezTo>
                    <a:pt x="781958" y="43038"/>
                    <a:pt x="770040" y="52307"/>
                    <a:pt x="754149" y="52307"/>
                  </a:cubicBezTo>
                  <a:lnTo>
                    <a:pt x="37740" y="52307"/>
                  </a:lnTo>
                  <a:cubicBezTo>
                    <a:pt x="21850" y="52307"/>
                    <a:pt x="9932" y="43038"/>
                    <a:pt x="9932" y="31120"/>
                  </a:cubicBezTo>
                  <a:cubicBezTo>
                    <a:pt x="9932" y="19202"/>
                    <a:pt x="21850" y="9932"/>
                    <a:pt x="37740" y="9932"/>
                  </a:cubicBezTo>
                  <a:lnTo>
                    <a:pt x="754149" y="9932"/>
                  </a:lnTo>
                  <a:cubicBezTo>
                    <a:pt x="770040" y="9932"/>
                    <a:pt x="781958" y="19202"/>
                    <a:pt x="781958" y="31120"/>
                  </a:cubicBezTo>
                  <a:close/>
                </a:path>
              </a:pathLst>
            </a:custGeom>
            <a:solidFill>
              <a:srgbClr val="5a5a5c"/>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52" name="任意多边形: 形状 229"/>
            <p:cNvSpPr/>
            <p:nvPr/>
          </p:nvSpPr>
          <p:spPr>
            <a:xfrm>
              <a:off x="3156840" y="5103000"/>
              <a:ext cx="939960" cy="185400"/>
            </a:xfrm>
            <a:custGeom>
              <a:avLst/>
              <a:gdLst>
                <a:gd name="textAreaLeft" fmla="*/ 0 w 939960"/>
                <a:gd name="textAreaRight" fmla="*/ 940320 w 939960"/>
                <a:gd name="textAreaTop" fmla="*/ 0 h 185400"/>
                <a:gd name="textAreaBottom" fmla="*/ 185760 h 185400"/>
              </a:gdLst>
              <a:ahLst/>
              <a:rect l="textAreaLeft" t="textAreaTop" r="textAreaRight" b="textAreaBottom"/>
              <a:pathLst>
                <a:path w="940203" h="185392">
                  <a:moveTo>
                    <a:pt x="939542" y="153192"/>
                  </a:moveTo>
                  <a:cubicBezTo>
                    <a:pt x="939542" y="167758"/>
                    <a:pt x="924975" y="178352"/>
                    <a:pt x="906436" y="178352"/>
                  </a:cubicBezTo>
                  <a:lnTo>
                    <a:pt x="43038" y="178352"/>
                  </a:lnTo>
                  <a:cubicBezTo>
                    <a:pt x="24498" y="178352"/>
                    <a:pt x="9932" y="166434"/>
                    <a:pt x="9932" y="153192"/>
                  </a:cubicBezTo>
                  <a:lnTo>
                    <a:pt x="9932" y="40632"/>
                  </a:lnTo>
                  <a:cubicBezTo>
                    <a:pt x="9932" y="26065"/>
                    <a:pt x="17877" y="8851"/>
                    <a:pt x="80116" y="14147"/>
                  </a:cubicBezTo>
                  <a:cubicBezTo>
                    <a:pt x="156921" y="20769"/>
                    <a:pt x="245645" y="26065"/>
                    <a:pt x="480034" y="27390"/>
                  </a:cubicBezTo>
                  <a:cubicBezTo>
                    <a:pt x="706477" y="27390"/>
                    <a:pt x="797849" y="7526"/>
                    <a:pt x="865385" y="10175"/>
                  </a:cubicBezTo>
                  <a:cubicBezTo>
                    <a:pt x="921003" y="12823"/>
                    <a:pt x="939542" y="27390"/>
                    <a:pt x="939542" y="41956"/>
                  </a:cubicBezTo>
                  <a:lnTo>
                    <a:pt x="939542" y="153192"/>
                  </a:lnTo>
                  <a:close/>
                </a:path>
              </a:pathLst>
            </a:custGeom>
            <a:solidFill>
              <a:srgbClr val="6e7c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53" name="任意多边形: 形状 230"/>
            <p:cNvSpPr/>
            <p:nvPr/>
          </p:nvSpPr>
          <p:spPr>
            <a:xfrm>
              <a:off x="3175560" y="3950640"/>
              <a:ext cx="927000" cy="834120"/>
            </a:xfrm>
            <a:custGeom>
              <a:avLst/>
              <a:gdLst>
                <a:gd name="textAreaLeft" fmla="*/ 0 w 927000"/>
                <a:gd name="textAreaRight" fmla="*/ 927360 w 927000"/>
                <a:gd name="textAreaTop" fmla="*/ 0 h 834120"/>
                <a:gd name="textAreaBottom" fmla="*/ 834480 h 834120"/>
              </a:gdLst>
              <a:ahLst/>
              <a:rect l="textAreaLeft" t="textAreaTop" r="textAreaRight" b="textAreaBottom"/>
              <a:pathLst>
                <a:path w="926961" h="834265">
                  <a:moveTo>
                    <a:pt x="921002" y="735610"/>
                  </a:moveTo>
                  <a:cubicBezTo>
                    <a:pt x="921002" y="785931"/>
                    <a:pt x="881275" y="825658"/>
                    <a:pt x="830955" y="825658"/>
                  </a:cubicBezTo>
                  <a:lnTo>
                    <a:pt x="99979" y="825658"/>
                  </a:lnTo>
                  <a:cubicBezTo>
                    <a:pt x="49659" y="825658"/>
                    <a:pt x="9932" y="785931"/>
                    <a:pt x="9932" y="735610"/>
                  </a:cubicBezTo>
                  <a:lnTo>
                    <a:pt x="9932" y="99979"/>
                  </a:lnTo>
                  <a:cubicBezTo>
                    <a:pt x="9932" y="49659"/>
                    <a:pt x="49659" y="9932"/>
                    <a:pt x="99979" y="9932"/>
                  </a:cubicBezTo>
                  <a:lnTo>
                    <a:pt x="830955" y="9932"/>
                  </a:lnTo>
                  <a:cubicBezTo>
                    <a:pt x="881275" y="9932"/>
                    <a:pt x="921002" y="49659"/>
                    <a:pt x="921002" y="99979"/>
                  </a:cubicBezTo>
                  <a:lnTo>
                    <a:pt x="921002" y="735610"/>
                  </a:lnTo>
                  <a:close/>
                </a:path>
              </a:pathLst>
            </a:custGeom>
            <a:solidFill>
              <a:srgbClr val="566b7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54" name="任意多边形: 形状 231"/>
            <p:cNvSpPr/>
            <p:nvPr/>
          </p:nvSpPr>
          <p:spPr>
            <a:xfrm>
              <a:off x="3248280" y="4458240"/>
              <a:ext cx="529560" cy="79200"/>
            </a:xfrm>
            <a:custGeom>
              <a:avLst/>
              <a:gdLst>
                <a:gd name="textAreaLeft" fmla="*/ 0 w 529560"/>
                <a:gd name="textAreaRight" fmla="*/ 529920 w 529560"/>
                <a:gd name="textAreaTop" fmla="*/ 0 h 79200"/>
                <a:gd name="textAreaBottom" fmla="*/ 79560 h 79200"/>
              </a:gdLst>
              <a:ahLst/>
              <a:rect l="textAreaLeft" t="textAreaTop" r="textAreaRight" b="textAreaBottom"/>
              <a:pathLst>
                <a:path w="529692" h="79453">
                  <a:moveTo>
                    <a:pt x="522409" y="66874"/>
                  </a:moveTo>
                  <a:cubicBezTo>
                    <a:pt x="522409" y="66874"/>
                    <a:pt x="490627" y="58928"/>
                    <a:pt x="444279" y="48334"/>
                  </a:cubicBezTo>
                  <a:cubicBezTo>
                    <a:pt x="396607" y="37741"/>
                    <a:pt x="333044" y="27147"/>
                    <a:pt x="268157" y="19201"/>
                  </a:cubicBezTo>
                  <a:cubicBezTo>
                    <a:pt x="252266" y="16553"/>
                    <a:pt x="236375" y="15229"/>
                    <a:pt x="220484" y="13904"/>
                  </a:cubicBezTo>
                  <a:cubicBezTo>
                    <a:pt x="204593" y="11256"/>
                    <a:pt x="188703" y="11256"/>
                    <a:pt x="172812" y="9932"/>
                  </a:cubicBezTo>
                  <a:cubicBezTo>
                    <a:pt x="156921" y="9932"/>
                    <a:pt x="142355" y="9932"/>
                    <a:pt x="129113" y="11256"/>
                  </a:cubicBezTo>
                  <a:cubicBezTo>
                    <a:pt x="114546" y="12580"/>
                    <a:pt x="101304" y="15229"/>
                    <a:pt x="89386" y="16553"/>
                  </a:cubicBezTo>
                  <a:cubicBezTo>
                    <a:pt x="77467" y="17877"/>
                    <a:pt x="65549" y="21850"/>
                    <a:pt x="56280" y="24498"/>
                  </a:cubicBezTo>
                  <a:cubicBezTo>
                    <a:pt x="47010" y="27147"/>
                    <a:pt x="37740" y="29795"/>
                    <a:pt x="31119" y="32444"/>
                  </a:cubicBezTo>
                  <a:cubicBezTo>
                    <a:pt x="17877" y="37741"/>
                    <a:pt x="9932" y="41713"/>
                    <a:pt x="9932" y="41713"/>
                  </a:cubicBezTo>
                  <a:lnTo>
                    <a:pt x="11256" y="45686"/>
                  </a:lnTo>
                  <a:cubicBezTo>
                    <a:pt x="11256" y="45686"/>
                    <a:pt x="19201" y="47010"/>
                    <a:pt x="33768" y="47010"/>
                  </a:cubicBezTo>
                  <a:cubicBezTo>
                    <a:pt x="48334" y="47010"/>
                    <a:pt x="68198" y="48334"/>
                    <a:pt x="92034" y="49659"/>
                  </a:cubicBezTo>
                  <a:cubicBezTo>
                    <a:pt x="103952" y="50983"/>
                    <a:pt x="117194" y="50983"/>
                    <a:pt x="130437" y="50983"/>
                  </a:cubicBezTo>
                  <a:cubicBezTo>
                    <a:pt x="143679" y="52307"/>
                    <a:pt x="158245" y="52307"/>
                    <a:pt x="172812" y="52307"/>
                  </a:cubicBezTo>
                  <a:cubicBezTo>
                    <a:pt x="201945" y="52307"/>
                    <a:pt x="233727" y="50983"/>
                    <a:pt x="266832" y="52307"/>
                  </a:cubicBezTo>
                  <a:cubicBezTo>
                    <a:pt x="330395" y="53631"/>
                    <a:pt x="393959" y="58928"/>
                    <a:pt x="442955" y="64225"/>
                  </a:cubicBezTo>
                  <a:cubicBezTo>
                    <a:pt x="490627" y="69522"/>
                    <a:pt x="522409" y="72171"/>
                    <a:pt x="522409" y="72171"/>
                  </a:cubicBezTo>
                  <a:lnTo>
                    <a:pt x="522409" y="66874"/>
                  </a:lnTo>
                  <a:close/>
                </a:path>
              </a:pathLst>
            </a:custGeom>
            <a:solidFill>
              <a:srgbClr val="93a9b2"/>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655" name="任意多边形: 形状 232"/>
            <p:cNvSpPr/>
            <p:nvPr/>
          </p:nvSpPr>
          <p:spPr>
            <a:xfrm>
              <a:off x="2319840" y="3910320"/>
              <a:ext cx="264600" cy="79200"/>
            </a:xfrm>
            <a:custGeom>
              <a:avLst/>
              <a:gdLst>
                <a:gd name="textAreaLeft" fmla="*/ 0 w 264600"/>
                <a:gd name="textAreaRight" fmla="*/ 264960 w 264600"/>
                <a:gd name="textAreaTop" fmla="*/ 0 h 79200"/>
                <a:gd name="textAreaBottom" fmla="*/ 79560 h 79200"/>
              </a:gdLst>
              <a:ahLst/>
              <a:rect l="textAreaLeft" t="textAreaTop" r="textAreaRight" b="textAreaBottom"/>
              <a:pathLst>
                <a:path w="264846" h="79453">
                  <a:moveTo>
                    <a:pt x="25822" y="21138"/>
                  </a:moveTo>
                  <a:cubicBezTo>
                    <a:pt x="25822" y="21138"/>
                    <a:pt x="52307" y="-49"/>
                    <a:pt x="253590" y="15842"/>
                  </a:cubicBezTo>
                  <a:cubicBezTo>
                    <a:pt x="262860" y="46299"/>
                    <a:pt x="265508" y="56893"/>
                    <a:pt x="265508" y="56893"/>
                  </a:cubicBezTo>
                  <a:lnTo>
                    <a:pt x="9932" y="70135"/>
                  </a:lnTo>
                  <a:lnTo>
                    <a:pt x="25822" y="21138"/>
                  </a:lnTo>
                  <a:close/>
                </a:path>
              </a:pathLst>
            </a:custGeom>
            <a:solidFill>
              <a:srgbClr val="c8ccce"/>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656" name="任意多边形: 形状 233"/>
            <p:cNvSpPr/>
            <p:nvPr/>
          </p:nvSpPr>
          <p:spPr>
            <a:xfrm>
              <a:off x="2093400" y="3806280"/>
              <a:ext cx="741600" cy="344160"/>
            </a:xfrm>
            <a:custGeom>
              <a:avLst/>
              <a:gdLst>
                <a:gd name="textAreaLeft" fmla="*/ 0 w 741600"/>
                <a:gd name="textAreaRight" fmla="*/ 741960 w 741600"/>
                <a:gd name="textAreaTop" fmla="*/ 0 h 344160"/>
                <a:gd name="textAreaBottom" fmla="*/ 344520 h 344160"/>
              </a:gdLst>
              <a:ahLst/>
              <a:rect l="textAreaLeft" t="textAreaTop" r="textAreaRight" b="textAreaBottom"/>
              <a:pathLst>
                <a:path w="741569" h="344300">
                  <a:moveTo>
                    <a:pt x="249618" y="158246"/>
                  </a:moveTo>
                  <a:cubicBezTo>
                    <a:pt x="250942" y="156921"/>
                    <a:pt x="252266" y="154273"/>
                    <a:pt x="253590" y="151624"/>
                  </a:cubicBezTo>
                  <a:cubicBezTo>
                    <a:pt x="253590" y="148976"/>
                    <a:pt x="254914" y="146328"/>
                    <a:pt x="256239" y="145003"/>
                  </a:cubicBezTo>
                  <a:cubicBezTo>
                    <a:pt x="257563" y="143679"/>
                    <a:pt x="257563" y="141031"/>
                    <a:pt x="258887" y="138382"/>
                  </a:cubicBezTo>
                  <a:cubicBezTo>
                    <a:pt x="269481" y="101304"/>
                    <a:pt x="266833" y="29795"/>
                    <a:pt x="268157" y="9932"/>
                  </a:cubicBezTo>
                  <a:cubicBezTo>
                    <a:pt x="268157" y="9932"/>
                    <a:pt x="318478" y="12580"/>
                    <a:pt x="368798" y="13904"/>
                  </a:cubicBezTo>
                  <a:cubicBezTo>
                    <a:pt x="419119" y="12580"/>
                    <a:pt x="469440" y="9932"/>
                    <a:pt x="469440" y="9932"/>
                  </a:cubicBezTo>
                  <a:cubicBezTo>
                    <a:pt x="470764" y="31119"/>
                    <a:pt x="469440" y="101304"/>
                    <a:pt x="478710" y="138382"/>
                  </a:cubicBezTo>
                  <a:cubicBezTo>
                    <a:pt x="480034" y="141031"/>
                    <a:pt x="480034" y="142355"/>
                    <a:pt x="481358" y="145003"/>
                  </a:cubicBezTo>
                  <a:cubicBezTo>
                    <a:pt x="482682" y="147652"/>
                    <a:pt x="482682" y="148976"/>
                    <a:pt x="484006" y="151624"/>
                  </a:cubicBezTo>
                  <a:cubicBezTo>
                    <a:pt x="485331" y="154273"/>
                    <a:pt x="486655" y="156921"/>
                    <a:pt x="487979" y="158246"/>
                  </a:cubicBezTo>
                  <a:cubicBezTo>
                    <a:pt x="506518" y="178109"/>
                    <a:pt x="706477" y="228430"/>
                    <a:pt x="731638" y="277426"/>
                  </a:cubicBezTo>
                  <a:cubicBezTo>
                    <a:pt x="709126" y="358205"/>
                    <a:pt x="32444" y="359529"/>
                    <a:pt x="9932" y="278751"/>
                  </a:cubicBezTo>
                  <a:cubicBezTo>
                    <a:pt x="35092" y="229754"/>
                    <a:pt x="231078" y="178109"/>
                    <a:pt x="249618" y="158246"/>
                  </a:cubicBezTo>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57" name="任意多边形: 形状 234"/>
            <p:cNvSpPr/>
            <p:nvPr/>
          </p:nvSpPr>
          <p:spPr>
            <a:xfrm>
              <a:off x="2093400" y="3809160"/>
              <a:ext cx="476640" cy="304560"/>
            </a:xfrm>
            <a:custGeom>
              <a:avLst/>
              <a:gdLst>
                <a:gd name="textAreaLeft" fmla="*/ 0 w 476640"/>
                <a:gd name="textAreaRight" fmla="*/ 477000 w 476640"/>
                <a:gd name="textAreaTop" fmla="*/ 0 h 304560"/>
                <a:gd name="textAreaBottom" fmla="*/ 304920 h 304560"/>
              </a:gdLst>
              <a:ahLst/>
              <a:rect l="textAreaLeft" t="textAreaTop" r="textAreaRight" b="textAreaBottom"/>
              <a:pathLst>
                <a:path w="476723" h="304573">
                  <a:moveTo>
                    <a:pt x="9932" y="274778"/>
                  </a:moveTo>
                  <a:cubicBezTo>
                    <a:pt x="35092" y="227106"/>
                    <a:pt x="232403" y="176785"/>
                    <a:pt x="250942" y="156921"/>
                  </a:cubicBezTo>
                  <a:cubicBezTo>
                    <a:pt x="252266" y="155597"/>
                    <a:pt x="253590" y="152949"/>
                    <a:pt x="254914" y="150300"/>
                  </a:cubicBezTo>
                  <a:cubicBezTo>
                    <a:pt x="254914" y="147652"/>
                    <a:pt x="256239" y="145003"/>
                    <a:pt x="257563" y="143679"/>
                  </a:cubicBezTo>
                  <a:cubicBezTo>
                    <a:pt x="258887" y="142355"/>
                    <a:pt x="258887" y="139706"/>
                    <a:pt x="260211" y="137058"/>
                  </a:cubicBezTo>
                  <a:cubicBezTo>
                    <a:pt x="270805" y="99979"/>
                    <a:pt x="268157" y="29795"/>
                    <a:pt x="269481" y="9932"/>
                  </a:cubicBezTo>
                  <a:cubicBezTo>
                    <a:pt x="269481" y="9932"/>
                    <a:pt x="318478" y="12580"/>
                    <a:pt x="368798" y="13904"/>
                  </a:cubicBezTo>
                  <a:cubicBezTo>
                    <a:pt x="419119" y="12580"/>
                    <a:pt x="468116" y="9932"/>
                    <a:pt x="468116" y="9932"/>
                  </a:cubicBezTo>
                  <a:cubicBezTo>
                    <a:pt x="469440" y="29795"/>
                    <a:pt x="469440" y="82764"/>
                    <a:pt x="476061" y="122491"/>
                  </a:cubicBezTo>
                  <a:cubicBezTo>
                    <a:pt x="469440" y="125140"/>
                    <a:pt x="184730" y="248293"/>
                    <a:pt x="35092" y="295966"/>
                  </a:cubicBezTo>
                  <a:cubicBezTo>
                    <a:pt x="20526" y="289345"/>
                    <a:pt x="11256" y="282723"/>
                    <a:pt x="9932" y="274778"/>
                  </a:cubicBezTo>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58" name="任意多边形: 形状 235"/>
            <p:cNvSpPr/>
            <p:nvPr/>
          </p:nvSpPr>
          <p:spPr>
            <a:xfrm>
              <a:off x="2024640" y="3916440"/>
              <a:ext cx="860760" cy="847440"/>
            </a:xfrm>
            <a:custGeom>
              <a:avLst/>
              <a:gdLst>
                <a:gd name="textAreaLeft" fmla="*/ 0 w 860760"/>
                <a:gd name="textAreaRight" fmla="*/ 861120 w 860760"/>
                <a:gd name="textAreaTop" fmla="*/ 0 h 847440"/>
                <a:gd name="textAreaBottom" fmla="*/ 847800 h 847440"/>
              </a:gdLst>
              <a:ahLst/>
              <a:rect l="textAreaLeft" t="textAreaTop" r="textAreaRight" b="textAreaBottom"/>
              <a:pathLst>
                <a:path w="860750" h="847507">
                  <a:moveTo>
                    <a:pt x="550257" y="9932"/>
                  </a:moveTo>
                  <a:cubicBezTo>
                    <a:pt x="550257" y="9932"/>
                    <a:pt x="584687" y="73495"/>
                    <a:pt x="519800" y="117194"/>
                  </a:cubicBezTo>
                  <a:cubicBezTo>
                    <a:pt x="456237" y="159570"/>
                    <a:pt x="437698" y="171488"/>
                    <a:pt x="431076" y="204594"/>
                  </a:cubicBezTo>
                  <a:cubicBezTo>
                    <a:pt x="425780" y="236375"/>
                    <a:pt x="425780" y="250942"/>
                    <a:pt x="425780" y="250942"/>
                  </a:cubicBezTo>
                  <a:lnTo>
                    <a:pt x="412537" y="187379"/>
                  </a:lnTo>
                  <a:cubicBezTo>
                    <a:pt x="412537" y="187379"/>
                    <a:pt x="405916" y="156921"/>
                    <a:pt x="384728" y="143679"/>
                  </a:cubicBezTo>
                  <a:cubicBezTo>
                    <a:pt x="363541" y="130437"/>
                    <a:pt x="318517" y="85413"/>
                    <a:pt x="313220" y="60252"/>
                  </a:cubicBezTo>
                  <a:cubicBezTo>
                    <a:pt x="307923" y="36416"/>
                    <a:pt x="321165" y="24498"/>
                    <a:pt x="321165" y="24498"/>
                  </a:cubicBezTo>
                  <a:lnTo>
                    <a:pt x="318517" y="23174"/>
                  </a:lnTo>
                  <a:cubicBezTo>
                    <a:pt x="318517" y="23174"/>
                    <a:pt x="294681" y="53631"/>
                    <a:pt x="294681" y="53631"/>
                  </a:cubicBezTo>
                  <a:cubicBezTo>
                    <a:pt x="294681" y="53631"/>
                    <a:pt x="137097" y="119843"/>
                    <a:pt x="137097" y="119843"/>
                  </a:cubicBezTo>
                  <a:cubicBezTo>
                    <a:pt x="137097" y="119843"/>
                    <a:pt x="141070" y="213863"/>
                    <a:pt x="74858" y="311856"/>
                  </a:cubicBezTo>
                  <a:cubicBezTo>
                    <a:pt x="36456" y="368798"/>
                    <a:pt x="-37701" y="433686"/>
                    <a:pt x="53671" y="556839"/>
                  </a:cubicBezTo>
                  <a:cubicBezTo>
                    <a:pt x="93398" y="660129"/>
                    <a:pt x="113261" y="777986"/>
                    <a:pt x="142394" y="834927"/>
                  </a:cubicBezTo>
                  <a:cubicBezTo>
                    <a:pt x="150339" y="836252"/>
                    <a:pt x="305274" y="826982"/>
                    <a:pt x="424455" y="841549"/>
                  </a:cubicBezTo>
                  <a:cubicBezTo>
                    <a:pt x="592633" y="861412"/>
                    <a:pt x="714462" y="834927"/>
                    <a:pt x="714462" y="834927"/>
                  </a:cubicBezTo>
                  <a:cubicBezTo>
                    <a:pt x="714462" y="834927"/>
                    <a:pt x="752865" y="722368"/>
                    <a:pt x="788619" y="585972"/>
                  </a:cubicBezTo>
                  <a:cubicBezTo>
                    <a:pt x="836291" y="533003"/>
                    <a:pt x="866748" y="486655"/>
                    <a:pt x="857479" y="423092"/>
                  </a:cubicBezTo>
                  <a:cubicBezTo>
                    <a:pt x="854830" y="401904"/>
                    <a:pt x="842912" y="379392"/>
                    <a:pt x="817752" y="330396"/>
                  </a:cubicBezTo>
                  <a:cubicBezTo>
                    <a:pt x="789943" y="276102"/>
                    <a:pt x="763458" y="179433"/>
                    <a:pt x="768755" y="127788"/>
                  </a:cubicBezTo>
                  <a:cubicBezTo>
                    <a:pt x="740946" y="115870"/>
                    <a:pt x="578066" y="57604"/>
                    <a:pt x="578066" y="57604"/>
                  </a:cubicBezTo>
                  <a:lnTo>
                    <a:pt x="550257" y="9932"/>
                  </a:lnTo>
                  <a:close/>
                </a:path>
              </a:pathLst>
            </a:custGeom>
            <a:solidFill>
              <a:srgbClr val="c8ccc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59" name="任意多边形: 形状 236"/>
            <p:cNvSpPr/>
            <p:nvPr/>
          </p:nvSpPr>
          <p:spPr>
            <a:xfrm>
              <a:off x="2236680" y="3201120"/>
              <a:ext cx="489960" cy="728280"/>
            </a:xfrm>
            <a:custGeom>
              <a:avLst/>
              <a:gdLst>
                <a:gd name="textAreaLeft" fmla="*/ 0 w 489960"/>
                <a:gd name="textAreaRight" fmla="*/ 490320 w 489960"/>
                <a:gd name="textAreaTop" fmla="*/ 0 h 728280"/>
                <a:gd name="textAreaBottom" fmla="*/ 728640 h 728280"/>
              </a:gdLst>
              <a:ahLst/>
              <a:rect l="textAreaLeft" t="textAreaTop" r="textAreaRight" b="textAreaBottom"/>
              <a:pathLst>
                <a:path w="489965" h="728326">
                  <a:moveTo>
                    <a:pt x="480034" y="364825"/>
                  </a:moveTo>
                  <a:cubicBezTo>
                    <a:pt x="480034" y="174136"/>
                    <a:pt x="378068" y="9932"/>
                    <a:pt x="229754" y="9932"/>
                  </a:cubicBezTo>
                  <a:cubicBezTo>
                    <a:pt x="81440" y="9932"/>
                    <a:pt x="9932" y="182082"/>
                    <a:pt x="9932" y="374095"/>
                  </a:cubicBezTo>
                  <a:cubicBezTo>
                    <a:pt x="9932" y="564784"/>
                    <a:pt x="126464" y="719719"/>
                    <a:pt x="274778" y="719719"/>
                  </a:cubicBezTo>
                  <a:cubicBezTo>
                    <a:pt x="387338" y="718395"/>
                    <a:pt x="480034" y="555515"/>
                    <a:pt x="480034" y="364825"/>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60" name="任意多边形: 形状 237"/>
            <p:cNvSpPr/>
            <p:nvPr/>
          </p:nvSpPr>
          <p:spPr>
            <a:xfrm>
              <a:off x="2173680" y="3173400"/>
              <a:ext cx="529560" cy="423720"/>
            </a:xfrm>
            <a:custGeom>
              <a:avLst/>
              <a:gdLst>
                <a:gd name="textAreaLeft" fmla="*/ 0 w 529560"/>
                <a:gd name="textAreaRight" fmla="*/ 529920 w 529560"/>
                <a:gd name="textAreaTop" fmla="*/ 0 h 423720"/>
                <a:gd name="textAreaBottom" fmla="*/ 424080 h 423720"/>
              </a:gdLst>
              <a:ahLst/>
              <a:rect l="textAreaLeft" t="textAreaTop" r="textAreaRight" b="textAreaBottom"/>
              <a:pathLst>
                <a:path w="529692" h="423753">
                  <a:moveTo>
                    <a:pt x="482046" y="30933"/>
                  </a:moveTo>
                  <a:cubicBezTo>
                    <a:pt x="482046" y="30933"/>
                    <a:pt x="602551" y="124953"/>
                    <a:pt x="468804" y="248107"/>
                  </a:cubicBezTo>
                  <a:cubicBezTo>
                    <a:pt x="386702" y="311670"/>
                    <a:pt x="223821" y="237513"/>
                    <a:pt x="202634" y="291806"/>
                  </a:cubicBezTo>
                  <a:cubicBezTo>
                    <a:pt x="182770" y="289158"/>
                    <a:pt x="160258" y="270619"/>
                    <a:pt x="160258" y="270619"/>
                  </a:cubicBezTo>
                  <a:cubicBezTo>
                    <a:pt x="160258" y="270619"/>
                    <a:pt x="189391" y="346100"/>
                    <a:pt x="115234" y="359342"/>
                  </a:cubicBezTo>
                  <a:cubicBezTo>
                    <a:pt x="111262" y="416284"/>
                    <a:pt x="115234" y="420257"/>
                    <a:pt x="115234" y="420257"/>
                  </a:cubicBezTo>
                  <a:cubicBezTo>
                    <a:pt x="115234" y="420257"/>
                    <a:pt x="86101" y="369936"/>
                    <a:pt x="31808" y="365963"/>
                  </a:cubicBezTo>
                  <a:cubicBezTo>
                    <a:pt x="10620" y="302400"/>
                    <a:pt x="-15864" y="188516"/>
                    <a:pt x="63589" y="127602"/>
                  </a:cubicBezTo>
                  <a:cubicBezTo>
                    <a:pt x="143043" y="66687"/>
                    <a:pt x="394647" y="-33954"/>
                    <a:pt x="482046" y="30933"/>
                  </a:cubicBezTo>
                  <a:close/>
                </a:path>
              </a:pathLst>
            </a:custGeom>
            <a:solidFill>
              <a:srgbClr val="7a34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61" name="任意多边形: 形状 238"/>
            <p:cNvSpPr/>
            <p:nvPr/>
          </p:nvSpPr>
          <p:spPr>
            <a:xfrm>
              <a:off x="2631240" y="3296880"/>
              <a:ext cx="105840" cy="238320"/>
            </a:xfrm>
            <a:custGeom>
              <a:avLst/>
              <a:gdLst>
                <a:gd name="textAreaLeft" fmla="*/ 0 w 105840"/>
                <a:gd name="textAreaRight" fmla="*/ 106200 w 105840"/>
                <a:gd name="textAreaTop" fmla="*/ 0 h 238320"/>
                <a:gd name="textAreaBottom" fmla="*/ 238680 h 238320"/>
              </a:gdLst>
              <a:ahLst/>
              <a:rect l="textAreaLeft" t="textAreaTop" r="textAreaRight" b="textAreaBottom"/>
              <a:pathLst>
                <a:path w="105938" h="238361">
                  <a:moveTo>
                    <a:pt x="47010" y="10780"/>
                  </a:moveTo>
                  <a:cubicBezTo>
                    <a:pt x="47010" y="10780"/>
                    <a:pt x="97331" y="-2462"/>
                    <a:pt x="105276" y="75668"/>
                  </a:cubicBezTo>
                  <a:cubicBezTo>
                    <a:pt x="113222" y="156446"/>
                    <a:pt x="81440" y="214712"/>
                    <a:pt x="77468" y="235900"/>
                  </a:cubicBezTo>
                  <a:cubicBezTo>
                    <a:pt x="72171" y="255763"/>
                    <a:pt x="82764" y="98180"/>
                    <a:pt x="9932" y="114071"/>
                  </a:cubicBezTo>
                  <a:cubicBezTo>
                    <a:pt x="11256" y="74344"/>
                    <a:pt x="47010" y="10780"/>
                    <a:pt x="47010" y="10780"/>
                  </a:cubicBezTo>
                  <a:close/>
                </a:path>
              </a:pathLst>
            </a:custGeom>
            <a:solidFill>
              <a:srgbClr val="7a34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62" name="任意多边形: 形状 239"/>
            <p:cNvSpPr/>
            <p:nvPr/>
          </p:nvSpPr>
          <p:spPr>
            <a:xfrm>
              <a:off x="2631240" y="3362760"/>
              <a:ext cx="105840" cy="172080"/>
            </a:xfrm>
            <a:custGeom>
              <a:avLst/>
              <a:gdLst>
                <a:gd name="textAreaLeft" fmla="*/ 0 w 105840"/>
                <a:gd name="textAreaRight" fmla="*/ 106200 w 105840"/>
                <a:gd name="textAreaTop" fmla="*/ 0 h 172080"/>
                <a:gd name="textAreaBottom" fmla="*/ 172440 h 172080"/>
              </a:gdLst>
              <a:ahLst/>
              <a:rect l="textAreaLeft" t="textAreaTop" r="textAreaRight" b="textAreaBottom"/>
              <a:pathLst>
                <a:path w="105938" h="172150">
                  <a:moveTo>
                    <a:pt x="105276" y="9932"/>
                  </a:moveTo>
                  <a:cubicBezTo>
                    <a:pt x="94682" y="88061"/>
                    <a:pt x="93358" y="179433"/>
                    <a:pt x="77468" y="170164"/>
                  </a:cubicBezTo>
                  <a:cubicBezTo>
                    <a:pt x="58928" y="159570"/>
                    <a:pt x="82764" y="32444"/>
                    <a:pt x="9932" y="48334"/>
                  </a:cubicBezTo>
                </a:path>
              </a:pathLst>
            </a:custGeom>
            <a:solidFill>
              <a:srgbClr val="75240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63" name="任意多边形: 形状 240"/>
            <p:cNvSpPr/>
            <p:nvPr/>
          </p:nvSpPr>
          <p:spPr>
            <a:xfrm>
              <a:off x="2631240" y="3362760"/>
              <a:ext cx="105840" cy="172080"/>
            </a:xfrm>
            <a:custGeom>
              <a:avLst/>
              <a:gdLst>
                <a:gd name="textAreaLeft" fmla="*/ 0 w 105840"/>
                <a:gd name="textAreaRight" fmla="*/ 106200 w 105840"/>
                <a:gd name="textAreaTop" fmla="*/ 0 h 172080"/>
                <a:gd name="textAreaBottom" fmla="*/ 172440 h 172080"/>
              </a:gdLst>
              <a:ahLst/>
              <a:rect l="textAreaLeft" t="textAreaTop" r="textAreaRight" b="textAreaBottom"/>
              <a:pathLst>
                <a:path w="105938" h="172150">
                  <a:moveTo>
                    <a:pt x="105276" y="9932"/>
                  </a:moveTo>
                  <a:cubicBezTo>
                    <a:pt x="110573" y="118519"/>
                    <a:pt x="93358" y="179433"/>
                    <a:pt x="77468" y="170164"/>
                  </a:cubicBezTo>
                  <a:cubicBezTo>
                    <a:pt x="58928" y="159570"/>
                    <a:pt x="82764" y="32444"/>
                    <a:pt x="9932" y="48334"/>
                  </a:cubicBezTo>
                </a:path>
              </a:pathLst>
            </a:custGeom>
            <a:solidFill>
              <a:srgbClr val="7a34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64" name="任意多边形: 形状 241"/>
            <p:cNvSpPr/>
            <p:nvPr/>
          </p:nvSpPr>
          <p:spPr>
            <a:xfrm>
              <a:off x="2349000" y="3567600"/>
              <a:ext cx="132120" cy="65880"/>
            </a:xfrm>
            <a:custGeom>
              <a:avLst/>
              <a:gdLst>
                <a:gd name="textAreaLeft" fmla="*/ 0 w 132120"/>
                <a:gd name="textAreaRight" fmla="*/ 132480 w 132120"/>
                <a:gd name="textAreaTop" fmla="*/ 0 h 65880"/>
                <a:gd name="textAreaBottom" fmla="*/ 66240 h 65880"/>
              </a:gdLst>
              <a:ahLst/>
              <a:rect l="textAreaLeft" t="textAreaTop" r="textAreaRight" b="textAreaBottom"/>
              <a:pathLst>
                <a:path w="132423" h="66211">
                  <a:moveTo>
                    <a:pt x="133320" y="56768"/>
                  </a:moveTo>
                  <a:cubicBezTo>
                    <a:pt x="133320" y="56768"/>
                    <a:pt x="122726" y="17041"/>
                    <a:pt x="85647" y="11744"/>
                  </a:cubicBezTo>
                  <a:cubicBezTo>
                    <a:pt x="48569" y="6447"/>
                    <a:pt x="24733" y="13068"/>
                    <a:pt x="14139" y="27634"/>
                  </a:cubicBezTo>
                  <a:cubicBezTo>
                    <a:pt x="8842" y="36904"/>
                    <a:pt x="4870" y="54119"/>
                    <a:pt x="26057" y="62064"/>
                  </a:cubicBezTo>
                  <a:cubicBezTo>
                    <a:pt x="47245" y="68686"/>
                    <a:pt x="102863" y="75307"/>
                    <a:pt x="133320" y="56768"/>
                  </a:cubicBezTo>
                  <a:close/>
                </a:path>
              </a:pathLst>
            </a:custGeom>
            <a:solidFill>
              <a:srgbClr val="f4c78c"/>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65" name="任意多边形: 形状 242"/>
            <p:cNvSpPr/>
            <p:nvPr/>
          </p:nvSpPr>
          <p:spPr>
            <a:xfrm>
              <a:off x="2355840" y="3576960"/>
              <a:ext cx="132120" cy="65880"/>
            </a:xfrm>
            <a:custGeom>
              <a:avLst/>
              <a:gdLst>
                <a:gd name="textAreaLeft" fmla="*/ 0 w 132120"/>
                <a:gd name="textAreaRight" fmla="*/ 132480 w 132120"/>
                <a:gd name="textAreaTop" fmla="*/ 0 h 65880"/>
                <a:gd name="textAreaBottom" fmla="*/ 66240 h 65880"/>
              </a:gdLst>
              <a:ahLst/>
              <a:rect l="textAreaLeft" t="textAreaTop" r="textAreaRight" b="textAreaBottom"/>
              <a:pathLst>
                <a:path w="132423" h="66211">
                  <a:moveTo>
                    <a:pt x="9932" y="35270"/>
                  </a:moveTo>
                  <a:cubicBezTo>
                    <a:pt x="9932" y="35270"/>
                    <a:pt x="32444" y="60430"/>
                    <a:pt x="78792" y="60430"/>
                  </a:cubicBezTo>
                  <a:cubicBezTo>
                    <a:pt x="98655" y="60430"/>
                    <a:pt x="125140" y="45864"/>
                    <a:pt x="125140" y="45864"/>
                  </a:cubicBezTo>
                  <a:cubicBezTo>
                    <a:pt x="125140" y="45864"/>
                    <a:pt x="94683" y="11434"/>
                    <a:pt x="73495" y="10110"/>
                  </a:cubicBezTo>
                  <a:cubicBezTo>
                    <a:pt x="35092" y="7461"/>
                    <a:pt x="9932" y="35270"/>
                    <a:pt x="9932" y="35270"/>
                  </a:cubicBezTo>
                  <a:close/>
                </a:path>
              </a:pathLst>
            </a:custGeom>
            <a:solidFill>
              <a:srgbClr val="ffffff"/>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66" name="任意多边形: 形状 243"/>
            <p:cNvSpPr/>
            <p:nvPr/>
          </p:nvSpPr>
          <p:spPr>
            <a:xfrm>
              <a:off x="2403360" y="357876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7932" y="-31768"/>
                  </a:moveTo>
                  <a:cubicBezTo>
                    <a:pt x="-7932" y="20525"/>
                    <a:pt x="-18526" y="9932"/>
                    <a:pt x="-31768" y="9932"/>
                  </a:cubicBezTo>
                  <a:cubicBezTo>
                    <a:pt x="20526" y="9932"/>
                    <a:pt x="9932" y="20525"/>
                    <a:pt x="9932" y="-31768"/>
                  </a:cubicBezTo>
                  <a:cubicBezTo>
                    <a:pt x="9932" y="-18526"/>
                    <a:pt x="20526" y="-7932"/>
                    <a:pt x="-31768" y="-7932"/>
                  </a:cubicBezTo>
                  <a:cubicBezTo>
                    <a:pt x="-18526" y="-6608"/>
                    <a:pt x="-7932" y="-18526"/>
                    <a:pt x="-7932" y="-31768"/>
                  </a:cubicBezTo>
                  <a:close/>
                </a:path>
              </a:pathLst>
            </a:custGeom>
            <a:solidFill>
              <a:srgbClr val="2d0201"/>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67" name="任意多边形: 形状 244"/>
            <p:cNvSpPr/>
            <p:nvPr/>
          </p:nvSpPr>
          <p:spPr>
            <a:xfrm>
              <a:off x="2407320" y="3579840"/>
              <a:ext cx="52920" cy="52920"/>
            </a:xfrm>
            <a:custGeom>
              <a:avLst/>
              <a:gdLst>
                <a:gd name="textAreaLeft" fmla="*/ 0 w 52920"/>
                <a:gd name="textAreaRight" fmla="*/ 53280 w 52920"/>
                <a:gd name="textAreaTop" fmla="*/ 0 h 52920"/>
                <a:gd name="textAreaBottom" fmla="*/ 53280 h 52920"/>
              </a:gdLst>
              <a:ahLst/>
              <a:rect l="textAreaLeft" t="textAreaTop" r="textAreaRight" b="textAreaBottom"/>
              <a:pathLst>
                <a:path w="52969" h="52969">
                  <a:moveTo>
                    <a:pt x="-13229" y="32444"/>
                  </a:moveTo>
                  <a:cubicBezTo>
                    <a:pt x="-13229" y="20526"/>
                    <a:pt x="-22498" y="9932"/>
                    <a:pt x="31119" y="9932"/>
                  </a:cubicBezTo>
                  <a:cubicBezTo>
                    <a:pt x="19201" y="9932"/>
                    <a:pt x="9932" y="20526"/>
                    <a:pt x="9932" y="32444"/>
                  </a:cubicBezTo>
                  <a:cubicBezTo>
                    <a:pt x="9932" y="-21174"/>
                    <a:pt x="19201" y="-10580"/>
                    <a:pt x="31119" y="-10580"/>
                  </a:cubicBezTo>
                  <a:cubicBezTo>
                    <a:pt x="-23823" y="-10580"/>
                    <a:pt x="-13229" y="-19850"/>
                    <a:pt x="-13229" y="32444"/>
                  </a:cubicBezTo>
                  <a:close/>
                </a:path>
              </a:pathLst>
            </a:custGeom>
            <a:solidFill>
              <a:srgbClr val="893d04"/>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68" name="任意多边形: 形状 245"/>
            <p:cNvSpPr/>
            <p:nvPr/>
          </p:nvSpPr>
          <p:spPr>
            <a:xfrm>
              <a:off x="2426040" y="35996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5822" y="17877"/>
                  </a:moveTo>
                  <a:cubicBezTo>
                    <a:pt x="25822" y="12580"/>
                    <a:pt x="21850" y="9932"/>
                    <a:pt x="17877" y="9932"/>
                  </a:cubicBezTo>
                  <a:cubicBezTo>
                    <a:pt x="13904" y="9932"/>
                    <a:pt x="9932" y="13904"/>
                    <a:pt x="9932" y="17877"/>
                  </a:cubicBezTo>
                  <a:cubicBezTo>
                    <a:pt x="9932" y="23174"/>
                    <a:pt x="13904" y="25822"/>
                    <a:pt x="17877" y="25822"/>
                  </a:cubicBezTo>
                  <a:cubicBezTo>
                    <a:pt x="21850" y="27147"/>
                    <a:pt x="25822" y="23174"/>
                    <a:pt x="25822" y="17877"/>
                  </a:cubicBezTo>
                  <a:close/>
                </a:path>
              </a:pathLst>
            </a:custGeom>
            <a:solidFill>
              <a:srgbClr val="8e0404"/>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69" name="任意多边形: 形状 246"/>
            <p:cNvSpPr/>
            <p:nvPr/>
          </p:nvSpPr>
          <p:spPr>
            <a:xfrm>
              <a:off x="2419200" y="35946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5822" y="17877"/>
                  </a:moveTo>
                  <a:cubicBezTo>
                    <a:pt x="25822" y="13904"/>
                    <a:pt x="23174" y="9932"/>
                    <a:pt x="17877" y="9932"/>
                  </a:cubicBezTo>
                  <a:cubicBezTo>
                    <a:pt x="13904" y="9932"/>
                    <a:pt x="9932" y="13904"/>
                    <a:pt x="9932" y="17877"/>
                  </a:cubicBezTo>
                  <a:cubicBezTo>
                    <a:pt x="9932" y="21850"/>
                    <a:pt x="12580" y="25822"/>
                    <a:pt x="17877" y="25822"/>
                  </a:cubicBezTo>
                  <a:cubicBezTo>
                    <a:pt x="21850" y="25822"/>
                    <a:pt x="25822" y="21850"/>
                    <a:pt x="25822" y="17877"/>
                  </a:cubicBezTo>
                  <a:close/>
                </a:path>
              </a:pathLst>
            </a:custGeom>
            <a:solidFill>
              <a:srgbClr val="42030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70" name="任意多边形: 形状 247"/>
            <p:cNvSpPr/>
            <p:nvPr/>
          </p:nvSpPr>
          <p:spPr>
            <a:xfrm>
              <a:off x="2432520" y="360396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13242" h="13242">
                  <a:moveTo>
                    <a:pt x="9932" y="11256"/>
                  </a:moveTo>
                  <a:cubicBezTo>
                    <a:pt x="9932" y="12580"/>
                    <a:pt x="11256" y="12580"/>
                    <a:pt x="11256" y="12580"/>
                  </a:cubicBezTo>
                  <a:cubicBezTo>
                    <a:pt x="12580" y="12580"/>
                    <a:pt x="12580" y="11256"/>
                    <a:pt x="12580" y="11256"/>
                  </a:cubicBezTo>
                  <a:cubicBezTo>
                    <a:pt x="12580" y="9932"/>
                    <a:pt x="11256" y="9932"/>
                    <a:pt x="11256" y="9932"/>
                  </a:cubicBezTo>
                  <a:cubicBezTo>
                    <a:pt x="11256" y="9932"/>
                    <a:pt x="9932" y="11256"/>
                    <a:pt x="9932" y="11256"/>
                  </a:cubicBezTo>
                  <a:close/>
                </a:path>
              </a:pathLst>
            </a:custGeom>
            <a:solidFill>
              <a:srgbClr val="ffffff"/>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671" name="任意多边形: 形状 248"/>
            <p:cNvSpPr/>
            <p:nvPr/>
          </p:nvSpPr>
          <p:spPr>
            <a:xfrm>
              <a:off x="2420640" y="35906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7877" y="13904"/>
                  </a:moveTo>
                  <a:cubicBezTo>
                    <a:pt x="17877" y="11256"/>
                    <a:pt x="16553" y="9932"/>
                    <a:pt x="13904" y="9932"/>
                  </a:cubicBezTo>
                  <a:cubicBezTo>
                    <a:pt x="11256" y="9932"/>
                    <a:pt x="9932" y="11256"/>
                    <a:pt x="9932" y="13904"/>
                  </a:cubicBezTo>
                  <a:cubicBezTo>
                    <a:pt x="9932" y="16553"/>
                    <a:pt x="11256" y="17877"/>
                    <a:pt x="13904" y="17877"/>
                  </a:cubicBezTo>
                  <a:cubicBezTo>
                    <a:pt x="15229" y="17877"/>
                    <a:pt x="17877" y="16553"/>
                    <a:pt x="17877" y="13904"/>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72" name="任意多边形: 形状 249"/>
            <p:cNvSpPr/>
            <p:nvPr/>
          </p:nvSpPr>
          <p:spPr>
            <a:xfrm>
              <a:off x="2350440" y="3571920"/>
              <a:ext cx="132120" cy="52920"/>
            </a:xfrm>
            <a:custGeom>
              <a:avLst/>
              <a:gdLst>
                <a:gd name="textAreaLeft" fmla="*/ 0 w 132120"/>
                <a:gd name="textAreaRight" fmla="*/ 132480 w 132120"/>
                <a:gd name="textAreaTop" fmla="*/ 0 h 52920"/>
                <a:gd name="textAreaBottom" fmla="*/ 53280 h 52920"/>
              </a:gdLst>
              <a:ahLst/>
              <a:rect l="textAreaLeft" t="textAreaTop" r="textAreaRight" b="textAreaBottom"/>
              <a:pathLst>
                <a:path w="132423" h="52969">
                  <a:moveTo>
                    <a:pt x="126464" y="48334"/>
                  </a:moveTo>
                  <a:cubicBezTo>
                    <a:pt x="126464" y="48334"/>
                    <a:pt x="122491" y="40389"/>
                    <a:pt x="113222" y="31119"/>
                  </a:cubicBezTo>
                  <a:cubicBezTo>
                    <a:pt x="107925" y="25822"/>
                    <a:pt x="102628" y="21850"/>
                    <a:pt x="94682" y="17877"/>
                  </a:cubicBezTo>
                  <a:cubicBezTo>
                    <a:pt x="90710" y="16553"/>
                    <a:pt x="86737" y="13904"/>
                    <a:pt x="82764" y="12580"/>
                  </a:cubicBezTo>
                  <a:cubicBezTo>
                    <a:pt x="78792" y="11256"/>
                    <a:pt x="73495" y="9932"/>
                    <a:pt x="69522" y="9932"/>
                  </a:cubicBezTo>
                  <a:cubicBezTo>
                    <a:pt x="65549" y="9932"/>
                    <a:pt x="60253" y="9932"/>
                    <a:pt x="56280" y="11256"/>
                  </a:cubicBezTo>
                  <a:cubicBezTo>
                    <a:pt x="52307" y="11256"/>
                    <a:pt x="48334" y="13904"/>
                    <a:pt x="43038" y="15229"/>
                  </a:cubicBezTo>
                  <a:cubicBezTo>
                    <a:pt x="39065" y="16553"/>
                    <a:pt x="35092" y="19201"/>
                    <a:pt x="32444" y="20525"/>
                  </a:cubicBezTo>
                  <a:cubicBezTo>
                    <a:pt x="29795" y="21850"/>
                    <a:pt x="27147" y="24498"/>
                    <a:pt x="24498" y="27147"/>
                  </a:cubicBezTo>
                  <a:cubicBezTo>
                    <a:pt x="19201" y="31119"/>
                    <a:pt x="16553" y="36416"/>
                    <a:pt x="13904" y="39065"/>
                  </a:cubicBezTo>
                  <a:cubicBezTo>
                    <a:pt x="11256" y="41713"/>
                    <a:pt x="9932" y="44362"/>
                    <a:pt x="9932" y="44362"/>
                  </a:cubicBezTo>
                  <a:cubicBezTo>
                    <a:pt x="9932" y="44362"/>
                    <a:pt x="11256" y="43038"/>
                    <a:pt x="15229" y="41713"/>
                  </a:cubicBezTo>
                  <a:cubicBezTo>
                    <a:pt x="16553" y="40389"/>
                    <a:pt x="19201" y="39065"/>
                    <a:pt x="20526" y="37740"/>
                  </a:cubicBezTo>
                  <a:cubicBezTo>
                    <a:pt x="23174" y="36416"/>
                    <a:pt x="24498" y="35092"/>
                    <a:pt x="28471" y="33768"/>
                  </a:cubicBezTo>
                  <a:cubicBezTo>
                    <a:pt x="31119" y="32444"/>
                    <a:pt x="33768" y="31119"/>
                    <a:pt x="37740" y="29795"/>
                  </a:cubicBezTo>
                  <a:cubicBezTo>
                    <a:pt x="40389" y="28471"/>
                    <a:pt x="44362" y="27147"/>
                    <a:pt x="48334" y="25822"/>
                  </a:cubicBezTo>
                  <a:cubicBezTo>
                    <a:pt x="52307" y="24498"/>
                    <a:pt x="54955" y="24498"/>
                    <a:pt x="58928" y="23174"/>
                  </a:cubicBezTo>
                  <a:cubicBezTo>
                    <a:pt x="62901" y="23174"/>
                    <a:pt x="66874" y="21850"/>
                    <a:pt x="70846" y="23174"/>
                  </a:cubicBezTo>
                  <a:cubicBezTo>
                    <a:pt x="74819" y="23174"/>
                    <a:pt x="78792" y="24498"/>
                    <a:pt x="82764" y="24498"/>
                  </a:cubicBezTo>
                  <a:cubicBezTo>
                    <a:pt x="86737" y="25822"/>
                    <a:pt x="90710" y="27147"/>
                    <a:pt x="93358" y="28471"/>
                  </a:cubicBezTo>
                  <a:cubicBezTo>
                    <a:pt x="97331" y="29795"/>
                    <a:pt x="99979" y="31119"/>
                    <a:pt x="102628" y="33768"/>
                  </a:cubicBezTo>
                  <a:cubicBezTo>
                    <a:pt x="105276" y="35092"/>
                    <a:pt x="107925" y="37740"/>
                    <a:pt x="110573" y="39065"/>
                  </a:cubicBezTo>
                  <a:cubicBezTo>
                    <a:pt x="119843" y="43038"/>
                    <a:pt x="126464" y="48334"/>
                    <a:pt x="126464" y="48334"/>
                  </a:cubicBezTo>
                  <a:close/>
                </a:path>
              </a:pathLst>
            </a:custGeom>
            <a:solidFill>
              <a:srgbClr val="602a0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73" name="任意多边形: 形状 250"/>
            <p:cNvSpPr/>
            <p:nvPr/>
          </p:nvSpPr>
          <p:spPr>
            <a:xfrm>
              <a:off x="2351880" y="359964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9726" h="39726">
                  <a:moveTo>
                    <a:pt x="9932" y="13904"/>
                  </a:moveTo>
                  <a:cubicBezTo>
                    <a:pt x="9932" y="13904"/>
                    <a:pt x="17877" y="19201"/>
                    <a:pt x="24498" y="23174"/>
                  </a:cubicBezTo>
                  <a:cubicBezTo>
                    <a:pt x="28471" y="25822"/>
                    <a:pt x="31120" y="27147"/>
                    <a:pt x="-31768" y="28471"/>
                  </a:cubicBezTo>
                  <a:cubicBezTo>
                    <a:pt x="-29120" y="29795"/>
                    <a:pt x="-27795" y="29795"/>
                    <a:pt x="-27795" y="29795"/>
                  </a:cubicBezTo>
                  <a:cubicBezTo>
                    <a:pt x="-27795" y="29795"/>
                    <a:pt x="-29120" y="28471"/>
                    <a:pt x="-31768" y="27147"/>
                  </a:cubicBezTo>
                  <a:cubicBezTo>
                    <a:pt x="31120" y="25822"/>
                    <a:pt x="28471" y="23174"/>
                    <a:pt x="24498" y="20526"/>
                  </a:cubicBezTo>
                  <a:cubicBezTo>
                    <a:pt x="17877" y="15229"/>
                    <a:pt x="12580" y="9932"/>
                    <a:pt x="12580" y="9932"/>
                  </a:cubicBezTo>
                  <a:lnTo>
                    <a:pt x="9932" y="13904"/>
                  </a:lnTo>
                  <a:close/>
                </a:path>
              </a:pathLst>
            </a:custGeom>
            <a:solidFill>
              <a:srgbClr val="602a05"/>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674" name="任意多边形: 形状 251"/>
            <p:cNvSpPr/>
            <p:nvPr/>
          </p:nvSpPr>
          <p:spPr>
            <a:xfrm>
              <a:off x="2446920" y="3778560"/>
              <a:ext cx="145440" cy="52920"/>
            </a:xfrm>
            <a:custGeom>
              <a:avLst/>
              <a:gdLst>
                <a:gd name="textAreaLeft" fmla="*/ 0 w 145440"/>
                <a:gd name="textAreaRight" fmla="*/ 145800 w 145440"/>
                <a:gd name="textAreaTop" fmla="*/ 0 h 52920"/>
                <a:gd name="textAreaBottom" fmla="*/ 53280 h 52920"/>
              </a:gdLst>
              <a:ahLst/>
              <a:rect l="textAreaLeft" t="textAreaTop" r="textAreaRight" b="textAreaBottom"/>
              <a:pathLst>
                <a:path w="145665" h="52969">
                  <a:moveTo>
                    <a:pt x="143679" y="9932"/>
                  </a:moveTo>
                  <a:cubicBezTo>
                    <a:pt x="143679" y="9932"/>
                    <a:pt x="109249" y="11256"/>
                    <a:pt x="102628" y="15229"/>
                  </a:cubicBezTo>
                  <a:cubicBezTo>
                    <a:pt x="97331" y="19201"/>
                    <a:pt x="92034" y="19201"/>
                    <a:pt x="85413" y="16553"/>
                  </a:cubicBezTo>
                  <a:cubicBezTo>
                    <a:pt x="76143" y="13904"/>
                    <a:pt x="9932" y="11256"/>
                    <a:pt x="9932" y="11256"/>
                  </a:cubicBezTo>
                  <a:cubicBezTo>
                    <a:pt x="9932" y="11256"/>
                    <a:pt x="45686" y="48335"/>
                    <a:pt x="82764" y="47010"/>
                  </a:cubicBezTo>
                  <a:cubicBezTo>
                    <a:pt x="119843" y="44362"/>
                    <a:pt x="143679" y="9932"/>
                    <a:pt x="143679" y="9932"/>
                  </a:cubicBezTo>
                  <a:close/>
                </a:path>
              </a:pathLst>
            </a:custGeom>
            <a:solidFill>
              <a:srgbClr val="544a3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75" name="任意多边形: 形状 252"/>
            <p:cNvSpPr/>
            <p:nvPr/>
          </p:nvSpPr>
          <p:spPr>
            <a:xfrm>
              <a:off x="2457360" y="378252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92239" y="13904"/>
                  </a:moveTo>
                  <a:cubicBezTo>
                    <a:pt x="86942" y="17877"/>
                    <a:pt x="80321" y="17877"/>
                    <a:pt x="72376" y="16553"/>
                  </a:cubicBezTo>
                  <a:cubicBezTo>
                    <a:pt x="67078" y="15229"/>
                    <a:pt x="32649" y="9932"/>
                    <a:pt x="11461" y="9932"/>
                  </a:cubicBezTo>
                  <a:cubicBezTo>
                    <a:pt x="8812" y="12580"/>
                    <a:pt x="10137" y="16553"/>
                    <a:pt x="11461" y="21850"/>
                  </a:cubicBezTo>
                  <a:cubicBezTo>
                    <a:pt x="24703" y="31120"/>
                    <a:pt x="53836" y="44362"/>
                    <a:pt x="72376" y="44362"/>
                  </a:cubicBezTo>
                  <a:cubicBezTo>
                    <a:pt x="92239" y="43038"/>
                    <a:pt x="108130" y="33768"/>
                    <a:pt x="117399" y="24498"/>
                  </a:cubicBezTo>
                  <a:cubicBezTo>
                    <a:pt x="120048" y="19201"/>
                    <a:pt x="122696" y="16553"/>
                    <a:pt x="121372" y="11256"/>
                  </a:cubicBezTo>
                  <a:cubicBezTo>
                    <a:pt x="113427" y="9932"/>
                    <a:pt x="94887" y="12580"/>
                    <a:pt x="92239" y="13904"/>
                  </a:cubicBez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76" name="任意多边形: 形状 253"/>
            <p:cNvSpPr/>
            <p:nvPr/>
          </p:nvSpPr>
          <p:spPr>
            <a:xfrm>
              <a:off x="2448360" y="3777480"/>
              <a:ext cx="145440" cy="26280"/>
            </a:xfrm>
            <a:custGeom>
              <a:avLst/>
              <a:gdLst>
                <a:gd name="textAreaLeft" fmla="*/ 0 w 145440"/>
                <a:gd name="textAreaRight" fmla="*/ 145800 w 145440"/>
                <a:gd name="textAreaTop" fmla="*/ 0 h 26280"/>
                <a:gd name="textAreaBottom" fmla="*/ 26640 h 26280"/>
              </a:gdLst>
              <a:ahLst/>
              <a:rect l="textAreaLeft" t="textAreaTop" r="textAreaRight" b="textAreaBottom"/>
              <a:pathLst>
                <a:path w="145665" h="26484">
                  <a:moveTo>
                    <a:pt x="142355" y="11109"/>
                  </a:moveTo>
                  <a:cubicBezTo>
                    <a:pt x="142355" y="11109"/>
                    <a:pt x="107925" y="8460"/>
                    <a:pt x="102628" y="11109"/>
                  </a:cubicBezTo>
                  <a:cubicBezTo>
                    <a:pt x="97331" y="15082"/>
                    <a:pt x="89386" y="13757"/>
                    <a:pt x="82764" y="11109"/>
                  </a:cubicBezTo>
                  <a:cubicBezTo>
                    <a:pt x="73495" y="8460"/>
                    <a:pt x="9932" y="12433"/>
                    <a:pt x="9932" y="12433"/>
                  </a:cubicBezTo>
                  <a:cubicBezTo>
                    <a:pt x="9932" y="12433"/>
                    <a:pt x="48335" y="27000"/>
                    <a:pt x="84089" y="25675"/>
                  </a:cubicBezTo>
                  <a:cubicBezTo>
                    <a:pt x="121167" y="24351"/>
                    <a:pt x="142355" y="11109"/>
                    <a:pt x="142355" y="11109"/>
                  </a:cubicBezTo>
                  <a:close/>
                </a:path>
              </a:pathLst>
            </a:custGeom>
            <a:solidFill>
              <a:srgbClr val="f7b07c"/>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77" name="任意多边形: 形状 254"/>
            <p:cNvSpPr/>
            <p:nvPr/>
          </p:nvSpPr>
          <p:spPr>
            <a:xfrm>
              <a:off x="2448360" y="3778560"/>
              <a:ext cx="145440" cy="52920"/>
            </a:xfrm>
            <a:custGeom>
              <a:avLst/>
              <a:gdLst>
                <a:gd name="textAreaLeft" fmla="*/ 0 w 145440"/>
                <a:gd name="textAreaRight" fmla="*/ 145800 w 145440"/>
                <a:gd name="textAreaTop" fmla="*/ 0 h 52920"/>
                <a:gd name="textAreaBottom" fmla="*/ 53280 h 52920"/>
              </a:gdLst>
              <a:ahLst/>
              <a:rect l="textAreaLeft" t="textAreaTop" r="textAreaRight" b="textAreaBottom"/>
              <a:pathLst>
                <a:path w="145665" h="52969">
                  <a:moveTo>
                    <a:pt x="142374" y="9932"/>
                  </a:moveTo>
                  <a:cubicBezTo>
                    <a:pt x="142374" y="9932"/>
                    <a:pt x="122510" y="43038"/>
                    <a:pt x="105295" y="49659"/>
                  </a:cubicBezTo>
                  <a:cubicBezTo>
                    <a:pt x="92053" y="54956"/>
                    <a:pt x="72189" y="54956"/>
                    <a:pt x="57623" y="50983"/>
                  </a:cubicBezTo>
                  <a:cubicBezTo>
                    <a:pt x="40408" y="45686"/>
                    <a:pt x="12599" y="16553"/>
                    <a:pt x="9951" y="11256"/>
                  </a:cubicBezTo>
                  <a:cubicBezTo>
                    <a:pt x="8626" y="11256"/>
                    <a:pt x="77486" y="69522"/>
                    <a:pt x="142374" y="9932"/>
                  </a:cubicBezTo>
                  <a:close/>
                </a:path>
              </a:pathLst>
            </a:custGeom>
            <a:solidFill>
              <a:srgbClr val="f7b07c"/>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78" name="任意多边形: 形状 255"/>
            <p:cNvSpPr/>
            <p:nvPr/>
          </p:nvSpPr>
          <p:spPr>
            <a:xfrm>
              <a:off x="2484000" y="3709800"/>
              <a:ext cx="79200" cy="39600"/>
            </a:xfrm>
            <a:custGeom>
              <a:avLst/>
              <a:gdLst>
                <a:gd name="textAreaLeft" fmla="*/ 0 w 79200"/>
                <a:gd name="textAreaRight" fmla="*/ 79560 w 79200"/>
                <a:gd name="textAreaTop" fmla="*/ 0 h 39600"/>
                <a:gd name="textAreaBottom" fmla="*/ 39960 h 39600"/>
              </a:gdLst>
              <a:ahLst/>
              <a:rect l="textAreaLeft" t="textAreaTop" r="textAreaRight" b="textAreaBottom"/>
              <a:pathLst>
                <a:path w="79453" h="39726">
                  <a:moveTo>
                    <a:pt x="52307" y="16553"/>
                  </a:moveTo>
                  <a:cubicBezTo>
                    <a:pt x="65550" y="16553"/>
                    <a:pt x="70846" y="15229"/>
                    <a:pt x="80116" y="11256"/>
                  </a:cubicBezTo>
                  <a:cubicBezTo>
                    <a:pt x="76143" y="24498"/>
                    <a:pt x="66874" y="33768"/>
                    <a:pt x="49659" y="33768"/>
                  </a:cubicBezTo>
                  <a:cubicBezTo>
                    <a:pt x="32444" y="33768"/>
                    <a:pt x="13904" y="24498"/>
                    <a:pt x="9932" y="9932"/>
                  </a:cubicBezTo>
                  <a:cubicBezTo>
                    <a:pt x="19202" y="13904"/>
                    <a:pt x="37741" y="16553"/>
                    <a:pt x="52307" y="16553"/>
                  </a:cubicBezTo>
                  <a:close/>
                </a:path>
              </a:pathLst>
            </a:custGeom>
            <a:solidFill>
              <a:srgbClr val="f4c78c"/>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679" name="任意多边形: 形状 256"/>
            <p:cNvSpPr/>
            <p:nvPr/>
          </p:nvSpPr>
          <p:spPr>
            <a:xfrm>
              <a:off x="2318760" y="3524040"/>
              <a:ext cx="185400" cy="52920"/>
            </a:xfrm>
            <a:custGeom>
              <a:avLst/>
              <a:gdLst>
                <a:gd name="textAreaLeft" fmla="*/ 0 w 185400"/>
                <a:gd name="textAreaRight" fmla="*/ 185760 w 185400"/>
                <a:gd name="textAreaTop" fmla="*/ 0 h 52920"/>
                <a:gd name="textAreaBottom" fmla="*/ 53280 h 52920"/>
              </a:gdLst>
              <a:ahLst/>
              <a:rect l="textAreaLeft" t="textAreaTop" r="textAreaRight" b="textAreaBottom"/>
              <a:pathLst>
                <a:path w="185392" h="52969">
                  <a:moveTo>
                    <a:pt x="147652" y="11661"/>
                  </a:moveTo>
                  <a:cubicBezTo>
                    <a:pt x="147652" y="11661"/>
                    <a:pt x="180758" y="11661"/>
                    <a:pt x="180758" y="31525"/>
                  </a:cubicBezTo>
                  <a:cubicBezTo>
                    <a:pt x="180758" y="43443"/>
                    <a:pt x="175461" y="48740"/>
                    <a:pt x="134410" y="40794"/>
                  </a:cubicBezTo>
                  <a:cubicBezTo>
                    <a:pt x="93358" y="32849"/>
                    <a:pt x="15229" y="50064"/>
                    <a:pt x="9932" y="42119"/>
                  </a:cubicBezTo>
                  <a:cubicBezTo>
                    <a:pt x="15229" y="28876"/>
                    <a:pt x="24498" y="20931"/>
                    <a:pt x="66874" y="14310"/>
                  </a:cubicBezTo>
                  <a:cubicBezTo>
                    <a:pt x="107925" y="6364"/>
                    <a:pt x="147652" y="11661"/>
                    <a:pt x="147652" y="11661"/>
                  </a:cubicBezTo>
                  <a:close/>
                </a:path>
              </a:pathLst>
            </a:custGeom>
            <a:solidFill>
              <a:srgbClr val="6d2f0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80" name="任意多边形: 形状 257"/>
            <p:cNvSpPr/>
            <p:nvPr/>
          </p:nvSpPr>
          <p:spPr>
            <a:xfrm>
              <a:off x="2586240" y="353484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32444" y="9932"/>
                  </a:moveTo>
                  <a:cubicBezTo>
                    <a:pt x="32444" y="9932"/>
                    <a:pt x="11256" y="9932"/>
                    <a:pt x="9932" y="27147"/>
                  </a:cubicBezTo>
                  <a:cubicBezTo>
                    <a:pt x="9932" y="36416"/>
                    <a:pt x="11256" y="39065"/>
                    <a:pt x="39065" y="39065"/>
                  </a:cubicBezTo>
                  <a:cubicBezTo>
                    <a:pt x="69522" y="37740"/>
                    <a:pt x="92034" y="39065"/>
                    <a:pt x="115870" y="45686"/>
                  </a:cubicBezTo>
                  <a:cubicBezTo>
                    <a:pt x="114546" y="32444"/>
                    <a:pt x="110573" y="19201"/>
                    <a:pt x="84089" y="13904"/>
                  </a:cubicBezTo>
                  <a:cubicBezTo>
                    <a:pt x="57604" y="9932"/>
                    <a:pt x="32444" y="9932"/>
                    <a:pt x="32444" y="9932"/>
                  </a:cubicBezTo>
                  <a:close/>
                </a:path>
              </a:pathLst>
            </a:custGeom>
            <a:solidFill>
              <a:srgbClr val="6d2f0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81" name="任意多边形: 形状 258"/>
            <p:cNvSpPr/>
            <p:nvPr/>
          </p:nvSpPr>
          <p:spPr>
            <a:xfrm>
              <a:off x="2561040" y="3577320"/>
              <a:ext cx="132120" cy="65880"/>
            </a:xfrm>
            <a:custGeom>
              <a:avLst/>
              <a:gdLst>
                <a:gd name="textAreaLeft" fmla="*/ 0 w 132120"/>
                <a:gd name="textAreaRight" fmla="*/ 132480 w 132120"/>
                <a:gd name="textAreaTop" fmla="*/ 0 h 65880"/>
                <a:gd name="textAreaBottom" fmla="*/ 66240 h 65880"/>
              </a:gdLst>
              <a:ahLst/>
              <a:rect l="textAreaLeft" t="textAreaTop" r="textAreaRight" b="textAreaBottom"/>
              <a:pathLst>
                <a:path w="132423" h="66211">
                  <a:moveTo>
                    <a:pt x="9932" y="48478"/>
                  </a:moveTo>
                  <a:cubicBezTo>
                    <a:pt x="9932" y="48478"/>
                    <a:pt x="23174" y="12724"/>
                    <a:pt x="56280" y="10075"/>
                  </a:cubicBezTo>
                  <a:cubicBezTo>
                    <a:pt x="90710" y="8751"/>
                    <a:pt x="111897" y="16696"/>
                    <a:pt x="119843" y="29939"/>
                  </a:cubicBezTo>
                  <a:cubicBezTo>
                    <a:pt x="123816" y="39208"/>
                    <a:pt x="126464" y="55099"/>
                    <a:pt x="106601" y="60396"/>
                  </a:cubicBezTo>
                  <a:cubicBezTo>
                    <a:pt x="86737" y="67017"/>
                    <a:pt x="36416" y="68341"/>
                    <a:pt x="9932" y="48478"/>
                  </a:cubicBezTo>
                  <a:close/>
                </a:path>
              </a:pathLst>
            </a:custGeom>
            <a:solidFill>
              <a:srgbClr val="f4c78c"/>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682" name="任意多边形: 形状 259"/>
            <p:cNvSpPr/>
            <p:nvPr/>
          </p:nvSpPr>
          <p:spPr>
            <a:xfrm>
              <a:off x="2562480" y="358776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114546" y="36462"/>
                  </a:moveTo>
                  <a:cubicBezTo>
                    <a:pt x="114546" y="36462"/>
                    <a:pt x="92034" y="57650"/>
                    <a:pt x="50983" y="55001"/>
                  </a:cubicBezTo>
                  <a:cubicBezTo>
                    <a:pt x="32444" y="53677"/>
                    <a:pt x="9932" y="39111"/>
                    <a:pt x="9932" y="39111"/>
                  </a:cubicBezTo>
                  <a:cubicBezTo>
                    <a:pt x="9932" y="39111"/>
                    <a:pt x="40389" y="9978"/>
                    <a:pt x="58928" y="9978"/>
                  </a:cubicBezTo>
                  <a:cubicBezTo>
                    <a:pt x="93358" y="8653"/>
                    <a:pt x="114546" y="36462"/>
                    <a:pt x="114546" y="36462"/>
                  </a:cubicBez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83" name="任意多边形: 形状 260"/>
            <p:cNvSpPr/>
            <p:nvPr/>
          </p:nvSpPr>
          <p:spPr>
            <a:xfrm>
              <a:off x="2644560" y="3611880"/>
              <a:ext cx="39600" cy="26280"/>
            </a:xfrm>
            <a:custGeom>
              <a:avLst/>
              <a:gdLst>
                <a:gd name="textAreaLeft" fmla="*/ 0 w 39600"/>
                <a:gd name="textAreaRight" fmla="*/ 39960 w 39600"/>
                <a:gd name="textAreaTop" fmla="*/ 0 h 26280"/>
                <a:gd name="textAreaBottom" fmla="*/ 26640 h 26280"/>
              </a:gdLst>
              <a:ahLst/>
              <a:rect l="textAreaLeft" t="textAreaTop" r="textAreaRight" b="textAreaBottom"/>
              <a:pathLst>
                <a:path w="39726" h="26484">
                  <a:moveTo>
                    <a:pt x="32444" y="9932"/>
                  </a:moveTo>
                  <a:cubicBezTo>
                    <a:pt x="32444" y="9932"/>
                    <a:pt x="27147" y="15229"/>
                    <a:pt x="21850" y="19201"/>
                  </a:cubicBezTo>
                  <a:cubicBezTo>
                    <a:pt x="19201" y="21850"/>
                    <a:pt x="16553" y="23174"/>
                    <a:pt x="13904" y="24498"/>
                  </a:cubicBezTo>
                  <a:cubicBezTo>
                    <a:pt x="11256" y="25822"/>
                    <a:pt x="9932" y="27147"/>
                    <a:pt x="9932" y="27147"/>
                  </a:cubicBezTo>
                  <a:cubicBezTo>
                    <a:pt x="9932" y="27147"/>
                    <a:pt x="11256" y="27147"/>
                    <a:pt x="13904" y="25822"/>
                  </a:cubicBezTo>
                  <a:cubicBezTo>
                    <a:pt x="16553" y="25822"/>
                    <a:pt x="20526" y="23174"/>
                    <a:pt x="23174" y="21850"/>
                  </a:cubicBezTo>
                  <a:cubicBezTo>
                    <a:pt x="29795" y="19201"/>
                    <a:pt x="-29120" y="15229"/>
                    <a:pt x="-29120" y="15229"/>
                  </a:cubicBezTo>
                  <a:lnTo>
                    <a:pt x="32444" y="9932"/>
                  </a:lnTo>
                  <a:close/>
                </a:path>
              </a:pathLst>
            </a:custGeom>
            <a:solidFill>
              <a:srgbClr val="602a05"/>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84" name="任意多边形: 形状 261"/>
            <p:cNvSpPr/>
            <p:nvPr/>
          </p:nvSpPr>
          <p:spPr>
            <a:xfrm>
              <a:off x="2605320" y="3588120"/>
              <a:ext cx="52920" cy="52920"/>
            </a:xfrm>
            <a:custGeom>
              <a:avLst/>
              <a:gdLst>
                <a:gd name="textAreaLeft" fmla="*/ 0 w 52920"/>
                <a:gd name="textAreaRight" fmla="*/ 53280 w 52920"/>
                <a:gd name="textAreaTop" fmla="*/ 0 h 52920"/>
                <a:gd name="textAreaBottom" fmla="*/ 53280 h 52920"/>
              </a:gdLst>
              <a:ahLst/>
              <a:rect l="textAreaLeft" t="textAreaTop" r="textAreaRight" b="textAreaBottom"/>
              <a:pathLst>
                <a:path w="52969" h="52969">
                  <a:moveTo>
                    <a:pt x="26402" y="-10871"/>
                  </a:moveTo>
                  <a:cubicBezTo>
                    <a:pt x="14484" y="-14844"/>
                    <a:pt x="7863" y="-26762"/>
                    <a:pt x="10511" y="26856"/>
                  </a:cubicBezTo>
                  <a:cubicBezTo>
                    <a:pt x="13160" y="14938"/>
                    <a:pt x="25078" y="6993"/>
                    <a:pt x="-28540" y="10965"/>
                  </a:cubicBezTo>
                  <a:cubicBezTo>
                    <a:pt x="-16622" y="14938"/>
                    <a:pt x="-10001" y="26856"/>
                    <a:pt x="-12649" y="-26762"/>
                  </a:cubicBezTo>
                  <a:cubicBezTo>
                    <a:pt x="-15298" y="-14844"/>
                    <a:pt x="-27216" y="-6899"/>
                    <a:pt x="26402" y="-10871"/>
                  </a:cubicBezTo>
                  <a:close/>
                </a:path>
              </a:pathLst>
            </a:custGeom>
            <a:solidFill>
              <a:srgbClr val="2d0201"/>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85" name="任意多边形: 形状 262"/>
            <p:cNvSpPr/>
            <p:nvPr/>
          </p:nvSpPr>
          <p:spPr>
            <a:xfrm>
              <a:off x="2608200" y="3589560"/>
              <a:ext cx="52920" cy="52920"/>
            </a:xfrm>
            <a:custGeom>
              <a:avLst/>
              <a:gdLst>
                <a:gd name="textAreaLeft" fmla="*/ 0 w 52920"/>
                <a:gd name="textAreaRight" fmla="*/ 53280 w 52920"/>
                <a:gd name="textAreaTop" fmla="*/ 0 h 52920"/>
                <a:gd name="textAreaBottom" fmla="*/ 53280 h 52920"/>
              </a:gdLst>
              <a:ahLst/>
              <a:rect l="textAreaLeft" t="textAreaTop" r="textAreaRight" b="textAreaBottom"/>
              <a:pathLst>
                <a:path w="52969" h="52969">
                  <a:moveTo>
                    <a:pt x="25082" y="-13398"/>
                  </a:moveTo>
                  <a:cubicBezTo>
                    <a:pt x="14488" y="-16047"/>
                    <a:pt x="7867" y="-27965"/>
                    <a:pt x="10516" y="25653"/>
                  </a:cubicBezTo>
                  <a:cubicBezTo>
                    <a:pt x="13164" y="13735"/>
                    <a:pt x="23758" y="7114"/>
                    <a:pt x="-29860" y="11087"/>
                  </a:cubicBezTo>
                  <a:cubicBezTo>
                    <a:pt x="-19266" y="13735"/>
                    <a:pt x="-12645" y="25653"/>
                    <a:pt x="-15293" y="-27965"/>
                  </a:cubicBezTo>
                  <a:cubicBezTo>
                    <a:pt x="-19266" y="-17371"/>
                    <a:pt x="-29860" y="-10750"/>
                    <a:pt x="25082" y="-13398"/>
                  </a:cubicBezTo>
                  <a:close/>
                </a:path>
              </a:pathLst>
            </a:custGeom>
            <a:solidFill>
              <a:srgbClr val="893d04"/>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86" name="任意多边形: 形状 263"/>
            <p:cNvSpPr/>
            <p:nvPr/>
          </p:nvSpPr>
          <p:spPr>
            <a:xfrm>
              <a:off x="2624040" y="361008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5573" y="26167"/>
                  </a:moveTo>
                  <a:cubicBezTo>
                    <a:pt x="11601" y="24843"/>
                    <a:pt x="8952" y="20870"/>
                    <a:pt x="10276" y="15573"/>
                  </a:cubicBezTo>
                  <a:cubicBezTo>
                    <a:pt x="11601" y="11601"/>
                    <a:pt x="15573" y="8952"/>
                    <a:pt x="19546" y="10276"/>
                  </a:cubicBezTo>
                  <a:cubicBezTo>
                    <a:pt x="23519" y="11601"/>
                    <a:pt x="26167" y="15573"/>
                    <a:pt x="24843" y="20870"/>
                  </a:cubicBezTo>
                  <a:cubicBezTo>
                    <a:pt x="23519" y="24843"/>
                    <a:pt x="19546" y="26167"/>
                    <a:pt x="15573" y="26167"/>
                  </a:cubicBezTo>
                  <a:close/>
                </a:path>
              </a:pathLst>
            </a:custGeom>
            <a:solidFill>
              <a:srgbClr val="8e0404"/>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87" name="任意多边形: 形状 264"/>
            <p:cNvSpPr/>
            <p:nvPr/>
          </p:nvSpPr>
          <p:spPr>
            <a:xfrm>
              <a:off x="2620440" y="36036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5229" y="24843"/>
                  </a:moveTo>
                  <a:cubicBezTo>
                    <a:pt x="11256" y="23519"/>
                    <a:pt x="9932" y="19546"/>
                    <a:pt x="9932" y="15573"/>
                  </a:cubicBezTo>
                  <a:cubicBezTo>
                    <a:pt x="11256" y="11601"/>
                    <a:pt x="15229" y="8952"/>
                    <a:pt x="17877" y="10276"/>
                  </a:cubicBezTo>
                  <a:cubicBezTo>
                    <a:pt x="21850" y="11601"/>
                    <a:pt x="23174" y="15573"/>
                    <a:pt x="23174" y="19546"/>
                  </a:cubicBezTo>
                  <a:cubicBezTo>
                    <a:pt x="23174" y="23519"/>
                    <a:pt x="19201" y="26167"/>
                    <a:pt x="15229" y="24843"/>
                  </a:cubicBezTo>
                  <a:close/>
                </a:path>
              </a:pathLst>
            </a:custGeom>
            <a:solidFill>
              <a:srgbClr val="42030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88" name="任意多边形: 形状 265"/>
            <p:cNvSpPr/>
            <p:nvPr/>
          </p:nvSpPr>
          <p:spPr>
            <a:xfrm>
              <a:off x="2627280" y="361692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13242" h="13242">
                  <a:moveTo>
                    <a:pt x="12580" y="9932"/>
                  </a:moveTo>
                  <a:cubicBezTo>
                    <a:pt x="13904" y="9932"/>
                    <a:pt x="13904" y="11256"/>
                    <a:pt x="13904" y="12580"/>
                  </a:cubicBezTo>
                  <a:cubicBezTo>
                    <a:pt x="13904" y="13904"/>
                    <a:pt x="12580" y="13904"/>
                    <a:pt x="11256" y="13904"/>
                  </a:cubicBezTo>
                  <a:cubicBezTo>
                    <a:pt x="9932" y="13904"/>
                    <a:pt x="9932" y="12580"/>
                    <a:pt x="9932" y="11256"/>
                  </a:cubicBezTo>
                  <a:cubicBezTo>
                    <a:pt x="9932" y="9932"/>
                    <a:pt x="11256" y="9932"/>
                    <a:pt x="12580" y="9932"/>
                  </a:cubicBezTo>
                  <a:close/>
                </a:path>
              </a:pathLst>
            </a:custGeom>
            <a:solidFill>
              <a:srgbClr val="ffffff"/>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689" name="任意多边形: 形状 266"/>
            <p:cNvSpPr/>
            <p:nvPr/>
          </p:nvSpPr>
          <p:spPr>
            <a:xfrm>
              <a:off x="2617560" y="360072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3100" y="18397"/>
                  </a:moveTo>
                  <a:cubicBezTo>
                    <a:pt x="10451" y="18397"/>
                    <a:pt x="9127" y="15748"/>
                    <a:pt x="10451" y="13100"/>
                  </a:cubicBezTo>
                  <a:cubicBezTo>
                    <a:pt x="10451" y="10451"/>
                    <a:pt x="13100" y="9127"/>
                    <a:pt x="15748" y="10451"/>
                  </a:cubicBezTo>
                  <a:cubicBezTo>
                    <a:pt x="18397" y="10451"/>
                    <a:pt x="19721" y="13100"/>
                    <a:pt x="18397" y="15748"/>
                  </a:cubicBezTo>
                  <a:cubicBezTo>
                    <a:pt x="17072" y="18397"/>
                    <a:pt x="15748" y="19721"/>
                    <a:pt x="13100" y="18397"/>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690" name="任意多边形: 形状 267"/>
            <p:cNvSpPr/>
            <p:nvPr/>
          </p:nvSpPr>
          <p:spPr>
            <a:xfrm>
              <a:off x="2565000" y="357948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9932" y="43586"/>
                  </a:moveTo>
                  <a:cubicBezTo>
                    <a:pt x="9932" y="43586"/>
                    <a:pt x="16553" y="38289"/>
                    <a:pt x="25822" y="32992"/>
                  </a:cubicBezTo>
                  <a:cubicBezTo>
                    <a:pt x="28471" y="31668"/>
                    <a:pt x="31120" y="30344"/>
                    <a:pt x="33768" y="29020"/>
                  </a:cubicBezTo>
                  <a:cubicBezTo>
                    <a:pt x="36416" y="27695"/>
                    <a:pt x="40389" y="26371"/>
                    <a:pt x="43038" y="25047"/>
                  </a:cubicBezTo>
                  <a:cubicBezTo>
                    <a:pt x="45686" y="23723"/>
                    <a:pt x="49659" y="23723"/>
                    <a:pt x="53631" y="22398"/>
                  </a:cubicBezTo>
                  <a:cubicBezTo>
                    <a:pt x="57604" y="22398"/>
                    <a:pt x="60253" y="21074"/>
                    <a:pt x="64225" y="22398"/>
                  </a:cubicBezTo>
                  <a:cubicBezTo>
                    <a:pt x="68198" y="22398"/>
                    <a:pt x="70846" y="23723"/>
                    <a:pt x="74819" y="23723"/>
                  </a:cubicBezTo>
                  <a:cubicBezTo>
                    <a:pt x="78792" y="25047"/>
                    <a:pt x="81440" y="26371"/>
                    <a:pt x="84089" y="26371"/>
                  </a:cubicBezTo>
                  <a:cubicBezTo>
                    <a:pt x="86737" y="27695"/>
                    <a:pt x="90710" y="29020"/>
                    <a:pt x="93358" y="30344"/>
                  </a:cubicBezTo>
                  <a:cubicBezTo>
                    <a:pt x="96007" y="31668"/>
                    <a:pt x="98655" y="34316"/>
                    <a:pt x="101304" y="35641"/>
                  </a:cubicBezTo>
                  <a:cubicBezTo>
                    <a:pt x="106601" y="38289"/>
                    <a:pt x="109249" y="42262"/>
                    <a:pt x="111897" y="43586"/>
                  </a:cubicBezTo>
                  <a:cubicBezTo>
                    <a:pt x="114546" y="46234"/>
                    <a:pt x="115870" y="46234"/>
                    <a:pt x="115870" y="46234"/>
                  </a:cubicBezTo>
                  <a:cubicBezTo>
                    <a:pt x="115870" y="46234"/>
                    <a:pt x="114546" y="44910"/>
                    <a:pt x="113222" y="40938"/>
                  </a:cubicBezTo>
                  <a:cubicBezTo>
                    <a:pt x="110573" y="38289"/>
                    <a:pt x="109249" y="32992"/>
                    <a:pt x="103952" y="29020"/>
                  </a:cubicBezTo>
                  <a:cubicBezTo>
                    <a:pt x="101304" y="26371"/>
                    <a:pt x="99979" y="23723"/>
                    <a:pt x="97331" y="22398"/>
                  </a:cubicBezTo>
                  <a:cubicBezTo>
                    <a:pt x="94682" y="19750"/>
                    <a:pt x="92034" y="18426"/>
                    <a:pt x="88061" y="15777"/>
                  </a:cubicBezTo>
                  <a:cubicBezTo>
                    <a:pt x="84089" y="14453"/>
                    <a:pt x="81440" y="11805"/>
                    <a:pt x="76143" y="11805"/>
                  </a:cubicBezTo>
                  <a:cubicBezTo>
                    <a:pt x="72171" y="10480"/>
                    <a:pt x="68198" y="9156"/>
                    <a:pt x="64225" y="10480"/>
                  </a:cubicBezTo>
                  <a:cubicBezTo>
                    <a:pt x="60253" y="10480"/>
                    <a:pt x="56280" y="10480"/>
                    <a:pt x="50983" y="11805"/>
                  </a:cubicBezTo>
                  <a:cubicBezTo>
                    <a:pt x="47010" y="11805"/>
                    <a:pt x="43038" y="14453"/>
                    <a:pt x="39065" y="15777"/>
                  </a:cubicBezTo>
                  <a:cubicBezTo>
                    <a:pt x="32444" y="18426"/>
                    <a:pt x="25822" y="23723"/>
                    <a:pt x="21850" y="27695"/>
                  </a:cubicBezTo>
                  <a:cubicBezTo>
                    <a:pt x="13904" y="35641"/>
                    <a:pt x="9932" y="43586"/>
                    <a:pt x="9932" y="43586"/>
                  </a:cubicBezTo>
                  <a:close/>
                </a:path>
              </a:pathLst>
            </a:custGeom>
            <a:solidFill>
              <a:srgbClr val="602a0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691" name="任意多边形: 形状 268"/>
            <p:cNvSpPr/>
            <p:nvPr/>
          </p:nvSpPr>
          <p:spPr>
            <a:xfrm>
              <a:off x="2451240" y="3977280"/>
              <a:ext cx="397080" cy="887400"/>
            </a:xfrm>
            <a:custGeom>
              <a:avLst/>
              <a:gdLst>
                <a:gd name="textAreaLeft" fmla="*/ 0 w 397080"/>
                <a:gd name="textAreaRight" fmla="*/ 397440 w 397080"/>
                <a:gd name="textAreaTop" fmla="*/ 0 h 887400"/>
                <a:gd name="textAreaBottom" fmla="*/ 887760 h 887400"/>
              </a:gdLst>
              <a:ahLst/>
              <a:rect l="textAreaLeft" t="textAreaTop" r="textAreaRight" b="textAreaBottom"/>
              <a:pathLst>
                <a:path w="397269" h="887234">
                  <a:moveTo>
                    <a:pt x="182082" y="9932"/>
                  </a:moveTo>
                  <a:lnTo>
                    <a:pt x="17877" y="710450"/>
                  </a:lnTo>
                  <a:lnTo>
                    <a:pt x="9932" y="886573"/>
                  </a:lnTo>
                  <a:lnTo>
                    <a:pt x="388662" y="877303"/>
                  </a:lnTo>
                  <a:lnTo>
                    <a:pt x="388662" y="513139"/>
                  </a:lnTo>
                  <a:lnTo>
                    <a:pt x="382041" y="78792"/>
                  </a:lnTo>
                  <a:lnTo>
                    <a:pt x="182082" y="9932"/>
                  </a:lnTo>
                  <a:close/>
                </a:path>
              </a:pathLst>
            </a:custGeom>
            <a:solidFill>
              <a:srgbClr val="35343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92" name="任意多边形: 形状 269"/>
            <p:cNvSpPr/>
            <p:nvPr/>
          </p:nvSpPr>
          <p:spPr>
            <a:xfrm>
              <a:off x="2072160" y="3970800"/>
              <a:ext cx="397080" cy="900360"/>
            </a:xfrm>
            <a:custGeom>
              <a:avLst/>
              <a:gdLst>
                <a:gd name="textAreaLeft" fmla="*/ 0 w 397080"/>
                <a:gd name="textAreaRight" fmla="*/ 397440 w 397080"/>
                <a:gd name="textAreaTop" fmla="*/ 0 h 900360"/>
                <a:gd name="textAreaBottom" fmla="*/ 900720 h 900360"/>
              </a:gdLst>
              <a:ahLst/>
              <a:rect l="textAreaLeft" t="textAreaTop" r="textAreaRight" b="textAreaBottom"/>
              <a:pathLst>
                <a:path w="397269" h="900477">
                  <a:moveTo>
                    <a:pt x="208566" y="9932"/>
                  </a:moveTo>
                  <a:lnTo>
                    <a:pt x="396607" y="710450"/>
                  </a:lnTo>
                  <a:lnTo>
                    <a:pt x="388662" y="891869"/>
                  </a:lnTo>
                  <a:lnTo>
                    <a:pt x="9932" y="883924"/>
                  </a:lnTo>
                  <a:lnTo>
                    <a:pt x="9932" y="519761"/>
                  </a:lnTo>
                  <a:lnTo>
                    <a:pt x="9932" y="90710"/>
                  </a:lnTo>
                  <a:lnTo>
                    <a:pt x="208566" y="9932"/>
                  </a:lnTo>
                  <a:close/>
                </a:path>
              </a:pathLst>
            </a:custGeom>
            <a:solidFill>
              <a:srgbClr val="35343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93" name="任意多边形: 形状 270"/>
            <p:cNvSpPr/>
            <p:nvPr/>
          </p:nvSpPr>
          <p:spPr>
            <a:xfrm>
              <a:off x="2386080" y="473364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331057" h="132423">
                  <a:moveTo>
                    <a:pt x="315829" y="33766"/>
                  </a:moveTo>
                  <a:cubicBezTo>
                    <a:pt x="315829" y="33766"/>
                    <a:pt x="225781" y="3309"/>
                    <a:pt x="170164" y="11254"/>
                  </a:cubicBezTo>
                  <a:cubicBezTo>
                    <a:pt x="119843" y="28469"/>
                    <a:pt x="44362" y="96005"/>
                    <a:pt x="25822" y="110571"/>
                  </a:cubicBezTo>
                  <a:cubicBezTo>
                    <a:pt x="9932" y="123814"/>
                    <a:pt x="9932" y="130435"/>
                    <a:pt x="9932" y="130435"/>
                  </a:cubicBezTo>
                  <a:lnTo>
                    <a:pt x="327747" y="130435"/>
                  </a:lnTo>
                  <a:lnTo>
                    <a:pt x="315829" y="33766"/>
                  </a:ln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94" name="任意多边形: 形状 271"/>
            <p:cNvSpPr/>
            <p:nvPr/>
          </p:nvSpPr>
          <p:spPr>
            <a:xfrm>
              <a:off x="2658960" y="4046040"/>
              <a:ext cx="516240" cy="821160"/>
            </a:xfrm>
            <a:custGeom>
              <a:avLst/>
              <a:gdLst>
                <a:gd name="textAreaLeft" fmla="*/ 0 w 516240"/>
                <a:gd name="textAreaRight" fmla="*/ 516600 w 516240"/>
                <a:gd name="textAreaTop" fmla="*/ 0 h 821160"/>
                <a:gd name="textAreaBottom" fmla="*/ 821520 h 821160"/>
              </a:gdLst>
              <a:ahLst/>
              <a:rect l="textAreaLeft" t="textAreaTop" r="textAreaRight" b="textAreaBottom"/>
              <a:pathLst>
                <a:path w="516450" h="821023">
                  <a:moveTo>
                    <a:pt x="164867" y="31120"/>
                  </a:moveTo>
                  <a:lnTo>
                    <a:pt x="174136" y="9932"/>
                  </a:lnTo>
                  <a:cubicBezTo>
                    <a:pt x="174136" y="9932"/>
                    <a:pt x="326423" y="103952"/>
                    <a:pt x="428389" y="464143"/>
                  </a:cubicBezTo>
                  <a:cubicBezTo>
                    <a:pt x="462819" y="593918"/>
                    <a:pt x="517112" y="762095"/>
                    <a:pt x="507842" y="781958"/>
                  </a:cubicBezTo>
                  <a:cubicBezTo>
                    <a:pt x="498573" y="803146"/>
                    <a:pt x="23174" y="817713"/>
                    <a:pt x="23174" y="817713"/>
                  </a:cubicBezTo>
                  <a:cubicBezTo>
                    <a:pt x="23174" y="817713"/>
                    <a:pt x="44362" y="714423"/>
                    <a:pt x="9932" y="685290"/>
                  </a:cubicBezTo>
                  <a:cubicBezTo>
                    <a:pt x="117194" y="658805"/>
                    <a:pt x="250942" y="613781"/>
                    <a:pt x="250942" y="613781"/>
                  </a:cubicBezTo>
                  <a:lnTo>
                    <a:pt x="258887" y="589945"/>
                  </a:lnTo>
                  <a:lnTo>
                    <a:pt x="196648" y="469440"/>
                  </a:lnTo>
                  <a:lnTo>
                    <a:pt x="168839" y="416471"/>
                  </a:lnTo>
                  <a:lnTo>
                    <a:pt x="164867" y="31120"/>
                  </a:lnTo>
                  <a:close/>
                </a:path>
              </a:pathLst>
            </a:custGeom>
            <a:solidFill>
              <a:srgbClr val="35343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95" name="任意多边形: 形状 272"/>
            <p:cNvSpPr/>
            <p:nvPr/>
          </p:nvSpPr>
          <p:spPr>
            <a:xfrm>
              <a:off x="2356920" y="4067280"/>
              <a:ext cx="198360" cy="622440"/>
            </a:xfrm>
            <a:custGeom>
              <a:avLst/>
              <a:gdLst>
                <a:gd name="textAreaLeft" fmla="*/ 0 w 198360"/>
                <a:gd name="textAreaRight" fmla="*/ 198720 w 198360"/>
                <a:gd name="textAreaTop" fmla="*/ 0 h 622440"/>
                <a:gd name="textAreaBottom" fmla="*/ 622800 h 622440"/>
              </a:gdLst>
              <a:ahLst/>
              <a:rect l="textAreaLeft" t="textAreaTop" r="textAreaRight" b="textAreaBottom"/>
              <a:pathLst>
                <a:path w="198634" h="622388">
                  <a:moveTo>
                    <a:pt x="129113" y="111897"/>
                  </a:moveTo>
                  <a:lnTo>
                    <a:pt x="167515" y="40389"/>
                  </a:lnTo>
                  <a:lnTo>
                    <a:pt x="130437" y="9932"/>
                  </a:lnTo>
                  <a:lnTo>
                    <a:pt x="54955" y="12580"/>
                  </a:lnTo>
                  <a:lnTo>
                    <a:pt x="48334" y="48334"/>
                  </a:lnTo>
                  <a:lnTo>
                    <a:pt x="66874" y="111897"/>
                  </a:lnTo>
                  <a:lnTo>
                    <a:pt x="9932" y="421768"/>
                  </a:lnTo>
                  <a:lnTo>
                    <a:pt x="106601" y="604511"/>
                  </a:lnTo>
                  <a:lnTo>
                    <a:pt x="111897" y="613781"/>
                  </a:lnTo>
                  <a:lnTo>
                    <a:pt x="191351" y="419119"/>
                  </a:lnTo>
                  <a:lnTo>
                    <a:pt x="129113" y="111897"/>
                  </a:lnTo>
                  <a:close/>
                </a:path>
              </a:pathLst>
            </a:custGeom>
            <a:solidFill>
              <a:srgbClr val="a10d1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96" name="任意多边形: 形状 273"/>
            <p:cNvSpPr/>
            <p:nvPr/>
          </p:nvSpPr>
          <p:spPr>
            <a:xfrm>
              <a:off x="2459160" y="3977280"/>
              <a:ext cx="277920" cy="701640"/>
            </a:xfrm>
            <a:custGeom>
              <a:avLst/>
              <a:gdLst>
                <a:gd name="textAreaLeft" fmla="*/ 0 w 277920"/>
                <a:gd name="textAreaRight" fmla="*/ 278280 w 277920"/>
                <a:gd name="textAreaTop" fmla="*/ 0 h 701640"/>
                <a:gd name="textAreaBottom" fmla="*/ 702000 h 701640"/>
              </a:gdLst>
              <a:ahLst/>
              <a:rect l="textAreaLeft" t="textAreaTop" r="textAreaRight" b="textAreaBottom"/>
              <a:pathLst>
                <a:path w="278088" h="701842">
                  <a:moveTo>
                    <a:pt x="174136" y="9932"/>
                  </a:moveTo>
                  <a:lnTo>
                    <a:pt x="268157" y="41713"/>
                  </a:lnTo>
                  <a:lnTo>
                    <a:pt x="209891" y="343638"/>
                  </a:lnTo>
                  <a:lnTo>
                    <a:pt x="170164" y="358205"/>
                  </a:lnTo>
                  <a:lnTo>
                    <a:pt x="170164" y="435010"/>
                  </a:lnTo>
                  <a:lnTo>
                    <a:pt x="9932" y="702505"/>
                  </a:lnTo>
                  <a:cubicBezTo>
                    <a:pt x="9932" y="703829"/>
                    <a:pt x="151624" y="53631"/>
                    <a:pt x="174136" y="9932"/>
                  </a:cubicBezTo>
                  <a:close/>
                </a:path>
              </a:pathLst>
            </a:custGeom>
            <a:solidFill>
              <a:srgbClr val="4d4a4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97" name="任意多边形: 形状 274"/>
            <p:cNvSpPr/>
            <p:nvPr/>
          </p:nvSpPr>
          <p:spPr>
            <a:xfrm>
              <a:off x="2198160" y="3966840"/>
              <a:ext cx="277920" cy="714960"/>
            </a:xfrm>
            <a:custGeom>
              <a:avLst/>
              <a:gdLst>
                <a:gd name="textAreaLeft" fmla="*/ 0 w 277920"/>
                <a:gd name="textAreaRight" fmla="*/ 278280 w 277920"/>
                <a:gd name="textAreaTop" fmla="*/ 0 h 714960"/>
                <a:gd name="textAreaBottom" fmla="*/ 714960 h 714960"/>
              </a:gdLst>
              <a:ahLst/>
              <a:rect l="textAreaLeft" t="textAreaTop" r="textAreaRight" b="textAreaBottom"/>
              <a:pathLst>
                <a:path w="278088" h="715084">
                  <a:moveTo>
                    <a:pt x="89386" y="9932"/>
                  </a:moveTo>
                  <a:lnTo>
                    <a:pt x="9932" y="43038"/>
                  </a:lnTo>
                  <a:lnTo>
                    <a:pt x="82764" y="347611"/>
                  </a:lnTo>
                  <a:lnTo>
                    <a:pt x="123815" y="360853"/>
                  </a:lnTo>
                  <a:lnTo>
                    <a:pt x="126464" y="437658"/>
                  </a:lnTo>
                  <a:lnTo>
                    <a:pt x="272129" y="713098"/>
                  </a:lnTo>
                  <a:cubicBezTo>
                    <a:pt x="270805" y="714423"/>
                    <a:pt x="113222" y="52307"/>
                    <a:pt x="89386" y="9932"/>
                  </a:cubicBezTo>
                  <a:close/>
                </a:path>
              </a:pathLst>
            </a:custGeom>
            <a:solidFill>
              <a:srgbClr val="4d4a4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98" name="任意多边形: 形状 275"/>
            <p:cNvSpPr/>
            <p:nvPr/>
          </p:nvSpPr>
          <p:spPr>
            <a:xfrm>
              <a:off x="2468160" y="3916440"/>
              <a:ext cx="172080" cy="238320"/>
            </a:xfrm>
            <a:custGeom>
              <a:avLst/>
              <a:gdLst>
                <a:gd name="textAreaLeft" fmla="*/ 0 w 172080"/>
                <a:gd name="textAreaRight" fmla="*/ 172440 w 172080"/>
                <a:gd name="textAreaTop" fmla="*/ 0 h 238320"/>
                <a:gd name="textAreaBottom" fmla="*/ 238680 h 238320"/>
              </a:gdLst>
              <a:ahLst/>
              <a:rect l="textAreaLeft" t="textAreaTop" r="textAreaRight" b="textAreaBottom"/>
              <a:pathLst>
                <a:path w="172150" h="238361">
                  <a:moveTo>
                    <a:pt x="109249" y="12580"/>
                  </a:moveTo>
                  <a:lnTo>
                    <a:pt x="162218" y="69522"/>
                  </a:lnTo>
                  <a:cubicBezTo>
                    <a:pt x="168839" y="72171"/>
                    <a:pt x="80116" y="212539"/>
                    <a:pt x="73495" y="237699"/>
                  </a:cubicBezTo>
                  <a:cubicBezTo>
                    <a:pt x="66874" y="209890"/>
                    <a:pt x="11256" y="159570"/>
                    <a:pt x="9932" y="160894"/>
                  </a:cubicBezTo>
                  <a:cubicBezTo>
                    <a:pt x="9932" y="160894"/>
                    <a:pt x="41713" y="142355"/>
                    <a:pt x="64225" y="115870"/>
                  </a:cubicBezTo>
                  <a:cubicBezTo>
                    <a:pt x="85413" y="92034"/>
                    <a:pt x="101304" y="56280"/>
                    <a:pt x="103952" y="25822"/>
                  </a:cubicBezTo>
                  <a:cubicBezTo>
                    <a:pt x="103952" y="21850"/>
                    <a:pt x="106601" y="9932"/>
                    <a:pt x="106601" y="9932"/>
                  </a:cubicBezTo>
                  <a:lnTo>
                    <a:pt x="109249" y="12580"/>
                  </a:lnTo>
                  <a:close/>
                </a:path>
              </a:pathLst>
            </a:custGeom>
            <a:solidFill>
              <a:srgbClr val="e5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699" name="任意多边形: 形状 276"/>
            <p:cNvSpPr/>
            <p:nvPr/>
          </p:nvSpPr>
          <p:spPr>
            <a:xfrm>
              <a:off x="2295000" y="3921840"/>
              <a:ext cx="145440" cy="225000"/>
            </a:xfrm>
            <a:custGeom>
              <a:avLst/>
              <a:gdLst>
                <a:gd name="textAreaLeft" fmla="*/ 0 w 145440"/>
                <a:gd name="textAreaRight" fmla="*/ 145800 w 145440"/>
                <a:gd name="textAreaTop" fmla="*/ 0 h 225000"/>
                <a:gd name="textAreaBottom" fmla="*/ 225360 h 225000"/>
              </a:gdLst>
              <a:ahLst/>
              <a:rect l="textAreaLeft" t="textAreaTop" r="textAreaRight" b="textAreaBottom"/>
              <a:pathLst>
                <a:path w="145665" h="225119">
                  <a:moveTo>
                    <a:pt x="50705" y="9932"/>
                  </a:moveTo>
                  <a:cubicBezTo>
                    <a:pt x="50705" y="9932"/>
                    <a:pt x="50705" y="15229"/>
                    <a:pt x="49381" y="33768"/>
                  </a:cubicBezTo>
                  <a:cubicBezTo>
                    <a:pt x="48057" y="50983"/>
                    <a:pt x="57326" y="70846"/>
                    <a:pt x="79838" y="93358"/>
                  </a:cubicBezTo>
                  <a:cubicBezTo>
                    <a:pt x="102350" y="115870"/>
                    <a:pt x="135456" y="137058"/>
                    <a:pt x="142077" y="152949"/>
                  </a:cubicBezTo>
                  <a:cubicBezTo>
                    <a:pt x="136780" y="159570"/>
                    <a:pt x="135456" y="166191"/>
                    <a:pt x="127510" y="179433"/>
                  </a:cubicBezTo>
                  <a:cubicBezTo>
                    <a:pt x="114268" y="199297"/>
                    <a:pt x="62623" y="227106"/>
                    <a:pt x="62623" y="227106"/>
                  </a:cubicBezTo>
                  <a:cubicBezTo>
                    <a:pt x="62623" y="227106"/>
                    <a:pt x="53353" y="196648"/>
                    <a:pt x="18923" y="123816"/>
                  </a:cubicBezTo>
                  <a:cubicBezTo>
                    <a:pt x="5681" y="94682"/>
                    <a:pt x="10978" y="56280"/>
                    <a:pt x="10978" y="56280"/>
                  </a:cubicBezTo>
                  <a:cubicBezTo>
                    <a:pt x="10978" y="56280"/>
                    <a:pt x="46732" y="12580"/>
                    <a:pt x="49381" y="11256"/>
                  </a:cubicBezTo>
                  <a:cubicBezTo>
                    <a:pt x="52029" y="11256"/>
                    <a:pt x="50705" y="9932"/>
                    <a:pt x="50705" y="9932"/>
                  </a:cubicBezTo>
                  <a:close/>
                </a:path>
              </a:pathLst>
            </a:custGeom>
            <a:solidFill>
              <a:srgbClr val="e5e5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0" name="任意多边形: 形状 277"/>
            <p:cNvSpPr/>
            <p:nvPr/>
          </p:nvSpPr>
          <p:spPr>
            <a:xfrm>
              <a:off x="1889640" y="4051440"/>
              <a:ext cx="251280" cy="794520"/>
            </a:xfrm>
            <a:custGeom>
              <a:avLst/>
              <a:gdLst>
                <a:gd name="textAreaLeft" fmla="*/ 0 w 251280"/>
                <a:gd name="textAreaRight" fmla="*/ 251640 w 251280"/>
                <a:gd name="textAreaTop" fmla="*/ 0 h 794520"/>
                <a:gd name="textAreaBottom" fmla="*/ 794880 h 794520"/>
              </a:gdLst>
              <a:ahLst/>
              <a:rect l="textAreaLeft" t="textAreaTop" r="textAreaRight" b="textAreaBottom"/>
              <a:pathLst>
                <a:path w="251603" h="794538">
                  <a:moveTo>
                    <a:pt x="192676" y="9932"/>
                  </a:moveTo>
                  <a:cubicBezTo>
                    <a:pt x="192676" y="9932"/>
                    <a:pt x="69522" y="115870"/>
                    <a:pt x="9932" y="654832"/>
                  </a:cubicBezTo>
                  <a:cubicBezTo>
                    <a:pt x="39065" y="759446"/>
                    <a:pt x="103952" y="792552"/>
                    <a:pt x="103952" y="792552"/>
                  </a:cubicBezTo>
                  <a:cubicBezTo>
                    <a:pt x="142355" y="784607"/>
                    <a:pt x="242996" y="677344"/>
                    <a:pt x="242996" y="677344"/>
                  </a:cubicBezTo>
                  <a:lnTo>
                    <a:pt x="192676" y="9932"/>
                  </a:lnTo>
                  <a:close/>
                </a:path>
              </a:pathLst>
            </a:custGeom>
            <a:solidFill>
              <a:srgbClr val="35343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1" name="任意多边形: 形状 278"/>
            <p:cNvSpPr/>
            <p:nvPr/>
          </p:nvSpPr>
          <p:spPr>
            <a:xfrm>
              <a:off x="2159640" y="4314960"/>
              <a:ext cx="463320" cy="225000"/>
            </a:xfrm>
            <a:custGeom>
              <a:avLst/>
              <a:gdLst>
                <a:gd name="textAreaLeft" fmla="*/ 0 w 463320"/>
                <a:gd name="textAreaRight" fmla="*/ 463680 w 463320"/>
                <a:gd name="textAreaTop" fmla="*/ 0 h 225000"/>
                <a:gd name="textAreaBottom" fmla="*/ 225360 h 225000"/>
              </a:gdLst>
              <a:ahLst/>
              <a:rect l="textAreaLeft" t="textAreaTop" r="textAreaRight" b="textAreaBottom"/>
              <a:pathLst>
                <a:path w="463480" h="225119">
                  <a:moveTo>
                    <a:pt x="9932" y="114613"/>
                  </a:moveTo>
                  <a:cubicBezTo>
                    <a:pt x="9932" y="114613"/>
                    <a:pt x="114546" y="41781"/>
                    <a:pt x="123816" y="37808"/>
                  </a:cubicBezTo>
                  <a:cubicBezTo>
                    <a:pt x="137058" y="32511"/>
                    <a:pt x="159570" y="27214"/>
                    <a:pt x="171488" y="21917"/>
                  </a:cubicBezTo>
                  <a:cubicBezTo>
                    <a:pt x="180758" y="17944"/>
                    <a:pt x="208566" y="13972"/>
                    <a:pt x="231078" y="17944"/>
                  </a:cubicBezTo>
                  <a:cubicBezTo>
                    <a:pt x="248293" y="16620"/>
                    <a:pt x="276102" y="17944"/>
                    <a:pt x="310532" y="16620"/>
                  </a:cubicBezTo>
                  <a:cubicBezTo>
                    <a:pt x="344962" y="15296"/>
                    <a:pt x="454873" y="729"/>
                    <a:pt x="456198" y="19268"/>
                  </a:cubicBezTo>
                  <a:cubicBezTo>
                    <a:pt x="457522" y="39132"/>
                    <a:pt x="456198" y="48402"/>
                    <a:pt x="415146" y="51050"/>
                  </a:cubicBezTo>
                  <a:cubicBezTo>
                    <a:pt x="374095" y="55023"/>
                    <a:pt x="329071" y="56347"/>
                    <a:pt x="323775" y="57671"/>
                  </a:cubicBezTo>
                  <a:cubicBezTo>
                    <a:pt x="318478" y="58995"/>
                    <a:pt x="314505" y="70914"/>
                    <a:pt x="314505" y="77535"/>
                  </a:cubicBezTo>
                  <a:cubicBezTo>
                    <a:pt x="314505" y="84156"/>
                    <a:pt x="314505" y="97398"/>
                    <a:pt x="295966" y="106668"/>
                  </a:cubicBezTo>
                  <a:cubicBezTo>
                    <a:pt x="299938" y="115937"/>
                    <a:pt x="301263" y="133152"/>
                    <a:pt x="272129" y="145070"/>
                  </a:cubicBezTo>
                  <a:cubicBezTo>
                    <a:pt x="274778" y="156989"/>
                    <a:pt x="264184" y="168907"/>
                    <a:pt x="235051" y="171555"/>
                  </a:cubicBezTo>
                  <a:cubicBezTo>
                    <a:pt x="205918" y="174204"/>
                    <a:pt x="171488" y="168907"/>
                    <a:pt x="160894" y="163610"/>
                  </a:cubicBezTo>
                  <a:cubicBezTo>
                    <a:pt x="151625" y="159637"/>
                    <a:pt x="138382" y="170231"/>
                    <a:pt x="134410" y="172879"/>
                  </a:cubicBezTo>
                  <a:cubicBezTo>
                    <a:pt x="130437" y="176852"/>
                    <a:pt x="90710" y="224524"/>
                    <a:pt x="90710" y="224524"/>
                  </a:cubicBezTo>
                  <a:lnTo>
                    <a:pt x="9932" y="114613"/>
                  </a:ln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2" name="任意多边形: 形状 279"/>
            <p:cNvSpPr/>
            <p:nvPr/>
          </p:nvSpPr>
          <p:spPr>
            <a:xfrm>
              <a:off x="1890720" y="4385160"/>
              <a:ext cx="423720" cy="463320"/>
            </a:xfrm>
            <a:custGeom>
              <a:avLst/>
              <a:gdLst>
                <a:gd name="textAreaLeft" fmla="*/ 0 w 423720"/>
                <a:gd name="textAreaRight" fmla="*/ 424080 w 423720"/>
                <a:gd name="textAreaTop" fmla="*/ 0 h 463320"/>
                <a:gd name="textAreaBottom" fmla="*/ 463680 h 463320"/>
              </a:gdLst>
              <a:ahLst/>
              <a:rect l="textAreaLeft" t="textAreaTop" r="textAreaRight" b="textAreaBottom"/>
              <a:pathLst>
                <a:path w="423753" h="463480">
                  <a:moveTo>
                    <a:pt x="9932" y="310532"/>
                  </a:moveTo>
                  <a:cubicBezTo>
                    <a:pt x="9932" y="310532"/>
                    <a:pt x="9932" y="219160"/>
                    <a:pt x="290669" y="9932"/>
                  </a:cubicBezTo>
                  <a:cubicBezTo>
                    <a:pt x="323774" y="48334"/>
                    <a:pt x="331720" y="93358"/>
                    <a:pt x="415146" y="134409"/>
                  </a:cubicBezTo>
                  <a:cubicBezTo>
                    <a:pt x="372771" y="186054"/>
                    <a:pt x="215188" y="413822"/>
                    <a:pt x="154273" y="445604"/>
                  </a:cubicBezTo>
                  <a:cubicBezTo>
                    <a:pt x="114546" y="469440"/>
                    <a:pt x="37740" y="477385"/>
                    <a:pt x="9932" y="310532"/>
                  </a:cubicBezTo>
                  <a:close/>
                </a:path>
              </a:pathLst>
            </a:custGeom>
            <a:solidFill>
              <a:srgbClr val="35343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3" name="任意多边形: 形状 280"/>
            <p:cNvSpPr/>
            <p:nvPr/>
          </p:nvSpPr>
          <p:spPr>
            <a:xfrm>
              <a:off x="2169000" y="3528000"/>
              <a:ext cx="119160" cy="185400"/>
            </a:xfrm>
            <a:custGeom>
              <a:avLst/>
              <a:gdLst>
                <a:gd name="textAreaLeft" fmla="*/ 0 w 119160"/>
                <a:gd name="textAreaRight" fmla="*/ 119520 w 119160"/>
                <a:gd name="textAreaTop" fmla="*/ 0 h 185400"/>
                <a:gd name="textAreaBottom" fmla="*/ 185760 h 185400"/>
              </a:gdLst>
              <a:ahLst/>
              <a:rect l="textAreaLeft" t="textAreaTop" r="textAreaRight" b="textAreaBottom"/>
              <a:pathLst>
                <a:path w="119180" h="185392">
                  <a:moveTo>
                    <a:pt x="107986" y="40509"/>
                  </a:moveTo>
                  <a:cubicBezTo>
                    <a:pt x="107986" y="40509"/>
                    <a:pt x="85474" y="2106"/>
                    <a:pt x="39126" y="11375"/>
                  </a:cubicBezTo>
                  <a:cubicBezTo>
                    <a:pt x="-21789" y="23294"/>
                    <a:pt x="16614" y="199416"/>
                    <a:pt x="117255" y="186174"/>
                  </a:cubicBezTo>
                  <a:cubicBezTo>
                    <a:pt x="118580" y="186174"/>
                    <a:pt x="125201" y="73614"/>
                    <a:pt x="107986" y="40509"/>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4" name="任意多边形: 形状 281"/>
            <p:cNvSpPr/>
            <p:nvPr/>
          </p:nvSpPr>
          <p:spPr>
            <a:xfrm>
              <a:off x="2198160" y="3557880"/>
              <a:ext cx="79200" cy="119160"/>
            </a:xfrm>
            <a:custGeom>
              <a:avLst/>
              <a:gdLst>
                <a:gd name="textAreaLeft" fmla="*/ 0 w 79200"/>
                <a:gd name="textAreaRight" fmla="*/ 79560 w 79200"/>
                <a:gd name="textAreaTop" fmla="*/ 0 h 119160"/>
                <a:gd name="textAreaBottom" fmla="*/ 119520 h 119160"/>
              </a:gdLst>
              <a:ahLst/>
              <a:rect l="textAreaLeft" t="textAreaTop" r="textAreaRight" b="textAreaBottom"/>
              <a:pathLst>
                <a:path w="79453" h="119180">
                  <a:moveTo>
                    <a:pt x="70958" y="112723"/>
                  </a:moveTo>
                  <a:cubicBezTo>
                    <a:pt x="70958" y="112723"/>
                    <a:pt x="72283" y="53132"/>
                    <a:pt x="64337" y="33269"/>
                  </a:cubicBezTo>
                  <a:cubicBezTo>
                    <a:pt x="52419" y="8108"/>
                    <a:pt x="7395" y="-3810"/>
                    <a:pt x="10044" y="34593"/>
                  </a:cubicBezTo>
                  <a:cubicBezTo>
                    <a:pt x="16665" y="98156"/>
                    <a:pt x="66986" y="121992"/>
                    <a:pt x="70958" y="112723"/>
                  </a:cubicBezTo>
                  <a:close/>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5" name="任意多边形: 形状 282"/>
            <p:cNvSpPr/>
            <p:nvPr/>
          </p:nvSpPr>
          <p:spPr>
            <a:xfrm>
              <a:off x="1941120" y="4377240"/>
              <a:ext cx="370800" cy="225000"/>
            </a:xfrm>
            <a:custGeom>
              <a:avLst/>
              <a:gdLst>
                <a:gd name="textAreaLeft" fmla="*/ 0 w 370800"/>
                <a:gd name="textAreaRight" fmla="*/ 371160 w 370800"/>
                <a:gd name="textAreaTop" fmla="*/ 0 h 225000"/>
                <a:gd name="textAreaBottom" fmla="*/ 225360 h 225000"/>
              </a:gdLst>
              <a:ahLst/>
              <a:rect l="textAreaLeft" t="textAreaTop" r="textAreaRight" b="textAreaBottom"/>
              <a:pathLst>
                <a:path w="370784" h="225119">
                  <a:moveTo>
                    <a:pt x="9932" y="225781"/>
                  </a:moveTo>
                  <a:cubicBezTo>
                    <a:pt x="13904" y="220485"/>
                    <a:pt x="16553" y="215188"/>
                    <a:pt x="20526" y="209891"/>
                  </a:cubicBezTo>
                  <a:cubicBezTo>
                    <a:pt x="24498" y="204594"/>
                    <a:pt x="28471" y="199297"/>
                    <a:pt x="32444" y="194000"/>
                  </a:cubicBezTo>
                  <a:cubicBezTo>
                    <a:pt x="40389" y="183406"/>
                    <a:pt x="49659" y="174136"/>
                    <a:pt x="58928" y="164867"/>
                  </a:cubicBezTo>
                  <a:cubicBezTo>
                    <a:pt x="77468" y="146328"/>
                    <a:pt x="96007" y="127788"/>
                    <a:pt x="115870" y="111898"/>
                  </a:cubicBezTo>
                  <a:cubicBezTo>
                    <a:pt x="135734" y="94683"/>
                    <a:pt x="155597" y="78792"/>
                    <a:pt x="175461" y="61577"/>
                  </a:cubicBezTo>
                  <a:cubicBezTo>
                    <a:pt x="195324" y="45686"/>
                    <a:pt x="216512" y="29795"/>
                    <a:pt x="236375" y="13904"/>
                  </a:cubicBezTo>
                  <a:lnTo>
                    <a:pt x="241672" y="9932"/>
                  </a:lnTo>
                  <a:lnTo>
                    <a:pt x="244321" y="15229"/>
                  </a:lnTo>
                  <a:cubicBezTo>
                    <a:pt x="252266" y="27147"/>
                    <a:pt x="260211" y="40389"/>
                    <a:pt x="268157" y="52307"/>
                  </a:cubicBezTo>
                  <a:cubicBezTo>
                    <a:pt x="276102" y="64225"/>
                    <a:pt x="285372" y="76143"/>
                    <a:pt x="294641" y="86737"/>
                  </a:cubicBezTo>
                  <a:cubicBezTo>
                    <a:pt x="303911" y="97331"/>
                    <a:pt x="314505" y="107925"/>
                    <a:pt x="325099" y="118519"/>
                  </a:cubicBezTo>
                  <a:cubicBezTo>
                    <a:pt x="335693" y="127788"/>
                    <a:pt x="348935" y="137058"/>
                    <a:pt x="362177" y="142355"/>
                  </a:cubicBezTo>
                  <a:cubicBezTo>
                    <a:pt x="347611" y="138382"/>
                    <a:pt x="334368" y="130437"/>
                    <a:pt x="322450" y="121167"/>
                  </a:cubicBezTo>
                  <a:cubicBezTo>
                    <a:pt x="310532" y="111898"/>
                    <a:pt x="298614" y="102628"/>
                    <a:pt x="289345" y="90710"/>
                  </a:cubicBezTo>
                  <a:cubicBezTo>
                    <a:pt x="268157" y="69522"/>
                    <a:pt x="249618" y="45686"/>
                    <a:pt x="233727" y="19202"/>
                  </a:cubicBezTo>
                  <a:lnTo>
                    <a:pt x="241672" y="20526"/>
                  </a:lnTo>
                  <a:cubicBezTo>
                    <a:pt x="221809" y="36416"/>
                    <a:pt x="201945" y="52307"/>
                    <a:pt x="180758" y="68198"/>
                  </a:cubicBezTo>
                  <a:cubicBezTo>
                    <a:pt x="160894" y="84089"/>
                    <a:pt x="141031" y="99979"/>
                    <a:pt x="121167" y="117195"/>
                  </a:cubicBezTo>
                  <a:cubicBezTo>
                    <a:pt x="101304" y="134410"/>
                    <a:pt x="81440" y="150300"/>
                    <a:pt x="62901" y="167515"/>
                  </a:cubicBezTo>
                  <a:cubicBezTo>
                    <a:pt x="53631" y="176785"/>
                    <a:pt x="44362" y="184730"/>
                    <a:pt x="35092" y="194000"/>
                  </a:cubicBezTo>
                  <a:cubicBezTo>
                    <a:pt x="27147" y="205918"/>
                    <a:pt x="17877" y="216512"/>
                    <a:pt x="9932" y="225781"/>
                  </a:cubicBezTo>
                  <a:close/>
                </a:path>
              </a:pathLst>
            </a:custGeom>
            <a:solidFill>
              <a:srgbClr val="36303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6" name="任意多边形: 形状 283"/>
            <p:cNvSpPr/>
            <p:nvPr/>
          </p:nvSpPr>
          <p:spPr>
            <a:xfrm>
              <a:off x="2355840" y="333360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331057" h="132423">
                  <a:moveTo>
                    <a:pt x="321126" y="9932"/>
                  </a:moveTo>
                  <a:cubicBezTo>
                    <a:pt x="321126" y="9932"/>
                    <a:pt x="318478" y="15229"/>
                    <a:pt x="313181" y="23174"/>
                  </a:cubicBezTo>
                  <a:cubicBezTo>
                    <a:pt x="307884" y="31119"/>
                    <a:pt x="298614" y="41713"/>
                    <a:pt x="285372" y="52307"/>
                  </a:cubicBezTo>
                  <a:cubicBezTo>
                    <a:pt x="278751" y="57604"/>
                    <a:pt x="272129" y="62901"/>
                    <a:pt x="262860" y="68198"/>
                  </a:cubicBezTo>
                  <a:cubicBezTo>
                    <a:pt x="258887" y="70846"/>
                    <a:pt x="254914" y="73495"/>
                    <a:pt x="249618" y="74819"/>
                  </a:cubicBezTo>
                  <a:cubicBezTo>
                    <a:pt x="245645" y="77467"/>
                    <a:pt x="240348" y="78792"/>
                    <a:pt x="235051" y="81440"/>
                  </a:cubicBezTo>
                  <a:cubicBezTo>
                    <a:pt x="225781" y="85413"/>
                    <a:pt x="215188" y="88061"/>
                    <a:pt x="204594" y="90710"/>
                  </a:cubicBezTo>
                  <a:cubicBezTo>
                    <a:pt x="199297" y="92034"/>
                    <a:pt x="194000" y="92034"/>
                    <a:pt x="188703" y="93358"/>
                  </a:cubicBezTo>
                  <a:cubicBezTo>
                    <a:pt x="183406" y="93358"/>
                    <a:pt x="178109" y="94682"/>
                    <a:pt x="171488" y="94682"/>
                  </a:cubicBezTo>
                  <a:cubicBezTo>
                    <a:pt x="160894" y="96007"/>
                    <a:pt x="148976" y="94682"/>
                    <a:pt x="138382" y="93358"/>
                  </a:cubicBezTo>
                  <a:cubicBezTo>
                    <a:pt x="127788" y="92034"/>
                    <a:pt x="117195" y="92034"/>
                    <a:pt x="106601" y="92034"/>
                  </a:cubicBezTo>
                  <a:cubicBezTo>
                    <a:pt x="96007" y="92034"/>
                    <a:pt x="86737" y="92034"/>
                    <a:pt x="77468" y="92034"/>
                  </a:cubicBezTo>
                  <a:cubicBezTo>
                    <a:pt x="68198" y="92034"/>
                    <a:pt x="58928" y="93358"/>
                    <a:pt x="52307" y="94682"/>
                  </a:cubicBezTo>
                  <a:cubicBezTo>
                    <a:pt x="44362" y="96007"/>
                    <a:pt x="37741" y="97331"/>
                    <a:pt x="31120" y="99979"/>
                  </a:cubicBezTo>
                  <a:cubicBezTo>
                    <a:pt x="25822" y="102628"/>
                    <a:pt x="20526" y="105276"/>
                    <a:pt x="17877" y="109249"/>
                  </a:cubicBezTo>
                  <a:cubicBezTo>
                    <a:pt x="15229" y="113222"/>
                    <a:pt x="12580" y="115870"/>
                    <a:pt x="11256" y="118519"/>
                  </a:cubicBezTo>
                  <a:cubicBezTo>
                    <a:pt x="9932" y="121167"/>
                    <a:pt x="9932" y="122491"/>
                    <a:pt x="9932" y="122491"/>
                  </a:cubicBezTo>
                  <a:cubicBezTo>
                    <a:pt x="9932" y="122491"/>
                    <a:pt x="9932" y="121167"/>
                    <a:pt x="11256" y="118519"/>
                  </a:cubicBezTo>
                  <a:cubicBezTo>
                    <a:pt x="12580" y="115870"/>
                    <a:pt x="12580" y="111897"/>
                    <a:pt x="16553" y="107925"/>
                  </a:cubicBezTo>
                  <a:cubicBezTo>
                    <a:pt x="21850" y="99979"/>
                    <a:pt x="35092" y="92034"/>
                    <a:pt x="50983" y="88061"/>
                  </a:cubicBezTo>
                  <a:cubicBezTo>
                    <a:pt x="58928" y="85413"/>
                    <a:pt x="68198" y="84089"/>
                    <a:pt x="77468" y="84089"/>
                  </a:cubicBezTo>
                  <a:cubicBezTo>
                    <a:pt x="86737" y="82764"/>
                    <a:pt x="97331" y="82764"/>
                    <a:pt x="107925" y="82764"/>
                  </a:cubicBezTo>
                  <a:cubicBezTo>
                    <a:pt x="118519" y="82764"/>
                    <a:pt x="129113" y="82764"/>
                    <a:pt x="139706" y="84089"/>
                  </a:cubicBezTo>
                  <a:cubicBezTo>
                    <a:pt x="150300" y="84089"/>
                    <a:pt x="160894" y="85413"/>
                    <a:pt x="171488" y="84089"/>
                  </a:cubicBezTo>
                  <a:cubicBezTo>
                    <a:pt x="176785" y="84089"/>
                    <a:pt x="182082" y="84089"/>
                    <a:pt x="187379" y="82764"/>
                  </a:cubicBezTo>
                  <a:cubicBezTo>
                    <a:pt x="192676" y="81440"/>
                    <a:pt x="197972" y="81440"/>
                    <a:pt x="203270" y="80116"/>
                  </a:cubicBezTo>
                  <a:cubicBezTo>
                    <a:pt x="213863" y="77467"/>
                    <a:pt x="223133" y="76143"/>
                    <a:pt x="232403" y="72171"/>
                  </a:cubicBezTo>
                  <a:cubicBezTo>
                    <a:pt x="237699" y="70846"/>
                    <a:pt x="241672" y="68198"/>
                    <a:pt x="245645" y="66874"/>
                  </a:cubicBezTo>
                  <a:cubicBezTo>
                    <a:pt x="249618" y="65549"/>
                    <a:pt x="254914" y="62901"/>
                    <a:pt x="258887" y="61577"/>
                  </a:cubicBezTo>
                  <a:cubicBezTo>
                    <a:pt x="266833" y="57604"/>
                    <a:pt x="274778" y="53631"/>
                    <a:pt x="281399" y="48334"/>
                  </a:cubicBezTo>
                  <a:cubicBezTo>
                    <a:pt x="294641" y="39065"/>
                    <a:pt x="305235" y="29795"/>
                    <a:pt x="310532" y="23174"/>
                  </a:cubicBezTo>
                  <a:cubicBezTo>
                    <a:pt x="317153" y="15229"/>
                    <a:pt x="321126" y="9932"/>
                    <a:pt x="321126" y="9932"/>
                  </a:cubicBezTo>
                  <a:close/>
                </a:path>
              </a:pathLst>
            </a:custGeom>
            <a:solidFill>
              <a:srgbClr val="6d2f0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7" name="任意多边形: 形状 284"/>
            <p:cNvSpPr/>
            <p:nvPr/>
          </p:nvSpPr>
          <p:spPr>
            <a:xfrm>
              <a:off x="2349000" y="3305880"/>
              <a:ext cx="330840" cy="132120"/>
            </a:xfrm>
            <a:custGeom>
              <a:avLst/>
              <a:gdLst>
                <a:gd name="textAreaLeft" fmla="*/ 0 w 330840"/>
                <a:gd name="textAreaRight" fmla="*/ 331200 w 330840"/>
                <a:gd name="textAreaTop" fmla="*/ 0 h 132120"/>
                <a:gd name="textAreaBottom" fmla="*/ 132480 h 132120"/>
              </a:gdLst>
              <a:ahLst/>
              <a:rect l="textAreaLeft" t="textAreaTop" r="textAreaRight" b="textAreaBottom"/>
              <a:pathLst>
                <a:path w="331057" h="132423">
                  <a:moveTo>
                    <a:pt x="330396" y="9932"/>
                  </a:moveTo>
                  <a:cubicBezTo>
                    <a:pt x="330396" y="9932"/>
                    <a:pt x="327747" y="15229"/>
                    <a:pt x="322450" y="23174"/>
                  </a:cubicBezTo>
                  <a:cubicBezTo>
                    <a:pt x="319802" y="27147"/>
                    <a:pt x="315829" y="32444"/>
                    <a:pt x="311856" y="37741"/>
                  </a:cubicBezTo>
                  <a:cubicBezTo>
                    <a:pt x="307884" y="43038"/>
                    <a:pt x="301263" y="48334"/>
                    <a:pt x="294641" y="54956"/>
                  </a:cubicBezTo>
                  <a:cubicBezTo>
                    <a:pt x="291993" y="57604"/>
                    <a:pt x="288020" y="60253"/>
                    <a:pt x="284047" y="62901"/>
                  </a:cubicBezTo>
                  <a:cubicBezTo>
                    <a:pt x="280075" y="65549"/>
                    <a:pt x="276102" y="68198"/>
                    <a:pt x="272129" y="70846"/>
                  </a:cubicBezTo>
                  <a:cubicBezTo>
                    <a:pt x="264184" y="76143"/>
                    <a:pt x="254914" y="81440"/>
                    <a:pt x="244321" y="85413"/>
                  </a:cubicBezTo>
                  <a:cubicBezTo>
                    <a:pt x="233727" y="89386"/>
                    <a:pt x="223133" y="93358"/>
                    <a:pt x="212539" y="94682"/>
                  </a:cubicBezTo>
                  <a:cubicBezTo>
                    <a:pt x="207242" y="96007"/>
                    <a:pt x="200621" y="96007"/>
                    <a:pt x="195324" y="97331"/>
                  </a:cubicBezTo>
                  <a:cubicBezTo>
                    <a:pt x="190027" y="98655"/>
                    <a:pt x="183406" y="98655"/>
                    <a:pt x="178109" y="98655"/>
                  </a:cubicBezTo>
                  <a:cubicBezTo>
                    <a:pt x="166191" y="99979"/>
                    <a:pt x="154273" y="98655"/>
                    <a:pt x="143679" y="97331"/>
                  </a:cubicBezTo>
                  <a:cubicBezTo>
                    <a:pt x="133085" y="96007"/>
                    <a:pt x="121167" y="96007"/>
                    <a:pt x="110573" y="94682"/>
                  </a:cubicBezTo>
                  <a:cubicBezTo>
                    <a:pt x="99979" y="94682"/>
                    <a:pt x="89386" y="94682"/>
                    <a:pt x="80116" y="94682"/>
                  </a:cubicBezTo>
                  <a:cubicBezTo>
                    <a:pt x="70846" y="94682"/>
                    <a:pt x="61577" y="96007"/>
                    <a:pt x="53631" y="97331"/>
                  </a:cubicBezTo>
                  <a:cubicBezTo>
                    <a:pt x="45686" y="98655"/>
                    <a:pt x="37741" y="101304"/>
                    <a:pt x="32444" y="103952"/>
                  </a:cubicBezTo>
                  <a:cubicBezTo>
                    <a:pt x="25822" y="106601"/>
                    <a:pt x="21850" y="110573"/>
                    <a:pt x="17877" y="113222"/>
                  </a:cubicBezTo>
                  <a:cubicBezTo>
                    <a:pt x="15229" y="117195"/>
                    <a:pt x="12580" y="119843"/>
                    <a:pt x="11256" y="122491"/>
                  </a:cubicBezTo>
                  <a:cubicBezTo>
                    <a:pt x="9932" y="125140"/>
                    <a:pt x="9932" y="126464"/>
                    <a:pt x="9932" y="126464"/>
                  </a:cubicBezTo>
                  <a:cubicBezTo>
                    <a:pt x="9932" y="126464"/>
                    <a:pt x="9932" y="125140"/>
                    <a:pt x="11256" y="122491"/>
                  </a:cubicBezTo>
                  <a:cubicBezTo>
                    <a:pt x="12580" y="119843"/>
                    <a:pt x="12580" y="115870"/>
                    <a:pt x="16553" y="111897"/>
                  </a:cubicBezTo>
                  <a:cubicBezTo>
                    <a:pt x="21850" y="102628"/>
                    <a:pt x="35092" y="94682"/>
                    <a:pt x="52307" y="90710"/>
                  </a:cubicBezTo>
                  <a:cubicBezTo>
                    <a:pt x="60253" y="88061"/>
                    <a:pt x="69522" y="86737"/>
                    <a:pt x="80116" y="85413"/>
                  </a:cubicBezTo>
                  <a:cubicBezTo>
                    <a:pt x="89386" y="84089"/>
                    <a:pt x="99979" y="84089"/>
                    <a:pt x="111897" y="84089"/>
                  </a:cubicBezTo>
                  <a:cubicBezTo>
                    <a:pt x="122491" y="84089"/>
                    <a:pt x="134410" y="84089"/>
                    <a:pt x="145003" y="85413"/>
                  </a:cubicBezTo>
                  <a:cubicBezTo>
                    <a:pt x="150300" y="85413"/>
                    <a:pt x="155597" y="85413"/>
                    <a:pt x="162218" y="85413"/>
                  </a:cubicBezTo>
                  <a:cubicBezTo>
                    <a:pt x="167515" y="85413"/>
                    <a:pt x="172812" y="85413"/>
                    <a:pt x="179433" y="85413"/>
                  </a:cubicBezTo>
                  <a:cubicBezTo>
                    <a:pt x="184730" y="85413"/>
                    <a:pt x="190027" y="85413"/>
                    <a:pt x="196648" y="84089"/>
                  </a:cubicBezTo>
                  <a:cubicBezTo>
                    <a:pt x="201945" y="82764"/>
                    <a:pt x="207242" y="82764"/>
                    <a:pt x="212539" y="81440"/>
                  </a:cubicBezTo>
                  <a:cubicBezTo>
                    <a:pt x="223133" y="78792"/>
                    <a:pt x="233727" y="76143"/>
                    <a:pt x="242996" y="73495"/>
                  </a:cubicBezTo>
                  <a:cubicBezTo>
                    <a:pt x="248293" y="72171"/>
                    <a:pt x="252266" y="69522"/>
                    <a:pt x="257563" y="68198"/>
                  </a:cubicBezTo>
                  <a:cubicBezTo>
                    <a:pt x="262860" y="66874"/>
                    <a:pt x="266833" y="64225"/>
                    <a:pt x="270805" y="61577"/>
                  </a:cubicBezTo>
                  <a:cubicBezTo>
                    <a:pt x="274778" y="58928"/>
                    <a:pt x="278751" y="57604"/>
                    <a:pt x="282723" y="54956"/>
                  </a:cubicBezTo>
                  <a:cubicBezTo>
                    <a:pt x="286696" y="52307"/>
                    <a:pt x="290669" y="49659"/>
                    <a:pt x="293317" y="47010"/>
                  </a:cubicBezTo>
                  <a:cubicBezTo>
                    <a:pt x="299938" y="41713"/>
                    <a:pt x="306560" y="37741"/>
                    <a:pt x="310532" y="32444"/>
                  </a:cubicBezTo>
                  <a:cubicBezTo>
                    <a:pt x="315829" y="28471"/>
                    <a:pt x="319802" y="23174"/>
                    <a:pt x="322450" y="19201"/>
                  </a:cubicBezTo>
                  <a:cubicBezTo>
                    <a:pt x="326423" y="15229"/>
                    <a:pt x="330396" y="9932"/>
                    <a:pt x="330396" y="9932"/>
                  </a:cubicBezTo>
                  <a:close/>
                </a:path>
              </a:pathLst>
            </a:custGeom>
            <a:solidFill>
              <a:srgbClr val="6d2f0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8" name="任意多边形: 形状 285"/>
            <p:cNvSpPr/>
            <p:nvPr/>
          </p:nvSpPr>
          <p:spPr>
            <a:xfrm>
              <a:off x="3292920" y="4830120"/>
              <a:ext cx="675360" cy="357480"/>
            </a:xfrm>
            <a:custGeom>
              <a:avLst/>
              <a:gdLst>
                <a:gd name="textAreaLeft" fmla="*/ 0 w 675360"/>
                <a:gd name="textAreaRight" fmla="*/ 675720 w 675360"/>
                <a:gd name="textAreaTop" fmla="*/ 0 h 357480"/>
                <a:gd name="textAreaBottom" fmla="*/ 357840 h 357480"/>
              </a:gdLst>
              <a:ahLst/>
              <a:rect l="textAreaLeft" t="textAreaTop" r="textAreaRight" b="textAreaBottom"/>
              <a:pathLst>
                <a:path w="675357" h="357542">
                  <a:moveTo>
                    <a:pt x="26374" y="241672"/>
                  </a:moveTo>
                  <a:cubicBezTo>
                    <a:pt x="26374" y="241672"/>
                    <a:pt x="-43810" y="57604"/>
                    <a:pt x="105828" y="9932"/>
                  </a:cubicBezTo>
                  <a:lnTo>
                    <a:pt x="593145" y="9932"/>
                  </a:lnTo>
                  <a:cubicBezTo>
                    <a:pt x="593145" y="9932"/>
                    <a:pt x="761322" y="229754"/>
                    <a:pt x="616981" y="286696"/>
                  </a:cubicBezTo>
                  <a:cubicBezTo>
                    <a:pt x="616981" y="286696"/>
                    <a:pt x="546797" y="295966"/>
                    <a:pt x="489855" y="339665"/>
                  </a:cubicBezTo>
                  <a:cubicBezTo>
                    <a:pt x="489855" y="339665"/>
                    <a:pt x="78019" y="415146"/>
                    <a:pt x="26374" y="241672"/>
                  </a:cubicBezTo>
                  <a:close/>
                </a:path>
              </a:pathLst>
            </a:custGeom>
            <a:solidFill>
              <a:srgbClr val="a10d1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09" name="任意多边形: 形状 286"/>
            <p:cNvSpPr/>
            <p:nvPr/>
          </p:nvSpPr>
          <p:spPr>
            <a:xfrm>
              <a:off x="3603240" y="6019560"/>
              <a:ext cx="145440" cy="185400"/>
            </a:xfrm>
            <a:custGeom>
              <a:avLst/>
              <a:gdLst>
                <a:gd name="textAreaLeft" fmla="*/ 0 w 145440"/>
                <a:gd name="textAreaRight" fmla="*/ 145800 w 145440"/>
                <a:gd name="textAreaTop" fmla="*/ 0 h 185400"/>
                <a:gd name="textAreaBottom" fmla="*/ 185760 h 185400"/>
              </a:gdLst>
              <a:ahLst/>
              <a:rect l="textAreaLeft" t="textAreaTop" r="textAreaRight" b="textAreaBottom"/>
              <a:pathLst>
                <a:path w="145665" h="185392">
                  <a:moveTo>
                    <a:pt x="64346" y="187379"/>
                  </a:moveTo>
                  <a:cubicBezTo>
                    <a:pt x="154393" y="178109"/>
                    <a:pt x="167636" y="145003"/>
                    <a:pt x="101424" y="9932"/>
                  </a:cubicBezTo>
                  <a:cubicBezTo>
                    <a:pt x="89506" y="54956"/>
                    <a:pt x="66995" y="73495"/>
                    <a:pt x="66995" y="73495"/>
                  </a:cubicBezTo>
                  <a:cubicBezTo>
                    <a:pt x="24619" y="76143"/>
                    <a:pt x="10052" y="44362"/>
                    <a:pt x="10052" y="44362"/>
                  </a:cubicBezTo>
                  <a:cubicBezTo>
                    <a:pt x="10052" y="44362"/>
                    <a:pt x="4756" y="192676"/>
                    <a:pt x="64346" y="187379"/>
                  </a:cubicBezTo>
                  <a:close/>
                </a:path>
              </a:pathLst>
            </a:custGeom>
            <a:solidFill>
              <a:srgbClr val="a10d1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0" name="任意多边形: 形状 287"/>
            <p:cNvSpPr/>
            <p:nvPr/>
          </p:nvSpPr>
          <p:spPr>
            <a:xfrm>
              <a:off x="3314880" y="4922640"/>
              <a:ext cx="476640" cy="264600"/>
            </a:xfrm>
            <a:custGeom>
              <a:avLst/>
              <a:gdLst>
                <a:gd name="textAreaLeft" fmla="*/ 0 w 476640"/>
                <a:gd name="textAreaRight" fmla="*/ 477000 w 476640"/>
                <a:gd name="textAreaTop" fmla="*/ 0 h 264600"/>
                <a:gd name="textAreaBottom" fmla="*/ 264960 h 264600"/>
              </a:gdLst>
              <a:ahLst/>
              <a:rect l="textAreaLeft" t="textAreaTop" r="textAreaRight" b="textAreaBottom"/>
              <a:pathLst>
                <a:path w="476723" h="264846">
                  <a:moveTo>
                    <a:pt x="470545" y="236573"/>
                  </a:moveTo>
                  <a:cubicBezTo>
                    <a:pt x="470545" y="236573"/>
                    <a:pt x="502327" y="2184"/>
                    <a:pt x="322231" y="10129"/>
                  </a:cubicBezTo>
                  <a:cubicBezTo>
                    <a:pt x="322231" y="10129"/>
                    <a:pt x="234832" y="18075"/>
                    <a:pt x="237480" y="167713"/>
                  </a:cubicBezTo>
                  <a:cubicBezTo>
                    <a:pt x="237480" y="167713"/>
                    <a:pt x="212320" y="-21652"/>
                    <a:pt x="73276" y="15426"/>
                  </a:cubicBezTo>
                  <a:cubicBezTo>
                    <a:pt x="73276" y="15426"/>
                    <a:pt x="-20744" y="59126"/>
                    <a:pt x="20307" y="182279"/>
                  </a:cubicBezTo>
                  <a:cubicBezTo>
                    <a:pt x="20307" y="182279"/>
                    <a:pt x="67979" y="272327"/>
                    <a:pt x="245426" y="263057"/>
                  </a:cubicBezTo>
                  <a:cubicBezTo>
                    <a:pt x="244102" y="263057"/>
                    <a:pt x="452006" y="265706"/>
                    <a:pt x="470545" y="236573"/>
                  </a:cubicBezTo>
                  <a:close/>
                </a:path>
              </a:pathLst>
            </a:custGeom>
            <a:solidFill>
              <a:srgbClr val="910c1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1" name="任意多边形: 形状 288"/>
            <p:cNvSpPr/>
            <p:nvPr/>
          </p:nvSpPr>
          <p:spPr>
            <a:xfrm>
              <a:off x="2051280" y="4903200"/>
              <a:ext cx="741600" cy="304560"/>
            </a:xfrm>
            <a:custGeom>
              <a:avLst/>
              <a:gdLst>
                <a:gd name="textAreaLeft" fmla="*/ 0 w 741600"/>
                <a:gd name="textAreaRight" fmla="*/ 741960 w 741600"/>
                <a:gd name="textAreaTop" fmla="*/ 0 h 304560"/>
                <a:gd name="textAreaBottom" fmla="*/ 304920 h 304560"/>
              </a:gdLst>
              <a:ahLst/>
              <a:rect l="textAreaLeft" t="textAreaTop" r="textAreaRight" b="textAreaBottom"/>
              <a:pathLst>
                <a:path w="741569" h="304573">
                  <a:moveTo>
                    <a:pt x="277426" y="293317"/>
                  </a:moveTo>
                  <a:cubicBezTo>
                    <a:pt x="277426" y="293317"/>
                    <a:pt x="231078" y="23174"/>
                    <a:pt x="9932" y="90710"/>
                  </a:cubicBezTo>
                  <a:cubicBezTo>
                    <a:pt x="9932" y="90710"/>
                    <a:pt x="33768" y="16553"/>
                    <a:pt x="103952" y="9932"/>
                  </a:cubicBezTo>
                  <a:lnTo>
                    <a:pt x="740907" y="9932"/>
                  </a:lnTo>
                  <a:cubicBezTo>
                    <a:pt x="740907" y="9932"/>
                    <a:pt x="510491" y="41713"/>
                    <a:pt x="470764" y="305235"/>
                  </a:cubicBezTo>
                  <a:cubicBezTo>
                    <a:pt x="472088" y="305235"/>
                    <a:pt x="389986" y="250942"/>
                    <a:pt x="277426" y="293317"/>
                  </a:cubicBezTo>
                  <a:close/>
                </a:path>
              </a:pathLst>
            </a:custGeom>
            <a:solidFill>
              <a:srgbClr val="1a202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2" name="任意多边形: 形状 289"/>
            <p:cNvSpPr/>
            <p:nvPr/>
          </p:nvSpPr>
          <p:spPr>
            <a:xfrm>
              <a:off x="4749120" y="6134760"/>
              <a:ext cx="251280" cy="251640"/>
            </a:xfrm>
            <a:custGeom>
              <a:avLst/>
              <a:gdLst>
                <a:gd name="textAreaLeft" fmla="*/ 0 w 251280"/>
                <a:gd name="textAreaRight" fmla="*/ 251640 w 251280"/>
                <a:gd name="textAreaTop" fmla="*/ 0 h 251640"/>
                <a:gd name="textAreaBottom" fmla="*/ 252000 h 251640"/>
              </a:gdLst>
              <a:ahLst/>
              <a:rect l="textAreaLeft" t="textAreaTop" r="textAreaRight" b="textAreaBottom"/>
              <a:pathLst>
                <a:path w="251603" h="251603">
                  <a:moveTo>
                    <a:pt x="250564" y="9932"/>
                  </a:moveTo>
                  <a:lnTo>
                    <a:pt x="71792" y="9932"/>
                  </a:lnTo>
                  <a:cubicBezTo>
                    <a:pt x="71792" y="9932"/>
                    <a:pt x="-72549" y="237699"/>
                    <a:pt x="79738" y="248293"/>
                  </a:cubicBezTo>
                  <a:cubicBezTo>
                    <a:pt x="79738" y="248293"/>
                    <a:pt x="232024" y="245645"/>
                    <a:pt x="250564" y="9932"/>
                  </a:cubicBezTo>
                  <a:close/>
                </a:path>
              </a:pathLst>
            </a:custGeom>
            <a:solidFill>
              <a:srgbClr val="1c10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3" name="任意多边形: 形状 290"/>
            <p:cNvSpPr/>
            <p:nvPr/>
          </p:nvSpPr>
          <p:spPr>
            <a:xfrm>
              <a:off x="4400280" y="6059520"/>
              <a:ext cx="304560" cy="291240"/>
            </a:xfrm>
            <a:custGeom>
              <a:avLst/>
              <a:gdLst>
                <a:gd name="textAreaLeft" fmla="*/ 0 w 304560"/>
                <a:gd name="textAreaRight" fmla="*/ 304920 w 304560"/>
                <a:gd name="textAreaTop" fmla="*/ 0 h 291240"/>
                <a:gd name="textAreaBottom" fmla="*/ 291600 h 291240"/>
              </a:gdLst>
              <a:ahLst/>
              <a:rect l="textAreaLeft" t="textAreaTop" r="textAreaRight" b="textAreaBottom"/>
              <a:pathLst>
                <a:path w="304573" h="291330">
                  <a:moveTo>
                    <a:pt x="107026" y="44362"/>
                  </a:moveTo>
                  <a:lnTo>
                    <a:pt x="283149" y="9932"/>
                  </a:lnTo>
                  <a:cubicBezTo>
                    <a:pt x="283149" y="9932"/>
                    <a:pt x="314930" y="58928"/>
                    <a:pt x="299039" y="102628"/>
                  </a:cubicBezTo>
                  <a:cubicBezTo>
                    <a:pt x="295067" y="113222"/>
                    <a:pt x="252691" y="147652"/>
                    <a:pt x="248719" y="158246"/>
                  </a:cubicBezTo>
                  <a:cubicBezTo>
                    <a:pt x="219585" y="223133"/>
                    <a:pt x="134835" y="289345"/>
                    <a:pt x="54056" y="282723"/>
                  </a:cubicBezTo>
                  <a:cubicBezTo>
                    <a:pt x="54056" y="282723"/>
                    <a:pt x="-74394" y="248293"/>
                    <a:pt x="107026" y="44362"/>
                  </a:cubicBezTo>
                  <a:close/>
                </a:path>
              </a:pathLst>
            </a:custGeom>
            <a:solidFill>
              <a:srgbClr val="1c10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4" name="任意多边形: 形状 291"/>
            <p:cNvSpPr/>
            <p:nvPr/>
          </p:nvSpPr>
          <p:spPr>
            <a:xfrm>
              <a:off x="4150440" y="4920480"/>
              <a:ext cx="953280" cy="1231560"/>
            </a:xfrm>
            <a:custGeom>
              <a:avLst/>
              <a:gdLst>
                <a:gd name="textAreaLeft" fmla="*/ 0 w 953280"/>
                <a:gd name="textAreaRight" fmla="*/ 953640 w 953280"/>
                <a:gd name="textAreaTop" fmla="*/ 0 h 1231560"/>
                <a:gd name="textAreaBottom" fmla="*/ 1231920 h 1231560"/>
              </a:gdLst>
              <a:ahLst/>
              <a:rect l="textAreaLeft" t="textAreaTop" r="textAreaRight" b="textAreaBottom"/>
              <a:pathLst>
                <a:path w="953446" h="1231534">
                  <a:moveTo>
                    <a:pt x="834685" y="9932"/>
                  </a:moveTo>
                  <a:lnTo>
                    <a:pt x="77225" y="9932"/>
                  </a:lnTo>
                  <a:cubicBezTo>
                    <a:pt x="77225" y="9932"/>
                    <a:pt x="-27389" y="60253"/>
                    <a:pt x="24256" y="264184"/>
                  </a:cubicBezTo>
                  <a:cubicBezTo>
                    <a:pt x="24256" y="264184"/>
                    <a:pt x="168597" y="877303"/>
                    <a:pt x="348692" y="1181876"/>
                  </a:cubicBezTo>
                  <a:lnTo>
                    <a:pt x="548651" y="1181876"/>
                  </a:lnTo>
                  <a:cubicBezTo>
                    <a:pt x="548651" y="1181876"/>
                    <a:pt x="351341" y="364826"/>
                    <a:pt x="396365" y="322450"/>
                  </a:cubicBezTo>
                  <a:cubicBezTo>
                    <a:pt x="523491" y="272130"/>
                    <a:pt x="594999" y="302587"/>
                    <a:pt x="616187" y="322450"/>
                  </a:cubicBezTo>
                  <a:cubicBezTo>
                    <a:pt x="654590" y="392634"/>
                    <a:pt x="658563" y="1224252"/>
                    <a:pt x="658563" y="1224252"/>
                  </a:cubicBezTo>
                  <a:lnTo>
                    <a:pt x="857197" y="1224252"/>
                  </a:lnTo>
                  <a:cubicBezTo>
                    <a:pt x="919436" y="1025617"/>
                    <a:pt x="1047887" y="148976"/>
                    <a:pt x="834685" y="9932"/>
                  </a:cubicBezTo>
                  <a:close/>
                </a:path>
              </a:pathLst>
            </a:custGeom>
            <a:solidFill>
              <a:srgbClr val="36303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5" name="任意多边形: 形状 292"/>
            <p:cNvSpPr/>
            <p:nvPr/>
          </p:nvSpPr>
          <p:spPr>
            <a:xfrm>
              <a:off x="4209840" y="4925520"/>
              <a:ext cx="834120" cy="317520"/>
            </a:xfrm>
            <a:custGeom>
              <a:avLst/>
              <a:gdLst>
                <a:gd name="textAreaLeft" fmla="*/ 0 w 834120"/>
                <a:gd name="textAreaRight" fmla="*/ 834480 w 834120"/>
                <a:gd name="textAreaTop" fmla="*/ 0 h 317520"/>
                <a:gd name="textAreaBottom" fmla="*/ 317880 h 317520"/>
              </a:gdLst>
              <a:ahLst/>
              <a:rect l="textAreaLeft" t="textAreaTop" r="textAreaRight" b="textAreaBottom"/>
              <a:pathLst>
                <a:path w="834265" h="317815">
                  <a:moveTo>
                    <a:pt x="547569" y="305235"/>
                  </a:moveTo>
                  <a:cubicBezTo>
                    <a:pt x="547569" y="305235"/>
                    <a:pt x="555515" y="-61577"/>
                    <a:pt x="830955" y="74819"/>
                  </a:cubicBezTo>
                  <a:cubicBezTo>
                    <a:pt x="830955" y="74819"/>
                    <a:pt x="816388" y="17877"/>
                    <a:pt x="771364" y="9932"/>
                  </a:cubicBezTo>
                  <a:lnTo>
                    <a:pt x="9932" y="9932"/>
                  </a:lnTo>
                  <a:cubicBezTo>
                    <a:pt x="9932" y="9932"/>
                    <a:pt x="297290" y="16553"/>
                    <a:pt x="337017" y="317153"/>
                  </a:cubicBezTo>
                  <a:cubicBezTo>
                    <a:pt x="337017" y="317153"/>
                    <a:pt x="425740" y="262860"/>
                    <a:pt x="547569" y="305235"/>
                  </a:cubicBezTo>
                  <a:close/>
                </a:path>
              </a:pathLst>
            </a:custGeom>
            <a:solidFill>
              <a:srgbClr val="28242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6" name="任意多边形: 形状 293"/>
            <p:cNvSpPr/>
            <p:nvPr/>
          </p:nvSpPr>
          <p:spPr>
            <a:xfrm>
              <a:off x="1810080" y="4170960"/>
              <a:ext cx="238320" cy="675360"/>
            </a:xfrm>
            <a:custGeom>
              <a:avLst/>
              <a:gdLst>
                <a:gd name="textAreaLeft" fmla="*/ 0 w 238320"/>
                <a:gd name="textAreaRight" fmla="*/ 238680 w 238320"/>
                <a:gd name="textAreaTop" fmla="*/ 0 h 675360"/>
                <a:gd name="textAreaBottom" fmla="*/ 675720 h 675360"/>
              </a:gdLst>
              <a:ahLst/>
              <a:rect l="textAreaLeft" t="textAreaTop" r="textAreaRight" b="textAreaBottom"/>
              <a:pathLst>
                <a:path w="238361" h="675357">
                  <a:moveTo>
                    <a:pt x="11978" y="657040"/>
                  </a:moveTo>
                  <a:lnTo>
                    <a:pt x="167024" y="11978"/>
                  </a:lnTo>
                  <a:lnTo>
                    <a:pt x="228826" y="26832"/>
                  </a:lnTo>
                  <a:lnTo>
                    <a:pt x="73780" y="671895"/>
                  </a:lnTo>
                  <a:lnTo>
                    <a:pt x="11978" y="657040"/>
                  </a:lnTo>
                  <a:close/>
                </a:path>
              </a:pathLst>
            </a:custGeom>
            <a:solidFill>
              <a:srgbClr val="f1f2f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7" name="任意多边形: 形状 294"/>
            <p:cNvSpPr/>
            <p:nvPr/>
          </p:nvSpPr>
          <p:spPr>
            <a:xfrm>
              <a:off x="1116000" y="4767840"/>
              <a:ext cx="781200" cy="79200"/>
            </a:xfrm>
            <a:custGeom>
              <a:avLst/>
              <a:gdLst>
                <a:gd name="textAreaLeft" fmla="*/ 0 w 781200"/>
                <a:gd name="textAreaRight" fmla="*/ 781560 w 781200"/>
                <a:gd name="textAreaTop" fmla="*/ 0 h 79200"/>
                <a:gd name="textAreaBottom" fmla="*/ 79560 h 79200"/>
              </a:gdLst>
              <a:ahLst/>
              <a:rect l="textAreaLeft" t="textAreaTop" r="textAreaRight" b="textAreaBottom"/>
              <a:pathLst>
                <a:path w="781296" h="79453">
                  <a:moveTo>
                    <a:pt x="9932" y="9932"/>
                  </a:moveTo>
                  <a:lnTo>
                    <a:pt x="777986" y="9932"/>
                  </a:lnTo>
                  <a:lnTo>
                    <a:pt x="777986" y="74819"/>
                  </a:lnTo>
                  <a:lnTo>
                    <a:pt x="9932" y="74819"/>
                  </a:lnTo>
                  <a:lnTo>
                    <a:pt x="9932" y="9932"/>
                  </a:lnTo>
                  <a:close/>
                </a:path>
              </a:pathLst>
            </a:custGeom>
            <a:solidFill>
              <a:srgbClr val="f1f2f2"/>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718" name="任意多边形: 形状 295"/>
            <p:cNvSpPr/>
            <p:nvPr/>
          </p:nvSpPr>
          <p:spPr>
            <a:xfrm>
              <a:off x="753120" y="4158360"/>
              <a:ext cx="1059480" cy="635400"/>
            </a:xfrm>
            <a:custGeom>
              <a:avLst/>
              <a:gdLst>
                <a:gd name="textAreaLeft" fmla="*/ 0 w 1059480"/>
                <a:gd name="textAreaRight" fmla="*/ 1059840 w 1059480"/>
                <a:gd name="textAreaTop" fmla="*/ 0 h 635400"/>
                <a:gd name="textAreaBottom" fmla="*/ 635760 h 635400"/>
              </a:gdLst>
              <a:ahLst/>
              <a:rect l="textAreaLeft" t="textAreaTop" r="textAreaRight" b="textAreaBottom"/>
              <a:pathLst>
                <a:path w="1059384" h="635630">
                  <a:moveTo>
                    <a:pt x="138551" y="39413"/>
                  </a:moveTo>
                  <a:cubicBezTo>
                    <a:pt x="138551" y="39413"/>
                    <a:pt x="60421" y="-40041"/>
                    <a:pt x="16721" y="61925"/>
                  </a:cubicBezTo>
                  <a:cubicBezTo>
                    <a:pt x="16721" y="61925"/>
                    <a:pt x="-11088" y="100327"/>
                    <a:pt x="45854" y="206266"/>
                  </a:cubicBezTo>
                  <a:lnTo>
                    <a:pt x="225950" y="561160"/>
                  </a:lnTo>
                  <a:cubicBezTo>
                    <a:pt x="225950" y="561160"/>
                    <a:pt x="694728" y="581023"/>
                    <a:pt x="828475" y="591617"/>
                  </a:cubicBezTo>
                  <a:cubicBezTo>
                    <a:pt x="828475" y="591617"/>
                    <a:pt x="967519" y="633993"/>
                    <a:pt x="1049621" y="632668"/>
                  </a:cubicBezTo>
                  <a:cubicBezTo>
                    <a:pt x="1049621" y="632668"/>
                    <a:pt x="1088024" y="549242"/>
                    <a:pt x="878796" y="529378"/>
                  </a:cubicBezTo>
                  <a:cubicBezTo>
                    <a:pt x="878796" y="529378"/>
                    <a:pt x="457690" y="441979"/>
                    <a:pt x="329240" y="422116"/>
                  </a:cubicBezTo>
                  <a:lnTo>
                    <a:pt x="138551" y="39413"/>
                  </a:lnTo>
                  <a:close/>
                </a:path>
              </a:pathLst>
            </a:custGeom>
            <a:solidFill>
              <a:srgbClr val="f7cb9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19" name="任意多边形: 形状 296"/>
            <p:cNvSpPr/>
            <p:nvPr/>
          </p:nvSpPr>
          <p:spPr>
            <a:xfrm>
              <a:off x="736920" y="4119840"/>
              <a:ext cx="357480" cy="529560"/>
            </a:xfrm>
            <a:custGeom>
              <a:avLst/>
              <a:gdLst>
                <a:gd name="textAreaLeft" fmla="*/ 0 w 357480"/>
                <a:gd name="textAreaRight" fmla="*/ 357840 w 357480"/>
                <a:gd name="textAreaTop" fmla="*/ 0 h 529560"/>
                <a:gd name="textAreaBottom" fmla="*/ 529920 h 529560"/>
              </a:gdLst>
              <a:ahLst/>
              <a:rect l="textAreaLeft" t="textAreaTop" r="textAreaRight" b="textAreaBottom"/>
              <a:pathLst>
                <a:path w="357542" h="529692">
                  <a:moveTo>
                    <a:pt x="183735" y="64711"/>
                  </a:moveTo>
                  <a:cubicBezTo>
                    <a:pt x="183735" y="64711"/>
                    <a:pt x="98984" y="-49173"/>
                    <a:pt x="28800" y="51469"/>
                  </a:cubicBezTo>
                  <a:cubicBezTo>
                    <a:pt x="28800" y="51469"/>
                    <a:pt x="-73166" y="103114"/>
                    <a:pt x="196977" y="528192"/>
                  </a:cubicBezTo>
                  <a:cubicBezTo>
                    <a:pt x="196977" y="528192"/>
                    <a:pt x="326752" y="499059"/>
                    <a:pt x="359858" y="423577"/>
                  </a:cubicBezTo>
                  <a:lnTo>
                    <a:pt x="183735" y="64711"/>
                  </a:lnTo>
                  <a:close/>
                </a:path>
              </a:pathLst>
            </a:custGeom>
            <a:solidFill>
              <a:srgbClr val="f4bb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0" name="任意多边形: 形状 297"/>
            <p:cNvSpPr/>
            <p:nvPr/>
          </p:nvSpPr>
          <p:spPr>
            <a:xfrm>
              <a:off x="782280" y="5781240"/>
              <a:ext cx="145440" cy="52920"/>
            </a:xfrm>
            <a:custGeom>
              <a:avLst/>
              <a:gdLst>
                <a:gd name="textAreaLeft" fmla="*/ 0 w 145440"/>
                <a:gd name="textAreaRight" fmla="*/ 145800 w 145440"/>
                <a:gd name="textAreaTop" fmla="*/ 0 h 52920"/>
                <a:gd name="textAreaBottom" fmla="*/ 53280 h 52920"/>
              </a:gdLst>
              <a:ahLst/>
              <a:rect l="textAreaLeft" t="textAreaTop" r="textAreaRight" b="textAreaBottom"/>
              <a:pathLst>
                <a:path w="145665" h="52969">
                  <a:moveTo>
                    <a:pt x="9932" y="29795"/>
                  </a:moveTo>
                  <a:cubicBezTo>
                    <a:pt x="9932" y="40389"/>
                    <a:pt x="39065" y="49659"/>
                    <a:pt x="73495" y="49659"/>
                  </a:cubicBezTo>
                  <a:cubicBezTo>
                    <a:pt x="109249" y="49659"/>
                    <a:pt x="137058" y="40389"/>
                    <a:pt x="137058" y="29795"/>
                  </a:cubicBezTo>
                  <a:cubicBezTo>
                    <a:pt x="137058" y="19202"/>
                    <a:pt x="107925" y="9932"/>
                    <a:pt x="73495" y="9932"/>
                  </a:cubicBezTo>
                  <a:cubicBezTo>
                    <a:pt x="39065" y="11256"/>
                    <a:pt x="9932" y="19202"/>
                    <a:pt x="9932" y="29795"/>
                  </a:cubicBezTo>
                  <a:close/>
                </a:path>
              </a:pathLst>
            </a:custGeom>
            <a:solidFill>
              <a:srgbClr val="5f7673"/>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721" name="任意多边形: 形状 298"/>
            <p:cNvSpPr/>
            <p:nvPr/>
          </p:nvSpPr>
          <p:spPr>
            <a:xfrm>
              <a:off x="802080" y="5464800"/>
              <a:ext cx="105840" cy="516240"/>
            </a:xfrm>
            <a:custGeom>
              <a:avLst/>
              <a:gdLst>
                <a:gd name="textAreaLeft" fmla="*/ 0 w 105840"/>
                <a:gd name="textAreaRight" fmla="*/ 106200 w 105840"/>
                <a:gd name="textAreaTop" fmla="*/ 0 h 516240"/>
                <a:gd name="textAreaBottom" fmla="*/ 516600 h 516240"/>
              </a:gdLst>
              <a:ahLst/>
              <a:rect l="textAreaLeft" t="textAreaTop" r="textAreaRight" b="textAreaBottom"/>
              <a:pathLst>
                <a:path w="105938" h="516450">
                  <a:moveTo>
                    <a:pt x="9932" y="9932"/>
                  </a:moveTo>
                  <a:lnTo>
                    <a:pt x="98655" y="9932"/>
                  </a:lnTo>
                  <a:lnTo>
                    <a:pt x="98655" y="507843"/>
                  </a:lnTo>
                  <a:lnTo>
                    <a:pt x="9932" y="507843"/>
                  </a:lnTo>
                  <a:lnTo>
                    <a:pt x="9932" y="9932"/>
                  </a:lnTo>
                  <a:close/>
                </a:path>
              </a:pathLst>
            </a:custGeom>
            <a:solidFill>
              <a:srgbClr val="d3d2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2" name="任意多边形: 形状 299"/>
            <p:cNvSpPr/>
            <p:nvPr/>
          </p:nvSpPr>
          <p:spPr>
            <a:xfrm>
              <a:off x="867240" y="5464800"/>
              <a:ext cx="39600" cy="516240"/>
            </a:xfrm>
            <a:custGeom>
              <a:avLst/>
              <a:gdLst>
                <a:gd name="textAreaLeft" fmla="*/ 0 w 39600"/>
                <a:gd name="textAreaRight" fmla="*/ 39960 w 39600"/>
                <a:gd name="textAreaTop" fmla="*/ 0 h 516240"/>
                <a:gd name="textAreaBottom" fmla="*/ 516600 h 516240"/>
              </a:gdLst>
              <a:ahLst/>
              <a:rect l="textAreaLeft" t="textAreaTop" r="textAreaRight" b="textAreaBottom"/>
              <a:pathLst>
                <a:path w="39726" h="516450">
                  <a:moveTo>
                    <a:pt x="9932" y="9932"/>
                  </a:moveTo>
                  <a:lnTo>
                    <a:pt x="31119" y="9932"/>
                  </a:lnTo>
                  <a:lnTo>
                    <a:pt x="31119" y="507843"/>
                  </a:lnTo>
                  <a:lnTo>
                    <a:pt x="9932" y="507843"/>
                  </a:lnTo>
                  <a:lnTo>
                    <a:pt x="9932" y="9932"/>
                  </a:lnTo>
                  <a:close/>
                </a:path>
              </a:pathLst>
            </a:custGeom>
            <a:solidFill>
              <a:srgbClr val="e9e8e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3" name="任意多边形: 形状 300"/>
            <p:cNvSpPr/>
            <p:nvPr/>
          </p:nvSpPr>
          <p:spPr>
            <a:xfrm>
              <a:off x="783720" y="5798520"/>
              <a:ext cx="145440" cy="225000"/>
            </a:xfrm>
            <a:custGeom>
              <a:avLst/>
              <a:gdLst>
                <a:gd name="textAreaLeft" fmla="*/ 0 w 145440"/>
                <a:gd name="textAreaRight" fmla="*/ 145800 w 145440"/>
                <a:gd name="textAreaTop" fmla="*/ 0 h 225000"/>
                <a:gd name="textAreaBottom" fmla="*/ 225360 h 225000"/>
              </a:gdLst>
              <a:ahLst/>
              <a:rect l="textAreaLeft" t="textAreaTop" r="textAreaRight" b="textAreaBottom"/>
              <a:pathLst>
                <a:path w="145665" h="225119">
                  <a:moveTo>
                    <a:pt x="137058" y="215188"/>
                  </a:moveTo>
                  <a:cubicBezTo>
                    <a:pt x="137058" y="215188"/>
                    <a:pt x="103952" y="223133"/>
                    <a:pt x="73495" y="223133"/>
                  </a:cubicBezTo>
                  <a:cubicBezTo>
                    <a:pt x="41713" y="223133"/>
                    <a:pt x="9932" y="215188"/>
                    <a:pt x="9932" y="215188"/>
                  </a:cubicBezTo>
                  <a:lnTo>
                    <a:pt x="9932" y="9932"/>
                  </a:lnTo>
                  <a:cubicBezTo>
                    <a:pt x="9932" y="9932"/>
                    <a:pt x="31119" y="23174"/>
                    <a:pt x="73495" y="23174"/>
                  </a:cubicBezTo>
                  <a:cubicBezTo>
                    <a:pt x="115870" y="23174"/>
                    <a:pt x="137058" y="9932"/>
                    <a:pt x="137058" y="9932"/>
                  </a:cubicBezTo>
                  <a:lnTo>
                    <a:pt x="137058" y="215188"/>
                  </a:lnTo>
                  <a:close/>
                </a:path>
              </a:pathLst>
            </a:custGeom>
            <a:solidFill>
              <a:srgbClr val="6e7c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4" name="任意多边形: 形状 301"/>
            <p:cNvSpPr/>
            <p:nvPr/>
          </p:nvSpPr>
          <p:spPr>
            <a:xfrm>
              <a:off x="161280" y="5958720"/>
              <a:ext cx="1390320" cy="330840"/>
            </a:xfrm>
            <a:custGeom>
              <a:avLst/>
              <a:gdLst>
                <a:gd name="textAreaLeft" fmla="*/ 0 w 1390320"/>
                <a:gd name="textAreaRight" fmla="*/ 1390680 w 1390320"/>
                <a:gd name="textAreaTop" fmla="*/ 0 h 330840"/>
                <a:gd name="textAreaBottom" fmla="*/ 331200 h 330840"/>
              </a:gdLst>
              <a:ahLst/>
              <a:rect l="textAreaLeft" t="textAreaTop" r="textAreaRight" b="textAreaBottom"/>
              <a:pathLst>
                <a:path w="1390442" h="331057">
                  <a:moveTo>
                    <a:pt x="1306354" y="123816"/>
                  </a:moveTo>
                  <a:cubicBezTo>
                    <a:pt x="1257357" y="86737"/>
                    <a:pt x="893194" y="85413"/>
                    <a:pt x="816388" y="65550"/>
                  </a:cubicBezTo>
                  <a:cubicBezTo>
                    <a:pt x="748853" y="47010"/>
                    <a:pt x="740907" y="9932"/>
                    <a:pt x="740907" y="9932"/>
                  </a:cubicBezTo>
                  <a:lnTo>
                    <a:pt x="649535" y="9932"/>
                  </a:lnTo>
                  <a:cubicBezTo>
                    <a:pt x="649535" y="9932"/>
                    <a:pt x="641590" y="47010"/>
                    <a:pt x="574054" y="65550"/>
                  </a:cubicBezTo>
                  <a:cubicBezTo>
                    <a:pt x="497249" y="86737"/>
                    <a:pt x="133085" y="88062"/>
                    <a:pt x="84089" y="123816"/>
                  </a:cubicBezTo>
                  <a:cubicBezTo>
                    <a:pt x="35092" y="160894"/>
                    <a:pt x="9932" y="278751"/>
                    <a:pt x="9932" y="278751"/>
                  </a:cubicBezTo>
                  <a:lnTo>
                    <a:pt x="57604" y="290669"/>
                  </a:lnTo>
                  <a:cubicBezTo>
                    <a:pt x="57604" y="290669"/>
                    <a:pt x="85413" y="217836"/>
                    <a:pt x="145003" y="174137"/>
                  </a:cubicBezTo>
                  <a:cubicBezTo>
                    <a:pt x="183406" y="145003"/>
                    <a:pt x="611133" y="178109"/>
                    <a:pt x="611133" y="178109"/>
                  </a:cubicBezTo>
                  <a:lnTo>
                    <a:pt x="661453" y="325099"/>
                  </a:lnTo>
                  <a:lnTo>
                    <a:pt x="672047" y="325099"/>
                  </a:lnTo>
                  <a:lnTo>
                    <a:pt x="695883" y="325099"/>
                  </a:lnTo>
                  <a:lnTo>
                    <a:pt x="728989" y="325099"/>
                  </a:lnTo>
                  <a:lnTo>
                    <a:pt x="779310" y="178109"/>
                  </a:lnTo>
                  <a:cubicBezTo>
                    <a:pt x="779310" y="178109"/>
                    <a:pt x="1207036" y="146328"/>
                    <a:pt x="1245439" y="174137"/>
                  </a:cubicBezTo>
                  <a:cubicBezTo>
                    <a:pt x="1305030" y="217836"/>
                    <a:pt x="1332838" y="290669"/>
                    <a:pt x="1332838" y="290669"/>
                  </a:cubicBezTo>
                  <a:lnTo>
                    <a:pt x="1380511" y="278751"/>
                  </a:lnTo>
                  <a:cubicBezTo>
                    <a:pt x="1381835" y="278751"/>
                    <a:pt x="1356674" y="160894"/>
                    <a:pt x="1306354" y="123816"/>
                  </a:cubicBezTo>
                  <a:close/>
                </a:path>
              </a:pathLst>
            </a:custGeom>
            <a:solidFill>
              <a:srgbClr val="5a5a5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5" name="任意多边形: 形状 302"/>
            <p:cNvSpPr/>
            <p:nvPr/>
          </p:nvSpPr>
          <p:spPr>
            <a:xfrm>
              <a:off x="771840" y="6203880"/>
              <a:ext cx="158760" cy="158760"/>
            </a:xfrm>
            <a:custGeom>
              <a:avLst/>
              <a:gdLst>
                <a:gd name="textAreaLeft" fmla="*/ 0 w 158760"/>
                <a:gd name="textAreaRight" fmla="*/ 159120 w 158760"/>
                <a:gd name="textAreaTop" fmla="*/ 0 h 158760"/>
                <a:gd name="textAreaBottom" fmla="*/ 159120 h 158760"/>
              </a:gdLst>
              <a:ahLst/>
              <a:rect l="textAreaLeft" t="textAreaTop" r="textAreaRight" b="textAreaBottom"/>
              <a:pathLst>
                <a:path w="158907" h="158907">
                  <a:moveTo>
                    <a:pt x="158246" y="84089"/>
                  </a:moveTo>
                  <a:cubicBezTo>
                    <a:pt x="158246" y="125140"/>
                    <a:pt x="125140" y="158246"/>
                    <a:pt x="84089" y="158246"/>
                  </a:cubicBezTo>
                  <a:cubicBezTo>
                    <a:pt x="43038" y="158246"/>
                    <a:pt x="9932" y="125140"/>
                    <a:pt x="9932" y="84089"/>
                  </a:cubicBezTo>
                  <a:cubicBezTo>
                    <a:pt x="9932" y="43038"/>
                    <a:pt x="43038" y="9932"/>
                    <a:pt x="84089" y="9932"/>
                  </a:cubicBezTo>
                  <a:cubicBezTo>
                    <a:pt x="125140" y="9932"/>
                    <a:pt x="158246" y="43038"/>
                    <a:pt x="158246" y="8408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6" name="任意多边形: 形状 303"/>
            <p:cNvSpPr/>
            <p:nvPr/>
          </p:nvSpPr>
          <p:spPr>
            <a:xfrm>
              <a:off x="108360" y="6203880"/>
              <a:ext cx="158760" cy="158760"/>
            </a:xfrm>
            <a:custGeom>
              <a:avLst/>
              <a:gdLst>
                <a:gd name="textAreaLeft" fmla="*/ 0 w 158760"/>
                <a:gd name="textAreaRight" fmla="*/ 159120 w 158760"/>
                <a:gd name="textAreaTop" fmla="*/ 0 h 158760"/>
                <a:gd name="textAreaBottom" fmla="*/ 159120 h 158760"/>
              </a:gdLst>
              <a:ahLst/>
              <a:rect l="textAreaLeft" t="textAreaTop" r="textAreaRight" b="textAreaBottom"/>
              <a:pathLst>
                <a:path w="158907" h="158907">
                  <a:moveTo>
                    <a:pt x="158246" y="84089"/>
                  </a:moveTo>
                  <a:cubicBezTo>
                    <a:pt x="158246" y="125140"/>
                    <a:pt x="125140" y="158246"/>
                    <a:pt x="84089" y="158246"/>
                  </a:cubicBezTo>
                  <a:cubicBezTo>
                    <a:pt x="43038" y="158246"/>
                    <a:pt x="9932" y="125140"/>
                    <a:pt x="9932" y="84089"/>
                  </a:cubicBezTo>
                  <a:cubicBezTo>
                    <a:pt x="9932" y="43038"/>
                    <a:pt x="43038" y="9932"/>
                    <a:pt x="84089" y="9932"/>
                  </a:cubicBezTo>
                  <a:cubicBezTo>
                    <a:pt x="125140" y="9932"/>
                    <a:pt x="158246" y="43038"/>
                    <a:pt x="158246" y="8408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7" name="任意多边形: 形状 304"/>
            <p:cNvSpPr/>
            <p:nvPr/>
          </p:nvSpPr>
          <p:spPr>
            <a:xfrm>
              <a:off x="1433880" y="6203880"/>
              <a:ext cx="158760" cy="158760"/>
            </a:xfrm>
            <a:custGeom>
              <a:avLst/>
              <a:gdLst>
                <a:gd name="textAreaLeft" fmla="*/ 0 w 158760"/>
                <a:gd name="textAreaRight" fmla="*/ 159120 w 158760"/>
                <a:gd name="textAreaTop" fmla="*/ 0 h 158760"/>
                <a:gd name="textAreaBottom" fmla="*/ 159120 h 158760"/>
              </a:gdLst>
              <a:ahLst/>
              <a:rect l="textAreaLeft" t="textAreaTop" r="textAreaRight" b="textAreaBottom"/>
              <a:pathLst>
                <a:path w="158907" h="158907">
                  <a:moveTo>
                    <a:pt x="158246" y="84089"/>
                  </a:moveTo>
                  <a:cubicBezTo>
                    <a:pt x="158246" y="125140"/>
                    <a:pt x="125140" y="158246"/>
                    <a:pt x="84089" y="158246"/>
                  </a:cubicBezTo>
                  <a:cubicBezTo>
                    <a:pt x="43038" y="158246"/>
                    <a:pt x="9932" y="125140"/>
                    <a:pt x="9932" y="84089"/>
                  </a:cubicBezTo>
                  <a:cubicBezTo>
                    <a:pt x="9932" y="43038"/>
                    <a:pt x="43038" y="9932"/>
                    <a:pt x="84089" y="9932"/>
                  </a:cubicBezTo>
                  <a:cubicBezTo>
                    <a:pt x="125140" y="9932"/>
                    <a:pt x="158246" y="43038"/>
                    <a:pt x="158246" y="84089"/>
                  </a:cubicBezTo>
                  <a:close/>
                </a:path>
              </a:pathLst>
            </a:custGeom>
            <a:solidFill>
              <a:srgbClr val="2c2c2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8" name="任意多边形: 形状 305"/>
            <p:cNvSpPr/>
            <p:nvPr/>
          </p:nvSpPr>
          <p:spPr>
            <a:xfrm>
              <a:off x="676440" y="5405040"/>
              <a:ext cx="357480" cy="105840"/>
            </a:xfrm>
            <a:custGeom>
              <a:avLst/>
              <a:gdLst>
                <a:gd name="textAreaLeft" fmla="*/ 0 w 357480"/>
                <a:gd name="textAreaRight" fmla="*/ 357840 w 357480"/>
                <a:gd name="textAreaTop" fmla="*/ 0 h 105840"/>
                <a:gd name="textAreaBottom" fmla="*/ 106200 h 105840"/>
              </a:gdLst>
              <a:ahLst/>
              <a:rect l="textAreaLeft" t="textAreaTop" r="textAreaRight" b="textAreaBottom"/>
              <a:pathLst>
                <a:path w="357542" h="105938">
                  <a:moveTo>
                    <a:pt x="325099" y="99979"/>
                  </a:moveTo>
                  <a:lnTo>
                    <a:pt x="35092" y="98655"/>
                  </a:lnTo>
                  <a:lnTo>
                    <a:pt x="9932" y="9932"/>
                  </a:lnTo>
                  <a:lnTo>
                    <a:pt x="350259" y="9932"/>
                  </a:lnTo>
                  <a:lnTo>
                    <a:pt x="325099" y="99979"/>
                  </a:lnTo>
                  <a:close/>
                </a:path>
              </a:pathLst>
            </a:custGeom>
            <a:solidFill>
              <a:srgbClr val="5f767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29" name="任意多边形: 形状 306"/>
            <p:cNvSpPr/>
            <p:nvPr/>
          </p:nvSpPr>
          <p:spPr>
            <a:xfrm>
              <a:off x="431280" y="5369400"/>
              <a:ext cx="900360" cy="65880"/>
            </a:xfrm>
            <a:custGeom>
              <a:avLst/>
              <a:gdLst>
                <a:gd name="textAreaLeft" fmla="*/ 0 w 900360"/>
                <a:gd name="textAreaRight" fmla="*/ 900720 w 900360"/>
                <a:gd name="textAreaTop" fmla="*/ 0 h 65880"/>
                <a:gd name="textAreaBottom" fmla="*/ 66240 h 65880"/>
              </a:gdLst>
              <a:ahLst/>
              <a:rect l="textAreaLeft" t="textAreaTop" r="textAreaRight" b="textAreaBottom"/>
              <a:pathLst>
                <a:path w="900476" h="66211">
                  <a:moveTo>
                    <a:pt x="897166" y="35092"/>
                  </a:moveTo>
                  <a:cubicBezTo>
                    <a:pt x="897166" y="48335"/>
                    <a:pt x="882600" y="60253"/>
                    <a:pt x="865385" y="60253"/>
                  </a:cubicBezTo>
                  <a:lnTo>
                    <a:pt x="41713" y="60253"/>
                  </a:lnTo>
                  <a:cubicBezTo>
                    <a:pt x="24498" y="60253"/>
                    <a:pt x="9932" y="49659"/>
                    <a:pt x="9932" y="35092"/>
                  </a:cubicBezTo>
                  <a:cubicBezTo>
                    <a:pt x="9932" y="21850"/>
                    <a:pt x="24498" y="9932"/>
                    <a:pt x="41713" y="9932"/>
                  </a:cubicBezTo>
                  <a:lnTo>
                    <a:pt x="865385" y="9932"/>
                  </a:lnTo>
                  <a:cubicBezTo>
                    <a:pt x="882600" y="9932"/>
                    <a:pt x="897166" y="21850"/>
                    <a:pt x="897166" y="35092"/>
                  </a:cubicBezTo>
                  <a:close/>
                </a:path>
              </a:pathLst>
            </a:custGeom>
            <a:solidFill>
              <a:srgbClr val="5a5a5c"/>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730" name="任意多边形: 形状 307"/>
            <p:cNvSpPr/>
            <p:nvPr/>
          </p:nvSpPr>
          <p:spPr>
            <a:xfrm>
              <a:off x="182880" y="4354920"/>
              <a:ext cx="264600" cy="1046160"/>
            </a:xfrm>
            <a:custGeom>
              <a:avLst/>
              <a:gdLst>
                <a:gd name="textAreaLeft" fmla="*/ 0 w 264600"/>
                <a:gd name="textAreaRight" fmla="*/ 264960 w 264600"/>
                <a:gd name="textAreaTop" fmla="*/ 0 h 1046160"/>
                <a:gd name="textAreaBottom" fmla="*/ 1046520 h 1046160"/>
              </a:gdLst>
              <a:ahLst/>
              <a:rect l="textAreaLeft" t="textAreaTop" r="textAreaRight" b="textAreaBottom"/>
              <a:pathLst>
                <a:path w="264846" h="1046142">
                  <a:moveTo>
                    <a:pt x="22532" y="28471"/>
                  </a:moveTo>
                  <a:cubicBezTo>
                    <a:pt x="13262" y="36416"/>
                    <a:pt x="7965" y="56280"/>
                    <a:pt x="10613" y="97331"/>
                  </a:cubicBezTo>
                  <a:cubicBezTo>
                    <a:pt x="13262" y="138382"/>
                    <a:pt x="23856" y="445604"/>
                    <a:pt x="37098" y="487979"/>
                  </a:cubicBezTo>
                  <a:cubicBezTo>
                    <a:pt x="50340" y="825658"/>
                    <a:pt x="131118" y="923651"/>
                    <a:pt x="178791" y="984566"/>
                  </a:cubicBezTo>
                  <a:cubicBezTo>
                    <a:pt x="197330" y="1007078"/>
                    <a:pt x="209248" y="1041508"/>
                    <a:pt x="263542" y="1040183"/>
                  </a:cubicBezTo>
                  <a:cubicBezTo>
                    <a:pt x="254272" y="1017671"/>
                    <a:pt x="239705" y="927624"/>
                    <a:pt x="239705" y="878627"/>
                  </a:cubicBezTo>
                  <a:cubicBezTo>
                    <a:pt x="164224" y="868033"/>
                    <a:pt x="123173" y="652184"/>
                    <a:pt x="125822" y="536976"/>
                  </a:cubicBezTo>
                  <a:cubicBezTo>
                    <a:pt x="127146" y="446928"/>
                    <a:pt x="80798" y="9932"/>
                    <a:pt x="80798" y="9932"/>
                  </a:cubicBezTo>
                  <a:cubicBezTo>
                    <a:pt x="80798" y="9932"/>
                    <a:pt x="45043" y="9932"/>
                    <a:pt x="22532" y="28471"/>
                  </a:cubicBezTo>
                  <a:close/>
                </a:path>
              </a:pathLst>
            </a:custGeom>
            <a:solidFill>
              <a:srgbClr val="5a5a5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31" name="任意多边形: 形状 308"/>
            <p:cNvSpPr/>
            <p:nvPr/>
          </p:nvSpPr>
          <p:spPr>
            <a:xfrm>
              <a:off x="203760" y="4041000"/>
              <a:ext cx="277920" cy="927000"/>
            </a:xfrm>
            <a:custGeom>
              <a:avLst/>
              <a:gdLst>
                <a:gd name="textAreaLeft" fmla="*/ 0 w 277920"/>
                <a:gd name="textAreaRight" fmla="*/ 278280 w 277920"/>
                <a:gd name="textAreaTop" fmla="*/ 0 h 927000"/>
                <a:gd name="textAreaBottom" fmla="*/ 927360 h 927000"/>
              </a:gdLst>
              <a:ahLst/>
              <a:rect l="textAreaLeft" t="textAreaTop" r="textAreaRight" b="textAreaBottom"/>
              <a:pathLst>
                <a:path w="278088" h="926961">
                  <a:moveTo>
                    <a:pt x="83936" y="899815"/>
                  </a:moveTo>
                  <a:cubicBezTo>
                    <a:pt x="93206" y="942190"/>
                    <a:pt x="236223" y="910409"/>
                    <a:pt x="249465" y="877303"/>
                  </a:cubicBezTo>
                  <a:cubicBezTo>
                    <a:pt x="282571" y="791228"/>
                    <a:pt x="273301" y="725016"/>
                    <a:pt x="245493" y="604511"/>
                  </a:cubicBezTo>
                  <a:cubicBezTo>
                    <a:pt x="224305" y="509167"/>
                    <a:pt x="187226" y="163543"/>
                    <a:pt x="181930" y="119843"/>
                  </a:cubicBezTo>
                  <a:cubicBezTo>
                    <a:pt x="170011" y="19201"/>
                    <a:pt x="158093" y="9932"/>
                    <a:pt x="119691" y="9932"/>
                  </a:cubicBezTo>
                  <a:cubicBezTo>
                    <a:pt x="81288" y="9932"/>
                    <a:pt x="19049" y="21850"/>
                    <a:pt x="11104" y="57604"/>
                  </a:cubicBezTo>
                  <a:cubicBezTo>
                    <a:pt x="3158" y="93358"/>
                    <a:pt x="37588" y="399256"/>
                    <a:pt x="54803" y="519761"/>
                  </a:cubicBezTo>
                  <a:cubicBezTo>
                    <a:pt x="58776" y="547570"/>
                    <a:pt x="61425" y="571406"/>
                    <a:pt x="61425" y="588621"/>
                  </a:cubicBezTo>
                  <a:cubicBezTo>
                    <a:pt x="62749" y="676020"/>
                    <a:pt x="81288" y="881276"/>
                    <a:pt x="83936" y="899815"/>
                  </a:cubicBezTo>
                  <a:close/>
                </a:path>
              </a:pathLst>
            </a:custGeom>
            <a:solidFill>
              <a:srgbClr val="566b7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32" name="任意多边形: 形状 309"/>
            <p:cNvSpPr/>
            <p:nvPr/>
          </p:nvSpPr>
          <p:spPr>
            <a:xfrm>
              <a:off x="410040" y="5192640"/>
              <a:ext cx="966600" cy="211680"/>
            </a:xfrm>
            <a:custGeom>
              <a:avLst/>
              <a:gdLst>
                <a:gd name="textAreaLeft" fmla="*/ 0 w 966600"/>
                <a:gd name="textAreaRight" fmla="*/ 966960 w 966600"/>
                <a:gd name="textAreaTop" fmla="*/ 0 h 211680"/>
                <a:gd name="textAreaBottom" fmla="*/ 212040 h 211680"/>
              </a:gdLst>
              <a:ahLst/>
              <a:rect l="textAreaLeft" t="textAreaTop" r="textAreaRight" b="textAreaBottom"/>
              <a:pathLst>
                <a:path w="966688" h="211876">
                  <a:moveTo>
                    <a:pt x="964702" y="174723"/>
                  </a:moveTo>
                  <a:cubicBezTo>
                    <a:pt x="964702" y="190614"/>
                    <a:pt x="947487" y="203856"/>
                    <a:pt x="926299" y="203856"/>
                  </a:cubicBezTo>
                  <a:lnTo>
                    <a:pt x="48334" y="203856"/>
                  </a:lnTo>
                  <a:cubicBezTo>
                    <a:pt x="27147" y="203856"/>
                    <a:pt x="9932" y="190614"/>
                    <a:pt x="9932" y="174723"/>
                  </a:cubicBezTo>
                  <a:lnTo>
                    <a:pt x="9932" y="46273"/>
                  </a:lnTo>
                  <a:cubicBezTo>
                    <a:pt x="9932" y="30382"/>
                    <a:pt x="19201" y="10518"/>
                    <a:pt x="90710" y="15815"/>
                  </a:cubicBezTo>
                  <a:cubicBezTo>
                    <a:pt x="179433" y="23761"/>
                    <a:pt x="253590" y="39652"/>
                    <a:pt x="513140" y="31706"/>
                  </a:cubicBezTo>
                  <a:cubicBezTo>
                    <a:pt x="772689" y="23761"/>
                    <a:pt x="800498" y="6546"/>
                    <a:pt x="878627" y="10518"/>
                  </a:cubicBezTo>
                  <a:cubicBezTo>
                    <a:pt x="942190" y="13167"/>
                    <a:pt x="963378" y="30382"/>
                    <a:pt x="963378" y="46273"/>
                  </a:cubicBezTo>
                  <a:lnTo>
                    <a:pt x="963378" y="174723"/>
                  </a:lnTo>
                  <a:lnTo>
                    <a:pt x="964702" y="174723"/>
                  </a:lnTo>
                  <a:close/>
                </a:path>
              </a:pathLst>
            </a:custGeom>
            <a:solidFill>
              <a:srgbClr val="6e7c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33" name="任意多边形: 形状 310"/>
            <p:cNvSpPr/>
            <p:nvPr/>
          </p:nvSpPr>
          <p:spPr>
            <a:xfrm>
              <a:off x="1231200" y="5016600"/>
              <a:ext cx="291240" cy="1364040"/>
            </a:xfrm>
            <a:custGeom>
              <a:avLst/>
              <a:gdLst>
                <a:gd name="textAreaLeft" fmla="*/ 0 w 291240"/>
                <a:gd name="textAreaRight" fmla="*/ 291600 w 291240"/>
                <a:gd name="textAreaTop" fmla="*/ 0 h 1364040"/>
                <a:gd name="textAreaBottom" fmla="*/ 1364400 h 1364040"/>
              </a:gdLst>
              <a:ahLst/>
              <a:rect l="textAreaLeft" t="textAreaTop" r="textAreaRight" b="textAreaBottom"/>
              <a:pathLst>
                <a:path w="291330" h="1363957">
                  <a:moveTo>
                    <a:pt x="92014" y="10518"/>
                  </a:moveTo>
                  <a:cubicBezTo>
                    <a:pt x="92014" y="10518"/>
                    <a:pt x="233707" y="42299"/>
                    <a:pt x="233707" y="111159"/>
                  </a:cubicBezTo>
                  <a:cubicBezTo>
                    <a:pt x="233707" y="111159"/>
                    <a:pt x="254895" y="593180"/>
                    <a:pt x="203250" y="1030176"/>
                  </a:cubicBezTo>
                  <a:cubicBezTo>
                    <a:pt x="203250" y="1030176"/>
                    <a:pt x="200601" y="1231459"/>
                    <a:pt x="242976" y="1251322"/>
                  </a:cubicBezTo>
                  <a:cubicBezTo>
                    <a:pt x="242976" y="1251322"/>
                    <a:pt x="285352" y="1317534"/>
                    <a:pt x="281379" y="1362557"/>
                  </a:cubicBezTo>
                  <a:cubicBezTo>
                    <a:pt x="281379" y="1362557"/>
                    <a:pt x="78772" y="1283104"/>
                    <a:pt x="127768" y="1056660"/>
                  </a:cubicBezTo>
                  <a:cubicBezTo>
                    <a:pt x="127768" y="1056660"/>
                    <a:pt x="107905" y="938804"/>
                    <a:pt x="92014" y="865971"/>
                  </a:cubicBezTo>
                  <a:cubicBezTo>
                    <a:pt x="92014" y="865971"/>
                    <a:pt x="39045" y="530941"/>
                    <a:pt x="31100" y="458108"/>
                  </a:cubicBezTo>
                  <a:cubicBezTo>
                    <a:pt x="31100" y="458108"/>
                    <a:pt x="-27167" y="89972"/>
                    <a:pt x="49639" y="55542"/>
                  </a:cubicBezTo>
                  <a:cubicBezTo>
                    <a:pt x="49639" y="55542"/>
                    <a:pt x="70826" y="3897"/>
                    <a:pt x="92014" y="10518"/>
                  </a:cubicBezTo>
                  <a:close/>
                </a:path>
              </a:pathLst>
            </a:custGeom>
            <a:solidFill>
              <a:srgbClr val="f7cb9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34" name="任意多边形: 形状 311"/>
            <p:cNvSpPr/>
            <p:nvPr/>
          </p:nvSpPr>
          <p:spPr>
            <a:xfrm>
              <a:off x="615600" y="384480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9726" h="39726">
                  <a:moveTo>
                    <a:pt x="-27795" y="9932"/>
                  </a:moveTo>
                  <a:cubicBezTo>
                    <a:pt x="-27795" y="9932"/>
                    <a:pt x="31119" y="-31768"/>
                    <a:pt x="9932" y="-25147"/>
                  </a:cubicBezTo>
                  <a:cubicBezTo>
                    <a:pt x="9932" y="-25147"/>
                    <a:pt x="23174" y="-31768"/>
                    <a:pt x="24498" y="9932"/>
                  </a:cubicBezTo>
                  <a:lnTo>
                    <a:pt x="-27795" y="9932"/>
                  </a:lnTo>
                  <a:close/>
                </a:path>
              </a:pathLst>
            </a:custGeom>
            <a:solidFill>
              <a:srgbClr val="42210b"/>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735" name="任意多边形: 形状 312"/>
            <p:cNvSpPr/>
            <p:nvPr/>
          </p:nvSpPr>
          <p:spPr>
            <a:xfrm>
              <a:off x="914400" y="5038200"/>
              <a:ext cx="516240" cy="1350720"/>
            </a:xfrm>
            <a:custGeom>
              <a:avLst/>
              <a:gdLst>
                <a:gd name="textAreaLeft" fmla="*/ 0 w 516240"/>
                <a:gd name="textAreaRight" fmla="*/ 516600 w 516240"/>
                <a:gd name="textAreaTop" fmla="*/ 0 h 1350720"/>
                <a:gd name="textAreaBottom" fmla="*/ 1351080 h 1350720"/>
              </a:gdLst>
              <a:ahLst/>
              <a:rect l="textAreaLeft" t="textAreaTop" r="textAreaRight" b="textAreaBottom"/>
              <a:pathLst>
                <a:path w="516450" h="1350715">
                  <a:moveTo>
                    <a:pt x="122789" y="235051"/>
                  </a:moveTo>
                  <a:cubicBezTo>
                    <a:pt x="122789" y="235051"/>
                    <a:pt x="206215" y="229754"/>
                    <a:pt x="259185" y="250942"/>
                  </a:cubicBezTo>
                  <a:cubicBezTo>
                    <a:pt x="259185" y="250942"/>
                    <a:pt x="170461" y="481358"/>
                    <a:pt x="150598" y="578027"/>
                  </a:cubicBezTo>
                  <a:cubicBezTo>
                    <a:pt x="150598" y="578027"/>
                    <a:pt x="130734" y="634969"/>
                    <a:pt x="108222" y="828307"/>
                  </a:cubicBezTo>
                  <a:cubicBezTo>
                    <a:pt x="108222" y="828307"/>
                    <a:pt x="94980" y="1013699"/>
                    <a:pt x="32741" y="1033562"/>
                  </a:cubicBezTo>
                  <a:cubicBezTo>
                    <a:pt x="32741" y="1033562"/>
                    <a:pt x="10229" y="1041508"/>
                    <a:pt x="15526" y="1111692"/>
                  </a:cubicBezTo>
                  <a:cubicBezTo>
                    <a:pt x="15526" y="1111692"/>
                    <a:pt x="-18904" y="1289139"/>
                    <a:pt x="83062" y="1340784"/>
                  </a:cubicBezTo>
                  <a:cubicBezTo>
                    <a:pt x="83062" y="1340784"/>
                    <a:pt x="96304" y="1327542"/>
                    <a:pt x="91007" y="1241467"/>
                  </a:cubicBezTo>
                  <a:cubicBezTo>
                    <a:pt x="91007" y="1241467"/>
                    <a:pt x="79089" y="1163337"/>
                    <a:pt x="121465" y="1066668"/>
                  </a:cubicBezTo>
                  <a:cubicBezTo>
                    <a:pt x="121465" y="1066668"/>
                    <a:pt x="387635" y="514464"/>
                    <a:pt x="468413" y="322450"/>
                  </a:cubicBezTo>
                  <a:cubicBezTo>
                    <a:pt x="468413" y="322450"/>
                    <a:pt x="546543" y="190027"/>
                    <a:pt x="509464" y="114546"/>
                  </a:cubicBezTo>
                  <a:cubicBezTo>
                    <a:pt x="509464" y="114546"/>
                    <a:pt x="444577" y="31120"/>
                    <a:pt x="245942" y="9932"/>
                  </a:cubicBezTo>
                  <a:cubicBezTo>
                    <a:pt x="245942" y="9932"/>
                    <a:pt x="101601" y="17877"/>
                    <a:pt x="122789" y="235051"/>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36" name="任意多边形: 形状 313"/>
            <p:cNvSpPr/>
            <p:nvPr/>
          </p:nvSpPr>
          <p:spPr>
            <a:xfrm>
              <a:off x="863280" y="6036840"/>
              <a:ext cx="158760" cy="370800"/>
            </a:xfrm>
            <a:custGeom>
              <a:avLst/>
              <a:gdLst>
                <a:gd name="textAreaLeft" fmla="*/ 0 w 158760"/>
                <a:gd name="textAreaRight" fmla="*/ 159120 w 158760"/>
                <a:gd name="textAreaTop" fmla="*/ 0 h 370800"/>
                <a:gd name="textAreaBottom" fmla="*/ 371160 h 370800"/>
              </a:gdLst>
              <a:ahLst/>
              <a:rect l="textAreaLeft" t="textAreaTop" r="textAreaRight" b="textAreaBottom"/>
              <a:pathLst>
                <a:path w="158907" h="370784">
                  <a:moveTo>
                    <a:pt x="114546" y="10130"/>
                  </a:moveTo>
                  <a:cubicBezTo>
                    <a:pt x="114546" y="10130"/>
                    <a:pt x="69522" y="2184"/>
                    <a:pt x="43038" y="86935"/>
                  </a:cubicBezTo>
                  <a:lnTo>
                    <a:pt x="9932" y="113420"/>
                  </a:lnTo>
                  <a:lnTo>
                    <a:pt x="9932" y="120041"/>
                  </a:lnTo>
                  <a:lnTo>
                    <a:pt x="53631" y="109447"/>
                  </a:lnTo>
                  <a:cubicBezTo>
                    <a:pt x="53631" y="109447"/>
                    <a:pt x="41713" y="202143"/>
                    <a:pt x="58928" y="256436"/>
                  </a:cubicBezTo>
                  <a:cubicBezTo>
                    <a:pt x="58928" y="256436"/>
                    <a:pt x="89386" y="372969"/>
                    <a:pt x="145003" y="363699"/>
                  </a:cubicBezTo>
                  <a:cubicBezTo>
                    <a:pt x="145003" y="363699"/>
                    <a:pt x="162218" y="351781"/>
                    <a:pt x="143679" y="241870"/>
                  </a:cubicBezTo>
                  <a:cubicBezTo>
                    <a:pt x="143679" y="243194"/>
                    <a:pt x="24498" y="206116"/>
                    <a:pt x="114546" y="10130"/>
                  </a:cubicBezTo>
                  <a:close/>
                </a:path>
              </a:pathLst>
            </a:custGeom>
            <a:solidFill>
              <a:srgbClr val="bb253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37" name="任意多边形: 形状 314"/>
            <p:cNvSpPr/>
            <p:nvPr/>
          </p:nvSpPr>
          <p:spPr>
            <a:xfrm>
              <a:off x="1296720" y="6052680"/>
              <a:ext cx="225000" cy="330840"/>
            </a:xfrm>
            <a:custGeom>
              <a:avLst/>
              <a:gdLst>
                <a:gd name="textAreaLeft" fmla="*/ 0 w 225000"/>
                <a:gd name="textAreaRight" fmla="*/ 225360 w 225000"/>
                <a:gd name="textAreaTop" fmla="*/ 0 h 330840"/>
                <a:gd name="textAreaBottom" fmla="*/ 331200 h 330840"/>
              </a:gdLst>
              <a:ahLst/>
              <a:rect l="textAreaLeft" t="textAreaTop" r="textAreaRight" b="textAreaBottom"/>
              <a:pathLst>
                <a:path w="225119" h="331057">
                  <a:moveTo>
                    <a:pt x="59686" y="9932"/>
                  </a:moveTo>
                  <a:cubicBezTo>
                    <a:pt x="59686" y="9932"/>
                    <a:pt x="59686" y="148976"/>
                    <a:pt x="124573" y="212539"/>
                  </a:cubicBezTo>
                  <a:cubicBezTo>
                    <a:pt x="124573" y="212539"/>
                    <a:pt x="152382" y="223133"/>
                    <a:pt x="177542" y="213863"/>
                  </a:cubicBezTo>
                  <a:cubicBezTo>
                    <a:pt x="177542" y="213863"/>
                    <a:pt x="237133" y="315829"/>
                    <a:pt x="215945" y="326423"/>
                  </a:cubicBezTo>
                  <a:cubicBezTo>
                    <a:pt x="215945" y="326423"/>
                    <a:pt x="112655" y="342314"/>
                    <a:pt x="41147" y="151625"/>
                  </a:cubicBezTo>
                  <a:lnTo>
                    <a:pt x="26580" y="199297"/>
                  </a:lnTo>
                  <a:lnTo>
                    <a:pt x="14662" y="199297"/>
                  </a:lnTo>
                  <a:cubicBezTo>
                    <a:pt x="14662" y="199297"/>
                    <a:pt x="15986" y="171488"/>
                    <a:pt x="12014" y="139707"/>
                  </a:cubicBezTo>
                  <a:cubicBezTo>
                    <a:pt x="4068" y="85413"/>
                    <a:pt x="18635" y="9932"/>
                    <a:pt x="59686" y="9932"/>
                  </a:cubicBezTo>
                  <a:close/>
                </a:path>
              </a:pathLst>
            </a:custGeom>
            <a:solidFill>
              <a:srgbClr val="b21f2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38" name="任意多边形: 形状 315"/>
            <p:cNvSpPr/>
            <p:nvPr/>
          </p:nvSpPr>
          <p:spPr>
            <a:xfrm>
              <a:off x="1022040" y="3474000"/>
              <a:ext cx="119160" cy="185400"/>
            </a:xfrm>
            <a:custGeom>
              <a:avLst/>
              <a:gdLst>
                <a:gd name="textAreaLeft" fmla="*/ 0 w 119160"/>
                <a:gd name="textAreaRight" fmla="*/ 119520 w 119160"/>
                <a:gd name="textAreaTop" fmla="*/ 0 h 185400"/>
                <a:gd name="textAreaBottom" fmla="*/ 185760 h 185400"/>
              </a:gdLst>
              <a:ahLst/>
              <a:rect l="textAreaLeft" t="textAreaTop" r="textAreaRight" b="textAreaBottom"/>
              <a:pathLst>
                <a:path w="119180" h="185392">
                  <a:moveTo>
                    <a:pt x="9932" y="9932"/>
                  </a:moveTo>
                  <a:cubicBezTo>
                    <a:pt x="9932" y="9932"/>
                    <a:pt x="84089" y="88061"/>
                    <a:pt x="111897" y="183406"/>
                  </a:cubicBezTo>
                  <a:cubicBezTo>
                    <a:pt x="111897" y="183406"/>
                    <a:pt x="159570" y="43038"/>
                    <a:pt x="9932" y="9932"/>
                  </a:cubicBezTo>
                  <a:close/>
                </a:path>
              </a:pathLst>
            </a:custGeom>
            <a:solidFill>
              <a:srgbClr val="8c620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39" name="任意多边形: 形状 317"/>
            <p:cNvSpPr/>
            <p:nvPr/>
          </p:nvSpPr>
          <p:spPr>
            <a:xfrm>
              <a:off x="917280" y="3880440"/>
              <a:ext cx="92520" cy="52920"/>
            </a:xfrm>
            <a:custGeom>
              <a:avLst/>
              <a:gdLst>
                <a:gd name="textAreaLeft" fmla="*/ 0 w 92520"/>
                <a:gd name="textAreaRight" fmla="*/ 92880 w 92520"/>
                <a:gd name="textAreaTop" fmla="*/ 0 h 52920"/>
                <a:gd name="textAreaBottom" fmla="*/ 53280 h 52920"/>
              </a:gdLst>
              <a:ahLst/>
              <a:rect l="textAreaLeft" t="textAreaTop" r="textAreaRight" b="textAreaBottom"/>
              <a:pathLst>
                <a:path w="92696" h="52969">
                  <a:moveTo>
                    <a:pt x="23174" y="53631"/>
                  </a:moveTo>
                  <a:cubicBezTo>
                    <a:pt x="40389" y="37741"/>
                    <a:pt x="61577" y="23174"/>
                    <a:pt x="89386" y="11256"/>
                  </a:cubicBezTo>
                  <a:lnTo>
                    <a:pt x="9932" y="9932"/>
                  </a:lnTo>
                  <a:lnTo>
                    <a:pt x="23174" y="50983"/>
                  </a:lnTo>
                  <a:lnTo>
                    <a:pt x="23174" y="53631"/>
                  </a:lnTo>
                  <a:close/>
                </a:path>
              </a:pathLst>
            </a:custGeom>
            <a:solidFill>
              <a:srgbClr val="f7d9ab"/>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740" name="任意多边形: 形状 318"/>
            <p:cNvSpPr/>
            <p:nvPr/>
          </p:nvSpPr>
          <p:spPr>
            <a:xfrm>
              <a:off x="661680" y="3948120"/>
              <a:ext cx="317520" cy="304560"/>
            </a:xfrm>
            <a:custGeom>
              <a:avLst/>
              <a:gdLst>
                <a:gd name="textAreaLeft" fmla="*/ 0 w 317520"/>
                <a:gd name="textAreaRight" fmla="*/ 317880 w 317520"/>
                <a:gd name="textAreaTop" fmla="*/ 0 h 304560"/>
                <a:gd name="textAreaBottom" fmla="*/ 304920 h 304560"/>
              </a:gdLst>
              <a:ahLst/>
              <a:rect l="textAreaLeft" t="textAreaTop" r="textAreaRight" b="textAreaBottom"/>
              <a:pathLst>
                <a:path w="317815" h="304573">
                  <a:moveTo>
                    <a:pt x="217836" y="93358"/>
                  </a:moveTo>
                  <a:cubicBezTo>
                    <a:pt x="217836" y="93358"/>
                    <a:pt x="219160" y="85413"/>
                    <a:pt x="223133" y="73495"/>
                  </a:cubicBezTo>
                  <a:cubicBezTo>
                    <a:pt x="200621" y="74819"/>
                    <a:pt x="57604" y="9932"/>
                    <a:pt x="57604" y="9932"/>
                  </a:cubicBezTo>
                  <a:cubicBezTo>
                    <a:pt x="57604" y="9932"/>
                    <a:pt x="50983" y="99979"/>
                    <a:pt x="9932" y="183406"/>
                  </a:cubicBezTo>
                  <a:cubicBezTo>
                    <a:pt x="9932" y="183406"/>
                    <a:pt x="194000" y="303911"/>
                    <a:pt x="315829" y="303911"/>
                  </a:cubicBezTo>
                  <a:cubicBezTo>
                    <a:pt x="315829" y="303911"/>
                    <a:pt x="201945" y="180757"/>
                    <a:pt x="217836" y="93358"/>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41" name="任意多边形: 形状 319"/>
            <p:cNvSpPr/>
            <p:nvPr/>
          </p:nvSpPr>
          <p:spPr>
            <a:xfrm>
              <a:off x="676440" y="3876480"/>
              <a:ext cx="264600" cy="158760"/>
            </a:xfrm>
            <a:custGeom>
              <a:avLst/>
              <a:gdLst>
                <a:gd name="textAreaLeft" fmla="*/ 0 w 264600"/>
                <a:gd name="textAreaRight" fmla="*/ 264960 w 264600"/>
                <a:gd name="textAreaTop" fmla="*/ 0 h 158760"/>
                <a:gd name="textAreaBottom" fmla="*/ 159120 h 158760"/>
              </a:gdLst>
              <a:ahLst/>
              <a:rect l="textAreaLeft" t="textAreaTop" r="textAreaRight" b="textAreaBottom"/>
              <a:pathLst>
                <a:path w="264846" h="158907">
                  <a:moveTo>
                    <a:pt x="204594" y="155597"/>
                  </a:moveTo>
                  <a:lnTo>
                    <a:pt x="207242" y="145003"/>
                  </a:lnTo>
                  <a:cubicBezTo>
                    <a:pt x="213863" y="123815"/>
                    <a:pt x="229754" y="89386"/>
                    <a:pt x="264184" y="58928"/>
                  </a:cubicBezTo>
                  <a:lnTo>
                    <a:pt x="265508" y="56280"/>
                  </a:lnTo>
                  <a:lnTo>
                    <a:pt x="252266" y="15229"/>
                  </a:lnTo>
                  <a:lnTo>
                    <a:pt x="9932" y="9932"/>
                  </a:lnTo>
                  <a:cubicBezTo>
                    <a:pt x="9932" y="9932"/>
                    <a:pt x="20526" y="40389"/>
                    <a:pt x="25822" y="92034"/>
                  </a:cubicBezTo>
                  <a:cubicBezTo>
                    <a:pt x="24498" y="92034"/>
                    <a:pt x="137058" y="164867"/>
                    <a:pt x="204594" y="155597"/>
                  </a:cubicBezTo>
                  <a:close/>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42" name="任意多边形: 形状 320"/>
            <p:cNvSpPr/>
            <p:nvPr/>
          </p:nvSpPr>
          <p:spPr>
            <a:xfrm>
              <a:off x="501120" y="3394440"/>
              <a:ext cx="609120" cy="648720"/>
            </a:xfrm>
            <a:custGeom>
              <a:avLst/>
              <a:gdLst>
                <a:gd name="textAreaLeft" fmla="*/ 0 w 609120"/>
                <a:gd name="textAreaRight" fmla="*/ 609480 w 609120"/>
                <a:gd name="textAreaTop" fmla="*/ 0 h 648720"/>
                <a:gd name="textAreaBottom" fmla="*/ 649080 h 648720"/>
              </a:gdLst>
              <a:ahLst/>
              <a:rect l="textAreaLeft" t="textAreaTop" r="textAreaRight" b="textAreaBottom"/>
              <a:pathLst>
                <a:path w="609146" h="648873">
                  <a:moveTo>
                    <a:pt x="571825" y="163757"/>
                  </a:moveTo>
                  <a:cubicBezTo>
                    <a:pt x="591689" y="195538"/>
                    <a:pt x="587716" y="278965"/>
                    <a:pt x="578446" y="298828"/>
                  </a:cubicBezTo>
                  <a:cubicBezTo>
                    <a:pt x="569177" y="316043"/>
                    <a:pt x="558583" y="333258"/>
                    <a:pt x="570501" y="371661"/>
                  </a:cubicBezTo>
                  <a:cubicBezTo>
                    <a:pt x="579771" y="402118"/>
                    <a:pt x="608904" y="441845"/>
                    <a:pt x="610228" y="461709"/>
                  </a:cubicBezTo>
                  <a:cubicBezTo>
                    <a:pt x="611552" y="488193"/>
                    <a:pt x="582419" y="480248"/>
                    <a:pt x="571825" y="489517"/>
                  </a:cubicBezTo>
                  <a:cubicBezTo>
                    <a:pt x="558583" y="501435"/>
                    <a:pt x="573150" y="505408"/>
                    <a:pt x="567853" y="518651"/>
                  </a:cubicBezTo>
                  <a:cubicBezTo>
                    <a:pt x="563880" y="530569"/>
                    <a:pt x="521505" y="531893"/>
                    <a:pt x="521505" y="531893"/>
                  </a:cubicBezTo>
                  <a:cubicBezTo>
                    <a:pt x="521505" y="531893"/>
                    <a:pt x="571825" y="537190"/>
                    <a:pt x="540044" y="566323"/>
                  </a:cubicBezTo>
                  <a:cubicBezTo>
                    <a:pt x="530774" y="575592"/>
                    <a:pt x="555935" y="611347"/>
                    <a:pt x="505614" y="631210"/>
                  </a:cubicBezTo>
                  <a:cubicBezTo>
                    <a:pt x="431457" y="661667"/>
                    <a:pt x="261955" y="592807"/>
                    <a:pt x="261955" y="592807"/>
                  </a:cubicBezTo>
                  <a:cubicBezTo>
                    <a:pt x="261955" y="592807"/>
                    <a:pt x="182501" y="563674"/>
                    <a:pt x="154693" y="506732"/>
                  </a:cubicBezTo>
                  <a:cubicBezTo>
                    <a:pt x="-13485" y="512029"/>
                    <a:pt x="-49239" y="176999"/>
                    <a:pt x="122911" y="75033"/>
                  </a:cubicBezTo>
                  <a:cubicBezTo>
                    <a:pt x="228850" y="-16339"/>
                    <a:pt x="346706" y="11470"/>
                    <a:pt x="383785" y="23388"/>
                  </a:cubicBezTo>
                  <a:cubicBezTo>
                    <a:pt x="472508" y="49873"/>
                    <a:pt x="554610" y="134624"/>
                    <a:pt x="571825" y="163757"/>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43" name="任意多边形: 形状 321"/>
            <p:cNvSpPr/>
            <p:nvPr/>
          </p:nvSpPr>
          <p:spPr>
            <a:xfrm>
              <a:off x="315720" y="3343320"/>
              <a:ext cx="807840" cy="609120"/>
            </a:xfrm>
            <a:custGeom>
              <a:avLst/>
              <a:gdLst>
                <a:gd name="textAreaLeft" fmla="*/ 0 w 807840"/>
                <a:gd name="textAreaRight" fmla="*/ 808200 w 807840"/>
                <a:gd name="textAreaTop" fmla="*/ 0 h 609120"/>
                <a:gd name="textAreaBottom" fmla="*/ 609480 h 609120"/>
              </a:gdLst>
              <a:ahLst/>
              <a:rect l="textAreaLeft" t="textAreaTop" r="textAreaRight" b="textAreaBottom"/>
              <a:pathLst>
                <a:path w="807780" h="609146">
                  <a:moveTo>
                    <a:pt x="707090" y="198885"/>
                  </a:moveTo>
                  <a:cubicBezTo>
                    <a:pt x="707090" y="198885"/>
                    <a:pt x="675309" y="198885"/>
                    <a:pt x="621015" y="322039"/>
                  </a:cubicBezTo>
                  <a:cubicBezTo>
                    <a:pt x="621015" y="322039"/>
                    <a:pt x="564073" y="441219"/>
                    <a:pt x="462107" y="451813"/>
                  </a:cubicBezTo>
                  <a:cubicBezTo>
                    <a:pt x="462107" y="451813"/>
                    <a:pt x="505807" y="397520"/>
                    <a:pt x="499186" y="360442"/>
                  </a:cubicBezTo>
                  <a:cubicBezTo>
                    <a:pt x="499186" y="360442"/>
                    <a:pt x="463432" y="398844"/>
                    <a:pt x="389275" y="408114"/>
                  </a:cubicBezTo>
                  <a:cubicBezTo>
                    <a:pt x="389275" y="408114"/>
                    <a:pt x="391923" y="478298"/>
                    <a:pt x="369411" y="482271"/>
                  </a:cubicBezTo>
                  <a:cubicBezTo>
                    <a:pt x="369411" y="482271"/>
                    <a:pt x="361466" y="412086"/>
                    <a:pt x="315118" y="420032"/>
                  </a:cubicBezTo>
                  <a:cubicBezTo>
                    <a:pt x="315118" y="420032"/>
                    <a:pt x="284661" y="420032"/>
                    <a:pt x="291282" y="473001"/>
                  </a:cubicBezTo>
                  <a:cubicBezTo>
                    <a:pt x="291282" y="473001"/>
                    <a:pt x="304524" y="548482"/>
                    <a:pt x="357493" y="539213"/>
                  </a:cubicBezTo>
                  <a:cubicBezTo>
                    <a:pt x="357493" y="539213"/>
                    <a:pt x="409138" y="581588"/>
                    <a:pt x="372060" y="610721"/>
                  </a:cubicBezTo>
                  <a:cubicBezTo>
                    <a:pt x="372060" y="610721"/>
                    <a:pt x="328360" y="610721"/>
                    <a:pt x="285985" y="597479"/>
                  </a:cubicBezTo>
                  <a:cubicBezTo>
                    <a:pt x="207855" y="572318"/>
                    <a:pt x="131050" y="457110"/>
                    <a:pt x="165480" y="320715"/>
                  </a:cubicBezTo>
                  <a:cubicBezTo>
                    <a:pt x="-1373" y="287609"/>
                    <a:pt x="-10643" y="201534"/>
                    <a:pt x="30408" y="119432"/>
                  </a:cubicBezTo>
                  <a:cubicBezTo>
                    <a:pt x="71459" y="37329"/>
                    <a:pt x="199910" y="-40801"/>
                    <a:pt x="279364" y="107513"/>
                  </a:cubicBezTo>
                  <a:cubicBezTo>
                    <a:pt x="311145" y="63814"/>
                    <a:pt x="578640" y="-110985"/>
                    <a:pt x="754763" y="151213"/>
                  </a:cubicBezTo>
                  <a:cubicBezTo>
                    <a:pt x="787868" y="173725"/>
                    <a:pt x="824947" y="249206"/>
                    <a:pt x="778599" y="347199"/>
                  </a:cubicBezTo>
                  <a:cubicBezTo>
                    <a:pt x="779923" y="347199"/>
                    <a:pt x="766681" y="263773"/>
                    <a:pt x="707090" y="198885"/>
                  </a:cubicBezTo>
                  <a:close/>
                </a:path>
              </a:pathLst>
            </a:custGeom>
            <a:solidFill>
              <a:srgbClr val="996b0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44" name="任意多边形: 形状 322"/>
            <p:cNvSpPr/>
            <p:nvPr/>
          </p:nvSpPr>
          <p:spPr>
            <a:xfrm>
              <a:off x="1056600" y="372816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9932"/>
                  </a:moveTo>
                  <a:cubicBezTo>
                    <a:pt x="9932" y="9932"/>
                    <a:pt x="17877" y="12580"/>
                    <a:pt x="25823" y="9932"/>
                  </a:cubicBezTo>
                  <a:cubicBezTo>
                    <a:pt x="25823" y="9932"/>
                    <a:pt x="16553" y="17877"/>
                    <a:pt x="11256" y="17877"/>
                  </a:cubicBezTo>
                  <a:lnTo>
                    <a:pt x="9932" y="9932"/>
                  </a:lnTo>
                  <a:close/>
                </a:path>
              </a:pathLst>
            </a:custGeom>
            <a:solidFill>
              <a:srgbClr val="512109"/>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745" name="任意多边形: 形状 323"/>
            <p:cNvSpPr/>
            <p:nvPr/>
          </p:nvSpPr>
          <p:spPr>
            <a:xfrm>
              <a:off x="930960" y="3672360"/>
              <a:ext cx="119160" cy="79200"/>
            </a:xfrm>
            <a:custGeom>
              <a:avLst/>
              <a:gdLst>
                <a:gd name="textAreaLeft" fmla="*/ 0 w 119160"/>
                <a:gd name="textAreaRight" fmla="*/ 119520 w 119160"/>
                <a:gd name="textAreaTop" fmla="*/ 0 h 79200"/>
                <a:gd name="textAreaBottom" fmla="*/ 79560 h 79200"/>
              </a:gdLst>
              <a:ahLst/>
              <a:rect l="textAreaLeft" t="textAreaTop" r="textAreaRight" b="textAreaBottom"/>
              <a:pathLst>
                <a:path w="119180" h="79453">
                  <a:moveTo>
                    <a:pt x="121006" y="24701"/>
                  </a:moveTo>
                  <a:cubicBezTo>
                    <a:pt x="121006" y="24701"/>
                    <a:pt x="124979" y="60455"/>
                    <a:pt x="115709" y="81643"/>
                  </a:cubicBezTo>
                  <a:cubicBezTo>
                    <a:pt x="115709" y="81643"/>
                    <a:pt x="66712" y="32646"/>
                    <a:pt x="15067" y="81643"/>
                  </a:cubicBezTo>
                  <a:cubicBezTo>
                    <a:pt x="15067" y="81643"/>
                    <a:pt x="-4796" y="23377"/>
                    <a:pt x="33607" y="15431"/>
                  </a:cubicBezTo>
                  <a:cubicBezTo>
                    <a:pt x="34931" y="15431"/>
                    <a:pt x="86576" y="-1784"/>
                    <a:pt x="121006" y="24701"/>
                  </a:cubicBezTo>
                  <a:close/>
                </a:path>
              </a:pathLst>
            </a:custGeom>
            <a:solidFill>
              <a:srgbClr val="f4c78c">
                <a:alpha val="50000"/>
              </a:srgbClr>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746" name="任意多边形: 形状 324"/>
            <p:cNvSpPr/>
            <p:nvPr/>
          </p:nvSpPr>
          <p:spPr>
            <a:xfrm>
              <a:off x="922680" y="3677400"/>
              <a:ext cx="132120" cy="39600"/>
            </a:xfrm>
            <a:custGeom>
              <a:avLst/>
              <a:gdLst>
                <a:gd name="textAreaLeft" fmla="*/ 0 w 132120"/>
                <a:gd name="textAreaRight" fmla="*/ 132480 w 132120"/>
                <a:gd name="textAreaTop" fmla="*/ 0 h 39600"/>
                <a:gd name="textAreaBottom" fmla="*/ 39960 h 39600"/>
              </a:gdLst>
              <a:ahLst/>
              <a:rect l="textAreaLeft" t="textAreaTop" r="textAreaRight" b="textAreaBottom"/>
              <a:pathLst>
                <a:path w="132423" h="39726">
                  <a:moveTo>
                    <a:pt x="127788" y="11902"/>
                  </a:moveTo>
                  <a:cubicBezTo>
                    <a:pt x="127788" y="11902"/>
                    <a:pt x="126464" y="11902"/>
                    <a:pt x="126464" y="11902"/>
                  </a:cubicBezTo>
                  <a:cubicBezTo>
                    <a:pt x="126464" y="11902"/>
                    <a:pt x="117194" y="10578"/>
                    <a:pt x="103952" y="10578"/>
                  </a:cubicBezTo>
                  <a:cubicBezTo>
                    <a:pt x="94683" y="10578"/>
                    <a:pt x="27147" y="3957"/>
                    <a:pt x="9932" y="33090"/>
                  </a:cubicBezTo>
                  <a:cubicBezTo>
                    <a:pt x="9932" y="38387"/>
                    <a:pt x="49659" y="15875"/>
                    <a:pt x="96007" y="23821"/>
                  </a:cubicBezTo>
                  <a:cubicBezTo>
                    <a:pt x="111897" y="26469"/>
                    <a:pt x="122491" y="33090"/>
                    <a:pt x="122491" y="33090"/>
                  </a:cubicBezTo>
                  <a:cubicBezTo>
                    <a:pt x="127788" y="34414"/>
                    <a:pt x="133085" y="31766"/>
                    <a:pt x="134409" y="25145"/>
                  </a:cubicBezTo>
                  <a:cubicBezTo>
                    <a:pt x="135734" y="18524"/>
                    <a:pt x="133085" y="13227"/>
                    <a:pt x="127788" y="11902"/>
                  </a:cubicBezTo>
                  <a:close/>
                </a:path>
              </a:pathLst>
            </a:custGeom>
            <a:solidFill>
              <a:srgbClr val="996b05"/>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747" name="任意多边形: 形状 325"/>
            <p:cNvSpPr/>
            <p:nvPr/>
          </p:nvSpPr>
          <p:spPr>
            <a:xfrm>
              <a:off x="996840" y="3888720"/>
              <a:ext cx="79200" cy="79200"/>
            </a:xfrm>
            <a:custGeom>
              <a:avLst/>
              <a:gdLst>
                <a:gd name="textAreaLeft" fmla="*/ 0 w 79200"/>
                <a:gd name="textAreaRight" fmla="*/ 79560 w 79200"/>
                <a:gd name="textAreaTop" fmla="*/ 0 h 79200"/>
                <a:gd name="textAreaBottom" fmla="*/ 79560 h 79200"/>
              </a:gdLst>
              <a:ahLst/>
              <a:rect l="textAreaLeft" t="textAreaTop" r="textAreaRight" b="textAreaBottom"/>
              <a:pathLst>
                <a:path w="79453" h="79453">
                  <a:moveTo>
                    <a:pt x="73495" y="15229"/>
                  </a:moveTo>
                  <a:lnTo>
                    <a:pt x="72171" y="9932"/>
                  </a:lnTo>
                  <a:cubicBezTo>
                    <a:pt x="72171" y="9932"/>
                    <a:pt x="53631" y="31120"/>
                    <a:pt x="9932" y="31120"/>
                  </a:cubicBezTo>
                  <a:cubicBezTo>
                    <a:pt x="9932" y="31120"/>
                    <a:pt x="40389" y="56280"/>
                    <a:pt x="44362" y="70846"/>
                  </a:cubicBezTo>
                  <a:cubicBezTo>
                    <a:pt x="44362" y="70846"/>
                    <a:pt x="77467" y="44362"/>
                    <a:pt x="25823" y="36416"/>
                  </a:cubicBezTo>
                  <a:cubicBezTo>
                    <a:pt x="25823" y="36416"/>
                    <a:pt x="81440" y="37741"/>
                    <a:pt x="73495" y="15229"/>
                  </a:cubicBezTo>
                  <a:close/>
                </a:path>
              </a:pathLst>
            </a:custGeom>
            <a:solidFill>
              <a:srgbClr val="f75c54"/>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748" name="任意多边形: 形状 326"/>
            <p:cNvSpPr/>
            <p:nvPr/>
          </p:nvSpPr>
          <p:spPr>
            <a:xfrm>
              <a:off x="930600" y="3711240"/>
              <a:ext cx="132120" cy="39600"/>
            </a:xfrm>
            <a:custGeom>
              <a:avLst/>
              <a:gdLst>
                <a:gd name="textAreaLeft" fmla="*/ 0 w 132120"/>
                <a:gd name="textAreaRight" fmla="*/ 132480 w 132120"/>
                <a:gd name="textAreaTop" fmla="*/ 0 h 39600"/>
                <a:gd name="textAreaBottom" fmla="*/ 39960 h 39600"/>
              </a:gdLst>
              <a:ahLst/>
              <a:rect l="textAreaLeft" t="textAreaTop" r="textAreaRight" b="textAreaBottom"/>
              <a:pathLst>
                <a:path w="132423" h="39726">
                  <a:moveTo>
                    <a:pt x="9932" y="9932"/>
                  </a:moveTo>
                  <a:cubicBezTo>
                    <a:pt x="9932" y="9932"/>
                    <a:pt x="68198" y="58928"/>
                    <a:pt x="122491" y="11256"/>
                  </a:cubicBezTo>
                  <a:lnTo>
                    <a:pt x="9932" y="9932"/>
                  </a:lnTo>
                  <a:close/>
                </a:path>
              </a:pathLst>
            </a:custGeom>
            <a:solidFill>
              <a:srgbClr val="f4c78c">
                <a:alpha val="50000"/>
              </a:srgbClr>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749" name="任意多边形: 形状 327"/>
            <p:cNvSpPr/>
            <p:nvPr/>
          </p:nvSpPr>
          <p:spPr>
            <a:xfrm>
              <a:off x="932040" y="3719160"/>
              <a:ext cx="119160" cy="65880"/>
            </a:xfrm>
            <a:custGeom>
              <a:avLst/>
              <a:gdLst>
                <a:gd name="textAreaLeft" fmla="*/ 0 w 119160"/>
                <a:gd name="textAreaRight" fmla="*/ 119520 w 119160"/>
                <a:gd name="textAreaTop" fmla="*/ 0 h 65880"/>
                <a:gd name="textAreaBottom" fmla="*/ 66240 h 65880"/>
              </a:gdLst>
              <a:ahLst/>
              <a:rect l="textAreaLeft" t="textAreaTop" r="textAreaRight" b="textAreaBottom"/>
              <a:pathLst>
                <a:path w="119180" h="66211">
                  <a:moveTo>
                    <a:pt x="118519" y="39065"/>
                  </a:moveTo>
                  <a:cubicBezTo>
                    <a:pt x="118519" y="39065"/>
                    <a:pt x="96007" y="62901"/>
                    <a:pt x="52307" y="58928"/>
                  </a:cubicBezTo>
                  <a:cubicBezTo>
                    <a:pt x="32444" y="57604"/>
                    <a:pt x="9932" y="41713"/>
                    <a:pt x="9932" y="41713"/>
                  </a:cubicBezTo>
                  <a:cubicBezTo>
                    <a:pt x="9932" y="41713"/>
                    <a:pt x="41713" y="9932"/>
                    <a:pt x="60253" y="9932"/>
                  </a:cubicBezTo>
                  <a:cubicBezTo>
                    <a:pt x="97331" y="9932"/>
                    <a:pt x="118519" y="39065"/>
                    <a:pt x="118519" y="39065"/>
                  </a:cubicBezTo>
                  <a:close/>
                </a:path>
              </a:pathLst>
            </a:custGeom>
            <a:solidFill>
              <a:srgbClr val="ffffff"/>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750" name="任意多边形: 形状 328"/>
            <p:cNvSpPr/>
            <p:nvPr/>
          </p:nvSpPr>
          <p:spPr>
            <a:xfrm>
              <a:off x="1015560" y="3746880"/>
              <a:ext cx="39600" cy="26280"/>
            </a:xfrm>
            <a:custGeom>
              <a:avLst/>
              <a:gdLst>
                <a:gd name="textAreaLeft" fmla="*/ 0 w 39600"/>
                <a:gd name="textAreaRight" fmla="*/ 39960 w 39600"/>
                <a:gd name="textAreaTop" fmla="*/ 0 h 26280"/>
                <a:gd name="textAreaBottom" fmla="*/ 26640 h 26280"/>
              </a:gdLst>
              <a:ahLst/>
              <a:rect l="textAreaLeft" t="textAreaTop" r="textAreaRight" b="textAreaBottom"/>
              <a:pathLst>
                <a:path w="39726" h="26484">
                  <a:moveTo>
                    <a:pt x="-30444" y="9932"/>
                  </a:moveTo>
                  <a:cubicBezTo>
                    <a:pt x="-30444" y="9932"/>
                    <a:pt x="29795" y="15229"/>
                    <a:pt x="23174" y="19201"/>
                  </a:cubicBezTo>
                  <a:cubicBezTo>
                    <a:pt x="20526" y="21850"/>
                    <a:pt x="16553" y="23174"/>
                    <a:pt x="13904" y="24498"/>
                  </a:cubicBezTo>
                  <a:cubicBezTo>
                    <a:pt x="11256" y="25822"/>
                    <a:pt x="9932" y="27147"/>
                    <a:pt x="9932" y="27147"/>
                  </a:cubicBezTo>
                  <a:cubicBezTo>
                    <a:pt x="9932" y="27147"/>
                    <a:pt x="11256" y="27147"/>
                    <a:pt x="13904" y="25822"/>
                  </a:cubicBezTo>
                  <a:cubicBezTo>
                    <a:pt x="16553" y="25822"/>
                    <a:pt x="20526" y="23174"/>
                    <a:pt x="23174" y="21850"/>
                  </a:cubicBezTo>
                  <a:cubicBezTo>
                    <a:pt x="29795" y="19201"/>
                    <a:pt x="-29120" y="15229"/>
                    <a:pt x="-29120" y="15229"/>
                  </a:cubicBezTo>
                  <a:lnTo>
                    <a:pt x="-30444" y="9932"/>
                  </a:lnTo>
                  <a:close/>
                </a:path>
              </a:pathLst>
            </a:custGeom>
            <a:solidFill>
              <a:srgbClr val="a87b62"/>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751" name="任意多边形: 形状 329"/>
            <p:cNvSpPr/>
            <p:nvPr/>
          </p:nvSpPr>
          <p:spPr>
            <a:xfrm>
              <a:off x="932040" y="372420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9932" y="36533"/>
                  </a:moveTo>
                  <a:cubicBezTo>
                    <a:pt x="9932" y="36533"/>
                    <a:pt x="32444" y="19318"/>
                    <a:pt x="64225" y="14021"/>
                  </a:cubicBezTo>
                  <a:cubicBezTo>
                    <a:pt x="64225" y="14021"/>
                    <a:pt x="99979" y="19318"/>
                    <a:pt x="111898" y="33884"/>
                  </a:cubicBezTo>
                  <a:cubicBezTo>
                    <a:pt x="111898" y="33884"/>
                    <a:pt x="99979" y="47127"/>
                    <a:pt x="92034" y="49775"/>
                  </a:cubicBezTo>
                  <a:cubicBezTo>
                    <a:pt x="92034" y="49775"/>
                    <a:pt x="114546" y="40505"/>
                    <a:pt x="117195" y="33884"/>
                  </a:cubicBezTo>
                  <a:cubicBezTo>
                    <a:pt x="118519" y="33884"/>
                    <a:pt x="68198" y="-21733"/>
                    <a:pt x="9932" y="36533"/>
                  </a:cubicBezTo>
                  <a:close/>
                </a:path>
              </a:pathLst>
            </a:custGeom>
            <a:solidFill>
              <a:srgbClr val="e6e7e8"/>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752" name="任意多边形: 形状 330"/>
            <p:cNvSpPr/>
            <p:nvPr/>
          </p:nvSpPr>
          <p:spPr>
            <a:xfrm>
              <a:off x="977760" y="3723120"/>
              <a:ext cx="52920" cy="52920"/>
            </a:xfrm>
            <a:custGeom>
              <a:avLst/>
              <a:gdLst>
                <a:gd name="textAreaLeft" fmla="*/ 0 w 52920"/>
                <a:gd name="textAreaRight" fmla="*/ 53280 w 52920"/>
                <a:gd name="textAreaTop" fmla="*/ 0 h 52920"/>
                <a:gd name="textAreaBottom" fmla="*/ 53280 h 52920"/>
              </a:gdLst>
              <a:ahLst/>
              <a:rect l="textAreaLeft" t="textAreaTop" r="textAreaRight" b="textAreaBottom"/>
              <a:pathLst>
                <a:path w="52969" h="52969">
                  <a:moveTo>
                    <a:pt x="26402" y="-10871"/>
                  </a:moveTo>
                  <a:cubicBezTo>
                    <a:pt x="14484" y="-12195"/>
                    <a:pt x="7863" y="-26762"/>
                    <a:pt x="10511" y="26856"/>
                  </a:cubicBezTo>
                  <a:cubicBezTo>
                    <a:pt x="13160" y="14938"/>
                    <a:pt x="25078" y="6992"/>
                    <a:pt x="-28540" y="10965"/>
                  </a:cubicBezTo>
                  <a:cubicBezTo>
                    <a:pt x="-16622" y="14938"/>
                    <a:pt x="-15298" y="26856"/>
                    <a:pt x="-17946" y="-26762"/>
                  </a:cubicBezTo>
                  <a:cubicBezTo>
                    <a:pt x="-20595" y="-14844"/>
                    <a:pt x="-27216" y="-9547"/>
                    <a:pt x="26402" y="-10871"/>
                  </a:cubicBezTo>
                  <a:close/>
                </a:path>
              </a:pathLst>
            </a:custGeom>
            <a:solidFill>
              <a:srgbClr val="42210b"/>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753" name="任意多边形: 形状 331"/>
            <p:cNvSpPr/>
            <p:nvPr/>
          </p:nvSpPr>
          <p:spPr>
            <a:xfrm>
              <a:off x="996480" y="37440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5573" y="27484"/>
                  </a:moveTo>
                  <a:cubicBezTo>
                    <a:pt x="11600" y="26160"/>
                    <a:pt x="8952" y="20863"/>
                    <a:pt x="10276" y="16890"/>
                  </a:cubicBezTo>
                  <a:cubicBezTo>
                    <a:pt x="11600" y="11593"/>
                    <a:pt x="15573" y="8945"/>
                    <a:pt x="20870" y="10269"/>
                  </a:cubicBezTo>
                  <a:cubicBezTo>
                    <a:pt x="24843" y="11593"/>
                    <a:pt x="27491" y="16890"/>
                    <a:pt x="26167" y="20863"/>
                  </a:cubicBezTo>
                  <a:cubicBezTo>
                    <a:pt x="24843" y="26160"/>
                    <a:pt x="20870" y="28808"/>
                    <a:pt x="15573" y="27484"/>
                  </a:cubicBezTo>
                  <a:close/>
                </a:path>
              </a:pathLst>
            </a:custGeom>
            <a:solidFill>
              <a:srgbClr val="512109"/>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754" name="任意多边形: 形状 332"/>
            <p:cNvSpPr/>
            <p:nvPr/>
          </p:nvSpPr>
          <p:spPr>
            <a:xfrm>
              <a:off x="992520" y="37386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5573" y="24843"/>
                  </a:moveTo>
                  <a:cubicBezTo>
                    <a:pt x="11600" y="23518"/>
                    <a:pt x="8952" y="19546"/>
                    <a:pt x="10276" y="15573"/>
                  </a:cubicBezTo>
                  <a:cubicBezTo>
                    <a:pt x="11600" y="11600"/>
                    <a:pt x="15573" y="8952"/>
                    <a:pt x="19546" y="10276"/>
                  </a:cubicBezTo>
                  <a:cubicBezTo>
                    <a:pt x="23519" y="11600"/>
                    <a:pt x="26167" y="15573"/>
                    <a:pt x="24843" y="19546"/>
                  </a:cubicBezTo>
                  <a:cubicBezTo>
                    <a:pt x="23519" y="23518"/>
                    <a:pt x="19546" y="26167"/>
                    <a:pt x="15573" y="24843"/>
                  </a:cubicBezTo>
                  <a:close/>
                </a:path>
              </a:pathLst>
            </a:custGeom>
            <a:solidFill>
              <a:srgbClr val="340b06"/>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755" name="任意多边形: 形状 333"/>
            <p:cNvSpPr/>
            <p:nvPr/>
          </p:nvSpPr>
          <p:spPr>
            <a:xfrm>
              <a:off x="983520" y="376128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13242" h="13242">
                  <a:moveTo>
                    <a:pt x="12580" y="9932"/>
                  </a:moveTo>
                  <a:cubicBezTo>
                    <a:pt x="13904" y="9932"/>
                    <a:pt x="13904" y="11256"/>
                    <a:pt x="13904" y="12580"/>
                  </a:cubicBezTo>
                  <a:cubicBezTo>
                    <a:pt x="13904" y="13904"/>
                    <a:pt x="12580" y="13904"/>
                    <a:pt x="11256" y="13904"/>
                  </a:cubicBezTo>
                  <a:cubicBezTo>
                    <a:pt x="9932" y="13904"/>
                    <a:pt x="9932" y="12580"/>
                    <a:pt x="9932" y="11256"/>
                  </a:cubicBezTo>
                  <a:cubicBezTo>
                    <a:pt x="11256" y="11256"/>
                    <a:pt x="12580" y="9932"/>
                    <a:pt x="12580" y="9932"/>
                  </a:cubicBezTo>
                  <a:close/>
                </a:path>
              </a:pathLst>
            </a:custGeom>
            <a:solidFill>
              <a:srgbClr val="ffffff"/>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756" name="任意多边形: 形状 334"/>
            <p:cNvSpPr/>
            <p:nvPr/>
          </p:nvSpPr>
          <p:spPr>
            <a:xfrm>
              <a:off x="1000440" y="373572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3100" y="18397"/>
                  </a:moveTo>
                  <a:cubicBezTo>
                    <a:pt x="10451" y="18397"/>
                    <a:pt x="9127" y="15748"/>
                    <a:pt x="10451" y="13100"/>
                  </a:cubicBezTo>
                  <a:cubicBezTo>
                    <a:pt x="10451" y="10451"/>
                    <a:pt x="13100" y="9127"/>
                    <a:pt x="15748" y="10451"/>
                  </a:cubicBezTo>
                  <a:cubicBezTo>
                    <a:pt x="18397" y="10451"/>
                    <a:pt x="19721" y="13100"/>
                    <a:pt x="18397" y="15748"/>
                  </a:cubicBezTo>
                  <a:cubicBezTo>
                    <a:pt x="17072" y="17072"/>
                    <a:pt x="15748" y="18397"/>
                    <a:pt x="13100" y="18397"/>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757" name="任意多边形: 形状 335"/>
            <p:cNvSpPr/>
            <p:nvPr/>
          </p:nvSpPr>
          <p:spPr>
            <a:xfrm>
              <a:off x="934560" y="3715200"/>
              <a:ext cx="119160" cy="52920"/>
            </a:xfrm>
            <a:custGeom>
              <a:avLst/>
              <a:gdLst>
                <a:gd name="textAreaLeft" fmla="*/ 0 w 119160"/>
                <a:gd name="textAreaRight" fmla="*/ 119520 w 119160"/>
                <a:gd name="textAreaTop" fmla="*/ 0 h 52920"/>
                <a:gd name="textAreaBottom" fmla="*/ 53280 h 52920"/>
              </a:gdLst>
              <a:ahLst/>
              <a:rect l="textAreaLeft" t="textAreaTop" r="textAreaRight" b="textAreaBottom"/>
              <a:pathLst>
                <a:path w="119180" h="52969">
                  <a:moveTo>
                    <a:pt x="9932" y="43038"/>
                  </a:moveTo>
                  <a:cubicBezTo>
                    <a:pt x="9932" y="43038"/>
                    <a:pt x="16553" y="37741"/>
                    <a:pt x="27147" y="32444"/>
                  </a:cubicBezTo>
                  <a:cubicBezTo>
                    <a:pt x="29795" y="31120"/>
                    <a:pt x="32444" y="29795"/>
                    <a:pt x="35092" y="28471"/>
                  </a:cubicBezTo>
                  <a:cubicBezTo>
                    <a:pt x="37741" y="27147"/>
                    <a:pt x="41713" y="25823"/>
                    <a:pt x="44362" y="24498"/>
                  </a:cubicBezTo>
                  <a:cubicBezTo>
                    <a:pt x="48334" y="23174"/>
                    <a:pt x="50983" y="23174"/>
                    <a:pt x="54956" y="21850"/>
                  </a:cubicBezTo>
                  <a:cubicBezTo>
                    <a:pt x="58928" y="21850"/>
                    <a:pt x="61577" y="20526"/>
                    <a:pt x="65549" y="21850"/>
                  </a:cubicBezTo>
                  <a:cubicBezTo>
                    <a:pt x="69522" y="21850"/>
                    <a:pt x="72171" y="23174"/>
                    <a:pt x="76143" y="23174"/>
                  </a:cubicBezTo>
                  <a:cubicBezTo>
                    <a:pt x="80116" y="24498"/>
                    <a:pt x="82764" y="25823"/>
                    <a:pt x="86737" y="25823"/>
                  </a:cubicBezTo>
                  <a:cubicBezTo>
                    <a:pt x="89386" y="27147"/>
                    <a:pt x="93358" y="28471"/>
                    <a:pt x="96007" y="31120"/>
                  </a:cubicBezTo>
                  <a:cubicBezTo>
                    <a:pt x="98655" y="32444"/>
                    <a:pt x="101304" y="35092"/>
                    <a:pt x="103952" y="36416"/>
                  </a:cubicBezTo>
                  <a:cubicBezTo>
                    <a:pt x="109249" y="39065"/>
                    <a:pt x="113222" y="43038"/>
                    <a:pt x="115870" y="45686"/>
                  </a:cubicBezTo>
                  <a:cubicBezTo>
                    <a:pt x="118519" y="48335"/>
                    <a:pt x="118519" y="48335"/>
                    <a:pt x="118519" y="48335"/>
                  </a:cubicBezTo>
                  <a:cubicBezTo>
                    <a:pt x="118519" y="48335"/>
                    <a:pt x="119843" y="48335"/>
                    <a:pt x="117194" y="44362"/>
                  </a:cubicBezTo>
                  <a:cubicBezTo>
                    <a:pt x="113222" y="36416"/>
                    <a:pt x="107925" y="29795"/>
                    <a:pt x="101304" y="24498"/>
                  </a:cubicBezTo>
                  <a:cubicBezTo>
                    <a:pt x="98655" y="21850"/>
                    <a:pt x="94683" y="19202"/>
                    <a:pt x="92034" y="17877"/>
                  </a:cubicBezTo>
                  <a:cubicBezTo>
                    <a:pt x="88061" y="16553"/>
                    <a:pt x="84089" y="13904"/>
                    <a:pt x="80116" y="12580"/>
                  </a:cubicBezTo>
                  <a:cubicBezTo>
                    <a:pt x="76143" y="11256"/>
                    <a:pt x="72171" y="9932"/>
                    <a:pt x="66874" y="9932"/>
                  </a:cubicBezTo>
                  <a:cubicBezTo>
                    <a:pt x="62901" y="9932"/>
                    <a:pt x="57604" y="9932"/>
                    <a:pt x="53631" y="11256"/>
                  </a:cubicBezTo>
                  <a:cubicBezTo>
                    <a:pt x="49659" y="12580"/>
                    <a:pt x="45686" y="13904"/>
                    <a:pt x="41713" y="15229"/>
                  </a:cubicBezTo>
                  <a:cubicBezTo>
                    <a:pt x="33768" y="19202"/>
                    <a:pt x="28471" y="23174"/>
                    <a:pt x="23174" y="27147"/>
                  </a:cubicBezTo>
                  <a:cubicBezTo>
                    <a:pt x="13904" y="35092"/>
                    <a:pt x="9932" y="43038"/>
                    <a:pt x="9932" y="43038"/>
                  </a:cubicBezTo>
                  <a:close/>
                </a:path>
              </a:pathLst>
            </a:custGeom>
            <a:solidFill>
              <a:srgbClr val="512109"/>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758" name="任意多边形: 形状 336"/>
            <p:cNvSpPr/>
            <p:nvPr/>
          </p:nvSpPr>
          <p:spPr>
            <a:xfrm>
              <a:off x="1068480" y="5042880"/>
              <a:ext cx="211680" cy="238320"/>
            </a:xfrm>
            <a:custGeom>
              <a:avLst/>
              <a:gdLst>
                <a:gd name="textAreaLeft" fmla="*/ 0 w 211680"/>
                <a:gd name="textAreaRight" fmla="*/ 212040 w 211680"/>
                <a:gd name="textAreaTop" fmla="*/ 0 h 238320"/>
                <a:gd name="textAreaBottom" fmla="*/ 238680 h 238320"/>
              </a:gdLst>
              <a:ahLst/>
              <a:rect l="textAreaLeft" t="textAreaTop" r="textAreaRight" b="textAreaBottom"/>
              <a:pathLst>
                <a:path w="211876" h="238361">
                  <a:moveTo>
                    <a:pt x="212539" y="29230"/>
                  </a:moveTo>
                  <a:cubicBezTo>
                    <a:pt x="178109" y="13339"/>
                    <a:pt x="114546" y="35851"/>
                    <a:pt x="92034" y="62335"/>
                  </a:cubicBezTo>
                  <a:cubicBezTo>
                    <a:pt x="74819" y="83523"/>
                    <a:pt x="62901" y="110008"/>
                    <a:pt x="56280" y="136492"/>
                  </a:cubicBezTo>
                  <a:cubicBezTo>
                    <a:pt x="50983" y="156356"/>
                    <a:pt x="53631" y="178868"/>
                    <a:pt x="47010" y="198731"/>
                  </a:cubicBezTo>
                  <a:cubicBezTo>
                    <a:pt x="44362" y="206676"/>
                    <a:pt x="41713" y="213298"/>
                    <a:pt x="35092" y="219919"/>
                  </a:cubicBezTo>
                  <a:cubicBezTo>
                    <a:pt x="33768" y="221243"/>
                    <a:pt x="9932" y="234485"/>
                    <a:pt x="9932" y="230512"/>
                  </a:cubicBezTo>
                  <a:cubicBezTo>
                    <a:pt x="11256" y="230512"/>
                    <a:pt x="1986" y="-67439"/>
                    <a:pt x="212539" y="29230"/>
                  </a:cubicBezTo>
                  <a:close/>
                </a:path>
              </a:pathLst>
            </a:custGeom>
            <a:solidFill>
              <a:srgbClr val="eaba81">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59" name="任意多边形: 形状 337"/>
            <p:cNvSpPr/>
            <p:nvPr/>
          </p:nvSpPr>
          <p:spPr>
            <a:xfrm>
              <a:off x="534600" y="4929480"/>
              <a:ext cx="794520" cy="344160"/>
            </a:xfrm>
            <a:custGeom>
              <a:avLst/>
              <a:gdLst>
                <a:gd name="textAreaLeft" fmla="*/ 0 w 794520"/>
                <a:gd name="textAreaRight" fmla="*/ 794880 w 794520"/>
                <a:gd name="textAreaTop" fmla="*/ 0 h 344160"/>
                <a:gd name="textAreaBottom" fmla="*/ 344520 h 344160"/>
              </a:gdLst>
              <a:ahLst/>
              <a:rect l="textAreaLeft" t="textAreaTop" r="textAreaRight" b="textAreaBottom"/>
              <a:pathLst>
                <a:path w="794538" h="344300">
                  <a:moveTo>
                    <a:pt x="60260" y="40389"/>
                  </a:moveTo>
                  <a:cubicBezTo>
                    <a:pt x="60260" y="40389"/>
                    <a:pt x="-32436" y="135734"/>
                    <a:pt x="33775" y="273454"/>
                  </a:cubicBezTo>
                  <a:cubicBezTo>
                    <a:pt x="48342" y="303911"/>
                    <a:pt x="61584" y="321126"/>
                    <a:pt x="97338" y="326423"/>
                  </a:cubicBezTo>
                  <a:cubicBezTo>
                    <a:pt x="148983" y="334368"/>
                    <a:pt x="269488" y="344962"/>
                    <a:pt x="533010" y="343638"/>
                  </a:cubicBezTo>
                  <a:cubicBezTo>
                    <a:pt x="533010" y="343638"/>
                    <a:pt x="558171" y="351583"/>
                    <a:pt x="563468" y="315829"/>
                  </a:cubicBezTo>
                  <a:cubicBezTo>
                    <a:pt x="563468" y="315829"/>
                    <a:pt x="566116" y="74819"/>
                    <a:pt x="747536" y="143679"/>
                  </a:cubicBezTo>
                  <a:cubicBezTo>
                    <a:pt x="747536" y="143679"/>
                    <a:pt x="756805" y="106600"/>
                    <a:pt x="789911" y="98655"/>
                  </a:cubicBezTo>
                  <a:cubicBezTo>
                    <a:pt x="789911" y="98655"/>
                    <a:pt x="740915" y="86737"/>
                    <a:pt x="458853" y="9932"/>
                  </a:cubicBezTo>
                  <a:lnTo>
                    <a:pt x="60260" y="40389"/>
                  </a:lnTo>
                  <a:close/>
                </a:path>
              </a:pathLst>
            </a:custGeom>
            <a:solidFill>
              <a:srgbClr val="36605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0" name="任意多边形: 形状 338"/>
            <p:cNvSpPr/>
            <p:nvPr/>
          </p:nvSpPr>
          <p:spPr>
            <a:xfrm>
              <a:off x="586440" y="4097880"/>
              <a:ext cx="463320" cy="874080"/>
            </a:xfrm>
            <a:custGeom>
              <a:avLst/>
              <a:gdLst>
                <a:gd name="textAreaLeft" fmla="*/ 0 w 463320"/>
                <a:gd name="textAreaRight" fmla="*/ 463680 w 463320"/>
                <a:gd name="textAreaTop" fmla="*/ 0 h 874080"/>
                <a:gd name="textAreaBottom" fmla="*/ 874440 h 874080"/>
              </a:gdLst>
              <a:ahLst/>
              <a:rect l="textAreaLeft" t="textAreaTop" r="textAreaRight" b="textAreaBottom"/>
              <a:pathLst>
                <a:path w="463480" h="873992">
                  <a:moveTo>
                    <a:pt x="109249" y="12580"/>
                  </a:moveTo>
                  <a:cubicBezTo>
                    <a:pt x="109249" y="12580"/>
                    <a:pt x="99979" y="9932"/>
                    <a:pt x="99979" y="9932"/>
                  </a:cubicBezTo>
                  <a:cubicBezTo>
                    <a:pt x="-45686" y="190027"/>
                    <a:pt x="29795" y="539624"/>
                    <a:pt x="29795" y="539624"/>
                  </a:cubicBezTo>
                  <a:cubicBezTo>
                    <a:pt x="25823" y="747528"/>
                    <a:pt x="9932" y="870682"/>
                    <a:pt x="9932" y="870682"/>
                  </a:cubicBezTo>
                  <a:cubicBezTo>
                    <a:pt x="401904" y="870682"/>
                    <a:pt x="405877" y="838900"/>
                    <a:pt x="405877" y="838900"/>
                  </a:cubicBezTo>
                  <a:lnTo>
                    <a:pt x="409850" y="437658"/>
                  </a:lnTo>
                  <a:lnTo>
                    <a:pt x="437658" y="337017"/>
                  </a:lnTo>
                  <a:cubicBezTo>
                    <a:pt x="487979" y="265508"/>
                    <a:pt x="415146" y="171488"/>
                    <a:pt x="368798" y="123815"/>
                  </a:cubicBezTo>
                  <a:lnTo>
                    <a:pt x="109249" y="12580"/>
                  </a:lnTo>
                  <a:close/>
                </a:path>
              </a:pathLst>
            </a:custGeom>
            <a:solidFill>
              <a:srgbClr val="f9ac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1" name="任意多边形: 形状 339"/>
            <p:cNvSpPr/>
            <p:nvPr/>
          </p:nvSpPr>
          <p:spPr>
            <a:xfrm>
              <a:off x="698760" y="4187520"/>
              <a:ext cx="1072440" cy="622440"/>
            </a:xfrm>
            <a:custGeom>
              <a:avLst/>
              <a:gdLst>
                <a:gd name="textAreaLeft" fmla="*/ 0 w 1072440"/>
                <a:gd name="textAreaRight" fmla="*/ 1072800 w 1072440"/>
                <a:gd name="textAreaTop" fmla="*/ 0 h 622440"/>
                <a:gd name="textAreaBottom" fmla="*/ 622800 h 622440"/>
              </a:gdLst>
              <a:ahLst/>
              <a:rect l="textAreaLeft" t="textAreaTop" r="textAreaRight" b="textAreaBottom"/>
              <a:pathLst>
                <a:path w="1072626" h="622388">
                  <a:moveTo>
                    <a:pt x="138713" y="39413"/>
                  </a:moveTo>
                  <a:cubicBezTo>
                    <a:pt x="138713" y="39413"/>
                    <a:pt x="60584" y="-40041"/>
                    <a:pt x="16884" y="61925"/>
                  </a:cubicBezTo>
                  <a:cubicBezTo>
                    <a:pt x="16884" y="61925"/>
                    <a:pt x="-10925" y="100327"/>
                    <a:pt x="44693" y="206266"/>
                  </a:cubicBezTo>
                  <a:lnTo>
                    <a:pt x="219491" y="551890"/>
                  </a:lnTo>
                  <a:cubicBezTo>
                    <a:pt x="224788" y="561160"/>
                    <a:pt x="253921" y="562484"/>
                    <a:pt x="265839" y="563808"/>
                  </a:cubicBezTo>
                  <a:cubicBezTo>
                    <a:pt x="289675" y="565133"/>
                    <a:pt x="317484" y="567781"/>
                    <a:pt x="377075" y="570429"/>
                  </a:cubicBezTo>
                  <a:cubicBezTo>
                    <a:pt x="526713" y="577051"/>
                    <a:pt x="739914" y="573078"/>
                    <a:pt x="827313" y="581023"/>
                  </a:cubicBezTo>
                  <a:cubicBezTo>
                    <a:pt x="827313" y="581023"/>
                    <a:pt x="959736" y="619426"/>
                    <a:pt x="1041839" y="618102"/>
                  </a:cubicBezTo>
                  <a:cubicBezTo>
                    <a:pt x="1041839" y="618102"/>
                    <a:pt x="1145129" y="575726"/>
                    <a:pt x="925306" y="532027"/>
                  </a:cubicBezTo>
                  <a:cubicBezTo>
                    <a:pt x="925306" y="532027"/>
                    <a:pt x="456529" y="445952"/>
                    <a:pt x="328078" y="426088"/>
                  </a:cubicBezTo>
                  <a:lnTo>
                    <a:pt x="138713" y="39413"/>
                  </a:ln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2" name="任意多边形: 形状 340"/>
            <p:cNvSpPr/>
            <p:nvPr/>
          </p:nvSpPr>
          <p:spPr>
            <a:xfrm>
              <a:off x="684000" y="4163400"/>
              <a:ext cx="357480" cy="529560"/>
            </a:xfrm>
            <a:custGeom>
              <a:avLst/>
              <a:gdLst>
                <a:gd name="textAreaLeft" fmla="*/ 0 w 357480"/>
                <a:gd name="textAreaRight" fmla="*/ 357840 w 357480"/>
                <a:gd name="textAreaTop" fmla="*/ 0 h 529560"/>
                <a:gd name="textAreaBottom" fmla="*/ 529920 h 529560"/>
              </a:gdLst>
              <a:ahLst/>
              <a:rect l="textAreaLeft" t="textAreaTop" r="textAreaRight" b="textAreaBottom"/>
              <a:pathLst>
                <a:path w="357542" h="529692">
                  <a:moveTo>
                    <a:pt x="178512" y="64711"/>
                  </a:moveTo>
                  <a:cubicBezTo>
                    <a:pt x="178512" y="64711"/>
                    <a:pt x="93761" y="-49173"/>
                    <a:pt x="23577" y="51469"/>
                  </a:cubicBezTo>
                  <a:cubicBezTo>
                    <a:pt x="23577" y="51469"/>
                    <a:pt x="-61174" y="128274"/>
                    <a:pt x="191754" y="528192"/>
                  </a:cubicBezTo>
                  <a:cubicBezTo>
                    <a:pt x="191754" y="528192"/>
                    <a:pt x="321529" y="499059"/>
                    <a:pt x="354635" y="423578"/>
                  </a:cubicBezTo>
                  <a:lnTo>
                    <a:pt x="178512" y="64711"/>
                  </a:lnTo>
                  <a:close/>
                </a:path>
              </a:pathLst>
            </a:custGeom>
            <a:solidFill>
              <a:srgbClr val="f4bb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3" name="任意多边形: 形状 341"/>
            <p:cNvSpPr/>
            <p:nvPr/>
          </p:nvSpPr>
          <p:spPr>
            <a:xfrm>
              <a:off x="1271160" y="5016960"/>
              <a:ext cx="79200" cy="52920"/>
            </a:xfrm>
            <a:custGeom>
              <a:avLst/>
              <a:gdLst>
                <a:gd name="textAreaLeft" fmla="*/ 0 w 79200"/>
                <a:gd name="textAreaRight" fmla="*/ 79560 w 79200"/>
                <a:gd name="textAreaTop" fmla="*/ 0 h 52920"/>
                <a:gd name="textAreaBottom" fmla="*/ 53280 h 52920"/>
              </a:gdLst>
              <a:ahLst/>
              <a:rect l="textAreaLeft" t="textAreaTop" r="textAreaRight" b="textAreaBottom"/>
              <a:pathLst>
                <a:path w="79453" h="52969">
                  <a:moveTo>
                    <a:pt x="9932" y="54956"/>
                  </a:moveTo>
                  <a:cubicBezTo>
                    <a:pt x="9932" y="54956"/>
                    <a:pt x="45686" y="15229"/>
                    <a:pt x="77467" y="16553"/>
                  </a:cubicBezTo>
                  <a:lnTo>
                    <a:pt x="52307" y="9932"/>
                  </a:lnTo>
                  <a:cubicBezTo>
                    <a:pt x="52307" y="9932"/>
                    <a:pt x="23174" y="16553"/>
                    <a:pt x="9932" y="54956"/>
                  </a:cubicBezTo>
                  <a:close/>
                </a:path>
              </a:pathLst>
            </a:custGeom>
            <a:solidFill>
              <a:srgbClr val="eaba81">
                <a:alpha val="80000"/>
              </a:srgbClr>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764" name="任意多边形: 形状 342"/>
            <p:cNvSpPr/>
            <p:nvPr/>
          </p:nvSpPr>
          <p:spPr>
            <a:xfrm>
              <a:off x="472320" y="3444840"/>
              <a:ext cx="119160" cy="225000"/>
            </a:xfrm>
            <a:custGeom>
              <a:avLst/>
              <a:gdLst>
                <a:gd name="textAreaLeft" fmla="*/ 0 w 119160"/>
                <a:gd name="textAreaRight" fmla="*/ 119520 w 119160"/>
                <a:gd name="textAreaTop" fmla="*/ 0 h 225000"/>
                <a:gd name="textAreaBottom" fmla="*/ 225360 h 225000"/>
              </a:gdLst>
              <a:ahLst/>
              <a:rect l="textAreaLeft" t="textAreaTop" r="textAreaRight" b="textAreaBottom"/>
              <a:pathLst>
                <a:path w="119180" h="225119">
                  <a:moveTo>
                    <a:pt x="121167" y="9932"/>
                  </a:moveTo>
                  <a:cubicBezTo>
                    <a:pt x="121167" y="9932"/>
                    <a:pt x="50983" y="58928"/>
                    <a:pt x="9932" y="219160"/>
                  </a:cubicBezTo>
                  <a:cubicBezTo>
                    <a:pt x="9932" y="219160"/>
                    <a:pt x="48334" y="72171"/>
                    <a:pt x="121167" y="9932"/>
                  </a:cubicBezTo>
                  <a:close/>
                </a:path>
              </a:pathLst>
            </a:custGeom>
            <a:solidFill>
              <a:srgbClr val="6626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5" name="任意多边形: 形状 343"/>
            <p:cNvSpPr/>
            <p:nvPr/>
          </p:nvSpPr>
          <p:spPr>
            <a:xfrm>
              <a:off x="697680" y="3631680"/>
              <a:ext cx="172080" cy="105840"/>
            </a:xfrm>
            <a:custGeom>
              <a:avLst/>
              <a:gdLst>
                <a:gd name="textAreaLeft" fmla="*/ 0 w 172080"/>
                <a:gd name="textAreaRight" fmla="*/ 172440 w 172080"/>
                <a:gd name="textAreaTop" fmla="*/ 0 h 105840"/>
                <a:gd name="textAreaBottom" fmla="*/ 106200 h 105840"/>
              </a:gdLst>
              <a:ahLst/>
              <a:rect l="textAreaLeft" t="textAreaTop" r="textAreaRight" b="textAreaBottom"/>
              <a:pathLst>
                <a:path w="172150" h="105938">
                  <a:moveTo>
                    <a:pt x="168839" y="9932"/>
                  </a:moveTo>
                  <a:cubicBezTo>
                    <a:pt x="168839" y="9932"/>
                    <a:pt x="121167" y="89386"/>
                    <a:pt x="9932" y="106600"/>
                  </a:cubicBezTo>
                </a:path>
              </a:pathLst>
            </a:custGeom>
            <a:solidFill>
              <a:srgbClr val="8c620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6" name="任意多边形: 形状 344"/>
            <p:cNvSpPr/>
            <p:nvPr/>
          </p:nvSpPr>
          <p:spPr>
            <a:xfrm>
              <a:off x="3322800" y="4935600"/>
              <a:ext cx="383760" cy="1165320"/>
            </a:xfrm>
            <a:custGeom>
              <a:avLst/>
              <a:gdLst>
                <a:gd name="textAreaLeft" fmla="*/ 0 w 383760"/>
                <a:gd name="textAreaRight" fmla="*/ 384120 w 383760"/>
                <a:gd name="textAreaTop" fmla="*/ 0 h 1165320"/>
                <a:gd name="textAreaBottom" fmla="*/ 1165680 h 1165320"/>
              </a:gdLst>
              <a:ahLst/>
              <a:rect l="textAreaLeft" t="textAreaTop" r="textAreaRight" b="textAreaBottom"/>
              <a:pathLst>
                <a:path w="384026" h="1165323">
                  <a:moveTo>
                    <a:pt x="349965" y="1162683"/>
                  </a:moveTo>
                  <a:cubicBezTo>
                    <a:pt x="349965" y="1162683"/>
                    <a:pt x="379098" y="1150765"/>
                    <a:pt x="381746" y="1092498"/>
                  </a:cubicBezTo>
                  <a:cubicBezTo>
                    <a:pt x="376449" y="1076608"/>
                    <a:pt x="368504" y="1058069"/>
                    <a:pt x="359235" y="1039529"/>
                  </a:cubicBezTo>
                  <a:cubicBezTo>
                    <a:pt x="359235" y="1039529"/>
                    <a:pt x="327453" y="911079"/>
                    <a:pt x="322156" y="764089"/>
                  </a:cubicBezTo>
                  <a:cubicBezTo>
                    <a:pt x="322156" y="764089"/>
                    <a:pt x="300968" y="576048"/>
                    <a:pt x="241378" y="410520"/>
                  </a:cubicBezTo>
                  <a:cubicBezTo>
                    <a:pt x="241378" y="410520"/>
                    <a:pt x="234757" y="388008"/>
                    <a:pt x="230784" y="304581"/>
                  </a:cubicBezTo>
                  <a:cubicBezTo>
                    <a:pt x="230784" y="304581"/>
                    <a:pt x="230784" y="184076"/>
                    <a:pt x="208272" y="107271"/>
                  </a:cubicBezTo>
                  <a:cubicBezTo>
                    <a:pt x="208272" y="107271"/>
                    <a:pt x="168545" y="-18531"/>
                    <a:pt x="65255" y="15899"/>
                  </a:cubicBezTo>
                  <a:cubicBezTo>
                    <a:pt x="65255" y="15899"/>
                    <a:pt x="-59223" y="103298"/>
                    <a:pt x="65255" y="300609"/>
                  </a:cubicBezTo>
                  <a:cubicBezTo>
                    <a:pt x="65255" y="300609"/>
                    <a:pt x="70552" y="386684"/>
                    <a:pt x="104982" y="433032"/>
                  </a:cubicBezTo>
                  <a:cubicBezTo>
                    <a:pt x="104982" y="433032"/>
                    <a:pt x="95713" y="697878"/>
                    <a:pt x="263890" y="966697"/>
                  </a:cubicBezTo>
                  <a:cubicBezTo>
                    <a:pt x="263890" y="966697"/>
                    <a:pt x="286402" y="1050123"/>
                    <a:pt x="291699" y="1128253"/>
                  </a:cubicBezTo>
                  <a:cubicBezTo>
                    <a:pt x="290374" y="1126929"/>
                    <a:pt x="306265" y="1165331"/>
                    <a:pt x="349965" y="1162683"/>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7" name="任意多边形: 形状 345"/>
            <p:cNvSpPr/>
            <p:nvPr/>
          </p:nvSpPr>
          <p:spPr>
            <a:xfrm>
              <a:off x="3546720" y="4935240"/>
              <a:ext cx="383760" cy="1178640"/>
            </a:xfrm>
            <a:custGeom>
              <a:avLst/>
              <a:gdLst>
                <a:gd name="textAreaLeft" fmla="*/ 0 w 383760"/>
                <a:gd name="textAreaRight" fmla="*/ 384120 w 383760"/>
                <a:gd name="textAreaTop" fmla="*/ 0 h 1178640"/>
                <a:gd name="textAreaBottom" fmla="*/ 1179000 h 1178640"/>
              </a:gdLst>
              <a:ahLst/>
              <a:rect l="textAreaLeft" t="textAreaTop" r="textAreaRight" b="textAreaBottom"/>
              <a:pathLst>
                <a:path w="384026" h="1178565">
                  <a:moveTo>
                    <a:pt x="353938" y="1176299"/>
                  </a:moveTo>
                  <a:cubicBezTo>
                    <a:pt x="353938" y="1176299"/>
                    <a:pt x="376449" y="1181595"/>
                    <a:pt x="381747" y="1092872"/>
                  </a:cubicBezTo>
                  <a:cubicBezTo>
                    <a:pt x="376449" y="1076981"/>
                    <a:pt x="368504" y="1058442"/>
                    <a:pt x="359235" y="1039902"/>
                  </a:cubicBezTo>
                  <a:cubicBezTo>
                    <a:pt x="359235" y="1039902"/>
                    <a:pt x="327453" y="911452"/>
                    <a:pt x="322156" y="764463"/>
                  </a:cubicBezTo>
                  <a:cubicBezTo>
                    <a:pt x="322156" y="764463"/>
                    <a:pt x="328777" y="593637"/>
                    <a:pt x="244026" y="410893"/>
                  </a:cubicBezTo>
                  <a:cubicBezTo>
                    <a:pt x="244026" y="410893"/>
                    <a:pt x="234757" y="388381"/>
                    <a:pt x="230784" y="304954"/>
                  </a:cubicBezTo>
                  <a:cubicBezTo>
                    <a:pt x="230784" y="304954"/>
                    <a:pt x="240054" y="184450"/>
                    <a:pt x="208272" y="107644"/>
                  </a:cubicBezTo>
                  <a:cubicBezTo>
                    <a:pt x="208272" y="107644"/>
                    <a:pt x="171194" y="-19482"/>
                    <a:pt x="65255" y="16272"/>
                  </a:cubicBezTo>
                  <a:cubicBezTo>
                    <a:pt x="65255" y="16272"/>
                    <a:pt x="-59223" y="103671"/>
                    <a:pt x="65255" y="300982"/>
                  </a:cubicBezTo>
                  <a:cubicBezTo>
                    <a:pt x="65255" y="300982"/>
                    <a:pt x="74525" y="351302"/>
                    <a:pt x="108955" y="416190"/>
                  </a:cubicBezTo>
                  <a:cubicBezTo>
                    <a:pt x="108955" y="416190"/>
                    <a:pt x="134115" y="737978"/>
                    <a:pt x="262566" y="968394"/>
                  </a:cubicBezTo>
                  <a:cubicBezTo>
                    <a:pt x="262566" y="968394"/>
                    <a:pt x="285078" y="1051821"/>
                    <a:pt x="290374" y="1129950"/>
                  </a:cubicBezTo>
                  <a:cubicBezTo>
                    <a:pt x="291699" y="1127302"/>
                    <a:pt x="311562" y="1178947"/>
                    <a:pt x="353938" y="1176299"/>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8" name="任意多边形: 形状 346"/>
            <p:cNvSpPr/>
            <p:nvPr/>
          </p:nvSpPr>
          <p:spPr>
            <a:xfrm>
              <a:off x="3827520" y="6018480"/>
              <a:ext cx="145440" cy="185400"/>
            </a:xfrm>
            <a:custGeom>
              <a:avLst/>
              <a:gdLst>
                <a:gd name="textAreaLeft" fmla="*/ 0 w 145440"/>
                <a:gd name="textAreaRight" fmla="*/ 145800 w 145440"/>
                <a:gd name="textAreaTop" fmla="*/ 0 h 185400"/>
                <a:gd name="textAreaBottom" fmla="*/ 185760 h 185400"/>
              </a:gdLst>
              <a:ahLst/>
              <a:rect l="textAreaLeft" t="textAreaTop" r="textAreaRight" b="textAreaBottom"/>
              <a:pathLst>
                <a:path w="145665" h="185392">
                  <a:moveTo>
                    <a:pt x="80962" y="178109"/>
                  </a:moveTo>
                  <a:cubicBezTo>
                    <a:pt x="136579" y="176785"/>
                    <a:pt x="185576" y="145003"/>
                    <a:pt x="102149" y="9932"/>
                  </a:cubicBezTo>
                  <a:cubicBezTo>
                    <a:pt x="96852" y="98655"/>
                    <a:pt x="67719" y="82764"/>
                    <a:pt x="67719" y="82764"/>
                  </a:cubicBezTo>
                  <a:cubicBezTo>
                    <a:pt x="25344" y="85413"/>
                    <a:pt x="12101" y="43038"/>
                    <a:pt x="12101" y="43038"/>
                  </a:cubicBezTo>
                  <a:cubicBezTo>
                    <a:pt x="12101" y="43038"/>
                    <a:pt x="-9086" y="179434"/>
                    <a:pt x="80962" y="178109"/>
                  </a:cubicBezTo>
                  <a:close/>
                </a:path>
              </a:pathLst>
            </a:custGeom>
            <a:solidFill>
              <a:srgbClr val="a10d1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69" name="任意多边形: 形状 347"/>
            <p:cNvSpPr/>
            <p:nvPr/>
          </p:nvSpPr>
          <p:spPr>
            <a:xfrm>
              <a:off x="3201480" y="3290760"/>
              <a:ext cx="635400" cy="781200"/>
            </a:xfrm>
            <a:custGeom>
              <a:avLst/>
              <a:gdLst>
                <a:gd name="textAreaLeft" fmla="*/ 0 w 635400"/>
                <a:gd name="textAreaRight" fmla="*/ 635760 w 635400"/>
                <a:gd name="textAreaTop" fmla="*/ 0 h 781200"/>
                <a:gd name="textAreaBottom" fmla="*/ 781560 h 781200"/>
              </a:gdLst>
              <a:ahLst/>
              <a:rect l="textAreaLeft" t="textAreaTop" r="textAreaRight" b="textAreaBottom"/>
              <a:pathLst>
                <a:path w="635630" h="781296">
                  <a:moveTo>
                    <a:pt x="572021" y="736206"/>
                  </a:moveTo>
                  <a:cubicBezTo>
                    <a:pt x="572021" y="736206"/>
                    <a:pt x="733577" y="344234"/>
                    <a:pt x="540239" y="115142"/>
                  </a:cubicBezTo>
                  <a:cubicBezTo>
                    <a:pt x="540239" y="115142"/>
                    <a:pt x="331010" y="-115275"/>
                    <a:pt x="103243" y="105872"/>
                  </a:cubicBezTo>
                  <a:cubicBezTo>
                    <a:pt x="-74204" y="374691"/>
                    <a:pt x="51598" y="697803"/>
                    <a:pt x="75434" y="740179"/>
                  </a:cubicBezTo>
                  <a:cubicBezTo>
                    <a:pt x="99270" y="781230"/>
                    <a:pt x="532294" y="805066"/>
                    <a:pt x="572021" y="736206"/>
                  </a:cubicBezTo>
                  <a:close/>
                </a:path>
              </a:pathLst>
            </a:custGeom>
            <a:solidFill>
              <a:srgbClr val="4420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0" name="任意多边形: 形状 348"/>
            <p:cNvSpPr/>
            <p:nvPr/>
          </p:nvSpPr>
          <p:spPr>
            <a:xfrm>
              <a:off x="3421800" y="3946680"/>
              <a:ext cx="251280" cy="79200"/>
            </a:xfrm>
            <a:custGeom>
              <a:avLst/>
              <a:gdLst>
                <a:gd name="textAreaLeft" fmla="*/ 0 w 251280"/>
                <a:gd name="textAreaRight" fmla="*/ 251640 w 251280"/>
                <a:gd name="textAreaTop" fmla="*/ 0 h 79200"/>
                <a:gd name="textAreaBottom" fmla="*/ 79560 h 79200"/>
              </a:gdLst>
              <a:ahLst/>
              <a:rect l="textAreaLeft" t="textAreaTop" r="textAreaRight" b="textAreaBottom"/>
              <a:pathLst>
                <a:path w="251603" h="79453">
                  <a:moveTo>
                    <a:pt x="229754" y="27186"/>
                  </a:moveTo>
                  <a:lnTo>
                    <a:pt x="241672" y="72210"/>
                  </a:lnTo>
                  <a:lnTo>
                    <a:pt x="9932" y="72210"/>
                  </a:lnTo>
                  <a:cubicBezTo>
                    <a:pt x="9932" y="72210"/>
                    <a:pt x="24498" y="69561"/>
                    <a:pt x="31119" y="19241"/>
                  </a:cubicBezTo>
                  <a:cubicBezTo>
                    <a:pt x="117194" y="3350"/>
                    <a:pt x="224457" y="12619"/>
                    <a:pt x="224457" y="12619"/>
                  </a:cubicBezTo>
                  <a:lnTo>
                    <a:pt x="229754" y="27186"/>
                  </a:lnTo>
                  <a:close/>
                </a:path>
              </a:pathLst>
            </a:custGeom>
            <a:solidFill>
              <a:srgbClr val="68210f"/>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771" name="任意多边形: 形状 349"/>
            <p:cNvSpPr/>
            <p:nvPr/>
          </p:nvSpPr>
          <p:spPr>
            <a:xfrm>
              <a:off x="3283920" y="3614400"/>
              <a:ext cx="65880" cy="145440"/>
            </a:xfrm>
            <a:custGeom>
              <a:avLst/>
              <a:gdLst>
                <a:gd name="textAreaLeft" fmla="*/ 0 w 65880"/>
                <a:gd name="textAreaRight" fmla="*/ 66240 w 65880"/>
                <a:gd name="textAreaTop" fmla="*/ 0 h 145440"/>
                <a:gd name="textAreaBottom" fmla="*/ 145800 h 145440"/>
              </a:gdLst>
              <a:ahLst/>
              <a:rect l="textAreaLeft" t="textAreaTop" r="textAreaRight" b="textAreaBottom"/>
              <a:pathLst>
                <a:path w="66211" h="145665">
                  <a:moveTo>
                    <a:pt x="51194" y="142514"/>
                  </a:moveTo>
                  <a:cubicBezTo>
                    <a:pt x="51194" y="142514"/>
                    <a:pt x="27358" y="131920"/>
                    <a:pt x="23385" y="122650"/>
                  </a:cubicBezTo>
                  <a:cubicBezTo>
                    <a:pt x="19412" y="113381"/>
                    <a:pt x="3522" y="15388"/>
                    <a:pt x="12791" y="11415"/>
                  </a:cubicBezTo>
                  <a:cubicBezTo>
                    <a:pt x="20737" y="6118"/>
                    <a:pt x="40600" y="16712"/>
                    <a:pt x="45897" y="16712"/>
                  </a:cubicBezTo>
                  <a:cubicBezTo>
                    <a:pt x="52518" y="16712"/>
                    <a:pt x="68409" y="131920"/>
                    <a:pt x="68409" y="131920"/>
                  </a:cubicBezTo>
                  <a:lnTo>
                    <a:pt x="51194" y="142514"/>
                  </a:ln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2" name="任意多边形: 形状 350"/>
            <p:cNvSpPr/>
            <p:nvPr/>
          </p:nvSpPr>
          <p:spPr>
            <a:xfrm>
              <a:off x="3351600" y="3382560"/>
              <a:ext cx="264600" cy="185400"/>
            </a:xfrm>
            <a:custGeom>
              <a:avLst/>
              <a:gdLst>
                <a:gd name="textAreaLeft" fmla="*/ 0 w 264600"/>
                <a:gd name="textAreaRight" fmla="*/ 264960 w 264600"/>
                <a:gd name="textAreaTop" fmla="*/ 0 h 185400"/>
                <a:gd name="textAreaBottom" fmla="*/ 185760 h 185400"/>
              </a:gdLst>
              <a:ahLst/>
              <a:rect l="textAreaLeft" t="textAreaTop" r="textAreaRight" b="textAreaBottom"/>
              <a:pathLst>
                <a:path w="264846" h="185392">
                  <a:moveTo>
                    <a:pt x="97331" y="54956"/>
                  </a:moveTo>
                  <a:cubicBezTo>
                    <a:pt x="97331" y="54956"/>
                    <a:pt x="53632" y="72171"/>
                    <a:pt x="20526" y="126464"/>
                  </a:cubicBezTo>
                  <a:cubicBezTo>
                    <a:pt x="16553" y="131761"/>
                    <a:pt x="13904" y="137058"/>
                    <a:pt x="9932" y="142355"/>
                  </a:cubicBezTo>
                  <a:cubicBezTo>
                    <a:pt x="32444" y="85413"/>
                    <a:pt x="66874" y="40389"/>
                    <a:pt x="107925" y="9932"/>
                  </a:cubicBezTo>
                  <a:lnTo>
                    <a:pt x="254914" y="183406"/>
                  </a:lnTo>
                  <a:lnTo>
                    <a:pt x="253590" y="183406"/>
                  </a:lnTo>
                  <a:cubicBezTo>
                    <a:pt x="253590" y="184730"/>
                    <a:pt x="105277" y="74819"/>
                    <a:pt x="97331" y="54956"/>
                  </a:cubicBezTo>
                  <a:close/>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3" name="任意多边形: 形状 351"/>
            <p:cNvSpPr/>
            <p:nvPr/>
          </p:nvSpPr>
          <p:spPr>
            <a:xfrm>
              <a:off x="3777120" y="4072680"/>
              <a:ext cx="277920" cy="688680"/>
            </a:xfrm>
            <a:custGeom>
              <a:avLst/>
              <a:gdLst>
                <a:gd name="textAreaLeft" fmla="*/ 0 w 277920"/>
                <a:gd name="textAreaRight" fmla="*/ 278280 w 277920"/>
                <a:gd name="textAreaTop" fmla="*/ 0 h 688680"/>
                <a:gd name="textAreaBottom" fmla="*/ 689040 h 688680"/>
              </a:gdLst>
              <a:ahLst/>
              <a:rect l="textAreaLeft" t="textAreaTop" r="textAreaRight" b="textAreaBottom"/>
              <a:pathLst>
                <a:path w="278088" h="688600">
                  <a:moveTo>
                    <a:pt x="66471" y="9932"/>
                  </a:moveTo>
                  <a:cubicBezTo>
                    <a:pt x="66471" y="9932"/>
                    <a:pt x="77065" y="16553"/>
                    <a:pt x="91632" y="32444"/>
                  </a:cubicBezTo>
                  <a:cubicBezTo>
                    <a:pt x="126061" y="72171"/>
                    <a:pt x="179031" y="171488"/>
                    <a:pt x="273051" y="460170"/>
                  </a:cubicBezTo>
                  <a:cubicBezTo>
                    <a:pt x="278348" y="552866"/>
                    <a:pt x="246567" y="683965"/>
                    <a:pt x="246567" y="683965"/>
                  </a:cubicBezTo>
                  <a:cubicBezTo>
                    <a:pt x="246567" y="683965"/>
                    <a:pt x="165788" y="608484"/>
                    <a:pt x="41311" y="311856"/>
                  </a:cubicBezTo>
                  <a:cubicBezTo>
                    <a:pt x="-12983" y="180758"/>
                    <a:pt x="8205" y="107925"/>
                    <a:pt x="66471" y="9932"/>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4" name="任意多边形: 形状 352"/>
            <p:cNvSpPr/>
            <p:nvPr/>
          </p:nvSpPr>
          <p:spPr>
            <a:xfrm>
              <a:off x="3098520" y="4057920"/>
              <a:ext cx="251280" cy="701640"/>
            </a:xfrm>
            <a:custGeom>
              <a:avLst/>
              <a:gdLst>
                <a:gd name="textAreaLeft" fmla="*/ 0 w 251280"/>
                <a:gd name="textAreaRight" fmla="*/ 251640 w 251280"/>
                <a:gd name="textAreaTop" fmla="*/ 0 h 701640"/>
                <a:gd name="textAreaBottom" fmla="*/ 702000 h 701640"/>
              </a:gdLst>
              <a:ahLst/>
              <a:rect l="textAreaLeft" t="textAreaTop" r="textAreaRight" b="textAreaBottom"/>
              <a:pathLst>
                <a:path w="251603" h="701842">
                  <a:moveTo>
                    <a:pt x="162218" y="9932"/>
                  </a:moveTo>
                  <a:cubicBezTo>
                    <a:pt x="162218" y="9932"/>
                    <a:pt x="154273" y="17877"/>
                    <a:pt x="142355" y="35092"/>
                  </a:cubicBezTo>
                  <a:cubicBezTo>
                    <a:pt x="114546" y="80116"/>
                    <a:pt x="57604" y="269481"/>
                    <a:pt x="9932" y="568757"/>
                  </a:cubicBezTo>
                  <a:cubicBezTo>
                    <a:pt x="19201" y="661453"/>
                    <a:pt x="97331" y="699856"/>
                    <a:pt x="97331" y="699856"/>
                  </a:cubicBezTo>
                  <a:cubicBezTo>
                    <a:pt x="97331" y="699856"/>
                    <a:pt x="164867" y="613781"/>
                    <a:pt x="241672" y="299938"/>
                  </a:cubicBezTo>
                  <a:cubicBezTo>
                    <a:pt x="274778" y="162218"/>
                    <a:pt x="235051" y="97331"/>
                    <a:pt x="162218" y="9932"/>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5" name="任意多边形: 形状 353"/>
            <p:cNvSpPr/>
            <p:nvPr/>
          </p:nvSpPr>
          <p:spPr>
            <a:xfrm>
              <a:off x="3198960" y="3879360"/>
              <a:ext cx="688320" cy="1032840"/>
            </a:xfrm>
            <a:custGeom>
              <a:avLst/>
              <a:gdLst>
                <a:gd name="textAreaLeft" fmla="*/ 0 w 688320"/>
                <a:gd name="textAreaRight" fmla="*/ 688680 w 688320"/>
                <a:gd name="textAreaTop" fmla="*/ 0 h 1032840"/>
                <a:gd name="textAreaBottom" fmla="*/ 1033200 h 1032840"/>
              </a:gdLst>
              <a:ahLst/>
              <a:rect l="textAreaLeft" t="textAreaTop" r="textAreaRight" b="textAreaBottom"/>
              <a:pathLst>
                <a:path w="688600" h="1032900">
                  <a:moveTo>
                    <a:pt x="71334" y="649535"/>
                  </a:moveTo>
                  <a:cubicBezTo>
                    <a:pt x="120330" y="736934"/>
                    <a:pt x="179921" y="825658"/>
                    <a:pt x="132249" y="911733"/>
                  </a:cubicBezTo>
                  <a:cubicBezTo>
                    <a:pt x="112385" y="947487"/>
                    <a:pt x="91197" y="985890"/>
                    <a:pt x="70010" y="1028265"/>
                  </a:cubicBezTo>
                  <a:lnTo>
                    <a:pt x="624862" y="1028265"/>
                  </a:lnTo>
                  <a:cubicBezTo>
                    <a:pt x="603675" y="999132"/>
                    <a:pt x="582487" y="969999"/>
                    <a:pt x="562624" y="934245"/>
                  </a:cubicBezTo>
                  <a:cubicBezTo>
                    <a:pt x="514951" y="846846"/>
                    <a:pt x="587784" y="715747"/>
                    <a:pt x="639429" y="623051"/>
                  </a:cubicBezTo>
                  <a:cubicBezTo>
                    <a:pt x="667238" y="574054"/>
                    <a:pt x="680480" y="514464"/>
                    <a:pt x="680480" y="498573"/>
                  </a:cubicBezTo>
                  <a:cubicBezTo>
                    <a:pt x="681804" y="453549"/>
                    <a:pt x="646050" y="203269"/>
                    <a:pt x="646050" y="203269"/>
                  </a:cubicBezTo>
                  <a:lnTo>
                    <a:pt x="594405" y="179433"/>
                  </a:lnTo>
                  <a:cubicBezTo>
                    <a:pt x="556002" y="160894"/>
                    <a:pt x="454036" y="130437"/>
                    <a:pt x="431525" y="117194"/>
                  </a:cubicBezTo>
                  <a:cubicBezTo>
                    <a:pt x="406364" y="102628"/>
                    <a:pt x="409013" y="9932"/>
                    <a:pt x="409013" y="9932"/>
                  </a:cubicBezTo>
                  <a:lnTo>
                    <a:pt x="356043" y="9932"/>
                  </a:lnTo>
                  <a:lnTo>
                    <a:pt x="332207" y="9932"/>
                  </a:lnTo>
                  <a:lnTo>
                    <a:pt x="280562" y="9932"/>
                  </a:lnTo>
                  <a:cubicBezTo>
                    <a:pt x="280562" y="9932"/>
                    <a:pt x="281886" y="92034"/>
                    <a:pt x="260699" y="113222"/>
                  </a:cubicBezTo>
                  <a:cubicBezTo>
                    <a:pt x="239511" y="134409"/>
                    <a:pt x="116358" y="167515"/>
                    <a:pt x="76631" y="183406"/>
                  </a:cubicBezTo>
                  <a:cubicBezTo>
                    <a:pt x="70010" y="186054"/>
                    <a:pt x="62064" y="191351"/>
                    <a:pt x="59416" y="192676"/>
                  </a:cubicBezTo>
                  <a:cubicBezTo>
                    <a:pt x="52795" y="200621"/>
                    <a:pt x="50146" y="205918"/>
                    <a:pt x="43525" y="215188"/>
                  </a:cubicBezTo>
                  <a:cubicBezTo>
                    <a:pt x="3798" y="270805"/>
                    <a:pt x="9095" y="432361"/>
                    <a:pt x="11743" y="477385"/>
                  </a:cubicBezTo>
                  <a:cubicBezTo>
                    <a:pt x="11743" y="491952"/>
                    <a:pt x="43525" y="600539"/>
                    <a:pt x="71334" y="649535"/>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6" name="任意多边形: 形状 354"/>
            <p:cNvSpPr/>
            <p:nvPr/>
          </p:nvSpPr>
          <p:spPr>
            <a:xfrm>
              <a:off x="3200400" y="3950640"/>
              <a:ext cx="701640" cy="821160"/>
            </a:xfrm>
            <a:custGeom>
              <a:avLst/>
              <a:gdLst>
                <a:gd name="textAreaLeft" fmla="*/ 0 w 701640"/>
                <a:gd name="textAreaRight" fmla="*/ 702000 w 701640"/>
                <a:gd name="textAreaTop" fmla="*/ 0 h 821160"/>
                <a:gd name="textAreaBottom" fmla="*/ 821520 h 821160"/>
              </a:gdLst>
              <a:ahLst/>
              <a:rect l="textAreaLeft" t="textAreaTop" r="textAreaRight" b="textAreaBottom"/>
              <a:pathLst>
                <a:path w="701842" h="821023">
                  <a:moveTo>
                    <a:pt x="447233" y="9932"/>
                  </a:moveTo>
                  <a:cubicBezTo>
                    <a:pt x="447233" y="9932"/>
                    <a:pt x="468421" y="70846"/>
                    <a:pt x="416776" y="111897"/>
                  </a:cubicBezTo>
                  <a:cubicBezTo>
                    <a:pt x="365131" y="152949"/>
                    <a:pt x="354537" y="166191"/>
                    <a:pt x="349240" y="197972"/>
                  </a:cubicBezTo>
                  <a:cubicBezTo>
                    <a:pt x="343944" y="229754"/>
                    <a:pt x="343944" y="242996"/>
                    <a:pt x="343944" y="242996"/>
                  </a:cubicBezTo>
                  <a:lnTo>
                    <a:pt x="334674" y="179433"/>
                  </a:lnTo>
                  <a:cubicBezTo>
                    <a:pt x="334674" y="179433"/>
                    <a:pt x="329377" y="150300"/>
                    <a:pt x="312162" y="137058"/>
                  </a:cubicBezTo>
                  <a:cubicBezTo>
                    <a:pt x="294947" y="125140"/>
                    <a:pt x="259193" y="80116"/>
                    <a:pt x="253896" y="57604"/>
                  </a:cubicBezTo>
                  <a:cubicBezTo>
                    <a:pt x="249923" y="33768"/>
                    <a:pt x="253896" y="15229"/>
                    <a:pt x="253896" y="15229"/>
                  </a:cubicBezTo>
                  <a:lnTo>
                    <a:pt x="247275" y="15229"/>
                  </a:lnTo>
                  <a:lnTo>
                    <a:pt x="238005" y="50983"/>
                  </a:lnTo>
                  <a:cubicBezTo>
                    <a:pt x="238005" y="50983"/>
                    <a:pt x="112203" y="96007"/>
                    <a:pt x="112203" y="96007"/>
                  </a:cubicBezTo>
                  <a:cubicBezTo>
                    <a:pt x="112203" y="96007"/>
                    <a:pt x="114851" y="205918"/>
                    <a:pt x="61882" y="301263"/>
                  </a:cubicBezTo>
                  <a:cubicBezTo>
                    <a:pt x="31425" y="356880"/>
                    <a:pt x="-28165" y="419119"/>
                    <a:pt x="44667" y="538300"/>
                  </a:cubicBezTo>
                  <a:cubicBezTo>
                    <a:pt x="76449" y="637617"/>
                    <a:pt x="92340" y="752825"/>
                    <a:pt x="116176" y="807119"/>
                  </a:cubicBezTo>
                  <a:cubicBezTo>
                    <a:pt x="122797" y="808443"/>
                    <a:pt x="247275" y="799173"/>
                    <a:pt x="342619" y="812416"/>
                  </a:cubicBezTo>
                  <a:cubicBezTo>
                    <a:pt x="477691" y="830955"/>
                    <a:pt x="575684" y="807119"/>
                    <a:pt x="575684" y="807119"/>
                  </a:cubicBezTo>
                  <a:cubicBezTo>
                    <a:pt x="575684" y="807119"/>
                    <a:pt x="606141" y="698532"/>
                    <a:pt x="635274" y="566109"/>
                  </a:cubicBezTo>
                  <a:cubicBezTo>
                    <a:pt x="673677" y="514464"/>
                    <a:pt x="697513" y="469440"/>
                    <a:pt x="690892" y="408525"/>
                  </a:cubicBezTo>
                  <a:cubicBezTo>
                    <a:pt x="688244" y="388662"/>
                    <a:pt x="678974" y="366150"/>
                    <a:pt x="659110" y="318478"/>
                  </a:cubicBezTo>
                  <a:cubicBezTo>
                    <a:pt x="636598" y="265508"/>
                    <a:pt x="615411" y="164867"/>
                    <a:pt x="619383" y="115870"/>
                  </a:cubicBezTo>
                  <a:cubicBezTo>
                    <a:pt x="596871" y="103952"/>
                    <a:pt x="465773" y="56280"/>
                    <a:pt x="465773" y="56280"/>
                  </a:cubicBezTo>
                  <a:lnTo>
                    <a:pt x="447233" y="9932"/>
                  </a:lnTo>
                  <a:close/>
                </a:path>
              </a:pathLst>
            </a:custGeom>
            <a:solidFill>
              <a:srgbClr val="f07b7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7" name="任意多边形: 形状 355"/>
            <p:cNvSpPr/>
            <p:nvPr/>
          </p:nvSpPr>
          <p:spPr>
            <a:xfrm>
              <a:off x="3556800" y="3949560"/>
              <a:ext cx="145440" cy="238320"/>
            </a:xfrm>
            <a:custGeom>
              <a:avLst/>
              <a:gdLst>
                <a:gd name="textAreaLeft" fmla="*/ 0 w 145440"/>
                <a:gd name="textAreaRight" fmla="*/ 145800 w 145440"/>
                <a:gd name="textAreaTop" fmla="*/ 0 h 238320"/>
                <a:gd name="textAreaBottom" fmla="*/ 238680 h 238320"/>
              </a:gdLst>
              <a:ahLst/>
              <a:rect l="textAreaLeft" t="textAreaTop" r="textAreaRight" b="textAreaBottom"/>
              <a:pathLst>
                <a:path w="145665" h="238361">
                  <a:moveTo>
                    <a:pt x="93359" y="13904"/>
                  </a:moveTo>
                  <a:lnTo>
                    <a:pt x="135734" y="72171"/>
                  </a:lnTo>
                  <a:cubicBezTo>
                    <a:pt x="141031" y="74819"/>
                    <a:pt x="69522" y="207242"/>
                    <a:pt x="62901" y="231078"/>
                  </a:cubicBezTo>
                  <a:cubicBezTo>
                    <a:pt x="57604" y="203269"/>
                    <a:pt x="11256" y="155597"/>
                    <a:pt x="9932" y="156921"/>
                  </a:cubicBezTo>
                  <a:cubicBezTo>
                    <a:pt x="9932" y="156921"/>
                    <a:pt x="28471" y="138382"/>
                    <a:pt x="47010" y="111897"/>
                  </a:cubicBezTo>
                  <a:cubicBezTo>
                    <a:pt x="64225" y="88061"/>
                    <a:pt x="77468" y="56280"/>
                    <a:pt x="86737" y="25822"/>
                  </a:cubicBezTo>
                  <a:cubicBezTo>
                    <a:pt x="88061" y="21850"/>
                    <a:pt x="89386" y="9932"/>
                    <a:pt x="89386" y="9932"/>
                  </a:cubicBezTo>
                  <a:lnTo>
                    <a:pt x="93359" y="13904"/>
                  </a:lnTo>
                  <a:close/>
                </a:path>
              </a:pathLst>
            </a:custGeom>
            <a:solidFill>
              <a:srgbClr val="a10d1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8" name="任意多边形: 形状 356"/>
            <p:cNvSpPr/>
            <p:nvPr/>
          </p:nvSpPr>
          <p:spPr>
            <a:xfrm>
              <a:off x="3405240" y="3956040"/>
              <a:ext cx="119160" cy="225000"/>
            </a:xfrm>
            <a:custGeom>
              <a:avLst/>
              <a:gdLst>
                <a:gd name="textAreaLeft" fmla="*/ 0 w 119160"/>
                <a:gd name="textAreaRight" fmla="*/ 119520 w 119160"/>
                <a:gd name="textAreaTop" fmla="*/ 0 h 225000"/>
                <a:gd name="textAreaBottom" fmla="*/ 225360 h 225000"/>
              </a:gdLst>
              <a:ahLst/>
              <a:rect l="textAreaLeft" t="textAreaTop" r="textAreaRight" b="textAreaBottom"/>
              <a:pathLst>
                <a:path w="119180" h="225119">
                  <a:moveTo>
                    <a:pt x="51713" y="9932"/>
                  </a:moveTo>
                  <a:cubicBezTo>
                    <a:pt x="51713" y="9932"/>
                    <a:pt x="49064" y="11256"/>
                    <a:pt x="47740" y="29795"/>
                  </a:cubicBezTo>
                  <a:cubicBezTo>
                    <a:pt x="46416" y="45686"/>
                    <a:pt x="49064" y="64225"/>
                    <a:pt x="67603" y="86737"/>
                  </a:cubicBezTo>
                  <a:cubicBezTo>
                    <a:pt x="86143" y="107925"/>
                    <a:pt x="113951" y="134409"/>
                    <a:pt x="119248" y="148976"/>
                  </a:cubicBezTo>
                  <a:cubicBezTo>
                    <a:pt x="115276" y="155597"/>
                    <a:pt x="113951" y="162218"/>
                    <a:pt x="107330" y="174136"/>
                  </a:cubicBezTo>
                  <a:cubicBezTo>
                    <a:pt x="96736" y="194000"/>
                    <a:pt x="53037" y="220484"/>
                    <a:pt x="53037" y="220484"/>
                  </a:cubicBezTo>
                  <a:cubicBezTo>
                    <a:pt x="53037" y="220484"/>
                    <a:pt x="45091" y="190027"/>
                    <a:pt x="17283" y="121167"/>
                  </a:cubicBezTo>
                  <a:cubicBezTo>
                    <a:pt x="6689" y="93358"/>
                    <a:pt x="10661" y="56280"/>
                    <a:pt x="10661" y="56280"/>
                  </a:cubicBezTo>
                  <a:cubicBezTo>
                    <a:pt x="10661" y="56280"/>
                    <a:pt x="39795" y="13904"/>
                    <a:pt x="42443" y="12580"/>
                  </a:cubicBezTo>
                  <a:cubicBezTo>
                    <a:pt x="45091" y="9932"/>
                    <a:pt x="51713" y="9932"/>
                    <a:pt x="51713" y="9932"/>
                  </a:cubicBezTo>
                  <a:close/>
                </a:path>
              </a:pathLst>
            </a:custGeom>
            <a:solidFill>
              <a:srgbClr val="a10d1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79" name="任意多边形: 形状 357"/>
            <p:cNvSpPr/>
            <p:nvPr/>
          </p:nvSpPr>
          <p:spPr>
            <a:xfrm>
              <a:off x="3450960" y="3891240"/>
              <a:ext cx="158760" cy="105840"/>
            </a:xfrm>
            <a:custGeom>
              <a:avLst/>
              <a:gdLst>
                <a:gd name="textAreaLeft" fmla="*/ 0 w 158760"/>
                <a:gd name="textAreaRight" fmla="*/ 159120 w 158760"/>
                <a:gd name="textAreaTop" fmla="*/ 0 h 105840"/>
                <a:gd name="textAreaBottom" fmla="*/ 106200 h 105840"/>
              </a:gdLst>
              <a:ahLst/>
              <a:rect l="textAreaLeft" t="textAreaTop" r="textAreaRight" b="textAreaBottom"/>
              <a:pathLst>
                <a:path w="158907" h="105938">
                  <a:moveTo>
                    <a:pt x="25823" y="9932"/>
                  </a:moveTo>
                  <a:lnTo>
                    <a:pt x="77468" y="9932"/>
                  </a:lnTo>
                  <a:lnTo>
                    <a:pt x="101304" y="9932"/>
                  </a:lnTo>
                  <a:lnTo>
                    <a:pt x="154273" y="9932"/>
                  </a:lnTo>
                  <a:cubicBezTo>
                    <a:pt x="154273" y="9932"/>
                    <a:pt x="155597" y="17877"/>
                    <a:pt x="155597" y="23174"/>
                  </a:cubicBezTo>
                  <a:lnTo>
                    <a:pt x="9932" y="96007"/>
                  </a:lnTo>
                  <a:cubicBezTo>
                    <a:pt x="28471" y="56280"/>
                    <a:pt x="25823" y="9932"/>
                    <a:pt x="25823" y="9932"/>
                  </a:cubicBezTo>
                  <a:close/>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80" name="任意多边形: 形状 358"/>
            <p:cNvSpPr/>
            <p:nvPr/>
          </p:nvSpPr>
          <p:spPr>
            <a:xfrm>
              <a:off x="3319560" y="3348000"/>
              <a:ext cx="450000" cy="595800"/>
            </a:xfrm>
            <a:custGeom>
              <a:avLst/>
              <a:gdLst>
                <a:gd name="textAreaLeft" fmla="*/ 0 w 450000"/>
                <a:gd name="textAreaRight" fmla="*/ 450360 w 450000"/>
                <a:gd name="textAreaTop" fmla="*/ 0 h 595800"/>
                <a:gd name="textAreaBottom" fmla="*/ 596160 h 595800"/>
              </a:gdLst>
              <a:ahLst/>
              <a:rect l="textAreaLeft" t="textAreaTop" r="textAreaRight" b="textAreaBottom"/>
              <a:pathLst>
                <a:path w="450238" h="595903">
                  <a:moveTo>
                    <a:pt x="226102" y="9932"/>
                  </a:moveTo>
                  <a:cubicBezTo>
                    <a:pt x="351904" y="9932"/>
                    <a:pt x="440628" y="182082"/>
                    <a:pt x="440628" y="344962"/>
                  </a:cubicBezTo>
                  <a:cubicBezTo>
                    <a:pt x="440628" y="474737"/>
                    <a:pt x="406197" y="507843"/>
                    <a:pt x="304232" y="562136"/>
                  </a:cubicBezTo>
                  <a:cubicBezTo>
                    <a:pt x="281720" y="574054"/>
                    <a:pt x="259208" y="589945"/>
                    <a:pt x="232723" y="589945"/>
                  </a:cubicBezTo>
                  <a:cubicBezTo>
                    <a:pt x="200942" y="589945"/>
                    <a:pt x="175781" y="574054"/>
                    <a:pt x="151945" y="562136"/>
                  </a:cubicBezTo>
                  <a:cubicBezTo>
                    <a:pt x="44683" y="502546"/>
                    <a:pt x="14225" y="480034"/>
                    <a:pt x="10253" y="347611"/>
                  </a:cubicBezTo>
                  <a:cubicBezTo>
                    <a:pt x="3631" y="195324"/>
                    <a:pt x="100300" y="9932"/>
                    <a:pt x="226102" y="9932"/>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781" name="任意多边形: 形状 359"/>
            <p:cNvSpPr/>
            <p:nvPr/>
          </p:nvSpPr>
          <p:spPr>
            <a:xfrm>
              <a:off x="3592800" y="3612960"/>
              <a:ext cx="145440" cy="92520"/>
            </a:xfrm>
            <a:custGeom>
              <a:avLst/>
              <a:gdLst>
                <a:gd name="textAreaLeft" fmla="*/ 0 w 145440"/>
                <a:gd name="textAreaRight" fmla="*/ 145800 w 145440"/>
                <a:gd name="textAreaTop" fmla="*/ 0 h 92520"/>
                <a:gd name="textAreaBottom" fmla="*/ 92880 h 92520"/>
              </a:gdLst>
              <a:ahLst/>
              <a:rect l="textAreaLeft" t="textAreaTop" r="textAreaRight" b="textAreaBottom"/>
              <a:pathLst>
                <a:path w="145665" h="92696">
                  <a:moveTo>
                    <a:pt x="146327" y="35092"/>
                  </a:moveTo>
                  <a:cubicBezTo>
                    <a:pt x="146327" y="35092"/>
                    <a:pt x="111897" y="88061"/>
                    <a:pt x="73495" y="88061"/>
                  </a:cubicBezTo>
                  <a:cubicBezTo>
                    <a:pt x="35092" y="88061"/>
                    <a:pt x="9932" y="57604"/>
                    <a:pt x="9932" y="57604"/>
                  </a:cubicBezTo>
                  <a:cubicBezTo>
                    <a:pt x="9932" y="57604"/>
                    <a:pt x="35092" y="9932"/>
                    <a:pt x="73495" y="9932"/>
                  </a:cubicBezTo>
                  <a:cubicBezTo>
                    <a:pt x="111897" y="9932"/>
                    <a:pt x="146327" y="35092"/>
                    <a:pt x="146327" y="35092"/>
                  </a:cubicBezTo>
                  <a:close/>
                </a:path>
              </a:pathLst>
            </a:custGeom>
            <a:solidFill>
              <a:srgbClr val="ffcd8a"/>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782" name="任意多边形: 形状 360"/>
            <p:cNvSpPr/>
            <p:nvPr/>
          </p:nvSpPr>
          <p:spPr>
            <a:xfrm>
              <a:off x="3592800" y="3619800"/>
              <a:ext cx="145440" cy="79200"/>
            </a:xfrm>
            <a:custGeom>
              <a:avLst/>
              <a:gdLst>
                <a:gd name="textAreaLeft" fmla="*/ 0 w 145440"/>
                <a:gd name="textAreaRight" fmla="*/ 145800 w 145440"/>
                <a:gd name="textAreaTop" fmla="*/ 0 h 79200"/>
                <a:gd name="textAreaBottom" fmla="*/ 79560 h 79200"/>
              </a:gdLst>
              <a:ahLst/>
              <a:rect l="textAreaLeft" t="textAreaTop" r="textAreaRight" b="textAreaBottom"/>
              <a:pathLst>
                <a:path w="145665" h="79453">
                  <a:moveTo>
                    <a:pt x="135734" y="32444"/>
                  </a:moveTo>
                  <a:cubicBezTo>
                    <a:pt x="135734" y="32444"/>
                    <a:pt x="103952" y="81440"/>
                    <a:pt x="68198" y="81440"/>
                  </a:cubicBezTo>
                  <a:cubicBezTo>
                    <a:pt x="32443" y="81440"/>
                    <a:pt x="9932" y="50983"/>
                    <a:pt x="9932" y="50983"/>
                  </a:cubicBezTo>
                  <a:cubicBezTo>
                    <a:pt x="9932" y="50983"/>
                    <a:pt x="32443" y="9932"/>
                    <a:pt x="68198" y="9932"/>
                  </a:cubicBezTo>
                  <a:cubicBezTo>
                    <a:pt x="103952" y="9932"/>
                    <a:pt x="135734" y="32444"/>
                    <a:pt x="135734" y="32444"/>
                  </a:cubicBezTo>
                  <a:close/>
                </a:path>
              </a:pathLst>
            </a:custGeom>
            <a:solidFill>
              <a:srgbClr val="ffffff"/>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783" name="任意多边形: 形状 361"/>
            <p:cNvSpPr/>
            <p:nvPr/>
          </p:nvSpPr>
          <p:spPr>
            <a:xfrm>
              <a:off x="3612600" y="3620880"/>
              <a:ext cx="79200" cy="79200"/>
            </a:xfrm>
            <a:custGeom>
              <a:avLst/>
              <a:gdLst>
                <a:gd name="textAreaLeft" fmla="*/ 0 w 79200"/>
                <a:gd name="textAreaRight" fmla="*/ 79560 w 79200"/>
                <a:gd name="textAreaTop" fmla="*/ 0 h 79200"/>
                <a:gd name="textAreaBottom" fmla="*/ 79560 h 79200"/>
              </a:gdLst>
              <a:ahLst/>
              <a:rect l="textAreaLeft" t="textAreaTop" r="textAreaRight" b="textAreaBottom"/>
              <a:pathLst>
                <a:path w="79453" h="79453">
                  <a:moveTo>
                    <a:pt x="9932" y="41713"/>
                  </a:moveTo>
                  <a:cubicBezTo>
                    <a:pt x="9932" y="24498"/>
                    <a:pt x="24498" y="9932"/>
                    <a:pt x="41713" y="9932"/>
                  </a:cubicBezTo>
                  <a:cubicBezTo>
                    <a:pt x="58928" y="9932"/>
                    <a:pt x="73495" y="24498"/>
                    <a:pt x="73495" y="41713"/>
                  </a:cubicBezTo>
                  <a:cubicBezTo>
                    <a:pt x="73495" y="58928"/>
                    <a:pt x="58928" y="73495"/>
                    <a:pt x="41713" y="73495"/>
                  </a:cubicBezTo>
                  <a:cubicBezTo>
                    <a:pt x="24498" y="73495"/>
                    <a:pt x="9932" y="58928"/>
                    <a:pt x="9932" y="41713"/>
                  </a:cubicBezTo>
                  <a:close/>
                </a:path>
              </a:pathLst>
            </a:custGeom>
            <a:solidFill>
              <a:srgbClr val="2d0201"/>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784" name="任意多边形: 形状 362"/>
            <p:cNvSpPr/>
            <p:nvPr/>
          </p:nvSpPr>
          <p:spPr>
            <a:xfrm>
              <a:off x="3615120" y="362376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9932" y="39065"/>
                  </a:moveTo>
                  <a:cubicBezTo>
                    <a:pt x="9932" y="23174"/>
                    <a:pt x="23174" y="9932"/>
                    <a:pt x="39065" y="9932"/>
                  </a:cubicBezTo>
                  <a:cubicBezTo>
                    <a:pt x="54956" y="9932"/>
                    <a:pt x="68198" y="23174"/>
                    <a:pt x="68198" y="39065"/>
                  </a:cubicBezTo>
                  <a:cubicBezTo>
                    <a:pt x="68198" y="54956"/>
                    <a:pt x="54956" y="68198"/>
                    <a:pt x="39065" y="68198"/>
                  </a:cubicBezTo>
                  <a:cubicBezTo>
                    <a:pt x="23174" y="68198"/>
                    <a:pt x="9932" y="54956"/>
                    <a:pt x="9932" y="39065"/>
                  </a:cubicBezTo>
                  <a:close/>
                </a:path>
              </a:pathLst>
            </a:custGeom>
            <a:solidFill>
              <a:srgbClr val="630704"/>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785" name="任意多边形: 形状 363"/>
            <p:cNvSpPr/>
            <p:nvPr/>
          </p:nvSpPr>
          <p:spPr>
            <a:xfrm>
              <a:off x="3625920" y="364896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9726" h="39726">
                  <a:moveTo>
                    <a:pt x="9932" y="21850"/>
                  </a:moveTo>
                  <a:cubicBezTo>
                    <a:pt x="9932" y="15229"/>
                    <a:pt x="15229" y="9932"/>
                    <a:pt x="20525" y="9932"/>
                  </a:cubicBezTo>
                  <a:cubicBezTo>
                    <a:pt x="27147" y="9932"/>
                    <a:pt x="31120" y="15229"/>
                    <a:pt x="31120" y="21850"/>
                  </a:cubicBezTo>
                  <a:cubicBezTo>
                    <a:pt x="31120" y="28471"/>
                    <a:pt x="25822" y="32444"/>
                    <a:pt x="20525" y="32444"/>
                  </a:cubicBezTo>
                  <a:cubicBezTo>
                    <a:pt x="15229" y="32444"/>
                    <a:pt x="9932" y="27147"/>
                    <a:pt x="9932" y="21850"/>
                  </a:cubicBezTo>
                  <a:close/>
                </a:path>
              </a:pathLst>
            </a:custGeom>
            <a:solidFill>
              <a:srgbClr val="8e0404"/>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786" name="任意多边形: 形状 364"/>
            <p:cNvSpPr/>
            <p:nvPr/>
          </p:nvSpPr>
          <p:spPr>
            <a:xfrm>
              <a:off x="3633840" y="3642120"/>
              <a:ext cx="26280" cy="39600"/>
            </a:xfrm>
            <a:custGeom>
              <a:avLst/>
              <a:gdLst>
                <a:gd name="textAreaLeft" fmla="*/ 0 w 26280"/>
                <a:gd name="textAreaRight" fmla="*/ 26640 w 26280"/>
                <a:gd name="textAreaTop" fmla="*/ 0 h 39600"/>
                <a:gd name="textAreaBottom" fmla="*/ 39960 h 39600"/>
              </a:gdLst>
              <a:ahLst/>
              <a:rect l="textAreaLeft" t="textAreaTop" r="textAreaRight" b="textAreaBottom"/>
              <a:pathLst>
                <a:path w="26484" h="39726">
                  <a:moveTo>
                    <a:pt x="9932" y="20526"/>
                  </a:moveTo>
                  <a:cubicBezTo>
                    <a:pt x="9932" y="15229"/>
                    <a:pt x="13904" y="9932"/>
                    <a:pt x="19201" y="9932"/>
                  </a:cubicBezTo>
                  <a:cubicBezTo>
                    <a:pt x="24498" y="9932"/>
                    <a:pt x="28471" y="13904"/>
                    <a:pt x="28471" y="20526"/>
                  </a:cubicBezTo>
                  <a:cubicBezTo>
                    <a:pt x="28471" y="25823"/>
                    <a:pt x="24498" y="31120"/>
                    <a:pt x="19201" y="31120"/>
                  </a:cubicBezTo>
                  <a:cubicBezTo>
                    <a:pt x="15229" y="29795"/>
                    <a:pt x="9932" y="25823"/>
                    <a:pt x="9932" y="20526"/>
                  </a:cubicBezTo>
                  <a:close/>
                </a:path>
              </a:pathLst>
            </a:custGeom>
            <a:solidFill>
              <a:srgbClr val="420303"/>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787" name="任意多边形: 形状 365"/>
            <p:cNvSpPr/>
            <p:nvPr/>
          </p:nvSpPr>
          <p:spPr>
            <a:xfrm>
              <a:off x="3630960" y="365400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13242" h="13242">
                  <a:moveTo>
                    <a:pt x="15229" y="12580"/>
                  </a:moveTo>
                  <a:cubicBezTo>
                    <a:pt x="15229" y="13904"/>
                    <a:pt x="13904" y="15229"/>
                    <a:pt x="12580" y="15229"/>
                  </a:cubicBezTo>
                  <a:cubicBezTo>
                    <a:pt x="11256" y="15229"/>
                    <a:pt x="9932" y="13904"/>
                    <a:pt x="9932" y="12580"/>
                  </a:cubicBezTo>
                  <a:cubicBezTo>
                    <a:pt x="9932" y="11256"/>
                    <a:pt x="11256" y="9932"/>
                    <a:pt x="12580" y="9932"/>
                  </a:cubicBezTo>
                  <a:cubicBezTo>
                    <a:pt x="13904" y="9932"/>
                    <a:pt x="15229" y="11256"/>
                    <a:pt x="15229" y="12580"/>
                  </a:cubicBezTo>
                  <a:close/>
                </a:path>
              </a:pathLst>
            </a:custGeom>
            <a:solidFill>
              <a:srgbClr val="ffffff"/>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788" name="任意多边形: 形状 366"/>
            <p:cNvSpPr/>
            <p:nvPr/>
          </p:nvSpPr>
          <p:spPr>
            <a:xfrm>
              <a:off x="3644280" y="363708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5229"/>
                  </a:moveTo>
                  <a:cubicBezTo>
                    <a:pt x="9932" y="12580"/>
                    <a:pt x="12580" y="9932"/>
                    <a:pt x="15229" y="9932"/>
                  </a:cubicBezTo>
                  <a:cubicBezTo>
                    <a:pt x="17877" y="9932"/>
                    <a:pt x="20525" y="12580"/>
                    <a:pt x="20525" y="15229"/>
                  </a:cubicBezTo>
                  <a:cubicBezTo>
                    <a:pt x="20525" y="17877"/>
                    <a:pt x="17877" y="20526"/>
                    <a:pt x="15229" y="20526"/>
                  </a:cubicBezTo>
                  <a:cubicBezTo>
                    <a:pt x="12580" y="20526"/>
                    <a:pt x="9932" y="17877"/>
                    <a:pt x="9932" y="15229"/>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789" name="任意多边形: 形状 367"/>
            <p:cNvSpPr/>
            <p:nvPr/>
          </p:nvSpPr>
          <p:spPr>
            <a:xfrm>
              <a:off x="3597840" y="3614040"/>
              <a:ext cx="158760" cy="52920"/>
            </a:xfrm>
            <a:custGeom>
              <a:avLst/>
              <a:gdLst>
                <a:gd name="textAreaLeft" fmla="*/ 0 w 158760"/>
                <a:gd name="textAreaRight" fmla="*/ 159120 w 158760"/>
                <a:gd name="textAreaTop" fmla="*/ 0 h 52920"/>
                <a:gd name="textAreaBottom" fmla="*/ 53280 h 52920"/>
              </a:gdLst>
              <a:ahLst/>
              <a:rect l="textAreaLeft" t="textAreaTop" r="textAreaRight" b="textAreaBottom"/>
              <a:pathLst>
                <a:path w="158907" h="52969">
                  <a:moveTo>
                    <a:pt x="9932" y="48679"/>
                  </a:moveTo>
                  <a:cubicBezTo>
                    <a:pt x="9932" y="48679"/>
                    <a:pt x="11256" y="46030"/>
                    <a:pt x="13904" y="43382"/>
                  </a:cubicBezTo>
                  <a:cubicBezTo>
                    <a:pt x="16553" y="39409"/>
                    <a:pt x="20525" y="34112"/>
                    <a:pt x="25823" y="30140"/>
                  </a:cubicBezTo>
                  <a:cubicBezTo>
                    <a:pt x="28471" y="27491"/>
                    <a:pt x="31120" y="24843"/>
                    <a:pt x="35092" y="22194"/>
                  </a:cubicBezTo>
                  <a:cubicBezTo>
                    <a:pt x="39065" y="19546"/>
                    <a:pt x="43038" y="16897"/>
                    <a:pt x="47010" y="15573"/>
                  </a:cubicBezTo>
                  <a:cubicBezTo>
                    <a:pt x="56280" y="11600"/>
                    <a:pt x="66873" y="8952"/>
                    <a:pt x="77468" y="10276"/>
                  </a:cubicBezTo>
                  <a:cubicBezTo>
                    <a:pt x="82764" y="10276"/>
                    <a:pt x="88061" y="12925"/>
                    <a:pt x="92034" y="14249"/>
                  </a:cubicBezTo>
                  <a:cubicBezTo>
                    <a:pt x="96007" y="15573"/>
                    <a:pt x="101304" y="18222"/>
                    <a:pt x="105277" y="19546"/>
                  </a:cubicBezTo>
                  <a:cubicBezTo>
                    <a:pt x="113222" y="23519"/>
                    <a:pt x="121167" y="27491"/>
                    <a:pt x="127788" y="31464"/>
                  </a:cubicBezTo>
                  <a:cubicBezTo>
                    <a:pt x="130437" y="32788"/>
                    <a:pt x="133085" y="35437"/>
                    <a:pt x="135734" y="35437"/>
                  </a:cubicBezTo>
                  <a:cubicBezTo>
                    <a:pt x="138382" y="36761"/>
                    <a:pt x="139706" y="36761"/>
                    <a:pt x="142355" y="36761"/>
                  </a:cubicBezTo>
                  <a:cubicBezTo>
                    <a:pt x="143679" y="36761"/>
                    <a:pt x="146327" y="35437"/>
                    <a:pt x="147652" y="35437"/>
                  </a:cubicBezTo>
                  <a:cubicBezTo>
                    <a:pt x="148976" y="35437"/>
                    <a:pt x="148976" y="35437"/>
                    <a:pt x="148976" y="35437"/>
                  </a:cubicBezTo>
                  <a:cubicBezTo>
                    <a:pt x="148976" y="35437"/>
                    <a:pt x="147652" y="36761"/>
                    <a:pt x="143679" y="39409"/>
                  </a:cubicBezTo>
                  <a:cubicBezTo>
                    <a:pt x="142355" y="40734"/>
                    <a:pt x="138382" y="40734"/>
                    <a:pt x="135734" y="40734"/>
                  </a:cubicBezTo>
                  <a:cubicBezTo>
                    <a:pt x="131761" y="40734"/>
                    <a:pt x="129113" y="39409"/>
                    <a:pt x="125140" y="38085"/>
                  </a:cubicBezTo>
                  <a:cubicBezTo>
                    <a:pt x="121167" y="36761"/>
                    <a:pt x="118519" y="35437"/>
                    <a:pt x="114546" y="34112"/>
                  </a:cubicBezTo>
                  <a:cubicBezTo>
                    <a:pt x="110573" y="32788"/>
                    <a:pt x="106600" y="31464"/>
                    <a:pt x="102628" y="30140"/>
                  </a:cubicBezTo>
                  <a:cubicBezTo>
                    <a:pt x="98655" y="28815"/>
                    <a:pt x="94682" y="27491"/>
                    <a:pt x="89386" y="26167"/>
                  </a:cubicBezTo>
                  <a:cubicBezTo>
                    <a:pt x="85413" y="24843"/>
                    <a:pt x="81440" y="23519"/>
                    <a:pt x="76143" y="23519"/>
                  </a:cubicBezTo>
                  <a:cubicBezTo>
                    <a:pt x="68198" y="22194"/>
                    <a:pt x="58928" y="23519"/>
                    <a:pt x="50983" y="26167"/>
                  </a:cubicBezTo>
                  <a:cubicBezTo>
                    <a:pt x="47010" y="27491"/>
                    <a:pt x="43038" y="28815"/>
                    <a:pt x="39065" y="30140"/>
                  </a:cubicBezTo>
                  <a:cubicBezTo>
                    <a:pt x="35092" y="31464"/>
                    <a:pt x="32444" y="34112"/>
                    <a:pt x="29795" y="35437"/>
                  </a:cubicBezTo>
                  <a:cubicBezTo>
                    <a:pt x="24498" y="39409"/>
                    <a:pt x="19202" y="43382"/>
                    <a:pt x="15229" y="46030"/>
                  </a:cubicBezTo>
                  <a:cubicBezTo>
                    <a:pt x="12580" y="47355"/>
                    <a:pt x="9932" y="48679"/>
                    <a:pt x="9932" y="48679"/>
                  </a:cubicBezTo>
                  <a:close/>
                </a:path>
              </a:pathLst>
            </a:custGeom>
            <a:solidFill>
              <a:srgbClr val="3c241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790" name="任意多边形: 形状 368"/>
            <p:cNvSpPr/>
            <p:nvPr/>
          </p:nvSpPr>
          <p:spPr>
            <a:xfrm>
              <a:off x="3655080" y="3641040"/>
              <a:ext cx="79200" cy="65880"/>
            </a:xfrm>
            <a:custGeom>
              <a:avLst/>
              <a:gdLst>
                <a:gd name="textAreaLeft" fmla="*/ 0 w 79200"/>
                <a:gd name="textAreaRight" fmla="*/ 79560 w 79200"/>
                <a:gd name="textAreaTop" fmla="*/ 0 h 65880"/>
                <a:gd name="textAreaBottom" fmla="*/ 66240 h 65880"/>
              </a:gdLst>
              <a:ahLst/>
              <a:rect l="textAreaLeft" t="textAreaTop" r="textAreaRight" b="textAreaBottom"/>
              <a:pathLst>
                <a:path w="79453" h="66211">
                  <a:moveTo>
                    <a:pt x="74819" y="12249"/>
                  </a:moveTo>
                  <a:cubicBezTo>
                    <a:pt x="74819" y="12249"/>
                    <a:pt x="62901" y="29464"/>
                    <a:pt x="47010" y="42706"/>
                  </a:cubicBezTo>
                  <a:cubicBezTo>
                    <a:pt x="43038" y="46679"/>
                    <a:pt x="39065" y="49328"/>
                    <a:pt x="35092" y="51976"/>
                  </a:cubicBezTo>
                  <a:cubicBezTo>
                    <a:pt x="32444" y="53300"/>
                    <a:pt x="31120" y="54624"/>
                    <a:pt x="28471" y="55949"/>
                  </a:cubicBezTo>
                  <a:cubicBezTo>
                    <a:pt x="25823" y="57273"/>
                    <a:pt x="24498" y="57273"/>
                    <a:pt x="23174" y="58597"/>
                  </a:cubicBezTo>
                  <a:cubicBezTo>
                    <a:pt x="21850" y="58597"/>
                    <a:pt x="19202" y="59922"/>
                    <a:pt x="17877" y="59922"/>
                  </a:cubicBezTo>
                  <a:cubicBezTo>
                    <a:pt x="16553" y="59922"/>
                    <a:pt x="15229" y="59922"/>
                    <a:pt x="13905" y="61246"/>
                  </a:cubicBezTo>
                  <a:cubicBezTo>
                    <a:pt x="11256" y="61246"/>
                    <a:pt x="9932" y="61246"/>
                    <a:pt x="9932" y="61246"/>
                  </a:cubicBezTo>
                  <a:cubicBezTo>
                    <a:pt x="9932" y="61246"/>
                    <a:pt x="11256" y="61246"/>
                    <a:pt x="13905" y="61246"/>
                  </a:cubicBezTo>
                  <a:cubicBezTo>
                    <a:pt x="15229" y="61246"/>
                    <a:pt x="16553" y="61246"/>
                    <a:pt x="17877" y="59922"/>
                  </a:cubicBezTo>
                  <a:cubicBezTo>
                    <a:pt x="19202" y="59922"/>
                    <a:pt x="20526" y="58597"/>
                    <a:pt x="23174" y="58597"/>
                  </a:cubicBezTo>
                  <a:cubicBezTo>
                    <a:pt x="24498" y="57273"/>
                    <a:pt x="27147" y="57273"/>
                    <a:pt x="28471" y="55949"/>
                  </a:cubicBezTo>
                  <a:cubicBezTo>
                    <a:pt x="29795" y="54624"/>
                    <a:pt x="32444" y="53300"/>
                    <a:pt x="35092" y="51976"/>
                  </a:cubicBezTo>
                  <a:cubicBezTo>
                    <a:pt x="39065" y="49328"/>
                    <a:pt x="43038" y="46679"/>
                    <a:pt x="47010" y="42706"/>
                  </a:cubicBezTo>
                  <a:cubicBezTo>
                    <a:pt x="54956" y="36085"/>
                    <a:pt x="61577" y="28140"/>
                    <a:pt x="65550" y="21519"/>
                  </a:cubicBezTo>
                  <a:cubicBezTo>
                    <a:pt x="70846" y="14898"/>
                    <a:pt x="73495" y="10925"/>
                    <a:pt x="73495" y="10925"/>
                  </a:cubicBezTo>
                  <a:cubicBezTo>
                    <a:pt x="73495" y="9601"/>
                    <a:pt x="74819" y="9601"/>
                    <a:pt x="76143" y="10925"/>
                  </a:cubicBezTo>
                  <a:cubicBezTo>
                    <a:pt x="76143" y="9601"/>
                    <a:pt x="76143" y="10925"/>
                    <a:pt x="74819" y="12249"/>
                  </a:cubicBezTo>
                  <a:cubicBezTo>
                    <a:pt x="74819" y="12249"/>
                    <a:pt x="74819" y="12249"/>
                    <a:pt x="74819" y="12249"/>
                  </a:cubicBezTo>
                  <a:close/>
                </a:path>
              </a:pathLst>
            </a:custGeom>
            <a:solidFill>
              <a:srgbClr val="3c2415"/>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791" name="任意多边形: 形状 369"/>
            <p:cNvSpPr/>
            <p:nvPr/>
          </p:nvSpPr>
          <p:spPr>
            <a:xfrm>
              <a:off x="3579840" y="357876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158907" h="39726">
                  <a:moveTo>
                    <a:pt x="17619" y="21850"/>
                  </a:moveTo>
                  <a:cubicBezTo>
                    <a:pt x="17619" y="21850"/>
                    <a:pt x="26888" y="19201"/>
                    <a:pt x="38806" y="16553"/>
                  </a:cubicBezTo>
                  <a:cubicBezTo>
                    <a:pt x="52049" y="13904"/>
                    <a:pt x="69264" y="9932"/>
                    <a:pt x="87803" y="9932"/>
                  </a:cubicBezTo>
                  <a:cubicBezTo>
                    <a:pt x="97073" y="9932"/>
                    <a:pt x="106342" y="11256"/>
                    <a:pt x="114288" y="12580"/>
                  </a:cubicBezTo>
                  <a:cubicBezTo>
                    <a:pt x="122233" y="13904"/>
                    <a:pt x="130179" y="19201"/>
                    <a:pt x="135476" y="23174"/>
                  </a:cubicBezTo>
                  <a:cubicBezTo>
                    <a:pt x="140772" y="27147"/>
                    <a:pt x="144745" y="31119"/>
                    <a:pt x="147394" y="32444"/>
                  </a:cubicBezTo>
                  <a:cubicBezTo>
                    <a:pt x="150042" y="35092"/>
                    <a:pt x="151366" y="36416"/>
                    <a:pt x="151366" y="36416"/>
                  </a:cubicBezTo>
                  <a:cubicBezTo>
                    <a:pt x="151366" y="36416"/>
                    <a:pt x="150042" y="35092"/>
                    <a:pt x="146069" y="33768"/>
                  </a:cubicBezTo>
                  <a:cubicBezTo>
                    <a:pt x="143421" y="32444"/>
                    <a:pt x="138124" y="28471"/>
                    <a:pt x="132827" y="25822"/>
                  </a:cubicBezTo>
                  <a:cubicBezTo>
                    <a:pt x="127530" y="23174"/>
                    <a:pt x="120909" y="20525"/>
                    <a:pt x="112963" y="19201"/>
                  </a:cubicBezTo>
                  <a:cubicBezTo>
                    <a:pt x="105018" y="17877"/>
                    <a:pt x="97073" y="19201"/>
                    <a:pt x="89127" y="20525"/>
                  </a:cubicBezTo>
                  <a:cubicBezTo>
                    <a:pt x="71912" y="23174"/>
                    <a:pt x="56022" y="28471"/>
                    <a:pt x="44104" y="32444"/>
                  </a:cubicBezTo>
                  <a:cubicBezTo>
                    <a:pt x="32185" y="36416"/>
                    <a:pt x="24240" y="40389"/>
                    <a:pt x="24240" y="40389"/>
                  </a:cubicBezTo>
                  <a:cubicBezTo>
                    <a:pt x="18943" y="43038"/>
                    <a:pt x="13646" y="40389"/>
                    <a:pt x="10998" y="36416"/>
                  </a:cubicBezTo>
                  <a:cubicBezTo>
                    <a:pt x="8349" y="31119"/>
                    <a:pt x="10998" y="25822"/>
                    <a:pt x="14970" y="23174"/>
                  </a:cubicBezTo>
                  <a:cubicBezTo>
                    <a:pt x="16295" y="21850"/>
                    <a:pt x="16295" y="21850"/>
                    <a:pt x="17619" y="21850"/>
                  </a:cubicBezTo>
                  <a:close/>
                </a:path>
              </a:pathLst>
            </a:custGeom>
            <a:solidFill>
              <a:srgbClr val="3c2415"/>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792" name="任意多边形: 形状 370"/>
            <p:cNvSpPr/>
            <p:nvPr/>
          </p:nvSpPr>
          <p:spPr>
            <a:xfrm>
              <a:off x="3346200" y="3615840"/>
              <a:ext cx="145440" cy="92520"/>
            </a:xfrm>
            <a:custGeom>
              <a:avLst/>
              <a:gdLst>
                <a:gd name="textAreaLeft" fmla="*/ 0 w 145440"/>
                <a:gd name="textAreaRight" fmla="*/ 145800 w 145440"/>
                <a:gd name="textAreaTop" fmla="*/ 0 h 92520"/>
                <a:gd name="textAreaBottom" fmla="*/ 92880 h 92520"/>
              </a:gdLst>
              <a:ahLst/>
              <a:rect l="textAreaLeft" t="textAreaTop" r="textAreaRight" b="textAreaBottom"/>
              <a:pathLst>
                <a:path w="145665" h="92696">
                  <a:moveTo>
                    <a:pt x="9932" y="33768"/>
                  </a:moveTo>
                  <a:cubicBezTo>
                    <a:pt x="9932" y="33768"/>
                    <a:pt x="43038" y="84089"/>
                    <a:pt x="80116" y="84089"/>
                  </a:cubicBezTo>
                  <a:cubicBezTo>
                    <a:pt x="117195" y="84089"/>
                    <a:pt x="141031" y="54956"/>
                    <a:pt x="141031" y="54956"/>
                  </a:cubicBezTo>
                  <a:cubicBezTo>
                    <a:pt x="141031" y="54956"/>
                    <a:pt x="117195" y="9932"/>
                    <a:pt x="80116" y="9932"/>
                  </a:cubicBezTo>
                  <a:cubicBezTo>
                    <a:pt x="43038" y="9932"/>
                    <a:pt x="9932" y="33768"/>
                    <a:pt x="9932" y="33768"/>
                  </a:cubicBezTo>
                  <a:close/>
                </a:path>
              </a:pathLst>
            </a:custGeom>
            <a:solidFill>
              <a:srgbClr val="ffcd8a"/>
            </a:solidFill>
            <a:ln w="0">
              <a:noFill/>
            </a:ln>
          </p:spPr>
          <p:style>
            <a:lnRef idx="0"/>
            <a:fillRef idx="0"/>
            <a:effectRef idx="0"/>
            <a:fontRef idx="minor"/>
          </p:style>
          <p:txBody>
            <a:bodyPr lIns="90000" rIns="90000" tIns="46080" bIns="46080" anchor="ctr">
              <a:noAutofit/>
            </a:bodyPr>
            <a:p>
              <a:endParaRPr b="0" lang="en-US" sz="1800" spc="-1" strike="noStrike">
                <a:solidFill>
                  <a:srgbClr val="262626"/>
                </a:solidFill>
                <a:latin typeface="Arial"/>
              </a:endParaRPr>
            </a:p>
          </p:txBody>
        </p:sp>
        <p:sp>
          <p:nvSpPr>
            <p:cNvPr id="793" name="任意多边形: 形状 371"/>
            <p:cNvSpPr/>
            <p:nvPr/>
          </p:nvSpPr>
          <p:spPr>
            <a:xfrm>
              <a:off x="3355560" y="3620880"/>
              <a:ext cx="132120" cy="79200"/>
            </a:xfrm>
            <a:custGeom>
              <a:avLst/>
              <a:gdLst>
                <a:gd name="textAreaLeft" fmla="*/ 0 w 132120"/>
                <a:gd name="textAreaRight" fmla="*/ 132480 w 132120"/>
                <a:gd name="textAreaTop" fmla="*/ 0 h 79200"/>
                <a:gd name="textAreaBottom" fmla="*/ 79560 h 79200"/>
              </a:gdLst>
              <a:ahLst/>
              <a:rect l="textAreaLeft" t="textAreaTop" r="textAreaRight" b="textAreaBottom"/>
              <a:pathLst>
                <a:path w="132423" h="79453">
                  <a:moveTo>
                    <a:pt x="9932" y="32444"/>
                  </a:moveTo>
                  <a:cubicBezTo>
                    <a:pt x="9932" y="32444"/>
                    <a:pt x="40389" y="78792"/>
                    <a:pt x="74819" y="78792"/>
                  </a:cubicBezTo>
                  <a:cubicBezTo>
                    <a:pt x="109249" y="78792"/>
                    <a:pt x="130437" y="49659"/>
                    <a:pt x="130437" y="49659"/>
                  </a:cubicBezTo>
                  <a:cubicBezTo>
                    <a:pt x="130437" y="49659"/>
                    <a:pt x="107925" y="9932"/>
                    <a:pt x="74819" y="9932"/>
                  </a:cubicBezTo>
                  <a:cubicBezTo>
                    <a:pt x="40389" y="11256"/>
                    <a:pt x="9932" y="32444"/>
                    <a:pt x="9932" y="32444"/>
                  </a:cubicBezTo>
                  <a:close/>
                </a:path>
              </a:pathLst>
            </a:custGeom>
            <a:solidFill>
              <a:srgbClr val="ffffff"/>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794" name="任意多边形: 形状 372"/>
            <p:cNvSpPr/>
            <p:nvPr/>
          </p:nvSpPr>
          <p:spPr>
            <a:xfrm>
              <a:off x="3375360" y="3623760"/>
              <a:ext cx="79200" cy="79200"/>
            </a:xfrm>
            <a:custGeom>
              <a:avLst/>
              <a:gdLst>
                <a:gd name="textAreaLeft" fmla="*/ 0 w 79200"/>
                <a:gd name="textAreaRight" fmla="*/ 79560 w 79200"/>
                <a:gd name="textAreaTop" fmla="*/ 0 h 79200"/>
                <a:gd name="textAreaBottom" fmla="*/ 79560 h 79200"/>
              </a:gdLst>
              <a:ahLst/>
              <a:rect l="textAreaLeft" t="textAreaTop" r="textAreaRight" b="textAreaBottom"/>
              <a:pathLst>
                <a:path w="79453" h="79453">
                  <a:moveTo>
                    <a:pt x="70846" y="40389"/>
                  </a:moveTo>
                  <a:cubicBezTo>
                    <a:pt x="70846" y="23174"/>
                    <a:pt x="57604" y="9932"/>
                    <a:pt x="40389" y="9932"/>
                  </a:cubicBezTo>
                  <a:cubicBezTo>
                    <a:pt x="23174" y="9932"/>
                    <a:pt x="9932" y="23174"/>
                    <a:pt x="9932" y="40389"/>
                  </a:cubicBezTo>
                  <a:cubicBezTo>
                    <a:pt x="9932" y="57604"/>
                    <a:pt x="23174" y="70846"/>
                    <a:pt x="40389" y="70846"/>
                  </a:cubicBezTo>
                  <a:cubicBezTo>
                    <a:pt x="57604" y="70846"/>
                    <a:pt x="70846" y="57604"/>
                    <a:pt x="70846" y="40389"/>
                  </a:cubicBezTo>
                  <a:close/>
                </a:path>
              </a:pathLst>
            </a:custGeom>
            <a:solidFill>
              <a:srgbClr val="2d0201"/>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795" name="任意多边形: 形状 373"/>
            <p:cNvSpPr/>
            <p:nvPr/>
          </p:nvSpPr>
          <p:spPr>
            <a:xfrm>
              <a:off x="3378240" y="362628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66211" h="66211">
                  <a:moveTo>
                    <a:pt x="65550" y="37741"/>
                  </a:moveTo>
                  <a:cubicBezTo>
                    <a:pt x="65550" y="21850"/>
                    <a:pt x="53632" y="9932"/>
                    <a:pt x="37741" y="9932"/>
                  </a:cubicBezTo>
                  <a:cubicBezTo>
                    <a:pt x="21850" y="9932"/>
                    <a:pt x="9932" y="23174"/>
                    <a:pt x="9932" y="37741"/>
                  </a:cubicBezTo>
                  <a:cubicBezTo>
                    <a:pt x="9932" y="53631"/>
                    <a:pt x="21850" y="65549"/>
                    <a:pt x="37741" y="65549"/>
                  </a:cubicBezTo>
                  <a:cubicBezTo>
                    <a:pt x="53632" y="65549"/>
                    <a:pt x="65550" y="53631"/>
                    <a:pt x="65550" y="37741"/>
                  </a:cubicBezTo>
                  <a:close/>
                </a:path>
              </a:pathLst>
            </a:custGeom>
            <a:solidFill>
              <a:srgbClr val="630704"/>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796" name="任意多边形: 形状 374"/>
            <p:cNvSpPr/>
            <p:nvPr/>
          </p:nvSpPr>
          <p:spPr>
            <a:xfrm>
              <a:off x="3403440" y="3650040"/>
              <a:ext cx="39600" cy="39600"/>
            </a:xfrm>
            <a:custGeom>
              <a:avLst/>
              <a:gdLst>
                <a:gd name="textAreaLeft" fmla="*/ 0 w 39600"/>
                <a:gd name="textAreaRight" fmla="*/ 39960 w 39600"/>
                <a:gd name="textAreaTop" fmla="*/ 0 h 39600"/>
                <a:gd name="textAreaBottom" fmla="*/ 39960 h 39600"/>
              </a:gdLst>
              <a:ahLst/>
              <a:rect l="textAreaLeft" t="textAreaTop" r="textAreaRight" b="textAreaBottom"/>
              <a:pathLst>
                <a:path w="39726" h="39726">
                  <a:moveTo>
                    <a:pt x="31120" y="20526"/>
                  </a:moveTo>
                  <a:cubicBezTo>
                    <a:pt x="31120" y="15229"/>
                    <a:pt x="25823" y="9932"/>
                    <a:pt x="20526" y="9932"/>
                  </a:cubicBezTo>
                  <a:cubicBezTo>
                    <a:pt x="15229" y="9932"/>
                    <a:pt x="9932" y="15229"/>
                    <a:pt x="9932" y="20526"/>
                  </a:cubicBezTo>
                  <a:cubicBezTo>
                    <a:pt x="9932" y="27147"/>
                    <a:pt x="15229" y="31120"/>
                    <a:pt x="20526" y="31120"/>
                  </a:cubicBezTo>
                  <a:cubicBezTo>
                    <a:pt x="25823" y="32444"/>
                    <a:pt x="31120" y="27147"/>
                    <a:pt x="31120" y="20526"/>
                  </a:cubicBezTo>
                  <a:close/>
                </a:path>
              </a:pathLst>
            </a:custGeom>
            <a:solidFill>
              <a:srgbClr val="8e0404"/>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797" name="任意多边形: 形状 375"/>
            <p:cNvSpPr/>
            <p:nvPr/>
          </p:nvSpPr>
          <p:spPr>
            <a:xfrm>
              <a:off x="3396600" y="36450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8471" y="19201"/>
                  </a:moveTo>
                  <a:cubicBezTo>
                    <a:pt x="28471" y="13904"/>
                    <a:pt x="24498" y="9932"/>
                    <a:pt x="19202" y="9932"/>
                  </a:cubicBezTo>
                  <a:cubicBezTo>
                    <a:pt x="13905" y="9932"/>
                    <a:pt x="9932" y="13904"/>
                    <a:pt x="9932" y="19201"/>
                  </a:cubicBezTo>
                  <a:cubicBezTo>
                    <a:pt x="9932" y="24498"/>
                    <a:pt x="13905" y="28471"/>
                    <a:pt x="19202" y="28471"/>
                  </a:cubicBezTo>
                  <a:cubicBezTo>
                    <a:pt x="24498" y="28471"/>
                    <a:pt x="28471" y="24498"/>
                    <a:pt x="28471" y="19201"/>
                  </a:cubicBezTo>
                  <a:close/>
                </a:path>
              </a:pathLst>
            </a:custGeom>
            <a:solidFill>
              <a:srgbClr val="42030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798" name="任意多边形: 形状 376"/>
            <p:cNvSpPr/>
            <p:nvPr/>
          </p:nvSpPr>
          <p:spPr>
            <a:xfrm>
              <a:off x="3413880" y="3655440"/>
              <a:ext cx="12960" cy="12960"/>
            </a:xfrm>
            <a:custGeom>
              <a:avLst/>
              <a:gdLst>
                <a:gd name="textAreaLeft" fmla="*/ 0 w 12960"/>
                <a:gd name="textAreaRight" fmla="*/ 13320 w 12960"/>
                <a:gd name="textAreaTop" fmla="*/ 0 h 12960"/>
                <a:gd name="textAreaBottom" fmla="*/ 13320 h 12960"/>
              </a:gdLst>
              <a:ahLst/>
              <a:rect l="textAreaLeft" t="textAreaTop" r="textAreaRight" b="textAreaBottom"/>
              <a:pathLst>
                <a:path w="13242" h="13242">
                  <a:moveTo>
                    <a:pt x="9932" y="12580"/>
                  </a:moveTo>
                  <a:cubicBezTo>
                    <a:pt x="9932" y="13904"/>
                    <a:pt x="11256" y="15229"/>
                    <a:pt x="12580" y="15229"/>
                  </a:cubicBezTo>
                  <a:cubicBezTo>
                    <a:pt x="13904" y="15229"/>
                    <a:pt x="15229" y="13904"/>
                    <a:pt x="15229" y="12580"/>
                  </a:cubicBezTo>
                  <a:cubicBezTo>
                    <a:pt x="15229" y="11256"/>
                    <a:pt x="13904" y="9932"/>
                    <a:pt x="12580" y="9932"/>
                  </a:cubicBezTo>
                  <a:cubicBezTo>
                    <a:pt x="9932" y="9932"/>
                    <a:pt x="9932" y="11256"/>
                    <a:pt x="9932" y="12580"/>
                  </a:cubicBezTo>
                  <a:close/>
                </a:path>
              </a:pathLst>
            </a:custGeom>
            <a:solidFill>
              <a:srgbClr val="ffffff"/>
            </a:solidFill>
            <a:ln w="0">
              <a:noFill/>
            </a:ln>
          </p:spPr>
          <p:style>
            <a:lnRef idx="0"/>
            <a:fillRef idx="0"/>
            <a:effectRef idx="0"/>
            <a:fontRef idx="minor"/>
          </p:style>
          <p:txBody>
            <a:bodyPr lIns="90000" rIns="90000" tIns="-33480" bIns="-33480" anchor="ctr">
              <a:noAutofit/>
            </a:bodyPr>
            <a:p>
              <a:endParaRPr b="0" lang="en-US" sz="1800" spc="-1" strike="noStrike">
                <a:solidFill>
                  <a:srgbClr val="262626"/>
                </a:solidFill>
                <a:latin typeface="Arial"/>
              </a:endParaRPr>
            </a:p>
          </p:txBody>
        </p:sp>
        <p:sp>
          <p:nvSpPr>
            <p:cNvPr id="799" name="任意多边形: 形状 377"/>
            <p:cNvSpPr/>
            <p:nvPr/>
          </p:nvSpPr>
          <p:spPr>
            <a:xfrm>
              <a:off x="3395160" y="363816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0525" y="15229"/>
                  </a:moveTo>
                  <a:cubicBezTo>
                    <a:pt x="20525" y="12580"/>
                    <a:pt x="17877" y="9932"/>
                    <a:pt x="15229" y="9932"/>
                  </a:cubicBezTo>
                  <a:cubicBezTo>
                    <a:pt x="12580" y="9932"/>
                    <a:pt x="9932" y="12580"/>
                    <a:pt x="9932" y="15229"/>
                  </a:cubicBezTo>
                  <a:cubicBezTo>
                    <a:pt x="9932" y="17877"/>
                    <a:pt x="12580" y="20525"/>
                    <a:pt x="15229" y="20525"/>
                  </a:cubicBezTo>
                  <a:cubicBezTo>
                    <a:pt x="19201" y="20525"/>
                    <a:pt x="20525" y="17877"/>
                    <a:pt x="20525" y="15229"/>
                  </a:cubicBezTo>
                  <a:close/>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00" name="任意多边形: 形状 378"/>
            <p:cNvSpPr/>
            <p:nvPr/>
          </p:nvSpPr>
          <p:spPr>
            <a:xfrm>
              <a:off x="3339720" y="3616560"/>
              <a:ext cx="145440" cy="52920"/>
            </a:xfrm>
            <a:custGeom>
              <a:avLst/>
              <a:gdLst>
                <a:gd name="textAreaLeft" fmla="*/ 0 w 145440"/>
                <a:gd name="textAreaRight" fmla="*/ 145800 w 145440"/>
                <a:gd name="textAreaTop" fmla="*/ 0 h 52920"/>
                <a:gd name="textAreaBottom" fmla="*/ 53280 h 52920"/>
              </a:gdLst>
              <a:ahLst/>
              <a:rect l="textAreaLeft" t="textAreaTop" r="textAreaRight" b="textAreaBottom"/>
              <a:pathLst>
                <a:path w="145665" h="52969">
                  <a:moveTo>
                    <a:pt x="142355" y="47507"/>
                  </a:moveTo>
                  <a:cubicBezTo>
                    <a:pt x="142355" y="47507"/>
                    <a:pt x="141031" y="44858"/>
                    <a:pt x="139706" y="42210"/>
                  </a:cubicBezTo>
                  <a:cubicBezTo>
                    <a:pt x="137058" y="38237"/>
                    <a:pt x="134409" y="34265"/>
                    <a:pt x="129113" y="28968"/>
                  </a:cubicBezTo>
                  <a:cubicBezTo>
                    <a:pt x="126464" y="26319"/>
                    <a:pt x="123816" y="23671"/>
                    <a:pt x="119843" y="21022"/>
                  </a:cubicBezTo>
                  <a:cubicBezTo>
                    <a:pt x="115870" y="18374"/>
                    <a:pt x="113222" y="15725"/>
                    <a:pt x="107925" y="14401"/>
                  </a:cubicBezTo>
                  <a:cubicBezTo>
                    <a:pt x="99979" y="10428"/>
                    <a:pt x="89386" y="9104"/>
                    <a:pt x="78792" y="10428"/>
                  </a:cubicBezTo>
                  <a:cubicBezTo>
                    <a:pt x="73495" y="10428"/>
                    <a:pt x="68198" y="11753"/>
                    <a:pt x="64225" y="14401"/>
                  </a:cubicBezTo>
                  <a:cubicBezTo>
                    <a:pt x="60252" y="15725"/>
                    <a:pt x="54955" y="17050"/>
                    <a:pt x="50983" y="19698"/>
                  </a:cubicBezTo>
                  <a:cubicBezTo>
                    <a:pt x="43038" y="23671"/>
                    <a:pt x="35092" y="27643"/>
                    <a:pt x="29795" y="31616"/>
                  </a:cubicBezTo>
                  <a:cubicBezTo>
                    <a:pt x="27147" y="32940"/>
                    <a:pt x="24498" y="35589"/>
                    <a:pt x="21850" y="35589"/>
                  </a:cubicBezTo>
                  <a:cubicBezTo>
                    <a:pt x="19201" y="36913"/>
                    <a:pt x="17877" y="36913"/>
                    <a:pt x="15229" y="36913"/>
                  </a:cubicBezTo>
                  <a:cubicBezTo>
                    <a:pt x="13904" y="36913"/>
                    <a:pt x="11256" y="36913"/>
                    <a:pt x="11256" y="35589"/>
                  </a:cubicBezTo>
                  <a:cubicBezTo>
                    <a:pt x="9932" y="35589"/>
                    <a:pt x="9932" y="35589"/>
                    <a:pt x="9932" y="35589"/>
                  </a:cubicBezTo>
                  <a:cubicBezTo>
                    <a:pt x="9932" y="35589"/>
                    <a:pt x="11256" y="36913"/>
                    <a:pt x="15229" y="39561"/>
                  </a:cubicBezTo>
                  <a:cubicBezTo>
                    <a:pt x="16553" y="40886"/>
                    <a:pt x="20526" y="40886"/>
                    <a:pt x="23174" y="40886"/>
                  </a:cubicBezTo>
                  <a:cubicBezTo>
                    <a:pt x="25822" y="40886"/>
                    <a:pt x="29795" y="39561"/>
                    <a:pt x="32444" y="38237"/>
                  </a:cubicBezTo>
                  <a:cubicBezTo>
                    <a:pt x="35092" y="36913"/>
                    <a:pt x="39065" y="35589"/>
                    <a:pt x="43038" y="34265"/>
                  </a:cubicBezTo>
                  <a:cubicBezTo>
                    <a:pt x="47010" y="32940"/>
                    <a:pt x="50983" y="31616"/>
                    <a:pt x="54955" y="30292"/>
                  </a:cubicBezTo>
                  <a:cubicBezTo>
                    <a:pt x="58928" y="28968"/>
                    <a:pt x="62901" y="27643"/>
                    <a:pt x="66873" y="26319"/>
                  </a:cubicBezTo>
                  <a:cubicBezTo>
                    <a:pt x="70846" y="24995"/>
                    <a:pt x="74819" y="23671"/>
                    <a:pt x="78792" y="23671"/>
                  </a:cubicBezTo>
                  <a:cubicBezTo>
                    <a:pt x="86737" y="22346"/>
                    <a:pt x="96007" y="23671"/>
                    <a:pt x="102628" y="26319"/>
                  </a:cubicBezTo>
                  <a:cubicBezTo>
                    <a:pt x="106600" y="27643"/>
                    <a:pt x="110573" y="28968"/>
                    <a:pt x="113222" y="30292"/>
                  </a:cubicBezTo>
                  <a:cubicBezTo>
                    <a:pt x="117195" y="31616"/>
                    <a:pt x="119843" y="34265"/>
                    <a:pt x="122491" y="35589"/>
                  </a:cubicBezTo>
                  <a:cubicBezTo>
                    <a:pt x="127788" y="39561"/>
                    <a:pt x="133085" y="42210"/>
                    <a:pt x="135734" y="44858"/>
                  </a:cubicBezTo>
                  <a:cubicBezTo>
                    <a:pt x="141031" y="46183"/>
                    <a:pt x="142355" y="47507"/>
                    <a:pt x="142355" y="47507"/>
                  </a:cubicBezTo>
                  <a:close/>
                </a:path>
              </a:pathLst>
            </a:custGeom>
            <a:solidFill>
              <a:srgbClr val="3c2415"/>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801" name="任意多边形: 形状 379"/>
            <p:cNvSpPr/>
            <p:nvPr/>
          </p:nvSpPr>
          <p:spPr>
            <a:xfrm>
              <a:off x="3354120" y="3638520"/>
              <a:ext cx="79200" cy="65880"/>
            </a:xfrm>
            <a:custGeom>
              <a:avLst/>
              <a:gdLst>
                <a:gd name="textAreaLeft" fmla="*/ 0 w 79200"/>
                <a:gd name="textAreaRight" fmla="*/ 79560 w 79200"/>
                <a:gd name="textAreaTop" fmla="*/ 0 h 65880"/>
                <a:gd name="textAreaBottom" fmla="*/ 66240 h 65880"/>
              </a:gdLst>
              <a:ahLst/>
              <a:rect l="textAreaLeft" t="textAreaTop" r="textAreaRight" b="textAreaBottom"/>
              <a:pathLst>
                <a:path w="79453" h="66211">
                  <a:moveTo>
                    <a:pt x="11256" y="16222"/>
                  </a:moveTo>
                  <a:cubicBezTo>
                    <a:pt x="11256" y="16222"/>
                    <a:pt x="23174" y="33437"/>
                    <a:pt x="37741" y="45355"/>
                  </a:cubicBezTo>
                  <a:cubicBezTo>
                    <a:pt x="41713" y="48003"/>
                    <a:pt x="45686" y="51976"/>
                    <a:pt x="49659" y="53300"/>
                  </a:cubicBezTo>
                  <a:cubicBezTo>
                    <a:pt x="52307" y="54624"/>
                    <a:pt x="53631" y="55949"/>
                    <a:pt x="54955" y="55949"/>
                  </a:cubicBezTo>
                  <a:cubicBezTo>
                    <a:pt x="57604" y="57273"/>
                    <a:pt x="58928" y="57273"/>
                    <a:pt x="60252" y="58597"/>
                  </a:cubicBezTo>
                  <a:cubicBezTo>
                    <a:pt x="61577" y="58597"/>
                    <a:pt x="64225" y="59921"/>
                    <a:pt x="65549" y="59921"/>
                  </a:cubicBezTo>
                  <a:cubicBezTo>
                    <a:pt x="66873" y="59921"/>
                    <a:pt x="68198" y="59921"/>
                    <a:pt x="69522" y="59921"/>
                  </a:cubicBezTo>
                  <a:cubicBezTo>
                    <a:pt x="72170" y="59921"/>
                    <a:pt x="73495" y="59921"/>
                    <a:pt x="73495" y="59921"/>
                  </a:cubicBezTo>
                  <a:cubicBezTo>
                    <a:pt x="73495" y="59921"/>
                    <a:pt x="72170" y="59921"/>
                    <a:pt x="69522" y="59921"/>
                  </a:cubicBezTo>
                  <a:cubicBezTo>
                    <a:pt x="68198" y="59921"/>
                    <a:pt x="66873" y="59921"/>
                    <a:pt x="65549" y="58597"/>
                  </a:cubicBezTo>
                  <a:cubicBezTo>
                    <a:pt x="64225" y="58597"/>
                    <a:pt x="62901" y="57273"/>
                    <a:pt x="60252" y="57273"/>
                  </a:cubicBezTo>
                  <a:cubicBezTo>
                    <a:pt x="58928" y="55949"/>
                    <a:pt x="56280" y="55949"/>
                    <a:pt x="54955" y="54624"/>
                  </a:cubicBezTo>
                  <a:cubicBezTo>
                    <a:pt x="53631" y="53300"/>
                    <a:pt x="50983" y="51976"/>
                    <a:pt x="49659" y="50652"/>
                  </a:cubicBezTo>
                  <a:cubicBezTo>
                    <a:pt x="45686" y="48003"/>
                    <a:pt x="41713" y="45355"/>
                    <a:pt x="37741" y="41382"/>
                  </a:cubicBezTo>
                  <a:cubicBezTo>
                    <a:pt x="29795" y="34761"/>
                    <a:pt x="24498" y="26816"/>
                    <a:pt x="19201" y="21519"/>
                  </a:cubicBezTo>
                  <a:cubicBezTo>
                    <a:pt x="15229" y="16222"/>
                    <a:pt x="12580" y="10925"/>
                    <a:pt x="12580" y="10925"/>
                  </a:cubicBezTo>
                  <a:cubicBezTo>
                    <a:pt x="12580" y="9601"/>
                    <a:pt x="11256" y="9601"/>
                    <a:pt x="9932" y="10925"/>
                  </a:cubicBezTo>
                  <a:cubicBezTo>
                    <a:pt x="9932" y="14898"/>
                    <a:pt x="9932" y="14898"/>
                    <a:pt x="11256" y="16222"/>
                  </a:cubicBezTo>
                  <a:cubicBezTo>
                    <a:pt x="9932" y="16222"/>
                    <a:pt x="11256" y="16222"/>
                    <a:pt x="11256" y="16222"/>
                  </a:cubicBezTo>
                  <a:close/>
                </a:path>
              </a:pathLst>
            </a:custGeom>
            <a:solidFill>
              <a:srgbClr val="3c2415"/>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802" name="任意多边形: 形状 380"/>
            <p:cNvSpPr/>
            <p:nvPr/>
          </p:nvSpPr>
          <p:spPr>
            <a:xfrm>
              <a:off x="3342240" y="3578760"/>
              <a:ext cx="158760" cy="39600"/>
            </a:xfrm>
            <a:custGeom>
              <a:avLst/>
              <a:gdLst>
                <a:gd name="textAreaLeft" fmla="*/ 0 w 158760"/>
                <a:gd name="textAreaRight" fmla="*/ 159120 w 158760"/>
                <a:gd name="textAreaTop" fmla="*/ 0 h 39600"/>
                <a:gd name="textAreaBottom" fmla="*/ 39960 h 39600"/>
              </a:gdLst>
              <a:ahLst/>
              <a:rect l="textAreaLeft" t="textAreaTop" r="textAreaRight" b="textAreaBottom"/>
              <a:pathLst>
                <a:path w="158907" h="39726">
                  <a:moveTo>
                    <a:pt x="143679" y="21850"/>
                  </a:moveTo>
                  <a:cubicBezTo>
                    <a:pt x="143679" y="21850"/>
                    <a:pt x="134410" y="19201"/>
                    <a:pt x="122492" y="16553"/>
                  </a:cubicBezTo>
                  <a:cubicBezTo>
                    <a:pt x="109249" y="13904"/>
                    <a:pt x="92034" y="9932"/>
                    <a:pt x="73495" y="9932"/>
                  </a:cubicBezTo>
                  <a:cubicBezTo>
                    <a:pt x="64225" y="9932"/>
                    <a:pt x="54956" y="11256"/>
                    <a:pt x="47010" y="12580"/>
                  </a:cubicBezTo>
                  <a:cubicBezTo>
                    <a:pt x="39065" y="13904"/>
                    <a:pt x="31120" y="19201"/>
                    <a:pt x="25822" y="23174"/>
                  </a:cubicBezTo>
                  <a:cubicBezTo>
                    <a:pt x="20526" y="27147"/>
                    <a:pt x="16553" y="31119"/>
                    <a:pt x="13904" y="32444"/>
                  </a:cubicBezTo>
                  <a:cubicBezTo>
                    <a:pt x="11256" y="35092"/>
                    <a:pt x="9932" y="36416"/>
                    <a:pt x="9932" y="36416"/>
                  </a:cubicBezTo>
                  <a:cubicBezTo>
                    <a:pt x="9932" y="36416"/>
                    <a:pt x="11256" y="35092"/>
                    <a:pt x="15229" y="33768"/>
                  </a:cubicBezTo>
                  <a:cubicBezTo>
                    <a:pt x="17877" y="32444"/>
                    <a:pt x="23174" y="28471"/>
                    <a:pt x="28471" y="25822"/>
                  </a:cubicBezTo>
                  <a:cubicBezTo>
                    <a:pt x="33768" y="23174"/>
                    <a:pt x="40389" y="20525"/>
                    <a:pt x="48335" y="19201"/>
                  </a:cubicBezTo>
                  <a:cubicBezTo>
                    <a:pt x="56280" y="17877"/>
                    <a:pt x="64225" y="19201"/>
                    <a:pt x="72171" y="20525"/>
                  </a:cubicBezTo>
                  <a:cubicBezTo>
                    <a:pt x="89386" y="23174"/>
                    <a:pt x="105276" y="28471"/>
                    <a:pt x="117194" y="32444"/>
                  </a:cubicBezTo>
                  <a:cubicBezTo>
                    <a:pt x="129113" y="36416"/>
                    <a:pt x="137058" y="40389"/>
                    <a:pt x="137058" y="40389"/>
                  </a:cubicBezTo>
                  <a:cubicBezTo>
                    <a:pt x="142355" y="43038"/>
                    <a:pt x="147652" y="40389"/>
                    <a:pt x="150300" y="36416"/>
                  </a:cubicBezTo>
                  <a:cubicBezTo>
                    <a:pt x="152949" y="31119"/>
                    <a:pt x="150300" y="25822"/>
                    <a:pt x="146328" y="23174"/>
                  </a:cubicBezTo>
                  <a:cubicBezTo>
                    <a:pt x="143679" y="21850"/>
                    <a:pt x="143679" y="21850"/>
                    <a:pt x="143679" y="21850"/>
                  </a:cubicBezTo>
                  <a:close/>
                </a:path>
              </a:pathLst>
            </a:custGeom>
            <a:solidFill>
              <a:srgbClr val="3c2415"/>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803" name="任意多边形: 形状 381"/>
            <p:cNvSpPr/>
            <p:nvPr/>
          </p:nvSpPr>
          <p:spPr>
            <a:xfrm>
              <a:off x="3456360" y="3794400"/>
              <a:ext cx="172080" cy="39600"/>
            </a:xfrm>
            <a:custGeom>
              <a:avLst/>
              <a:gdLst>
                <a:gd name="textAreaLeft" fmla="*/ 0 w 172080"/>
                <a:gd name="textAreaRight" fmla="*/ 172440 w 172080"/>
                <a:gd name="textAreaTop" fmla="*/ 0 h 39600"/>
                <a:gd name="textAreaBottom" fmla="*/ 39960 h 39600"/>
              </a:gdLst>
              <a:ahLst/>
              <a:rect l="textAreaLeft" t="textAreaTop" r="textAreaRight" b="textAreaBottom"/>
              <a:pathLst>
                <a:path w="172150" h="39726">
                  <a:moveTo>
                    <a:pt x="166191" y="9932"/>
                  </a:moveTo>
                  <a:cubicBezTo>
                    <a:pt x="155597" y="12580"/>
                    <a:pt x="137058" y="17877"/>
                    <a:pt x="122491" y="13904"/>
                  </a:cubicBezTo>
                  <a:cubicBezTo>
                    <a:pt x="107925" y="11256"/>
                    <a:pt x="96007" y="13904"/>
                    <a:pt x="86737" y="15229"/>
                  </a:cubicBezTo>
                  <a:cubicBezTo>
                    <a:pt x="86737" y="15229"/>
                    <a:pt x="68198" y="12580"/>
                    <a:pt x="54956" y="15229"/>
                  </a:cubicBezTo>
                  <a:cubicBezTo>
                    <a:pt x="40389" y="17877"/>
                    <a:pt x="29795" y="16553"/>
                    <a:pt x="9932" y="13904"/>
                  </a:cubicBezTo>
                  <a:cubicBezTo>
                    <a:pt x="9932" y="13904"/>
                    <a:pt x="49659" y="36416"/>
                    <a:pt x="86737" y="37741"/>
                  </a:cubicBezTo>
                  <a:cubicBezTo>
                    <a:pt x="123816" y="39065"/>
                    <a:pt x="166191" y="9932"/>
                    <a:pt x="166191" y="9932"/>
                  </a:cubicBezTo>
                  <a:close/>
                </a:path>
              </a:pathLst>
            </a:custGeom>
            <a:solidFill>
              <a:srgbClr val="fd72a3"/>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804" name="任意多边形: 形状 382"/>
            <p:cNvSpPr/>
            <p:nvPr/>
          </p:nvSpPr>
          <p:spPr>
            <a:xfrm>
              <a:off x="3456360" y="3794400"/>
              <a:ext cx="172080" cy="39600"/>
            </a:xfrm>
            <a:custGeom>
              <a:avLst/>
              <a:gdLst>
                <a:gd name="textAreaLeft" fmla="*/ 0 w 172080"/>
                <a:gd name="textAreaRight" fmla="*/ 172440 w 172080"/>
                <a:gd name="textAreaTop" fmla="*/ 0 h 39600"/>
                <a:gd name="textAreaBottom" fmla="*/ 39960 h 39600"/>
              </a:gdLst>
              <a:ahLst/>
              <a:rect l="textAreaLeft" t="textAreaTop" r="textAreaRight" b="textAreaBottom"/>
              <a:pathLst>
                <a:path w="172150" h="39726">
                  <a:moveTo>
                    <a:pt x="166191" y="9932"/>
                  </a:moveTo>
                  <a:cubicBezTo>
                    <a:pt x="155597" y="12580"/>
                    <a:pt x="137058" y="17877"/>
                    <a:pt x="122491" y="13904"/>
                  </a:cubicBezTo>
                  <a:cubicBezTo>
                    <a:pt x="107925" y="11256"/>
                    <a:pt x="96007" y="13904"/>
                    <a:pt x="86737" y="15229"/>
                  </a:cubicBezTo>
                  <a:cubicBezTo>
                    <a:pt x="86737" y="15229"/>
                    <a:pt x="68198" y="12580"/>
                    <a:pt x="54956" y="15229"/>
                  </a:cubicBezTo>
                  <a:cubicBezTo>
                    <a:pt x="40389" y="17877"/>
                    <a:pt x="29795" y="16553"/>
                    <a:pt x="9932" y="13904"/>
                  </a:cubicBezTo>
                  <a:cubicBezTo>
                    <a:pt x="9932" y="13904"/>
                    <a:pt x="49659" y="36416"/>
                    <a:pt x="86737" y="37741"/>
                  </a:cubicBezTo>
                  <a:cubicBezTo>
                    <a:pt x="123816" y="39065"/>
                    <a:pt x="166191" y="9932"/>
                    <a:pt x="166191" y="9932"/>
                  </a:cubicBezTo>
                  <a:close/>
                </a:path>
              </a:pathLst>
            </a:custGeom>
            <a:solidFill>
              <a:srgbClr val="f75c54"/>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805" name="任意多边形: 形状 383"/>
            <p:cNvSpPr/>
            <p:nvPr/>
          </p:nvSpPr>
          <p:spPr>
            <a:xfrm>
              <a:off x="3458880" y="3802320"/>
              <a:ext cx="158760" cy="79200"/>
            </a:xfrm>
            <a:custGeom>
              <a:avLst/>
              <a:gdLst>
                <a:gd name="textAreaLeft" fmla="*/ 0 w 158760"/>
                <a:gd name="textAreaRight" fmla="*/ 159120 w 158760"/>
                <a:gd name="textAreaTop" fmla="*/ 0 h 79200"/>
                <a:gd name="textAreaBottom" fmla="*/ 79560 h 79200"/>
              </a:gdLst>
              <a:ahLst/>
              <a:rect l="textAreaLeft" t="textAreaTop" r="textAreaRight" b="textAreaBottom"/>
              <a:pathLst>
                <a:path w="158907" h="79453">
                  <a:moveTo>
                    <a:pt x="158246" y="12580"/>
                  </a:moveTo>
                  <a:cubicBezTo>
                    <a:pt x="148976" y="28471"/>
                    <a:pt x="135734" y="48334"/>
                    <a:pt x="114546" y="61577"/>
                  </a:cubicBezTo>
                  <a:cubicBezTo>
                    <a:pt x="98655" y="72171"/>
                    <a:pt x="64225" y="73495"/>
                    <a:pt x="48334" y="60253"/>
                  </a:cubicBezTo>
                  <a:cubicBezTo>
                    <a:pt x="33768" y="48334"/>
                    <a:pt x="12580" y="21850"/>
                    <a:pt x="9932" y="9932"/>
                  </a:cubicBezTo>
                </a:path>
              </a:pathLst>
            </a:custGeom>
            <a:solidFill>
              <a:srgbClr val="f75c54"/>
            </a:solidFill>
            <a:ln w="0">
              <a:noFill/>
            </a:ln>
          </p:spPr>
          <p:style>
            <a:lnRef idx="0"/>
            <a:fillRef idx="0"/>
            <a:effectRef idx="0"/>
            <a:fontRef idx="minor"/>
          </p:style>
          <p:txBody>
            <a:bodyPr lIns="90000" rIns="90000" tIns="32760" bIns="32760" anchor="ctr">
              <a:noAutofit/>
            </a:bodyPr>
            <a:p>
              <a:endParaRPr b="0" lang="en-US" sz="1800" spc="-1" strike="noStrike">
                <a:solidFill>
                  <a:srgbClr val="262626"/>
                </a:solidFill>
                <a:latin typeface="Arial"/>
              </a:endParaRPr>
            </a:p>
          </p:txBody>
        </p:sp>
        <p:sp>
          <p:nvSpPr>
            <p:cNvPr id="806" name="任意多边形: 形状 384"/>
            <p:cNvSpPr/>
            <p:nvPr/>
          </p:nvSpPr>
          <p:spPr>
            <a:xfrm>
              <a:off x="3457440" y="3793320"/>
              <a:ext cx="172080" cy="65880"/>
            </a:xfrm>
            <a:custGeom>
              <a:avLst/>
              <a:gdLst>
                <a:gd name="textAreaLeft" fmla="*/ 0 w 172080"/>
                <a:gd name="textAreaRight" fmla="*/ 172440 w 172080"/>
                <a:gd name="textAreaTop" fmla="*/ 0 h 65880"/>
                <a:gd name="textAreaBottom" fmla="*/ 66240 h 65880"/>
              </a:gdLst>
              <a:ahLst/>
              <a:rect l="textAreaLeft" t="textAreaTop" r="textAreaRight" b="textAreaBottom"/>
              <a:pathLst>
                <a:path w="172150" h="66211">
                  <a:moveTo>
                    <a:pt x="167515" y="9932"/>
                  </a:moveTo>
                  <a:cubicBezTo>
                    <a:pt x="154273" y="17877"/>
                    <a:pt x="133085" y="21850"/>
                    <a:pt x="109249" y="20526"/>
                  </a:cubicBezTo>
                  <a:cubicBezTo>
                    <a:pt x="85413" y="19201"/>
                    <a:pt x="61577" y="23174"/>
                    <a:pt x="45686" y="20526"/>
                  </a:cubicBezTo>
                  <a:cubicBezTo>
                    <a:pt x="28471" y="19201"/>
                    <a:pt x="17877" y="19201"/>
                    <a:pt x="9932" y="13904"/>
                  </a:cubicBezTo>
                  <a:cubicBezTo>
                    <a:pt x="9932" y="13904"/>
                    <a:pt x="19202" y="44362"/>
                    <a:pt x="54955" y="61577"/>
                  </a:cubicBezTo>
                  <a:cubicBezTo>
                    <a:pt x="90710" y="78792"/>
                    <a:pt x="121167" y="62901"/>
                    <a:pt x="134409" y="49659"/>
                  </a:cubicBezTo>
                  <a:cubicBezTo>
                    <a:pt x="142355" y="40389"/>
                    <a:pt x="162218" y="21850"/>
                    <a:pt x="167515" y="9932"/>
                  </a:cubicBezTo>
                  <a:close/>
                </a:path>
              </a:pathLst>
            </a:custGeom>
            <a:solidFill>
              <a:srgbClr val="962c17"/>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807" name="任意多边形: 形状 385"/>
            <p:cNvSpPr/>
            <p:nvPr/>
          </p:nvSpPr>
          <p:spPr>
            <a:xfrm>
              <a:off x="3499200" y="3827520"/>
              <a:ext cx="79200" cy="39600"/>
            </a:xfrm>
            <a:custGeom>
              <a:avLst/>
              <a:gdLst>
                <a:gd name="textAreaLeft" fmla="*/ 0 w 79200"/>
                <a:gd name="textAreaRight" fmla="*/ 79560 w 79200"/>
                <a:gd name="textAreaTop" fmla="*/ 0 h 39600"/>
                <a:gd name="textAreaBottom" fmla="*/ 39960 h 39600"/>
              </a:gdLst>
              <a:ahLst/>
              <a:rect l="textAreaLeft" t="textAreaTop" r="textAreaRight" b="textAreaBottom"/>
              <a:pathLst>
                <a:path w="79453" h="39726">
                  <a:moveTo>
                    <a:pt x="79584" y="22093"/>
                  </a:moveTo>
                  <a:cubicBezTo>
                    <a:pt x="82233" y="16796"/>
                    <a:pt x="76936" y="10175"/>
                    <a:pt x="66342" y="10175"/>
                  </a:cubicBezTo>
                  <a:cubicBezTo>
                    <a:pt x="55748" y="10175"/>
                    <a:pt x="31912" y="11499"/>
                    <a:pt x="25291" y="10175"/>
                  </a:cubicBezTo>
                  <a:cubicBezTo>
                    <a:pt x="18670" y="8851"/>
                    <a:pt x="6751" y="12824"/>
                    <a:pt x="10724" y="24742"/>
                  </a:cubicBezTo>
                  <a:cubicBezTo>
                    <a:pt x="10724" y="24742"/>
                    <a:pt x="14697" y="34011"/>
                    <a:pt x="42506" y="34011"/>
                  </a:cubicBezTo>
                  <a:cubicBezTo>
                    <a:pt x="71639" y="34011"/>
                    <a:pt x="79584" y="22093"/>
                    <a:pt x="79584" y="22093"/>
                  </a:cubicBezTo>
                  <a:close/>
                </a:path>
              </a:pathLst>
            </a:custGeom>
            <a:solidFill>
              <a:srgbClr val="f75c54"/>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808" name="任意多边形: 形状 386"/>
            <p:cNvSpPr/>
            <p:nvPr/>
          </p:nvSpPr>
          <p:spPr>
            <a:xfrm>
              <a:off x="3559680" y="38012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1850" y="11256"/>
                  </a:moveTo>
                  <a:cubicBezTo>
                    <a:pt x="21850" y="11256"/>
                    <a:pt x="20525" y="17877"/>
                    <a:pt x="17877" y="20526"/>
                  </a:cubicBezTo>
                  <a:cubicBezTo>
                    <a:pt x="15229" y="23174"/>
                    <a:pt x="9932" y="20526"/>
                    <a:pt x="9932" y="20526"/>
                  </a:cubicBezTo>
                  <a:lnTo>
                    <a:pt x="9932" y="9932"/>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09" name="任意多边形: 形状 387"/>
            <p:cNvSpPr/>
            <p:nvPr/>
          </p:nvSpPr>
          <p:spPr>
            <a:xfrm>
              <a:off x="3547800" y="380232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9932"/>
                  </a:moveTo>
                  <a:lnTo>
                    <a:pt x="9932" y="20526"/>
                  </a:lnTo>
                  <a:cubicBezTo>
                    <a:pt x="9932" y="20526"/>
                    <a:pt x="17877" y="21850"/>
                    <a:pt x="21850" y="19201"/>
                  </a:cubicBezTo>
                  <a:lnTo>
                    <a:pt x="21850" y="11256"/>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0" name="任意多边形: 形状 388"/>
            <p:cNvSpPr/>
            <p:nvPr/>
          </p:nvSpPr>
          <p:spPr>
            <a:xfrm>
              <a:off x="3533040" y="38012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9932"/>
                  </a:moveTo>
                  <a:lnTo>
                    <a:pt x="9932" y="23174"/>
                  </a:lnTo>
                  <a:cubicBezTo>
                    <a:pt x="9932" y="23174"/>
                    <a:pt x="17877" y="25823"/>
                    <a:pt x="24498" y="21850"/>
                  </a:cubicBezTo>
                  <a:lnTo>
                    <a:pt x="24498" y="11256"/>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1" name="任意多边形: 形状 389"/>
            <p:cNvSpPr/>
            <p:nvPr/>
          </p:nvSpPr>
          <p:spPr>
            <a:xfrm>
              <a:off x="3560760" y="38012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11256" y="9932"/>
                  </a:moveTo>
                  <a:cubicBezTo>
                    <a:pt x="11256" y="15229"/>
                    <a:pt x="12580" y="19202"/>
                    <a:pt x="15229" y="19202"/>
                  </a:cubicBezTo>
                  <a:cubicBezTo>
                    <a:pt x="17877" y="19202"/>
                    <a:pt x="19201" y="13904"/>
                    <a:pt x="20525" y="11256"/>
                  </a:cubicBezTo>
                  <a:lnTo>
                    <a:pt x="21850" y="11256"/>
                  </a:lnTo>
                  <a:cubicBezTo>
                    <a:pt x="21850" y="11256"/>
                    <a:pt x="20525" y="17877"/>
                    <a:pt x="17877" y="20526"/>
                  </a:cubicBezTo>
                  <a:cubicBezTo>
                    <a:pt x="15229" y="23174"/>
                    <a:pt x="9932" y="20526"/>
                    <a:pt x="9932" y="20526"/>
                  </a:cubicBezTo>
                  <a:lnTo>
                    <a:pt x="9932" y="9932"/>
                  </a:lnTo>
                  <a:lnTo>
                    <a:pt x="11256" y="9932"/>
                  </a:ln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2" name="任意多边形: 形状 390"/>
            <p:cNvSpPr/>
            <p:nvPr/>
          </p:nvSpPr>
          <p:spPr>
            <a:xfrm>
              <a:off x="3547800" y="380232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20526"/>
                  </a:moveTo>
                  <a:lnTo>
                    <a:pt x="9932" y="9932"/>
                  </a:lnTo>
                  <a:lnTo>
                    <a:pt x="12580" y="9932"/>
                  </a:lnTo>
                  <a:cubicBezTo>
                    <a:pt x="12580" y="12580"/>
                    <a:pt x="11256" y="19201"/>
                    <a:pt x="13904" y="19201"/>
                  </a:cubicBezTo>
                  <a:cubicBezTo>
                    <a:pt x="17877" y="20526"/>
                    <a:pt x="20525" y="17877"/>
                    <a:pt x="21850" y="16553"/>
                  </a:cubicBezTo>
                  <a:lnTo>
                    <a:pt x="21850" y="17877"/>
                  </a:lnTo>
                  <a:cubicBezTo>
                    <a:pt x="17877" y="23174"/>
                    <a:pt x="9932" y="20526"/>
                    <a:pt x="9932" y="20526"/>
                  </a:cubicBez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3" name="任意多边形: 形状 391"/>
            <p:cNvSpPr/>
            <p:nvPr/>
          </p:nvSpPr>
          <p:spPr>
            <a:xfrm>
              <a:off x="3533040" y="38012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23174"/>
                  </a:moveTo>
                  <a:lnTo>
                    <a:pt x="9932" y="9932"/>
                  </a:lnTo>
                  <a:lnTo>
                    <a:pt x="13904" y="9932"/>
                  </a:lnTo>
                  <a:cubicBezTo>
                    <a:pt x="9932" y="13904"/>
                    <a:pt x="11256" y="21850"/>
                    <a:pt x="15229" y="23174"/>
                  </a:cubicBezTo>
                  <a:cubicBezTo>
                    <a:pt x="19201" y="23174"/>
                    <a:pt x="21850" y="21850"/>
                    <a:pt x="24498" y="19202"/>
                  </a:cubicBezTo>
                  <a:lnTo>
                    <a:pt x="24498" y="21850"/>
                  </a:lnTo>
                  <a:cubicBezTo>
                    <a:pt x="17877" y="25823"/>
                    <a:pt x="9932" y="23174"/>
                    <a:pt x="9932" y="23174"/>
                  </a:cubicBez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4" name="任意多边形: 形状 392"/>
            <p:cNvSpPr/>
            <p:nvPr/>
          </p:nvSpPr>
          <p:spPr>
            <a:xfrm>
              <a:off x="3493440" y="38012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1256"/>
                  </a:moveTo>
                  <a:cubicBezTo>
                    <a:pt x="9932" y="11256"/>
                    <a:pt x="11256" y="17877"/>
                    <a:pt x="13904" y="20526"/>
                  </a:cubicBezTo>
                  <a:cubicBezTo>
                    <a:pt x="15229" y="23174"/>
                    <a:pt x="21850" y="20526"/>
                    <a:pt x="21850" y="20526"/>
                  </a:cubicBezTo>
                  <a:lnTo>
                    <a:pt x="21850" y="9932"/>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5" name="任意多边形: 形状 393"/>
            <p:cNvSpPr/>
            <p:nvPr/>
          </p:nvSpPr>
          <p:spPr>
            <a:xfrm>
              <a:off x="3506760" y="380232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1850" y="9932"/>
                  </a:moveTo>
                  <a:lnTo>
                    <a:pt x="21850" y="20526"/>
                  </a:lnTo>
                  <a:cubicBezTo>
                    <a:pt x="21850" y="20526"/>
                    <a:pt x="13904" y="21850"/>
                    <a:pt x="9932" y="19201"/>
                  </a:cubicBezTo>
                  <a:lnTo>
                    <a:pt x="9932" y="11256"/>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6" name="任意多边形: 形状 394"/>
            <p:cNvSpPr/>
            <p:nvPr/>
          </p:nvSpPr>
          <p:spPr>
            <a:xfrm>
              <a:off x="3518640" y="38012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4498" y="9932"/>
                  </a:moveTo>
                  <a:lnTo>
                    <a:pt x="24498" y="23174"/>
                  </a:lnTo>
                  <a:cubicBezTo>
                    <a:pt x="24498" y="23174"/>
                    <a:pt x="16553" y="25823"/>
                    <a:pt x="9932" y="21850"/>
                  </a:cubicBezTo>
                  <a:lnTo>
                    <a:pt x="9932" y="11256"/>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7" name="任意多边形: 形状 395"/>
            <p:cNvSpPr/>
            <p:nvPr/>
          </p:nvSpPr>
          <p:spPr>
            <a:xfrm>
              <a:off x="3493440" y="38012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0525" y="9932"/>
                  </a:moveTo>
                  <a:cubicBezTo>
                    <a:pt x="20525" y="15229"/>
                    <a:pt x="19201" y="19202"/>
                    <a:pt x="16553" y="19202"/>
                  </a:cubicBezTo>
                  <a:cubicBezTo>
                    <a:pt x="13904" y="19202"/>
                    <a:pt x="12580" y="13904"/>
                    <a:pt x="11256" y="11256"/>
                  </a:cubicBezTo>
                  <a:lnTo>
                    <a:pt x="9932" y="11256"/>
                  </a:lnTo>
                  <a:cubicBezTo>
                    <a:pt x="9932" y="11256"/>
                    <a:pt x="11256" y="17877"/>
                    <a:pt x="13904" y="20526"/>
                  </a:cubicBezTo>
                  <a:cubicBezTo>
                    <a:pt x="15229" y="23174"/>
                    <a:pt x="21850" y="20526"/>
                    <a:pt x="21850" y="20526"/>
                  </a:cubicBezTo>
                  <a:lnTo>
                    <a:pt x="21850" y="9932"/>
                  </a:lnTo>
                  <a:lnTo>
                    <a:pt x="20525" y="9932"/>
                  </a:ln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8" name="任意多边形: 形状 396"/>
            <p:cNvSpPr/>
            <p:nvPr/>
          </p:nvSpPr>
          <p:spPr>
            <a:xfrm>
              <a:off x="3505320" y="380232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1850" y="20526"/>
                  </a:moveTo>
                  <a:lnTo>
                    <a:pt x="21850" y="9932"/>
                  </a:lnTo>
                  <a:lnTo>
                    <a:pt x="19202" y="9932"/>
                  </a:lnTo>
                  <a:cubicBezTo>
                    <a:pt x="19202" y="12580"/>
                    <a:pt x="20525" y="19201"/>
                    <a:pt x="17877" y="19201"/>
                  </a:cubicBezTo>
                  <a:cubicBezTo>
                    <a:pt x="13904" y="20526"/>
                    <a:pt x="11256" y="17877"/>
                    <a:pt x="9932" y="16553"/>
                  </a:cubicBezTo>
                  <a:lnTo>
                    <a:pt x="9932" y="17877"/>
                  </a:lnTo>
                  <a:cubicBezTo>
                    <a:pt x="15229" y="23174"/>
                    <a:pt x="21850" y="20526"/>
                    <a:pt x="21850" y="20526"/>
                  </a:cubicBez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19" name="任意多边形: 形状 397"/>
            <p:cNvSpPr/>
            <p:nvPr/>
          </p:nvSpPr>
          <p:spPr>
            <a:xfrm>
              <a:off x="3518640" y="38012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4498" y="23174"/>
                  </a:moveTo>
                  <a:lnTo>
                    <a:pt x="24498" y="9932"/>
                  </a:lnTo>
                  <a:lnTo>
                    <a:pt x="20525" y="9932"/>
                  </a:lnTo>
                  <a:cubicBezTo>
                    <a:pt x="24498" y="13904"/>
                    <a:pt x="23174" y="21850"/>
                    <a:pt x="19202" y="23174"/>
                  </a:cubicBezTo>
                  <a:cubicBezTo>
                    <a:pt x="15229" y="23174"/>
                    <a:pt x="12580" y="21850"/>
                    <a:pt x="9932" y="19202"/>
                  </a:cubicBezTo>
                  <a:lnTo>
                    <a:pt x="9932" y="21850"/>
                  </a:lnTo>
                  <a:cubicBezTo>
                    <a:pt x="15229" y="25823"/>
                    <a:pt x="24498" y="23174"/>
                    <a:pt x="24498" y="23174"/>
                  </a:cubicBez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20" name="任意多边形: 形状 398"/>
            <p:cNvSpPr/>
            <p:nvPr/>
          </p:nvSpPr>
          <p:spPr>
            <a:xfrm>
              <a:off x="3547800" y="384588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20857"/>
                  </a:moveTo>
                  <a:lnTo>
                    <a:pt x="9932" y="10263"/>
                  </a:lnTo>
                  <a:cubicBezTo>
                    <a:pt x="9932" y="10263"/>
                    <a:pt x="17877" y="8939"/>
                    <a:pt x="21850" y="11587"/>
                  </a:cubicBezTo>
                  <a:lnTo>
                    <a:pt x="21850" y="19532"/>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21" name="任意多边形: 形状 399"/>
            <p:cNvSpPr/>
            <p:nvPr/>
          </p:nvSpPr>
          <p:spPr>
            <a:xfrm>
              <a:off x="3533040" y="38426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24039"/>
                  </a:moveTo>
                  <a:lnTo>
                    <a:pt x="9932" y="10797"/>
                  </a:lnTo>
                  <a:cubicBezTo>
                    <a:pt x="9932" y="10797"/>
                    <a:pt x="17877" y="8148"/>
                    <a:pt x="24498" y="12121"/>
                  </a:cubicBezTo>
                  <a:lnTo>
                    <a:pt x="24498" y="22715"/>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22" name="任意多边形: 形状 400"/>
            <p:cNvSpPr/>
            <p:nvPr/>
          </p:nvSpPr>
          <p:spPr>
            <a:xfrm>
              <a:off x="3547800" y="38448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0144"/>
                  </a:moveTo>
                  <a:lnTo>
                    <a:pt x="9932" y="20737"/>
                  </a:lnTo>
                  <a:lnTo>
                    <a:pt x="12580" y="20737"/>
                  </a:lnTo>
                  <a:cubicBezTo>
                    <a:pt x="12580" y="18089"/>
                    <a:pt x="11256" y="11468"/>
                    <a:pt x="13904" y="11468"/>
                  </a:cubicBezTo>
                  <a:cubicBezTo>
                    <a:pt x="17877" y="10144"/>
                    <a:pt x="20525" y="12792"/>
                    <a:pt x="21850" y="14116"/>
                  </a:cubicBezTo>
                  <a:lnTo>
                    <a:pt x="21850" y="12792"/>
                  </a:lnTo>
                  <a:cubicBezTo>
                    <a:pt x="17877" y="8819"/>
                    <a:pt x="9932" y="10144"/>
                    <a:pt x="9932" y="10144"/>
                  </a:cubicBez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23" name="任意多边形: 形状 401"/>
            <p:cNvSpPr/>
            <p:nvPr/>
          </p:nvSpPr>
          <p:spPr>
            <a:xfrm>
              <a:off x="3533040" y="38426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10797"/>
                  </a:moveTo>
                  <a:lnTo>
                    <a:pt x="9932" y="24039"/>
                  </a:lnTo>
                  <a:lnTo>
                    <a:pt x="13904" y="24039"/>
                  </a:lnTo>
                  <a:cubicBezTo>
                    <a:pt x="9932" y="20066"/>
                    <a:pt x="11256" y="12121"/>
                    <a:pt x="15229" y="10797"/>
                  </a:cubicBezTo>
                  <a:cubicBezTo>
                    <a:pt x="19201" y="10797"/>
                    <a:pt x="21850" y="12121"/>
                    <a:pt x="24498" y="14769"/>
                  </a:cubicBezTo>
                  <a:lnTo>
                    <a:pt x="24498" y="12121"/>
                  </a:lnTo>
                  <a:cubicBezTo>
                    <a:pt x="17877" y="8148"/>
                    <a:pt x="9932" y="10797"/>
                    <a:pt x="9932" y="10797"/>
                  </a:cubicBez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24" name="任意多边形: 形状 402"/>
            <p:cNvSpPr/>
            <p:nvPr/>
          </p:nvSpPr>
          <p:spPr>
            <a:xfrm>
              <a:off x="3506760" y="384588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1850" y="20857"/>
                  </a:moveTo>
                  <a:lnTo>
                    <a:pt x="21850" y="10263"/>
                  </a:lnTo>
                  <a:cubicBezTo>
                    <a:pt x="21850" y="10263"/>
                    <a:pt x="13904" y="8939"/>
                    <a:pt x="9932" y="11587"/>
                  </a:cubicBezTo>
                  <a:lnTo>
                    <a:pt x="9932" y="19532"/>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25" name="任意多边形: 形状 403"/>
            <p:cNvSpPr/>
            <p:nvPr/>
          </p:nvSpPr>
          <p:spPr>
            <a:xfrm>
              <a:off x="3518640" y="38426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4498" y="24039"/>
                  </a:moveTo>
                  <a:lnTo>
                    <a:pt x="24498" y="10797"/>
                  </a:lnTo>
                  <a:cubicBezTo>
                    <a:pt x="24498" y="10797"/>
                    <a:pt x="16553" y="8148"/>
                    <a:pt x="9932" y="12121"/>
                  </a:cubicBezTo>
                  <a:lnTo>
                    <a:pt x="9932" y="22715"/>
                  </a:lnTo>
                </a:path>
              </a:pathLst>
            </a:custGeom>
            <a:solidFill>
              <a:srgbClr val="ffffff"/>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26" name="任意多边形: 形状 404"/>
            <p:cNvSpPr/>
            <p:nvPr/>
          </p:nvSpPr>
          <p:spPr>
            <a:xfrm>
              <a:off x="3505320" y="384480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1850" y="10144"/>
                  </a:moveTo>
                  <a:lnTo>
                    <a:pt x="21850" y="20737"/>
                  </a:lnTo>
                  <a:lnTo>
                    <a:pt x="19202" y="20737"/>
                  </a:lnTo>
                  <a:cubicBezTo>
                    <a:pt x="19202" y="18089"/>
                    <a:pt x="20525" y="11468"/>
                    <a:pt x="17877" y="11468"/>
                  </a:cubicBezTo>
                  <a:cubicBezTo>
                    <a:pt x="13904" y="10144"/>
                    <a:pt x="11256" y="12792"/>
                    <a:pt x="9932" y="14116"/>
                  </a:cubicBezTo>
                  <a:lnTo>
                    <a:pt x="9932" y="12792"/>
                  </a:lnTo>
                  <a:cubicBezTo>
                    <a:pt x="15229" y="8819"/>
                    <a:pt x="21850" y="10144"/>
                    <a:pt x="21850" y="10144"/>
                  </a:cubicBez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27" name="任意多边形: 形状 405"/>
            <p:cNvSpPr/>
            <p:nvPr/>
          </p:nvSpPr>
          <p:spPr>
            <a:xfrm>
              <a:off x="3518640" y="38426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4498" y="10797"/>
                  </a:moveTo>
                  <a:lnTo>
                    <a:pt x="24498" y="24039"/>
                  </a:lnTo>
                  <a:lnTo>
                    <a:pt x="20525" y="24039"/>
                  </a:lnTo>
                  <a:cubicBezTo>
                    <a:pt x="24498" y="20066"/>
                    <a:pt x="23174" y="12121"/>
                    <a:pt x="19202" y="10797"/>
                  </a:cubicBezTo>
                  <a:cubicBezTo>
                    <a:pt x="15229" y="10797"/>
                    <a:pt x="12580" y="12121"/>
                    <a:pt x="9932" y="14769"/>
                  </a:cubicBezTo>
                  <a:lnTo>
                    <a:pt x="9932" y="12121"/>
                  </a:lnTo>
                  <a:cubicBezTo>
                    <a:pt x="15229" y="8148"/>
                    <a:pt x="24498" y="10797"/>
                    <a:pt x="24498" y="10797"/>
                  </a:cubicBezTo>
                  <a:close/>
                </a:path>
              </a:pathLst>
            </a:custGeom>
            <a:solidFill>
              <a:srgbClr val="efe1e8"/>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28" name="任意多边形: 形状 406"/>
            <p:cNvSpPr/>
            <p:nvPr/>
          </p:nvSpPr>
          <p:spPr>
            <a:xfrm>
              <a:off x="3497400" y="3729600"/>
              <a:ext cx="79200" cy="39600"/>
            </a:xfrm>
            <a:custGeom>
              <a:avLst/>
              <a:gdLst>
                <a:gd name="textAreaLeft" fmla="*/ 0 w 79200"/>
                <a:gd name="textAreaRight" fmla="*/ 79560 w 79200"/>
                <a:gd name="textAreaTop" fmla="*/ 0 h 39600"/>
                <a:gd name="textAreaBottom" fmla="*/ 39960 h 39600"/>
              </a:gdLst>
              <a:ahLst/>
              <a:rect l="textAreaLeft" t="textAreaTop" r="textAreaRight" b="textAreaBottom"/>
              <a:pathLst>
                <a:path w="79453" h="39726">
                  <a:moveTo>
                    <a:pt x="52307" y="16553"/>
                  </a:moveTo>
                  <a:cubicBezTo>
                    <a:pt x="65550" y="16553"/>
                    <a:pt x="70846" y="15229"/>
                    <a:pt x="80116" y="11256"/>
                  </a:cubicBezTo>
                  <a:cubicBezTo>
                    <a:pt x="76143" y="24498"/>
                    <a:pt x="66874" y="33768"/>
                    <a:pt x="49659" y="33768"/>
                  </a:cubicBezTo>
                  <a:cubicBezTo>
                    <a:pt x="32444" y="33768"/>
                    <a:pt x="13905" y="24498"/>
                    <a:pt x="9932" y="9932"/>
                  </a:cubicBezTo>
                  <a:cubicBezTo>
                    <a:pt x="19202" y="13904"/>
                    <a:pt x="39065" y="16553"/>
                    <a:pt x="52307" y="16553"/>
                  </a:cubicBezTo>
                  <a:close/>
                </a:path>
              </a:pathLst>
            </a:custGeom>
            <a:solidFill>
              <a:srgbClr val="f4c78c"/>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829" name="任意多边形: 形状 407"/>
            <p:cNvSpPr/>
            <p:nvPr/>
          </p:nvSpPr>
          <p:spPr>
            <a:xfrm>
              <a:off x="3325320" y="3747960"/>
              <a:ext cx="158760" cy="172080"/>
            </a:xfrm>
            <a:custGeom>
              <a:avLst/>
              <a:gdLst>
                <a:gd name="textAreaLeft" fmla="*/ 0 w 158760"/>
                <a:gd name="textAreaRight" fmla="*/ 159120 w 158760"/>
                <a:gd name="textAreaTop" fmla="*/ 0 h 172080"/>
                <a:gd name="textAreaBottom" fmla="*/ 172440 h 172080"/>
              </a:gdLst>
              <a:ahLst/>
              <a:rect l="textAreaLeft" t="textAreaTop" r="textAreaRight" b="textAreaBottom"/>
              <a:pathLst>
                <a:path w="158907" h="172150">
                  <a:moveTo>
                    <a:pt x="9932" y="9964"/>
                  </a:moveTo>
                  <a:lnTo>
                    <a:pt x="9932" y="9964"/>
                  </a:lnTo>
                  <a:cubicBezTo>
                    <a:pt x="9932" y="8640"/>
                    <a:pt x="21850" y="48367"/>
                    <a:pt x="52307" y="90742"/>
                  </a:cubicBezTo>
                  <a:cubicBezTo>
                    <a:pt x="68198" y="111930"/>
                    <a:pt x="148976" y="163575"/>
                    <a:pt x="156921" y="167548"/>
                  </a:cubicBezTo>
                  <a:cubicBezTo>
                    <a:pt x="156921" y="167548"/>
                    <a:pt x="145003" y="160926"/>
                    <a:pt x="130437" y="152981"/>
                  </a:cubicBezTo>
                  <a:cubicBezTo>
                    <a:pt x="40389" y="102660"/>
                    <a:pt x="21850" y="88094"/>
                    <a:pt x="9932" y="9964"/>
                  </a:cubicBezTo>
                  <a:close/>
                </a:path>
              </a:pathLst>
            </a:custGeom>
            <a:solidFill>
              <a:srgbClr val="f4c78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30" name="任意多边形: 形状 408"/>
            <p:cNvSpPr/>
            <p:nvPr/>
          </p:nvSpPr>
          <p:spPr>
            <a:xfrm>
              <a:off x="3201120" y="3256920"/>
              <a:ext cx="688320" cy="807840"/>
            </a:xfrm>
            <a:custGeom>
              <a:avLst/>
              <a:gdLst>
                <a:gd name="textAreaLeft" fmla="*/ 0 w 688320"/>
                <a:gd name="textAreaRight" fmla="*/ 688680 w 688320"/>
                <a:gd name="textAreaTop" fmla="*/ 0 h 807840"/>
                <a:gd name="textAreaBottom" fmla="*/ 808200 h 807840"/>
              </a:gdLst>
              <a:ahLst/>
              <a:rect l="textAreaLeft" t="textAreaTop" r="textAreaRight" b="textAreaBottom"/>
              <a:pathLst>
                <a:path w="688600" h="807780">
                  <a:moveTo>
                    <a:pt x="99664" y="114505"/>
                  </a:moveTo>
                  <a:cubicBezTo>
                    <a:pt x="156606" y="49618"/>
                    <a:pt x="228114" y="9891"/>
                    <a:pt x="274462" y="46969"/>
                  </a:cubicBezTo>
                  <a:cubicBezTo>
                    <a:pt x="308892" y="-6000"/>
                    <a:pt x="530038" y="-41754"/>
                    <a:pt x="635977" y="229713"/>
                  </a:cubicBezTo>
                  <a:cubicBezTo>
                    <a:pt x="748537" y="518395"/>
                    <a:pt x="618762" y="742191"/>
                    <a:pt x="569765" y="787214"/>
                  </a:cubicBezTo>
                  <a:cubicBezTo>
                    <a:pt x="635977" y="637576"/>
                    <a:pt x="563144" y="493235"/>
                    <a:pt x="523417" y="412457"/>
                  </a:cubicBezTo>
                  <a:cubicBezTo>
                    <a:pt x="483690" y="330355"/>
                    <a:pt x="265192" y="151584"/>
                    <a:pt x="262544" y="133044"/>
                  </a:cubicBezTo>
                  <a:cubicBezTo>
                    <a:pt x="262544" y="133044"/>
                    <a:pt x="41397" y="305194"/>
                    <a:pt x="127472" y="607119"/>
                  </a:cubicBezTo>
                  <a:cubicBezTo>
                    <a:pt x="179117" y="775296"/>
                    <a:pt x="165875" y="800457"/>
                    <a:pt x="165875" y="800457"/>
                  </a:cubicBezTo>
                  <a:cubicBezTo>
                    <a:pt x="165875" y="800457"/>
                    <a:pt x="107609" y="801781"/>
                    <a:pt x="74503" y="772648"/>
                  </a:cubicBezTo>
                  <a:cubicBezTo>
                    <a:pt x="53316" y="721003"/>
                    <a:pt x="25507" y="690546"/>
                    <a:pt x="12264" y="506477"/>
                  </a:cubicBezTo>
                  <a:cubicBezTo>
                    <a:pt x="-978" y="323734"/>
                    <a:pt x="44046" y="179393"/>
                    <a:pt x="99664" y="114505"/>
                  </a:cubicBezTo>
                  <a:close/>
                </a:path>
              </a:pathLst>
            </a:custGeom>
            <a:solidFill>
              <a:srgbClr val="6626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31" name="任意多边形: 形状 409"/>
            <p:cNvSpPr/>
            <p:nvPr/>
          </p:nvSpPr>
          <p:spPr>
            <a:xfrm>
              <a:off x="3803400" y="3650040"/>
              <a:ext cx="52920" cy="291240"/>
            </a:xfrm>
            <a:custGeom>
              <a:avLst/>
              <a:gdLst>
                <a:gd name="textAreaLeft" fmla="*/ 0 w 52920"/>
                <a:gd name="textAreaRight" fmla="*/ 53280 w 52920"/>
                <a:gd name="textAreaTop" fmla="*/ 0 h 291240"/>
                <a:gd name="textAreaBottom" fmla="*/ 291600 h 291240"/>
              </a:gdLst>
              <a:ahLst/>
              <a:rect l="textAreaLeft" t="textAreaTop" r="textAreaRight" b="textAreaBottom"/>
              <a:pathLst>
                <a:path w="52969" h="291330">
                  <a:moveTo>
                    <a:pt x="16553" y="9932"/>
                  </a:moveTo>
                  <a:cubicBezTo>
                    <a:pt x="16553" y="9932"/>
                    <a:pt x="17877" y="27147"/>
                    <a:pt x="20525" y="53631"/>
                  </a:cubicBezTo>
                  <a:cubicBezTo>
                    <a:pt x="21850" y="66874"/>
                    <a:pt x="23174" y="81440"/>
                    <a:pt x="23174" y="98655"/>
                  </a:cubicBezTo>
                  <a:cubicBezTo>
                    <a:pt x="24498" y="114546"/>
                    <a:pt x="24498" y="131761"/>
                    <a:pt x="24498" y="148976"/>
                  </a:cubicBezTo>
                  <a:cubicBezTo>
                    <a:pt x="24498" y="156921"/>
                    <a:pt x="24498" y="166191"/>
                    <a:pt x="24498" y="174136"/>
                  </a:cubicBezTo>
                  <a:cubicBezTo>
                    <a:pt x="24498" y="182082"/>
                    <a:pt x="24498" y="191351"/>
                    <a:pt x="23174" y="199297"/>
                  </a:cubicBezTo>
                  <a:cubicBezTo>
                    <a:pt x="23174" y="207242"/>
                    <a:pt x="21850" y="215188"/>
                    <a:pt x="20525" y="223133"/>
                  </a:cubicBezTo>
                  <a:cubicBezTo>
                    <a:pt x="19202" y="231078"/>
                    <a:pt x="19202" y="237699"/>
                    <a:pt x="17877" y="244321"/>
                  </a:cubicBezTo>
                  <a:cubicBezTo>
                    <a:pt x="16553" y="250942"/>
                    <a:pt x="16553" y="256239"/>
                    <a:pt x="15229" y="261536"/>
                  </a:cubicBezTo>
                  <a:cubicBezTo>
                    <a:pt x="13904" y="266832"/>
                    <a:pt x="13904" y="270805"/>
                    <a:pt x="12580" y="274778"/>
                  </a:cubicBezTo>
                  <a:cubicBezTo>
                    <a:pt x="11256" y="282723"/>
                    <a:pt x="9932" y="286696"/>
                    <a:pt x="9932" y="286696"/>
                  </a:cubicBezTo>
                  <a:cubicBezTo>
                    <a:pt x="9932" y="286696"/>
                    <a:pt x="12580" y="282723"/>
                    <a:pt x="15229" y="276102"/>
                  </a:cubicBezTo>
                  <a:cubicBezTo>
                    <a:pt x="19202" y="269481"/>
                    <a:pt x="23174" y="258887"/>
                    <a:pt x="28471" y="245645"/>
                  </a:cubicBezTo>
                  <a:cubicBezTo>
                    <a:pt x="31120" y="239024"/>
                    <a:pt x="32444" y="232403"/>
                    <a:pt x="35092" y="224457"/>
                  </a:cubicBezTo>
                  <a:cubicBezTo>
                    <a:pt x="37741" y="216512"/>
                    <a:pt x="39065" y="208566"/>
                    <a:pt x="40389" y="200621"/>
                  </a:cubicBezTo>
                  <a:cubicBezTo>
                    <a:pt x="43038" y="183406"/>
                    <a:pt x="44362" y="166191"/>
                    <a:pt x="44362" y="147652"/>
                  </a:cubicBezTo>
                  <a:cubicBezTo>
                    <a:pt x="44362" y="129113"/>
                    <a:pt x="43038" y="111897"/>
                    <a:pt x="40389" y="94682"/>
                  </a:cubicBezTo>
                  <a:cubicBezTo>
                    <a:pt x="37741" y="77468"/>
                    <a:pt x="35092" y="62901"/>
                    <a:pt x="31120" y="49659"/>
                  </a:cubicBezTo>
                  <a:cubicBezTo>
                    <a:pt x="25823" y="25822"/>
                    <a:pt x="16553" y="9932"/>
                    <a:pt x="16553" y="9932"/>
                  </a:cubicBezTo>
                  <a:close/>
                </a:path>
              </a:pathLst>
            </a:custGeom>
            <a:solidFill>
              <a:srgbClr val="420e0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32" name="任意多边形: 形状 410"/>
            <p:cNvSpPr/>
            <p:nvPr/>
          </p:nvSpPr>
          <p:spPr>
            <a:xfrm>
              <a:off x="3260160" y="3912480"/>
              <a:ext cx="52920" cy="145440"/>
            </a:xfrm>
            <a:custGeom>
              <a:avLst/>
              <a:gdLst>
                <a:gd name="textAreaLeft" fmla="*/ 0 w 52920"/>
                <a:gd name="textAreaRight" fmla="*/ 53280 w 52920"/>
                <a:gd name="textAreaTop" fmla="*/ 0 h 145440"/>
                <a:gd name="textAreaBottom" fmla="*/ 145800 h 145440"/>
              </a:gdLst>
              <a:ahLst/>
              <a:rect l="textAreaLeft" t="textAreaTop" r="textAreaRight" b="textAreaBottom"/>
              <a:pathLst>
                <a:path w="52969" h="145665">
                  <a:moveTo>
                    <a:pt x="9932" y="9932"/>
                  </a:moveTo>
                  <a:cubicBezTo>
                    <a:pt x="9932" y="9932"/>
                    <a:pt x="9932" y="17877"/>
                    <a:pt x="11256" y="31119"/>
                  </a:cubicBezTo>
                  <a:cubicBezTo>
                    <a:pt x="12580" y="43038"/>
                    <a:pt x="15229" y="60253"/>
                    <a:pt x="19201" y="76143"/>
                  </a:cubicBezTo>
                  <a:cubicBezTo>
                    <a:pt x="23174" y="92034"/>
                    <a:pt x="28471" y="107925"/>
                    <a:pt x="35092" y="119843"/>
                  </a:cubicBezTo>
                  <a:cubicBezTo>
                    <a:pt x="37741" y="125140"/>
                    <a:pt x="41713" y="130437"/>
                    <a:pt x="43038" y="133085"/>
                  </a:cubicBezTo>
                  <a:cubicBezTo>
                    <a:pt x="45686" y="135734"/>
                    <a:pt x="47010" y="137058"/>
                    <a:pt x="47010" y="137058"/>
                  </a:cubicBezTo>
                  <a:cubicBezTo>
                    <a:pt x="47010" y="137058"/>
                    <a:pt x="45686" y="135734"/>
                    <a:pt x="44362" y="131761"/>
                  </a:cubicBezTo>
                  <a:cubicBezTo>
                    <a:pt x="43038" y="129113"/>
                    <a:pt x="41713" y="123815"/>
                    <a:pt x="39065" y="118519"/>
                  </a:cubicBezTo>
                  <a:cubicBezTo>
                    <a:pt x="37741" y="113222"/>
                    <a:pt x="35092" y="105276"/>
                    <a:pt x="33768" y="98655"/>
                  </a:cubicBezTo>
                  <a:cubicBezTo>
                    <a:pt x="32444" y="90710"/>
                    <a:pt x="29795" y="82764"/>
                    <a:pt x="28471" y="74819"/>
                  </a:cubicBezTo>
                  <a:cubicBezTo>
                    <a:pt x="24498" y="58928"/>
                    <a:pt x="20526" y="43038"/>
                    <a:pt x="16553" y="31119"/>
                  </a:cubicBezTo>
                  <a:cubicBezTo>
                    <a:pt x="12580" y="16553"/>
                    <a:pt x="9932" y="9932"/>
                    <a:pt x="9932" y="9932"/>
                  </a:cubicBezTo>
                  <a:close/>
                </a:path>
              </a:pathLst>
            </a:custGeom>
            <a:solidFill>
              <a:srgbClr val="9933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33" name="任意多边形: 形状 411"/>
            <p:cNvSpPr/>
            <p:nvPr/>
          </p:nvSpPr>
          <p:spPr>
            <a:xfrm>
              <a:off x="3229200" y="3846240"/>
              <a:ext cx="52920" cy="198360"/>
            </a:xfrm>
            <a:custGeom>
              <a:avLst/>
              <a:gdLst>
                <a:gd name="textAreaLeft" fmla="*/ 0 w 52920"/>
                <a:gd name="textAreaRight" fmla="*/ 53280 w 52920"/>
                <a:gd name="textAreaTop" fmla="*/ 0 h 198360"/>
                <a:gd name="textAreaBottom" fmla="*/ 198720 h 198360"/>
              </a:gdLst>
              <a:ahLst/>
              <a:rect l="textAreaLeft" t="textAreaTop" r="textAreaRight" b="textAreaBottom"/>
              <a:pathLst>
                <a:path w="52969" h="198634">
                  <a:moveTo>
                    <a:pt x="10520" y="9932"/>
                  </a:moveTo>
                  <a:cubicBezTo>
                    <a:pt x="10520" y="9932"/>
                    <a:pt x="9196" y="21850"/>
                    <a:pt x="10520" y="39065"/>
                  </a:cubicBezTo>
                  <a:cubicBezTo>
                    <a:pt x="11845" y="56280"/>
                    <a:pt x="13169" y="80116"/>
                    <a:pt x="17141" y="102628"/>
                  </a:cubicBezTo>
                  <a:cubicBezTo>
                    <a:pt x="21114" y="125140"/>
                    <a:pt x="27735" y="148976"/>
                    <a:pt x="35681" y="164867"/>
                  </a:cubicBezTo>
                  <a:cubicBezTo>
                    <a:pt x="37005" y="168839"/>
                    <a:pt x="39653" y="172812"/>
                    <a:pt x="40978" y="175461"/>
                  </a:cubicBezTo>
                  <a:cubicBezTo>
                    <a:pt x="43626" y="178109"/>
                    <a:pt x="44950" y="180757"/>
                    <a:pt x="46274" y="183406"/>
                  </a:cubicBezTo>
                  <a:cubicBezTo>
                    <a:pt x="50247" y="187379"/>
                    <a:pt x="51571" y="188703"/>
                    <a:pt x="51571" y="188703"/>
                  </a:cubicBezTo>
                  <a:cubicBezTo>
                    <a:pt x="51571" y="188703"/>
                    <a:pt x="50247" y="186054"/>
                    <a:pt x="47599" y="182082"/>
                  </a:cubicBezTo>
                  <a:cubicBezTo>
                    <a:pt x="46274" y="179433"/>
                    <a:pt x="44950" y="176785"/>
                    <a:pt x="43626" y="174136"/>
                  </a:cubicBezTo>
                  <a:cubicBezTo>
                    <a:pt x="42302" y="171488"/>
                    <a:pt x="40978" y="167515"/>
                    <a:pt x="39653" y="163542"/>
                  </a:cubicBezTo>
                  <a:cubicBezTo>
                    <a:pt x="37005" y="155597"/>
                    <a:pt x="34356" y="145003"/>
                    <a:pt x="31708" y="135734"/>
                  </a:cubicBezTo>
                  <a:cubicBezTo>
                    <a:pt x="29060" y="125140"/>
                    <a:pt x="26411" y="114546"/>
                    <a:pt x="25087" y="102628"/>
                  </a:cubicBezTo>
                  <a:cubicBezTo>
                    <a:pt x="21114" y="80116"/>
                    <a:pt x="17141" y="56280"/>
                    <a:pt x="14493" y="40389"/>
                  </a:cubicBezTo>
                  <a:cubicBezTo>
                    <a:pt x="13169" y="20526"/>
                    <a:pt x="10520" y="9932"/>
                    <a:pt x="10520" y="9932"/>
                  </a:cubicBezTo>
                  <a:close/>
                </a:path>
              </a:pathLst>
            </a:custGeom>
            <a:solidFill>
              <a:srgbClr val="420e0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34" name="任意多边形: 形状 412"/>
            <p:cNvSpPr/>
            <p:nvPr/>
          </p:nvSpPr>
          <p:spPr>
            <a:xfrm>
              <a:off x="3260520" y="3280680"/>
              <a:ext cx="609120" cy="754920"/>
            </a:xfrm>
            <a:custGeom>
              <a:avLst/>
              <a:gdLst>
                <a:gd name="textAreaLeft" fmla="*/ 0 w 609120"/>
                <a:gd name="textAreaRight" fmla="*/ 609480 w 609120"/>
                <a:gd name="textAreaTop" fmla="*/ 0 h 754920"/>
                <a:gd name="textAreaBottom" fmla="*/ 755280 h 754920"/>
              </a:gdLst>
              <a:ahLst/>
              <a:rect l="textAreaLeft" t="textAreaTop" r="textAreaRight" b="textAreaBottom"/>
              <a:pathLst>
                <a:path w="609146" h="754811">
                  <a:moveTo>
                    <a:pt x="22990" y="223133"/>
                  </a:moveTo>
                  <a:cubicBezTo>
                    <a:pt x="54771" y="110573"/>
                    <a:pt x="140846" y="24498"/>
                    <a:pt x="204409" y="49659"/>
                  </a:cubicBezTo>
                  <a:cubicBezTo>
                    <a:pt x="209706" y="47010"/>
                    <a:pt x="211031" y="41713"/>
                    <a:pt x="225597" y="31119"/>
                  </a:cubicBezTo>
                  <a:cubicBezTo>
                    <a:pt x="242812" y="17877"/>
                    <a:pt x="275918" y="9932"/>
                    <a:pt x="312996" y="9932"/>
                  </a:cubicBezTo>
                  <a:cubicBezTo>
                    <a:pt x="350075" y="9932"/>
                    <a:pt x="391126" y="23174"/>
                    <a:pt x="428204" y="47010"/>
                  </a:cubicBezTo>
                  <a:cubicBezTo>
                    <a:pt x="465283" y="70846"/>
                    <a:pt x="495740" y="105276"/>
                    <a:pt x="522225" y="142355"/>
                  </a:cubicBezTo>
                  <a:cubicBezTo>
                    <a:pt x="528846" y="151624"/>
                    <a:pt x="535467" y="160894"/>
                    <a:pt x="540764" y="171488"/>
                  </a:cubicBezTo>
                  <a:cubicBezTo>
                    <a:pt x="546061" y="180757"/>
                    <a:pt x="552682" y="190027"/>
                    <a:pt x="557979" y="200621"/>
                  </a:cubicBezTo>
                  <a:cubicBezTo>
                    <a:pt x="568573" y="220484"/>
                    <a:pt x="577842" y="240348"/>
                    <a:pt x="584463" y="260211"/>
                  </a:cubicBezTo>
                  <a:cubicBezTo>
                    <a:pt x="591085" y="280075"/>
                    <a:pt x="596381" y="299938"/>
                    <a:pt x="599030" y="319802"/>
                  </a:cubicBezTo>
                  <a:cubicBezTo>
                    <a:pt x="603003" y="338341"/>
                    <a:pt x="603003" y="356880"/>
                    <a:pt x="603003" y="374095"/>
                  </a:cubicBezTo>
                  <a:cubicBezTo>
                    <a:pt x="603003" y="391310"/>
                    <a:pt x="601679" y="405877"/>
                    <a:pt x="599030" y="420443"/>
                  </a:cubicBezTo>
                  <a:cubicBezTo>
                    <a:pt x="597706" y="433686"/>
                    <a:pt x="595058" y="445604"/>
                    <a:pt x="592409" y="454873"/>
                  </a:cubicBezTo>
                  <a:cubicBezTo>
                    <a:pt x="589760" y="464143"/>
                    <a:pt x="588436" y="472088"/>
                    <a:pt x="587112" y="477385"/>
                  </a:cubicBezTo>
                  <a:cubicBezTo>
                    <a:pt x="585788" y="482682"/>
                    <a:pt x="585788" y="485331"/>
                    <a:pt x="585788" y="485331"/>
                  </a:cubicBezTo>
                  <a:cubicBezTo>
                    <a:pt x="585788" y="485331"/>
                    <a:pt x="585788" y="482682"/>
                    <a:pt x="585788" y="477385"/>
                  </a:cubicBezTo>
                  <a:cubicBezTo>
                    <a:pt x="587112" y="472088"/>
                    <a:pt x="588436" y="464143"/>
                    <a:pt x="589760" y="454873"/>
                  </a:cubicBezTo>
                  <a:cubicBezTo>
                    <a:pt x="591085" y="445604"/>
                    <a:pt x="593733" y="433686"/>
                    <a:pt x="593733" y="420443"/>
                  </a:cubicBezTo>
                  <a:cubicBezTo>
                    <a:pt x="595058" y="407201"/>
                    <a:pt x="595058" y="391310"/>
                    <a:pt x="595058" y="375419"/>
                  </a:cubicBezTo>
                  <a:cubicBezTo>
                    <a:pt x="593733" y="359529"/>
                    <a:pt x="592409" y="340989"/>
                    <a:pt x="587112" y="322450"/>
                  </a:cubicBezTo>
                  <a:cubicBezTo>
                    <a:pt x="583139" y="303911"/>
                    <a:pt x="576518" y="285372"/>
                    <a:pt x="568573" y="265508"/>
                  </a:cubicBezTo>
                  <a:cubicBezTo>
                    <a:pt x="560627" y="246969"/>
                    <a:pt x="551358" y="227106"/>
                    <a:pt x="539440" y="209890"/>
                  </a:cubicBezTo>
                  <a:cubicBezTo>
                    <a:pt x="534143" y="200621"/>
                    <a:pt x="527522" y="191351"/>
                    <a:pt x="520901" y="182082"/>
                  </a:cubicBezTo>
                  <a:cubicBezTo>
                    <a:pt x="514279" y="172812"/>
                    <a:pt x="507658" y="164867"/>
                    <a:pt x="501037" y="155597"/>
                  </a:cubicBezTo>
                  <a:cubicBezTo>
                    <a:pt x="473228" y="121167"/>
                    <a:pt x="442771" y="90710"/>
                    <a:pt x="408341" y="70846"/>
                  </a:cubicBezTo>
                  <a:cubicBezTo>
                    <a:pt x="373911" y="50983"/>
                    <a:pt x="338156" y="41713"/>
                    <a:pt x="307699" y="44362"/>
                  </a:cubicBezTo>
                  <a:cubicBezTo>
                    <a:pt x="301078" y="44362"/>
                    <a:pt x="294457" y="45686"/>
                    <a:pt x="287836" y="45686"/>
                  </a:cubicBezTo>
                  <a:cubicBezTo>
                    <a:pt x="338156" y="53631"/>
                    <a:pt x="413638" y="85413"/>
                    <a:pt x="446744" y="204594"/>
                  </a:cubicBezTo>
                  <a:cubicBezTo>
                    <a:pt x="418935" y="167515"/>
                    <a:pt x="326238" y="70846"/>
                    <a:pt x="232218" y="86737"/>
                  </a:cubicBezTo>
                  <a:cubicBezTo>
                    <a:pt x="234867" y="90710"/>
                    <a:pt x="236191" y="94682"/>
                    <a:pt x="240163" y="99979"/>
                  </a:cubicBezTo>
                  <a:cubicBezTo>
                    <a:pt x="245460" y="107925"/>
                    <a:pt x="252081" y="118519"/>
                    <a:pt x="260027" y="129113"/>
                  </a:cubicBezTo>
                  <a:cubicBezTo>
                    <a:pt x="267972" y="139706"/>
                    <a:pt x="278566" y="151624"/>
                    <a:pt x="289160" y="164867"/>
                  </a:cubicBezTo>
                  <a:cubicBezTo>
                    <a:pt x="301078" y="179433"/>
                    <a:pt x="314320" y="192675"/>
                    <a:pt x="328887" y="208566"/>
                  </a:cubicBezTo>
                  <a:cubicBezTo>
                    <a:pt x="343454" y="224457"/>
                    <a:pt x="358020" y="240348"/>
                    <a:pt x="372587" y="256239"/>
                  </a:cubicBezTo>
                  <a:cubicBezTo>
                    <a:pt x="388477" y="273454"/>
                    <a:pt x="404368" y="290669"/>
                    <a:pt x="420259" y="307884"/>
                  </a:cubicBezTo>
                  <a:lnTo>
                    <a:pt x="426880" y="314505"/>
                  </a:lnTo>
                  <a:lnTo>
                    <a:pt x="429529" y="317153"/>
                  </a:lnTo>
                  <a:lnTo>
                    <a:pt x="430853" y="318477"/>
                  </a:lnTo>
                  <a:lnTo>
                    <a:pt x="432177" y="319802"/>
                  </a:lnTo>
                  <a:lnTo>
                    <a:pt x="433501" y="321126"/>
                  </a:lnTo>
                  <a:lnTo>
                    <a:pt x="444095" y="335692"/>
                  </a:lnTo>
                  <a:cubicBezTo>
                    <a:pt x="450716" y="346286"/>
                    <a:pt x="458662" y="356880"/>
                    <a:pt x="465283" y="368798"/>
                  </a:cubicBezTo>
                  <a:cubicBezTo>
                    <a:pt x="490443" y="412498"/>
                    <a:pt x="507658" y="458846"/>
                    <a:pt x="518252" y="503870"/>
                  </a:cubicBezTo>
                  <a:cubicBezTo>
                    <a:pt x="523549" y="526382"/>
                    <a:pt x="527522" y="547569"/>
                    <a:pt x="528846" y="568757"/>
                  </a:cubicBezTo>
                  <a:cubicBezTo>
                    <a:pt x="530170" y="579351"/>
                    <a:pt x="531494" y="588621"/>
                    <a:pt x="532819" y="599215"/>
                  </a:cubicBezTo>
                  <a:cubicBezTo>
                    <a:pt x="534143" y="608484"/>
                    <a:pt x="534143" y="619078"/>
                    <a:pt x="534143" y="627023"/>
                  </a:cubicBezTo>
                  <a:cubicBezTo>
                    <a:pt x="535467" y="645563"/>
                    <a:pt x="534143" y="661453"/>
                    <a:pt x="534143" y="677344"/>
                  </a:cubicBezTo>
                  <a:cubicBezTo>
                    <a:pt x="534143" y="691911"/>
                    <a:pt x="530170" y="705153"/>
                    <a:pt x="528846" y="715747"/>
                  </a:cubicBezTo>
                  <a:cubicBezTo>
                    <a:pt x="526197" y="726341"/>
                    <a:pt x="523549" y="734286"/>
                    <a:pt x="522225" y="739583"/>
                  </a:cubicBezTo>
                  <a:cubicBezTo>
                    <a:pt x="520901" y="744880"/>
                    <a:pt x="519576" y="747528"/>
                    <a:pt x="519576" y="747528"/>
                  </a:cubicBezTo>
                  <a:cubicBezTo>
                    <a:pt x="519576" y="747528"/>
                    <a:pt x="519576" y="744880"/>
                    <a:pt x="520901" y="739583"/>
                  </a:cubicBezTo>
                  <a:cubicBezTo>
                    <a:pt x="522225" y="734286"/>
                    <a:pt x="523549" y="726341"/>
                    <a:pt x="526197" y="715747"/>
                  </a:cubicBezTo>
                  <a:cubicBezTo>
                    <a:pt x="526197" y="705153"/>
                    <a:pt x="528846" y="693235"/>
                    <a:pt x="527522" y="677344"/>
                  </a:cubicBezTo>
                  <a:cubicBezTo>
                    <a:pt x="527522" y="662777"/>
                    <a:pt x="526197" y="646887"/>
                    <a:pt x="523549" y="628348"/>
                  </a:cubicBezTo>
                  <a:cubicBezTo>
                    <a:pt x="522225" y="619078"/>
                    <a:pt x="520901" y="609808"/>
                    <a:pt x="519576" y="600539"/>
                  </a:cubicBezTo>
                  <a:cubicBezTo>
                    <a:pt x="518252" y="591269"/>
                    <a:pt x="516928" y="580675"/>
                    <a:pt x="514279" y="571406"/>
                  </a:cubicBezTo>
                  <a:cubicBezTo>
                    <a:pt x="510306" y="551542"/>
                    <a:pt x="505010" y="530354"/>
                    <a:pt x="498388" y="509167"/>
                  </a:cubicBezTo>
                  <a:cubicBezTo>
                    <a:pt x="485146" y="466791"/>
                    <a:pt x="465283" y="424416"/>
                    <a:pt x="438798" y="384689"/>
                  </a:cubicBezTo>
                  <a:cubicBezTo>
                    <a:pt x="432177" y="374095"/>
                    <a:pt x="425556" y="366150"/>
                    <a:pt x="418935" y="356880"/>
                  </a:cubicBezTo>
                  <a:lnTo>
                    <a:pt x="407017" y="343638"/>
                  </a:lnTo>
                  <a:lnTo>
                    <a:pt x="405692" y="342314"/>
                  </a:lnTo>
                  <a:lnTo>
                    <a:pt x="404368" y="340989"/>
                  </a:lnTo>
                  <a:lnTo>
                    <a:pt x="401720" y="338341"/>
                  </a:lnTo>
                  <a:lnTo>
                    <a:pt x="395099" y="331720"/>
                  </a:lnTo>
                  <a:cubicBezTo>
                    <a:pt x="377883" y="315829"/>
                    <a:pt x="360669" y="299938"/>
                    <a:pt x="343454" y="284047"/>
                  </a:cubicBezTo>
                  <a:cubicBezTo>
                    <a:pt x="326238" y="268157"/>
                    <a:pt x="310348" y="253590"/>
                    <a:pt x="295781" y="239024"/>
                  </a:cubicBezTo>
                  <a:cubicBezTo>
                    <a:pt x="281215" y="224457"/>
                    <a:pt x="265324" y="211215"/>
                    <a:pt x="253406" y="199297"/>
                  </a:cubicBezTo>
                  <a:cubicBezTo>
                    <a:pt x="240163" y="186054"/>
                    <a:pt x="226921" y="174136"/>
                    <a:pt x="216327" y="162218"/>
                  </a:cubicBezTo>
                  <a:cubicBezTo>
                    <a:pt x="208382" y="151624"/>
                    <a:pt x="197788" y="137058"/>
                    <a:pt x="193815" y="125140"/>
                  </a:cubicBezTo>
                  <a:cubicBezTo>
                    <a:pt x="192491" y="126464"/>
                    <a:pt x="191167" y="127788"/>
                    <a:pt x="188519" y="130437"/>
                  </a:cubicBezTo>
                  <a:cubicBezTo>
                    <a:pt x="177925" y="139706"/>
                    <a:pt x="164683" y="154273"/>
                    <a:pt x="148792" y="172812"/>
                  </a:cubicBezTo>
                  <a:cubicBezTo>
                    <a:pt x="140846" y="182082"/>
                    <a:pt x="132901" y="191351"/>
                    <a:pt x="124955" y="203269"/>
                  </a:cubicBezTo>
                  <a:cubicBezTo>
                    <a:pt x="117010" y="215188"/>
                    <a:pt x="107740" y="225781"/>
                    <a:pt x="101119" y="239024"/>
                  </a:cubicBezTo>
                  <a:cubicBezTo>
                    <a:pt x="97147" y="245645"/>
                    <a:pt x="93174" y="252266"/>
                    <a:pt x="90526" y="258887"/>
                  </a:cubicBezTo>
                  <a:cubicBezTo>
                    <a:pt x="87877" y="265508"/>
                    <a:pt x="85228" y="273454"/>
                    <a:pt x="81256" y="280075"/>
                  </a:cubicBezTo>
                  <a:cubicBezTo>
                    <a:pt x="74635" y="294641"/>
                    <a:pt x="71986" y="310532"/>
                    <a:pt x="66689" y="326423"/>
                  </a:cubicBezTo>
                  <a:cubicBezTo>
                    <a:pt x="62717" y="342314"/>
                    <a:pt x="58744" y="358204"/>
                    <a:pt x="56095" y="372771"/>
                  </a:cubicBezTo>
                  <a:cubicBezTo>
                    <a:pt x="54771" y="380716"/>
                    <a:pt x="53447" y="388662"/>
                    <a:pt x="52123" y="396607"/>
                  </a:cubicBezTo>
                  <a:cubicBezTo>
                    <a:pt x="50799" y="404552"/>
                    <a:pt x="50799" y="412498"/>
                    <a:pt x="49474" y="419119"/>
                  </a:cubicBezTo>
                  <a:cubicBezTo>
                    <a:pt x="48150" y="433686"/>
                    <a:pt x="48150" y="448252"/>
                    <a:pt x="48150" y="462819"/>
                  </a:cubicBezTo>
                  <a:cubicBezTo>
                    <a:pt x="48150" y="477385"/>
                    <a:pt x="49474" y="489303"/>
                    <a:pt x="49474" y="502546"/>
                  </a:cubicBezTo>
                  <a:cubicBezTo>
                    <a:pt x="50799" y="514464"/>
                    <a:pt x="52123" y="525057"/>
                    <a:pt x="53447" y="535651"/>
                  </a:cubicBezTo>
                  <a:cubicBezTo>
                    <a:pt x="54771" y="544921"/>
                    <a:pt x="57420" y="554191"/>
                    <a:pt x="58744" y="560812"/>
                  </a:cubicBezTo>
                  <a:cubicBezTo>
                    <a:pt x="61392" y="574054"/>
                    <a:pt x="64041" y="581999"/>
                    <a:pt x="64041" y="581999"/>
                  </a:cubicBezTo>
                  <a:cubicBezTo>
                    <a:pt x="64041" y="581999"/>
                    <a:pt x="62717" y="574054"/>
                    <a:pt x="58744" y="560812"/>
                  </a:cubicBezTo>
                  <a:cubicBezTo>
                    <a:pt x="57420" y="554191"/>
                    <a:pt x="54771" y="544921"/>
                    <a:pt x="53447" y="535651"/>
                  </a:cubicBezTo>
                  <a:cubicBezTo>
                    <a:pt x="52123" y="526382"/>
                    <a:pt x="49474" y="514464"/>
                    <a:pt x="48150" y="502546"/>
                  </a:cubicBezTo>
                  <a:cubicBezTo>
                    <a:pt x="46826" y="490627"/>
                    <a:pt x="45502" y="477385"/>
                    <a:pt x="45502" y="462819"/>
                  </a:cubicBezTo>
                  <a:cubicBezTo>
                    <a:pt x="45502" y="448252"/>
                    <a:pt x="44177" y="433686"/>
                    <a:pt x="45502" y="419119"/>
                  </a:cubicBezTo>
                  <a:cubicBezTo>
                    <a:pt x="45502" y="411174"/>
                    <a:pt x="46826" y="403228"/>
                    <a:pt x="46826" y="395283"/>
                  </a:cubicBezTo>
                  <a:cubicBezTo>
                    <a:pt x="48150" y="387338"/>
                    <a:pt x="49474" y="379392"/>
                    <a:pt x="49474" y="371447"/>
                  </a:cubicBezTo>
                  <a:cubicBezTo>
                    <a:pt x="50799" y="355556"/>
                    <a:pt x="54771" y="339665"/>
                    <a:pt x="58744" y="323774"/>
                  </a:cubicBezTo>
                  <a:lnTo>
                    <a:pt x="65365" y="299938"/>
                  </a:lnTo>
                  <a:lnTo>
                    <a:pt x="68013" y="288020"/>
                  </a:lnTo>
                  <a:lnTo>
                    <a:pt x="71986" y="276102"/>
                  </a:lnTo>
                  <a:cubicBezTo>
                    <a:pt x="74635" y="268157"/>
                    <a:pt x="77283" y="261536"/>
                    <a:pt x="79932" y="253590"/>
                  </a:cubicBezTo>
                  <a:cubicBezTo>
                    <a:pt x="82580" y="246969"/>
                    <a:pt x="86553" y="239024"/>
                    <a:pt x="90526" y="232402"/>
                  </a:cubicBezTo>
                  <a:cubicBezTo>
                    <a:pt x="97147" y="217836"/>
                    <a:pt x="106416" y="205918"/>
                    <a:pt x="113037" y="194000"/>
                  </a:cubicBezTo>
                  <a:cubicBezTo>
                    <a:pt x="120983" y="182082"/>
                    <a:pt x="128928" y="171488"/>
                    <a:pt x="136874" y="162218"/>
                  </a:cubicBezTo>
                  <a:cubicBezTo>
                    <a:pt x="152764" y="142355"/>
                    <a:pt x="166006" y="127788"/>
                    <a:pt x="176601" y="117194"/>
                  </a:cubicBezTo>
                  <a:cubicBezTo>
                    <a:pt x="183222" y="110573"/>
                    <a:pt x="187194" y="106600"/>
                    <a:pt x="189843" y="103952"/>
                  </a:cubicBezTo>
                  <a:lnTo>
                    <a:pt x="191167" y="94682"/>
                  </a:lnTo>
                  <a:cubicBezTo>
                    <a:pt x="105092" y="130437"/>
                    <a:pt x="42853" y="207242"/>
                    <a:pt x="32259" y="266832"/>
                  </a:cubicBezTo>
                  <a:cubicBezTo>
                    <a:pt x="21665" y="333044"/>
                    <a:pt x="21665" y="375419"/>
                    <a:pt x="21665" y="407201"/>
                  </a:cubicBezTo>
                  <a:cubicBezTo>
                    <a:pt x="28287" y="412498"/>
                    <a:pt x="-8792" y="334368"/>
                    <a:pt x="22990" y="223133"/>
                  </a:cubicBezTo>
                  <a:close/>
                </a:path>
              </a:pathLst>
            </a:custGeom>
            <a:solidFill>
              <a:srgbClr val="77261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35" name="任意多边形: 形状 413"/>
            <p:cNvSpPr/>
            <p:nvPr/>
          </p:nvSpPr>
          <p:spPr>
            <a:xfrm>
              <a:off x="4010400" y="4091760"/>
              <a:ext cx="330840" cy="675360"/>
            </a:xfrm>
            <a:custGeom>
              <a:avLst/>
              <a:gdLst>
                <a:gd name="textAreaLeft" fmla="*/ 0 w 330840"/>
                <a:gd name="textAreaRight" fmla="*/ 331200 w 330840"/>
                <a:gd name="textAreaTop" fmla="*/ 0 h 675360"/>
                <a:gd name="textAreaBottom" fmla="*/ 675720 h 675360"/>
              </a:gdLst>
              <a:ahLst/>
              <a:rect l="textAreaLeft" t="textAreaTop" r="textAreaRight" b="textAreaBottom"/>
              <a:pathLst>
                <a:path w="331057" h="675357">
                  <a:moveTo>
                    <a:pt x="90219" y="655494"/>
                  </a:moveTo>
                  <a:cubicBezTo>
                    <a:pt x="115379" y="643576"/>
                    <a:pt x="136567" y="623713"/>
                    <a:pt x="145836" y="594580"/>
                  </a:cubicBezTo>
                  <a:cubicBezTo>
                    <a:pt x="145836" y="591931"/>
                    <a:pt x="148485" y="594580"/>
                    <a:pt x="145836" y="594580"/>
                  </a:cubicBezTo>
                  <a:cubicBezTo>
                    <a:pt x="160403" y="560150"/>
                    <a:pt x="160403" y="468778"/>
                    <a:pt x="160403" y="403891"/>
                  </a:cubicBezTo>
                  <a:cubicBezTo>
                    <a:pt x="161727" y="327085"/>
                    <a:pt x="159079" y="350921"/>
                    <a:pt x="163051" y="316491"/>
                  </a:cubicBezTo>
                  <a:cubicBezTo>
                    <a:pt x="164375" y="308546"/>
                    <a:pt x="174969" y="256901"/>
                    <a:pt x="177618" y="247631"/>
                  </a:cubicBezTo>
                  <a:cubicBezTo>
                    <a:pt x="189536" y="241010"/>
                    <a:pt x="201454" y="234389"/>
                    <a:pt x="212048" y="227768"/>
                  </a:cubicBezTo>
                  <a:cubicBezTo>
                    <a:pt x="229263" y="215850"/>
                    <a:pt x="253099" y="202607"/>
                    <a:pt x="272962" y="184068"/>
                  </a:cubicBezTo>
                  <a:cubicBezTo>
                    <a:pt x="290177" y="168177"/>
                    <a:pt x="308717" y="149638"/>
                    <a:pt x="315338" y="127126"/>
                  </a:cubicBezTo>
                  <a:cubicBezTo>
                    <a:pt x="329904" y="79454"/>
                    <a:pt x="324607" y="74157"/>
                    <a:pt x="316662" y="71509"/>
                  </a:cubicBezTo>
                  <a:cubicBezTo>
                    <a:pt x="304744" y="68860"/>
                    <a:pt x="295475" y="116532"/>
                    <a:pt x="291502" y="124478"/>
                  </a:cubicBezTo>
                  <a:cubicBezTo>
                    <a:pt x="287529" y="131099"/>
                    <a:pt x="257072" y="149638"/>
                    <a:pt x="255748" y="152287"/>
                  </a:cubicBezTo>
                  <a:cubicBezTo>
                    <a:pt x="254423" y="153611"/>
                    <a:pt x="275611" y="103290"/>
                    <a:pt x="275611" y="97993"/>
                  </a:cubicBezTo>
                  <a:cubicBezTo>
                    <a:pt x="275611" y="91372"/>
                    <a:pt x="271638" y="29133"/>
                    <a:pt x="271638" y="29133"/>
                  </a:cubicBezTo>
                  <a:cubicBezTo>
                    <a:pt x="271638" y="29133"/>
                    <a:pt x="261044" y="22512"/>
                    <a:pt x="257072" y="30457"/>
                  </a:cubicBezTo>
                  <a:cubicBezTo>
                    <a:pt x="253099" y="38403"/>
                    <a:pt x="250450" y="54293"/>
                    <a:pt x="251775" y="64887"/>
                  </a:cubicBezTo>
                  <a:cubicBezTo>
                    <a:pt x="251775" y="75481"/>
                    <a:pt x="247802" y="104614"/>
                    <a:pt x="229263" y="124478"/>
                  </a:cubicBezTo>
                  <a:cubicBezTo>
                    <a:pt x="229263" y="124478"/>
                    <a:pt x="227939" y="75481"/>
                    <a:pt x="225290" y="68860"/>
                  </a:cubicBezTo>
                  <a:cubicBezTo>
                    <a:pt x="222642" y="62239"/>
                    <a:pt x="205427" y="13242"/>
                    <a:pt x="202778" y="10594"/>
                  </a:cubicBezTo>
                  <a:cubicBezTo>
                    <a:pt x="198805" y="7945"/>
                    <a:pt x="188212" y="13242"/>
                    <a:pt x="189536" y="26485"/>
                  </a:cubicBezTo>
                  <a:cubicBezTo>
                    <a:pt x="190860" y="39727"/>
                    <a:pt x="202778" y="67536"/>
                    <a:pt x="202778" y="72833"/>
                  </a:cubicBezTo>
                  <a:cubicBezTo>
                    <a:pt x="202778" y="78130"/>
                    <a:pt x="190860" y="105939"/>
                    <a:pt x="190860" y="105939"/>
                  </a:cubicBezTo>
                  <a:cubicBezTo>
                    <a:pt x="190860" y="105939"/>
                    <a:pt x="188212" y="71509"/>
                    <a:pt x="185563" y="64887"/>
                  </a:cubicBezTo>
                  <a:cubicBezTo>
                    <a:pt x="182915" y="58266"/>
                    <a:pt x="170997" y="45024"/>
                    <a:pt x="163051" y="37078"/>
                  </a:cubicBezTo>
                  <a:cubicBezTo>
                    <a:pt x="155106" y="29133"/>
                    <a:pt x="149809" y="42375"/>
                    <a:pt x="152457" y="50321"/>
                  </a:cubicBezTo>
                  <a:cubicBezTo>
                    <a:pt x="155106" y="58266"/>
                    <a:pt x="167024" y="78130"/>
                    <a:pt x="167024" y="78130"/>
                  </a:cubicBezTo>
                  <a:cubicBezTo>
                    <a:pt x="167024" y="78130"/>
                    <a:pt x="165700" y="117857"/>
                    <a:pt x="163051" y="119181"/>
                  </a:cubicBezTo>
                  <a:cubicBezTo>
                    <a:pt x="161727" y="120505"/>
                    <a:pt x="123325" y="154935"/>
                    <a:pt x="115379" y="168177"/>
                  </a:cubicBezTo>
                  <a:cubicBezTo>
                    <a:pt x="107434" y="182744"/>
                    <a:pt x="103461" y="190689"/>
                    <a:pt x="107434" y="222471"/>
                  </a:cubicBezTo>
                  <a:cubicBezTo>
                    <a:pt x="90219" y="276764"/>
                    <a:pt x="42546" y="422430"/>
                    <a:pt x="26655" y="480696"/>
                  </a:cubicBezTo>
                  <a:cubicBezTo>
                    <a:pt x="1495" y="572068"/>
                    <a:pt x="10765" y="617092"/>
                    <a:pt x="16062" y="664764"/>
                  </a:cubicBezTo>
                  <a:cubicBezTo>
                    <a:pt x="37250" y="668737"/>
                    <a:pt x="55789" y="671385"/>
                    <a:pt x="90219" y="655494"/>
                  </a:cubicBezTo>
                  <a:close/>
                </a:path>
              </a:pathLst>
            </a:custGeom>
            <a:solidFill>
              <a:srgbClr val="f7d9a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36" name="任意多边形: 形状 414"/>
            <p:cNvSpPr/>
            <p:nvPr/>
          </p:nvSpPr>
          <p:spPr>
            <a:xfrm>
              <a:off x="3135600" y="4791960"/>
              <a:ext cx="900360" cy="65880"/>
            </a:xfrm>
            <a:custGeom>
              <a:avLst/>
              <a:gdLst>
                <a:gd name="textAreaLeft" fmla="*/ 0 w 900360"/>
                <a:gd name="textAreaRight" fmla="*/ 900720 w 900360"/>
                <a:gd name="textAreaTop" fmla="*/ 0 h 65880"/>
                <a:gd name="textAreaBottom" fmla="*/ 66240 h 65880"/>
              </a:gdLst>
              <a:ahLst/>
              <a:rect l="textAreaLeft" t="textAreaTop" r="textAreaRight" b="textAreaBottom"/>
              <a:pathLst>
                <a:path w="900476" h="66211">
                  <a:moveTo>
                    <a:pt x="9932" y="9932"/>
                  </a:moveTo>
                  <a:lnTo>
                    <a:pt x="901139" y="9932"/>
                  </a:lnTo>
                  <a:lnTo>
                    <a:pt x="901139" y="62901"/>
                  </a:lnTo>
                  <a:lnTo>
                    <a:pt x="9932" y="62901"/>
                  </a:lnTo>
                  <a:lnTo>
                    <a:pt x="9932" y="9932"/>
                  </a:lnTo>
                  <a:close/>
                </a:path>
              </a:pathLst>
            </a:custGeom>
            <a:solidFill>
              <a:srgbClr val="5a5a5c"/>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837" name="任意多边形: 形状 415"/>
            <p:cNvSpPr/>
            <p:nvPr/>
          </p:nvSpPr>
          <p:spPr>
            <a:xfrm>
              <a:off x="2075040" y="4793040"/>
              <a:ext cx="622440" cy="65880"/>
            </a:xfrm>
            <a:custGeom>
              <a:avLst/>
              <a:gdLst>
                <a:gd name="textAreaLeft" fmla="*/ 0 w 622440"/>
                <a:gd name="textAreaRight" fmla="*/ 622800 w 622440"/>
                <a:gd name="textAreaTop" fmla="*/ 0 h 65880"/>
                <a:gd name="textAreaBottom" fmla="*/ 66240 h 65880"/>
              </a:gdLst>
              <a:ahLst/>
              <a:rect l="textAreaLeft" t="textAreaTop" r="textAreaRight" b="textAreaBottom"/>
              <a:pathLst>
                <a:path w="622388" h="66211">
                  <a:moveTo>
                    <a:pt x="9932" y="9932"/>
                  </a:moveTo>
                  <a:lnTo>
                    <a:pt x="623051" y="9932"/>
                  </a:lnTo>
                  <a:lnTo>
                    <a:pt x="623051" y="58928"/>
                  </a:lnTo>
                  <a:lnTo>
                    <a:pt x="9932" y="58928"/>
                  </a:lnTo>
                  <a:lnTo>
                    <a:pt x="9932" y="9932"/>
                  </a:lnTo>
                  <a:close/>
                </a:path>
              </a:pathLst>
            </a:custGeom>
            <a:solidFill>
              <a:srgbClr val="f9ac23"/>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838" name="任意多边形: 形状 416"/>
            <p:cNvSpPr/>
            <p:nvPr/>
          </p:nvSpPr>
          <p:spPr>
            <a:xfrm>
              <a:off x="2829960" y="4709880"/>
              <a:ext cx="264600" cy="132120"/>
            </a:xfrm>
            <a:custGeom>
              <a:avLst/>
              <a:gdLst>
                <a:gd name="textAreaLeft" fmla="*/ 0 w 264600"/>
                <a:gd name="textAreaRight" fmla="*/ 264960 w 264600"/>
                <a:gd name="textAreaTop" fmla="*/ 0 h 132120"/>
                <a:gd name="textAreaBottom" fmla="*/ 132480 h 132120"/>
              </a:gdLst>
              <a:ahLst/>
              <a:rect l="textAreaLeft" t="textAreaTop" r="textAreaRight" b="textAreaBottom"/>
              <a:pathLst>
                <a:path w="264846" h="132423">
                  <a:moveTo>
                    <a:pt x="253590" y="131761"/>
                  </a:moveTo>
                  <a:cubicBezTo>
                    <a:pt x="258887" y="122491"/>
                    <a:pt x="261536" y="111897"/>
                    <a:pt x="261536" y="101304"/>
                  </a:cubicBezTo>
                  <a:cubicBezTo>
                    <a:pt x="261536" y="50983"/>
                    <a:pt x="204594" y="9932"/>
                    <a:pt x="135734" y="9932"/>
                  </a:cubicBezTo>
                  <a:cubicBezTo>
                    <a:pt x="65549" y="9932"/>
                    <a:pt x="9932" y="50983"/>
                    <a:pt x="9932" y="101304"/>
                  </a:cubicBezTo>
                  <a:cubicBezTo>
                    <a:pt x="9932" y="111897"/>
                    <a:pt x="12580" y="122491"/>
                    <a:pt x="17877" y="131761"/>
                  </a:cubicBezTo>
                  <a:lnTo>
                    <a:pt x="253590" y="131761"/>
                  </a:lnTo>
                  <a:close/>
                </a:path>
              </a:pathLst>
            </a:custGeom>
            <a:solidFill>
              <a:srgbClr val="93959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39" name="任意多边形: 形状 417"/>
            <p:cNvSpPr/>
            <p:nvPr/>
          </p:nvSpPr>
          <p:spPr>
            <a:xfrm>
              <a:off x="2930400" y="4709880"/>
              <a:ext cx="172080" cy="119160"/>
            </a:xfrm>
            <a:custGeom>
              <a:avLst/>
              <a:gdLst>
                <a:gd name="textAreaLeft" fmla="*/ 0 w 172080"/>
                <a:gd name="textAreaRight" fmla="*/ 172440 w 172080"/>
                <a:gd name="textAreaTop" fmla="*/ 0 h 119160"/>
                <a:gd name="textAreaBottom" fmla="*/ 119520 h 119160"/>
              </a:gdLst>
              <a:ahLst/>
              <a:rect l="textAreaLeft" t="textAreaTop" r="textAreaRight" b="textAreaBottom"/>
              <a:pathLst>
                <a:path w="172150" h="119180">
                  <a:moveTo>
                    <a:pt x="160894" y="101304"/>
                  </a:moveTo>
                  <a:cubicBezTo>
                    <a:pt x="160894" y="50983"/>
                    <a:pt x="103952" y="9932"/>
                    <a:pt x="35092" y="9932"/>
                  </a:cubicBezTo>
                  <a:cubicBezTo>
                    <a:pt x="25822" y="9932"/>
                    <a:pt x="17877" y="9932"/>
                    <a:pt x="9932" y="11256"/>
                  </a:cubicBezTo>
                  <a:cubicBezTo>
                    <a:pt x="9932" y="11256"/>
                    <a:pt x="58928" y="28471"/>
                    <a:pt x="85413" y="76143"/>
                  </a:cubicBezTo>
                  <a:cubicBezTo>
                    <a:pt x="103952" y="110573"/>
                    <a:pt x="137058" y="115870"/>
                    <a:pt x="162218" y="106601"/>
                  </a:cubicBezTo>
                  <a:cubicBezTo>
                    <a:pt x="160894" y="105276"/>
                    <a:pt x="160894" y="103952"/>
                    <a:pt x="160894" y="10130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40" name="任意多边形: 形状 418"/>
            <p:cNvSpPr/>
            <p:nvPr/>
          </p:nvSpPr>
          <p:spPr>
            <a:xfrm>
              <a:off x="4195440" y="4746960"/>
              <a:ext cx="767880" cy="105840"/>
            </a:xfrm>
            <a:custGeom>
              <a:avLst/>
              <a:gdLst>
                <a:gd name="textAreaLeft" fmla="*/ 0 w 767880"/>
                <a:gd name="textAreaRight" fmla="*/ 768240 w 767880"/>
                <a:gd name="textAreaTop" fmla="*/ 0 h 105840"/>
                <a:gd name="textAreaBottom" fmla="*/ 106200 h 105840"/>
              </a:gdLst>
              <a:ahLst/>
              <a:rect l="textAreaLeft" t="textAreaTop" r="textAreaRight" b="textAreaBottom"/>
              <a:pathLst>
                <a:path w="768053" h="105938">
                  <a:moveTo>
                    <a:pt x="9932" y="9932"/>
                  </a:moveTo>
                  <a:lnTo>
                    <a:pt x="768716" y="9932"/>
                  </a:lnTo>
                  <a:lnTo>
                    <a:pt x="768716" y="98655"/>
                  </a:lnTo>
                  <a:lnTo>
                    <a:pt x="9932" y="98655"/>
                  </a:lnTo>
                  <a:lnTo>
                    <a:pt x="9932" y="9932"/>
                  </a:lnTo>
                  <a:close/>
                </a:path>
              </a:pathLst>
            </a:custGeom>
            <a:solidFill>
              <a:srgbClr val="f9ac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41" name="任意多边形: 形状 419"/>
            <p:cNvSpPr/>
            <p:nvPr/>
          </p:nvSpPr>
          <p:spPr>
            <a:xfrm>
              <a:off x="4195440" y="4658040"/>
              <a:ext cx="767880" cy="105840"/>
            </a:xfrm>
            <a:custGeom>
              <a:avLst/>
              <a:gdLst>
                <a:gd name="textAreaLeft" fmla="*/ 0 w 767880"/>
                <a:gd name="textAreaRight" fmla="*/ 768240 w 767880"/>
                <a:gd name="textAreaTop" fmla="*/ 0 h 105840"/>
                <a:gd name="textAreaBottom" fmla="*/ 106200 h 105840"/>
              </a:gdLst>
              <a:ahLst/>
              <a:rect l="textAreaLeft" t="textAreaTop" r="textAreaRight" b="textAreaBottom"/>
              <a:pathLst>
                <a:path w="768053" h="105938">
                  <a:moveTo>
                    <a:pt x="9932" y="9932"/>
                  </a:moveTo>
                  <a:lnTo>
                    <a:pt x="768716" y="9932"/>
                  </a:lnTo>
                  <a:lnTo>
                    <a:pt x="768716" y="98655"/>
                  </a:lnTo>
                  <a:lnTo>
                    <a:pt x="9932" y="98655"/>
                  </a:lnTo>
                  <a:lnTo>
                    <a:pt x="9932" y="9932"/>
                  </a:lnTo>
                  <a:close/>
                </a:path>
              </a:pathLst>
            </a:custGeom>
            <a:solidFill>
              <a:srgbClr val="f4bb0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42" name="任意多边形: 形状 420"/>
            <p:cNvSpPr/>
            <p:nvPr/>
          </p:nvSpPr>
          <p:spPr>
            <a:xfrm>
              <a:off x="4685400" y="4684680"/>
              <a:ext cx="225000" cy="52920"/>
            </a:xfrm>
            <a:custGeom>
              <a:avLst/>
              <a:gdLst>
                <a:gd name="textAreaLeft" fmla="*/ 0 w 225000"/>
                <a:gd name="textAreaRight" fmla="*/ 225360 w 225000"/>
                <a:gd name="textAreaTop" fmla="*/ 0 h 52920"/>
                <a:gd name="textAreaBottom" fmla="*/ 53280 h 52920"/>
              </a:gdLst>
              <a:ahLst/>
              <a:rect l="textAreaLeft" t="textAreaTop" r="textAreaRight" b="textAreaBottom"/>
              <a:pathLst>
                <a:path w="225119" h="52969">
                  <a:moveTo>
                    <a:pt x="9932" y="9932"/>
                  </a:moveTo>
                  <a:lnTo>
                    <a:pt x="217836" y="9932"/>
                  </a:lnTo>
                  <a:lnTo>
                    <a:pt x="217836" y="43038"/>
                  </a:lnTo>
                  <a:lnTo>
                    <a:pt x="9932" y="43038"/>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843" name="任意多边形: 形状 421"/>
            <p:cNvSpPr/>
            <p:nvPr/>
          </p:nvSpPr>
          <p:spPr>
            <a:xfrm>
              <a:off x="4685400" y="4774680"/>
              <a:ext cx="225000" cy="52920"/>
            </a:xfrm>
            <a:custGeom>
              <a:avLst/>
              <a:gdLst>
                <a:gd name="textAreaLeft" fmla="*/ 0 w 225000"/>
                <a:gd name="textAreaRight" fmla="*/ 225360 w 225000"/>
                <a:gd name="textAreaTop" fmla="*/ 0 h 52920"/>
                <a:gd name="textAreaBottom" fmla="*/ 53280 h 52920"/>
              </a:gdLst>
              <a:ahLst/>
              <a:rect l="textAreaLeft" t="textAreaTop" r="textAreaRight" b="textAreaBottom"/>
              <a:pathLst>
                <a:path w="225119" h="52969">
                  <a:moveTo>
                    <a:pt x="9932" y="9932"/>
                  </a:moveTo>
                  <a:lnTo>
                    <a:pt x="217836" y="9932"/>
                  </a:lnTo>
                  <a:lnTo>
                    <a:pt x="217836" y="43037"/>
                  </a:lnTo>
                  <a:lnTo>
                    <a:pt x="9932" y="43037"/>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844" name="任意多边形: 形状 422"/>
            <p:cNvSpPr/>
            <p:nvPr/>
          </p:nvSpPr>
          <p:spPr>
            <a:xfrm>
              <a:off x="4253400" y="4774680"/>
              <a:ext cx="39600" cy="52920"/>
            </a:xfrm>
            <a:custGeom>
              <a:avLst/>
              <a:gdLst>
                <a:gd name="textAreaLeft" fmla="*/ 0 w 39600"/>
                <a:gd name="textAreaRight" fmla="*/ 39960 w 39600"/>
                <a:gd name="textAreaTop" fmla="*/ 0 h 52920"/>
                <a:gd name="textAreaBottom" fmla="*/ 53280 h 52920"/>
              </a:gdLst>
              <a:ahLst/>
              <a:rect l="textAreaLeft" t="textAreaTop" r="textAreaRight" b="textAreaBottom"/>
              <a:pathLst>
                <a:path w="39726" h="52969">
                  <a:moveTo>
                    <a:pt x="9932" y="9932"/>
                  </a:moveTo>
                  <a:lnTo>
                    <a:pt x="-27795" y="9932"/>
                  </a:lnTo>
                  <a:lnTo>
                    <a:pt x="-27795" y="-22499"/>
                  </a:lnTo>
                  <a:lnTo>
                    <a:pt x="9932" y="-22499"/>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845" name="任意多边形: 形状 423"/>
            <p:cNvSpPr/>
            <p:nvPr/>
          </p:nvSpPr>
          <p:spPr>
            <a:xfrm>
              <a:off x="4253400" y="4685760"/>
              <a:ext cx="39600" cy="52920"/>
            </a:xfrm>
            <a:custGeom>
              <a:avLst/>
              <a:gdLst>
                <a:gd name="textAreaLeft" fmla="*/ 0 w 39600"/>
                <a:gd name="textAreaRight" fmla="*/ 39960 w 39600"/>
                <a:gd name="textAreaTop" fmla="*/ 0 h 52920"/>
                <a:gd name="textAreaBottom" fmla="*/ 53280 h 52920"/>
              </a:gdLst>
              <a:ahLst/>
              <a:rect l="textAreaLeft" t="textAreaTop" r="textAreaRight" b="textAreaBottom"/>
              <a:pathLst>
                <a:path w="39726" h="52969">
                  <a:moveTo>
                    <a:pt x="9932" y="9932"/>
                  </a:moveTo>
                  <a:lnTo>
                    <a:pt x="-27795" y="9932"/>
                  </a:lnTo>
                  <a:lnTo>
                    <a:pt x="-27795" y="-22499"/>
                  </a:lnTo>
                  <a:lnTo>
                    <a:pt x="9932" y="-22499"/>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846" name="任意多边形: 形状 424"/>
            <p:cNvSpPr/>
            <p:nvPr/>
          </p:nvSpPr>
          <p:spPr>
            <a:xfrm>
              <a:off x="5011200" y="4232880"/>
              <a:ext cx="105840" cy="556200"/>
            </a:xfrm>
            <a:custGeom>
              <a:avLst/>
              <a:gdLst>
                <a:gd name="textAreaLeft" fmla="*/ 0 w 105840"/>
                <a:gd name="textAreaRight" fmla="*/ 106200 w 105840"/>
                <a:gd name="textAreaTop" fmla="*/ 0 h 556200"/>
                <a:gd name="textAreaBottom" fmla="*/ 556560 h 556200"/>
              </a:gdLst>
              <a:ahLst/>
              <a:rect l="textAreaLeft" t="textAreaTop" r="textAreaRight" b="textAreaBottom"/>
              <a:pathLst>
                <a:path w="105938" h="556176">
                  <a:moveTo>
                    <a:pt x="9932" y="9932"/>
                  </a:moveTo>
                  <a:lnTo>
                    <a:pt x="107925" y="9932"/>
                  </a:lnTo>
                  <a:lnTo>
                    <a:pt x="107925" y="551542"/>
                  </a:lnTo>
                  <a:lnTo>
                    <a:pt x="9932" y="551542"/>
                  </a:lnTo>
                  <a:lnTo>
                    <a:pt x="9932" y="9932"/>
                  </a:lnTo>
                  <a:close/>
                </a:path>
              </a:pathLst>
            </a:custGeom>
            <a:solidFill>
              <a:srgbClr val="4cc0d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47" name="任意多边形: 形状 425"/>
            <p:cNvSpPr/>
            <p:nvPr/>
          </p:nvSpPr>
          <p:spPr>
            <a:xfrm>
              <a:off x="5017680" y="4239720"/>
              <a:ext cx="92520" cy="542880"/>
            </a:xfrm>
            <a:custGeom>
              <a:avLst/>
              <a:gdLst>
                <a:gd name="textAreaLeft" fmla="*/ 0 w 92520"/>
                <a:gd name="textAreaRight" fmla="*/ 92880 w 92520"/>
                <a:gd name="textAreaTop" fmla="*/ 0 h 542880"/>
                <a:gd name="textAreaBottom" fmla="*/ 543240 h 542880"/>
              </a:gdLst>
              <a:ahLst/>
              <a:rect l="textAreaLeft" t="textAreaTop" r="textAreaRight" b="textAreaBottom"/>
              <a:pathLst>
                <a:path w="92696" h="542934">
                  <a:moveTo>
                    <a:pt x="9932" y="9932"/>
                  </a:moveTo>
                  <a:lnTo>
                    <a:pt x="94683" y="9932"/>
                  </a:lnTo>
                  <a:lnTo>
                    <a:pt x="94683" y="538300"/>
                  </a:lnTo>
                  <a:lnTo>
                    <a:pt x="9932" y="538300"/>
                  </a:lnTo>
                  <a:lnTo>
                    <a:pt x="9932" y="99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48" name="任意多边形: 形状 426"/>
            <p:cNvSpPr/>
            <p:nvPr/>
          </p:nvSpPr>
          <p:spPr>
            <a:xfrm>
              <a:off x="5017680" y="426996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0" y="9932"/>
                  </a:lnTo>
                  <a:lnTo>
                    <a:pt x="-10580"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49" name="任意多边形: 形状 427"/>
            <p:cNvSpPr/>
            <p:nvPr/>
          </p:nvSpPr>
          <p:spPr>
            <a:xfrm>
              <a:off x="5013720" y="430452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0" name="任意多边形: 形状 428"/>
            <p:cNvSpPr/>
            <p:nvPr/>
          </p:nvSpPr>
          <p:spPr>
            <a:xfrm>
              <a:off x="5013720" y="434268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1" name="任意多边形: 形状 429"/>
            <p:cNvSpPr/>
            <p:nvPr/>
          </p:nvSpPr>
          <p:spPr>
            <a:xfrm>
              <a:off x="5013720" y="438120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2" name="任意多边形: 形状 430"/>
            <p:cNvSpPr/>
            <p:nvPr/>
          </p:nvSpPr>
          <p:spPr>
            <a:xfrm>
              <a:off x="5013720" y="441972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3" name="任意多边形: 形状 431"/>
            <p:cNvSpPr/>
            <p:nvPr/>
          </p:nvSpPr>
          <p:spPr>
            <a:xfrm>
              <a:off x="5013720" y="445680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4" name="任意多边形: 形状 432"/>
            <p:cNvSpPr/>
            <p:nvPr/>
          </p:nvSpPr>
          <p:spPr>
            <a:xfrm>
              <a:off x="5013720" y="449532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5" name="任意多边形: 形状 433"/>
            <p:cNvSpPr/>
            <p:nvPr/>
          </p:nvSpPr>
          <p:spPr>
            <a:xfrm>
              <a:off x="5013720" y="453348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6" name="任意多边形: 形状 434"/>
            <p:cNvSpPr/>
            <p:nvPr/>
          </p:nvSpPr>
          <p:spPr>
            <a:xfrm>
              <a:off x="5013720" y="457056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7" name="任意多边形: 形状 435"/>
            <p:cNvSpPr/>
            <p:nvPr/>
          </p:nvSpPr>
          <p:spPr>
            <a:xfrm>
              <a:off x="5013720" y="460908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8" name="任意多边形: 形状 436"/>
            <p:cNvSpPr/>
            <p:nvPr/>
          </p:nvSpPr>
          <p:spPr>
            <a:xfrm>
              <a:off x="5013720" y="464760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59" name="任意多边形: 形状 437"/>
            <p:cNvSpPr/>
            <p:nvPr/>
          </p:nvSpPr>
          <p:spPr>
            <a:xfrm>
              <a:off x="5013720" y="468576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60" name="任意多边形: 形状 438"/>
            <p:cNvSpPr/>
            <p:nvPr/>
          </p:nvSpPr>
          <p:spPr>
            <a:xfrm>
              <a:off x="5013720" y="472284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52969" h="26484">
                  <a:moveTo>
                    <a:pt x="9932" y="9932"/>
                  </a:moveTo>
                  <a:lnTo>
                    <a:pt x="-10581" y="9932"/>
                  </a:lnTo>
                  <a:lnTo>
                    <a:pt x="-10581" y="16553"/>
                  </a:lnTo>
                  <a:lnTo>
                    <a:pt x="9932" y="16553"/>
                  </a:lnTo>
                  <a:lnTo>
                    <a:pt x="9932" y="9932"/>
                  </a:lnTo>
                  <a:close/>
                </a:path>
              </a:pathLst>
            </a:custGeom>
            <a:solidFill>
              <a:srgbClr val="4cc0d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61" name="任意多边形: 形状 439"/>
            <p:cNvSpPr/>
            <p:nvPr/>
          </p:nvSpPr>
          <p:spPr>
            <a:xfrm>
              <a:off x="5031000" y="4493880"/>
              <a:ext cx="52920" cy="225000"/>
            </a:xfrm>
            <a:custGeom>
              <a:avLst/>
              <a:gdLst>
                <a:gd name="textAreaLeft" fmla="*/ 0 w 52920"/>
                <a:gd name="textAreaRight" fmla="*/ 53280 w 52920"/>
                <a:gd name="textAreaTop" fmla="*/ 0 h 225000"/>
                <a:gd name="textAreaBottom" fmla="*/ 225360 h 225000"/>
              </a:gdLst>
              <a:ahLst/>
              <a:rect l="textAreaLeft" t="textAreaTop" r="textAreaRight" b="textAreaBottom"/>
              <a:pathLst>
                <a:path w="52969" h="225119">
                  <a:moveTo>
                    <a:pt x="9932" y="9932"/>
                  </a:moveTo>
                  <a:lnTo>
                    <a:pt x="44362" y="9932"/>
                  </a:lnTo>
                  <a:lnTo>
                    <a:pt x="44362" y="221809"/>
                  </a:lnTo>
                  <a:lnTo>
                    <a:pt x="9932" y="221809"/>
                  </a:lnTo>
                  <a:lnTo>
                    <a:pt x="9932" y="9932"/>
                  </a:lnTo>
                  <a:close/>
                </a:path>
              </a:pathLst>
            </a:custGeom>
            <a:solidFill>
              <a:srgbClr val="f9ac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62" name="任意多边形: 形状 440"/>
            <p:cNvSpPr/>
            <p:nvPr/>
          </p:nvSpPr>
          <p:spPr>
            <a:xfrm>
              <a:off x="5036400" y="4488480"/>
              <a:ext cx="39600" cy="26280"/>
            </a:xfrm>
            <a:custGeom>
              <a:avLst/>
              <a:gdLst>
                <a:gd name="textAreaLeft" fmla="*/ 0 w 39600"/>
                <a:gd name="textAreaRight" fmla="*/ 39960 w 39600"/>
                <a:gd name="textAreaTop" fmla="*/ 0 h 26280"/>
                <a:gd name="textAreaBottom" fmla="*/ 26640 h 26280"/>
              </a:gdLst>
              <a:ahLst/>
              <a:rect l="textAreaLeft" t="textAreaTop" r="textAreaRight" b="textAreaBottom"/>
              <a:pathLst>
                <a:path w="39726" h="26484">
                  <a:moveTo>
                    <a:pt x="9932" y="9932"/>
                  </a:moveTo>
                  <a:lnTo>
                    <a:pt x="-31768" y="9932"/>
                  </a:lnTo>
                  <a:lnTo>
                    <a:pt x="-31768" y="19201"/>
                  </a:lnTo>
                  <a:lnTo>
                    <a:pt x="9932" y="19201"/>
                  </a:lnTo>
                  <a:lnTo>
                    <a:pt x="9932" y="9932"/>
                  </a:lnTo>
                  <a:close/>
                </a:path>
              </a:pathLst>
            </a:custGeom>
            <a:solidFill>
              <a:srgbClr val="f9ac2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63" name="任意多边形: 形状 441"/>
            <p:cNvSpPr/>
            <p:nvPr/>
          </p:nvSpPr>
          <p:spPr>
            <a:xfrm>
              <a:off x="5042880" y="447804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9932" y="9932"/>
                  </a:moveTo>
                  <a:lnTo>
                    <a:pt x="21850" y="9932"/>
                  </a:lnTo>
                  <a:lnTo>
                    <a:pt x="21850" y="20526"/>
                  </a:lnTo>
                  <a:lnTo>
                    <a:pt x="9932" y="20526"/>
                  </a:lnTo>
                  <a:lnTo>
                    <a:pt x="9932" y="9932"/>
                  </a:lnTo>
                  <a:close/>
                </a:path>
              </a:pathLst>
            </a:custGeom>
            <a:solidFill>
              <a:srgbClr val="f9ac2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64" name="任意多边形: 形状 442"/>
            <p:cNvSpPr/>
            <p:nvPr/>
          </p:nvSpPr>
          <p:spPr>
            <a:xfrm>
              <a:off x="5046840" y="4468680"/>
              <a:ext cx="12960" cy="26280"/>
            </a:xfrm>
            <a:custGeom>
              <a:avLst/>
              <a:gdLst>
                <a:gd name="textAreaLeft" fmla="*/ 0 w 12960"/>
                <a:gd name="textAreaRight" fmla="*/ 13320 w 12960"/>
                <a:gd name="textAreaTop" fmla="*/ 0 h 26280"/>
                <a:gd name="textAreaBottom" fmla="*/ 26640 h 26280"/>
              </a:gdLst>
              <a:ahLst/>
              <a:rect l="textAreaLeft" t="textAreaTop" r="textAreaRight" b="textAreaBottom"/>
              <a:pathLst>
                <a:path w="13242" h="26484">
                  <a:moveTo>
                    <a:pt x="12580" y="19201"/>
                  </a:moveTo>
                  <a:cubicBezTo>
                    <a:pt x="12580" y="20526"/>
                    <a:pt x="12580" y="20526"/>
                    <a:pt x="11256" y="20526"/>
                  </a:cubicBezTo>
                  <a:cubicBezTo>
                    <a:pt x="11256" y="20526"/>
                    <a:pt x="9932" y="19201"/>
                    <a:pt x="9932" y="19201"/>
                  </a:cubicBezTo>
                  <a:lnTo>
                    <a:pt x="9932" y="11256"/>
                  </a:lnTo>
                  <a:cubicBezTo>
                    <a:pt x="9932" y="9932"/>
                    <a:pt x="9932" y="9932"/>
                    <a:pt x="11256" y="9932"/>
                  </a:cubicBezTo>
                  <a:cubicBezTo>
                    <a:pt x="11256" y="9932"/>
                    <a:pt x="12580" y="11256"/>
                    <a:pt x="12580" y="11256"/>
                  </a:cubicBezTo>
                  <a:lnTo>
                    <a:pt x="12580" y="19201"/>
                  </a:lnTo>
                  <a:close/>
                </a:path>
              </a:pathLst>
            </a:custGeom>
            <a:solidFill>
              <a:srgbClr val="f9ac2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65" name="任意多边形: 形状 443"/>
            <p:cNvSpPr/>
            <p:nvPr/>
          </p:nvSpPr>
          <p:spPr>
            <a:xfrm>
              <a:off x="4973400" y="4479480"/>
              <a:ext cx="105840" cy="291240"/>
            </a:xfrm>
            <a:custGeom>
              <a:avLst/>
              <a:gdLst>
                <a:gd name="textAreaLeft" fmla="*/ 0 w 105840"/>
                <a:gd name="textAreaRight" fmla="*/ 106200 w 105840"/>
                <a:gd name="textAreaTop" fmla="*/ 0 h 291240"/>
                <a:gd name="textAreaBottom" fmla="*/ 291600 h 291240"/>
              </a:gdLst>
              <a:ahLst/>
              <a:rect l="textAreaLeft" t="textAreaTop" r="textAreaRight" b="textAreaBottom"/>
              <a:pathLst>
                <a:path w="105938" h="291330">
                  <a:moveTo>
                    <a:pt x="11721" y="18625"/>
                  </a:moveTo>
                  <a:lnTo>
                    <a:pt x="45453" y="11721"/>
                  </a:lnTo>
                  <a:lnTo>
                    <a:pt x="99616" y="276381"/>
                  </a:lnTo>
                  <a:lnTo>
                    <a:pt x="65885" y="283284"/>
                  </a:lnTo>
                  <a:lnTo>
                    <a:pt x="11721" y="18625"/>
                  </a:lnTo>
                  <a:close/>
                </a:path>
              </a:pathLst>
            </a:custGeom>
            <a:solidFill>
              <a:srgbClr val="286a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66" name="任意多边形: 形状 444"/>
            <p:cNvSpPr/>
            <p:nvPr/>
          </p:nvSpPr>
          <p:spPr>
            <a:xfrm>
              <a:off x="4965480" y="4422960"/>
              <a:ext cx="65880" cy="119160"/>
            </a:xfrm>
            <a:custGeom>
              <a:avLst/>
              <a:gdLst>
                <a:gd name="textAreaLeft" fmla="*/ 0 w 65880"/>
                <a:gd name="textAreaRight" fmla="*/ 66240 w 65880"/>
                <a:gd name="textAreaTop" fmla="*/ 0 h 119160"/>
                <a:gd name="textAreaBottom" fmla="*/ 119520 h 119160"/>
              </a:gdLst>
              <a:ahLst/>
              <a:rect l="textAreaLeft" t="textAreaTop" r="textAreaRight" b="textAreaBottom"/>
              <a:pathLst>
                <a:path w="66211" h="119180">
                  <a:moveTo>
                    <a:pt x="62165" y="115135"/>
                  </a:moveTo>
                  <a:cubicBezTo>
                    <a:pt x="62165" y="115135"/>
                    <a:pt x="62165" y="113810"/>
                    <a:pt x="62165" y="113810"/>
                  </a:cubicBezTo>
                  <a:lnTo>
                    <a:pt x="43626" y="23763"/>
                  </a:lnTo>
                  <a:cubicBezTo>
                    <a:pt x="42302" y="14493"/>
                    <a:pt x="33032" y="7872"/>
                    <a:pt x="23762" y="10520"/>
                  </a:cubicBezTo>
                  <a:cubicBezTo>
                    <a:pt x="14493" y="11845"/>
                    <a:pt x="7872" y="21114"/>
                    <a:pt x="10520" y="30384"/>
                  </a:cubicBezTo>
                  <a:lnTo>
                    <a:pt x="29060" y="120431"/>
                  </a:lnTo>
                  <a:cubicBezTo>
                    <a:pt x="29060" y="120431"/>
                    <a:pt x="29060" y="121756"/>
                    <a:pt x="29060" y="121756"/>
                  </a:cubicBezTo>
                  <a:lnTo>
                    <a:pt x="62165" y="115135"/>
                  </a:lnTo>
                  <a:close/>
                </a:path>
              </a:pathLst>
            </a:custGeom>
            <a:solidFill>
              <a:srgbClr val="1b52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67" name="任意多边形: 形状 445"/>
            <p:cNvSpPr/>
            <p:nvPr/>
          </p:nvSpPr>
          <p:spPr>
            <a:xfrm>
              <a:off x="4996440" y="444096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5822" y="19201"/>
                  </a:moveTo>
                  <a:lnTo>
                    <a:pt x="11256" y="21850"/>
                  </a:lnTo>
                  <a:lnTo>
                    <a:pt x="9932" y="12580"/>
                  </a:lnTo>
                  <a:lnTo>
                    <a:pt x="23174" y="9932"/>
                  </a:lnTo>
                  <a:lnTo>
                    <a:pt x="25822" y="19201"/>
                  </a:lnTo>
                  <a:close/>
                </a:path>
              </a:pathLst>
            </a:custGeom>
            <a:solidFill>
              <a:srgbClr val="1b526d"/>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68" name="任意多边形: 形状 446"/>
            <p:cNvSpPr/>
            <p:nvPr/>
          </p:nvSpPr>
          <p:spPr>
            <a:xfrm>
              <a:off x="5003280" y="4440960"/>
              <a:ext cx="39600" cy="119160"/>
            </a:xfrm>
            <a:custGeom>
              <a:avLst/>
              <a:gdLst>
                <a:gd name="textAreaLeft" fmla="*/ 0 w 39600"/>
                <a:gd name="textAreaRight" fmla="*/ 39960 w 39600"/>
                <a:gd name="textAreaTop" fmla="*/ 0 h 119160"/>
                <a:gd name="textAreaBottom" fmla="*/ 119520 h 119160"/>
              </a:gdLst>
              <a:ahLst/>
              <a:rect l="textAreaLeft" t="textAreaTop" r="textAreaRight" b="textAreaBottom"/>
              <a:pathLst>
                <a:path w="39726" h="119180">
                  <a:moveTo>
                    <a:pt x="37741" y="115870"/>
                  </a:moveTo>
                  <a:lnTo>
                    <a:pt x="31120" y="117195"/>
                  </a:lnTo>
                  <a:lnTo>
                    <a:pt x="9932" y="11256"/>
                  </a:lnTo>
                  <a:lnTo>
                    <a:pt x="16553" y="9932"/>
                  </a:lnTo>
                  <a:lnTo>
                    <a:pt x="37741" y="115870"/>
                  </a:lnTo>
                  <a:close/>
                </a:path>
              </a:pathLst>
            </a:custGeom>
            <a:solidFill>
              <a:srgbClr val="1b526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69" name="任意多边形: 形状 447"/>
            <p:cNvSpPr/>
            <p:nvPr/>
          </p:nvSpPr>
          <p:spPr>
            <a:xfrm>
              <a:off x="5099760" y="4419720"/>
              <a:ext cx="52920" cy="225000"/>
            </a:xfrm>
            <a:custGeom>
              <a:avLst/>
              <a:gdLst>
                <a:gd name="textAreaLeft" fmla="*/ 0 w 52920"/>
                <a:gd name="textAreaRight" fmla="*/ 53280 w 52920"/>
                <a:gd name="textAreaTop" fmla="*/ 0 h 225000"/>
                <a:gd name="textAreaBottom" fmla="*/ 225360 h 225000"/>
              </a:gdLst>
              <a:ahLst/>
              <a:rect l="textAreaLeft" t="textAreaTop" r="textAreaRight" b="textAreaBottom"/>
              <a:pathLst>
                <a:path w="52969" h="225119">
                  <a:moveTo>
                    <a:pt x="20526" y="227106"/>
                  </a:moveTo>
                  <a:lnTo>
                    <a:pt x="9932" y="225781"/>
                  </a:lnTo>
                  <a:lnTo>
                    <a:pt x="39065" y="9932"/>
                  </a:lnTo>
                  <a:lnTo>
                    <a:pt x="49659" y="11256"/>
                  </a:lnTo>
                  <a:lnTo>
                    <a:pt x="20526" y="227106"/>
                  </a:lnTo>
                  <a:close/>
                </a:path>
              </a:pathLst>
            </a:custGeom>
            <a:solidFill>
              <a:srgbClr val="f9ac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70" name="任意多边形: 形状 448"/>
            <p:cNvSpPr/>
            <p:nvPr/>
          </p:nvSpPr>
          <p:spPr>
            <a:xfrm>
              <a:off x="5109120" y="4420080"/>
              <a:ext cx="52920" cy="238320"/>
            </a:xfrm>
            <a:custGeom>
              <a:avLst/>
              <a:gdLst>
                <a:gd name="textAreaLeft" fmla="*/ 0 w 52920"/>
                <a:gd name="textAreaRight" fmla="*/ 53280 w 52920"/>
                <a:gd name="textAreaTop" fmla="*/ 0 h 238320"/>
                <a:gd name="textAreaBottom" fmla="*/ 238680 h 238320"/>
              </a:gdLst>
              <a:ahLst/>
              <a:rect l="textAreaLeft" t="textAreaTop" r="textAreaRight" b="textAreaBottom"/>
              <a:pathLst>
                <a:path w="52969" h="238361">
                  <a:moveTo>
                    <a:pt x="11195" y="227639"/>
                  </a:moveTo>
                  <a:lnTo>
                    <a:pt x="41042" y="11195"/>
                  </a:lnTo>
                  <a:lnTo>
                    <a:pt x="52848" y="12823"/>
                  </a:lnTo>
                  <a:lnTo>
                    <a:pt x="23001" y="229267"/>
                  </a:lnTo>
                  <a:lnTo>
                    <a:pt x="11195" y="227639"/>
                  </a:lnTo>
                  <a:close/>
                </a:path>
              </a:pathLst>
            </a:custGeom>
            <a:solidFill>
              <a:srgbClr val="f7ca0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71" name="任意多边形: 形状 449"/>
            <p:cNvSpPr/>
            <p:nvPr/>
          </p:nvSpPr>
          <p:spPr>
            <a:xfrm>
              <a:off x="5121360" y="4421160"/>
              <a:ext cx="52920" cy="238320"/>
            </a:xfrm>
            <a:custGeom>
              <a:avLst/>
              <a:gdLst>
                <a:gd name="textAreaLeft" fmla="*/ 0 w 52920"/>
                <a:gd name="textAreaRight" fmla="*/ 53280 w 52920"/>
                <a:gd name="textAreaTop" fmla="*/ 0 h 238320"/>
                <a:gd name="textAreaBottom" fmla="*/ 238680 h 238320"/>
              </a:gdLst>
              <a:ahLst/>
              <a:rect l="textAreaLeft" t="textAreaTop" r="textAreaRight" b="textAreaBottom"/>
              <a:pathLst>
                <a:path w="52969" h="238361">
                  <a:moveTo>
                    <a:pt x="11149" y="227768"/>
                  </a:moveTo>
                  <a:lnTo>
                    <a:pt x="39816" y="11149"/>
                  </a:lnTo>
                  <a:lnTo>
                    <a:pt x="51632" y="12713"/>
                  </a:lnTo>
                  <a:lnTo>
                    <a:pt x="22965" y="229332"/>
                  </a:lnTo>
                  <a:lnTo>
                    <a:pt x="11149" y="227768"/>
                  </a:lnTo>
                  <a:close/>
                </a:path>
              </a:pathLst>
            </a:custGeom>
            <a:solidFill>
              <a:srgbClr val="f9ac2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72" name="任意多边形: 形状 450"/>
            <p:cNvSpPr/>
            <p:nvPr/>
          </p:nvSpPr>
          <p:spPr>
            <a:xfrm>
              <a:off x="5128920" y="4367880"/>
              <a:ext cx="52920" cy="65880"/>
            </a:xfrm>
            <a:custGeom>
              <a:avLst/>
              <a:gdLst>
                <a:gd name="textAreaLeft" fmla="*/ 0 w 52920"/>
                <a:gd name="textAreaRight" fmla="*/ 53280 w 52920"/>
                <a:gd name="textAreaTop" fmla="*/ 0 h 65880"/>
                <a:gd name="textAreaBottom" fmla="*/ 66240 h 65880"/>
              </a:gdLst>
              <a:ahLst/>
              <a:rect l="textAreaLeft" t="textAreaTop" r="textAreaRight" b="textAreaBottom"/>
              <a:pathLst>
                <a:path w="52969" h="66211">
                  <a:moveTo>
                    <a:pt x="9932" y="61577"/>
                  </a:moveTo>
                  <a:lnTo>
                    <a:pt x="33768" y="9932"/>
                  </a:lnTo>
                  <a:lnTo>
                    <a:pt x="44362" y="65549"/>
                  </a:lnTo>
                  <a:lnTo>
                    <a:pt x="9932" y="61577"/>
                  </a:lnTo>
                  <a:close/>
                </a:path>
              </a:pathLst>
            </a:custGeom>
            <a:solidFill>
              <a:srgbClr val="f7d9ab"/>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873" name="任意多边形: 形状 451"/>
            <p:cNvSpPr/>
            <p:nvPr/>
          </p:nvSpPr>
          <p:spPr>
            <a:xfrm>
              <a:off x="5146200" y="4367880"/>
              <a:ext cx="26280" cy="26280"/>
            </a:xfrm>
            <a:custGeom>
              <a:avLst/>
              <a:gdLst>
                <a:gd name="textAreaLeft" fmla="*/ 0 w 26280"/>
                <a:gd name="textAreaRight" fmla="*/ 26640 w 26280"/>
                <a:gd name="textAreaTop" fmla="*/ 0 h 26280"/>
                <a:gd name="textAreaBottom" fmla="*/ 26640 h 26280"/>
              </a:gdLst>
              <a:ahLst/>
              <a:rect l="textAreaLeft" t="textAreaTop" r="textAreaRight" b="textAreaBottom"/>
              <a:pathLst>
                <a:path w="26484" h="26484">
                  <a:moveTo>
                    <a:pt x="20526" y="28471"/>
                  </a:moveTo>
                  <a:lnTo>
                    <a:pt x="17877" y="9932"/>
                  </a:lnTo>
                  <a:lnTo>
                    <a:pt x="9932" y="27147"/>
                  </a:lnTo>
                  <a:cubicBezTo>
                    <a:pt x="11256" y="27147"/>
                    <a:pt x="16553" y="28471"/>
                    <a:pt x="20526" y="28471"/>
                  </a:cubicBezTo>
                  <a:close/>
                </a:path>
              </a:pathLst>
            </a:custGeom>
            <a:solidFill>
              <a:srgbClr val="f9ac23"/>
            </a:solidFill>
            <a:ln w="0">
              <a:noFill/>
            </a:ln>
          </p:spPr>
          <p:style>
            <a:lnRef idx="0"/>
            <a:fillRef idx="0"/>
            <a:effectRef idx="0"/>
            <a:fontRef idx="minor"/>
          </p:style>
          <p:txBody>
            <a:bodyPr lIns="90000" rIns="90000" tIns="-20160" bIns="-20160" anchor="ctr">
              <a:noAutofit/>
            </a:bodyPr>
            <a:p>
              <a:endParaRPr b="0" lang="en-US" sz="1800" spc="-1" strike="noStrike">
                <a:solidFill>
                  <a:srgbClr val="262626"/>
                </a:solidFill>
                <a:latin typeface="Arial"/>
              </a:endParaRPr>
            </a:p>
          </p:txBody>
        </p:sp>
        <p:sp>
          <p:nvSpPr>
            <p:cNvPr id="874" name="任意多边形: 形状 452"/>
            <p:cNvSpPr/>
            <p:nvPr/>
          </p:nvSpPr>
          <p:spPr>
            <a:xfrm>
              <a:off x="4963320" y="4587840"/>
              <a:ext cx="211680" cy="264600"/>
            </a:xfrm>
            <a:custGeom>
              <a:avLst/>
              <a:gdLst>
                <a:gd name="textAreaLeft" fmla="*/ 0 w 211680"/>
                <a:gd name="textAreaRight" fmla="*/ 212040 w 211680"/>
                <a:gd name="textAreaTop" fmla="*/ 0 h 264600"/>
                <a:gd name="textAreaBottom" fmla="*/ 264960 h 264600"/>
              </a:gdLst>
              <a:ahLst/>
              <a:rect l="textAreaLeft" t="textAreaTop" r="textAreaRight" b="textAreaBottom"/>
              <a:pathLst>
                <a:path w="211876" h="264846">
                  <a:moveTo>
                    <a:pt x="179433" y="254914"/>
                  </a:moveTo>
                  <a:lnTo>
                    <a:pt x="36416" y="254914"/>
                  </a:lnTo>
                  <a:lnTo>
                    <a:pt x="9932" y="9932"/>
                  </a:lnTo>
                  <a:lnTo>
                    <a:pt x="203270" y="9932"/>
                  </a:lnTo>
                  <a:lnTo>
                    <a:pt x="179433" y="254914"/>
                  </a:lnTo>
                  <a:close/>
                </a:path>
              </a:pathLst>
            </a:custGeom>
            <a:solidFill>
              <a:srgbClr val="994a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75" name="任意多边形: 形状 453"/>
            <p:cNvSpPr/>
            <p:nvPr/>
          </p:nvSpPr>
          <p:spPr>
            <a:xfrm>
              <a:off x="4963320" y="4587840"/>
              <a:ext cx="211680" cy="264600"/>
            </a:xfrm>
            <a:custGeom>
              <a:avLst/>
              <a:gdLst>
                <a:gd name="textAreaLeft" fmla="*/ 0 w 211680"/>
                <a:gd name="textAreaRight" fmla="*/ 212040 w 211680"/>
                <a:gd name="textAreaTop" fmla="*/ 0 h 264600"/>
                <a:gd name="textAreaBottom" fmla="*/ 264960 h 264600"/>
              </a:gdLst>
              <a:ahLst/>
              <a:rect l="textAreaLeft" t="textAreaTop" r="textAreaRight" b="textAreaBottom"/>
              <a:pathLst>
                <a:path w="211876" h="264846">
                  <a:moveTo>
                    <a:pt x="179433" y="254914"/>
                  </a:moveTo>
                  <a:lnTo>
                    <a:pt x="36416" y="254914"/>
                  </a:lnTo>
                  <a:lnTo>
                    <a:pt x="9932" y="9932"/>
                  </a:lnTo>
                  <a:lnTo>
                    <a:pt x="203270" y="9932"/>
                  </a:lnTo>
                  <a:lnTo>
                    <a:pt x="179433" y="254914"/>
                  </a:lnTo>
                  <a:close/>
                </a:path>
              </a:pathLst>
            </a:custGeom>
            <a:solidFill>
              <a:srgbClr val="994a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76" name="任意多边形: 形状 454"/>
            <p:cNvSpPr/>
            <p:nvPr/>
          </p:nvSpPr>
          <p:spPr>
            <a:xfrm>
              <a:off x="4963320" y="4587840"/>
              <a:ext cx="79200" cy="264600"/>
            </a:xfrm>
            <a:custGeom>
              <a:avLst/>
              <a:gdLst>
                <a:gd name="textAreaLeft" fmla="*/ 0 w 79200"/>
                <a:gd name="textAreaRight" fmla="*/ 79560 w 79200"/>
                <a:gd name="textAreaTop" fmla="*/ 0 h 264600"/>
                <a:gd name="textAreaBottom" fmla="*/ 264960 h 264600"/>
              </a:gdLst>
              <a:ahLst/>
              <a:rect l="textAreaLeft" t="textAreaTop" r="textAreaRight" b="textAreaBottom"/>
              <a:pathLst>
                <a:path w="79453" h="264846">
                  <a:moveTo>
                    <a:pt x="9932" y="9932"/>
                  </a:moveTo>
                  <a:lnTo>
                    <a:pt x="36416" y="254914"/>
                  </a:lnTo>
                  <a:lnTo>
                    <a:pt x="69522" y="254914"/>
                  </a:lnTo>
                  <a:lnTo>
                    <a:pt x="43038" y="9932"/>
                  </a:lnTo>
                  <a:lnTo>
                    <a:pt x="9932" y="9932"/>
                  </a:lnTo>
                  <a:close/>
                </a:path>
              </a:pathLst>
            </a:custGeom>
            <a:solidFill>
              <a:srgbClr val="994a0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77" name="任意多边形: 形状 455"/>
            <p:cNvSpPr/>
            <p:nvPr/>
          </p:nvSpPr>
          <p:spPr>
            <a:xfrm>
              <a:off x="5187240" y="4752000"/>
              <a:ext cx="767880" cy="105840"/>
            </a:xfrm>
            <a:custGeom>
              <a:avLst/>
              <a:gdLst>
                <a:gd name="textAreaLeft" fmla="*/ 0 w 767880"/>
                <a:gd name="textAreaRight" fmla="*/ 768240 w 767880"/>
                <a:gd name="textAreaTop" fmla="*/ 0 h 105840"/>
                <a:gd name="textAreaBottom" fmla="*/ 106200 h 105840"/>
              </a:gdLst>
              <a:ahLst/>
              <a:rect l="textAreaLeft" t="textAreaTop" r="textAreaRight" b="textAreaBottom"/>
              <a:pathLst>
                <a:path w="768053" h="105938">
                  <a:moveTo>
                    <a:pt x="9932" y="9932"/>
                  </a:moveTo>
                  <a:lnTo>
                    <a:pt x="768716" y="9932"/>
                  </a:lnTo>
                  <a:lnTo>
                    <a:pt x="768716" y="98655"/>
                  </a:lnTo>
                  <a:lnTo>
                    <a:pt x="9932" y="98655"/>
                  </a:lnTo>
                  <a:lnTo>
                    <a:pt x="9932" y="9932"/>
                  </a:lnTo>
                  <a:close/>
                </a:path>
              </a:pathLst>
            </a:custGeom>
            <a:solidFill>
              <a:srgbClr val="ed622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78" name="任意多边形: 形状 456"/>
            <p:cNvSpPr/>
            <p:nvPr/>
          </p:nvSpPr>
          <p:spPr>
            <a:xfrm>
              <a:off x="5248080" y="4780080"/>
              <a:ext cx="225000" cy="52920"/>
            </a:xfrm>
            <a:custGeom>
              <a:avLst/>
              <a:gdLst>
                <a:gd name="textAreaLeft" fmla="*/ 0 w 225000"/>
                <a:gd name="textAreaRight" fmla="*/ 225360 w 225000"/>
                <a:gd name="textAreaTop" fmla="*/ 0 h 52920"/>
                <a:gd name="textAreaBottom" fmla="*/ 53280 h 52920"/>
              </a:gdLst>
              <a:ahLst/>
              <a:rect l="textAreaLeft" t="textAreaTop" r="textAreaRight" b="textAreaBottom"/>
              <a:pathLst>
                <a:path w="225119" h="52969">
                  <a:moveTo>
                    <a:pt x="9932" y="9932"/>
                  </a:moveTo>
                  <a:lnTo>
                    <a:pt x="217836" y="9932"/>
                  </a:lnTo>
                  <a:lnTo>
                    <a:pt x="217836" y="43038"/>
                  </a:lnTo>
                  <a:lnTo>
                    <a:pt x="9932" y="43038"/>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879" name="任意多边形: 形状 457"/>
            <p:cNvSpPr/>
            <p:nvPr/>
          </p:nvSpPr>
          <p:spPr>
            <a:xfrm>
              <a:off x="5860080" y="4780080"/>
              <a:ext cx="39600" cy="52920"/>
            </a:xfrm>
            <a:custGeom>
              <a:avLst/>
              <a:gdLst>
                <a:gd name="textAreaLeft" fmla="*/ 0 w 39600"/>
                <a:gd name="textAreaRight" fmla="*/ 39960 w 39600"/>
                <a:gd name="textAreaTop" fmla="*/ 0 h 52920"/>
                <a:gd name="textAreaBottom" fmla="*/ 53280 h 52920"/>
              </a:gdLst>
              <a:ahLst/>
              <a:rect l="textAreaLeft" t="textAreaTop" r="textAreaRight" b="textAreaBottom"/>
              <a:pathLst>
                <a:path w="39726" h="52969">
                  <a:moveTo>
                    <a:pt x="9932" y="9932"/>
                  </a:moveTo>
                  <a:lnTo>
                    <a:pt x="-27796" y="9932"/>
                  </a:lnTo>
                  <a:lnTo>
                    <a:pt x="-27796" y="-22498"/>
                  </a:lnTo>
                  <a:lnTo>
                    <a:pt x="9932" y="-22498"/>
                  </a:lnTo>
                  <a:lnTo>
                    <a:pt x="9932" y="9932"/>
                  </a:lnTo>
                  <a:close/>
                </a:path>
              </a:pathLst>
            </a:custGeom>
            <a:solidFill>
              <a:srgbClr val="ffffff"/>
            </a:solidFill>
            <a:ln w="0">
              <a:noFill/>
            </a:ln>
          </p:spPr>
          <p:style>
            <a:lnRef idx="0"/>
            <a:fillRef idx="0"/>
            <a:effectRef idx="0"/>
            <a:fontRef idx="minor"/>
          </p:style>
          <p:txBody>
            <a:bodyPr lIns="90000" rIns="90000" tIns="6480" bIns="6480" anchor="ctr">
              <a:noAutofit/>
            </a:bodyPr>
            <a:p>
              <a:endParaRPr b="0" lang="en-US" sz="1800" spc="-1" strike="noStrike">
                <a:solidFill>
                  <a:srgbClr val="262626"/>
                </a:solidFill>
                <a:latin typeface="Arial"/>
              </a:endParaRPr>
            </a:p>
          </p:txBody>
        </p:sp>
        <p:sp>
          <p:nvSpPr>
            <p:cNvPr id="880" name="任意多边形: 形状 458"/>
            <p:cNvSpPr/>
            <p:nvPr/>
          </p:nvSpPr>
          <p:spPr>
            <a:xfrm>
              <a:off x="5519520" y="4911120"/>
              <a:ext cx="158760" cy="1469880"/>
            </a:xfrm>
            <a:custGeom>
              <a:avLst/>
              <a:gdLst>
                <a:gd name="textAreaLeft" fmla="*/ 0 w 158760"/>
                <a:gd name="textAreaRight" fmla="*/ 159120 w 158760"/>
                <a:gd name="textAreaTop" fmla="*/ 0 h 1469880"/>
                <a:gd name="textAreaBottom" fmla="*/ 1470240 h 1469880"/>
              </a:gdLst>
              <a:ahLst/>
              <a:rect l="textAreaLeft" t="textAreaTop" r="textAreaRight" b="textAreaBottom"/>
              <a:pathLst>
                <a:path w="158907" h="1469896">
                  <a:moveTo>
                    <a:pt x="117195" y="1465261"/>
                  </a:moveTo>
                  <a:lnTo>
                    <a:pt x="43038" y="1465261"/>
                  </a:lnTo>
                  <a:lnTo>
                    <a:pt x="9932" y="9932"/>
                  </a:lnTo>
                  <a:lnTo>
                    <a:pt x="148976" y="9932"/>
                  </a:lnTo>
                  <a:lnTo>
                    <a:pt x="117195" y="1465261"/>
                  </a:lnTo>
                  <a:close/>
                </a:path>
              </a:pathLst>
            </a:custGeom>
            <a:solidFill>
              <a:srgbClr val="6d251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81" name="任意多边形: 形状 459"/>
            <p:cNvSpPr/>
            <p:nvPr/>
          </p:nvSpPr>
          <p:spPr>
            <a:xfrm>
              <a:off x="5499720" y="4911120"/>
              <a:ext cx="158760" cy="1469880"/>
            </a:xfrm>
            <a:custGeom>
              <a:avLst/>
              <a:gdLst>
                <a:gd name="textAreaLeft" fmla="*/ 0 w 158760"/>
                <a:gd name="textAreaRight" fmla="*/ 159120 w 158760"/>
                <a:gd name="textAreaTop" fmla="*/ 0 h 1469880"/>
                <a:gd name="textAreaBottom" fmla="*/ 1470240 h 1469880"/>
              </a:gdLst>
              <a:ahLst/>
              <a:rect l="textAreaLeft" t="textAreaTop" r="textAreaRight" b="textAreaBottom"/>
              <a:pathLst>
                <a:path w="158907" h="1469896">
                  <a:moveTo>
                    <a:pt x="115870" y="1465261"/>
                  </a:moveTo>
                  <a:lnTo>
                    <a:pt x="41713" y="1465261"/>
                  </a:lnTo>
                  <a:lnTo>
                    <a:pt x="9932" y="9932"/>
                  </a:lnTo>
                  <a:lnTo>
                    <a:pt x="148976" y="9932"/>
                  </a:lnTo>
                  <a:lnTo>
                    <a:pt x="115870" y="1465261"/>
                  </a:lnTo>
                  <a:close/>
                </a:path>
              </a:pathLst>
            </a:custGeom>
            <a:solidFill>
              <a:srgbClr val="773c2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82" name="任意多边形: 形状 460"/>
            <p:cNvSpPr/>
            <p:nvPr/>
          </p:nvSpPr>
          <p:spPr>
            <a:xfrm>
              <a:off x="5518440" y="4912200"/>
              <a:ext cx="52920" cy="1456920"/>
            </a:xfrm>
            <a:custGeom>
              <a:avLst/>
              <a:gdLst>
                <a:gd name="textAreaLeft" fmla="*/ 0 w 52920"/>
                <a:gd name="textAreaRight" fmla="*/ 53280 w 52920"/>
                <a:gd name="textAreaTop" fmla="*/ 0 h 1456920"/>
                <a:gd name="textAreaBottom" fmla="*/ 1457280 h 1456920"/>
              </a:gdLst>
              <a:ahLst/>
              <a:rect l="textAreaLeft" t="textAreaTop" r="textAreaRight" b="textAreaBottom"/>
              <a:pathLst>
                <a:path w="52969" h="1456653">
                  <a:moveTo>
                    <a:pt x="48334" y="1458641"/>
                  </a:moveTo>
                  <a:lnTo>
                    <a:pt x="24498" y="1458641"/>
                  </a:lnTo>
                  <a:lnTo>
                    <a:pt x="9932" y="9932"/>
                  </a:lnTo>
                  <a:lnTo>
                    <a:pt x="52307" y="9932"/>
                  </a:lnTo>
                  <a:lnTo>
                    <a:pt x="48334" y="1458641"/>
                  </a:lnTo>
                  <a:close/>
                </a:path>
              </a:pathLst>
            </a:custGeom>
            <a:solidFill>
              <a:srgbClr val="89633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83" name="任意多边形: 形状 461"/>
            <p:cNvSpPr/>
            <p:nvPr/>
          </p:nvSpPr>
          <p:spPr>
            <a:xfrm>
              <a:off x="1031400" y="4834080"/>
              <a:ext cx="5151600" cy="105840"/>
            </a:xfrm>
            <a:custGeom>
              <a:avLst/>
              <a:gdLst>
                <a:gd name="textAreaLeft" fmla="*/ 0 w 5151600"/>
                <a:gd name="textAreaRight" fmla="*/ 5151960 w 5151600"/>
                <a:gd name="textAreaTop" fmla="*/ 0 h 105840"/>
                <a:gd name="textAreaBottom" fmla="*/ 106200 h 105840"/>
              </a:gdLst>
              <a:ahLst/>
              <a:rect l="textAreaLeft" t="textAreaTop" r="textAreaRight" b="textAreaBottom"/>
              <a:pathLst>
                <a:path w="5151257" h="105938">
                  <a:moveTo>
                    <a:pt x="9932" y="9932"/>
                  </a:moveTo>
                  <a:lnTo>
                    <a:pt x="5151920" y="9932"/>
                  </a:lnTo>
                  <a:lnTo>
                    <a:pt x="5151920" y="102628"/>
                  </a:lnTo>
                  <a:lnTo>
                    <a:pt x="9932" y="102628"/>
                  </a:lnTo>
                  <a:lnTo>
                    <a:pt x="9932" y="9932"/>
                  </a:lnTo>
                  <a:close/>
                </a:path>
              </a:pathLst>
            </a:custGeom>
            <a:solidFill>
              <a:srgbClr val="6d251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84" name="任意多边形: 形状 462"/>
            <p:cNvSpPr/>
            <p:nvPr/>
          </p:nvSpPr>
          <p:spPr>
            <a:xfrm>
              <a:off x="1510920" y="4911120"/>
              <a:ext cx="158760" cy="1469880"/>
            </a:xfrm>
            <a:custGeom>
              <a:avLst/>
              <a:gdLst>
                <a:gd name="textAreaLeft" fmla="*/ 0 w 158760"/>
                <a:gd name="textAreaRight" fmla="*/ 159120 w 158760"/>
                <a:gd name="textAreaTop" fmla="*/ 0 h 1469880"/>
                <a:gd name="textAreaBottom" fmla="*/ 1470240 h 1469880"/>
              </a:gdLst>
              <a:ahLst/>
              <a:rect l="textAreaLeft" t="textAreaTop" r="textAreaRight" b="textAreaBottom"/>
              <a:pathLst>
                <a:path w="158907" h="1469896">
                  <a:moveTo>
                    <a:pt x="117194" y="1465261"/>
                  </a:moveTo>
                  <a:lnTo>
                    <a:pt x="43038" y="1465261"/>
                  </a:lnTo>
                  <a:lnTo>
                    <a:pt x="9932" y="9932"/>
                  </a:lnTo>
                  <a:lnTo>
                    <a:pt x="148976" y="9932"/>
                  </a:lnTo>
                  <a:lnTo>
                    <a:pt x="117194" y="1465261"/>
                  </a:lnTo>
                  <a:close/>
                </a:path>
              </a:pathLst>
            </a:custGeom>
            <a:solidFill>
              <a:srgbClr val="6d251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85" name="任意多边形: 形状 463"/>
            <p:cNvSpPr/>
            <p:nvPr/>
          </p:nvSpPr>
          <p:spPr>
            <a:xfrm>
              <a:off x="1490760" y="4911120"/>
              <a:ext cx="158760" cy="1469880"/>
            </a:xfrm>
            <a:custGeom>
              <a:avLst/>
              <a:gdLst>
                <a:gd name="textAreaLeft" fmla="*/ 0 w 158760"/>
                <a:gd name="textAreaRight" fmla="*/ 159120 w 158760"/>
                <a:gd name="textAreaTop" fmla="*/ 0 h 1469880"/>
                <a:gd name="textAreaBottom" fmla="*/ 1470240 h 1469880"/>
              </a:gdLst>
              <a:ahLst/>
              <a:rect l="textAreaLeft" t="textAreaTop" r="textAreaRight" b="textAreaBottom"/>
              <a:pathLst>
                <a:path w="158907" h="1469896">
                  <a:moveTo>
                    <a:pt x="115870" y="1465261"/>
                  </a:moveTo>
                  <a:lnTo>
                    <a:pt x="41713" y="1465261"/>
                  </a:lnTo>
                  <a:lnTo>
                    <a:pt x="9932" y="9932"/>
                  </a:lnTo>
                  <a:lnTo>
                    <a:pt x="148976" y="9932"/>
                  </a:lnTo>
                  <a:lnTo>
                    <a:pt x="115870" y="1465261"/>
                  </a:lnTo>
                  <a:close/>
                </a:path>
              </a:pathLst>
            </a:custGeom>
            <a:solidFill>
              <a:srgbClr val="773c2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86" name="任意多边形: 形状 464"/>
            <p:cNvSpPr/>
            <p:nvPr/>
          </p:nvSpPr>
          <p:spPr>
            <a:xfrm>
              <a:off x="1509480" y="4912200"/>
              <a:ext cx="52920" cy="1456920"/>
            </a:xfrm>
            <a:custGeom>
              <a:avLst/>
              <a:gdLst>
                <a:gd name="textAreaLeft" fmla="*/ 0 w 52920"/>
                <a:gd name="textAreaRight" fmla="*/ 53280 w 52920"/>
                <a:gd name="textAreaTop" fmla="*/ 0 h 1456920"/>
                <a:gd name="textAreaBottom" fmla="*/ 1457280 h 1456920"/>
              </a:gdLst>
              <a:ahLst/>
              <a:rect l="textAreaLeft" t="textAreaTop" r="textAreaRight" b="textAreaBottom"/>
              <a:pathLst>
                <a:path w="52969" h="1456653">
                  <a:moveTo>
                    <a:pt x="48334" y="1458641"/>
                  </a:moveTo>
                  <a:lnTo>
                    <a:pt x="24498" y="1458641"/>
                  </a:lnTo>
                  <a:lnTo>
                    <a:pt x="9932" y="9932"/>
                  </a:lnTo>
                  <a:lnTo>
                    <a:pt x="52307" y="9932"/>
                  </a:lnTo>
                  <a:lnTo>
                    <a:pt x="48334" y="1458641"/>
                  </a:lnTo>
                  <a:close/>
                </a:path>
              </a:pathLst>
            </a:custGeom>
            <a:solidFill>
              <a:srgbClr val="89633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87" name="任意多边形: 形状 465"/>
            <p:cNvSpPr/>
            <p:nvPr/>
          </p:nvSpPr>
          <p:spPr>
            <a:xfrm>
              <a:off x="4727520" y="3960000"/>
              <a:ext cx="92520" cy="39600"/>
            </a:xfrm>
            <a:custGeom>
              <a:avLst/>
              <a:gdLst>
                <a:gd name="textAreaLeft" fmla="*/ 0 w 92520"/>
                <a:gd name="textAreaRight" fmla="*/ 92880 w 92520"/>
                <a:gd name="textAreaTop" fmla="*/ 0 h 39600"/>
                <a:gd name="textAreaBottom" fmla="*/ 39960 h 39600"/>
              </a:gdLst>
              <a:ahLst/>
              <a:rect l="textAreaLeft" t="textAreaTop" r="textAreaRight" b="textAreaBottom"/>
              <a:pathLst>
                <a:path w="92696" h="39726">
                  <a:moveTo>
                    <a:pt x="74819" y="9932"/>
                  </a:moveTo>
                  <a:cubicBezTo>
                    <a:pt x="74819" y="9932"/>
                    <a:pt x="23174" y="13904"/>
                    <a:pt x="9932" y="32444"/>
                  </a:cubicBezTo>
                  <a:lnTo>
                    <a:pt x="86737" y="32444"/>
                  </a:lnTo>
                  <a:lnTo>
                    <a:pt x="74819" y="9932"/>
                  </a:lnTo>
                  <a:close/>
                </a:path>
              </a:pathLst>
            </a:custGeom>
            <a:solidFill>
              <a:srgbClr val="f4c78c"/>
            </a:solidFill>
            <a:ln w="0">
              <a:noFill/>
            </a:ln>
          </p:spPr>
          <p:style>
            <a:lnRef idx="0"/>
            <a:fillRef idx="0"/>
            <a:effectRef idx="0"/>
            <a:fontRef idx="minor"/>
          </p:style>
          <p:txBody>
            <a:bodyPr lIns="90000" rIns="90000" tIns="-6840" bIns="-6840" anchor="ctr">
              <a:noAutofit/>
            </a:bodyPr>
            <a:p>
              <a:endParaRPr b="0" lang="en-US" sz="1800" spc="-1" strike="noStrike">
                <a:solidFill>
                  <a:srgbClr val="262626"/>
                </a:solidFill>
                <a:latin typeface="Arial"/>
              </a:endParaRPr>
            </a:p>
          </p:txBody>
        </p:sp>
        <p:sp>
          <p:nvSpPr>
            <p:cNvPr id="888" name="任意多边形: 形状 466"/>
            <p:cNvSpPr/>
            <p:nvPr/>
          </p:nvSpPr>
          <p:spPr>
            <a:xfrm>
              <a:off x="3167640" y="4202280"/>
              <a:ext cx="834120" cy="609120"/>
            </a:xfrm>
            <a:custGeom>
              <a:avLst/>
              <a:gdLst>
                <a:gd name="textAreaLeft" fmla="*/ 0 w 834120"/>
                <a:gd name="textAreaRight" fmla="*/ 834480 w 834120"/>
                <a:gd name="textAreaTop" fmla="*/ 0 h 609120"/>
                <a:gd name="textAreaBottom" fmla="*/ 609480 h 609120"/>
              </a:gdLst>
              <a:ahLst/>
              <a:rect l="textAreaLeft" t="textAreaTop" r="textAreaRight" b="textAreaBottom"/>
              <a:pathLst>
                <a:path w="834265" h="609146">
                  <a:moveTo>
                    <a:pt x="830955" y="579351"/>
                  </a:moveTo>
                  <a:cubicBezTo>
                    <a:pt x="830955" y="593918"/>
                    <a:pt x="819037" y="605836"/>
                    <a:pt x="804470" y="605836"/>
                  </a:cubicBezTo>
                  <a:lnTo>
                    <a:pt x="36416" y="605836"/>
                  </a:lnTo>
                  <a:cubicBezTo>
                    <a:pt x="21850" y="605836"/>
                    <a:pt x="9932" y="593918"/>
                    <a:pt x="9932" y="579351"/>
                  </a:cubicBezTo>
                  <a:lnTo>
                    <a:pt x="9932" y="36416"/>
                  </a:lnTo>
                  <a:cubicBezTo>
                    <a:pt x="9932" y="21850"/>
                    <a:pt x="21850" y="9932"/>
                    <a:pt x="36416" y="9932"/>
                  </a:cubicBezTo>
                  <a:lnTo>
                    <a:pt x="804470" y="9932"/>
                  </a:lnTo>
                  <a:cubicBezTo>
                    <a:pt x="819037" y="9932"/>
                    <a:pt x="830955" y="21850"/>
                    <a:pt x="830955" y="36416"/>
                  </a:cubicBezTo>
                  <a:lnTo>
                    <a:pt x="830955" y="579351"/>
                  </a:lnTo>
                  <a:close/>
                </a:path>
              </a:pathLst>
            </a:custGeom>
            <a:solidFill>
              <a:srgbClr val="f1f2f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889" name="任意多边形: 形状 467"/>
            <p:cNvSpPr/>
            <p:nvPr/>
          </p:nvSpPr>
          <p:spPr>
            <a:xfrm>
              <a:off x="3511800" y="4451400"/>
              <a:ext cx="132120" cy="132120"/>
            </a:xfrm>
            <a:custGeom>
              <a:avLst/>
              <a:gdLst>
                <a:gd name="textAreaLeft" fmla="*/ 0 w 132120"/>
                <a:gd name="textAreaRight" fmla="*/ 132480 w 132120"/>
                <a:gd name="textAreaTop" fmla="*/ 0 h 132120"/>
                <a:gd name="textAreaBottom" fmla="*/ 132480 h 132120"/>
              </a:gdLst>
              <a:ahLst/>
              <a:rect l="textAreaLeft" t="textAreaTop" r="textAreaRight" b="textAreaBottom"/>
              <a:pathLst>
                <a:path w="132423" h="132423">
                  <a:moveTo>
                    <a:pt x="129113" y="69522"/>
                  </a:moveTo>
                  <a:cubicBezTo>
                    <a:pt x="129113" y="102433"/>
                    <a:pt x="102433" y="129113"/>
                    <a:pt x="69522" y="129113"/>
                  </a:cubicBezTo>
                  <a:cubicBezTo>
                    <a:pt x="36611" y="129113"/>
                    <a:pt x="9932" y="102433"/>
                    <a:pt x="9932" y="69522"/>
                  </a:cubicBezTo>
                  <a:cubicBezTo>
                    <a:pt x="9932" y="36611"/>
                    <a:pt x="36611" y="9932"/>
                    <a:pt x="69522" y="9932"/>
                  </a:cubicBezTo>
                  <a:cubicBezTo>
                    <a:pt x="102433" y="9932"/>
                    <a:pt x="129113" y="36611"/>
                    <a:pt x="129113" y="69522"/>
                  </a:cubicBezTo>
                  <a:close/>
                </a:path>
              </a:pathLst>
            </a:custGeom>
            <a:solidFill>
              <a:srgbClr val="e6e7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grpSp>
        <p:nvGrpSpPr>
          <p:cNvPr id="890" name="组合 468"/>
          <p:cNvGrpSpPr/>
          <p:nvPr/>
        </p:nvGrpSpPr>
        <p:grpSpPr>
          <a:xfrm>
            <a:off x="6572160" y="2290680"/>
            <a:ext cx="5343480" cy="2952720"/>
            <a:chOff x="6572160" y="2290680"/>
            <a:chExt cx="5343480" cy="2952720"/>
          </a:xfrm>
        </p:grpSpPr>
        <p:grpSp>
          <p:nvGrpSpPr>
            <p:cNvPr id="891" name="组合 469"/>
            <p:cNvGrpSpPr/>
            <p:nvPr/>
          </p:nvGrpSpPr>
          <p:grpSpPr>
            <a:xfrm>
              <a:off x="6572160" y="2290680"/>
              <a:ext cx="5343480" cy="2952720"/>
              <a:chOff x="6572160" y="2290680"/>
              <a:chExt cx="5343480" cy="2952720"/>
            </a:xfrm>
          </p:grpSpPr>
          <p:sp>
            <p:nvSpPr>
              <p:cNvPr id="892" name="矩形 471"/>
              <p:cNvSpPr/>
              <p:nvPr/>
            </p:nvSpPr>
            <p:spPr>
              <a:xfrm>
                <a:off x="8723160" y="4905360"/>
                <a:ext cx="319248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893" name="矩形 472"/>
              <p:cNvSpPr/>
              <p:nvPr/>
            </p:nvSpPr>
            <p:spPr>
              <a:xfrm>
                <a:off x="6572160" y="2290680"/>
                <a:ext cx="533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造字工房尚雅（非商用）常规体"/>
                    <a:ea typeface="造字工房尚雅（非商用）常规体"/>
                  </a:rPr>
                  <a:t>一、个人所得税专项</a:t>
                </a:r>
                <a:endParaRPr b="0" lang="en-US" sz="36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造字工房尚雅（非商用）常规体"/>
                    <a:ea typeface="造字工房尚雅（非商用）常规体"/>
                  </a:rPr>
                  <a:t>     </a:t>
                </a:r>
                <a:r>
                  <a:rPr b="1" lang="zh-CN" sz="3600" spc="-1" strike="noStrike">
                    <a:solidFill>
                      <a:srgbClr val="262626"/>
                    </a:solidFill>
                    <a:latin typeface="造字工房尚雅（非商用）常规体"/>
                    <a:ea typeface="造字工房尚雅（非商用）常规体"/>
                  </a:rPr>
                  <a:t>附加扣除原则</a:t>
                </a:r>
                <a:endParaRPr b="0" lang="en-US" sz="3600" spc="-1" strike="noStrike">
                  <a:solidFill>
                    <a:srgbClr val="262626"/>
                  </a:solidFill>
                  <a:latin typeface="Arial"/>
                </a:endParaRPr>
              </a:p>
            </p:txBody>
          </p:sp>
        </p:grpSp>
        <p:sp>
          <p:nvSpPr>
            <p:cNvPr id="894" name="矩形 470"/>
            <p:cNvSpPr/>
            <p:nvPr/>
          </p:nvSpPr>
          <p:spPr>
            <a:xfrm>
              <a:off x="10332720" y="4273560"/>
              <a:ext cx="18468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grpSp>
    </p:spTree>
  </p:cSld>
  <p:transition spd="slow">
    <p:random/>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10">
                                  <p:stCondLst>
                                    <p:cond delay="0"/>
                                  </p:stCondLst>
                                  <p:childTnLst>
                                    <p:set>
                                      <p:cBhvr>
                                        <p:cTn id="66" dur="1" fill="hold">
                                          <p:stCondLst>
                                            <p:cond delay="0"/>
                                          </p:stCondLst>
                                        </p:cTn>
                                        <p:tgtEl>
                                          <p:spTgt spid="890"/>
                                        </p:tgtEl>
                                        <p:attrNameLst>
                                          <p:attrName>style.visibility</p:attrName>
                                        </p:attrNameLst>
                                      </p:cBhvr>
                                      <p:to>
                                        <p:strVal val="visible"/>
                                      </p:to>
                                    </p:set>
                                    <p:animEffect filter="fade" transition="in">
                                      <p:cBhvr additive="repl">
                                        <p:cTn id="67" dur="500"/>
                                        <p:tgtEl>
                                          <p:spTgt spid="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4" name="图片 2" descr=""/>
          <p:cNvPicPr/>
          <p:nvPr/>
        </p:nvPicPr>
        <p:blipFill>
          <a:blip r:embed="rId1"/>
          <a:stretch/>
        </p:blipFill>
        <p:spPr>
          <a:xfrm>
            <a:off x="4035600" y="1382760"/>
            <a:ext cx="3643200" cy="5283000"/>
          </a:xfrm>
          <a:prstGeom prst="rect">
            <a:avLst/>
          </a:prstGeom>
          <a:ln w="0">
            <a:noFill/>
          </a:ln>
        </p:spPr>
      </p:pic>
      <p:sp>
        <p:nvSpPr>
          <p:cNvPr id="2265" name="Freeform 5"/>
          <p:cNvSpPr/>
          <p:nvPr/>
        </p:nvSpPr>
        <p:spPr>
          <a:xfrm>
            <a:off x="1176480" y="2297160"/>
            <a:ext cx="438120" cy="406440"/>
          </a:xfrm>
          <a:custGeom>
            <a:avLst/>
            <a:gdLst/>
            <a:ahLst/>
            <a:rect l="l" t="t" r="r" b="b"/>
            <a:pathLst>
              <a:path w="2930" h="2715">
                <a:moveTo>
                  <a:pt x="2903" y="1416"/>
                </a:moveTo>
                <a:cubicBezTo>
                  <a:pt x="1514" y="27"/>
                  <a:pt x="1514" y="27"/>
                  <a:pt x="1514" y="27"/>
                </a:cubicBezTo>
                <a:cubicBezTo>
                  <a:pt x="1487" y="0"/>
                  <a:pt x="1443" y="0"/>
                  <a:pt x="1416" y="27"/>
                </a:cubicBezTo>
                <a:cubicBezTo>
                  <a:pt x="375" y="1068"/>
                  <a:pt x="375" y="1068"/>
                  <a:pt x="375" y="1068"/>
                </a:cubicBezTo>
                <a:cubicBezTo>
                  <a:pt x="375" y="1069"/>
                  <a:pt x="374" y="1069"/>
                  <a:pt x="374" y="1070"/>
                </a:cubicBezTo>
                <a:cubicBezTo>
                  <a:pt x="27" y="1416"/>
                  <a:pt x="27" y="1416"/>
                  <a:pt x="27" y="1416"/>
                </a:cubicBezTo>
                <a:cubicBezTo>
                  <a:pt x="0" y="1443"/>
                  <a:pt x="0" y="1487"/>
                  <a:pt x="27" y="1514"/>
                </a:cubicBezTo>
                <a:cubicBezTo>
                  <a:pt x="54" y="1542"/>
                  <a:pt x="98" y="1542"/>
                  <a:pt x="126" y="1514"/>
                </a:cubicBezTo>
                <a:cubicBezTo>
                  <a:pt x="354" y="1286"/>
                  <a:pt x="354" y="1286"/>
                  <a:pt x="354" y="1286"/>
                </a:cubicBezTo>
                <a:cubicBezTo>
                  <a:pt x="354" y="2438"/>
                  <a:pt x="354" y="2438"/>
                  <a:pt x="354" y="2438"/>
                </a:cubicBezTo>
                <a:cubicBezTo>
                  <a:pt x="354" y="2591"/>
                  <a:pt x="479" y="2715"/>
                  <a:pt x="632" y="2715"/>
                </a:cubicBezTo>
                <a:cubicBezTo>
                  <a:pt x="1118" y="2715"/>
                  <a:pt x="1118" y="2715"/>
                  <a:pt x="1118" y="2715"/>
                </a:cubicBezTo>
                <a:cubicBezTo>
                  <a:pt x="1156" y="2715"/>
                  <a:pt x="1187" y="2684"/>
                  <a:pt x="1187" y="2646"/>
                </a:cubicBezTo>
                <a:cubicBezTo>
                  <a:pt x="1187" y="2021"/>
                  <a:pt x="1187" y="2021"/>
                  <a:pt x="1187" y="2021"/>
                </a:cubicBezTo>
                <a:cubicBezTo>
                  <a:pt x="1812" y="2021"/>
                  <a:pt x="1812" y="2021"/>
                  <a:pt x="1812" y="2021"/>
                </a:cubicBezTo>
                <a:cubicBezTo>
                  <a:pt x="1851" y="2021"/>
                  <a:pt x="1882" y="1990"/>
                  <a:pt x="1882" y="1951"/>
                </a:cubicBezTo>
                <a:cubicBezTo>
                  <a:pt x="1882" y="1913"/>
                  <a:pt x="1851" y="1882"/>
                  <a:pt x="1812" y="1882"/>
                </a:cubicBezTo>
                <a:cubicBezTo>
                  <a:pt x="1118" y="1882"/>
                  <a:pt x="1118" y="1882"/>
                  <a:pt x="1118" y="1882"/>
                </a:cubicBezTo>
                <a:cubicBezTo>
                  <a:pt x="1080" y="1882"/>
                  <a:pt x="1049" y="1913"/>
                  <a:pt x="1049" y="1951"/>
                </a:cubicBezTo>
                <a:cubicBezTo>
                  <a:pt x="1049" y="2576"/>
                  <a:pt x="1049" y="2576"/>
                  <a:pt x="1049" y="2576"/>
                </a:cubicBezTo>
                <a:cubicBezTo>
                  <a:pt x="632" y="2576"/>
                  <a:pt x="632" y="2576"/>
                  <a:pt x="632" y="2576"/>
                </a:cubicBezTo>
                <a:cubicBezTo>
                  <a:pt x="555" y="2576"/>
                  <a:pt x="493" y="2514"/>
                  <a:pt x="493" y="2438"/>
                </a:cubicBezTo>
                <a:cubicBezTo>
                  <a:pt x="493" y="1147"/>
                  <a:pt x="493" y="1147"/>
                  <a:pt x="493" y="1147"/>
                </a:cubicBezTo>
                <a:cubicBezTo>
                  <a:pt x="1465" y="175"/>
                  <a:pt x="1465" y="175"/>
                  <a:pt x="1465" y="175"/>
                </a:cubicBezTo>
                <a:cubicBezTo>
                  <a:pt x="2805" y="1514"/>
                  <a:pt x="2805" y="1514"/>
                  <a:pt x="2805" y="1514"/>
                </a:cubicBezTo>
                <a:cubicBezTo>
                  <a:pt x="2819" y="1528"/>
                  <a:pt x="2836" y="1535"/>
                  <a:pt x="2854" y="1535"/>
                </a:cubicBezTo>
                <a:cubicBezTo>
                  <a:pt x="2872" y="1535"/>
                  <a:pt x="2890" y="1528"/>
                  <a:pt x="2903" y="1514"/>
                </a:cubicBezTo>
                <a:cubicBezTo>
                  <a:pt x="2930" y="1487"/>
                  <a:pt x="2930" y="1443"/>
                  <a:pt x="2903" y="1416"/>
                </a:cubicBezTo>
                <a:cubicBezTo>
                  <a:pt x="2903" y="1416"/>
                  <a:pt x="2903" y="1416"/>
                  <a:pt x="2903" y="1416"/>
                </a:cubicBezTo>
                <a:close/>
                <a:moveTo>
                  <a:pt x="2507" y="1604"/>
                </a:moveTo>
                <a:cubicBezTo>
                  <a:pt x="2468" y="1604"/>
                  <a:pt x="2437" y="1635"/>
                  <a:pt x="2437" y="1674"/>
                </a:cubicBezTo>
                <a:cubicBezTo>
                  <a:pt x="2437" y="2437"/>
                  <a:pt x="2437" y="2437"/>
                  <a:pt x="2437" y="2437"/>
                </a:cubicBezTo>
                <a:cubicBezTo>
                  <a:pt x="2437" y="2514"/>
                  <a:pt x="2375" y="2576"/>
                  <a:pt x="2299" y="2576"/>
                </a:cubicBezTo>
                <a:cubicBezTo>
                  <a:pt x="1812" y="2576"/>
                  <a:pt x="1812" y="2576"/>
                  <a:pt x="1812" y="2576"/>
                </a:cubicBezTo>
                <a:cubicBezTo>
                  <a:pt x="1774" y="2576"/>
                  <a:pt x="1743" y="2607"/>
                  <a:pt x="1743" y="2646"/>
                </a:cubicBezTo>
                <a:cubicBezTo>
                  <a:pt x="1743" y="2684"/>
                  <a:pt x="1774" y="2715"/>
                  <a:pt x="1812" y="2715"/>
                </a:cubicBezTo>
                <a:cubicBezTo>
                  <a:pt x="2299" y="2715"/>
                  <a:pt x="2299" y="2715"/>
                  <a:pt x="2299" y="2715"/>
                </a:cubicBezTo>
                <a:cubicBezTo>
                  <a:pt x="2452" y="2715"/>
                  <a:pt x="2576" y="2591"/>
                  <a:pt x="2576" y="2437"/>
                </a:cubicBezTo>
                <a:cubicBezTo>
                  <a:pt x="2576" y="1674"/>
                  <a:pt x="2576" y="1674"/>
                  <a:pt x="2576" y="1674"/>
                </a:cubicBezTo>
                <a:cubicBezTo>
                  <a:pt x="2576" y="1635"/>
                  <a:pt x="2545" y="1604"/>
                  <a:pt x="2507" y="1604"/>
                </a:cubicBezTo>
                <a:cubicBezTo>
                  <a:pt x="2507" y="1604"/>
                  <a:pt x="2507" y="1604"/>
                  <a:pt x="2507" y="1604"/>
                </a:cubicBezTo>
                <a:close/>
              </a:path>
            </a:pathLst>
          </a:cu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66" name="Freeform 9"/>
          <p:cNvSpPr/>
          <p:nvPr/>
        </p:nvSpPr>
        <p:spPr>
          <a:xfrm>
            <a:off x="1206360" y="4467240"/>
            <a:ext cx="406440" cy="406440"/>
          </a:xfrm>
          <a:custGeom>
            <a:avLst/>
            <a:gdLst/>
            <a:ahLst/>
            <a:rect l="l" t="t" r="r" b="b"/>
            <a:pathLst>
              <a:path w="3004" h="3004">
                <a:moveTo>
                  <a:pt x="1502" y="0"/>
                </a:moveTo>
                <a:cubicBezTo>
                  <a:pt x="669" y="0"/>
                  <a:pt x="0" y="669"/>
                  <a:pt x="0" y="1502"/>
                </a:cubicBezTo>
                <a:cubicBezTo>
                  <a:pt x="0" y="2335"/>
                  <a:pt x="669" y="3004"/>
                  <a:pt x="1502" y="3004"/>
                </a:cubicBezTo>
                <a:cubicBezTo>
                  <a:pt x="2335" y="3004"/>
                  <a:pt x="3004" y="2335"/>
                  <a:pt x="3004" y="1502"/>
                </a:cubicBezTo>
                <a:cubicBezTo>
                  <a:pt x="3004" y="669"/>
                  <a:pt x="2335" y="0"/>
                  <a:pt x="1502" y="0"/>
                </a:cubicBezTo>
                <a:close/>
                <a:moveTo>
                  <a:pt x="2253" y="362"/>
                </a:moveTo>
                <a:cubicBezTo>
                  <a:pt x="2253" y="375"/>
                  <a:pt x="2253" y="396"/>
                  <a:pt x="2253" y="410"/>
                </a:cubicBezTo>
                <a:cubicBezTo>
                  <a:pt x="2253" y="553"/>
                  <a:pt x="2239" y="689"/>
                  <a:pt x="2212" y="826"/>
                </a:cubicBezTo>
                <a:cubicBezTo>
                  <a:pt x="2116" y="847"/>
                  <a:pt x="2048" y="928"/>
                  <a:pt x="2048" y="1024"/>
                </a:cubicBezTo>
                <a:cubicBezTo>
                  <a:pt x="2048" y="1079"/>
                  <a:pt x="2068" y="1133"/>
                  <a:pt x="2109" y="1167"/>
                </a:cubicBezTo>
                <a:cubicBezTo>
                  <a:pt x="2062" y="1277"/>
                  <a:pt x="2014" y="1386"/>
                  <a:pt x="1946" y="1488"/>
                </a:cubicBezTo>
                <a:cubicBezTo>
                  <a:pt x="1693" y="1201"/>
                  <a:pt x="1516" y="840"/>
                  <a:pt x="1454" y="437"/>
                </a:cubicBezTo>
                <a:cubicBezTo>
                  <a:pt x="1611" y="341"/>
                  <a:pt x="1782" y="266"/>
                  <a:pt x="1959" y="218"/>
                </a:cubicBezTo>
                <a:cubicBezTo>
                  <a:pt x="2062" y="253"/>
                  <a:pt x="2164" y="300"/>
                  <a:pt x="2253" y="362"/>
                </a:cubicBezTo>
                <a:close/>
                <a:moveTo>
                  <a:pt x="1966" y="1707"/>
                </a:moveTo>
                <a:cubicBezTo>
                  <a:pt x="2089" y="1823"/>
                  <a:pt x="2219" y="1925"/>
                  <a:pt x="2362" y="2007"/>
                </a:cubicBezTo>
                <a:cubicBezTo>
                  <a:pt x="2219" y="2034"/>
                  <a:pt x="2068" y="2048"/>
                  <a:pt x="1911" y="2048"/>
                </a:cubicBezTo>
                <a:cubicBezTo>
                  <a:pt x="1843" y="2048"/>
                  <a:pt x="1775" y="2041"/>
                  <a:pt x="1707" y="2041"/>
                </a:cubicBezTo>
                <a:cubicBezTo>
                  <a:pt x="1707" y="2028"/>
                  <a:pt x="1707" y="2014"/>
                  <a:pt x="1700" y="2000"/>
                </a:cubicBezTo>
                <a:cubicBezTo>
                  <a:pt x="1795" y="1911"/>
                  <a:pt x="1884" y="1809"/>
                  <a:pt x="1966" y="1707"/>
                </a:cubicBezTo>
                <a:close/>
                <a:moveTo>
                  <a:pt x="1502" y="137"/>
                </a:moveTo>
                <a:cubicBezTo>
                  <a:pt x="1577" y="137"/>
                  <a:pt x="1652" y="143"/>
                  <a:pt x="1727" y="157"/>
                </a:cubicBezTo>
                <a:cubicBezTo>
                  <a:pt x="1632" y="198"/>
                  <a:pt x="1536" y="239"/>
                  <a:pt x="1440" y="287"/>
                </a:cubicBezTo>
                <a:cubicBezTo>
                  <a:pt x="1434" y="239"/>
                  <a:pt x="1434" y="191"/>
                  <a:pt x="1434" y="143"/>
                </a:cubicBezTo>
                <a:cubicBezTo>
                  <a:pt x="1454" y="137"/>
                  <a:pt x="1481" y="137"/>
                  <a:pt x="1502" y="137"/>
                </a:cubicBezTo>
                <a:close/>
                <a:moveTo>
                  <a:pt x="1871" y="1604"/>
                </a:moveTo>
                <a:cubicBezTo>
                  <a:pt x="1795" y="1707"/>
                  <a:pt x="1713" y="1795"/>
                  <a:pt x="1625" y="1884"/>
                </a:cubicBezTo>
                <a:cubicBezTo>
                  <a:pt x="1591" y="1857"/>
                  <a:pt x="1550" y="1843"/>
                  <a:pt x="1502" y="1843"/>
                </a:cubicBezTo>
                <a:cubicBezTo>
                  <a:pt x="1413" y="1843"/>
                  <a:pt x="1338" y="1898"/>
                  <a:pt x="1311" y="1980"/>
                </a:cubicBezTo>
                <a:cubicBezTo>
                  <a:pt x="1038" y="1911"/>
                  <a:pt x="778" y="1809"/>
                  <a:pt x="546" y="1666"/>
                </a:cubicBezTo>
                <a:cubicBezTo>
                  <a:pt x="608" y="1434"/>
                  <a:pt x="710" y="1215"/>
                  <a:pt x="840" y="1024"/>
                </a:cubicBezTo>
                <a:cubicBezTo>
                  <a:pt x="853" y="1024"/>
                  <a:pt x="867" y="1031"/>
                  <a:pt x="887" y="1031"/>
                </a:cubicBezTo>
                <a:cubicBezTo>
                  <a:pt x="1004" y="1031"/>
                  <a:pt x="1092" y="942"/>
                  <a:pt x="1092" y="826"/>
                </a:cubicBezTo>
                <a:cubicBezTo>
                  <a:pt x="1092" y="799"/>
                  <a:pt x="1085" y="771"/>
                  <a:pt x="1079" y="744"/>
                </a:cubicBezTo>
                <a:cubicBezTo>
                  <a:pt x="1161" y="662"/>
                  <a:pt x="1242" y="594"/>
                  <a:pt x="1331" y="526"/>
                </a:cubicBezTo>
                <a:cubicBezTo>
                  <a:pt x="1406" y="935"/>
                  <a:pt x="1597" y="1304"/>
                  <a:pt x="1871" y="1604"/>
                </a:cubicBezTo>
                <a:close/>
                <a:moveTo>
                  <a:pt x="341" y="2219"/>
                </a:moveTo>
                <a:cubicBezTo>
                  <a:pt x="218" y="2014"/>
                  <a:pt x="143" y="1782"/>
                  <a:pt x="137" y="1529"/>
                </a:cubicBezTo>
                <a:cubicBezTo>
                  <a:pt x="218" y="1597"/>
                  <a:pt x="300" y="1666"/>
                  <a:pt x="389" y="1720"/>
                </a:cubicBezTo>
                <a:cubicBezTo>
                  <a:pt x="362" y="1871"/>
                  <a:pt x="341" y="2028"/>
                  <a:pt x="341" y="2185"/>
                </a:cubicBezTo>
                <a:cubicBezTo>
                  <a:pt x="341" y="2198"/>
                  <a:pt x="341" y="2212"/>
                  <a:pt x="341" y="2219"/>
                </a:cubicBezTo>
                <a:close/>
                <a:moveTo>
                  <a:pt x="430" y="1584"/>
                </a:moveTo>
                <a:cubicBezTo>
                  <a:pt x="328" y="1516"/>
                  <a:pt x="239" y="1440"/>
                  <a:pt x="150" y="1359"/>
                </a:cubicBezTo>
                <a:cubicBezTo>
                  <a:pt x="218" y="744"/>
                  <a:pt x="696" y="253"/>
                  <a:pt x="1304" y="157"/>
                </a:cubicBezTo>
                <a:cubicBezTo>
                  <a:pt x="1304" y="232"/>
                  <a:pt x="1311" y="300"/>
                  <a:pt x="1318" y="375"/>
                </a:cubicBezTo>
                <a:cubicBezTo>
                  <a:pt x="1201" y="457"/>
                  <a:pt x="1092" y="546"/>
                  <a:pt x="990" y="642"/>
                </a:cubicBezTo>
                <a:cubicBezTo>
                  <a:pt x="956" y="621"/>
                  <a:pt x="922" y="614"/>
                  <a:pt x="887" y="614"/>
                </a:cubicBezTo>
                <a:cubicBezTo>
                  <a:pt x="771" y="614"/>
                  <a:pt x="683" y="703"/>
                  <a:pt x="683" y="819"/>
                </a:cubicBezTo>
                <a:cubicBezTo>
                  <a:pt x="683" y="867"/>
                  <a:pt x="703" y="908"/>
                  <a:pt x="730" y="949"/>
                </a:cubicBezTo>
                <a:cubicBezTo>
                  <a:pt x="594" y="1140"/>
                  <a:pt x="492" y="1352"/>
                  <a:pt x="430" y="1584"/>
                </a:cubicBezTo>
                <a:close/>
                <a:moveTo>
                  <a:pt x="492" y="2417"/>
                </a:moveTo>
                <a:cubicBezTo>
                  <a:pt x="485" y="2342"/>
                  <a:pt x="478" y="2266"/>
                  <a:pt x="478" y="2185"/>
                </a:cubicBezTo>
                <a:cubicBezTo>
                  <a:pt x="478" y="2055"/>
                  <a:pt x="492" y="1925"/>
                  <a:pt x="519" y="1802"/>
                </a:cubicBezTo>
                <a:cubicBezTo>
                  <a:pt x="765" y="1946"/>
                  <a:pt x="1031" y="2055"/>
                  <a:pt x="1311" y="2116"/>
                </a:cubicBezTo>
                <a:cubicBezTo>
                  <a:pt x="1311" y="2123"/>
                  <a:pt x="1311" y="2123"/>
                  <a:pt x="1318" y="2130"/>
                </a:cubicBezTo>
                <a:cubicBezTo>
                  <a:pt x="1079" y="2287"/>
                  <a:pt x="806" y="2389"/>
                  <a:pt x="512" y="2437"/>
                </a:cubicBezTo>
                <a:cubicBezTo>
                  <a:pt x="498" y="2430"/>
                  <a:pt x="498" y="2423"/>
                  <a:pt x="492" y="2417"/>
                </a:cubicBezTo>
                <a:close/>
                <a:moveTo>
                  <a:pt x="1502" y="2867"/>
                </a:moveTo>
                <a:cubicBezTo>
                  <a:pt x="1167" y="2867"/>
                  <a:pt x="867" y="2744"/>
                  <a:pt x="628" y="2546"/>
                </a:cubicBezTo>
                <a:cubicBezTo>
                  <a:pt x="915" y="2492"/>
                  <a:pt x="1174" y="2383"/>
                  <a:pt x="1406" y="2225"/>
                </a:cubicBezTo>
                <a:cubicBezTo>
                  <a:pt x="1434" y="2246"/>
                  <a:pt x="1468" y="2253"/>
                  <a:pt x="1502" y="2253"/>
                </a:cubicBezTo>
                <a:cubicBezTo>
                  <a:pt x="1570" y="2253"/>
                  <a:pt x="1625" y="2219"/>
                  <a:pt x="1666" y="2171"/>
                </a:cubicBezTo>
                <a:cubicBezTo>
                  <a:pt x="1748" y="2178"/>
                  <a:pt x="1830" y="2185"/>
                  <a:pt x="1911" y="2185"/>
                </a:cubicBezTo>
                <a:cubicBezTo>
                  <a:pt x="2130" y="2185"/>
                  <a:pt x="2342" y="2157"/>
                  <a:pt x="2546" y="2109"/>
                </a:cubicBezTo>
                <a:cubicBezTo>
                  <a:pt x="2594" y="2130"/>
                  <a:pt x="2642" y="2157"/>
                  <a:pt x="2690" y="2171"/>
                </a:cubicBezTo>
                <a:cubicBezTo>
                  <a:pt x="2458" y="2587"/>
                  <a:pt x="2014" y="2867"/>
                  <a:pt x="1502" y="2867"/>
                </a:cubicBezTo>
                <a:close/>
                <a:moveTo>
                  <a:pt x="2560" y="1966"/>
                </a:moveTo>
                <a:cubicBezTo>
                  <a:pt x="2369" y="1871"/>
                  <a:pt x="2191" y="1741"/>
                  <a:pt x="2041" y="1591"/>
                </a:cubicBezTo>
                <a:cubicBezTo>
                  <a:pt x="2116" y="1475"/>
                  <a:pt x="2178" y="1352"/>
                  <a:pt x="2232" y="1229"/>
                </a:cubicBezTo>
                <a:cubicBezTo>
                  <a:pt x="2239" y="1229"/>
                  <a:pt x="2246" y="1229"/>
                  <a:pt x="2253" y="1229"/>
                </a:cubicBezTo>
                <a:cubicBezTo>
                  <a:pt x="2369" y="1229"/>
                  <a:pt x="2458" y="1140"/>
                  <a:pt x="2458" y="1024"/>
                </a:cubicBezTo>
                <a:cubicBezTo>
                  <a:pt x="2458" y="942"/>
                  <a:pt x="2410" y="874"/>
                  <a:pt x="2342" y="840"/>
                </a:cubicBezTo>
                <a:cubicBezTo>
                  <a:pt x="2369" y="717"/>
                  <a:pt x="2383" y="594"/>
                  <a:pt x="2383" y="464"/>
                </a:cubicBezTo>
                <a:cubicBezTo>
                  <a:pt x="2676" y="717"/>
                  <a:pt x="2860" y="1085"/>
                  <a:pt x="2860" y="1502"/>
                </a:cubicBezTo>
                <a:cubicBezTo>
                  <a:pt x="2860" y="1638"/>
                  <a:pt x="2840" y="1761"/>
                  <a:pt x="2806" y="1884"/>
                </a:cubicBezTo>
                <a:cubicBezTo>
                  <a:pt x="2731" y="1918"/>
                  <a:pt x="2649" y="1946"/>
                  <a:pt x="2560" y="1966"/>
                </a:cubicBezTo>
                <a:close/>
              </a:path>
            </a:pathLst>
          </a:cu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2267" name="矩形 5"/>
          <p:cNvSpPr/>
          <p:nvPr/>
        </p:nvSpPr>
        <p:spPr>
          <a:xfrm>
            <a:off x="1666800" y="720720"/>
            <a:ext cx="272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最新精神</a:t>
            </a:r>
            <a:endParaRPr b="0" lang="en-US" sz="3600" spc="-1" strike="noStrike">
              <a:solidFill>
                <a:srgbClr val="262626"/>
              </a:solidFill>
              <a:latin typeface="Arial"/>
            </a:endParaRPr>
          </a:p>
        </p:txBody>
      </p:sp>
      <p:sp>
        <p:nvSpPr>
          <p:cNvPr id="2268" name="矩形 6"/>
          <p:cNvSpPr/>
          <p:nvPr/>
        </p:nvSpPr>
        <p:spPr>
          <a:xfrm>
            <a:off x="2121480" y="4565520"/>
            <a:ext cx="18054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造字工房尚雅（非商用）常规体"/>
                <a:ea typeface="造字工房尚雅（非商用）常规体"/>
              </a:rPr>
              <a:t>2019</a:t>
            </a:r>
            <a:r>
              <a:rPr b="0" lang="zh-CN" sz="1400" spc="-1" strike="noStrike">
                <a:solidFill>
                  <a:srgbClr val="262626"/>
                </a:solidFill>
                <a:latin typeface="造字工房尚雅（非商用）常规体"/>
                <a:ea typeface="造字工房尚雅（非商用）常规体"/>
              </a:rPr>
              <a:t>年起，所有个人所得税申</a:t>
            </a:r>
            <a:endParaRPr b="0" lang="en-US" sz="1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造字工房尚雅（非商用）常规体"/>
                <a:ea typeface="造字工房尚雅（非商用）常规体"/>
              </a:rPr>
              <a:t>报纳税人可以陆续下载网络版、</a:t>
            </a:r>
            <a:endParaRPr b="0" lang="en-US" sz="1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造字工房尚雅（非商用）常规体"/>
                <a:ea typeface="造字工房尚雅（非商用）常规体"/>
              </a:rPr>
              <a:t>苹果手机版</a:t>
            </a:r>
            <a:r>
              <a:rPr b="0" lang="en-US" sz="1400" spc="-1" strike="noStrike">
                <a:solidFill>
                  <a:srgbClr val="262626"/>
                </a:solidFill>
                <a:latin typeface="造字工房尚雅（非商用）常规体"/>
                <a:ea typeface="造字工房尚雅（非商用）常规体"/>
              </a:rPr>
              <a:t>APP</a:t>
            </a:r>
            <a:r>
              <a:rPr b="0" lang="zh-CN" sz="1400" spc="-1" strike="noStrike">
                <a:solidFill>
                  <a:srgbClr val="262626"/>
                </a:solidFill>
                <a:latin typeface="造字工房尚雅（非商用）常规体"/>
                <a:ea typeface="造字工房尚雅（非商用）常规体"/>
              </a:rPr>
              <a:t>、安卓手机版</a:t>
            </a:r>
            <a:endParaRPr b="0" lang="en-US" sz="1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造字工房尚雅（非商用）常规体"/>
                <a:ea typeface="造字工房尚雅（非商用）常规体"/>
              </a:rPr>
              <a:t>APP,</a:t>
            </a:r>
            <a:r>
              <a:rPr b="0" lang="zh-CN" sz="1400" spc="-1" strike="noStrike">
                <a:solidFill>
                  <a:srgbClr val="262626"/>
                </a:solidFill>
                <a:latin typeface="造字工房尚雅（非商用）常规体"/>
                <a:ea typeface="造字工房尚雅（非商用）常规体"/>
              </a:rPr>
              <a:t>核实自己信息和身份后，</a:t>
            </a:r>
            <a:endParaRPr b="0" lang="en-US" sz="1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造字工房尚雅（非商用）常规体"/>
                <a:ea typeface="造字工房尚雅（非商用）常规体"/>
              </a:rPr>
              <a:t>在任何地方任何时候完成自己的</a:t>
            </a:r>
            <a:endParaRPr b="0" lang="en-US" sz="1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造字工房尚雅（非商用）常规体"/>
                <a:ea typeface="造字工房尚雅（非商用）常规体"/>
              </a:rPr>
              <a:t>税务申报义务。</a:t>
            </a:r>
            <a:endParaRPr b="0" lang="en-US" sz="1400" spc="-1" strike="noStrike">
              <a:solidFill>
                <a:srgbClr val="262626"/>
              </a:solidFill>
              <a:latin typeface="Arial"/>
            </a:endParaRPr>
          </a:p>
        </p:txBody>
      </p:sp>
      <p:sp>
        <p:nvSpPr>
          <p:cNvPr id="2269" name="Freeform 13"/>
          <p:cNvSpPr/>
          <p:nvPr/>
        </p:nvSpPr>
        <p:spPr>
          <a:xfrm>
            <a:off x="9080640" y="2297160"/>
            <a:ext cx="422280" cy="406440"/>
          </a:xfrm>
          <a:custGeom>
            <a:avLst/>
            <a:gdLst/>
            <a:ahLst/>
            <a:rect l="l" t="t" r="r" b="b"/>
            <a:pathLst>
              <a:path w="2812" h="2710">
                <a:moveTo>
                  <a:pt x="548" y="1500"/>
                </a:moveTo>
                <a:cubicBezTo>
                  <a:pt x="631" y="1383"/>
                  <a:pt x="631" y="1383"/>
                  <a:pt x="631" y="1383"/>
                </a:cubicBezTo>
                <a:cubicBezTo>
                  <a:pt x="697" y="1595"/>
                  <a:pt x="697" y="1595"/>
                  <a:pt x="697" y="1595"/>
                </a:cubicBezTo>
                <a:cubicBezTo>
                  <a:pt x="805" y="1575"/>
                  <a:pt x="805" y="1575"/>
                  <a:pt x="805" y="1575"/>
                </a:cubicBezTo>
                <a:cubicBezTo>
                  <a:pt x="1088" y="1155"/>
                  <a:pt x="1088" y="1155"/>
                  <a:pt x="1088" y="1155"/>
                </a:cubicBezTo>
                <a:cubicBezTo>
                  <a:pt x="1432" y="1456"/>
                  <a:pt x="1432" y="1456"/>
                  <a:pt x="1432" y="1456"/>
                </a:cubicBezTo>
                <a:cubicBezTo>
                  <a:pt x="1531" y="1456"/>
                  <a:pt x="1531" y="1456"/>
                  <a:pt x="1531" y="1456"/>
                </a:cubicBezTo>
                <a:cubicBezTo>
                  <a:pt x="2076" y="831"/>
                  <a:pt x="2076" y="831"/>
                  <a:pt x="2076" y="831"/>
                </a:cubicBezTo>
                <a:cubicBezTo>
                  <a:pt x="2183" y="941"/>
                  <a:pt x="2183" y="941"/>
                  <a:pt x="2183" y="941"/>
                </a:cubicBezTo>
                <a:cubicBezTo>
                  <a:pt x="2230" y="593"/>
                  <a:pt x="2230" y="593"/>
                  <a:pt x="2230" y="593"/>
                </a:cubicBezTo>
                <a:cubicBezTo>
                  <a:pt x="1876" y="625"/>
                  <a:pt x="1876" y="625"/>
                  <a:pt x="1876" y="625"/>
                </a:cubicBezTo>
                <a:cubicBezTo>
                  <a:pt x="1973" y="725"/>
                  <a:pt x="1973" y="725"/>
                  <a:pt x="1973" y="725"/>
                </a:cubicBezTo>
                <a:cubicBezTo>
                  <a:pt x="1485" y="1304"/>
                  <a:pt x="1485" y="1304"/>
                  <a:pt x="1485" y="1304"/>
                </a:cubicBezTo>
                <a:cubicBezTo>
                  <a:pt x="1124" y="989"/>
                  <a:pt x="1124" y="989"/>
                  <a:pt x="1124" y="989"/>
                </a:cubicBezTo>
                <a:cubicBezTo>
                  <a:pt x="1010" y="1003"/>
                  <a:pt x="1010" y="1003"/>
                  <a:pt x="1010" y="1003"/>
                </a:cubicBezTo>
                <a:cubicBezTo>
                  <a:pt x="722" y="1424"/>
                  <a:pt x="722" y="1424"/>
                  <a:pt x="722" y="1424"/>
                </a:cubicBezTo>
                <a:cubicBezTo>
                  <a:pt x="658" y="1214"/>
                  <a:pt x="658" y="1214"/>
                  <a:pt x="658" y="1214"/>
                </a:cubicBezTo>
                <a:cubicBezTo>
                  <a:pt x="551" y="1232"/>
                  <a:pt x="551" y="1232"/>
                  <a:pt x="551" y="1232"/>
                </a:cubicBezTo>
                <a:cubicBezTo>
                  <a:pt x="423" y="1411"/>
                  <a:pt x="423" y="1411"/>
                  <a:pt x="423" y="1411"/>
                </a:cubicBezTo>
                <a:cubicBezTo>
                  <a:pt x="548" y="1500"/>
                  <a:pt x="548" y="1500"/>
                  <a:pt x="548" y="1500"/>
                </a:cubicBezTo>
                <a:close/>
                <a:moveTo>
                  <a:pt x="0" y="440"/>
                </a:moveTo>
                <a:cubicBezTo>
                  <a:pt x="0" y="1809"/>
                  <a:pt x="0" y="1809"/>
                  <a:pt x="0" y="1809"/>
                </a:cubicBezTo>
                <a:cubicBezTo>
                  <a:pt x="0" y="2052"/>
                  <a:pt x="198" y="2250"/>
                  <a:pt x="441" y="2250"/>
                </a:cubicBezTo>
                <a:cubicBezTo>
                  <a:pt x="1074" y="2250"/>
                  <a:pt x="1074" y="2250"/>
                  <a:pt x="1074" y="2250"/>
                </a:cubicBezTo>
                <a:cubicBezTo>
                  <a:pt x="1074" y="2556"/>
                  <a:pt x="1074" y="2556"/>
                  <a:pt x="1074" y="2556"/>
                </a:cubicBezTo>
                <a:cubicBezTo>
                  <a:pt x="689" y="2556"/>
                  <a:pt x="689" y="2556"/>
                  <a:pt x="689" y="2556"/>
                </a:cubicBezTo>
                <a:cubicBezTo>
                  <a:pt x="649" y="2556"/>
                  <a:pt x="616" y="2589"/>
                  <a:pt x="616" y="2630"/>
                </a:cubicBezTo>
                <a:cubicBezTo>
                  <a:pt x="616" y="2670"/>
                  <a:pt x="649" y="2710"/>
                  <a:pt x="689" y="2710"/>
                </a:cubicBezTo>
                <a:cubicBezTo>
                  <a:pt x="2123" y="2710"/>
                  <a:pt x="2123" y="2710"/>
                  <a:pt x="2123" y="2710"/>
                </a:cubicBezTo>
                <a:cubicBezTo>
                  <a:pt x="2163" y="2710"/>
                  <a:pt x="2196" y="2670"/>
                  <a:pt x="2196" y="2630"/>
                </a:cubicBezTo>
                <a:cubicBezTo>
                  <a:pt x="2196" y="2589"/>
                  <a:pt x="2163" y="2556"/>
                  <a:pt x="2123" y="2556"/>
                </a:cubicBezTo>
                <a:cubicBezTo>
                  <a:pt x="1764" y="2556"/>
                  <a:pt x="1764" y="2556"/>
                  <a:pt x="1764" y="2556"/>
                </a:cubicBezTo>
                <a:cubicBezTo>
                  <a:pt x="1764" y="2250"/>
                  <a:pt x="1764" y="2250"/>
                  <a:pt x="1764" y="2250"/>
                </a:cubicBezTo>
                <a:cubicBezTo>
                  <a:pt x="2371" y="2250"/>
                  <a:pt x="2371" y="2250"/>
                  <a:pt x="2371" y="2250"/>
                </a:cubicBezTo>
                <a:cubicBezTo>
                  <a:pt x="2614" y="2250"/>
                  <a:pt x="2812" y="2052"/>
                  <a:pt x="2812" y="1809"/>
                </a:cubicBezTo>
                <a:cubicBezTo>
                  <a:pt x="2812" y="440"/>
                  <a:pt x="2812" y="440"/>
                  <a:pt x="2812" y="440"/>
                </a:cubicBezTo>
                <a:cubicBezTo>
                  <a:pt x="2812" y="197"/>
                  <a:pt x="2614" y="0"/>
                  <a:pt x="2371" y="0"/>
                </a:cubicBezTo>
                <a:cubicBezTo>
                  <a:pt x="441" y="0"/>
                  <a:pt x="441" y="0"/>
                  <a:pt x="441" y="0"/>
                </a:cubicBezTo>
                <a:cubicBezTo>
                  <a:pt x="198" y="0"/>
                  <a:pt x="0" y="197"/>
                  <a:pt x="0" y="440"/>
                </a:cubicBezTo>
                <a:close/>
                <a:moveTo>
                  <a:pt x="205" y="544"/>
                </a:moveTo>
                <a:cubicBezTo>
                  <a:pt x="205" y="342"/>
                  <a:pt x="369" y="177"/>
                  <a:pt x="572" y="177"/>
                </a:cubicBezTo>
                <a:cubicBezTo>
                  <a:pt x="2240" y="177"/>
                  <a:pt x="2240" y="177"/>
                  <a:pt x="2240" y="177"/>
                </a:cubicBezTo>
                <a:cubicBezTo>
                  <a:pt x="2443" y="177"/>
                  <a:pt x="2607" y="342"/>
                  <a:pt x="2607" y="544"/>
                </a:cubicBezTo>
                <a:cubicBezTo>
                  <a:pt x="2607" y="1779"/>
                  <a:pt x="2607" y="1779"/>
                  <a:pt x="2607" y="1779"/>
                </a:cubicBezTo>
                <a:cubicBezTo>
                  <a:pt x="2607" y="1981"/>
                  <a:pt x="2443" y="2043"/>
                  <a:pt x="2240" y="2043"/>
                </a:cubicBezTo>
                <a:cubicBezTo>
                  <a:pt x="572" y="2043"/>
                  <a:pt x="572" y="2043"/>
                  <a:pt x="572" y="2043"/>
                </a:cubicBezTo>
                <a:cubicBezTo>
                  <a:pt x="369" y="2043"/>
                  <a:pt x="205" y="1981"/>
                  <a:pt x="205" y="1779"/>
                </a:cubicBezTo>
                <a:cubicBezTo>
                  <a:pt x="205" y="544"/>
                  <a:pt x="205" y="544"/>
                  <a:pt x="205" y="544"/>
                </a:cubicBezTo>
                <a:close/>
              </a:path>
            </a:pathLst>
          </a:custGeom>
          <a:solidFill>
            <a:srgbClr val="ffffff"/>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pic>
        <p:nvPicPr>
          <p:cNvPr id="2270" name="Group 16" descr=""/>
          <p:cNvPicPr/>
          <p:nvPr/>
        </p:nvPicPr>
        <p:blipFill>
          <a:blip r:embed="rId2"/>
          <a:stretch/>
        </p:blipFill>
        <p:spPr>
          <a:xfrm>
            <a:off x="9021600" y="4449600"/>
            <a:ext cx="506520" cy="506520"/>
          </a:xfrm>
          <a:prstGeom prst="rect">
            <a:avLst/>
          </a:prstGeom>
          <a:ln w="0">
            <a:noFill/>
          </a:ln>
        </p:spPr>
      </p:pic>
      <p:sp>
        <p:nvSpPr>
          <p:cNvPr id="2271" name="矩形 15"/>
          <p:cNvSpPr/>
          <p:nvPr/>
        </p:nvSpPr>
        <p:spPr>
          <a:xfrm>
            <a:off x="9559800" y="2173320"/>
            <a:ext cx="203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黑体"/>
                <a:ea typeface="黑体"/>
              </a:rPr>
              <a:t>代扣代缴制度变为预扣预缴和汇算清缴制度，每一个人都是最终的主动纳税主体人。</a:t>
            </a:r>
            <a:endParaRPr b="0" lang="en-US" sz="1800" spc="-1" strike="noStrike">
              <a:solidFill>
                <a:srgbClr val="262626"/>
              </a:solidFill>
              <a:latin typeface="Arial"/>
            </a:endParaRPr>
          </a:p>
        </p:txBody>
      </p:sp>
      <p:sp>
        <p:nvSpPr>
          <p:cNvPr id="2272" name="矩形 16"/>
          <p:cNvSpPr/>
          <p:nvPr/>
        </p:nvSpPr>
        <p:spPr>
          <a:xfrm>
            <a:off x="9998640" y="4587840"/>
            <a:ext cx="14608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造字工房尚雅（非商用）常规体"/>
                <a:ea typeface="造字工房尚雅（非商用）常规体"/>
              </a:rPr>
              <a:t>纳税从过往的“被动”</a:t>
            </a:r>
            <a:endParaRPr b="0" lang="en-US" sz="1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造字工房尚雅（非商用）常规体"/>
                <a:ea typeface="造字工房尚雅（非商用）常规体"/>
              </a:rPr>
              <a:t>变为“主动”，更加强化</a:t>
            </a:r>
            <a:endParaRPr b="0" lang="en-US" sz="1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造字工房尚雅（非商用）常规体"/>
                <a:ea typeface="造字工房尚雅（非商用）常规体"/>
              </a:rPr>
              <a:t>个人纳税主体的这种意识。</a:t>
            </a:r>
            <a:endParaRPr b="0" lang="en-US" sz="1400" spc="-1" strike="noStrike">
              <a:solidFill>
                <a:srgbClr val="262626"/>
              </a:solidFill>
              <a:latin typeface="Arial"/>
            </a:endParaRPr>
          </a:p>
        </p:txBody>
      </p:sp>
      <p:pic>
        <p:nvPicPr>
          <p:cNvPr id="2273" name="图片 19" descr=""/>
          <p:cNvPicPr/>
          <p:nvPr/>
        </p:nvPicPr>
        <p:blipFill>
          <a:blip r:embed="rId3"/>
          <a:stretch/>
        </p:blipFill>
        <p:spPr>
          <a:xfrm>
            <a:off x="4957920" y="173160"/>
            <a:ext cx="1749240" cy="1322280"/>
          </a:xfrm>
          <a:prstGeom prst="rect">
            <a:avLst/>
          </a:prstGeom>
          <a:ln w="0">
            <a:noFill/>
          </a:ln>
        </p:spPr>
      </p:pic>
      <p:sp>
        <p:nvSpPr>
          <p:cNvPr id="2274" name="矩形 20"/>
          <p:cNvSpPr/>
          <p:nvPr/>
        </p:nvSpPr>
        <p:spPr>
          <a:xfrm>
            <a:off x="1806480" y="2193840"/>
            <a:ext cx="25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黑体"/>
                <a:ea typeface="黑体"/>
              </a:rPr>
              <a:t>国税总局推出全新自然人纳税管理系统个税申报系统即将全国各地全面上线</a:t>
            </a:r>
            <a:endParaRPr b="0" lang="en-US" sz="1800" spc="-1" strike="noStrike">
              <a:solidFill>
                <a:srgbClr val="262626"/>
              </a:solidFill>
              <a:latin typeface="Arial"/>
            </a:endParaRPr>
          </a:p>
        </p:txBody>
      </p:sp>
    </p:spTree>
  </p:cSld>
  <p:transition spd="slow">
    <p:random/>
  </p:transition>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afterEffect" fill="hold" presetClass="entr" presetID="49">
                                  <p:stCondLst>
                                    <p:cond delay="0"/>
                                  </p:stCondLst>
                                  <p:childTnLst>
                                    <p:set>
                                      <p:cBhvr>
                                        <p:cTn id="739" dur="1" fill="hold">
                                          <p:stCondLst>
                                            <p:cond delay="0"/>
                                          </p:stCondLst>
                                        </p:cTn>
                                        <p:tgtEl>
                                          <p:spTgt spid="2265"/>
                                        </p:tgtEl>
                                        <p:attrNameLst>
                                          <p:attrName>style.visibility</p:attrName>
                                        </p:attrNameLst>
                                      </p:cBhvr>
                                      <p:to>
                                        <p:strVal val="visible"/>
                                      </p:to>
                                    </p:set>
                                    <p:anim calcmode="lin" valueType="num">
                                      <p:cBhvr additive="repl">
                                        <p:cTn id="740" dur="500" fill="hold"/>
                                        <p:tgtEl>
                                          <p:spTgt spid="2265"/>
                                        </p:tgtEl>
                                        <p:attrNameLst>
                                          <p:attrName>ppt_w</p:attrName>
                                        </p:attrNameLst>
                                      </p:cBhvr>
                                      <p:tavLst>
                                        <p:tav tm="0">
                                          <p:val>
                                            <p:fltVal val="0"/>
                                          </p:val>
                                        </p:tav>
                                        <p:tav tm="100000">
                                          <p:val>
                                            <p:strVal val="#ppt_w"/>
                                          </p:val>
                                        </p:tav>
                                      </p:tavLst>
                                    </p:anim>
                                    <p:anim calcmode="lin" valueType="num">
                                      <p:cBhvr additive="repl">
                                        <p:cTn id="741" dur="500" fill="hold"/>
                                        <p:tgtEl>
                                          <p:spTgt spid="2265"/>
                                        </p:tgtEl>
                                        <p:attrNameLst>
                                          <p:attrName>ppt_h</p:attrName>
                                        </p:attrNameLst>
                                      </p:cBhvr>
                                      <p:tavLst>
                                        <p:tav tm="0">
                                          <p:val>
                                            <p:fltVal val="0"/>
                                          </p:val>
                                        </p:tav>
                                        <p:tav tm="100000">
                                          <p:val>
                                            <p:strVal val="#ppt_h"/>
                                          </p:val>
                                        </p:tav>
                                      </p:tavLst>
                                    </p:anim>
                                    <p:anim calcmode="lin" valueType="num">
                                      <p:cBhvr additive="repl">
                                        <p:cTn id="742" dur="500" fill="hold"/>
                                        <p:tgtEl>
                                          <p:spTgt spid="2265"/>
                                        </p:tgtEl>
                                        <p:attrNameLst>
                                          <p:attrName>r</p:attrName>
                                        </p:attrNameLst>
                                      </p:cBhvr>
                                      <p:tavLst>
                                        <p:tav tm="0">
                                          <p:val>
                                            <p:strVal val="360"/>
                                          </p:val>
                                        </p:tav>
                                        <p:tav tm="100000">
                                          <p:val>
                                            <p:strVal val="0"/>
                                          </p:val>
                                        </p:tav>
                                      </p:tavLst>
                                    </p:anim>
                                    <p:animEffect filter="fade" transition="in">
                                      <p:cBhvr additive="repl">
                                        <p:cTn id="743" dur="500"/>
                                        <p:tgtEl>
                                          <p:spTgt spid="2265"/>
                                        </p:tgtEl>
                                      </p:cBhvr>
                                    </p:animEffect>
                                  </p:childTnLst>
                                </p:cTn>
                              </p:par>
                            </p:childTnLst>
                          </p:cTn>
                        </p:par>
                        <p:par>
                          <p:cTn id="744" nodeType="afterEffect" fill="hold">
                            <p:stCondLst>
                              <p:cond delay="500"/>
                            </p:stCondLst>
                            <p:childTnLst>
                              <p:par>
                                <p:cTn id="745" nodeType="afterEffect" fill="hold" presetClass="entr" presetID="55">
                                  <p:stCondLst>
                                    <p:cond delay="0"/>
                                  </p:stCondLst>
                                  <p:childTnLst>
                                    <p:set>
                                      <p:cBhvr>
                                        <p:cTn id="746" dur="1" fill="hold">
                                          <p:stCondLst>
                                            <p:cond delay="0"/>
                                          </p:stCondLst>
                                        </p:cTn>
                                        <p:tgtEl>
                                          <p:spTgt spid="2267"/>
                                        </p:tgtEl>
                                        <p:attrNameLst>
                                          <p:attrName>style.visibility</p:attrName>
                                        </p:attrNameLst>
                                      </p:cBhvr>
                                      <p:to>
                                        <p:strVal val="visible"/>
                                      </p:to>
                                    </p:set>
                                    <p:anim calcmode="lin" valueType="num">
                                      <p:cBhvr additive="repl">
                                        <p:cTn id="747" dur="1000" fill="hold"/>
                                        <p:tgtEl>
                                          <p:spTgt spid="2267"/>
                                        </p:tgtEl>
                                        <p:attrNameLst>
                                          <p:attrName>ppt_w</p:attrName>
                                        </p:attrNameLst>
                                      </p:cBhvr>
                                      <p:tavLst>
                                        <p:tav tm="0">
                                          <p:val>
                                            <p:strVal val="#ppt_w*0.70"/>
                                          </p:val>
                                        </p:tav>
                                        <p:tav tm="100000">
                                          <p:val>
                                            <p:strVal val="#ppt_w"/>
                                          </p:val>
                                        </p:tav>
                                      </p:tavLst>
                                    </p:anim>
                                    <p:anim calcmode="lin" valueType="num">
                                      <p:cBhvr additive="repl">
                                        <p:cTn id="748" dur="1000" fill="hold"/>
                                        <p:tgtEl>
                                          <p:spTgt spid="2267"/>
                                        </p:tgtEl>
                                        <p:attrNameLst>
                                          <p:attrName>ppt_h</p:attrName>
                                        </p:attrNameLst>
                                      </p:cBhvr>
                                      <p:tavLst>
                                        <p:tav tm="0">
                                          <p:val>
                                            <p:strVal val="#ppt_h"/>
                                          </p:val>
                                        </p:tav>
                                        <p:tav tm="100000">
                                          <p:val>
                                            <p:strVal val="#ppt_h"/>
                                          </p:val>
                                        </p:tav>
                                      </p:tavLst>
                                    </p:anim>
                                    <p:animEffect filter="fade" transition="in">
                                      <p:cBhvr additive="repl">
                                        <p:cTn id="749" dur="1000"/>
                                        <p:tgtEl>
                                          <p:spTgt spid="2267"/>
                                        </p:tgtEl>
                                      </p:cBhvr>
                                    </p:animEffect>
                                  </p:childTnLst>
                                </p:cTn>
                              </p:par>
                            </p:childTnLst>
                          </p:cTn>
                        </p:par>
                        <p:par>
                          <p:cTn id="750" nodeType="afterEffect" fill="hold">
                            <p:stCondLst>
                              <p:cond delay="1500"/>
                            </p:stCondLst>
                            <p:childTnLst>
                              <p:par>
                                <p:cTn id="751" nodeType="afterEffect" fill="hold" presetClass="entr" presetID="49">
                                  <p:stCondLst>
                                    <p:cond delay="0"/>
                                  </p:stCondLst>
                                  <p:childTnLst>
                                    <p:set>
                                      <p:cBhvr>
                                        <p:cTn id="752" dur="1" fill="hold">
                                          <p:stCondLst>
                                            <p:cond delay="0"/>
                                          </p:stCondLst>
                                        </p:cTn>
                                        <p:tgtEl>
                                          <p:spTgt spid="2266"/>
                                        </p:tgtEl>
                                        <p:attrNameLst>
                                          <p:attrName>style.visibility</p:attrName>
                                        </p:attrNameLst>
                                      </p:cBhvr>
                                      <p:to>
                                        <p:strVal val="visible"/>
                                      </p:to>
                                    </p:set>
                                    <p:anim calcmode="lin" valueType="num">
                                      <p:cBhvr additive="repl">
                                        <p:cTn id="753" dur="500" fill="hold"/>
                                        <p:tgtEl>
                                          <p:spTgt spid="2266"/>
                                        </p:tgtEl>
                                        <p:attrNameLst>
                                          <p:attrName>ppt_w</p:attrName>
                                        </p:attrNameLst>
                                      </p:cBhvr>
                                      <p:tavLst>
                                        <p:tav tm="0">
                                          <p:val>
                                            <p:fltVal val="0"/>
                                          </p:val>
                                        </p:tav>
                                        <p:tav tm="100000">
                                          <p:val>
                                            <p:strVal val="#ppt_w"/>
                                          </p:val>
                                        </p:tav>
                                      </p:tavLst>
                                    </p:anim>
                                    <p:anim calcmode="lin" valueType="num">
                                      <p:cBhvr additive="repl">
                                        <p:cTn id="754" dur="500" fill="hold"/>
                                        <p:tgtEl>
                                          <p:spTgt spid="2266"/>
                                        </p:tgtEl>
                                        <p:attrNameLst>
                                          <p:attrName>ppt_h</p:attrName>
                                        </p:attrNameLst>
                                      </p:cBhvr>
                                      <p:tavLst>
                                        <p:tav tm="0">
                                          <p:val>
                                            <p:fltVal val="0"/>
                                          </p:val>
                                        </p:tav>
                                        <p:tav tm="100000">
                                          <p:val>
                                            <p:strVal val="#ppt_h"/>
                                          </p:val>
                                        </p:tav>
                                      </p:tavLst>
                                    </p:anim>
                                    <p:anim calcmode="lin" valueType="num">
                                      <p:cBhvr additive="repl">
                                        <p:cTn id="755" dur="500" fill="hold"/>
                                        <p:tgtEl>
                                          <p:spTgt spid="2266"/>
                                        </p:tgtEl>
                                        <p:attrNameLst>
                                          <p:attrName>r</p:attrName>
                                        </p:attrNameLst>
                                      </p:cBhvr>
                                      <p:tavLst>
                                        <p:tav tm="0">
                                          <p:val>
                                            <p:strVal val="360"/>
                                          </p:val>
                                        </p:tav>
                                        <p:tav tm="100000">
                                          <p:val>
                                            <p:strVal val="0"/>
                                          </p:val>
                                        </p:tav>
                                      </p:tavLst>
                                    </p:anim>
                                    <p:animEffect filter="fade" transition="in">
                                      <p:cBhvr additive="repl">
                                        <p:cTn id="756" dur="500"/>
                                        <p:tgtEl>
                                          <p:spTgt spid="2266"/>
                                        </p:tgtEl>
                                      </p:cBhvr>
                                    </p:animEffect>
                                  </p:childTnLst>
                                </p:cTn>
                              </p:par>
                            </p:childTnLst>
                          </p:cTn>
                        </p:par>
                        <p:par>
                          <p:cTn id="757" nodeType="afterEffect" fill="hold">
                            <p:stCondLst>
                              <p:cond delay="2000"/>
                            </p:stCondLst>
                            <p:childTnLst>
                              <p:par>
                                <p:cTn id="758" nodeType="afterEffect" fill="hold" presetClass="entr" presetID="55">
                                  <p:stCondLst>
                                    <p:cond delay="0"/>
                                  </p:stCondLst>
                                  <p:childTnLst>
                                    <p:set>
                                      <p:cBhvr>
                                        <p:cTn id="759" dur="1" fill="hold">
                                          <p:stCondLst>
                                            <p:cond delay="0"/>
                                          </p:stCondLst>
                                        </p:cTn>
                                        <p:tgtEl>
                                          <p:spTgt spid="2268"/>
                                        </p:tgtEl>
                                        <p:attrNameLst>
                                          <p:attrName>style.visibility</p:attrName>
                                        </p:attrNameLst>
                                      </p:cBhvr>
                                      <p:to>
                                        <p:strVal val="visible"/>
                                      </p:to>
                                    </p:set>
                                    <p:anim calcmode="lin" valueType="num">
                                      <p:cBhvr additive="repl">
                                        <p:cTn id="760" dur="1000" fill="hold"/>
                                        <p:tgtEl>
                                          <p:spTgt spid="2268"/>
                                        </p:tgtEl>
                                        <p:attrNameLst>
                                          <p:attrName>ppt_w</p:attrName>
                                        </p:attrNameLst>
                                      </p:cBhvr>
                                      <p:tavLst>
                                        <p:tav tm="0">
                                          <p:val>
                                            <p:strVal val="#ppt_w*0.70"/>
                                          </p:val>
                                        </p:tav>
                                        <p:tav tm="100000">
                                          <p:val>
                                            <p:strVal val="#ppt_w"/>
                                          </p:val>
                                        </p:tav>
                                      </p:tavLst>
                                    </p:anim>
                                    <p:anim calcmode="lin" valueType="num">
                                      <p:cBhvr additive="repl">
                                        <p:cTn id="761" dur="1000" fill="hold"/>
                                        <p:tgtEl>
                                          <p:spTgt spid="2268"/>
                                        </p:tgtEl>
                                        <p:attrNameLst>
                                          <p:attrName>ppt_h</p:attrName>
                                        </p:attrNameLst>
                                      </p:cBhvr>
                                      <p:tavLst>
                                        <p:tav tm="0">
                                          <p:val>
                                            <p:strVal val="#ppt_h"/>
                                          </p:val>
                                        </p:tav>
                                        <p:tav tm="100000">
                                          <p:val>
                                            <p:strVal val="#ppt_h"/>
                                          </p:val>
                                        </p:tav>
                                      </p:tavLst>
                                    </p:anim>
                                    <p:animEffect filter="fade" transition="in">
                                      <p:cBhvr additive="repl">
                                        <p:cTn id="762" dur="1000"/>
                                        <p:tgtEl>
                                          <p:spTgt spid="2268"/>
                                        </p:tgtEl>
                                      </p:cBhvr>
                                    </p:animEffect>
                                  </p:childTnLst>
                                </p:cTn>
                              </p:par>
                            </p:childTnLst>
                          </p:cTn>
                        </p:par>
                        <p:par>
                          <p:cTn id="763" nodeType="afterEffect" fill="hold">
                            <p:stCondLst>
                              <p:cond delay="3000"/>
                            </p:stCondLst>
                            <p:childTnLst>
                              <p:par>
                                <p:cTn id="764" nodeType="afterEffect" fill="hold" presetClass="entr" presetID="49">
                                  <p:stCondLst>
                                    <p:cond delay="0"/>
                                  </p:stCondLst>
                                  <p:childTnLst>
                                    <p:set>
                                      <p:cBhvr>
                                        <p:cTn id="765" dur="1" fill="hold">
                                          <p:stCondLst>
                                            <p:cond delay="0"/>
                                          </p:stCondLst>
                                        </p:cTn>
                                        <p:tgtEl>
                                          <p:spTgt spid="2269"/>
                                        </p:tgtEl>
                                        <p:attrNameLst>
                                          <p:attrName>style.visibility</p:attrName>
                                        </p:attrNameLst>
                                      </p:cBhvr>
                                      <p:to>
                                        <p:strVal val="visible"/>
                                      </p:to>
                                    </p:set>
                                    <p:anim calcmode="lin" valueType="num">
                                      <p:cBhvr additive="repl">
                                        <p:cTn id="766" dur="500" fill="hold"/>
                                        <p:tgtEl>
                                          <p:spTgt spid="2269"/>
                                        </p:tgtEl>
                                        <p:attrNameLst>
                                          <p:attrName>ppt_w</p:attrName>
                                        </p:attrNameLst>
                                      </p:cBhvr>
                                      <p:tavLst>
                                        <p:tav tm="0">
                                          <p:val>
                                            <p:fltVal val="0"/>
                                          </p:val>
                                        </p:tav>
                                        <p:tav tm="100000">
                                          <p:val>
                                            <p:strVal val="#ppt_w"/>
                                          </p:val>
                                        </p:tav>
                                      </p:tavLst>
                                    </p:anim>
                                    <p:anim calcmode="lin" valueType="num">
                                      <p:cBhvr additive="repl">
                                        <p:cTn id="767" dur="500" fill="hold"/>
                                        <p:tgtEl>
                                          <p:spTgt spid="2269"/>
                                        </p:tgtEl>
                                        <p:attrNameLst>
                                          <p:attrName>ppt_h</p:attrName>
                                        </p:attrNameLst>
                                      </p:cBhvr>
                                      <p:tavLst>
                                        <p:tav tm="0">
                                          <p:val>
                                            <p:fltVal val="0"/>
                                          </p:val>
                                        </p:tav>
                                        <p:tav tm="100000">
                                          <p:val>
                                            <p:strVal val="#ppt_h"/>
                                          </p:val>
                                        </p:tav>
                                      </p:tavLst>
                                    </p:anim>
                                    <p:anim calcmode="lin" valueType="num">
                                      <p:cBhvr additive="repl">
                                        <p:cTn id="768" dur="500" fill="hold"/>
                                        <p:tgtEl>
                                          <p:spTgt spid="2269"/>
                                        </p:tgtEl>
                                        <p:attrNameLst>
                                          <p:attrName>r</p:attrName>
                                        </p:attrNameLst>
                                      </p:cBhvr>
                                      <p:tavLst>
                                        <p:tav tm="0">
                                          <p:val>
                                            <p:strVal val="360"/>
                                          </p:val>
                                        </p:tav>
                                        <p:tav tm="100000">
                                          <p:val>
                                            <p:strVal val="0"/>
                                          </p:val>
                                        </p:tav>
                                      </p:tavLst>
                                    </p:anim>
                                    <p:animEffect filter="fade" transition="in">
                                      <p:cBhvr additive="repl">
                                        <p:cTn id="769" dur="500"/>
                                        <p:tgtEl>
                                          <p:spTgt spid="2269"/>
                                        </p:tgtEl>
                                      </p:cBhvr>
                                    </p:animEffect>
                                  </p:childTnLst>
                                </p:cTn>
                              </p:par>
                            </p:childTnLst>
                          </p:cTn>
                        </p:par>
                        <p:par>
                          <p:cTn id="770" nodeType="afterEffect" fill="hold">
                            <p:stCondLst>
                              <p:cond delay="3500"/>
                            </p:stCondLst>
                            <p:childTnLst>
                              <p:par>
                                <p:cTn id="771" nodeType="afterEffect" fill="hold" presetClass="entr" presetID="55">
                                  <p:stCondLst>
                                    <p:cond delay="0"/>
                                  </p:stCondLst>
                                  <p:childTnLst>
                                    <p:set>
                                      <p:cBhvr>
                                        <p:cTn id="772" dur="1" fill="hold">
                                          <p:stCondLst>
                                            <p:cond delay="0"/>
                                          </p:stCondLst>
                                        </p:cTn>
                                        <p:tgtEl>
                                          <p:spTgt spid="2271"/>
                                        </p:tgtEl>
                                        <p:attrNameLst>
                                          <p:attrName>style.visibility</p:attrName>
                                        </p:attrNameLst>
                                      </p:cBhvr>
                                      <p:to>
                                        <p:strVal val="visible"/>
                                      </p:to>
                                    </p:set>
                                    <p:anim calcmode="lin" valueType="num">
                                      <p:cBhvr additive="repl">
                                        <p:cTn id="773" dur="1000" fill="hold"/>
                                        <p:tgtEl>
                                          <p:spTgt spid="2271"/>
                                        </p:tgtEl>
                                        <p:attrNameLst>
                                          <p:attrName>ppt_w</p:attrName>
                                        </p:attrNameLst>
                                      </p:cBhvr>
                                      <p:tavLst>
                                        <p:tav tm="0">
                                          <p:val>
                                            <p:strVal val="#ppt_w*0.70"/>
                                          </p:val>
                                        </p:tav>
                                        <p:tav tm="100000">
                                          <p:val>
                                            <p:strVal val="#ppt_w"/>
                                          </p:val>
                                        </p:tav>
                                      </p:tavLst>
                                    </p:anim>
                                    <p:anim calcmode="lin" valueType="num">
                                      <p:cBhvr additive="repl">
                                        <p:cTn id="774" dur="1000" fill="hold"/>
                                        <p:tgtEl>
                                          <p:spTgt spid="2271"/>
                                        </p:tgtEl>
                                        <p:attrNameLst>
                                          <p:attrName>ppt_h</p:attrName>
                                        </p:attrNameLst>
                                      </p:cBhvr>
                                      <p:tavLst>
                                        <p:tav tm="0">
                                          <p:val>
                                            <p:strVal val="#ppt_h"/>
                                          </p:val>
                                        </p:tav>
                                        <p:tav tm="100000">
                                          <p:val>
                                            <p:strVal val="#ppt_h"/>
                                          </p:val>
                                        </p:tav>
                                      </p:tavLst>
                                    </p:anim>
                                    <p:animEffect filter="fade" transition="in">
                                      <p:cBhvr additive="repl">
                                        <p:cTn id="775" dur="1000"/>
                                        <p:tgtEl>
                                          <p:spTgt spid="2271"/>
                                        </p:tgtEl>
                                      </p:cBhvr>
                                    </p:animEffect>
                                  </p:childTnLst>
                                </p:cTn>
                              </p:par>
                            </p:childTnLst>
                          </p:cTn>
                        </p:par>
                        <p:par>
                          <p:cTn id="776" nodeType="afterEffect" fill="hold">
                            <p:stCondLst>
                              <p:cond delay="4500"/>
                            </p:stCondLst>
                            <p:childTnLst>
                              <p:par>
                                <p:cTn id="777" nodeType="afterEffect" fill="hold" presetClass="entr" presetID="49">
                                  <p:stCondLst>
                                    <p:cond delay="0"/>
                                  </p:stCondLst>
                                  <p:childTnLst>
                                    <p:set>
                                      <p:cBhvr>
                                        <p:cTn id="778" dur="1" fill="hold">
                                          <p:stCondLst>
                                            <p:cond delay="0"/>
                                          </p:stCondLst>
                                        </p:cTn>
                                        <p:tgtEl>
                                          <p:spTgt spid="2270"/>
                                        </p:tgtEl>
                                        <p:attrNameLst>
                                          <p:attrName>style.visibility</p:attrName>
                                        </p:attrNameLst>
                                      </p:cBhvr>
                                      <p:to>
                                        <p:strVal val="visible"/>
                                      </p:to>
                                    </p:set>
                                    <p:anim calcmode="lin" valueType="num">
                                      <p:cBhvr additive="repl">
                                        <p:cTn id="779" dur="500" fill="hold"/>
                                        <p:tgtEl>
                                          <p:spTgt spid="2270"/>
                                        </p:tgtEl>
                                        <p:attrNameLst>
                                          <p:attrName>ppt_w</p:attrName>
                                        </p:attrNameLst>
                                      </p:cBhvr>
                                      <p:tavLst>
                                        <p:tav tm="0">
                                          <p:val>
                                            <p:fltVal val="0"/>
                                          </p:val>
                                        </p:tav>
                                        <p:tav tm="100000">
                                          <p:val>
                                            <p:strVal val="#ppt_w"/>
                                          </p:val>
                                        </p:tav>
                                      </p:tavLst>
                                    </p:anim>
                                    <p:anim calcmode="lin" valueType="num">
                                      <p:cBhvr additive="repl">
                                        <p:cTn id="780" dur="500" fill="hold"/>
                                        <p:tgtEl>
                                          <p:spTgt spid="2270"/>
                                        </p:tgtEl>
                                        <p:attrNameLst>
                                          <p:attrName>ppt_h</p:attrName>
                                        </p:attrNameLst>
                                      </p:cBhvr>
                                      <p:tavLst>
                                        <p:tav tm="0">
                                          <p:val>
                                            <p:fltVal val="0"/>
                                          </p:val>
                                        </p:tav>
                                        <p:tav tm="100000">
                                          <p:val>
                                            <p:strVal val="#ppt_h"/>
                                          </p:val>
                                        </p:tav>
                                      </p:tavLst>
                                    </p:anim>
                                    <p:anim calcmode="lin" valueType="num">
                                      <p:cBhvr additive="repl">
                                        <p:cTn id="781" dur="500" fill="hold"/>
                                        <p:tgtEl>
                                          <p:spTgt spid="2270"/>
                                        </p:tgtEl>
                                        <p:attrNameLst>
                                          <p:attrName>r</p:attrName>
                                        </p:attrNameLst>
                                      </p:cBhvr>
                                      <p:tavLst>
                                        <p:tav tm="0">
                                          <p:val>
                                            <p:strVal val="360"/>
                                          </p:val>
                                        </p:tav>
                                        <p:tav tm="100000">
                                          <p:val>
                                            <p:strVal val="0"/>
                                          </p:val>
                                        </p:tav>
                                      </p:tavLst>
                                    </p:anim>
                                    <p:animEffect filter="fade" transition="in">
                                      <p:cBhvr additive="repl">
                                        <p:cTn id="782" dur="500"/>
                                        <p:tgtEl>
                                          <p:spTgt spid="2270"/>
                                        </p:tgtEl>
                                      </p:cBhvr>
                                    </p:animEffect>
                                  </p:childTnLst>
                                </p:cTn>
                              </p:par>
                            </p:childTnLst>
                          </p:cTn>
                        </p:par>
                        <p:par>
                          <p:cTn id="783" nodeType="afterEffect" fill="hold">
                            <p:stCondLst>
                              <p:cond delay="5000"/>
                            </p:stCondLst>
                            <p:childTnLst>
                              <p:par>
                                <p:cTn id="784" nodeType="afterEffect" fill="hold" presetClass="entr" presetID="55">
                                  <p:stCondLst>
                                    <p:cond delay="0"/>
                                  </p:stCondLst>
                                  <p:childTnLst>
                                    <p:set>
                                      <p:cBhvr>
                                        <p:cTn id="785" dur="1" fill="hold">
                                          <p:stCondLst>
                                            <p:cond delay="0"/>
                                          </p:stCondLst>
                                        </p:cTn>
                                        <p:tgtEl>
                                          <p:spTgt spid="2272"/>
                                        </p:tgtEl>
                                        <p:attrNameLst>
                                          <p:attrName>style.visibility</p:attrName>
                                        </p:attrNameLst>
                                      </p:cBhvr>
                                      <p:to>
                                        <p:strVal val="visible"/>
                                      </p:to>
                                    </p:set>
                                    <p:anim calcmode="lin" valueType="num">
                                      <p:cBhvr additive="repl">
                                        <p:cTn id="786" dur="1000" fill="hold"/>
                                        <p:tgtEl>
                                          <p:spTgt spid="2272"/>
                                        </p:tgtEl>
                                        <p:attrNameLst>
                                          <p:attrName>ppt_w</p:attrName>
                                        </p:attrNameLst>
                                      </p:cBhvr>
                                      <p:tavLst>
                                        <p:tav tm="0">
                                          <p:val>
                                            <p:strVal val="#ppt_w*0.70"/>
                                          </p:val>
                                        </p:tav>
                                        <p:tav tm="100000">
                                          <p:val>
                                            <p:strVal val="#ppt_w"/>
                                          </p:val>
                                        </p:tav>
                                      </p:tavLst>
                                    </p:anim>
                                    <p:anim calcmode="lin" valueType="num">
                                      <p:cBhvr additive="repl">
                                        <p:cTn id="787" dur="1000" fill="hold"/>
                                        <p:tgtEl>
                                          <p:spTgt spid="2272"/>
                                        </p:tgtEl>
                                        <p:attrNameLst>
                                          <p:attrName>ppt_h</p:attrName>
                                        </p:attrNameLst>
                                      </p:cBhvr>
                                      <p:tavLst>
                                        <p:tav tm="0">
                                          <p:val>
                                            <p:strVal val="#ppt_h"/>
                                          </p:val>
                                        </p:tav>
                                        <p:tav tm="100000">
                                          <p:val>
                                            <p:strVal val="#ppt_h"/>
                                          </p:val>
                                        </p:tav>
                                      </p:tavLst>
                                    </p:anim>
                                    <p:animEffect filter="fade" transition="in">
                                      <p:cBhvr additive="repl">
                                        <p:cTn id="788" dur="1000"/>
                                        <p:tgtEl>
                                          <p:spTgt spid="2272"/>
                                        </p:tgtEl>
                                      </p:cBhvr>
                                    </p:animEffect>
                                  </p:childTnLst>
                                </p:cTn>
                              </p:par>
                              <p:par>
                                <p:cTn id="789" nodeType="withEffect" fill="hold" presetClass="entr" presetID="2" presetSubtype="8">
                                  <p:stCondLst>
                                    <p:cond delay="0"/>
                                  </p:stCondLst>
                                  <p:childTnLst>
                                    <p:set>
                                      <p:cBhvr>
                                        <p:cTn id="790" dur="1" fill="hold">
                                          <p:stCondLst>
                                            <p:cond delay="0"/>
                                          </p:stCondLst>
                                        </p:cTn>
                                        <p:tgtEl>
                                          <p:spTgt spid="2273"/>
                                        </p:tgtEl>
                                        <p:attrNameLst>
                                          <p:attrName>style.visibility</p:attrName>
                                        </p:attrNameLst>
                                      </p:cBhvr>
                                      <p:to>
                                        <p:strVal val="visible"/>
                                      </p:to>
                                    </p:set>
                                    <p:anim calcmode="lin" valueType="num">
                                      <p:cBhvr additive="base">
                                        <p:cTn id="791" dur="500" fill="hold"/>
                                        <p:tgtEl>
                                          <p:spTgt spid="2273"/>
                                        </p:tgtEl>
                                        <p:attrNameLst>
                                          <p:attrName>ppt_x</p:attrName>
                                        </p:attrNameLst>
                                      </p:cBhvr>
                                      <p:tavLst>
                                        <p:tav tm="0">
                                          <p:val>
                                            <p:strVal val="0-#ppt_w/2"/>
                                          </p:val>
                                        </p:tav>
                                        <p:tav tm="100000">
                                          <p:val>
                                            <p:strVal val="#ppt_x"/>
                                          </p:val>
                                        </p:tav>
                                      </p:tavLst>
                                    </p:anim>
                                    <p:anim calcmode="lin" valueType="num">
                                      <p:cBhvr additive="base">
                                        <p:cTn id="792" dur="500" fill="hold"/>
                                        <p:tgtEl>
                                          <p:spTgt spid="2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任意多边形 25"/>
          <p:cNvSpPr/>
          <p:nvPr/>
        </p:nvSpPr>
        <p:spPr>
          <a:xfrm>
            <a:off x="1278000" y="2216160"/>
            <a:ext cx="3451320" cy="3452760"/>
          </a:xfrm>
          <a:custGeom>
            <a:avLst/>
            <a:gdLst/>
            <a:ahLst/>
            <a:rect l="l" t="t" r="r" b="b"/>
            <a:pathLst>
              <a:path w="3733918" h="3733918">
                <a:moveTo>
                  <a:pt x="1866959" y="0"/>
                </a:moveTo>
                <a:cubicBezTo>
                  <a:pt x="2898052" y="0"/>
                  <a:pt x="3733918" y="835866"/>
                  <a:pt x="3733918" y="1866959"/>
                </a:cubicBezTo>
                <a:cubicBezTo>
                  <a:pt x="3733918" y="2898052"/>
                  <a:pt x="2898052" y="3733918"/>
                  <a:pt x="1866959" y="3733918"/>
                </a:cubicBezTo>
                <a:cubicBezTo>
                  <a:pt x="835866" y="3733918"/>
                  <a:pt x="0" y="2898052"/>
                  <a:pt x="0" y="1866959"/>
                </a:cubicBezTo>
                <a:cubicBezTo>
                  <a:pt x="0" y="835866"/>
                  <a:pt x="835866" y="0"/>
                  <a:pt x="1866959" y="0"/>
                </a:cubicBezTo>
                <a:close/>
                <a:moveTo>
                  <a:pt x="1854196" y="633806"/>
                </a:moveTo>
                <a:cubicBezTo>
                  <a:pt x="1173144" y="633806"/>
                  <a:pt x="621043" y="1185907"/>
                  <a:pt x="621043" y="1866959"/>
                </a:cubicBezTo>
                <a:cubicBezTo>
                  <a:pt x="621043" y="2548011"/>
                  <a:pt x="1173144" y="3100112"/>
                  <a:pt x="1854196" y="3100112"/>
                </a:cubicBezTo>
                <a:cubicBezTo>
                  <a:pt x="2535248" y="3100112"/>
                  <a:pt x="3087349" y="2548011"/>
                  <a:pt x="3087349" y="1866959"/>
                </a:cubicBezTo>
                <a:cubicBezTo>
                  <a:pt x="3087349" y="1185907"/>
                  <a:pt x="2535248" y="633806"/>
                  <a:pt x="1854196" y="633806"/>
                </a:cubicBezTo>
                <a:close/>
              </a:path>
            </a:pathLst>
          </a:custGeom>
          <a:solidFill>
            <a:srgbClr val="97cec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nvGrpSpPr>
          <p:cNvPr id="2276" name="图形 3104"/>
          <p:cNvGrpSpPr/>
          <p:nvPr/>
        </p:nvGrpSpPr>
        <p:grpSpPr>
          <a:xfrm>
            <a:off x="1517760" y="2382840"/>
            <a:ext cx="3109680" cy="2698920"/>
            <a:chOff x="1517760" y="2382840"/>
            <a:chExt cx="3109680" cy="2698920"/>
          </a:xfrm>
        </p:grpSpPr>
        <p:sp>
          <p:nvSpPr>
            <p:cNvPr id="2277" name="任意多边形: 形状 42"/>
            <p:cNvSpPr/>
            <p:nvPr/>
          </p:nvSpPr>
          <p:spPr>
            <a:xfrm>
              <a:off x="1628280" y="4908600"/>
              <a:ext cx="2782440" cy="173160"/>
            </a:xfrm>
            <a:custGeom>
              <a:avLst/>
              <a:gdLst>
                <a:gd name="textAreaLeft" fmla="*/ 0 w 2782440"/>
                <a:gd name="textAreaRight" fmla="*/ 2782800 w 2782440"/>
                <a:gd name="textAreaTop" fmla="*/ 0 h 173160"/>
                <a:gd name="textAreaBottom" fmla="*/ 173160 h 173160"/>
              </a:gdLst>
              <a:ahLst/>
              <a:rect l="textAreaLeft" t="textAreaTop" r="textAreaRight" b="textAreaBottom"/>
              <a:pathLst>
                <a:path w="1718597" h="107093">
                  <a:moveTo>
                    <a:pt x="860064" y="3825"/>
                  </a:moveTo>
                  <a:cubicBezTo>
                    <a:pt x="1333315" y="3825"/>
                    <a:pt x="1716812" y="26773"/>
                    <a:pt x="1716812" y="55332"/>
                  </a:cubicBezTo>
                  <a:cubicBezTo>
                    <a:pt x="1716812" y="83890"/>
                    <a:pt x="1333315" y="106839"/>
                    <a:pt x="860064" y="106839"/>
                  </a:cubicBezTo>
                  <a:cubicBezTo>
                    <a:pt x="387322" y="106839"/>
                    <a:pt x="3825" y="83890"/>
                    <a:pt x="3825" y="55332"/>
                  </a:cubicBezTo>
                  <a:cubicBezTo>
                    <a:pt x="3825" y="26773"/>
                    <a:pt x="386812" y="3825"/>
                    <a:pt x="860064" y="3825"/>
                  </a:cubicBezTo>
                  <a:close/>
                </a:path>
              </a:pathLst>
            </a:custGeom>
            <a:solidFill>
              <a:srgbClr val="ddddd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78" name="任意多边形: 形状 43"/>
            <p:cNvSpPr/>
            <p:nvPr/>
          </p:nvSpPr>
          <p:spPr>
            <a:xfrm>
              <a:off x="1789200" y="4042440"/>
              <a:ext cx="437400" cy="437400"/>
            </a:xfrm>
            <a:custGeom>
              <a:avLst/>
              <a:gdLst>
                <a:gd name="textAreaLeft" fmla="*/ 0 w 437400"/>
                <a:gd name="textAreaRight" fmla="*/ 437760 w 437400"/>
                <a:gd name="textAreaTop" fmla="*/ 0 h 437400"/>
                <a:gd name="textAreaBottom" fmla="*/ 437760 h 437400"/>
              </a:gdLst>
              <a:ahLst/>
              <a:rect l="textAreaLeft" t="textAreaTop" r="textAreaRight" b="textAreaBottom"/>
              <a:pathLst>
                <a:path w="270283" h="270283">
                  <a:moveTo>
                    <a:pt x="124178" y="28303"/>
                  </a:moveTo>
                  <a:cubicBezTo>
                    <a:pt x="136927" y="27283"/>
                    <a:pt x="149676" y="28303"/>
                    <a:pt x="161915" y="30853"/>
                  </a:cubicBezTo>
                  <a:lnTo>
                    <a:pt x="177214" y="8415"/>
                  </a:lnTo>
                  <a:lnTo>
                    <a:pt x="238411" y="49722"/>
                  </a:lnTo>
                  <a:lnTo>
                    <a:pt x="223112" y="72161"/>
                  </a:lnTo>
                  <a:cubicBezTo>
                    <a:pt x="227191" y="77260"/>
                    <a:pt x="230251" y="82360"/>
                    <a:pt x="233311" y="88480"/>
                  </a:cubicBezTo>
                  <a:cubicBezTo>
                    <a:pt x="236371" y="94089"/>
                    <a:pt x="238411" y="100209"/>
                    <a:pt x="239941" y="106329"/>
                  </a:cubicBezTo>
                  <a:lnTo>
                    <a:pt x="266969" y="108369"/>
                  </a:lnTo>
                  <a:lnTo>
                    <a:pt x="261869" y="182314"/>
                  </a:lnTo>
                  <a:lnTo>
                    <a:pt x="234841" y="180274"/>
                  </a:lnTo>
                  <a:cubicBezTo>
                    <a:pt x="229741" y="191494"/>
                    <a:pt x="222602" y="202713"/>
                    <a:pt x="213932" y="211892"/>
                  </a:cubicBezTo>
                  <a:lnTo>
                    <a:pt x="225662" y="236371"/>
                  </a:lnTo>
                  <a:lnTo>
                    <a:pt x="158856" y="268499"/>
                  </a:lnTo>
                  <a:lnTo>
                    <a:pt x="147126" y="244020"/>
                  </a:lnTo>
                  <a:cubicBezTo>
                    <a:pt x="134377" y="245550"/>
                    <a:pt x="121628" y="244530"/>
                    <a:pt x="109388" y="241471"/>
                  </a:cubicBezTo>
                  <a:lnTo>
                    <a:pt x="94089" y="263909"/>
                  </a:lnTo>
                  <a:lnTo>
                    <a:pt x="32383" y="222602"/>
                  </a:lnTo>
                  <a:lnTo>
                    <a:pt x="47682" y="200163"/>
                  </a:lnTo>
                  <a:cubicBezTo>
                    <a:pt x="44112" y="195063"/>
                    <a:pt x="40543" y="189454"/>
                    <a:pt x="37483" y="183844"/>
                  </a:cubicBezTo>
                  <a:cubicBezTo>
                    <a:pt x="34933" y="178234"/>
                    <a:pt x="32383" y="172115"/>
                    <a:pt x="30853" y="165995"/>
                  </a:cubicBezTo>
                  <a:lnTo>
                    <a:pt x="3825" y="163955"/>
                  </a:lnTo>
                  <a:lnTo>
                    <a:pt x="8924" y="90010"/>
                  </a:lnTo>
                  <a:lnTo>
                    <a:pt x="35953" y="92050"/>
                  </a:lnTo>
                  <a:cubicBezTo>
                    <a:pt x="41053" y="80830"/>
                    <a:pt x="48192" y="70121"/>
                    <a:pt x="56862" y="60431"/>
                  </a:cubicBezTo>
                  <a:lnTo>
                    <a:pt x="45132" y="35953"/>
                  </a:lnTo>
                  <a:lnTo>
                    <a:pt x="111938" y="3825"/>
                  </a:lnTo>
                  <a:lnTo>
                    <a:pt x="124178" y="28303"/>
                  </a:lnTo>
                  <a:close/>
                  <a:moveTo>
                    <a:pt x="111938" y="87460"/>
                  </a:moveTo>
                  <a:cubicBezTo>
                    <a:pt x="138457" y="74710"/>
                    <a:pt x="171095" y="85930"/>
                    <a:pt x="183844" y="112448"/>
                  </a:cubicBezTo>
                  <a:cubicBezTo>
                    <a:pt x="197103" y="138967"/>
                    <a:pt x="185884" y="171095"/>
                    <a:pt x="158856" y="184354"/>
                  </a:cubicBezTo>
                  <a:cubicBezTo>
                    <a:pt x="132337" y="197103"/>
                    <a:pt x="100209" y="185884"/>
                    <a:pt x="86950" y="159365"/>
                  </a:cubicBezTo>
                  <a:cubicBezTo>
                    <a:pt x="74201" y="132847"/>
                    <a:pt x="85420" y="100719"/>
                    <a:pt x="111938" y="87460"/>
                  </a:cubicBezTo>
                  <a:close/>
                </a:path>
              </a:pathLst>
            </a:custGeom>
            <a:solidFill>
              <a:srgbClr val="fcac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79" name="任意多边形: 形状 44"/>
            <p:cNvSpPr/>
            <p:nvPr/>
          </p:nvSpPr>
          <p:spPr>
            <a:xfrm>
              <a:off x="1904760" y="4082040"/>
              <a:ext cx="321840" cy="396000"/>
            </a:xfrm>
            <a:custGeom>
              <a:avLst/>
              <a:gdLst>
                <a:gd name="textAreaLeft" fmla="*/ 0 w 321840"/>
                <a:gd name="textAreaRight" fmla="*/ 321840 w 321840"/>
                <a:gd name="textAreaTop" fmla="*/ 0 h 396000"/>
                <a:gd name="textAreaBottom" fmla="*/ 396360 h 396000"/>
              </a:gdLst>
              <a:ahLst/>
              <a:rect l="textAreaLeft" t="textAreaTop" r="textAreaRight" b="textAreaBottom"/>
              <a:pathLst>
                <a:path w="198888" h="244785">
                  <a:moveTo>
                    <a:pt x="135397" y="3825"/>
                  </a:moveTo>
                  <a:lnTo>
                    <a:pt x="167015" y="25243"/>
                  </a:lnTo>
                  <a:lnTo>
                    <a:pt x="151716" y="47682"/>
                  </a:lnTo>
                  <a:cubicBezTo>
                    <a:pt x="155796" y="52782"/>
                    <a:pt x="158856" y="57881"/>
                    <a:pt x="161915" y="64001"/>
                  </a:cubicBezTo>
                  <a:cubicBezTo>
                    <a:pt x="164975" y="69611"/>
                    <a:pt x="167015" y="75730"/>
                    <a:pt x="168545" y="81850"/>
                  </a:cubicBezTo>
                  <a:lnTo>
                    <a:pt x="195573" y="83890"/>
                  </a:lnTo>
                  <a:lnTo>
                    <a:pt x="190474" y="157836"/>
                  </a:lnTo>
                  <a:lnTo>
                    <a:pt x="163445" y="155796"/>
                  </a:lnTo>
                  <a:cubicBezTo>
                    <a:pt x="158346" y="167015"/>
                    <a:pt x="151206" y="178234"/>
                    <a:pt x="142536" y="187414"/>
                  </a:cubicBezTo>
                  <a:lnTo>
                    <a:pt x="154266" y="211892"/>
                  </a:lnTo>
                  <a:lnTo>
                    <a:pt x="87460" y="244020"/>
                  </a:lnTo>
                  <a:lnTo>
                    <a:pt x="75730" y="219542"/>
                  </a:lnTo>
                  <a:cubicBezTo>
                    <a:pt x="62981" y="221072"/>
                    <a:pt x="50232" y="220052"/>
                    <a:pt x="37993" y="216992"/>
                  </a:cubicBezTo>
                  <a:lnTo>
                    <a:pt x="22694" y="239431"/>
                  </a:lnTo>
                  <a:lnTo>
                    <a:pt x="3825" y="226681"/>
                  </a:lnTo>
                  <a:lnTo>
                    <a:pt x="42582" y="160895"/>
                  </a:lnTo>
                  <a:cubicBezTo>
                    <a:pt x="56352" y="167015"/>
                    <a:pt x="73181" y="167015"/>
                    <a:pt x="87970" y="160385"/>
                  </a:cubicBezTo>
                  <a:cubicBezTo>
                    <a:pt x="114488" y="147126"/>
                    <a:pt x="125707" y="114998"/>
                    <a:pt x="112958" y="88480"/>
                  </a:cubicBezTo>
                  <a:cubicBezTo>
                    <a:pt x="109388" y="80830"/>
                    <a:pt x="103779" y="74201"/>
                    <a:pt x="97659" y="69101"/>
                  </a:cubicBezTo>
                  <a:lnTo>
                    <a:pt x="135397" y="3825"/>
                  </a:lnTo>
                  <a:close/>
                </a:path>
              </a:pathLst>
            </a:custGeom>
            <a:solidFill>
              <a:srgbClr val="f7a0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0" name="任意多边形: 形状 45"/>
            <p:cNvSpPr/>
            <p:nvPr/>
          </p:nvSpPr>
          <p:spPr>
            <a:xfrm>
              <a:off x="1519200" y="4349520"/>
              <a:ext cx="313560" cy="321840"/>
            </a:xfrm>
            <a:custGeom>
              <a:avLst/>
              <a:gdLst>
                <a:gd name="textAreaLeft" fmla="*/ 0 w 313560"/>
                <a:gd name="textAreaRight" fmla="*/ 313920 w 313560"/>
                <a:gd name="textAreaTop" fmla="*/ 0 h 321840"/>
                <a:gd name="textAreaBottom" fmla="*/ 321840 h 321840"/>
              </a:gdLst>
              <a:ahLst/>
              <a:rect l="textAreaLeft" t="textAreaTop" r="textAreaRight" b="textAreaBottom"/>
              <a:pathLst>
                <a:path w="193788" h="198888">
                  <a:moveTo>
                    <a:pt x="90010" y="22184"/>
                  </a:moveTo>
                  <a:cubicBezTo>
                    <a:pt x="99189" y="21164"/>
                    <a:pt x="108369" y="21674"/>
                    <a:pt x="117548" y="24224"/>
                  </a:cubicBezTo>
                  <a:lnTo>
                    <a:pt x="128257" y="7904"/>
                  </a:lnTo>
                  <a:lnTo>
                    <a:pt x="172625" y="37993"/>
                  </a:lnTo>
                  <a:lnTo>
                    <a:pt x="161915" y="54312"/>
                  </a:lnTo>
                  <a:cubicBezTo>
                    <a:pt x="164465" y="57882"/>
                    <a:pt x="167015" y="61961"/>
                    <a:pt x="169055" y="66041"/>
                  </a:cubicBezTo>
                  <a:cubicBezTo>
                    <a:pt x="171095" y="70631"/>
                    <a:pt x="172625" y="74710"/>
                    <a:pt x="174155" y="78790"/>
                  </a:cubicBezTo>
                  <a:lnTo>
                    <a:pt x="194043" y="80320"/>
                  </a:lnTo>
                  <a:lnTo>
                    <a:pt x="189964" y="133357"/>
                  </a:lnTo>
                  <a:lnTo>
                    <a:pt x="170585" y="131827"/>
                  </a:lnTo>
                  <a:cubicBezTo>
                    <a:pt x="167015" y="140497"/>
                    <a:pt x="161405" y="147636"/>
                    <a:pt x="155286" y="154776"/>
                  </a:cubicBezTo>
                  <a:lnTo>
                    <a:pt x="163955" y="172115"/>
                  </a:lnTo>
                  <a:lnTo>
                    <a:pt x="116018" y="195573"/>
                  </a:lnTo>
                  <a:lnTo>
                    <a:pt x="107349" y="177724"/>
                  </a:lnTo>
                  <a:cubicBezTo>
                    <a:pt x="98169" y="178744"/>
                    <a:pt x="88990" y="177724"/>
                    <a:pt x="80320" y="175684"/>
                  </a:cubicBezTo>
                  <a:lnTo>
                    <a:pt x="69101" y="192003"/>
                  </a:lnTo>
                  <a:lnTo>
                    <a:pt x="24734" y="161915"/>
                  </a:lnTo>
                  <a:lnTo>
                    <a:pt x="35443" y="145596"/>
                  </a:lnTo>
                  <a:cubicBezTo>
                    <a:pt x="32893" y="142027"/>
                    <a:pt x="30343" y="137947"/>
                    <a:pt x="28303" y="133867"/>
                  </a:cubicBezTo>
                  <a:cubicBezTo>
                    <a:pt x="26263" y="129277"/>
                    <a:pt x="24734" y="125197"/>
                    <a:pt x="23204" y="121118"/>
                  </a:cubicBezTo>
                  <a:lnTo>
                    <a:pt x="3825" y="119588"/>
                  </a:lnTo>
                  <a:lnTo>
                    <a:pt x="7395" y="66551"/>
                  </a:lnTo>
                  <a:lnTo>
                    <a:pt x="26773" y="68081"/>
                  </a:lnTo>
                  <a:cubicBezTo>
                    <a:pt x="30853" y="59411"/>
                    <a:pt x="35953" y="51762"/>
                    <a:pt x="42072" y="45132"/>
                  </a:cubicBezTo>
                  <a:lnTo>
                    <a:pt x="33403" y="27283"/>
                  </a:lnTo>
                  <a:lnTo>
                    <a:pt x="81340" y="3825"/>
                  </a:lnTo>
                  <a:lnTo>
                    <a:pt x="90010" y="22184"/>
                  </a:lnTo>
                  <a:close/>
                  <a:moveTo>
                    <a:pt x="81340" y="65021"/>
                  </a:moveTo>
                  <a:cubicBezTo>
                    <a:pt x="100719" y="55332"/>
                    <a:pt x="123668" y="63491"/>
                    <a:pt x="133357" y="82870"/>
                  </a:cubicBezTo>
                  <a:cubicBezTo>
                    <a:pt x="142536" y="102249"/>
                    <a:pt x="134377" y="125197"/>
                    <a:pt x="115508" y="134887"/>
                  </a:cubicBezTo>
                  <a:cubicBezTo>
                    <a:pt x="96639" y="144576"/>
                    <a:pt x="73181" y="136417"/>
                    <a:pt x="63491" y="117038"/>
                  </a:cubicBezTo>
                  <a:cubicBezTo>
                    <a:pt x="53802" y="97659"/>
                    <a:pt x="61961" y="74200"/>
                    <a:pt x="81340" y="65021"/>
                  </a:cubicBezTo>
                  <a:close/>
                </a:path>
              </a:pathLst>
            </a:custGeom>
            <a:solidFill>
              <a:srgbClr val="437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1" name="任意多边形: 形状 46"/>
            <p:cNvSpPr/>
            <p:nvPr/>
          </p:nvSpPr>
          <p:spPr>
            <a:xfrm>
              <a:off x="1517760" y="4376880"/>
              <a:ext cx="214560" cy="288720"/>
            </a:xfrm>
            <a:custGeom>
              <a:avLst/>
              <a:gdLst>
                <a:gd name="textAreaLeft" fmla="*/ 0 w 214560"/>
                <a:gd name="textAreaRight" fmla="*/ 214920 w 214560"/>
                <a:gd name="textAreaTop" fmla="*/ 0 h 288720"/>
                <a:gd name="textAreaBottom" fmla="*/ 289080 h 288720"/>
              </a:gdLst>
              <a:ahLst/>
              <a:rect l="textAreaLeft" t="textAreaTop" r="textAreaRight" b="textAreaBottom"/>
              <a:pathLst>
                <a:path w="132592" h="178489">
                  <a:moveTo>
                    <a:pt x="131827" y="171095"/>
                  </a:moveTo>
                  <a:lnTo>
                    <a:pt x="116018" y="178744"/>
                  </a:lnTo>
                  <a:lnTo>
                    <a:pt x="107349" y="160895"/>
                  </a:lnTo>
                  <a:cubicBezTo>
                    <a:pt x="98169" y="161915"/>
                    <a:pt x="88990" y="160895"/>
                    <a:pt x="80320" y="158855"/>
                  </a:cubicBezTo>
                  <a:lnTo>
                    <a:pt x="69101" y="175175"/>
                  </a:lnTo>
                  <a:lnTo>
                    <a:pt x="24734" y="145086"/>
                  </a:lnTo>
                  <a:lnTo>
                    <a:pt x="35443" y="128767"/>
                  </a:lnTo>
                  <a:cubicBezTo>
                    <a:pt x="32893" y="125198"/>
                    <a:pt x="30343" y="121118"/>
                    <a:pt x="28303" y="117038"/>
                  </a:cubicBezTo>
                  <a:cubicBezTo>
                    <a:pt x="26263" y="112448"/>
                    <a:pt x="24734" y="108369"/>
                    <a:pt x="23204" y="104289"/>
                  </a:cubicBezTo>
                  <a:lnTo>
                    <a:pt x="3825" y="102759"/>
                  </a:lnTo>
                  <a:lnTo>
                    <a:pt x="7395" y="49722"/>
                  </a:lnTo>
                  <a:lnTo>
                    <a:pt x="26773" y="51252"/>
                  </a:lnTo>
                  <a:cubicBezTo>
                    <a:pt x="30853" y="42582"/>
                    <a:pt x="35953" y="34933"/>
                    <a:pt x="42072" y="28303"/>
                  </a:cubicBezTo>
                  <a:lnTo>
                    <a:pt x="33403" y="10454"/>
                  </a:lnTo>
                  <a:lnTo>
                    <a:pt x="47172" y="3825"/>
                  </a:lnTo>
                  <a:lnTo>
                    <a:pt x="72161" y="53802"/>
                  </a:lnTo>
                  <a:cubicBezTo>
                    <a:pt x="59411" y="65021"/>
                    <a:pt x="55842" y="83890"/>
                    <a:pt x="62981" y="99699"/>
                  </a:cubicBezTo>
                  <a:cubicBezTo>
                    <a:pt x="71141" y="116018"/>
                    <a:pt x="88480" y="124178"/>
                    <a:pt x="105819" y="120608"/>
                  </a:cubicBezTo>
                  <a:lnTo>
                    <a:pt x="131827" y="171095"/>
                  </a:lnTo>
                  <a:close/>
                </a:path>
              </a:pathLst>
            </a:custGeom>
            <a:solidFill>
              <a:srgbClr val="3c677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2" name="任意多边形: 形状 47"/>
            <p:cNvSpPr/>
            <p:nvPr/>
          </p:nvSpPr>
          <p:spPr>
            <a:xfrm>
              <a:off x="1829880" y="4503240"/>
              <a:ext cx="346680" cy="354960"/>
            </a:xfrm>
            <a:custGeom>
              <a:avLst/>
              <a:gdLst>
                <a:gd name="textAreaLeft" fmla="*/ 0 w 346680"/>
                <a:gd name="textAreaRight" fmla="*/ 347040 w 346680"/>
                <a:gd name="textAreaTop" fmla="*/ 0 h 354960"/>
                <a:gd name="textAreaBottom" fmla="*/ 355320 h 354960"/>
              </a:gdLst>
              <a:ahLst/>
              <a:rect l="textAreaLeft" t="textAreaTop" r="textAreaRight" b="textAreaBottom"/>
              <a:pathLst>
                <a:path w="214187" h="219286">
                  <a:moveTo>
                    <a:pt x="99189" y="24224"/>
                  </a:moveTo>
                  <a:cubicBezTo>
                    <a:pt x="109388" y="23204"/>
                    <a:pt x="119588" y="24224"/>
                    <a:pt x="129787" y="26263"/>
                  </a:cubicBezTo>
                  <a:lnTo>
                    <a:pt x="142026" y="8414"/>
                  </a:lnTo>
                  <a:lnTo>
                    <a:pt x="190984" y="41562"/>
                  </a:lnTo>
                  <a:lnTo>
                    <a:pt x="178744" y="59411"/>
                  </a:lnTo>
                  <a:cubicBezTo>
                    <a:pt x="181804" y="63491"/>
                    <a:pt x="184354" y="67571"/>
                    <a:pt x="186394" y="72161"/>
                  </a:cubicBezTo>
                  <a:cubicBezTo>
                    <a:pt x="188944" y="77260"/>
                    <a:pt x="190474" y="81850"/>
                    <a:pt x="192003" y="86440"/>
                  </a:cubicBezTo>
                  <a:lnTo>
                    <a:pt x="213422" y="87970"/>
                  </a:lnTo>
                  <a:lnTo>
                    <a:pt x="209342" y="147126"/>
                  </a:lnTo>
                  <a:lnTo>
                    <a:pt x="187924" y="145596"/>
                  </a:lnTo>
                  <a:cubicBezTo>
                    <a:pt x="183844" y="154776"/>
                    <a:pt x="177724" y="163445"/>
                    <a:pt x="171095" y="171095"/>
                  </a:cubicBezTo>
                  <a:lnTo>
                    <a:pt x="180784" y="190473"/>
                  </a:lnTo>
                  <a:lnTo>
                    <a:pt x="127747" y="216482"/>
                  </a:lnTo>
                  <a:lnTo>
                    <a:pt x="118058" y="196593"/>
                  </a:lnTo>
                  <a:cubicBezTo>
                    <a:pt x="107859" y="197613"/>
                    <a:pt x="97659" y="197103"/>
                    <a:pt x="87460" y="194553"/>
                  </a:cubicBezTo>
                  <a:lnTo>
                    <a:pt x="75221" y="212402"/>
                  </a:lnTo>
                  <a:lnTo>
                    <a:pt x="26263" y="179254"/>
                  </a:lnTo>
                  <a:lnTo>
                    <a:pt x="38503" y="161405"/>
                  </a:lnTo>
                  <a:cubicBezTo>
                    <a:pt x="35443" y="157325"/>
                    <a:pt x="32893" y="153246"/>
                    <a:pt x="30853" y="148146"/>
                  </a:cubicBezTo>
                  <a:cubicBezTo>
                    <a:pt x="28303" y="143556"/>
                    <a:pt x="26773" y="138967"/>
                    <a:pt x="25243" y="133867"/>
                  </a:cubicBezTo>
                  <a:lnTo>
                    <a:pt x="3825" y="132337"/>
                  </a:lnTo>
                  <a:lnTo>
                    <a:pt x="7905" y="73180"/>
                  </a:lnTo>
                  <a:lnTo>
                    <a:pt x="29323" y="74710"/>
                  </a:lnTo>
                  <a:cubicBezTo>
                    <a:pt x="33403" y="65531"/>
                    <a:pt x="39523" y="56862"/>
                    <a:pt x="46152" y="49212"/>
                  </a:cubicBezTo>
                  <a:lnTo>
                    <a:pt x="36463" y="29833"/>
                  </a:lnTo>
                  <a:lnTo>
                    <a:pt x="89500" y="3825"/>
                  </a:lnTo>
                  <a:lnTo>
                    <a:pt x="99189" y="24224"/>
                  </a:lnTo>
                  <a:close/>
                  <a:moveTo>
                    <a:pt x="89500" y="72161"/>
                  </a:moveTo>
                  <a:cubicBezTo>
                    <a:pt x="110918" y="61961"/>
                    <a:pt x="136417" y="70631"/>
                    <a:pt x="147126" y="92049"/>
                  </a:cubicBezTo>
                  <a:cubicBezTo>
                    <a:pt x="157326" y="113468"/>
                    <a:pt x="148656" y="138967"/>
                    <a:pt x="127237" y="149676"/>
                  </a:cubicBezTo>
                  <a:cubicBezTo>
                    <a:pt x="105819" y="159875"/>
                    <a:pt x="80320" y="151206"/>
                    <a:pt x="69611" y="129787"/>
                  </a:cubicBezTo>
                  <a:cubicBezTo>
                    <a:pt x="59411" y="108369"/>
                    <a:pt x="68081" y="82870"/>
                    <a:pt x="89500" y="72161"/>
                  </a:cubicBezTo>
                  <a:close/>
                </a:path>
              </a:pathLst>
            </a:custGeom>
            <a:solidFill>
              <a:srgbClr val="5d6a9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3" name="任意多边形: 形状 48"/>
            <p:cNvSpPr/>
            <p:nvPr/>
          </p:nvSpPr>
          <p:spPr>
            <a:xfrm>
              <a:off x="2002320" y="4541040"/>
              <a:ext cx="173160" cy="313560"/>
            </a:xfrm>
            <a:custGeom>
              <a:avLst/>
              <a:gdLst>
                <a:gd name="textAreaLeft" fmla="*/ 0 w 173160"/>
                <a:gd name="textAreaRight" fmla="*/ 173160 w 173160"/>
                <a:gd name="textAreaTop" fmla="*/ 0 h 313560"/>
                <a:gd name="textAreaBottom" fmla="*/ 313920 h 313560"/>
              </a:gdLst>
              <a:ahLst/>
              <a:rect l="textAreaLeft" t="textAreaTop" r="textAreaRight" b="textAreaBottom"/>
              <a:pathLst>
                <a:path w="107093" h="193788">
                  <a:moveTo>
                    <a:pt x="62471" y="3825"/>
                  </a:moveTo>
                  <a:lnTo>
                    <a:pt x="83890" y="18614"/>
                  </a:lnTo>
                  <a:lnTo>
                    <a:pt x="71651" y="36463"/>
                  </a:lnTo>
                  <a:cubicBezTo>
                    <a:pt x="74711" y="40543"/>
                    <a:pt x="77260" y="44622"/>
                    <a:pt x="79300" y="49212"/>
                  </a:cubicBezTo>
                  <a:cubicBezTo>
                    <a:pt x="81850" y="54312"/>
                    <a:pt x="83380" y="58902"/>
                    <a:pt x="84910" y="63491"/>
                  </a:cubicBezTo>
                  <a:lnTo>
                    <a:pt x="106329" y="65021"/>
                  </a:lnTo>
                  <a:lnTo>
                    <a:pt x="102249" y="124178"/>
                  </a:lnTo>
                  <a:lnTo>
                    <a:pt x="80830" y="122648"/>
                  </a:lnTo>
                  <a:cubicBezTo>
                    <a:pt x="76750" y="131827"/>
                    <a:pt x="70631" y="140497"/>
                    <a:pt x="64001" y="148146"/>
                  </a:cubicBezTo>
                  <a:lnTo>
                    <a:pt x="73691" y="167525"/>
                  </a:lnTo>
                  <a:lnTo>
                    <a:pt x="20654" y="193533"/>
                  </a:lnTo>
                  <a:lnTo>
                    <a:pt x="10964" y="173645"/>
                  </a:lnTo>
                  <a:cubicBezTo>
                    <a:pt x="8415" y="173645"/>
                    <a:pt x="5865" y="174155"/>
                    <a:pt x="3825" y="174155"/>
                  </a:cubicBezTo>
                  <a:lnTo>
                    <a:pt x="20144" y="126217"/>
                  </a:lnTo>
                  <a:cubicBezTo>
                    <a:pt x="41563" y="116018"/>
                    <a:pt x="50232" y="90010"/>
                    <a:pt x="40033" y="68591"/>
                  </a:cubicBezTo>
                  <a:lnTo>
                    <a:pt x="62471" y="3825"/>
                  </a:lnTo>
                  <a:close/>
                </a:path>
              </a:pathLst>
            </a:custGeom>
            <a:solidFill>
              <a:srgbClr val="4c609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4" name="任意多边形: 形状 49"/>
            <p:cNvSpPr/>
            <p:nvPr/>
          </p:nvSpPr>
          <p:spPr>
            <a:xfrm>
              <a:off x="4039200" y="3853080"/>
              <a:ext cx="321840" cy="404280"/>
            </a:xfrm>
            <a:custGeom>
              <a:avLst/>
              <a:gdLst>
                <a:gd name="textAreaLeft" fmla="*/ 0 w 321840"/>
                <a:gd name="textAreaRight" fmla="*/ 321840 w 321840"/>
                <a:gd name="textAreaTop" fmla="*/ 0 h 404280"/>
                <a:gd name="textAreaBottom" fmla="*/ 404640 h 404280"/>
              </a:gdLst>
              <a:ahLst/>
              <a:rect l="textAreaLeft" t="textAreaTop" r="textAreaRight" b="textAreaBottom"/>
              <a:pathLst>
                <a:path w="198888" h="249885">
                  <a:moveTo>
                    <a:pt x="144066" y="193247"/>
                  </a:moveTo>
                  <a:cubicBezTo>
                    <a:pt x="144066" y="194776"/>
                    <a:pt x="143556" y="196306"/>
                    <a:pt x="143556" y="197836"/>
                  </a:cubicBezTo>
                  <a:cubicBezTo>
                    <a:pt x="143556" y="205486"/>
                    <a:pt x="145086" y="205996"/>
                    <a:pt x="149676" y="209056"/>
                  </a:cubicBezTo>
                  <a:cubicBezTo>
                    <a:pt x="154266" y="212115"/>
                    <a:pt x="160385" y="216705"/>
                    <a:pt x="157835" y="229454"/>
                  </a:cubicBezTo>
                  <a:cubicBezTo>
                    <a:pt x="156816" y="235064"/>
                    <a:pt x="149166" y="244244"/>
                    <a:pt x="139987" y="247303"/>
                  </a:cubicBezTo>
                  <a:cubicBezTo>
                    <a:pt x="130807" y="250363"/>
                    <a:pt x="119588" y="247303"/>
                    <a:pt x="115508" y="243224"/>
                  </a:cubicBezTo>
                  <a:cubicBezTo>
                    <a:pt x="105819" y="234554"/>
                    <a:pt x="108369" y="227414"/>
                    <a:pt x="110408" y="222315"/>
                  </a:cubicBezTo>
                  <a:cubicBezTo>
                    <a:pt x="111938" y="217215"/>
                    <a:pt x="112958" y="215685"/>
                    <a:pt x="108369" y="209565"/>
                  </a:cubicBezTo>
                  <a:cubicBezTo>
                    <a:pt x="107859" y="208546"/>
                    <a:pt x="106329" y="207016"/>
                    <a:pt x="105309" y="205996"/>
                  </a:cubicBezTo>
                  <a:lnTo>
                    <a:pt x="51252" y="223845"/>
                  </a:lnTo>
                  <a:lnTo>
                    <a:pt x="33913" y="169788"/>
                  </a:lnTo>
                  <a:cubicBezTo>
                    <a:pt x="34423" y="169788"/>
                    <a:pt x="34423" y="169278"/>
                    <a:pt x="34933" y="169278"/>
                  </a:cubicBezTo>
                  <a:cubicBezTo>
                    <a:pt x="41562" y="164688"/>
                    <a:pt x="43092" y="165198"/>
                    <a:pt x="48192" y="167238"/>
                  </a:cubicBezTo>
                  <a:cubicBezTo>
                    <a:pt x="53802" y="168768"/>
                    <a:pt x="61451" y="171828"/>
                    <a:pt x="70631" y="161628"/>
                  </a:cubicBezTo>
                  <a:cubicBezTo>
                    <a:pt x="74710" y="157039"/>
                    <a:pt x="77770" y="145819"/>
                    <a:pt x="74710" y="136130"/>
                  </a:cubicBezTo>
                  <a:cubicBezTo>
                    <a:pt x="71651" y="126441"/>
                    <a:pt x="61961" y="118791"/>
                    <a:pt x="55842" y="117261"/>
                  </a:cubicBezTo>
                  <a:cubicBezTo>
                    <a:pt x="42582" y="114711"/>
                    <a:pt x="37993" y="121341"/>
                    <a:pt x="34933" y="125931"/>
                  </a:cubicBezTo>
                  <a:cubicBezTo>
                    <a:pt x="31873" y="130520"/>
                    <a:pt x="30853" y="132050"/>
                    <a:pt x="23204" y="132560"/>
                  </a:cubicBezTo>
                  <a:cubicBezTo>
                    <a:pt x="22694" y="132560"/>
                    <a:pt x="22184" y="132560"/>
                    <a:pt x="21674" y="132560"/>
                  </a:cubicBezTo>
                  <a:lnTo>
                    <a:pt x="3825" y="79013"/>
                  </a:lnTo>
                  <a:lnTo>
                    <a:pt x="55842" y="62184"/>
                  </a:lnTo>
                  <a:cubicBezTo>
                    <a:pt x="56352" y="60144"/>
                    <a:pt x="57372" y="57085"/>
                    <a:pt x="57372" y="54025"/>
                  </a:cubicBezTo>
                  <a:cubicBezTo>
                    <a:pt x="57372" y="46375"/>
                    <a:pt x="55842" y="45865"/>
                    <a:pt x="51252" y="42806"/>
                  </a:cubicBezTo>
                  <a:cubicBezTo>
                    <a:pt x="46662" y="39746"/>
                    <a:pt x="40542" y="35156"/>
                    <a:pt x="43092" y="22407"/>
                  </a:cubicBezTo>
                  <a:cubicBezTo>
                    <a:pt x="44112" y="16797"/>
                    <a:pt x="51252" y="7618"/>
                    <a:pt x="60431" y="5068"/>
                  </a:cubicBezTo>
                  <a:cubicBezTo>
                    <a:pt x="69611" y="2008"/>
                    <a:pt x="80830" y="5068"/>
                    <a:pt x="85420" y="9148"/>
                  </a:cubicBezTo>
                  <a:cubicBezTo>
                    <a:pt x="95109" y="17817"/>
                    <a:pt x="92559" y="24957"/>
                    <a:pt x="90520" y="30056"/>
                  </a:cubicBezTo>
                  <a:cubicBezTo>
                    <a:pt x="88990" y="35156"/>
                    <a:pt x="87970" y="36686"/>
                    <a:pt x="92559" y="42806"/>
                  </a:cubicBezTo>
                  <a:cubicBezTo>
                    <a:pt x="94089" y="45355"/>
                    <a:pt x="96639" y="47395"/>
                    <a:pt x="98679" y="48415"/>
                  </a:cubicBezTo>
                  <a:lnTo>
                    <a:pt x="150186" y="31586"/>
                  </a:lnTo>
                  <a:lnTo>
                    <a:pt x="167525" y="84623"/>
                  </a:lnTo>
                  <a:cubicBezTo>
                    <a:pt x="167015" y="85133"/>
                    <a:pt x="165995" y="86153"/>
                    <a:pt x="164975" y="86663"/>
                  </a:cubicBezTo>
                  <a:cubicBezTo>
                    <a:pt x="158345" y="91253"/>
                    <a:pt x="156816" y="90233"/>
                    <a:pt x="151716" y="88703"/>
                  </a:cubicBezTo>
                  <a:cubicBezTo>
                    <a:pt x="146616" y="86663"/>
                    <a:pt x="138457" y="84113"/>
                    <a:pt x="129277" y="94312"/>
                  </a:cubicBezTo>
                  <a:cubicBezTo>
                    <a:pt x="125197" y="98902"/>
                    <a:pt x="122138" y="110631"/>
                    <a:pt x="125197" y="120321"/>
                  </a:cubicBezTo>
                  <a:cubicBezTo>
                    <a:pt x="128257" y="130010"/>
                    <a:pt x="137947" y="137150"/>
                    <a:pt x="143556" y="138170"/>
                  </a:cubicBezTo>
                  <a:cubicBezTo>
                    <a:pt x="156816" y="140720"/>
                    <a:pt x="161405" y="134090"/>
                    <a:pt x="164465" y="129500"/>
                  </a:cubicBezTo>
                  <a:cubicBezTo>
                    <a:pt x="168035" y="124911"/>
                    <a:pt x="168545" y="123381"/>
                    <a:pt x="176704" y="123381"/>
                  </a:cubicBezTo>
                  <a:cubicBezTo>
                    <a:pt x="177724" y="123381"/>
                    <a:pt x="178744" y="123381"/>
                    <a:pt x="179764" y="123381"/>
                  </a:cubicBezTo>
                  <a:lnTo>
                    <a:pt x="197103" y="176418"/>
                  </a:lnTo>
                  <a:lnTo>
                    <a:pt x="144066" y="193247"/>
                  </a:lnTo>
                  <a:close/>
                </a:path>
              </a:pathLst>
            </a:custGeom>
            <a:solidFill>
              <a:srgbClr val="5d6a9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5" name="任意多边形: 形状 50"/>
            <p:cNvSpPr/>
            <p:nvPr/>
          </p:nvSpPr>
          <p:spPr>
            <a:xfrm>
              <a:off x="4169880" y="3896280"/>
              <a:ext cx="189720" cy="363240"/>
            </a:xfrm>
            <a:custGeom>
              <a:avLst/>
              <a:gdLst>
                <a:gd name="textAreaLeft" fmla="*/ 0 w 189720"/>
                <a:gd name="textAreaRight" fmla="*/ 190080 w 189720"/>
                <a:gd name="textAreaTop" fmla="*/ 0 h 363240"/>
                <a:gd name="textAreaBottom" fmla="*/ 363240 h 363240"/>
              </a:gdLst>
              <a:ahLst/>
              <a:rect l="textAreaLeft" t="textAreaTop" r="textAreaRight" b="textAreaBottom"/>
              <a:pathLst>
                <a:path w="117292" h="224386">
                  <a:moveTo>
                    <a:pt x="63491" y="166505"/>
                  </a:moveTo>
                  <a:cubicBezTo>
                    <a:pt x="63491" y="168035"/>
                    <a:pt x="62981" y="169565"/>
                    <a:pt x="62981" y="171095"/>
                  </a:cubicBezTo>
                  <a:cubicBezTo>
                    <a:pt x="62981" y="178744"/>
                    <a:pt x="64511" y="179254"/>
                    <a:pt x="69101" y="182314"/>
                  </a:cubicBezTo>
                  <a:cubicBezTo>
                    <a:pt x="73691" y="185374"/>
                    <a:pt x="79810" y="189964"/>
                    <a:pt x="77260" y="202713"/>
                  </a:cubicBezTo>
                  <a:cubicBezTo>
                    <a:pt x="76241" y="208322"/>
                    <a:pt x="68591" y="217502"/>
                    <a:pt x="59411" y="220562"/>
                  </a:cubicBezTo>
                  <a:cubicBezTo>
                    <a:pt x="50232" y="223622"/>
                    <a:pt x="39013" y="220562"/>
                    <a:pt x="34933" y="216482"/>
                  </a:cubicBezTo>
                  <a:cubicBezTo>
                    <a:pt x="25244" y="207813"/>
                    <a:pt x="27793" y="200673"/>
                    <a:pt x="29833" y="195573"/>
                  </a:cubicBezTo>
                  <a:cubicBezTo>
                    <a:pt x="31363" y="190474"/>
                    <a:pt x="32383" y="188944"/>
                    <a:pt x="27793" y="182824"/>
                  </a:cubicBezTo>
                  <a:cubicBezTo>
                    <a:pt x="27283" y="181804"/>
                    <a:pt x="25754" y="180274"/>
                    <a:pt x="24734" y="179254"/>
                  </a:cubicBezTo>
                  <a:lnTo>
                    <a:pt x="3825" y="186394"/>
                  </a:lnTo>
                  <a:lnTo>
                    <a:pt x="43602" y="12494"/>
                  </a:lnTo>
                  <a:lnTo>
                    <a:pt x="69611" y="3825"/>
                  </a:lnTo>
                  <a:lnTo>
                    <a:pt x="86950" y="56862"/>
                  </a:lnTo>
                  <a:cubicBezTo>
                    <a:pt x="86440" y="57372"/>
                    <a:pt x="85420" y="58391"/>
                    <a:pt x="84400" y="58901"/>
                  </a:cubicBezTo>
                  <a:cubicBezTo>
                    <a:pt x="77770" y="63491"/>
                    <a:pt x="76241" y="62471"/>
                    <a:pt x="71141" y="60941"/>
                  </a:cubicBezTo>
                  <a:cubicBezTo>
                    <a:pt x="66041" y="58901"/>
                    <a:pt x="57882" y="56352"/>
                    <a:pt x="48702" y="66551"/>
                  </a:cubicBezTo>
                  <a:cubicBezTo>
                    <a:pt x="44622" y="71141"/>
                    <a:pt x="41562" y="82870"/>
                    <a:pt x="44622" y="92560"/>
                  </a:cubicBezTo>
                  <a:cubicBezTo>
                    <a:pt x="47682" y="102249"/>
                    <a:pt x="57372" y="109388"/>
                    <a:pt x="62981" y="110408"/>
                  </a:cubicBezTo>
                  <a:cubicBezTo>
                    <a:pt x="76241" y="112958"/>
                    <a:pt x="80830" y="106329"/>
                    <a:pt x="83890" y="101739"/>
                  </a:cubicBezTo>
                  <a:cubicBezTo>
                    <a:pt x="87460" y="97149"/>
                    <a:pt x="87970" y="95619"/>
                    <a:pt x="96129" y="95619"/>
                  </a:cubicBezTo>
                  <a:cubicBezTo>
                    <a:pt x="97149" y="95619"/>
                    <a:pt x="98169" y="95619"/>
                    <a:pt x="99189" y="95619"/>
                  </a:cubicBezTo>
                  <a:lnTo>
                    <a:pt x="116528" y="148656"/>
                  </a:lnTo>
                  <a:lnTo>
                    <a:pt x="63491" y="166505"/>
                  </a:lnTo>
                  <a:close/>
                </a:path>
              </a:pathLst>
            </a:custGeom>
            <a:solidFill>
              <a:srgbClr val="545f8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6" name="任意多边形: 形状 51"/>
            <p:cNvSpPr/>
            <p:nvPr/>
          </p:nvSpPr>
          <p:spPr>
            <a:xfrm>
              <a:off x="3976200" y="4483440"/>
              <a:ext cx="396000" cy="338400"/>
            </a:xfrm>
            <a:custGeom>
              <a:avLst/>
              <a:gdLst>
                <a:gd name="textAreaLeft" fmla="*/ 0 w 396000"/>
                <a:gd name="textAreaRight" fmla="*/ 396360 w 396000"/>
                <a:gd name="textAreaTop" fmla="*/ 0 h 338400"/>
                <a:gd name="textAreaBottom" fmla="*/ 338760 h 338400"/>
              </a:gdLst>
              <a:ahLst/>
              <a:rect l="textAreaLeft" t="textAreaTop" r="textAreaRight" b="textAreaBottom"/>
              <a:pathLst>
                <a:path w="244785" h="209087">
                  <a:moveTo>
                    <a:pt x="204068" y="116018"/>
                  </a:moveTo>
                  <a:cubicBezTo>
                    <a:pt x="204578" y="117038"/>
                    <a:pt x="206108" y="118568"/>
                    <a:pt x="207128" y="119588"/>
                  </a:cubicBezTo>
                  <a:cubicBezTo>
                    <a:pt x="212738" y="124688"/>
                    <a:pt x="214268" y="124178"/>
                    <a:pt x="219877" y="122648"/>
                  </a:cubicBezTo>
                  <a:cubicBezTo>
                    <a:pt x="224977" y="121628"/>
                    <a:pt x="232626" y="119588"/>
                    <a:pt x="240276" y="130297"/>
                  </a:cubicBezTo>
                  <a:cubicBezTo>
                    <a:pt x="243846" y="134887"/>
                    <a:pt x="245886" y="146106"/>
                    <a:pt x="241806" y="155286"/>
                  </a:cubicBezTo>
                  <a:cubicBezTo>
                    <a:pt x="237726" y="163955"/>
                    <a:pt x="228037" y="170585"/>
                    <a:pt x="222427" y="170585"/>
                  </a:cubicBezTo>
                  <a:cubicBezTo>
                    <a:pt x="209678" y="172115"/>
                    <a:pt x="205598" y="165485"/>
                    <a:pt x="203048" y="160385"/>
                  </a:cubicBezTo>
                  <a:cubicBezTo>
                    <a:pt x="200498" y="155796"/>
                    <a:pt x="199478" y="154266"/>
                    <a:pt x="192339" y="153246"/>
                  </a:cubicBezTo>
                  <a:cubicBezTo>
                    <a:pt x="190809" y="153246"/>
                    <a:pt x="189279" y="153246"/>
                    <a:pt x="187749" y="153246"/>
                  </a:cubicBezTo>
                  <a:lnTo>
                    <a:pt x="164801" y="205263"/>
                  </a:lnTo>
                  <a:lnTo>
                    <a:pt x="112784" y="182824"/>
                  </a:lnTo>
                  <a:cubicBezTo>
                    <a:pt x="112784" y="182314"/>
                    <a:pt x="112784" y="181804"/>
                    <a:pt x="112784" y="181294"/>
                  </a:cubicBezTo>
                  <a:cubicBezTo>
                    <a:pt x="113294" y="173135"/>
                    <a:pt x="115333" y="172625"/>
                    <a:pt x="120433" y="170075"/>
                  </a:cubicBezTo>
                  <a:cubicBezTo>
                    <a:pt x="125533" y="167015"/>
                    <a:pt x="132163" y="162935"/>
                    <a:pt x="130633" y="149676"/>
                  </a:cubicBezTo>
                  <a:cubicBezTo>
                    <a:pt x="130123" y="144066"/>
                    <a:pt x="123493" y="133867"/>
                    <a:pt x="114314" y="129787"/>
                  </a:cubicBezTo>
                  <a:cubicBezTo>
                    <a:pt x="105134" y="125708"/>
                    <a:pt x="92895" y="127747"/>
                    <a:pt x="88305" y="131317"/>
                  </a:cubicBezTo>
                  <a:cubicBezTo>
                    <a:pt x="77596" y="139477"/>
                    <a:pt x="79126" y="147126"/>
                    <a:pt x="80656" y="152736"/>
                  </a:cubicBezTo>
                  <a:cubicBezTo>
                    <a:pt x="81676" y="158346"/>
                    <a:pt x="82695" y="159875"/>
                    <a:pt x="77596" y="165995"/>
                  </a:cubicBezTo>
                  <a:cubicBezTo>
                    <a:pt x="77086" y="165995"/>
                    <a:pt x="77086" y="166505"/>
                    <a:pt x="76576" y="167015"/>
                  </a:cubicBezTo>
                  <a:lnTo>
                    <a:pt x="24559" y="144576"/>
                  </a:lnTo>
                  <a:lnTo>
                    <a:pt x="45978" y="94089"/>
                  </a:lnTo>
                  <a:cubicBezTo>
                    <a:pt x="44958" y="92050"/>
                    <a:pt x="43428" y="89500"/>
                    <a:pt x="40878" y="87460"/>
                  </a:cubicBezTo>
                  <a:cubicBezTo>
                    <a:pt x="35268" y="82360"/>
                    <a:pt x="33229" y="83380"/>
                    <a:pt x="28129" y="84400"/>
                  </a:cubicBezTo>
                  <a:cubicBezTo>
                    <a:pt x="23029" y="85420"/>
                    <a:pt x="14870" y="87460"/>
                    <a:pt x="7730" y="76751"/>
                  </a:cubicBezTo>
                  <a:cubicBezTo>
                    <a:pt x="4160" y="72161"/>
                    <a:pt x="2120" y="60941"/>
                    <a:pt x="5690" y="52272"/>
                  </a:cubicBezTo>
                  <a:cubicBezTo>
                    <a:pt x="9770" y="43092"/>
                    <a:pt x="19459" y="36973"/>
                    <a:pt x="25069" y="36463"/>
                  </a:cubicBezTo>
                  <a:cubicBezTo>
                    <a:pt x="37818" y="34933"/>
                    <a:pt x="41898" y="41563"/>
                    <a:pt x="44448" y="46662"/>
                  </a:cubicBezTo>
                  <a:cubicBezTo>
                    <a:pt x="46998" y="51252"/>
                    <a:pt x="48018" y="52782"/>
                    <a:pt x="55157" y="53802"/>
                  </a:cubicBezTo>
                  <a:cubicBezTo>
                    <a:pt x="58217" y="54312"/>
                    <a:pt x="61277" y="53802"/>
                    <a:pt x="63317" y="53292"/>
                  </a:cubicBezTo>
                  <a:lnTo>
                    <a:pt x="84735" y="3825"/>
                  </a:lnTo>
                  <a:lnTo>
                    <a:pt x="136242" y="26264"/>
                  </a:lnTo>
                  <a:cubicBezTo>
                    <a:pt x="136242" y="27283"/>
                    <a:pt x="136242" y="28303"/>
                    <a:pt x="136242" y="29323"/>
                  </a:cubicBezTo>
                  <a:cubicBezTo>
                    <a:pt x="135222" y="37483"/>
                    <a:pt x="133692" y="37993"/>
                    <a:pt x="128593" y="40543"/>
                  </a:cubicBezTo>
                  <a:cubicBezTo>
                    <a:pt x="123493" y="43602"/>
                    <a:pt x="116863" y="47682"/>
                    <a:pt x="118393" y="60941"/>
                  </a:cubicBezTo>
                  <a:cubicBezTo>
                    <a:pt x="118903" y="66551"/>
                    <a:pt x="126043" y="77261"/>
                    <a:pt x="135222" y="81340"/>
                  </a:cubicBezTo>
                  <a:cubicBezTo>
                    <a:pt x="144402" y="85420"/>
                    <a:pt x="156131" y="82870"/>
                    <a:pt x="160721" y="79810"/>
                  </a:cubicBezTo>
                  <a:cubicBezTo>
                    <a:pt x="171430" y="71651"/>
                    <a:pt x="169900" y="64001"/>
                    <a:pt x="168370" y="58392"/>
                  </a:cubicBezTo>
                  <a:cubicBezTo>
                    <a:pt x="167350" y="52782"/>
                    <a:pt x="166330" y="51252"/>
                    <a:pt x="171430" y="45132"/>
                  </a:cubicBezTo>
                  <a:cubicBezTo>
                    <a:pt x="171940" y="44622"/>
                    <a:pt x="172960" y="43602"/>
                    <a:pt x="173980" y="43092"/>
                  </a:cubicBezTo>
                  <a:lnTo>
                    <a:pt x="225487" y="65021"/>
                  </a:lnTo>
                  <a:lnTo>
                    <a:pt x="204068" y="116018"/>
                  </a:lnTo>
                  <a:close/>
                </a:path>
              </a:pathLst>
            </a:custGeom>
            <a:solidFill>
              <a:srgbClr val="fcac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7" name="任意多边形: 形状 52"/>
            <p:cNvSpPr/>
            <p:nvPr/>
          </p:nvSpPr>
          <p:spPr>
            <a:xfrm>
              <a:off x="3976920" y="4518000"/>
              <a:ext cx="288720" cy="297000"/>
            </a:xfrm>
            <a:custGeom>
              <a:avLst/>
              <a:gdLst>
                <a:gd name="textAreaLeft" fmla="*/ 0 w 288720"/>
                <a:gd name="textAreaRight" fmla="*/ 289080 w 288720"/>
                <a:gd name="textAreaTop" fmla="*/ 0 h 297000"/>
                <a:gd name="textAreaBottom" fmla="*/ 297360 h 297000"/>
              </a:gdLst>
              <a:ahLst/>
              <a:rect l="textAreaLeft" t="textAreaTop" r="textAreaRight" b="textAreaBottom"/>
              <a:pathLst>
                <a:path w="178489" h="183589">
                  <a:moveTo>
                    <a:pt x="177550" y="154776"/>
                  </a:moveTo>
                  <a:lnTo>
                    <a:pt x="164801" y="184354"/>
                  </a:lnTo>
                  <a:lnTo>
                    <a:pt x="112784" y="161915"/>
                  </a:lnTo>
                  <a:cubicBezTo>
                    <a:pt x="112784" y="161405"/>
                    <a:pt x="112784" y="160895"/>
                    <a:pt x="112784" y="160385"/>
                  </a:cubicBezTo>
                  <a:cubicBezTo>
                    <a:pt x="113294" y="152226"/>
                    <a:pt x="115333" y="151716"/>
                    <a:pt x="120433" y="149166"/>
                  </a:cubicBezTo>
                  <a:cubicBezTo>
                    <a:pt x="125533" y="146106"/>
                    <a:pt x="132163" y="142027"/>
                    <a:pt x="130633" y="128767"/>
                  </a:cubicBezTo>
                  <a:cubicBezTo>
                    <a:pt x="130123" y="123158"/>
                    <a:pt x="123493" y="112958"/>
                    <a:pt x="114314" y="108879"/>
                  </a:cubicBezTo>
                  <a:cubicBezTo>
                    <a:pt x="105134" y="104799"/>
                    <a:pt x="92895" y="106839"/>
                    <a:pt x="88305" y="110408"/>
                  </a:cubicBezTo>
                  <a:cubicBezTo>
                    <a:pt x="77596" y="118568"/>
                    <a:pt x="79126" y="126217"/>
                    <a:pt x="80656" y="131827"/>
                  </a:cubicBezTo>
                  <a:cubicBezTo>
                    <a:pt x="81675" y="137437"/>
                    <a:pt x="82695" y="138967"/>
                    <a:pt x="77596" y="145086"/>
                  </a:cubicBezTo>
                  <a:cubicBezTo>
                    <a:pt x="77086" y="145086"/>
                    <a:pt x="77086" y="145596"/>
                    <a:pt x="76576" y="146106"/>
                  </a:cubicBezTo>
                  <a:lnTo>
                    <a:pt x="24559" y="123668"/>
                  </a:lnTo>
                  <a:lnTo>
                    <a:pt x="45978" y="73181"/>
                  </a:lnTo>
                  <a:cubicBezTo>
                    <a:pt x="44958" y="71141"/>
                    <a:pt x="43428" y="68591"/>
                    <a:pt x="40878" y="66551"/>
                  </a:cubicBezTo>
                  <a:cubicBezTo>
                    <a:pt x="35268" y="61451"/>
                    <a:pt x="33228" y="62471"/>
                    <a:pt x="28129" y="63491"/>
                  </a:cubicBezTo>
                  <a:cubicBezTo>
                    <a:pt x="23029" y="64511"/>
                    <a:pt x="14870" y="66551"/>
                    <a:pt x="7730" y="55842"/>
                  </a:cubicBezTo>
                  <a:cubicBezTo>
                    <a:pt x="4160" y="51252"/>
                    <a:pt x="2120" y="40033"/>
                    <a:pt x="5690" y="31363"/>
                  </a:cubicBezTo>
                  <a:cubicBezTo>
                    <a:pt x="9770" y="22184"/>
                    <a:pt x="19459" y="16064"/>
                    <a:pt x="25069" y="15554"/>
                  </a:cubicBezTo>
                  <a:cubicBezTo>
                    <a:pt x="37818" y="14024"/>
                    <a:pt x="41898" y="20654"/>
                    <a:pt x="44448" y="25753"/>
                  </a:cubicBezTo>
                  <a:cubicBezTo>
                    <a:pt x="46998" y="30343"/>
                    <a:pt x="48018" y="31873"/>
                    <a:pt x="55157" y="32893"/>
                  </a:cubicBezTo>
                  <a:cubicBezTo>
                    <a:pt x="58217" y="33403"/>
                    <a:pt x="61277" y="32893"/>
                    <a:pt x="63317" y="32383"/>
                  </a:cubicBezTo>
                  <a:lnTo>
                    <a:pt x="75556" y="3825"/>
                  </a:lnTo>
                  <a:cubicBezTo>
                    <a:pt x="105644" y="47172"/>
                    <a:pt x="146952" y="108879"/>
                    <a:pt x="177550" y="154776"/>
                  </a:cubicBezTo>
                  <a:close/>
                </a:path>
              </a:pathLst>
            </a:custGeom>
            <a:solidFill>
              <a:srgbClr val="f7a0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8" name="任意多边形: 形状 53"/>
            <p:cNvSpPr/>
            <p:nvPr/>
          </p:nvSpPr>
          <p:spPr>
            <a:xfrm>
              <a:off x="4272480" y="4262040"/>
              <a:ext cx="354960" cy="354960"/>
            </a:xfrm>
            <a:custGeom>
              <a:avLst/>
              <a:gdLst>
                <a:gd name="textAreaLeft" fmla="*/ 0 w 354960"/>
                <a:gd name="textAreaRight" fmla="*/ 355320 w 354960"/>
                <a:gd name="textAreaTop" fmla="*/ 0 h 354960"/>
                <a:gd name="textAreaBottom" fmla="*/ 355320 h 354960"/>
              </a:gdLst>
              <a:ahLst/>
              <a:rect l="textAreaLeft" t="textAreaTop" r="textAreaRight" b="textAreaBottom"/>
              <a:pathLst>
                <a:path w="219286" h="219286">
                  <a:moveTo>
                    <a:pt x="127540" y="218012"/>
                  </a:moveTo>
                  <a:lnTo>
                    <a:pt x="82153" y="183844"/>
                  </a:lnTo>
                  <a:cubicBezTo>
                    <a:pt x="82153" y="183844"/>
                    <a:pt x="82153" y="183334"/>
                    <a:pt x="82663" y="182824"/>
                  </a:cubicBezTo>
                  <a:cubicBezTo>
                    <a:pt x="85213" y="175175"/>
                    <a:pt x="87253" y="175175"/>
                    <a:pt x="92862" y="173645"/>
                  </a:cubicBezTo>
                  <a:cubicBezTo>
                    <a:pt x="97962" y="172115"/>
                    <a:pt x="106121" y="169565"/>
                    <a:pt x="107651" y="156306"/>
                  </a:cubicBezTo>
                  <a:cubicBezTo>
                    <a:pt x="108161" y="150696"/>
                    <a:pt x="104592" y="138967"/>
                    <a:pt x="96432" y="132847"/>
                  </a:cubicBezTo>
                  <a:cubicBezTo>
                    <a:pt x="88273" y="126727"/>
                    <a:pt x="76033" y="126217"/>
                    <a:pt x="70934" y="128257"/>
                  </a:cubicBezTo>
                  <a:cubicBezTo>
                    <a:pt x="58694" y="133357"/>
                    <a:pt x="58184" y="142027"/>
                    <a:pt x="58184" y="147636"/>
                  </a:cubicBezTo>
                  <a:cubicBezTo>
                    <a:pt x="58184" y="153246"/>
                    <a:pt x="58184" y="155286"/>
                    <a:pt x="52065" y="159875"/>
                  </a:cubicBezTo>
                  <a:cubicBezTo>
                    <a:pt x="51555" y="159875"/>
                    <a:pt x="51045" y="160385"/>
                    <a:pt x="51045" y="160385"/>
                  </a:cubicBezTo>
                  <a:lnTo>
                    <a:pt x="5658" y="126217"/>
                  </a:lnTo>
                  <a:lnTo>
                    <a:pt x="38806" y="82360"/>
                  </a:lnTo>
                  <a:cubicBezTo>
                    <a:pt x="38296" y="79810"/>
                    <a:pt x="37276" y="77260"/>
                    <a:pt x="35236" y="74710"/>
                  </a:cubicBezTo>
                  <a:cubicBezTo>
                    <a:pt x="30646" y="68591"/>
                    <a:pt x="29116" y="68591"/>
                    <a:pt x="23506" y="68591"/>
                  </a:cubicBezTo>
                  <a:cubicBezTo>
                    <a:pt x="18407" y="68591"/>
                    <a:pt x="10247" y="68591"/>
                    <a:pt x="5148" y="56862"/>
                  </a:cubicBezTo>
                  <a:cubicBezTo>
                    <a:pt x="2598" y="51762"/>
                    <a:pt x="3618" y="40033"/>
                    <a:pt x="9227" y="32383"/>
                  </a:cubicBezTo>
                  <a:cubicBezTo>
                    <a:pt x="14837" y="24734"/>
                    <a:pt x="26056" y="20654"/>
                    <a:pt x="31666" y="21674"/>
                  </a:cubicBezTo>
                  <a:cubicBezTo>
                    <a:pt x="44415" y="23204"/>
                    <a:pt x="46965" y="30853"/>
                    <a:pt x="47985" y="35953"/>
                  </a:cubicBezTo>
                  <a:cubicBezTo>
                    <a:pt x="49515" y="41052"/>
                    <a:pt x="49515" y="42582"/>
                    <a:pt x="56655" y="45642"/>
                  </a:cubicBezTo>
                  <a:cubicBezTo>
                    <a:pt x="59714" y="46662"/>
                    <a:pt x="62264" y="46662"/>
                    <a:pt x="64814" y="46662"/>
                  </a:cubicBezTo>
                  <a:lnTo>
                    <a:pt x="97452" y="3825"/>
                  </a:lnTo>
                  <a:lnTo>
                    <a:pt x="141819" y="37483"/>
                  </a:lnTo>
                  <a:cubicBezTo>
                    <a:pt x="141819" y="38503"/>
                    <a:pt x="141819" y="39523"/>
                    <a:pt x="141309" y="40543"/>
                  </a:cubicBezTo>
                  <a:cubicBezTo>
                    <a:pt x="138759" y="48192"/>
                    <a:pt x="136720" y="48192"/>
                    <a:pt x="131110" y="49722"/>
                  </a:cubicBezTo>
                  <a:cubicBezTo>
                    <a:pt x="126010" y="51252"/>
                    <a:pt x="117851" y="53802"/>
                    <a:pt x="115811" y="67061"/>
                  </a:cubicBezTo>
                  <a:cubicBezTo>
                    <a:pt x="115301" y="72671"/>
                    <a:pt x="119381" y="84400"/>
                    <a:pt x="127540" y="90520"/>
                  </a:cubicBezTo>
                  <a:cubicBezTo>
                    <a:pt x="135700" y="96639"/>
                    <a:pt x="147429" y="97149"/>
                    <a:pt x="153039" y="95109"/>
                  </a:cubicBezTo>
                  <a:cubicBezTo>
                    <a:pt x="165278" y="90010"/>
                    <a:pt x="165278" y="81340"/>
                    <a:pt x="165278" y="75731"/>
                  </a:cubicBezTo>
                  <a:cubicBezTo>
                    <a:pt x="165278" y="70121"/>
                    <a:pt x="165278" y="68081"/>
                    <a:pt x="171398" y="63491"/>
                  </a:cubicBezTo>
                  <a:cubicBezTo>
                    <a:pt x="172417" y="62981"/>
                    <a:pt x="173437" y="62471"/>
                    <a:pt x="174457" y="61961"/>
                  </a:cubicBezTo>
                  <a:lnTo>
                    <a:pt x="218825" y="95619"/>
                  </a:lnTo>
                  <a:cubicBezTo>
                    <a:pt x="159668" y="176194"/>
                    <a:pt x="189247" y="136417"/>
                    <a:pt x="127540" y="218012"/>
                  </a:cubicBezTo>
                  <a:close/>
                </a:path>
              </a:pathLst>
            </a:custGeom>
            <a:solidFill>
              <a:srgbClr val="505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89" name="任意多边形: 形状 54"/>
            <p:cNvSpPr/>
            <p:nvPr/>
          </p:nvSpPr>
          <p:spPr>
            <a:xfrm>
              <a:off x="4395960" y="4261320"/>
              <a:ext cx="231120" cy="321840"/>
            </a:xfrm>
            <a:custGeom>
              <a:avLst/>
              <a:gdLst>
                <a:gd name="textAreaLeft" fmla="*/ 0 w 231120"/>
                <a:gd name="textAreaRight" fmla="*/ 231480 w 231120"/>
                <a:gd name="textAreaTop" fmla="*/ 0 h 321840"/>
                <a:gd name="textAreaBottom" fmla="*/ 321840 h 321840"/>
              </a:gdLst>
              <a:ahLst/>
              <a:rect l="textAreaLeft" t="textAreaTop" r="textAreaRight" b="textAreaBottom"/>
              <a:pathLst>
                <a:path w="142791" h="198888">
                  <a:moveTo>
                    <a:pt x="3825" y="27793"/>
                  </a:moveTo>
                  <a:lnTo>
                    <a:pt x="22184" y="3825"/>
                  </a:lnTo>
                  <a:lnTo>
                    <a:pt x="66551" y="37483"/>
                  </a:lnTo>
                  <a:cubicBezTo>
                    <a:pt x="66551" y="38503"/>
                    <a:pt x="66551" y="39523"/>
                    <a:pt x="66041" y="40543"/>
                  </a:cubicBezTo>
                  <a:cubicBezTo>
                    <a:pt x="63491" y="48192"/>
                    <a:pt x="61451" y="48192"/>
                    <a:pt x="55842" y="49722"/>
                  </a:cubicBezTo>
                  <a:cubicBezTo>
                    <a:pt x="50742" y="51252"/>
                    <a:pt x="42582" y="53802"/>
                    <a:pt x="40543" y="67061"/>
                  </a:cubicBezTo>
                  <a:cubicBezTo>
                    <a:pt x="40033" y="72671"/>
                    <a:pt x="44112" y="84400"/>
                    <a:pt x="52272" y="90520"/>
                  </a:cubicBezTo>
                  <a:cubicBezTo>
                    <a:pt x="60431" y="96639"/>
                    <a:pt x="72161" y="97149"/>
                    <a:pt x="77770" y="95109"/>
                  </a:cubicBezTo>
                  <a:cubicBezTo>
                    <a:pt x="90010" y="90010"/>
                    <a:pt x="90010" y="81340"/>
                    <a:pt x="90010" y="75731"/>
                  </a:cubicBezTo>
                  <a:cubicBezTo>
                    <a:pt x="90010" y="70121"/>
                    <a:pt x="90010" y="68081"/>
                    <a:pt x="96129" y="63491"/>
                  </a:cubicBezTo>
                  <a:cubicBezTo>
                    <a:pt x="97149" y="62981"/>
                    <a:pt x="98169" y="62471"/>
                    <a:pt x="99189" y="61961"/>
                  </a:cubicBezTo>
                  <a:lnTo>
                    <a:pt x="143557" y="95619"/>
                  </a:lnTo>
                  <a:lnTo>
                    <a:pt x="66551" y="197613"/>
                  </a:lnTo>
                  <a:lnTo>
                    <a:pt x="3825" y="27793"/>
                  </a:lnTo>
                  <a:close/>
                </a:path>
              </a:pathLst>
            </a:custGeom>
            <a:solidFill>
              <a:srgbClr val="4144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90" name="任意多边形: 形状 55"/>
            <p:cNvSpPr/>
            <p:nvPr/>
          </p:nvSpPr>
          <p:spPr>
            <a:xfrm>
              <a:off x="1564560" y="2496600"/>
              <a:ext cx="586080" cy="420840"/>
            </a:xfrm>
            <a:custGeom>
              <a:avLst/>
              <a:gdLst>
                <a:gd name="textAreaLeft" fmla="*/ 0 w 586080"/>
                <a:gd name="textAreaRight" fmla="*/ 586440 w 586080"/>
                <a:gd name="textAreaTop" fmla="*/ 0 h 420840"/>
                <a:gd name="textAreaBottom" fmla="*/ 421200 h 420840"/>
              </a:gdLst>
              <a:ahLst/>
              <a:rect l="textAreaLeft" t="textAreaTop" r="textAreaRight" b="textAreaBottom"/>
              <a:pathLst>
                <a:path w="362078" h="260084">
                  <a:moveTo>
                    <a:pt x="61961" y="3825"/>
                  </a:moveTo>
                  <a:lnTo>
                    <a:pt x="280228" y="3825"/>
                  </a:lnTo>
                  <a:cubicBezTo>
                    <a:pt x="311846" y="3825"/>
                    <a:pt x="337855" y="29833"/>
                    <a:pt x="337855" y="61451"/>
                  </a:cubicBezTo>
                  <a:lnTo>
                    <a:pt x="337855" y="160895"/>
                  </a:lnTo>
                  <a:cubicBezTo>
                    <a:pt x="337855" y="186394"/>
                    <a:pt x="321026" y="208323"/>
                    <a:pt x="297567" y="215972"/>
                  </a:cubicBezTo>
                  <a:cubicBezTo>
                    <a:pt x="312866" y="234841"/>
                    <a:pt x="335815" y="246570"/>
                    <a:pt x="360803" y="246570"/>
                  </a:cubicBezTo>
                  <a:cubicBezTo>
                    <a:pt x="350094" y="253200"/>
                    <a:pt x="337345" y="256770"/>
                    <a:pt x="324596" y="257790"/>
                  </a:cubicBezTo>
                  <a:cubicBezTo>
                    <a:pt x="293997" y="259319"/>
                    <a:pt x="265949" y="244020"/>
                    <a:pt x="249630" y="219032"/>
                  </a:cubicBezTo>
                  <a:lnTo>
                    <a:pt x="61961" y="219032"/>
                  </a:lnTo>
                  <a:cubicBezTo>
                    <a:pt x="30343" y="219032"/>
                    <a:pt x="3825" y="193023"/>
                    <a:pt x="3825" y="161405"/>
                  </a:cubicBezTo>
                  <a:lnTo>
                    <a:pt x="3825" y="61451"/>
                  </a:lnTo>
                  <a:cubicBezTo>
                    <a:pt x="3825" y="29833"/>
                    <a:pt x="29833" y="3825"/>
                    <a:pt x="61961" y="3825"/>
                  </a:cubicBezTo>
                  <a:close/>
                </a:path>
              </a:pathLst>
            </a:custGeom>
            <a:solidFill>
              <a:srgbClr val="95c9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91" name="任意多边形: 形状 56"/>
            <p:cNvSpPr/>
            <p:nvPr/>
          </p:nvSpPr>
          <p:spPr>
            <a:xfrm>
              <a:off x="1645560" y="2570040"/>
              <a:ext cx="388080" cy="214560"/>
            </a:xfrm>
            <a:custGeom>
              <a:avLst/>
              <a:gdLst>
                <a:gd name="textAreaLeft" fmla="*/ 0 w 388080"/>
                <a:gd name="textAreaRight" fmla="*/ 388440 w 388080"/>
                <a:gd name="textAreaTop" fmla="*/ 0 h 214560"/>
                <a:gd name="textAreaBottom" fmla="*/ 214920 h 214560"/>
              </a:gdLst>
              <a:ahLst/>
              <a:rect l="textAreaLeft" t="textAreaTop" r="textAreaRight" b="textAreaBottom"/>
              <a:pathLst>
                <a:path w="239685" h="132592">
                  <a:moveTo>
                    <a:pt x="3825" y="3825"/>
                  </a:moveTo>
                  <a:lnTo>
                    <a:pt x="238411" y="3825"/>
                  </a:lnTo>
                  <a:lnTo>
                    <a:pt x="238411" y="13514"/>
                  </a:lnTo>
                  <a:lnTo>
                    <a:pt x="3825" y="13514"/>
                  </a:lnTo>
                  <a:lnTo>
                    <a:pt x="3825" y="3825"/>
                  </a:lnTo>
                  <a:close/>
                  <a:moveTo>
                    <a:pt x="3825" y="118568"/>
                  </a:moveTo>
                  <a:lnTo>
                    <a:pt x="238411" y="118568"/>
                  </a:lnTo>
                  <a:lnTo>
                    <a:pt x="238411" y="128767"/>
                  </a:lnTo>
                  <a:lnTo>
                    <a:pt x="3825" y="128767"/>
                  </a:lnTo>
                  <a:lnTo>
                    <a:pt x="3825" y="118568"/>
                  </a:lnTo>
                  <a:close/>
                  <a:moveTo>
                    <a:pt x="3825" y="80320"/>
                  </a:moveTo>
                  <a:lnTo>
                    <a:pt x="238411" y="80320"/>
                  </a:lnTo>
                  <a:lnTo>
                    <a:pt x="238411" y="90010"/>
                  </a:lnTo>
                  <a:lnTo>
                    <a:pt x="3825" y="90010"/>
                  </a:lnTo>
                  <a:lnTo>
                    <a:pt x="3825" y="80320"/>
                  </a:lnTo>
                  <a:close/>
                  <a:moveTo>
                    <a:pt x="3825" y="42072"/>
                  </a:moveTo>
                  <a:lnTo>
                    <a:pt x="238411" y="42072"/>
                  </a:lnTo>
                  <a:lnTo>
                    <a:pt x="238411" y="52272"/>
                  </a:lnTo>
                  <a:lnTo>
                    <a:pt x="3825" y="52272"/>
                  </a:lnTo>
                  <a:lnTo>
                    <a:pt x="3825" y="4207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92" name="任意多边形: 形状 57"/>
            <p:cNvSpPr/>
            <p:nvPr/>
          </p:nvSpPr>
          <p:spPr>
            <a:xfrm>
              <a:off x="3947040" y="2433960"/>
              <a:ext cx="586080" cy="462240"/>
            </a:xfrm>
            <a:custGeom>
              <a:avLst/>
              <a:gdLst>
                <a:gd name="textAreaLeft" fmla="*/ 0 w 586080"/>
                <a:gd name="textAreaRight" fmla="*/ 586440 w 586080"/>
                <a:gd name="textAreaTop" fmla="*/ 0 h 462240"/>
                <a:gd name="textAreaBottom" fmla="*/ 462600 h 462240"/>
              </a:gdLst>
              <a:ahLst/>
              <a:rect l="textAreaLeft" t="textAreaTop" r="textAreaRight" b="textAreaBottom"/>
              <a:pathLst>
                <a:path w="362078" h="285582">
                  <a:moveTo>
                    <a:pt x="302667" y="3825"/>
                  </a:moveTo>
                  <a:lnTo>
                    <a:pt x="84400" y="3825"/>
                  </a:lnTo>
                  <a:cubicBezTo>
                    <a:pt x="52782" y="3825"/>
                    <a:pt x="26773" y="29833"/>
                    <a:pt x="26773" y="61451"/>
                  </a:cubicBezTo>
                  <a:lnTo>
                    <a:pt x="26773" y="185374"/>
                  </a:lnTo>
                  <a:cubicBezTo>
                    <a:pt x="26773" y="210872"/>
                    <a:pt x="43602" y="232801"/>
                    <a:pt x="67061" y="240451"/>
                  </a:cubicBezTo>
                  <a:cubicBezTo>
                    <a:pt x="51762" y="259319"/>
                    <a:pt x="28813" y="271049"/>
                    <a:pt x="3825" y="271049"/>
                  </a:cubicBezTo>
                  <a:cubicBezTo>
                    <a:pt x="14534" y="277168"/>
                    <a:pt x="27283" y="281248"/>
                    <a:pt x="40033" y="282268"/>
                  </a:cubicBezTo>
                  <a:cubicBezTo>
                    <a:pt x="70631" y="283798"/>
                    <a:pt x="98679" y="267989"/>
                    <a:pt x="114488" y="243510"/>
                  </a:cubicBezTo>
                  <a:lnTo>
                    <a:pt x="303177" y="243510"/>
                  </a:lnTo>
                  <a:cubicBezTo>
                    <a:pt x="334795" y="243510"/>
                    <a:pt x="361313" y="217502"/>
                    <a:pt x="361313" y="185884"/>
                  </a:cubicBezTo>
                  <a:lnTo>
                    <a:pt x="361313" y="61451"/>
                  </a:lnTo>
                  <a:cubicBezTo>
                    <a:pt x="360293" y="29833"/>
                    <a:pt x="334285" y="3825"/>
                    <a:pt x="302667" y="3825"/>
                  </a:cubicBezTo>
                  <a:close/>
                </a:path>
              </a:pathLst>
            </a:custGeom>
            <a:solidFill>
              <a:srgbClr val="95c9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93" name="任意多边形: 形状 58"/>
            <p:cNvSpPr/>
            <p:nvPr/>
          </p:nvSpPr>
          <p:spPr>
            <a:xfrm>
              <a:off x="4070880" y="2507400"/>
              <a:ext cx="379800" cy="239400"/>
            </a:xfrm>
            <a:custGeom>
              <a:avLst/>
              <a:gdLst>
                <a:gd name="textAreaLeft" fmla="*/ 0 w 379800"/>
                <a:gd name="textAreaRight" fmla="*/ 380160 w 379800"/>
                <a:gd name="textAreaTop" fmla="*/ 0 h 239400"/>
                <a:gd name="textAreaBottom" fmla="*/ 239760 h 239400"/>
              </a:gdLst>
              <a:ahLst/>
              <a:rect l="textAreaLeft" t="textAreaTop" r="textAreaRight" b="textAreaBottom"/>
              <a:pathLst>
                <a:path w="234585" h="147891">
                  <a:moveTo>
                    <a:pt x="3825" y="146616"/>
                  </a:moveTo>
                  <a:lnTo>
                    <a:pt x="3825" y="136417"/>
                  </a:lnTo>
                  <a:lnTo>
                    <a:pt x="223622" y="136417"/>
                  </a:lnTo>
                  <a:lnTo>
                    <a:pt x="223622" y="3825"/>
                  </a:lnTo>
                  <a:lnTo>
                    <a:pt x="233821" y="3825"/>
                  </a:lnTo>
                  <a:lnTo>
                    <a:pt x="233821" y="136417"/>
                  </a:lnTo>
                  <a:lnTo>
                    <a:pt x="233821" y="146616"/>
                  </a:lnTo>
                  <a:lnTo>
                    <a:pt x="223622" y="146616"/>
                  </a:lnTo>
                  <a:lnTo>
                    <a:pt x="3825" y="146616"/>
                  </a:lnTo>
                  <a:close/>
                  <a:moveTo>
                    <a:pt x="148656" y="24224"/>
                  </a:moveTo>
                  <a:cubicBezTo>
                    <a:pt x="156306" y="24224"/>
                    <a:pt x="162935" y="30343"/>
                    <a:pt x="162935" y="38503"/>
                  </a:cubicBezTo>
                  <a:cubicBezTo>
                    <a:pt x="162935" y="39013"/>
                    <a:pt x="162935" y="39523"/>
                    <a:pt x="162935" y="40033"/>
                  </a:cubicBezTo>
                  <a:lnTo>
                    <a:pt x="175175" y="48702"/>
                  </a:lnTo>
                  <a:lnTo>
                    <a:pt x="193533" y="23204"/>
                  </a:lnTo>
                  <a:cubicBezTo>
                    <a:pt x="194553" y="21164"/>
                    <a:pt x="197613" y="20654"/>
                    <a:pt x="199143" y="22184"/>
                  </a:cubicBezTo>
                  <a:cubicBezTo>
                    <a:pt x="201183" y="23714"/>
                    <a:pt x="201693" y="26263"/>
                    <a:pt x="200163" y="27793"/>
                  </a:cubicBezTo>
                  <a:lnTo>
                    <a:pt x="179764" y="56862"/>
                  </a:lnTo>
                  <a:cubicBezTo>
                    <a:pt x="178744" y="58901"/>
                    <a:pt x="175685" y="59411"/>
                    <a:pt x="174155" y="57882"/>
                  </a:cubicBezTo>
                  <a:lnTo>
                    <a:pt x="159875" y="47682"/>
                  </a:lnTo>
                  <a:cubicBezTo>
                    <a:pt x="157326" y="50232"/>
                    <a:pt x="153756" y="52272"/>
                    <a:pt x="149676" y="52272"/>
                  </a:cubicBezTo>
                  <a:cubicBezTo>
                    <a:pt x="148146" y="52272"/>
                    <a:pt x="146616" y="52272"/>
                    <a:pt x="145086" y="51762"/>
                  </a:cubicBezTo>
                  <a:lnTo>
                    <a:pt x="111428" y="92559"/>
                  </a:lnTo>
                  <a:cubicBezTo>
                    <a:pt x="109899" y="94089"/>
                    <a:pt x="106839" y="94089"/>
                    <a:pt x="105309" y="92559"/>
                  </a:cubicBezTo>
                  <a:lnTo>
                    <a:pt x="78790" y="68591"/>
                  </a:lnTo>
                  <a:cubicBezTo>
                    <a:pt x="76751" y="69611"/>
                    <a:pt x="73691" y="70631"/>
                    <a:pt x="71141" y="70631"/>
                  </a:cubicBezTo>
                  <a:cubicBezTo>
                    <a:pt x="68591" y="70631"/>
                    <a:pt x="66551" y="70121"/>
                    <a:pt x="64511" y="69101"/>
                  </a:cubicBezTo>
                  <a:lnTo>
                    <a:pt x="23714" y="100719"/>
                  </a:lnTo>
                  <a:cubicBezTo>
                    <a:pt x="22184" y="102249"/>
                    <a:pt x="19124" y="101739"/>
                    <a:pt x="18104" y="100209"/>
                  </a:cubicBezTo>
                  <a:cubicBezTo>
                    <a:pt x="16574" y="98169"/>
                    <a:pt x="17084" y="95619"/>
                    <a:pt x="18614" y="94089"/>
                  </a:cubicBezTo>
                  <a:lnTo>
                    <a:pt x="58392" y="62981"/>
                  </a:lnTo>
                  <a:cubicBezTo>
                    <a:pt x="57372" y="60941"/>
                    <a:pt x="56862" y="58901"/>
                    <a:pt x="56862" y="56352"/>
                  </a:cubicBezTo>
                  <a:cubicBezTo>
                    <a:pt x="56862" y="48702"/>
                    <a:pt x="62981" y="42072"/>
                    <a:pt x="71141" y="42072"/>
                  </a:cubicBezTo>
                  <a:cubicBezTo>
                    <a:pt x="78790" y="42072"/>
                    <a:pt x="85420" y="48192"/>
                    <a:pt x="85420" y="56352"/>
                  </a:cubicBezTo>
                  <a:cubicBezTo>
                    <a:pt x="85420" y="58391"/>
                    <a:pt x="85420" y="60431"/>
                    <a:pt x="84400" y="61961"/>
                  </a:cubicBezTo>
                  <a:lnTo>
                    <a:pt x="107859" y="82870"/>
                  </a:lnTo>
                  <a:lnTo>
                    <a:pt x="136927" y="47172"/>
                  </a:lnTo>
                  <a:cubicBezTo>
                    <a:pt x="135397" y="44622"/>
                    <a:pt x="133867" y="42072"/>
                    <a:pt x="133867" y="38503"/>
                  </a:cubicBezTo>
                  <a:cubicBezTo>
                    <a:pt x="133867" y="30853"/>
                    <a:pt x="140497" y="24224"/>
                    <a:pt x="148656" y="242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94" name="任意多边形: 形状 59"/>
            <p:cNvSpPr/>
            <p:nvPr/>
          </p:nvSpPr>
          <p:spPr>
            <a:xfrm>
              <a:off x="2892960" y="2921760"/>
              <a:ext cx="280440" cy="263880"/>
            </a:xfrm>
            <a:custGeom>
              <a:avLst/>
              <a:gdLst>
                <a:gd name="textAreaLeft" fmla="*/ 0 w 280440"/>
                <a:gd name="textAreaRight" fmla="*/ 280800 w 280440"/>
                <a:gd name="textAreaTop" fmla="*/ 0 h 263880"/>
                <a:gd name="textAreaBottom" fmla="*/ 264240 h 263880"/>
              </a:gdLst>
              <a:ahLst/>
              <a:rect l="textAreaLeft" t="textAreaTop" r="textAreaRight" b="textAreaBottom"/>
              <a:pathLst>
                <a:path w="173389" h="163190">
                  <a:moveTo>
                    <a:pt x="7078" y="126255"/>
                  </a:moveTo>
                  <a:cubicBezTo>
                    <a:pt x="7078" y="126255"/>
                    <a:pt x="-571" y="93107"/>
                    <a:pt x="7588" y="62508"/>
                  </a:cubicBezTo>
                  <a:cubicBezTo>
                    <a:pt x="15748" y="32420"/>
                    <a:pt x="37677" y="12022"/>
                    <a:pt x="84594" y="4882"/>
                  </a:cubicBezTo>
                  <a:cubicBezTo>
                    <a:pt x="131511" y="-2258"/>
                    <a:pt x="157519" y="27831"/>
                    <a:pt x="168229" y="63018"/>
                  </a:cubicBezTo>
                  <a:cubicBezTo>
                    <a:pt x="178428" y="98716"/>
                    <a:pt x="171799" y="126765"/>
                    <a:pt x="171799" y="126765"/>
                  </a:cubicBezTo>
                  <a:lnTo>
                    <a:pt x="128451" y="159403"/>
                  </a:lnTo>
                  <a:lnTo>
                    <a:pt x="7078" y="126255"/>
                  </a:lnTo>
                  <a:close/>
                </a:path>
              </a:pathLst>
            </a:custGeom>
            <a:solidFill>
              <a:srgbClr val="7c442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95" name="任意多边形: 形状 60"/>
            <p:cNvSpPr/>
            <p:nvPr/>
          </p:nvSpPr>
          <p:spPr>
            <a:xfrm>
              <a:off x="2889360" y="3104280"/>
              <a:ext cx="49320" cy="65880"/>
            </a:xfrm>
            <a:custGeom>
              <a:avLst/>
              <a:gdLst>
                <a:gd name="textAreaLeft" fmla="*/ 0 w 49320"/>
                <a:gd name="textAreaRight" fmla="*/ 49680 w 49320"/>
                <a:gd name="textAreaTop" fmla="*/ 0 h 65880"/>
                <a:gd name="textAreaBottom" fmla="*/ 66240 h 65880"/>
              </a:gdLst>
              <a:ahLst/>
              <a:rect l="textAreaLeft" t="textAreaTop" r="textAreaRight" b="textAreaBottom"/>
              <a:pathLst>
                <a:path w="30598" h="40797">
                  <a:moveTo>
                    <a:pt x="27230" y="18121"/>
                  </a:moveTo>
                  <a:cubicBezTo>
                    <a:pt x="27230" y="18121"/>
                    <a:pt x="13460" y="-1768"/>
                    <a:pt x="6831" y="5372"/>
                  </a:cubicBezTo>
                  <a:cubicBezTo>
                    <a:pt x="711" y="12001"/>
                    <a:pt x="4791" y="24241"/>
                    <a:pt x="11421" y="30870"/>
                  </a:cubicBezTo>
                  <a:cubicBezTo>
                    <a:pt x="17540" y="38010"/>
                    <a:pt x="27230" y="38520"/>
                    <a:pt x="27230" y="38010"/>
                  </a:cubicBezTo>
                  <a:cubicBezTo>
                    <a:pt x="27740" y="37500"/>
                    <a:pt x="27230" y="18121"/>
                    <a:pt x="27230" y="18121"/>
                  </a:cubicBezTo>
                  <a:close/>
                </a:path>
              </a:pathLst>
            </a:custGeom>
            <a:solidFill>
              <a:srgbClr val="fecc9b"/>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2296" name="任意多边形: 形状 61"/>
            <p:cNvSpPr/>
            <p:nvPr/>
          </p:nvSpPr>
          <p:spPr>
            <a:xfrm>
              <a:off x="3135240" y="3104280"/>
              <a:ext cx="49320" cy="65880"/>
            </a:xfrm>
            <a:custGeom>
              <a:avLst/>
              <a:gdLst>
                <a:gd name="textAreaLeft" fmla="*/ 0 w 49320"/>
                <a:gd name="textAreaRight" fmla="*/ 49680 w 49320"/>
                <a:gd name="textAreaTop" fmla="*/ 0 h 65880"/>
                <a:gd name="textAreaBottom" fmla="*/ 66240 h 65880"/>
              </a:gdLst>
              <a:ahLst/>
              <a:rect l="textAreaLeft" t="textAreaTop" r="textAreaRight" b="textAreaBottom"/>
              <a:pathLst>
                <a:path w="30598" h="40797">
                  <a:moveTo>
                    <a:pt x="3825" y="18121"/>
                  </a:moveTo>
                  <a:cubicBezTo>
                    <a:pt x="3825" y="18121"/>
                    <a:pt x="17594" y="-1768"/>
                    <a:pt x="24224" y="5372"/>
                  </a:cubicBezTo>
                  <a:cubicBezTo>
                    <a:pt x="30343" y="12001"/>
                    <a:pt x="26263" y="24241"/>
                    <a:pt x="19634" y="30870"/>
                  </a:cubicBezTo>
                  <a:cubicBezTo>
                    <a:pt x="13514" y="38010"/>
                    <a:pt x="3825" y="38520"/>
                    <a:pt x="3825" y="38010"/>
                  </a:cubicBezTo>
                  <a:cubicBezTo>
                    <a:pt x="3825" y="37500"/>
                    <a:pt x="3825" y="18121"/>
                    <a:pt x="3825" y="18121"/>
                  </a:cubicBezTo>
                  <a:close/>
                </a:path>
              </a:pathLst>
            </a:custGeom>
            <a:solidFill>
              <a:srgbClr val="fecc9b"/>
            </a:solidFill>
            <a:ln w="0">
              <a:noFill/>
            </a:ln>
          </p:spPr>
          <p:style>
            <a:lnRef idx="0"/>
            <a:fillRef idx="0"/>
            <a:effectRef idx="0"/>
            <a:fontRef idx="minor"/>
          </p:style>
          <p:txBody>
            <a:bodyPr lIns="90000" rIns="90000" tIns="19440" bIns="19440" anchor="ctr">
              <a:noAutofit/>
            </a:bodyPr>
            <a:p>
              <a:endParaRPr b="0" lang="en-US" sz="1800" spc="-1" strike="noStrike">
                <a:solidFill>
                  <a:srgbClr val="262626"/>
                </a:solidFill>
                <a:latin typeface="Arial"/>
              </a:endParaRPr>
            </a:p>
          </p:txBody>
        </p:sp>
        <p:sp>
          <p:nvSpPr>
            <p:cNvPr id="2297" name="任意多边形: 形状 62"/>
            <p:cNvSpPr/>
            <p:nvPr/>
          </p:nvSpPr>
          <p:spPr>
            <a:xfrm>
              <a:off x="2961720" y="3219120"/>
              <a:ext cx="156600" cy="156600"/>
            </a:xfrm>
            <a:custGeom>
              <a:avLst/>
              <a:gdLst>
                <a:gd name="textAreaLeft" fmla="*/ 0 w 156600"/>
                <a:gd name="textAreaRight" fmla="*/ 156960 w 156600"/>
                <a:gd name="textAreaTop" fmla="*/ 0 h 156600"/>
                <a:gd name="textAreaBottom" fmla="*/ 156960 h 156600"/>
              </a:gdLst>
              <a:ahLst/>
              <a:rect l="textAreaLeft" t="textAreaTop" r="textAreaRight" b="textAreaBottom"/>
              <a:pathLst>
                <a:path w="96894" h="96894">
                  <a:moveTo>
                    <a:pt x="26773" y="6375"/>
                  </a:moveTo>
                  <a:cubicBezTo>
                    <a:pt x="26773" y="6375"/>
                    <a:pt x="29833" y="23714"/>
                    <a:pt x="19124" y="45132"/>
                  </a:cubicBezTo>
                  <a:cubicBezTo>
                    <a:pt x="8414" y="66041"/>
                    <a:pt x="3825" y="70631"/>
                    <a:pt x="3825" y="70631"/>
                  </a:cubicBezTo>
                  <a:lnTo>
                    <a:pt x="29833" y="84910"/>
                  </a:lnTo>
                  <a:cubicBezTo>
                    <a:pt x="28813" y="90010"/>
                    <a:pt x="28303" y="94089"/>
                    <a:pt x="28303" y="95109"/>
                  </a:cubicBezTo>
                  <a:cubicBezTo>
                    <a:pt x="28303" y="99189"/>
                    <a:pt x="43092" y="95619"/>
                    <a:pt x="48702" y="94599"/>
                  </a:cubicBezTo>
                  <a:cubicBezTo>
                    <a:pt x="53802" y="96129"/>
                    <a:pt x="68591" y="99699"/>
                    <a:pt x="68591" y="95109"/>
                  </a:cubicBezTo>
                  <a:cubicBezTo>
                    <a:pt x="68591" y="94089"/>
                    <a:pt x="68081" y="90520"/>
                    <a:pt x="67061" y="84910"/>
                  </a:cubicBezTo>
                  <a:lnTo>
                    <a:pt x="93579" y="70631"/>
                  </a:lnTo>
                  <a:cubicBezTo>
                    <a:pt x="93579" y="70631"/>
                    <a:pt x="88990" y="66041"/>
                    <a:pt x="78280" y="45132"/>
                  </a:cubicBezTo>
                  <a:cubicBezTo>
                    <a:pt x="68081" y="23714"/>
                    <a:pt x="70631" y="6375"/>
                    <a:pt x="70631" y="6375"/>
                  </a:cubicBezTo>
                  <a:lnTo>
                    <a:pt x="49722" y="3825"/>
                  </a:lnTo>
                  <a:lnTo>
                    <a:pt x="49212" y="3825"/>
                  </a:lnTo>
                  <a:lnTo>
                    <a:pt x="48192" y="3825"/>
                  </a:lnTo>
                  <a:lnTo>
                    <a:pt x="26773" y="6375"/>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298" name="任意多边形: 形状 63"/>
            <p:cNvSpPr/>
            <p:nvPr/>
          </p:nvSpPr>
          <p:spPr>
            <a:xfrm>
              <a:off x="2995560" y="3219120"/>
              <a:ext cx="90720" cy="57600"/>
            </a:xfrm>
            <a:custGeom>
              <a:avLst/>
              <a:gdLst>
                <a:gd name="textAreaLeft" fmla="*/ 0 w 90720"/>
                <a:gd name="textAreaRight" fmla="*/ 91080 w 90720"/>
                <a:gd name="textAreaTop" fmla="*/ 0 h 57600"/>
                <a:gd name="textAreaBottom" fmla="*/ 57960 h 57600"/>
              </a:gdLst>
              <a:ahLst/>
              <a:rect l="textAreaLeft" t="textAreaTop" r="textAreaRight" b="textAreaBottom"/>
              <a:pathLst>
                <a:path w="56096" h="35697">
                  <a:moveTo>
                    <a:pt x="5865" y="6375"/>
                  </a:moveTo>
                  <a:cubicBezTo>
                    <a:pt x="5865" y="6375"/>
                    <a:pt x="7395" y="16574"/>
                    <a:pt x="3825" y="30853"/>
                  </a:cubicBezTo>
                  <a:cubicBezTo>
                    <a:pt x="11474" y="-32133"/>
                    <a:pt x="19634" y="-30603"/>
                    <a:pt x="28813" y="-30603"/>
                  </a:cubicBezTo>
                  <a:cubicBezTo>
                    <a:pt x="-28563" y="-30603"/>
                    <a:pt x="-20404" y="-31623"/>
                    <a:pt x="-13264" y="31363"/>
                  </a:cubicBezTo>
                  <a:cubicBezTo>
                    <a:pt x="-17344" y="16574"/>
                    <a:pt x="-15304" y="6375"/>
                    <a:pt x="-15304" y="6375"/>
                  </a:cubicBezTo>
                  <a:lnTo>
                    <a:pt x="29323" y="3825"/>
                  </a:lnTo>
                  <a:lnTo>
                    <a:pt x="28813" y="3825"/>
                  </a:lnTo>
                  <a:lnTo>
                    <a:pt x="27793" y="3825"/>
                  </a:lnTo>
                  <a:lnTo>
                    <a:pt x="5865" y="6375"/>
                  </a:lnTo>
                  <a:close/>
                </a:path>
              </a:pathLst>
            </a:custGeom>
            <a:solidFill>
              <a:srgbClr val="f8bd93"/>
            </a:solidFill>
            <a:ln w="0">
              <a:noFill/>
            </a:ln>
          </p:spPr>
          <p:style>
            <a:lnRef idx="0"/>
            <a:fillRef idx="0"/>
            <a:effectRef idx="0"/>
            <a:fontRef idx="minor"/>
          </p:style>
          <p:txBody>
            <a:bodyPr lIns="90000" rIns="90000" tIns="11160" bIns="11160" anchor="ctr">
              <a:noAutofit/>
            </a:bodyPr>
            <a:p>
              <a:endParaRPr b="0" lang="en-US" sz="1800" spc="-1" strike="noStrike">
                <a:solidFill>
                  <a:srgbClr val="262626"/>
                </a:solidFill>
                <a:latin typeface="Arial"/>
              </a:endParaRPr>
            </a:p>
          </p:txBody>
        </p:sp>
        <p:sp>
          <p:nvSpPr>
            <p:cNvPr id="2299" name="任意多边形: 形状 64"/>
            <p:cNvSpPr/>
            <p:nvPr/>
          </p:nvSpPr>
          <p:spPr>
            <a:xfrm>
              <a:off x="2915640" y="3024360"/>
              <a:ext cx="247680" cy="231120"/>
            </a:xfrm>
            <a:custGeom>
              <a:avLst/>
              <a:gdLst>
                <a:gd name="textAreaLeft" fmla="*/ 0 w 247680"/>
                <a:gd name="textAreaRight" fmla="*/ 248040 w 247680"/>
                <a:gd name="textAreaTop" fmla="*/ 0 h 231120"/>
                <a:gd name="textAreaBottom" fmla="*/ 231480 h 231120"/>
              </a:gdLst>
              <a:ahLst/>
              <a:rect l="textAreaLeft" t="textAreaTop" r="textAreaRight" b="textAreaBottom"/>
              <a:pathLst>
                <a:path w="152990" h="142791">
                  <a:moveTo>
                    <a:pt x="127747" y="11984"/>
                  </a:moveTo>
                  <a:cubicBezTo>
                    <a:pt x="143046" y="18614"/>
                    <a:pt x="146616" y="36973"/>
                    <a:pt x="146616" y="46662"/>
                  </a:cubicBezTo>
                  <a:cubicBezTo>
                    <a:pt x="146616" y="48702"/>
                    <a:pt x="146616" y="50742"/>
                    <a:pt x="146616" y="52272"/>
                  </a:cubicBezTo>
                  <a:cubicBezTo>
                    <a:pt x="149676" y="59921"/>
                    <a:pt x="151716" y="67571"/>
                    <a:pt x="151716" y="76750"/>
                  </a:cubicBezTo>
                  <a:cubicBezTo>
                    <a:pt x="151716" y="113468"/>
                    <a:pt x="118568" y="143556"/>
                    <a:pt x="77770" y="143556"/>
                  </a:cubicBezTo>
                  <a:cubicBezTo>
                    <a:pt x="36973" y="143556"/>
                    <a:pt x="3825" y="113468"/>
                    <a:pt x="3825" y="76750"/>
                  </a:cubicBezTo>
                  <a:cubicBezTo>
                    <a:pt x="3825" y="71141"/>
                    <a:pt x="4335" y="65531"/>
                    <a:pt x="5865" y="60431"/>
                  </a:cubicBezTo>
                  <a:cubicBezTo>
                    <a:pt x="6375" y="58901"/>
                    <a:pt x="7395" y="32383"/>
                    <a:pt x="10964" y="21164"/>
                  </a:cubicBezTo>
                  <a:cubicBezTo>
                    <a:pt x="15044" y="9944"/>
                    <a:pt x="17594" y="3825"/>
                    <a:pt x="17594" y="3825"/>
                  </a:cubicBezTo>
                  <a:cubicBezTo>
                    <a:pt x="31873" y="7395"/>
                    <a:pt x="44112" y="14534"/>
                    <a:pt x="71651" y="13514"/>
                  </a:cubicBezTo>
                  <a:cubicBezTo>
                    <a:pt x="93069" y="12494"/>
                    <a:pt x="120608" y="8924"/>
                    <a:pt x="127747" y="11984"/>
                  </a:cubicBez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0" name="任意多边形: 形状 65"/>
            <p:cNvSpPr/>
            <p:nvPr/>
          </p:nvSpPr>
          <p:spPr>
            <a:xfrm>
              <a:off x="3257640" y="2651760"/>
              <a:ext cx="156600" cy="255960"/>
            </a:xfrm>
            <a:custGeom>
              <a:avLst/>
              <a:gdLst>
                <a:gd name="textAreaLeft" fmla="*/ 0 w 156600"/>
                <a:gd name="textAreaRight" fmla="*/ 156960 w 156600"/>
                <a:gd name="textAreaTop" fmla="*/ 0 h 255960"/>
                <a:gd name="textAreaBottom" fmla="*/ 256320 h 255960"/>
              </a:gdLst>
              <a:ahLst/>
              <a:rect l="textAreaLeft" t="textAreaTop" r="textAreaRight" b="textAreaBottom"/>
              <a:pathLst>
                <a:path w="96894" h="158090">
                  <a:moveTo>
                    <a:pt x="57798" y="154776"/>
                  </a:moveTo>
                  <a:cubicBezTo>
                    <a:pt x="57798" y="154776"/>
                    <a:pt x="7821" y="85420"/>
                    <a:pt x="10371" y="78280"/>
                  </a:cubicBezTo>
                  <a:cubicBezTo>
                    <a:pt x="13431" y="71141"/>
                    <a:pt x="20061" y="75221"/>
                    <a:pt x="20061" y="75221"/>
                  </a:cubicBezTo>
                  <a:cubicBezTo>
                    <a:pt x="20061" y="75221"/>
                    <a:pt x="-2888" y="21674"/>
                    <a:pt x="5781" y="18614"/>
                  </a:cubicBezTo>
                  <a:cubicBezTo>
                    <a:pt x="14451" y="16064"/>
                    <a:pt x="17511" y="19124"/>
                    <a:pt x="17511" y="19124"/>
                  </a:cubicBezTo>
                  <a:cubicBezTo>
                    <a:pt x="17511" y="19124"/>
                    <a:pt x="16491" y="9434"/>
                    <a:pt x="25670" y="10454"/>
                  </a:cubicBezTo>
                  <a:cubicBezTo>
                    <a:pt x="34850" y="11474"/>
                    <a:pt x="34850" y="13004"/>
                    <a:pt x="34850" y="13004"/>
                  </a:cubicBezTo>
                  <a:cubicBezTo>
                    <a:pt x="34850" y="13004"/>
                    <a:pt x="34340" y="3825"/>
                    <a:pt x="40969" y="3825"/>
                  </a:cubicBezTo>
                  <a:cubicBezTo>
                    <a:pt x="48109" y="3825"/>
                    <a:pt x="49639" y="8415"/>
                    <a:pt x="49639" y="8415"/>
                  </a:cubicBezTo>
                  <a:lnTo>
                    <a:pt x="75647" y="69101"/>
                  </a:lnTo>
                  <a:cubicBezTo>
                    <a:pt x="75647" y="69101"/>
                    <a:pt x="73097" y="42072"/>
                    <a:pt x="77687" y="41053"/>
                  </a:cubicBezTo>
                  <a:cubicBezTo>
                    <a:pt x="82277" y="40033"/>
                    <a:pt x="87887" y="43602"/>
                    <a:pt x="90436" y="60941"/>
                  </a:cubicBezTo>
                  <a:cubicBezTo>
                    <a:pt x="92986" y="78280"/>
                    <a:pt x="96556" y="138457"/>
                    <a:pt x="96556" y="138457"/>
                  </a:cubicBezTo>
                  <a:lnTo>
                    <a:pt x="57798" y="154776"/>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1" name="任意多边形: 形状 66"/>
            <p:cNvSpPr/>
            <p:nvPr/>
          </p:nvSpPr>
          <p:spPr>
            <a:xfrm>
              <a:off x="3139200" y="2840760"/>
              <a:ext cx="412560" cy="651960"/>
            </a:xfrm>
            <a:custGeom>
              <a:avLst/>
              <a:gdLst>
                <a:gd name="textAreaLeft" fmla="*/ 0 w 412560"/>
                <a:gd name="textAreaRight" fmla="*/ 412920 w 412560"/>
                <a:gd name="textAreaTop" fmla="*/ 0 h 651960"/>
                <a:gd name="textAreaBottom" fmla="*/ 652320 h 651960"/>
              </a:gdLst>
              <a:ahLst/>
              <a:rect l="textAreaLeft" t="textAreaTop" r="textAreaRight" b="textAreaBottom"/>
              <a:pathLst>
                <a:path w="254984" h="402875">
                  <a:moveTo>
                    <a:pt x="3825" y="370493"/>
                  </a:moveTo>
                  <a:lnTo>
                    <a:pt x="35953" y="313886"/>
                  </a:lnTo>
                  <a:lnTo>
                    <a:pt x="179764" y="218012"/>
                  </a:lnTo>
                  <a:lnTo>
                    <a:pt x="118568" y="25753"/>
                  </a:lnTo>
                  <a:lnTo>
                    <a:pt x="173645" y="3825"/>
                  </a:lnTo>
                  <a:cubicBezTo>
                    <a:pt x="173645" y="3825"/>
                    <a:pt x="247590" y="196083"/>
                    <a:pt x="251160" y="207813"/>
                  </a:cubicBezTo>
                  <a:cubicBezTo>
                    <a:pt x="255240" y="219542"/>
                    <a:pt x="255240" y="225152"/>
                    <a:pt x="240961" y="243000"/>
                  </a:cubicBezTo>
                  <a:cubicBezTo>
                    <a:pt x="226681" y="261359"/>
                    <a:pt x="20144" y="402111"/>
                    <a:pt x="20144" y="402111"/>
                  </a:cubicBezTo>
                  <a:lnTo>
                    <a:pt x="3825" y="370493"/>
                  </a:lnTo>
                  <a:close/>
                </a:path>
              </a:pathLst>
            </a:custGeom>
            <a:solidFill>
              <a:srgbClr val="f7a0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2" name="任意多边形: 形状 67"/>
            <p:cNvSpPr/>
            <p:nvPr/>
          </p:nvSpPr>
          <p:spPr>
            <a:xfrm>
              <a:off x="3326040" y="2840760"/>
              <a:ext cx="115560" cy="82440"/>
            </a:xfrm>
            <a:custGeom>
              <a:avLst/>
              <a:gdLst>
                <a:gd name="textAreaLeft" fmla="*/ 0 w 115560"/>
                <a:gd name="textAreaRight" fmla="*/ 115920 w 115560"/>
                <a:gd name="textAreaTop" fmla="*/ 0 h 82440"/>
                <a:gd name="textAreaBottom" fmla="*/ 82800 h 82440"/>
              </a:gdLst>
              <a:ahLst/>
              <a:rect l="textAreaLeft" t="textAreaTop" r="textAreaRight" b="textAreaBottom"/>
              <a:pathLst>
                <a:path w="71395" h="50996">
                  <a:moveTo>
                    <a:pt x="10964" y="50232"/>
                  </a:moveTo>
                  <a:lnTo>
                    <a:pt x="3825" y="25753"/>
                  </a:lnTo>
                  <a:lnTo>
                    <a:pt x="58901" y="3825"/>
                  </a:lnTo>
                  <a:lnTo>
                    <a:pt x="68591" y="28813"/>
                  </a:lnTo>
                  <a:lnTo>
                    <a:pt x="10964" y="50232"/>
                  </a:lnTo>
                  <a:close/>
                </a:path>
              </a:pathLst>
            </a:custGeom>
            <a:solidFill>
              <a:srgbClr val="ea823c"/>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Arial"/>
              </a:endParaRPr>
            </a:p>
          </p:txBody>
        </p:sp>
        <p:sp>
          <p:nvSpPr>
            <p:cNvPr id="2303" name="任意多边形: 形状 68"/>
            <p:cNvSpPr/>
            <p:nvPr/>
          </p:nvSpPr>
          <p:spPr>
            <a:xfrm>
              <a:off x="2783160" y="4840920"/>
              <a:ext cx="222840" cy="148320"/>
            </a:xfrm>
            <a:custGeom>
              <a:avLst/>
              <a:gdLst>
                <a:gd name="textAreaLeft" fmla="*/ 0 w 222840"/>
                <a:gd name="textAreaRight" fmla="*/ 223200 w 222840"/>
                <a:gd name="textAreaTop" fmla="*/ 0 h 148320"/>
                <a:gd name="textAreaBottom" fmla="*/ 148320 h 148320"/>
              </a:gdLst>
              <a:ahLst/>
              <a:rect l="textAreaLeft" t="textAreaTop" r="textAreaRight" b="textAreaBottom"/>
              <a:pathLst>
                <a:path w="137691" h="91794">
                  <a:moveTo>
                    <a:pt x="71317" y="7394"/>
                  </a:moveTo>
                  <a:cubicBezTo>
                    <a:pt x="71317" y="7394"/>
                    <a:pt x="6041" y="63491"/>
                    <a:pt x="5531" y="66551"/>
                  </a:cubicBezTo>
                  <a:cubicBezTo>
                    <a:pt x="5021" y="69611"/>
                    <a:pt x="1961" y="87460"/>
                    <a:pt x="5531" y="87970"/>
                  </a:cubicBezTo>
                  <a:cubicBezTo>
                    <a:pt x="8591" y="87970"/>
                    <a:pt x="138633" y="82870"/>
                    <a:pt x="138633" y="82870"/>
                  </a:cubicBezTo>
                  <a:lnTo>
                    <a:pt x="126394" y="3825"/>
                  </a:lnTo>
                  <a:lnTo>
                    <a:pt x="71317" y="7394"/>
                  </a:lnTo>
                  <a:close/>
                </a:path>
              </a:pathLst>
            </a:custGeom>
            <a:solidFill>
              <a:srgbClr val="5d6a9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4" name="任意多边形: 形状 69"/>
            <p:cNvSpPr/>
            <p:nvPr/>
          </p:nvSpPr>
          <p:spPr>
            <a:xfrm>
              <a:off x="3098160" y="4840920"/>
              <a:ext cx="222840" cy="148320"/>
            </a:xfrm>
            <a:custGeom>
              <a:avLst/>
              <a:gdLst>
                <a:gd name="textAreaLeft" fmla="*/ 0 w 222840"/>
                <a:gd name="textAreaRight" fmla="*/ 223200 w 222840"/>
                <a:gd name="textAreaTop" fmla="*/ 0 h 148320"/>
                <a:gd name="textAreaBottom" fmla="*/ 148320 h 148320"/>
              </a:gdLst>
              <a:ahLst/>
              <a:rect l="textAreaLeft" t="textAreaTop" r="textAreaRight" b="textAreaBottom"/>
              <a:pathLst>
                <a:path w="137691" h="91794">
                  <a:moveTo>
                    <a:pt x="71651" y="7394"/>
                  </a:moveTo>
                  <a:cubicBezTo>
                    <a:pt x="71651" y="7394"/>
                    <a:pt x="136927" y="63491"/>
                    <a:pt x="137437" y="66551"/>
                  </a:cubicBezTo>
                  <a:cubicBezTo>
                    <a:pt x="137947" y="69611"/>
                    <a:pt x="140497" y="87460"/>
                    <a:pt x="137437" y="87970"/>
                  </a:cubicBezTo>
                  <a:cubicBezTo>
                    <a:pt x="134377" y="87970"/>
                    <a:pt x="3825" y="82870"/>
                    <a:pt x="3825" y="82870"/>
                  </a:cubicBezTo>
                  <a:lnTo>
                    <a:pt x="16064" y="3825"/>
                  </a:lnTo>
                  <a:lnTo>
                    <a:pt x="71651" y="7394"/>
                  </a:lnTo>
                  <a:close/>
                </a:path>
              </a:pathLst>
            </a:custGeom>
            <a:solidFill>
              <a:srgbClr val="5d6a9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5" name="任意多边形: 形状 70"/>
            <p:cNvSpPr/>
            <p:nvPr/>
          </p:nvSpPr>
          <p:spPr>
            <a:xfrm>
              <a:off x="2863440" y="3956400"/>
              <a:ext cx="379800" cy="916200"/>
            </a:xfrm>
            <a:custGeom>
              <a:avLst/>
              <a:gdLst>
                <a:gd name="textAreaLeft" fmla="*/ 0 w 379800"/>
                <a:gd name="textAreaRight" fmla="*/ 380160 w 379800"/>
                <a:gd name="textAreaTop" fmla="*/ 0 h 916200"/>
                <a:gd name="textAreaBottom" fmla="*/ 916560 h 916200"/>
              </a:gdLst>
              <a:ahLst/>
              <a:rect l="textAreaLeft" t="textAreaTop" r="textAreaRight" b="textAreaBottom"/>
              <a:pathLst>
                <a:path w="234585" h="566066">
                  <a:moveTo>
                    <a:pt x="14534" y="3825"/>
                  </a:moveTo>
                  <a:cubicBezTo>
                    <a:pt x="15554" y="9944"/>
                    <a:pt x="3825" y="562751"/>
                    <a:pt x="3825" y="562751"/>
                  </a:cubicBezTo>
                  <a:lnTo>
                    <a:pt x="80830" y="561731"/>
                  </a:lnTo>
                  <a:lnTo>
                    <a:pt x="118058" y="127237"/>
                  </a:lnTo>
                  <a:lnTo>
                    <a:pt x="155286" y="561731"/>
                  </a:lnTo>
                  <a:lnTo>
                    <a:pt x="232291" y="562751"/>
                  </a:lnTo>
                  <a:cubicBezTo>
                    <a:pt x="232291" y="562751"/>
                    <a:pt x="220562" y="9944"/>
                    <a:pt x="221582" y="3825"/>
                  </a:cubicBezTo>
                  <a:lnTo>
                    <a:pt x="118058" y="14024"/>
                  </a:lnTo>
                  <a:lnTo>
                    <a:pt x="14534" y="3825"/>
                  </a:lnTo>
                  <a:close/>
                </a:path>
              </a:pathLst>
            </a:custGeom>
            <a:solidFill>
              <a:srgbClr val="505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6" name="任意多边形: 形状 71"/>
            <p:cNvSpPr/>
            <p:nvPr/>
          </p:nvSpPr>
          <p:spPr>
            <a:xfrm>
              <a:off x="2880000" y="3956400"/>
              <a:ext cx="346680" cy="107280"/>
            </a:xfrm>
            <a:custGeom>
              <a:avLst/>
              <a:gdLst>
                <a:gd name="textAreaLeft" fmla="*/ 0 w 346680"/>
                <a:gd name="textAreaRight" fmla="*/ 347040 w 346680"/>
                <a:gd name="textAreaTop" fmla="*/ 0 h 107280"/>
                <a:gd name="textAreaBottom" fmla="*/ 107640 h 107280"/>
              </a:gdLst>
              <a:ahLst/>
              <a:rect l="textAreaLeft" t="textAreaTop" r="textAreaRight" b="textAreaBottom"/>
              <a:pathLst>
                <a:path w="214187" h="66296">
                  <a:moveTo>
                    <a:pt x="4335" y="3825"/>
                  </a:moveTo>
                  <a:cubicBezTo>
                    <a:pt x="4335" y="4845"/>
                    <a:pt x="4335" y="28303"/>
                    <a:pt x="3825" y="65021"/>
                  </a:cubicBezTo>
                  <a:lnTo>
                    <a:pt x="211892" y="64001"/>
                  </a:lnTo>
                  <a:cubicBezTo>
                    <a:pt x="211382" y="28303"/>
                    <a:pt x="211382" y="5355"/>
                    <a:pt x="211382" y="3825"/>
                  </a:cubicBezTo>
                  <a:lnTo>
                    <a:pt x="107859" y="14024"/>
                  </a:lnTo>
                  <a:lnTo>
                    <a:pt x="4335" y="3825"/>
                  </a:lnTo>
                  <a:close/>
                </a:path>
              </a:pathLst>
            </a:custGeom>
            <a:solidFill>
              <a:srgbClr val="4144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7" name="任意多边形: 形状 72"/>
            <p:cNvSpPr/>
            <p:nvPr/>
          </p:nvSpPr>
          <p:spPr>
            <a:xfrm>
              <a:off x="2844360" y="3291840"/>
              <a:ext cx="412560" cy="743040"/>
            </a:xfrm>
            <a:custGeom>
              <a:avLst/>
              <a:gdLst>
                <a:gd name="textAreaLeft" fmla="*/ 0 w 412560"/>
                <a:gd name="textAreaRight" fmla="*/ 412920 w 412560"/>
                <a:gd name="textAreaTop" fmla="*/ 0 h 743040"/>
                <a:gd name="textAreaBottom" fmla="*/ 743400 h 743040"/>
              </a:gdLst>
              <a:ahLst/>
              <a:rect l="textAreaLeft" t="textAreaTop" r="textAreaRight" b="textAreaBottom"/>
              <a:pathLst>
                <a:path w="254984" h="458972">
                  <a:moveTo>
                    <a:pt x="123158" y="20144"/>
                  </a:moveTo>
                  <a:cubicBezTo>
                    <a:pt x="117548" y="20144"/>
                    <a:pt x="108879" y="18614"/>
                    <a:pt x="100209" y="14534"/>
                  </a:cubicBezTo>
                  <a:cubicBezTo>
                    <a:pt x="84400" y="6885"/>
                    <a:pt x="85420" y="3825"/>
                    <a:pt x="85420" y="3825"/>
                  </a:cubicBezTo>
                  <a:lnTo>
                    <a:pt x="10964" y="22694"/>
                  </a:lnTo>
                  <a:lnTo>
                    <a:pt x="3825" y="457188"/>
                  </a:lnTo>
                  <a:lnTo>
                    <a:pt x="255750" y="456168"/>
                  </a:lnTo>
                  <a:lnTo>
                    <a:pt x="235351" y="23204"/>
                  </a:lnTo>
                  <a:lnTo>
                    <a:pt x="160895" y="4335"/>
                  </a:lnTo>
                  <a:cubicBezTo>
                    <a:pt x="160895" y="4335"/>
                    <a:pt x="162425" y="7395"/>
                    <a:pt x="146106" y="15044"/>
                  </a:cubicBezTo>
                  <a:cubicBezTo>
                    <a:pt x="137437" y="18614"/>
                    <a:pt x="129277" y="20144"/>
                    <a:pt x="123158" y="20144"/>
                  </a:cubicBezTo>
                  <a:close/>
                </a:path>
              </a:pathLst>
            </a:custGeom>
            <a:solidFill>
              <a:srgbClr val="fcac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8" name="任意多边形: 形状 73"/>
            <p:cNvSpPr/>
            <p:nvPr/>
          </p:nvSpPr>
          <p:spPr>
            <a:xfrm>
              <a:off x="2914560" y="3291840"/>
              <a:ext cx="255960" cy="371520"/>
            </a:xfrm>
            <a:custGeom>
              <a:avLst/>
              <a:gdLst>
                <a:gd name="textAreaLeft" fmla="*/ 0 w 255960"/>
                <a:gd name="textAreaRight" fmla="*/ 256320 w 255960"/>
                <a:gd name="textAreaTop" fmla="*/ 0 h 371520"/>
                <a:gd name="textAreaBottom" fmla="*/ 371880 h 371520"/>
              </a:gdLst>
              <a:ahLst/>
              <a:rect l="textAreaLeft" t="textAreaTop" r="textAreaRight" b="textAreaBottom"/>
              <a:pathLst>
                <a:path w="158090" h="229486">
                  <a:moveTo>
                    <a:pt x="79810" y="20144"/>
                  </a:moveTo>
                  <a:cubicBezTo>
                    <a:pt x="74201" y="20144"/>
                    <a:pt x="65531" y="18614"/>
                    <a:pt x="56862" y="14534"/>
                  </a:cubicBezTo>
                  <a:cubicBezTo>
                    <a:pt x="41053" y="6885"/>
                    <a:pt x="42072" y="3825"/>
                    <a:pt x="42072" y="3825"/>
                  </a:cubicBezTo>
                  <a:lnTo>
                    <a:pt x="3825" y="13514"/>
                  </a:lnTo>
                  <a:lnTo>
                    <a:pt x="85930" y="230251"/>
                  </a:lnTo>
                  <a:lnTo>
                    <a:pt x="155286" y="13514"/>
                  </a:lnTo>
                  <a:lnTo>
                    <a:pt x="117038" y="3825"/>
                  </a:lnTo>
                  <a:cubicBezTo>
                    <a:pt x="117038" y="3825"/>
                    <a:pt x="118568" y="6885"/>
                    <a:pt x="102249" y="14534"/>
                  </a:cubicBezTo>
                  <a:cubicBezTo>
                    <a:pt x="94089" y="18614"/>
                    <a:pt x="85930" y="20144"/>
                    <a:pt x="79810" y="20144"/>
                  </a:cubicBezTo>
                  <a:close/>
                </a:path>
              </a:pathLst>
            </a:custGeom>
            <a:solidFill>
              <a:srgbClr val="fcc36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09" name="任意多边形: 形状 74"/>
            <p:cNvSpPr/>
            <p:nvPr/>
          </p:nvSpPr>
          <p:spPr>
            <a:xfrm>
              <a:off x="2941920" y="3291840"/>
              <a:ext cx="206280" cy="82440"/>
            </a:xfrm>
            <a:custGeom>
              <a:avLst/>
              <a:gdLst>
                <a:gd name="textAreaLeft" fmla="*/ 0 w 206280"/>
                <a:gd name="textAreaRight" fmla="*/ 206640 w 206280"/>
                <a:gd name="textAreaTop" fmla="*/ 0 h 82440"/>
                <a:gd name="textAreaBottom" fmla="*/ 82800 h 82440"/>
              </a:gdLst>
              <a:ahLst/>
              <a:rect l="textAreaLeft" t="textAreaTop" r="textAreaRight" b="textAreaBottom"/>
              <a:pathLst>
                <a:path w="127492" h="50996">
                  <a:moveTo>
                    <a:pt x="57372" y="19634"/>
                  </a:moveTo>
                  <a:cubicBezTo>
                    <a:pt x="52272" y="19124"/>
                    <a:pt x="46662" y="17594"/>
                    <a:pt x="40033" y="14534"/>
                  </a:cubicBezTo>
                  <a:cubicBezTo>
                    <a:pt x="24224" y="6885"/>
                    <a:pt x="25243" y="3825"/>
                    <a:pt x="25243" y="3825"/>
                  </a:cubicBezTo>
                  <a:lnTo>
                    <a:pt x="3825" y="9434"/>
                  </a:lnTo>
                  <a:lnTo>
                    <a:pt x="30343" y="50232"/>
                  </a:lnTo>
                  <a:lnTo>
                    <a:pt x="57372" y="19634"/>
                  </a:lnTo>
                  <a:close/>
                  <a:moveTo>
                    <a:pt x="126727" y="10454"/>
                  </a:moveTo>
                  <a:lnTo>
                    <a:pt x="100719" y="3825"/>
                  </a:lnTo>
                  <a:cubicBezTo>
                    <a:pt x="100719" y="3825"/>
                    <a:pt x="102249" y="6885"/>
                    <a:pt x="85930" y="14534"/>
                  </a:cubicBezTo>
                  <a:cubicBezTo>
                    <a:pt x="81340" y="16574"/>
                    <a:pt x="77260" y="18104"/>
                    <a:pt x="73181" y="18614"/>
                  </a:cubicBezTo>
                  <a:lnTo>
                    <a:pt x="100719" y="49212"/>
                  </a:lnTo>
                  <a:cubicBezTo>
                    <a:pt x="101229" y="49212"/>
                    <a:pt x="116528" y="27283"/>
                    <a:pt x="126727" y="10454"/>
                  </a:cubicBezTo>
                  <a:close/>
                </a:path>
              </a:pathLst>
            </a:custGeom>
            <a:solidFill>
              <a:srgbClr val="f5ad5b"/>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Arial"/>
              </a:endParaRPr>
            </a:p>
          </p:txBody>
        </p:sp>
        <p:sp>
          <p:nvSpPr>
            <p:cNvPr id="2310" name="任意多边形: 形状 75"/>
            <p:cNvSpPr/>
            <p:nvPr/>
          </p:nvSpPr>
          <p:spPr>
            <a:xfrm>
              <a:off x="3023640" y="3324960"/>
              <a:ext cx="57600" cy="346680"/>
            </a:xfrm>
            <a:custGeom>
              <a:avLst/>
              <a:gdLst>
                <a:gd name="textAreaLeft" fmla="*/ 0 w 57600"/>
                <a:gd name="textAreaRight" fmla="*/ 57960 w 57600"/>
                <a:gd name="textAreaTop" fmla="*/ 0 h 346680"/>
                <a:gd name="textAreaBottom" fmla="*/ 347040 h 346680"/>
              </a:gdLst>
              <a:ahLst/>
              <a:rect l="textAreaLeft" t="textAreaTop" r="textAreaRight" b="textAreaBottom"/>
              <a:pathLst>
                <a:path w="35697" h="214187">
                  <a:moveTo>
                    <a:pt x="3825" y="170585"/>
                  </a:moveTo>
                  <a:lnTo>
                    <a:pt x="19124" y="210362"/>
                  </a:lnTo>
                  <a:lnTo>
                    <a:pt x="32383" y="168545"/>
                  </a:lnTo>
                  <a:lnTo>
                    <a:pt x="24733" y="26773"/>
                  </a:lnTo>
                  <a:lnTo>
                    <a:pt x="32383" y="17594"/>
                  </a:lnTo>
                  <a:lnTo>
                    <a:pt x="20144" y="4335"/>
                  </a:lnTo>
                  <a:lnTo>
                    <a:pt x="19634" y="3825"/>
                  </a:lnTo>
                  <a:lnTo>
                    <a:pt x="19124" y="4335"/>
                  </a:lnTo>
                  <a:lnTo>
                    <a:pt x="6885" y="17594"/>
                  </a:lnTo>
                  <a:lnTo>
                    <a:pt x="14534" y="26773"/>
                  </a:lnTo>
                  <a:lnTo>
                    <a:pt x="3825" y="170585"/>
                  </a:lnTo>
                  <a:close/>
                </a:path>
              </a:pathLst>
            </a:custGeom>
            <a:solidFill>
              <a:srgbClr val="dd6f5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11" name="任意多边形: 形状 76"/>
            <p:cNvSpPr/>
            <p:nvPr/>
          </p:nvSpPr>
          <p:spPr>
            <a:xfrm>
              <a:off x="2995560" y="3603240"/>
              <a:ext cx="330120" cy="379800"/>
            </a:xfrm>
            <a:custGeom>
              <a:avLst/>
              <a:gdLst>
                <a:gd name="textAreaLeft" fmla="*/ 0 w 330120"/>
                <a:gd name="textAreaRight" fmla="*/ 330480 w 330120"/>
                <a:gd name="textAreaTop" fmla="*/ 0 h 379800"/>
                <a:gd name="textAreaBottom" fmla="*/ 380160 h 379800"/>
              </a:gdLst>
              <a:ahLst/>
              <a:rect l="textAreaLeft" t="textAreaTop" r="textAreaRight" b="textAreaBottom"/>
              <a:pathLst>
                <a:path w="203987" h="234585">
                  <a:moveTo>
                    <a:pt x="55842" y="3825"/>
                  </a:moveTo>
                  <a:lnTo>
                    <a:pt x="200163" y="43602"/>
                  </a:lnTo>
                  <a:lnTo>
                    <a:pt x="147636" y="231781"/>
                  </a:lnTo>
                  <a:lnTo>
                    <a:pt x="3825" y="192004"/>
                  </a:lnTo>
                  <a:lnTo>
                    <a:pt x="55842" y="3825"/>
                  </a:lnTo>
                  <a:close/>
                </a:path>
              </a:pathLst>
            </a:custGeom>
            <a:solidFill>
              <a:srgbClr val="5d6a9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12" name="任意多边形: 形状 77"/>
            <p:cNvSpPr/>
            <p:nvPr/>
          </p:nvSpPr>
          <p:spPr>
            <a:xfrm>
              <a:off x="3028680" y="3630240"/>
              <a:ext cx="288720" cy="354960"/>
            </a:xfrm>
            <a:custGeom>
              <a:avLst/>
              <a:gdLst>
                <a:gd name="textAreaLeft" fmla="*/ 0 w 288720"/>
                <a:gd name="textAreaRight" fmla="*/ 289080 w 288720"/>
                <a:gd name="textAreaTop" fmla="*/ 0 h 354960"/>
                <a:gd name="textAreaBottom" fmla="*/ 355320 h 354960"/>
              </a:gdLst>
              <a:ahLst/>
              <a:rect l="textAreaLeft" t="textAreaTop" r="textAreaRight" b="textAreaBottom"/>
              <a:pathLst>
                <a:path w="178489" h="219286">
                  <a:moveTo>
                    <a:pt x="96639" y="3825"/>
                  </a:moveTo>
                  <a:lnTo>
                    <a:pt x="179254" y="26773"/>
                  </a:lnTo>
                  <a:lnTo>
                    <a:pt x="127237" y="215462"/>
                  </a:lnTo>
                  <a:lnTo>
                    <a:pt x="3825" y="181294"/>
                  </a:lnTo>
                  <a:cubicBezTo>
                    <a:pt x="30853" y="128257"/>
                    <a:pt x="68591" y="55842"/>
                    <a:pt x="96639" y="3825"/>
                  </a:cubicBezTo>
                  <a:close/>
                </a:path>
              </a:pathLst>
            </a:custGeom>
            <a:solidFill>
              <a:srgbClr val="6d79a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13" name="任意多边形: 形状 78"/>
            <p:cNvSpPr/>
            <p:nvPr/>
          </p:nvSpPr>
          <p:spPr>
            <a:xfrm>
              <a:off x="3095640" y="3706560"/>
              <a:ext cx="206280" cy="148320"/>
            </a:xfrm>
            <a:custGeom>
              <a:avLst/>
              <a:gdLst>
                <a:gd name="textAreaLeft" fmla="*/ 0 w 206280"/>
                <a:gd name="textAreaRight" fmla="*/ 206640 w 206280"/>
                <a:gd name="textAreaTop" fmla="*/ 0 h 148320"/>
                <a:gd name="textAreaBottom" fmla="*/ 148320 h 148320"/>
              </a:gdLst>
              <a:ahLst/>
              <a:rect l="textAreaLeft" t="textAreaTop" r="textAreaRight" b="textAreaBottom"/>
              <a:pathLst>
                <a:path w="127492" h="91794">
                  <a:moveTo>
                    <a:pt x="13004" y="4625"/>
                  </a:moveTo>
                  <a:cubicBezTo>
                    <a:pt x="14534" y="-474"/>
                    <a:pt x="49722" y="20435"/>
                    <a:pt x="62471" y="20945"/>
                  </a:cubicBezTo>
                  <a:cubicBezTo>
                    <a:pt x="74711" y="20945"/>
                    <a:pt x="84400" y="22474"/>
                    <a:pt x="84400" y="22474"/>
                  </a:cubicBezTo>
                  <a:cubicBezTo>
                    <a:pt x="84400" y="22474"/>
                    <a:pt x="87460" y="26554"/>
                    <a:pt x="87460" y="30124"/>
                  </a:cubicBezTo>
                  <a:cubicBezTo>
                    <a:pt x="87460" y="34204"/>
                    <a:pt x="86440" y="34714"/>
                    <a:pt x="86440" y="34714"/>
                  </a:cubicBezTo>
                  <a:lnTo>
                    <a:pt x="125198" y="46953"/>
                  </a:lnTo>
                  <a:cubicBezTo>
                    <a:pt x="125198" y="46953"/>
                    <a:pt x="129277" y="47463"/>
                    <a:pt x="125198" y="54093"/>
                  </a:cubicBezTo>
                  <a:cubicBezTo>
                    <a:pt x="121118" y="60722"/>
                    <a:pt x="120608" y="60722"/>
                    <a:pt x="120608" y="60722"/>
                  </a:cubicBezTo>
                  <a:cubicBezTo>
                    <a:pt x="120608" y="60722"/>
                    <a:pt x="126727" y="69902"/>
                    <a:pt x="124688" y="72961"/>
                  </a:cubicBezTo>
                  <a:cubicBezTo>
                    <a:pt x="122648" y="76531"/>
                    <a:pt x="120098" y="76531"/>
                    <a:pt x="120098" y="76531"/>
                  </a:cubicBezTo>
                  <a:cubicBezTo>
                    <a:pt x="120098" y="76531"/>
                    <a:pt x="127237" y="80611"/>
                    <a:pt x="121118" y="85201"/>
                  </a:cubicBezTo>
                  <a:cubicBezTo>
                    <a:pt x="114998" y="89790"/>
                    <a:pt x="109898" y="88261"/>
                    <a:pt x="109898" y="88261"/>
                  </a:cubicBezTo>
                  <a:cubicBezTo>
                    <a:pt x="109898" y="88261"/>
                    <a:pt x="76240" y="86221"/>
                    <a:pt x="55332" y="76021"/>
                  </a:cubicBezTo>
                  <a:cubicBezTo>
                    <a:pt x="34423" y="65822"/>
                    <a:pt x="3825" y="46953"/>
                    <a:pt x="3825" y="46953"/>
                  </a:cubicBezTo>
                  <a:lnTo>
                    <a:pt x="13004" y="4625"/>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14" name="任意多边形: 形状 79"/>
            <p:cNvSpPr/>
            <p:nvPr/>
          </p:nvSpPr>
          <p:spPr>
            <a:xfrm>
              <a:off x="2728800" y="3322440"/>
              <a:ext cx="412560" cy="487080"/>
            </a:xfrm>
            <a:custGeom>
              <a:avLst/>
              <a:gdLst>
                <a:gd name="textAreaLeft" fmla="*/ 0 w 412560"/>
                <a:gd name="textAreaRight" fmla="*/ 412920 w 412560"/>
                <a:gd name="textAreaTop" fmla="*/ 0 h 487080"/>
                <a:gd name="textAreaBottom" fmla="*/ 487440 h 487080"/>
              </a:gdLst>
              <a:ahLst/>
              <a:rect l="textAreaLeft" t="textAreaTop" r="textAreaRight" b="textAreaBottom"/>
              <a:pathLst>
                <a:path w="254984" h="300881">
                  <a:moveTo>
                    <a:pt x="82360" y="3825"/>
                  </a:moveTo>
                  <a:cubicBezTo>
                    <a:pt x="82360" y="3825"/>
                    <a:pt x="68591" y="14024"/>
                    <a:pt x="61451" y="29323"/>
                  </a:cubicBezTo>
                  <a:cubicBezTo>
                    <a:pt x="54312" y="44622"/>
                    <a:pt x="3825" y="231271"/>
                    <a:pt x="3825" y="231271"/>
                  </a:cubicBezTo>
                  <a:lnTo>
                    <a:pt x="239431" y="299097"/>
                  </a:lnTo>
                  <a:lnTo>
                    <a:pt x="255750" y="239941"/>
                  </a:lnTo>
                  <a:lnTo>
                    <a:pt x="74711" y="190984"/>
                  </a:lnTo>
                  <a:lnTo>
                    <a:pt x="80320" y="169565"/>
                  </a:lnTo>
                  <a:lnTo>
                    <a:pt x="82360" y="3825"/>
                  </a:lnTo>
                  <a:close/>
                </a:path>
              </a:pathLst>
            </a:custGeom>
            <a:solidFill>
              <a:srgbClr val="f7a0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15" name="任意多边形: 形状 80"/>
            <p:cNvSpPr/>
            <p:nvPr/>
          </p:nvSpPr>
          <p:spPr>
            <a:xfrm>
              <a:off x="3061800" y="3693960"/>
              <a:ext cx="82440" cy="115560"/>
            </a:xfrm>
            <a:custGeom>
              <a:avLst/>
              <a:gdLst>
                <a:gd name="textAreaLeft" fmla="*/ 0 w 82440"/>
                <a:gd name="textAreaRight" fmla="*/ 82800 w 82440"/>
                <a:gd name="textAreaTop" fmla="*/ 0 h 115560"/>
                <a:gd name="textAreaBottom" fmla="*/ 115920 h 115560"/>
              </a:gdLst>
              <a:ahLst/>
              <a:rect l="textAreaLeft" t="textAreaTop" r="textAreaRight" b="textAreaBottom"/>
              <a:pathLst>
                <a:path w="50996" h="71395">
                  <a:moveTo>
                    <a:pt x="3825" y="61451"/>
                  </a:moveTo>
                  <a:lnTo>
                    <a:pt x="33403" y="70121"/>
                  </a:lnTo>
                  <a:lnTo>
                    <a:pt x="49722" y="10964"/>
                  </a:lnTo>
                  <a:lnTo>
                    <a:pt x="22184" y="3825"/>
                  </a:lnTo>
                  <a:lnTo>
                    <a:pt x="3825" y="61451"/>
                  </a:lnTo>
                  <a:close/>
                </a:path>
              </a:pathLst>
            </a:custGeom>
            <a:solidFill>
              <a:srgbClr val="ea823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16" name="任意多边形: 形状 81"/>
            <p:cNvSpPr/>
            <p:nvPr/>
          </p:nvSpPr>
          <p:spPr>
            <a:xfrm>
              <a:off x="3070800" y="2517120"/>
              <a:ext cx="371520" cy="404280"/>
            </a:xfrm>
            <a:custGeom>
              <a:avLst/>
              <a:gdLst>
                <a:gd name="textAreaLeft" fmla="*/ 0 w 371520"/>
                <a:gd name="textAreaRight" fmla="*/ 371880 w 371520"/>
                <a:gd name="textAreaTop" fmla="*/ 0 h 404280"/>
                <a:gd name="textAreaBottom" fmla="*/ 404640 h 404280"/>
              </a:gdLst>
              <a:ahLst/>
              <a:rect l="textAreaLeft" t="textAreaTop" r="textAreaRight" b="textAreaBottom"/>
              <a:pathLst>
                <a:path w="229486" h="249885">
                  <a:moveTo>
                    <a:pt x="95619" y="3825"/>
                  </a:moveTo>
                  <a:lnTo>
                    <a:pt x="227701" y="73691"/>
                  </a:lnTo>
                  <a:lnTo>
                    <a:pt x="135907" y="246570"/>
                  </a:lnTo>
                  <a:lnTo>
                    <a:pt x="3825" y="176194"/>
                  </a:lnTo>
                  <a:lnTo>
                    <a:pt x="95619" y="3825"/>
                  </a:lnTo>
                  <a:close/>
                </a:path>
              </a:pathLst>
            </a:custGeom>
            <a:solidFill>
              <a:srgbClr val="505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17" name="任意多边形: 形状 82"/>
            <p:cNvSpPr/>
            <p:nvPr/>
          </p:nvSpPr>
          <p:spPr>
            <a:xfrm>
              <a:off x="3127680" y="2572560"/>
              <a:ext cx="313560" cy="346680"/>
            </a:xfrm>
            <a:custGeom>
              <a:avLst/>
              <a:gdLst>
                <a:gd name="textAreaLeft" fmla="*/ 0 w 313560"/>
                <a:gd name="textAreaRight" fmla="*/ 313920 w 313560"/>
                <a:gd name="textAreaTop" fmla="*/ 0 h 346680"/>
                <a:gd name="textAreaBottom" fmla="*/ 347040 h 346680"/>
              </a:gdLst>
              <a:ahLst/>
              <a:rect l="textAreaLeft" t="textAreaTop" r="textAreaRight" b="textAreaBottom"/>
              <a:pathLst>
                <a:path w="193788" h="214187">
                  <a:moveTo>
                    <a:pt x="125707" y="3825"/>
                  </a:moveTo>
                  <a:lnTo>
                    <a:pt x="192513" y="39523"/>
                  </a:lnTo>
                  <a:lnTo>
                    <a:pt x="100719" y="212402"/>
                  </a:lnTo>
                  <a:lnTo>
                    <a:pt x="3825" y="160895"/>
                  </a:lnTo>
                  <a:lnTo>
                    <a:pt x="125707" y="3825"/>
                  </a:lnTo>
                  <a:close/>
                </a:path>
              </a:pathLst>
            </a:custGeom>
            <a:solidFill>
              <a:srgbClr val="6f717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18" name="任意多边形: 形状 83"/>
            <p:cNvSpPr/>
            <p:nvPr/>
          </p:nvSpPr>
          <p:spPr>
            <a:xfrm>
              <a:off x="3009600" y="3095280"/>
              <a:ext cx="32760" cy="74160"/>
            </a:xfrm>
            <a:custGeom>
              <a:avLst/>
              <a:gdLst>
                <a:gd name="textAreaLeft" fmla="*/ 0 w 32760"/>
                <a:gd name="textAreaRight" fmla="*/ 33120 w 32760"/>
                <a:gd name="textAreaTop" fmla="*/ 0 h 74160"/>
                <a:gd name="textAreaBottom" fmla="*/ 74520 h 74160"/>
              </a:gdLst>
              <a:ahLst/>
              <a:rect l="textAreaLeft" t="textAreaTop" r="textAreaRight" b="textAreaBottom"/>
              <a:pathLst>
                <a:path w="20398" h="45897">
                  <a:moveTo>
                    <a:pt x="10964" y="3825"/>
                  </a:moveTo>
                  <a:lnTo>
                    <a:pt x="9944" y="4335"/>
                  </a:lnTo>
                  <a:lnTo>
                    <a:pt x="3825" y="-24483"/>
                  </a:lnTo>
                  <a:lnTo>
                    <a:pt x="19634" y="-19894"/>
                  </a:lnTo>
                  <a:lnTo>
                    <a:pt x="9944" y="-28053"/>
                  </a:lnTo>
                  <a:lnTo>
                    <a:pt x="10964" y="3825"/>
                  </a:lnTo>
                  <a:close/>
                </a:path>
              </a:pathLst>
            </a:custGeom>
            <a:solidFill>
              <a:srgbClr val="e78d7b"/>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2319" name="任意多边形: 形状 84"/>
            <p:cNvSpPr/>
            <p:nvPr/>
          </p:nvSpPr>
          <p:spPr>
            <a:xfrm>
              <a:off x="2988360" y="3183480"/>
              <a:ext cx="99000" cy="24480"/>
            </a:xfrm>
            <a:custGeom>
              <a:avLst/>
              <a:gdLst>
                <a:gd name="textAreaLeft" fmla="*/ 0 w 99000"/>
                <a:gd name="textAreaRight" fmla="*/ 99360 w 99000"/>
                <a:gd name="textAreaTop" fmla="*/ 0 h 24480"/>
                <a:gd name="textAreaBottom" fmla="*/ 24840 h 24480"/>
              </a:gdLst>
              <a:ahLst/>
              <a:rect l="textAreaLeft" t="textAreaTop" r="textAreaRight" b="textAreaBottom"/>
              <a:pathLst>
                <a:path w="61196" h="15299">
                  <a:moveTo>
                    <a:pt x="-7655" y="3825"/>
                  </a:moveTo>
                  <a:cubicBezTo>
                    <a:pt x="-11734" y="10454"/>
                    <a:pt x="-22444" y="15044"/>
                    <a:pt x="30853" y="15044"/>
                  </a:cubicBezTo>
                  <a:cubicBezTo>
                    <a:pt x="18614" y="15044"/>
                    <a:pt x="7905" y="10454"/>
                    <a:pt x="3825" y="3825"/>
                  </a:cubicBezTo>
                  <a:lnTo>
                    <a:pt x="-7655" y="3825"/>
                  </a:lnTo>
                  <a:close/>
                </a:path>
              </a:pathLst>
            </a:custGeom>
            <a:solidFill>
              <a:srgbClr val="c6314e"/>
            </a:solidFill>
            <a:ln w="0">
              <a:noFill/>
            </a:ln>
          </p:spPr>
          <p:style>
            <a:lnRef idx="0"/>
            <a:fillRef idx="0"/>
            <a:effectRef idx="0"/>
            <a:fontRef idx="minor"/>
          </p:style>
          <p:txBody>
            <a:bodyPr lIns="90000" rIns="90000" tIns="-21960" bIns="-21960" anchor="ctr">
              <a:noAutofit/>
            </a:bodyPr>
            <a:p>
              <a:endParaRPr b="0" lang="en-US" sz="1800" spc="-1" strike="noStrike">
                <a:solidFill>
                  <a:srgbClr val="262626"/>
                </a:solidFill>
                <a:latin typeface="Arial"/>
              </a:endParaRPr>
            </a:p>
          </p:txBody>
        </p:sp>
        <p:sp>
          <p:nvSpPr>
            <p:cNvPr id="2320" name="任意多边形: 形状 85"/>
            <p:cNvSpPr/>
            <p:nvPr/>
          </p:nvSpPr>
          <p:spPr>
            <a:xfrm>
              <a:off x="2373840" y="3224880"/>
              <a:ext cx="206280" cy="214560"/>
            </a:xfrm>
            <a:custGeom>
              <a:avLst/>
              <a:gdLst>
                <a:gd name="textAreaLeft" fmla="*/ 0 w 206280"/>
                <a:gd name="textAreaRight" fmla="*/ 206640 w 206280"/>
                <a:gd name="textAreaTop" fmla="*/ 0 h 214560"/>
                <a:gd name="textAreaBottom" fmla="*/ 214920 h 214560"/>
              </a:gdLst>
              <a:ahLst/>
              <a:rect l="textAreaLeft" t="textAreaTop" r="textAreaRight" b="textAreaBottom"/>
              <a:pathLst>
                <a:path w="127492" h="132592">
                  <a:moveTo>
                    <a:pt x="59921" y="3825"/>
                  </a:moveTo>
                  <a:lnTo>
                    <a:pt x="65531" y="11474"/>
                  </a:lnTo>
                  <a:lnTo>
                    <a:pt x="71141" y="3825"/>
                  </a:lnTo>
                  <a:lnTo>
                    <a:pt x="86950" y="13004"/>
                  </a:lnTo>
                  <a:cubicBezTo>
                    <a:pt x="86950" y="13004"/>
                    <a:pt x="84910" y="27793"/>
                    <a:pt x="88990" y="38503"/>
                  </a:cubicBezTo>
                  <a:cubicBezTo>
                    <a:pt x="93069" y="49212"/>
                    <a:pt x="125708" y="61451"/>
                    <a:pt x="125708" y="61451"/>
                  </a:cubicBezTo>
                  <a:lnTo>
                    <a:pt x="126217" y="112448"/>
                  </a:lnTo>
                  <a:lnTo>
                    <a:pt x="79810" y="124688"/>
                  </a:lnTo>
                  <a:lnTo>
                    <a:pt x="80830" y="132337"/>
                  </a:lnTo>
                  <a:lnTo>
                    <a:pt x="65021" y="128257"/>
                  </a:lnTo>
                  <a:lnTo>
                    <a:pt x="49212" y="132337"/>
                  </a:lnTo>
                  <a:lnTo>
                    <a:pt x="50232" y="124688"/>
                  </a:lnTo>
                  <a:lnTo>
                    <a:pt x="3825" y="112448"/>
                  </a:lnTo>
                  <a:lnTo>
                    <a:pt x="4335" y="61451"/>
                  </a:lnTo>
                  <a:cubicBezTo>
                    <a:pt x="4335" y="61451"/>
                    <a:pt x="37483" y="49212"/>
                    <a:pt x="41053" y="38503"/>
                  </a:cubicBezTo>
                  <a:cubicBezTo>
                    <a:pt x="45132" y="27793"/>
                    <a:pt x="43092" y="13004"/>
                    <a:pt x="43092" y="13004"/>
                  </a:cubicBezTo>
                  <a:lnTo>
                    <a:pt x="59921" y="3825"/>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21" name="任意多边形: 形状 86"/>
            <p:cNvSpPr/>
            <p:nvPr/>
          </p:nvSpPr>
          <p:spPr>
            <a:xfrm>
              <a:off x="2437560" y="3224880"/>
              <a:ext cx="82440" cy="57600"/>
            </a:xfrm>
            <a:custGeom>
              <a:avLst/>
              <a:gdLst>
                <a:gd name="textAreaLeft" fmla="*/ 0 w 82440"/>
                <a:gd name="textAreaRight" fmla="*/ 82800 w 82440"/>
                <a:gd name="textAreaTop" fmla="*/ 0 h 57600"/>
                <a:gd name="textAreaBottom" fmla="*/ 57960 h 57600"/>
              </a:gdLst>
              <a:ahLst/>
              <a:rect l="textAreaLeft" t="textAreaTop" r="textAreaRight" b="textAreaBottom"/>
              <a:pathLst>
                <a:path w="50996" h="35697">
                  <a:moveTo>
                    <a:pt x="20654" y="3825"/>
                  </a:moveTo>
                  <a:lnTo>
                    <a:pt x="26263" y="11474"/>
                  </a:lnTo>
                  <a:lnTo>
                    <a:pt x="31873" y="3825"/>
                  </a:lnTo>
                  <a:lnTo>
                    <a:pt x="-17854" y="13004"/>
                  </a:lnTo>
                  <a:cubicBezTo>
                    <a:pt x="-17854" y="13004"/>
                    <a:pt x="-19384" y="23714"/>
                    <a:pt x="-17344" y="-32133"/>
                  </a:cubicBezTo>
                  <a:cubicBezTo>
                    <a:pt x="-24484" y="-30603"/>
                    <a:pt x="-31623" y="-29583"/>
                    <a:pt x="26263" y="-29583"/>
                  </a:cubicBezTo>
                  <a:cubicBezTo>
                    <a:pt x="18104" y="-29583"/>
                    <a:pt x="10964" y="-30603"/>
                    <a:pt x="3825" y="-32643"/>
                  </a:cubicBezTo>
                  <a:cubicBezTo>
                    <a:pt x="5355" y="23204"/>
                    <a:pt x="4335" y="12494"/>
                    <a:pt x="4335" y="12494"/>
                  </a:cubicBezTo>
                  <a:lnTo>
                    <a:pt x="20654" y="3825"/>
                  </a:lnTo>
                  <a:close/>
                </a:path>
              </a:pathLst>
            </a:custGeom>
            <a:solidFill>
              <a:srgbClr val="f8bd93"/>
            </a:solidFill>
            <a:ln w="0">
              <a:noFill/>
            </a:ln>
          </p:spPr>
          <p:style>
            <a:lnRef idx="0"/>
            <a:fillRef idx="0"/>
            <a:effectRef idx="0"/>
            <a:fontRef idx="minor"/>
          </p:style>
          <p:txBody>
            <a:bodyPr lIns="90000" rIns="90000" tIns="11160" bIns="11160" anchor="ctr">
              <a:noAutofit/>
            </a:bodyPr>
            <a:p>
              <a:endParaRPr b="0" lang="en-US" sz="1800" spc="-1" strike="noStrike">
                <a:solidFill>
                  <a:srgbClr val="262626"/>
                </a:solidFill>
                <a:latin typeface="Arial"/>
              </a:endParaRPr>
            </a:p>
          </p:txBody>
        </p:sp>
        <p:sp>
          <p:nvSpPr>
            <p:cNvPr id="2322" name="任意多边形: 形状 87"/>
            <p:cNvSpPr/>
            <p:nvPr/>
          </p:nvSpPr>
          <p:spPr>
            <a:xfrm>
              <a:off x="2463840" y="2935080"/>
              <a:ext cx="263880" cy="321840"/>
            </a:xfrm>
            <a:custGeom>
              <a:avLst/>
              <a:gdLst>
                <a:gd name="textAreaLeft" fmla="*/ 0 w 263880"/>
                <a:gd name="textAreaRight" fmla="*/ 264240 w 263880"/>
                <a:gd name="textAreaTop" fmla="*/ 0 h 321840"/>
                <a:gd name="textAreaBottom" fmla="*/ 321840 h 321840"/>
              </a:gdLst>
              <a:ahLst/>
              <a:rect l="textAreaLeft" t="textAreaTop" r="textAreaRight" b="textAreaBottom"/>
              <a:pathLst>
                <a:path w="163190" h="198888">
                  <a:moveTo>
                    <a:pt x="3825" y="33919"/>
                  </a:moveTo>
                  <a:cubicBezTo>
                    <a:pt x="3825" y="33919"/>
                    <a:pt x="13514" y="3321"/>
                    <a:pt x="50232" y="3831"/>
                  </a:cubicBezTo>
                  <a:cubicBezTo>
                    <a:pt x="86440" y="4341"/>
                    <a:pt x="105309" y="29840"/>
                    <a:pt x="110408" y="56868"/>
                  </a:cubicBezTo>
                  <a:cubicBezTo>
                    <a:pt x="115508" y="83386"/>
                    <a:pt x="97659" y="128774"/>
                    <a:pt x="108369" y="156312"/>
                  </a:cubicBezTo>
                  <a:cubicBezTo>
                    <a:pt x="119078" y="183850"/>
                    <a:pt x="150186" y="164981"/>
                    <a:pt x="145086" y="154272"/>
                  </a:cubicBezTo>
                  <a:cubicBezTo>
                    <a:pt x="139987" y="143563"/>
                    <a:pt x="133867" y="144073"/>
                    <a:pt x="133867" y="144073"/>
                  </a:cubicBezTo>
                  <a:cubicBezTo>
                    <a:pt x="133867" y="144073"/>
                    <a:pt x="144066" y="137953"/>
                    <a:pt x="154266" y="149172"/>
                  </a:cubicBezTo>
                  <a:cubicBezTo>
                    <a:pt x="164465" y="160392"/>
                    <a:pt x="159875" y="179771"/>
                    <a:pt x="144066" y="190480"/>
                  </a:cubicBezTo>
                  <a:cubicBezTo>
                    <a:pt x="127747" y="201189"/>
                    <a:pt x="111938" y="203229"/>
                    <a:pt x="80320" y="186400"/>
                  </a:cubicBezTo>
                  <a:cubicBezTo>
                    <a:pt x="49212" y="169571"/>
                    <a:pt x="49212" y="156822"/>
                    <a:pt x="49212" y="155292"/>
                  </a:cubicBezTo>
                  <a:cubicBezTo>
                    <a:pt x="48702" y="153252"/>
                    <a:pt x="3825" y="33919"/>
                    <a:pt x="3825" y="33919"/>
                  </a:cubicBezTo>
                  <a:close/>
                </a:path>
              </a:pathLst>
            </a:custGeom>
            <a:solidFill>
              <a:srgbClr val="7c442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23" name="任意多边形: 形状 88"/>
            <p:cNvSpPr/>
            <p:nvPr/>
          </p:nvSpPr>
          <p:spPr>
            <a:xfrm>
              <a:off x="2347560" y="3030120"/>
              <a:ext cx="263880" cy="239400"/>
            </a:xfrm>
            <a:custGeom>
              <a:avLst/>
              <a:gdLst>
                <a:gd name="textAreaLeft" fmla="*/ 0 w 263880"/>
                <a:gd name="textAreaRight" fmla="*/ 264240 w 263880"/>
                <a:gd name="textAreaTop" fmla="*/ 0 h 239400"/>
                <a:gd name="textAreaBottom" fmla="*/ 239760 h 239400"/>
              </a:gdLst>
              <a:ahLst/>
              <a:rect l="textAreaLeft" t="textAreaTop" r="textAreaRight" b="textAreaBottom"/>
              <a:pathLst>
                <a:path w="163190" h="147891">
                  <a:moveTo>
                    <a:pt x="82366" y="3825"/>
                  </a:moveTo>
                  <a:cubicBezTo>
                    <a:pt x="125713" y="3825"/>
                    <a:pt x="160901" y="35443"/>
                    <a:pt x="160901" y="74710"/>
                  </a:cubicBezTo>
                  <a:cubicBezTo>
                    <a:pt x="160901" y="113978"/>
                    <a:pt x="125713" y="145596"/>
                    <a:pt x="82366" y="145596"/>
                  </a:cubicBezTo>
                  <a:cubicBezTo>
                    <a:pt x="39018" y="145596"/>
                    <a:pt x="3830" y="113978"/>
                    <a:pt x="3830" y="74710"/>
                  </a:cubicBezTo>
                  <a:cubicBezTo>
                    <a:pt x="3320" y="35443"/>
                    <a:pt x="38508" y="3825"/>
                    <a:pt x="82366" y="3825"/>
                  </a:cubicBez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24" name="任意多边形: 形状 89"/>
            <p:cNvSpPr/>
            <p:nvPr/>
          </p:nvSpPr>
          <p:spPr>
            <a:xfrm>
              <a:off x="2321640" y="3110760"/>
              <a:ext cx="49320" cy="57600"/>
            </a:xfrm>
            <a:custGeom>
              <a:avLst/>
              <a:gdLst>
                <a:gd name="textAreaLeft" fmla="*/ 0 w 49320"/>
                <a:gd name="textAreaRight" fmla="*/ 49680 w 49320"/>
                <a:gd name="textAreaTop" fmla="*/ 0 h 57600"/>
                <a:gd name="textAreaBottom" fmla="*/ 57960 h 57600"/>
              </a:gdLst>
              <a:ahLst/>
              <a:rect l="textAreaLeft" t="textAreaTop" r="textAreaRight" b="textAreaBottom"/>
              <a:pathLst>
                <a:path w="30598" h="35697">
                  <a:moveTo>
                    <a:pt x="30501" y="33931"/>
                  </a:moveTo>
                  <a:cubicBezTo>
                    <a:pt x="30501" y="33931"/>
                    <a:pt x="15202" y="40561"/>
                    <a:pt x="7553" y="27302"/>
                  </a:cubicBezTo>
                  <a:cubicBezTo>
                    <a:pt x="-97" y="13532"/>
                    <a:pt x="5513" y="3333"/>
                    <a:pt x="11122" y="3843"/>
                  </a:cubicBezTo>
                  <a:cubicBezTo>
                    <a:pt x="16732" y="4353"/>
                    <a:pt x="28971" y="14042"/>
                    <a:pt x="28971" y="14042"/>
                  </a:cubicBezTo>
                  <a:lnTo>
                    <a:pt x="30501" y="33931"/>
                  </a:lnTo>
                  <a:close/>
                </a:path>
              </a:pathLst>
            </a:custGeom>
            <a:solidFill>
              <a:srgbClr val="fecc9b"/>
            </a:solidFill>
            <a:ln w="0">
              <a:noFill/>
            </a:ln>
          </p:spPr>
          <p:style>
            <a:lnRef idx="0"/>
            <a:fillRef idx="0"/>
            <a:effectRef idx="0"/>
            <a:fontRef idx="minor"/>
          </p:style>
          <p:txBody>
            <a:bodyPr lIns="90000" rIns="90000" tIns="11160" bIns="11160" anchor="ctr">
              <a:noAutofit/>
            </a:bodyPr>
            <a:p>
              <a:endParaRPr b="0" lang="en-US" sz="1800" spc="-1" strike="noStrike">
                <a:solidFill>
                  <a:srgbClr val="262626"/>
                </a:solidFill>
                <a:latin typeface="Arial"/>
              </a:endParaRPr>
            </a:p>
          </p:txBody>
        </p:sp>
        <p:sp>
          <p:nvSpPr>
            <p:cNvPr id="2325" name="任意多边形: 形状 90"/>
            <p:cNvSpPr/>
            <p:nvPr/>
          </p:nvSpPr>
          <p:spPr>
            <a:xfrm>
              <a:off x="2579400" y="3110760"/>
              <a:ext cx="49320" cy="57600"/>
            </a:xfrm>
            <a:custGeom>
              <a:avLst/>
              <a:gdLst>
                <a:gd name="textAreaLeft" fmla="*/ 0 w 49320"/>
                <a:gd name="textAreaRight" fmla="*/ 49680 w 49320"/>
                <a:gd name="textAreaTop" fmla="*/ 0 h 57600"/>
                <a:gd name="textAreaBottom" fmla="*/ 57960 h 57600"/>
              </a:gdLst>
              <a:ahLst/>
              <a:rect l="textAreaLeft" t="textAreaTop" r="textAreaRight" b="textAreaBottom"/>
              <a:pathLst>
                <a:path w="30598" h="35697">
                  <a:moveTo>
                    <a:pt x="3825" y="-31605"/>
                  </a:moveTo>
                  <a:cubicBezTo>
                    <a:pt x="3825" y="-31605"/>
                    <a:pt x="19124" y="-24975"/>
                    <a:pt x="26773" y="27302"/>
                  </a:cubicBezTo>
                  <a:cubicBezTo>
                    <a:pt x="-31113" y="13532"/>
                    <a:pt x="28813" y="3333"/>
                    <a:pt x="23204" y="3843"/>
                  </a:cubicBezTo>
                  <a:cubicBezTo>
                    <a:pt x="17594" y="4353"/>
                    <a:pt x="5355" y="14042"/>
                    <a:pt x="5355" y="14042"/>
                  </a:cubicBezTo>
                  <a:lnTo>
                    <a:pt x="3825" y="-31605"/>
                  </a:lnTo>
                  <a:close/>
                </a:path>
              </a:pathLst>
            </a:custGeom>
            <a:solidFill>
              <a:srgbClr val="fecc9b"/>
            </a:solidFill>
            <a:ln w="0">
              <a:noFill/>
            </a:ln>
          </p:spPr>
          <p:style>
            <a:lnRef idx="0"/>
            <a:fillRef idx="0"/>
            <a:effectRef idx="0"/>
            <a:fontRef idx="minor"/>
          </p:style>
          <p:txBody>
            <a:bodyPr lIns="90000" rIns="90000" tIns="11160" bIns="11160" anchor="ctr">
              <a:noAutofit/>
            </a:bodyPr>
            <a:p>
              <a:endParaRPr b="0" lang="en-US" sz="1800" spc="-1" strike="noStrike">
                <a:solidFill>
                  <a:srgbClr val="262626"/>
                </a:solidFill>
                <a:latin typeface="Arial"/>
              </a:endParaRPr>
            </a:p>
          </p:txBody>
        </p:sp>
        <p:sp>
          <p:nvSpPr>
            <p:cNvPr id="2326" name="任意多边形: 形状 91"/>
            <p:cNvSpPr/>
            <p:nvPr/>
          </p:nvSpPr>
          <p:spPr>
            <a:xfrm>
              <a:off x="2329200" y="2953800"/>
              <a:ext cx="297000" cy="181440"/>
            </a:xfrm>
            <a:custGeom>
              <a:avLst/>
              <a:gdLst>
                <a:gd name="textAreaLeft" fmla="*/ 0 w 297000"/>
                <a:gd name="textAreaRight" fmla="*/ 297360 w 297000"/>
                <a:gd name="textAreaTop" fmla="*/ 0 h 181440"/>
                <a:gd name="textAreaBottom" fmla="*/ 181440 h 181440"/>
              </a:gdLst>
              <a:ahLst/>
              <a:rect l="textAreaLeft" t="textAreaTop" r="textAreaRight" b="textAreaBottom"/>
              <a:pathLst>
                <a:path w="183589" h="112193">
                  <a:moveTo>
                    <a:pt x="4437" y="101890"/>
                  </a:moveTo>
                  <a:cubicBezTo>
                    <a:pt x="4437" y="101890"/>
                    <a:pt x="24836" y="110559"/>
                    <a:pt x="76853" y="108009"/>
                  </a:cubicBezTo>
                  <a:cubicBezTo>
                    <a:pt x="128870" y="105969"/>
                    <a:pt x="142639" y="78941"/>
                    <a:pt x="142639" y="78941"/>
                  </a:cubicBezTo>
                  <a:cubicBezTo>
                    <a:pt x="142639" y="78941"/>
                    <a:pt x="148249" y="90670"/>
                    <a:pt x="158448" y="98320"/>
                  </a:cubicBezTo>
                  <a:cubicBezTo>
                    <a:pt x="168647" y="105459"/>
                    <a:pt x="177827" y="109029"/>
                    <a:pt x="179867" y="107499"/>
                  </a:cubicBezTo>
                  <a:cubicBezTo>
                    <a:pt x="181907" y="105969"/>
                    <a:pt x="184967" y="74861"/>
                    <a:pt x="171197" y="47833"/>
                  </a:cubicBezTo>
                  <a:cubicBezTo>
                    <a:pt x="157428" y="20805"/>
                    <a:pt x="131420" y="1936"/>
                    <a:pt x="88582" y="3976"/>
                  </a:cubicBezTo>
                  <a:cubicBezTo>
                    <a:pt x="46255" y="6015"/>
                    <a:pt x="-2192" y="37634"/>
                    <a:pt x="4437" y="101890"/>
                  </a:cubicBezTo>
                  <a:close/>
                </a:path>
              </a:pathLst>
            </a:custGeom>
            <a:solidFill>
              <a:srgbClr val="8b533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27" name="任意多边形: 形状 92"/>
            <p:cNvSpPr/>
            <p:nvPr/>
          </p:nvSpPr>
          <p:spPr>
            <a:xfrm>
              <a:off x="2357280" y="3351240"/>
              <a:ext cx="239400" cy="552960"/>
            </a:xfrm>
            <a:custGeom>
              <a:avLst/>
              <a:gdLst>
                <a:gd name="textAreaLeft" fmla="*/ 0 w 239400"/>
                <a:gd name="textAreaRight" fmla="*/ 239760 w 239400"/>
                <a:gd name="textAreaTop" fmla="*/ 0 h 552960"/>
                <a:gd name="textAreaBottom" fmla="*/ 553320 h 552960"/>
              </a:gdLst>
              <a:ahLst/>
              <a:rect l="textAreaLeft" t="textAreaTop" r="textAreaRight" b="textAreaBottom"/>
              <a:pathLst>
                <a:path w="147891" h="341679">
                  <a:moveTo>
                    <a:pt x="3825" y="3825"/>
                  </a:moveTo>
                  <a:cubicBezTo>
                    <a:pt x="3825" y="3825"/>
                    <a:pt x="43092" y="18614"/>
                    <a:pt x="61451" y="22184"/>
                  </a:cubicBezTo>
                  <a:cubicBezTo>
                    <a:pt x="67571" y="23204"/>
                    <a:pt x="72161" y="24224"/>
                    <a:pt x="75731" y="24224"/>
                  </a:cubicBezTo>
                  <a:cubicBezTo>
                    <a:pt x="78790" y="24224"/>
                    <a:pt x="83380" y="23204"/>
                    <a:pt x="90010" y="22184"/>
                  </a:cubicBezTo>
                  <a:cubicBezTo>
                    <a:pt x="108879" y="18104"/>
                    <a:pt x="147636" y="3825"/>
                    <a:pt x="147636" y="3825"/>
                  </a:cubicBezTo>
                  <a:lnTo>
                    <a:pt x="145086" y="340915"/>
                  </a:lnTo>
                  <a:cubicBezTo>
                    <a:pt x="98679" y="340915"/>
                    <a:pt x="52782" y="340915"/>
                    <a:pt x="6375" y="340915"/>
                  </a:cubicBezTo>
                  <a:lnTo>
                    <a:pt x="3825" y="3825"/>
                  </a:lnTo>
                  <a:close/>
                </a:path>
              </a:pathLst>
            </a:custGeom>
            <a:solidFill>
              <a:srgbClr val="8090c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28" name="任意多边形: 形状 93"/>
            <p:cNvSpPr/>
            <p:nvPr/>
          </p:nvSpPr>
          <p:spPr>
            <a:xfrm>
              <a:off x="1885680" y="3371040"/>
              <a:ext cx="437400" cy="412560"/>
            </a:xfrm>
            <a:custGeom>
              <a:avLst/>
              <a:gdLst>
                <a:gd name="textAreaLeft" fmla="*/ 0 w 437400"/>
                <a:gd name="textAreaRight" fmla="*/ 437760 w 437400"/>
                <a:gd name="textAreaTop" fmla="*/ 0 h 412560"/>
                <a:gd name="textAreaBottom" fmla="*/ 412920 h 412560"/>
              </a:gdLst>
              <a:ahLst/>
              <a:rect l="textAreaLeft" t="textAreaTop" r="textAreaRight" b="textAreaBottom"/>
              <a:pathLst>
                <a:path w="270283" h="254984">
                  <a:moveTo>
                    <a:pt x="228253" y="105837"/>
                  </a:moveTo>
                  <a:lnTo>
                    <a:pt x="218054" y="198651"/>
                  </a:lnTo>
                  <a:lnTo>
                    <a:pt x="68123" y="60960"/>
                  </a:lnTo>
                  <a:cubicBezTo>
                    <a:pt x="68123" y="60960"/>
                    <a:pt x="75262" y="46171"/>
                    <a:pt x="75262" y="38521"/>
                  </a:cubicBezTo>
                  <a:cubicBezTo>
                    <a:pt x="75262" y="30871"/>
                    <a:pt x="69652" y="31381"/>
                    <a:pt x="67613" y="33931"/>
                  </a:cubicBezTo>
                  <a:cubicBezTo>
                    <a:pt x="65573" y="36481"/>
                    <a:pt x="59963" y="51780"/>
                    <a:pt x="56903" y="53310"/>
                  </a:cubicBezTo>
                  <a:cubicBezTo>
                    <a:pt x="53843" y="54840"/>
                    <a:pt x="34974" y="34951"/>
                    <a:pt x="34465" y="24242"/>
                  </a:cubicBezTo>
                  <a:cubicBezTo>
                    <a:pt x="33955" y="13533"/>
                    <a:pt x="31405" y="3333"/>
                    <a:pt x="28855" y="3843"/>
                  </a:cubicBezTo>
                  <a:cubicBezTo>
                    <a:pt x="25795" y="3843"/>
                    <a:pt x="24775" y="7923"/>
                    <a:pt x="24775" y="7923"/>
                  </a:cubicBezTo>
                  <a:cubicBezTo>
                    <a:pt x="24775" y="7923"/>
                    <a:pt x="21205" y="3843"/>
                    <a:pt x="18655" y="6393"/>
                  </a:cubicBezTo>
                  <a:cubicBezTo>
                    <a:pt x="16106" y="8433"/>
                    <a:pt x="16106" y="9453"/>
                    <a:pt x="16106" y="9453"/>
                  </a:cubicBezTo>
                  <a:cubicBezTo>
                    <a:pt x="16106" y="9453"/>
                    <a:pt x="11006" y="6903"/>
                    <a:pt x="9986" y="10473"/>
                  </a:cubicBezTo>
                  <a:cubicBezTo>
                    <a:pt x="8966" y="13533"/>
                    <a:pt x="8966" y="13533"/>
                    <a:pt x="8966" y="13533"/>
                  </a:cubicBezTo>
                  <a:cubicBezTo>
                    <a:pt x="8966" y="13533"/>
                    <a:pt x="9476" y="19142"/>
                    <a:pt x="9476" y="21182"/>
                  </a:cubicBezTo>
                  <a:cubicBezTo>
                    <a:pt x="9476" y="23222"/>
                    <a:pt x="9986" y="23732"/>
                    <a:pt x="9986" y="23732"/>
                  </a:cubicBezTo>
                  <a:cubicBezTo>
                    <a:pt x="9986" y="23732"/>
                    <a:pt x="4886" y="22202"/>
                    <a:pt x="3866" y="25772"/>
                  </a:cubicBezTo>
                  <a:cubicBezTo>
                    <a:pt x="3356" y="29342"/>
                    <a:pt x="7436" y="54330"/>
                    <a:pt x="21715" y="66569"/>
                  </a:cubicBezTo>
                  <a:cubicBezTo>
                    <a:pt x="35994" y="78809"/>
                    <a:pt x="49254" y="78809"/>
                    <a:pt x="49254" y="78809"/>
                  </a:cubicBezTo>
                  <a:cubicBezTo>
                    <a:pt x="49254" y="78809"/>
                    <a:pt x="201225" y="254748"/>
                    <a:pt x="230803" y="251178"/>
                  </a:cubicBezTo>
                  <a:cubicBezTo>
                    <a:pt x="260381" y="247099"/>
                    <a:pt x="270580" y="113487"/>
                    <a:pt x="270580" y="113487"/>
                  </a:cubicBezTo>
                  <a:lnTo>
                    <a:pt x="228253" y="105837"/>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29" name="任意多边形: 形状 94"/>
            <p:cNvSpPr/>
            <p:nvPr/>
          </p:nvSpPr>
          <p:spPr>
            <a:xfrm>
              <a:off x="2230920" y="3344760"/>
              <a:ext cx="99000" cy="231120"/>
            </a:xfrm>
            <a:custGeom>
              <a:avLst/>
              <a:gdLst>
                <a:gd name="textAreaLeft" fmla="*/ 0 w 99000"/>
                <a:gd name="textAreaRight" fmla="*/ 99360 w 99000"/>
                <a:gd name="textAreaTop" fmla="*/ 0 h 231120"/>
                <a:gd name="textAreaBottom" fmla="*/ 231480 h 231120"/>
              </a:gdLst>
              <a:ahLst/>
              <a:rect l="textAreaLeft" t="textAreaTop" r="textAreaRight" b="textAreaBottom"/>
              <a:pathLst>
                <a:path w="61196" h="142791">
                  <a:moveTo>
                    <a:pt x="52272" y="27793"/>
                  </a:moveTo>
                  <a:lnTo>
                    <a:pt x="30853" y="3825"/>
                  </a:lnTo>
                  <a:cubicBezTo>
                    <a:pt x="30853" y="3825"/>
                    <a:pt x="24733" y="6885"/>
                    <a:pt x="18614" y="48192"/>
                  </a:cubicBezTo>
                  <a:cubicBezTo>
                    <a:pt x="11984" y="89500"/>
                    <a:pt x="3825" y="139987"/>
                    <a:pt x="3825" y="139987"/>
                  </a:cubicBezTo>
                  <a:lnTo>
                    <a:pt x="60431" y="142027"/>
                  </a:lnTo>
                  <a:lnTo>
                    <a:pt x="52272" y="27793"/>
                  </a:lnTo>
                  <a:close/>
                </a:path>
              </a:pathLst>
            </a:custGeom>
            <a:solidFill>
              <a:srgbClr val="545f8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0" name="任意多边形: 形状 95"/>
            <p:cNvSpPr/>
            <p:nvPr/>
          </p:nvSpPr>
          <p:spPr>
            <a:xfrm>
              <a:off x="2333520" y="4241520"/>
              <a:ext cx="148320" cy="651960"/>
            </a:xfrm>
            <a:custGeom>
              <a:avLst/>
              <a:gdLst>
                <a:gd name="textAreaLeft" fmla="*/ 0 w 148320"/>
                <a:gd name="textAreaRight" fmla="*/ 148320 w 148320"/>
                <a:gd name="textAreaTop" fmla="*/ 0 h 651960"/>
                <a:gd name="textAreaBottom" fmla="*/ 652320 h 651960"/>
              </a:gdLst>
              <a:ahLst/>
              <a:rect l="textAreaLeft" t="textAreaTop" r="textAreaRight" b="textAreaBottom"/>
              <a:pathLst>
                <a:path w="91794" h="402875">
                  <a:moveTo>
                    <a:pt x="3825" y="3825"/>
                  </a:moveTo>
                  <a:cubicBezTo>
                    <a:pt x="3825" y="3825"/>
                    <a:pt x="34423" y="269009"/>
                    <a:pt x="37483" y="311336"/>
                  </a:cubicBezTo>
                  <a:cubicBezTo>
                    <a:pt x="40033" y="353664"/>
                    <a:pt x="38503" y="403641"/>
                    <a:pt x="38503" y="403641"/>
                  </a:cubicBezTo>
                  <a:lnTo>
                    <a:pt x="76750" y="389362"/>
                  </a:lnTo>
                  <a:cubicBezTo>
                    <a:pt x="76750" y="389362"/>
                    <a:pt x="84400" y="141517"/>
                    <a:pt x="85420" y="102249"/>
                  </a:cubicBezTo>
                  <a:cubicBezTo>
                    <a:pt x="85930" y="62981"/>
                    <a:pt x="90520" y="9944"/>
                    <a:pt x="90520" y="9944"/>
                  </a:cubicBezTo>
                  <a:lnTo>
                    <a:pt x="3825" y="3825"/>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1" name="任意多边形: 形状 96"/>
            <p:cNvSpPr/>
            <p:nvPr/>
          </p:nvSpPr>
          <p:spPr>
            <a:xfrm>
              <a:off x="2251800" y="4858920"/>
              <a:ext cx="222840" cy="131760"/>
            </a:xfrm>
            <a:custGeom>
              <a:avLst/>
              <a:gdLst>
                <a:gd name="textAreaLeft" fmla="*/ 0 w 222840"/>
                <a:gd name="textAreaRight" fmla="*/ 223200 w 222840"/>
                <a:gd name="textAreaTop" fmla="*/ 0 h 131760"/>
                <a:gd name="textAreaBottom" fmla="*/ 132120 h 131760"/>
              </a:gdLst>
              <a:ahLst/>
              <a:rect l="textAreaLeft" t="textAreaTop" r="textAreaRight" b="textAreaBottom"/>
              <a:pathLst>
                <a:path w="137691" h="81595">
                  <a:moveTo>
                    <a:pt x="83380" y="4845"/>
                  </a:moveTo>
                  <a:lnTo>
                    <a:pt x="134377" y="3825"/>
                  </a:lnTo>
                  <a:lnTo>
                    <a:pt x="135397" y="77770"/>
                  </a:lnTo>
                  <a:lnTo>
                    <a:pt x="124178" y="76751"/>
                  </a:lnTo>
                  <a:lnTo>
                    <a:pt x="118058" y="48192"/>
                  </a:lnTo>
                  <a:lnTo>
                    <a:pt x="87460" y="75221"/>
                  </a:lnTo>
                  <a:lnTo>
                    <a:pt x="17594" y="75731"/>
                  </a:lnTo>
                  <a:lnTo>
                    <a:pt x="3825" y="60941"/>
                  </a:lnTo>
                  <a:cubicBezTo>
                    <a:pt x="3825" y="60941"/>
                    <a:pt x="33913" y="55332"/>
                    <a:pt x="44622" y="50742"/>
                  </a:cubicBezTo>
                  <a:cubicBezTo>
                    <a:pt x="55332" y="47172"/>
                    <a:pt x="83380" y="4845"/>
                    <a:pt x="83380" y="4845"/>
                  </a:cubicBezTo>
                  <a:close/>
                </a:path>
              </a:pathLst>
            </a:custGeom>
            <a:solidFill>
              <a:srgbClr val="fcac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2" name="任意多边形: 形状 97"/>
            <p:cNvSpPr/>
            <p:nvPr/>
          </p:nvSpPr>
          <p:spPr>
            <a:xfrm>
              <a:off x="2510280" y="4241520"/>
              <a:ext cx="148320" cy="651960"/>
            </a:xfrm>
            <a:custGeom>
              <a:avLst/>
              <a:gdLst>
                <a:gd name="textAreaLeft" fmla="*/ 0 w 148320"/>
                <a:gd name="textAreaRight" fmla="*/ 148320 w 148320"/>
                <a:gd name="textAreaTop" fmla="*/ 0 h 651960"/>
                <a:gd name="textAreaBottom" fmla="*/ 652320 h 651960"/>
              </a:gdLst>
              <a:ahLst/>
              <a:rect l="textAreaLeft" t="textAreaTop" r="textAreaRight" b="textAreaBottom"/>
              <a:pathLst>
                <a:path w="91794" h="402875">
                  <a:moveTo>
                    <a:pt x="90010" y="3825"/>
                  </a:moveTo>
                  <a:cubicBezTo>
                    <a:pt x="90010" y="3825"/>
                    <a:pt x="59411" y="269009"/>
                    <a:pt x="56862" y="311336"/>
                  </a:cubicBezTo>
                  <a:cubicBezTo>
                    <a:pt x="54312" y="353664"/>
                    <a:pt x="55332" y="403641"/>
                    <a:pt x="55332" y="403641"/>
                  </a:cubicBezTo>
                  <a:lnTo>
                    <a:pt x="17084" y="389362"/>
                  </a:lnTo>
                  <a:cubicBezTo>
                    <a:pt x="17084" y="389362"/>
                    <a:pt x="9434" y="141517"/>
                    <a:pt x="8924" y="102249"/>
                  </a:cubicBezTo>
                  <a:cubicBezTo>
                    <a:pt x="8415" y="62981"/>
                    <a:pt x="3825" y="9944"/>
                    <a:pt x="3825" y="9944"/>
                  </a:cubicBezTo>
                  <a:lnTo>
                    <a:pt x="90010" y="3825"/>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3" name="任意多边形: 形状 98"/>
            <p:cNvSpPr/>
            <p:nvPr/>
          </p:nvSpPr>
          <p:spPr>
            <a:xfrm>
              <a:off x="2520000" y="4858920"/>
              <a:ext cx="222840" cy="131760"/>
            </a:xfrm>
            <a:custGeom>
              <a:avLst/>
              <a:gdLst>
                <a:gd name="textAreaLeft" fmla="*/ 0 w 222840"/>
                <a:gd name="textAreaRight" fmla="*/ 223200 w 222840"/>
                <a:gd name="textAreaTop" fmla="*/ 0 h 131760"/>
                <a:gd name="textAreaBottom" fmla="*/ 132120 h 131760"/>
              </a:gdLst>
              <a:ahLst/>
              <a:rect l="textAreaLeft" t="textAreaTop" r="textAreaRight" b="textAreaBottom"/>
              <a:pathLst>
                <a:path w="137691" h="81595">
                  <a:moveTo>
                    <a:pt x="55332" y="4845"/>
                  </a:moveTo>
                  <a:lnTo>
                    <a:pt x="4335" y="3825"/>
                  </a:lnTo>
                  <a:lnTo>
                    <a:pt x="3825" y="77770"/>
                  </a:lnTo>
                  <a:lnTo>
                    <a:pt x="14534" y="76751"/>
                  </a:lnTo>
                  <a:lnTo>
                    <a:pt x="20654" y="48192"/>
                  </a:lnTo>
                  <a:lnTo>
                    <a:pt x="51252" y="75221"/>
                  </a:lnTo>
                  <a:lnTo>
                    <a:pt x="121118" y="75731"/>
                  </a:lnTo>
                  <a:lnTo>
                    <a:pt x="134887" y="60941"/>
                  </a:lnTo>
                  <a:cubicBezTo>
                    <a:pt x="134887" y="60941"/>
                    <a:pt x="104799" y="55332"/>
                    <a:pt x="94089" y="50742"/>
                  </a:cubicBezTo>
                  <a:cubicBezTo>
                    <a:pt x="82870" y="47172"/>
                    <a:pt x="55332" y="4845"/>
                    <a:pt x="55332" y="4845"/>
                  </a:cubicBezTo>
                  <a:close/>
                </a:path>
              </a:pathLst>
            </a:custGeom>
            <a:solidFill>
              <a:srgbClr val="fcac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4" name="任意多边形: 形状 99"/>
            <p:cNvSpPr/>
            <p:nvPr/>
          </p:nvSpPr>
          <p:spPr>
            <a:xfrm>
              <a:off x="2297160" y="3901320"/>
              <a:ext cx="379800" cy="379800"/>
            </a:xfrm>
            <a:custGeom>
              <a:avLst/>
              <a:gdLst>
                <a:gd name="textAreaLeft" fmla="*/ 0 w 379800"/>
                <a:gd name="textAreaRight" fmla="*/ 380160 w 379800"/>
                <a:gd name="textAreaTop" fmla="*/ 0 h 379800"/>
                <a:gd name="textAreaBottom" fmla="*/ 380160 h 379800"/>
              </a:gdLst>
              <a:ahLst/>
              <a:rect l="textAreaLeft" t="textAreaTop" r="textAreaRight" b="textAreaBottom"/>
              <a:pathLst>
                <a:path w="234585" h="234585">
                  <a:moveTo>
                    <a:pt x="21674" y="3825"/>
                  </a:moveTo>
                  <a:lnTo>
                    <a:pt x="3825" y="233821"/>
                  </a:lnTo>
                  <a:lnTo>
                    <a:pt x="233311" y="234841"/>
                  </a:lnTo>
                  <a:lnTo>
                    <a:pt x="214952" y="9434"/>
                  </a:lnTo>
                  <a:lnTo>
                    <a:pt x="21674" y="3825"/>
                  </a:lnTo>
                  <a:close/>
                </a:path>
              </a:pathLst>
            </a:custGeom>
            <a:solidFill>
              <a:srgbClr val="505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5" name="任意多边形: 形状 100"/>
            <p:cNvSpPr/>
            <p:nvPr/>
          </p:nvSpPr>
          <p:spPr>
            <a:xfrm>
              <a:off x="2320920" y="3901320"/>
              <a:ext cx="330120" cy="82440"/>
            </a:xfrm>
            <a:custGeom>
              <a:avLst/>
              <a:gdLst>
                <a:gd name="textAreaLeft" fmla="*/ 0 w 330120"/>
                <a:gd name="textAreaRight" fmla="*/ 330480 w 330120"/>
                <a:gd name="textAreaTop" fmla="*/ 0 h 82440"/>
                <a:gd name="textAreaBottom" fmla="*/ 82800 h 82440"/>
              </a:gdLst>
              <a:ahLst/>
              <a:rect l="textAreaLeft" t="textAreaTop" r="textAreaRight" b="textAreaBottom"/>
              <a:pathLst>
                <a:path w="203987" h="50996">
                  <a:moveTo>
                    <a:pt x="6885" y="3825"/>
                  </a:moveTo>
                  <a:lnTo>
                    <a:pt x="3825" y="43602"/>
                  </a:lnTo>
                  <a:lnTo>
                    <a:pt x="91540" y="47682"/>
                  </a:lnTo>
                  <a:lnTo>
                    <a:pt x="90520" y="24733"/>
                  </a:lnTo>
                  <a:lnTo>
                    <a:pt x="105819" y="21164"/>
                  </a:lnTo>
                  <a:lnTo>
                    <a:pt x="104289" y="47682"/>
                  </a:lnTo>
                  <a:lnTo>
                    <a:pt x="203223" y="45642"/>
                  </a:lnTo>
                  <a:lnTo>
                    <a:pt x="200163" y="9434"/>
                  </a:lnTo>
                  <a:lnTo>
                    <a:pt x="6885" y="3825"/>
                  </a:lnTo>
                  <a:close/>
                </a:path>
              </a:pathLst>
            </a:custGeom>
            <a:solidFill>
              <a:srgbClr val="414449"/>
            </a:solidFill>
            <a:ln w="0">
              <a:noFill/>
            </a:ln>
          </p:spPr>
          <p:style>
            <a:lnRef idx="0"/>
            <a:fillRef idx="0"/>
            <a:effectRef idx="0"/>
            <a:fontRef idx="minor"/>
          </p:style>
          <p:txBody>
            <a:bodyPr lIns="90000" rIns="90000" tIns="36000" bIns="36000" anchor="ctr">
              <a:noAutofit/>
            </a:bodyPr>
            <a:p>
              <a:endParaRPr b="0" lang="en-US" sz="1800" spc="-1" strike="noStrike">
                <a:solidFill>
                  <a:srgbClr val="262626"/>
                </a:solidFill>
                <a:latin typeface="Arial"/>
              </a:endParaRPr>
            </a:p>
          </p:txBody>
        </p:sp>
        <p:sp>
          <p:nvSpPr>
            <p:cNvPr id="2336" name="任意多边形: 形状 101"/>
            <p:cNvSpPr/>
            <p:nvPr/>
          </p:nvSpPr>
          <p:spPr>
            <a:xfrm>
              <a:off x="2274120" y="3289320"/>
              <a:ext cx="198000" cy="668520"/>
            </a:xfrm>
            <a:custGeom>
              <a:avLst/>
              <a:gdLst>
                <a:gd name="textAreaLeft" fmla="*/ 0 w 198000"/>
                <a:gd name="textAreaRight" fmla="*/ 198360 w 198000"/>
                <a:gd name="textAreaTop" fmla="*/ 0 h 668520"/>
                <a:gd name="textAreaBottom" fmla="*/ 668880 h 668520"/>
              </a:gdLst>
              <a:ahLst/>
              <a:rect l="textAreaLeft" t="textAreaTop" r="textAreaRight" b="textAreaBottom"/>
              <a:pathLst>
                <a:path w="122392" h="413075">
                  <a:moveTo>
                    <a:pt x="96129" y="3825"/>
                  </a:moveTo>
                  <a:lnTo>
                    <a:pt x="120608" y="412310"/>
                  </a:lnTo>
                  <a:lnTo>
                    <a:pt x="3825" y="407211"/>
                  </a:lnTo>
                  <a:lnTo>
                    <a:pt x="32383" y="225152"/>
                  </a:lnTo>
                  <a:lnTo>
                    <a:pt x="3825" y="37483"/>
                  </a:lnTo>
                  <a:cubicBezTo>
                    <a:pt x="3825" y="37993"/>
                    <a:pt x="85930" y="12494"/>
                    <a:pt x="96129" y="3825"/>
                  </a:cubicBezTo>
                  <a:close/>
                </a:path>
              </a:pathLst>
            </a:custGeom>
            <a:solidFill>
              <a:srgbClr val="5d6a9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7" name="任意多边形: 形状 102"/>
            <p:cNvSpPr/>
            <p:nvPr/>
          </p:nvSpPr>
          <p:spPr>
            <a:xfrm>
              <a:off x="2638080" y="3344760"/>
              <a:ext cx="90720" cy="231120"/>
            </a:xfrm>
            <a:custGeom>
              <a:avLst/>
              <a:gdLst>
                <a:gd name="textAreaLeft" fmla="*/ 0 w 90720"/>
                <a:gd name="textAreaRight" fmla="*/ 91080 w 90720"/>
                <a:gd name="textAreaTop" fmla="*/ 0 h 231120"/>
                <a:gd name="textAreaBottom" fmla="*/ 231480 h 231120"/>
              </a:gdLst>
              <a:ahLst/>
              <a:rect l="textAreaLeft" t="textAreaTop" r="textAreaRight" b="textAreaBottom"/>
              <a:pathLst>
                <a:path w="56096" h="142791">
                  <a:moveTo>
                    <a:pt x="3825" y="27793"/>
                  </a:moveTo>
                  <a:lnTo>
                    <a:pt x="25244" y="3825"/>
                  </a:lnTo>
                  <a:cubicBezTo>
                    <a:pt x="25244" y="3825"/>
                    <a:pt x="31363" y="6885"/>
                    <a:pt x="37993" y="48192"/>
                  </a:cubicBezTo>
                  <a:cubicBezTo>
                    <a:pt x="44112" y="89500"/>
                    <a:pt x="52782" y="139987"/>
                    <a:pt x="52782" y="139987"/>
                  </a:cubicBezTo>
                  <a:lnTo>
                    <a:pt x="5865" y="139477"/>
                  </a:lnTo>
                  <a:lnTo>
                    <a:pt x="3825" y="27793"/>
                  </a:lnTo>
                  <a:close/>
                </a:path>
              </a:pathLst>
            </a:custGeom>
            <a:solidFill>
              <a:srgbClr val="545f8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8" name="任意多边形: 形状 103"/>
            <p:cNvSpPr/>
            <p:nvPr/>
          </p:nvSpPr>
          <p:spPr>
            <a:xfrm>
              <a:off x="2483640" y="3289320"/>
              <a:ext cx="198000" cy="668520"/>
            </a:xfrm>
            <a:custGeom>
              <a:avLst/>
              <a:gdLst>
                <a:gd name="textAreaLeft" fmla="*/ 0 w 198000"/>
                <a:gd name="textAreaRight" fmla="*/ 198360 w 198000"/>
                <a:gd name="textAreaTop" fmla="*/ 0 h 668520"/>
                <a:gd name="textAreaBottom" fmla="*/ 668880 h 668520"/>
              </a:gdLst>
              <a:ahLst/>
              <a:rect l="textAreaLeft" t="textAreaTop" r="textAreaRight" b="textAreaBottom"/>
              <a:pathLst>
                <a:path w="122392" h="413075">
                  <a:moveTo>
                    <a:pt x="28303" y="3825"/>
                  </a:moveTo>
                  <a:lnTo>
                    <a:pt x="3825" y="412310"/>
                  </a:lnTo>
                  <a:lnTo>
                    <a:pt x="120608" y="410270"/>
                  </a:lnTo>
                  <a:lnTo>
                    <a:pt x="92050" y="225661"/>
                  </a:lnTo>
                  <a:lnTo>
                    <a:pt x="120608" y="37993"/>
                  </a:lnTo>
                  <a:cubicBezTo>
                    <a:pt x="120608" y="37993"/>
                    <a:pt x="38503" y="12494"/>
                    <a:pt x="28303" y="3825"/>
                  </a:cubicBezTo>
                  <a:close/>
                </a:path>
              </a:pathLst>
            </a:custGeom>
            <a:solidFill>
              <a:srgbClr val="5d6a9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39" name="任意多边形: 形状 104"/>
            <p:cNvSpPr/>
            <p:nvPr/>
          </p:nvSpPr>
          <p:spPr>
            <a:xfrm>
              <a:off x="2281320" y="3577320"/>
              <a:ext cx="313560" cy="371520"/>
            </a:xfrm>
            <a:custGeom>
              <a:avLst/>
              <a:gdLst>
                <a:gd name="textAreaLeft" fmla="*/ 0 w 313560"/>
                <a:gd name="textAreaRight" fmla="*/ 313920 w 313560"/>
                <a:gd name="textAreaTop" fmla="*/ 0 h 371520"/>
                <a:gd name="textAreaBottom" fmla="*/ 371880 h 371520"/>
              </a:gdLst>
              <a:ahLst/>
              <a:rect l="textAreaLeft" t="textAreaTop" r="textAreaRight" b="textAreaBottom"/>
              <a:pathLst>
                <a:path w="193788" h="229486">
                  <a:moveTo>
                    <a:pt x="4522" y="34854"/>
                  </a:moveTo>
                  <a:lnTo>
                    <a:pt x="150835" y="4522"/>
                  </a:lnTo>
                  <a:lnTo>
                    <a:pt x="190484" y="195777"/>
                  </a:lnTo>
                  <a:lnTo>
                    <a:pt x="44171" y="226110"/>
                  </a:lnTo>
                  <a:lnTo>
                    <a:pt x="4522" y="34854"/>
                  </a:lnTo>
                  <a:close/>
                </a:path>
              </a:pathLst>
            </a:custGeom>
            <a:solidFill>
              <a:srgbClr val="fcac3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40" name="任意多边形: 形状 105"/>
            <p:cNvSpPr/>
            <p:nvPr/>
          </p:nvSpPr>
          <p:spPr>
            <a:xfrm>
              <a:off x="2385360" y="3579120"/>
              <a:ext cx="206280" cy="363240"/>
            </a:xfrm>
            <a:custGeom>
              <a:avLst/>
              <a:gdLst>
                <a:gd name="textAreaLeft" fmla="*/ 0 w 206280"/>
                <a:gd name="textAreaRight" fmla="*/ 206640 w 206280"/>
                <a:gd name="textAreaTop" fmla="*/ 0 h 363240"/>
                <a:gd name="textAreaBottom" fmla="*/ 363240 h 363240"/>
              </a:gdLst>
              <a:ahLst/>
              <a:rect l="textAreaLeft" t="textAreaTop" r="textAreaRight" b="textAreaBottom"/>
              <a:pathLst>
                <a:path w="127492" h="224386">
                  <a:moveTo>
                    <a:pt x="22694" y="17084"/>
                  </a:moveTo>
                  <a:lnTo>
                    <a:pt x="86950" y="3825"/>
                  </a:lnTo>
                  <a:lnTo>
                    <a:pt x="126727" y="195063"/>
                  </a:lnTo>
                  <a:lnTo>
                    <a:pt x="3825" y="220562"/>
                  </a:lnTo>
                  <a:cubicBezTo>
                    <a:pt x="9944" y="158855"/>
                    <a:pt x="18104" y="75730"/>
                    <a:pt x="22694" y="17084"/>
                  </a:cubicBezTo>
                  <a:close/>
                </a:path>
              </a:pathLst>
            </a:custGeom>
            <a:solidFill>
              <a:srgbClr val="fcb44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41" name="任意多边形: 形状 106"/>
            <p:cNvSpPr/>
            <p:nvPr/>
          </p:nvSpPr>
          <p:spPr>
            <a:xfrm>
              <a:off x="2298960" y="3565080"/>
              <a:ext cx="420840" cy="297000"/>
            </a:xfrm>
            <a:custGeom>
              <a:avLst/>
              <a:gdLst>
                <a:gd name="textAreaLeft" fmla="*/ 0 w 420840"/>
                <a:gd name="textAreaRight" fmla="*/ 421200 w 420840"/>
                <a:gd name="textAreaTop" fmla="*/ 0 h 297000"/>
                <a:gd name="textAreaBottom" fmla="*/ 297360 h 297000"/>
              </a:gdLst>
              <a:ahLst/>
              <a:rect l="textAreaLeft" t="textAreaTop" r="textAreaRight" b="textAreaBottom"/>
              <a:pathLst>
                <a:path w="260084" h="183589">
                  <a:moveTo>
                    <a:pt x="253014" y="3825"/>
                  </a:moveTo>
                  <a:cubicBezTo>
                    <a:pt x="254543" y="33913"/>
                    <a:pt x="259133" y="124178"/>
                    <a:pt x="256073" y="129277"/>
                  </a:cubicBezTo>
                  <a:cubicBezTo>
                    <a:pt x="252504" y="134887"/>
                    <a:pt x="60755" y="167525"/>
                    <a:pt x="60755" y="167525"/>
                  </a:cubicBezTo>
                  <a:cubicBezTo>
                    <a:pt x="60755" y="167525"/>
                    <a:pt x="26587" y="182314"/>
                    <a:pt x="19448" y="182824"/>
                  </a:cubicBezTo>
                  <a:cubicBezTo>
                    <a:pt x="11798" y="182824"/>
                    <a:pt x="11798" y="174155"/>
                    <a:pt x="11798" y="174155"/>
                  </a:cubicBezTo>
                  <a:cubicBezTo>
                    <a:pt x="11798" y="174155"/>
                    <a:pt x="5678" y="169055"/>
                    <a:pt x="7208" y="164975"/>
                  </a:cubicBezTo>
                  <a:cubicBezTo>
                    <a:pt x="8738" y="160895"/>
                    <a:pt x="12308" y="160385"/>
                    <a:pt x="12308" y="160385"/>
                  </a:cubicBezTo>
                  <a:cubicBezTo>
                    <a:pt x="12308" y="160385"/>
                    <a:pt x="4658" y="154266"/>
                    <a:pt x="7208" y="149676"/>
                  </a:cubicBezTo>
                  <a:cubicBezTo>
                    <a:pt x="9758" y="145086"/>
                    <a:pt x="13328" y="143556"/>
                    <a:pt x="13328" y="143556"/>
                  </a:cubicBezTo>
                  <a:cubicBezTo>
                    <a:pt x="13328" y="143556"/>
                    <a:pt x="-441" y="135907"/>
                    <a:pt x="5168" y="132337"/>
                  </a:cubicBezTo>
                  <a:cubicBezTo>
                    <a:pt x="10778" y="129277"/>
                    <a:pt x="39336" y="127747"/>
                    <a:pt x="42396" y="126217"/>
                  </a:cubicBezTo>
                  <a:cubicBezTo>
                    <a:pt x="45456" y="124688"/>
                    <a:pt x="59735" y="126217"/>
                    <a:pt x="59735" y="126217"/>
                  </a:cubicBezTo>
                  <a:lnTo>
                    <a:pt x="220376" y="98679"/>
                  </a:lnTo>
                  <a:lnTo>
                    <a:pt x="215786" y="3825"/>
                  </a:lnTo>
                  <a:lnTo>
                    <a:pt x="253014" y="3825"/>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42" name="任意多边形: 形状 107"/>
            <p:cNvSpPr/>
            <p:nvPr/>
          </p:nvSpPr>
          <p:spPr>
            <a:xfrm>
              <a:off x="1865160" y="3095280"/>
              <a:ext cx="297000" cy="354960"/>
            </a:xfrm>
            <a:custGeom>
              <a:avLst/>
              <a:gdLst>
                <a:gd name="textAreaLeft" fmla="*/ 0 w 297000"/>
                <a:gd name="textAreaRight" fmla="*/ 297360 w 297000"/>
                <a:gd name="textAreaTop" fmla="*/ 0 h 354960"/>
                <a:gd name="textAreaBottom" fmla="*/ 355320 h 354960"/>
              </a:gdLst>
              <a:ahLst/>
              <a:rect l="textAreaLeft" t="textAreaTop" r="textAreaRight" b="textAreaBottom"/>
              <a:pathLst>
                <a:path w="183589" h="219286">
                  <a:moveTo>
                    <a:pt x="3825" y="25753"/>
                  </a:moveTo>
                  <a:lnTo>
                    <a:pt x="151716" y="3825"/>
                  </a:lnTo>
                  <a:lnTo>
                    <a:pt x="180784" y="197103"/>
                  </a:lnTo>
                  <a:lnTo>
                    <a:pt x="32893" y="219032"/>
                  </a:lnTo>
                  <a:lnTo>
                    <a:pt x="3825" y="25753"/>
                  </a:lnTo>
                  <a:close/>
                </a:path>
              </a:pathLst>
            </a:custGeom>
            <a:solidFill>
              <a:srgbClr val="23191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43" name="任意多边形: 形状 108"/>
            <p:cNvSpPr/>
            <p:nvPr/>
          </p:nvSpPr>
          <p:spPr>
            <a:xfrm>
              <a:off x="1965960" y="3095280"/>
              <a:ext cx="198000" cy="346680"/>
            </a:xfrm>
            <a:custGeom>
              <a:avLst/>
              <a:gdLst>
                <a:gd name="textAreaLeft" fmla="*/ 0 w 198000"/>
                <a:gd name="textAreaRight" fmla="*/ 198360 w 198000"/>
                <a:gd name="textAreaTop" fmla="*/ 0 h 346680"/>
                <a:gd name="textAreaBottom" fmla="*/ 347040 h 346680"/>
              </a:gdLst>
              <a:ahLst/>
              <a:rect l="textAreaLeft" t="textAreaTop" r="textAreaRight" b="textAreaBottom"/>
              <a:pathLst>
                <a:path w="122392" h="214187">
                  <a:moveTo>
                    <a:pt x="24224" y="13514"/>
                  </a:moveTo>
                  <a:lnTo>
                    <a:pt x="89500" y="3825"/>
                  </a:lnTo>
                  <a:lnTo>
                    <a:pt x="118568" y="197103"/>
                  </a:lnTo>
                  <a:lnTo>
                    <a:pt x="3825" y="213932"/>
                  </a:lnTo>
                  <a:lnTo>
                    <a:pt x="24224" y="13514"/>
                  </a:lnTo>
                  <a:close/>
                </a:path>
              </a:pathLst>
            </a:custGeom>
            <a:solidFill>
              <a:srgbClr val="55535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44" name="任意多边形: 形状 109"/>
            <p:cNvSpPr/>
            <p:nvPr/>
          </p:nvSpPr>
          <p:spPr>
            <a:xfrm>
              <a:off x="2441520" y="3137400"/>
              <a:ext cx="32760" cy="74160"/>
            </a:xfrm>
            <a:custGeom>
              <a:avLst/>
              <a:gdLst>
                <a:gd name="textAreaLeft" fmla="*/ 0 w 32760"/>
                <a:gd name="textAreaRight" fmla="*/ 33120 w 32760"/>
                <a:gd name="textAreaTop" fmla="*/ 0 h 74160"/>
                <a:gd name="textAreaBottom" fmla="*/ 74520 h 74160"/>
              </a:gdLst>
              <a:ahLst/>
              <a:rect l="textAreaLeft" t="textAreaTop" r="textAreaRight" b="textAreaBottom"/>
              <a:pathLst>
                <a:path w="20398" h="45897">
                  <a:moveTo>
                    <a:pt x="11474" y="3825"/>
                  </a:moveTo>
                  <a:lnTo>
                    <a:pt x="10454" y="3825"/>
                  </a:lnTo>
                  <a:lnTo>
                    <a:pt x="3825" y="-24483"/>
                  </a:lnTo>
                  <a:lnTo>
                    <a:pt x="19634" y="-19894"/>
                  </a:lnTo>
                  <a:lnTo>
                    <a:pt x="10454" y="-28053"/>
                  </a:lnTo>
                  <a:lnTo>
                    <a:pt x="11474" y="3825"/>
                  </a:lnTo>
                  <a:close/>
                </a:path>
              </a:pathLst>
            </a:custGeom>
            <a:solidFill>
              <a:srgbClr val="e78d7b"/>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2345" name="任意多边形: 形状 110"/>
            <p:cNvSpPr/>
            <p:nvPr/>
          </p:nvSpPr>
          <p:spPr>
            <a:xfrm>
              <a:off x="2435040" y="3216600"/>
              <a:ext cx="74160" cy="24480"/>
            </a:xfrm>
            <a:custGeom>
              <a:avLst/>
              <a:gdLst>
                <a:gd name="textAreaLeft" fmla="*/ 0 w 74160"/>
                <a:gd name="textAreaRight" fmla="*/ 74520 w 74160"/>
                <a:gd name="textAreaTop" fmla="*/ 0 h 24480"/>
                <a:gd name="textAreaBottom" fmla="*/ 24840 h 24480"/>
              </a:gdLst>
              <a:ahLst/>
              <a:rect l="textAreaLeft" t="textAreaTop" r="textAreaRight" b="textAreaBottom"/>
              <a:pathLst>
                <a:path w="45897" h="15299">
                  <a:moveTo>
                    <a:pt x="-18874" y="3825"/>
                  </a:moveTo>
                  <a:cubicBezTo>
                    <a:pt x="-21934" y="8924"/>
                    <a:pt x="-30603" y="12494"/>
                    <a:pt x="25243" y="12494"/>
                  </a:cubicBezTo>
                  <a:cubicBezTo>
                    <a:pt x="15044" y="12494"/>
                    <a:pt x="6885" y="8924"/>
                    <a:pt x="3825" y="3825"/>
                  </a:cubicBezTo>
                  <a:lnTo>
                    <a:pt x="-18874" y="3825"/>
                  </a:lnTo>
                  <a:close/>
                </a:path>
              </a:pathLst>
            </a:custGeom>
            <a:solidFill>
              <a:srgbClr val="c6314e"/>
            </a:solidFill>
            <a:ln w="0">
              <a:noFill/>
            </a:ln>
          </p:spPr>
          <p:style>
            <a:lnRef idx="0"/>
            <a:fillRef idx="0"/>
            <a:effectRef idx="0"/>
            <a:fontRef idx="minor"/>
          </p:style>
          <p:txBody>
            <a:bodyPr lIns="90000" rIns="90000" tIns="-21960" bIns="-21960" anchor="ctr">
              <a:noAutofit/>
            </a:bodyPr>
            <a:p>
              <a:endParaRPr b="0" lang="en-US" sz="1800" spc="-1" strike="noStrike">
                <a:solidFill>
                  <a:srgbClr val="262626"/>
                </a:solidFill>
                <a:latin typeface="Arial"/>
              </a:endParaRPr>
            </a:p>
          </p:txBody>
        </p:sp>
        <p:sp>
          <p:nvSpPr>
            <p:cNvPr id="2346" name="任意多边形: 形状 111"/>
            <p:cNvSpPr/>
            <p:nvPr/>
          </p:nvSpPr>
          <p:spPr>
            <a:xfrm>
              <a:off x="3659400" y="3252960"/>
              <a:ext cx="90720" cy="123840"/>
            </a:xfrm>
            <a:custGeom>
              <a:avLst/>
              <a:gdLst>
                <a:gd name="textAreaLeft" fmla="*/ 0 w 90720"/>
                <a:gd name="textAreaRight" fmla="*/ 91080 w 90720"/>
                <a:gd name="textAreaTop" fmla="*/ 0 h 123840"/>
                <a:gd name="textAreaBottom" fmla="*/ 124200 h 123840"/>
              </a:gdLst>
              <a:ahLst/>
              <a:rect l="textAreaLeft" t="textAreaTop" r="textAreaRight" b="textAreaBottom"/>
              <a:pathLst>
                <a:path w="56096" h="76495">
                  <a:moveTo>
                    <a:pt x="50742" y="3825"/>
                  </a:moveTo>
                  <a:cubicBezTo>
                    <a:pt x="50742" y="4845"/>
                    <a:pt x="47682" y="20654"/>
                    <a:pt x="49212" y="34423"/>
                  </a:cubicBezTo>
                  <a:cubicBezTo>
                    <a:pt x="51252" y="48192"/>
                    <a:pt x="54312" y="58391"/>
                    <a:pt x="54312" y="58391"/>
                  </a:cubicBezTo>
                  <a:cubicBezTo>
                    <a:pt x="54312" y="58391"/>
                    <a:pt x="50742" y="59921"/>
                    <a:pt x="46662" y="62471"/>
                  </a:cubicBezTo>
                  <a:cubicBezTo>
                    <a:pt x="49212" y="69101"/>
                    <a:pt x="50742" y="73691"/>
                    <a:pt x="50742" y="74201"/>
                  </a:cubicBezTo>
                  <a:cubicBezTo>
                    <a:pt x="50742" y="74710"/>
                    <a:pt x="42582" y="72161"/>
                    <a:pt x="33403" y="69101"/>
                  </a:cubicBezTo>
                  <a:cubicBezTo>
                    <a:pt x="28303" y="71651"/>
                    <a:pt x="23714" y="73691"/>
                    <a:pt x="23204" y="73181"/>
                  </a:cubicBezTo>
                  <a:cubicBezTo>
                    <a:pt x="23204" y="73181"/>
                    <a:pt x="23204" y="70121"/>
                    <a:pt x="23714" y="66041"/>
                  </a:cubicBezTo>
                  <a:cubicBezTo>
                    <a:pt x="13514" y="62471"/>
                    <a:pt x="3825" y="58901"/>
                    <a:pt x="3825" y="58901"/>
                  </a:cubicBezTo>
                  <a:cubicBezTo>
                    <a:pt x="3825" y="58901"/>
                    <a:pt x="6885" y="48702"/>
                    <a:pt x="8924" y="34933"/>
                  </a:cubicBezTo>
                  <a:cubicBezTo>
                    <a:pt x="10964" y="21164"/>
                    <a:pt x="7904" y="5355"/>
                    <a:pt x="7904" y="4335"/>
                  </a:cubicBezTo>
                  <a:lnTo>
                    <a:pt x="50742" y="4335"/>
                  </a:lnTo>
                  <a:lnTo>
                    <a:pt x="50742" y="3825"/>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47" name="任意多边形: 形状 112"/>
            <p:cNvSpPr/>
            <p:nvPr/>
          </p:nvSpPr>
          <p:spPr>
            <a:xfrm>
              <a:off x="3665160" y="3252960"/>
              <a:ext cx="82440" cy="49320"/>
            </a:xfrm>
            <a:custGeom>
              <a:avLst/>
              <a:gdLst>
                <a:gd name="textAreaLeft" fmla="*/ 0 w 82440"/>
                <a:gd name="textAreaRight" fmla="*/ 82800 w 82440"/>
                <a:gd name="textAreaTop" fmla="*/ 0 h 49320"/>
                <a:gd name="textAreaBottom" fmla="*/ 49680 h 49320"/>
              </a:gdLst>
              <a:ahLst/>
              <a:rect l="textAreaLeft" t="textAreaTop" r="textAreaRight" b="textAreaBottom"/>
              <a:pathLst>
                <a:path w="50996" h="30598">
                  <a:moveTo>
                    <a:pt x="-18364" y="3825"/>
                  </a:moveTo>
                  <a:cubicBezTo>
                    <a:pt x="-18364" y="4335"/>
                    <a:pt x="-20404" y="14024"/>
                    <a:pt x="-20404" y="24733"/>
                  </a:cubicBezTo>
                  <a:cubicBezTo>
                    <a:pt x="-26523" y="26773"/>
                    <a:pt x="32383" y="27793"/>
                    <a:pt x="25244" y="27793"/>
                  </a:cubicBezTo>
                  <a:cubicBezTo>
                    <a:pt x="18614" y="27793"/>
                    <a:pt x="11984" y="26773"/>
                    <a:pt x="5865" y="24733"/>
                  </a:cubicBezTo>
                  <a:cubicBezTo>
                    <a:pt x="5865" y="14534"/>
                    <a:pt x="3825" y="4335"/>
                    <a:pt x="3825" y="3825"/>
                  </a:cubicBezTo>
                  <a:lnTo>
                    <a:pt x="-18364" y="3825"/>
                  </a:lnTo>
                  <a:close/>
                </a:path>
              </a:pathLst>
            </a:custGeom>
            <a:solidFill>
              <a:srgbClr val="f8bd93"/>
            </a:solidFill>
            <a:ln w="0">
              <a:noFill/>
            </a:ln>
          </p:spPr>
          <p:style>
            <a:lnRef idx="0"/>
            <a:fillRef idx="0"/>
            <a:effectRef idx="0"/>
            <a:fontRef idx="minor"/>
          </p:style>
          <p:txBody>
            <a:bodyPr lIns="90000" rIns="90000" tIns="2880" bIns="2880" anchor="ctr">
              <a:noAutofit/>
            </a:bodyPr>
            <a:p>
              <a:endParaRPr b="0" lang="en-US" sz="1800" spc="-1" strike="noStrike">
                <a:solidFill>
                  <a:srgbClr val="262626"/>
                </a:solidFill>
                <a:latin typeface="Arial"/>
              </a:endParaRPr>
            </a:p>
          </p:txBody>
        </p:sp>
        <p:sp>
          <p:nvSpPr>
            <p:cNvPr id="2348" name="任意多边形: 形状 113"/>
            <p:cNvSpPr/>
            <p:nvPr/>
          </p:nvSpPr>
          <p:spPr>
            <a:xfrm>
              <a:off x="3582000" y="3016800"/>
              <a:ext cx="247680" cy="272160"/>
            </a:xfrm>
            <a:custGeom>
              <a:avLst/>
              <a:gdLst>
                <a:gd name="textAreaLeft" fmla="*/ 0 w 247680"/>
                <a:gd name="textAreaRight" fmla="*/ 248040 w 247680"/>
                <a:gd name="textAreaTop" fmla="*/ 0 h 272160"/>
                <a:gd name="textAreaBottom" fmla="*/ 272160 h 272160"/>
              </a:gdLst>
              <a:ahLst/>
              <a:rect l="textAreaLeft" t="textAreaTop" r="textAreaRight" b="textAreaBottom"/>
              <a:pathLst>
                <a:path w="152990" h="168289">
                  <a:moveTo>
                    <a:pt x="76750" y="3825"/>
                  </a:moveTo>
                  <a:cubicBezTo>
                    <a:pt x="117548" y="3825"/>
                    <a:pt x="149676" y="40543"/>
                    <a:pt x="149676" y="85930"/>
                  </a:cubicBezTo>
                  <a:cubicBezTo>
                    <a:pt x="149676" y="131317"/>
                    <a:pt x="117038" y="168035"/>
                    <a:pt x="76750" y="168035"/>
                  </a:cubicBezTo>
                  <a:cubicBezTo>
                    <a:pt x="36463" y="168035"/>
                    <a:pt x="3825" y="131317"/>
                    <a:pt x="3825" y="85930"/>
                  </a:cubicBezTo>
                  <a:cubicBezTo>
                    <a:pt x="3825" y="40543"/>
                    <a:pt x="36463" y="3825"/>
                    <a:pt x="76750" y="3825"/>
                  </a:cubicBez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49" name="任意多边形: 形状 114"/>
            <p:cNvSpPr/>
            <p:nvPr/>
          </p:nvSpPr>
          <p:spPr>
            <a:xfrm>
              <a:off x="3566520" y="314244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5697" h="35697">
                  <a:moveTo>
                    <a:pt x="31236" y="32323"/>
                  </a:moveTo>
                  <a:cubicBezTo>
                    <a:pt x="31236" y="32323"/>
                    <a:pt x="18486" y="-24544"/>
                    <a:pt x="9817" y="31303"/>
                  </a:cubicBezTo>
                  <a:cubicBezTo>
                    <a:pt x="1147" y="21614"/>
                    <a:pt x="3187" y="8354"/>
                    <a:pt x="7777" y="5805"/>
                  </a:cubicBezTo>
                  <a:cubicBezTo>
                    <a:pt x="12367" y="3765"/>
                    <a:pt x="17976" y="2235"/>
                    <a:pt x="24606" y="6824"/>
                  </a:cubicBezTo>
                  <a:cubicBezTo>
                    <a:pt x="31236" y="11414"/>
                    <a:pt x="31236" y="11924"/>
                    <a:pt x="31746" y="16004"/>
                  </a:cubicBezTo>
                  <a:cubicBezTo>
                    <a:pt x="32256" y="20594"/>
                    <a:pt x="31236" y="32323"/>
                    <a:pt x="31236" y="32323"/>
                  </a:cubicBezTo>
                  <a:close/>
                </a:path>
              </a:pathLst>
            </a:custGeom>
            <a:solidFill>
              <a:srgbClr val="fecc9b"/>
            </a:solidFill>
            <a:ln w="0">
              <a:noFill/>
            </a:ln>
          </p:spPr>
          <p:style>
            <a:lnRef idx="0"/>
            <a:fillRef idx="0"/>
            <a:effectRef idx="0"/>
            <a:fontRef idx="minor"/>
          </p:style>
          <p:txBody>
            <a:bodyPr lIns="90000" rIns="90000" tIns="11160" bIns="11160" anchor="ctr">
              <a:noAutofit/>
            </a:bodyPr>
            <a:p>
              <a:endParaRPr b="0" lang="en-US" sz="1800" spc="-1" strike="noStrike">
                <a:solidFill>
                  <a:srgbClr val="262626"/>
                </a:solidFill>
                <a:latin typeface="Arial"/>
              </a:endParaRPr>
            </a:p>
          </p:txBody>
        </p:sp>
        <p:sp>
          <p:nvSpPr>
            <p:cNvPr id="2350" name="任意多边形: 形状 115"/>
            <p:cNvSpPr/>
            <p:nvPr/>
          </p:nvSpPr>
          <p:spPr>
            <a:xfrm>
              <a:off x="3789000" y="314244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5697" h="35697">
                  <a:moveTo>
                    <a:pt x="4949" y="32323"/>
                  </a:moveTo>
                  <a:cubicBezTo>
                    <a:pt x="4949" y="32323"/>
                    <a:pt x="17698" y="-24544"/>
                    <a:pt x="26368" y="31303"/>
                  </a:cubicBezTo>
                  <a:cubicBezTo>
                    <a:pt x="-30499" y="21614"/>
                    <a:pt x="-32539" y="8354"/>
                    <a:pt x="28407" y="5805"/>
                  </a:cubicBezTo>
                  <a:cubicBezTo>
                    <a:pt x="23818" y="3765"/>
                    <a:pt x="18208" y="2235"/>
                    <a:pt x="11578" y="6824"/>
                  </a:cubicBezTo>
                  <a:cubicBezTo>
                    <a:pt x="4949" y="11414"/>
                    <a:pt x="4439" y="11924"/>
                    <a:pt x="3929" y="16004"/>
                  </a:cubicBezTo>
                  <a:cubicBezTo>
                    <a:pt x="3419" y="20594"/>
                    <a:pt x="4949" y="32323"/>
                    <a:pt x="4949" y="32323"/>
                  </a:cubicBezTo>
                  <a:close/>
                </a:path>
              </a:pathLst>
            </a:custGeom>
            <a:solidFill>
              <a:srgbClr val="fecc9b"/>
            </a:solidFill>
            <a:ln w="0">
              <a:noFill/>
            </a:ln>
          </p:spPr>
          <p:style>
            <a:lnRef idx="0"/>
            <a:fillRef idx="0"/>
            <a:effectRef idx="0"/>
            <a:fontRef idx="minor"/>
          </p:style>
          <p:txBody>
            <a:bodyPr lIns="90000" rIns="90000" tIns="11160" bIns="11160" anchor="ctr">
              <a:noAutofit/>
            </a:bodyPr>
            <a:p>
              <a:endParaRPr b="0" lang="en-US" sz="1800" spc="-1" strike="noStrike">
                <a:solidFill>
                  <a:srgbClr val="262626"/>
                </a:solidFill>
                <a:latin typeface="Arial"/>
              </a:endParaRPr>
            </a:p>
          </p:txBody>
        </p:sp>
        <p:sp>
          <p:nvSpPr>
            <p:cNvPr id="2351" name="任意多边形: 形状 116"/>
            <p:cNvSpPr/>
            <p:nvPr/>
          </p:nvSpPr>
          <p:spPr>
            <a:xfrm>
              <a:off x="3580560" y="2971440"/>
              <a:ext cx="247680" cy="206280"/>
            </a:xfrm>
            <a:custGeom>
              <a:avLst/>
              <a:gdLst>
                <a:gd name="textAreaLeft" fmla="*/ 0 w 247680"/>
                <a:gd name="textAreaRight" fmla="*/ 248040 w 247680"/>
                <a:gd name="textAreaTop" fmla="*/ 0 h 206280"/>
                <a:gd name="textAreaBottom" fmla="*/ 206640 h 206280"/>
              </a:gdLst>
              <a:ahLst/>
              <a:rect l="textAreaLeft" t="textAreaTop" r="textAreaRight" b="textAreaBottom"/>
              <a:pathLst>
                <a:path w="152990" h="127492">
                  <a:moveTo>
                    <a:pt x="14421" y="80725"/>
                  </a:moveTo>
                  <a:cubicBezTo>
                    <a:pt x="14421" y="80725"/>
                    <a:pt x="22070" y="80215"/>
                    <a:pt x="30230" y="70526"/>
                  </a:cubicBezTo>
                  <a:cubicBezTo>
                    <a:pt x="37879" y="60326"/>
                    <a:pt x="40939" y="55737"/>
                    <a:pt x="40939" y="55737"/>
                  </a:cubicBezTo>
                  <a:cubicBezTo>
                    <a:pt x="40939" y="55737"/>
                    <a:pt x="62868" y="71036"/>
                    <a:pt x="97545" y="79195"/>
                  </a:cubicBezTo>
                  <a:cubicBezTo>
                    <a:pt x="132223" y="87355"/>
                    <a:pt x="143443" y="89395"/>
                    <a:pt x="143443" y="89395"/>
                  </a:cubicBezTo>
                  <a:cubicBezTo>
                    <a:pt x="143443" y="89395"/>
                    <a:pt x="147523" y="102144"/>
                    <a:pt x="147013" y="109793"/>
                  </a:cubicBezTo>
                  <a:cubicBezTo>
                    <a:pt x="146503" y="117443"/>
                    <a:pt x="147013" y="125603"/>
                    <a:pt x="147013" y="125603"/>
                  </a:cubicBezTo>
                  <a:cubicBezTo>
                    <a:pt x="147013" y="125603"/>
                    <a:pt x="154152" y="111323"/>
                    <a:pt x="154152" y="91945"/>
                  </a:cubicBezTo>
                  <a:cubicBezTo>
                    <a:pt x="154662" y="72566"/>
                    <a:pt x="150072" y="38398"/>
                    <a:pt x="124574" y="18509"/>
                  </a:cubicBezTo>
                  <a:cubicBezTo>
                    <a:pt x="99075" y="-1380"/>
                    <a:pt x="60828" y="3210"/>
                    <a:pt x="49098" y="7800"/>
                  </a:cubicBezTo>
                  <a:cubicBezTo>
                    <a:pt x="37879" y="12389"/>
                    <a:pt x="31249" y="22589"/>
                    <a:pt x="31249" y="22589"/>
                  </a:cubicBezTo>
                  <a:cubicBezTo>
                    <a:pt x="31249" y="22589"/>
                    <a:pt x="12381" y="24119"/>
                    <a:pt x="7281" y="46557"/>
                  </a:cubicBezTo>
                  <a:cubicBezTo>
                    <a:pt x="2691" y="68996"/>
                    <a:pt x="3201" y="104184"/>
                    <a:pt x="5751" y="113363"/>
                  </a:cubicBezTo>
                  <a:cubicBezTo>
                    <a:pt x="8301" y="122033"/>
                    <a:pt x="11361" y="127132"/>
                    <a:pt x="11361" y="127132"/>
                  </a:cubicBezTo>
                  <a:lnTo>
                    <a:pt x="14421" y="80725"/>
                  </a:lnTo>
                  <a:close/>
                </a:path>
              </a:pathLst>
            </a:custGeom>
            <a:solidFill>
              <a:srgbClr val="35353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52" name="任意多边形: 形状 117"/>
            <p:cNvSpPr/>
            <p:nvPr/>
          </p:nvSpPr>
          <p:spPr>
            <a:xfrm>
              <a:off x="3517560" y="3320640"/>
              <a:ext cx="379800" cy="718200"/>
            </a:xfrm>
            <a:custGeom>
              <a:avLst/>
              <a:gdLst>
                <a:gd name="textAreaLeft" fmla="*/ 0 w 379800"/>
                <a:gd name="textAreaRight" fmla="*/ 380160 w 379800"/>
                <a:gd name="textAreaTop" fmla="*/ 0 h 718200"/>
                <a:gd name="textAreaBottom" fmla="*/ 718560 h 718200"/>
              </a:gdLst>
              <a:ahLst/>
              <a:rect l="textAreaLeft" t="textAreaTop" r="textAreaRight" b="textAreaBottom"/>
              <a:pathLst>
                <a:path w="234585" h="443673">
                  <a:moveTo>
                    <a:pt x="117038" y="17594"/>
                  </a:moveTo>
                  <a:lnTo>
                    <a:pt x="80830" y="3825"/>
                  </a:lnTo>
                  <a:lnTo>
                    <a:pt x="20144" y="25243"/>
                  </a:lnTo>
                  <a:lnTo>
                    <a:pt x="3825" y="438319"/>
                  </a:lnTo>
                  <a:lnTo>
                    <a:pt x="231271" y="439849"/>
                  </a:lnTo>
                  <a:lnTo>
                    <a:pt x="213932" y="25243"/>
                  </a:lnTo>
                  <a:lnTo>
                    <a:pt x="153246" y="3825"/>
                  </a:lnTo>
                  <a:lnTo>
                    <a:pt x="117038" y="17594"/>
                  </a:lnTo>
                  <a:close/>
                </a:path>
              </a:pathLst>
            </a:custGeom>
            <a:solidFill>
              <a:srgbClr val="95c9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53" name="任意多边形: 形状 118"/>
            <p:cNvSpPr/>
            <p:nvPr/>
          </p:nvSpPr>
          <p:spPr>
            <a:xfrm>
              <a:off x="3426840" y="4820040"/>
              <a:ext cx="222840" cy="156600"/>
            </a:xfrm>
            <a:custGeom>
              <a:avLst/>
              <a:gdLst>
                <a:gd name="textAreaLeft" fmla="*/ 0 w 222840"/>
                <a:gd name="textAreaRight" fmla="*/ 223200 w 222840"/>
                <a:gd name="textAreaTop" fmla="*/ 0 h 156600"/>
                <a:gd name="textAreaBottom" fmla="*/ 156960 h 156600"/>
              </a:gdLst>
              <a:ahLst/>
              <a:rect l="textAreaLeft" t="textAreaTop" r="textAreaRight" b="textAreaBottom"/>
              <a:pathLst>
                <a:path w="137691" h="96894">
                  <a:moveTo>
                    <a:pt x="82362" y="3825"/>
                  </a:moveTo>
                  <a:cubicBezTo>
                    <a:pt x="82362" y="3825"/>
                    <a:pt x="3317" y="75221"/>
                    <a:pt x="3827" y="82360"/>
                  </a:cubicBezTo>
                  <a:cubicBezTo>
                    <a:pt x="4337" y="89500"/>
                    <a:pt x="5867" y="96639"/>
                    <a:pt x="5867" y="96639"/>
                  </a:cubicBezTo>
                  <a:lnTo>
                    <a:pt x="109901" y="94599"/>
                  </a:lnTo>
                  <a:lnTo>
                    <a:pt x="118060" y="65021"/>
                  </a:lnTo>
                  <a:lnTo>
                    <a:pt x="120610" y="94089"/>
                  </a:lnTo>
                  <a:lnTo>
                    <a:pt x="137949" y="94599"/>
                  </a:lnTo>
                  <a:lnTo>
                    <a:pt x="132340" y="7904"/>
                  </a:lnTo>
                  <a:lnTo>
                    <a:pt x="82362" y="3825"/>
                  </a:lnTo>
                  <a:close/>
                </a:path>
              </a:pathLst>
            </a:custGeom>
            <a:solidFill>
              <a:srgbClr val="505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54" name="任意多边形: 形状 119"/>
            <p:cNvSpPr/>
            <p:nvPr/>
          </p:nvSpPr>
          <p:spPr>
            <a:xfrm>
              <a:off x="3772800" y="4820040"/>
              <a:ext cx="222840" cy="156600"/>
            </a:xfrm>
            <a:custGeom>
              <a:avLst/>
              <a:gdLst>
                <a:gd name="textAreaLeft" fmla="*/ 0 w 222840"/>
                <a:gd name="textAreaRight" fmla="*/ 223200 w 222840"/>
                <a:gd name="textAreaTop" fmla="*/ 0 h 156600"/>
                <a:gd name="textAreaBottom" fmla="*/ 156960 h 156600"/>
              </a:gdLst>
              <a:ahLst/>
              <a:rect l="textAreaLeft" t="textAreaTop" r="textAreaRight" b="textAreaBottom"/>
              <a:pathLst>
                <a:path w="137691" h="96894">
                  <a:moveTo>
                    <a:pt x="60431" y="3825"/>
                  </a:moveTo>
                  <a:cubicBezTo>
                    <a:pt x="60431" y="3825"/>
                    <a:pt x="139477" y="75221"/>
                    <a:pt x="138457" y="82360"/>
                  </a:cubicBezTo>
                  <a:cubicBezTo>
                    <a:pt x="137947" y="89500"/>
                    <a:pt x="136417" y="96639"/>
                    <a:pt x="136417" y="96639"/>
                  </a:cubicBezTo>
                  <a:lnTo>
                    <a:pt x="32383" y="94599"/>
                  </a:lnTo>
                  <a:lnTo>
                    <a:pt x="23714" y="65021"/>
                  </a:lnTo>
                  <a:lnTo>
                    <a:pt x="21164" y="94089"/>
                  </a:lnTo>
                  <a:lnTo>
                    <a:pt x="3825" y="94599"/>
                  </a:lnTo>
                  <a:lnTo>
                    <a:pt x="9434" y="7904"/>
                  </a:lnTo>
                  <a:lnTo>
                    <a:pt x="60431" y="3825"/>
                  </a:lnTo>
                  <a:close/>
                </a:path>
              </a:pathLst>
            </a:custGeom>
            <a:solidFill>
              <a:srgbClr val="505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55" name="任意多边形: 形状 120"/>
            <p:cNvSpPr/>
            <p:nvPr/>
          </p:nvSpPr>
          <p:spPr>
            <a:xfrm>
              <a:off x="3524760" y="3940920"/>
              <a:ext cx="379800" cy="916200"/>
            </a:xfrm>
            <a:custGeom>
              <a:avLst/>
              <a:gdLst>
                <a:gd name="textAreaLeft" fmla="*/ 0 w 379800"/>
                <a:gd name="textAreaRight" fmla="*/ 380160 w 379800"/>
                <a:gd name="textAreaTop" fmla="*/ 0 h 916200"/>
                <a:gd name="textAreaBottom" fmla="*/ 916560 h 916200"/>
              </a:gdLst>
              <a:ahLst/>
              <a:rect l="textAreaLeft" t="textAreaTop" r="textAreaRight" b="textAreaBottom"/>
              <a:pathLst>
                <a:path w="234585" h="566066">
                  <a:moveTo>
                    <a:pt x="14534" y="3825"/>
                  </a:moveTo>
                  <a:cubicBezTo>
                    <a:pt x="15554" y="10454"/>
                    <a:pt x="3825" y="563261"/>
                    <a:pt x="3825" y="563261"/>
                  </a:cubicBezTo>
                  <a:lnTo>
                    <a:pt x="80830" y="562241"/>
                  </a:lnTo>
                  <a:lnTo>
                    <a:pt x="118058" y="127747"/>
                  </a:lnTo>
                  <a:lnTo>
                    <a:pt x="155286" y="562241"/>
                  </a:lnTo>
                  <a:lnTo>
                    <a:pt x="232291" y="563261"/>
                  </a:lnTo>
                  <a:cubicBezTo>
                    <a:pt x="232291" y="563261"/>
                    <a:pt x="220562" y="10454"/>
                    <a:pt x="221582" y="3825"/>
                  </a:cubicBezTo>
                  <a:lnTo>
                    <a:pt x="118568" y="14024"/>
                  </a:lnTo>
                  <a:lnTo>
                    <a:pt x="14534" y="3825"/>
                  </a:lnTo>
                  <a:close/>
                </a:path>
              </a:pathLst>
            </a:custGeom>
            <a:solidFill>
              <a:srgbClr val="2c4c7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56" name="任意多边形: 形状 121"/>
            <p:cNvSpPr/>
            <p:nvPr/>
          </p:nvSpPr>
          <p:spPr>
            <a:xfrm>
              <a:off x="3541320" y="3940920"/>
              <a:ext cx="346680" cy="131760"/>
            </a:xfrm>
            <a:custGeom>
              <a:avLst/>
              <a:gdLst>
                <a:gd name="textAreaLeft" fmla="*/ 0 w 346680"/>
                <a:gd name="textAreaRight" fmla="*/ 347040 w 346680"/>
                <a:gd name="textAreaTop" fmla="*/ 0 h 131760"/>
                <a:gd name="textAreaBottom" fmla="*/ 132120 h 131760"/>
              </a:gdLst>
              <a:ahLst/>
              <a:rect l="textAreaLeft" t="textAreaTop" r="textAreaRight" b="textAreaBottom"/>
              <a:pathLst>
                <a:path w="214187" h="81595">
                  <a:moveTo>
                    <a:pt x="4335" y="3825"/>
                  </a:moveTo>
                  <a:cubicBezTo>
                    <a:pt x="4845" y="5355"/>
                    <a:pt x="4335" y="31363"/>
                    <a:pt x="3825" y="71651"/>
                  </a:cubicBezTo>
                  <a:cubicBezTo>
                    <a:pt x="14024" y="71651"/>
                    <a:pt x="26773" y="72161"/>
                    <a:pt x="37483" y="73181"/>
                  </a:cubicBezTo>
                  <a:lnTo>
                    <a:pt x="41563" y="81850"/>
                  </a:lnTo>
                  <a:lnTo>
                    <a:pt x="56352" y="75221"/>
                  </a:lnTo>
                  <a:cubicBezTo>
                    <a:pt x="62471" y="76240"/>
                    <a:pt x="66551" y="77260"/>
                    <a:pt x="66551" y="79300"/>
                  </a:cubicBezTo>
                  <a:cubicBezTo>
                    <a:pt x="66551" y="79810"/>
                    <a:pt x="66551" y="77260"/>
                    <a:pt x="66041" y="71141"/>
                  </a:cubicBezTo>
                  <a:lnTo>
                    <a:pt x="144066" y="35443"/>
                  </a:lnTo>
                  <a:cubicBezTo>
                    <a:pt x="142027" y="64001"/>
                    <a:pt x="140497" y="81340"/>
                    <a:pt x="140497" y="79300"/>
                  </a:cubicBezTo>
                  <a:cubicBezTo>
                    <a:pt x="140497" y="73691"/>
                    <a:pt x="187924" y="72161"/>
                    <a:pt x="212402" y="72161"/>
                  </a:cubicBezTo>
                  <a:cubicBezTo>
                    <a:pt x="211892" y="31873"/>
                    <a:pt x="211382" y="5865"/>
                    <a:pt x="211892" y="4335"/>
                  </a:cubicBezTo>
                  <a:lnTo>
                    <a:pt x="108879" y="14534"/>
                  </a:lnTo>
                  <a:lnTo>
                    <a:pt x="4335" y="3825"/>
                  </a:lnTo>
                  <a:close/>
                </a:path>
              </a:pathLst>
            </a:custGeom>
            <a:solidFill>
              <a:srgbClr val="243d6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57" name="任意多边形: 形状 122"/>
            <p:cNvSpPr/>
            <p:nvPr/>
          </p:nvSpPr>
          <p:spPr>
            <a:xfrm>
              <a:off x="3233520" y="3984480"/>
              <a:ext cx="379800" cy="330120"/>
            </a:xfrm>
            <a:custGeom>
              <a:avLst/>
              <a:gdLst>
                <a:gd name="textAreaLeft" fmla="*/ 0 w 379800"/>
                <a:gd name="textAreaRight" fmla="*/ 380160 w 379800"/>
                <a:gd name="textAreaTop" fmla="*/ 0 h 330120"/>
                <a:gd name="textAreaBottom" fmla="*/ 330480 h 330120"/>
              </a:gdLst>
              <a:ahLst/>
              <a:rect l="textAreaLeft" t="textAreaTop" r="textAreaRight" b="textAreaBottom"/>
              <a:pathLst>
                <a:path w="234585" h="203987">
                  <a:moveTo>
                    <a:pt x="4713" y="149111"/>
                  </a:moveTo>
                  <a:lnTo>
                    <a:pt x="45059" y="4713"/>
                  </a:lnTo>
                  <a:lnTo>
                    <a:pt x="233170" y="57273"/>
                  </a:lnTo>
                  <a:lnTo>
                    <a:pt x="192824" y="201672"/>
                  </a:lnTo>
                  <a:lnTo>
                    <a:pt x="4713" y="149111"/>
                  </a:lnTo>
                  <a:close/>
                </a:path>
              </a:pathLst>
            </a:custGeom>
            <a:solidFill>
              <a:srgbClr val="7c442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58" name="任意多边形: 形状 123"/>
            <p:cNvSpPr/>
            <p:nvPr/>
          </p:nvSpPr>
          <p:spPr>
            <a:xfrm>
              <a:off x="3234960" y="4105080"/>
              <a:ext cx="363240" cy="206280"/>
            </a:xfrm>
            <a:custGeom>
              <a:avLst/>
              <a:gdLst>
                <a:gd name="textAreaLeft" fmla="*/ 0 w 363240"/>
                <a:gd name="textAreaRight" fmla="*/ 363240 w 363240"/>
                <a:gd name="textAreaTop" fmla="*/ 0 h 206280"/>
                <a:gd name="textAreaBottom" fmla="*/ 206640 h 206280"/>
              </a:gdLst>
              <a:ahLst/>
              <a:rect l="textAreaLeft" t="textAreaTop" r="textAreaRight" b="textAreaBottom"/>
              <a:pathLst>
                <a:path w="224386" h="127492">
                  <a:moveTo>
                    <a:pt x="224641" y="9944"/>
                  </a:moveTo>
                  <a:lnTo>
                    <a:pt x="192003" y="127237"/>
                  </a:lnTo>
                  <a:lnTo>
                    <a:pt x="3825" y="74710"/>
                  </a:lnTo>
                  <a:lnTo>
                    <a:pt x="23714" y="3825"/>
                  </a:lnTo>
                  <a:cubicBezTo>
                    <a:pt x="94599" y="6375"/>
                    <a:pt x="172625" y="8414"/>
                    <a:pt x="224641" y="9944"/>
                  </a:cubicBezTo>
                  <a:close/>
                </a:path>
              </a:pathLst>
            </a:custGeom>
            <a:solidFill>
              <a:srgbClr val="703d2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59" name="任意多边形: 形状 124"/>
            <p:cNvSpPr/>
            <p:nvPr/>
          </p:nvSpPr>
          <p:spPr>
            <a:xfrm>
              <a:off x="3353760" y="4120920"/>
              <a:ext cx="148320" cy="181440"/>
            </a:xfrm>
            <a:custGeom>
              <a:avLst/>
              <a:gdLst/>
              <a:ahLst/>
              <a:rect l="l" t="t" r="r" b="b"/>
              <a:pathLst>
                <a:path w="91794" h="112193">
                  <a:moveTo>
                    <a:pt x="21389" y="3825"/>
                  </a:moveTo>
                  <a:cubicBezTo>
                    <a:pt x="21389" y="3825"/>
                    <a:pt x="1501" y="75731"/>
                    <a:pt x="4051" y="86440"/>
                  </a:cubicBezTo>
                  <a:cubicBezTo>
                    <a:pt x="6090" y="97149"/>
                    <a:pt x="18330" y="94089"/>
                    <a:pt x="18330" y="94089"/>
                  </a:cubicBezTo>
                  <a:cubicBezTo>
                    <a:pt x="18330" y="94089"/>
                    <a:pt x="16290" y="101229"/>
                    <a:pt x="26489" y="105309"/>
                  </a:cubicBezTo>
                  <a:cubicBezTo>
                    <a:pt x="36689" y="109899"/>
                    <a:pt x="40768" y="99189"/>
                    <a:pt x="40768" y="99189"/>
                  </a:cubicBezTo>
                  <a:cubicBezTo>
                    <a:pt x="40768" y="99189"/>
                    <a:pt x="44848" y="110918"/>
                    <a:pt x="51478" y="109899"/>
                  </a:cubicBezTo>
                  <a:cubicBezTo>
                    <a:pt x="58617" y="108879"/>
                    <a:pt x="64227" y="100209"/>
                    <a:pt x="64227" y="100209"/>
                  </a:cubicBezTo>
                  <a:cubicBezTo>
                    <a:pt x="64227" y="100209"/>
                    <a:pt x="67797" y="111938"/>
                    <a:pt x="73406" y="109899"/>
                  </a:cubicBezTo>
                  <a:cubicBezTo>
                    <a:pt x="78506" y="107349"/>
                    <a:pt x="81566" y="72161"/>
                    <a:pt x="81566" y="72161"/>
                  </a:cubicBezTo>
                  <a:cubicBezTo>
                    <a:pt x="81566" y="72161"/>
                    <a:pt x="89725" y="74201"/>
                    <a:pt x="89725" y="66551"/>
                  </a:cubicBezTo>
                  <a:cubicBezTo>
                    <a:pt x="89725" y="59411"/>
                    <a:pt x="81566" y="25754"/>
                    <a:pt x="81566" y="25754"/>
                  </a:cubicBezTo>
                  <a:lnTo>
                    <a:pt x="21389" y="3825"/>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0" name="任意多边形: 形状 125"/>
            <p:cNvSpPr/>
            <p:nvPr/>
          </p:nvSpPr>
          <p:spPr>
            <a:xfrm>
              <a:off x="3368880" y="3355200"/>
              <a:ext cx="214560" cy="808920"/>
            </a:xfrm>
            <a:custGeom>
              <a:avLst/>
              <a:gdLst>
                <a:gd name="textAreaLeft" fmla="*/ 0 w 214560"/>
                <a:gd name="textAreaRight" fmla="*/ 214920 w 214560"/>
                <a:gd name="textAreaTop" fmla="*/ 0 h 808920"/>
                <a:gd name="textAreaBottom" fmla="*/ 809280 h 808920"/>
              </a:gdLst>
              <a:ahLst/>
              <a:rect l="textAreaLeft" t="textAreaTop" r="textAreaRight" b="textAreaBottom"/>
              <a:pathLst>
                <a:path w="132592" h="499770">
                  <a:moveTo>
                    <a:pt x="128257" y="54822"/>
                  </a:moveTo>
                  <a:cubicBezTo>
                    <a:pt x="133357" y="54822"/>
                    <a:pt x="111938" y="3825"/>
                    <a:pt x="111938" y="3825"/>
                  </a:cubicBezTo>
                  <a:cubicBezTo>
                    <a:pt x="111938" y="3825"/>
                    <a:pt x="87970" y="16064"/>
                    <a:pt x="71651" y="49722"/>
                  </a:cubicBezTo>
                  <a:cubicBezTo>
                    <a:pt x="55842" y="83380"/>
                    <a:pt x="3825" y="489316"/>
                    <a:pt x="3825" y="489316"/>
                  </a:cubicBezTo>
                  <a:lnTo>
                    <a:pt x="71141" y="499005"/>
                  </a:lnTo>
                  <a:lnTo>
                    <a:pt x="128257" y="54822"/>
                  </a:lnTo>
                  <a:close/>
                </a:path>
              </a:pathLst>
            </a:custGeom>
            <a:solidFill>
              <a:srgbClr val="484b5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1" name="任意多边形: 形状 126"/>
            <p:cNvSpPr/>
            <p:nvPr/>
          </p:nvSpPr>
          <p:spPr>
            <a:xfrm>
              <a:off x="3504240" y="3337920"/>
              <a:ext cx="148320" cy="709920"/>
            </a:xfrm>
            <a:custGeom>
              <a:avLst/>
              <a:gdLst>
                <a:gd name="textAreaLeft" fmla="*/ 0 w 148320"/>
                <a:gd name="textAreaRight" fmla="*/ 148320 w 148320"/>
                <a:gd name="textAreaTop" fmla="*/ 0 h 709920"/>
                <a:gd name="textAreaBottom" fmla="*/ 710280 h 709920"/>
              </a:gdLst>
              <a:ahLst/>
              <a:rect l="textAreaLeft" t="textAreaTop" r="textAreaRight" b="textAreaBottom"/>
              <a:pathLst>
                <a:path w="91794" h="438573">
                  <a:moveTo>
                    <a:pt x="58392" y="3825"/>
                  </a:moveTo>
                  <a:cubicBezTo>
                    <a:pt x="58392" y="3825"/>
                    <a:pt x="88990" y="443418"/>
                    <a:pt x="88990" y="435259"/>
                  </a:cubicBezTo>
                  <a:cubicBezTo>
                    <a:pt x="88990" y="427609"/>
                    <a:pt x="3825" y="427609"/>
                    <a:pt x="3825" y="427609"/>
                  </a:cubicBezTo>
                  <a:lnTo>
                    <a:pt x="28303" y="14024"/>
                  </a:lnTo>
                  <a:lnTo>
                    <a:pt x="58392" y="3825"/>
                  </a:lnTo>
                  <a:close/>
                </a:path>
              </a:pathLst>
            </a:custGeom>
            <a:solidFill>
              <a:srgbClr val="505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2" name="任意多边形: 形状 127"/>
            <p:cNvSpPr/>
            <p:nvPr/>
          </p:nvSpPr>
          <p:spPr>
            <a:xfrm>
              <a:off x="3762000" y="3337920"/>
              <a:ext cx="148320" cy="709920"/>
            </a:xfrm>
            <a:custGeom>
              <a:avLst/>
              <a:gdLst>
                <a:gd name="textAreaLeft" fmla="*/ 0 w 148320"/>
                <a:gd name="textAreaRight" fmla="*/ 148320 w 148320"/>
                <a:gd name="textAreaTop" fmla="*/ 0 h 709920"/>
                <a:gd name="textAreaBottom" fmla="*/ 710280 h 709920"/>
              </a:gdLst>
              <a:ahLst/>
              <a:rect l="textAreaLeft" t="textAreaTop" r="textAreaRight" b="textAreaBottom"/>
              <a:pathLst>
                <a:path w="91794" h="438573">
                  <a:moveTo>
                    <a:pt x="34423" y="3825"/>
                  </a:moveTo>
                  <a:cubicBezTo>
                    <a:pt x="34423" y="3825"/>
                    <a:pt x="3825" y="443418"/>
                    <a:pt x="3825" y="435259"/>
                  </a:cubicBezTo>
                  <a:cubicBezTo>
                    <a:pt x="3825" y="427609"/>
                    <a:pt x="89500" y="427609"/>
                    <a:pt x="89500" y="427609"/>
                  </a:cubicBezTo>
                  <a:lnTo>
                    <a:pt x="64511" y="14024"/>
                  </a:lnTo>
                  <a:lnTo>
                    <a:pt x="34423" y="3825"/>
                  </a:lnTo>
                  <a:close/>
                </a:path>
              </a:pathLst>
            </a:custGeom>
            <a:solidFill>
              <a:srgbClr val="50535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3" name="任意多边形: 形状 128"/>
            <p:cNvSpPr/>
            <p:nvPr/>
          </p:nvSpPr>
          <p:spPr>
            <a:xfrm>
              <a:off x="3668760" y="3334680"/>
              <a:ext cx="65880" cy="420840"/>
            </a:xfrm>
            <a:custGeom>
              <a:avLst/>
              <a:gdLst>
                <a:gd name="textAreaLeft" fmla="*/ 0 w 65880"/>
                <a:gd name="textAreaRight" fmla="*/ 66240 w 65880"/>
                <a:gd name="textAreaTop" fmla="*/ 0 h 420840"/>
                <a:gd name="textAreaBottom" fmla="*/ 421200 h 420840"/>
              </a:gdLst>
              <a:ahLst/>
              <a:rect l="textAreaLeft" t="textAreaTop" r="textAreaRight" b="textAreaBottom"/>
              <a:pathLst>
                <a:path w="40797" h="260084">
                  <a:moveTo>
                    <a:pt x="24224" y="4845"/>
                  </a:moveTo>
                  <a:lnTo>
                    <a:pt x="36463" y="17594"/>
                  </a:lnTo>
                  <a:lnTo>
                    <a:pt x="28813" y="26773"/>
                  </a:lnTo>
                  <a:lnTo>
                    <a:pt x="40032" y="230761"/>
                  </a:lnTo>
                  <a:lnTo>
                    <a:pt x="22184" y="257280"/>
                  </a:lnTo>
                  <a:lnTo>
                    <a:pt x="3825" y="230761"/>
                  </a:lnTo>
                  <a:lnTo>
                    <a:pt x="18614" y="26773"/>
                  </a:lnTo>
                  <a:lnTo>
                    <a:pt x="10964" y="17594"/>
                  </a:lnTo>
                  <a:lnTo>
                    <a:pt x="23204" y="4845"/>
                  </a:lnTo>
                  <a:lnTo>
                    <a:pt x="23714" y="3825"/>
                  </a:lnTo>
                  <a:lnTo>
                    <a:pt x="24224" y="4845"/>
                  </a:lnTo>
                  <a:close/>
                </a:path>
              </a:pathLst>
            </a:custGeom>
            <a:solidFill>
              <a:srgbClr val="437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4" name="任意多边形: 形状 129"/>
            <p:cNvSpPr/>
            <p:nvPr/>
          </p:nvSpPr>
          <p:spPr>
            <a:xfrm>
              <a:off x="3470400" y="3653280"/>
              <a:ext cx="363240" cy="396000"/>
            </a:xfrm>
            <a:custGeom>
              <a:avLst/>
              <a:gdLst>
                <a:gd name="textAreaLeft" fmla="*/ 0 w 363240"/>
                <a:gd name="textAreaRight" fmla="*/ 363240 w 363240"/>
                <a:gd name="textAreaTop" fmla="*/ 0 h 396000"/>
                <a:gd name="textAreaBottom" fmla="*/ 396360 h 396000"/>
              </a:gdLst>
              <a:ahLst/>
              <a:rect l="textAreaLeft" t="textAreaTop" r="textAreaRight" b="textAreaBottom"/>
              <a:pathLst>
                <a:path w="224386" h="244785">
                  <a:moveTo>
                    <a:pt x="221072" y="181294"/>
                  </a:moveTo>
                  <a:lnTo>
                    <a:pt x="85420" y="244020"/>
                  </a:lnTo>
                  <a:lnTo>
                    <a:pt x="3825" y="66041"/>
                  </a:lnTo>
                  <a:lnTo>
                    <a:pt x="139987" y="3825"/>
                  </a:lnTo>
                  <a:lnTo>
                    <a:pt x="221072" y="181294"/>
                  </a:lnTo>
                  <a:close/>
                </a:path>
              </a:pathLst>
            </a:custGeom>
            <a:solidFill>
              <a:srgbClr val="5d6a9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5" name="任意多边形: 形状 130"/>
            <p:cNvSpPr/>
            <p:nvPr/>
          </p:nvSpPr>
          <p:spPr>
            <a:xfrm>
              <a:off x="3548160" y="3653280"/>
              <a:ext cx="280440" cy="379800"/>
            </a:xfrm>
            <a:custGeom>
              <a:avLst/>
              <a:gdLst>
                <a:gd name="textAreaLeft" fmla="*/ 0 w 280440"/>
                <a:gd name="textAreaRight" fmla="*/ 280800 w 280440"/>
                <a:gd name="textAreaTop" fmla="*/ 0 h 379800"/>
                <a:gd name="textAreaBottom" fmla="*/ 380160 h 379800"/>
              </a:gdLst>
              <a:ahLst/>
              <a:rect l="textAreaLeft" t="textAreaTop" r="textAreaRight" b="textAreaBottom"/>
              <a:pathLst>
                <a:path w="173389" h="234585">
                  <a:moveTo>
                    <a:pt x="173135" y="181294"/>
                  </a:moveTo>
                  <a:lnTo>
                    <a:pt x="59411" y="233821"/>
                  </a:lnTo>
                  <a:lnTo>
                    <a:pt x="3825" y="44112"/>
                  </a:lnTo>
                  <a:lnTo>
                    <a:pt x="92049" y="3825"/>
                  </a:lnTo>
                  <a:lnTo>
                    <a:pt x="173135" y="181294"/>
                  </a:lnTo>
                  <a:close/>
                </a:path>
              </a:pathLst>
            </a:custGeom>
            <a:solidFill>
              <a:srgbClr val="545f8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6" name="任意多边形: 形状 131"/>
            <p:cNvSpPr/>
            <p:nvPr/>
          </p:nvSpPr>
          <p:spPr>
            <a:xfrm>
              <a:off x="3521520" y="3803040"/>
              <a:ext cx="189720" cy="164880"/>
            </a:xfrm>
            <a:custGeom>
              <a:avLst/>
              <a:gdLst>
                <a:gd name="textAreaLeft" fmla="*/ 0 w 189720"/>
                <a:gd name="textAreaRight" fmla="*/ 190080 w 189720"/>
                <a:gd name="textAreaTop" fmla="*/ 0 h 164880"/>
                <a:gd name="textAreaBottom" fmla="*/ 165240 h 164880"/>
              </a:gdLst>
              <a:ahLst/>
              <a:rect l="textAreaLeft" t="textAreaTop" r="textAreaRight" b="textAreaBottom"/>
              <a:pathLst>
                <a:path w="117292" h="101993">
                  <a:moveTo>
                    <a:pt x="106418" y="3825"/>
                  </a:moveTo>
                  <a:lnTo>
                    <a:pt x="82449" y="12494"/>
                  </a:lnTo>
                  <a:cubicBezTo>
                    <a:pt x="82449" y="12494"/>
                    <a:pt x="33492" y="27283"/>
                    <a:pt x="32472" y="32893"/>
                  </a:cubicBezTo>
                  <a:cubicBezTo>
                    <a:pt x="31962" y="37993"/>
                    <a:pt x="35532" y="41563"/>
                    <a:pt x="35532" y="41563"/>
                  </a:cubicBezTo>
                  <a:cubicBezTo>
                    <a:pt x="35532" y="41563"/>
                    <a:pt x="1874" y="52782"/>
                    <a:pt x="3914" y="60941"/>
                  </a:cubicBezTo>
                  <a:cubicBezTo>
                    <a:pt x="5954" y="69101"/>
                    <a:pt x="10544" y="69611"/>
                    <a:pt x="10544" y="69611"/>
                  </a:cubicBezTo>
                  <a:cubicBezTo>
                    <a:pt x="10544" y="69611"/>
                    <a:pt x="4424" y="74711"/>
                    <a:pt x="8504" y="78280"/>
                  </a:cubicBezTo>
                  <a:cubicBezTo>
                    <a:pt x="12583" y="82360"/>
                    <a:pt x="14113" y="82360"/>
                    <a:pt x="14113" y="82360"/>
                  </a:cubicBezTo>
                  <a:cubicBezTo>
                    <a:pt x="14113" y="82360"/>
                    <a:pt x="6464" y="86440"/>
                    <a:pt x="9524" y="90520"/>
                  </a:cubicBezTo>
                  <a:cubicBezTo>
                    <a:pt x="12583" y="94599"/>
                    <a:pt x="19213" y="93579"/>
                    <a:pt x="19213" y="93579"/>
                  </a:cubicBezTo>
                  <a:cubicBezTo>
                    <a:pt x="19213" y="93579"/>
                    <a:pt x="14623" y="100209"/>
                    <a:pt x="22783" y="102759"/>
                  </a:cubicBezTo>
                  <a:cubicBezTo>
                    <a:pt x="30942" y="104799"/>
                    <a:pt x="45221" y="98169"/>
                    <a:pt x="63070" y="92050"/>
                  </a:cubicBezTo>
                  <a:cubicBezTo>
                    <a:pt x="80919" y="85930"/>
                    <a:pt x="113557" y="43602"/>
                    <a:pt x="113557" y="43602"/>
                  </a:cubicBezTo>
                  <a:lnTo>
                    <a:pt x="106418" y="3825"/>
                  </a:lnTo>
                  <a:close/>
                </a:path>
              </a:pathLst>
            </a:custGeom>
            <a:solidFill>
              <a:srgbClr val="fecc9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7" name="任意多边形: 形状 132"/>
            <p:cNvSpPr/>
            <p:nvPr/>
          </p:nvSpPr>
          <p:spPr>
            <a:xfrm>
              <a:off x="3647160" y="3355200"/>
              <a:ext cx="371520" cy="552960"/>
            </a:xfrm>
            <a:custGeom>
              <a:avLst/>
              <a:gdLst>
                <a:gd name="textAreaLeft" fmla="*/ 0 w 371520"/>
                <a:gd name="textAreaRight" fmla="*/ 371880 w 371520"/>
                <a:gd name="textAreaTop" fmla="*/ 0 h 552960"/>
                <a:gd name="textAreaBottom" fmla="*/ 553320 h 552960"/>
              </a:gdLst>
              <a:ahLst/>
              <a:rect l="textAreaLeft" t="textAreaTop" r="textAreaRight" b="textAreaBottom"/>
              <a:pathLst>
                <a:path w="229486" h="341679">
                  <a:moveTo>
                    <a:pt x="138967" y="123668"/>
                  </a:moveTo>
                  <a:lnTo>
                    <a:pt x="135907" y="3825"/>
                  </a:lnTo>
                  <a:cubicBezTo>
                    <a:pt x="135907" y="3825"/>
                    <a:pt x="155286" y="32383"/>
                    <a:pt x="179764" y="87460"/>
                  </a:cubicBezTo>
                  <a:cubicBezTo>
                    <a:pt x="204243" y="143046"/>
                    <a:pt x="228721" y="217502"/>
                    <a:pt x="228721" y="217502"/>
                  </a:cubicBezTo>
                  <a:lnTo>
                    <a:pt x="24224" y="340915"/>
                  </a:lnTo>
                  <a:lnTo>
                    <a:pt x="3825" y="283288"/>
                  </a:lnTo>
                  <a:lnTo>
                    <a:pt x="147126" y="187924"/>
                  </a:lnTo>
                  <a:lnTo>
                    <a:pt x="138967" y="123668"/>
                  </a:lnTo>
                  <a:close/>
                </a:path>
              </a:pathLst>
            </a:custGeom>
            <a:solidFill>
              <a:srgbClr val="484b5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68" name="任意多边形: 形状 133"/>
            <p:cNvSpPr/>
            <p:nvPr/>
          </p:nvSpPr>
          <p:spPr>
            <a:xfrm>
              <a:off x="3642120" y="3302640"/>
              <a:ext cx="57600" cy="74160"/>
            </a:xfrm>
            <a:custGeom>
              <a:avLst/>
              <a:gdLst>
                <a:gd name="textAreaLeft" fmla="*/ 0 w 57600"/>
                <a:gd name="textAreaRight" fmla="*/ 57960 w 57600"/>
                <a:gd name="textAreaTop" fmla="*/ 0 h 74160"/>
                <a:gd name="textAreaBottom" fmla="*/ 74520 h 74160"/>
              </a:gdLst>
              <a:ahLst/>
              <a:rect l="textAreaLeft" t="textAreaTop" r="textAreaRight" b="textAreaBottom"/>
              <a:pathLst>
                <a:path w="35697" h="45897">
                  <a:moveTo>
                    <a:pt x="-29073" y="15554"/>
                  </a:moveTo>
                  <a:lnTo>
                    <a:pt x="16064" y="3825"/>
                  </a:lnTo>
                  <a:lnTo>
                    <a:pt x="3825" y="15044"/>
                  </a:lnTo>
                  <a:lnTo>
                    <a:pt x="19124" y="-21424"/>
                  </a:lnTo>
                  <a:lnTo>
                    <a:pt x="-29073" y="15554"/>
                  </a:lnTo>
                  <a:close/>
                </a:path>
              </a:pathLst>
            </a:custGeom>
            <a:solidFill>
              <a:srgbClr val="c2dff0"/>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2369" name="任意多边形: 形状 134"/>
            <p:cNvSpPr/>
            <p:nvPr/>
          </p:nvSpPr>
          <p:spPr>
            <a:xfrm>
              <a:off x="3705840" y="3302640"/>
              <a:ext cx="57600" cy="74160"/>
            </a:xfrm>
            <a:custGeom>
              <a:avLst/>
              <a:gdLst>
                <a:gd name="textAreaLeft" fmla="*/ 0 w 57600"/>
                <a:gd name="textAreaRight" fmla="*/ 57960 w 57600"/>
                <a:gd name="textAreaTop" fmla="*/ 0 h 74160"/>
                <a:gd name="textAreaBottom" fmla="*/ 74520 h 74160"/>
              </a:gdLst>
              <a:ahLst/>
              <a:rect l="textAreaLeft" t="textAreaTop" r="textAreaRight" b="textAreaBottom"/>
              <a:pathLst>
                <a:path w="35697" h="45897">
                  <a:moveTo>
                    <a:pt x="3825" y="15554"/>
                  </a:moveTo>
                  <a:lnTo>
                    <a:pt x="24733" y="3825"/>
                  </a:lnTo>
                  <a:lnTo>
                    <a:pt x="-29073" y="15044"/>
                  </a:lnTo>
                  <a:lnTo>
                    <a:pt x="21674" y="-21424"/>
                  </a:lnTo>
                  <a:lnTo>
                    <a:pt x="3825" y="15554"/>
                  </a:lnTo>
                  <a:close/>
                </a:path>
              </a:pathLst>
            </a:custGeom>
            <a:solidFill>
              <a:srgbClr val="c2dff0"/>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2370" name="任意多边形: 形状 135"/>
            <p:cNvSpPr/>
            <p:nvPr/>
          </p:nvSpPr>
          <p:spPr>
            <a:xfrm>
              <a:off x="3681000" y="3134160"/>
              <a:ext cx="32760" cy="74160"/>
            </a:xfrm>
            <a:custGeom>
              <a:avLst/>
              <a:gdLst>
                <a:gd name="textAreaLeft" fmla="*/ 0 w 32760"/>
                <a:gd name="textAreaRight" fmla="*/ 33120 w 32760"/>
                <a:gd name="textAreaTop" fmla="*/ 0 h 74160"/>
                <a:gd name="textAreaBottom" fmla="*/ 74520 h 74160"/>
              </a:gdLst>
              <a:ahLst/>
              <a:rect l="textAreaLeft" t="textAreaTop" r="textAreaRight" b="textAreaBottom"/>
              <a:pathLst>
                <a:path w="20398" h="45897">
                  <a:moveTo>
                    <a:pt x="10964" y="3825"/>
                  </a:moveTo>
                  <a:lnTo>
                    <a:pt x="9944" y="3825"/>
                  </a:lnTo>
                  <a:lnTo>
                    <a:pt x="3825" y="-24483"/>
                  </a:lnTo>
                  <a:lnTo>
                    <a:pt x="19634" y="-19894"/>
                  </a:lnTo>
                  <a:lnTo>
                    <a:pt x="10454" y="-28053"/>
                  </a:lnTo>
                  <a:lnTo>
                    <a:pt x="10964" y="3825"/>
                  </a:lnTo>
                  <a:close/>
                </a:path>
              </a:pathLst>
            </a:custGeom>
            <a:solidFill>
              <a:srgbClr val="e78d7b"/>
            </a:solidFill>
            <a:ln w="0">
              <a:noFill/>
            </a:ln>
          </p:spPr>
          <p:style>
            <a:lnRef idx="0"/>
            <a:fillRef idx="0"/>
            <a:effectRef idx="0"/>
            <a:fontRef idx="minor"/>
          </p:style>
          <p:txBody>
            <a:bodyPr lIns="90000" rIns="90000" tIns="27720" bIns="27720" anchor="ctr">
              <a:noAutofit/>
            </a:bodyPr>
            <a:p>
              <a:endParaRPr b="0" lang="en-US" sz="1800" spc="-1" strike="noStrike">
                <a:solidFill>
                  <a:srgbClr val="262626"/>
                </a:solidFill>
                <a:latin typeface="Arial"/>
              </a:endParaRPr>
            </a:p>
          </p:txBody>
        </p:sp>
        <p:sp>
          <p:nvSpPr>
            <p:cNvPr id="2371" name="任意多边形: 形状 136"/>
            <p:cNvSpPr/>
            <p:nvPr/>
          </p:nvSpPr>
          <p:spPr>
            <a:xfrm>
              <a:off x="3657960" y="3216600"/>
              <a:ext cx="99000" cy="24480"/>
            </a:xfrm>
            <a:custGeom>
              <a:avLst/>
              <a:gdLst>
                <a:gd name="textAreaLeft" fmla="*/ 0 w 99000"/>
                <a:gd name="textAreaRight" fmla="*/ 99360 w 99000"/>
                <a:gd name="textAreaTop" fmla="*/ 0 h 24480"/>
                <a:gd name="textAreaBottom" fmla="*/ 24840 h 24480"/>
              </a:gdLst>
              <a:ahLst/>
              <a:rect l="textAreaLeft" t="textAreaTop" r="textAreaRight" b="textAreaBottom"/>
              <a:pathLst>
                <a:path w="61196" h="15299">
                  <a:moveTo>
                    <a:pt x="-7654" y="3825"/>
                  </a:moveTo>
                  <a:cubicBezTo>
                    <a:pt x="-11734" y="10454"/>
                    <a:pt x="-22444" y="15044"/>
                    <a:pt x="30853" y="15044"/>
                  </a:cubicBezTo>
                  <a:cubicBezTo>
                    <a:pt x="18614" y="15044"/>
                    <a:pt x="7905" y="9944"/>
                    <a:pt x="3825" y="3825"/>
                  </a:cubicBezTo>
                  <a:lnTo>
                    <a:pt x="-7654" y="3825"/>
                  </a:lnTo>
                  <a:close/>
                </a:path>
              </a:pathLst>
            </a:custGeom>
            <a:solidFill>
              <a:srgbClr val="c6314e"/>
            </a:solidFill>
            <a:ln w="0">
              <a:noFill/>
            </a:ln>
          </p:spPr>
          <p:style>
            <a:lnRef idx="0"/>
            <a:fillRef idx="0"/>
            <a:effectRef idx="0"/>
            <a:fontRef idx="minor"/>
          </p:style>
          <p:txBody>
            <a:bodyPr lIns="90000" rIns="90000" tIns="-21960" bIns="-21960" anchor="ctr">
              <a:noAutofit/>
            </a:bodyPr>
            <a:p>
              <a:endParaRPr b="0" lang="en-US" sz="1800" spc="-1" strike="noStrike">
                <a:solidFill>
                  <a:srgbClr val="262626"/>
                </a:solidFill>
                <a:latin typeface="Arial"/>
              </a:endParaRPr>
            </a:p>
          </p:txBody>
        </p:sp>
        <p:sp>
          <p:nvSpPr>
            <p:cNvPr id="2372" name="任意多边形: 形状 137"/>
            <p:cNvSpPr/>
            <p:nvPr/>
          </p:nvSpPr>
          <p:spPr>
            <a:xfrm>
              <a:off x="2492640" y="2382840"/>
              <a:ext cx="453960" cy="420840"/>
            </a:xfrm>
            <a:custGeom>
              <a:avLst/>
              <a:gdLst>
                <a:gd name="textAreaLeft" fmla="*/ 0 w 453960"/>
                <a:gd name="textAreaRight" fmla="*/ 454320 w 453960"/>
                <a:gd name="textAreaTop" fmla="*/ 0 h 420840"/>
                <a:gd name="textAreaBottom" fmla="*/ 421200 h 420840"/>
              </a:gdLst>
              <a:ahLst/>
              <a:rect l="textAreaLeft" t="textAreaTop" r="textAreaRight" b="textAreaBottom"/>
              <a:pathLst>
                <a:path w="280483" h="260084">
                  <a:moveTo>
                    <a:pt x="61961" y="3825"/>
                  </a:moveTo>
                  <a:lnTo>
                    <a:pt x="200163" y="3825"/>
                  </a:lnTo>
                  <a:cubicBezTo>
                    <a:pt x="231781" y="3825"/>
                    <a:pt x="257790" y="29833"/>
                    <a:pt x="257790" y="61451"/>
                  </a:cubicBezTo>
                  <a:lnTo>
                    <a:pt x="257790" y="160895"/>
                  </a:lnTo>
                  <a:cubicBezTo>
                    <a:pt x="257790" y="186394"/>
                    <a:pt x="240961" y="208323"/>
                    <a:pt x="217502" y="215972"/>
                  </a:cubicBezTo>
                  <a:cubicBezTo>
                    <a:pt x="232801" y="234331"/>
                    <a:pt x="255750" y="246570"/>
                    <a:pt x="280738" y="246570"/>
                  </a:cubicBezTo>
                  <a:cubicBezTo>
                    <a:pt x="270029" y="252690"/>
                    <a:pt x="257280" y="256770"/>
                    <a:pt x="244530" y="257790"/>
                  </a:cubicBezTo>
                  <a:cubicBezTo>
                    <a:pt x="213932" y="259319"/>
                    <a:pt x="185884" y="243510"/>
                    <a:pt x="169565" y="219032"/>
                  </a:cubicBezTo>
                  <a:lnTo>
                    <a:pt x="61451" y="219032"/>
                  </a:lnTo>
                  <a:cubicBezTo>
                    <a:pt x="29833" y="219032"/>
                    <a:pt x="3825" y="193023"/>
                    <a:pt x="3825" y="161405"/>
                  </a:cubicBezTo>
                  <a:lnTo>
                    <a:pt x="3825" y="61451"/>
                  </a:lnTo>
                  <a:cubicBezTo>
                    <a:pt x="4335" y="29833"/>
                    <a:pt x="30343" y="3825"/>
                    <a:pt x="61961" y="3825"/>
                  </a:cubicBezTo>
                  <a:close/>
                </a:path>
              </a:pathLst>
            </a:custGeom>
            <a:solidFill>
              <a:srgbClr val="95c9e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73" name="任意多边形: 形状 138"/>
            <p:cNvSpPr/>
            <p:nvPr/>
          </p:nvSpPr>
          <p:spPr>
            <a:xfrm>
              <a:off x="2585160" y="2447640"/>
              <a:ext cx="214560" cy="222840"/>
            </a:xfrm>
            <a:custGeom>
              <a:avLst/>
              <a:gdLst>
                <a:gd name="textAreaLeft" fmla="*/ 0 w 214560"/>
                <a:gd name="textAreaRight" fmla="*/ 214920 w 214560"/>
                <a:gd name="textAreaTop" fmla="*/ 0 h 222840"/>
                <a:gd name="textAreaBottom" fmla="*/ 223200 h 222840"/>
              </a:gdLst>
              <a:ahLst/>
              <a:rect l="textAreaLeft" t="textAreaTop" r="textAreaRight" b="textAreaBottom"/>
              <a:pathLst>
                <a:path w="132592" h="137691">
                  <a:moveTo>
                    <a:pt x="17605" y="16134"/>
                  </a:moveTo>
                  <a:cubicBezTo>
                    <a:pt x="35454" y="-695"/>
                    <a:pt x="63502" y="-185"/>
                    <a:pt x="80331" y="17154"/>
                  </a:cubicBezTo>
                  <a:cubicBezTo>
                    <a:pt x="96141" y="33983"/>
                    <a:pt x="96650" y="59482"/>
                    <a:pt x="81861" y="76821"/>
                  </a:cubicBezTo>
                  <a:lnTo>
                    <a:pt x="99710" y="95689"/>
                  </a:lnTo>
                  <a:lnTo>
                    <a:pt x="101750" y="93650"/>
                  </a:lnTo>
                  <a:lnTo>
                    <a:pt x="130818" y="123738"/>
                  </a:lnTo>
                  <a:cubicBezTo>
                    <a:pt x="133368" y="126798"/>
                    <a:pt x="133368" y="130877"/>
                    <a:pt x="130818" y="133937"/>
                  </a:cubicBezTo>
                  <a:cubicBezTo>
                    <a:pt x="127759" y="136487"/>
                    <a:pt x="123169" y="136487"/>
                    <a:pt x="120619" y="133937"/>
                  </a:cubicBezTo>
                  <a:lnTo>
                    <a:pt x="91551" y="103849"/>
                  </a:lnTo>
                  <a:lnTo>
                    <a:pt x="93591" y="101809"/>
                  </a:lnTo>
                  <a:lnTo>
                    <a:pt x="75742" y="82940"/>
                  </a:lnTo>
                  <a:cubicBezTo>
                    <a:pt x="57893" y="97219"/>
                    <a:pt x="32394" y="95689"/>
                    <a:pt x="16075" y="78860"/>
                  </a:cubicBezTo>
                  <a:cubicBezTo>
                    <a:pt x="-754" y="61012"/>
                    <a:pt x="-244" y="32963"/>
                    <a:pt x="17605" y="16134"/>
                  </a:cubicBezTo>
                  <a:close/>
                  <a:moveTo>
                    <a:pt x="26275" y="25314"/>
                  </a:moveTo>
                  <a:cubicBezTo>
                    <a:pt x="39024" y="13074"/>
                    <a:pt x="58403" y="13584"/>
                    <a:pt x="70642" y="25824"/>
                  </a:cubicBezTo>
                  <a:cubicBezTo>
                    <a:pt x="82371" y="38573"/>
                    <a:pt x="81861" y="57952"/>
                    <a:pt x="69622" y="70191"/>
                  </a:cubicBezTo>
                  <a:cubicBezTo>
                    <a:pt x="57383" y="81920"/>
                    <a:pt x="37494" y="81410"/>
                    <a:pt x="25255" y="69171"/>
                  </a:cubicBezTo>
                  <a:cubicBezTo>
                    <a:pt x="13525" y="57442"/>
                    <a:pt x="14035" y="37553"/>
                    <a:pt x="26275" y="2531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pic>
        <p:nvPicPr>
          <p:cNvPr id="2374" name="图片 118" descr=""/>
          <p:cNvPicPr/>
          <p:nvPr/>
        </p:nvPicPr>
        <p:blipFill>
          <a:blip r:embed="rId1"/>
          <a:stretch/>
        </p:blipFill>
        <p:spPr>
          <a:xfrm>
            <a:off x="4957920" y="173160"/>
            <a:ext cx="1749240" cy="1322280"/>
          </a:xfrm>
          <a:prstGeom prst="rect">
            <a:avLst/>
          </a:prstGeom>
          <a:ln w="0">
            <a:noFill/>
          </a:ln>
        </p:spPr>
      </p:pic>
      <p:sp>
        <p:nvSpPr>
          <p:cNvPr id="2375" name="TextBox 119"/>
          <p:cNvSpPr/>
          <p:nvPr/>
        </p:nvSpPr>
        <p:spPr>
          <a:xfrm>
            <a:off x="4927680" y="1452600"/>
            <a:ext cx="650700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宋体"/>
              </a:rPr>
              <a:t>预扣预缴：</a:t>
            </a:r>
            <a:endParaRPr b="0" lang="en-US" sz="32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黑体"/>
                <a:ea typeface="黑体"/>
              </a:rPr>
              <a:t>  </a:t>
            </a:r>
            <a:endParaRPr b="0" lang="en-US" sz="2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黑体"/>
                <a:ea typeface="黑体"/>
              </a:rPr>
              <a:t>  </a:t>
            </a:r>
            <a:r>
              <a:rPr b="0" lang="zh-CN" sz="2800" spc="-1" strike="noStrike">
                <a:solidFill>
                  <a:srgbClr val="262626"/>
                </a:solidFill>
                <a:latin typeface="黑体"/>
                <a:ea typeface="黑体"/>
              </a:rPr>
              <a:t>居民个人取得综合所得，按年计算个人所得税，有扣缴义务人的，由扣缴义务人按月或者按次预扣预缴税款。</a:t>
            </a:r>
            <a:endParaRPr b="0" lang="en-US" sz="2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特别提示：</a:t>
            </a:r>
            <a:endParaRPr b="0" lang="en-US" sz="2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黑体"/>
                <a:ea typeface="黑体"/>
              </a:rPr>
              <a:t>  </a:t>
            </a:r>
            <a:r>
              <a:rPr b="0" lang="zh-CN" sz="2800" spc="-1" strike="noStrike">
                <a:solidFill>
                  <a:srgbClr val="262626"/>
                </a:solidFill>
                <a:latin typeface="黑体"/>
                <a:ea typeface="黑体"/>
              </a:rPr>
              <a:t>劳务报酬所得、稿酬所得、特许权使用费所得在预扣预缴环节与当月工资薪金所得</a:t>
            </a:r>
            <a:r>
              <a:rPr b="0" lang="zh-CN" sz="2800" spc="-1" strike="noStrike">
                <a:solidFill>
                  <a:srgbClr val="ff0000"/>
                </a:solidFill>
                <a:latin typeface="黑体"/>
                <a:ea typeface="黑体"/>
              </a:rPr>
              <a:t>分项</a:t>
            </a:r>
            <a:r>
              <a:rPr b="0" lang="zh-CN" sz="2800" spc="-1" strike="noStrike">
                <a:solidFill>
                  <a:srgbClr val="262626"/>
                </a:solidFill>
                <a:latin typeface="黑体"/>
                <a:ea typeface="黑体"/>
              </a:rPr>
              <a:t>计算。</a:t>
            </a:r>
            <a:endParaRPr b="0" lang="en-US" sz="2800" spc="-1" strike="noStrike">
              <a:solidFill>
                <a:srgbClr val="262626"/>
              </a:solidFill>
              <a:latin typeface="Arial"/>
            </a:endParaRPr>
          </a:p>
        </p:txBody>
      </p:sp>
    </p:spTree>
  </p:cSld>
  <p:transition spd="slow">
    <p:random/>
  </p:transition>
  <p:timing>
    <p:tnLst>
      <p:par>
        <p:cTn id="793" dur="indefinite" restart="never" nodeType="tmRoot">
          <p:childTnLst>
            <p:seq>
              <p:cTn id="794" dur="indefinite" nodeType="mainSeq">
                <p:childTnLst>
                  <p:par>
                    <p:cTn id="795" nodeType="clickEffect" fill="hold">
                      <p:stCondLst>
                        <p:cond delay="0"/>
                      </p:stCondLst>
                      <p:childTnLst>
                        <p:par>
                          <p:cTn id="796" nodeType="withEffect" fill="hold">
                            <p:stCondLst>
                              <p:cond delay="0"/>
                            </p:stCondLst>
                            <p:childTnLst>
                              <p:par>
                                <p:cTn id="797" nodeType="withEffect" fill="hold" presetClass="entr" presetID="2" presetSubtype="8">
                                  <p:stCondLst>
                                    <p:cond delay="0"/>
                                  </p:stCondLst>
                                  <p:childTnLst>
                                    <p:set>
                                      <p:cBhvr>
                                        <p:cTn id="798" dur="1" fill="hold">
                                          <p:stCondLst>
                                            <p:cond delay="0"/>
                                          </p:stCondLst>
                                        </p:cTn>
                                        <p:tgtEl>
                                          <p:spTgt spid="2374"/>
                                        </p:tgtEl>
                                        <p:attrNameLst>
                                          <p:attrName>style.visibility</p:attrName>
                                        </p:attrNameLst>
                                      </p:cBhvr>
                                      <p:to>
                                        <p:strVal val="visible"/>
                                      </p:to>
                                    </p:set>
                                    <p:anim calcmode="lin" valueType="num">
                                      <p:cBhvr additive="base">
                                        <p:cTn id="799" dur="500" fill="hold"/>
                                        <p:tgtEl>
                                          <p:spTgt spid="2374"/>
                                        </p:tgtEl>
                                        <p:attrNameLst>
                                          <p:attrName>ppt_x</p:attrName>
                                        </p:attrNameLst>
                                      </p:cBhvr>
                                      <p:tavLst>
                                        <p:tav tm="0">
                                          <p:val>
                                            <p:strVal val="0-#ppt_w/2"/>
                                          </p:val>
                                        </p:tav>
                                        <p:tav tm="100000">
                                          <p:val>
                                            <p:strVal val="#ppt_x"/>
                                          </p:val>
                                        </p:tav>
                                      </p:tavLst>
                                    </p:anim>
                                    <p:anim calcmode="lin" valueType="num">
                                      <p:cBhvr additive="base">
                                        <p:cTn id="800" dur="500" fill="hold"/>
                                        <p:tgtEl>
                                          <p:spTgt spid="2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Rectangle 19"/>
          <p:cNvSpPr/>
          <p:nvPr/>
        </p:nvSpPr>
        <p:spPr>
          <a:xfrm>
            <a:off x="1782720" y="3706920"/>
            <a:ext cx="1376280" cy="287280"/>
          </a:xfrm>
          <a:prstGeom prst="rect">
            <a:avLst/>
          </a:prstGeom>
          <a:no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2377" name="Rectangle 21"/>
          <p:cNvSpPr/>
          <p:nvPr/>
        </p:nvSpPr>
        <p:spPr>
          <a:xfrm>
            <a:off x="1774800" y="5340240"/>
            <a:ext cx="1376280" cy="285840"/>
          </a:xfrm>
          <a:prstGeom prst="rect">
            <a:avLst/>
          </a:prstGeom>
          <a:noFill/>
          <a:ln w="0">
            <a:noFill/>
          </a:ln>
        </p:spPr>
        <p:style>
          <a:lnRef idx="0"/>
          <a:fillRef idx="0"/>
          <a:effectRef idx="0"/>
          <a:fontRef idx="minor"/>
        </p:style>
        <p:txBody>
          <a:bodyPr lIns="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2378" name="图片 33" descr=""/>
          <p:cNvPicPr/>
          <p:nvPr/>
        </p:nvPicPr>
        <p:blipFill>
          <a:blip r:embed="rId1"/>
          <a:stretch/>
        </p:blipFill>
        <p:spPr>
          <a:xfrm>
            <a:off x="4957920" y="173160"/>
            <a:ext cx="1749240" cy="1322280"/>
          </a:xfrm>
          <a:prstGeom prst="rect">
            <a:avLst/>
          </a:prstGeom>
          <a:ln w="0">
            <a:noFill/>
          </a:ln>
        </p:spPr>
      </p:pic>
      <p:sp>
        <p:nvSpPr>
          <p:cNvPr id="2379" name="TextBox 34"/>
          <p:cNvSpPr/>
          <p:nvPr/>
        </p:nvSpPr>
        <p:spPr>
          <a:xfrm>
            <a:off x="1011240" y="1279440"/>
            <a:ext cx="99932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宋体"/>
              </a:rPr>
              <a:t>张三</a:t>
            </a:r>
            <a:r>
              <a:rPr b="0" lang="en-US" sz="2400" spc="-1" strike="noStrike">
                <a:solidFill>
                  <a:srgbClr val="262626"/>
                </a:solidFill>
                <a:latin typeface="Arial"/>
                <a:ea typeface="宋体"/>
              </a:rPr>
              <a:t>2019</a:t>
            </a:r>
            <a:r>
              <a:rPr b="0" lang="zh-CN" sz="2400" spc="-1" strike="noStrike">
                <a:solidFill>
                  <a:srgbClr val="262626"/>
                </a:solidFill>
                <a:latin typeface="Arial"/>
                <a:ea typeface="宋体"/>
              </a:rPr>
              <a:t>年度综合所得数据如下：</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宋体"/>
              </a:rPr>
              <a:t>工资薪金累计收入额</a:t>
            </a:r>
            <a:r>
              <a:rPr b="0" lang="en-US" sz="2400" spc="-1" strike="noStrike">
                <a:solidFill>
                  <a:srgbClr val="262626"/>
                </a:solidFill>
                <a:latin typeface="Arial"/>
                <a:ea typeface="宋体"/>
              </a:rPr>
              <a:t>=158000</a:t>
            </a:r>
            <a:r>
              <a:rPr b="0" lang="zh-CN" sz="2400" spc="-1" strike="noStrike">
                <a:solidFill>
                  <a:srgbClr val="262626"/>
                </a:solidFill>
                <a:latin typeface="Arial"/>
                <a:ea typeface="宋体"/>
              </a:rPr>
              <a:t>元，预缴税款</a:t>
            </a:r>
            <a:r>
              <a:rPr b="0" lang="en-US" sz="2400" spc="-1" strike="noStrike">
                <a:solidFill>
                  <a:srgbClr val="262626"/>
                </a:solidFill>
                <a:latin typeface="Arial"/>
                <a:ea typeface="宋体"/>
              </a:rPr>
              <a:t>=1720</a:t>
            </a:r>
            <a:r>
              <a:rPr b="0" lang="zh-CN" sz="2400" spc="-1" strike="noStrike">
                <a:solidFill>
                  <a:srgbClr val="262626"/>
                </a:solidFill>
                <a:latin typeface="Arial"/>
                <a:ea typeface="宋体"/>
              </a:rPr>
              <a:t>元</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宋体"/>
              </a:rPr>
              <a:t>劳务报酬所得收入额</a:t>
            </a:r>
            <a:r>
              <a:rPr b="0" lang="en-US" sz="2400" spc="-1" strike="noStrike">
                <a:solidFill>
                  <a:srgbClr val="262626"/>
                </a:solidFill>
                <a:latin typeface="Arial"/>
                <a:ea typeface="宋体"/>
              </a:rPr>
              <a:t>=48000</a:t>
            </a:r>
            <a:r>
              <a:rPr b="0" lang="zh-CN" sz="2400" spc="-1" strike="noStrike">
                <a:solidFill>
                  <a:srgbClr val="262626"/>
                </a:solidFill>
                <a:latin typeface="Arial"/>
                <a:ea typeface="宋体"/>
              </a:rPr>
              <a:t>元，预缴税款</a:t>
            </a:r>
            <a:r>
              <a:rPr b="0" lang="en-US" sz="2400" spc="-1" strike="noStrike">
                <a:solidFill>
                  <a:srgbClr val="262626"/>
                </a:solidFill>
                <a:latin typeface="Arial"/>
                <a:ea typeface="宋体"/>
              </a:rPr>
              <a:t>=12400</a:t>
            </a:r>
            <a:r>
              <a:rPr b="0" lang="zh-CN" sz="2400" spc="-1" strike="noStrike">
                <a:solidFill>
                  <a:srgbClr val="262626"/>
                </a:solidFill>
                <a:latin typeface="Arial"/>
                <a:ea typeface="宋体"/>
              </a:rPr>
              <a:t>元</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宋体"/>
              </a:rPr>
              <a:t>稿酬所得收入额</a:t>
            </a:r>
            <a:r>
              <a:rPr b="0" lang="en-US" sz="2400" spc="-1" strike="noStrike">
                <a:solidFill>
                  <a:srgbClr val="262626"/>
                </a:solidFill>
                <a:latin typeface="Arial"/>
                <a:ea typeface="宋体"/>
              </a:rPr>
              <a:t>=17248</a:t>
            </a:r>
            <a:r>
              <a:rPr b="0" lang="zh-CN" sz="2400" spc="-1" strike="noStrike">
                <a:solidFill>
                  <a:srgbClr val="262626"/>
                </a:solidFill>
                <a:latin typeface="Arial"/>
                <a:ea typeface="宋体"/>
              </a:rPr>
              <a:t>元，预缴税款</a:t>
            </a:r>
            <a:r>
              <a:rPr b="0" lang="en-US" sz="2400" spc="-1" strike="noStrike">
                <a:solidFill>
                  <a:srgbClr val="262626"/>
                </a:solidFill>
                <a:latin typeface="Arial"/>
                <a:ea typeface="宋体"/>
              </a:rPr>
              <a:t>=3449.6</a:t>
            </a:r>
            <a:r>
              <a:rPr b="0" lang="zh-CN" sz="2400" spc="-1" strike="noStrike">
                <a:solidFill>
                  <a:srgbClr val="262626"/>
                </a:solidFill>
                <a:latin typeface="Arial"/>
                <a:ea typeface="宋体"/>
              </a:rPr>
              <a:t>元</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宋体"/>
              </a:rPr>
              <a:t>特许权使用费所得收入额</a:t>
            </a:r>
            <a:r>
              <a:rPr b="0" lang="en-US" sz="2400" spc="-1" strike="noStrike">
                <a:solidFill>
                  <a:srgbClr val="262626"/>
                </a:solidFill>
                <a:latin typeface="Arial"/>
                <a:ea typeface="宋体"/>
              </a:rPr>
              <a:t>=72000</a:t>
            </a:r>
            <a:r>
              <a:rPr b="0" lang="zh-CN" sz="2400" spc="-1" strike="noStrike">
                <a:solidFill>
                  <a:srgbClr val="262626"/>
                </a:solidFill>
                <a:latin typeface="Arial"/>
                <a:ea typeface="宋体"/>
              </a:rPr>
              <a:t>元，预缴税款</a:t>
            </a:r>
            <a:r>
              <a:rPr b="0" lang="en-US" sz="2400" spc="-1" strike="noStrike">
                <a:solidFill>
                  <a:srgbClr val="262626"/>
                </a:solidFill>
                <a:latin typeface="Arial"/>
                <a:ea typeface="宋体"/>
              </a:rPr>
              <a:t>=14400</a:t>
            </a:r>
            <a:r>
              <a:rPr b="0" lang="zh-CN" sz="2400" spc="-1" strike="noStrike">
                <a:solidFill>
                  <a:srgbClr val="262626"/>
                </a:solidFill>
                <a:latin typeface="Arial"/>
                <a:ea typeface="宋体"/>
              </a:rPr>
              <a:t>元</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宋体"/>
              </a:rPr>
              <a:t>累计专项扣除</a:t>
            </a:r>
            <a:r>
              <a:rPr b="0" lang="en-US" sz="2400" spc="-1" strike="noStrike">
                <a:solidFill>
                  <a:srgbClr val="262626"/>
                </a:solidFill>
                <a:latin typeface="Arial"/>
                <a:ea typeface="宋体"/>
              </a:rPr>
              <a:t>=31600</a:t>
            </a:r>
            <a:r>
              <a:rPr b="0" lang="zh-CN" sz="2400" spc="-1" strike="noStrike">
                <a:solidFill>
                  <a:srgbClr val="262626"/>
                </a:solidFill>
                <a:latin typeface="Arial"/>
                <a:ea typeface="宋体"/>
              </a:rPr>
              <a:t>元</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Arial"/>
                <a:ea typeface="宋体"/>
              </a:rPr>
              <a:t>累计专项附加扣除</a:t>
            </a:r>
            <a:r>
              <a:rPr b="0" lang="en-US" sz="2400" spc="-1" strike="noStrike">
                <a:solidFill>
                  <a:srgbClr val="262626"/>
                </a:solidFill>
                <a:latin typeface="Arial"/>
                <a:ea typeface="宋体"/>
              </a:rPr>
              <a:t>=24000</a:t>
            </a:r>
            <a:r>
              <a:rPr b="0" lang="zh-CN" sz="2400" spc="-1" strike="noStrike">
                <a:solidFill>
                  <a:srgbClr val="262626"/>
                </a:solidFill>
                <a:latin typeface="Arial"/>
                <a:ea typeface="宋体"/>
              </a:rPr>
              <a:t>元</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Arial"/>
                <a:ea typeface="宋体"/>
              </a:rPr>
              <a:t>综合所得应纳税所得额</a:t>
            </a:r>
            <a:r>
              <a:rPr b="0" lang="en-US" sz="2400" spc="-1" strike="noStrike">
                <a:solidFill>
                  <a:srgbClr val="7030a0"/>
                </a:solidFill>
                <a:latin typeface="Arial"/>
                <a:ea typeface="宋体"/>
              </a:rPr>
              <a:t>=</a:t>
            </a:r>
            <a:r>
              <a:rPr b="0" lang="en-US" sz="2400" spc="-1" strike="noStrike">
                <a:solidFill>
                  <a:srgbClr val="262626"/>
                </a:solidFill>
                <a:latin typeface="Arial"/>
                <a:ea typeface="宋体"/>
              </a:rPr>
              <a:t>158000+48000+17248+72000-60000-31600-24000=179648</a:t>
            </a:r>
            <a:r>
              <a:rPr b="0" lang="zh-CN" sz="2400" spc="-1" strike="noStrike">
                <a:solidFill>
                  <a:srgbClr val="262626"/>
                </a:solidFill>
                <a:latin typeface="Arial"/>
                <a:ea typeface="宋体"/>
              </a:rPr>
              <a:t>元</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Arial"/>
                <a:ea typeface="宋体"/>
              </a:rPr>
              <a:t>综合所得应纳税额</a:t>
            </a:r>
            <a:r>
              <a:rPr b="0" lang="en-US" sz="2400" spc="-1" strike="noStrike">
                <a:solidFill>
                  <a:srgbClr val="7030a0"/>
                </a:solidFill>
                <a:latin typeface="Arial"/>
                <a:ea typeface="宋体"/>
              </a:rPr>
              <a:t>=</a:t>
            </a:r>
            <a:r>
              <a:rPr b="0" lang="en-US" sz="2400" spc="-1" strike="noStrike">
                <a:solidFill>
                  <a:srgbClr val="262626"/>
                </a:solidFill>
                <a:latin typeface="Arial"/>
                <a:ea typeface="宋体"/>
              </a:rPr>
              <a:t>179648</a:t>
            </a:r>
            <a:r>
              <a:rPr b="0" lang="zh-CN" sz="2400" spc="-1" strike="noStrike">
                <a:solidFill>
                  <a:srgbClr val="262626"/>
                </a:solidFill>
                <a:latin typeface="Arial"/>
                <a:ea typeface="宋体"/>
              </a:rPr>
              <a:t>*</a:t>
            </a:r>
            <a:r>
              <a:rPr b="0" lang="en-US" sz="2400" spc="-1" strike="noStrike">
                <a:solidFill>
                  <a:srgbClr val="262626"/>
                </a:solidFill>
                <a:latin typeface="Arial"/>
                <a:ea typeface="宋体"/>
              </a:rPr>
              <a:t>20%-16920=19009.6</a:t>
            </a:r>
            <a:r>
              <a:rPr b="0" lang="zh-CN" sz="2400" spc="-1" strike="noStrike">
                <a:solidFill>
                  <a:srgbClr val="262626"/>
                </a:solidFill>
                <a:latin typeface="Arial"/>
                <a:ea typeface="宋体"/>
              </a:rPr>
              <a:t>元</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Arial"/>
                <a:ea typeface="宋体"/>
              </a:rPr>
              <a:t>应补（退）税额</a:t>
            </a:r>
            <a:r>
              <a:rPr b="0" lang="en-US" sz="2400" spc="-1" strike="noStrike">
                <a:solidFill>
                  <a:srgbClr val="7030a0"/>
                </a:solidFill>
                <a:latin typeface="Arial"/>
                <a:ea typeface="宋体"/>
              </a:rPr>
              <a:t>=</a:t>
            </a:r>
            <a:r>
              <a:rPr b="0" lang="en-US" sz="2400" spc="-1" strike="noStrike">
                <a:solidFill>
                  <a:srgbClr val="262626"/>
                </a:solidFill>
                <a:latin typeface="Arial"/>
                <a:ea typeface="宋体"/>
              </a:rPr>
              <a:t>19009.6-1720-12400-3449.6-14400=-12960</a:t>
            </a:r>
            <a:r>
              <a:rPr b="0" lang="zh-CN" sz="2400" spc="-1" strike="noStrike">
                <a:solidFill>
                  <a:srgbClr val="262626"/>
                </a:solidFill>
                <a:latin typeface="Arial"/>
                <a:ea typeface="宋体"/>
              </a:rPr>
              <a:t>元</a:t>
            </a:r>
            <a:endParaRPr b="0" lang="en-US" sz="2400" spc="-1" strike="noStrike">
              <a:solidFill>
                <a:srgbClr val="262626"/>
              </a:solidFill>
              <a:latin typeface="Arial"/>
            </a:endParaRPr>
          </a:p>
        </p:txBody>
      </p:sp>
    </p:spTree>
  </p:cSld>
  <p:transition spd="slow">
    <p:random/>
  </p:transition>
  <p:timing>
    <p:tnLst>
      <p:par>
        <p:cTn id="801" dur="indefinite" restart="never" nodeType="tmRoot">
          <p:childTnLst>
            <p:seq>
              <p:cTn id="802" dur="indefinite" nodeType="mainSeq">
                <p:childTnLst>
                  <p:par>
                    <p:cTn id="803" nodeType="clickEffect" fill="hold">
                      <p:stCondLst>
                        <p:cond delay="0"/>
                      </p:stCondLst>
                      <p:childTnLst>
                        <p:par>
                          <p:cTn id="804" nodeType="withEffect" fill="hold">
                            <p:stCondLst>
                              <p:cond delay="0"/>
                            </p:stCondLst>
                            <p:childTnLst>
                              <p:par>
                                <p:cTn id="805" nodeType="withEffect" fill="hold" presetClass="entr" presetID="2" presetSubtype="8">
                                  <p:stCondLst>
                                    <p:cond delay="0"/>
                                  </p:stCondLst>
                                  <p:childTnLst>
                                    <p:set>
                                      <p:cBhvr>
                                        <p:cTn id="806" dur="1" fill="hold">
                                          <p:stCondLst>
                                            <p:cond delay="0"/>
                                          </p:stCondLst>
                                        </p:cTn>
                                        <p:tgtEl>
                                          <p:spTgt spid="2378"/>
                                        </p:tgtEl>
                                        <p:attrNameLst>
                                          <p:attrName>style.visibility</p:attrName>
                                        </p:attrNameLst>
                                      </p:cBhvr>
                                      <p:to>
                                        <p:strVal val="visible"/>
                                      </p:to>
                                    </p:set>
                                    <p:anim calcmode="lin" valueType="num">
                                      <p:cBhvr additive="base">
                                        <p:cTn id="807" dur="500" fill="hold"/>
                                        <p:tgtEl>
                                          <p:spTgt spid="2378"/>
                                        </p:tgtEl>
                                        <p:attrNameLst>
                                          <p:attrName>ppt_x</p:attrName>
                                        </p:attrNameLst>
                                      </p:cBhvr>
                                      <p:tavLst>
                                        <p:tav tm="0">
                                          <p:val>
                                            <p:strVal val="0-#ppt_w/2"/>
                                          </p:val>
                                        </p:tav>
                                        <p:tav tm="100000">
                                          <p:val>
                                            <p:strVal val="#ppt_x"/>
                                          </p:val>
                                        </p:tav>
                                      </p:tavLst>
                                    </p:anim>
                                    <p:anim calcmode="lin" valueType="num">
                                      <p:cBhvr additive="base">
                                        <p:cTn id="808" dur="500" fill="hold"/>
                                        <p:tgtEl>
                                          <p:spTgt spid="2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0" name="PA_组合 204"/>
          <p:cNvGrpSpPr/>
          <p:nvPr/>
        </p:nvGrpSpPr>
        <p:grpSpPr>
          <a:xfrm>
            <a:off x="0" y="133200"/>
            <a:ext cx="12192120" cy="6724800"/>
            <a:chOff x="0" y="133200"/>
            <a:chExt cx="12192120" cy="6724800"/>
          </a:xfrm>
        </p:grpSpPr>
        <p:sp>
          <p:nvSpPr>
            <p:cNvPr id="2381" name="任意多边形: 形状 4"/>
            <p:cNvSpPr/>
            <p:nvPr/>
          </p:nvSpPr>
          <p:spPr>
            <a:xfrm>
              <a:off x="3712320" y="280080"/>
              <a:ext cx="2219040" cy="1994760"/>
            </a:xfrm>
            <a:custGeom>
              <a:avLst/>
              <a:gdLst>
                <a:gd name="textAreaLeft" fmla="*/ 0 w 2219040"/>
                <a:gd name="textAreaRight" fmla="*/ 2219400 w 2219040"/>
                <a:gd name="textAreaTop" fmla="*/ 0 h 1994760"/>
                <a:gd name="textAreaBottom" fmla="*/ 1995120 h 1994760"/>
              </a:gdLst>
              <a:ahLst/>
              <a:rect l="textAreaLeft" t="textAreaTop" r="textAreaRight" b="textAreaBottom"/>
              <a:pathLst>
                <a:path w="847725" h="762000">
                  <a:moveTo>
                    <a:pt x="641509" y="7144"/>
                  </a:moveTo>
                  <a:cubicBezTo>
                    <a:pt x="640556" y="10954"/>
                    <a:pt x="639604" y="20479"/>
                    <a:pt x="642461" y="24289"/>
                  </a:cubicBezTo>
                  <a:cubicBezTo>
                    <a:pt x="643414" y="25241"/>
                    <a:pt x="644366" y="26194"/>
                    <a:pt x="644366" y="27146"/>
                  </a:cubicBezTo>
                  <a:cubicBezTo>
                    <a:pt x="651034" y="26194"/>
                    <a:pt x="656749" y="30004"/>
                    <a:pt x="659606" y="35719"/>
                  </a:cubicBezTo>
                  <a:cubicBezTo>
                    <a:pt x="662464" y="43339"/>
                    <a:pt x="659606" y="51911"/>
                    <a:pt x="651034" y="55721"/>
                  </a:cubicBezTo>
                  <a:cubicBezTo>
                    <a:pt x="643414" y="58579"/>
                    <a:pt x="633889" y="55721"/>
                    <a:pt x="631031" y="48101"/>
                  </a:cubicBezTo>
                  <a:cubicBezTo>
                    <a:pt x="628174" y="42386"/>
                    <a:pt x="630079" y="35719"/>
                    <a:pt x="634841" y="30956"/>
                  </a:cubicBezTo>
                  <a:cubicBezTo>
                    <a:pt x="634841" y="28099"/>
                    <a:pt x="633889" y="20479"/>
                    <a:pt x="627221" y="15716"/>
                  </a:cubicBezTo>
                  <a:cubicBezTo>
                    <a:pt x="626269" y="15716"/>
                    <a:pt x="626269" y="14764"/>
                    <a:pt x="625316" y="14764"/>
                  </a:cubicBezTo>
                  <a:lnTo>
                    <a:pt x="591979" y="29051"/>
                  </a:lnTo>
                  <a:cubicBezTo>
                    <a:pt x="591026" y="32861"/>
                    <a:pt x="590074" y="42386"/>
                    <a:pt x="592931" y="46196"/>
                  </a:cubicBezTo>
                  <a:cubicBezTo>
                    <a:pt x="593884" y="47149"/>
                    <a:pt x="594836" y="48101"/>
                    <a:pt x="594836" y="49054"/>
                  </a:cubicBezTo>
                  <a:cubicBezTo>
                    <a:pt x="601504" y="48101"/>
                    <a:pt x="607219" y="51911"/>
                    <a:pt x="610076" y="57626"/>
                  </a:cubicBezTo>
                  <a:cubicBezTo>
                    <a:pt x="612934" y="65246"/>
                    <a:pt x="610076" y="73819"/>
                    <a:pt x="601504" y="77629"/>
                  </a:cubicBezTo>
                  <a:cubicBezTo>
                    <a:pt x="593884" y="80486"/>
                    <a:pt x="584359" y="77629"/>
                    <a:pt x="581501" y="70009"/>
                  </a:cubicBezTo>
                  <a:cubicBezTo>
                    <a:pt x="578644" y="64294"/>
                    <a:pt x="580549" y="57626"/>
                    <a:pt x="585311" y="52864"/>
                  </a:cubicBezTo>
                  <a:cubicBezTo>
                    <a:pt x="585311" y="49054"/>
                    <a:pt x="584359" y="42386"/>
                    <a:pt x="577691" y="37624"/>
                  </a:cubicBezTo>
                  <a:cubicBezTo>
                    <a:pt x="576739" y="37624"/>
                    <a:pt x="576739" y="36671"/>
                    <a:pt x="575786" y="36671"/>
                  </a:cubicBezTo>
                  <a:lnTo>
                    <a:pt x="542449" y="50959"/>
                  </a:lnTo>
                  <a:cubicBezTo>
                    <a:pt x="541496" y="54769"/>
                    <a:pt x="540544" y="64294"/>
                    <a:pt x="543401" y="68104"/>
                  </a:cubicBezTo>
                  <a:cubicBezTo>
                    <a:pt x="544354" y="69056"/>
                    <a:pt x="545306" y="70009"/>
                    <a:pt x="545306" y="70961"/>
                  </a:cubicBezTo>
                  <a:cubicBezTo>
                    <a:pt x="551974" y="70009"/>
                    <a:pt x="557689" y="73819"/>
                    <a:pt x="560546" y="79534"/>
                  </a:cubicBezTo>
                  <a:cubicBezTo>
                    <a:pt x="563404" y="87154"/>
                    <a:pt x="560546" y="95726"/>
                    <a:pt x="551974" y="99536"/>
                  </a:cubicBezTo>
                  <a:cubicBezTo>
                    <a:pt x="544354" y="102394"/>
                    <a:pt x="534829" y="99536"/>
                    <a:pt x="531971" y="91916"/>
                  </a:cubicBezTo>
                  <a:cubicBezTo>
                    <a:pt x="529114" y="86201"/>
                    <a:pt x="531019" y="79534"/>
                    <a:pt x="535781" y="74771"/>
                  </a:cubicBezTo>
                  <a:cubicBezTo>
                    <a:pt x="535781" y="71914"/>
                    <a:pt x="534829" y="64294"/>
                    <a:pt x="528161" y="59531"/>
                  </a:cubicBezTo>
                  <a:cubicBezTo>
                    <a:pt x="527209" y="58579"/>
                    <a:pt x="527209" y="58579"/>
                    <a:pt x="526256" y="58579"/>
                  </a:cubicBezTo>
                  <a:lnTo>
                    <a:pt x="492919" y="72866"/>
                  </a:lnTo>
                  <a:cubicBezTo>
                    <a:pt x="491966" y="76676"/>
                    <a:pt x="491014" y="86201"/>
                    <a:pt x="493871" y="90011"/>
                  </a:cubicBezTo>
                  <a:cubicBezTo>
                    <a:pt x="494824" y="90964"/>
                    <a:pt x="495776" y="91916"/>
                    <a:pt x="495776" y="92869"/>
                  </a:cubicBezTo>
                  <a:cubicBezTo>
                    <a:pt x="502444" y="91916"/>
                    <a:pt x="508159" y="95726"/>
                    <a:pt x="511016" y="101441"/>
                  </a:cubicBezTo>
                  <a:cubicBezTo>
                    <a:pt x="513874" y="109061"/>
                    <a:pt x="511016" y="117634"/>
                    <a:pt x="502444" y="121444"/>
                  </a:cubicBezTo>
                  <a:cubicBezTo>
                    <a:pt x="494824" y="124301"/>
                    <a:pt x="485299" y="121444"/>
                    <a:pt x="482441" y="113824"/>
                  </a:cubicBezTo>
                  <a:cubicBezTo>
                    <a:pt x="479584" y="108109"/>
                    <a:pt x="481489" y="101441"/>
                    <a:pt x="486251" y="96679"/>
                  </a:cubicBezTo>
                  <a:cubicBezTo>
                    <a:pt x="486251" y="93821"/>
                    <a:pt x="485299" y="86201"/>
                    <a:pt x="478631" y="81439"/>
                  </a:cubicBezTo>
                  <a:cubicBezTo>
                    <a:pt x="477679" y="81439"/>
                    <a:pt x="477679" y="80486"/>
                    <a:pt x="476726" y="80486"/>
                  </a:cubicBezTo>
                  <a:lnTo>
                    <a:pt x="443389" y="94774"/>
                  </a:lnTo>
                  <a:cubicBezTo>
                    <a:pt x="442436" y="98584"/>
                    <a:pt x="441484" y="108109"/>
                    <a:pt x="444341" y="111919"/>
                  </a:cubicBezTo>
                  <a:cubicBezTo>
                    <a:pt x="445294" y="112871"/>
                    <a:pt x="446246" y="113824"/>
                    <a:pt x="446246" y="114776"/>
                  </a:cubicBezTo>
                  <a:cubicBezTo>
                    <a:pt x="452914" y="113824"/>
                    <a:pt x="458629" y="117634"/>
                    <a:pt x="461486" y="123349"/>
                  </a:cubicBezTo>
                  <a:cubicBezTo>
                    <a:pt x="464344" y="130969"/>
                    <a:pt x="461486" y="139541"/>
                    <a:pt x="452914" y="143351"/>
                  </a:cubicBezTo>
                  <a:cubicBezTo>
                    <a:pt x="445294" y="146209"/>
                    <a:pt x="435769" y="143351"/>
                    <a:pt x="432911" y="135731"/>
                  </a:cubicBezTo>
                  <a:cubicBezTo>
                    <a:pt x="430054" y="130016"/>
                    <a:pt x="431959" y="123349"/>
                    <a:pt x="436721" y="118586"/>
                  </a:cubicBezTo>
                  <a:cubicBezTo>
                    <a:pt x="436721" y="115729"/>
                    <a:pt x="435769" y="108109"/>
                    <a:pt x="429101" y="103346"/>
                  </a:cubicBezTo>
                  <a:cubicBezTo>
                    <a:pt x="428149" y="103346"/>
                    <a:pt x="428149" y="102394"/>
                    <a:pt x="427196" y="102394"/>
                  </a:cubicBezTo>
                  <a:lnTo>
                    <a:pt x="393859" y="116681"/>
                  </a:lnTo>
                  <a:cubicBezTo>
                    <a:pt x="392906" y="120491"/>
                    <a:pt x="391954" y="130016"/>
                    <a:pt x="394811" y="133826"/>
                  </a:cubicBezTo>
                  <a:cubicBezTo>
                    <a:pt x="395764" y="134779"/>
                    <a:pt x="396716" y="135731"/>
                    <a:pt x="396716" y="136684"/>
                  </a:cubicBezTo>
                  <a:cubicBezTo>
                    <a:pt x="403384" y="135731"/>
                    <a:pt x="409099" y="139541"/>
                    <a:pt x="411956" y="145256"/>
                  </a:cubicBezTo>
                  <a:cubicBezTo>
                    <a:pt x="414814" y="152876"/>
                    <a:pt x="411956" y="161449"/>
                    <a:pt x="403384" y="165259"/>
                  </a:cubicBezTo>
                  <a:cubicBezTo>
                    <a:pt x="395764" y="168116"/>
                    <a:pt x="386239" y="165259"/>
                    <a:pt x="383381" y="157639"/>
                  </a:cubicBezTo>
                  <a:cubicBezTo>
                    <a:pt x="380524" y="151924"/>
                    <a:pt x="382429" y="145256"/>
                    <a:pt x="387191" y="140494"/>
                  </a:cubicBezTo>
                  <a:cubicBezTo>
                    <a:pt x="387191" y="137636"/>
                    <a:pt x="386239" y="130016"/>
                    <a:pt x="379571" y="125254"/>
                  </a:cubicBezTo>
                  <a:cubicBezTo>
                    <a:pt x="378619" y="125254"/>
                    <a:pt x="378619" y="124301"/>
                    <a:pt x="377666" y="124301"/>
                  </a:cubicBezTo>
                  <a:lnTo>
                    <a:pt x="344329" y="138589"/>
                  </a:lnTo>
                  <a:cubicBezTo>
                    <a:pt x="343376" y="142399"/>
                    <a:pt x="342424" y="151924"/>
                    <a:pt x="345281" y="155734"/>
                  </a:cubicBezTo>
                  <a:cubicBezTo>
                    <a:pt x="346234" y="156686"/>
                    <a:pt x="347186" y="157639"/>
                    <a:pt x="347186" y="158591"/>
                  </a:cubicBezTo>
                  <a:cubicBezTo>
                    <a:pt x="353854" y="157639"/>
                    <a:pt x="359569" y="161449"/>
                    <a:pt x="362426" y="167164"/>
                  </a:cubicBezTo>
                  <a:cubicBezTo>
                    <a:pt x="365284" y="174784"/>
                    <a:pt x="362426" y="183356"/>
                    <a:pt x="353854" y="187166"/>
                  </a:cubicBezTo>
                  <a:cubicBezTo>
                    <a:pt x="346234" y="190024"/>
                    <a:pt x="336709" y="187166"/>
                    <a:pt x="333851" y="179546"/>
                  </a:cubicBezTo>
                  <a:cubicBezTo>
                    <a:pt x="330994" y="173831"/>
                    <a:pt x="332899" y="167164"/>
                    <a:pt x="337661" y="162401"/>
                  </a:cubicBezTo>
                  <a:cubicBezTo>
                    <a:pt x="337661" y="159544"/>
                    <a:pt x="336709" y="151924"/>
                    <a:pt x="330041" y="147161"/>
                  </a:cubicBezTo>
                  <a:cubicBezTo>
                    <a:pt x="329089" y="147161"/>
                    <a:pt x="329089" y="146209"/>
                    <a:pt x="328136" y="146209"/>
                  </a:cubicBezTo>
                  <a:lnTo>
                    <a:pt x="294799" y="160496"/>
                  </a:lnTo>
                  <a:cubicBezTo>
                    <a:pt x="293846" y="164306"/>
                    <a:pt x="292894" y="173831"/>
                    <a:pt x="295751" y="177641"/>
                  </a:cubicBezTo>
                  <a:cubicBezTo>
                    <a:pt x="296704" y="178594"/>
                    <a:pt x="296704" y="179546"/>
                    <a:pt x="297656" y="180499"/>
                  </a:cubicBezTo>
                  <a:cubicBezTo>
                    <a:pt x="304324" y="179546"/>
                    <a:pt x="310039" y="183356"/>
                    <a:pt x="312896" y="189071"/>
                  </a:cubicBezTo>
                  <a:cubicBezTo>
                    <a:pt x="315754" y="196691"/>
                    <a:pt x="312896" y="205264"/>
                    <a:pt x="304324" y="209074"/>
                  </a:cubicBezTo>
                  <a:cubicBezTo>
                    <a:pt x="296704" y="211931"/>
                    <a:pt x="288131" y="209074"/>
                    <a:pt x="284321" y="201454"/>
                  </a:cubicBezTo>
                  <a:cubicBezTo>
                    <a:pt x="281464" y="195739"/>
                    <a:pt x="283369" y="189071"/>
                    <a:pt x="288131" y="184309"/>
                  </a:cubicBezTo>
                  <a:cubicBezTo>
                    <a:pt x="288131" y="181451"/>
                    <a:pt x="287179" y="173831"/>
                    <a:pt x="280511" y="169069"/>
                  </a:cubicBezTo>
                  <a:cubicBezTo>
                    <a:pt x="279559" y="169069"/>
                    <a:pt x="279559" y="168116"/>
                    <a:pt x="278606" y="168116"/>
                  </a:cubicBezTo>
                  <a:lnTo>
                    <a:pt x="245269" y="182404"/>
                  </a:lnTo>
                  <a:cubicBezTo>
                    <a:pt x="244316" y="186214"/>
                    <a:pt x="243364" y="195739"/>
                    <a:pt x="246221" y="199549"/>
                  </a:cubicBezTo>
                  <a:cubicBezTo>
                    <a:pt x="247174" y="200501"/>
                    <a:pt x="248126" y="201454"/>
                    <a:pt x="248126" y="202406"/>
                  </a:cubicBezTo>
                  <a:cubicBezTo>
                    <a:pt x="254794" y="201454"/>
                    <a:pt x="260509" y="205264"/>
                    <a:pt x="263366" y="210979"/>
                  </a:cubicBezTo>
                  <a:cubicBezTo>
                    <a:pt x="266224" y="218599"/>
                    <a:pt x="263366" y="227171"/>
                    <a:pt x="254794" y="230981"/>
                  </a:cubicBezTo>
                  <a:cubicBezTo>
                    <a:pt x="247174" y="233839"/>
                    <a:pt x="237649" y="230981"/>
                    <a:pt x="234791" y="223361"/>
                  </a:cubicBezTo>
                  <a:cubicBezTo>
                    <a:pt x="231934" y="217646"/>
                    <a:pt x="233839" y="210979"/>
                    <a:pt x="238601" y="206216"/>
                  </a:cubicBezTo>
                  <a:cubicBezTo>
                    <a:pt x="238601" y="203359"/>
                    <a:pt x="237649" y="195739"/>
                    <a:pt x="230981" y="190024"/>
                  </a:cubicBezTo>
                  <a:cubicBezTo>
                    <a:pt x="230029" y="190024"/>
                    <a:pt x="230029" y="189071"/>
                    <a:pt x="229076" y="189071"/>
                  </a:cubicBezTo>
                  <a:lnTo>
                    <a:pt x="195739" y="203359"/>
                  </a:lnTo>
                  <a:cubicBezTo>
                    <a:pt x="194786" y="207169"/>
                    <a:pt x="193834" y="216694"/>
                    <a:pt x="196691" y="220504"/>
                  </a:cubicBezTo>
                  <a:cubicBezTo>
                    <a:pt x="197644" y="221456"/>
                    <a:pt x="198596" y="222409"/>
                    <a:pt x="198596" y="223361"/>
                  </a:cubicBezTo>
                  <a:cubicBezTo>
                    <a:pt x="205264" y="222409"/>
                    <a:pt x="210979" y="226219"/>
                    <a:pt x="213836" y="231934"/>
                  </a:cubicBezTo>
                  <a:cubicBezTo>
                    <a:pt x="216694" y="239554"/>
                    <a:pt x="213836" y="248126"/>
                    <a:pt x="205264" y="251936"/>
                  </a:cubicBezTo>
                  <a:cubicBezTo>
                    <a:pt x="197644" y="254794"/>
                    <a:pt x="188119" y="251936"/>
                    <a:pt x="185261" y="244316"/>
                  </a:cubicBezTo>
                  <a:cubicBezTo>
                    <a:pt x="182404" y="238601"/>
                    <a:pt x="184309" y="231934"/>
                    <a:pt x="189071" y="227171"/>
                  </a:cubicBezTo>
                  <a:cubicBezTo>
                    <a:pt x="189071" y="223361"/>
                    <a:pt x="188119" y="216694"/>
                    <a:pt x="181451" y="211931"/>
                  </a:cubicBezTo>
                  <a:cubicBezTo>
                    <a:pt x="180499" y="211931"/>
                    <a:pt x="180499" y="210979"/>
                    <a:pt x="179546" y="210979"/>
                  </a:cubicBezTo>
                  <a:lnTo>
                    <a:pt x="146209" y="225266"/>
                  </a:lnTo>
                  <a:cubicBezTo>
                    <a:pt x="145256" y="229076"/>
                    <a:pt x="144304" y="238601"/>
                    <a:pt x="147161" y="242411"/>
                  </a:cubicBezTo>
                  <a:cubicBezTo>
                    <a:pt x="148114" y="243364"/>
                    <a:pt x="149066" y="244316"/>
                    <a:pt x="149066" y="245269"/>
                  </a:cubicBezTo>
                  <a:cubicBezTo>
                    <a:pt x="155734" y="244316"/>
                    <a:pt x="161449" y="248126"/>
                    <a:pt x="164306" y="253841"/>
                  </a:cubicBezTo>
                  <a:cubicBezTo>
                    <a:pt x="167164" y="261461"/>
                    <a:pt x="164306" y="270034"/>
                    <a:pt x="155734" y="273844"/>
                  </a:cubicBezTo>
                  <a:cubicBezTo>
                    <a:pt x="148114" y="276701"/>
                    <a:pt x="138589" y="273844"/>
                    <a:pt x="135731" y="266224"/>
                  </a:cubicBezTo>
                  <a:cubicBezTo>
                    <a:pt x="132874" y="260509"/>
                    <a:pt x="134779" y="253841"/>
                    <a:pt x="139541" y="249079"/>
                  </a:cubicBezTo>
                  <a:cubicBezTo>
                    <a:pt x="139541" y="246221"/>
                    <a:pt x="138589" y="238601"/>
                    <a:pt x="131921" y="233839"/>
                  </a:cubicBezTo>
                  <a:cubicBezTo>
                    <a:pt x="130969" y="233839"/>
                    <a:pt x="130969" y="232886"/>
                    <a:pt x="130016" y="232886"/>
                  </a:cubicBezTo>
                  <a:lnTo>
                    <a:pt x="96679" y="247174"/>
                  </a:lnTo>
                  <a:cubicBezTo>
                    <a:pt x="95726" y="250984"/>
                    <a:pt x="94774" y="260509"/>
                    <a:pt x="97631" y="264319"/>
                  </a:cubicBezTo>
                  <a:cubicBezTo>
                    <a:pt x="98584" y="265271"/>
                    <a:pt x="99536" y="266224"/>
                    <a:pt x="99536" y="267176"/>
                  </a:cubicBezTo>
                  <a:cubicBezTo>
                    <a:pt x="106204" y="266224"/>
                    <a:pt x="111919" y="270034"/>
                    <a:pt x="114776" y="275749"/>
                  </a:cubicBezTo>
                  <a:cubicBezTo>
                    <a:pt x="117634" y="283369"/>
                    <a:pt x="114776" y="291941"/>
                    <a:pt x="106204" y="295751"/>
                  </a:cubicBezTo>
                  <a:cubicBezTo>
                    <a:pt x="98584" y="298609"/>
                    <a:pt x="89059" y="295751"/>
                    <a:pt x="86201" y="288131"/>
                  </a:cubicBezTo>
                  <a:cubicBezTo>
                    <a:pt x="83344" y="282416"/>
                    <a:pt x="85249" y="275749"/>
                    <a:pt x="90011" y="270986"/>
                  </a:cubicBezTo>
                  <a:cubicBezTo>
                    <a:pt x="90011" y="268129"/>
                    <a:pt x="89059" y="260509"/>
                    <a:pt x="82391" y="255746"/>
                  </a:cubicBezTo>
                  <a:cubicBezTo>
                    <a:pt x="81439" y="254794"/>
                    <a:pt x="81439" y="254794"/>
                    <a:pt x="80486" y="254794"/>
                  </a:cubicBezTo>
                  <a:lnTo>
                    <a:pt x="47149" y="269081"/>
                  </a:lnTo>
                  <a:cubicBezTo>
                    <a:pt x="46196" y="272891"/>
                    <a:pt x="45244" y="282416"/>
                    <a:pt x="48101" y="286226"/>
                  </a:cubicBezTo>
                  <a:cubicBezTo>
                    <a:pt x="49054" y="287179"/>
                    <a:pt x="50006" y="288131"/>
                    <a:pt x="50006" y="289084"/>
                  </a:cubicBezTo>
                  <a:cubicBezTo>
                    <a:pt x="56674" y="288131"/>
                    <a:pt x="62389" y="291941"/>
                    <a:pt x="65246" y="297656"/>
                  </a:cubicBezTo>
                  <a:cubicBezTo>
                    <a:pt x="68104" y="305276"/>
                    <a:pt x="65246" y="313849"/>
                    <a:pt x="57626" y="317659"/>
                  </a:cubicBezTo>
                  <a:cubicBezTo>
                    <a:pt x="50006" y="320516"/>
                    <a:pt x="40481" y="317659"/>
                    <a:pt x="37624" y="310039"/>
                  </a:cubicBezTo>
                  <a:cubicBezTo>
                    <a:pt x="34766" y="304324"/>
                    <a:pt x="36671" y="297656"/>
                    <a:pt x="41434" y="292894"/>
                  </a:cubicBezTo>
                  <a:cubicBezTo>
                    <a:pt x="41434" y="290036"/>
                    <a:pt x="40481" y="282416"/>
                    <a:pt x="33814" y="277654"/>
                  </a:cubicBezTo>
                  <a:cubicBezTo>
                    <a:pt x="32861" y="277654"/>
                    <a:pt x="32861" y="276701"/>
                    <a:pt x="31909" y="276701"/>
                  </a:cubicBezTo>
                  <a:lnTo>
                    <a:pt x="7144" y="287179"/>
                  </a:lnTo>
                  <a:lnTo>
                    <a:pt x="210979" y="762476"/>
                  </a:lnTo>
                  <a:lnTo>
                    <a:pt x="849154" y="491966"/>
                  </a:lnTo>
                  <a:lnTo>
                    <a:pt x="645319" y="16669"/>
                  </a:lnTo>
                  <a:lnTo>
                    <a:pt x="641509" y="7144"/>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82" name="任意多边形: 形状 5"/>
            <p:cNvSpPr/>
            <p:nvPr/>
          </p:nvSpPr>
          <p:spPr>
            <a:xfrm>
              <a:off x="3802320" y="133200"/>
              <a:ext cx="2219040" cy="1969920"/>
            </a:xfrm>
            <a:custGeom>
              <a:avLst/>
              <a:gdLst>
                <a:gd name="textAreaLeft" fmla="*/ 0 w 2219040"/>
                <a:gd name="textAreaRight" fmla="*/ 2219400 w 2219040"/>
                <a:gd name="textAreaTop" fmla="*/ 0 h 1969920"/>
                <a:gd name="textAreaBottom" fmla="*/ 1970280 h 1969920"/>
              </a:gdLst>
              <a:ahLst/>
              <a:rect l="textAreaLeft" t="textAreaTop" r="textAreaRight" b="textAreaBottom"/>
              <a:pathLst>
                <a:path w="847725" h="752475">
                  <a:moveTo>
                    <a:pt x="465296" y="89059"/>
                  </a:moveTo>
                  <a:cubicBezTo>
                    <a:pt x="471964" y="93821"/>
                    <a:pt x="472916" y="101441"/>
                    <a:pt x="472916" y="104299"/>
                  </a:cubicBezTo>
                  <a:cubicBezTo>
                    <a:pt x="468154" y="108109"/>
                    <a:pt x="466249" y="115729"/>
                    <a:pt x="469106" y="121444"/>
                  </a:cubicBezTo>
                  <a:cubicBezTo>
                    <a:pt x="471964" y="129064"/>
                    <a:pt x="481489" y="132874"/>
                    <a:pt x="489109" y="129064"/>
                  </a:cubicBezTo>
                  <a:cubicBezTo>
                    <a:pt x="496729" y="126206"/>
                    <a:pt x="500539" y="116681"/>
                    <a:pt x="497681" y="109061"/>
                  </a:cubicBezTo>
                  <a:cubicBezTo>
                    <a:pt x="494824" y="103346"/>
                    <a:pt x="489109" y="99536"/>
                    <a:pt x="482441" y="100489"/>
                  </a:cubicBezTo>
                  <a:cubicBezTo>
                    <a:pt x="482441" y="99536"/>
                    <a:pt x="481489" y="98584"/>
                    <a:pt x="480536" y="97631"/>
                  </a:cubicBezTo>
                  <a:cubicBezTo>
                    <a:pt x="477679" y="93821"/>
                    <a:pt x="478631" y="85249"/>
                    <a:pt x="479584" y="80486"/>
                  </a:cubicBezTo>
                  <a:lnTo>
                    <a:pt x="512921" y="66199"/>
                  </a:lnTo>
                  <a:cubicBezTo>
                    <a:pt x="513874" y="66199"/>
                    <a:pt x="513874" y="67151"/>
                    <a:pt x="514826" y="67151"/>
                  </a:cubicBezTo>
                  <a:cubicBezTo>
                    <a:pt x="521494" y="71914"/>
                    <a:pt x="522446" y="79534"/>
                    <a:pt x="522446" y="82391"/>
                  </a:cubicBezTo>
                  <a:cubicBezTo>
                    <a:pt x="517684" y="86201"/>
                    <a:pt x="515779" y="92869"/>
                    <a:pt x="518636" y="99536"/>
                  </a:cubicBezTo>
                  <a:cubicBezTo>
                    <a:pt x="521494" y="107156"/>
                    <a:pt x="531019" y="110966"/>
                    <a:pt x="538639" y="107156"/>
                  </a:cubicBezTo>
                  <a:cubicBezTo>
                    <a:pt x="546259" y="104299"/>
                    <a:pt x="550069" y="94774"/>
                    <a:pt x="547211" y="87154"/>
                  </a:cubicBezTo>
                  <a:cubicBezTo>
                    <a:pt x="544354" y="81439"/>
                    <a:pt x="538639" y="77629"/>
                    <a:pt x="531971" y="78581"/>
                  </a:cubicBezTo>
                  <a:cubicBezTo>
                    <a:pt x="531971" y="77629"/>
                    <a:pt x="531019" y="77629"/>
                    <a:pt x="530066" y="75724"/>
                  </a:cubicBezTo>
                  <a:cubicBezTo>
                    <a:pt x="527209" y="71914"/>
                    <a:pt x="528161" y="63341"/>
                    <a:pt x="529114" y="58579"/>
                  </a:cubicBezTo>
                  <a:lnTo>
                    <a:pt x="562451" y="44291"/>
                  </a:lnTo>
                  <a:cubicBezTo>
                    <a:pt x="563404" y="44291"/>
                    <a:pt x="563404" y="45244"/>
                    <a:pt x="564356" y="45244"/>
                  </a:cubicBezTo>
                  <a:cubicBezTo>
                    <a:pt x="571024" y="50006"/>
                    <a:pt x="571976" y="57626"/>
                    <a:pt x="571976" y="60484"/>
                  </a:cubicBezTo>
                  <a:cubicBezTo>
                    <a:pt x="567214" y="64294"/>
                    <a:pt x="565309" y="71914"/>
                    <a:pt x="568166" y="77629"/>
                  </a:cubicBezTo>
                  <a:cubicBezTo>
                    <a:pt x="571024" y="85249"/>
                    <a:pt x="580549" y="89059"/>
                    <a:pt x="588169" y="85249"/>
                  </a:cubicBezTo>
                  <a:cubicBezTo>
                    <a:pt x="595789" y="82391"/>
                    <a:pt x="599599" y="72866"/>
                    <a:pt x="596741" y="65246"/>
                  </a:cubicBezTo>
                  <a:cubicBezTo>
                    <a:pt x="593884" y="59531"/>
                    <a:pt x="588169" y="55721"/>
                    <a:pt x="581501" y="56674"/>
                  </a:cubicBezTo>
                  <a:cubicBezTo>
                    <a:pt x="581501" y="55721"/>
                    <a:pt x="580549" y="54769"/>
                    <a:pt x="579596" y="53816"/>
                  </a:cubicBezTo>
                  <a:cubicBezTo>
                    <a:pt x="576739" y="50006"/>
                    <a:pt x="577691" y="41434"/>
                    <a:pt x="578644" y="36671"/>
                  </a:cubicBezTo>
                  <a:lnTo>
                    <a:pt x="611981" y="22384"/>
                  </a:lnTo>
                  <a:cubicBezTo>
                    <a:pt x="612934" y="22384"/>
                    <a:pt x="612934" y="23336"/>
                    <a:pt x="613886" y="23336"/>
                  </a:cubicBezTo>
                  <a:cubicBezTo>
                    <a:pt x="620554" y="28099"/>
                    <a:pt x="621506" y="35719"/>
                    <a:pt x="621506" y="38576"/>
                  </a:cubicBezTo>
                  <a:cubicBezTo>
                    <a:pt x="616744" y="42386"/>
                    <a:pt x="614839" y="50006"/>
                    <a:pt x="617696" y="55721"/>
                  </a:cubicBezTo>
                  <a:cubicBezTo>
                    <a:pt x="620554" y="63341"/>
                    <a:pt x="630079" y="67151"/>
                    <a:pt x="637699" y="63341"/>
                  </a:cubicBezTo>
                  <a:cubicBezTo>
                    <a:pt x="645319" y="60484"/>
                    <a:pt x="649129" y="50959"/>
                    <a:pt x="646271" y="43339"/>
                  </a:cubicBezTo>
                  <a:cubicBezTo>
                    <a:pt x="643414" y="37624"/>
                    <a:pt x="637699" y="33814"/>
                    <a:pt x="631031" y="34766"/>
                  </a:cubicBezTo>
                  <a:cubicBezTo>
                    <a:pt x="631031" y="33814"/>
                    <a:pt x="630079" y="32861"/>
                    <a:pt x="629126" y="31909"/>
                  </a:cubicBezTo>
                  <a:cubicBezTo>
                    <a:pt x="626269" y="28099"/>
                    <a:pt x="627221" y="19526"/>
                    <a:pt x="628174" y="14764"/>
                  </a:cubicBezTo>
                  <a:lnTo>
                    <a:pt x="645319" y="7144"/>
                  </a:lnTo>
                  <a:lnTo>
                    <a:pt x="849154" y="482441"/>
                  </a:lnTo>
                  <a:lnTo>
                    <a:pt x="210979" y="752951"/>
                  </a:lnTo>
                  <a:lnTo>
                    <a:pt x="7144" y="277654"/>
                  </a:lnTo>
                  <a:lnTo>
                    <a:pt x="31909" y="267176"/>
                  </a:lnTo>
                  <a:cubicBezTo>
                    <a:pt x="32861" y="267176"/>
                    <a:pt x="32861" y="268129"/>
                    <a:pt x="33814" y="268129"/>
                  </a:cubicBezTo>
                  <a:cubicBezTo>
                    <a:pt x="40481" y="272891"/>
                    <a:pt x="41434" y="280511"/>
                    <a:pt x="41434" y="283369"/>
                  </a:cubicBezTo>
                  <a:cubicBezTo>
                    <a:pt x="36671" y="287179"/>
                    <a:pt x="34766" y="294799"/>
                    <a:pt x="37624" y="300514"/>
                  </a:cubicBezTo>
                  <a:cubicBezTo>
                    <a:pt x="40481" y="308134"/>
                    <a:pt x="50006" y="311944"/>
                    <a:pt x="57626" y="308134"/>
                  </a:cubicBezTo>
                  <a:cubicBezTo>
                    <a:pt x="65246" y="305276"/>
                    <a:pt x="69056" y="295751"/>
                    <a:pt x="65246" y="288131"/>
                  </a:cubicBezTo>
                  <a:cubicBezTo>
                    <a:pt x="62389" y="282416"/>
                    <a:pt x="56674" y="278606"/>
                    <a:pt x="50006" y="279559"/>
                  </a:cubicBezTo>
                  <a:cubicBezTo>
                    <a:pt x="50006" y="278606"/>
                    <a:pt x="49054" y="277654"/>
                    <a:pt x="48101" y="276701"/>
                  </a:cubicBezTo>
                  <a:cubicBezTo>
                    <a:pt x="45244" y="272891"/>
                    <a:pt x="46196" y="264319"/>
                    <a:pt x="47149" y="259556"/>
                  </a:cubicBezTo>
                  <a:lnTo>
                    <a:pt x="80486" y="245269"/>
                  </a:lnTo>
                  <a:cubicBezTo>
                    <a:pt x="81439" y="245269"/>
                    <a:pt x="81439" y="246221"/>
                    <a:pt x="82391" y="246221"/>
                  </a:cubicBezTo>
                  <a:cubicBezTo>
                    <a:pt x="89059" y="250984"/>
                    <a:pt x="90011" y="258604"/>
                    <a:pt x="90011" y="261461"/>
                  </a:cubicBezTo>
                  <a:cubicBezTo>
                    <a:pt x="85249" y="265271"/>
                    <a:pt x="83344" y="271939"/>
                    <a:pt x="86201" y="278606"/>
                  </a:cubicBezTo>
                  <a:cubicBezTo>
                    <a:pt x="89059" y="286226"/>
                    <a:pt x="98584" y="290036"/>
                    <a:pt x="106204" y="286226"/>
                  </a:cubicBezTo>
                  <a:cubicBezTo>
                    <a:pt x="113824" y="283369"/>
                    <a:pt x="117634" y="273844"/>
                    <a:pt x="114776" y="266224"/>
                  </a:cubicBezTo>
                  <a:cubicBezTo>
                    <a:pt x="111919" y="260509"/>
                    <a:pt x="106204" y="256699"/>
                    <a:pt x="99536" y="257651"/>
                  </a:cubicBezTo>
                  <a:cubicBezTo>
                    <a:pt x="99536" y="256699"/>
                    <a:pt x="98584" y="256699"/>
                    <a:pt x="97631" y="254794"/>
                  </a:cubicBezTo>
                  <a:cubicBezTo>
                    <a:pt x="94774" y="250984"/>
                    <a:pt x="95726" y="242411"/>
                    <a:pt x="96679" y="237649"/>
                  </a:cubicBezTo>
                  <a:lnTo>
                    <a:pt x="130016" y="223361"/>
                  </a:lnTo>
                  <a:cubicBezTo>
                    <a:pt x="130969" y="223361"/>
                    <a:pt x="130969" y="224314"/>
                    <a:pt x="131921" y="224314"/>
                  </a:cubicBezTo>
                  <a:cubicBezTo>
                    <a:pt x="138589" y="229076"/>
                    <a:pt x="139541" y="236696"/>
                    <a:pt x="139541" y="239554"/>
                  </a:cubicBezTo>
                  <a:cubicBezTo>
                    <a:pt x="134779" y="243364"/>
                    <a:pt x="132874" y="250984"/>
                    <a:pt x="135731" y="256699"/>
                  </a:cubicBezTo>
                  <a:cubicBezTo>
                    <a:pt x="138589" y="264319"/>
                    <a:pt x="148114" y="268129"/>
                    <a:pt x="155734" y="264319"/>
                  </a:cubicBezTo>
                  <a:cubicBezTo>
                    <a:pt x="163354" y="261461"/>
                    <a:pt x="167164" y="251936"/>
                    <a:pt x="164306" y="244316"/>
                  </a:cubicBezTo>
                  <a:cubicBezTo>
                    <a:pt x="161449" y="238601"/>
                    <a:pt x="155734" y="234791"/>
                    <a:pt x="149066" y="235744"/>
                  </a:cubicBezTo>
                  <a:cubicBezTo>
                    <a:pt x="149066" y="234791"/>
                    <a:pt x="148114" y="233839"/>
                    <a:pt x="147161" y="232886"/>
                  </a:cubicBezTo>
                  <a:cubicBezTo>
                    <a:pt x="144304" y="229076"/>
                    <a:pt x="145256" y="220504"/>
                    <a:pt x="146209" y="215741"/>
                  </a:cubicBezTo>
                  <a:lnTo>
                    <a:pt x="179546" y="201454"/>
                  </a:lnTo>
                  <a:cubicBezTo>
                    <a:pt x="180499" y="201454"/>
                    <a:pt x="180499" y="202406"/>
                    <a:pt x="181451" y="202406"/>
                  </a:cubicBezTo>
                  <a:cubicBezTo>
                    <a:pt x="188119" y="207169"/>
                    <a:pt x="189071" y="214789"/>
                    <a:pt x="189071" y="217646"/>
                  </a:cubicBezTo>
                  <a:cubicBezTo>
                    <a:pt x="184309" y="221456"/>
                    <a:pt x="182404" y="229076"/>
                    <a:pt x="185261" y="234791"/>
                  </a:cubicBezTo>
                  <a:cubicBezTo>
                    <a:pt x="188119" y="242411"/>
                    <a:pt x="197644" y="246221"/>
                    <a:pt x="205264" y="242411"/>
                  </a:cubicBezTo>
                  <a:cubicBezTo>
                    <a:pt x="212884" y="239554"/>
                    <a:pt x="216694" y="230029"/>
                    <a:pt x="213836" y="222409"/>
                  </a:cubicBezTo>
                  <a:cubicBezTo>
                    <a:pt x="210979" y="216694"/>
                    <a:pt x="205264" y="212884"/>
                    <a:pt x="198596" y="213836"/>
                  </a:cubicBezTo>
                  <a:cubicBezTo>
                    <a:pt x="198596" y="212884"/>
                    <a:pt x="197644" y="211931"/>
                    <a:pt x="196691" y="210979"/>
                  </a:cubicBezTo>
                  <a:cubicBezTo>
                    <a:pt x="193834" y="207169"/>
                    <a:pt x="194786" y="198596"/>
                    <a:pt x="195739" y="193834"/>
                  </a:cubicBezTo>
                  <a:lnTo>
                    <a:pt x="229076" y="179546"/>
                  </a:lnTo>
                  <a:cubicBezTo>
                    <a:pt x="230029" y="179546"/>
                    <a:pt x="230029" y="180499"/>
                    <a:pt x="230981" y="180499"/>
                  </a:cubicBezTo>
                  <a:cubicBezTo>
                    <a:pt x="237649" y="185261"/>
                    <a:pt x="238601" y="192881"/>
                    <a:pt x="238601" y="196691"/>
                  </a:cubicBezTo>
                  <a:cubicBezTo>
                    <a:pt x="233839" y="200501"/>
                    <a:pt x="231934" y="208121"/>
                    <a:pt x="234791" y="213836"/>
                  </a:cubicBezTo>
                  <a:cubicBezTo>
                    <a:pt x="238601" y="221456"/>
                    <a:pt x="247174" y="225266"/>
                    <a:pt x="254794" y="221456"/>
                  </a:cubicBezTo>
                  <a:cubicBezTo>
                    <a:pt x="262414" y="218599"/>
                    <a:pt x="266224" y="209074"/>
                    <a:pt x="263366" y="201454"/>
                  </a:cubicBezTo>
                  <a:cubicBezTo>
                    <a:pt x="260509" y="195739"/>
                    <a:pt x="254794" y="191929"/>
                    <a:pt x="248126" y="192881"/>
                  </a:cubicBezTo>
                  <a:cubicBezTo>
                    <a:pt x="248126" y="191929"/>
                    <a:pt x="247174" y="191929"/>
                    <a:pt x="246221" y="190024"/>
                  </a:cubicBezTo>
                  <a:cubicBezTo>
                    <a:pt x="243364" y="186214"/>
                    <a:pt x="244316" y="177641"/>
                    <a:pt x="245269" y="172879"/>
                  </a:cubicBezTo>
                  <a:lnTo>
                    <a:pt x="278606" y="158591"/>
                  </a:lnTo>
                  <a:cubicBezTo>
                    <a:pt x="279559" y="158591"/>
                    <a:pt x="279559" y="159544"/>
                    <a:pt x="280511" y="159544"/>
                  </a:cubicBezTo>
                  <a:cubicBezTo>
                    <a:pt x="287179" y="164306"/>
                    <a:pt x="288131" y="171926"/>
                    <a:pt x="288131" y="174784"/>
                  </a:cubicBezTo>
                  <a:cubicBezTo>
                    <a:pt x="283369" y="179546"/>
                    <a:pt x="281464" y="186214"/>
                    <a:pt x="284321" y="191929"/>
                  </a:cubicBezTo>
                  <a:cubicBezTo>
                    <a:pt x="287179" y="199549"/>
                    <a:pt x="296704" y="203359"/>
                    <a:pt x="304324" y="199549"/>
                  </a:cubicBezTo>
                  <a:cubicBezTo>
                    <a:pt x="311944" y="196691"/>
                    <a:pt x="315754" y="187166"/>
                    <a:pt x="312896" y="179546"/>
                  </a:cubicBezTo>
                  <a:cubicBezTo>
                    <a:pt x="310039" y="173831"/>
                    <a:pt x="304324" y="170021"/>
                    <a:pt x="297656" y="170974"/>
                  </a:cubicBezTo>
                  <a:cubicBezTo>
                    <a:pt x="297656" y="170021"/>
                    <a:pt x="296704" y="170021"/>
                    <a:pt x="295751" y="168116"/>
                  </a:cubicBezTo>
                  <a:cubicBezTo>
                    <a:pt x="292894" y="164306"/>
                    <a:pt x="293846" y="155734"/>
                    <a:pt x="294799" y="150971"/>
                  </a:cubicBezTo>
                  <a:lnTo>
                    <a:pt x="328136" y="136684"/>
                  </a:lnTo>
                  <a:cubicBezTo>
                    <a:pt x="329089" y="136684"/>
                    <a:pt x="329089" y="137636"/>
                    <a:pt x="330041" y="137636"/>
                  </a:cubicBezTo>
                  <a:cubicBezTo>
                    <a:pt x="336709" y="142399"/>
                    <a:pt x="337661" y="150019"/>
                    <a:pt x="337661" y="152876"/>
                  </a:cubicBezTo>
                  <a:cubicBezTo>
                    <a:pt x="332899" y="156686"/>
                    <a:pt x="330994" y="164306"/>
                    <a:pt x="333851" y="170021"/>
                  </a:cubicBezTo>
                  <a:cubicBezTo>
                    <a:pt x="336709" y="177641"/>
                    <a:pt x="346234" y="181451"/>
                    <a:pt x="353854" y="177641"/>
                  </a:cubicBezTo>
                  <a:cubicBezTo>
                    <a:pt x="361474" y="174784"/>
                    <a:pt x="365284" y="165259"/>
                    <a:pt x="362426" y="157639"/>
                  </a:cubicBezTo>
                  <a:cubicBezTo>
                    <a:pt x="359569" y="151924"/>
                    <a:pt x="353854" y="148114"/>
                    <a:pt x="347186" y="149066"/>
                  </a:cubicBezTo>
                  <a:cubicBezTo>
                    <a:pt x="347186" y="148114"/>
                    <a:pt x="346234" y="147161"/>
                    <a:pt x="345281" y="146209"/>
                  </a:cubicBezTo>
                  <a:cubicBezTo>
                    <a:pt x="342424" y="142399"/>
                    <a:pt x="343376" y="133826"/>
                    <a:pt x="344329" y="129064"/>
                  </a:cubicBezTo>
                  <a:lnTo>
                    <a:pt x="377666" y="114776"/>
                  </a:lnTo>
                  <a:cubicBezTo>
                    <a:pt x="378619" y="114776"/>
                    <a:pt x="378619" y="115729"/>
                    <a:pt x="379571" y="115729"/>
                  </a:cubicBezTo>
                  <a:cubicBezTo>
                    <a:pt x="386239" y="120491"/>
                    <a:pt x="387191" y="128111"/>
                    <a:pt x="387191" y="130969"/>
                  </a:cubicBezTo>
                  <a:cubicBezTo>
                    <a:pt x="382429" y="134779"/>
                    <a:pt x="380524" y="142399"/>
                    <a:pt x="383381" y="148114"/>
                  </a:cubicBezTo>
                  <a:cubicBezTo>
                    <a:pt x="386239" y="155734"/>
                    <a:pt x="395764" y="159544"/>
                    <a:pt x="403384" y="155734"/>
                  </a:cubicBezTo>
                  <a:cubicBezTo>
                    <a:pt x="411004" y="152876"/>
                    <a:pt x="414814" y="143351"/>
                    <a:pt x="411956" y="135731"/>
                  </a:cubicBezTo>
                  <a:cubicBezTo>
                    <a:pt x="409099" y="130016"/>
                    <a:pt x="403384" y="126206"/>
                    <a:pt x="396716" y="127159"/>
                  </a:cubicBezTo>
                  <a:cubicBezTo>
                    <a:pt x="396716" y="126206"/>
                    <a:pt x="395764" y="125254"/>
                    <a:pt x="394811" y="124301"/>
                  </a:cubicBezTo>
                  <a:cubicBezTo>
                    <a:pt x="391954" y="120491"/>
                    <a:pt x="392906" y="111919"/>
                    <a:pt x="393859" y="107156"/>
                  </a:cubicBezTo>
                  <a:lnTo>
                    <a:pt x="427196" y="92869"/>
                  </a:lnTo>
                  <a:cubicBezTo>
                    <a:pt x="428149" y="92869"/>
                    <a:pt x="428149" y="93821"/>
                    <a:pt x="429101" y="93821"/>
                  </a:cubicBezTo>
                  <a:cubicBezTo>
                    <a:pt x="435769" y="98584"/>
                    <a:pt x="436721" y="106204"/>
                    <a:pt x="436721" y="109061"/>
                  </a:cubicBezTo>
                  <a:cubicBezTo>
                    <a:pt x="431959" y="112871"/>
                    <a:pt x="430054" y="119539"/>
                    <a:pt x="432911" y="126206"/>
                  </a:cubicBezTo>
                  <a:cubicBezTo>
                    <a:pt x="435769" y="133826"/>
                    <a:pt x="445294" y="137636"/>
                    <a:pt x="452914" y="133826"/>
                  </a:cubicBezTo>
                  <a:cubicBezTo>
                    <a:pt x="460534" y="130969"/>
                    <a:pt x="464344" y="121444"/>
                    <a:pt x="461486" y="113824"/>
                  </a:cubicBezTo>
                  <a:cubicBezTo>
                    <a:pt x="458629" y="108109"/>
                    <a:pt x="452914" y="104299"/>
                    <a:pt x="446246" y="105251"/>
                  </a:cubicBezTo>
                  <a:cubicBezTo>
                    <a:pt x="446246" y="104299"/>
                    <a:pt x="445294" y="104299"/>
                    <a:pt x="444341" y="102394"/>
                  </a:cubicBezTo>
                  <a:cubicBezTo>
                    <a:pt x="441484" y="98584"/>
                    <a:pt x="442436" y="90011"/>
                    <a:pt x="443389" y="85249"/>
                  </a:cubicBezTo>
                  <a:lnTo>
                    <a:pt x="476726" y="70961"/>
                  </a:lnTo>
                  <a:cubicBezTo>
                    <a:pt x="464344" y="88106"/>
                    <a:pt x="464344" y="89059"/>
                    <a:pt x="465296" y="89059"/>
                  </a:cubicBez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83" name="任意多边形: 形状 6"/>
            <p:cNvSpPr/>
            <p:nvPr/>
          </p:nvSpPr>
          <p:spPr>
            <a:xfrm>
              <a:off x="5380560" y="35244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7194"/>
                  </a:moveTo>
                  <a:lnTo>
                    <a:pt x="7144" y="9049"/>
                  </a:lnTo>
                  <a:lnTo>
                    <a:pt x="11906" y="7144"/>
                  </a:lnTo>
                  <a:lnTo>
                    <a:pt x="182404" y="405289"/>
                  </a:lnTo>
                  <a:lnTo>
                    <a:pt x="177641"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84" name="任意多边形: 形状 7"/>
            <p:cNvSpPr/>
            <p:nvPr/>
          </p:nvSpPr>
          <p:spPr>
            <a:xfrm>
              <a:off x="5253480" y="40500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8146"/>
                  </a:moveTo>
                  <a:lnTo>
                    <a:pt x="7144" y="9049"/>
                  </a:lnTo>
                  <a:lnTo>
                    <a:pt x="11906" y="7144"/>
                  </a:lnTo>
                  <a:lnTo>
                    <a:pt x="183356" y="405289"/>
                  </a:lnTo>
                  <a:lnTo>
                    <a:pt x="178594"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85" name="任意多边形: 形状 8"/>
            <p:cNvSpPr/>
            <p:nvPr/>
          </p:nvSpPr>
          <p:spPr>
            <a:xfrm>
              <a:off x="5126040" y="45972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7194"/>
                  </a:moveTo>
                  <a:lnTo>
                    <a:pt x="7144" y="9049"/>
                  </a:lnTo>
                  <a:lnTo>
                    <a:pt x="11906" y="7144"/>
                  </a:lnTo>
                  <a:lnTo>
                    <a:pt x="183356" y="405289"/>
                  </a:lnTo>
                  <a:lnTo>
                    <a:pt x="178594"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86" name="任意多边形: 形状 9"/>
            <p:cNvSpPr/>
            <p:nvPr/>
          </p:nvSpPr>
          <p:spPr>
            <a:xfrm>
              <a:off x="4998960" y="51192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8146"/>
                  </a:moveTo>
                  <a:lnTo>
                    <a:pt x="7144" y="9049"/>
                  </a:lnTo>
                  <a:lnTo>
                    <a:pt x="11906" y="7144"/>
                  </a:lnTo>
                  <a:lnTo>
                    <a:pt x="183356" y="405289"/>
                  </a:lnTo>
                  <a:lnTo>
                    <a:pt x="178594"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87" name="任意多边形: 形状 10"/>
            <p:cNvSpPr/>
            <p:nvPr/>
          </p:nvSpPr>
          <p:spPr>
            <a:xfrm>
              <a:off x="4874400" y="56700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7194"/>
                  </a:moveTo>
                  <a:lnTo>
                    <a:pt x="7144" y="9049"/>
                  </a:lnTo>
                  <a:lnTo>
                    <a:pt x="11906" y="7144"/>
                  </a:lnTo>
                  <a:lnTo>
                    <a:pt x="182404" y="405289"/>
                  </a:lnTo>
                  <a:lnTo>
                    <a:pt x="177641"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88" name="任意多边形: 形状 11"/>
            <p:cNvSpPr/>
            <p:nvPr/>
          </p:nvSpPr>
          <p:spPr>
            <a:xfrm>
              <a:off x="4747320" y="61920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8146"/>
                  </a:moveTo>
                  <a:lnTo>
                    <a:pt x="7144" y="9049"/>
                  </a:lnTo>
                  <a:lnTo>
                    <a:pt x="11906" y="7144"/>
                  </a:lnTo>
                  <a:lnTo>
                    <a:pt x="182404" y="405289"/>
                  </a:lnTo>
                  <a:lnTo>
                    <a:pt x="177641"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89" name="任意多边形: 形状 12"/>
            <p:cNvSpPr/>
            <p:nvPr/>
          </p:nvSpPr>
          <p:spPr>
            <a:xfrm>
              <a:off x="4619880" y="67428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7194"/>
                  </a:moveTo>
                  <a:lnTo>
                    <a:pt x="7144" y="9049"/>
                  </a:lnTo>
                  <a:lnTo>
                    <a:pt x="11906" y="7144"/>
                  </a:lnTo>
                  <a:lnTo>
                    <a:pt x="183356" y="405289"/>
                  </a:lnTo>
                  <a:lnTo>
                    <a:pt x="178594"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0" name="任意多边形: 形状 13"/>
            <p:cNvSpPr/>
            <p:nvPr/>
          </p:nvSpPr>
          <p:spPr>
            <a:xfrm>
              <a:off x="4492800" y="72648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8146"/>
                  </a:moveTo>
                  <a:lnTo>
                    <a:pt x="7144" y="9049"/>
                  </a:lnTo>
                  <a:lnTo>
                    <a:pt x="11906" y="7144"/>
                  </a:lnTo>
                  <a:lnTo>
                    <a:pt x="183356" y="406241"/>
                  </a:lnTo>
                  <a:lnTo>
                    <a:pt x="178594"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1" name="任意多边形: 形状 14"/>
            <p:cNvSpPr/>
            <p:nvPr/>
          </p:nvSpPr>
          <p:spPr>
            <a:xfrm>
              <a:off x="4365720" y="78120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7194"/>
                  </a:moveTo>
                  <a:lnTo>
                    <a:pt x="7144" y="9049"/>
                  </a:lnTo>
                  <a:lnTo>
                    <a:pt x="11906" y="7144"/>
                  </a:lnTo>
                  <a:lnTo>
                    <a:pt x="183356" y="405289"/>
                  </a:lnTo>
                  <a:lnTo>
                    <a:pt x="178594"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2" name="任意多边形: 形状 15"/>
            <p:cNvSpPr/>
            <p:nvPr/>
          </p:nvSpPr>
          <p:spPr>
            <a:xfrm>
              <a:off x="4241160" y="83376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8146"/>
                  </a:moveTo>
                  <a:lnTo>
                    <a:pt x="7144" y="10001"/>
                  </a:lnTo>
                  <a:lnTo>
                    <a:pt x="11906" y="7144"/>
                  </a:lnTo>
                  <a:lnTo>
                    <a:pt x="182404" y="406241"/>
                  </a:lnTo>
                  <a:lnTo>
                    <a:pt x="177641"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3" name="任意多边形: 形状 16"/>
            <p:cNvSpPr/>
            <p:nvPr/>
          </p:nvSpPr>
          <p:spPr>
            <a:xfrm>
              <a:off x="4113720" y="888480"/>
              <a:ext cx="473400" cy="1072080"/>
            </a:xfrm>
            <a:custGeom>
              <a:avLst/>
              <a:gdLst>
                <a:gd name="textAreaLeft" fmla="*/ 0 w 473400"/>
                <a:gd name="textAreaRight" fmla="*/ 473760 w 473400"/>
                <a:gd name="textAreaTop" fmla="*/ 0 h 1072080"/>
                <a:gd name="textAreaBottom" fmla="*/ 1072440 h 1072080"/>
              </a:gdLst>
              <a:ahLst/>
              <a:rect l="textAreaLeft" t="textAreaTop" r="textAreaRight" b="textAreaBottom"/>
              <a:pathLst>
                <a:path w="180975" h="409575">
                  <a:moveTo>
                    <a:pt x="177641" y="407194"/>
                  </a:moveTo>
                  <a:lnTo>
                    <a:pt x="7144" y="9049"/>
                  </a:lnTo>
                  <a:lnTo>
                    <a:pt x="11906" y="7144"/>
                  </a:lnTo>
                  <a:lnTo>
                    <a:pt x="182404" y="405289"/>
                  </a:lnTo>
                  <a:lnTo>
                    <a:pt x="177641" y="40719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4" name="任意多边形: 形状 17"/>
            <p:cNvSpPr/>
            <p:nvPr/>
          </p:nvSpPr>
          <p:spPr>
            <a:xfrm>
              <a:off x="3986640" y="941040"/>
              <a:ext cx="498600" cy="1072080"/>
            </a:xfrm>
            <a:custGeom>
              <a:avLst/>
              <a:gdLst>
                <a:gd name="textAreaLeft" fmla="*/ 0 w 498600"/>
                <a:gd name="textAreaRight" fmla="*/ 498960 w 498600"/>
                <a:gd name="textAreaTop" fmla="*/ 0 h 1072080"/>
                <a:gd name="textAreaBottom" fmla="*/ 1072440 h 1072080"/>
              </a:gdLst>
              <a:ahLst/>
              <a:rect l="textAreaLeft" t="textAreaTop" r="textAreaRight" b="textAreaBottom"/>
              <a:pathLst>
                <a:path w="190500" h="409575">
                  <a:moveTo>
                    <a:pt x="178594" y="408146"/>
                  </a:moveTo>
                  <a:lnTo>
                    <a:pt x="7144" y="10001"/>
                  </a:lnTo>
                  <a:lnTo>
                    <a:pt x="11906" y="7144"/>
                  </a:lnTo>
                  <a:lnTo>
                    <a:pt x="183356" y="406241"/>
                  </a:lnTo>
                  <a:lnTo>
                    <a:pt x="178594" y="40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5" name="任意多边形: 形状 18"/>
            <p:cNvSpPr/>
            <p:nvPr/>
          </p:nvSpPr>
          <p:spPr>
            <a:xfrm>
              <a:off x="4884120" y="691560"/>
              <a:ext cx="1944720" cy="1521000"/>
            </a:xfrm>
            <a:custGeom>
              <a:avLst/>
              <a:gdLst>
                <a:gd name="textAreaLeft" fmla="*/ 0 w 1944720"/>
                <a:gd name="textAreaRight" fmla="*/ 1945080 w 1944720"/>
                <a:gd name="textAreaTop" fmla="*/ 0 h 1521000"/>
                <a:gd name="textAreaBottom" fmla="*/ 1521360 h 1521000"/>
              </a:gdLst>
              <a:ahLst/>
              <a:rect l="textAreaLeft" t="textAreaTop" r="textAreaRight" b="textAreaBottom"/>
              <a:pathLst>
                <a:path w="742950" h="581025">
                  <a:moveTo>
                    <a:pt x="679609" y="12859"/>
                  </a:moveTo>
                  <a:cubicBezTo>
                    <a:pt x="677704" y="16669"/>
                    <a:pt x="673894" y="25241"/>
                    <a:pt x="675799" y="29051"/>
                  </a:cubicBezTo>
                  <a:cubicBezTo>
                    <a:pt x="675799" y="30004"/>
                    <a:pt x="676751" y="30956"/>
                    <a:pt x="676751" y="31909"/>
                  </a:cubicBezTo>
                  <a:cubicBezTo>
                    <a:pt x="683419" y="33814"/>
                    <a:pt x="688181" y="38576"/>
                    <a:pt x="688181" y="45244"/>
                  </a:cubicBezTo>
                  <a:cubicBezTo>
                    <a:pt x="689134" y="53816"/>
                    <a:pt x="682466" y="60484"/>
                    <a:pt x="673894" y="61436"/>
                  </a:cubicBezTo>
                  <a:cubicBezTo>
                    <a:pt x="665321" y="62389"/>
                    <a:pt x="657701" y="55721"/>
                    <a:pt x="657701" y="48101"/>
                  </a:cubicBezTo>
                  <a:cubicBezTo>
                    <a:pt x="656749" y="41434"/>
                    <a:pt x="660559" y="35719"/>
                    <a:pt x="666274" y="32861"/>
                  </a:cubicBezTo>
                  <a:cubicBezTo>
                    <a:pt x="667226" y="30004"/>
                    <a:pt x="669131" y="22384"/>
                    <a:pt x="664369" y="15716"/>
                  </a:cubicBezTo>
                  <a:cubicBezTo>
                    <a:pt x="664369" y="14764"/>
                    <a:pt x="663416" y="14764"/>
                    <a:pt x="663416" y="13811"/>
                  </a:cubicBezTo>
                  <a:lnTo>
                    <a:pt x="627221" y="16669"/>
                  </a:lnTo>
                  <a:cubicBezTo>
                    <a:pt x="625316" y="20479"/>
                    <a:pt x="621506" y="29051"/>
                    <a:pt x="623411" y="32861"/>
                  </a:cubicBezTo>
                  <a:cubicBezTo>
                    <a:pt x="624364" y="33814"/>
                    <a:pt x="624364" y="34766"/>
                    <a:pt x="624364" y="35719"/>
                  </a:cubicBezTo>
                  <a:cubicBezTo>
                    <a:pt x="631031" y="37624"/>
                    <a:pt x="635794" y="42386"/>
                    <a:pt x="635794" y="49054"/>
                  </a:cubicBezTo>
                  <a:cubicBezTo>
                    <a:pt x="636746" y="57626"/>
                    <a:pt x="630079" y="64294"/>
                    <a:pt x="621506" y="65246"/>
                  </a:cubicBezTo>
                  <a:cubicBezTo>
                    <a:pt x="612934" y="66199"/>
                    <a:pt x="605314" y="59531"/>
                    <a:pt x="605314" y="51911"/>
                  </a:cubicBezTo>
                  <a:cubicBezTo>
                    <a:pt x="604361" y="45244"/>
                    <a:pt x="608171" y="39529"/>
                    <a:pt x="613886" y="36671"/>
                  </a:cubicBezTo>
                  <a:cubicBezTo>
                    <a:pt x="614839" y="33814"/>
                    <a:pt x="616744" y="26194"/>
                    <a:pt x="611981" y="19526"/>
                  </a:cubicBezTo>
                  <a:cubicBezTo>
                    <a:pt x="611981" y="18574"/>
                    <a:pt x="611029" y="18574"/>
                    <a:pt x="611029" y="17621"/>
                  </a:cubicBezTo>
                  <a:lnTo>
                    <a:pt x="574834" y="20479"/>
                  </a:lnTo>
                  <a:cubicBezTo>
                    <a:pt x="572929" y="24289"/>
                    <a:pt x="569119" y="32861"/>
                    <a:pt x="571024" y="36671"/>
                  </a:cubicBezTo>
                  <a:cubicBezTo>
                    <a:pt x="571976" y="37624"/>
                    <a:pt x="571976" y="38576"/>
                    <a:pt x="571976" y="39529"/>
                  </a:cubicBezTo>
                  <a:cubicBezTo>
                    <a:pt x="578644" y="41434"/>
                    <a:pt x="583406" y="46196"/>
                    <a:pt x="583406" y="52864"/>
                  </a:cubicBezTo>
                  <a:cubicBezTo>
                    <a:pt x="584359" y="61436"/>
                    <a:pt x="577691" y="68104"/>
                    <a:pt x="569119" y="69056"/>
                  </a:cubicBezTo>
                  <a:cubicBezTo>
                    <a:pt x="560546" y="70009"/>
                    <a:pt x="552926" y="63341"/>
                    <a:pt x="552926" y="55721"/>
                  </a:cubicBezTo>
                  <a:cubicBezTo>
                    <a:pt x="551974" y="49054"/>
                    <a:pt x="555784" y="43339"/>
                    <a:pt x="561499" y="40481"/>
                  </a:cubicBezTo>
                  <a:cubicBezTo>
                    <a:pt x="562451" y="37624"/>
                    <a:pt x="564356" y="30004"/>
                    <a:pt x="559594" y="23336"/>
                  </a:cubicBezTo>
                  <a:cubicBezTo>
                    <a:pt x="558641" y="22384"/>
                    <a:pt x="558641" y="22384"/>
                    <a:pt x="558641" y="21431"/>
                  </a:cubicBezTo>
                  <a:lnTo>
                    <a:pt x="522446" y="24289"/>
                  </a:lnTo>
                  <a:cubicBezTo>
                    <a:pt x="520541" y="28099"/>
                    <a:pt x="516731" y="36671"/>
                    <a:pt x="517684" y="40481"/>
                  </a:cubicBezTo>
                  <a:cubicBezTo>
                    <a:pt x="518636" y="41434"/>
                    <a:pt x="518636" y="42386"/>
                    <a:pt x="518636" y="43339"/>
                  </a:cubicBezTo>
                  <a:cubicBezTo>
                    <a:pt x="525304" y="45244"/>
                    <a:pt x="530066" y="50006"/>
                    <a:pt x="530066" y="56674"/>
                  </a:cubicBezTo>
                  <a:cubicBezTo>
                    <a:pt x="531019" y="65246"/>
                    <a:pt x="524351" y="71914"/>
                    <a:pt x="515779" y="72866"/>
                  </a:cubicBezTo>
                  <a:cubicBezTo>
                    <a:pt x="507206" y="73819"/>
                    <a:pt x="499586" y="67151"/>
                    <a:pt x="499586" y="59531"/>
                  </a:cubicBezTo>
                  <a:cubicBezTo>
                    <a:pt x="498634" y="52864"/>
                    <a:pt x="502444" y="47149"/>
                    <a:pt x="509111" y="44291"/>
                  </a:cubicBezTo>
                  <a:cubicBezTo>
                    <a:pt x="510064" y="41434"/>
                    <a:pt x="511969" y="33814"/>
                    <a:pt x="507206" y="27146"/>
                  </a:cubicBezTo>
                  <a:cubicBezTo>
                    <a:pt x="506254" y="26194"/>
                    <a:pt x="506254" y="26194"/>
                    <a:pt x="506254" y="25241"/>
                  </a:cubicBezTo>
                  <a:lnTo>
                    <a:pt x="470059" y="28099"/>
                  </a:lnTo>
                  <a:cubicBezTo>
                    <a:pt x="468154" y="31909"/>
                    <a:pt x="464344" y="40481"/>
                    <a:pt x="466249" y="44291"/>
                  </a:cubicBezTo>
                  <a:cubicBezTo>
                    <a:pt x="467201" y="45244"/>
                    <a:pt x="467201" y="46196"/>
                    <a:pt x="467201" y="47149"/>
                  </a:cubicBezTo>
                  <a:cubicBezTo>
                    <a:pt x="473869" y="49054"/>
                    <a:pt x="478631" y="53816"/>
                    <a:pt x="478631" y="60484"/>
                  </a:cubicBezTo>
                  <a:cubicBezTo>
                    <a:pt x="479584" y="69056"/>
                    <a:pt x="472916" y="75724"/>
                    <a:pt x="464344" y="76676"/>
                  </a:cubicBezTo>
                  <a:cubicBezTo>
                    <a:pt x="455771" y="77629"/>
                    <a:pt x="448151" y="70961"/>
                    <a:pt x="448151" y="63341"/>
                  </a:cubicBezTo>
                  <a:cubicBezTo>
                    <a:pt x="447199" y="56674"/>
                    <a:pt x="451009" y="50959"/>
                    <a:pt x="457676" y="48101"/>
                  </a:cubicBezTo>
                  <a:cubicBezTo>
                    <a:pt x="458629" y="45244"/>
                    <a:pt x="460534" y="37624"/>
                    <a:pt x="455771" y="30956"/>
                  </a:cubicBezTo>
                  <a:cubicBezTo>
                    <a:pt x="455771" y="30004"/>
                    <a:pt x="454819" y="30004"/>
                    <a:pt x="454819" y="29051"/>
                  </a:cubicBezTo>
                  <a:lnTo>
                    <a:pt x="417671" y="33814"/>
                  </a:lnTo>
                  <a:cubicBezTo>
                    <a:pt x="415766" y="37624"/>
                    <a:pt x="411956" y="46196"/>
                    <a:pt x="413861" y="50006"/>
                  </a:cubicBezTo>
                  <a:cubicBezTo>
                    <a:pt x="413861" y="50959"/>
                    <a:pt x="414814" y="51911"/>
                    <a:pt x="414814" y="52864"/>
                  </a:cubicBezTo>
                  <a:cubicBezTo>
                    <a:pt x="420529" y="54769"/>
                    <a:pt x="426244" y="59531"/>
                    <a:pt x="426244" y="66199"/>
                  </a:cubicBezTo>
                  <a:cubicBezTo>
                    <a:pt x="427196" y="74771"/>
                    <a:pt x="420529" y="81439"/>
                    <a:pt x="411956" y="82391"/>
                  </a:cubicBezTo>
                  <a:cubicBezTo>
                    <a:pt x="403384" y="83344"/>
                    <a:pt x="395764" y="76676"/>
                    <a:pt x="395764" y="69056"/>
                  </a:cubicBezTo>
                  <a:cubicBezTo>
                    <a:pt x="394811" y="62389"/>
                    <a:pt x="398621" y="56674"/>
                    <a:pt x="404336" y="53816"/>
                  </a:cubicBezTo>
                  <a:cubicBezTo>
                    <a:pt x="405289" y="50959"/>
                    <a:pt x="407194" y="43339"/>
                    <a:pt x="402431" y="36671"/>
                  </a:cubicBezTo>
                  <a:cubicBezTo>
                    <a:pt x="402431" y="35719"/>
                    <a:pt x="401479" y="35719"/>
                    <a:pt x="401479" y="34766"/>
                  </a:cubicBezTo>
                  <a:lnTo>
                    <a:pt x="365284" y="37624"/>
                  </a:lnTo>
                  <a:cubicBezTo>
                    <a:pt x="363379" y="41434"/>
                    <a:pt x="359569" y="50006"/>
                    <a:pt x="360521" y="53816"/>
                  </a:cubicBezTo>
                  <a:cubicBezTo>
                    <a:pt x="361474" y="54769"/>
                    <a:pt x="361474" y="55721"/>
                    <a:pt x="361474" y="56674"/>
                  </a:cubicBezTo>
                  <a:cubicBezTo>
                    <a:pt x="368141" y="58579"/>
                    <a:pt x="372904" y="63341"/>
                    <a:pt x="372904" y="70009"/>
                  </a:cubicBezTo>
                  <a:cubicBezTo>
                    <a:pt x="373856" y="78581"/>
                    <a:pt x="367189" y="85249"/>
                    <a:pt x="358616" y="86201"/>
                  </a:cubicBezTo>
                  <a:cubicBezTo>
                    <a:pt x="350044" y="87154"/>
                    <a:pt x="342424" y="80486"/>
                    <a:pt x="342424" y="72866"/>
                  </a:cubicBezTo>
                  <a:cubicBezTo>
                    <a:pt x="341471" y="66199"/>
                    <a:pt x="345281" y="60484"/>
                    <a:pt x="350996" y="57626"/>
                  </a:cubicBezTo>
                  <a:cubicBezTo>
                    <a:pt x="351949" y="54769"/>
                    <a:pt x="353854" y="47149"/>
                    <a:pt x="349091" y="40481"/>
                  </a:cubicBezTo>
                  <a:cubicBezTo>
                    <a:pt x="349091" y="39529"/>
                    <a:pt x="348139" y="39529"/>
                    <a:pt x="348139" y="38576"/>
                  </a:cubicBezTo>
                  <a:lnTo>
                    <a:pt x="311944" y="41434"/>
                  </a:lnTo>
                  <a:cubicBezTo>
                    <a:pt x="310039" y="45244"/>
                    <a:pt x="306229" y="53816"/>
                    <a:pt x="308134" y="57626"/>
                  </a:cubicBezTo>
                  <a:cubicBezTo>
                    <a:pt x="309086" y="58579"/>
                    <a:pt x="309086" y="59531"/>
                    <a:pt x="309086" y="60484"/>
                  </a:cubicBezTo>
                  <a:cubicBezTo>
                    <a:pt x="315754" y="62389"/>
                    <a:pt x="320516" y="67151"/>
                    <a:pt x="320516" y="73819"/>
                  </a:cubicBezTo>
                  <a:cubicBezTo>
                    <a:pt x="321469" y="82391"/>
                    <a:pt x="314801" y="89059"/>
                    <a:pt x="306229" y="90011"/>
                  </a:cubicBezTo>
                  <a:cubicBezTo>
                    <a:pt x="297656" y="90964"/>
                    <a:pt x="290036" y="84296"/>
                    <a:pt x="290036" y="76676"/>
                  </a:cubicBezTo>
                  <a:cubicBezTo>
                    <a:pt x="289084" y="70009"/>
                    <a:pt x="292894" y="64294"/>
                    <a:pt x="298609" y="61436"/>
                  </a:cubicBezTo>
                  <a:cubicBezTo>
                    <a:pt x="299561" y="58579"/>
                    <a:pt x="301466" y="50959"/>
                    <a:pt x="296704" y="44291"/>
                  </a:cubicBezTo>
                  <a:cubicBezTo>
                    <a:pt x="295751" y="43339"/>
                    <a:pt x="295751" y="43339"/>
                    <a:pt x="295751" y="42386"/>
                  </a:cubicBezTo>
                  <a:lnTo>
                    <a:pt x="259556" y="45244"/>
                  </a:lnTo>
                  <a:cubicBezTo>
                    <a:pt x="257651" y="49054"/>
                    <a:pt x="253841" y="57626"/>
                    <a:pt x="255746" y="61436"/>
                  </a:cubicBezTo>
                  <a:cubicBezTo>
                    <a:pt x="256699" y="62389"/>
                    <a:pt x="256699" y="63341"/>
                    <a:pt x="256699" y="64294"/>
                  </a:cubicBezTo>
                  <a:cubicBezTo>
                    <a:pt x="263366" y="66199"/>
                    <a:pt x="268129" y="70961"/>
                    <a:pt x="268129" y="77629"/>
                  </a:cubicBezTo>
                  <a:cubicBezTo>
                    <a:pt x="269081" y="86201"/>
                    <a:pt x="262414" y="92869"/>
                    <a:pt x="253841" y="93821"/>
                  </a:cubicBezTo>
                  <a:cubicBezTo>
                    <a:pt x="245269" y="94774"/>
                    <a:pt x="237649" y="88106"/>
                    <a:pt x="237649" y="80486"/>
                  </a:cubicBezTo>
                  <a:cubicBezTo>
                    <a:pt x="236696" y="73819"/>
                    <a:pt x="240506" y="68104"/>
                    <a:pt x="247174" y="65246"/>
                  </a:cubicBezTo>
                  <a:cubicBezTo>
                    <a:pt x="248126" y="62389"/>
                    <a:pt x="250031" y="54769"/>
                    <a:pt x="245269" y="48101"/>
                  </a:cubicBezTo>
                  <a:cubicBezTo>
                    <a:pt x="245269" y="47149"/>
                    <a:pt x="244316" y="47149"/>
                    <a:pt x="244316" y="46196"/>
                  </a:cubicBezTo>
                  <a:lnTo>
                    <a:pt x="208121" y="49054"/>
                  </a:lnTo>
                  <a:cubicBezTo>
                    <a:pt x="206216" y="52864"/>
                    <a:pt x="202406" y="61436"/>
                    <a:pt x="204311" y="65246"/>
                  </a:cubicBezTo>
                  <a:cubicBezTo>
                    <a:pt x="205264" y="66199"/>
                    <a:pt x="205264" y="67151"/>
                    <a:pt x="205264" y="68104"/>
                  </a:cubicBezTo>
                  <a:cubicBezTo>
                    <a:pt x="210979" y="69056"/>
                    <a:pt x="216694" y="74771"/>
                    <a:pt x="216694" y="81439"/>
                  </a:cubicBezTo>
                  <a:cubicBezTo>
                    <a:pt x="217646" y="90011"/>
                    <a:pt x="210979" y="96679"/>
                    <a:pt x="202406" y="97631"/>
                  </a:cubicBezTo>
                  <a:cubicBezTo>
                    <a:pt x="193834" y="98584"/>
                    <a:pt x="186214" y="91916"/>
                    <a:pt x="186214" y="84296"/>
                  </a:cubicBezTo>
                  <a:cubicBezTo>
                    <a:pt x="185261" y="77629"/>
                    <a:pt x="189071" y="71914"/>
                    <a:pt x="194786" y="69056"/>
                  </a:cubicBezTo>
                  <a:cubicBezTo>
                    <a:pt x="195739" y="66199"/>
                    <a:pt x="197644" y="58579"/>
                    <a:pt x="192881" y="51911"/>
                  </a:cubicBezTo>
                  <a:cubicBezTo>
                    <a:pt x="192881" y="50959"/>
                    <a:pt x="191929" y="50959"/>
                    <a:pt x="191929" y="50006"/>
                  </a:cubicBezTo>
                  <a:lnTo>
                    <a:pt x="155734" y="52864"/>
                  </a:lnTo>
                  <a:cubicBezTo>
                    <a:pt x="153829" y="56674"/>
                    <a:pt x="150019" y="65246"/>
                    <a:pt x="151924" y="69056"/>
                  </a:cubicBezTo>
                  <a:cubicBezTo>
                    <a:pt x="152876" y="70009"/>
                    <a:pt x="152876" y="70961"/>
                    <a:pt x="152876" y="71914"/>
                  </a:cubicBezTo>
                  <a:cubicBezTo>
                    <a:pt x="159544" y="73819"/>
                    <a:pt x="164306" y="78581"/>
                    <a:pt x="164306" y="85249"/>
                  </a:cubicBezTo>
                  <a:cubicBezTo>
                    <a:pt x="165259" y="93821"/>
                    <a:pt x="158591" y="100489"/>
                    <a:pt x="150019" y="101441"/>
                  </a:cubicBezTo>
                  <a:cubicBezTo>
                    <a:pt x="141446" y="102394"/>
                    <a:pt x="133826" y="95726"/>
                    <a:pt x="133826" y="88106"/>
                  </a:cubicBezTo>
                  <a:cubicBezTo>
                    <a:pt x="132874" y="81439"/>
                    <a:pt x="136684" y="75724"/>
                    <a:pt x="142399" y="72866"/>
                  </a:cubicBezTo>
                  <a:cubicBezTo>
                    <a:pt x="143351" y="70009"/>
                    <a:pt x="145256" y="62389"/>
                    <a:pt x="140494" y="55721"/>
                  </a:cubicBezTo>
                  <a:cubicBezTo>
                    <a:pt x="140494" y="54769"/>
                    <a:pt x="139541" y="54769"/>
                    <a:pt x="139541" y="53816"/>
                  </a:cubicBezTo>
                  <a:lnTo>
                    <a:pt x="103346" y="56674"/>
                  </a:lnTo>
                  <a:cubicBezTo>
                    <a:pt x="101441" y="60484"/>
                    <a:pt x="97631" y="69056"/>
                    <a:pt x="98584" y="72866"/>
                  </a:cubicBezTo>
                  <a:cubicBezTo>
                    <a:pt x="99536" y="73819"/>
                    <a:pt x="99536" y="74771"/>
                    <a:pt x="99536" y="75724"/>
                  </a:cubicBezTo>
                  <a:cubicBezTo>
                    <a:pt x="106204" y="77629"/>
                    <a:pt x="110966" y="82391"/>
                    <a:pt x="110966" y="89059"/>
                  </a:cubicBezTo>
                  <a:cubicBezTo>
                    <a:pt x="111919" y="97631"/>
                    <a:pt x="105251" y="104299"/>
                    <a:pt x="96679" y="105251"/>
                  </a:cubicBezTo>
                  <a:cubicBezTo>
                    <a:pt x="88106" y="106204"/>
                    <a:pt x="80486" y="99536"/>
                    <a:pt x="80486" y="91916"/>
                  </a:cubicBezTo>
                  <a:cubicBezTo>
                    <a:pt x="79534" y="85249"/>
                    <a:pt x="83344" y="79534"/>
                    <a:pt x="89059" y="76676"/>
                  </a:cubicBezTo>
                  <a:cubicBezTo>
                    <a:pt x="90011" y="73819"/>
                    <a:pt x="91916" y="66199"/>
                    <a:pt x="87154" y="59531"/>
                  </a:cubicBezTo>
                  <a:cubicBezTo>
                    <a:pt x="87154" y="58579"/>
                    <a:pt x="86201" y="58579"/>
                    <a:pt x="86201" y="57626"/>
                  </a:cubicBezTo>
                  <a:lnTo>
                    <a:pt x="50006" y="60484"/>
                  </a:lnTo>
                  <a:cubicBezTo>
                    <a:pt x="48101" y="64294"/>
                    <a:pt x="44291" y="72866"/>
                    <a:pt x="46196" y="76676"/>
                  </a:cubicBezTo>
                  <a:cubicBezTo>
                    <a:pt x="47149" y="77629"/>
                    <a:pt x="47149" y="78581"/>
                    <a:pt x="47149" y="79534"/>
                  </a:cubicBezTo>
                  <a:cubicBezTo>
                    <a:pt x="53816" y="81439"/>
                    <a:pt x="58579" y="86201"/>
                    <a:pt x="58579" y="92869"/>
                  </a:cubicBezTo>
                  <a:cubicBezTo>
                    <a:pt x="59531" y="101441"/>
                    <a:pt x="52864" y="108109"/>
                    <a:pt x="44291" y="109061"/>
                  </a:cubicBezTo>
                  <a:cubicBezTo>
                    <a:pt x="35719" y="110014"/>
                    <a:pt x="28099" y="103346"/>
                    <a:pt x="28099" y="95726"/>
                  </a:cubicBezTo>
                  <a:cubicBezTo>
                    <a:pt x="27146" y="89059"/>
                    <a:pt x="30956" y="83344"/>
                    <a:pt x="36671" y="80486"/>
                  </a:cubicBezTo>
                  <a:cubicBezTo>
                    <a:pt x="37624" y="77629"/>
                    <a:pt x="39529" y="70009"/>
                    <a:pt x="34766" y="63341"/>
                  </a:cubicBezTo>
                  <a:cubicBezTo>
                    <a:pt x="33814" y="62389"/>
                    <a:pt x="33814" y="62389"/>
                    <a:pt x="33814" y="61436"/>
                  </a:cubicBezTo>
                  <a:lnTo>
                    <a:pt x="7144" y="63341"/>
                  </a:lnTo>
                  <a:lnTo>
                    <a:pt x="51911" y="578644"/>
                  </a:lnTo>
                  <a:lnTo>
                    <a:pt x="742474" y="522446"/>
                  </a:lnTo>
                  <a:lnTo>
                    <a:pt x="697706" y="7144"/>
                  </a:lnTo>
                  <a:lnTo>
                    <a:pt x="679609" y="12859"/>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6" name="任意多边形: 形状 19"/>
            <p:cNvSpPr/>
            <p:nvPr/>
          </p:nvSpPr>
          <p:spPr>
            <a:xfrm>
              <a:off x="4964040" y="611640"/>
              <a:ext cx="1944720" cy="1521000"/>
            </a:xfrm>
            <a:custGeom>
              <a:avLst/>
              <a:gdLst>
                <a:gd name="textAreaLeft" fmla="*/ 0 w 1944720"/>
                <a:gd name="textAreaRight" fmla="*/ 1945080 w 1944720"/>
                <a:gd name="textAreaTop" fmla="*/ 0 h 1521000"/>
                <a:gd name="textAreaBottom" fmla="*/ 1521360 h 1521000"/>
              </a:gdLst>
              <a:ahLst/>
              <a:rect l="textAreaLeft" t="textAreaTop" r="textAreaRight" b="textAreaBottom"/>
              <a:pathLst>
                <a:path w="742950" h="581025">
                  <a:moveTo>
                    <a:pt x="506254" y="23336"/>
                  </a:moveTo>
                  <a:cubicBezTo>
                    <a:pt x="511016" y="30004"/>
                    <a:pt x="510064" y="37624"/>
                    <a:pt x="508159" y="40481"/>
                  </a:cubicBezTo>
                  <a:cubicBezTo>
                    <a:pt x="502444" y="43339"/>
                    <a:pt x="498634" y="49054"/>
                    <a:pt x="498634" y="55721"/>
                  </a:cubicBezTo>
                  <a:cubicBezTo>
                    <a:pt x="499586" y="64294"/>
                    <a:pt x="507206" y="70009"/>
                    <a:pt x="514826" y="69056"/>
                  </a:cubicBezTo>
                  <a:cubicBezTo>
                    <a:pt x="523399" y="68104"/>
                    <a:pt x="529114" y="61436"/>
                    <a:pt x="529114" y="52864"/>
                  </a:cubicBezTo>
                  <a:cubicBezTo>
                    <a:pt x="528161" y="46196"/>
                    <a:pt x="523399" y="41434"/>
                    <a:pt x="517684" y="39529"/>
                  </a:cubicBezTo>
                  <a:cubicBezTo>
                    <a:pt x="517684" y="38576"/>
                    <a:pt x="517684" y="37624"/>
                    <a:pt x="516731" y="36671"/>
                  </a:cubicBezTo>
                  <a:cubicBezTo>
                    <a:pt x="514826" y="31909"/>
                    <a:pt x="518636" y="24289"/>
                    <a:pt x="521494" y="20479"/>
                  </a:cubicBezTo>
                  <a:lnTo>
                    <a:pt x="557689" y="17621"/>
                  </a:lnTo>
                  <a:cubicBezTo>
                    <a:pt x="557689" y="18574"/>
                    <a:pt x="558641" y="18574"/>
                    <a:pt x="558641" y="19526"/>
                  </a:cubicBezTo>
                  <a:cubicBezTo>
                    <a:pt x="563404" y="26194"/>
                    <a:pt x="562451" y="33814"/>
                    <a:pt x="560546" y="36671"/>
                  </a:cubicBezTo>
                  <a:cubicBezTo>
                    <a:pt x="554831" y="39529"/>
                    <a:pt x="551021" y="45244"/>
                    <a:pt x="551974" y="51911"/>
                  </a:cubicBezTo>
                  <a:cubicBezTo>
                    <a:pt x="552926" y="60484"/>
                    <a:pt x="560546" y="66199"/>
                    <a:pt x="568166" y="65246"/>
                  </a:cubicBezTo>
                  <a:cubicBezTo>
                    <a:pt x="576739" y="64294"/>
                    <a:pt x="582454" y="57626"/>
                    <a:pt x="582454" y="49054"/>
                  </a:cubicBezTo>
                  <a:cubicBezTo>
                    <a:pt x="581501" y="42386"/>
                    <a:pt x="576739" y="37624"/>
                    <a:pt x="571024" y="35719"/>
                  </a:cubicBezTo>
                  <a:cubicBezTo>
                    <a:pt x="571024" y="34766"/>
                    <a:pt x="571024" y="33814"/>
                    <a:pt x="570071" y="32861"/>
                  </a:cubicBezTo>
                  <a:cubicBezTo>
                    <a:pt x="568166" y="28099"/>
                    <a:pt x="571976" y="20479"/>
                    <a:pt x="573881" y="16669"/>
                  </a:cubicBezTo>
                  <a:lnTo>
                    <a:pt x="610076" y="13811"/>
                  </a:lnTo>
                  <a:cubicBezTo>
                    <a:pt x="610076" y="14764"/>
                    <a:pt x="611029" y="14764"/>
                    <a:pt x="611029" y="15716"/>
                  </a:cubicBezTo>
                  <a:cubicBezTo>
                    <a:pt x="615791" y="22384"/>
                    <a:pt x="614839" y="30004"/>
                    <a:pt x="612934" y="32861"/>
                  </a:cubicBezTo>
                  <a:cubicBezTo>
                    <a:pt x="607219" y="35719"/>
                    <a:pt x="603409" y="41434"/>
                    <a:pt x="604361" y="48101"/>
                  </a:cubicBezTo>
                  <a:cubicBezTo>
                    <a:pt x="605314" y="56674"/>
                    <a:pt x="612934" y="62389"/>
                    <a:pt x="620554" y="61436"/>
                  </a:cubicBezTo>
                  <a:cubicBezTo>
                    <a:pt x="629126" y="60484"/>
                    <a:pt x="634841" y="53816"/>
                    <a:pt x="634841" y="45244"/>
                  </a:cubicBezTo>
                  <a:cubicBezTo>
                    <a:pt x="633889" y="38576"/>
                    <a:pt x="629126" y="33814"/>
                    <a:pt x="623411" y="31909"/>
                  </a:cubicBezTo>
                  <a:cubicBezTo>
                    <a:pt x="623411" y="30956"/>
                    <a:pt x="623411" y="30004"/>
                    <a:pt x="622459" y="29051"/>
                  </a:cubicBezTo>
                  <a:cubicBezTo>
                    <a:pt x="620554" y="24289"/>
                    <a:pt x="624364" y="16669"/>
                    <a:pt x="626269" y="12859"/>
                  </a:cubicBezTo>
                  <a:lnTo>
                    <a:pt x="662464" y="10001"/>
                  </a:lnTo>
                  <a:cubicBezTo>
                    <a:pt x="662464" y="10954"/>
                    <a:pt x="663416" y="10954"/>
                    <a:pt x="663416" y="11906"/>
                  </a:cubicBezTo>
                  <a:cubicBezTo>
                    <a:pt x="668179" y="18574"/>
                    <a:pt x="667226" y="26194"/>
                    <a:pt x="665321" y="29051"/>
                  </a:cubicBezTo>
                  <a:cubicBezTo>
                    <a:pt x="659606" y="31909"/>
                    <a:pt x="655796" y="37624"/>
                    <a:pt x="656749" y="44291"/>
                  </a:cubicBezTo>
                  <a:cubicBezTo>
                    <a:pt x="657701" y="52864"/>
                    <a:pt x="665321" y="58579"/>
                    <a:pt x="672941" y="57626"/>
                  </a:cubicBezTo>
                  <a:cubicBezTo>
                    <a:pt x="681514" y="56674"/>
                    <a:pt x="687229" y="50006"/>
                    <a:pt x="687229" y="41434"/>
                  </a:cubicBezTo>
                  <a:cubicBezTo>
                    <a:pt x="686276" y="34766"/>
                    <a:pt x="681514" y="30004"/>
                    <a:pt x="675799" y="28099"/>
                  </a:cubicBezTo>
                  <a:cubicBezTo>
                    <a:pt x="675799" y="27146"/>
                    <a:pt x="675799" y="26194"/>
                    <a:pt x="674846" y="25241"/>
                  </a:cubicBezTo>
                  <a:cubicBezTo>
                    <a:pt x="672941" y="20479"/>
                    <a:pt x="676751" y="12859"/>
                    <a:pt x="678656" y="9049"/>
                  </a:cubicBezTo>
                  <a:lnTo>
                    <a:pt x="697706" y="7144"/>
                  </a:lnTo>
                  <a:lnTo>
                    <a:pt x="742474" y="522446"/>
                  </a:lnTo>
                  <a:lnTo>
                    <a:pt x="51911" y="578644"/>
                  </a:lnTo>
                  <a:lnTo>
                    <a:pt x="7144" y="63341"/>
                  </a:lnTo>
                  <a:lnTo>
                    <a:pt x="33814" y="61436"/>
                  </a:lnTo>
                  <a:cubicBezTo>
                    <a:pt x="33814" y="62389"/>
                    <a:pt x="34766" y="62389"/>
                    <a:pt x="34766" y="63341"/>
                  </a:cubicBezTo>
                  <a:cubicBezTo>
                    <a:pt x="39529" y="70009"/>
                    <a:pt x="38576" y="77629"/>
                    <a:pt x="36671" y="80486"/>
                  </a:cubicBezTo>
                  <a:cubicBezTo>
                    <a:pt x="30956" y="83344"/>
                    <a:pt x="27146" y="89059"/>
                    <a:pt x="28099" y="95726"/>
                  </a:cubicBezTo>
                  <a:cubicBezTo>
                    <a:pt x="29051" y="104299"/>
                    <a:pt x="36671" y="110014"/>
                    <a:pt x="44291" y="109061"/>
                  </a:cubicBezTo>
                  <a:cubicBezTo>
                    <a:pt x="52864" y="108109"/>
                    <a:pt x="58579" y="101441"/>
                    <a:pt x="58579" y="92869"/>
                  </a:cubicBezTo>
                  <a:cubicBezTo>
                    <a:pt x="57626" y="86201"/>
                    <a:pt x="52864" y="81439"/>
                    <a:pt x="47149" y="79534"/>
                  </a:cubicBezTo>
                  <a:cubicBezTo>
                    <a:pt x="47149" y="78581"/>
                    <a:pt x="47149" y="77629"/>
                    <a:pt x="46196" y="76676"/>
                  </a:cubicBezTo>
                  <a:cubicBezTo>
                    <a:pt x="44291" y="71914"/>
                    <a:pt x="48101" y="64294"/>
                    <a:pt x="50006" y="60484"/>
                  </a:cubicBezTo>
                  <a:lnTo>
                    <a:pt x="86201" y="57626"/>
                  </a:lnTo>
                  <a:cubicBezTo>
                    <a:pt x="86201" y="58579"/>
                    <a:pt x="87154" y="58579"/>
                    <a:pt x="87154" y="59531"/>
                  </a:cubicBezTo>
                  <a:cubicBezTo>
                    <a:pt x="91916" y="66199"/>
                    <a:pt x="90964" y="73819"/>
                    <a:pt x="89059" y="76676"/>
                  </a:cubicBezTo>
                  <a:cubicBezTo>
                    <a:pt x="83344" y="79534"/>
                    <a:pt x="79534" y="85249"/>
                    <a:pt x="80486" y="91916"/>
                  </a:cubicBezTo>
                  <a:cubicBezTo>
                    <a:pt x="81439" y="100489"/>
                    <a:pt x="88106" y="106204"/>
                    <a:pt x="96679" y="105251"/>
                  </a:cubicBezTo>
                  <a:cubicBezTo>
                    <a:pt x="105251" y="104299"/>
                    <a:pt x="110966" y="97631"/>
                    <a:pt x="110966" y="89059"/>
                  </a:cubicBezTo>
                  <a:cubicBezTo>
                    <a:pt x="110014" y="82391"/>
                    <a:pt x="105251" y="77629"/>
                    <a:pt x="99536" y="75724"/>
                  </a:cubicBezTo>
                  <a:cubicBezTo>
                    <a:pt x="99536" y="74771"/>
                    <a:pt x="99536" y="73819"/>
                    <a:pt x="98584" y="72866"/>
                  </a:cubicBezTo>
                  <a:cubicBezTo>
                    <a:pt x="96679" y="68104"/>
                    <a:pt x="100489" y="60484"/>
                    <a:pt x="103346" y="56674"/>
                  </a:cubicBezTo>
                  <a:lnTo>
                    <a:pt x="139541" y="53816"/>
                  </a:lnTo>
                  <a:cubicBezTo>
                    <a:pt x="139541" y="54769"/>
                    <a:pt x="140494" y="54769"/>
                    <a:pt x="140494" y="55721"/>
                  </a:cubicBezTo>
                  <a:cubicBezTo>
                    <a:pt x="145256" y="62389"/>
                    <a:pt x="144304" y="70009"/>
                    <a:pt x="142399" y="72866"/>
                  </a:cubicBezTo>
                  <a:cubicBezTo>
                    <a:pt x="136684" y="75724"/>
                    <a:pt x="132874" y="81439"/>
                    <a:pt x="133826" y="88106"/>
                  </a:cubicBezTo>
                  <a:cubicBezTo>
                    <a:pt x="134779" y="96679"/>
                    <a:pt x="141446" y="102394"/>
                    <a:pt x="150019" y="101441"/>
                  </a:cubicBezTo>
                  <a:cubicBezTo>
                    <a:pt x="158591" y="100489"/>
                    <a:pt x="164306" y="93821"/>
                    <a:pt x="164306" y="85249"/>
                  </a:cubicBezTo>
                  <a:cubicBezTo>
                    <a:pt x="163354" y="78581"/>
                    <a:pt x="158591" y="73819"/>
                    <a:pt x="152876" y="71914"/>
                  </a:cubicBezTo>
                  <a:cubicBezTo>
                    <a:pt x="152876" y="70961"/>
                    <a:pt x="152876" y="70009"/>
                    <a:pt x="151924" y="69056"/>
                  </a:cubicBezTo>
                  <a:cubicBezTo>
                    <a:pt x="150019" y="64294"/>
                    <a:pt x="153829" y="56674"/>
                    <a:pt x="155734" y="52864"/>
                  </a:cubicBezTo>
                  <a:lnTo>
                    <a:pt x="191929" y="50006"/>
                  </a:lnTo>
                  <a:cubicBezTo>
                    <a:pt x="191929" y="50959"/>
                    <a:pt x="192881" y="50959"/>
                    <a:pt x="192881" y="51911"/>
                  </a:cubicBezTo>
                  <a:cubicBezTo>
                    <a:pt x="197644" y="58579"/>
                    <a:pt x="196691" y="66199"/>
                    <a:pt x="194786" y="69056"/>
                  </a:cubicBezTo>
                  <a:cubicBezTo>
                    <a:pt x="189071" y="71914"/>
                    <a:pt x="185261" y="77629"/>
                    <a:pt x="186214" y="84296"/>
                  </a:cubicBezTo>
                  <a:cubicBezTo>
                    <a:pt x="187166" y="92869"/>
                    <a:pt x="193834" y="98584"/>
                    <a:pt x="202406" y="97631"/>
                  </a:cubicBezTo>
                  <a:cubicBezTo>
                    <a:pt x="210979" y="96679"/>
                    <a:pt x="216694" y="90011"/>
                    <a:pt x="216694" y="81439"/>
                  </a:cubicBezTo>
                  <a:cubicBezTo>
                    <a:pt x="215741" y="74771"/>
                    <a:pt x="210979" y="70009"/>
                    <a:pt x="205264" y="68104"/>
                  </a:cubicBezTo>
                  <a:cubicBezTo>
                    <a:pt x="205264" y="67151"/>
                    <a:pt x="205264" y="66199"/>
                    <a:pt x="204311" y="65246"/>
                  </a:cubicBezTo>
                  <a:cubicBezTo>
                    <a:pt x="202406" y="60484"/>
                    <a:pt x="206216" y="52864"/>
                    <a:pt x="208121" y="49054"/>
                  </a:cubicBezTo>
                  <a:lnTo>
                    <a:pt x="244316" y="46196"/>
                  </a:lnTo>
                  <a:cubicBezTo>
                    <a:pt x="244316" y="47149"/>
                    <a:pt x="245269" y="47149"/>
                    <a:pt x="245269" y="48101"/>
                  </a:cubicBezTo>
                  <a:cubicBezTo>
                    <a:pt x="250031" y="54769"/>
                    <a:pt x="249079" y="62389"/>
                    <a:pt x="247174" y="65246"/>
                  </a:cubicBezTo>
                  <a:cubicBezTo>
                    <a:pt x="241459" y="68104"/>
                    <a:pt x="237649" y="73819"/>
                    <a:pt x="237649" y="80486"/>
                  </a:cubicBezTo>
                  <a:cubicBezTo>
                    <a:pt x="238601" y="89059"/>
                    <a:pt x="246221" y="94774"/>
                    <a:pt x="253841" y="93821"/>
                  </a:cubicBezTo>
                  <a:cubicBezTo>
                    <a:pt x="262414" y="92869"/>
                    <a:pt x="268129" y="86201"/>
                    <a:pt x="268129" y="77629"/>
                  </a:cubicBezTo>
                  <a:cubicBezTo>
                    <a:pt x="267176" y="70961"/>
                    <a:pt x="262414" y="66199"/>
                    <a:pt x="256699" y="64294"/>
                  </a:cubicBezTo>
                  <a:cubicBezTo>
                    <a:pt x="256699" y="63341"/>
                    <a:pt x="256699" y="62389"/>
                    <a:pt x="255746" y="61436"/>
                  </a:cubicBezTo>
                  <a:cubicBezTo>
                    <a:pt x="253841" y="56674"/>
                    <a:pt x="257651" y="49054"/>
                    <a:pt x="259556" y="45244"/>
                  </a:cubicBezTo>
                  <a:lnTo>
                    <a:pt x="295751" y="42386"/>
                  </a:lnTo>
                  <a:cubicBezTo>
                    <a:pt x="295751" y="43339"/>
                    <a:pt x="296704" y="43339"/>
                    <a:pt x="296704" y="44291"/>
                  </a:cubicBezTo>
                  <a:cubicBezTo>
                    <a:pt x="301466" y="50959"/>
                    <a:pt x="299561" y="58579"/>
                    <a:pt x="298609" y="61436"/>
                  </a:cubicBezTo>
                  <a:cubicBezTo>
                    <a:pt x="292894" y="64294"/>
                    <a:pt x="289084" y="70009"/>
                    <a:pt x="290036" y="76676"/>
                  </a:cubicBezTo>
                  <a:cubicBezTo>
                    <a:pt x="290989" y="85249"/>
                    <a:pt x="298609" y="90964"/>
                    <a:pt x="306229" y="90011"/>
                  </a:cubicBezTo>
                  <a:cubicBezTo>
                    <a:pt x="314801" y="89059"/>
                    <a:pt x="320516" y="82391"/>
                    <a:pt x="320516" y="73819"/>
                  </a:cubicBezTo>
                  <a:cubicBezTo>
                    <a:pt x="319564" y="67151"/>
                    <a:pt x="314801" y="62389"/>
                    <a:pt x="309086" y="60484"/>
                  </a:cubicBezTo>
                  <a:cubicBezTo>
                    <a:pt x="309086" y="59531"/>
                    <a:pt x="309086" y="58579"/>
                    <a:pt x="308134" y="57626"/>
                  </a:cubicBezTo>
                  <a:cubicBezTo>
                    <a:pt x="306229" y="52864"/>
                    <a:pt x="310039" y="45244"/>
                    <a:pt x="311944" y="41434"/>
                  </a:cubicBezTo>
                  <a:lnTo>
                    <a:pt x="348139" y="38576"/>
                  </a:lnTo>
                  <a:cubicBezTo>
                    <a:pt x="348139" y="39529"/>
                    <a:pt x="349091" y="39529"/>
                    <a:pt x="349091" y="40481"/>
                  </a:cubicBezTo>
                  <a:cubicBezTo>
                    <a:pt x="353854" y="47149"/>
                    <a:pt x="352901" y="54769"/>
                    <a:pt x="350996" y="57626"/>
                  </a:cubicBezTo>
                  <a:cubicBezTo>
                    <a:pt x="345281" y="60484"/>
                    <a:pt x="341471" y="66199"/>
                    <a:pt x="342424" y="72866"/>
                  </a:cubicBezTo>
                  <a:cubicBezTo>
                    <a:pt x="343376" y="81439"/>
                    <a:pt x="350996" y="87154"/>
                    <a:pt x="358616" y="86201"/>
                  </a:cubicBezTo>
                  <a:cubicBezTo>
                    <a:pt x="367189" y="85249"/>
                    <a:pt x="372904" y="78581"/>
                    <a:pt x="372904" y="70009"/>
                  </a:cubicBezTo>
                  <a:cubicBezTo>
                    <a:pt x="371951" y="63341"/>
                    <a:pt x="367189" y="58579"/>
                    <a:pt x="361474" y="56674"/>
                  </a:cubicBezTo>
                  <a:cubicBezTo>
                    <a:pt x="361474" y="55721"/>
                    <a:pt x="361474" y="54769"/>
                    <a:pt x="360521" y="53816"/>
                  </a:cubicBezTo>
                  <a:cubicBezTo>
                    <a:pt x="358616" y="49054"/>
                    <a:pt x="362426" y="41434"/>
                    <a:pt x="365284" y="37624"/>
                  </a:cubicBezTo>
                  <a:lnTo>
                    <a:pt x="401479" y="34766"/>
                  </a:lnTo>
                  <a:cubicBezTo>
                    <a:pt x="401479" y="35719"/>
                    <a:pt x="402431" y="35719"/>
                    <a:pt x="402431" y="36671"/>
                  </a:cubicBezTo>
                  <a:cubicBezTo>
                    <a:pt x="407194" y="43339"/>
                    <a:pt x="406241" y="50959"/>
                    <a:pt x="404336" y="53816"/>
                  </a:cubicBezTo>
                  <a:cubicBezTo>
                    <a:pt x="398621" y="56674"/>
                    <a:pt x="394811" y="62389"/>
                    <a:pt x="395764" y="69056"/>
                  </a:cubicBezTo>
                  <a:cubicBezTo>
                    <a:pt x="396716" y="77629"/>
                    <a:pt x="404336" y="83344"/>
                    <a:pt x="411956" y="82391"/>
                  </a:cubicBezTo>
                  <a:cubicBezTo>
                    <a:pt x="420529" y="81439"/>
                    <a:pt x="426244" y="74771"/>
                    <a:pt x="426244" y="66199"/>
                  </a:cubicBezTo>
                  <a:cubicBezTo>
                    <a:pt x="425291" y="59531"/>
                    <a:pt x="420529" y="54769"/>
                    <a:pt x="414814" y="52864"/>
                  </a:cubicBezTo>
                  <a:cubicBezTo>
                    <a:pt x="414814" y="51911"/>
                    <a:pt x="414814" y="50959"/>
                    <a:pt x="413861" y="50006"/>
                  </a:cubicBezTo>
                  <a:cubicBezTo>
                    <a:pt x="411956" y="45244"/>
                    <a:pt x="415766" y="37624"/>
                    <a:pt x="417671" y="33814"/>
                  </a:cubicBezTo>
                  <a:lnTo>
                    <a:pt x="453866" y="30956"/>
                  </a:lnTo>
                  <a:cubicBezTo>
                    <a:pt x="453866" y="31909"/>
                    <a:pt x="454819" y="31909"/>
                    <a:pt x="454819" y="32861"/>
                  </a:cubicBezTo>
                  <a:cubicBezTo>
                    <a:pt x="459581" y="39529"/>
                    <a:pt x="458629" y="47149"/>
                    <a:pt x="456724" y="50006"/>
                  </a:cubicBezTo>
                  <a:cubicBezTo>
                    <a:pt x="451009" y="52864"/>
                    <a:pt x="447199" y="58579"/>
                    <a:pt x="447199" y="65246"/>
                  </a:cubicBezTo>
                  <a:cubicBezTo>
                    <a:pt x="448151" y="73819"/>
                    <a:pt x="455771" y="79534"/>
                    <a:pt x="463391" y="78581"/>
                  </a:cubicBezTo>
                  <a:cubicBezTo>
                    <a:pt x="471964" y="77629"/>
                    <a:pt x="477679" y="70961"/>
                    <a:pt x="477679" y="62389"/>
                  </a:cubicBezTo>
                  <a:cubicBezTo>
                    <a:pt x="476726" y="55721"/>
                    <a:pt x="471964" y="50959"/>
                    <a:pt x="466249" y="49054"/>
                  </a:cubicBezTo>
                  <a:cubicBezTo>
                    <a:pt x="466249" y="48101"/>
                    <a:pt x="466249" y="47149"/>
                    <a:pt x="465296" y="46196"/>
                  </a:cubicBezTo>
                  <a:cubicBezTo>
                    <a:pt x="463391" y="41434"/>
                    <a:pt x="467201" y="33814"/>
                    <a:pt x="469106" y="30004"/>
                  </a:cubicBezTo>
                  <a:lnTo>
                    <a:pt x="505301" y="27146"/>
                  </a:lnTo>
                  <a:cubicBezTo>
                    <a:pt x="505301" y="22384"/>
                    <a:pt x="505301" y="22384"/>
                    <a:pt x="506254" y="23336"/>
                  </a:cubicBez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7" name="任意多边形: 形状 20"/>
            <p:cNvSpPr/>
            <p:nvPr/>
          </p:nvSpPr>
          <p:spPr>
            <a:xfrm>
              <a:off x="6627240" y="7786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8" name="任意多边形: 形状 21"/>
            <p:cNvSpPr/>
            <p:nvPr/>
          </p:nvSpPr>
          <p:spPr>
            <a:xfrm>
              <a:off x="6490080" y="7912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1906"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399" name="任意多边形: 形状 22"/>
            <p:cNvSpPr/>
            <p:nvPr/>
          </p:nvSpPr>
          <p:spPr>
            <a:xfrm>
              <a:off x="6352920" y="801360"/>
              <a:ext cx="124560" cy="1146960"/>
            </a:xfrm>
            <a:custGeom>
              <a:avLst/>
              <a:gdLst>
                <a:gd name="textAreaLeft" fmla="*/ 0 w 124560"/>
                <a:gd name="textAreaRight" fmla="*/ 124920 w 124560"/>
                <a:gd name="textAreaTop" fmla="*/ 0 h 1146960"/>
                <a:gd name="textAreaBottom" fmla="*/ 1147320 h 1146960"/>
              </a:gdLst>
              <a:ahLst/>
              <a:rect l="textAreaLeft" t="textAreaTop" r="textAreaRight" b="textAreaBottom"/>
              <a:pathLst>
                <a:path w="47625"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0" name="任意多边形: 形状 23"/>
            <p:cNvSpPr/>
            <p:nvPr/>
          </p:nvSpPr>
          <p:spPr>
            <a:xfrm>
              <a:off x="6215760" y="81360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1906"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1" name="任意多边形: 形状 24"/>
            <p:cNvSpPr/>
            <p:nvPr/>
          </p:nvSpPr>
          <p:spPr>
            <a:xfrm>
              <a:off x="6078600" y="8236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2" name="任意多边形: 形状 25"/>
            <p:cNvSpPr/>
            <p:nvPr/>
          </p:nvSpPr>
          <p:spPr>
            <a:xfrm>
              <a:off x="5941440" y="8362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1906"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3" name="任意多边形: 形状 26"/>
            <p:cNvSpPr/>
            <p:nvPr/>
          </p:nvSpPr>
          <p:spPr>
            <a:xfrm>
              <a:off x="5804280" y="84636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4" name="任意多边形: 形状 27"/>
            <p:cNvSpPr/>
            <p:nvPr/>
          </p:nvSpPr>
          <p:spPr>
            <a:xfrm>
              <a:off x="5666760" y="85644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7735" y="8146"/>
                  </a:moveTo>
                  <a:lnTo>
                    <a:pt x="12480" y="7735"/>
                  </a:lnTo>
                  <a:lnTo>
                    <a:pt x="49931" y="439519"/>
                  </a:lnTo>
                  <a:lnTo>
                    <a:pt x="45186" y="439930"/>
                  </a:lnTo>
                  <a:lnTo>
                    <a:pt x="7735" y="8146"/>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5" name="任意多边形: 形状 28"/>
            <p:cNvSpPr/>
            <p:nvPr/>
          </p:nvSpPr>
          <p:spPr>
            <a:xfrm>
              <a:off x="5529960" y="86868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1906"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6" name="任意多边形: 形状 29"/>
            <p:cNvSpPr/>
            <p:nvPr/>
          </p:nvSpPr>
          <p:spPr>
            <a:xfrm>
              <a:off x="5392800" y="88092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1906"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7" name="任意多边形: 形状 30"/>
            <p:cNvSpPr/>
            <p:nvPr/>
          </p:nvSpPr>
          <p:spPr>
            <a:xfrm>
              <a:off x="5255640" y="89100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8096"/>
                  </a:lnTo>
                  <a:lnTo>
                    <a:pt x="12859" y="7144"/>
                  </a:lnTo>
                  <a:lnTo>
                    <a:pt x="50006" y="439579"/>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8" name="任意多边形: 形状 31"/>
            <p:cNvSpPr/>
            <p:nvPr/>
          </p:nvSpPr>
          <p:spPr>
            <a:xfrm>
              <a:off x="5118840" y="903600"/>
              <a:ext cx="149400" cy="1146960"/>
            </a:xfrm>
            <a:custGeom>
              <a:avLst/>
              <a:gdLst>
                <a:gd name="textAreaLeft" fmla="*/ 0 w 149400"/>
                <a:gd name="textAreaRight" fmla="*/ 149760 w 149400"/>
                <a:gd name="textAreaTop" fmla="*/ 0 h 1146960"/>
                <a:gd name="textAreaBottom" fmla="*/ 1147320 h 1146960"/>
              </a:gdLst>
              <a:ahLst/>
              <a:rect l="textAreaLeft" t="textAreaTop" r="textAreaRight" b="textAreaBottom"/>
              <a:pathLst>
                <a:path w="57150" h="438150">
                  <a:moveTo>
                    <a:pt x="44291" y="439579"/>
                  </a:moveTo>
                  <a:lnTo>
                    <a:pt x="7144" y="7144"/>
                  </a:lnTo>
                  <a:lnTo>
                    <a:pt x="12859" y="7144"/>
                  </a:lnTo>
                  <a:lnTo>
                    <a:pt x="50006" y="438626"/>
                  </a:lnTo>
                  <a:lnTo>
                    <a:pt x="44291" y="439579"/>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09" name="任意多边形: 形状 32"/>
            <p:cNvSpPr/>
            <p:nvPr/>
          </p:nvSpPr>
          <p:spPr>
            <a:xfrm>
              <a:off x="0" y="3479400"/>
              <a:ext cx="3615120" cy="2692800"/>
            </a:xfrm>
            <a:custGeom>
              <a:avLst/>
              <a:gdLst>
                <a:gd name="textAreaLeft" fmla="*/ 0 w 3615120"/>
                <a:gd name="textAreaRight" fmla="*/ 3615480 w 3615120"/>
                <a:gd name="textAreaTop" fmla="*/ 0 h 2692800"/>
                <a:gd name="textAreaBottom" fmla="*/ 2693160 h 2692800"/>
              </a:gdLst>
              <a:ahLst/>
              <a:rect l="textAreaLeft" t="textAreaTop" r="textAreaRight" b="textAreaBottom"/>
              <a:pathLst>
                <a:path w="1381125" h="1028700">
                  <a:moveTo>
                    <a:pt x="651986" y="168116"/>
                  </a:moveTo>
                  <a:lnTo>
                    <a:pt x="586264" y="294799"/>
                  </a:lnTo>
                  <a:cubicBezTo>
                    <a:pt x="518636" y="279559"/>
                    <a:pt x="436721" y="273844"/>
                    <a:pt x="407194" y="325279"/>
                  </a:cubicBezTo>
                  <a:lnTo>
                    <a:pt x="384334" y="310991"/>
                  </a:lnTo>
                  <a:lnTo>
                    <a:pt x="407194" y="277654"/>
                  </a:lnTo>
                  <a:lnTo>
                    <a:pt x="336709" y="229076"/>
                  </a:lnTo>
                  <a:lnTo>
                    <a:pt x="7144" y="7144"/>
                  </a:lnTo>
                  <a:lnTo>
                    <a:pt x="7144" y="284321"/>
                  </a:lnTo>
                  <a:lnTo>
                    <a:pt x="203359" y="423386"/>
                  </a:lnTo>
                  <a:lnTo>
                    <a:pt x="202406" y="424339"/>
                  </a:lnTo>
                  <a:lnTo>
                    <a:pt x="272891" y="472916"/>
                  </a:lnTo>
                  <a:lnTo>
                    <a:pt x="287179" y="451961"/>
                  </a:lnTo>
                  <a:lnTo>
                    <a:pt x="316706" y="470059"/>
                  </a:lnTo>
                  <a:cubicBezTo>
                    <a:pt x="316706" y="470059"/>
                    <a:pt x="300514" y="502444"/>
                    <a:pt x="361474" y="533876"/>
                  </a:cubicBezTo>
                  <a:lnTo>
                    <a:pt x="439579" y="574834"/>
                  </a:lnTo>
                  <a:lnTo>
                    <a:pt x="367189" y="713899"/>
                  </a:lnTo>
                  <a:lnTo>
                    <a:pt x="967264" y="1025366"/>
                  </a:lnTo>
                  <a:lnTo>
                    <a:pt x="1150144" y="987266"/>
                  </a:lnTo>
                  <a:lnTo>
                    <a:pt x="1378744" y="546259"/>
                  </a:lnTo>
                  <a:lnTo>
                    <a:pt x="651986" y="168116"/>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0" name="任意多边形: 形状 33"/>
            <p:cNvSpPr/>
            <p:nvPr/>
          </p:nvSpPr>
          <p:spPr>
            <a:xfrm>
              <a:off x="944640" y="3778560"/>
              <a:ext cx="2667600" cy="2269080"/>
            </a:xfrm>
            <a:custGeom>
              <a:avLst/>
              <a:gdLst>
                <a:gd name="textAreaLeft" fmla="*/ 0 w 2667600"/>
                <a:gd name="textAreaRight" fmla="*/ 2667960 w 2667600"/>
                <a:gd name="textAreaTop" fmla="*/ 0 h 2269080"/>
                <a:gd name="textAreaBottom" fmla="*/ 2269440 h 2269080"/>
              </a:gdLst>
              <a:ahLst/>
              <a:rect l="textAreaLeft" t="textAreaTop" r="textAreaRight" b="textAreaBottom"/>
              <a:pathLst>
                <a:path w="1019175" h="866775">
                  <a:moveTo>
                    <a:pt x="7144" y="552926"/>
                  </a:moveTo>
                  <a:lnTo>
                    <a:pt x="290989" y="7144"/>
                  </a:lnTo>
                  <a:lnTo>
                    <a:pt x="1019651" y="385286"/>
                  </a:lnTo>
                  <a:lnTo>
                    <a:pt x="790099" y="827246"/>
                  </a:lnTo>
                  <a:lnTo>
                    <a:pt x="608171" y="865346"/>
                  </a:lnTo>
                  <a:lnTo>
                    <a:pt x="7144" y="552926"/>
                  </a:ln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1" name="任意多边形: 形状 34"/>
            <p:cNvSpPr/>
            <p:nvPr/>
          </p:nvSpPr>
          <p:spPr>
            <a:xfrm>
              <a:off x="2518200" y="5751000"/>
              <a:ext cx="498600" cy="299160"/>
            </a:xfrm>
            <a:custGeom>
              <a:avLst/>
              <a:gdLst>
                <a:gd name="textAreaLeft" fmla="*/ 0 w 498600"/>
                <a:gd name="textAreaRight" fmla="*/ 498960 w 498600"/>
                <a:gd name="textAreaTop" fmla="*/ 0 h 299160"/>
                <a:gd name="textAreaBottom" fmla="*/ 299520 h 299160"/>
              </a:gdLst>
              <a:ahLst/>
              <a:rect l="textAreaLeft" t="textAreaTop" r="textAreaRight" b="textAreaBottom"/>
              <a:pathLst>
                <a:path w="190500" h="114300">
                  <a:moveTo>
                    <a:pt x="189071" y="73819"/>
                  </a:moveTo>
                  <a:lnTo>
                    <a:pt x="7144" y="111919"/>
                  </a:lnTo>
                  <a:lnTo>
                    <a:pt x="60484" y="7144"/>
                  </a:lnTo>
                  <a:lnTo>
                    <a:pt x="189071" y="73819"/>
                  </a:lnTo>
                  <a:close/>
                </a:path>
              </a:pathLst>
            </a:custGeom>
            <a:solidFill>
              <a:srgbClr val="5fb5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2" name="任意多边形: 形状 35"/>
            <p:cNvSpPr/>
            <p:nvPr/>
          </p:nvSpPr>
          <p:spPr>
            <a:xfrm>
              <a:off x="2793600" y="4769640"/>
              <a:ext cx="573120" cy="972360"/>
            </a:xfrm>
            <a:custGeom>
              <a:avLst/>
              <a:gdLst>
                <a:gd name="textAreaLeft" fmla="*/ 0 w 573120"/>
                <a:gd name="textAreaRight" fmla="*/ 573480 w 573120"/>
                <a:gd name="textAreaTop" fmla="*/ 0 h 972360"/>
                <a:gd name="textAreaBottom" fmla="*/ 972720 h 972360"/>
              </a:gdLst>
              <a:ahLst/>
              <a:rect l="textAreaLeft" t="textAreaTop" r="textAreaRight" b="textAreaBottom"/>
              <a:pathLst>
                <a:path w="219075" h="371475">
                  <a:moveTo>
                    <a:pt x="9631" y="356261"/>
                  </a:moveTo>
                  <a:lnTo>
                    <a:pt x="189507" y="9631"/>
                  </a:lnTo>
                  <a:lnTo>
                    <a:pt x="214870" y="22793"/>
                  </a:lnTo>
                  <a:lnTo>
                    <a:pt x="34994" y="369423"/>
                  </a:lnTo>
                  <a:lnTo>
                    <a:pt x="9631" y="35626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3" name="任意多边形: 形状 36"/>
            <p:cNvSpPr/>
            <p:nvPr/>
          </p:nvSpPr>
          <p:spPr>
            <a:xfrm>
              <a:off x="2603880" y="4672080"/>
              <a:ext cx="573120" cy="972360"/>
            </a:xfrm>
            <a:custGeom>
              <a:avLst/>
              <a:gdLst>
                <a:gd name="textAreaLeft" fmla="*/ 0 w 573120"/>
                <a:gd name="textAreaRight" fmla="*/ 573480 w 573120"/>
                <a:gd name="textAreaTop" fmla="*/ 0 h 972360"/>
                <a:gd name="textAreaBottom" fmla="*/ 972720 h 972360"/>
              </a:gdLst>
              <a:ahLst/>
              <a:rect l="textAreaLeft" t="textAreaTop" r="textAreaRight" b="textAreaBottom"/>
              <a:pathLst>
                <a:path w="219075" h="371475">
                  <a:moveTo>
                    <a:pt x="9631" y="356261"/>
                  </a:moveTo>
                  <a:lnTo>
                    <a:pt x="189507" y="9631"/>
                  </a:lnTo>
                  <a:lnTo>
                    <a:pt x="214870" y="22793"/>
                  </a:lnTo>
                  <a:lnTo>
                    <a:pt x="34994" y="369423"/>
                  </a:lnTo>
                  <a:lnTo>
                    <a:pt x="9631" y="35626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4" name="任意多边形: 形状 37"/>
            <p:cNvSpPr/>
            <p:nvPr/>
          </p:nvSpPr>
          <p:spPr>
            <a:xfrm>
              <a:off x="1952280" y="4402080"/>
              <a:ext cx="972360" cy="1196640"/>
            </a:xfrm>
            <a:custGeom>
              <a:avLst/>
              <a:gdLst>
                <a:gd name="textAreaLeft" fmla="*/ 0 w 972360"/>
                <a:gd name="textAreaRight" fmla="*/ 972720 w 972360"/>
                <a:gd name="textAreaTop" fmla="*/ 0 h 1196640"/>
                <a:gd name="textAreaBottom" fmla="*/ 1197000 h 1196640"/>
              </a:gdLst>
              <a:ahLst/>
              <a:rect l="textAreaLeft" t="textAreaTop" r="textAreaRight" b="textAreaBottom"/>
              <a:pathLst>
                <a:path w="371475" h="457200">
                  <a:moveTo>
                    <a:pt x="7144" y="448151"/>
                  </a:moveTo>
                  <a:lnTo>
                    <a:pt x="235744" y="7144"/>
                  </a:lnTo>
                  <a:lnTo>
                    <a:pt x="371951" y="78581"/>
                  </a:lnTo>
                  <a:lnTo>
                    <a:pt x="365284" y="92869"/>
                  </a:lnTo>
                  <a:lnTo>
                    <a:pt x="242411" y="29051"/>
                  </a:lnTo>
                  <a:lnTo>
                    <a:pt x="21431" y="455771"/>
                  </a:lnTo>
                  <a:lnTo>
                    <a:pt x="7144" y="44815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5" name="任意多边形: 形状 38"/>
            <p:cNvSpPr/>
            <p:nvPr/>
          </p:nvSpPr>
          <p:spPr>
            <a:xfrm>
              <a:off x="2286360" y="4533480"/>
              <a:ext cx="448560" cy="1246680"/>
            </a:xfrm>
            <a:custGeom>
              <a:avLst/>
              <a:gdLst>
                <a:gd name="textAreaLeft" fmla="*/ 0 w 448560"/>
                <a:gd name="textAreaRight" fmla="*/ 448920 w 448560"/>
                <a:gd name="textAreaTop" fmla="*/ 0 h 1246680"/>
                <a:gd name="textAreaBottom" fmla="*/ 1247040 h 1246680"/>
              </a:gdLst>
              <a:ahLst/>
              <a:rect l="textAreaLeft" t="textAreaTop" r="textAreaRight" b="textAreaBottom"/>
              <a:pathLst>
                <a:path w="171450" h="476250">
                  <a:moveTo>
                    <a:pt x="30956" y="459821"/>
                  </a:moveTo>
                  <a:cubicBezTo>
                    <a:pt x="30004" y="397909"/>
                    <a:pt x="28099" y="336949"/>
                    <a:pt x="27146" y="275036"/>
                  </a:cubicBezTo>
                  <a:cubicBezTo>
                    <a:pt x="50959" y="276941"/>
                    <a:pt x="73819" y="278846"/>
                    <a:pt x="97631" y="280751"/>
                  </a:cubicBezTo>
                  <a:cubicBezTo>
                    <a:pt x="103346" y="280751"/>
                    <a:pt x="107156" y="275036"/>
                    <a:pt x="107156" y="270274"/>
                  </a:cubicBezTo>
                  <a:cubicBezTo>
                    <a:pt x="105251" y="224554"/>
                    <a:pt x="103346" y="179786"/>
                    <a:pt x="100489" y="134066"/>
                  </a:cubicBezTo>
                  <a:cubicBezTo>
                    <a:pt x="118586" y="135971"/>
                    <a:pt x="135731" y="137876"/>
                    <a:pt x="153829" y="139782"/>
                  </a:cubicBezTo>
                  <a:cubicBezTo>
                    <a:pt x="161449" y="140734"/>
                    <a:pt x="168116" y="135019"/>
                    <a:pt x="165259" y="126446"/>
                  </a:cubicBezTo>
                  <a:cubicBezTo>
                    <a:pt x="155734" y="89299"/>
                    <a:pt x="146209" y="51199"/>
                    <a:pt x="136684" y="14051"/>
                  </a:cubicBezTo>
                  <a:cubicBezTo>
                    <a:pt x="133826" y="1669"/>
                    <a:pt x="113824" y="7384"/>
                    <a:pt x="117634" y="19766"/>
                  </a:cubicBezTo>
                  <a:cubicBezTo>
                    <a:pt x="126206" y="52151"/>
                    <a:pt x="134779" y="85489"/>
                    <a:pt x="142399" y="117874"/>
                  </a:cubicBezTo>
                  <a:cubicBezTo>
                    <a:pt x="125254" y="115969"/>
                    <a:pt x="109061" y="114064"/>
                    <a:pt x="91916" y="112159"/>
                  </a:cubicBezTo>
                  <a:cubicBezTo>
                    <a:pt x="85249" y="111207"/>
                    <a:pt x="79534" y="115016"/>
                    <a:pt x="79534" y="122636"/>
                  </a:cubicBezTo>
                  <a:cubicBezTo>
                    <a:pt x="81439" y="168357"/>
                    <a:pt x="83344" y="213124"/>
                    <a:pt x="86201" y="258844"/>
                  </a:cubicBezTo>
                  <a:cubicBezTo>
                    <a:pt x="63341" y="256939"/>
                    <a:pt x="39529" y="255034"/>
                    <a:pt x="16669" y="253129"/>
                  </a:cubicBezTo>
                  <a:cubicBezTo>
                    <a:pt x="10954" y="253129"/>
                    <a:pt x="7144" y="258844"/>
                    <a:pt x="7144" y="263607"/>
                  </a:cubicBezTo>
                  <a:cubicBezTo>
                    <a:pt x="8096" y="329329"/>
                    <a:pt x="10001" y="394099"/>
                    <a:pt x="10954" y="459821"/>
                  </a:cubicBezTo>
                  <a:cubicBezTo>
                    <a:pt x="10001" y="474109"/>
                    <a:pt x="30956" y="473157"/>
                    <a:pt x="30956" y="459821"/>
                  </a:cubicBez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6" name="任意多边形: 形状 39"/>
            <p:cNvSpPr/>
            <p:nvPr/>
          </p:nvSpPr>
          <p:spPr>
            <a:xfrm>
              <a:off x="1728360" y="4282920"/>
              <a:ext cx="698040" cy="1221840"/>
            </a:xfrm>
            <a:custGeom>
              <a:avLst/>
              <a:gdLst>
                <a:gd name="textAreaLeft" fmla="*/ 0 w 698040"/>
                <a:gd name="textAreaRight" fmla="*/ 698400 w 698040"/>
                <a:gd name="textAreaTop" fmla="*/ 0 h 1221840"/>
                <a:gd name="textAreaBottom" fmla="*/ 1222200 h 1221840"/>
              </a:gdLst>
              <a:ahLst/>
              <a:rect l="textAreaLeft" t="textAreaTop" r="textAreaRight" b="textAreaBottom"/>
              <a:pathLst>
                <a:path w="266700" h="466725">
                  <a:moveTo>
                    <a:pt x="9631" y="450950"/>
                  </a:moveTo>
                  <a:lnTo>
                    <a:pt x="238644" y="9631"/>
                  </a:lnTo>
                  <a:lnTo>
                    <a:pt x="264007" y="22793"/>
                  </a:lnTo>
                  <a:lnTo>
                    <a:pt x="34994" y="464112"/>
                  </a:lnTo>
                  <a:lnTo>
                    <a:pt x="9631" y="450950"/>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7" name="任意多边形: 形状 40"/>
            <p:cNvSpPr/>
            <p:nvPr/>
          </p:nvSpPr>
          <p:spPr>
            <a:xfrm>
              <a:off x="1536480" y="4183920"/>
              <a:ext cx="698040" cy="1221840"/>
            </a:xfrm>
            <a:custGeom>
              <a:avLst/>
              <a:gdLst>
                <a:gd name="textAreaLeft" fmla="*/ 0 w 698040"/>
                <a:gd name="textAreaRight" fmla="*/ 698400 w 698040"/>
                <a:gd name="textAreaTop" fmla="*/ 0 h 1221840"/>
                <a:gd name="textAreaBottom" fmla="*/ 1222200 h 1221840"/>
              </a:gdLst>
              <a:ahLst/>
              <a:rect l="textAreaLeft" t="textAreaTop" r="textAreaRight" b="textAreaBottom"/>
              <a:pathLst>
                <a:path w="266700" h="466725">
                  <a:moveTo>
                    <a:pt x="9631" y="450950"/>
                  </a:moveTo>
                  <a:lnTo>
                    <a:pt x="238644" y="9631"/>
                  </a:lnTo>
                  <a:lnTo>
                    <a:pt x="264007" y="22793"/>
                  </a:lnTo>
                  <a:lnTo>
                    <a:pt x="34994" y="464112"/>
                  </a:lnTo>
                  <a:lnTo>
                    <a:pt x="9631" y="450950"/>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8" name="任意多边形: 形状 41"/>
            <p:cNvSpPr/>
            <p:nvPr/>
          </p:nvSpPr>
          <p:spPr>
            <a:xfrm>
              <a:off x="1344600" y="4084920"/>
              <a:ext cx="698040" cy="1221840"/>
            </a:xfrm>
            <a:custGeom>
              <a:avLst/>
              <a:gdLst>
                <a:gd name="textAreaLeft" fmla="*/ 0 w 698040"/>
                <a:gd name="textAreaRight" fmla="*/ 698400 w 698040"/>
                <a:gd name="textAreaTop" fmla="*/ 0 h 1221840"/>
                <a:gd name="textAreaBottom" fmla="*/ 1222200 h 1221840"/>
              </a:gdLst>
              <a:ahLst/>
              <a:rect l="textAreaLeft" t="textAreaTop" r="textAreaRight" b="textAreaBottom"/>
              <a:pathLst>
                <a:path w="266700" h="466725">
                  <a:moveTo>
                    <a:pt x="9631" y="450950"/>
                  </a:moveTo>
                  <a:lnTo>
                    <a:pt x="238644" y="9631"/>
                  </a:lnTo>
                  <a:lnTo>
                    <a:pt x="264007" y="22793"/>
                  </a:lnTo>
                  <a:lnTo>
                    <a:pt x="34994" y="464112"/>
                  </a:lnTo>
                  <a:lnTo>
                    <a:pt x="9631" y="450950"/>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19" name="任意多边形: 形状 42"/>
            <p:cNvSpPr/>
            <p:nvPr/>
          </p:nvSpPr>
          <p:spPr>
            <a:xfrm>
              <a:off x="1153800" y="3983760"/>
              <a:ext cx="698040" cy="1221840"/>
            </a:xfrm>
            <a:custGeom>
              <a:avLst/>
              <a:gdLst>
                <a:gd name="textAreaLeft" fmla="*/ 0 w 698040"/>
                <a:gd name="textAreaRight" fmla="*/ 698400 w 698040"/>
                <a:gd name="textAreaTop" fmla="*/ 0 h 1221840"/>
                <a:gd name="textAreaBottom" fmla="*/ 1222200 h 1221840"/>
              </a:gdLst>
              <a:ahLst/>
              <a:rect l="textAreaLeft" t="textAreaTop" r="textAreaRight" b="textAreaBottom"/>
              <a:pathLst>
                <a:path w="266700" h="466725">
                  <a:moveTo>
                    <a:pt x="9631" y="450950"/>
                  </a:moveTo>
                  <a:lnTo>
                    <a:pt x="238644" y="9631"/>
                  </a:lnTo>
                  <a:lnTo>
                    <a:pt x="264007" y="22793"/>
                  </a:lnTo>
                  <a:lnTo>
                    <a:pt x="34994" y="464112"/>
                  </a:lnTo>
                  <a:lnTo>
                    <a:pt x="9631" y="450950"/>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0" name="任意多边形: 形状 43"/>
            <p:cNvSpPr/>
            <p:nvPr/>
          </p:nvSpPr>
          <p:spPr>
            <a:xfrm>
              <a:off x="650520" y="4080960"/>
              <a:ext cx="1595520" cy="1022040"/>
            </a:xfrm>
            <a:custGeom>
              <a:avLst/>
              <a:gdLst>
                <a:gd name="textAreaLeft" fmla="*/ 0 w 1595520"/>
                <a:gd name="textAreaRight" fmla="*/ 1595880 w 1595520"/>
                <a:gd name="textAreaTop" fmla="*/ 0 h 1022040"/>
                <a:gd name="textAreaBottom" fmla="*/ 1022400 h 1022040"/>
              </a:gdLst>
              <a:ahLst/>
              <a:rect l="textAreaLeft" t="textAreaTop" r="textAreaRight" b="textAreaBottom"/>
              <a:pathLst>
                <a:path w="609600" h="390525">
                  <a:moveTo>
                    <a:pt x="7144" y="156465"/>
                  </a:moveTo>
                  <a:lnTo>
                    <a:pt x="68104" y="193613"/>
                  </a:lnTo>
                  <a:cubicBezTo>
                    <a:pt x="68104" y="193613"/>
                    <a:pt x="51911" y="225998"/>
                    <a:pt x="112871" y="257430"/>
                  </a:cubicBezTo>
                  <a:lnTo>
                    <a:pt x="341471" y="378398"/>
                  </a:lnTo>
                  <a:cubicBezTo>
                    <a:pt x="341471" y="378398"/>
                    <a:pt x="361474" y="387923"/>
                    <a:pt x="371951" y="366967"/>
                  </a:cubicBezTo>
                  <a:cubicBezTo>
                    <a:pt x="380524" y="350775"/>
                    <a:pt x="357664" y="337440"/>
                    <a:pt x="357664" y="337440"/>
                  </a:cubicBezTo>
                  <a:cubicBezTo>
                    <a:pt x="357664" y="337440"/>
                    <a:pt x="280511" y="292673"/>
                    <a:pt x="282416" y="288863"/>
                  </a:cubicBezTo>
                  <a:cubicBezTo>
                    <a:pt x="289084" y="278385"/>
                    <a:pt x="471011" y="379350"/>
                    <a:pt x="478631" y="383160"/>
                  </a:cubicBezTo>
                  <a:cubicBezTo>
                    <a:pt x="491014" y="388875"/>
                    <a:pt x="508159" y="390780"/>
                    <a:pt x="517684" y="372682"/>
                  </a:cubicBezTo>
                  <a:cubicBezTo>
                    <a:pt x="529114" y="350775"/>
                    <a:pt x="508159" y="338392"/>
                    <a:pt x="500539" y="333630"/>
                  </a:cubicBezTo>
                  <a:cubicBezTo>
                    <a:pt x="492919" y="328867"/>
                    <a:pt x="319564" y="233617"/>
                    <a:pt x="314801" y="225045"/>
                  </a:cubicBezTo>
                  <a:cubicBezTo>
                    <a:pt x="310039" y="216473"/>
                    <a:pt x="566261" y="334582"/>
                    <a:pt x="566261" y="334582"/>
                  </a:cubicBezTo>
                  <a:cubicBezTo>
                    <a:pt x="566261" y="334582"/>
                    <a:pt x="593884" y="350775"/>
                    <a:pt x="606266" y="324105"/>
                  </a:cubicBezTo>
                  <a:cubicBezTo>
                    <a:pt x="618649" y="296482"/>
                    <a:pt x="592931" y="288863"/>
                    <a:pt x="578644" y="282195"/>
                  </a:cubicBezTo>
                  <a:cubicBezTo>
                    <a:pt x="564356" y="275527"/>
                    <a:pt x="356711" y="173610"/>
                    <a:pt x="350044" y="166942"/>
                  </a:cubicBezTo>
                  <a:cubicBezTo>
                    <a:pt x="342424" y="159323"/>
                    <a:pt x="564356" y="243142"/>
                    <a:pt x="564356" y="243142"/>
                  </a:cubicBezTo>
                  <a:cubicBezTo>
                    <a:pt x="564356" y="243142"/>
                    <a:pt x="588169" y="254573"/>
                    <a:pt x="597694" y="232665"/>
                  </a:cubicBezTo>
                  <a:cubicBezTo>
                    <a:pt x="607219" y="209805"/>
                    <a:pt x="572929" y="196470"/>
                    <a:pt x="572929" y="196470"/>
                  </a:cubicBezTo>
                  <a:lnTo>
                    <a:pt x="382429" y="95505"/>
                  </a:lnTo>
                  <a:lnTo>
                    <a:pt x="452914" y="104077"/>
                  </a:lnTo>
                  <a:cubicBezTo>
                    <a:pt x="452914" y="104077"/>
                    <a:pt x="478631" y="107888"/>
                    <a:pt x="482441" y="85027"/>
                  </a:cubicBezTo>
                  <a:cubicBezTo>
                    <a:pt x="486251" y="63120"/>
                    <a:pt x="454819" y="55500"/>
                    <a:pt x="431006" y="46927"/>
                  </a:cubicBezTo>
                  <a:cubicBezTo>
                    <a:pt x="411956" y="40260"/>
                    <a:pt x="205264" y="-39750"/>
                    <a:pt x="154781" y="47880"/>
                  </a:cubicBezTo>
                  <a:lnTo>
                    <a:pt x="91916" y="9780"/>
                  </a:lnTo>
                  <a:lnTo>
                    <a:pt x="7144" y="156465"/>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1" name="任意多边形: 形状 44"/>
            <p:cNvSpPr/>
            <p:nvPr/>
          </p:nvSpPr>
          <p:spPr>
            <a:xfrm>
              <a:off x="1494360" y="495072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7672" y="-32675"/>
                  </a:moveTo>
                  <a:cubicBezTo>
                    <a:pt x="7672" y="-32675"/>
                    <a:pt x="32437" y="-14577"/>
                    <a:pt x="-24527" y="-29817"/>
                  </a:cubicBezTo>
                  <a:cubicBezTo>
                    <a:pt x="-15954" y="21431"/>
                    <a:pt x="29579" y="11906"/>
                    <a:pt x="21007" y="7144"/>
                  </a:cubicBezTo>
                  <a:cubicBezTo>
                    <a:pt x="21959" y="7144"/>
                    <a:pt x="3862" y="13811"/>
                    <a:pt x="7672" y="-32675"/>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2" name="任意多边形: 形状 45"/>
            <p:cNvSpPr/>
            <p:nvPr/>
          </p:nvSpPr>
          <p:spPr>
            <a:xfrm>
              <a:off x="1850760" y="493560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7796" y="-25055"/>
                  </a:moveTo>
                  <a:cubicBezTo>
                    <a:pt x="7796" y="-25055"/>
                    <a:pt x="-25355" y="-1242"/>
                    <a:pt x="-13925" y="-20292"/>
                  </a:cubicBezTo>
                  <a:cubicBezTo>
                    <a:pt x="-2495" y="26194"/>
                    <a:pt x="-29165" y="13811"/>
                    <a:pt x="25894" y="7144"/>
                  </a:cubicBezTo>
                  <a:cubicBezTo>
                    <a:pt x="25894" y="7144"/>
                    <a:pt x="3034" y="15716"/>
                    <a:pt x="7796" y="-25055"/>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3" name="任意多边形: 形状 46"/>
            <p:cNvSpPr/>
            <p:nvPr/>
          </p:nvSpPr>
          <p:spPr>
            <a:xfrm>
              <a:off x="2086920" y="481572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8095" y="-24043"/>
                  </a:moveTo>
                  <a:cubicBezTo>
                    <a:pt x="8095" y="-24043"/>
                    <a:pt x="-24104" y="-2135"/>
                    <a:pt x="-13626" y="-22138"/>
                  </a:cubicBezTo>
                  <a:cubicBezTo>
                    <a:pt x="-3149" y="23395"/>
                    <a:pt x="-29819" y="12918"/>
                    <a:pt x="24287" y="7203"/>
                  </a:cubicBezTo>
                  <a:cubicBezTo>
                    <a:pt x="24287" y="6251"/>
                    <a:pt x="2380" y="16728"/>
                    <a:pt x="8095" y="-24043"/>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4" name="任意多边形: 形状 47"/>
            <p:cNvSpPr/>
            <p:nvPr/>
          </p:nvSpPr>
          <p:spPr>
            <a:xfrm>
              <a:off x="2064240" y="458136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8131" y="-25948"/>
                  </a:moveTo>
                  <a:cubicBezTo>
                    <a:pt x="8131" y="-25948"/>
                    <a:pt x="-25020" y="-5945"/>
                    <a:pt x="-15495" y="-24043"/>
                  </a:cubicBezTo>
                  <a:cubicBezTo>
                    <a:pt x="-5970" y="22443"/>
                    <a:pt x="-31687" y="12918"/>
                    <a:pt x="23371" y="7203"/>
                  </a:cubicBezTo>
                  <a:cubicBezTo>
                    <a:pt x="23371" y="6251"/>
                    <a:pt x="2416" y="16728"/>
                    <a:pt x="8131" y="-25948"/>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5" name="任意多边形: 形状 48"/>
            <p:cNvSpPr/>
            <p:nvPr/>
          </p:nvSpPr>
          <p:spPr>
            <a:xfrm>
              <a:off x="1764000" y="421740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11327" y="45244"/>
                  </a:moveTo>
                  <a:cubicBezTo>
                    <a:pt x="11327" y="45244"/>
                    <a:pt x="49427" y="57626"/>
                    <a:pt x="54190" y="35719"/>
                  </a:cubicBezTo>
                  <a:cubicBezTo>
                    <a:pt x="58952" y="13811"/>
                    <a:pt x="30377" y="10001"/>
                    <a:pt x="17995" y="7144"/>
                  </a:cubicBezTo>
                  <a:cubicBezTo>
                    <a:pt x="17995" y="7144"/>
                    <a:pt x="-1055" y="22384"/>
                    <a:pt x="11327" y="452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6" name="任意多边形: 形状 49"/>
            <p:cNvSpPr/>
            <p:nvPr/>
          </p:nvSpPr>
          <p:spPr>
            <a:xfrm>
              <a:off x="0" y="3357360"/>
              <a:ext cx="1072080" cy="1246680"/>
            </a:xfrm>
            <a:custGeom>
              <a:avLst/>
              <a:gdLst>
                <a:gd name="textAreaLeft" fmla="*/ 0 w 1072080"/>
                <a:gd name="textAreaRight" fmla="*/ 1072440 w 1072080"/>
                <a:gd name="textAreaTop" fmla="*/ 0 h 1246680"/>
                <a:gd name="textAreaBottom" fmla="*/ 1247040 h 1246680"/>
              </a:gdLst>
              <a:ahLst/>
              <a:rect l="textAreaLeft" t="textAreaTop" r="textAreaRight" b="textAreaBottom"/>
              <a:pathLst>
                <a:path w="409575" h="476250">
                  <a:moveTo>
                    <a:pt x="7144" y="7144"/>
                  </a:moveTo>
                  <a:lnTo>
                    <a:pt x="7144" y="284321"/>
                  </a:lnTo>
                  <a:lnTo>
                    <a:pt x="272891" y="472916"/>
                  </a:lnTo>
                  <a:lnTo>
                    <a:pt x="407194" y="277654"/>
                  </a:lnTo>
                  <a:lnTo>
                    <a:pt x="7144" y="7144"/>
                  </a:lnTo>
                  <a:close/>
                </a:path>
              </a:pathLst>
            </a:custGeom>
            <a:solidFill>
              <a:srgbClr val="f8c44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7" name="任意多边形: 形状 50"/>
            <p:cNvSpPr/>
            <p:nvPr/>
          </p:nvSpPr>
          <p:spPr>
            <a:xfrm>
              <a:off x="504360" y="3934440"/>
              <a:ext cx="573120" cy="673200"/>
            </a:xfrm>
            <a:custGeom>
              <a:avLst/>
              <a:gdLst>
                <a:gd name="textAreaLeft" fmla="*/ 0 w 573120"/>
                <a:gd name="textAreaRight" fmla="*/ 573480 w 573120"/>
                <a:gd name="textAreaTop" fmla="*/ 0 h 673200"/>
                <a:gd name="textAreaBottom" fmla="*/ 673560 h 673200"/>
              </a:gdLst>
              <a:ahLst/>
              <a:rect l="textAreaLeft" t="textAreaTop" r="textAreaRight" b="textAreaBottom"/>
              <a:pathLst>
                <a:path w="219075" h="257175">
                  <a:moveTo>
                    <a:pt x="9930" y="204788"/>
                  </a:moveTo>
                  <a:lnTo>
                    <a:pt x="143442" y="9930"/>
                  </a:lnTo>
                  <a:lnTo>
                    <a:pt x="213371" y="57844"/>
                  </a:lnTo>
                  <a:lnTo>
                    <a:pt x="79859" y="252702"/>
                  </a:lnTo>
                  <a:lnTo>
                    <a:pt x="9930" y="204788"/>
                  </a:lnTo>
                  <a:close/>
                </a:path>
              </a:pathLst>
            </a:custGeom>
            <a:solidFill>
              <a:srgbClr val="f9a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8" name="任意多边形: 形状 51"/>
            <p:cNvSpPr/>
            <p:nvPr/>
          </p:nvSpPr>
          <p:spPr>
            <a:xfrm>
              <a:off x="858960" y="402948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30360" y="10411"/>
                  </a:moveTo>
                  <a:cubicBezTo>
                    <a:pt x="26603" y="4695"/>
                    <a:pt x="16126" y="6601"/>
                    <a:pt x="10411" y="15173"/>
                  </a:cubicBezTo>
                  <a:cubicBezTo>
                    <a:pt x="4696" y="23745"/>
                    <a:pt x="6601" y="-31313"/>
                    <a:pt x="15173" y="-25598"/>
                  </a:cubicBezTo>
                  <a:cubicBezTo>
                    <a:pt x="23746" y="-19883"/>
                    <a:pt x="-31313" y="-21788"/>
                    <a:pt x="-25598" y="-30360"/>
                  </a:cubicBezTo>
                  <a:cubicBezTo>
                    <a:pt x="-19883" y="26603"/>
                    <a:pt x="-22740" y="16126"/>
                    <a:pt x="-30360" y="10411"/>
                  </a:cubicBezTo>
                  <a:close/>
                </a:path>
              </a:pathLst>
            </a:custGeom>
            <a:solidFill>
              <a:srgbClr val="f8ff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29" name="任意多边形: 形状 52"/>
            <p:cNvSpPr/>
            <p:nvPr/>
          </p:nvSpPr>
          <p:spPr>
            <a:xfrm>
              <a:off x="0" y="1083240"/>
              <a:ext cx="3216240" cy="1570680"/>
            </a:xfrm>
            <a:custGeom>
              <a:avLst/>
              <a:gdLst>
                <a:gd name="textAreaLeft" fmla="*/ 0 w 3216240"/>
                <a:gd name="textAreaRight" fmla="*/ 3216600 w 3216240"/>
                <a:gd name="textAreaTop" fmla="*/ 0 h 1570680"/>
                <a:gd name="textAreaBottom" fmla="*/ 1571040 h 1570680"/>
              </a:gdLst>
              <a:ahLst/>
              <a:rect l="textAreaLeft" t="textAreaTop" r="textAreaRight" b="textAreaBottom"/>
              <a:pathLst>
                <a:path w="1228725" h="600075">
                  <a:moveTo>
                    <a:pt x="211931" y="369094"/>
                  </a:moveTo>
                  <a:lnTo>
                    <a:pt x="211931" y="347186"/>
                  </a:lnTo>
                  <a:lnTo>
                    <a:pt x="256699" y="351949"/>
                  </a:lnTo>
                  <a:cubicBezTo>
                    <a:pt x="251936" y="391954"/>
                    <a:pt x="392906" y="435769"/>
                    <a:pt x="458629" y="452914"/>
                  </a:cubicBezTo>
                  <a:lnTo>
                    <a:pt x="458629" y="534829"/>
                  </a:lnTo>
                  <a:cubicBezTo>
                    <a:pt x="458629" y="569119"/>
                    <a:pt x="486251" y="596741"/>
                    <a:pt x="520541" y="596741"/>
                  </a:cubicBezTo>
                  <a:lnTo>
                    <a:pt x="1164431" y="596741"/>
                  </a:lnTo>
                  <a:cubicBezTo>
                    <a:pt x="1198721" y="596741"/>
                    <a:pt x="1226344" y="569119"/>
                    <a:pt x="1226344" y="534829"/>
                  </a:cubicBezTo>
                  <a:lnTo>
                    <a:pt x="1226344" y="69056"/>
                  </a:lnTo>
                  <a:cubicBezTo>
                    <a:pt x="1226344" y="34766"/>
                    <a:pt x="1198721" y="7144"/>
                    <a:pt x="1164431" y="7144"/>
                  </a:cubicBezTo>
                  <a:lnTo>
                    <a:pt x="519589" y="7144"/>
                  </a:lnTo>
                  <a:cubicBezTo>
                    <a:pt x="485299" y="7144"/>
                    <a:pt x="457676" y="34766"/>
                    <a:pt x="457676" y="69056"/>
                  </a:cubicBezTo>
                  <a:lnTo>
                    <a:pt x="457676" y="152876"/>
                  </a:lnTo>
                  <a:lnTo>
                    <a:pt x="313849" y="148114"/>
                  </a:lnTo>
                  <a:cubicBezTo>
                    <a:pt x="250984" y="146209"/>
                    <a:pt x="250031" y="178594"/>
                    <a:pt x="250031" y="178594"/>
                  </a:cubicBezTo>
                  <a:lnTo>
                    <a:pt x="210979" y="175736"/>
                  </a:lnTo>
                  <a:lnTo>
                    <a:pt x="210979" y="132874"/>
                  </a:lnTo>
                  <a:lnTo>
                    <a:pt x="126206" y="132874"/>
                  </a:lnTo>
                  <a:lnTo>
                    <a:pt x="7144" y="132874"/>
                  </a:lnTo>
                  <a:lnTo>
                    <a:pt x="7144" y="369094"/>
                  </a:lnTo>
                  <a:lnTo>
                    <a:pt x="126206" y="369094"/>
                  </a:lnTo>
                  <a:lnTo>
                    <a:pt x="211931" y="369094"/>
                  </a:lnTo>
                  <a:close/>
                  <a:moveTo>
                    <a:pt x="458629" y="395764"/>
                  </a:moveTo>
                  <a:lnTo>
                    <a:pt x="458629" y="395764"/>
                  </a:lnTo>
                  <a:lnTo>
                    <a:pt x="456724" y="395764"/>
                  </a:lnTo>
                  <a:lnTo>
                    <a:pt x="458629" y="395764"/>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0" name="任意多边形: 形状 53"/>
            <p:cNvSpPr/>
            <p:nvPr/>
          </p:nvSpPr>
          <p:spPr>
            <a:xfrm>
              <a:off x="1179000" y="960840"/>
              <a:ext cx="2044440" cy="1570680"/>
            </a:xfrm>
            <a:custGeom>
              <a:avLst/>
              <a:gdLst>
                <a:gd name="textAreaLeft" fmla="*/ 0 w 2044440"/>
                <a:gd name="textAreaRight" fmla="*/ 2044800 w 2044440"/>
                <a:gd name="textAreaTop" fmla="*/ 0 h 1570680"/>
                <a:gd name="textAreaBottom" fmla="*/ 1571040 h 1570680"/>
              </a:gdLst>
              <a:ahLst/>
              <a:rect l="textAreaLeft" t="textAreaTop" r="textAreaRight" b="textAreaBottom"/>
              <a:pathLst>
                <a:path w="781050" h="600075">
                  <a:moveTo>
                    <a:pt x="69056" y="596741"/>
                  </a:moveTo>
                  <a:cubicBezTo>
                    <a:pt x="34766" y="596741"/>
                    <a:pt x="7144" y="569119"/>
                    <a:pt x="7144" y="534829"/>
                  </a:cubicBezTo>
                  <a:lnTo>
                    <a:pt x="7144" y="69056"/>
                  </a:lnTo>
                  <a:cubicBezTo>
                    <a:pt x="7144" y="34766"/>
                    <a:pt x="34766" y="7144"/>
                    <a:pt x="69056" y="7144"/>
                  </a:cubicBezTo>
                  <a:lnTo>
                    <a:pt x="712946" y="7144"/>
                  </a:lnTo>
                  <a:cubicBezTo>
                    <a:pt x="747236" y="7144"/>
                    <a:pt x="774859" y="34766"/>
                    <a:pt x="774859" y="69056"/>
                  </a:cubicBezTo>
                  <a:lnTo>
                    <a:pt x="774859" y="534829"/>
                  </a:lnTo>
                  <a:cubicBezTo>
                    <a:pt x="774859" y="569119"/>
                    <a:pt x="747236" y="596741"/>
                    <a:pt x="712946" y="596741"/>
                  </a:cubicBezTo>
                  <a:lnTo>
                    <a:pt x="69056" y="596741"/>
                  </a:lnTo>
                  <a:close/>
                </a:path>
              </a:pathLst>
            </a:custGeom>
            <a:solidFill>
              <a:srgbClr val="44546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1" name="任意多边形: 形状 54"/>
            <p:cNvSpPr/>
            <p:nvPr/>
          </p:nvSpPr>
          <p:spPr>
            <a:xfrm>
              <a:off x="1428480" y="1110600"/>
              <a:ext cx="1645560" cy="1271520"/>
            </a:xfrm>
            <a:custGeom>
              <a:avLst/>
              <a:gdLst>
                <a:gd name="textAreaLeft" fmla="*/ 0 w 1645560"/>
                <a:gd name="textAreaRight" fmla="*/ 1645920 w 1645560"/>
                <a:gd name="textAreaTop" fmla="*/ 0 h 1271520"/>
                <a:gd name="textAreaBottom" fmla="*/ 1271880 h 1271520"/>
              </a:gdLst>
              <a:ahLst/>
              <a:rect l="textAreaLeft" t="textAreaTop" r="textAreaRight" b="textAreaBottom"/>
              <a:pathLst>
                <a:path w="628650" h="485775">
                  <a:moveTo>
                    <a:pt x="69056" y="483394"/>
                  </a:moveTo>
                  <a:cubicBezTo>
                    <a:pt x="34766" y="483394"/>
                    <a:pt x="7144" y="455771"/>
                    <a:pt x="7144" y="421481"/>
                  </a:cubicBezTo>
                  <a:lnTo>
                    <a:pt x="7144" y="69056"/>
                  </a:lnTo>
                  <a:cubicBezTo>
                    <a:pt x="7144" y="34766"/>
                    <a:pt x="34766" y="7144"/>
                    <a:pt x="69056" y="7144"/>
                  </a:cubicBezTo>
                  <a:lnTo>
                    <a:pt x="564356" y="7144"/>
                  </a:lnTo>
                  <a:cubicBezTo>
                    <a:pt x="598646" y="7144"/>
                    <a:pt x="626269" y="34766"/>
                    <a:pt x="626269" y="69056"/>
                  </a:cubicBezTo>
                  <a:lnTo>
                    <a:pt x="626269" y="421481"/>
                  </a:lnTo>
                  <a:cubicBezTo>
                    <a:pt x="626269" y="455771"/>
                    <a:pt x="598646" y="483394"/>
                    <a:pt x="564356" y="483394"/>
                  </a:cubicBezTo>
                  <a:lnTo>
                    <a:pt x="69056" y="483394"/>
                  </a:ln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2" name="任意多边形: 形状 55"/>
            <p:cNvSpPr/>
            <p:nvPr/>
          </p:nvSpPr>
          <p:spPr>
            <a:xfrm>
              <a:off x="1246320" y="167400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12672" y="30004"/>
                  </a:moveTo>
                  <a:cubicBezTo>
                    <a:pt x="-12672" y="-22907"/>
                    <a:pt x="-22907" y="-12672"/>
                    <a:pt x="30004" y="-12672"/>
                  </a:cubicBezTo>
                  <a:cubicBezTo>
                    <a:pt x="17378" y="-12672"/>
                    <a:pt x="7144" y="-22907"/>
                    <a:pt x="7144" y="30004"/>
                  </a:cubicBezTo>
                  <a:cubicBezTo>
                    <a:pt x="7144" y="17379"/>
                    <a:pt x="17378" y="7144"/>
                    <a:pt x="30004" y="7144"/>
                  </a:cubicBezTo>
                  <a:cubicBezTo>
                    <a:pt x="-22907" y="7144"/>
                    <a:pt x="-12672" y="17379"/>
                    <a:pt x="-12672" y="30004"/>
                  </a:cubicBez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3" name="任意多边形: 形状 56"/>
            <p:cNvSpPr/>
            <p:nvPr/>
          </p:nvSpPr>
          <p:spPr>
            <a:xfrm>
              <a:off x="2505600" y="1277640"/>
              <a:ext cx="423720" cy="922320"/>
            </a:xfrm>
            <a:custGeom>
              <a:avLst/>
              <a:gdLst>
                <a:gd name="textAreaLeft" fmla="*/ 0 w 423720"/>
                <a:gd name="textAreaRight" fmla="*/ 424080 w 423720"/>
                <a:gd name="textAreaTop" fmla="*/ 0 h 922320"/>
                <a:gd name="textAreaBottom" fmla="*/ 922680 h 922320"/>
              </a:gdLst>
              <a:ahLst/>
              <a:rect l="textAreaLeft" t="textAreaTop" r="textAreaRight" b="textAreaBottom"/>
              <a:pathLst>
                <a:path w="161925" h="352425">
                  <a:moveTo>
                    <a:pt x="7144" y="7144"/>
                  </a:moveTo>
                  <a:lnTo>
                    <a:pt x="160496" y="7144"/>
                  </a:lnTo>
                  <a:lnTo>
                    <a:pt x="160496" y="353854"/>
                  </a:lnTo>
                  <a:lnTo>
                    <a:pt x="7144" y="353854"/>
                  </a:lnTo>
                  <a:lnTo>
                    <a:pt x="7144" y="7144"/>
                  </a:lnTo>
                  <a:close/>
                </a:path>
              </a:pathLst>
            </a:custGeom>
            <a:solidFill>
              <a:srgbClr val="5fb5e8"/>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4" name="任意多边形: 形状 57"/>
            <p:cNvSpPr/>
            <p:nvPr/>
          </p:nvSpPr>
          <p:spPr>
            <a:xfrm>
              <a:off x="228636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5" name="任意多边形: 形状 58"/>
            <p:cNvSpPr/>
            <p:nvPr/>
          </p:nvSpPr>
          <p:spPr>
            <a:xfrm>
              <a:off x="211680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6" name="任意多边形: 形状 59"/>
            <p:cNvSpPr/>
            <p:nvPr/>
          </p:nvSpPr>
          <p:spPr>
            <a:xfrm>
              <a:off x="194724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7" name="任意多边形: 形状 60"/>
            <p:cNvSpPr/>
            <p:nvPr/>
          </p:nvSpPr>
          <p:spPr>
            <a:xfrm>
              <a:off x="177516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8" name="任意多边形: 形状 61"/>
            <p:cNvSpPr/>
            <p:nvPr/>
          </p:nvSpPr>
          <p:spPr>
            <a:xfrm>
              <a:off x="1605600" y="1277640"/>
              <a:ext cx="124560" cy="922320"/>
            </a:xfrm>
            <a:custGeom>
              <a:avLst/>
              <a:gdLst>
                <a:gd name="textAreaLeft" fmla="*/ 0 w 124560"/>
                <a:gd name="textAreaRight" fmla="*/ 124920 w 124560"/>
                <a:gd name="textAreaTop" fmla="*/ 0 h 922320"/>
                <a:gd name="textAreaBottom" fmla="*/ 922680 h 922320"/>
              </a:gdLst>
              <a:ahLst/>
              <a:rect l="textAreaLeft" t="textAreaTop" r="textAreaRight" b="textAreaBottom"/>
              <a:pathLst>
                <a:path w="47625" h="352425">
                  <a:moveTo>
                    <a:pt x="7144" y="7144"/>
                  </a:moveTo>
                  <a:lnTo>
                    <a:pt x="43339" y="7144"/>
                  </a:lnTo>
                  <a:lnTo>
                    <a:pt x="43339" y="353854"/>
                  </a:lnTo>
                  <a:lnTo>
                    <a:pt x="7144" y="353854"/>
                  </a:lnTo>
                  <a:lnTo>
                    <a:pt x="7144" y="714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39" name="任意多边形: 形状 62"/>
            <p:cNvSpPr/>
            <p:nvPr/>
          </p:nvSpPr>
          <p:spPr>
            <a:xfrm>
              <a:off x="446040" y="1329840"/>
              <a:ext cx="1371240" cy="847800"/>
            </a:xfrm>
            <a:custGeom>
              <a:avLst/>
              <a:gdLst>
                <a:gd name="textAreaLeft" fmla="*/ 0 w 1371240"/>
                <a:gd name="textAreaRight" fmla="*/ 1371600 w 1371240"/>
                <a:gd name="textAreaTop" fmla="*/ 0 h 847800"/>
                <a:gd name="textAreaBottom" fmla="*/ 848160 h 847800"/>
              </a:gdLst>
              <a:ahLst/>
              <a:rect l="textAreaLeft" t="textAreaTop" r="textAreaRight" b="textAreaBottom"/>
              <a:pathLst>
                <a:path w="523875" h="323850">
                  <a:moveTo>
                    <a:pt x="19526" y="33895"/>
                  </a:moveTo>
                  <a:lnTo>
                    <a:pt x="80486" y="37705"/>
                  </a:lnTo>
                  <a:cubicBezTo>
                    <a:pt x="80486" y="37705"/>
                    <a:pt x="81439" y="5320"/>
                    <a:pt x="144304" y="7225"/>
                  </a:cubicBezTo>
                  <a:lnTo>
                    <a:pt x="344329" y="13892"/>
                  </a:lnTo>
                  <a:cubicBezTo>
                    <a:pt x="344329" y="13892"/>
                    <a:pt x="364331" y="15797"/>
                    <a:pt x="363379" y="35800"/>
                  </a:cubicBezTo>
                  <a:cubicBezTo>
                    <a:pt x="362426" y="52945"/>
                    <a:pt x="339566" y="52945"/>
                    <a:pt x="339566" y="52945"/>
                  </a:cubicBezTo>
                  <a:cubicBezTo>
                    <a:pt x="339566" y="52945"/>
                    <a:pt x="291941" y="53897"/>
                    <a:pt x="291941" y="57707"/>
                  </a:cubicBezTo>
                  <a:cubicBezTo>
                    <a:pt x="292894" y="69137"/>
                    <a:pt x="379571" y="71042"/>
                    <a:pt x="388144" y="71042"/>
                  </a:cubicBezTo>
                  <a:cubicBezTo>
                    <a:pt x="400526" y="71995"/>
                    <a:pt x="414814" y="78662"/>
                    <a:pt x="414814" y="96760"/>
                  </a:cubicBezTo>
                  <a:cubicBezTo>
                    <a:pt x="413861" y="119620"/>
                    <a:pt x="391954" y="119620"/>
                    <a:pt x="384334" y="119620"/>
                  </a:cubicBezTo>
                  <a:cubicBezTo>
                    <a:pt x="376714" y="119620"/>
                    <a:pt x="298609" y="117715"/>
                    <a:pt x="290989" y="121525"/>
                  </a:cubicBezTo>
                  <a:cubicBezTo>
                    <a:pt x="283369" y="126287"/>
                    <a:pt x="416719" y="137717"/>
                    <a:pt x="416719" y="137717"/>
                  </a:cubicBezTo>
                  <a:cubicBezTo>
                    <a:pt x="416719" y="137717"/>
                    <a:pt x="446246" y="136765"/>
                    <a:pt x="443389" y="164387"/>
                  </a:cubicBezTo>
                  <a:cubicBezTo>
                    <a:pt x="441484" y="191057"/>
                    <a:pt x="417671" y="186295"/>
                    <a:pt x="403384" y="185342"/>
                  </a:cubicBezTo>
                  <a:cubicBezTo>
                    <a:pt x="389096" y="184390"/>
                    <a:pt x="302419" y="181532"/>
                    <a:pt x="293846" y="183437"/>
                  </a:cubicBezTo>
                  <a:cubicBezTo>
                    <a:pt x="285274" y="186295"/>
                    <a:pt x="495776" y="218680"/>
                    <a:pt x="495776" y="218680"/>
                  </a:cubicBezTo>
                  <a:cubicBezTo>
                    <a:pt x="495776" y="218680"/>
                    <a:pt x="519589" y="220585"/>
                    <a:pt x="516731" y="241540"/>
                  </a:cubicBezTo>
                  <a:cubicBezTo>
                    <a:pt x="513874" y="264400"/>
                    <a:pt x="481489" y="258685"/>
                    <a:pt x="481489" y="258685"/>
                  </a:cubicBezTo>
                  <a:lnTo>
                    <a:pt x="287179" y="253922"/>
                  </a:lnTo>
                  <a:lnTo>
                    <a:pt x="363379" y="283450"/>
                  </a:lnTo>
                  <a:cubicBezTo>
                    <a:pt x="363379" y="283450"/>
                    <a:pt x="385286" y="292022"/>
                    <a:pt x="378619" y="312025"/>
                  </a:cubicBezTo>
                  <a:cubicBezTo>
                    <a:pt x="370999" y="331075"/>
                    <a:pt x="344329" y="323455"/>
                    <a:pt x="321469" y="318692"/>
                  </a:cubicBezTo>
                  <a:cubicBezTo>
                    <a:pt x="303371" y="315835"/>
                    <a:pt x="81439" y="259637"/>
                    <a:pt x="88106" y="210107"/>
                  </a:cubicBezTo>
                  <a:lnTo>
                    <a:pt x="7144" y="201535"/>
                  </a:lnTo>
                  <a:lnTo>
                    <a:pt x="19526" y="33895"/>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0" name="任意多边形: 形状 63"/>
            <p:cNvSpPr/>
            <p:nvPr/>
          </p:nvSpPr>
          <p:spPr>
            <a:xfrm>
              <a:off x="1648080" y="1890720"/>
              <a:ext cx="124560" cy="99720"/>
            </a:xfrm>
            <a:custGeom>
              <a:avLst/>
              <a:gdLst>
                <a:gd name="textAreaLeft" fmla="*/ 0 w 124560"/>
                <a:gd name="textAreaRight" fmla="*/ 124920 w 124560"/>
                <a:gd name="textAreaTop" fmla="*/ 0 h 99720"/>
                <a:gd name="textAreaBottom" fmla="*/ 100080 h 99720"/>
              </a:gdLst>
              <a:ahLst/>
              <a:rect l="textAreaLeft" t="textAreaTop" r="textAreaRight" b="textAreaBottom"/>
              <a:pathLst>
                <a:path w="47625" h="38100">
                  <a:moveTo>
                    <a:pt x="14746" y="7197"/>
                  </a:moveTo>
                  <a:cubicBezTo>
                    <a:pt x="14746" y="7197"/>
                    <a:pt x="49036" y="5292"/>
                    <a:pt x="48084" y="24342"/>
                  </a:cubicBezTo>
                  <a:cubicBezTo>
                    <a:pt x="48084" y="43392"/>
                    <a:pt x="22366" y="40534"/>
                    <a:pt x="11889" y="39582"/>
                  </a:cubicBezTo>
                  <a:cubicBezTo>
                    <a:pt x="11889" y="39582"/>
                    <a:pt x="-494" y="22437"/>
                    <a:pt x="14746" y="7197"/>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1" name="任意多边形: 形状 64"/>
            <p:cNvSpPr/>
            <p:nvPr/>
          </p:nvSpPr>
          <p:spPr>
            <a:xfrm>
              <a:off x="1291680" y="205056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20400" y="7144"/>
                  </a:moveTo>
                  <a:cubicBezTo>
                    <a:pt x="20400" y="7144"/>
                    <a:pt x="-9894" y="14764"/>
                    <a:pt x="-15609" y="-31722"/>
                  </a:cubicBezTo>
                  <a:cubicBezTo>
                    <a:pt x="-21324" y="-12672"/>
                    <a:pt x="19447" y="-22197"/>
                    <a:pt x="8970" y="-25055"/>
                  </a:cubicBezTo>
                  <a:cubicBezTo>
                    <a:pt x="8970" y="-25055"/>
                    <a:pt x="397" y="19526"/>
                    <a:pt x="20400"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2" name="任意多边形: 形状 65"/>
            <p:cNvSpPr/>
            <p:nvPr/>
          </p:nvSpPr>
          <p:spPr>
            <a:xfrm>
              <a:off x="0" y="1289880"/>
              <a:ext cx="573120" cy="648000"/>
            </a:xfrm>
            <a:custGeom>
              <a:avLst/>
              <a:gdLst>
                <a:gd name="textAreaLeft" fmla="*/ 0 w 573120"/>
                <a:gd name="textAreaRight" fmla="*/ 573480 w 573120"/>
                <a:gd name="textAreaTop" fmla="*/ 0 h 648000"/>
                <a:gd name="textAreaBottom" fmla="*/ 648360 h 648000"/>
              </a:gdLst>
              <a:ahLst/>
              <a:rect l="textAreaLeft" t="textAreaTop" r="textAreaRight" b="textAreaBottom"/>
              <a:pathLst>
                <a:path w="219075" h="247650">
                  <a:moveTo>
                    <a:pt x="7144" y="7144"/>
                  </a:moveTo>
                  <a:lnTo>
                    <a:pt x="211931" y="7144"/>
                  </a:lnTo>
                  <a:lnTo>
                    <a:pt x="211931" y="243364"/>
                  </a:lnTo>
                  <a:lnTo>
                    <a:pt x="7144" y="243364"/>
                  </a:lnTo>
                  <a:lnTo>
                    <a:pt x="7144" y="7144"/>
                  </a:lnTo>
                  <a:close/>
                </a:path>
              </a:pathLst>
            </a:custGeom>
            <a:solidFill>
              <a:srgbClr val="f8c44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3" name="任意多边形: 形状 66"/>
            <p:cNvSpPr/>
            <p:nvPr/>
          </p:nvSpPr>
          <p:spPr>
            <a:xfrm>
              <a:off x="311400" y="1289880"/>
              <a:ext cx="249120" cy="648000"/>
            </a:xfrm>
            <a:custGeom>
              <a:avLst/>
              <a:gdLst>
                <a:gd name="textAreaLeft" fmla="*/ 0 w 249120"/>
                <a:gd name="textAreaRight" fmla="*/ 249480 w 249120"/>
                <a:gd name="textAreaTop" fmla="*/ 0 h 648000"/>
                <a:gd name="textAreaBottom" fmla="*/ 648360 h 648000"/>
              </a:gdLst>
              <a:ahLst/>
              <a:rect l="textAreaLeft" t="textAreaTop" r="textAreaRight" b="textAreaBottom"/>
              <a:pathLst>
                <a:path w="95250" h="247650">
                  <a:moveTo>
                    <a:pt x="7144" y="7144"/>
                  </a:moveTo>
                  <a:lnTo>
                    <a:pt x="91916" y="7144"/>
                  </a:lnTo>
                  <a:lnTo>
                    <a:pt x="91916" y="243364"/>
                  </a:lnTo>
                  <a:lnTo>
                    <a:pt x="7144" y="243364"/>
                  </a:lnTo>
                  <a:lnTo>
                    <a:pt x="7144" y="7144"/>
                  </a:lnTo>
                  <a:close/>
                </a:path>
              </a:pathLst>
            </a:custGeom>
            <a:solidFill>
              <a:srgbClr val="f9a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4" name="任意多边形: 形状 67"/>
            <p:cNvSpPr/>
            <p:nvPr/>
          </p:nvSpPr>
          <p:spPr>
            <a:xfrm>
              <a:off x="376200" y="133236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5241" y="7144"/>
                  </a:moveTo>
                  <a:cubicBezTo>
                    <a:pt x="15716" y="7144"/>
                    <a:pt x="7144" y="14764"/>
                    <a:pt x="7144" y="25241"/>
                  </a:cubicBezTo>
                  <a:cubicBezTo>
                    <a:pt x="7144" y="-30770"/>
                    <a:pt x="14764" y="-22197"/>
                    <a:pt x="25241" y="-22197"/>
                  </a:cubicBezTo>
                  <a:cubicBezTo>
                    <a:pt x="-29817" y="-22197"/>
                    <a:pt x="-22197" y="-29817"/>
                    <a:pt x="-22197" y="25241"/>
                  </a:cubicBezTo>
                  <a:cubicBezTo>
                    <a:pt x="-22197" y="14764"/>
                    <a:pt x="-29817" y="7144"/>
                    <a:pt x="25241" y="7144"/>
                  </a:cubicBezTo>
                  <a:close/>
                </a:path>
              </a:pathLst>
            </a:custGeom>
            <a:solidFill>
              <a:srgbClr val="f8ff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5" name="任意多边形: 形状 68"/>
            <p:cNvSpPr/>
            <p:nvPr/>
          </p:nvSpPr>
          <p:spPr>
            <a:xfrm>
              <a:off x="7417800" y="768960"/>
              <a:ext cx="1171800" cy="1446120"/>
            </a:xfrm>
            <a:custGeom>
              <a:avLst/>
              <a:gdLst>
                <a:gd name="textAreaLeft" fmla="*/ 0 w 1171800"/>
                <a:gd name="textAreaRight" fmla="*/ 1172160 w 1171800"/>
                <a:gd name="textAreaTop" fmla="*/ 0 h 1446120"/>
                <a:gd name="textAreaBottom" fmla="*/ 1446480 h 1446120"/>
              </a:gdLst>
              <a:ahLst/>
              <a:rect l="textAreaLeft" t="textAreaTop" r="textAreaRight" b="textAreaBottom"/>
              <a:pathLst>
                <a:path w="447675" h="552450">
                  <a:moveTo>
                    <a:pt x="432848" y="104235"/>
                  </a:moveTo>
                  <a:lnTo>
                    <a:pt x="238537" y="9937"/>
                  </a:lnTo>
                  <a:cubicBezTo>
                    <a:pt x="225202" y="3270"/>
                    <a:pt x="209010" y="8985"/>
                    <a:pt x="203295" y="22320"/>
                  </a:cubicBezTo>
                  <a:lnTo>
                    <a:pt x="9937" y="421417"/>
                  </a:lnTo>
                  <a:cubicBezTo>
                    <a:pt x="3270" y="434753"/>
                    <a:pt x="8985" y="450945"/>
                    <a:pt x="22320" y="456660"/>
                  </a:cubicBezTo>
                  <a:lnTo>
                    <a:pt x="216630" y="550957"/>
                  </a:lnTo>
                  <a:cubicBezTo>
                    <a:pt x="229965" y="557625"/>
                    <a:pt x="246157" y="551910"/>
                    <a:pt x="251873" y="538575"/>
                  </a:cubicBezTo>
                  <a:lnTo>
                    <a:pt x="445230" y="139478"/>
                  </a:lnTo>
                  <a:cubicBezTo>
                    <a:pt x="451898" y="127095"/>
                    <a:pt x="446182" y="110903"/>
                    <a:pt x="432848" y="104235"/>
                  </a:cubicBez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6" name="任意多边形: 形状 69"/>
            <p:cNvSpPr/>
            <p:nvPr/>
          </p:nvSpPr>
          <p:spPr>
            <a:xfrm>
              <a:off x="7370280" y="649440"/>
              <a:ext cx="1171800" cy="1446120"/>
            </a:xfrm>
            <a:custGeom>
              <a:avLst/>
              <a:gdLst>
                <a:gd name="textAreaLeft" fmla="*/ 0 w 1171800"/>
                <a:gd name="textAreaRight" fmla="*/ 1172160 w 1171800"/>
                <a:gd name="textAreaTop" fmla="*/ 0 h 1446120"/>
                <a:gd name="textAreaBottom" fmla="*/ 1446480 h 1446120"/>
              </a:gdLst>
              <a:ahLst/>
              <a:rect l="textAreaLeft" t="textAreaTop" r="textAreaRight" b="textAreaBottom"/>
              <a:pathLst>
                <a:path w="447675" h="552450">
                  <a:moveTo>
                    <a:pt x="251872" y="538575"/>
                  </a:moveTo>
                  <a:cubicBezTo>
                    <a:pt x="245205" y="551910"/>
                    <a:pt x="229012" y="557625"/>
                    <a:pt x="216630" y="550957"/>
                  </a:cubicBezTo>
                  <a:lnTo>
                    <a:pt x="22320" y="456660"/>
                  </a:lnTo>
                  <a:cubicBezTo>
                    <a:pt x="8985" y="449992"/>
                    <a:pt x="3270" y="433800"/>
                    <a:pt x="9937" y="421417"/>
                  </a:cubicBezTo>
                  <a:lnTo>
                    <a:pt x="203295" y="22320"/>
                  </a:lnTo>
                  <a:cubicBezTo>
                    <a:pt x="209962" y="8985"/>
                    <a:pt x="226155" y="3270"/>
                    <a:pt x="238537" y="9937"/>
                  </a:cubicBezTo>
                  <a:lnTo>
                    <a:pt x="432847" y="104235"/>
                  </a:lnTo>
                  <a:cubicBezTo>
                    <a:pt x="446183" y="110902"/>
                    <a:pt x="451897" y="127095"/>
                    <a:pt x="445230" y="139477"/>
                  </a:cubicBezTo>
                  <a:lnTo>
                    <a:pt x="251872" y="538575"/>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7" name="任意多边形: 形状 70"/>
            <p:cNvSpPr/>
            <p:nvPr/>
          </p:nvSpPr>
          <p:spPr>
            <a:xfrm>
              <a:off x="7479720" y="823680"/>
              <a:ext cx="972360" cy="1096920"/>
            </a:xfrm>
            <a:custGeom>
              <a:avLst/>
              <a:gdLst>
                <a:gd name="textAreaLeft" fmla="*/ 0 w 972360"/>
                <a:gd name="textAreaRight" fmla="*/ 972720 w 972360"/>
                <a:gd name="textAreaTop" fmla="*/ 0 h 1096920"/>
                <a:gd name="textAreaBottom" fmla="*/ 1097280 h 1096920"/>
              </a:gdLst>
              <a:ahLst/>
              <a:rect l="textAreaLeft" t="textAreaTop" r="textAreaRight" b="textAreaBottom"/>
              <a:pathLst>
                <a:path w="371475" h="419100">
                  <a:moveTo>
                    <a:pt x="216694" y="414814"/>
                  </a:moveTo>
                  <a:lnTo>
                    <a:pt x="7144" y="313849"/>
                  </a:lnTo>
                  <a:lnTo>
                    <a:pt x="155734" y="7144"/>
                  </a:lnTo>
                  <a:lnTo>
                    <a:pt x="365284" y="109061"/>
                  </a:lnTo>
                  <a:lnTo>
                    <a:pt x="216694" y="414814"/>
                  </a:ln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8" name="任意多边形: 形状 71"/>
            <p:cNvSpPr/>
            <p:nvPr/>
          </p:nvSpPr>
          <p:spPr>
            <a:xfrm>
              <a:off x="8024760" y="784800"/>
              <a:ext cx="249120" cy="174240"/>
            </a:xfrm>
            <a:custGeom>
              <a:avLst/>
              <a:gdLst>
                <a:gd name="textAreaLeft" fmla="*/ 0 w 249120"/>
                <a:gd name="textAreaRight" fmla="*/ 249480 w 249120"/>
                <a:gd name="textAreaTop" fmla="*/ 0 h 174240"/>
                <a:gd name="textAreaBottom" fmla="*/ 174600 h 174240"/>
              </a:gdLst>
              <a:ahLst/>
              <a:rect l="textAreaLeft" t="textAreaTop" r="textAreaRight" b="textAreaBottom"/>
              <a:pathLst>
                <a:path w="95250" h="66675">
                  <a:moveTo>
                    <a:pt x="9546" y="21544"/>
                  </a:moveTo>
                  <a:lnTo>
                    <a:pt x="15368" y="9546"/>
                  </a:lnTo>
                  <a:lnTo>
                    <a:pt x="94209" y="47806"/>
                  </a:lnTo>
                  <a:lnTo>
                    <a:pt x="88387" y="59803"/>
                  </a:lnTo>
                  <a:lnTo>
                    <a:pt x="9546" y="21544"/>
                  </a:ln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49" name="任意多边形: 形状 72"/>
            <p:cNvSpPr/>
            <p:nvPr/>
          </p:nvSpPr>
          <p:spPr>
            <a:xfrm>
              <a:off x="8358120" y="951480"/>
              <a:ext cx="49680" cy="49680"/>
            </a:xfrm>
            <a:custGeom>
              <a:avLst/>
              <a:gdLst>
                <a:gd name="textAreaLeft" fmla="*/ 0 w 49680"/>
                <a:gd name="textAreaRight" fmla="*/ 50040 w 49680"/>
                <a:gd name="textAreaTop" fmla="*/ 0 h 49680"/>
                <a:gd name="textAreaBottom" fmla="*/ 50040 h 49680"/>
              </a:gdLst>
              <a:ahLst/>
              <a:rect l="textAreaLeft" t="textAreaTop" r="textAreaRight" b="textAreaBottom"/>
              <a:pathLst>
                <a:path w="19050" h="19050">
                  <a:moveTo>
                    <a:pt x="19341" y="16483"/>
                  </a:moveTo>
                  <a:cubicBezTo>
                    <a:pt x="17435" y="19341"/>
                    <a:pt x="13626" y="21246"/>
                    <a:pt x="10768" y="19341"/>
                  </a:cubicBezTo>
                  <a:cubicBezTo>
                    <a:pt x="7910" y="17436"/>
                    <a:pt x="6006" y="13626"/>
                    <a:pt x="7910" y="10768"/>
                  </a:cubicBezTo>
                  <a:cubicBezTo>
                    <a:pt x="9816" y="7911"/>
                    <a:pt x="13626" y="6006"/>
                    <a:pt x="16483" y="7911"/>
                  </a:cubicBezTo>
                  <a:cubicBezTo>
                    <a:pt x="20293" y="9816"/>
                    <a:pt x="21246" y="13626"/>
                    <a:pt x="19341" y="16483"/>
                  </a:cubicBezTo>
                  <a:close/>
                </a:path>
              </a:pathLst>
            </a:custGeom>
            <a:solidFill>
              <a:srgbClr val="ebfffa"/>
            </a:solidFill>
            <a:ln w="0">
              <a:noFill/>
            </a:ln>
          </p:spPr>
          <p:style>
            <a:lnRef idx="0"/>
            <a:fillRef idx="0"/>
            <a:effectRef idx="0"/>
            <a:fontRef idx="minor"/>
          </p:style>
          <p:txBody>
            <a:bodyPr lIns="90000" rIns="90000" tIns="3240" bIns="3240" anchor="ctr">
              <a:noAutofit/>
            </a:bodyPr>
            <a:p>
              <a:endParaRPr b="0" lang="en-US" sz="1800" spc="-1" strike="noStrike">
                <a:solidFill>
                  <a:srgbClr val="262626"/>
                </a:solidFill>
                <a:latin typeface="Arial"/>
              </a:endParaRPr>
            </a:p>
          </p:txBody>
        </p:sp>
        <p:sp>
          <p:nvSpPr>
            <p:cNvPr id="2450" name="任意多边形: 形状 73"/>
            <p:cNvSpPr/>
            <p:nvPr/>
          </p:nvSpPr>
          <p:spPr>
            <a:xfrm>
              <a:off x="7662600" y="181440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6256" y="31659"/>
                  </a:moveTo>
                  <a:cubicBezTo>
                    <a:pt x="-30067" y="-25304"/>
                    <a:pt x="24992" y="-21494"/>
                    <a:pt x="16419" y="-26256"/>
                  </a:cubicBezTo>
                  <a:cubicBezTo>
                    <a:pt x="7847" y="-30066"/>
                    <a:pt x="4990" y="24992"/>
                    <a:pt x="8800" y="16420"/>
                  </a:cubicBezTo>
                  <a:cubicBezTo>
                    <a:pt x="12609" y="7847"/>
                    <a:pt x="23087" y="4990"/>
                    <a:pt x="31659" y="8800"/>
                  </a:cubicBezTo>
                  <a:cubicBezTo>
                    <a:pt x="-26256" y="13562"/>
                    <a:pt x="-22446" y="23087"/>
                    <a:pt x="-26256" y="31659"/>
                  </a:cubicBezTo>
                  <a:close/>
                </a:path>
              </a:pathLst>
            </a:custGeom>
            <a:solidFill>
              <a:srgbClr val="ebfff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1" name="任意多边形: 形状 74"/>
            <p:cNvSpPr/>
            <p:nvPr/>
          </p:nvSpPr>
          <p:spPr>
            <a:xfrm>
              <a:off x="9302400" y="861120"/>
              <a:ext cx="1371240" cy="1371240"/>
            </a:xfrm>
            <a:custGeom>
              <a:avLst/>
              <a:gdLst>
                <a:gd name="textAreaLeft" fmla="*/ 0 w 1371240"/>
                <a:gd name="textAreaRight" fmla="*/ 1371600 w 1371240"/>
                <a:gd name="textAreaTop" fmla="*/ 0 h 1371240"/>
                <a:gd name="textAreaBottom" fmla="*/ 1371600 h 1371240"/>
              </a:gdLst>
              <a:ahLst/>
              <a:rect l="textAreaLeft" t="textAreaTop" r="textAreaRight" b="textAreaBottom"/>
              <a:pathLst>
                <a:path w="523875" h="523875">
                  <a:moveTo>
                    <a:pt x="264319" y="7144"/>
                  </a:moveTo>
                  <a:cubicBezTo>
                    <a:pt x="122396" y="7144"/>
                    <a:pt x="7144" y="122396"/>
                    <a:pt x="7144" y="264319"/>
                  </a:cubicBezTo>
                  <a:cubicBezTo>
                    <a:pt x="7144" y="406241"/>
                    <a:pt x="122396" y="521494"/>
                    <a:pt x="264319" y="521494"/>
                  </a:cubicBezTo>
                  <a:cubicBezTo>
                    <a:pt x="406241" y="521494"/>
                    <a:pt x="521494" y="406241"/>
                    <a:pt x="521494" y="264319"/>
                  </a:cubicBezTo>
                  <a:cubicBezTo>
                    <a:pt x="521494" y="122396"/>
                    <a:pt x="406241" y="7144"/>
                    <a:pt x="264319" y="7144"/>
                  </a:cubicBez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2" name="任意多边形: 形状 75"/>
            <p:cNvSpPr/>
            <p:nvPr/>
          </p:nvSpPr>
          <p:spPr>
            <a:xfrm>
              <a:off x="9230040" y="763920"/>
              <a:ext cx="1371240" cy="1371240"/>
            </a:xfrm>
            <a:custGeom>
              <a:avLst/>
              <a:gdLst>
                <a:gd name="textAreaLeft" fmla="*/ 0 w 1371240"/>
                <a:gd name="textAreaRight" fmla="*/ 1371600 w 1371240"/>
                <a:gd name="textAreaTop" fmla="*/ 0 h 1371240"/>
                <a:gd name="textAreaBottom" fmla="*/ 1371600 h 1371240"/>
              </a:gdLst>
              <a:ahLst/>
              <a:rect l="textAreaLeft" t="textAreaTop" r="textAreaRight" b="textAreaBottom"/>
              <a:pathLst>
                <a:path w="523875" h="523875">
                  <a:moveTo>
                    <a:pt x="521494" y="264319"/>
                  </a:moveTo>
                  <a:cubicBezTo>
                    <a:pt x="521494" y="406241"/>
                    <a:pt x="406241" y="521494"/>
                    <a:pt x="264319" y="521494"/>
                  </a:cubicBezTo>
                  <a:cubicBezTo>
                    <a:pt x="122396" y="521494"/>
                    <a:pt x="7144" y="406241"/>
                    <a:pt x="7144" y="264319"/>
                  </a:cubicBezTo>
                  <a:cubicBezTo>
                    <a:pt x="7144" y="122396"/>
                    <a:pt x="122396" y="7144"/>
                    <a:pt x="264319" y="7144"/>
                  </a:cubicBezTo>
                  <a:cubicBezTo>
                    <a:pt x="406241" y="7144"/>
                    <a:pt x="521494" y="122396"/>
                    <a:pt x="521494" y="264319"/>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3" name="任意多边形: 形状 76"/>
            <p:cNvSpPr/>
            <p:nvPr/>
          </p:nvSpPr>
          <p:spPr>
            <a:xfrm>
              <a:off x="9399600" y="933480"/>
              <a:ext cx="1022040" cy="1022040"/>
            </a:xfrm>
            <a:custGeom>
              <a:avLst/>
              <a:gdLst>
                <a:gd name="textAreaLeft" fmla="*/ 0 w 1022040"/>
                <a:gd name="textAreaRight" fmla="*/ 1022400 w 1022040"/>
                <a:gd name="textAreaTop" fmla="*/ 0 h 1022040"/>
                <a:gd name="textAreaBottom" fmla="*/ 1022400 h 1022040"/>
              </a:gdLst>
              <a:ahLst/>
              <a:rect l="textAreaLeft" t="textAreaTop" r="textAreaRight" b="textAreaBottom"/>
              <a:pathLst>
                <a:path w="390525" h="390525">
                  <a:moveTo>
                    <a:pt x="391954" y="199549"/>
                  </a:moveTo>
                  <a:cubicBezTo>
                    <a:pt x="391954" y="306229"/>
                    <a:pt x="305276" y="391954"/>
                    <a:pt x="199549" y="391954"/>
                  </a:cubicBezTo>
                  <a:cubicBezTo>
                    <a:pt x="92869" y="391954"/>
                    <a:pt x="7144" y="305276"/>
                    <a:pt x="7144" y="199549"/>
                  </a:cubicBezTo>
                  <a:cubicBezTo>
                    <a:pt x="7144" y="92869"/>
                    <a:pt x="93821" y="7144"/>
                    <a:pt x="199549" y="7144"/>
                  </a:cubicBezTo>
                  <a:cubicBezTo>
                    <a:pt x="305276" y="7144"/>
                    <a:pt x="391954" y="92869"/>
                    <a:pt x="391954" y="199549"/>
                  </a:cubicBezTo>
                  <a:close/>
                </a:path>
              </a:pathLst>
            </a:custGeom>
            <a:solidFill>
              <a:srgbClr val="f2f0f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4" name="任意多边形: 形状 77"/>
            <p:cNvSpPr/>
            <p:nvPr/>
          </p:nvSpPr>
          <p:spPr>
            <a:xfrm>
              <a:off x="9503280" y="1013040"/>
              <a:ext cx="822600" cy="847800"/>
            </a:xfrm>
            <a:custGeom>
              <a:avLst/>
              <a:gdLst>
                <a:gd name="textAreaLeft" fmla="*/ 0 w 822600"/>
                <a:gd name="textAreaRight" fmla="*/ 822960 w 822600"/>
                <a:gd name="textAreaTop" fmla="*/ 0 h 847800"/>
                <a:gd name="textAreaBottom" fmla="*/ 848160 h 847800"/>
              </a:gdLst>
              <a:ahLst/>
              <a:rect l="textAreaLeft" t="textAreaTop" r="textAreaRight" b="textAreaBottom"/>
              <a:pathLst>
                <a:path w="314325" h="323850">
                  <a:moveTo>
                    <a:pt x="282849" y="12930"/>
                  </a:moveTo>
                  <a:cubicBezTo>
                    <a:pt x="272372" y="4358"/>
                    <a:pt x="257131" y="5310"/>
                    <a:pt x="247606" y="15788"/>
                  </a:cubicBezTo>
                  <a:lnTo>
                    <a:pt x="238081" y="27218"/>
                  </a:lnTo>
                  <a:cubicBezTo>
                    <a:pt x="235224" y="30075"/>
                    <a:pt x="233319" y="33885"/>
                    <a:pt x="233319" y="38648"/>
                  </a:cubicBezTo>
                  <a:cubicBezTo>
                    <a:pt x="190456" y="14835"/>
                    <a:pt x="137116" y="12930"/>
                    <a:pt x="90444" y="35790"/>
                  </a:cubicBezTo>
                  <a:cubicBezTo>
                    <a:pt x="15197" y="73890"/>
                    <a:pt x="-14331" y="165330"/>
                    <a:pt x="23769" y="240578"/>
                  </a:cubicBezTo>
                  <a:cubicBezTo>
                    <a:pt x="61869" y="315825"/>
                    <a:pt x="153309" y="345353"/>
                    <a:pt x="228556" y="307253"/>
                  </a:cubicBezTo>
                  <a:cubicBezTo>
                    <a:pt x="303804" y="269153"/>
                    <a:pt x="333331" y="177713"/>
                    <a:pt x="295231" y="102465"/>
                  </a:cubicBezTo>
                  <a:cubicBezTo>
                    <a:pt x="287612" y="88178"/>
                    <a:pt x="279039" y="75795"/>
                    <a:pt x="268562" y="65318"/>
                  </a:cubicBezTo>
                  <a:cubicBezTo>
                    <a:pt x="271419" y="63413"/>
                    <a:pt x="274277" y="61508"/>
                    <a:pt x="276181" y="58650"/>
                  </a:cubicBezTo>
                  <a:lnTo>
                    <a:pt x="285706" y="47220"/>
                  </a:lnTo>
                  <a:cubicBezTo>
                    <a:pt x="294279" y="36743"/>
                    <a:pt x="293327" y="21503"/>
                    <a:pt x="282849" y="12930"/>
                  </a:cubicBezTo>
                  <a:close/>
                </a:path>
              </a:pathLst>
            </a:custGeom>
            <a:solidFill>
              <a:srgbClr val="c2cec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5" name="任意多边形: 形状 78"/>
            <p:cNvSpPr/>
            <p:nvPr/>
          </p:nvSpPr>
          <p:spPr>
            <a:xfrm>
              <a:off x="9595440" y="1135800"/>
              <a:ext cx="648000" cy="648000"/>
            </a:xfrm>
            <a:custGeom>
              <a:avLst/>
              <a:gdLst>
                <a:gd name="textAreaLeft" fmla="*/ 0 w 648000"/>
                <a:gd name="textAreaRight" fmla="*/ 648360 w 648000"/>
                <a:gd name="textAreaTop" fmla="*/ 0 h 648000"/>
                <a:gd name="textAreaBottom" fmla="*/ 648360 h 648000"/>
              </a:gdLst>
              <a:ahLst/>
              <a:rect l="textAreaLeft" t="textAreaTop" r="textAreaRight" b="textAreaBottom"/>
              <a:pathLst>
                <a:path w="247650" h="247650">
                  <a:moveTo>
                    <a:pt x="229589" y="70881"/>
                  </a:moveTo>
                  <a:cubicBezTo>
                    <a:pt x="259116" y="128983"/>
                    <a:pt x="236256" y="199468"/>
                    <a:pt x="178154" y="228996"/>
                  </a:cubicBezTo>
                  <a:cubicBezTo>
                    <a:pt x="120051" y="258523"/>
                    <a:pt x="49566" y="235663"/>
                    <a:pt x="20039" y="177561"/>
                  </a:cubicBezTo>
                  <a:cubicBezTo>
                    <a:pt x="-9489" y="119458"/>
                    <a:pt x="13371" y="48973"/>
                    <a:pt x="71474" y="19446"/>
                  </a:cubicBezTo>
                  <a:cubicBezTo>
                    <a:pt x="128624" y="-9129"/>
                    <a:pt x="200061" y="13731"/>
                    <a:pt x="229589" y="70881"/>
                  </a:cubicBezTo>
                  <a:close/>
                </a:path>
              </a:pathLst>
            </a:custGeom>
            <a:solidFill>
              <a:srgbClr val="99737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6" name="任意多边形: 形状 79"/>
            <p:cNvSpPr/>
            <p:nvPr/>
          </p:nvSpPr>
          <p:spPr>
            <a:xfrm>
              <a:off x="9775440" y="122472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38100" h="38100">
                  <a:moveTo>
                    <a:pt x="31290" y="13980"/>
                  </a:moveTo>
                  <a:cubicBezTo>
                    <a:pt x="-31389" y="20647"/>
                    <a:pt x="32242" y="28267"/>
                    <a:pt x="25575" y="31125"/>
                  </a:cubicBezTo>
                  <a:cubicBezTo>
                    <a:pt x="18907" y="-31554"/>
                    <a:pt x="11287" y="32077"/>
                    <a:pt x="8430" y="25410"/>
                  </a:cubicBezTo>
                  <a:cubicBezTo>
                    <a:pt x="5572" y="18742"/>
                    <a:pt x="7477" y="11122"/>
                    <a:pt x="14144" y="8265"/>
                  </a:cubicBezTo>
                  <a:cubicBezTo>
                    <a:pt x="19860" y="5407"/>
                    <a:pt x="27480" y="8265"/>
                    <a:pt x="31290" y="13980"/>
                  </a:cubicBezTo>
                  <a:close/>
                </a:path>
              </a:pathLst>
            </a:custGeom>
            <a:solidFill>
              <a:srgbClr val="8964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7" name="任意多边形: 形状 80"/>
            <p:cNvSpPr/>
            <p:nvPr/>
          </p:nvSpPr>
          <p:spPr>
            <a:xfrm>
              <a:off x="9838080" y="116748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2052" y="17767"/>
                  </a:moveTo>
                  <a:cubicBezTo>
                    <a:pt x="-17289" y="27292"/>
                    <a:pt x="-21099" y="-26814"/>
                    <a:pt x="-30624" y="-22052"/>
                  </a:cubicBezTo>
                  <a:cubicBezTo>
                    <a:pt x="25387" y="-17289"/>
                    <a:pt x="13957" y="-21099"/>
                    <a:pt x="9194" y="-30624"/>
                  </a:cubicBezTo>
                  <a:cubicBezTo>
                    <a:pt x="4432" y="25387"/>
                    <a:pt x="8242" y="13957"/>
                    <a:pt x="17767" y="9194"/>
                  </a:cubicBezTo>
                  <a:cubicBezTo>
                    <a:pt x="27292" y="4432"/>
                    <a:pt x="-26814" y="8242"/>
                    <a:pt x="-22052" y="17767"/>
                  </a:cubicBezTo>
                  <a:close/>
                </a:path>
              </a:pathLst>
            </a:custGeom>
            <a:solidFill>
              <a:srgbClr val="8964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8" name="任意多边形: 形状 81"/>
            <p:cNvSpPr/>
            <p:nvPr/>
          </p:nvSpPr>
          <p:spPr>
            <a:xfrm>
              <a:off x="9842760" y="128304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38100" h="38100">
                  <a:moveTo>
                    <a:pt x="31290" y="14565"/>
                  </a:moveTo>
                  <a:cubicBezTo>
                    <a:pt x="-31389" y="21233"/>
                    <a:pt x="32242" y="28853"/>
                    <a:pt x="25575" y="31710"/>
                  </a:cubicBezTo>
                  <a:cubicBezTo>
                    <a:pt x="18907" y="-30968"/>
                    <a:pt x="11287" y="32663"/>
                    <a:pt x="8430" y="25995"/>
                  </a:cubicBezTo>
                  <a:cubicBezTo>
                    <a:pt x="5572" y="19328"/>
                    <a:pt x="7477" y="11708"/>
                    <a:pt x="14145" y="8850"/>
                  </a:cubicBezTo>
                  <a:cubicBezTo>
                    <a:pt x="19860" y="5040"/>
                    <a:pt x="27480" y="7898"/>
                    <a:pt x="31290" y="14565"/>
                  </a:cubicBezTo>
                  <a:close/>
                </a:path>
              </a:pathLst>
            </a:custGeom>
            <a:solidFill>
              <a:srgbClr val="8964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59" name="任意多边形: 形状 82"/>
            <p:cNvSpPr/>
            <p:nvPr/>
          </p:nvSpPr>
          <p:spPr>
            <a:xfrm>
              <a:off x="8676720" y="2115360"/>
              <a:ext cx="3515400" cy="3740040"/>
            </a:xfrm>
            <a:custGeom>
              <a:avLst/>
              <a:gdLst>
                <a:gd name="textAreaLeft" fmla="*/ 0 w 3515400"/>
                <a:gd name="textAreaRight" fmla="*/ 3515760 w 3515400"/>
                <a:gd name="textAreaTop" fmla="*/ 0 h 3740040"/>
                <a:gd name="textAreaBottom" fmla="*/ 3740400 h 3740040"/>
              </a:gdLst>
              <a:ahLst/>
              <a:rect l="textAreaLeft" t="textAreaTop" r="textAreaRight" b="textAreaBottom"/>
              <a:pathLst>
                <a:path w="1343025" h="1428750">
                  <a:moveTo>
                    <a:pt x="1340644" y="7144"/>
                  </a:moveTo>
                  <a:lnTo>
                    <a:pt x="851059" y="262414"/>
                  </a:lnTo>
                  <a:lnTo>
                    <a:pt x="868204" y="294799"/>
                  </a:lnTo>
                  <a:lnTo>
                    <a:pt x="851059" y="301466"/>
                  </a:lnTo>
                  <a:cubicBezTo>
                    <a:pt x="851059" y="301466"/>
                    <a:pt x="834866" y="269081"/>
                    <a:pt x="772954" y="300514"/>
                  </a:cubicBezTo>
                  <a:lnTo>
                    <a:pt x="541496" y="414814"/>
                  </a:lnTo>
                  <a:cubicBezTo>
                    <a:pt x="541496" y="414814"/>
                    <a:pt x="522446" y="425291"/>
                    <a:pt x="532924" y="446246"/>
                  </a:cubicBezTo>
                  <a:cubicBezTo>
                    <a:pt x="541496" y="462439"/>
                    <a:pt x="565309" y="451961"/>
                    <a:pt x="565309" y="451961"/>
                  </a:cubicBezTo>
                  <a:cubicBezTo>
                    <a:pt x="565309" y="451961"/>
                    <a:pt x="647224" y="415766"/>
                    <a:pt x="649129" y="419576"/>
                  </a:cubicBezTo>
                  <a:cubicBezTo>
                    <a:pt x="652939" y="429101"/>
                    <a:pt x="542449" y="482441"/>
                    <a:pt x="488156" y="509111"/>
                  </a:cubicBezTo>
                  <a:lnTo>
                    <a:pt x="278606" y="398621"/>
                  </a:lnTo>
                  <a:lnTo>
                    <a:pt x="7144" y="920592"/>
                  </a:lnTo>
                  <a:lnTo>
                    <a:pt x="26194" y="931069"/>
                  </a:lnTo>
                  <a:cubicBezTo>
                    <a:pt x="30004" y="929164"/>
                    <a:pt x="39529" y="923449"/>
                    <a:pt x="40481" y="917734"/>
                  </a:cubicBezTo>
                  <a:cubicBezTo>
                    <a:pt x="40481" y="915829"/>
                    <a:pt x="41434" y="914876"/>
                    <a:pt x="41434" y="913924"/>
                  </a:cubicBezTo>
                  <a:cubicBezTo>
                    <a:pt x="36671" y="909161"/>
                    <a:pt x="34766" y="900589"/>
                    <a:pt x="38576" y="893921"/>
                  </a:cubicBezTo>
                  <a:cubicBezTo>
                    <a:pt x="43339" y="885349"/>
                    <a:pt x="52864" y="882492"/>
                    <a:pt x="61436" y="887254"/>
                  </a:cubicBezTo>
                  <a:cubicBezTo>
                    <a:pt x="70009" y="892017"/>
                    <a:pt x="72866" y="902494"/>
                    <a:pt x="69056" y="910114"/>
                  </a:cubicBezTo>
                  <a:cubicBezTo>
                    <a:pt x="65246" y="916781"/>
                    <a:pt x="58579" y="919639"/>
                    <a:pt x="50959" y="918686"/>
                  </a:cubicBezTo>
                  <a:cubicBezTo>
                    <a:pt x="48101" y="920592"/>
                    <a:pt x="41434" y="927259"/>
                    <a:pt x="42386" y="936784"/>
                  </a:cubicBezTo>
                  <a:cubicBezTo>
                    <a:pt x="42386" y="937736"/>
                    <a:pt x="42386" y="938689"/>
                    <a:pt x="42386" y="938689"/>
                  </a:cubicBezTo>
                  <a:lnTo>
                    <a:pt x="78581" y="957739"/>
                  </a:lnTo>
                  <a:cubicBezTo>
                    <a:pt x="82391" y="955834"/>
                    <a:pt x="91916" y="950119"/>
                    <a:pt x="92869" y="944404"/>
                  </a:cubicBezTo>
                  <a:cubicBezTo>
                    <a:pt x="92869" y="942499"/>
                    <a:pt x="93821" y="941546"/>
                    <a:pt x="93821" y="940594"/>
                  </a:cubicBezTo>
                  <a:cubicBezTo>
                    <a:pt x="89059" y="935831"/>
                    <a:pt x="87154" y="927259"/>
                    <a:pt x="90964" y="920592"/>
                  </a:cubicBezTo>
                  <a:cubicBezTo>
                    <a:pt x="95726" y="912019"/>
                    <a:pt x="105251" y="909161"/>
                    <a:pt x="113824" y="913924"/>
                  </a:cubicBezTo>
                  <a:cubicBezTo>
                    <a:pt x="122396" y="918686"/>
                    <a:pt x="125254" y="929164"/>
                    <a:pt x="121444" y="936784"/>
                  </a:cubicBezTo>
                  <a:cubicBezTo>
                    <a:pt x="117634" y="943451"/>
                    <a:pt x="110966" y="946309"/>
                    <a:pt x="103346" y="945356"/>
                  </a:cubicBezTo>
                  <a:cubicBezTo>
                    <a:pt x="100489" y="947261"/>
                    <a:pt x="93821" y="953929"/>
                    <a:pt x="94774" y="963454"/>
                  </a:cubicBezTo>
                  <a:cubicBezTo>
                    <a:pt x="94774" y="964406"/>
                    <a:pt x="94774" y="965359"/>
                    <a:pt x="94774" y="965359"/>
                  </a:cubicBezTo>
                  <a:lnTo>
                    <a:pt x="130969" y="984409"/>
                  </a:lnTo>
                  <a:cubicBezTo>
                    <a:pt x="134779" y="982504"/>
                    <a:pt x="144304" y="976789"/>
                    <a:pt x="145256" y="971074"/>
                  </a:cubicBezTo>
                  <a:cubicBezTo>
                    <a:pt x="145256" y="969169"/>
                    <a:pt x="146209" y="968217"/>
                    <a:pt x="146209" y="967264"/>
                  </a:cubicBezTo>
                  <a:cubicBezTo>
                    <a:pt x="141446" y="962501"/>
                    <a:pt x="139541" y="953929"/>
                    <a:pt x="143351" y="947261"/>
                  </a:cubicBezTo>
                  <a:cubicBezTo>
                    <a:pt x="148114" y="938689"/>
                    <a:pt x="158591" y="935831"/>
                    <a:pt x="166211" y="940594"/>
                  </a:cubicBezTo>
                  <a:cubicBezTo>
                    <a:pt x="174784" y="945356"/>
                    <a:pt x="177641" y="955834"/>
                    <a:pt x="173831" y="963454"/>
                  </a:cubicBezTo>
                  <a:cubicBezTo>
                    <a:pt x="170021" y="970121"/>
                    <a:pt x="163354" y="972979"/>
                    <a:pt x="155734" y="972026"/>
                  </a:cubicBezTo>
                  <a:cubicBezTo>
                    <a:pt x="152876" y="973931"/>
                    <a:pt x="146209" y="980599"/>
                    <a:pt x="147161" y="990124"/>
                  </a:cubicBezTo>
                  <a:cubicBezTo>
                    <a:pt x="147161" y="991076"/>
                    <a:pt x="147161" y="992029"/>
                    <a:pt x="147161" y="992029"/>
                  </a:cubicBezTo>
                  <a:lnTo>
                    <a:pt x="183356" y="1011079"/>
                  </a:lnTo>
                  <a:cubicBezTo>
                    <a:pt x="187166" y="1009174"/>
                    <a:pt x="196691" y="1003459"/>
                    <a:pt x="197644" y="997744"/>
                  </a:cubicBezTo>
                  <a:cubicBezTo>
                    <a:pt x="197644" y="995839"/>
                    <a:pt x="198596" y="994886"/>
                    <a:pt x="198596" y="993934"/>
                  </a:cubicBezTo>
                  <a:cubicBezTo>
                    <a:pt x="193834" y="989171"/>
                    <a:pt x="191929" y="980599"/>
                    <a:pt x="195739" y="973931"/>
                  </a:cubicBezTo>
                  <a:cubicBezTo>
                    <a:pt x="200501" y="965359"/>
                    <a:pt x="210026" y="962501"/>
                    <a:pt x="218599" y="967264"/>
                  </a:cubicBezTo>
                  <a:cubicBezTo>
                    <a:pt x="227171" y="972026"/>
                    <a:pt x="230029" y="982504"/>
                    <a:pt x="226219" y="990124"/>
                  </a:cubicBezTo>
                  <a:cubicBezTo>
                    <a:pt x="222409" y="996792"/>
                    <a:pt x="215741" y="999649"/>
                    <a:pt x="208121" y="998696"/>
                  </a:cubicBezTo>
                  <a:cubicBezTo>
                    <a:pt x="205264" y="1000601"/>
                    <a:pt x="198596" y="1007269"/>
                    <a:pt x="199549" y="1016794"/>
                  </a:cubicBezTo>
                  <a:cubicBezTo>
                    <a:pt x="199549" y="1017746"/>
                    <a:pt x="199549" y="1018699"/>
                    <a:pt x="199549" y="1018699"/>
                  </a:cubicBezTo>
                  <a:lnTo>
                    <a:pt x="235744" y="1037749"/>
                  </a:lnTo>
                  <a:cubicBezTo>
                    <a:pt x="239554" y="1035844"/>
                    <a:pt x="249079" y="1030129"/>
                    <a:pt x="250031" y="1024414"/>
                  </a:cubicBezTo>
                  <a:cubicBezTo>
                    <a:pt x="250031" y="1022509"/>
                    <a:pt x="250984" y="1021556"/>
                    <a:pt x="250984" y="1020604"/>
                  </a:cubicBezTo>
                  <a:cubicBezTo>
                    <a:pt x="246221" y="1015842"/>
                    <a:pt x="244316" y="1007269"/>
                    <a:pt x="248126" y="1000601"/>
                  </a:cubicBezTo>
                  <a:cubicBezTo>
                    <a:pt x="252889" y="992029"/>
                    <a:pt x="262414" y="989171"/>
                    <a:pt x="270986" y="993934"/>
                  </a:cubicBezTo>
                  <a:cubicBezTo>
                    <a:pt x="279559" y="998696"/>
                    <a:pt x="282416" y="1009174"/>
                    <a:pt x="278606" y="1016794"/>
                  </a:cubicBezTo>
                  <a:cubicBezTo>
                    <a:pt x="274796" y="1023461"/>
                    <a:pt x="268129" y="1026319"/>
                    <a:pt x="260509" y="1025367"/>
                  </a:cubicBezTo>
                  <a:cubicBezTo>
                    <a:pt x="257651" y="1027271"/>
                    <a:pt x="250984" y="1033939"/>
                    <a:pt x="251936" y="1043464"/>
                  </a:cubicBezTo>
                  <a:cubicBezTo>
                    <a:pt x="251936" y="1044417"/>
                    <a:pt x="251936" y="1045369"/>
                    <a:pt x="251936" y="1045369"/>
                  </a:cubicBezTo>
                  <a:lnTo>
                    <a:pt x="288131" y="1064419"/>
                  </a:lnTo>
                  <a:cubicBezTo>
                    <a:pt x="291941" y="1062514"/>
                    <a:pt x="301466" y="1056799"/>
                    <a:pt x="302419" y="1051084"/>
                  </a:cubicBezTo>
                  <a:cubicBezTo>
                    <a:pt x="302419" y="1049179"/>
                    <a:pt x="303371" y="1048226"/>
                    <a:pt x="303371" y="1047274"/>
                  </a:cubicBezTo>
                  <a:cubicBezTo>
                    <a:pt x="298609" y="1042511"/>
                    <a:pt x="296704" y="1033939"/>
                    <a:pt x="300514" y="1027271"/>
                  </a:cubicBezTo>
                  <a:cubicBezTo>
                    <a:pt x="305276" y="1018699"/>
                    <a:pt x="314801" y="1015842"/>
                    <a:pt x="323374" y="1020604"/>
                  </a:cubicBezTo>
                  <a:cubicBezTo>
                    <a:pt x="331946" y="1025367"/>
                    <a:pt x="334804" y="1035844"/>
                    <a:pt x="330994" y="1043464"/>
                  </a:cubicBezTo>
                  <a:cubicBezTo>
                    <a:pt x="327184" y="1050131"/>
                    <a:pt x="320516" y="1052989"/>
                    <a:pt x="312896" y="1052036"/>
                  </a:cubicBezTo>
                  <a:cubicBezTo>
                    <a:pt x="310039" y="1053942"/>
                    <a:pt x="303371" y="1060609"/>
                    <a:pt x="304324" y="1070134"/>
                  </a:cubicBezTo>
                  <a:cubicBezTo>
                    <a:pt x="304324" y="1071086"/>
                    <a:pt x="304324" y="1072039"/>
                    <a:pt x="304324" y="1072039"/>
                  </a:cubicBezTo>
                  <a:lnTo>
                    <a:pt x="340519" y="1091089"/>
                  </a:lnTo>
                  <a:cubicBezTo>
                    <a:pt x="344329" y="1088231"/>
                    <a:pt x="353854" y="1083469"/>
                    <a:pt x="354806" y="1077754"/>
                  </a:cubicBezTo>
                  <a:cubicBezTo>
                    <a:pt x="354806" y="1075849"/>
                    <a:pt x="355759" y="1074896"/>
                    <a:pt x="355759" y="1073944"/>
                  </a:cubicBezTo>
                  <a:cubicBezTo>
                    <a:pt x="350996" y="1069181"/>
                    <a:pt x="349091" y="1060609"/>
                    <a:pt x="352901" y="1053942"/>
                  </a:cubicBezTo>
                  <a:cubicBezTo>
                    <a:pt x="357664" y="1045369"/>
                    <a:pt x="367189" y="1042511"/>
                    <a:pt x="375761" y="1047274"/>
                  </a:cubicBezTo>
                  <a:cubicBezTo>
                    <a:pt x="384334" y="1052036"/>
                    <a:pt x="387191" y="1062514"/>
                    <a:pt x="383381" y="1070134"/>
                  </a:cubicBezTo>
                  <a:cubicBezTo>
                    <a:pt x="379571" y="1076801"/>
                    <a:pt x="372904" y="1079659"/>
                    <a:pt x="365284" y="1078706"/>
                  </a:cubicBezTo>
                  <a:cubicBezTo>
                    <a:pt x="362426" y="1080611"/>
                    <a:pt x="355759" y="1087279"/>
                    <a:pt x="356711" y="1096804"/>
                  </a:cubicBezTo>
                  <a:cubicBezTo>
                    <a:pt x="356711" y="1097756"/>
                    <a:pt x="356711" y="1098709"/>
                    <a:pt x="356711" y="1098709"/>
                  </a:cubicBezTo>
                  <a:lnTo>
                    <a:pt x="392906" y="1117759"/>
                  </a:lnTo>
                  <a:cubicBezTo>
                    <a:pt x="396716" y="1114901"/>
                    <a:pt x="406241" y="1110139"/>
                    <a:pt x="407194" y="1104424"/>
                  </a:cubicBezTo>
                  <a:cubicBezTo>
                    <a:pt x="407194" y="1102519"/>
                    <a:pt x="408146" y="1101567"/>
                    <a:pt x="408146" y="1100614"/>
                  </a:cubicBezTo>
                  <a:cubicBezTo>
                    <a:pt x="403384" y="1095851"/>
                    <a:pt x="401479" y="1087279"/>
                    <a:pt x="405289" y="1080611"/>
                  </a:cubicBezTo>
                  <a:cubicBezTo>
                    <a:pt x="410051" y="1072039"/>
                    <a:pt x="420529" y="1069181"/>
                    <a:pt x="428149" y="1073944"/>
                  </a:cubicBezTo>
                  <a:cubicBezTo>
                    <a:pt x="436721" y="1078706"/>
                    <a:pt x="439579" y="1089184"/>
                    <a:pt x="435769" y="1096804"/>
                  </a:cubicBezTo>
                  <a:cubicBezTo>
                    <a:pt x="431959" y="1103471"/>
                    <a:pt x="425291" y="1106329"/>
                    <a:pt x="417671" y="1105376"/>
                  </a:cubicBezTo>
                  <a:cubicBezTo>
                    <a:pt x="414814" y="1107281"/>
                    <a:pt x="408146" y="1113949"/>
                    <a:pt x="409099" y="1123474"/>
                  </a:cubicBezTo>
                  <a:cubicBezTo>
                    <a:pt x="409099" y="1124426"/>
                    <a:pt x="409099" y="1125379"/>
                    <a:pt x="409099" y="1125379"/>
                  </a:cubicBezTo>
                  <a:lnTo>
                    <a:pt x="445294" y="1144429"/>
                  </a:lnTo>
                  <a:cubicBezTo>
                    <a:pt x="449104" y="1142524"/>
                    <a:pt x="458629" y="1136809"/>
                    <a:pt x="459581" y="1131094"/>
                  </a:cubicBezTo>
                  <a:cubicBezTo>
                    <a:pt x="459581" y="1129189"/>
                    <a:pt x="460534" y="1128236"/>
                    <a:pt x="460534" y="1127284"/>
                  </a:cubicBezTo>
                  <a:cubicBezTo>
                    <a:pt x="455771" y="1122521"/>
                    <a:pt x="453866" y="1113949"/>
                    <a:pt x="457676" y="1107281"/>
                  </a:cubicBezTo>
                  <a:cubicBezTo>
                    <a:pt x="462439" y="1098709"/>
                    <a:pt x="471964" y="1095851"/>
                    <a:pt x="480536" y="1100614"/>
                  </a:cubicBezTo>
                  <a:cubicBezTo>
                    <a:pt x="489109" y="1105376"/>
                    <a:pt x="491966" y="1115854"/>
                    <a:pt x="488156" y="1123474"/>
                  </a:cubicBezTo>
                  <a:cubicBezTo>
                    <a:pt x="484346" y="1130142"/>
                    <a:pt x="477679" y="1132999"/>
                    <a:pt x="470059" y="1132046"/>
                  </a:cubicBezTo>
                  <a:cubicBezTo>
                    <a:pt x="467201" y="1133951"/>
                    <a:pt x="460534" y="1140619"/>
                    <a:pt x="461486" y="1150144"/>
                  </a:cubicBezTo>
                  <a:cubicBezTo>
                    <a:pt x="461486" y="1151096"/>
                    <a:pt x="461486" y="1152049"/>
                    <a:pt x="461486" y="1152049"/>
                  </a:cubicBezTo>
                  <a:lnTo>
                    <a:pt x="497681" y="1171099"/>
                  </a:lnTo>
                  <a:cubicBezTo>
                    <a:pt x="501491" y="1168242"/>
                    <a:pt x="511016" y="1163479"/>
                    <a:pt x="511969" y="1157764"/>
                  </a:cubicBezTo>
                  <a:cubicBezTo>
                    <a:pt x="511969" y="1155859"/>
                    <a:pt x="512921" y="1154906"/>
                    <a:pt x="512921" y="1153954"/>
                  </a:cubicBezTo>
                  <a:cubicBezTo>
                    <a:pt x="508159" y="1149192"/>
                    <a:pt x="506254" y="1140619"/>
                    <a:pt x="510064" y="1133951"/>
                  </a:cubicBezTo>
                  <a:cubicBezTo>
                    <a:pt x="514826" y="1125379"/>
                    <a:pt x="524351" y="1122521"/>
                    <a:pt x="532924" y="1127284"/>
                  </a:cubicBezTo>
                  <a:cubicBezTo>
                    <a:pt x="541496" y="1132046"/>
                    <a:pt x="544354" y="1142524"/>
                    <a:pt x="540544" y="1150144"/>
                  </a:cubicBezTo>
                  <a:cubicBezTo>
                    <a:pt x="536734" y="1156811"/>
                    <a:pt x="530066" y="1159669"/>
                    <a:pt x="522446" y="1158717"/>
                  </a:cubicBezTo>
                  <a:cubicBezTo>
                    <a:pt x="519589" y="1160621"/>
                    <a:pt x="512921" y="1167289"/>
                    <a:pt x="513874" y="1176814"/>
                  </a:cubicBezTo>
                  <a:cubicBezTo>
                    <a:pt x="513874" y="1177767"/>
                    <a:pt x="513874" y="1178719"/>
                    <a:pt x="513874" y="1178719"/>
                  </a:cubicBezTo>
                  <a:lnTo>
                    <a:pt x="550069" y="1197769"/>
                  </a:lnTo>
                  <a:cubicBezTo>
                    <a:pt x="553879" y="1195864"/>
                    <a:pt x="563404" y="1190149"/>
                    <a:pt x="564356" y="1184434"/>
                  </a:cubicBezTo>
                  <a:cubicBezTo>
                    <a:pt x="564356" y="1182529"/>
                    <a:pt x="565309" y="1181576"/>
                    <a:pt x="565309" y="1180624"/>
                  </a:cubicBezTo>
                  <a:cubicBezTo>
                    <a:pt x="560546" y="1175861"/>
                    <a:pt x="558641" y="1167289"/>
                    <a:pt x="562451" y="1160621"/>
                  </a:cubicBezTo>
                  <a:cubicBezTo>
                    <a:pt x="567214" y="1152049"/>
                    <a:pt x="576739" y="1149192"/>
                    <a:pt x="585311" y="1153954"/>
                  </a:cubicBezTo>
                  <a:cubicBezTo>
                    <a:pt x="593884" y="1158717"/>
                    <a:pt x="596741" y="1169194"/>
                    <a:pt x="592931" y="1176814"/>
                  </a:cubicBezTo>
                  <a:cubicBezTo>
                    <a:pt x="589121" y="1183481"/>
                    <a:pt x="582454" y="1186339"/>
                    <a:pt x="574834" y="1185386"/>
                  </a:cubicBezTo>
                  <a:cubicBezTo>
                    <a:pt x="571976" y="1187292"/>
                    <a:pt x="565309" y="1193959"/>
                    <a:pt x="566261" y="1203484"/>
                  </a:cubicBezTo>
                  <a:cubicBezTo>
                    <a:pt x="566261" y="1204436"/>
                    <a:pt x="566261" y="1205389"/>
                    <a:pt x="566261" y="1205389"/>
                  </a:cubicBezTo>
                  <a:lnTo>
                    <a:pt x="602456" y="1224439"/>
                  </a:lnTo>
                  <a:cubicBezTo>
                    <a:pt x="606266" y="1222534"/>
                    <a:pt x="615791" y="1216819"/>
                    <a:pt x="616744" y="1211104"/>
                  </a:cubicBezTo>
                  <a:cubicBezTo>
                    <a:pt x="616744" y="1209199"/>
                    <a:pt x="617696" y="1208246"/>
                    <a:pt x="617696" y="1207294"/>
                  </a:cubicBezTo>
                  <a:cubicBezTo>
                    <a:pt x="612934" y="1202531"/>
                    <a:pt x="611029" y="1193959"/>
                    <a:pt x="614839" y="1187292"/>
                  </a:cubicBezTo>
                  <a:cubicBezTo>
                    <a:pt x="619601" y="1178719"/>
                    <a:pt x="629126" y="1175861"/>
                    <a:pt x="637699" y="1180624"/>
                  </a:cubicBezTo>
                  <a:cubicBezTo>
                    <a:pt x="646271" y="1185386"/>
                    <a:pt x="649129" y="1195864"/>
                    <a:pt x="645319" y="1203484"/>
                  </a:cubicBezTo>
                  <a:cubicBezTo>
                    <a:pt x="641509" y="1210151"/>
                    <a:pt x="634841" y="1213009"/>
                    <a:pt x="627221" y="1212056"/>
                  </a:cubicBezTo>
                  <a:cubicBezTo>
                    <a:pt x="624364" y="1213961"/>
                    <a:pt x="617696" y="1220629"/>
                    <a:pt x="618649" y="1230154"/>
                  </a:cubicBezTo>
                  <a:cubicBezTo>
                    <a:pt x="618649" y="1231106"/>
                    <a:pt x="618649" y="1232059"/>
                    <a:pt x="618649" y="1232059"/>
                  </a:cubicBezTo>
                  <a:lnTo>
                    <a:pt x="654844" y="1251109"/>
                  </a:lnTo>
                  <a:cubicBezTo>
                    <a:pt x="658654" y="1248251"/>
                    <a:pt x="668179" y="1243489"/>
                    <a:pt x="669131" y="1237774"/>
                  </a:cubicBezTo>
                  <a:cubicBezTo>
                    <a:pt x="669131" y="1235869"/>
                    <a:pt x="670084" y="1234917"/>
                    <a:pt x="670084" y="1233964"/>
                  </a:cubicBezTo>
                  <a:cubicBezTo>
                    <a:pt x="665321" y="1229201"/>
                    <a:pt x="663416" y="1220629"/>
                    <a:pt x="667226" y="1213961"/>
                  </a:cubicBezTo>
                  <a:cubicBezTo>
                    <a:pt x="671036" y="1206342"/>
                    <a:pt x="680561" y="1202531"/>
                    <a:pt x="689134" y="1206342"/>
                  </a:cubicBezTo>
                  <a:lnTo>
                    <a:pt x="699611" y="1219676"/>
                  </a:lnTo>
                  <a:cubicBezTo>
                    <a:pt x="700564" y="1223486"/>
                    <a:pt x="699611" y="1227296"/>
                    <a:pt x="697706" y="1230154"/>
                  </a:cubicBezTo>
                  <a:cubicBezTo>
                    <a:pt x="693896" y="1236821"/>
                    <a:pt x="687229" y="1239679"/>
                    <a:pt x="679609" y="1238726"/>
                  </a:cubicBezTo>
                  <a:cubicBezTo>
                    <a:pt x="676751" y="1240631"/>
                    <a:pt x="670084" y="1247299"/>
                    <a:pt x="671036" y="1256824"/>
                  </a:cubicBezTo>
                  <a:cubicBezTo>
                    <a:pt x="671036" y="1257776"/>
                    <a:pt x="671036" y="1258729"/>
                    <a:pt x="671036" y="1258729"/>
                  </a:cubicBezTo>
                  <a:lnTo>
                    <a:pt x="697706" y="1273017"/>
                  </a:lnTo>
                  <a:lnTo>
                    <a:pt x="714851" y="1239679"/>
                  </a:lnTo>
                  <a:lnTo>
                    <a:pt x="735806" y="1266349"/>
                  </a:lnTo>
                  <a:cubicBezTo>
                    <a:pt x="729139" y="1280636"/>
                    <a:pt x="718661" y="1305401"/>
                    <a:pt x="719614" y="1314926"/>
                  </a:cubicBezTo>
                  <a:cubicBezTo>
                    <a:pt x="720566" y="1328261"/>
                    <a:pt x="784384" y="1417796"/>
                    <a:pt x="800576" y="1421606"/>
                  </a:cubicBezTo>
                  <a:cubicBezTo>
                    <a:pt x="806291" y="1423511"/>
                    <a:pt x="828199" y="1421606"/>
                    <a:pt x="854869" y="1417796"/>
                  </a:cubicBezTo>
                  <a:lnTo>
                    <a:pt x="859631" y="1424464"/>
                  </a:lnTo>
                  <a:cubicBezTo>
                    <a:pt x="864394" y="1430179"/>
                    <a:pt x="872014" y="1433036"/>
                    <a:pt x="875824" y="1429226"/>
                  </a:cubicBezTo>
                  <a:lnTo>
                    <a:pt x="887254" y="1420654"/>
                  </a:lnTo>
                  <a:cubicBezTo>
                    <a:pt x="889159" y="1418749"/>
                    <a:pt x="890111" y="1415892"/>
                    <a:pt x="890111" y="1413034"/>
                  </a:cubicBezTo>
                  <a:cubicBezTo>
                    <a:pt x="926306" y="1406367"/>
                    <a:pt x="961549" y="1398746"/>
                    <a:pt x="973931" y="1391126"/>
                  </a:cubicBezTo>
                  <a:cubicBezTo>
                    <a:pt x="998696" y="1374934"/>
                    <a:pt x="1047274" y="1270159"/>
                    <a:pt x="1066324" y="1243489"/>
                  </a:cubicBezTo>
                  <a:cubicBezTo>
                    <a:pt x="1078706" y="1226344"/>
                    <a:pt x="1094899" y="1213961"/>
                    <a:pt x="1106329" y="1207294"/>
                  </a:cubicBezTo>
                  <a:lnTo>
                    <a:pt x="1106329" y="1245394"/>
                  </a:lnTo>
                  <a:lnTo>
                    <a:pt x="1191101" y="1245394"/>
                  </a:lnTo>
                  <a:lnTo>
                    <a:pt x="1340644" y="1245394"/>
                  </a:lnTo>
                  <a:lnTo>
                    <a:pt x="1340644" y="1009174"/>
                  </a:lnTo>
                  <a:lnTo>
                    <a:pt x="1195864" y="1009174"/>
                  </a:lnTo>
                  <a:lnTo>
                    <a:pt x="1111091" y="1009174"/>
                  </a:lnTo>
                  <a:lnTo>
                    <a:pt x="1111091" y="1068229"/>
                  </a:lnTo>
                  <a:lnTo>
                    <a:pt x="1045369" y="1092042"/>
                  </a:lnTo>
                  <a:cubicBezTo>
                    <a:pt x="1045369" y="1092042"/>
                    <a:pt x="1014889" y="1074896"/>
                    <a:pt x="969169" y="1097756"/>
                  </a:cubicBezTo>
                  <a:cubicBezTo>
                    <a:pt x="922496" y="1121569"/>
                    <a:pt x="857726" y="1167289"/>
                    <a:pt x="847249" y="1189196"/>
                  </a:cubicBezTo>
                  <a:cubicBezTo>
                    <a:pt x="847249" y="1189196"/>
                    <a:pt x="846296" y="1190149"/>
                    <a:pt x="846296" y="1191101"/>
                  </a:cubicBezTo>
                  <a:cubicBezTo>
                    <a:pt x="841534" y="1197769"/>
                    <a:pt x="831056" y="1210151"/>
                    <a:pt x="819626" y="1221581"/>
                  </a:cubicBezTo>
                  <a:cubicBezTo>
                    <a:pt x="812959" y="1228249"/>
                    <a:pt x="805339" y="1234917"/>
                    <a:pt x="798671" y="1241584"/>
                  </a:cubicBezTo>
                  <a:cubicBezTo>
                    <a:pt x="792956" y="1246346"/>
                    <a:pt x="785336" y="1253014"/>
                    <a:pt x="777716" y="1258729"/>
                  </a:cubicBezTo>
                  <a:lnTo>
                    <a:pt x="736759" y="1206342"/>
                  </a:lnTo>
                  <a:lnTo>
                    <a:pt x="973931" y="751046"/>
                  </a:lnTo>
                  <a:lnTo>
                    <a:pt x="782479" y="650081"/>
                  </a:lnTo>
                  <a:cubicBezTo>
                    <a:pt x="837724" y="610076"/>
                    <a:pt x="949166" y="518636"/>
                    <a:pt x="915829" y="444341"/>
                  </a:cubicBezTo>
                  <a:lnTo>
                    <a:pt x="946309" y="431006"/>
                  </a:lnTo>
                  <a:lnTo>
                    <a:pt x="959644" y="456724"/>
                  </a:lnTo>
                  <a:lnTo>
                    <a:pt x="1035844" y="417671"/>
                  </a:lnTo>
                  <a:lnTo>
                    <a:pt x="1035844" y="416719"/>
                  </a:lnTo>
                  <a:lnTo>
                    <a:pt x="1341596" y="256699"/>
                  </a:lnTo>
                  <a:lnTo>
                    <a:pt x="1341596" y="7144"/>
                  </a:lnTo>
                  <a:lnTo>
                    <a:pt x="1340644" y="7144"/>
                  </a:lnTo>
                  <a:close/>
                  <a:moveTo>
                    <a:pt x="644366" y="592931"/>
                  </a:moveTo>
                  <a:lnTo>
                    <a:pt x="631031" y="585311"/>
                  </a:lnTo>
                  <a:cubicBezTo>
                    <a:pt x="670084" y="565309"/>
                    <a:pt x="702469" y="548164"/>
                    <a:pt x="706279" y="548164"/>
                  </a:cubicBezTo>
                  <a:cubicBezTo>
                    <a:pt x="710089" y="547211"/>
                    <a:pt x="680561" y="568167"/>
                    <a:pt x="644366" y="592931"/>
                  </a:cubicBezTo>
                  <a:close/>
                  <a:moveTo>
                    <a:pt x="678656" y="484346"/>
                  </a:moveTo>
                  <a:cubicBezTo>
                    <a:pt x="683419" y="485299"/>
                    <a:pt x="627221" y="518636"/>
                    <a:pt x="568166" y="552926"/>
                  </a:cubicBezTo>
                  <a:lnTo>
                    <a:pt x="547211" y="541496"/>
                  </a:lnTo>
                  <a:cubicBezTo>
                    <a:pt x="601504" y="515779"/>
                    <a:pt x="672941" y="483394"/>
                    <a:pt x="678656" y="484346"/>
                  </a:cubicBezTo>
                  <a:close/>
                  <a:moveTo>
                    <a:pt x="715804" y="630079"/>
                  </a:moveTo>
                  <a:lnTo>
                    <a:pt x="744379" y="615792"/>
                  </a:lnTo>
                  <a:lnTo>
                    <a:pt x="726281" y="634842"/>
                  </a:lnTo>
                  <a:lnTo>
                    <a:pt x="715804" y="630079"/>
                  </a:lnTo>
                  <a:close/>
                </a:path>
              </a:pathLst>
            </a:custGeom>
            <a:solidFill>
              <a:srgbClr val="121413">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0" name="任意多边形: 形状 83"/>
            <p:cNvSpPr/>
            <p:nvPr/>
          </p:nvSpPr>
          <p:spPr>
            <a:xfrm>
              <a:off x="8676720" y="3005640"/>
              <a:ext cx="2567880" cy="2343600"/>
            </a:xfrm>
            <a:custGeom>
              <a:avLst/>
              <a:gdLst>
                <a:gd name="textAreaLeft" fmla="*/ 0 w 2567880"/>
                <a:gd name="textAreaRight" fmla="*/ 2568240 w 2567880"/>
                <a:gd name="textAreaTop" fmla="*/ 0 h 2343600"/>
                <a:gd name="textAreaBottom" fmla="*/ 2343960 h 2343600"/>
              </a:gdLst>
              <a:ahLst/>
              <a:rect l="textAreaLeft" t="textAreaTop" r="textAreaRight" b="textAreaBottom"/>
              <a:pathLst>
                <a:path w="981075" h="895350">
                  <a:moveTo>
                    <a:pt x="199549" y="625316"/>
                  </a:moveTo>
                  <a:cubicBezTo>
                    <a:pt x="198596" y="615791"/>
                    <a:pt x="205264" y="610076"/>
                    <a:pt x="208121" y="607219"/>
                  </a:cubicBezTo>
                  <a:cubicBezTo>
                    <a:pt x="214789" y="608171"/>
                    <a:pt x="222409" y="605314"/>
                    <a:pt x="226219" y="598646"/>
                  </a:cubicBezTo>
                  <a:cubicBezTo>
                    <a:pt x="230981" y="590074"/>
                    <a:pt x="227171" y="579596"/>
                    <a:pt x="218599" y="575786"/>
                  </a:cubicBezTo>
                  <a:cubicBezTo>
                    <a:pt x="210026" y="571024"/>
                    <a:pt x="199549" y="574834"/>
                    <a:pt x="195739" y="582454"/>
                  </a:cubicBezTo>
                  <a:cubicBezTo>
                    <a:pt x="191929" y="589121"/>
                    <a:pt x="193834" y="596741"/>
                    <a:pt x="198596" y="602456"/>
                  </a:cubicBezTo>
                  <a:cubicBezTo>
                    <a:pt x="198596" y="603409"/>
                    <a:pt x="197644" y="604361"/>
                    <a:pt x="197644" y="606266"/>
                  </a:cubicBezTo>
                  <a:cubicBezTo>
                    <a:pt x="196691" y="611029"/>
                    <a:pt x="188119" y="616744"/>
                    <a:pt x="183356" y="619601"/>
                  </a:cubicBezTo>
                  <a:lnTo>
                    <a:pt x="147161" y="600551"/>
                  </a:lnTo>
                  <a:cubicBezTo>
                    <a:pt x="147161" y="599599"/>
                    <a:pt x="147161" y="599599"/>
                    <a:pt x="147161" y="598646"/>
                  </a:cubicBezTo>
                  <a:cubicBezTo>
                    <a:pt x="146209" y="589121"/>
                    <a:pt x="152876" y="583406"/>
                    <a:pt x="155734" y="580549"/>
                  </a:cubicBezTo>
                  <a:cubicBezTo>
                    <a:pt x="162401" y="581501"/>
                    <a:pt x="170021" y="578644"/>
                    <a:pt x="173831" y="571976"/>
                  </a:cubicBezTo>
                  <a:cubicBezTo>
                    <a:pt x="178594" y="563404"/>
                    <a:pt x="174784" y="552926"/>
                    <a:pt x="166211" y="549116"/>
                  </a:cubicBezTo>
                  <a:cubicBezTo>
                    <a:pt x="157639" y="544354"/>
                    <a:pt x="147161" y="548164"/>
                    <a:pt x="143351" y="555784"/>
                  </a:cubicBezTo>
                  <a:cubicBezTo>
                    <a:pt x="139541" y="562451"/>
                    <a:pt x="141446" y="570071"/>
                    <a:pt x="146209" y="575786"/>
                  </a:cubicBezTo>
                  <a:cubicBezTo>
                    <a:pt x="146209" y="576739"/>
                    <a:pt x="145256" y="577691"/>
                    <a:pt x="145256" y="579596"/>
                  </a:cubicBezTo>
                  <a:cubicBezTo>
                    <a:pt x="144304" y="584359"/>
                    <a:pt x="135731" y="590074"/>
                    <a:pt x="130969" y="592931"/>
                  </a:cubicBezTo>
                  <a:lnTo>
                    <a:pt x="94774" y="573881"/>
                  </a:lnTo>
                  <a:cubicBezTo>
                    <a:pt x="94774" y="572929"/>
                    <a:pt x="94774" y="572929"/>
                    <a:pt x="94774" y="571976"/>
                  </a:cubicBezTo>
                  <a:cubicBezTo>
                    <a:pt x="93821" y="562451"/>
                    <a:pt x="100489" y="556736"/>
                    <a:pt x="103346" y="553879"/>
                  </a:cubicBezTo>
                  <a:cubicBezTo>
                    <a:pt x="110014" y="554831"/>
                    <a:pt x="117634" y="551974"/>
                    <a:pt x="121444" y="545306"/>
                  </a:cubicBezTo>
                  <a:cubicBezTo>
                    <a:pt x="126206" y="536734"/>
                    <a:pt x="122396" y="526256"/>
                    <a:pt x="113824" y="522446"/>
                  </a:cubicBezTo>
                  <a:cubicBezTo>
                    <a:pt x="105251" y="517684"/>
                    <a:pt x="94774" y="521494"/>
                    <a:pt x="90964" y="529114"/>
                  </a:cubicBezTo>
                  <a:cubicBezTo>
                    <a:pt x="87154" y="535781"/>
                    <a:pt x="89059" y="543401"/>
                    <a:pt x="93821" y="549116"/>
                  </a:cubicBezTo>
                  <a:cubicBezTo>
                    <a:pt x="93821" y="550069"/>
                    <a:pt x="92869" y="551021"/>
                    <a:pt x="92869" y="552926"/>
                  </a:cubicBezTo>
                  <a:cubicBezTo>
                    <a:pt x="91916" y="557689"/>
                    <a:pt x="83344" y="563404"/>
                    <a:pt x="78581" y="566261"/>
                  </a:cubicBezTo>
                  <a:lnTo>
                    <a:pt x="42386" y="547211"/>
                  </a:lnTo>
                  <a:cubicBezTo>
                    <a:pt x="42386" y="546259"/>
                    <a:pt x="42386" y="546259"/>
                    <a:pt x="42386" y="545306"/>
                  </a:cubicBezTo>
                  <a:cubicBezTo>
                    <a:pt x="41434" y="535781"/>
                    <a:pt x="48101" y="530066"/>
                    <a:pt x="50959" y="527209"/>
                  </a:cubicBezTo>
                  <a:cubicBezTo>
                    <a:pt x="57626" y="528161"/>
                    <a:pt x="65246" y="525304"/>
                    <a:pt x="69056" y="518636"/>
                  </a:cubicBezTo>
                  <a:cubicBezTo>
                    <a:pt x="73819" y="510064"/>
                    <a:pt x="70009" y="499586"/>
                    <a:pt x="61436" y="495776"/>
                  </a:cubicBezTo>
                  <a:cubicBezTo>
                    <a:pt x="52864" y="491014"/>
                    <a:pt x="42386" y="494824"/>
                    <a:pt x="38576" y="502444"/>
                  </a:cubicBezTo>
                  <a:cubicBezTo>
                    <a:pt x="34766" y="509111"/>
                    <a:pt x="36671" y="516731"/>
                    <a:pt x="41434" y="522446"/>
                  </a:cubicBezTo>
                  <a:cubicBezTo>
                    <a:pt x="41434" y="523399"/>
                    <a:pt x="40481" y="524351"/>
                    <a:pt x="40481" y="526256"/>
                  </a:cubicBezTo>
                  <a:cubicBezTo>
                    <a:pt x="39529" y="531019"/>
                    <a:pt x="30956" y="536734"/>
                    <a:pt x="26194" y="539591"/>
                  </a:cubicBezTo>
                  <a:lnTo>
                    <a:pt x="7144" y="529114"/>
                  </a:lnTo>
                  <a:lnTo>
                    <a:pt x="278606" y="7144"/>
                  </a:lnTo>
                  <a:lnTo>
                    <a:pt x="974884" y="373856"/>
                  </a:lnTo>
                  <a:lnTo>
                    <a:pt x="703421" y="895826"/>
                  </a:lnTo>
                  <a:lnTo>
                    <a:pt x="676751" y="881539"/>
                  </a:lnTo>
                  <a:cubicBezTo>
                    <a:pt x="676751" y="880586"/>
                    <a:pt x="676751" y="880586"/>
                    <a:pt x="676751" y="879634"/>
                  </a:cubicBezTo>
                  <a:cubicBezTo>
                    <a:pt x="675799" y="870109"/>
                    <a:pt x="682466" y="864394"/>
                    <a:pt x="685324" y="861536"/>
                  </a:cubicBezTo>
                  <a:cubicBezTo>
                    <a:pt x="691991" y="862489"/>
                    <a:pt x="699611" y="859631"/>
                    <a:pt x="703421" y="852964"/>
                  </a:cubicBezTo>
                  <a:cubicBezTo>
                    <a:pt x="708184" y="844391"/>
                    <a:pt x="704374" y="833914"/>
                    <a:pt x="695801" y="830104"/>
                  </a:cubicBezTo>
                  <a:cubicBezTo>
                    <a:pt x="687229" y="825341"/>
                    <a:pt x="676751" y="829151"/>
                    <a:pt x="672941" y="836771"/>
                  </a:cubicBezTo>
                  <a:cubicBezTo>
                    <a:pt x="669131" y="843439"/>
                    <a:pt x="671036" y="851059"/>
                    <a:pt x="675799" y="856774"/>
                  </a:cubicBezTo>
                  <a:cubicBezTo>
                    <a:pt x="675799" y="857726"/>
                    <a:pt x="674846" y="858679"/>
                    <a:pt x="674846" y="860584"/>
                  </a:cubicBezTo>
                  <a:cubicBezTo>
                    <a:pt x="673894" y="865346"/>
                    <a:pt x="665321" y="871061"/>
                    <a:pt x="660559" y="873919"/>
                  </a:cubicBezTo>
                  <a:lnTo>
                    <a:pt x="624364" y="854869"/>
                  </a:lnTo>
                  <a:cubicBezTo>
                    <a:pt x="624364" y="853916"/>
                    <a:pt x="624364" y="853916"/>
                    <a:pt x="624364" y="852964"/>
                  </a:cubicBezTo>
                  <a:cubicBezTo>
                    <a:pt x="623411" y="843439"/>
                    <a:pt x="630079" y="837724"/>
                    <a:pt x="632936" y="834866"/>
                  </a:cubicBezTo>
                  <a:cubicBezTo>
                    <a:pt x="639604" y="835819"/>
                    <a:pt x="647224" y="832961"/>
                    <a:pt x="651034" y="826294"/>
                  </a:cubicBezTo>
                  <a:cubicBezTo>
                    <a:pt x="655796" y="817721"/>
                    <a:pt x="651986" y="807244"/>
                    <a:pt x="643414" y="803434"/>
                  </a:cubicBezTo>
                  <a:cubicBezTo>
                    <a:pt x="634841" y="798671"/>
                    <a:pt x="624364" y="802481"/>
                    <a:pt x="620554" y="810101"/>
                  </a:cubicBezTo>
                  <a:cubicBezTo>
                    <a:pt x="616744" y="816769"/>
                    <a:pt x="618649" y="824389"/>
                    <a:pt x="623411" y="830104"/>
                  </a:cubicBezTo>
                  <a:cubicBezTo>
                    <a:pt x="623411" y="831056"/>
                    <a:pt x="622459" y="832009"/>
                    <a:pt x="622459" y="833914"/>
                  </a:cubicBezTo>
                  <a:cubicBezTo>
                    <a:pt x="621506" y="838676"/>
                    <a:pt x="612934" y="844391"/>
                    <a:pt x="608171" y="847249"/>
                  </a:cubicBezTo>
                  <a:lnTo>
                    <a:pt x="571976" y="828199"/>
                  </a:lnTo>
                  <a:cubicBezTo>
                    <a:pt x="571976" y="827246"/>
                    <a:pt x="571976" y="827246"/>
                    <a:pt x="571976" y="826294"/>
                  </a:cubicBezTo>
                  <a:cubicBezTo>
                    <a:pt x="571024" y="816769"/>
                    <a:pt x="577691" y="811054"/>
                    <a:pt x="580549" y="808196"/>
                  </a:cubicBezTo>
                  <a:cubicBezTo>
                    <a:pt x="587216" y="809149"/>
                    <a:pt x="594836" y="806291"/>
                    <a:pt x="598646" y="799624"/>
                  </a:cubicBezTo>
                  <a:cubicBezTo>
                    <a:pt x="603409" y="791051"/>
                    <a:pt x="599599" y="780574"/>
                    <a:pt x="591026" y="776764"/>
                  </a:cubicBezTo>
                  <a:cubicBezTo>
                    <a:pt x="582454" y="772001"/>
                    <a:pt x="571976" y="775811"/>
                    <a:pt x="568166" y="783431"/>
                  </a:cubicBezTo>
                  <a:cubicBezTo>
                    <a:pt x="564356" y="790099"/>
                    <a:pt x="566261" y="797719"/>
                    <a:pt x="571024" y="803434"/>
                  </a:cubicBezTo>
                  <a:cubicBezTo>
                    <a:pt x="571024" y="804386"/>
                    <a:pt x="570071" y="805339"/>
                    <a:pt x="570071" y="807244"/>
                  </a:cubicBezTo>
                  <a:cubicBezTo>
                    <a:pt x="569119" y="812006"/>
                    <a:pt x="560546" y="817721"/>
                    <a:pt x="555784" y="820579"/>
                  </a:cubicBezTo>
                  <a:lnTo>
                    <a:pt x="519589" y="801529"/>
                  </a:lnTo>
                  <a:cubicBezTo>
                    <a:pt x="519589" y="800576"/>
                    <a:pt x="519589" y="800576"/>
                    <a:pt x="519589" y="799624"/>
                  </a:cubicBezTo>
                  <a:cubicBezTo>
                    <a:pt x="518636" y="790099"/>
                    <a:pt x="525304" y="784384"/>
                    <a:pt x="528161" y="781526"/>
                  </a:cubicBezTo>
                  <a:cubicBezTo>
                    <a:pt x="534829" y="782479"/>
                    <a:pt x="542449" y="779621"/>
                    <a:pt x="546259" y="772954"/>
                  </a:cubicBezTo>
                  <a:cubicBezTo>
                    <a:pt x="551021" y="764381"/>
                    <a:pt x="547211" y="753904"/>
                    <a:pt x="538639" y="750094"/>
                  </a:cubicBezTo>
                  <a:cubicBezTo>
                    <a:pt x="530066" y="745331"/>
                    <a:pt x="519589" y="749141"/>
                    <a:pt x="515779" y="756761"/>
                  </a:cubicBezTo>
                  <a:cubicBezTo>
                    <a:pt x="511969" y="763429"/>
                    <a:pt x="513874" y="771049"/>
                    <a:pt x="518636" y="776764"/>
                  </a:cubicBezTo>
                  <a:cubicBezTo>
                    <a:pt x="518636" y="777716"/>
                    <a:pt x="517684" y="778669"/>
                    <a:pt x="517684" y="780574"/>
                  </a:cubicBezTo>
                  <a:cubicBezTo>
                    <a:pt x="516731" y="785336"/>
                    <a:pt x="508159" y="791051"/>
                    <a:pt x="503396" y="793909"/>
                  </a:cubicBezTo>
                  <a:lnTo>
                    <a:pt x="467201" y="774859"/>
                  </a:lnTo>
                  <a:cubicBezTo>
                    <a:pt x="467201" y="773906"/>
                    <a:pt x="467201" y="773906"/>
                    <a:pt x="467201" y="772954"/>
                  </a:cubicBezTo>
                  <a:cubicBezTo>
                    <a:pt x="466249" y="763429"/>
                    <a:pt x="472916" y="757714"/>
                    <a:pt x="475774" y="754856"/>
                  </a:cubicBezTo>
                  <a:cubicBezTo>
                    <a:pt x="482441" y="755809"/>
                    <a:pt x="490061" y="752951"/>
                    <a:pt x="493871" y="746284"/>
                  </a:cubicBezTo>
                  <a:cubicBezTo>
                    <a:pt x="498634" y="737711"/>
                    <a:pt x="494824" y="727234"/>
                    <a:pt x="486251" y="723424"/>
                  </a:cubicBezTo>
                  <a:cubicBezTo>
                    <a:pt x="477679" y="718661"/>
                    <a:pt x="467201" y="722471"/>
                    <a:pt x="463391" y="730091"/>
                  </a:cubicBezTo>
                  <a:cubicBezTo>
                    <a:pt x="459581" y="736759"/>
                    <a:pt x="461486" y="744379"/>
                    <a:pt x="466249" y="750094"/>
                  </a:cubicBezTo>
                  <a:cubicBezTo>
                    <a:pt x="466249" y="751046"/>
                    <a:pt x="465296" y="751999"/>
                    <a:pt x="465296" y="753904"/>
                  </a:cubicBezTo>
                  <a:cubicBezTo>
                    <a:pt x="464344" y="758666"/>
                    <a:pt x="455771" y="764381"/>
                    <a:pt x="451009" y="767239"/>
                  </a:cubicBezTo>
                  <a:lnTo>
                    <a:pt x="414814" y="748189"/>
                  </a:lnTo>
                  <a:cubicBezTo>
                    <a:pt x="414814" y="747236"/>
                    <a:pt x="414814" y="747236"/>
                    <a:pt x="414814" y="746284"/>
                  </a:cubicBezTo>
                  <a:cubicBezTo>
                    <a:pt x="413861" y="736759"/>
                    <a:pt x="420529" y="731044"/>
                    <a:pt x="423386" y="728186"/>
                  </a:cubicBezTo>
                  <a:cubicBezTo>
                    <a:pt x="430054" y="729139"/>
                    <a:pt x="437674" y="726281"/>
                    <a:pt x="441484" y="719614"/>
                  </a:cubicBezTo>
                  <a:cubicBezTo>
                    <a:pt x="446246" y="711041"/>
                    <a:pt x="442436" y="700564"/>
                    <a:pt x="433864" y="696754"/>
                  </a:cubicBezTo>
                  <a:cubicBezTo>
                    <a:pt x="425291" y="691991"/>
                    <a:pt x="414814" y="695801"/>
                    <a:pt x="411004" y="703421"/>
                  </a:cubicBezTo>
                  <a:cubicBezTo>
                    <a:pt x="407194" y="710089"/>
                    <a:pt x="409099" y="717709"/>
                    <a:pt x="413861" y="723424"/>
                  </a:cubicBezTo>
                  <a:cubicBezTo>
                    <a:pt x="413861" y="724376"/>
                    <a:pt x="412909" y="725329"/>
                    <a:pt x="412909" y="727234"/>
                  </a:cubicBezTo>
                  <a:cubicBezTo>
                    <a:pt x="411956" y="731996"/>
                    <a:pt x="403384" y="737711"/>
                    <a:pt x="398621" y="740569"/>
                  </a:cubicBezTo>
                  <a:lnTo>
                    <a:pt x="362426" y="721519"/>
                  </a:lnTo>
                  <a:cubicBezTo>
                    <a:pt x="362426" y="720566"/>
                    <a:pt x="362426" y="719614"/>
                    <a:pt x="362426" y="719614"/>
                  </a:cubicBezTo>
                  <a:cubicBezTo>
                    <a:pt x="361474" y="710089"/>
                    <a:pt x="368141" y="704374"/>
                    <a:pt x="370999" y="701516"/>
                  </a:cubicBezTo>
                  <a:cubicBezTo>
                    <a:pt x="377666" y="702469"/>
                    <a:pt x="385286" y="699611"/>
                    <a:pt x="389096" y="692944"/>
                  </a:cubicBezTo>
                  <a:cubicBezTo>
                    <a:pt x="393859" y="684371"/>
                    <a:pt x="390049" y="673894"/>
                    <a:pt x="381476" y="670084"/>
                  </a:cubicBezTo>
                  <a:cubicBezTo>
                    <a:pt x="372904" y="665321"/>
                    <a:pt x="362426" y="669131"/>
                    <a:pt x="358616" y="676751"/>
                  </a:cubicBezTo>
                  <a:cubicBezTo>
                    <a:pt x="354806" y="683419"/>
                    <a:pt x="356711" y="691039"/>
                    <a:pt x="361474" y="696754"/>
                  </a:cubicBezTo>
                  <a:cubicBezTo>
                    <a:pt x="361474" y="697706"/>
                    <a:pt x="360521" y="698659"/>
                    <a:pt x="360521" y="700564"/>
                  </a:cubicBezTo>
                  <a:cubicBezTo>
                    <a:pt x="359569" y="705326"/>
                    <a:pt x="350996" y="711041"/>
                    <a:pt x="346234" y="713899"/>
                  </a:cubicBezTo>
                  <a:lnTo>
                    <a:pt x="310039" y="694849"/>
                  </a:lnTo>
                  <a:cubicBezTo>
                    <a:pt x="310039" y="693896"/>
                    <a:pt x="310039" y="692944"/>
                    <a:pt x="310039" y="692944"/>
                  </a:cubicBezTo>
                  <a:cubicBezTo>
                    <a:pt x="309086" y="683419"/>
                    <a:pt x="315754" y="677704"/>
                    <a:pt x="318611" y="674846"/>
                  </a:cubicBezTo>
                  <a:cubicBezTo>
                    <a:pt x="325279" y="675799"/>
                    <a:pt x="332899" y="672941"/>
                    <a:pt x="336709" y="666274"/>
                  </a:cubicBezTo>
                  <a:cubicBezTo>
                    <a:pt x="341471" y="657701"/>
                    <a:pt x="337661" y="647224"/>
                    <a:pt x="329089" y="643414"/>
                  </a:cubicBezTo>
                  <a:cubicBezTo>
                    <a:pt x="320516" y="638651"/>
                    <a:pt x="310039" y="642461"/>
                    <a:pt x="306229" y="650081"/>
                  </a:cubicBezTo>
                  <a:cubicBezTo>
                    <a:pt x="302419" y="656749"/>
                    <a:pt x="304324" y="664369"/>
                    <a:pt x="309086" y="670084"/>
                  </a:cubicBezTo>
                  <a:cubicBezTo>
                    <a:pt x="309086" y="671036"/>
                    <a:pt x="308134" y="671989"/>
                    <a:pt x="308134" y="673894"/>
                  </a:cubicBezTo>
                  <a:cubicBezTo>
                    <a:pt x="307181" y="678656"/>
                    <a:pt x="298609" y="684371"/>
                    <a:pt x="293846" y="687229"/>
                  </a:cubicBezTo>
                  <a:lnTo>
                    <a:pt x="257651" y="668179"/>
                  </a:lnTo>
                  <a:cubicBezTo>
                    <a:pt x="257651" y="667226"/>
                    <a:pt x="257651" y="667226"/>
                    <a:pt x="257651" y="666274"/>
                  </a:cubicBezTo>
                  <a:cubicBezTo>
                    <a:pt x="256699" y="656749"/>
                    <a:pt x="263366" y="651034"/>
                    <a:pt x="266224" y="648176"/>
                  </a:cubicBezTo>
                  <a:cubicBezTo>
                    <a:pt x="272891" y="649129"/>
                    <a:pt x="280511" y="646271"/>
                    <a:pt x="284321" y="639604"/>
                  </a:cubicBezTo>
                  <a:cubicBezTo>
                    <a:pt x="289084" y="631031"/>
                    <a:pt x="285274" y="620554"/>
                    <a:pt x="276701" y="616744"/>
                  </a:cubicBezTo>
                  <a:cubicBezTo>
                    <a:pt x="268129" y="611981"/>
                    <a:pt x="257651" y="615791"/>
                    <a:pt x="253841" y="623411"/>
                  </a:cubicBezTo>
                  <a:cubicBezTo>
                    <a:pt x="250031" y="630079"/>
                    <a:pt x="251936" y="637699"/>
                    <a:pt x="256699" y="643414"/>
                  </a:cubicBezTo>
                  <a:cubicBezTo>
                    <a:pt x="256699" y="644366"/>
                    <a:pt x="255746" y="645319"/>
                    <a:pt x="255746" y="647224"/>
                  </a:cubicBezTo>
                  <a:cubicBezTo>
                    <a:pt x="254794" y="651986"/>
                    <a:pt x="246221" y="657701"/>
                    <a:pt x="241459" y="660559"/>
                  </a:cubicBezTo>
                  <a:lnTo>
                    <a:pt x="205264" y="641509"/>
                  </a:lnTo>
                  <a:cubicBezTo>
                    <a:pt x="199549" y="627221"/>
                    <a:pt x="199549" y="626269"/>
                    <a:pt x="199549" y="625316"/>
                  </a:cubicBezTo>
                  <a:close/>
                </a:path>
              </a:pathLst>
            </a:custGeom>
            <a:solidFill>
              <a:srgbClr val="f9f9f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1" name="任意多边形: 形状 84"/>
            <p:cNvSpPr/>
            <p:nvPr/>
          </p:nvSpPr>
          <p:spPr>
            <a:xfrm>
              <a:off x="9604080" y="3721320"/>
              <a:ext cx="922320" cy="1047240"/>
            </a:xfrm>
            <a:custGeom>
              <a:avLst/>
              <a:gdLst>
                <a:gd name="textAreaLeft" fmla="*/ 0 w 922320"/>
                <a:gd name="textAreaRight" fmla="*/ 922680 w 922320"/>
                <a:gd name="textAreaTop" fmla="*/ 0 h 1047240"/>
                <a:gd name="textAreaBottom" fmla="*/ 1047600 h 1047240"/>
              </a:gdLst>
              <a:ahLst/>
              <a:rect l="textAreaLeft" t="textAreaTop" r="textAreaRight" b="textAreaBottom"/>
              <a:pathLst>
                <a:path w="352425" h="400050">
                  <a:moveTo>
                    <a:pt x="138589" y="371951"/>
                  </a:moveTo>
                  <a:lnTo>
                    <a:pt x="15716" y="307181"/>
                  </a:lnTo>
                  <a:lnTo>
                    <a:pt x="7144" y="323374"/>
                  </a:lnTo>
                  <a:lnTo>
                    <a:pt x="147161" y="396716"/>
                  </a:lnTo>
                  <a:lnTo>
                    <a:pt x="155734" y="381476"/>
                  </a:lnTo>
                  <a:lnTo>
                    <a:pt x="348139" y="15716"/>
                  </a:lnTo>
                  <a:lnTo>
                    <a:pt x="330994" y="7144"/>
                  </a:lnTo>
                  <a:lnTo>
                    <a:pt x="138589" y="37195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2" name="任意多边形: 形状 85"/>
            <p:cNvSpPr/>
            <p:nvPr/>
          </p:nvSpPr>
          <p:spPr>
            <a:xfrm>
              <a:off x="9846720" y="4470840"/>
              <a:ext cx="174240" cy="174240"/>
            </a:xfrm>
            <a:custGeom>
              <a:avLst/>
              <a:gdLst>
                <a:gd name="textAreaLeft" fmla="*/ 0 w 174240"/>
                <a:gd name="textAreaRight" fmla="*/ 174600 w 174240"/>
                <a:gd name="textAreaTop" fmla="*/ 0 h 174240"/>
                <a:gd name="textAreaBottom" fmla="*/ 174600 h 174240"/>
              </a:gdLst>
              <a:ahLst/>
              <a:rect l="textAreaLeft" t="textAreaTop" r="textAreaRight" b="textAreaBottom"/>
              <a:pathLst>
                <a:path w="66675" h="66675">
                  <a:moveTo>
                    <a:pt x="9649" y="-23854"/>
                  </a:moveTo>
                  <a:lnTo>
                    <a:pt x="26505" y="9649"/>
                  </a:lnTo>
                  <a:lnTo>
                    <a:pt x="-1098" y="29610"/>
                  </a:lnTo>
                  <a:lnTo>
                    <a:pt x="-17954" y="-3893"/>
                  </a:lnTo>
                  <a:lnTo>
                    <a:pt x="9649" y="-2385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3" name="任意多边形: 形状 86"/>
            <p:cNvSpPr/>
            <p:nvPr/>
          </p:nvSpPr>
          <p:spPr>
            <a:xfrm>
              <a:off x="9877680" y="4331520"/>
              <a:ext cx="224280" cy="199440"/>
            </a:xfrm>
            <a:custGeom>
              <a:avLst/>
              <a:gdLst>
                <a:gd name="textAreaLeft" fmla="*/ 0 w 224280"/>
                <a:gd name="textAreaRight" fmla="*/ 224640 w 224280"/>
                <a:gd name="textAreaTop" fmla="*/ 0 h 199440"/>
                <a:gd name="textAreaBottom" fmla="*/ 199800 h 199440"/>
              </a:gdLst>
              <a:ahLst/>
              <a:rect l="textAreaLeft" t="textAreaTop" r="textAreaRight" b="textAreaBottom"/>
              <a:pathLst>
                <a:path w="85725" h="76200">
                  <a:moveTo>
                    <a:pt x="9649" y="41682"/>
                  </a:moveTo>
                  <a:lnTo>
                    <a:pt x="26505" y="9649"/>
                  </a:lnTo>
                  <a:lnTo>
                    <a:pt x="77083" y="36264"/>
                  </a:lnTo>
                  <a:lnTo>
                    <a:pt x="60227" y="68296"/>
                  </a:lnTo>
                  <a:lnTo>
                    <a:pt x="9649" y="41682"/>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4" name="任意多边形: 形状 87"/>
            <p:cNvSpPr/>
            <p:nvPr/>
          </p:nvSpPr>
          <p:spPr>
            <a:xfrm>
              <a:off x="9907560" y="4191480"/>
              <a:ext cx="249120" cy="199440"/>
            </a:xfrm>
            <a:custGeom>
              <a:avLst/>
              <a:gdLst>
                <a:gd name="textAreaLeft" fmla="*/ 0 w 249120"/>
                <a:gd name="textAreaRight" fmla="*/ 249480 w 249120"/>
                <a:gd name="textAreaTop" fmla="*/ 0 h 199440"/>
                <a:gd name="textAreaBottom" fmla="*/ 199800 h 199440"/>
              </a:gdLst>
              <a:ahLst/>
              <a:rect l="textAreaLeft" t="textAreaTop" r="textAreaRight" b="textAreaBottom"/>
              <a:pathLst>
                <a:path w="95250" h="76200">
                  <a:moveTo>
                    <a:pt x="9648" y="41684"/>
                  </a:moveTo>
                  <a:lnTo>
                    <a:pt x="26493" y="9648"/>
                  </a:lnTo>
                  <a:lnTo>
                    <a:pt x="89722" y="42895"/>
                  </a:lnTo>
                  <a:lnTo>
                    <a:pt x="72877" y="74931"/>
                  </a:lnTo>
                  <a:lnTo>
                    <a:pt x="9648" y="4168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5" name="任意多边形: 形状 88"/>
            <p:cNvSpPr/>
            <p:nvPr/>
          </p:nvSpPr>
          <p:spPr>
            <a:xfrm>
              <a:off x="9948600" y="4056120"/>
              <a:ext cx="273960" cy="224280"/>
            </a:xfrm>
            <a:custGeom>
              <a:avLst/>
              <a:gdLst>
                <a:gd name="textAreaLeft" fmla="*/ 0 w 273960"/>
                <a:gd name="textAreaRight" fmla="*/ 274320 w 273960"/>
                <a:gd name="textAreaTop" fmla="*/ 0 h 224280"/>
                <a:gd name="textAreaBottom" fmla="*/ 224640 h 224280"/>
              </a:gdLst>
              <a:ahLst/>
              <a:rect l="textAreaLeft" t="textAreaTop" r="textAreaRight" b="textAreaBottom"/>
              <a:pathLst>
                <a:path w="104775" h="85725">
                  <a:moveTo>
                    <a:pt x="9649" y="41682"/>
                  </a:moveTo>
                  <a:lnTo>
                    <a:pt x="26505" y="9649"/>
                  </a:lnTo>
                  <a:lnTo>
                    <a:pt x="99843" y="48241"/>
                  </a:lnTo>
                  <a:lnTo>
                    <a:pt x="82987" y="80273"/>
                  </a:lnTo>
                  <a:lnTo>
                    <a:pt x="9649" y="41682"/>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6" name="任意多边形: 形状 89"/>
            <p:cNvSpPr/>
            <p:nvPr/>
          </p:nvSpPr>
          <p:spPr>
            <a:xfrm>
              <a:off x="9988560" y="3921480"/>
              <a:ext cx="299160" cy="224280"/>
            </a:xfrm>
            <a:custGeom>
              <a:avLst/>
              <a:gdLst>
                <a:gd name="textAreaLeft" fmla="*/ 0 w 299160"/>
                <a:gd name="textAreaRight" fmla="*/ 299520 w 299160"/>
                <a:gd name="textAreaTop" fmla="*/ 0 h 224280"/>
                <a:gd name="textAreaBottom" fmla="*/ 224640 h 224280"/>
              </a:gdLst>
              <a:ahLst/>
              <a:rect l="textAreaLeft" t="textAreaTop" r="textAreaRight" b="textAreaBottom"/>
              <a:pathLst>
                <a:path w="114300" h="85725">
                  <a:moveTo>
                    <a:pt x="9651" y="41672"/>
                  </a:moveTo>
                  <a:lnTo>
                    <a:pt x="26525" y="9651"/>
                  </a:lnTo>
                  <a:lnTo>
                    <a:pt x="109107" y="53168"/>
                  </a:lnTo>
                  <a:lnTo>
                    <a:pt x="92233" y="85190"/>
                  </a:lnTo>
                  <a:lnTo>
                    <a:pt x="9651" y="41672"/>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7" name="任意多边形: 形状 90"/>
            <p:cNvSpPr/>
            <p:nvPr/>
          </p:nvSpPr>
          <p:spPr>
            <a:xfrm>
              <a:off x="10018800" y="3782520"/>
              <a:ext cx="324000" cy="249120"/>
            </a:xfrm>
            <a:custGeom>
              <a:avLst/>
              <a:gdLst>
                <a:gd name="textAreaLeft" fmla="*/ 0 w 324000"/>
                <a:gd name="textAreaRight" fmla="*/ 324360 w 324000"/>
                <a:gd name="textAreaTop" fmla="*/ 0 h 249120"/>
                <a:gd name="textAreaBottom" fmla="*/ 249480 h 249120"/>
              </a:gdLst>
              <a:ahLst/>
              <a:rect l="textAreaLeft" t="textAreaTop" r="textAreaRight" b="textAreaBottom"/>
              <a:pathLst>
                <a:path w="123825" h="95250">
                  <a:moveTo>
                    <a:pt x="9650" y="41671"/>
                  </a:moveTo>
                  <a:lnTo>
                    <a:pt x="26520" y="9650"/>
                  </a:lnTo>
                  <a:lnTo>
                    <a:pt x="121743" y="59817"/>
                  </a:lnTo>
                  <a:lnTo>
                    <a:pt x="104872" y="91839"/>
                  </a:lnTo>
                  <a:lnTo>
                    <a:pt x="9650" y="41671"/>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8" name="任意多边形: 形状 91"/>
            <p:cNvSpPr/>
            <p:nvPr/>
          </p:nvSpPr>
          <p:spPr>
            <a:xfrm>
              <a:off x="10049760" y="3643200"/>
              <a:ext cx="373680" cy="273960"/>
            </a:xfrm>
            <a:custGeom>
              <a:avLst/>
              <a:gdLst>
                <a:gd name="textAreaLeft" fmla="*/ 0 w 373680"/>
                <a:gd name="textAreaRight" fmla="*/ 374040 w 373680"/>
                <a:gd name="textAreaTop" fmla="*/ 0 h 273960"/>
                <a:gd name="textAreaBottom" fmla="*/ 274320 h 273960"/>
              </a:gdLst>
              <a:ahLst/>
              <a:rect l="textAreaLeft" t="textAreaTop" r="textAreaRight" b="textAreaBottom"/>
              <a:pathLst>
                <a:path w="142875" h="104775">
                  <a:moveTo>
                    <a:pt x="9648" y="41684"/>
                  </a:moveTo>
                  <a:lnTo>
                    <a:pt x="26493" y="9648"/>
                  </a:lnTo>
                  <a:lnTo>
                    <a:pt x="134404" y="66389"/>
                  </a:lnTo>
                  <a:lnTo>
                    <a:pt x="117559" y="98425"/>
                  </a:lnTo>
                  <a:lnTo>
                    <a:pt x="9648" y="41684"/>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69" name="任意多边形: 形状 92"/>
            <p:cNvSpPr/>
            <p:nvPr/>
          </p:nvSpPr>
          <p:spPr>
            <a:xfrm>
              <a:off x="8888040" y="317628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3"/>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0" name="任意多边形: 形状 93"/>
            <p:cNvSpPr/>
            <p:nvPr/>
          </p:nvSpPr>
          <p:spPr>
            <a:xfrm>
              <a:off x="9046080" y="325944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3" y="9662"/>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1" name="任意多边形: 形状 94"/>
            <p:cNvSpPr/>
            <p:nvPr/>
          </p:nvSpPr>
          <p:spPr>
            <a:xfrm>
              <a:off x="9182520" y="333180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3" y="9662"/>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2" name="任意多边形: 形状 95"/>
            <p:cNvSpPr/>
            <p:nvPr/>
          </p:nvSpPr>
          <p:spPr>
            <a:xfrm>
              <a:off x="9337320" y="341604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3"/>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3" name="任意多边形: 形状 96"/>
            <p:cNvSpPr/>
            <p:nvPr/>
          </p:nvSpPr>
          <p:spPr>
            <a:xfrm>
              <a:off x="10081080" y="381060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2"/>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4" name="任意多边形: 形状 97"/>
            <p:cNvSpPr/>
            <p:nvPr/>
          </p:nvSpPr>
          <p:spPr>
            <a:xfrm>
              <a:off x="10235880" y="389520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3"/>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5" name="任意多边形: 形状 98"/>
            <p:cNvSpPr/>
            <p:nvPr/>
          </p:nvSpPr>
          <p:spPr>
            <a:xfrm>
              <a:off x="10372320" y="3967560"/>
              <a:ext cx="648000" cy="1096920"/>
            </a:xfrm>
            <a:custGeom>
              <a:avLst/>
              <a:gdLst>
                <a:gd name="textAreaLeft" fmla="*/ 0 w 648000"/>
                <a:gd name="textAreaRight" fmla="*/ 648360 w 648000"/>
                <a:gd name="textAreaTop" fmla="*/ 0 h 1096920"/>
                <a:gd name="textAreaBottom" fmla="*/ 1097280 h 1096920"/>
              </a:gdLst>
              <a:ahLst/>
              <a:rect l="textAreaLeft" t="textAreaTop" r="textAreaRight" b="textAreaBottom"/>
              <a:pathLst>
                <a:path w="247650" h="419100">
                  <a:moveTo>
                    <a:pt x="9663" y="402303"/>
                  </a:moveTo>
                  <a:lnTo>
                    <a:pt x="218682" y="9663"/>
                  </a:lnTo>
                  <a:lnTo>
                    <a:pt x="247269" y="24880"/>
                  </a:lnTo>
                  <a:lnTo>
                    <a:pt x="38249" y="417521"/>
                  </a:lnTo>
                  <a:lnTo>
                    <a:pt x="9663" y="402303"/>
                  </a:lnTo>
                  <a:close/>
                </a:path>
              </a:pathLst>
            </a:custGeom>
            <a:solidFill>
              <a:srgbClr val="e1e5e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6" name="任意多边形: 形状 99"/>
            <p:cNvSpPr/>
            <p:nvPr/>
          </p:nvSpPr>
          <p:spPr>
            <a:xfrm>
              <a:off x="10553760" y="4776120"/>
              <a:ext cx="1072080" cy="972360"/>
            </a:xfrm>
            <a:custGeom>
              <a:avLst/>
              <a:gdLst>
                <a:gd name="textAreaLeft" fmla="*/ 0 w 1072080"/>
                <a:gd name="textAreaRight" fmla="*/ 1072440 w 1072080"/>
                <a:gd name="textAreaTop" fmla="*/ 0 h 972360"/>
                <a:gd name="textAreaBottom" fmla="*/ 972720 h 972360"/>
              </a:gdLst>
              <a:ahLst/>
              <a:rect l="textAreaLeft" t="textAreaTop" r="textAreaRight" b="textAreaBottom"/>
              <a:pathLst>
                <a:path w="409575" h="371475">
                  <a:moveTo>
                    <a:pt x="27264" y="198596"/>
                  </a:moveTo>
                  <a:cubicBezTo>
                    <a:pt x="27264" y="198596"/>
                    <a:pt x="5356" y="244316"/>
                    <a:pt x="7261" y="257651"/>
                  </a:cubicBezTo>
                  <a:cubicBezTo>
                    <a:pt x="8214" y="270986"/>
                    <a:pt x="72031" y="360521"/>
                    <a:pt x="88224" y="364331"/>
                  </a:cubicBezTo>
                  <a:cubicBezTo>
                    <a:pt x="103464" y="368141"/>
                    <a:pt x="236814" y="349091"/>
                    <a:pt x="261579" y="332899"/>
                  </a:cubicBezTo>
                  <a:cubicBezTo>
                    <a:pt x="286344" y="316706"/>
                    <a:pt x="334921" y="211931"/>
                    <a:pt x="353971" y="185261"/>
                  </a:cubicBezTo>
                  <a:cubicBezTo>
                    <a:pt x="374926" y="156686"/>
                    <a:pt x="406359" y="142399"/>
                    <a:pt x="406359" y="142399"/>
                  </a:cubicBezTo>
                  <a:lnTo>
                    <a:pt x="404454" y="7144"/>
                  </a:lnTo>
                  <a:lnTo>
                    <a:pt x="329206" y="34766"/>
                  </a:lnTo>
                  <a:cubicBezTo>
                    <a:pt x="329206" y="34766"/>
                    <a:pt x="298726" y="17621"/>
                    <a:pt x="253006" y="40481"/>
                  </a:cubicBezTo>
                  <a:cubicBezTo>
                    <a:pt x="206334" y="64294"/>
                    <a:pt x="141564" y="110014"/>
                    <a:pt x="131086" y="131921"/>
                  </a:cubicBezTo>
                  <a:cubicBezTo>
                    <a:pt x="120609" y="153829"/>
                    <a:pt x="38694" y="222409"/>
                    <a:pt x="38694" y="222409"/>
                  </a:cubicBezTo>
                  <a:lnTo>
                    <a:pt x="27264" y="198596"/>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7" name="任意多边形: 形状 100"/>
            <p:cNvSpPr/>
            <p:nvPr/>
          </p:nvSpPr>
          <p:spPr>
            <a:xfrm>
              <a:off x="10860120" y="5579280"/>
              <a:ext cx="174240" cy="174240"/>
            </a:xfrm>
            <a:custGeom>
              <a:avLst/>
              <a:gdLst>
                <a:gd name="textAreaLeft" fmla="*/ 0 w 174240"/>
                <a:gd name="textAreaRight" fmla="*/ 174600 w 174240"/>
                <a:gd name="textAreaTop" fmla="*/ 0 h 174240"/>
                <a:gd name="textAreaBottom" fmla="*/ 174600 h 174240"/>
              </a:gdLst>
              <a:ahLst/>
              <a:rect l="textAreaLeft" t="textAreaTop" r="textAreaRight" b="textAreaBottom"/>
              <a:pathLst>
                <a:path w="66675" h="66675">
                  <a:moveTo>
                    <a:pt x="30277" y="59361"/>
                  </a:moveTo>
                  <a:cubicBezTo>
                    <a:pt x="35040" y="65076"/>
                    <a:pt x="42660" y="67934"/>
                    <a:pt x="46470" y="64124"/>
                  </a:cubicBezTo>
                  <a:lnTo>
                    <a:pt x="57900" y="55551"/>
                  </a:lnTo>
                  <a:cubicBezTo>
                    <a:pt x="62662" y="51741"/>
                    <a:pt x="61710" y="44121"/>
                    <a:pt x="56947" y="38406"/>
                  </a:cubicBezTo>
                  <a:lnTo>
                    <a:pt x="37897" y="13641"/>
                  </a:lnTo>
                  <a:cubicBezTo>
                    <a:pt x="33135" y="7926"/>
                    <a:pt x="25515" y="5069"/>
                    <a:pt x="21705" y="8879"/>
                  </a:cubicBezTo>
                  <a:lnTo>
                    <a:pt x="10275" y="17451"/>
                  </a:lnTo>
                  <a:cubicBezTo>
                    <a:pt x="5512" y="21261"/>
                    <a:pt x="6465" y="28881"/>
                    <a:pt x="11227" y="34596"/>
                  </a:cubicBezTo>
                  <a:lnTo>
                    <a:pt x="30277" y="59361"/>
                  </a:lnTo>
                  <a:close/>
                </a:path>
              </a:pathLst>
            </a:custGeom>
            <a:solidFill>
              <a:srgbClr val="df71a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78" name="任意多边形: 形状 101"/>
            <p:cNvSpPr/>
            <p:nvPr/>
          </p:nvSpPr>
          <p:spPr>
            <a:xfrm>
              <a:off x="10147680" y="4671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8575" h="28575">
                  <a:moveTo>
                    <a:pt x="22384" y="17621"/>
                  </a:moveTo>
                  <a:lnTo>
                    <a:pt x="14764" y="24289"/>
                  </a:lnTo>
                  <a:lnTo>
                    <a:pt x="7144" y="7144"/>
                  </a:lnTo>
                  <a:lnTo>
                    <a:pt x="22384" y="17621"/>
                  </a:lnTo>
                  <a:close/>
                </a:path>
              </a:pathLst>
            </a:custGeom>
            <a:solidFill>
              <a:srgbClr val="4d514b"/>
            </a:solidFill>
            <a:ln w="0">
              <a:noFill/>
            </a:ln>
          </p:spPr>
          <p:style>
            <a:lnRef idx="0"/>
            <a:fillRef idx="0"/>
            <a:effectRef idx="0"/>
            <a:fontRef idx="minor"/>
          </p:style>
          <p:txBody>
            <a:bodyPr lIns="90000" rIns="90000" tIns="28080" bIns="28080" anchor="ctr">
              <a:noAutofit/>
            </a:bodyPr>
            <a:p>
              <a:endParaRPr b="0" lang="en-US" sz="1800" spc="-1" strike="noStrike">
                <a:solidFill>
                  <a:srgbClr val="262626"/>
                </a:solidFill>
                <a:latin typeface="Arial"/>
              </a:endParaRPr>
            </a:p>
          </p:txBody>
        </p:sp>
        <p:sp>
          <p:nvSpPr>
            <p:cNvPr id="2479" name="任意多边形: 形状 102"/>
            <p:cNvSpPr/>
            <p:nvPr/>
          </p:nvSpPr>
          <p:spPr>
            <a:xfrm>
              <a:off x="10167840" y="4698720"/>
              <a:ext cx="149400" cy="174240"/>
            </a:xfrm>
            <a:custGeom>
              <a:avLst/>
              <a:gdLst>
                <a:gd name="textAreaLeft" fmla="*/ 0 w 149400"/>
                <a:gd name="textAreaRight" fmla="*/ 149760 w 149400"/>
                <a:gd name="textAreaTop" fmla="*/ 0 h 174240"/>
                <a:gd name="textAreaBottom" fmla="*/ 174600 h 174240"/>
              </a:gdLst>
              <a:ahLst/>
              <a:rect l="textAreaLeft" t="textAreaTop" r="textAreaRight" b="textAreaBottom"/>
              <a:pathLst>
                <a:path w="57150" h="66675">
                  <a:moveTo>
                    <a:pt x="-9815" y="-17435"/>
                  </a:moveTo>
                  <a:lnTo>
                    <a:pt x="-18387" y="-22197"/>
                  </a:lnTo>
                  <a:lnTo>
                    <a:pt x="-16482" y="-10767"/>
                  </a:lnTo>
                  <a:lnTo>
                    <a:pt x="-24102" y="-7910"/>
                  </a:lnTo>
                  <a:lnTo>
                    <a:pt x="-23150" y="-6957"/>
                  </a:lnTo>
                  <a:lnTo>
                    <a:pt x="-31722" y="-5052"/>
                  </a:lnTo>
                  <a:lnTo>
                    <a:pt x="25241" y="-9815"/>
                  </a:lnTo>
                  <a:lnTo>
                    <a:pt x="7144" y="13811"/>
                  </a:lnTo>
                  <a:lnTo>
                    <a:pt x="9049" y="11906"/>
                  </a:lnTo>
                  <a:lnTo>
                    <a:pt x="11906" y="9049"/>
                  </a:lnTo>
                  <a:lnTo>
                    <a:pt x="14764" y="7144"/>
                  </a:lnTo>
                  <a:lnTo>
                    <a:pt x="-12672" y="-31722"/>
                  </a:lnTo>
                  <a:lnTo>
                    <a:pt x="-9815" y="-26007"/>
                  </a:lnTo>
                  <a:lnTo>
                    <a:pt x="-9815" y="-17435"/>
                  </a:lnTo>
                  <a:close/>
                </a:path>
              </a:pathLst>
            </a:custGeom>
            <a:solidFill>
              <a:srgbClr val="f6c6a5"/>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0" name="任意多边形: 形状 103"/>
            <p:cNvSpPr/>
            <p:nvPr/>
          </p:nvSpPr>
          <p:spPr>
            <a:xfrm>
              <a:off x="10215000" y="4771080"/>
              <a:ext cx="722880" cy="872640"/>
            </a:xfrm>
            <a:custGeom>
              <a:avLst/>
              <a:gdLst>
                <a:gd name="textAreaLeft" fmla="*/ 0 w 722880"/>
                <a:gd name="textAreaRight" fmla="*/ 723240 w 722880"/>
                <a:gd name="textAreaTop" fmla="*/ 0 h 872640"/>
                <a:gd name="textAreaBottom" fmla="*/ 873000 h 872640"/>
              </a:gdLst>
              <a:ahLst/>
              <a:rect l="textAreaLeft" t="textAreaTop" r="textAreaRight" b="textAreaBottom"/>
              <a:pathLst>
                <a:path w="276225" h="333375">
                  <a:moveTo>
                    <a:pt x="270034" y="305276"/>
                  </a:moveTo>
                  <a:lnTo>
                    <a:pt x="261461" y="311944"/>
                  </a:lnTo>
                  <a:lnTo>
                    <a:pt x="250984" y="320516"/>
                  </a:lnTo>
                  <a:lnTo>
                    <a:pt x="243364" y="326231"/>
                  </a:lnTo>
                  <a:lnTo>
                    <a:pt x="7144" y="28099"/>
                  </a:lnTo>
                  <a:cubicBezTo>
                    <a:pt x="7144" y="28099"/>
                    <a:pt x="19526" y="35719"/>
                    <a:pt x="15716" y="23336"/>
                  </a:cubicBezTo>
                  <a:cubicBezTo>
                    <a:pt x="15716" y="23336"/>
                    <a:pt x="30004" y="31909"/>
                    <a:pt x="26194" y="14764"/>
                  </a:cubicBezTo>
                  <a:cubicBezTo>
                    <a:pt x="26194" y="14764"/>
                    <a:pt x="41434" y="21431"/>
                    <a:pt x="33814" y="7144"/>
                  </a:cubicBezTo>
                  <a:lnTo>
                    <a:pt x="270034" y="305276"/>
                  </a:lnTo>
                  <a:close/>
                </a:path>
              </a:pathLst>
            </a:custGeom>
            <a:solidFill>
              <a:srgbClr val="f9ae1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1" name="任意多边形: 形状 104"/>
            <p:cNvSpPr/>
            <p:nvPr/>
          </p:nvSpPr>
          <p:spPr>
            <a:xfrm>
              <a:off x="10820160" y="5536800"/>
              <a:ext cx="174240" cy="174240"/>
            </a:xfrm>
            <a:custGeom>
              <a:avLst/>
              <a:gdLst>
                <a:gd name="textAreaLeft" fmla="*/ 0 w 174240"/>
                <a:gd name="textAreaRight" fmla="*/ 174600 w 174240"/>
                <a:gd name="textAreaTop" fmla="*/ 0 h 174240"/>
                <a:gd name="textAreaBottom" fmla="*/ 174600 h 174240"/>
              </a:gdLst>
              <a:ahLst/>
              <a:rect l="textAreaLeft" t="textAreaTop" r="textAreaRight" b="textAreaBottom"/>
              <a:pathLst>
                <a:path w="66675" h="66675">
                  <a:moveTo>
                    <a:pt x="10033" y="-30125"/>
                  </a:moveTo>
                  <a:lnTo>
                    <a:pt x="-23355" y="10033"/>
                  </a:lnTo>
                  <a:lnTo>
                    <a:pt x="-929" y="-27093"/>
                  </a:lnTo>
                  <a:lnTo>
                    <a:pt x="32460" y="-1716"/>
                  </a:lnTo>
                  <a:lnTo>
                    <a:pt x="10033" y="-30125"/>
                  </a:lnTo>
                  <a:close/>
                </a:path>
              </a:pathLst>
            </a:custGeom>
            <a:solidFill>
              <a:srgbClr val="b3b2b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2" name="任意多边形: 形状 105"/>
            <p:cNvSpPr/>
            <p:nvPr/>
          </p:nvSpPr>
          <p:spPr>
            <a:xfrm>
              <a:off x="10838160" y="556488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10033" y="-30113"/>
                  </a:moveTo>
                  <a:lnTo>
                    <a:pt x="-23367" y="10034"/>
                  </a:lnTo>
                  <a:lnTo>
                    <a:pt x="-15101" y="20496"/>
                  </a:lnTo>
                  <a:lnTo>
                    <a:pt x="18300" y="-19650"/>
                  </a:lnTo>
                  <a:lnTo>
                    <a:pt x="10033" y="-30113"/>
                  </a:lnTo>
                  <a:close/>
                </a:path>
              </a:pathLst>
            </a:custGeom>
            <a:solidFill>
              <a:srgbClr val="80807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3" name="任意多边形: 形状 106"/>
            <p:cNvSpPr/>
            <p:nvPr/>
          </p:nvSpPr>
          <p:spPr>
            <a:xfrm>
              <a:off x="10607400" y="5035320"/>
              <a:ext cx="498600" cy="448560"/>
            </a:xfrm>
            <a:custGeom>
              <a:avLst/>
              <a:gdLst>
                <a:gd name="textAreaLeft" fmla="*/ 0 w 498600"/>
                <a:gd name="textAreaRight" fmla="*/ 498960 w 498600"/>
                <a:gd name="textAreaTop" fmla="*/ 0 h 448560"/>
                <a:gd name="textAreaBottom" fmla="*/ 448920 h 448560"/>
              </a:gdLst>
              <a:ahLst/>
              <a:rect l="textAreaLeft" t="textAreaTop" r="textAreaRight" b="textAreaBottom"/>
              <a:pathLst>
                <a:path w="190500" h="171450">
                  <a:moveTo>
                    <a:pt x="132574" y="7144"/>
                  </a:moveTo>
                  <a:cubicBezTo>
                    <a:pt x="132574" y="7144"/>
                    <a:pt x="115429" y="24289"/>
                    <a:pt x="108762" y="32861"/>
                  </a:cubicBezTo>
                  <a:cubicBezTo>
                    <a:pt x="103047" y="41434"/>
                    <a:pt x="82092" y="64294"/>
                    <a:pt x="68757" y="76676"/>
                  </a:cubicBezTo>
                  <a:cubicBezTo>
                    <a:pt x="55422" y="89059"/>
                    <a:pt x="10654" y="124301"/>
                    <a:pt x="7797" y="134779"/>
                  </a:cubicBezTo>
                  <a:cubicBezTo>
                    <a:pt x="3987" y="149066"/>
                    <a:pt x="17322" y="170021"/>
                    <a:pt x="35419" y="168116"/>
                  </a:cubicBezTo>
                  <a:cubicBezTo>
                    <a:pt x="60184" y="164306"/>
                    <a:pt x="94474" y="118586"/>
                    <a:pt x="108762" y="107156"/>
                  </a:cubicBezTo>
                  <a:cubicBezTo>
                    <a:pt x="123049" y="95726"/>
                    <a:pt x="150672" y="88106"/>
                    <a:pt x="189724" y="86201"/>
                  </a:cubicBezTo>
                  <a:cubicBezTo>
                    <a:pt x="189724" y="86201"/>
                    <a:pt x="169722" y="21431"/>
                    <a:pt x="132574" y="7144"/>
                  </a:cubicBez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4" name="任意多边形: 形状 107"/>
            <p:cNvSpPr/>
            <p:nvPr/>
          </p:nvSpPr>
          <p:spPr>
            <a:xfrm>
              <a:off x="10600920" y="5232240"/>
              <a:ext cx="523440" cy="273960"/>
            </a:xfrm>
            <a:custGeom>
              <a:avLst/>
              <a:gdLst>
                <a:gd name="textAreaLeft" fmla="*/ 0 w 523440"/>
                <a:gd name="textAreaRight" fmla="*/ 523800 w 523440"/>
                <a:gd name="textAreaTop" fmla="*/ 0 h 273960"/>
                <a:gd name="textAreaBottom" fmla="*/ 274320 h 273960"/>
              </a:gdLst>
              <a:ahLst/>
              <a:rect l="textAreaLeft" t="textAreaTop" r="textAreaRight" b="textAreaBottom"/>
              <a:pathLst>
                <a:path w="200025" h="104775">
                  <a:moveTo>
                    <a:pt x="200743" y="7144"/>
                  </a:moveTo>
                  <a:lnTo>
                    <a:pt x="195981" y="7144"/>
                  </a:lnTo>
                  <a:cubicBezTo>
                    <a:pt x="194076" y="7144"/>
                    <a:pt x="142641" y="10001"/>
                    <a:pt x="125496" y="18574"/>
                  </a:cubicBezTo>
                  <a:cubicBezTo>
                    <a:pt x="115971" y="23336"/>
                    <a:pt x="99778" y="39529"/>
                    <a:pt x="84538" y="54769"/>
                  </a:cubicBezTo>
                  <a:cubicBezTo>
                    <a:pt x="73108" y="66199"/>
                    <a:pt x="61678" y="77629"/>
                    <a:pt x="54058" y="82391"/>
                  </a:cubicBezTo>
                  <a:cubicBezTo>
                    <a:pt x="45486" y="88106"/>
                    <a:pt x="37866" y="90964"/>
                    <a:pt x="32151" y="89059"/>
                  </a:cubicBezTo>
                  <a:cubicBezTo>
                    <a:pt x="26436" y="88106"/>
                    <a:pt x="21673" y="84296"/>
                    <a:pt x="17863" y="77629"/>
                  </a:cubicBezTo>
                  <a:cubicBezTo>
                    <a:pt x="8338" y="63341"/>
                    <a:pt x="20721" y="48101"/>
                    <a:pt x="20721" y="48101"/>
                  </a:cubicBezTo>
                  <a:lnTo>
                    <a:pt x="19768" y="45244"/>
                  </a:lnTo>
                  <a:cubicBezTo>
                    <a:pt x="13101" y="50959"/>
                    <a:pt x="718" y="66199"/>
                    <a:pt x="11196" y="82391"/>
                  </a:cubicBezTo>
                  <a:cubicBezTo>
                    <a:pt x="16911" y="90964"/>
                    <a:pt x="23578" y="95726"/>
                    <a:pt x="30246" y="97631"/>
                  </a:cubicBezTo>
                  <a:cubicBezTo>
                    <a:pt x="38818" y="99536"/>
                    <a:pt x="47391" y="96679"/>
                    <a:pt x="57868" y="90011"/>
                  </a:cubicBezTo>
                  <a:cubicBezTo>
                    <a:pt x="65488" y="85249"/>
                    <a:pt x="76918" y="73819"/>
                    <a:pt x="89301" y="61436"/>
                  </a:cubicBezTo>
                  <a:cubicBezTo>
                    <a:pt x="103588" y="47149"/>
                    <a:pt x="119781" y="31909"/>
                    <a:pt x="128353" y="27146"/>
                  </a:cubicBezTo>
                  <a:cubicBezTo>
                    <a:pt x="141688" y="20479"/>
                    <a:pt x="176931" y="17621"/>
                    <a:pt x="191218" y="16669"/>
                  </a:cubicBezTo>
                  <a:cubicBezTo>
                    <a:pt x="184551" y="38576"/>
                    <a:pt x="173121" y="70009"/>
                    <a:pt x="163596" y="73819"/>
                  </a:cubicBezTo>
                  <a:cubicBezTo>
                    <a:pt x="151213" y="79534"/>
                    <a:pt x="134068" y="86201"/>
                    <a:pt x="128353" y="88106"/>
                  </a:cubicBezTo>
                  <a:lnTo>
                    <a:pt x="94063" y="67151"/>
                  </a:lnTo>
                  <a:lnTo>
                    <a:pt x="93111" y="68104"/>
                  </a:lnTo>
                  <a:lnTo>
                    <a:pt x="126448" y="96679"/>
                  </a:lnTo>
                  <a:lnTo>
                    <a:pt x="128353" y="95726"/>
                  </a:lnTo>
                  <a:cubicBezTo>
                    <a:pt x="128353" y="95726"/>
                    <a:pt x="150261" y="87154"/>
                    <a:pt x="166453" y="80486"/>
                  </a:cubicBezTo>
                  <a:cubicBezTo>
                    <a:pt x="183598" y="72866"/>
                    <a:pt x="197886" y="19526"/>
                    <a:pt x="199791" y="12859"/>
                  </a:cubicBezTo>
                  <a:lnTo>
                    <a:pt x="200743" y="7144"/>
                  </a:lnTo>
                  <a:close/>
                </a:path>
              </a:pathLst>
            </a:custGeom>
            <a:solidFill>
              <a:srgbClr val="eaad9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5" name="任意多边形: 形状 108"/>
            <p:cNvSpPr/>
            <p:nvPr/>
          </p:nvSpPr>
          <p:spPr>
            <a:xfrm>
              <a:off x="10642320" y="534204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38100" h="38100">
                  <a:moveTo>
                    <a:pt x="24840" y="7144"/>
                  </a:moveTo>
                  <a:cubicBezTo>
                    <a:pt x="24840" y="7144"/>
                    <a:pt x="1028" y="18574"/>
                    <a:pt x="8648" y="31909"/>
                  </a:cubicBezTo>
                  <a:cubicBezTo>
                    <a:pt x="16268" y="-20292"/>
                    <a:pt x="32460" y="-32675"/>
                    <a:pt x="-26408" y="29051"/>
                  </a:cubicBezTo>
                  <a:cubicBezTo>
                    <a:pt x="-26408" y="29051"/>
                    <a:pt x="-24503" y="11906"/>
                    <a:pt x="24840"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6" name="任意多边形: 形状 109"/>
            <p:cNvSpPr/>
            <p:nvPr/>
          </p:nvSpPr>
          <p:spPr>
            <a:xfrm>
              <a:off x="11566440" y="4628880"/>
              <a:ext cx="623160" cy="648000"/>
            </a:xfrm>
            <a:custGeom>
              <a:avLst/>
              <a:gdLst>
                <a:gd name="textAreaLeft" fmla="*/ 0 w 623160"/>
                <a:gd name="textAreaRight" fmla="*/ 623520 w 623160"/>
                <a:gd name="textAreaTop" fmla="*/ 0 h 648000"/>
                <a:gd name="textAreaBottom" fmla="*/ 648360 h 648000"/>
              </a:gdLst>
              <a:ahLst/>
              <a:rect l="textAreaLeft" t="textAreaTop" r="textAreaRight" b="textAreaBottom"/>
              <a:pathLst>
                <a:path w="238125" h="247650">
                  <a:moveTo>
                    <a:pt x="7144" y="7144"/>
                  </a:moveTo>
                  <a:lnTo>
                    <a:pt x="236696" y="7144"/>
                  </a:lnTo>
                  <a:lnTo>
                    <a:pt x="236696" y="243364"/>
                  </a:lnTo>
                  <a:lnTo>
                    <a:pt x="7144" y="243364"/>
                  </a:lnTo>
                  <a:lnTo>
                    <a:pt x="7144" y="7144"/>
                  </a:lnTo>
                  <a:close/>
                </a:path>
              </a:pathLst>
            </a:custGeom>
            <a:solidFill>
              <a:srgbClr val="4851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7" name="任意多边形: 形状 110"/>
            <p:cNvSpPr/>
            <p:nvPr/>
          </p:nvSpPr>
          <p:spPr>
            <a:xfrm>
              <a:off x="11566440" y="4628880"/>
              <a:ext cx="249120" cy="648000"/>
            </a:xfrm>
            <a:custGeom>
              <a:avLst/>
              <a:gdLst>
                <a:gd name="textAreaLeft" fmla="*/ 0 w 249120"/>
                <a:gd name="textAreaRight" fmla="*/ 249480 w 249120"/>
                <a:gd name="textAreaTop" fmla="*/ 0 h 648000"/>
                <a:gd name="textAreaBottom" fmla="*/ 648360 h 648000"/>
              </a:gdLst>
              <a:ahLst/>
              <a:rect l="textAreaLeft" t="textAreaTop" r="textAreaRight" b="textAreaBottom"/>
              <a:pathLst>
                <a:path w="95250" h="247650">
                  <a:moveTo>
                    <a:pt x="7144" y="7144"/>
                  </a:moveTo>
                  <a:lnTo>
                    <a:pt x="91916" y="7144"/>
                  </a:lnTo>
                  <a:lnTo>
                    <a:pt x="91916" y="243364"/>
                  </a:lnTo>
                  <a:lnTo>
                    <a:pt x="7144" y="243364"/>
                  </a:lnTo>
                  <a:lnTo>
                    <a:pt x="7144" y="7144"/>
                  </a:lnTo>
                  <a:close/>
                </a:path>
              </a:pathLst>
            </a:custGeom>
            <a:solidFill>
              <a:srgbClr val="616b7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8" name="任意多边形: 形状 111"/>
            <p:cNvSpPr/>
            <p:nvPr/>
          </p:nvSpPr>
          <p:spPr>
            <a:xfrm>
              <a:off x="11628720" y="511272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5241" y="-22197"/>
                  </a:moveTo>
                  <a:cubicBezTo>
                    <a:pt x="-30770" y="-22197"/>
                    <a:pt x="-22197" y="-29817"/>
                    <a:pt x="-22197" y="25241"/>
                  </a:cubicBezTo>
                  <a:cubicBezTo>
                    <a:pt x="-22197" y="15716"/>
                    <a:pt x="-29817" y="7144"/>
                    <a:pt x="25241" y="7144"/>
                  </a:cubicBezTo>
                  <a:cubicBezTo>
                    <a:pt x="15716" y="7144"/>
                    <a:pt x="7144" y="14764"/>
                    <a:pt x="7144" y="25241"/>
                  </a:cubicBezTo>
                  <a:cubicBezTo>
                    <a:pt x="7144" y="-29817"/>
                    <a:pt x="15716" y="-22197"/>
                    <a:pt x="25241" y="-22197"/>
                  </a:cubicBezTo>
                  <a:close/>
                </a:path>
              </a:pathLst>
            </a:custGeom>
            <a:solidFill>
              <a:srgbClr val="f8ff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89" name="任意多边形: 形状 112"/>
            <p:cNvSpPr/>
            <p:nvPr/>
          </p:nvSpPr>
          <p:spPr>
            <a:xfrm>
              <a:off x="9771120" y="2669040"/>
              <a:ext cx="1495800" cy="1196640"/>
            </a:xfrm>
            <a:custGeom>
              <a:avLst/>
              <a:gdLst>
                <a:gd name="textAreaLeft" fmla="*/ 0 w 1495800"/>
                <a:gd name="textAreaRight" fmla="*/ 1496160 w 1495800"/>
                <a:gd name="textAreaTop" fmla="*/ 0 h 1196640"/>
                <a:gd name="textAreaBottom" fmla="*/ 1197000 h 1196640"/>
              </a:gdLst>
              <a:ahLst/>
              <a:rect l="textAreaLeft" t="textAreaTop" r="textAreaRight" b="textAreaBottom"/>
              <a:pathLst>
                <a:path w="571500" h="457200">
                  <a:moveTo>
                    <a:pt x="499680" y="7144"/>
                  </a:moveTo>
                  <a:lnTo>
                    <a:pt x="433005" y="34766"/>
                  </a:lnTo>
                  <a:cubicBezTo>
                    <a:pt x="433005" y="34766"/>
                    <a:pt x="416813" y="2381"/>
                    <a:pt x="354900" y="33814"/>
                  </a:cubicBezTo>
                  <a:lnTo>
                    <a:pt x="123443" y="148114"/>
                  </a:lnTo>
                  <a:cubicBezTo>
                    <a:pt x="123443" y="148114"/>
                    <a:pt x="104393" y="158591"/>
                    <a:pt x="114870" y="179546"/>
                  </a:cubicBezTo>
                  <a:cubicBezTo>
                    <a:pt x="123443" y="195739"/>
                    <a:pt x="147255" y="185261"/>
                    <a:pt x="147255" y="185261"/>
                  </a:cubicBezTo>
                  <a:cubicBezTo>
                    <a:pt x="147255" y="185261"/>
                    <a:pt x="229170" y="149066"/>
                    <a:pt x="231075" y="152876"/>
                  </a:cubicBezTo>
                  <a:cubicBezTo>
                    <a:pt x="235838" y="165259"/>
                    <a:pt x="47243" y="251936"/>
                    <a:pt x="39623" y="256699"/>
                  </a:cubicBezTo>
                  <a:cubicBezTo>
                    <a:pt x="27240" y="263366"/>
                    <a:pt x="15810" y="276701"/>
                    <a:pt x="25335" y="294799"/>
                  </a:cubicBezTo>
                  <a:cubicBezTo>
                    <a:pt x="36765" y="317659"/>
                    <a:pt x="58673" y="307181"/>
                    <a:pt x="66293" y="303371"/>
                  </a:cubicBezTo>
                  <a:cubicBezTo>
                    <a:pt x="73913" y="300514"/>
                    <a:pt x="252983" y="215741"/>
                    <a:pt x="262508" y="216694"/>
                  </a:cubicBezTo>
                  <a:cubicBezTo>
                    <a:pt x="272033" y="217646"/>
                    <a:pt x="26288" y="356711"/>
                    <a:pt x="26288" y="356711"/>
                  </a:cubicBezTo>
                  <a:cubicBezTo>
                    <a:pt x="26288" y="356711"/>
                    <a:pt x="-3240" y="369094"/>
                    <a:pt x="11048" y="395764"/>
                  </a:cubicBezTo>
                  <a:cubicBezTo>
                    <a:pt x="26288" y="422434"/>
                    <a:pt x="47243" y="405289"/>
                    <a:pt x="61530" y="398621"/>
                  </a:cubicBezTo>
                  <a:cubicBezTo>
                    <a:pt x="75818" y="391001"/>
                    <a:pt x="279653" y="282416"/>
                    <a:pt x="289178" y="280511"/>
                  </a:cubicBezTo>
                  <a:cubicBezTo>
                    <a:pt x="298703" y="278606"/>
                    <a:pt x="101535" y="410051"/>
                    <a:pt x="101535" y="410051"/>
                  </a:cubicBezTo>
                  <a:cubicBezTo>
                    <a:pt x="101535" y="410051"/>
                    <a:pt x="78675" y="422434"/>
                    <a:pt x="91058" y="443389"/>
                  </a:cubicBezTo>
                  <a:cubicBezTo>
                    <a:pt x="103440" y="465296"/>
                    <a:pt x="134873" y="444341"/>
                    <a:pt x="134873" y="444341"/>
                  </a:cubicBezTo>
                  <a:lnTo>
                    <a:pt x="328230" y="349091"/>
                  </a:lnTo>
                  <a:lnTo>
                    <a:pt x="279653" y="401479"/>
                  </a:lnTo>
                  <a:cubicBezTo>
                    <a:pt x="279653" y="401479"/>
                    <a:pt x="261555" y="420529"/>
                    <a:pt x="277748" y="436721"/>
                  </a:cubicBezTo>
                  <a:cubicBezTo>
                    <a:pt x="293940" y="452914"/>
                    <a:pt x="317753" y="431959"/>
                    <a:pt x="338708" y="416719"/>
                  </a:cubicBezTo>
                  <a:cubicBezTo>
                    <a:pt x="355853" y="405289"/>
                    <a:pt x="541590" y="285274"/>
                    <a:pt x="499680" y="191929"/>
                  </a:cubicBezTo>
                  <a:lnTo>
                    <a:pt x="567308" y="163354"/>
                  </a:lnTo>
                  <a:lnTo>
                    <a:pt x="499680" y="7144"/>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0" name="任意多边形: 形状 113"/>
            <p:cNvSpPr/>
            <p:nvPr/>
          </p:nvSpPr>
          <p:spPr>
            <a:xfrm>
              <a:off x="10060200" y="3035520"/>
              <a:ext cx="124560" cy="99720"/>
            </a:xfrm>
            <a:custGeom>
              <a:avLst/>
              <a:gdLst>
                <a:gd name="textAreaLeft" fmla="*/ 0 w 124560"/>
                <a:gd name="textAreaRight" fmla="*/ 124920 w 124560"/>
                <a:gd name="textAreaTop" fmla="*/ 0 h 99720"/>
                <a:gd name="textAreaBottom" fmla="*/ 100080 h 99720"/>
              </a:gdLst>
              <a:ahLst/>
              <a:rect l="textAreaLeft" t="textAreaTop" r="textAreaRight" b="textAreaBottom"/>
              <a:pathLst>
                <a:path w="47625" h="38100">
                  <a:moveTo>
                    <a:pt x="30060" y="7144"/>
                  </a:moveTo>
                  <a:cubicBezTo>
                    <a:pt x="30060" y="7144"/>
                    <a:pt x="1485" y="16669"/>
                    <a:pt x="8152" y="31909"/>
                  </a:cubicBezTo>
                  <a:cubicBezTo>
                    <a:pt x="14820" y="-18387"/>
                    <a:pt x="-31666" y="-28865"/>
                    <a:pt x="-22141" y="-32675"/>
                  </a:cubicBezTo>
                  <a:cubicBezTo>
                    <a:pt x="-22141" y="-32675"/>
                    <a:pt x="-17379" y="14764"/>
                    <a:pt x="30060"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1" name="任意多边形: 形状 114"/>
            <p:cNvSpPr/>
            <p:nvPr/>
          </p:nvSpPr>
          <p:spPr>
            <a:xfrm>
              <a:off x="9827640" y="331992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37928" y="7144"/>
                  </a:moveTo>
                  <a:cubicBezTo>
                    <a:pt x="37928" y="7144"/>
                    <a:pt x="-172" y="19526"/>
                    <a:pt x="8400" y="40481"/>
                  </a:cubicBezTo>
                  <a:cubicBezTo>
                    <a:pt x="16973" y="61436"/>
                    <a:pt x="42690" y="47149"/>
                    <a:pt x="54120" y="42386"/>
                  </a:cubicBezTo>
                  <a:cubicBezTo>
                    <a:pt x="54120" y="41434"/>
                    <a:pt x="60788" y="17621"/>
                    <a:pt x="37928"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2" name="任意多边形: 形状 115"/>
            <p:cNvSpPr/>
            <p:nvPr/>
          </p:nvSpPr>
          <p:spPr>
            <a:xfrm>
              <a:off x="9786960" y="358164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36328" y="7144"/>
                  </a:moveTo>
                  <a:cubicBezTo>
                    <a:pt x="36328" y="7144"/>
                    <a:pt x="-819" y="21431"/>
                    <a:pt x="8706" y="41434"/>
                  </a:cubicBezTo>
                  <a:cubicBezTo>
                    <a:pt x="18231" y="61436"/>
                    <a:pt x="42996" y="46196"/>
                    <a:pt x="54426" y="40481"/>
                  </a:cubicBezTo>
                  <a:cubicBezTo>
                    <a:pt x="55378" y="40481"/>
                    <a:pt x="60141" y="15716"/>
                    <a:pt x="36328"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3" name="任意多边形: 形状 116"/>
            <p:cNvSpPr/>
            <p:nvPr/>
          </p:nvSpPr>
          <p:spPr>
            <a:xfrm>
              <a:off x="9999000" y="3703680"/>
              <a:ext cx="149400" cy="124560"/>
            </a:xfrm>
            <a:custGeom>
              <a:avLst/>
              <a:gdLst>
                <a:gd name="textAreaLeft" fmla="*/ 0 w 149400"/>
                <a:gd name="textAreaRight" fmla="*/ 149760 w 149400"/>
                <a:gd name="textAreaTop" fmla="*/ 0 h 124560"/>
                <a:gd name="textAreaBottom" fmla="*/ 124920 h 124560"/>
              </a:gdLst>
              <a:ahLst/>
              <a:rect l="textAreaLeft" t="textAreaTop" r="textAreaRight" b="textAreaBottom"/>
              <a:pathLst>
                <a:path w="57150" h="47625">
                  <a:moveTo>
                    <a:pt x="34494" y="7144"/>
                  </a:moveTo>
                  <a:cubicBezTo>
                    <a:pt x="34494" y="7144"/>
                    <a:pt x="-748" y="21431"/>
                    <a:pt x="8777" y="40481"/>
                  </a:cubicBezTo>
                  <a:cubicBezTo>
                    <a:pt x="18302" y="59531"/>
                    <a:pt x="41162" y="44291"/>
                    <a:pt x="52592" y="39529"/>
                  </a:cubicBezTo>
                  <a:cubicBezTo>
                    <a:pt x="52592" y="38576"/>
                    <a:pt x="56402" y="15716"/>
                    <a:pt x="34494"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4" name="任意多边形: 形状 117"/>
            <p:cNvSpPr/>
            <p:nvPr/>
          </p:nvSpPr>
          <p:spPr>
            <a:xfrm>
              <a:off x="10468800" y="3671280"/>
              <a:ext cx="149400" cy="149400"/>
            </a:xfrm>
            <a:custGeom>
              <a:avLst/>
              <a:gdLst>
                <a:gd name="textAreaLeft" fmla="*/ 0 w 149400"/>
                <a:gd name="textAreaRight" fmla="*/ 149760 w 149400"/>
                <a:gd name="textAreaTop" fmla="*/ 0 h 149400"/>
                <a:gd name="textAreaBottom" fmla="*/ 149760 h 149400"/>
              </a:gdLst>
              <a:ahLst/>
              <a:rect l="textAreaLeft" t="textAreaTop" r="textAreaRight" b="textAreaBottom"/>
              <a:pathLst>
                <a:path w="57150" h="57150">
                  <a:moveTo>
                    <a:pt x="28367" y="7144"/>
                  </a:moveTo>
                  <a:cubicBezTo>
                    <a:pt x="28367" y="7144"/>
                    <a:pt x="-4018" y="30956"/>
                    <a:pt x="11221" y="48101"/>
                  </a:cubicBezTo>
                  <a:cubicBezTo>
                    <a:pt x="25509" y="65246"/>
                    <a:pt x="45512" y="43339"/>
                    <a:pt x="55989" y="34766"/>
                  </a:cubicBezTo>
                  <a:cubicBezTo>
                    <a:pt x="55989" y="35719"/>
                    <a:pt x="54084" y="10001"/>
                    <a:pt x="28367" y="7144"/>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5" name="任意多边形: 形状 118"/>
            <p:cNvSpPr/>
            <p:nvPr/>
          </p:nvSpPr>
          <p:spPr>
            <a:xfrm>
              <a:off x="10885680" y="1970640"/>
              <a:ext cx="1296360" cy="1246680"/>
            </a:xfrm>
            <a:custGeom>
              <a:avLst/>
              <a:gdLst>
                <a:gd name="textAreaLeft" fmla="*/ 0 w 1296360"/>
                <a:gd name="textAreaRight" fmla="*/ 1296720 w 1296360"/>
                <a:gd name="textAreaTop" fmla="*/ 0 h 1246680"/>
                <a:gd name="textAreaBottom" fmla="*/ 1247040 h 1246680"/>
              </a:gdLst>
              <a:ahLst/>
              <a:rect l="textAreaLeft" t="textAreaTop" r="textAreaRight" b="textAreaBottom"/>
              <a:pathLst>
                <a:path w="495300" h="476250">
                  <a:moveTo>
                    <a:pt x="496729" y="7144"/>
                  </a:moveTo>
                  <a:lnTo>
                    <a:pt x="496729" y="272891"/>
                  </a:lnTo>
                  <a:lnTo>
                    <a:pt x="115729" y="472916"/>
                  </a:lnTo>
                  <a:lnTo>
                    <a:pt x="7144" y="262414"/>
                  </a:lnTo>
                  <a:lnTo>
                    <a:pt x="496729" y="7144"/>
                  </a:lnTo>
                  <a:close/>
                </a:path>
              </a:pathLst>
            </a:custGeom>
            <a:solidFill>
              <a:srgbClr val="48515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6" name="任意多边形: 形状 119"/>
            <p:cNvSpPr/>
            <p:nvPr/>
          </p:nvSpPr>
          <p:spPr>
            <a:xfrm>
              <a:off x="10880280" y="2531160"/>
              <a:ext cx="523440" cy="698040"/>
            </a:xfrm>
            <a:custGeom>
              <a:avLst/>
              <a:gdLst>
                <a:gd name="textAreaLeft" fmla="*/ 0 w 523440"/>
                <a:gd name="textAreaRight" fmla="*/ 523800 w 523440"/>
                <a:gd name="textAreaTop" fmla="*/ 0 h 698040"/>
                <a:gd name="textAreaBottom" fmla="*/ 698400 h 698040"/>
              </a:gdLst>
              <a:ahLst/>
              <a:rect l="textAreaLeft" t="textAreaTop" r="textAreaRight" b="textAreaBottom"/>
              <a:pathLst>
                <a:path w="200025" h="266700">
                  <a:moveTo>
                    <a:pt x="9624" y="48492"/>
                  </a:moveTo>
                  <a:lnTo>
                    <a:pt x="84961" y="9624"/>
                  </a:lnTo>
                  <a:lnTo>
                    <a:pt x="193268" y="219553"/>
                  </a:lnTo>
                  <a:lnTo>
                    <a:pt x="117931" y="258421"/>
                  </a:lnTo>
                  <a:lnTo>
                    <a:pt x="9624" y="48492"/>
                  </a:lnTo>
                  <a:close/>
                </a:path>
              </a:pathLst>
            </a:custGeom>
            <a:solidFill>
              <a:srgbClr val="616b7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7" name="任意多边形: 形状 120"/>
            <p:cNvSpPr/>
            <p:nvPr/>
          </p:nvSpPr>
          <p:spPr>
            <a:xfrm>
              <a:off x="10977480" y="261864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16838" y="9218"/>
                  </a:moveTo>
                  <a:cubicBezTo>
                    <a:pt x="25411" y="4456"/>
                    <a:pt x="-28695" y="8266"/>
                    <a:pt x="-24885" y="16838"/>
                  </a:cubicBezTo>
                  <a:cubicBezTo>
                    <a:pt x="-20123" y="25411"/>
                    <a:pt x="-23933" y="-28695"/>
                    <a:pt x="-32505" y="-24885"/>
                  </a:cubicBezTo>
                  <a:cubicBezTo>
                    <a:pt x="24459" y="-20123"/>
                    <a:pt x="13028" y="-23933"/>
                    <a:pt x="9218" y="-32505"/>
                  </a:cubicBezTo>
                  <a:cubicBezTo>
                    <a:pt x="4456" y="24458"/>
                    <a:pt x="8266" y="13981"/>
                    <a:pt x="16838" y="9218"/>
                  </a:cubicBezTo>
                  <a:close/>
                </a:path>
              </a:pathLst>
            </a:custGeom>
            <a:solidFill>
              <a:srgbClr val="f8fff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8" name="任意多边形: 形状 121"/>
            <p:cNvSpPr/>
            <p:nvPr/>
          </p:nvSpPr>
          <p:spPr>
            <a:xfrm>
              <a:off x="3989160" y="4384440"/>
              <a:ext cx="4462920" cy="2468520"/>
            </a:xfrm>
            <a:custGeom>
              <a:avLst/>
              <a:gdLst>
                <a:gd name="textAreaLeft" fmla="*/ 0 w 4462920"/>
                <a:gd name="textAreaRight" fmla="*/ 4463280 w 4462920"/>
                <a:gd name="textAreaTop" fmla="*/ 0 h 2468520"/>
                <a:gd name="textAreaBottom" fmla="*/ 2468880 h 2468520"/>
              </a:gdLst>
              <a:ahLst/>
              <a:rect l="textAreaLeft" t="textAreaTop" r="textAreaRight" b="textAreaBottom"/>
              <a:pathLst>
                <a:path w="1704975" h="942975">
                  <a:moveTo>
                    <a:pt x="1666399" y="9049"/>
                  </a:moveTo>
                  <a:lnTo>
                    <a:pt x="41434" y="7144"/>
                  </a:lnTo>
                  <a:cubicBezTo>
                    <a:pt x="23336" y="7144"/>
                    <a:pt x="8096" y="22384"/>
                    <a:pt x="8096" y="40481"/>
                  </a:cubicBezTo>
                  <a:lnTo>
                    <a:pt x="7144" y="445294"/>
                  </a:lnTo>
                  <a:cubicBezTo>
                    <a:pt x="7144" y="463391"/>
                    <a:pt x="22384" y="478631"/>
                    <a:pt x="40481" y="478631"/>
                  </a:cubicBezTo>
                  <a:lnTo>
                    <a:pt x="128111" y="478631"/>
                  </a:lnTo>
                  <a:lnTo>
                    <a:pt x="130969" y="646271"/>
                  </a:lnTo>
                  <a:cubicBezTo>
                    <a:pt x="131921" y="715804"/>
                    <a:pt x="168116" y="715804"/>
                    <a:pt x="168116" y="715804"/>
                  </a:cubicBezTo>
                  <a:lnTo>
                    <a:pt x="170021" y="733901"/>
                  </a:lnTo>
                  <a:lnTo>
                    <a:pt x="133826" y="733901"/>
                  </a:lnTo>
                  <a:lnTo>
                    <a:pt x="133826" y="818674"/>
                  </a:lnTo>
                  <a:lnTo>
                    <a:pt x="133826" y="937736"/>
                  </a:lnTo>
                  <a:lnTo>
                    <a:pt x="370046" y="937736"/>
                  </a:lnTo>
                  <a:lnTo>
                    <a:pt x="370046" y="818674"/>
                  </a:lnTo>
                  <a:lnTo>
                    <a:pt x="370046" y="733901"/>
                  </a:lnTo>
                  <a:lnTo>
                    <a:pt x="340519" y="733901"/>
                  </a:lnTo>
                  <a:lnTo>
                    <a:pt x="337661" y="700564"/>
                  </a:lnTo>
                  <a:cubicBezTo>
                    <a:pt x="422434" y="695801"/>
                    <a:pt x="451009" y="541496"/>
                    <a:pt x="460534" y="478631"/>
                  </a:cubicBezTo>
                  <a:lnTo>
                    <a:pt x="1247299" y="479584"/>
                  </a:lnTo>
                  <a:cubicBezTo>
                    <a:pt x="1255871" y="542449"/>
                    <a:pt x="1285399" y="695801"/>
                    <a:pt x="1370171" y="700564"/>
                  </a:cubicBezTo>
                  <a:lnTo>
                    <a:pt x="1367314" y="733901"/>
                  </a:lnTo>
                  <a:lnTo>
                    <a:pt x="1337786" y="733901"/>
                  </a:lnTo>
                  <a:lnTo>
                    <a:pt x="1337786" y="818674"/>
                  </a:lnTo>
                  <a:lnTo>
                    <a:pt x="1337786" y="937736"/>
                  </a:lnTo>
                  <a:lnTo>
                    <a:pt x="1574006" y="937736"/>
                  </a:lnTo>
                  <a:lnTo>
                    <a:pt x="1574006" y="818674"/>
                  </a:lnTo>
                  <a:lnTo>
                    <a:pt x="1574006" y="733901"/>
                  </a:lnTo>
                  <a:lnTo>
                    <a:pt x="1537811" y="733901"/>
                  </a:lnTo>
                  <a:lnTo>
                    <a:pt x="1539716" y="715804"/>
                  </a:lnTo>
                  <a:cubicBezTo>
                    <a:pt x="1539716" y="715804"/>
                    <a:pt x="1575911" y="715804"/>
                    <a:pt x="1576864" y="646271"/>
                  </a:cubicBezTo>
                  <a:lnTo>
                    <a:pt x="1579721" y="480536"/>
                  </a:lnTo>
                  <a:lnTo>
                    <a:pt x="1666399" y="480536"/>
                  </a:lnTo>
                  <a:cubicBezTo>
                    <a:pt x="1684496" y="480536"/>
                    <a:pt x="1699736" y="465296"/>
                    <a:pt x="1699736" y="447199"/>
                  </a:cubicBezTo>
                  <a:lnTo>
                    <a:pt x="1699736" y="42386"/>
                  </a:lnTo>
                  <a:cubicBezTo>
                    <a:pt x="1699736" y="23336"/>
                    <a:pt x="1684496" y="9049"/>
                    <a:pt x="1666399" y="9049"/>
                  </a:cubicBezTo>
                  <a:close/>
                  <a:moveTo>
                    <a:pt x="181451" y="477679"/>
                  </a:moveTo>
                  <a:cubicBezTo>
                    <a:pt x="180499" y="478631"/>
                    <a:pt x="180499" y="479584"/>
                    <a:pt x="179546" y="479584"/>
                  </a:cubicBezTo>
                  <a:cubicBezTo>
                    <a:pt x="179546" y="479584"/>
                    <a:pt x="178594" y="478631"/>
                    <a:pt x="178594" y="477679"/>
                  </a:cubicBezTo>
                  <a:lnTo>
                    <a:pt x="181451" y="477679"/>
                  </a:lnTo>
                  <a:close/>
                  <a:moveTo>
                    <a:pt x="250984" y="478631"/>
                  </a:moveTo>
                  <a:cubicBezTo>
                    <a:pt x="250984" y="478631"/>
                    <a:pt x="250984" y="478631"/>
                    <a:pt x="250984" y="478631"/>
                  </a:cubicBezTo>
                  <a:cubicBezTo>
                    <a:pt x="250984" y="478631"/>
                    <a:pt x="250984" y="478631"/>
                    <a:pt x="250984" y="478631"/>
                  </a:cubicBezTo>
                  <a:close/>
                  <a:moveTo>
                    <a:pt x="1527334" y="479584"/>
                  </a:moveTo>
                  <a:cubicBezTo>
                    <a:pt x="1527334" y="479584"/>
                    <a:pt x="1527334" y="479584"/>
                    <a:pt x="1527334" y="479584"/>
                  </a:cubicBezTo>
                  <a:cubicBezTo>
                    <a:pt x="1528286" y="479584"/>
                    <a:pt x="1527334" y="479584"/>
                    <a:pt x="1527334" y="479584"/>
                  </a:cubicBezTo>
                  <a:close/>
                </a:path>
              </a:pathLst>
            </a:custGeom>
            <a:solidFill>
              <a:srgbClr val="12141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499" name="任意多边形: 形状 123"/>
            <p:cNvSpPr/>
            <p:nvPr/>
          </p:nvSpPr>
          <p:spPr>
            <a:xfrm>
              <a:off x="3869640" y="4384440"/>
              <a:ext cx="4462920" cy="1271520"/>
            </a:xfrm>
            <a:custGeom>
              <a:avLst/>
              <a:gdLst>
                <a:gd name="textAreaLeft" fmla="*/ 0 w 4462920"/>
                <a:gd name="textAreaRight" fmla="*/ 4463280 w 4462920"/>
                <a:gd name="textAreaTop" fmla="*/ 0 h 1271520"/>
                <a:gd name="textAreaBottom" fmla="*/ 1271880 h 1271520"/>
              </a:gdLst>
              <a:ahLst/>
              <a:rect l="textAreaLeft" t="textAreaTop" r="textAreaRight" b="textAreaBottom"/>
              <a:pathLst>
                <a:path w="1704975" h="485775">
                  <a:moveTo>
                    <a:pt x="1698784" y="447199"/>
                  </a:moveTo>
                  <a:cubicBezTo>
                    <a:pt x="1698784" y="465296"/>
                    <a:pt x="1683544" y="480536"/>
                    <a:pt x="1665446" y="480536"/>
                  </a:cubicBezTo>
                  <a:lnTo>
                    <a:pt x="40481" y="478631"/>
                  </a:lnTo>
                  <a:cubicBezTo>
                    <a:pt x="22384" y="478631"/>
                    <a:pt x="7144" y="463391"/>
                    <a:pt x="7144" y="445294"/>
                  </a:cubicBezTo>
                  <a:lnTo>
                    <a:pt x="8096" y="40481"/>
                  </a:lnTo>
                  <a:cubicBezTo>
                    <a:pt x="8096" y="22384"/>
                    <a:pt x="23336" y="7144"/>
                    <a:pt x="41434" y="7144"/>
                  </a:cubicBezTo>
                  <a:lnTo>
                    <a:pt x="1666399" y="9049"/>
                  </a:lnTo>
                  <a:cubicBezTo>
                    <a:pt x="1684496" y="9049"/>
                    <a:pt x="1699736" y="24289"/>
                    <a:pt x="1699736" y="42386"/>
                  </a:cubicBezTo>
                  <a:lnTo>
                    <a:pt x="1698784" y="447199"/>
                  </a:lnTo>
                  <a:close/>
                </a:path>
              </a:pathLst>
            </a:custGeom>
            <a:solidFill>
              <a:srgbClr val="44546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0" name="任意多边形: 形状 124"/>
            <p:cNvSpPr/>
            <p:nvPr/>
          </p:nvSpPr>
          <p:spPr>
            <a:xfrm>
              <a:off x="3966840" y="4449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1" name="任意多边形: 形状 125"/>
            <p:cNvSpPr/>
            <p:nvPr/>
          </p:nvSpPr>
          <p:spPr>
            <a:xfrm>
              <a:off x="4226040" y="4449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2" name="任意多边形: 形状 126"/>
            <p:cNvSpPr/>
            <p:nvPr/>
          </p:nvSpPr>
          <p:spPr>
            <a:xfrm>
              <a:off x="448272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3" name="任意多边形: 形状 127"/>
            <p:cNvSpPr/>
            <p:nvPr/>
          </p:nvSpPr>
          <p:spPr>
            <a:xfrm>
              <a:off x="473976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80486"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4" name="任意多边形: 形状 128"/>
            <p:cNvSpPr/>
            <p:nvPr/>
          </p:nvSpPr>
          <p:spPr>
            <a:xfrm>
              <a:off x="499896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5" name="任意多边形: 形状 129"/>
            <p:cNvSpPr/>
            <p:nvPr/>
          </p:nvSpPr>
          <p:spPr>
            <a:xfrm>
              <a:off x="525564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6" name="任意多边形: 形状 130"/>
            <p:cNvSpPr/>
            <p:nvPr/>
          </p:nvSpPr>
          <p:spPr>
            <a:xfrm>
              <a:off x="551268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7" name="任意多边形: 形状 131"/>
            <p:cNvSpPr/>
            <p:nvPr/>
          </p:nvSpPr>
          <p:spPr>
            <a:xfrm>
              <a:off x="577188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8" name="任意多边形: 形状 132"/>
            <p:cNvSpPr/>
            <p:nvPr/>
          </p:nvSpPr>
          <p:spPr>
            <a:xfrm>
              <a:off x="602856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09" name="任意多边形: 形状 133"/>
            <p:cNvSpPr/>
            <p:nvPr/>
          </p:nvSpPr>
          <p:spPr>
            <a:xfrm>
              <a:off x="3966840" y="474372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0" name="任意多边形: 形状 134"/>
            <p:cNvSpPr/>
            <p:nvPr/>
          </p:nvSpPr>
          <p:spPr>
            <a:xfrm>
              <a:off x="422604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1" name="任意多边形: 形状 135"/>
            <p:cNvSpPr/>
            <p:nvPr/>
          </p:nvSpPr>
          <p:spPr>
            <a:xfrm>
              <a:off x="448272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2" name="任意多边形: 形状 136"/>
            <p:cNvSpPr/>
            <p:nvPr/>
          </p:nvSpPr>
          <p:spPr>
            <a:xfrm>
              <a:off x="473976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3" name="任意多边形: 形状 137"/>
            <p:cNvSpPr/>
            <p:nvPr/>
          </p:nvSpPr>
          <p:spPr>
            <a:xfrm>
              <a:off x="499896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4" name="任意多边形: 形状 138"/>
            <p:cNvSpPr/>
            <p:nvPr/>
          </p:nvSpPr>
          <p:spPr>
            <a:xfrm>
              <a:off x="525564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5" name="任意多边形: 形状 139"/>
            <p:cNvSpPr/>
            <p:nvPr/>
          </p:nvSpPr>
          <p:spPr>
            <a:xfrm>
              <a:off x="551268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6" name="任意多边形: 形状 140"/>
            <p:cNvSpPr/>
            <p:nvPr/>
          </p:nvSpPr>
          <p:spPr>
            <a:xfrm>
              <a:off x="577188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7" name="任意多边形: 形状 141"/>
            <p:cNvSpPr/>
            <p:nvPr/>
          </p:nvSpPr>
          <p:spPr>
            <a:xfrm>
              <a:off x="6028560" y="474624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8" name="任意多边形: 形状 142"/>
            <p:cNvSpPr/>
            <p:nvPr/>
          </p:nvSpPr>
          <p:spPr>
            <a:xfrm>
              <a:off x="396684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19" name="任意多边形: 形状 143"/>
            <p:cNvSpPr/>
            <p:nvPr/>
          </p:nvSpPr>
          <p:spPr>
            <a:xfrm>
              <a:off x="422352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0" name="任意多边形: 形状 144"/>
            <p:cNvSpPr/>
            <p:nvPr/>
          </p:nvSpPr>
          <p:spPr>
            <a:xfrm>
              <a:off x="448272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1" name="任意多边形: 形状 145"/>
            <p:cNvSpPr/>
            <p:nvPr/>
          </p:nvSpPr>
          <p:spPr>
            <a:xfrm>
              <a:off x="473976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2" name="任意多边形: 形状 146"/>
            <p:cNvSpPr/>
            <p:nvPr/>
          </p:nvSpPr>
          <p:spPr>
            <a:xfrm>
              <a:off x="499896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3" name="任意多边形: 形状 147"/>
            <p:cNvSpPr/>
            <p:nvPr/>
          </p:nvSpPr>
          <p:spPr>
            <a:xfrm>
              <a:off x="525564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4" name="任意多边形: 形状 148"/>
            <p:cNvSpPr/>
            <p:nvPr/>
          </p:nvSpPr>
          <p:spPr>
            <a:xfrm>
              <a:off x="551268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5" name="任意多边形: 形状 149"/>
            <p:cNvSpPr/>
            <p:nvPr/>
          </p:nvSpPr>
          <p:spPr>
            <a:xfrm>
              <a:off x="577188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6" name="任意多边形: 形状 150"/>
            <p:cNvSpPr/>
            <p:nvPr/>
          </p:nvSpPr>
          <p:spPr>
            <a:xfrm>
              <a:off x="6028560" y="50403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7" name="任意多边形: 形状 151"/>
            <p:cNvSpPr/>
            <p:nvPr/>
          </p:nvSpPr>
          <p:spPr>
            <a:xfrm>
              <a:off x="3966840" y="53344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8" name="任意多边形: 形状 152"/>
            <p:cNvSpPr/>
            <p:nvPr/>
          </p:nvSpPr>
          <p:spPr>
            <a:xfrm>
              <a:off x="4223520" y="53344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29" name="任意多边形: 形状 153"/>
            <p:cNvSpPr/>
            <p:nvPr/>
          </p:nvSpPr>
          <p:spPr>
            <a:xfrm>
              <a:off x="4480200" y="5334480"/>
              <a:ext cx="1221480" cy="224280"/>
            </a:xfrm>
            <a:custGeom>
              <a:avLst/>
              <a:gdLst>
                <a:gd name="textAreaLeft" fmla="*/ 0 w 1221480"/>
                <a:gd name="textAreaRight" fmla="*/ 1221840 w 1221480"/>
                <a:gd name="textAreaTop" fmla="*/ 0 h 224280"/>
                <a:gd name="textAreaBottom" fmla="*/ 224640 h 224280"/>
              </a:gdLst>
              <a:ahLst/>
              <a:rect l="textAreaLeft" t="textAreaTop" r="textAreaRight" b="textAreaBottom"/>
              <a:pathLst>
                <a:path w="466725" h="85725">
                  <a:moveTo>
                    <a:pt x="390049" y="7144"/>
                  </a:moveTo>
                  <a:cubicBezTo>
                    <a:pt x="384334" y="7144"/>
                    <a:pt x="376714" y="7144"/>
                    <a:pt x="370999" y="7144"/>
                  </a:cubicBezTo>
                  <a:lnTo>
                    <a:pt x="348139" y="7144"/>
                  </a:lnTo>
                  <a:cubicBezTo>
                    <a:pt x="342424" y="7144"/>
                    <a:pt x="334804" y="7144"/>
                    <a:pt x="329089" y="7144"/>
                  </a:cubicBezTo>
                  <a:lnTo>
                    <a:pt x="311944" y="7144"/>
                  </a:lnTo>
                  <a:cubicBezTo>
                    <a:pt x="307181" y="7144"/>
                    <a:pt x="298609" y="7144"/>
                    <a:pt x="292894" y="7144"/>
                  </a:cubicBezTo>
                  <a:lnTo>
                    <a:pt x="267176" y="7144"/>
                  </a:lnTo>
                  <a:cubicBezTo>
                    <a:pt x="261461" y="7144"/>
                    <a:pt x="253841" y="7144"/>
                    <a:pt x="248126" y="7144"/>
                  </a:cubicBezTo>
                  <a:lnTo>
                    <a:pt x="233839" y="7144"/>
                  </a:lnTo>
                  <a:cubicBezTo>
                    <a:pt x="228124" y="7144"/>
                    <a:pt x="220504" y="7144"/>
                    <a:pt x="214789" y="7144"/>
                  </a:cubicBezTo>
                  <a:lnTo>
                    <a:pt x="189071" y="7144"/>
                  </a:lnTo>
                  <a:cubicBezTo>
                    <a:pt x="183356" y="7144"/>
                    <a:pt x="175736" y="7144"/>
                    <a:pt x="170021" y="7144"/>
                  </a:cubicBezTo>
                  <a:lnTo>
                    <a:pt x="138589" y="7144"/>
                  </a:lnTo>
                  <a:cubicBezTo>
                    <a:pt x="132874" y="7144"/>
                    <a:pt x="125254" y="7144"/>
                    <a:pt x="119539" y="7144"/>
                  </a:cubicBezTo>
                  <a:lnTo>
                    <a:pt x="110966" y="7144"/>
                  </a:lnTo>
                  <a:cubicBezTo>
                    <a:pt x="105251" y="7144"/>
                    <a:pt x="97631" y="7144"/>
                    <a:pt x="91916" y="7144"/>
                  </a:cubicBezTo>
                  <a:lnTo>
                    <a:pt x="16669" y="7144"/>
                  </a:lnTo>
                  <a:cubicBezTo>
                    <a:pt x="10954" y="7144"/>
                    <a:pt x="7144" y="10954"/>
                    <a:pt x="7144" y="16669"/>
                  </a:cubicBezTo>
                  <a:lnTo>
                    <a:pt x="7144" y="74771"/>
                  </a:lnTo>
                  <a:cubicBezTo>
                    <a:pt x="7144" y="80486"/>
                    <a:pt x="10954" y="84296"/>
                    <a:pt x="16669" y="84296"/>
                  </a:cubicBezTo>
                  <a:lnTo>
                    <a:pt x="91916" y="84296"/>
                  </a:lnTo>
                  <a:cubicBezTo>
                    <a:pt x="97631" y="84296"/>
                    <a:pt x="105251" y="84296"/>
                    <a:pt x="110966" y="84296"/>
                  </a:cubicBezTo>
                  <a:lnTo>
                    <a:pt x="119539" y="84296"/>
                  </a:lnTo>
                  <a:cubicBezTo>
                    <a:pt x="124301" y="84296"/>
                    <a:pt x="132874" y="84296"/>
                    <a:pt x="138589" y="84296"/>
                  </a:cubicBezTo>
                  <a:lnTo>
                    <a:pt x="170021" y="84296"/>
                  </a:lnTo>
                  <a:cubicBezTo>
                    <a:pt x="175736" y="84296"/>
                    <a:pt x="183356" y="84296"/>
                    <a:pt x="189071" y="84296"/>
                  </a:cubicBezTo>
                  <a:lnTo>
                    <a:pt x="214789" y="84296"/>
                  </a:lnTo>
                  <a:cubicBezTo>
                    <a:pt x="220504" y="84296"/>
                    <a:pt x="229076" y="84296"/>
                    <a:pt x="233839" y="84296"/>
                  </a:cubicBezTo>
                  <a:lnTo>
                    <a:pt x="248126" y="84296"/>
                  </a:lnTo>
                  <a:cubicBezTo>
                    <a:pt x="252889" y="84296"/>
                    <a:pt x="261461" y="84296"/>
                    <a:pt x="267176" y="84296"/>
                  </a:cubicBezTo>
                  <a:lnTo>
                    <a:pt x="292894" y="84296"/>
                  </a:lnTo>
                  <a:cubicBezTo>
                    <a:pt x="297656" y="84296"/>
                    <a:pt x="306229" y="84296"/>
                    <a:pt x="311944" y="84296"/>
                  </a:cubicBezTo>
                  <a:lnTo>
                    <a:pt x="329089" y="84296"/>
                  </a:lnTo>
                  <a:cubicBezTo>
                    <a:pt x="334804" y="84296"/>
                    <a:pt x="342424" y="84296"/>
                    <a:pt x="348139" y="84296"/>
                  </a:cubicBezTo>
                  <a:lnTo>
                    <a:pt x="370999" y="84296"/>
                  </a:lnTo>
                  <a:cubicBezTo>
                    <a:pt x="376714" y="84296"/>
                    <a:pt x="385286" y="84296"/>
                    <a:pt x="390049" y="84296"/>
                  </a:cubicBezTo>
                  <a:lnTo>
                    <a:pt x="451961" y="84296"/>
                  </a:lnTo>
                  <a:cubicBezTo>
                    <a:pt x="457676" y="84296"/>
                    <a:pt x="461486" y="80486"/>
                    <a:pt x="461486" y="74771"/>
                  </a:cubicBezTo>
                  <a:lnTo>
                    <a:pt x="461486" y="16669"/>
                  </a:lnTo>
                  <a:cubicBezTo>
                    <a:pt x="461486" y="11906"/>
                    <a:pt x="457676" y="7144"/>
                    <a:pt x="451961" y="7144"/>
                  </a:cubicBezTo>
                  <a:lnTo>
                    <a:pt x="390049" y="7144"/>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0" name="任意多边形: 形状 154"/>
            <p:cNvSpPr/>
            <p:nvPr/>
          </p:nvSpPr>
          <p:spPr>
            <a:xfrm>
              <a:off x="5769360" y="53344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1" name="任意多边形: 形状 155"/>
            <p:cNvSpPr/>
            <p:nvPr/>
          </p:nvSpPr>
          <p:spPr>
            <a:xfrm>
              <a:off x="602856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2" name="任意多边形: 形状 156"/>
            <p:cNvSpPr/>
            <p:nvPr/>
          </p:nvSpPr>
          <p:spPr>
            <a:xfrm>
              <a:off x="6490080" y="4451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3" name="任意多边形: 形状 157"/>
            <p:cNvSpPr/>
            <p:nvPr/>
          </p:nvSpPr>
          <p:spPr>
            <a:xfrm>
              <a:off x="674676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4" name="任意多边形: 形状 158"/>
            <p:cNvSpPr/>
            <p:nvPr/>
          </p:nvSpPr>
          <p:spPr>
            <a:xfrm>
              <a:off x="700596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5" name="任意多边形: 形状 159"/>
            <p:cNvSpPr/>
            <p:nvPr/>
          </p:nvSpPr>
          <p:spPr>
            <a:xfrm>
              <a:off x="649008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6" name="任意多边形: 形状 160"/>
            <p:cNvSpPr/>
            <p:nvPr/>
          </p:nvSpPr>
          <p:spPr>
            <a:xfrm>
              <a:off x="674676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7" name="任意多边形: 形状 161"/>
            <p:cNvSpPr/>
            <p:nvPr/>
          </p:nvSpPr>
          <p:spPr>
            <a:xfrm>
              <a:off x="700380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8" name="任意多边形: 形状 162"/>
            <p:cNvSpPr/>
            <p:nvPr/>
          </p:nvSpPr>
          <p:spPr>
            <a:xfrm>
              <a:off x="648756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39" name="任意多边形: 形状 163"/>
            <p:cNvSpPr/>
            <p:nvPr/>
          </p:nvSpPr>
          <p:spPr>
            <a:xfrm>
              <a:off x="674676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0" name="任意多边形: 形状 164"/>
            <p:cNvSpPr/>
            <p:nvPr/>
          </p:nvSpPr>
          <p:spPr>
            <a:xfrm>
              <a:off x="700380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1" name="任意多边形: 形状 165"/>
            <p:cNvSpPr/>
            <p:nvPr/>
          </p:nvSpPr>
          <p:spPr>
            <a:xfrm>
              <a:off x="6746760" y="50428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2" name="任意多边形: 形状 166"/>
            <p:cNvSpPr/>
            <p:nvPr/>
          </p:nvSpPr>
          <p:spPr>
            <a:xfrm>
              <a:off x="750240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3" name="任意多边形: 形状 167"/>
            <p:cNvSpPr/>
            <p:nvPr/>
          </p:nvSpPr>
          <p:spPr>
            <a:xfrm>
              <a:off x="775908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4" name="任意多边形: 形状 168"/>
            <p:cNvSpPr/>
            <p:nvPr/>
          </p:nvSpPr>
          <p:spPr>
            <a:xfrm>
              <a:off x="8018280" y="44542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5" name="任意多边形: 形状 169"/>
            <p:cNvSpPr/>
            <p:nvPr/>
          </p:nvSpPr>
          <p:spPr>
            <a:xfrm>
              <a:off x="750240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6" name="任意多边形: 形状 170"/>
            <p:cNvSpPr/>
            <p:nvPr/>
          </p:nvSpPr>
          <p:spPr>
            <a:xfrm>
              <a:off x="775908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7" name="任意多边形: 形状 171"/>
            <p:cNvSpPr/>
            <p:nvPr/>
          </p:nvSpPr>
          <p:spPr>
            <a:xfrm>
              <a:off x="8018280" y="474876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8" name="任意多边形: 形状 172"/>
            <p:cNvSpPr/>
            <p:nvPr/>
          </p:nvSpPr>
          <p:spPr>
            <a:xfrm>
              <a:off x="7502400" y="50428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0954"/>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49" name="任意多边形: 形状 173"/>
            <p:cNvSpPr/>
            <p:nvPr/>
          </p:nvSpPr>
          <p:spPr>
            <a:xfrm>
              <a:off x="7759080" y="50428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1906"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0" name="任意多边形: 形状 174"/>
            <p:cNvSpPr/>
            <p:nvPr/>
          </p:nvSpPr>
          <p:spPr>
            <a:xfrm>
              <a:off x="8016120" y="504288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1" name="任意多边形: 形状 175"/>
            <p:cNvSpPr/>
            <p:nvPr/>
          </p:nvSpPr>
          <p:spPr>
            <a:xfrm>
              <a:off x="750240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0954"/>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2" name="任意多边形: 形状 176"/>
            <p:cNvSpPr/>
            <p:nvPr/>
          </p:nvSpPr>
          <p:spPr>
            <a:xfrm>
              <a:off x="775908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80486"/>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80486"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3" name="任意多边形: 形状 177"/>
            <p:cNvSpPr/>
            <p:nvPr/>
          </p:nvSpPr>
          <p:spPr>
            <a:xfrm>
              <a:off x="8016120" y="5337000"/>
              <a:ext cx="224280" cy="224280"/>
            </a:xfrm>
            <a:custGeom>
              <a:avLst/>
              <a:gdLst>
                <a:gd name="textAreaLeft" fmla="*/ 0 w 224280"/>
                <a:gd name="textAreaRight" fmla="*/ 224640 w 224280"/>
                <a:gd name="textAreaTop" fmla="*/ 0 h 224280"/>
                <a:gd name="textAreaBottom" fmla="*/ 224640 h 224280"/>
              </a:gdLst>
              <a:ahLst/>
              <a:rect l="textAreaLeft" t="textAreaTop" r="textAreaRight" b="textAreaBottom"/>
              <a:pathLst>
                <a:path w="85725" h="85725">
                  <a:moveTo>
                    <a:pt x="84296" y="74771"/>
                  </a:moveTo>
                  <a:cubicBezTo>
                    <a:pt x="84296" y="79534"/>
                    <a:pt x="79534" y="84296"/>
                    <a:pt x="74771" y="84296"/>
                  </a:cubicBezTo>
                  <a:lnTo>
                    <a:pt x="16669" y="84296"/>
                  </a:lnTo>
                  <a:cubicBezTo>
                    <a:pt x="10954" y="84296"/>
                    <a:pt x="7144" y="79534"/>
                    <a:pt x="7144" y="74771"/>
                  </a:cubicBezTo>
                  <a:lnTo>
                    <a:pt x="7144" y="16669"/>
                  </a:lnTo>
                  <a:cubicBezTo>
                    <a:pt x="7144" y="11906"/>
                    <a:pt x="11906" y="7144"/>
                    <a:pt x="16669" y="7144"/>
                  </a:cubicBezTo>
                  <a:lnTo>
                    <a:pt x="74771" y="7144"/>
                  </a:lnTo>
                  <a:cubicBezTo>
                    <a:pt x="79534" y="7144"/>
                    <a:pt x="84296" y="11906"/>
                    <a:pt x="84296" y="16669"/>
                  </a:cubicBezTo>
                  <a:lnTo>
                    <a:pt x="84296" y="74771"/>
                  </a:lnTo>
                  <a:close/>
                </a:path>
              </a:pathLst>
            </a:custGeom>
            <a:solidFill>
              <a:srgbClr val="596c7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4" name="任意多边形: 形状 178"/>
            <p:cNvSpPr/>
            <p:nvPr/>
          </p:nvSpPr>
          <p:spPr>
            <a:xfrm>
              <a:off x="7097760" y="4815720"/>
              <a:ext cx="922320" cy="1645560"/>
            </a:xfrm>
            <a:custGeom>
              <a:avLst/>
              <a:gdLst>
                <a:gd name="textAreaLeft" fmla="*/ 0 w 922320"/>
                <a:gd name="textAreaRight" fmla="*/ 922680 w 922320"/>
                <a:gd name="textAreaTop" fmla="*/ 0 h 1645560"/>
                <a:gd name="textAreaBottom" fmla="*/ 1645920 h 1645560"/>
              </a:gdLst>
              <a:ahLst/>
              <a:rect l="textAreaLeft" t="textAreaTop" r="textAreaRight" b="textAreaBottom"/>
              <a:pathLst>
                <a:path w="352425" h="628650">
                  <a:moveTo>
                    <a:pt x="299813" y="621527"/>
                  </a:moveTo>
                  <a:lnTo>
                    <a:pt x="305528" y="550089"/>
                  </a:lnTo>
                  <a:cubicBezTo>
                    <a:pt x="305528" y="550089"/>
                    <a:pt x="341723" y="550089"/>
                    <a:pt x="342676" y="480557"/>
                  </a:cubicBezTo>
                  <a:lnTo>
                    <a:pt x="347438" y="222429"/>
                  </a:lnTo>
                  <a:cubicBezTo>
                    <a:pt x="347438" y="222429"/>
                    <a:pt x="346486" y="200522"/>
                    <a:pt x="323626" y="200522"/>
                  </a:cubicBezTo>
                  <a:cubicBezTo>
                    <a:pt x="305528" y="200522"/>
                    <a:pt x="303623" y="226239"/>
                    <a:pt x="303623" y="226239"/>
                  </a:cubicBezTo>
                  <a:cubicBezTo>
                    <a:pt x="303623" y="226239"/>
                    <a:pt x="297909" y="315774"/>
                    <a:pt x="294098" y="314822"/>
                  </a:cubicBezTo>
                  <a:cubicBezTo>
                    <a:pt x="280763" y="313869"/>
                    <a:pt x="290288" y="106224"/>
                    <a:pt x="289336" y="96699"/>
                  </a:cubicBezTo>
                  <a:cubicBezTo>
                    <a:pt x="289336" y="82412"/>
                    <a:pt x="282669" y="67172"/>
                    <a:pt x="262666" y="66219"/>
                  </a:cubicBezTo>
                  <a:cubicBezTo>
                    <a:pt x="237901" y="66219"/>
                    <a:pt x="235996" y="90984"/>
                    <a:pt x="235996" y="98604"/>
                  </a:cubicBezTo>
                  <a:cubicBezTo>
                    <a:pt x="235043" y="107177"/>
                    <a:pt x="228376" y="304344"/>
                    <a:pt x="222661" y="312917"/>
                  </a:cubicBezTo>
                  <a:cubicBezTo>
                    <a:pt x="216946" y="320537"/>
                    <a:pt x="206468" y="38597"/>
                    <a:pt x="206468" y="38597"/>
                  </a:cubicBezTo>
                  <a:cubicBezTo>
                    <a:pt x="206468" y="38597"/>
                    <a:pt x="208373" y="6212"/>
                    <a:pt x="178846" y="7164"/>
                  </a:cubicBezTo>
                  <a:cubicBezTo>
                    <a:pt x="148366" y="8117"/>
                    <a:pt x="154081" y="34787"/>
                    <a:pt x="154081" y="50027"/>
                  </a:cubicBezTo>
                  <a:cubicBezTo>
                    <a:pt x="154081" y="65267"/>
                    <a:pt x="157891" y="296724"/>
                    <a:pt x="154081" y="306249"/>
                  </a:cubicBezTo>
                  <a:cubicBezTo>
                    <a:pt x="151223" y="315774"/>
                    <a:pt x="125506" y="80507"/>
                    <a:pt x="125506" y="80507"/>
                  </a:cubicBezTo>
                  <a:cubicBezTo>
                    <a:pt x="125506" y="80507"/>
                    <a:pt x="124553" y="54789"/>
                    <a:pt x="100741" y="55742"/>
                  </a:cubicBezTo>
                  <a:cubicBezTo>
                    <a:pt x="75976" y="57647"/>
                    <a:pt x="79786" y="93842"/>
                    <a:pt x="79786" y="93842"/>
                  </a:cubicBezTo>
                  <a:lnTo>
                    <a:pt x="75976" y="309107"/>
                  </a:lnTo>
                  <a:lnTo>
                    <a:pt x="52163" y="241479"/>
                  </a:lnTo>
                  <a:cubicBezTo>
                    <a:pt x="52163" y="241479"/>
                    <a:pt x="43591" y="216714"/>
                    <a:pt x="21684" y="223382"/>
                  </a:cubicBezTo>
                  <a:cubicBezTo>
                    <a:pt x="-224" y="230049"/>
                    <a:pt x="8348" y="260529"/>
                    <a:pt x="11206" y="286247"/>
                  </a:cubicBezTo>
                  <a:cubicBezTo>
                    <a:pt x="14063" y="306249"/>
                    <a:pt x="35018" y="526277"/>
                    <a:pt x="136936" y="531992"/>
                  </a:cubicBezTo>
                  <a:lnTo>
                    <a:pt x="131221" y="605334"/>
                  </a:lnTo>
                  <a:lnTo>
                    <a:pt x="299813" y="621527"/>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5" name="任意多边形: 形状 179"/>
            <p:cNvSpPr/>
            <p:nvPr/>
          </p:nvSpPr>
          <p:spPr>
            <a:xfrm>
              <a:off x="7891200" y="5342040"/>
              <a:ext cx="99720" cy="124560"/>
            </a:xfrm>
            <a:custGeom>
              <a:avLst/>
              <a:gdLst>
                <a:gd name="textAreaLeft" fmla="*/ 0 w 99720"/>
                <a:gd name="textAreaRight" fmla="*/ 100080 w 99720"/>
                <a:gd name="textAreaTop" fmla="*/ 0 h 124560"/>
                <a:gd name="textAreaBottom" fmla="*/ 124920 h 124560"/>
              </a:gdLst>
              <a:ahLst/>
              <a:rect l="textAreaLeft" t="textAreaTop" r="textAreaRight" b="textAreaBottom"/>
              <a:pathLst>
                <a:path w="38100" h="47625">
                  <a:moveTo>
                    <a:pt x="-28865" y="-26930"/>
                  </a:moveTo>
                  <a:cubicBezTo>
                    <a:pt x="-28865" y="-26930"/>
                    <a:pt x="-24102" y="9079"/>
                    <a:pt x="24289" y="7174"/>
                  </a:cubicBezTo>
                  <a:cubicBezTo>
                    <a:pt x="7144" y="6221"/>
                    <a:pt x="8096" y="28129"/>
                    <a:pt x="7144" y="-27882"/>
                  </a:cubicBezTo>
                  <a:cubicBezTo>
                    <a:pt x="7144" y="-27882"/>
                    <a:pt x="21431" y="-15500"/>
                    <a:pt x="-28865" y="-26930"/>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6" name="任意多边形: 形状 180"/>
            <p:cNvSpPr/>
            <p:nvPr/>
          </p:nvSpPr>
          <p:spPr>
            <a:xfrm>
              <a:off x="7714080" y="499536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20292" y="-17347"/>
                  </a:moveTo>
                  <a:cubicBezTo>
                    <a:pt x="-20292" y="-17347"/>
                    <a:pt x="-13625" y="9137"/>
                    <a:pt x="29051" y="7232"/>
                  </a:cubicBezTo>
                  <a:cubicBezTo>
                    <a:pt x="7144" y="5327"/>
                    <a:pt x="8096" y="-30682"/>
                    <a:pt x="7144" y="-18299"/>
                  </a:cubicBezTo>
                  <a:cubicBezTo>
                    <a:pt x="7144" y="-18299"/>
                    <a:pt x="25241" y="-2107"/>
                    <a:pt x="-20292" y="-17347"/>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7" name="任意多边形: 形状 181"/>
            <p:cNvSpPr/>
            <p:nvPr/>
          </p:nvSpPr>
          <p:spPr>
            <a:xfrm>
              <a:off x="7502040" y="484092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20250" y="-18365"/>
                  </a:moveTo>
                  <a:cubicBezTo>
                    <a:pt x="-20250" y="-18365"/>
                    <a:pt x="-16441" y="7166"/>
                    <a:pt x="27188" y="7166"/>
                  </a:cubicBezTo>
                  <a:cubicBezTo>
                    <a:pt x="5281" y="6214"/>
                    <a:pt x="7186" y="-29795"/>
                    <a:pt x="7186" y="-17412"/>
                  </a:cubicBezTo>
                  <a:cubicBezTo>
                    <a:pt x="6233" y="-17412"/>
                    <a:pt x="26236" y="-2172"/>
                    <a:pt x="-20250" y="-18365"/>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8" name="任意多边形: 形状 182"/>
            <p:cNvSpPr/>
            <p:nvPr/>
          </p:nvSpPr>
          <p:spPr>
            <a:xfrm>
              <a:off x="7302600" y="497304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22152" y="-20292"/>
                  </a:moveTo>
                  <a:cubicBezTo>
                    <a:pt x="-22152" y="-20292"/>
                    <a:pt x="-18342" y="7144"/>
                    <a:pt x="26239" y="7144"/>
                  </a:cubicBezTo>
                  <a:cubicBezTo>
                    <a:pt x="5284" y="7144"/>
                    <a:pt x="7189" y="-30770"/>
                    <a:pt x="7189" y="-19340"/>
                  </a:cubicBezTo>
                  <a:cubicBezTo>
                    <a:pt x="7189" y="-19340"/>
                    <a:pt x="26239" y="-5052"/>
                    <a:pt x="-22152" y="-20292"/>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59" name="任意多边形: 形状 183"/>
            <p:cNvSpPr/>
            <p:nvPr/>
          </p:nvSpPr>
          <p:spPr>
            <a:xfrm>
              <a:off x="7107840" y="540036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49305" y="41993"/>
                  </a:moveTo>
                  <a:cubicBezTo>
                    <a:pt x="49305" y="41993"/>
                    <a:pt x="42638" y="1988"/>
                    <a:pt x="20730" y="7703"/>
                  </a:cubicBezTo>
                  <a:cubicBezTo>
                    <a:pt x="-1177" y="12465"/>
                    <a:pt x="9300" y="41040"/>
                    <a:pt x="12158" y="53422"/>
                  </a:cubicBezTo>
                  <a:cubicBezTo>
                    <a:pt x="12158" y="52470"/>
                    <a:pt x="35018" y="62947"/>
                    <a:pt x="49305" y="41993"/>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0" name="任意多边形: 形状 184"/>
            <p:cNvSpPr/>
            <p:nvPr/>
          </p:nvSpPr>
          <p:spPr>
            <a:xfrm>
              <a:off x="7350120" y="6284520"/>
              <a:ext cx="648000" cy="573480"/>
            </a:xfrm>
            <a:custGeom>
              <a:avLst/>
              <a:gdLst>
                <a:gd name="textAreaLeft" fmla="*/ 0 w 648000"/>
                <a:gd name="textAreaRight" fmla="*/ 648360 w 648000"/>
                <a:gd name="textAreaTop" fmla="*/ 0 h 573480"/>
                <a:gd name="textAreaBottom" fmla="*/ 573840 h 573480"/>
              </a:gdLst>
              <a:ahLst/>
              <a:rect l="textAreaLeft" t="textAreaTop" r="textAreaRight" b="textAreaBottom"/>
              <a:pathLst>
                <a:path w="247650" h="219075">
                  <a:moveTo>
                    <a:pt x="7144" y="7144"/>
                  </a:moveTo>
                  <a:lnTo>
                    <a:pt x="243364" y="7144"/>
                  </a:lnTo>
                  <a:lnTo>
                    <a:pt x="243364" y="211931"/>
                  </a:lnTo>
                  <a:lnTo>
                    <a:pt x="7144" y="211931"/>
                  </a:lnTo>
                  <a:lnTo>
                    <a:pt x="7144" y="7144"/>
                  </a:lnTo>
                  <a:close/>
                </a:path>
              </a:pathLst>
            </a:custGeom>
            <a:solidFill>
              <a:srgbClr val="5bb8f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1" name="任意多边形: 形状 185"/>
            <p:cNvSpPr/>
            <p:nvPr/>
          </p:nvSpPr>
          <p:spPr>
            <a:xfrm>
              <a:off x="7350120" y="6284520"/>
              <a:ext cx="648000" cy="249120"/>
            </a:xfrm>
            <a:custGeom>
              <a:avLst/>
              <a:gdLst>
                <a:gd name="textAreaLeft" fmla="*/ 0 w 648000"/>
                <a:gd name="textAreaRight" fmla="*/ 648360 w 648000"/>
                <a:gd name="textAreaTop" fmla="*/ 0 h 249120"/>
                <a:gd name="textAreaBottom" fmla="*/ 249480 h 249120"/>
              </a:gdLst>
              <a:ahLst/>
              <a:rect l="textAreaLeft" t="textAreaTop" r="textAreaRight" b="textAreaBottom"/>
              <a:pathLst>
                <a:path w="247650" h="95250">
                  <a:moveTo>
                    <a:pt x="7144" y="7144"/>
                  </a:moveTo>
                  <a:lnTo>
                    <a:pt x="243364" y="7144"/>
                  </a:lnTo>
                  <a:lnTo>
                    <a:pt x="243364" y="91916"/>
                  </a:lnTo>
                  <a:lnTo>
                    <a:pt x="7144" y="91916"/>
                  </a:lnTo>
                  <a:lnTo>
                    <a:pt x="7144" y="7144"/>
                  </a:lnTo>
                  <a:close/>
                </a:path>
              </a:pathLst>
            </a:custGeom>
            <a:solidFill>
              <a:srgbClr val="26a0d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2" name="任意多边形: 形状 186"/>
            <p:cNvSpPr/>
            <p:nvPr/>
          </p:nvSpPr>
          <p:spPr>
            <a:xfrm>
              <a:off x="7833960" y="634932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22197" y="25241"/>
                  </a:moveTo>
                  <a:cubicBezTo>
                    <a:pt x="-22197" y="-30300"/>
                    <a:pt x="-30300" y="-22197"/>
                    <a:pt x="25241" y="-22197"/>
                  </a:cubicBezTo>
                  <a:cubicBezTo>
                    <a:pt x="15246" y="-22197"/>
                    <a:pt x="7144" y="-30300"/>
                    <a:pt x="7144" y="25241"/>
                  </a:cubicBezTo>
                  <a:cubicBezTo>
                    <a:pt x="7144" y="15246"/>
                    <a:pt x="15246" y="7144"/>
                    <a:pt x="25241" y="7144"/>
                  </a:cubicBezTo>
                  <a:cubicBezTo>
                    <a:pt x="-30300" y="7144"/>
                    <a:pt x="-22197" y="15246"/>
                    <a:pt x="-22197" y="25241"/>
                  </a:cubicBezTo>
                  <a:close/>
                </a:path>
              </a:pathLst>
            </a:custGeom>
            <a:solidFill>
              <a:srgbClr val="b4e5f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3" name="任意多边形: 形状 187"/>
            <p:cNvSpPr/>
            <p:nvPr/>
          </p:nvSpPr>
          <p:spPr>
            <a:xfrm>
              <a:off x="4178520" y="4815720"/>
              <a:ext cx="922320" cy="1645560"/>
            </a:xfrm>
            <a:custGeom>
              <a:avLst/>
              <a:gdLst>
                <a:gd name="textAreaLeft" fmla="*/ 0 w 922320"/>
                <a:gd name="textAreaRight" fmla="*/ 922680 w 922320"/>
                <a:gd name="textAreaTop" fmla="*/ 0 h 1645560"/>
                <a:gd name="textAreaBottom" fmla="*/ 1645920 h 1645560"/>
              </a:gdLst>
              <a:ahLst/>
              <a:rect l="textAreaLeft" t="textAreaTop" r="textAreaRight" b="textAreaBottom"/>
              <a:pathLst>
                <a:path w="352425" h="628650">
                  <a:moveTo>
                    <a:pt x="54769" y="621527"/>
                  </a:moveTo>
                  <a:lnTo>
                    <a:pt x="49054" y="550089"/>
                  </a:lnTo>
                  <a:cubicBezTo>
                    <a:pt x="49054" y="550089"/>
                    <a:pt x="12859" y="550089"/>
                    <a:pt x="11906" y="480557"/>
                  </a:cubicBezTo>
                  <a:lnTo>
                    <a:pt x="7144" y="222429"/>
                  </a:lnTo>
                  <a:cubicBezTo>
                    <a:pt x="7144" y="222429"/>
                    <a:pt x="8096" y="200522"/>
                    <a:pt x="30956" y="200522"/>
                  </a:cubicBezTo>
                  <a:cubicBezTo>
                    <a:pt x="49054" y="200522"/>
                    <a:pt x="50959" y="226239"/>
                    <a:pt x="50959" y="226239"/>
                  </a:cubicBezTo>
                  <a:cubicBezTo>
                    <a:pt x="50959" y="226239"/>
                    <a:pt x="56674" y="315774"/>
                    <a:pt x="60484" y="314822"/>
                  </a:cubicBezTo>
                  <a:cubicBezTo>
                    <a:pt x="73819" y="313869"/>
                    <a:pt x="64294" y="106224"/>
                    <a:pt x="65246" y="96699"/>
                  </a:cubicBezTo>
                  <a:cubicBezTo>
                    <a:pt x="65246" y="82412"/>
                    <a:pt x="71914" y="67172"/>
                    <a:pt x="91916" y="66219"/>
                  </a:cubicBezTo>
                  <a:cubicBezTo>
                    <a:pt x="116681" y="66219"/>
                    <a:pt x="118586" y="90984"/>
                    <a:pt x="118586" y="98604"/>
                  </a:cubicBezTo>
                  <a:cubicBezTo>
                    <a:pt x="119539" y="107177"/>
                    <a:pt x="126206" y="304344"/>
                    <a:pt x="131921" y="312917"/>
                  </a:cubicBezTo>
                  <a:cubicBezTo>
                    <a:pt x="137636" y="320537"/>
                    <a:pt x="148114" y="38597"/>
                    <a:pt x="148114" y="38597"/>
                  </a:cubicBezTo>
                  <a:cubicBezTo>
                    <a:pt x="148114" y="38597"/>
                    <a:pt x="146209" y="6212"/>
                    <a:pt x="175736" y="7164"/>
                  </a:cubicBezTo>
                  <a:cubicBezTo>
                    <a:pt x="206216" y="8117"/>
                    <a:pt x="200501" y="34787"/>
                    <a:pt x="200501" y="50027"/>
                  </a:cubicBezTo>
                  <a:cubicBezTo>
                    <a:pt x="200501" y="65267"/>
                    <a:pt x="196691" y="296724"/>
                    <a:pt x="200501" y="306249"/>
                  </a:cubicBezTo>
                  <a:cubicBezTo>
                    <a:pt x="203359" y="315774"/>
                    <a:pt x="229076" y="80507"/>
                    <a:pt x="229076" y="80507"/>
                  </a:cubicBezTo>
                  <a:cubicBezTo>
                    <a:pt x="229076" y="80507"/>
                    <a:pt x="230029" y="54789"/>
                    <a:pt x="253841" y="55742"/>
                  </a:cubicBezTo>
                  <a:cubicBezTo>
                    <a:pt x="278606" y="57647"/>
                    <a:pt x="274796" y="93842"/>
                    <a:pt x="274796" y="93842"/>
                  </a:cubicBezTo>
                  <a:lnTo>
                    <a:pt x="278606" y="309107"/>
                  </a:lnTo>
                  <a:lnTo>
                    <a:pt x="302419" y="241479"/>
                  </a:lnTo>
                  <a:cubicBezTo>
                    <a:pt x="302419" y="241479"/>
                    <a:pt x="310991" y="216714"/>
                    <a:pt x="332899" y="223382"/>
                  </a:cubicBezTo>
                  <a:cubicBezTo>
                    <a:pt x="354806" y="230049"/>
                    <a:pt x="346234" y="260529"/>
                    <a:pt x="343376" y="286247"/>
                  </a:cubicBezTo>
                  <a:cubicBezTo>
                    <a:pt x="340519" y="306249"/>
                    <a:pt x="319564" y="526277"/>
                    <a:pt x="217646" y="531992"/>
                  </a:cubicBezTo>
                  <a:lnTo>
                    <a:pt x="223361" y="605334"/>
                  </a:lnTo>
                  <a:lnTo>
                    <a:pt x="54769" y="621527"/>
                  </a:lnTo>
                  <a:close/>
                </a:path>
              </a:pathLst>
            </a:custGeom>
            <a:solidFill>
              <a:srgbClr val="f5c5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4" name="任意多边形: 形状 188"/>
            <p:cNvSpPr/>
            <p:nvPr/>
          </p:nvSpPr>
          <p:spPr>
            <a:xfrm>
              <a:off x="4196880" y="5342040"/>
              <a:ext cx="99720" cy="124560"/>
            </a:xfrm>
            <a:custGeom>
              <a:avLst/>
              <a:gdLst>
                <a:gd name="textAreaLeft" fmla="*/ 0 w 99720"/>
                <a:gd name="textAreaRight" fmla="*/ 100080 w 99720"/>
                <a:gd name="textAreaTop" fmla="*/ 0 h 124560"/>
                <a:gd name="textAreaBottom" fmla="*/ 124920 h 124560"/>
              </a:gdLst>
              <a:ahLst/>
              <a:rect l="textAreaLeft" t="textAreaTop" r="textAreaRight" b="textAreaBottom"/>
              <a:pathLst>
                <a:path w="38100" h="47625">
                  <a:moveTo>
                    <a:pt x="7751" y="-26930"/>
                  </a:moveTo>
                  <a:cubicBezTo>
                    <a:pt x="7751" y="-26930"/>
                    <a:pt x="2989" y="9079"/>
                    <a:pt x="20134" y="7174"/>
                  </a:cubicBezTo>
                  <a:cubicBezTo>
                    <a:pt x="-28257" y="6221"/>
                    <a:pt x="-29210" y="28129"/>
                    <a:pt x="-28257" y="-27882"/>
                  </a:cubicBezTo>
                  <a:cubicBezTo>
                    <a:pt x="-28257" y="-27882"/>
                    <a:pt x="22991" y="-15500"/>
                    <a:pt x="7751" y="-26930"/>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5" name="任意多边形: 形状 189"/>
            <p:cNvSpPr/>
            <p:nvPr/>
          </p:nvSpPr>
          <p:spPr>
            <a:xfrm>
              <a:off x="4350960" y="499536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8049" y="-17347"/>
                  </a:moveTo>
                  <a:cubicBezTo>
                    <a:pt x="8049" y="-17347"/>
                    <a:pt x="1381" y="9137"/>
                    <a:pt x="24241" y="7232"/>
                  </a:cubicBezTo>
                  <a:cubicBezTo>
                    <a:pt x="-19387" y="5327"/>
                    <a:pt x="-20340" y="-30682"/>
                    <a:pt x="-19387" y="-18299"/>
                  </a:cubicBezTo>
                  <a:cubicBezTo>
                    <a:pt x="-19387" y="-18299"/>
                    <a:pt x="28051" y="-2107"/>
                    <a:pt x="8049" y="-17347"/>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6" name="任意多边形: 形状 190"/>
            <p:cNvSpPr/>
            <p:nvPr/>
          </p:nvSpPr>
          <p:spPr>
            <a:xfrm>
              <a:off x="4564440" y="484092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7397" y="-18365"/>
                  </a:moveTo>
                  <a:cubicBezTo>
                    <a:pt x="7397" y="-18365"/>
                    <a:pt x="3587" y="7166"/>
                    <a:pt x="25495" y="7166"/>
                  </a:cubicBezTo>
                  <a:cubicBezTo>
                    <a:pt x="-18134" y="6214"/>
                    <a:pt x="-20038" y="-29795"/>
                    <a:pt x="-20038" y="-17412"/>
                  </a:cubicBezTo>
                  <a:cubicBezTo>
                    <a:pt x="-19086" y="-17412"/>
                    <a:pt x="26448" y="-2172"/>
                    <a:pt x="7397" y="-18365"/>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7" name="任意多边形: 形状 191"/>
            <p:cNvSpPr/>
            <p:nvPr/>
          </p:nvSpPr>
          <p:spPr>
            <a:xfrm>
              <a:off x="4768920" y="497304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7415" y="-20292"/>
                  </a:moveTo>
                  <a:cubicBezTo>
                    <a:pt x="7415" y="-20292"/>
                    <a:pt x="3605" y="7144"/>
                    <a:pt x="24560" y="7144"/>
                  </a:cubicBezTo>
                  <a:cubicBezTo>
                    <a:pt x="-20021" y="7144"/>
                    <a:pt x="-21926" y="-30770"/>
                    <a:pt x="-21926" y="-19340"/>
                  </a:cubicBezTo>
                  <a:cubicBezTo>
                    <a:pt x="-21926" y="-19340"/>
                    <a:pt x="24560" y="-5052"/>
                    <a:pt x="7415" y="-20292"/>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8" name="任意多边形: 形状 192"/>
            <p:cNvSpPr/>
            <p:nvPr/>
          </p:nvSpPr>
          <p:spPr>
            <a:xfrm>
              <a:off x="4949280" y="5400360"/>
              <a:ext cx="124560" cy="149400"/>
            </a:xfrm>
            <a:custGeom>
              <a:avLst/>
              <a:gdLst>
                <a:gd name="textAreaLeft" fmla="*/ 0 w 124560"/>
                <a:gd name="textAreaRight" fmla="*/ 124920 w 124560"/>
                <a:gd name="textAreaTop" fmla="*/ 0 h 149400"/>
                <a:gd name="textAreaBottom" fmla="*/ 149760 h 149400"/>
              </a:gdLst>
              <a:ahLst/>
              <a:rect l="textAreaLeft" t="textAreaTop" r="textAreaRight" b="textAreaBottom"/>
              <a:pathLst>
                <a:path w="47625" h="57150">
                  <a:moveTo>
                    <a:pt x="7144" y="-23543"/>
                  </a:moveTo>
                  <a:cubicBezTo>
                    <a:pt x="7144" y="-23543"/>
                    <a:pt x="13811" y="1988"/>
                    <a:pt x="-29817" y="7703"/>
                  </a:cubicBezTo>
                  <a:cubicBezTo>
                    <a:pt x="-7910" y="12465"/>
                    <a:pt x="-18387" y="-24496"/>
                    <a:pt x="-21245" y="-12114"/>
                  </a:cubicBezTo>
                  <a:cubicBezTo>
                    <a:pt x="-21245" y="-13066"/>
                    <a:pt x="21431" y="-2589"/>
                    <a:pt x="7144" y="-23543"/>
                  </a:cubicBezTo>
                  <a:close/>
                </a:path>
              </a:pathLst>
            </a:custGeom>
            <a:solidFill>
              <a:srgbClr val="f4e7d7"/>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69" name="任意多边形: 形状 193"/>
            <p:cNvSpPr/>
            <p:nvPr/>
          </p:nvSpPr>
          <p:spPr>
            <a:xfrm>
              <a:off x="4196160" y="6284520"/>
              <a:ext cx="648000" cy="573480"/>
            </a:xfrm>
            <a:custGeom>
              <a:avLst/>
              <a:gdLst>
                <a:gd name="textAreaLeft" fmla="*/ 0 w 648000"/>
                <a:gd name="textAreaRight" fmla="*/ 648360 w 648000"/>
                <a:gd name="textAreaTop" fmla="*/ 0 h 573480"/>
                <a:gd name="textAreaBottom" fmla="*/ 573840 h 573480"/>
              </a:gdLst>
              <a:ahLst/>
              <a:rect l="textAreaLeft" t="textAreaTop" r="textAreaRight" b="textAreaBottom"/>
              <a:pathLst>
                <a:path w="247650" h="219075">
                  <a:moveTo>
                    <a:pt x="7144" y="7144"/>
                  </a:moveTo>
                  <a:lnTo>
                    <a:pt x="243364" y="7144"/>
                  </a:lnTo>
                  <a:lnTo>
                    <a:pt x="243364" y="211931"/>
                  </a:lnTo>
                  <a:lnTo>
                    <a:pt x="7144" y="211931"/>
                  </a:lnTo>
                  <a:lnTo>
                    <a:pt x="7144" y="7144"/>
                  </a:lnTo>
                  <a:close/>
                </a:path>
              </a:pathLst>
            </a:custGeom>
            <a:solidFill>
              <a:srgbClr val="5bb8f3"/>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70" name="任意多边形: 形状 194"/>
            <p:cNvSpPr/>
            <p:nvPr/>
          </p:nvSpPr>
          <p:spPr>
            <a:xfrm>
              <a:off x="4196160" y="6284520"/>
              <a:ext cx="648000" cy="249120"/>
            </a:xfrm>
            <a:custGeom>
              <a:avLst/>
              <a:gdLst>
                <a:gd name="textAreaLeft" fmla="*/ 0 w 648000"/>
                <a:gd name="textAreaRight" fmla="*/ 648360 w 648000"/>
                <a:gd name="textAreaTop" fmla="*/ 0 h 249120"/>
                <a:gd name="textAreaBottom" fmla="*/ 249480 h 249120"/>
              </a:gdLst>
              <a:ahLst/>
              <a:rect l="textAreaLeft" t="textAreaTop" r="textAreaRight" b="textAreaBottom"/>
              <a:pathLst>
                <a:path w="247650" h="95250">
                  <a:moveTo>
                    <a:pt x="7144" y="7144"/>
                  </a:moveTo>
                  <a:lnTo>
                    <a:pt x="243364" y="7144"/>
                  </a:lnTo>
                  <a:lnTo>
                    <a:pt x="243364" y="91916"/>
                  </a:lnTo>
                  <a:lnTo>
                    <a:pt x="7144" y="91916"/>
                  </a:lnTo>
                  <a:lnTo>
                    <a:pt x="7144" y="7144"/>
                  </a:lnTo>
                  <a:close/>
                </a:path>
              </a:pathLst>
            </a:custGeom>
            <a:solidFill>
              <a:srgbClr val="26a0d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2571" name="任意多边形: 形状 195"/>
            <p:cNvSpPr/>
            <p:nvPr/>
          </p:nvSpPr>
          <p:spPr>
            <a:xfrm>
              <a:off x="4238640" y="6349320"/>
              <a:ext cx="124560" cy="124560"/>
            </a:xfrm>
            <a:custGeom>
              <a:avLst/>
              <a:gdLst>
                <a:gd name="textAreaLeft" fmla="*/ 0 w 124560"/>
                <a:gd name="textAreaRight" fmla="*/ 124920 w 124560"/>
                <a:gd name="textAreaTop" fmla="*/ 0 h 124560"/>
                <a:gd name="textAreaBottom" fmla="*/ 124920 h 124560"/>
              </a:gdLst>
              <a:ahLst/>
              <a:rect l="textAreaLeft" t="textAreaTop" r="textAreaRight" b="textAreaBottom"/>
              <a:pathLst>
                <a:path w="47625" h="47625">
                  <a:moveTo>
                    <a:pt x="7144" y="25241"/>
                  </a:moveTo>
                  <a:cubicBezTo>
                    <a:pt x="7144" y="-30770"/>
                    <a:pt x="14764" y="-22197"/>
                    <a:pt x="25241" y="-22197"/>
                  </a:cubicBezTo>
                  <a:cubicBezTo>
                    <a:pt x="-30770" y="-22197"/>
                    <a:pt x="-22197" y="-29817"/>
                    <a:pt x="-22197" y="25241"/>
                  </a:cubicBezTo>
                  <a:cubicBezTo>
                    <a:pt x="-22197" y="14764"/>
                    <a:pt x="-29817" y="7144"/>
                    <a:pt x="25241" y="7144"/>
                  </a:cubicBezTo>
                  <a:cubicBezTo>
                    <a:pt x="14764" y="7144"/>
                    <a:pt x="7144" y="14764"/>
                    <a:pt x="7144" y="25241"/>
                  </a:cubicBezTo>
                  <a:close/>
                </a:path>
              </a:pathLst>
            </a:custGeom>
            <a:solidFill>
              <a:srgbClr val="b4e5f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sp>
        <p:nvSpPr>
          <p:cNvPr id="2572" name="PA_矩形 208"/>
          <p:cNvSpPr/>
          <p:nvPr/>
        </p:nvSpPr>
        <p:spPr>
          <a:xfrm>
            <a:off x="3141720" y="2128680"/>
            <a:ext cx="6035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00000"/>
                </a:solidFill>
                <a:latin typeface="造字工房尚雅（非商用）常规体"/>
                <a:ea typeface="造字工房尚雅（非商用）常规体"/>
              </a:rPr>
              <a:t>谢谢聆听！</a:t>
            </a:r>
            <a:endParaRPr b="0" lang="en-US" sz="8000" spc="-1" strike="noStrike">
              <a:solidFill>
                <a:srgbClr val="262626"/>
              </a:solidFill>
              <a:latin typeface="Arial"/>
            </a:endParaRPr>
          </a:p>
        </p:txBody>
      </p:sp>
    </p:spTree>
  </p:cSld>
  <p:transition spd="slow">
    <p:random/>
  </p:transition>
  <p:timing>
    <p:tnLst>
      <p:par>
        <p:cTn id="809" dur="indefinite" restart="never" nodeType="tmRoot">
          <p:childTnLst>
            <p:seq>
              <p:cTn id="810" dur="indefinite" nodeType="mainSeq">
                <p:childTnLst>
                  <p:par>
                    <p:cTn id="811" nodeType="clickEffect" fill="hold">
                      <p:stCondLst>
                        <p:cond delay="0"/>
                      </p:stCondLst>
                      <p:childTnLst>
                        <p:par>
                          <p:cTn id="812" nodeType="withEffect" fill="hold">
                            <p:stCondLst>
                              <p:cond delay="0"/>
                            </p:stCondLst>
                            <p:childTnLst>
                              <p:par>
                                <p:cTn id="813" nodeType="afterEffect" fill="hold" presetClass="entr" presetID="41">
                                  <p:stCondLst>
                                    <p:cond delay="0"/>
                                  </p:stCondLst>
                                  <p:iterate type="lt">
                                    <p:tmAbs val="50"/>
                                  </p:iterate>
                                  <p:childTnLst>
                                    <p:set>
                                      <p:cBhvr>
                                        <p:cTn id="814" dur="1" fill="hold">
                                          <p:stCondLst>
                                            <p:cond delay="0"/>
                                          </p:stCondLst>
                                        </p:cTn>
                                        <p:tgtEl>
                                          <p:spTgt spid="2572">
                                            <p:txEl>
                                              <p:pRg st="0" end="0"/>
                                            </p:txEl>
                                          </p:spTgt>
                                        </p:tgtEl>
                                        <p:attrNameLst>
                                          <p:attrName>style.visibility</p:attrName>
                                        </p:attrNameLst>
                                      </p:cBhvr>
                                      <p:to>
                                        <p:strVal val="visible"/>
                                      </p:to>
                                    </p:set>
                                    <p:anim calcmode="lin" valueType="num">
                                      <p:cBhvr additive="repl">
                                        <p:cTn id="815" dur="500" fill="hold"/>
                                        <p:tgtEl>
                                          <p:spTgt spid="257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6" dur="500" fill="hold"/>
                                        <p:tgtEl>
                                          <p:spTgt spid="2572">
                                            <p:txEl>
                                              <p:pRg st="0" end="0"/>
                                            </p:txEl>
                                          </p:spTgt>
                                        </p:tgtEl>
                                        <p:attrNameLst>
                                          <p:attrName>ppt_y</p:attrName>
                                        </p:attrNameLst>
                                      </p:cBhvr>
                                      <p:tavLst>
                                        <p:tav tm="0">
                                          <p:val>
                                            <p:strVal val="#ppt_y"/>
                                          </p:val>
                                        </p:tav>
                                        <p:tav tm="100000">
                                          <p:val>
                                            <p:strVal val="#ppt_y"/>
                                          </p:val>
                                        </p:tav>
                                      </p:tavLst>
                                    </p:anim>
                                    <p:anim calcmode="lin" valueType="num">
                                      <p:cBhvr additive="repl">
                                        <p:cTn id="817" dur="500" fill="hold"/>
                                        <p:tgtEl>
                                          <p:spTgt spid="257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8" dur="500" fill="hold"/>
                                        <p:tgtEl>
                                          <p:spTgt spid="257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9" dur="500"/>
                                        <p:tgtEl>
                                          <p:spTgt spid="25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5" name="Group 51"/>
          <p:cNvGrpSpPr/>
          <p:nvPr/>
        </p:nvGrpSpPr>
        <p:grpSpPr>
          <a:xfrm>
            <a:off x="6448320" y="1549440"/>
            <a:ext cx="765360" cy="765000"/>
            <a:chOff x="6448320" y="1549440"/>
            <a:chExt cx="765360" cy="765000"/>
          </a:xfrm>
        </p:grpSpPr>
        <p:sp>
          <p:nvSpPr>
            <p:cNvPr id="896" name="Oval 52"/>
            <p:cNvSpPr/>
            <p:nvPr/>
          </p:nvSpPr>
          <p:spPr>
            <a:xfrm>
              <a:off x="6448320" y="1549440"/>
              <a:ext cx="765360" cy="765000"/>
            </a:xfrm>
            <a:prstGeom prst="ellipse">
              <a:avLst/>
            </a:prstGeom>
            <a:solidFill>
              <a:srgbClr val="239ca2"/>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897" name="Freeform 127"/>
            <p:cNvSpPr/>
            <p:nvPr/>
          </p:nvSpPr>
          <p:spPr>
            <a:xfrm>
              <a:off x="6672240" y="1741320"/>
              <a:ext cx="290520" cy="387360"/>
            </a:xfrm>
            <a:custGeom>
              <a:avLst/>
              <a:gdLst/>
              <a:ahLst/>
              <a:rect l="l" t="t" r="r" b="b"/>
              <a:pathLst>
                <a:path w="192" h="256">
                  <a:moveTo>
                    <a:pt x="40" y="256"/>
                  </a:moveTo>
                  <a:cubicBezTo>
                    <a:pt x="62" y="256"/>
                    <a:pt x="80" y="238"/>
                    <a:pt x="80" y="216"/>
                  </a:cubicBezTo>
                  <a:cubicBezTo>
                    <a:pt x="80" y="102"/>
                    <a:pt x="80" y="102"/>
                    <a:pt x="80" y="102"/>
                  </a:cubicBezTo>
                  <a:cubicBezTo>
                    <a:pt x="176" y="82"/>
                    <a:pt x="176" y="82"/>
                    <a:pt x="176" y="82"/>
                  </a:cubicBezTo>
                  <a:cubicBezTo>
                    <a:pt x="176" y="160"/>
                    <a:pt x="176" y="160"/>
                    <a:pt x="176" y="160"/>
                  </a:cubicBezTo>
                  <a:cubicBezTo>
                    <a:pt x="168" y="155"/>
                    <a:pt x="161" y="152"/>
                    <a:pt x="152" y="152"/>
                  </a:cubicBezTo>
                  <a:cubicBezTo>
                    <a:pt x="130" y="152"/>
                    <a:pt x="112" y="170"/>
                    <a:pt x="112" y="192"/>
                  </a:cubicBezTo>
                  <a:cubicBezTo>
                    <a:pt x="112" y="214"/>
                    <a:pt x="130" y="232"/>
                    <a:pt x="152" y="232"/>
                  </a:cubicBezTo>
                  <a:cubicBezTo>
                    <a:pt x="174" y="232"/>
                    <a:pt x="192" y="214"/>
                    <a:pt x="192" y="192"/>
                  </a:cubicBezTo>
                  <a:cubicBezTo>
                    <a:pt x="192" y="72"/>
                    <a:pt x="192" y="72"/>
                    <a:pt x="192" y="72"/>
                  </a:cubicBezTo>
                  <a:cubicBezTo>
                    <a:pt x="192" y="72"/>
                    <a:pt x="192" y="72"/>
                    <a:pt x="192" y="72"/>
                  </a:cubicBezTo>
                  <a:cubicBezTo>
                    <a:pt x="192" y="8"/>
                    <a:pt x="192" y="8"/>
                    <a:pt x="192" y="8"/>
                  </a:cubicBezTo>
                  <a:cubicBezTo>
                    <a:pt x="192" y="6"/>
                    <a:pt x="191" y="3"/>
                    <a:pt x="189" y="2"/>
                  </a:cubicBezTo>
                  <a:cubicBezTo>
                    <a:pt x="187" y="0"/>
                    <a:pt x="185" y="0"/>
                    <a:pt x="182" y="0"/>
                  </a:cubicBezTo>
                  <a:cubicBezTo>
                    <a:pt x="70" y="24"/>
                    <a:pt x="70" y="24"/>
                    <a:pt x="70" y="24"/>
                  </a:cubicBezTo>
                  <a:cubicBezTo>
                    <a:pt x="67" y="25"/>
                    <a:pt x="64" y="28"/>
                    <a:pt x="64" y="32"/>
                  </a:cubicBezTo>
                  <a:cubicBezTo>
                    <a:pt x="64" y="96"/>
                    <a:pt x="64" y="96"/>
                    <a:pt x="64" y="96"/>
                  </a:cubicBezTo>
                  <a:cubicBezTo>
                    <a:pt x="64" y="96"/>
                    <a:pt x="64" y="96"/>
                    <a:pt x="64" y="96"/>
                  </a:cubicBezTo>
                  <a:cubicBezTo>
                    <a:pt x="64" y="184"/>
                    <a:pt x="64" y="184"/>
                    <a:pt x="64" y="184"/>
                  </a:cubicBezTo>
                  <a:cubicBezTo>
                    <a:pt x="56" y="179"/>
                    <a:pt x="49" y="176"/>
                    <a:pt x="40" y="176"/>
                  </a:cubicBezTo>
                  <a:cubicBezTo>
                    <a:pt x="18" y="176"/>
                    <a:pt x="0" y="194"/>
                    <a:pt x="0" y="216"/>
                  </a:cubicBezTo>
                  <a:cubicBezTo>
                    <a:pt x="0" y="238"/>
                    <a:pt x="18" y="256"/>
                    <a:pt x="40" y="256"/>
                  </a:cubicBezTo>
                  <a:close/>
                  <a:moveTo>
                    <a:pt x="152" y="216"/>
                  </a:moveTo>
                  <a:cubicBezTo>
                    <a:pt x="139" y="216"/>
                    <a:pt x="128" y="205"/>
                    <a:pt x="128" y="192"/>
                  </a:cubicBezTo>
                  <a:cubicBezTo>
                    <a:pt x="128" y="179"/>
                    <a:pt x="139" y="168"/>
                    <a:pt x="152" y="168"/>
                  </a:cubicBezTo>
                  <a:cubicBezTo>
                    <a:pt x="165" y="168"/>
                    <a:pt x="176" y="179"/>
                    <a:pt x="176" y="192"/>
                  </a:cubicBezTo>
                  <a:cubicBezTo>
                    <a:pt x="176" y="205"/>
                    <a:pt x="165" y="216"/>
                    <a:pt x="152" y="216"/>
                  </a:cubicBezTo>
                  <a:close/>
                  <a:moveTo>
                    <a:pt x="176" y="18"/>
                  </a:moveTo>
                  <a:cubicBezTo>
                    <a:pt x="176" y="66"/>
                    <a:pt x="176" y="66"/>
                    <a:pt x="176" y="66"/>
                  </a:cubicBezTo>
                  <a:cubicBezTo>
                    <a:pt x="80" y="86"/>
                    <a:pt x="80" y="86"/>
                    <a:pt x="80" y="86"/>
                  </a:cubicBezTo>
                  <a:cubicBezTo>
                    <a:pt x="80" y="38"/>
                    <a:pt x="80" y="38"/>
                    <a:pt x="80" y="38"/>
                  </a:cubicBezTo>
                  <a:lnTo>
                    <a:pt x="176" y="18"/>
                  </a:lnTo>
                  <a:close/>
                  <a:moveTo>
                    <a:pt x="40" y="192"/>
                  </a:moveTo>
                  <a:cubicBezTo>
                    <a:pt x="53" y="192"/>
                    <a:pt x="64" y="203"/>
                    <a:pt x="64" y="216"/>
                  </a:cubicBezTo>
                  <a:cubicBezTo>
                    <a:pt x="64" y="229"/>
                    <a:pt x="53" y="240"/>
                    <a:pt x="40" y="240"/>
                  </a:cubicBezTo>
                  <a:cubicBezTo>
                    <a:pt x="27" y="240"/>
                    <a:pt x="16" y="229"/>
                    <a:pt x="16" y="216"/>
                  </a:cubicBezTo>
                  <a:cubicBezTo>
                    <a:pt x="16" y="203"/>
                    <a:pt x="27" y="192"/>
                    <a:pt x="40" y="1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grpSp>
      <p:grpSp>
        <p:nvGrpSpPr>
          <p:cNvPr id="898" name="Group 54"/>
          <p:cNvGrpSpPr/>
          <p:nvPr/>
        </p:nvGrpSpPr>
        <p:grpSpPr>
          <a:xfrm>
            <a:off x="6465960" y="2863800"/>
            <a:ext cx="765000" cy="765360"/>
            <a:chOff x="6465960" y="2863800"/>
            <a:chExt cx="765000" cy="765360"/>
          </a:xfrm>
        </p:grpSpPr>
        <p:sp>
          <p:nvSpPr>
            <p:cNvPr id="899" name="Oval 55"/>
            <p:cNvSpPr/>
            <p:nvPr/>
          </p:nvSpPr>
          <p:spPr>
            <a:xfrm>
              <a:off x="6465960" y="2863800"/>
              <a:ext cx="765000" cy="765360"/>
            </a:xfrm>
            <a:prstGeom prst="ellipse">
              <a:avLst/>
            </a:prstGeom>
            <a:solidFill>
              <a:srgbClr val="4ec1c2"/>
            </a:solidFill>
            <a:ln w="0">
              <a:noFill/>
            </a:ln>
            <a:effectLst>
              <a:outerShdw dist="126770"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900" name="Group 56" descr=""/>
            <p:cNvPicPr/>
            <p:nvPr/>
          </p:nvPicPr>
          <p:blipFill>
            <a:blip r:embed="rId1"/>
            <a:stretch/>
          </p:blipFill>
          <p:spPr>
            <a:xfrm>
              <a:off x="6650640" y="3090600"/>
              <a:ext cx="384120" cy="311040"/>
            </a:xfrm>
            <a:prstGeom prst="rect">
              <a:avLst/>
            </a:prstGeom>
            <a:ln w="0">
              <a:noFill/>
            </a:ln>
          </p:spPr>
        </p:pic>
      </p:grpSp>
      <p:grpSp>
        <p:nvGrpSpPr>
          <p:cNvPr id="901" name="Group 59"/>
          <p:cNvGrpSpPr/>
          <p:nvPr/>
        </p:nvGrpSpPr>
        <p:grpSpPr>
          <a:xfrm>
            <a:off x="6472080" y="4148280"/>
            <a:ext cx="765360" cy="765000"/>
            <a:chOff x="6472080" y="4148280"/>
            <a:chExt cx="765360" cy="765000"/>
          </a:xfrm>
        </p:grpSpPr>
        <p:sp>
          <p:nvSpPr>
            <p:cNvPr id="902" name="Oval 60"/>
            <p:cNvSpPr/>
            <p:nvPr/>
          </p:nvSpPr>
          <p:spPr>
            <a:xfrm>
              <a:off x="6472080" y="4148280"/>
              <a:ext cx="765360" cy="765000"/>
            </a:xfrm>
            <a:prstGeom prst="ellipse">
              <a:avLst/>
            </a:prstGeom>
            <a:solidFill>
              <a:srgbClr val="239ca2"/>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903" name="Group 61" descr=""/>
            <p:cNvPicPr/>
            <p:nvPr/>
          </p:nvPicPr>
          <p:blipFill>
            <a:blip r:embed="rId2"/>
            <a:stretch/>
          </p:blipFill>
          <p:spPr>
            <a:xfrm>
              <a:off x="6644520" y="4358520"/>
              <a:ext cx="390240" cy="341280"/>
            </a:xfrm>
            <a:prstGeom prst="rect">
              <a:avLst/>
            </a:prstGeom>
            <a:ln w="0">
              <a:noFill/>
            </a:ln>
          </p:spPr>
        </p:pic>
      </p:grpSp>
      <p:sp>
        <p:nvSpPr>
          <p:cNvPr id="904" name="文本框 28"/>
          <p:cNvSpPr/>
          <p:nvPr/>
        </p:nvSpPr>
        <p:spPr>
          <a:xfrm>
            <a:off x="7434360" y="1633680"/>
            <a:ext cx="411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细黑"/>
                <a:ea typeface="华文细黑"/>
              </a:rPr>
              <a:t>1</a:t>
            </a:r>
            <a:r>
              <a:rPr b="0" lang="zh-CN" sz="2000" spc="-1" strike="noStrike">
                <a:solidFill>
                  <a:srgbClr val="262626"/>
                </a:solidFill>
                <a:latin typeface="华文细黑"/>
                <a:ea typeface="华文细黑"/>
              </a:rPr>
              <a:t>、在纳税人本年度综合所得应纳税所得额中扣除，本年度扣除不完的，不得结转以后年度扣除。</a:t>
            </a:r>
            <a:endParaRPr b="0" lang="en-US" sz="2000" spc="-1" strike="noStrike">
              <a:solidFill>
                <a:srgbClr val="262626"/>
              </a:solidFill>
              <a:latin typeface="Arial"/>
            </a:endParaRPr>
          </a:p>
        </p:txBody>
      </p:sp>
      <p:sp>
        <p:nvSpPr>
          <p:cNvPr id="905" name="文本框 29"/>
          <p:cNvSpPr/>
          <p:nvPr/>
        </p:nvSpPr>
        <p:spPr>
          <a:xfrm>
            <a:off x="7496280" y="2940120"/>
            <a:ext cx="39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细黑"/>
                <a:ea typeface="华文细黑"/>
              </a:rPr>
              <a:t>2</a:t>
            </a:r>
            <a:r>
              <a:rPr b="0" lang="zh-CN" sz="2000" spc="-1" strike="noStrike">
                <a:solidFill>
                  <a:srgbClr val="262626"/>
                </a:solidFill>
                <a:latin typeface="华文细黑"/>
                <a:ea typeface="华文细黑"/>
              </a:rPr>
              <a:t>、遵循公平合理、简便易行、切实减负、改善民生的原则。</a:t>
            </a:r>
            <a:endParaRPr b="0" lang="en-US" sz="2000" spc="-1" strike="noStrike">
              <a:solidFill>
                <a:srgbClr val="262626"/>
              </a:solidFill>
              <a:latin typeface="Arial"/>
            </a:endParaRPr>
          </a:p>
        </p:txBody>
      </p:sp>
      <p:sp>
        <p:nvSpPr>
          <p:cNvPr id="906" name="文本框 31"/>
          <p:cNvSpPr/>
          <p:nvPr/>
        </p:nvSpPr>
        <p:spPr>
          <a:xfrm>
            <a:off x="7539120" y="4067280"/>
            <a:ext cx="39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华文细黑"/>
                <a:ea typeface="华文细黑"/>
              </a:rPr>
              <a:t>3</a:t>
            </a:r>
            <a:r>
              <a:rPr b="0" lang="zh-CN" sz="2000" spc="-1" strike="noStrike">
                <a:solidFill>
                  <a:srgbClr val="262626"/>
                </a:solidFill>
                <a:latin typeface="华文细黑"/>
                <a:ea typeface="华文细黑"/>
              </a:rPr>
              <a:t>、根据教育、住房、医疗等民生支出变化情况，适时调整专项附加扣除范围和标准。</a:t>
            </a:r>
            <a:endParaRPr b="0" lang="en-US" sz="2000" spc="-1" strike="noStrike">
              <a:solidFill>
                <a:srgbClr val="262626"/>
              </a:solidFill>
              <a:latin typeface="Arial"/>
            </a:endParaRPr>
          </a:p>
        </p:txBody>
      </p:sp>
      <p:pic>
        <p:nvPicPr>
          <p:cNvPr id="907" name="图片 35" descr=""/>
          <p:cNvPicPr/>
          <p:nvPr/>
        </p:nvPicPr>
        <p:blipFill>
          <a:blip r:embed="rId3"/>
          <a:stretch/>
        </p:blipFill>
        <p:spPr>
          <a:xfrm>
            <a:off x="5010120" y="79200"/>
            <a:ext cx="1506600" cy="1362240"/>
          </a:xfrm>
          <a:prstGeom prst="rect">
            <a:avLst/>
          </a:prstGeom>
          <a:ln w="0">
            <a:noFill/>
          </a:ln>
        </p:spPr>
      </p:pic>
      <p:pic>
        <p:nvPicPr>
          <p:cNvPr id="908" name="图片 37" descr=""/>
          <p:cNvPicPr/>
          <p:nvPr/>
        </p:nvPicPr>
        <p:blipFill>
          <a:blip r:embed="rId4"/>
          <a:stretch/>
        </p:blipFill>
        <p:spPr>
          <a:xfrm>
            <a:off x="1266840" y="1541520"/>
            <a:ext cx="4243320" cy="4457520"/>
          </a:xfrm>
          <a:prstGeom prst="rect">
            <a:avLst/>
          </a:prstGeom>
          <a:ln w="0">
            <a:noFill/>
          </a:ln>
        </p:spPr>
      </p:pic>
      <p:sp>
        <p:nvSpPr>
          <p:cNvPr id="909" name="矩形 24"/>
          <p:cNvSpPr/>
          <p:nvPr/>
        </p:nvSpPr>
        <p:spPr>
          <a:xfrm>
            <a:off x="6896160" y="1119240"/>
            <a:ext cx="42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宋体"/>
              </a:rPr>
              <a:t>          </a:t>
            </a:r>
            <a:r>
              <a:rPr b="0" lang="zh-CN" sz="1800" spc="-1" strike="noStrike">
                <a:solidFill>
                  <a:srgbClr val="ff0000"/>
                </a:solidFill>
                <a:latin typeface="Arial"/>
                <a:ea typeface="宋体"/>
              </a:rPr>
              <a:t>自</a:t>
            </a:r>
            <a:r>
              <a:rPr b="0" lang="en-US" sz="1800" spc="-1" strike="noStrike">
                <a:solidFill>
                  <a:srgbClr val="ff0000"/>
                </a:solidFill>
                <a:latin typeface="Arial"/>
                <a:ea typeface="宋体"/>
              </a:rPr>
              <a:t>2019</a:t>
            </a:r>
            <a:r>
              <a:rPr b="0" lang="zh-CN" sz="1800" spc="-1" strike="noStrike">
                <a:solidFill>
                  <a:srgbClr val="ff0000"/>
                </a:solidFill>
                <a:latin typeface="Arial"/>
                <a:ea typeface="宋体"/>
              </a:rPr>
              <a:t>年</a:t>
            </a:r>
            <a:r>
              <a:rPr b="0" lang="en-US" sz="1800" spc="-1" strike="noStrike">
                <a:solidFill>
                  <a:srgbClr val="ff0000"/>
                </a:solidFill>
                <a:latin typeface="Arial"/>
                <a:ea typeface="宋体"/>
              </a:rPr>
              <a:t>1</a:t>
            </a:r>
            <a:r>
              <a:rPr b="0" lang="zh-CN" sz="1800" spc="-1" strike="noStrike">
                <a:solidFill>
                  <a:srgbClr val="ff0000"/>
                </a:solidFill>
                <a:latin typeface="Arial"/>
                <a:ea typeface="宋体"/>
              </a:rPr>
              <a:t>月</a:t>
            </a:r>
            <a:r>
              <a:rPr b="0" lang="en-US" sz="1800" spc="-1" strike="noStrike">
                <a:solidFill>
                  <a:srgbClr val="ff0000"/>
                </a:solidFill>
                <a:latin typeface="Arial"/>
                <a:ea typeface="宋体"/>
              </a:rPr>
              <a:t>1</a:t>
            </a:r>
            <a:r>
              <a:rPr b="0" lang="zh-CN" sz="1800" spc="-1" strike="noStrike">
                <a:solidFill>
                  <a:srgbClr val="ff0000"/>
                </a:solidFill>
                <a:latin typeface="Arial"/>
                <a:ea typeface="宋体"/>
              </a:rPr>
              <a:t>日起实施</a:t>
            </a:r>
            <a:endParaRPr b="0" lang="en-US" sz="1800" spc="-1" strike="noStrike">
              <a:solidFill>
                <a:srgbClr val="262626"/>
              </a:solidFill>
              <a:latin typeface="Arial"/>
            </a:endParaRPr>
          </a:p>
        </p:txBody>
      </p:sp>
    </p:spTree>
  </p:cSld>
  <p:transition spd="slow">
    <p:random/>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53" presetSubtype="16">
                                  <p:stCondLst>
                                    <p:cond delay="0"/>
                                  </p:stCondLst>
                                  <p:childTnLst>
                                    <p:set>
                                      <p:cBhvr>
                                        <p:cTn id="73" dur="1" fill="hold">
                                          <p:stCondLst>
                                            <p:cond delay="0"/>
                                          </p:stCondLst>
                                        </p:cTn>
                                        <p:tgtEl>
                                          <p:spTgt spid="895"/>
                                        </p:tgtEl>
                                        <p:attrNameLst>
                                          <p:attrName>style.visibility</p:attrName>
                                        </p:attrNameLst>
                                      </p:cBhvr>
                                      <p:to>
                                        <p:strVal val="visible"/>
                                      </p:to>
                                    </p:set>
                                    <p:anim calcmode="lin" valueType="num">
                                      <p:cBhvr additive="repl">
                                        <p:cTn id="74" dur="500" fill="hold"/>
                                        <p:tgtEl>
                                          <p:spTgt spid="895"/>
                                        </p:tgtEl>
                                        <p:attrNameLst>
                                          <p:attrName>ppt_w</p:attrName>
                                        </p:attrNameLst>
                                      </p:cBhvr>
                                      <p:tavLst>
                                        <p:tav tm="0">
                                          <p:val>
                                            <p:fltVal val="0"/>
                                          </p:val>
                                        </p:tav>
                                        <p:tav tm="100000">
                                          <p:val>
                                            <p:strVal val="#ppt_w"/>
                                          </p:val>
                                        </p:tav>
                                      </p:tavLst>
                                    </p:anim>
                                    <p:anim calcmode="lin" valueType="num">
                                      <p:cBhvr additive="repl">
                                        <p:cTn id="75" dur="500" fill="hold"/>
                                        <p:tgtEl>
                                          <p:spTgt spid="895"/>
                                        </p:tgtEl>
                                        <p:attrNameLst>
                                          <p:attrName>ppt_h</p:attrName>
                                        </p:attrNameLst>
                                      </p:cBhvr>
                                      <p:tavLst>
                                        <p:tav tm="0">
                                          <p:val>
                                            <p:fltVal val="0"/>
                                          </p:val>
                                        </p:tav>
                                        <p:tav tm="100000">
                                          <p:val>
                                            <p:strVal val="#ppt_h"/>
                                          </p:val>
                                        </p:tav>
                                      </p:tavLst>
                                    </p:anim>
                                    <p:animEffect filter="fade" transition="in">
                                      <p:cBhvr additive="repl">
                                        <p:cTn id="76" dur="500"/>
                                        <p:tgtEl>
                                          <p:spTgt spid="895"/>
                                        </p:tgtEl>
                                      </p:cBhvr>
                                    </p:animEffect>
                                  </p:childTnLst>
                                </p:cTn>
                              </p:par>
                            </p:childTnLst>
                          </p:cTn>
                        </p:par>
                        <p:par>
                          <p:cTn id="77" nodeType="afterEffect" fill="hold">
                            <p:stCondLst>
                              <p:cond delay="500"/>
                            </p:stCondLst>
                            <p:childTnLst>
                              <p:par>
                                <p:cTn id="78" nodeType="afterEffect" fill="hold" presetClass="entr" presetID="53" presetSubtype="16">
                                  <p:stCondLst>
                                    <p:cond delay="0"/>
                                  </p:stCondLst>
                                  <p:childTnLst>
                                    <p:set>
                                      <p:cBhvr>
                                        <p:cTn id="79" dur="1" fill="hold">
                                          <p:stCondLst>
                                            <p:cond delay="0"/>
                                          </p:stCondLst>
                                        </p:cTn>
                                        <p:tgtEl>
                                          <p:spTgt spid="898"/>
                                        </p:tgtEl>
                                        <p:attrNameLst>
                                          <p:attrName>style.visibility</p:attrName>
                                        </p:attrNameLst>
                                      </p:cBhvr>
                                      <p:to>
                                        <p:strVal val="visible"/>
                                      </p:to>
                                    </p:set>
                                    <p:anim calcmode="lin" valueType="num">
                                      <p:cBhvr additive="repl">
                                        <p:cTn id="80" dur="500" fill="hold"/>
                                        <p:tgtEl>
                                          <p:spTgt spid="898"/>
                                        </p:tgtEl>
                                        <p:attrNameLst>
                                          <p:attrName>ppt_w</p:attrName>
                                        </p:attrNameLst>
                                      </p:cBhvr>
                                      <p:tavLst>
                                        <p:tav tm="0">
                                          <p:val>
                                            <p:fltVal val="0"/>
                                          </p:val>
                                        </p:tav>
                                        <p:tav tm="100000">
                                          <p:val>
                                            <p:strVal val="#ppt_w"/>
                                          </p:val>
                                        </p:tav>
                                      </p:tavLst>
                                    </p:anim>
                                    <p:anim calcmode="lin" valueType="num">
                                      <p:cBhvr additive="repl">
                                        <p:cTn id="81" dur="500" fill="hold"/>
                                        <p:tgtEl>
                                          <p:spTgt spid="898"/>
                                        </p:tgtEl>
                                        <p:attrNameLst>
                                          <p:attrName>ppt_h</p:attrName>
                                        </p:attrNameLst>
                                      </p:cBhvr>
                                      <p:tavLst>
                                        <p:tav tm="0">
                                          <p:val>
                                            <p:fltVal val="0"/>
                                          </p:val>
                                        </p:tav>
                                        <p:tav tm="100000">
                                          <p:val>
                                            <p:strVal val="#ppt_h"/>
                                          </p:val>
                                        </p:tav>
                                      </p:tavLst>
                                    </p:anim>
                                    <p:animEffect filter="fade" transition="in">
                                      <p:cBhvr additive="repl">
                                        <p:cTn id="82" dur="500"/>
                                        <p:tgtEl>
                                          <p:spTgt spid="898"/>
                                        </p:tgtEl>
                                      </p:cBhvr>
                                    </p:animEffect>
                                  </p:childTnLst>
                                </p:cTn>
                              </p:par>
                            </p:childTnLst>
                          </p:cTn>
                        </p:par>
                        <p:par>
                          <p:cTn id="83" nodeType="afterEffect" fill="hold">
                            <p:stCondLst>
                              <p:cond delay="1000"/>
                            </p:stCondLst>
                            <p:childTnLst>
                              <p:par>
                                <p:cTn id="84" nodeType="afterEffect" fill="hold" presetClass="entr" presetID="53" presetSubtype="16">
                                  <p:stCondLst>
                                    <p:cond delay="0"/>
                                  </p:stCondLst>
                                  <p:childTnLst>
                                    <p:set>
                                      <p:cBhvr>
                                        <p:cTn id="85" dur="1" fill="hold">
                                          <p:stCondLst>
                                            <p:cond delay="0"/>
                                          </p:stCondLst>
                                        </p:cTn>
                                        <p:tgtEl>
                                          <p:spTgt spid="901"/>
                                        </p:tgtEl>
                                        <p:attrNameLst>
                                          <p:attrName>style.visibility</p:attrName>
                                        </p:attrNameLst>
                                      </p:cBhvr>
                                      <p:to>
                                        <p:strVal val="visible"/>
                                      </p:to>
                                    </p:set>
                                    <p:anim calcmode="lin" valueType="num">
                                      <p:cBhvr additive="repl">
                                        <p:cTn id="86" dur="500" fill="hold"/>
                                        <p:tgtEl>
                                          <p:spTgt spid="901"/>
                                        </p:tgtEl>
                                        <p:attrNameLst>
                                          <p:attrName>ppt_w</p:attrName>
                                        </p:attrNameLst>
                                      </p:cBhvr>
                                      <p:tavLst>
                                        <p:tav tm="0">
                                          <p:val>
                                            <p:fltVal val="0"/>
                                          </p:val>
                                        </p:tav>
                                        <p:tav tm="100000">
                                          <p:val>
                                            <p:strVal val="#ppt_w"/>
                                          </p:val>
                                        </p:tav>
                                      </p:tavLst>
                                    </p:anim>
                                    <p:anim calcmode="lin" valueType="num">
                                      <p:cBhvr additive="repl">
                                        <p:cTn id="87" dur="500" fill="hold"/>
                                        <p:tgtEl>
                                          <p:spTgt spid="901"/>
                                        </p:tgtEl>
                                        <p:attrNameLst>
                                          <p:attrName>ppt_h</p:attrName>
                                        </p:attrNameLst>
                                      </p:cBhvr>
                                      <p:tavLst>
                                        <p:tav tm="0">
                                          <p:val>
                                            <p:fltVal val="0"/>
                                          </p:val>
                                        </p:tav>
                                        <p:tav tm="100000">
                                          <p:val>
                                            <p:strVal val="#ppt_h"/>
                                          </p:val>
                                        </p:tav>
                                      </p:tavLst>
                                    </p:anim>
                                    <p:animEffect filter="fade" transition="in">
                                      <p:cBhvr additive="repl">
                                        <p:cTn id="88" dur="500"/>
                                        <p:tgtEl>
                                          <p:spTgt spid="901"/>
                                        </p:tgtEl>
                                      </p:cBhvr>
                                    </p:animEffect>
                                  </p:childTnLst>
                                </p:cTn>
                              </p:par>
                            </p:childTnLst>
                          </p:cTn>
                        </p:par>
                        <p:par>
                          <p:cTn id="89" nodeType="afterEffect" fill="hold">
                            <p:stCondLst>
                              <p:cond delay="1500"/>
                            </p:stCondLst>
                            <p:childTnLst>
                              <p:par>
                                <p:cTn id="90" nodeType="afterEffect" fill="hold" presetClass="entr" presetID="14" presetSubtype="10">
                                  <p:stCondLst>
                                    <p:cond delay="0"/>
                                  </p:stCondLst>
                                  <p:childTnLst>
                                    <p:set>
                                      <p:cBhvr>
                                        <p:cTn id="91" dur="1" fill="hold">
                                          <p:stCondLst>
                                            <p:cond delay="0"/>
                                          </p:stCondLst>
                                        </p:cTn>
                                        <p:tgtEl>
                                          <p:spTgt spid="904"/>
                                        </p:tgtEl>
                                        <p:attrNameLst>
                                          <p:attrName>style.visibility</p:attrName>
                                        </p:attrNameLst>
                                      </p:cBhvr>
                                      <p:to>
                                        <p:strVal val="visible"/>
                                      </p:to>
                                    </p:set>
                                    <p:animEffect filter="randombar(horizontal)" transition="in">
                                      <p:cBhvr additive="repl">
                                        <p:cTn id="92" dur="500"/>
                                        <p:tgtEl>
                                          <p:spTgt spid="904"/>
                                        </p:tgtEl>
                                      </p:cBhvr>
                                    </p:animEffect>
                                  </p:childTnLst>
                                </p:cTn>
                              </p:par>
                              <p:par>
                                <p:cTn id="93" nodeType="withEffect" fill="hold" presetClass="entr" presetID="17" presetSubtype="8">
                                  <p:stCondLst>
                                    <p:cond delay="0"/>
                                  </p:stCondLst>
                                  <p:childTnLst>
                                    <p:set>
                                      <p:cBhvr>
                                        <p:cTn id="94" dur="1" fill="hold">
                                          <p:stCondLst>
                                            <p:cond delay="0"/>
                                          </p:stCondLst>
                                        </p:cTn>
                                        <p:tgtEl>
                                          <p:spTgt spid="905"/>
                                        </p:tgtEl>
                                        <p:attrNameLst>
                                          <p:attrName>style.visibility</p:attrName>
                                        </p:attrNameLst>
                                      </p:cBhvr>
                                      <p:to>
                                        <p:strVal val="visible"/>
                                      </p:to>
                                    </p:set>
                                    <p:anim calcmode="lin" valueType="num">
                                      <p:cBhvr additive="repl">
                                        <p:cTn id="95" dur="500" fill="hold"/>
                                        <p:tgtEl>
                                          <p:spTgt spid="905"/>
                                        </p:tgtEl>
                                        <p:attrNameLst>
                                          <p:attrName>ppt_x</p:attrName>
                                        </p:attrNameLst>
                                      </p:cBhvr>
                                      <p:tavLst>
                                        <p:tav tm="0">
                                          <p:val>
                                            <p:strVal val="#ppt_x-#ppt_w/2"/>
                                          </p:val>
                                        </p:tav>
                                        <p:tav tm="100000">
                                          <p:val>
                                            <p:strVal val="#ppt_x"/>
                                          </p:val>
                                        </p:tav>
                                      </p:tavLst>
                                    </p:anim>
                                    <p:anim calcmode="lin" valueType="num">
                                      <p:cBhvr additive="repl">
                                        <p:cTn id="96" dur="500" fill="hold"/>
                                        <p:tgtEl>
                                          <p:spTgt spid="905"/>
                                        </p:tgtEl>
                                        <p:attrNameLst>
                                          <p:attrName>ppt_y</p:attrName>
                                        </p:attrNameLst>
                                      </p:cBhvr>
                                      <p:tavLst>
                                        <p:tav tm="0">
                                          <p:val>
                                            <p:strVal val="#ppt_y"/>
                                          </p:val>
                                        </p:tav>
                                        <p:tav tm="100000">
                                          <p:val>
                                            <p:strVal val="#ppt_y"/>
                                          </p:val>
                                        </p:tav>
                                      </p:tavLst>
                                    </p:anim>
                                    <p:anim calcmode="lin" valueType="num">
                                      <p:cBhvr additive="repl">
                                        <p:cTn id="97" dur="500" fill="hold"/>
                                        <p:tgtEl>
                                          <p:spTgt spid="905"/>
                                        </p:tgtEl>
                                        <p:attrNameLst>
                                          <p:attrName>ppt_w</p:attrName>
                                        </p:attrNameLst>
                                      </p:cBhvr>
                                      <p:tavLst>
                                        <p:tav tm="0">
                                          <p:val>
                                            <p:fltVal val="0"/>
                                          </p:val>
                                        </p:tav>
                                        <p:tav tm="100000">
                                          <p:val>
                                            <p:strVal val="#ppt_w"/>
                                          </p:val>
                                        </p:tav>
                                      </p:tavLst>
                                    </p:anim>
                                    <p:anim calcmode="lin" valueType="num">
                                      <p:cBhvr additive="repl">
                                        <p:cTn id="98" dur="500" fill="hold"/>
                                        <p:tgtEl>
                                          <p:spTgt spid="905"/>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906"/>
                                        </p:tgtEl>
                                        <p:attrNameLst>
                                          <p:attrName>style.visibility</p:attrName>
                                        </p:attrNameLst>
                                      </p:cBhvr>
                                      <p:to>
                                        <p:strVal val="visible"/>
                                      </p:to>
                                    </p:set>
                                    <p:anim calcmode="lin" valueType="num">
                                      <p:cBhvr additive="repl">
                                        <p:cTn id="101" dur="500" fill="hold"/>
                                        <p:tgtEl>
                                          <p:spTgt spid="906"/>
                                        </p:tgtEl>
                                        <p:attrNameLst>
                                          <p:attrName>ppt_x</p:attrName>
                                        </p:attrNameLst>
                                      </p:cBhvr>
                                      <p:tavLst>
                                        <p:tav tm="0">
                                          <p:val>
                                            <p:strVal val="#ppt_x-#ppt_w/2"/>
                                          </p:val>
                                        </p:tav>
                                        <p:tav tm="100000">
                                          <p:val>
                                            <p:strVal val="#ppt_x"/>
                                          </p:val>
                                        </p:tav>
                                      </p:tavLst>
                                    </p:anim>
                                    <p:anim calcmode="lin" valueType="num">
                                      <p:cBhvr additive="repl">
                                        <p:cTn id="102" dur="500" fill="hold"/>
                                        <p:tgtEl>
                                          <p:spTgt spid="906"/>
                                        </p:tgtEl>
                                        <p:attrNameLst>
                                          <p:attrName>ppt_y</p:attrName>
                                        </p:attrNameLst>
                                      </p:cBhvr>
                                      <p:tavLst>
                                        <p:tav tm="0">
                                          <p:val>
                                            <p:strVal val="#ppt_y"/>
                                          </p:val>
                                        </p:tav>
                                        <p:tav tm="100000">
                                          <p:val>
                                            <p:strVal val="#ppt_y"/>
                                          </p:val>
                                        </p:tav>
                                      </p:tavLst>
                                    </p:anim>
                                    <p:anim calcmode="lin" valueType="num">
                                      <p:cBhvr additive="repl">
                                        <p:cTn id="103" dur="500" fill="hold"/>
                                        <p:tgtEl>
                                          <p:spTgt spid="906"/>
                                        </p:tgtEl>
                                        <p:attrNameLst>
                                          <p:attrName>ppt_w</p:attrName>
                                        </p:attrNameLst>
                                      </p:cBhvr>
                                      <p:tavLst>
                                        <p:tav tm="0">
                                          <p:val>
                                            <p:fltVal val="0"/>
                                          </p:val>
                                        </p:tav>
                                        <p:tav tm="100000">
                                          <p:val>
                                            <p:strVal val="#ppt_w"/>
                                          </p:val>
                                        </p:tav>
                                      </p:tavLst>
                                    </p:anim>
                                    <p:anim calcmode="lin" valueType="num">
                                      <p:cBhvr additive="repl">
                                        <p:cTn id="104" dur="500" fill="hold"/>
                                        <p:tgtEl>
                                          <p:spTgt spid="906"/>
                                        </p:tgtEl>
                                        <p:attrNameLst>
                                          <p:attrName>ppt_h</p:attrName>
                                        </p:attrNameLst>
                                      </p:cBhvr>
                                      <p:tavLst>
                                        <p:tav tm="0">
                                          <p:val>
                                            <p:strVal val="#ppt_h"/>
                                          </p:val>
                                        </p:tav>
                                        <p:tav tm="100000">
                                          <p:val>
                                            <p:strVal val="#ppt_h"/>
                                          </p:val>
                                        </p:tav>
                                      </p:tavLst>
                                    </p:anim>
                                  </p:childTnLst>
                                </p:cTn>
                              </p:par>
                              <p:par>
                                <p:cTn id="105" nodeType="withEffect" fill="hold" presetClass="entr" presetID="2" presetSubtype="8">
                                  <p:stCondLst>
                                    <p:cond delay="0"/>
                                  </p:stCondLst>
                                  <p:childTnLst>
                                    <p:set>
                                      <p:cBhvr>
                                        <p:cTn id="106" dur="1" fill="hold">
                                          <p:stCondLst>
                                            <p:cond delay="0"/>
                                          </p:stCondLst>
                                        </p:cTn>
                                        <p:tgtEl>
                                          <p:spTgt spid="907"/>
                                        </p:tgtEl>
                                        <p:attrNameLst>
                                          <p:attrName>style.visibility</p:attrName>
                                        </p:attrNameLst>
                                      </p:cBhvr>
                                      <p:to>
                                        <p:strVal val="visible"/>
                                      </p:to>
                                    </p:set>
                                    <p:anim calcmode="lin" valueType="num">
                                      <p:cBhvr additive="base">
                                        <p:cTn id="107" dur="500" fill="hold"/>
                                        <p:tgtEl>
                                          <p:spTgt spid="907"/>
                                        </p:tgtEl>
                                        <p:attrNameLst>
                                          <p:attrName>ppt_x</p:attrName>
                                        </p:attrNameLst>
                                      </p:cBhvr>
                                      <p:tavLst>
                                        <p:tav tm="0">
                                          <p:val>
                                            <p:strVal val="0-#ppt_w/2"/>
                                          </p:val>
                                        </p:tav>
                                        <p:tav tm="100000">
                                          <p:val>
                                            <p:strVal val="#ppt_x"/>
                                          </p:val>
                                        </p:tav>
                                      </p:tavLst>
                                    </p:anim>
                                    <p:anim calcmode="lin" valueType="num">
                                      <p:cBhvr additive="base">
                                        <p:cTn id="108" dur="500" fill="hold"/>
                                        <p:tgtEl>
                                          <p:spTgt spid="9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0" name="图形 1"/>
          <p:cNvGrpSpPr/>
          <p:nvPr/>
        </p:nvGrpSpPr>
        <p:grpSpPr>
          <a:xfrm>
            <a:off x="0" y="461880"/>
            <a:ext cx="12192120" cy="5926320"/>
            <a:chOff x="0" y="461880"/>
            <a:chExt cx="12192120" cy="5926320"/>
          </a:xfrm>
        </p:grpSpPr>
        <p:sp>
          <p:nvSpPr>
            <p:cNvPr id="911" name="任意多边形: 形状 3"/>
            <p:cNvSpPr/>
            <p:nvPr/>
          </p:nvSpPr>
          <p:spPr>
            <a:xfrm>
              <a:off x="11183040" y="5538600"/>
              <a:ext cx="84600" cy="458280"/>
            </a:xfrm>
            <a:custGeom>
              <a:avLst/>
              <a:gdLst>
                <a:gd name="textAreaLeft" fmla="*/ 0 w 84600"/>
                <a:gd name="textAreaRight" fmla="*/ 84960 w 84600"/>
                <a:gd name="textAreaTop" fmla="*/ 0 h 458280"/>
                <a:gd name="textAreaBottom" fmla="*/ 458640 h 458280"/>
              </a:gdLst>
              <a:ahLst/>
              <a:rect l="textAreaLeft" t="textAreaTop" r="textAreaRight" b="textAreaBottom"/>
              <a:pathLst>
                <a:path w="84876" h="458334">
                  <a:moveTo>
                    <a:pt x="12732" y="44985"/>
                  </a:moveTo>
                  <a:cubicBezTo>
                    <a:pt x="12732" y="28009"/>
                    <a:pt x="26312" y="12732"/>
                    <a:pt x="44985" y="12732"/>
                  </a:cubicBezTo>
                  <a:cubicBezTo>
                    <a:pt x="61961" y="12732"/>
                    <a:pt x="77238" y="26312"/>
                    <a:pt x="77238" y="44985"/>
                  </a:cubicBezTo>
                  <a:lnTo>
                    <a:pt x="77238" y="413350"/>
                  </a:lnTo>
                  <a:cubicBezTo>
                    <a:pt x="77238" y="430326"/>
                    <a:pt x="63658" y="445603"/>
                    <a:pt x="44985" y="445603"/>
                  </a:cubicBezTo>
                  <a:cubicBezTo>
                    <a:pt x="28010" y="445603"/>
                    <a:pt x="12732" y="432023"/>
                    <a:pt x="12732" y="413350"/>
                  </a:cubicBezTo>
                  <a:lnTo>
                    <a:pt x="12732" y="44985"/>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12" name="任意多边形: 形状 4"/>
            <p:cNvSpPr/>
            <p:nvPr/>
          </p:nvSpPr>
          <p:spPr>
            <a:xfrm>
              <a:off x="10499040" y="5538600"/>
              <a:ext cx="84600" cy="458280"/>
            </a:xfrm>
            <a:custGeom>
              <a:avLst/>
              <a:gdLst>
                <a:gd name="textAreaLeft" fmla="*/ 0 w 84600"/>
                <a:gd name="textAreaRight" fmla="*/ 84960 w 84600"/>
                <a:gd name="textAreaTop" fmla="*/ 0 h 458280"/>
                <a:gd name="textAreaBottom" fmla="*/ 458640 h 458280"/>
              </a:gdLst>
              <a:ahLst/>
              <a:rect l="textAreaLeft" t="textAreaTop" r="textAreaRight" b="textAreaBottom"/>
              <a:pathLst>
                <a:path w="84876" h="458334">
                  <a:moveTo>
                    <a:pt x="12732" y="44985"/>
                  </a:moveTo>
                  <a:cubicBezTo>
                    <a:pt x="12732" y="28009"/>
                    <a:pt x="26312" y="12732"/>
                    <a:pt x="44985" y="12732"/>
                  </a:cubicBezTo>
                  <a:cubicBezTo>
                    <a:pt x="61960" y="12732"/>
                    <a:pt x="77238" y="26312"/>
                    <a:pt x="77238" y="44985"/>
                  </a:cubicBezTo>
                  <a:lnTo>
                    <a:pt x="77238" y="413350"/>
                  </a:lnTo>
                  <a:cubicBezTo>
                    <a:pt x="77238" y="430326"/>
                    <a:pt x="63658" y="445603"/>
                    <a:pt x="44985" y="445603"/>
                  </a:cubicBezTo>
                  <a:cubicBezTo>
                    <a:pt x="28009" y="445603"/>
                    <a:pt x="12732" y="432023"/>
                    <a:pt x="12732" y="413350"/>
                  </a:cubicBezTo>
                  <a:lnTo>
                    <a:pt x="12732" y="44985"/>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13" name="任意多边形: 形状 5"/>
            <p:cNvSpPr/>
            <p:nvPr/>
          </p:nvSpPr>
          <p:spPr>
            <a:xfrm>
              <a:off x="9989640" y="5798520"/>
              <a:ext cx="1782360" cy="356400"/>
            </a:xfrm>
            <a:custGeom>
              <a:avLst/>
              <a:gdLst>
                <a:gd name="textAreaLeft" fmla="*/ 0 w 1782360"/>
                <a:gd name="textAreaRight" fmla="*/ 1782720 w 1782360"/>
                <a:gd name="textAreaTop" fmla="*/ 0 h 356400"/>
                <a:gd name="textAreaBottom" fmla="*/ 356760 h 356400"/>
              </a:gdLst>
              <a:ahLst/>
              <a:rect l="textAreaLeft" t="textAreaTop" r="textAreaRight" b="textAreaBottom"/>
              <a:pathLst>
                <a:path w="1782413" h="356482">
                  <a:moveTo>
                    <a:pt x="12732" y="128164"/>
                  </a:moveTo>
                  <a:cubicBezTo>
                    <a:pt x="12732" y="63658"/>
                    <a:pt x="65355" y="12732"/>
                    <a:pt x="128164" y="12732"/>
                  </a:cubicBezTo>
                  <a:lnTo>
                    <a:pt x="1662737" y="12732"/>
                  </a:lnTo>
                  <a:cubicBezTo>
                    <a:pt x="1727244" y="12732"/>
                    <a:pt x="1778170" y="65355"/>
                    <a:pt x="1778170" y="128164"/>
                  </a:cubicBezTo>
                  <a:lnTo>
                    <a:pt x="1778170" y="241899"/>
                  </a:lnTo>
                  <a:cubicBezTo>
                    <a:pt x="1778170" y="306406"/>
                    <a:pt x="1725546" y="357332"/>
                    <a:pt x="1662737" y="357332"/>
                  </a:cubicBezTo>
                  <a:lnTo>
                    <a:pt x="128164" y="357332"/>
                  </a:lnTo>
                  <a:cubicBezTo>
                    <a:pt x="63658" y="357332"/>
                    <a:pt x="12732" y="304708"/>
                    <a:pt x="12732" y="241899"/>
                  </a:cubicBezTo>
                  <a:lnTo>
                    <a:pt x="12732" y="128164"/>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14" name="任意多边形: 形状 6"/>
            <p:cNvSpPr/>
            <p:nvPr/>
          </p:nvSpPr>
          <p:spPr>
            <a:xfrm>
              <a:off x="10050840" y="50410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2732" y="99305"/>
                  </a:moveTo>
                  <a:cubicBezTo>
                    <a:pt x="12732" y="51775"/>
                    <a:pt x="51775" y="12732"/>
                    <a:pt x="99306" y="12732"/>
                  </a:cubicBezTo>
                  <a:cubicBezTo>
                    <a:pt x="146837" y="12732"/>
                    <a:pt x="185880" y="51775"/>
                    <a:pt x="185880" y="99305"/>
                  </a:cubicBezTo>
                  <a:lnTo>
                    <a:pt x="185880" y="523690"/>
                  </a:lnTo>
                  <a:cubicBezTo>
                    <a:pt x="185880" y="571221"/>
                    <a:pt x="146837" y="610264"/>
                    <a:pt x="99306" y="610264"/>
                  </a:cubicBezTo>
                  <a:cubicBezTo>
                    <a:pt x="51775" y="610264"/>
                    <a:pt x="12732" y="571221"/>
                    <a:pt x="12732" y="523690"/>
                  </a:cubicBezTo>
                  <a:lnTo>
                    <a:pt x="12732" y="99305"/>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15" name="任意多边形: 形状 7"/>
            <p:cNvSpPr/>
            <p:nvPr/>
          </p:nvSpPr>
          <p:spPr>
            <a:xfrm>
              <a:off x="11522520" y="50410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2732" y="99305"/>
                  </a:moveTo>
                  <a:cubicBezTo>
                    <a:pt x="12732" y="51775"/>
                    <a:pt x="51775" y="12732"/>
                    <a:pt x="99306" y="12732"/>
                  </a:cubicBezTo>
                  <a:cubicBezTo>
                    <a:pt x="146837" y="12732"/>
                    <a:pt x="185880" y="51775"/>
                    <a:pt x="185880" y="99305"/>
                  </a:cubicBezTo>
                  <a:lnTo>
                    <a:pt x="185880" y="523690"/>
                  </a:lnTo>
                  <a:cubicBezTo>
                    <a:pt x="185880" y="571221"/>
                    <a:pt x="146837" y="610264"/>
                    <a:pt x="99306" y="610264"/>
                  </a:cubicBezTo>
                  <a:cubicBezTo>
                    <a:pt x="51775" y="610264"/>
                    <a:pt x="12732" y="571221"/>
                    <a:pt x="12732" y="523690"/>
                  </a:cubicBezTo>
                  <a:lnTo>
                    <a:pt x="12732" y="99305"/>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16" name="任意多边形: 形状 8"/>
            <p:cNvSpPr/>
            <p:nvPr/>
          </p:nvSpPr>
          <p:spPr>
            <a:xfrm>
              <a:off x="10262880" y="4908600"/>
              <a:ext cx="1239120" cy="848880"/>
            </a:xfrm>
            <a:custGeom>
              <a:avLst/>
              <a:gdLst>
                <a:gd name="textAreaLeft" fmla="*/ 0 w 1239120"/>
                <a:gd name="textAreaRight" fmla="*/ 1239480 w 1239120"/>
                <a:gd name="textAreaTop" fmla="*/ 0 h 848880"/>
                <a:gd name="textAreaBottom" fmla="*/ 849240 h 848880"/>
              </a:gdLst>
              <a:ahLst/>
              <a:rect l="textAreaLeft" t="textAreaTop" r="textAreaRight" b="textAreaBottom"/>
              <a:pathLst>
                <a:path w="1239201" h="848768">
                  <a:moveTo>
                    <a:pt x="12732" y="106096"/>
                  </a:moveTo>
                  <a:cubicBezTo>
                    <a:pt x="12732" y="53472"/>
                    <a:pt x="55170" y="12732"/>
                    <a:pt x="106096" y="12732"/>
                  </a:cubicBezTo>
                  <a:lnTo>
                    <a:pt x="1136501" y="12732"/>
                  </a:lnTo>
                  <a:cubicBezTo>
                    <a:pt x="1189124" y="12732"/>
                    <a:pt x="1229865" y="55170"/>
                    <a:pt x="1229865" y="106096"/>
                  </a:cubicBezTo>
                  <a:lnTo>
                    <a:pt x="1229865" y="756253"/>
                  </a:lnTo>
                  <a:cubicBezTo>
                    <a:pt x="1229865" y="808876"/>
                    <a:pt x="1187427" y="849617"/>
                    <a:pt x="1136501" y="849617"/>
                  </a:cubicBezTo>
                  <a:lnTo>
                    <a:pt x="106096" y="849617"/>
                  </a:lnTo>
                  <a:cubicBezTo>
                    <a:pt x="53472" y="849617"/>
                    <a:pt x="12732" y="807179"/>
                    <a:pt x="12732" y="756253"/>
                  </a:cubicBezTo>
                  <a:lnTo>
                    <a:pt x="12732" y="106096"/>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17" name="任意多边形: 形状 9"/>
            <p:cNvSpPr/>
            <p:nvPr/>
          </p:nvSpPr>
          <p:spPr>
            <a:xfrm>
              <a:off x="10374840" y="4324680"/>
              <a:ext cx="1035360" cy="933840"/>
            </a:xfrm>
            <a:custGeom>
              <a:avLst/>
              <a:gdLst>
                <a:gd name="textAreaLeft" fmla="*/ 0 w 1035360"/>
                <a:gd name="textAreaRight" fmla="*/ 1035720 w 1035360"/>
                <a:gd name="textAreaTop" fmla="*/ 0 h 933840"/>
                <a:gd name="textAreaBottom" fmla="*/ 934200 h 933840"/>
              </a:gdLst>
              <a:ahLst/>
              <a:rect l="textAreaLeft" t="textAreaTop" r="textAreaRight" b="textAreaBottom"/>
              <a:pathLst>
                <a:path w="1035497" h="933645">
                  <a:moveTo>
                    <a:pt x="1022766" y="931099"/>
                  </a:moveTo>
                  <a:lnTo>
                    <a:pt x="876778" y="12732"/>
                  </a:lnTo>
                  <a:lnTo>
                    <a:pt x="538968" y="12732"/>
                  </a:lnTo>
                  <a:lnTo>
                    <a:pt x="538968" y="656098"/>
                  </a:lnTo>
                  <a:lnTo>
                    <a:pt x="496529" y="656098"/>
                  </a:lnTo>
                  <a:lnTo>
                    <a:pt x="496529" y="12732"/>
                  </a:lnTo>
                  <a:lnTo>
                    <a:pt x="158719" y="12732"/>
                  </a:lnTo>
                  <a:lnTo>
                    <a:pt x="12732" y="931099"/>
                  </a:lnTo>
                  <a:lnTo>
                    <a:pt x="496529" y="931099"/>
                  </a:lnTo>
                  <a:lnTo>
                    <a:pt x="496529" y="842827"/>
                  </a:lnTo>
                  <a:lnTo>
                    <a:pt x="538968" y="849617"/>
                  </a:lnTo>
                  <a:lnTo>
                    <a:pt x="538968" y="931099"/>
                  </a:lnTo>
                  <a:lnTo>
                    <a:pt x="1022766" y="931099"/>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18" name="任意多边形: 形状 10"/>
            <p:cNvSpPr/>
            <p:nvPr/>
          </p:nvSpPr>
          <p:spPr>
            <a:xfrm>
              <a:off x="8884440" y="5688000"/>
              <a:ext cx="84600" cy="458280"/>
            </a:xfrm>
            <a:custGeom>
              <a:avLst/>
              <a:gdLst>
                <a:gd name="textAreaLeft" fmla="*/ 0 w 84600"/>
                <a:gd name="textAreaRight" fmla="*/ 84960 w 84600"/>
                <a:gd name="textAreaTop" fmla="*/ 0 h 458280"/>
                <a:gd name="textAreaBottom" fmla="*/ 458640 h 458280"/>
              </a:gdLst>
              <a:ahLst/>
              <a:rect l="textAreaLeft" t="textAreaTop" r="textAreaRight" b="textAreaBottom"/>
              <a:pathLst>
                <a:path w="84876" h="458334">
                  <a:moveTo>
                    <a:pt x="12732" y="44985"/>
                  </a:moveTo>
                  <a:cubicBezTo>
                    <a:pt x="12732" y="28010"/>
                    <a:pt x="26312" y="12732"/>
                    <a:pt x="44985" y="12732"/>
                  </a:cubicBezTo>
                  <a:cubicBezTo>
                    <a:pt x="61960" y="12732"/>
                    <a:pt x="77238" y="26312"/>
                    <a:pt x="77238" y="44985"/>
                  </a:cubicBezTo>
                  <a:lnTo>
                    <a:pt x="77238" y="413350"/>
                  </a:lnTo>
                  <a:cubicBezTo>
                    <a:pt x="77238" y="430326"/>
                    <a:pt x="63658" y="445603"/>
                    <a:pt x="44985" y="445603"/>
                  </a:cubicBezTo>
                  <a:cubicBezTo>
                    <a:pt x="28010" y="445603"/>
                    <a:pt x="12732" y="432023"/>
                    <a:pt x="12732" y="413350"/>
                  </a:cubicBezTo>
                  <a:lnTo>
                    <a:pt x="12732" y="44985"/>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19" name="任意多边形: 形状 11"/>
            <p:cNvSpPr/>
            <p:nvPr/>
          </p:nvSpPr>
          <p:spPr>
            <a:xfrm>
              <a:off x="8200440" y="5688000"/>
              <a:ext cx="84600" cy="458280"/>
            </a:xfrm>
            <a:custGeom>
              <a:avLst/>
              <a:gdLst>
                <a:gd name="textAreaLeft" fmla="*/ 0 w 84600"/>
                <a:gd name="textAreaRight" fmla="*/ 84960 w 84600"/>
                <a:gd name="textAreaTop" fmla="*/ 0 h 458280"/>
                <a:gd name="textAreaBottom" fmla="*/ 458640 h 458280"/>
              </a:gdLst>
              <a:ahLst/>
              <a:rect l="textAreaLeft" t="textAreaTop" r="textAreaRight" b="textAreaBottom"/>
              <a:pathLst>
                <a:path w="84876" h="458334">
                  <a:moveTo>
                    <a:pt x="12732" y="44985"/>
                  </a:moveTo>
                  <a:cubicBezTo>
                    <a:pt x="12732" y="28010"/>
                    <a:pt x="26312" y="12732"/>
                    <a:pt x="44985" y="12732"/>
                  </a:cubicBezTo>
                  <a:cubicBezTo>
                    <a:pt x="61960" y="12732"/>
                    <a:pt x="77238" y="26312"/>
                    <a:pt x="77238" y="44985"/>
                  </a:cubicBezTo>
                  <a:lnTo>
                    <a:pt x="77238" y="413350"/>
                  </a:lnTo>
                  <a:cubicBezTo>
                    <a:pt x="77238" y="430326"/>
                    <a:pt x="63658" y="445603"/>
                    <a:pt x="44985" y="445603"/>
                  </a:cubicBezTo>
                  <a:cubicBezTo>
                    <a:pt x="28009" y="445603"/>
                    <a:pt x="12732" y="432023"/>
                    <a:pt x="12732" y="413350"/>
                  </a:cubicBezTo>
                  <a:lnTo>
                    <a:pt x="12732" y="44985"/>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0" name="任意多边形: 形状 12"/>
            <p:cNvSpPr/>
            <p:nvPr/>
          </p:nvSpPr>
          <p:spPr>
            <a:xfrm>
              <a:off x="7691040" y="5947920"/>
              <a:ext cx="1782360" cy="356400"/>
            </a:xfrm>
            <a:custGeom>
              <a:avLst/>
              <a:gdLst>
                <a:gd name="textAreaLeft" fmla="*/ 0 w 1782360"/>
                <a:gd name="textAreaRight" fmla="*/ 1782720 w 1782360"/>
                <a:gd name="textAreaTop" fmla="*/ 0 h 356400"/>
                <a:gd name="textAreaBottom" fmla="*/ 356760 h 356400"/>
              </a:gdLst>
              <a:ahLst/>
              <a:rect l="textAreaLeft" t="textAreaTop" r="textAreaRight" b="textAreaBottom"/>
              <a:pathLst>
                <a:path w="1782413" h="356482">
                  <a:moveTo>
                    <a:pt x="12732" y="128164"/>
                  </a:moveTo>
                  <a:cubicBezTo>
                    <a:pt x="12732" y="63658"/>
                    <a:pt x="65355" y="12732"/>
                    <a:pt x="128164" y="12732"/>
                  </a:cubicBezTo>
                  <a:lnTo>
                    <a:pt x="1662737" y="12732"/>
                  </a:lnTo>
                  <a:cubicBezTo>
                    <a:pt x="1727244" y="12732"/>
                    <a:pt x="1778170" y="65355"/>
                    <a:pt x="1778170" y="128164"/>
                  </a:cubicBezTo>
                  <a:lnTo>
                    <a:pt x="1778170" y="241899"/>
                  </a:lnTo>
                  <a:cubicBezTo>
                    <a:pt x="1778170" y="306405"/>
                    <a:pt x="1725546" y="357331"/>
                    <a:pt x="1662737" y="357331"/>
                  </a:cubicBezTo>
                  <a:lnTo>
                    <a:pt x="128164" y="357331"/>
                  </a:lnTo>
                  <a:cubicBezTo>
                    <a:pt x="63658" y="357331"/>
                    <a:pt x="12732" y="304708"/>
                    <a:pt x="12732" y="241899"/>
                  </a:cubicBezTo>
                  <a:lnTo>
                    <a:pt x="12732" y="128164"/>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1" name="任意多边形: 形状 13"/>
            <p:cNvSpPr/>
            <p:nvPr/>
          </p:nvSpPr>
          <p:spPr>
            <a:xfrm>
              <a:off x="7752240" y="51904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2732" y="99306"/>
                  </a:moveTo>
                  <a:cubicBezTo>
                    <a:pt x="12732" y="51775"/>
                    <a:pt x="51775" y="12732"/>
                    <a:pt x="99306" y="12732"/>
                  </a:cubicBezTo>
                  <a:cubicBezTo>
                    <a:pt x="146837" y="12732"/>
                    <a:pt x="185880" y="51775"/>
                    <a:pt x="185880" y="99306"/>
                  </a:cubicBezTo>
                  <a:lnTo>
                    <a:pt x="185880" y="523690"/>
                  </a:lnTo>
                  <a:cubicBezTo>
                    <a:pt x="185880" y="571221"/>
                    <a:pt x="146837" y="610265"/>
                    <a:pt x="99306" y="610265"/>
                  </a:cubicBezTo>
                  <a:cubicBezTo>
                    <a:pt x="51775" y="610265"/>
                    <a:pt x="12732" y="571221"/>
                    <a:pt x="12732" y="523690"/>
                  </a:cubicBezTo>
                  <a:lnTo>
                    <a:pt x="12732" y="99306"/>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2" name="任意多边形: 形状 14"/>
            <p:cNvSpPr/>
            <p:nvPr/>
          </p:nvSpPr>
          <p:spPr>
            <a:xfrm>
              <a:off x="9223920" y="51904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2732" y="99306"/>
                  </a:moveTo>
                  <a:cubicBezTo>
                    <a:pt x="12732" y="51775"/>
                    <a:pt x="51775" y="12732"/>
                    <a:pt x="99306" y="12732"/>
                  </a:cubicBezTo>
                  <a:cubicBezTo>
                    <a:pt x="146837" y="12732"/>
                    <a:pt x="185880" y="51775"/>
                    <a:pt x="185880" y="99306"/>
                  </a:cubicBezTo>
                  <a:lnTo>
                    <a:pt x="185880" y="523690"/>
                  </a:lnTo>
                  <a:cubicBezTo>
                    <a:pt x="185880" y="571221"/>
                    <a:pt x="146837" y="610265"/>
                    <a:pt x="99306" y="610265"/>
                  </a:cubicBezTo>
                  <a:cubicBezTo>
                    <a:pt x="51775" y="610265"/>
                    <a:pt x="12732" y="571221"/>
                    <a:pt x="12732" y="523690"/>
                  </a:cubicBezTo>
                  <a:lnTo>
                    <a:pt x="12732" y="99306"/>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3" name="任意多边形: 形状 15"/>
            <p:cNvSpPr/>
            <p:nvPr/>
          </p:nvSpPr>
          <p:spPr>
            <a:xfrm>
              <a:off x="7966080" y="5058000"/>
              <a:ext cx="1239120" cy="848880"/>
            </a:xfrm>
            <a:custGeom>
              <a:avLst/>
              <a:gdLst>
                <a:gd name="textAreaLeft" fmla="*/ 0 w 1239120"/>
                <a:gd name="textAreaRight" fmla="*/ 1239480 w 1239120"/>
                <a:gd name="textAreaTop" fmla="*/ 0 h 848880"/>
                <a:gd name="textAreaBottom" fmla="*/ 849240 h 848880"/>
              </a:gdLst>
              <a:ahLst/>
              <a:rect l="textAreaLeft" t="textAreaTop" r="textAreaRight" b="textAreaBottom"/>
              <a:pathLst>
                <a:path w="1239201" h="848768">
                  <a:moveTo>
                    <a:pt x="12732" y="106096"/>
                  </a:moveTo>
                  <a:cubicBezTo>
                    <a:pt x="12732" y="53472"/>
                    <a:pt x="55170" y="12732"/>
                    <a:pt x="106096" y="12732"/>
                  </a:cubicBezTo>
                  <a:lnTo>
                    <a:pt x="1136501" y="12732"/>
                  </a:lnTo>
                  <a:cubicBezTo>
                    <a:pt x="1189125" y="12732"/>
                    <a:pt x="1229865" y="55170"/>
                    <a:pt x="1229865" y="106096"/>
                  </a:cubicBezTo>
                  <a:lnTo>
                    <a:pt x="1229865" y="756252"/>
                  </a:lnTo>
                  <a:cubicBezTo>
                    <a:pt x="1229865" y="808876"/>
                    <a:pt x="1187427" y="849617"/>
                    <a:pt x="1136501" y="849617"/>
                  </a:cubicBezTo>
                  <a:lnTo>
                    <a:pt x="106096" y="849617"/>
                  </a:lnTo>
                  <a:cubicBezTo>
                    <a:pt x="53472" y="849617"/>
                    <a:pt x="12732" y="807178"/>
                    <a:pt x="12732" y="756252"/>
                  </a:cubicBezTo>
                  <a:lnTo>
                    <a:pt x="12732" y="106096"/>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4" name="任意多边形: 形状 16"/>
            <p:cNvSpPr/>
            <p:nvPr/>
          </p:nvSpPr>
          <p:spPr>
            <a:xfrm>
              <a:off x="8069760" y="4542120"/>
              <a:ext cx="1035360" cy="933840"/>
            </a:xfrm>
            <a:custGeom>
              <a:avLst/>
              <a:gdLst>
                <a:gd name="textAreaLeft" fmla="*/ 0 w 1035360"/>
                <a:gd name="textAreaRight" fmla="*/ 1035720 w 1035360"/>
                <a:gd name="textAreaTop" fmla="*/ 0 h 933840"/>
                <a:gd name="textAreaBottom" fmla="*/ 934200 h 933840"/>
              </a:gdLst>
              <a:ahLst/>
              <a:rect l="textAreaLeft" t="textAreaTop" r="textAreaRight" b="textAreaBottom"/>
              <a:pathLst>
                <a:path w="1035497" h="933645">
                  <a:moveTo>
                    <a:pt x="1022766" y="931099"/>
                  </a:moveTo>
                  <a:lnTo>
                    <a:pt x="876778" y="12732"/>
                  </a:lnTo>
                  <a:lnTo>
                    <a:pt x="538968" y="12732"/>
                  </a:lnTo>
                  <a:lnTo>
                    <a:pt x="538968" y="656098"/>
                  </a:lnTo>
                  <a:lnTo>
                    <a:pt x="496529" y="656098"/>
                  </a:lnTo>
                  <a:lnTo>
                    <a:pt x="496529" y="12732"/>
                  </a:lnTo>
                  <a:lnTo>
                    <a:pt x="158720" y="12732"/>
                  </a:lnTo>
                  <a:lnTo>
                    <a:pt x="12732" y="931099"/>
                  </a:lnTo>
                  <a:lnTo>
                    <a:pt x="496529" y="931099"/>
                  </a:lnTo>
                  <a:lnTo>
                    <a:pt x="496529" y="842827"/>
                  </a:lnTo>
                  <a:lnTo>
                    <a:pt x="538968" y="851315"/>
                  </a:lnTo>
                  <a:lnTo>
                    <a:pt x="538968" y="931099"/>
                  </a:lnTo>
                  <a:lnTo>
                    <a:pt x="1022766" y="931099"/>
                  </a:lnTo>
                  <a:close/>
                </a:path>
              </a:pathLst>
            </a:custGeom>
            <a:solidFill>
              <a:srgbClr val="a7754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5" name="任意多边形: 形状 17"/>
            <p:cNvSpPr/>
            <p:nvPr/>
          </p:nvSpPr>
          <p:spPr>
            <a:xfrm>
              <a:off x="6483960" y="5723640"/>
              <a:ext cx="118800" cy="441360"/>
            </a:xfrm>
            <a:custGeom>
              <a:avLst/>
              <a:gdLst>
                <a:gd name="textAreaLeft" fmla="*/ 0 w 118800"/>
                <a:gd name="textAreaRight" fmla="*/ 119160 w 118800"/>
                <a:gd name="textAreaTop" fmla="*/ 0 h 441360"/>
                <a:gd name="textAreaBottom" fmla="*/ 441720 h 441360"/>
              </a:gdLst>
              <a:ahLst/>
              <a:rect l="textAreaLeft" t="textAreaTop" r="textAreaRight" b="textAreaBottom"/>
              <a:pathLst>
                <a:path w="118827" h="441359">
                  <a:moveTo>
                    <a:pt x="51918" y="41733"/>
                  </a:moveTo>
                  <a:cubicBezTo>
                    <a:pt x="53616" y="24758"/>
                    <a:pt x="68894" y="11177"/>
                    <a:pt x="87567" y="12875"/>
                  </a:cubicBezTo>
                  <a:cubicBezTo>
                    <a:pt x="104542" y="14573"/>
                    <a:pt x="118122" y="29850"/>
                    <a:pt x="116425" y="48523"/>
                  </a:cubicBezTo>
                  <a:lnTo>
                    <a:pt x="77382" y="413494"/>
                  </a:lnTo>
                  <a:cubicBezTo>
                    <a:pt x="75684" y="430469"/>
                    <a:pt x="60406" y="444049"/>
                    <a:pt x="41733" y="442352"/>
                  </a:cubicBezTo>
                  <a:cubicBezTo>
                    <a:pt x="24758" y="440655"/>
                    <a:pt x="11178" y="425377"/>
                    <a:pt x="12875" y="406704"/>
                  </a:cubicBezTo>
                  <a:lnTo>
                    <a:pt x="51918" y="41733"/>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6" name="任意多边形: 形状 18"/>
            <p:cNvSpPr/>
            <p:nvPr/>
          </p:nvSpPr>
          <p:spPr>
            <a:xfrm>
              <a:off x="5805000" y="5650560"/>
              <a:ext cx="118800" cy="441360"/>
            </a:xfrm>
            <a:custGeom>
              <a:avLst/>
              <a:gdLst>
                <a:gd name="textAreaLeft" fmla="*/ 0 w 118800"/>
                <a:gd name="textAreaRight" fmla="*/ 119160 w 118800"/>
                <a:gd name="textAreaTop" fmla="*/ 0 h 441360"/>
                <a:gd name="textAreaBottom" fmla="*/ 441720 h 441360"/>
              </a:gdLst>
              <a:ahLst/>
              <a:rect l="textAreaLeft" t="textAreaTop" r="textAreaRight" b="textAreaBottom"/>
              <a:pathLst>
                <a:path w="118827" h="441359">
                  <a:moveTo>
                    <a:pt x="51918" y="41733"/>
                  </a:moveTo>
                  <a:cubicBezTo>
                    <a:pt x="53616" y="24758"/>
                    <a:pt x="68894" y="11177"/>
                    <a:pt x="87567" y="12875"/>
                  </a:cubicBezTo>
                  <a:cubicBezTo>
                    <a:pt x="104542" y="14573"/>
                    <a:pt x="118122" y="29850"/>
                    <a:pt x="116425" y="48523"/>
                  </a:cubicBezTo>
                  <a:lnTo>
                    <a:pt x="77381" y="413494"/>
                  </a:lnTo>
                  <a:cubicBezTo>
                    <a:pt x="75684" y="430469"/>
                    <a:pt x="60406" y="444049"/>
                    <a:pt x="41733" y="442352"/>
                  </a:cubicBezTo>
                  <a:cubicBezTo>
                    <a:pt x="24758" y="440654"/>
                    <a:pt x="11178" y="425376"/>
                    <a:pt x="12875" y="406703"/>
                  </a:cubicBezTo>
                  <a:lnTo>
                    <a:pt x="51918" y="41733"/>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7" name="任意多边形: 形状 19"/>
            <p:cNvSpPr/>
            <p:nvPr/>
          </p:nvSpPr>
          <p:spPr>
            <a:xfrm>
              <a:off x="5286240" y="5861880"/>
              <a:ext cx="1782360" cy="526320"/>
            </a:xfrm>
            <a:custGeom>
              <a:avLst/>
              <a:gdLst>
                <a:gd name="textAreaLeft" fmla="*/ 0 w 1782360"/>
                <a:gd name="textAreaRight" fmla="*/ 1782720 w 1782360"/>
                <a:gd name="textAreaTop" fmla="*/ 0 h 526320"/>
                <a:gd name="textAreaBottom" fmla="*/ 526680 h 526320"/>
              </a:gdLst>
              <a:ahLst/>
              <a:rect l="textAreaLeft" t="textAreaTop" r="textAreaRight" b="textAreaBottom"/>
              <a:pathLst>
                <a:path w="1782413" h="526236">
                  <a:moveTo>
                    <a:pt x="25597" y="115567"/>
                  </a:moveTo>
                  <a:cubicBezTo>
                    <a:pt x="32387" y="52758"/>
                    <a:pt x="90104" y="5227"/>
                    <a:pt x="152913" y="13715"/>
                  </a:cubicBezTo>
                  <a:lnTo>
                    <a:pt x="1678998" y="178375"/>
                  </a:lnTo>
                  <a:cubicBezTo>
                    <a:pt x="1741807" y="185166"/>
                    <a:pt x="1789338" y="242882"/>
                    <a:pt x="1780850" y="305691"/>
                  </a:cubicBezTo>
                  <a:lnTo>
                    <a:pt x="1768967" y="419426"/>
                  </a:lnTo>
                  <a:cubicBezTo>
                    <a:pt x="1762177" y="482235"/>
                    <a:pt x="1704461" y="529766"/>
                    <a:pt x="1641652" y="521278"/>
                  </a:cubicBezTo>
                  <a:lnTo>
                    <a:pt x="115567" y="356617"/>
                  </a:lnTo>
                  <a:cubicBezTo>
                    <a:pt x="52758" y="349827"/>
                    <a:pt x="5227" y="292110"/>
                    <a:pt x="13715" y="229301"/>
                  </a:cubicBezTo>
                  <a:lnTo>
                    <a:pt x="25597" y="115567"/>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8" name="任意多边形: 形状 20"/>
            <p:cNvSpPr/>
            <p:nvPr/>
          </p:nvSpPr>
          <p:spPr>
            <a:xfrm>
              <a:off x="5398920" y="5113800"/>
              <a:ext cx="237600" cy="610920"/>
            </a:xfrm>
            <a:custGeom>
              <a:avLst/>
              <a:gdLst>
                <a:gd name="textAreaLeft" fmla="*/ 0 w 237600"/>
                <a:gd name="textAreaRight" fmla="*/ 237960 w 237600"/>
                <a:gd name="textAreaTop" fmla="*/ 0 h 610920"/>
                <a:gd name="textAreaBottom" fmla="*/ 611280 h 610920"/>
              </a:gdLst>
              <a:ahLst/>
              <a:rect l="textAreaLeft" t="textAreaTop" r="textAreaRight" b="textAreaBottom"/>
              <a:pathLst>
                <a:path w="237655" h="611113">
                  <a:moveTo>
                    <a:pt x="59070" y="89626"/>
                  </a:moveTo>
                  <a:cubicBezTo>
                    <a:pt x="64163" y="42095"/>
                    <a:pt x="106602" y="8145"/>
                    <a:pt x="154133" y="13237"/>
                  </a:cubicBezTo>
                  <a:cubicBezTo>
                    <a:pt x="201664" y="18329"/>
                    <a:pt x="235614" y="60768"/>
                    <a:pt x="230522" y="108299"/>
                  </a:cubicBezTo>
                  <a:lnTo>
                    <a:pt x="184688" y="530986"/>
                  </a:lnTo>
                  <a:cubicBezTo>
                    <a:pt x="179596" y="578516"/>
                    <a:pt x="137157" y="612467"/>
                    <a:pt x="89626" y="607375"/>
                  </a:cubicBezTo>
                  <a:cubicBezTo>
                    <a:pt x="42095" y="602282"/>
                    <a:pt x="8144" y="559844"/>
                    <a:pt x="13237" y="512313"/>
                  </a:cubicBezTo>
                  <a:lnTo>
                    <a:pt x="59070" y="89626"/>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29" name="任意多边形: 形状 21"/>
            <p:cNvSpPr/>
            <p:nvPr/>
          </p:nvSpPr>
          <p:spPr>
            <a:xfrm>
              <a:off x="6862320" y="5271480"/>
              <a:ext cx="237600" cy="610920"/>
            </a:xfrm>
            <a:custGeom>
              <a:avLst/>
              <a:gdLst>
                <a:gd name="textAreaLeft" fmla="*/ 0 w 237600"/>
                <a:gd name="textAreaRight" fmla="*/ 237960 w 237600"/>
                <a:gd name="textAreaTop" fmla="*/ 0 h 610920"/>
                <a:gd name="textAreaBottom" fmla="*/ 611280 h 610920"/>
              </a:gdLst>
              <a:ahLst/>
              <a:rect l="textAreaLeft" t="textAreaTop" r="textAreaRight" b="textAreaBottom"/>
              <a:pathLst>
                <a:path w="237655" h="611113">
                  <a:moveTo>
                    <a:pt x="59070" y="89626"/>
                  </a:moveTo>
                  <a:cubicBezTo>
                    <a:pt x="64163" y="42095"/>
                    <a:pt x="106602" y="8145"/>
                    <a:pt x="154132" y="13237"/>
                  </a:cubicBezTo>
                  <a:cubicBezTo>
                    <a:pt x="201664" y="18330"/>
                    <a:pt x="235614" y="60768"/>
                    <a:pt x="230522" y="108299"/>
                  </a:cubicBezTo>
                  <a:lnTo>
                    <a:pt x="184688" y="530986"/>
                  </a:lnTo>
                  <a:cubicBezTo>
                    <a:pt x="179596" y="578517"/>
                    <a:pt x="137157" y="612468"/>
                    <a:pt x="89626" y="607375"/>
                  </a:cubicBezTo>
                  <a:cubicBezTo>
                    <a:pt x="42095" y="602282"/>
                    <a:pt x="8144" y="559844"/>
                    <a:pt x="13237" y="512313"/>
                  </a:cubicBezTo>
                  <a:lnTo>
                    <a:pt x="59070" y="89626"/>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0" name="任意多边形: 形状 22"/>
            <p:cNvSpPr/>
            <p:nvPr/>
          </p:nvSpPr>
          <p:spPr>
            <a:xfrm>
              <a:off x="5600880" y="5005080"/>
              <a:ext cx="1306800" cy="967680"/>
            </a:xfrm>
            <a:custGeom>
              <a:avLst/>
              <a:gdLst>
                <a:gd name="textAreaLeft" fmla="*/ 0 w 1306800"/>
                <a:gd name="textAreaRight" fmla="*/ 1307160 w 1306800"/>
                <a:gd name="textAreaTop" fmla="*/ 0 h 967680"/>
                <a:gd name="textAreaBottom" fmla="*/ 968040 h 967680"/>
              </a:gdLst>
              <a:ahLst/>
              <a:rect l="textAreaLeft" t="textAreaTop" r="textAreaRight" b="textAreaBottom"/>
              <a:pathLst>
                <a:path w="1307103" h="967595">
                  <a:moveTo>
                    <a:pt x="82795" y="96376"/>
                  </a:moveTo>
                  <a:cubicBezTo>
                    <a:pt x="87888" y="45449"/>
                    <a:pt x="135419" y="8103"/>
                    <a:pt x="186345" y="13196"/>
                  </a:cubicBezTo>
                  <a:lnTo>
                    <a:pt x="1211657" y="123536"/>
                  </a:lnTo>
                  <a:cubicBezTo>
                    <a:pt x="1262583" y="128629"/>
                    <a:pt x="1299929" y="176160"/>
                    <a:pt x="1294836" y="227086"/>
                  </a:cubicBezTo>
                  <a:lnTo>
                    <a:pt x="1225238" y="872150"/>
                  </a:lnTo>
                  <a:cubicBezTo>
                    <a:pt x="1220145" y="923076"/>
                    <a:pt x="1172614" y="960422"/>
                    <a:pt x="1121688" y="955329"/>
                  </a:cubicBezTo>
                  <a:lnTo>
                    <a:pt x="96376" y="844989"/>
                  </a:lnTo>
                  <a:cubicBezTo>
                    <a:pt x="45450" y="839896"/>
                    <a:pt x="8104" y="792366"/>
                    <a:pt x="13196" y="741439"/>
                  </a:cubicBezTo>
                  <a:lnTo>
                    <a:pt x="82795" y="96376"/>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1" name="任意多边形: 形状 23"/>
            <p:cNvSpPr/>
            <p:nvPr/>
          </p:nvSpPr>
          <p:spPr>
            <a:xfrm>
              <a:off x="5726880" y="4460400"/>
              <a:ext cx="1018440" cy="1052640"/>
            </a:xfrm>
            <a:custGeom>
              <a:avLst/>
              <a:gdLst>
                <a:gd name="textAreaLeft" fmla="*/ 0 w 1018440"/>
                <a:gd name="textAreaRight" fmla="*/ 1018800 w 1018440"/>
                <a:gd name="textAreaTop" fmla="*/ 0 h 1052640"/>
                <a:gd name="textAreaBottom" fmla="*/ 1053000 h 1052640"/>
              </a:gdLst>
              <a:ahLst/>
              <a:rect l="textAreaLeft" t="textAreaTop" r="textAreaRight" b="textAreaBottom"/>
              <a:pathLst>
                <a:path w="1018521" h="1052472">
                  <a:moveTo>
                    <a:pt x="1010883" y="1049926"/>
                  </a:moveTo>
                  <a:lnTo>
                    <a:pt x="1005790" y="121374"/>
                  </a:lnTo>
                  <a:lnTo>
                    <a:pt x="671376" y="70448"/>
                  </a:lnTo>
                  <a:lnTo>
                    <a:pt x="574616" y="705326"/>
                  </a:lnTo>
                  <a:lnTo>
                    <a:pt x="533875" y="698536"/>
                  </a:lnTo>
                  <a:lnTo>
                    <a:pt x="630635" y="63658"/>
                  </a:lnTo>
                  <a:lnTo>
                    <a:pt x="297918" y="12732"/>
                  </a:lnTo>
                  <a:lnTo>
                    <a:pt x="12732" y="897148"/>
                  </a:lnTo>
                  <a:lnTo>
                    <a:pt x="491437" y="970142"/>
                  </a:lnTo>
                  <a:lnTo>
                    <a:pt x="505017" y="883568"/>
                  </a:lnTo>
                  <a:lnTo>
                    <a:pt x="545758" y="897148"/>
                  </a:lnTo>
                  <a:lnTo>
                    <a:pt x="532178" y="976932"/>
                  </a:lnTo>
                  <a:lnTo>
                    <a:pt x="1010883" y="1049926"/>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2" name="任意多边形: 形状 24"/>
            <p:cNvSpPr/>
            <p:nvPr/>
          </p:nvSpPr>
          <p:spPr>
            <a:xfrm>
              <a:off x="6249960" y="635040"/>
              <a:ext cx="84600" cy="441360"/>
            </a:xfrm>
            <a:custGeom>
              <a:avLst/>
              <a:gdLst>
                <a:gd name="textAreaLeft" fmla="*/ 0 w 84600"/>
                <a:gd name="textAreaRight" fmla="*/ 84960 w 84600"/>
                <a:gd name="textAreaTop" fmla="*/ 0 h 441360"/>
                <a:gd name="textAreaBottom" fmla="*/ 441720 h 441360"/>
              </a:gdLst>
              <a:ahLst/>
              <a:rect l="textAreaLeft" t="textAreaTop" r="textAreaRight" b="textAreaBottom"/>
              <a:pathLst>
                <a:path w="84876" h="441359">
                  <a:moveTo>
                    <a:pt x="77238" y="411653"/>
                  </a:moveTo>
                  <a:cubicBezTo>
                    <a:pt x="77238" y="428628"/>
                    <a:pt x="63658" y="443906"/>
                    <a:pt x="44985" y="443906"/>
                  </a:cubicBezTo>
                  <a:cubicBezTo>
                    <a:pt x="28009" y="443906"/>
                    <a:pt x="12732" y="430326"/>
                    <a:pt x="12732" y="411653"/>
                  </a:cubicBezTo>
                  <a:lnTo>
                    <a:pt x="12732" y="44985"/>
                  </a:lnTo>
                  <a:cubicBezTo>
                    <a:pt x="12732" y="28009"/>
                    <a:pt x="26312" y="12732"/>
                    <a:pt x="44985" y="12732"/>
                  </a:cubicBezTo>
                  <a:cubicBezTo>
                    <a:pt x="61960" y="12732"/>
                    <a:pt x="77238" y="26312"/>
                    <a:pt x="77238" y="44985"/>
                  </a:cubicBezTo>
                  <a:lnTo>
                    <a:pt x="77238" y="411653"/>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3" name="任意多边形: 形状 25"/>
            <p:cNvSpPr/>
            <p:nvPr/>
          </p:nvSpPr>
          <p:spPr>
            <a:xfrm>
              <a:off x="6933960" y="635040"/>
              <a:ext cx="84600" cy="441360"/>
            </a:xfrm>
            <a:custGeom>
              <a:avLst/>
              <a:gdLst>
                <a:gd name="textAreaLeft" fmla="*/ 0 w 84600"/>
                <a:gd name="textAreaRight" fmla="*/ 84960 w 84600"/>
                <a:gd name="textAreaTop" fmla="*/ 0 h 441360"/>
                <a:gd name="textAreaBottom" fmla="*/ 441720 h 441360"/>
              </a:gdLst>
              <a:ahLst/>
              <a:rect l="textAreaLeft" t="textAreaTop" r="textAreaRight" b="textAreaBottom"/>
              <a:pathLst>
                <a:path w="84876" h="441359">
                  <a:moveTo>
                    <a:pt x="77238" y="411653"/>
                  </a:moveTo>
                  <a:cubicBezTo>
                    <a:pt x="77238" y="428628"/>
                    <a:pt x="63658" y="443906"/>
                    <a:pt x="44985" y="443906"/>
                  </a:cubicBezTo>
                  <a:cubicBezTo>
                    <a:pt x="28009" y="443906"/>
                    <a:pt x="12732" y="430326"/>
                    <a:pt x="12732" y="411653"/>
                  </a:cubicBezTo>
                  <a:lnTo>
                    <a:pt x="12732" y="44985"/>
                  </a:lnTo>
                  <a:cubicBezTo>
                    <a:pt x="12732" y="28009"/>
                    <a:pt x="26312" y="12732"/>
                    <a:pt x="44985" y="12732"/>
                  </a:cubicBezTo>
                  <a:cubicBezTo>
                    <a:pt x="61960" y="12732"/>
                    <a:pt x="77238" y="26312"/>
                    <a:pt x="77238" y="44985"/>
                  </a:cubicBezTo>
                  <a:lnTo>
                    <a:pt x="77238" y="411653"/>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4" name="任意多边形: 形状 26"/>
            <p:cNvSpPr/>
            <p:nvPr/>
          </p:nvSpPr>
          <p:spPr>
            <a:xfrm>
              <a:off x="5742360" y="461880"/>
              <a:ext cx="1782360" cy="356400"/>
            </a:xfrm>
            <a:custGeom>
              <a:avLst/>
              <a:gdLst>
                <a:gd name="textAreaLeft" fmla="*/ 0 w 1782360"/>
                <a:gd name="textAreaRight" fmla="*/ 1782720 w 1782360"/>
                <a:gd name="textAreaTop" fmla="*/ 0 h 356400"/>
                <a:gd name="textAreaBottom" fmla="*/ 356760 h 356400"/>
              </a:gdLst>
              <a:ahLst/>
              <a:rect l="textAreaLeft" t="textAreaTop" r="textAreaRight" b="textAreaBottom"/>
              <a:pathLst>
                <a:path w="1782413" h="356482">
                  <a:moveTo>
                    <a:pt x="1778170" y="241899"/>
                  </a:moveTo>
                  <a:cubicBezTo>
                    <a:pt x="1778170" y="306405"/>
                    <a:pt x="1725546" y="357331"/>
                    <a:pt x="1662737" y="357331"/>
                  </a:cubicBezTo>
                  <a:lnTo>
                    <a:pt x="128164" y="357331"/>
                  </a:lnTo>
                  <a:cubicBezTo>
                    <a:pt x="63658" y="357331"/>
                    <a:pt x="12732" y="304708"/>
                    <a:pt x="12732" y="241899"/>
                  </a:cubicBezTo>
                  <a:lnTo>
                    <a:pt x="12732" y="128164"/>
                  </a:lnTo>
                  <a:cubicBezTo>
                    <a:pt x="12732" y="63658"/>
                    <a:pt x="65355" y="12732"/>
                    <a:pt x="128164" y="12732"/>
                  </a:cubicBezTo>
                  <a:lnTo>
                    <a:pt x="1662737" y="12732"/>
                  </a:lnTo>
                  <a:cubicBezTo>
                    <a:pt x="1727244" y="12732"/>
                    <a:pt x="1778170" y="65355"/>
                    <a:pt x="1778170" y="128164"/>
                  </a:cubicBezTo>
                  <a:lnTo>
                    <a:pt x="1778170" y="241899"/>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5" name="任意多边形: 形状 27"/>
            <p:cNvSpPr/>
            <p:nvPr/>
          </p:nvSpPr>
          <p:spPr>
            <a:xfrm>
              <a:off x="7273440" y="9658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85880" y="523690"/>
                  </a:moveTo>
                  <a:cubicBezTo>
                    <a:pt x="185880" y="571221"/>
                    <a:pt x="146837" y="610264"/>
                    <a:pt x="99306" y="610264"/>
                  </a:cubicBezTo>
                  <a:cubicBezTo>
                    <a:pt x="51775" y="610264"/>
                    <a:pt x="12732" y="571221"/>
                    <a:pt x="12732" y="523690"/>
                  </a:cubicBezTo>
                  <a:lnTo>
                    <a:pt x="12732" y="99306"/>
                  </a:lnTo>
                  <a:cubicBezTo>
                    <a:pt x="12732" y="51775"/>
                    <a:pt x="51775" y="12732"/>
                    <a:pt x="99306" y="12732"/>
                  </a:cubicBezTo>
                  <a:cubicBezTo>
                    <a:pt x="146837" y="12732"/>
                    <a:pt x="185880" y="51775"/>
                    <a:pt x="185880" y="99306"/>
                  </a:cubicBezTo>
                  <a:lnTo>
                    <a:pt x="185880" y="523690"/>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6" name="任意多边形: 形状 28"/>
            <p:cNvSpPr/>
            <p:nvPr/>
          </p:nvSpPr>
          <p:spPr>
            <a:xfrm>
              <a:off x="5801760" y="9658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85880" y="523690"/>
                  </a:moveTo>
                  <a:cubicBezTo>
                    <a:pt x="185880" y="571221"/>
                    <a:pt x="146837" y="610264"/>
                    <a:pt x="99306" y="610264"/>
                  </a:cubicBezTo>
                  <a:cubicBezTo>
                    <a:pt x="51775" y="610264"/>
                    <a:pt x="12732" y="571221"/>
                    <a:pt x="12732" y="523690"/>
                  </a:cubicBezTo>
                  <a:lnTo>
                    <a:pt x="12732" y="99306"/>
                  </a:lnTo>
                  <a:cubicBezTo>
                    <a:pt x="12732" y="51775"/>
                    <a:pt x="51775" y="12732"/>
                    <a:pt x="99306" y="12732"/>
                  </a:cubicBezTo>
                  <a:cubicBezTo>
                    <a:pt x="146837" y="12732"/>
                    <a:pt x="185880" y="51775"/>
                    <a:pt x="185880" y="99306"/>
                  </a:cubicBezTo>
                  <a:lnTo>
                    <a:pt x="185880" y="523690"/>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7" name="任意多边形: 形状 29"/>
            <p:cNvSpPr/>
            <p:nvPr/>
          </p:nvSpPr>
          <p:spPr>
            <a:xfrm>
              <a:off x="6015600" y="860760"/>
              <a:ext cx="1239120" cy="848880"/>
            </a:xfrm>
            <a:custGeom>
              <a:avLst/>
              <a:gdLst>
                <a:gd name="textAreaLeft" fmla="*/ 0 w 1239120"/>
                <a:gd name="textAreaRight" fmla="*/ 1239480 w 1239120"/>
                <a:gd name="textAreaTop" fmla="*/ 0 h 848880"/>
                <a:gd name="textAreaBottom" fmla="*/ 849240 h 848880"/>
              </a:gdLst>
              <a:ahLst/>
              <a:rect l="textAreaLeft" t="textAreaTop" r="textAreaRight" b="textAreaBottom"/>
              <a:pathLst>
                <a:path w="1239201" h="848768">
                  <a:moveTo>
                    <a:pt x="1231563" y="756253"/>
                  </a:moveTo>
                  <a:cubicBezTo>
                    <a:pt x="1231563" y="808876"/>
                    <a:pt x="1189124" y="849617"/>
                    <a:pt x="1138198" y="849617"/>
                  </a:cubicBezTo>
                  <a:lnTo>
                    <a:pt x="106096" y="849617"/>
                  </a:lnTo>
                  <a:cubicBezTo>
                    <a:pt x="53472" y="849617"/>
                    <a:pt x="12732" y="807179"/>
                    <a:pt x="12732" y="756253"/>
                  </a:cubicBezTo>
                  <a:lnTo>
                    <a:pt x="12732" y="106096"/>
                  </a:lnTo>
                  <a:cubicBezTo>
                    <a:pt x="12732" y="53472"/>
                    <a:pt x="55170" y="12732"/>
                    <a:pt x="106096" y="12732"/>
                  </a:cubicBezTo>
                  <a:lnTo>
                    <a:pt x="1136501" y="12732"/>
                  </a:lnTo>
                  <a:cubicBezTo>
                    <a:pt x="1189124" y="12732"/>
                    <a:pt x="1229865" y="55170"/>
                    <a:pt x="1229865" y="106096"/>
                  </a:cubicBezTo>
                  <a:lnTo>
                    <a:pt x="1229865" y="756253"/>
                  </a:lnTo>
                  <a:lnTo>
                    <a:pt x="1231563" y="756253"/>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8" name="任意多边形: 形状 30"/>
            <p:cNvSpPr/>
            <p:nvPr/>
          </p:nvSpPr>
          <p:spPr>
            <a:xfrm>
              <a:off x="6120720" y="1351440"/>
              <a:ext cx="1018440" cy="933840"/>
            </a:xfrm>
            <a:custGeom>
              <a:avLst/>
              <a:gdLst>
                <a:gd name="textAreaLeft" fmla="*/ 0 w 1018440"/>
                <a:gd name="textAreaRight" fmla="*/ 1018800 w 1018440"/>
                <a:gd name="textAreaTop" fmla="*/ 0 h 933840"/>
                <a:gd name="textAreaBottom" fmla="*/ 934200 h 933840"/>
              </a:gdLst>
              <a:ahLst/>
              <a:rect l="textAreaLeft" t="textAreaTop" r="textAreaRight" b="textAreaBottom"/>
              <a:pathLst>
                <a:path w="1018521" h="933645">
                  <a:moveTo>
                    <a:pt x="12732" y="12732"/>
                  </a:moveTo>
                  <a:lnTo>
                    <a:pt x="158720" y="929401"/>
                  </a:lnTo>
                  <a:lnTo>
                    <a:pt x="496529" y="929401"/>
                  </a:lnTo>
                  <a:lnTo>
                    <a:pt x="496529" y="287732"/>
                  </a:lnTo>
                  <a:lnTo>
                    <a:pt x="537270" y="287732"/>
                  </a:lnTo>
                  <a:lnTo>
                    <a:pt x="537270" y="929401"/>
                  </a:lnTo>
                  <a:lnTo>
                    <a:pt x="875080" y="929401"/>
                  </a:lnTo>
                  <a:lnTo>
                    <a:pt x="1021068" y="12732"/>
                  </a:lnTo>
                  <a:lnTo>
                    <a:pt x="537270" y="12732"/>
                  </a:lnTo>
                  <a:lnTo>
                    <a:pt x="537270" y="99306"/>
                  </a:lnTo>
                  <a:lnTo>
                    <a:pt x="496529" y="92516"/>
                  </a:lnTo>
                  <a:lnTo>
                    <a:pt x="496529" y="12732"/>
                  </a:lnTo>
                  <a:lnTo>
                    <a:pt x="12732" y="12732"/>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39" name="任意多边形: 形状 31"/>
            <p:cNvSpPr/>
            <p:nvPr/>
          </p:nvSpPr>
          <p:spPr>
            <a:xfrm>
              <a:off x="10347840" y="635040"/>
              <a:ext cx="84600" cy="441360"/>
            </a:xfrm>
            <a:custGeom>
              <a:avLst/>
              <a:gdLst>
                <a:gd name="textAreaLeft" fmla="*/ 0 w 84600"/>
                <a:gd name="textAreaRight" fmla="*/ 84960 w 84600"/>
                <a:gd name="textAreaTop" fmla="*/ 0 h 441360"/>
                <a:gd name="textAreaBottom" fmla="*/ 441720 h 441360"/>
              </a:gdLst>
              <a:ahLst/>
              <a:rect l="textAreaLeft" t="textAreaTop" r="textAreaRight" b="textAreaBottom"/>
              <a:pathLst>
                <a:path w="84876" h="441359">
                  <a:moveTo>
                    <a:pt x="77238" y="411653"/>
                  </a:moveTo>
                  <a:cubicBezTo>
                    <a:pt x="77238" y="428628"/>
                    <a:pt x="63658" y="443906"/>
                    <a:pt x="44985" y="443906"/>
                  </a:cubicBezTo>
                  <a:cubicBezTo>
                    <a:pt x="28009" y="443906"/>
                    <a:pt x="12732" y="430326"/>
                    <a:pt x="12732" y="411653"/>
                  </a:cubicBezTo>
                  <a:lnTo>
                    <a:pt x="12732" y="44985"/>
                  </a:lnTo>
                  <a:cubicBezTo>
                    <a:pt x="12732" y="28009"/>
                    <a:pt x="26312" y="12732"/>
                    <a:pt x="44985" y="12732"/>
                  </a:cubicBezTo>
                  <a:cubicBezTo>
                    <a:pt x="61960" y="12732"/>
                    <a:pt x="77238" y="26312"/>
                    <a:pt x="77238" y="44985"/>
                  </a:cubicBezTo>
                  <a:lnTo>
                    <a:pt x="77238" y="411653"/>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0" name="任意多边形: 形状 32"/>
            <p:cNvSpPr/>
            <p:nvPr/>
          </p:nvSpPr>
          <p:spPr>
            <a:xfrm>
              <a:off x="11031840" y="635040"/>
              <a:ext cx="84600" cy="441360"/>
            </a:xfrm>
            <a:custGeom>
              <a:avLst/>
              <a:gdLst>
                <a:gd name="textAreaLeft" fmla="*/ 0 w 84600"/>
                <a:gd name="textAreaRight" fmla="*/ 84960 w 84600"/>
                <a:gd name="textAreaTop" fmla="*/ 0 h 441360"/>
                <a:gd name="textAreaBottom" fmla="*/ 441720 h 441360"/>
              </a:gdLst>
              <a:ahLst/>
              <a:rect l="textAreaLeft" t="textAreaTop" r="textAreaRight" b="textAreaBottom"/>
              <a:pathLst>
                <a:path w="84876" h="441359">
                  <a:moveTo>
                    <a:pt x="77238" y="411653"/>
                  </a:moveTo>
                  <a:cubicBezTo>
                    <a:pt x="77238" y="428628"/>
                    <a:pt x="63658" y="443906"/>
                    <a:pt x="44985" y="443906"/>
                  </a:cubicBezTo>
                  <a:cubicBezTo>
                    <a:pt x="28009" y="443906"/>
                    <a:pt x="12732" y="430326"/>
                    <a:pt x="12732" y="411653"/>
                  </a:cubicBezTo>
                  <a:lnTo>
                    <a:pt x="12732" y="44985"/>
                  </a:lnTo>
                  <a:cubicBezTo>
                    <a:pt x="12732" y="28009"/>
                    <a:pt x="26312" y="12732"/>
                    <a:pt x="44985" y="12732"/>
                  </a:cubicBezTo>
                  <a:cubicBezTo>
                    <a:pt x="61960" y="12732"/>
                    <a:pt x="77238" y="26312"/>
                    <a:pt x="77238" y="44985"/>
                  </a:cubicBezTo>
                  <a:lnTo>
                    <a:pt x="77238" y="411653"/>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1" name="任意多边形: 形状 33"/>
            <p:cNvSpPr/>
            <p:nvPr/>
          </p:nvSpPr>
          <p:spPr>
            <a:xfrm>
              <a:off x="9840240" y="461880"/>
              <a:ext cx="1782360" cy="356400"/>
            </a:xfrm>
            <a:custGeom>
              <a:avLst/>
              <a:gdLst>
                <a:gd name="textAreaLeft" fmla="*/ 0 w 1782360"/>
                <a:gd name="textAreaRight" fmla="*/ 1782720 w 1782360"/>
                <a:gd name="textAreaTop" fmla="*/ 0 h 356400"/>
                <a:gd name="textAreaBottom" fmla="*/ 356760 h 356400"/>
              </a:gdLst>
              <a:ahLst/>
              <a:rect l="textAreaLeft" t="textAreaTop" r="textAreaRight" b="textAreaBottom"/>
              <a:pathLst>
                <a:path w="1782413" h="356482">
                  <a:moveTo>
                    <a:pt x="1779867" y="241899"/>
                  </a:moveTo>
                  <a:cubicBezTo>
                    <a:pt x="1779867" y="306405"/>
                    <a:pt x="1727244" y="357331"/>
                    <a:pt x="1664434" y="357331"/>
                  </a:cubicBezTo>
                  <a:lnTo>
                    <a:pt x="128164" y="357331"/>
                  </a:lnTo>
                  <a:cubicBezTo>
                    <a:pt x="63658" y="357331"/>
                    <a:pt x="12732" y="304708"/>
                    <a:pt x="12732" y="241899"/>
                  </a:cubicBezTo>
                  <a:lnTo>
                    <a:pt x="12732" y="128164"/>
                  </a:lnTo>
                  <a:cubicBezTo>
                    <a:pt x="12732" y="63658"/>
                    <a:pt x="65355" y="12732"/>
                    <a:pt x="128164" y="12732"/>
                  </a:cubicBezTo>
                  <a:lnTo>
                    <a:pt x="1662737" y="12732"/>
                  </a:lnTo>
                  <a:cubicBezTo>
                    <a:pt x="1727244" y="12732"/>
                    <a:pt x="1778170" y="65355"/>
                    <a:pt x="1778170" y="128164"/>
                  </a:cubicBezTo>
                  <a:lnTo>
                    <a:pt x="1778170" y="241899"/>
                  </a:lnTo>
                  <a:lnTo>
                    <a:pt x="1779867" y="241899"/>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2" name="任意多边形: 形状 34"/>
            <p:cNvSpPr/>
            <p:nvPr/>
          </p:nvSpPr>
          <p:spPr>
            <a:xfrm>
              <a:off x="11371680" y="9658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85880" y="523690"/>
                  </a:moveTo>
                  <a:cubicBezTo>
                    <a:pt x="185880" y="571221"/>
                    <a:pt x="146837" y="610264"/>
                    <a:pt x="99306" y="610264"/>
                  </a:cubicBezTo>
                  <a:cubicBezTo>
                    <a:pt x="51775" y="610264"/>
                    <a:pt x="12732" y="571221"/>
                    <a:pt x="12732" y="523690"/>
                  </a:cubicBezTo>
                  <a:lnTo>
                    <a:pt x="12732" y="99306"/>
                  </a:lnTo>
                  <a:cubicBezTo>
                    <a:pt x="12732" y="51775"/>
                    <a:pt x="51775" y="12732"/>
                    <a:pt x="99306" y="12732"/>
                  </a:cubicBezTo>
                  <a:cubicBezTo>
                    <a:pt x="146837" y="12732"/>
                    <a:pt x="185880" y="51775"/>
                    <a:pt x="185880" y="99306"/>
                  </a:cubicBezTo>
                  <a:lnTo>
                    <a:pt x="185880" y="523690"/>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3" name="任意多边形: 形状 35"/>
            <p:cNvSpPr/>
            <p:nvPr/>
          </p:nvSpPr>
          <p:spPr>
            <a:xfrm>
              <a:off x="9899640" y="9658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85880" y="523690"/>
                  </a:moveTo>
                  <a:cubicBezTo>
                    <a:pt x="185880" y="571221"/>
                    <a:pt x="146837" y="610264"/>
                    <a:pt x="99305" y="610264"/>
                  </a:cubicBezTo>
                  <a:cubicBezTo>
                    <a:pt x="51775" y="610264"/>
                    <a:pt x="12732" y="571221"/>
                    <a:pt x="12732" y="523690"/>
                  </a:cubicBezTo>
                  <a:lnTo>
                    <a:pt x="12732" y="99306"/>
                  </a:lnTo>
                  <a:cubicBezTo>
                    <a:pt x="12732" y="51775"/>
                    <a:pt x="51775" y="12732"/>
                    <a:pt x="99305" y="12732"/>
                  </a:cubicBezTo>
                  <a:cubicBezTo>
                    <a:pt x="146837" y="12732"/>
                    <a:pt x="185880" y="51775"/>
                    <a:pt x="185880" y="99306"/>
                  </a:cubicBezTo>
                  <a:lnTo>
                    <a:pt x="185880" y="523690"/>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4" name="任意多边形: 形状 36"/>
            <p:cNvSpPr/>
            <p:nvPr/>
          </p:nvSpPr>
          <p:spPr>
            <a:xfrm>
              <a:off x="10115280" y="860760"/>
              <a:ext cx="1239120" cy="848880"/>
            </a:xfrm>
            <a:custGeom>
              <a:avLst/>
              <a:gdLst>
                <a:gd name="textAreaLeft" fmla="*/ 0 w 1239120"/>
                <a:gd name="textAreaRight" fmla="*/ 1239480 w 1239120"/>
                <a:gd name="textAreaTop" fmla="*/ 0 h 848880"/>
                <a:gd name="textAreaBottom" fmla="*/ 849240 h 848880"/>
              </a:gdLst>
              <a:ahLst/>
              <a:rect l="textAreaLeft" t="textAreaTop" r="textAreaRight" b="textAreaBottom"/>
              <a:pathLst>
                <a:path w="1239201" h="848768">
                  <a:moveTo>
                    <a:pt x="1229866" y="756253"/>
                  </a:moveTo>
                  <a:cubicBezTo>
                    <a:pt x="1229866" y="808876"/>
                    <a:pt x="1187427" y="849617"/>
                    <a:pt x="1136501" y="849617"/>
                  </a:cubicBezTo>
                  <a:lnTo>
                    <a:pt x="106096" y="849617"/>
                  </a:lnTo>
                  <a:cubicBezTo>
                    <a:pt x="53472" y="849617"/>
                    <a:pt x="12732" y="807179"/>
                    <a:pt x="12732" y="756253"/>
                  </a:cubicBezTo>
                  <a:lnTo>
                    <a:pt x="12732" y="106096"/>
                  </a:lnTo>
                  <a:cubicBezTo>
                    <a:pt x="12732" y="53472"/>
                    <a:pt x="55170" y="12732"/>
                    <a:pt x="106096" y="12732"/>
                  </a:cubicBezTo>
                  <a:lnTo>
                    <a:pt x="1136501" y="12732"/>
                  </a:lnTo>
                  <a:cubicBezTo>
                    <a:pt x="1189125" y="12732"/>
                    <a:pt x="1229866" y="55170"/>
                    <a:pt x="1229866" y="106096"/>
                  </a:cubicBezTo>
                  <a:lnTo>
                    <a:pt x="1229866" y="756253"/>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5" name="任意多边形: 形状 37"/>
            <p:cNvSpPr/>
            <p:nvPr/>
          </p:nvSpPr>
          <p:spPr>
            <a:xfrm>
              <a:off x="10220400" y="1385280"/>
              <a:ext cx="1035360" cy="933840"/>
            </a:xfrm>
            <a:custGeom>
              <a:avLst/>
              <a:gdLst>
                <a:gd name="textAreaLeft" fmla="*/ 0 w 1035360"/>
                <a:gd name="textAreaRight" fmla="*/ 1035720 w 1035360"/>
                <a:gd name="textAreaTop" fmla="*/ 0 h 933840"/>
                <a:gd name="textAreaBottom" fmla="*/ 934200 h 933840"/>
              </a:gdLst>
              <a:ahLst/>
              <a:rect l="textAreaLeft" t="textAreaTop" r="textAreaRight" b="textAreaBottom"/>
              <a:pathLst>
                <a:path w="1035497" h="933645">
                  <a:moveTo>
                    <a:pt x="12732" y="12732"/>
                  </a:moveTo>
                  <a:lnTo>
                    <a:pt x="158720" y="931099"/>
                  </a:lnTo>
                  <a:lnTo>
                    <a:pt x="876778" y="931099"/>
                  </a:lnTo>
                  <a:lnTo>
                    <a:pt x="1022766" y="12732"/>
                  </a:lnTo>
                  <a:lnTo>
                    <a:pt x="538968" y="12732"/>
                  </a:lnTo>
                  <a:lnTo>
                    <a:pt x="538968" y="101003"/>
                  </a:lnTo>
                  <a:lnTo>
                    <a:pt x="496529" y="94213"/>
                  </a:lnTo>
                  <a:lnTo>
                    <a:pt x="496529" y="12732"/>
                  </a:lnTo>
                  <a:lnTo>
                    <a:pt x="12732" y="12732"/>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6" name="任意多边形: 形状 38"/>
            <p:cNvSpPr/>
            <p:nvPr/>
          </p:nvSpPr>
          <p:spPr>
            <a:xfrm>
              <a:off x="8298720" y="635040"/>
              <a:ext cx="84600" cy="441360"/>
            </a:xfrm>
            <a:custGeom>
              <a:avLst/>
              <a:gdLst>
                <a:gd name="textAreaLeft" fmla="*/ 0 w 84600"/>
                <a:gd name="textAreaRight" fmla="*/ 84960 w 84600"/>
                <a:gd name="textAreaTop" fmla="*/ 0 h 441360"/>
                <a:gd name="textAreaBottom" fmla="*/ 441720 h 441360"/>
              </a:gdLst>
              <a:ahLst/>
              <a:rect l="textAreaLeft" t="textAreaTop" r="textAreaRight" b="textAreaBottom"/>
              <a:pathLst>
                <a:path w="84876" h="441359">
                  <a:moveTo>
                    <a:pt x="77238" y="411653"/>
                  </a:moveTo>
                  <a:cubicBezTo>
                    <a:pt x="77238" y="428628"/>
                    <a:pt x="63658" y="443906"/>
                    <a:pt x="44985" y="443906"/>
                  </a:cubicBezTo>
                  <a:cubicBezTo>
                    <a:pt x="28010" y="443906"/>
                    <a:pt x="12732" y="430326"/>
                    <a:pt x="12732" y="411653"/>
                  </a:cubicBezTo>
                  <a:lnTo>
                    <a:pt x="12732" y="44985"/>
                  </a:lnTo>
                  <a:cubicBezTo>
                    <a:pt x="12732" y="28009"/>
                    <a:pt x="26312" y="12732"/>
                    <a:pt x="44985" y="12732"/>
                  </a:cubicBezTo>
                  <a:cubicBezTo>
                    <a:pt x="61960" y="12732"/>
                    <a:pt x="77238" y="26312"/>
                    <a:pt x="77238" y="44985"/>
                  </a:cubicBezTo>
                  <a:lnTo>
                    <a:pt x="77238" y="411653"/>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7" name="任意多边形: 形状 39"/>
            <p:cNvSpPr/>
            <p:nvPr/>
          </p:nvSpPr>
          <p:spPr>
            <a:xfrm>
              <a:off x="8983080" y="635040"/>
              <a:ext cx="84600" cy="441360"/>
            </a:xfrm>
            <a:custGeom>
              <a:avLst/>
              <a:gdLst>
                <a:gd name="textAreaLeft" fmla="*/ 0 w 84600"/>
                <a:gd name="textAreaRight" fmla="*/ 84960 w 84600"/>
                <a:gd name="textAreaTop" fmla="*/ 0 h 441360"/>
                <a:gd name="textAreaBottom" fmla="*/ 441720 h 441360"/>
              </a:gdLst>
              <a:ahLst/>
              <a:rect l="textAreaLeft" t="textAreaTop" r="textAreaRight" b="textAreaBottom"/>
              <a:pathLst>
                <a:path w="84876" h="441359">
                  <a:moveTo>
                    <a:pt x="77238" y="411653"/>
                  </a:moveTo>
                  <a:cubicBezTo>
                    <a:pt x="77238" y="428628"/>
                    <a:pt x="63658" y="443906"/>
                    <a:pt x="44985" y="443906"/>
                  </a:cubicBezTo>
                  <a:cubicBezTo>
                    <a:pt x="28010" y="443906"/>
                    <a:pt x="12732" y="430326"/>
                    <a:pt x="12732" y="411653"/>
                  </a:cubicBezTo>
                  <a:lnTo>
                    <a:pt x="12732" y="44985"/>
                  </a:lnTo>
                  <a:cubicBezTo>
                    <a:pt x="12732" y="28009"/>
                    <a:pt x="26312" y="12732"/>
                    <a:pt x="44985" y="12732"/>
                  </a:cubicBezTo>
                  <a:cubicBezTo>
                    <a:pt x="61960" y="12732"/>
                    <a:pt x="77238" y="26312"/>
                    <a:pt x="77238" y="44985"/>
                  </a:cubicBezTo>
                  <a:lnTo>
                    <a:pt x="77238" y="411653"/>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8" name="任意多边形: 形状 40"/>
            <p:cNvSpPr/>
            <p:nvPr/>
          </p:nvSpPr>
          <p:spPr>
            <a:xfrm>
              <a:off x="7792920" y="461880"/>
              <a:ext cx="1782360" cy="356400"/>
            </a:xfrm>
            <a:custGeom>
              <a:avLst/>
              <a:gdLst>
                <a:gd name="textAreaLeft" fmla="*/ 0 w 1782360"/>
                <a:gd name="textAreaRight" fmla="*/ 1782720 w 1782360"/>
                <a:gd name="textAreaTop" fmla="*/ 0 h 356400"/>
                <a:gd name="textAreaBottom" fmla="*/ 356760 h 356400"/>
              </a:gdLst>
              <a:ahLst/>
              <a:rect l="textAreaLeft" t="textAreaTop" r="textAreaRight" b="textAreaBottom"/>
              <a:pathLst>
                <a:path w="1782413" h="356482">
                  <a:moveTo>
                    <a:pt x="1778170" y="241899"/>
                  </a:moveTo>
                  <a:cubicBezTo>
                    <a:pt x="1778170" y="306405"/>
                    <a:pt x="1725546" y="357331"/>
                    <a:pt x="1662737" y="357331"/>
                  </a:cubicBezTo>
                  <a:lnTo>
                    <a:pt x="128164" y="357331"/>
                  </a:lnTo>
                  <a:cubicBezTo>
                    <a:pt x="63658" y="357331"/>
                    <a:pt x="12732" y="304708"/>
                    <a:pt x="12732" y="241899"/>
                  </a:cubicBezTo>
                  <a:lnTo>
                    <a:pt x="12732" y="128164"/>
                  </a:lnTo>
                  <a:cubicBezTo>
                    <a:pt x="12732" y="63658"/>
                    <a:pt x="65355" y="12732"/>
                    <a:pt x="128164" y="12732"/>
                  </a:cubicBezTo>
                  <a:lnTo>
                    <a:pt x="1662737" y="12732"/>
                  </a:lnTo>
                  <a:cubicBezTo>
                    <a:pt x="1727244" y="12732"/>
                    <a:pt x="1778170" y="65355"/>
                    <a:pt x="1778170" y="128164"/>
                  </a:cubicBezTo>
                  <a:lnTo>
                    <a:pt x="1778170" y="241899"/>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49" name="任意多边形: 形状 41"/>
            <p:cNvSpPr/>
            <p:nvPr/>
          </p:nvSpPr>
          <p:spPr>
            <a:xfrm>
              <a:off x="9322560" y="9658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85880" y="523690"/>
                  </a:moveTo>
                  <a:cubicBezTo>
                    <a:pt x="185880" y="571221"/>
                    <a:pt x="146837" y="610264"/>
                    <a:pt x="99305" y="610264"/>
                  </a:cubicBezTo>
                  <a:cubicBezTo>
                    <a:pt x="51775" y="610264"/>
                    <a:pt x="12732" y="571221"/>
                    <a:pt x="12732" y="523690"/>
                  </a:cubicBezTo>
                  <a:lnTo>
                    <a:pt x="12732" y="99306"/>
                  </a:lnTo>
                  <a:cubicBezTo>
                    <a:pt x="12732" y="51775"/>
                    <a:pt x="51775" y="12732"/>
                    <a:pt x="99305" y="12732"/>
                  </a:cubicBezTo>
                  <a:cubicBezTo>
                    <a:pt x="146837" y="12732"/>
                    <a:pt x="185880" y="51775"/>
                    <a:pt x="185880" y="99306"/>
                  </a:cubicBezTo>
                  <a:lnTo>
                    <a:pt x="185880" y="523690"/>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0" name="任意多边形: 形状 42"/>
            <p:cNvSpPr/>
            <p:nvPr/>
          </p:nvSpPr>
          <p:spPr>
            <a:xfrm>
              <a:off x="7850520" y="965880"/>
              <a:ext cx="186480" cy="610920"/>
            </a:xfrm>
            <a:custGeom>
              <a:avLst/>
              <a:gdLst>
                <a:gd name="textAreaLeft" fmla="*/ 0 w 186480"/>
                <a:gd name="textAreaRight" fmla="*/ 186840 w 186480"/>
                <a:gd name="textAreaTop" fmla="*/ 0 h 610920"/>
                <a:gd name="textAreaBottom" fmla="*/ 611280 h 610920"/>
              </a:gdLst>
              <a:ahLst/>
              <a:rect l="textAreaLeft" t="textAreaTop" r="textAreaRight" b="textAreaBottom"/>
              <a:pathLst>
                <a:path w="186729" h="611113">
                  <a:moveTo>
                    <a:pt x="185880" y="523690"/>
                  </a:moveTo>
                  <a:cubicBezTo>
                    <a:pt x="185880" y="571221"/>
                    <a:pt x="146837" y="610264"/>
                    <a:pt x="99306" y="610264"/>
                  </a:cubicBezTo>
                  <a:cubicBezTo>
                    <a:pt x="51775" y="610264"/>
                    <a:pt x="12732" y="571221"/>
                    <a:pt x="12732" y="523690"/>
                  </a:cubicBezTo>
                  <a:lnTo>
                    <a:pt x="12732" y="99306"/>
                  </a:lnTo>
                  <a:cubicBezTo>
                    <a:pt x="12732" y="51775"/>
                    <a:pt x="51775" y="12732"/>
                    <a:pt x="99306" y="12732"/>
                  </a:cubicBezTo>
                  <a:cubicBezTo>
                    <a:pt x="146837" y="12732"/>
                    <a:pt x="185880" y="51775"/>
                    <a:pt x="185880" y="99306"/>
                  </a:cubicBezTo>
                  <a:lnTo>
                    <a:pt x="185880" y="523690"/>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1" name="任意多边形: 形状 43"/>
            <p:cNvSpPr/>
            <p:nvPr/>
          </p:nvSpPr>
          <p:spPr>
            <a:xfrm>
              <a:off x="8066160" y="860760"/>
              <a:ext cx="1239120" cy="848880"/>
            </a:xfrm>
            <a:custGeom>
              <a:avLst/>
              <a:gdLst>
                <a:gd name="textAreaLeft" fmla="*/ 0 w 1239120"/>
                <a:gd name="textAreaRight" fmla="*/ 1239480 w 1239120"/>
                <a:gd name="textAreaTop" fmla="*/ 0 h 848880"/>
                <a:gd name="textAreaBottom" fmla="*/ 849240 h 848880"/>
              </a:gdLst>
              <a:ahLst/>
              <a:rect l="textAreaLeft" t="textAreaTop" r="textAreaRight" b="textAreaBottom"/>
              <a:pathLst>
                <a:path w="1239201" h="848768">
                  <a:moveTo>
                    <a:pt x="1229865" y="756253"/>
                  </a:moveTo>
                  <a:cubicBezTo>
                    <a:pt x="1229865" y="808876"/>
                    <a:pt x="1187427" y="849617"/>
                    <a:pt x="1136501" y="849617"/>
                  </a:cubicBezTo>
                  <a:lnTo>
                    <a:pt x="106096" y="849617"/>
                  </a:lnTo>
                  <a:cubicBezTo>
                    <a:pt x="53473" y="849617"/>
                    <a:pt x="12732" y="807179"/>
                    <a:pt x="12732" y="756253"/>
                  </a:cubicBezTo>
                  <a:lnTo>
                    <a:pt x="12732" y="106096"/>
                  </a:lnTo>
                  <a:cubicBezTo>
                    <a:pt x="12732" y="53472"/>
                    <a:pt x="55170" y="12732"/>
                    <a:pt x="106096" y="12732"/>
                  </a:cubicBezTo>
                  <a:lnTo>
                    <a:pt x="1136501" y="12732"/>
                  </a:lnTo>
                  <a:cubicBezTo>
                    <a:pt x="1189125" y="12732"/>
                    <a:pt x="1229865" y="55170"/>
                    <a:pt x="1229865" y="106096"/>
                  </a:cubicBezTo>
                  <a:lnTo>
                    <a:pt x="1229865" y="756253"/>
                  </a:lnTo>
                  <a:close/>
                </a:path>
              </a:pathLst>
            </a:custGeom>
            <a:solidFill>
              <a:srgbClr val="82828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2" name="任意多边形: 形状 44"/>
            <p:cNvSpPr/>
            <p:nvPr/>
          </p:nvSpPr>
          <p:spPr>
            <a:xfrm>
              <a:off x="8193600" y="1365120"/>
              <a:ext cx="1035360" cy="933840"/>
            </a:xfrm>
            <a:custGeom>
              <a:avLst/>
              <a:gdLst>
                <a:gd name="textAreaLeft" fmla="*/ 0 w 1035360"/>
                <a:gd name="textAreaRight" fmla="*/ 1035720 w 1035360"/>
                <a:gd name="textAreaTop" fmla="*/ 0 h 933840"/>
                <a:gd name="textAreaBottom" fmla="*/ 934200 h 933840"/>
              </a:gdLst>
              <a:ahLst/>
              <a:rect l="textAreaLeft" t="textAreaTop" r="textAreaRight" b="textAreaBottom"/>
              <a:pathLst>
                <a:path w="1035497" h="933645">
                  <a:moveTo>
                    <a:pt x="12732" y="12732"/>
                  </a:moveTo>
                  <a:lnTo>
                    <a:pt x="158720" y="931099"/>
                  </a:lnTo>
                  <a:lnTo>
                    <a:pt x="496529" y="931099"/>
                  </a:lnTo>
                  <a:lnTo>
                    <a:pt x="496529" y="287732"/>
                  </a:lnTo>
                  <a:lnTo>
                    <a:pt x="538968" y="287732"/>
                  </a:lnTo>
                  <a:lnTo>
                    <a:pt x="538968" y="931099"/>
                  </a:lnTo>
                  <a:lnTo>
                    <a:pt x="876778" y="931099"/>
                  </a:lnTo>
                  <a:lnTo>
                    <a:pt x="1022766" y="12732"/>
                  </a:lnTo>
                  <a:lnTo>
                    <a:pt x="538968" y="12732"/>
                  </a:lnTo>
                  <a:lnTo>
                    <a:pt x="538968" y="101003"/>
                  </a:lnTo>
                  <a:lnTo>
                    <a:pt x="496529" y="94213"/>
                  </a:lnTo>
                  <a:lnTo>
                    <a:pt x="496529" y="12732"/>
                  </a:lnTo>
                  <a:lnTo>
                    <a:pt x="12732" y="12732"/>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3" name="任意多边形: 形状 45"/>
            <p:cNvSpPr/>
            <p:nvPr/>
          </p:nvSpPr>
          <p:spPr>
            <a:xfrm>
              <a:off x="0" y="2085840"/>
              <a:ext cx="12192120" cy="1303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2626"/>
                  </a:solidFill>
                  <a:latin typeface="造字工房尚雅（非商用）常规体"/>
                  <a:ea typeface="造字工房尚雅（非商用）常规体"/>
                </a:rPr>
                <a:t>二、个人所得税专项</a:t>
              </a:r>
              <a:endParaRPr b="0" lang="en-US" sz="36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造字工房尚雅（非商用）常规体"/>
                  <a:ea typeface="造字工房尚雅（非商用）常规体"/>
                </a:rPr>
                <a:t>         </a:t>
              </a:r>
              <a:r>
                <a:rPr b="1" lang="zh-CN" sz="3600" spc="-1" strike="noStrike">
                  <a:solidFill>
                    <a:srgbClr val="262626"/>
                  </a:solidFill>
                  <a:latin typeface="造字工房尚雅（非商用）常规体"/>
                  <a:ea typeface="造字工房尚雅（非商用）常规体"/>
                </a:rPr>
                <a:t>附加扣除项目</a:t>
              </a:r>
              <a:endParaRPr b="0" lang="en-US" sz="3600" spc="-1" strike="noStrike">
                <a:solidFill>
                  <a:srgbClr val="262626"/>
                </a:solidFill>
                <a:latin typeface="Arial"/>
              </a:endParaRPr>
            </a:p>
          </p:txBody>
        </p:sp>
        <p:sp>
          <p:nvSpPr>
            <p:cNvPr id="954" name="任意多边形: 形状 46"/>
            <p:cNvSpPr/>
            <p:nvPr/>
          </p:nvSpPr>
          <p:spPr>
            <a:xfrm>
              <a:off x="8538120" y="3755880"/>
              <a:ext cx="577080" cy="712800"/>
            </a:xfrm>
            <a:custGeom>
              <a:avLst/>
              <a:gdLst>
                <a:gd name="textAreaLeft" fmla="*/ 0 w 577080"/>
                <a:gd name="textAreaRight" fmla="*/ 577440 w 577080"/>
                <a:gd name="textAreaTop" fmla="*/ 0 h 712800"/>
                <a:gd name="textAreaBottom" fmla="*/ 713160 h 712800"/>
              </a:gdLst>
              <a:ahLst/>
              <a:rect l="textAreaLeft" t="textAreaTop" r="textAreaRight" b="textAreaBottom"/>
              <a:pathLst>
                <a:path w="577162" h="712965">
                  <a:moveTo>
                    <a:pt x="12732" y="12732"/>
                  </a:moveTo>
                  <a:lnTo>
                    <a:pt x="578011" y="12732"/>
                  </a:lnTo>
                  <a:lnTo>
                    <a:pt x="578011" y="701931"/>
                  </a:lnTo>
                  <a:lnTo>
                    <a:pt x="12732" y="701931"/>
                  </a:lnTo>
                  <a:lnTo>
                    <a:pt x="12732" y="127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5" name="任意多边形: 形状 47"/>
            <p:cNvSpPr/>
            <p:nvPr/>
          </p:nvSpPr>
          <p:spPr>
            <a:xfrm>
              <a:off x="8646840" y="3959640"/>
              <a:ext cx="50760" cy="203400"/>
            </a:xfrm>
            <a:custGeom>
              <a:avLst/>
              <a:gdLst>
                <a:gd name="textAreaLeft" fmla="*/ 0 w 50760"/>
                <a:gd name="textAreaRight" fmla="*/ 51120 w 50760"/>
                <a:gd name="textAreaTop" fmla="*/ 0 h 203400"/>
                <a:gd name="textAreaBottom" fmla="*/ 203760 h 203400"/>
              </a:gdLst>
              <a:ahLst/>
              <a:rect l="textAreaLeft" t="textAreaTop" r="textAreaRight" b="textAreaBottom"/>
              <a:pathLst>
                <a:path w="50926" h="203704">
                  <a:moveTo>
                    <a:pt x="12731" y="12732"/>
                  </a:moveTo>
                  <a:lnTo>
                    <a:pt x="51775" y="12732"/>
                  </a:lnTo>
                  <a:lnTo>
                    <a:pt x="51775" y="190973"/>
                  </a:lnTo>
                  <a:lnTo>
                    <a:pt x="12731" y="190973"/>
                  </a:lnTo>
                  <a:lnTo>
                    <a:pt x="12731" y="12732"/>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6" name="任意多边形: 形状 48"/>
            <p:cNvSpPr/>
            <p:nvPr/>
          </p:nvSpPr>
          <p:spPr>
            <a:xfrm>
              <a:off x="8723160" y="4034160"/>
              <a:ext cx="50760" cy="118800"/>
            </a:xfrm>
            <a:custGeom>
              <a:avLst/>
              <a:gdLst>
                <a:gd name="textAreaLeft" fmla="*/ 0 w 50760"/>
                <a:gd name="textAreaRight" fmla="*/ 51120 w 50760"/>
                <a:gd name="textAreaTop" fmla="*/ 0 h 118800"/>
                <a:gd name="textAreaBottom" fmla="*/ 119160 h 118800"/>
              </a:gdLst>
              <a:ahLst/>
              <a:rect l="textAreaLeft" t="textAreaTop" r="textAreaRight" b="textAreaBottom"/>
              <a:pathLst>
                <a:path w="50926" h="118827">
                  <a:moveTo>
                    <a:pt x="12731" y="12731"/>
                  </a:moveTo>
                  <a:lnTo>
                    <a:pt x="51775" y="12731"/>
                  </a:lnTo>
                  <a:lnTo>
                    <a:pt x="51775" y="116281"/>
                  </a:lnTo>
                  <a:lnTo>
                    <a:pt x="12731" y="116281"/>
                  </a:lnTo>
                  <a:lnTo>
                    <a:pt x="12731" y="12731"/>
                  </a:ln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7" name="任意多边形: 形状 49"/>
            <p:cNvSpPr/>
            <p:nvPr/>
          </p:nvSpPr>
          <p:spPr>
            <a:xfrm>
              <a:off x="8801280" y="3896640"/>
              <a:ext cx="50760" cy="254520"/>
            </a:xfrm>
            <a:custGeom>
              <a:avLst/>
              <a:gdLst>
                <a:gd name="textAreaLeft" fmla="*/ 0 w 50760"/>
                <a:gd name="textAreaRight" fmla="*/ 51120 w 50760"/>
                <a:gd name="textAreaTop" fmla="*/ 0 h 254520"/>
                <a:gd name="textAreaBottom" fmla="*/ 254880 h 254520"/>
              </a:gdLst>
              <a:ahLst/>
              <a:rect l="textAreaLeft" t="textAreaTop" r="textAreaRight" b="textAreaBottom"/>
              <a:pathLst>
                <a:path w="50926" h="254630">
                  <a:moveTo>
                    <a:pt x="12732" y="12732"/>
                  </a:moveTo>
                  <a:lnTo>
                    <a:pt x="51775" y="12732"/>
                  </a:lnTo>
                  <a:lnTo>
                    <a:pt x="51775" y="253782"/>
                  </a:lnTo>
                  <a:lnTo>
                    <a:pt x="12732" y="253782"/>
                  </a:lnTo>
                  <a:lnTo>
                    <a:pt x="12732" y="12732"/>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8" name="任意多边形: 形状 50"/>
            <p:cNvSpPr/>
            <p:nvPr/>
          </p:nvSpPr>
          <p:spPr>
            <a:xfrm>
              <a:off x="8877600" y="3974760"/>
              <a:ext cx="50760" cy="186480"/>
            </a:xfrm>
            <a:custGeom>
              <a:avLst/>
              <a:gdLst>
                <a:gd name="textAreaLeft" fmla="*/ 0 w 50760"/>
                <a:gd name="textAreaRight" fmla="*/ 51120 w 50760"/>
                <a:gd name="textAreaTop" fmla="*/ 0 h 186480"/>
                <a:gd name="textAreaBottom" fmla="*/ 186840 h 186480"/>
              </a:gdLst>
              <a:ahLst/>
              <a:rect l="textAreaLeft" t="textAreaTop" r="textAreaRight" b="textAreaBottom"/>
              <a:pathLst>
                <a:path w="50926" h="186729">
                  <a:moveTo>
                    <a:pt x="12732" y="12731"/>
                  </a:moveTo>
                  <a:lnTo>
                    <a:pt x="51775" y="12731"/>
                  </a:lnTo>
                  <a:lnTo>
                    <a:pt x="51775" y="175695"/>
                  </a:lnTo>
                  <a:lnTo>
                    <a:pt x="12732" y="175695"/>
                  </a:lnTo>
                  <a:lnTo>
                    <a:pt x="12732" y="12731"/>
                  </a:lnTo>
                  <a:close/>
                </a:path>
              </a:pathLst>
            </a:custGeom>
            <a:solidFill>
              <a:srgbClr val="8dac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59" name="任意多边形: 形状 51"/>
            <p:cNvSpPr/>
            <p:nvPr/>
          </p:nvSpPr>
          <p:spPr>
            <a:xfrm>
              <a:off x="8954280" y="3896640"/>
              <a:ext cx="50760" cy="254520"/>
            </a:xfrm>
            <a:custGeom>
              <a:avLst/>
              <a:gdLst>
                <a:gd name="textAreaLeft" fmla="*/ 0 w 50760"/>
                <a:gd name="textAreaRight" fmla="*/ 51120 w 50760"/>
                <a:gd name="textAreaTop" fmla="*/ 0 h 254520"/>
                <a:gd name="textAreaBottom" fmla="*/ 254880 h 254520"/>
              </a:gdLst>
              <a:ahLst/>
              <a:rect l="textAreaLeft" t="textAreaTop" r="textAreaRight" b="textAreaBottom"/>
              <a:pathLst>
                <a:path w="50926" h="254630">
                  <a:moveTo>
                    <a:pt x="12732" y="12732"/>
                  </a:moveTo>
                  <a:lnTo>
                    <a:pt x="51775" y="12732"/>
                  </a:lnTo>
                  <a:lnTo>
                    <a:pt x="51775" y="253782"/>
                  </a:lnTo>
                  <a:lnTo>
                    <a:pt x="12732" y="253782"/>
                  </a:lnTo>
                  <a:lnTo>
                    <a:pt x="12732" y="12732"/>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60" name="任意多边形: 形状 52"/>
            <p:cNvSpPr/>
            <p:nvPr/>
          </p:nvSpPr>
          <p:spPr>
            <a:xfrm>
              <a:off x="8614440" y="4152960"/>
              <a:ext cx="424080" cy="16920"/>
            </a:xfrm>
            <a:custGeom>
              <a:avLst/>
              <a:gdLst>
                <a:gd name="textAreaLeft" fmla="*/ 0 w 424080"/>
                <a:gd name="textAreaRight" fmla="*/ 424440 w 424080"/>
                <a:gd name="textAreaTop" fmla="*/ 0 h 16920"/>
                <a:gd name="textAreaBottom" fmla="*/ 17280 h 16920"/>
              </a:gdLst>
              <a:ahLst/>
              <a:rect l="textAreaLeft" t="textAreaTop" r="textAreaRight" b="textAreaBottom"/>
              <a:pathLst>
                <a:path w="424384" h="16975">
                  <a:moveTo>
                    <a:pt x="12732" y="12731"/>
                  </a:moveTo>
                  <a:lnTo>
                    <a:pt x="425233" y="12731"/>
                  </a:lnTo>
                </a:path>
              </a:pathLst>
            </a:custGeom>
            <a:noFill/>
            <a:ln w="9360">
              <a:solidFill>
                <a:srgbClr val="d1d7d1"/>
              </a:solidFill>
              <a:miter/>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961" name="任意多边形: 形状 53"/>
            <p:cNvSpPr/>
            <p:nvPr/>
          </p:nvSpPr>
          <p:spPr>
            <a:xfrm>
              <a:off x="10017000" y="2166480"/>
              <a:ext cx="577080" cy="712800"/>
            </a:xfrm>
            <a:custGeom>
              <a:avLst/>
              <a:gdLst>
                <a:gd name="textAreaLeft" fmla="*/ 0 w 577080"/>
                <a:gd name="textAreaRight" fmla="*/ 577440 w 577080"/>
                <a:gd name="textAreaTop" fmla="*/ 0 h 712800"/>
                <a:gd name="textAreaBottom" fmla="*/ 713160 h 712800"/>
              </a:gdLst>
              <a:ahLst/>
              <a:rect l="textAreaLeft" t="textAreaTop" r="textAreaRight" b="textAreaBottom"/>
              <a:pathLst>
                <a:path w="577162" h="712965">
                  <a:moveTo>
                    <a:pt x="12732" y="12732"/>
                  </a:moveTo>
                  <a:lnTo>
                    <a:pt x="578011" y="12732"/>
                  </a:lnTo>
                  <a:lnTo>
                    <a:pt x="578011" y="701931"/>
                  </a:lnTo>
                  <a:lnTo>
                    <a:pt x="12732" y="701931"/>
                  </a:lnTo>
                  <a:lnTo>
                    <a:pt x="12732" y="127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62" name="任意多边形: 形状 54"/>
            <p:cNvSpPr/>
            <p:nvPr/>
          </p:nvSpPr>
          <p:spPr>
            <a:xfrm>
              <a:off x="10434600" y="2473920"/>
              <a:ext cx="50760" cy="203400"/>
            </a:xfrm>
            <a:custGeom>
              <a:avLst/>
              <a:gdLst>
                <a:gd name="textAreaLeft" fmla="*/ 0 w 50760"/>
                <a:gd name="textAreaRight" fmla="*/ 51120 w 50760"/>
                <a:gd name="textAreaTop" fmla="*/ 0 h 203400"/>
                <a:gd name="textAreaBottom" fmla="*/ 203760 h 203400"/>
              </a:gdLst>
              <a:ahLst/>
              <a:rect l="textAreaLeft" t="textAreaTop" r="textAreaRight" b="textAreaBottom"/>
              <a:pathLst>
                <a:path w="50926" h="203704">
                  <a:moveTo>
                    <a:pt x="12732" y="12732"/>
                  </a:moveTo>
                  <a:lnTo>
                    <a:pt x="51775" y="12732"/>
                  </a:lnTo>
                  <a:lnTo>
                    <a:pt x="51775" y="190973"/>
                  </a:lnTo>
                  <a:lnTo>
                    <a:pt x="12732" y="190973"/>
                  </a:lnTo>
                  <a:lnTo>
                    <a:pt x="12732" y="12732"/>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63" name="任意多边形: 形状 55"/>
            <p:cNvSpPr/>
            <p:nvPr/>
          </p:nvSpPr>
          <p:spPr>
            <a:xfrm>
              <a:off x="10356480" y="2473920"/>
              <a:ext cx="50760" cy="118800"/>
            </a:xfrm>
            <a:custGeom>
              <a:avLst/>
              <a:gdLst>
                <a:gd name="textAreaLeft" fmla="*/ 0 w 50760"/>
                <a:gd name="textAreaRight" fmla="*/ 51120 w 50760"/>
                <a:gd name="textAreaTop" fmla="*/ 0 h 118800"/>
                <a:gd name="textAreaBottom" fmla="*/ 119160 h 118800"/>
              </a:gdLst>
              <a:ahLst/>
              <a:rect l="textAreaLeft" t="textAreaTop" r="textAreaRight" b="textAreaBottom"/>
              <a:pathLst>
                <a:path w="50926" h="118827">
                  <a:moveTo>
                    <a:pt x="12732" y="12732"/>
                  </a:moveTo>
                  <a:lnTo>
                    <a:pt x="51775" y="12732"/>
                  </a:lnTo>
                  <a:lnTo>
                    <a:pt x="51775" y="116281"/>
                  </a:lnTo>
                  <a:lnTo>
                    <a:pt x="12732" y="116281"/>
                  </a:lnTo>
                  <a:lnTo>
                    <a:pt x="12732" y="12732"/>
                  </a:ln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64" name="任意多边形: 形状 56"/>
            <p:cNvSpPr/>
            <p:nvPr/>
          </p:nvSpPr>
          <p:spPr>
            <a:xfrm>
              <a:off x="10279800" y="2473920"/>
              <a:ext cx="50760" cy="254520"/>
            </a:xfrm>
            <a:custGeom>
              <a:avLst/>
              <a:gdLst>
                <a:gd name="textAreaLeft" fmla="*/ 0 w 50760"/>
                <a:gd name="textAreaRight" fmla="*/ 51120 w 50760"/>
                <a:gd name="textAreaTop" fmla="*/ 0 h 254520"/>
                <a:gd name="textAreaBottom" fmla="*/ 254880 h 254520"/>
              </a:gdLst>
              <a:ahLst/>
              <a:rect l="textAreaLeft" t="textAreaTop" r="textAreaRight" b="textAreaBottom"/>
              <a:pathLst>
                <a:path w="50926" h="254630">
                  <a:moveTo>
                    <a:pt x="12732" y="12732"/>
                  </a:moveTo>
                  <a:lnTo>
                    <a:pt x="51775" y="12732"/>
                  </a:lnTo>
                  <a:lnTo>
                    <a:pt x="51775" y="253782"/>
                  </a:lnTo>
                  <a:lnTo>
                    <a:pt x="12732" y="253782"/>
                  </a:lnTo>
                  <a:lnTo>
                    <a:pt x="12732" y="12732"/>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65" name="任意多边形: 形状 57"/>
            <p:cNvSpPr/>
            <p:nvPr/>
          </p:nvSpPr>
          <p:spPr>
            <a:xfrm>
              <a:off x="10201680" y="2473920"/>
              <a:ext cx="50760" cy="186480"/>
            </a:xfrm>
            <a:custGeom>
              <a:avLst/>
              <a:gdLst>
                <a:gd name="textAreaLeft" fmla="*/ 0 w 50760"/>
                <a:gd name="textAreaRight" fmla="*/ 51120 w 50760"/>
                <a:gd name="textAreaTop" fmla="*/ 0 h 186480"/>
                <a:gd name="textAreaBottom" fmla="*/ 186840 h 186480"/>
              </a:gdLst>
              <a:ahLst/>
              <a:rect l="textAreaLeft" t="textAreaTop" r="textAreaRight" b="textAreaBottom"/>
              <a:pathLst>
                <a:path w="50926" h="186729">
                  <a:moveTo>
                    <a:pt x="12732" y="12732"/>
                  </a:moveTo>
                  <a:lnTo>
                    <a:pt x="51775" y="12732"/>
                  </a:lnTo>
                  <a:lnTo>
                    <a:pt x="51775" y="175695"/>
                  </a:lnTo>
                  <a:lnTo>
                    <a:pt x="12732" y="175695"/>
                  </a:lnTo>
                  <a:lnTo>
                    <a:pt x="12732" y="12732"/>
                  </a:lnTo>
                  <a:close/>
                </a:path>
              </a:pathLst>
            </a:custGeom>
            <a:solidFill>
              <a:srgbClr val="8dac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66" name="任意多边形: 形状 58"/>
            <p:cNvSpPr/>
            <p:nvPr/>
          </p:nvSpPr>
          <p:spPr>
            <a:xfrm>
              <a:off x="10125360" y="2473920"/>
              <a:ext cx="50760" cy="254520"/>
            </a:xfrm>
            <a:custGeom>
              <a:avLst/>
              <a:gdLst>
                <a:gd name="textAreaLeft" fmla="*/ 0 w 50760"/>
                <a:gd name="textAreaRight" fmla="*/ 51120 w 50760"/>
                <a:gd name="textAreaTop" fmla="*/ 0 h 254520"/>
                <a:gd name="textAreaBottom" fmla="*/ 254880 h 254520"/>
              </a:gdLst>
              <a:ahLst/>
              <a:rect l="textAreaLeft" t="textAreaTop" r="textAreaRight" b="textAreaBottom"/>
              <a:pathLst>
                <a:path w="50926" h="254630">
                  <a:moveTo>
                    <a:pt x="12732" y="12732"/>
                  </a:moveTo>
                  <a:lnTo>
                    <a:pt x="51775" y="12732"/>
                  </a:lnTo>
                  <a:lnTo>
                    <a:pt x="51775" y="253782"/>
                  </a:lnTo>
                  <a:lnTo>
                    <a:pt x="12732" y="253782"/>
                  </a:lnTo>
                  <a:lnTo>
                    <a:pt x="12732" y="12732"/>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67" name="任意多边形: 形状 59"/>
            <p:cNvSpPr/>
            <p:nvPr/>
          </p:nvSpPr>
          <p:spPr>
            <a:xfrm>
              <a:off x="10093320" y="2458440"/>
              <a:ext cx="424080" cy="16920"/>
            </a:xfrm>
            <a:custGeom>
              <a:avLst/>
              <a:gdLst>
                <a:gd name="textAreaLeft" fmla="*/ 0 w 424080"/>
                <a:gd name="textAreaRight" fmla="*/ 424440 w 424080"/>
                <a:gd name="textAreaTop" fmla="*/ 0 h 16920"/>
                <a:gd name="textAreaBottom" fmla="*/ 17280 h 16920"/>
              </a:gdLst>
              <a:ahLst/>
              <a:rect l="textAreaLeft" t="textAreaTop" r="textAreaRight" b="textAreaBottom"/>
              <a:pathLst>
                <a:path w="424384" h="16975">
                  <a:moveTo>
                    <a:pt x="425233" y="12731"/>
                  </a:moveTo>
                  <a:lnTo>
                    <a:pt x="12732" y="12731"/>
                  </a:lnTo>
                </a:path>
              </a:pathLst>
            </a:custGeom>
            <a:noFill/>
            <a:ln w="9360">
              <a:solidFill>
                <a:srgbClr val="d1d7d1"/>
              </a:solidFill>
              <a:miter/>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968" name="任意多边形: 形状 60"/>
            <p:cNvSpPr/>
            <p:nvPr/>
          </p:nvSpPr>
          <p:spPr>
            <a:xfrm>
              <a:off x="8546760" y="2037600"/>
              <a:ext cx="577080" cy="712800"/>
            </a:xfrm>
            <a:custGeom>
              <a:avLst/>
              <a:gdLst>
                <a:gd name="textAreaLeft" fmla="*/ 0 w 577080"/>
                <a:gd name="textAreaRight" fmla="*/ 577440 w 577080"/>
                <a:gd name="textAreaTop" fmla="*/ 0 h 712800"/>
                <a:gd name="textAreaBottom" fmla="*/ 713160 h 712800"/>
              </a:gdLst>
              <a:ahLst/>
              <a:rect l="textAreaLeft" t="textAreaTop" r="textAreaRight" b="textAreaBottom"/>
              <a:pathLst>
                <a:path w="577162" h="712965">
                  <a:moveTo>
                    <a:pt x="12732" y="12732"/>
                  </a:moveTo>
                  <a:lnTo>
                    <a:pt x="578011" y="12732"/>
                  </a:lnTo>
                  <a:lnTo>
                    <a:pt x="578011" y="701932"/>
                  </a:lnTo>
                  <a:lnTo>
                    <a:pt x="12732" y="701932"/>
                  </a:lnTo>
                  <a:lnTo>
                    <a:pt x="12732" y="127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69" name="任意多边形: 形状 61"/>
            <p:cNvSpPr/>
            <p:nvPr/>
          </p:nvSpPr>
          <p:spPr>
            <a:xfrm>
              <a:off x="8964360" y="2344680"/>
              <a:ext cx="50760" cy="203400"/>
            </a:xfrm>
            <a:custGeom>
              <a:avLst/>
              <a:gdLst>
                <a:gd name="textAreaLeft" fmla="*/ 0 w 50760"/>
                <a:gd name="textAreaRight" fmla="*/ 51120 w 50760"/>
                <a:gd name="textAreaTop" fmla="*/ 0 h 203400"/>
                <a:gd name="textAreaBottom" fmla="*/ 203760 h 203400"/>
              </a:gdLst>
              <a:ahLst/>
              <a:rect l="textAreaLeft" t="textAreaTop" r="textAreaRight" b="textAreaBottom"/>
              <a:pathLst>
                <a:path w="50926" h="203704">
                  <a:moveTo>
                    <a:pt x="12732" y="12732"/>
                  </a:moveTo>
                  <a:lnTo>
                    <a:pt x="51775" y="12732"/>
                  </a:lnTo>
                  <a:lnTo>
                    <a:pt x="51775" y="190973"/>
                  </a:lnTo>
                  <a:lnTo>
                    <a:pt x="12732" y="190973"/>
                  </a:lnTo>
                  <a:lnTo>
                    <a:pt x="12732" y="12732"/>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0" name="任意多边形: 形状 62"/>
            <p:cNvSpPr/>
            <p:nvPr/>
          </p:nvSpPr>
          <p:spPr>
            <a:xfrm>
              <a:off x="8886240" y="2344680"/>
              <a:ext cx="50760" cy="118800"/>
            </a:xfrm>
            <a:custGeom>
              <a:avLst/>
              <a:gdLst>
                <a:gd name="textAreaLeft" fmla="*/ 0 w 50760"/>
                <a:gd name="textAreaRight" fmla="*/ 51120 w 50760"/>
                <a:gd name="textAreaTop" fmla="*/ 0 h 118800"/>
                <a:gd name="textAreaBottom" fmla="*/ 119160 h 118800"/>
              </a:gdLst>
              <a:ahLst/>
              <a:rect l="textAreaLeft" t="textAreaTop" r="textAreaRight" b="textAreaBottom"/>
              <a:pathLst>
                <a:path w="50926" h="118827">
                  <a:moveTo>
                    <a:pt x="12732" y="12732"/>
                  </a:moveTo>
                  <a:lnTo>
                    <a:pt x="51775" y="12732"/>
                  </a:lnTo>
                  <a:lnTo>
                    <a:pt x="51775" y="116281"/>
                  </a:lnTo>
                  <a:lnTo>
                    <a:pt x="12732" y="116281"/>
                  </a:lnTo>
                  <a:lnTo>
                    <a:pt x="12732" y="12732"/>
                  </a:ln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1" name="任意多边形: 形状 63"/>
            <p:cNvSpPr/>
            <p:nvPr/>
          </p:nvSpPr>
          <p:spPr>
            <a:xfrm>
              <a:off x="8809920" y="2344680"/>
              <a:ext cx="50760" cy="254520"/>
            </a:xfrm>
            <a:custGeom>
              <a:avLst/>
              <a:gdLst>
                <a:gd name="textAreaLeft" fmla="*/ 0 w 50760"/>
                <a:gd name="textAreaRight" fmla="*/ 51120 w 50760"/>
                <a:gd name="textAreaTop" fmla="*/ 0 h 254520"/>
                <a:gd name="textAreaBottom" fmla="*/ 254880 h 254520"/>
              </a:gdLst>
              <a:ahLst/>
              <a:rect l="textAreaLeft" t="textAreaTop" r="textAreaRight" b="textAreaBottom"/>
              <a:pathLst>
                <a:path w="50926" h="254630">
                  <a:moveTo>
                    <a:pt x="12732" y="12732"/>
                  </a:moveTo>
                  <a:lnTo>
                    <a:pt x="51775" y="12732"/>
                  </a:lnTo>
                  <a:lnTo>
                    <a:pt x="51775" y="253782"/>
                  </a:lnTo>
                  <a:lnTo>
                    <a:pt x="12732" y="253782"/>
                  </a:lnTo>
                  <a:lnTo>
                    <a:pt x="12732" y="12732"/>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2" name="任意多边形: 形状 64"/>
            <p:cNvSpPr/>
            <p:nvPr/>
          </p:nvSpPr>
          <p:spPr>
            <a:xfrm>
              <a:off x="8733600" y="2344680"/>
              <a:ext cx="50760" cy="186480"/>
            </a:xfrm>
            <a:custGeom>
              <a:avLst/>
              <a:gdLst>
                <a:gd name="textAreaLeft" fmla="*/ 0 w 50760"/>
                <a:gd name="textAreaRight" fmla="*/ 51120 w 50760"/>
                <a:gd name="textAreaTop" fmla="*/ 0 h 186480"/>
                <a:gd name="textAreaBottom" fmla="*/ 186840 h 186480"/>
              </a:gdLst>
              <a:ahLst/>
              <a:rect l="textAreaLeft" t="textAreaTop" r="textAreaRight" b="textAreaBottom"/>
              <a:pathLst>
                <a:path w="50926" h="186729">
                  <a:moveTo>
                    <a:pt x="12732" y="12732"/>
                  </a:moveTo>
                  <a:lnTo>
                    <a:pt x="51775" y="12732"/>
                  </a:lnTo>
                  <a:lnTo>
                    <a:pt x="51775" y="175695"/>
                  </a:lnTo>
                  <a:lnTo>
                    <a:pt x="12732" y="175695"/>
                  </a:lnTo>
                  <a:lnTo>
                    <a:pt x="12732" y="12732"/>
                  </a:lnTo>
                  <a:close/>
                </a:path>
              </a:pathLst>
            </a:custGeom>
            <a:solidFill>
              <a:srgbClr val="8dac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3" name="任意多边形: 形状 65"/>
            <p:cNvSpPr/>
            <p:nvPr/>
          </p:nvSpPr>
          <p:spPr>
            <a:xfrm>
              <a:off x="8655480" y="2344680"/>
              <a:ext cx="50760" cy="254520"/>
            </a:xfrm>
            <a:custGeom>
              <a:avLst/>
              <a:gdLst>
                <a:gd name="textAreaLeft" fmla="*/ 0 w 50760"/>
                <a:gd name="textAreaRight" fmla="*/ 51120 w 50760"/>
                <a:gd name="textAreaTop" fmla="*/ 0 h 254520"/>
                <a:gd name="textAreaBottom" fmla="*/ 254880 h 254520"/>
              </a:gdLst>
              <a:ahLst/>
              <a:rect l="textAreaLeft" t="textAreaTop" r="textAreaRight" b="textAreaBottom"/>
              <a:pathLst>
                <a:path w="50926" h="254630">
                  <a:moveTo>
                    <a:pt x="12731" y="12732"/>
                  </a:moveTo>
                  <a:lnTo>
                    <a:pt x="51775" y="12732"/>
                  </a:lnTo>
                  <a:lnTo>
                    <a:pt x="51775" y="253782"/>
                  </a:lnTo>
                  <a:lnTo>
                    <a:pt x="12731" y="253782"/>
                  </a:lnTo>
                  <a:lnTo>
                    <a:pt x="12731" y="12732"/>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4" name="任意多边形: 形状 66"/>
            <p:cNvSpPr/>
            <p:nvPr/>
          </p:nvSpPr>
          <p:spPr>
            <a:xfrm>
              <a:off x="8623080" y="2329560"/>
              <a:ext cx="424080" cy="16920"/>
            </a:xfrm>
            <a:custGeom>
              <a:avLst/>
              <a:gdLst>
                <a:gd name="textAreaLeft" fmla="*/ 0 w 424080"/>
                <a:gd name="textAreaRight" fmla="*/ 424440 w 424080"/>
                <a:gd name="textAreaTop" fmla="*/ 0 h 16920"/>
                <a:gd name="textAreaBottom" fmla="*/ 17280 h 16920"/>
              </a:gdLst>
              <a:ahLst/>
              <a:rect l="textAreaLeft" t="textAreaTop" r="textAreaRight" b="textAreaBottom"/>
              <a:pathLst>
                <a:path w="424384" h="16975">
                  <a:moveTo>
                    <a:pt x="425233" y="12732"/>
                  </a:moveTo>
                  <a:lnTo>
                    <a:pt x="12732" y="12732"/>
                  </a:lnTo>
                </a:path>
              </a:pathLst>
            </a:custGeom>
            <a:noFill/>
            <a:ln w="9360">
              <a:solidFill>
                <a:srgbClr val="d1d7d1"/>
              </a:solidFill>
              <a:miter/>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975" name="任意多边形: 形状 67"/>
            <p:cNvSpPr/>
            <p:nvPr/>
          </p:nvSpPr>
          <p:spPr>
            <a:xfrm>
              <a:off x="6847560" y="2113920"/>
              <a:ext cx="577080" cy="712800"/>
            </a:xfrm>
            <a:custGeom>
              <a:avLst/>
              <a:gdLst>
                <a:gd name="textAreaLeft" fmla="*/ 0 w 577080"/>
                <a:gd name="textAreaRight" fmla="*/ 577440 w 577080"/>
                <a:gd name="textAreaTop" fmla="*/ 0 h 712800"/>
                <a:gd name="textAreaBottom" fmla="*/ 713160 h 712800"/>
              </a:gdLst>
              <a:ahLst/>
              <a:rect l="textAreaLeft" t="textAreaTop" r="textAreaRight" b="textAreaBottom"/>
              <a:pathLst>
                <a:path w="577162" h="712965">
                  <a:moveTo>
                    <a:pt x="12732" y="12732"/>
                  </a:moveTo>
                  <a:lnTo>
                    <a:pt x="578011" y="12732"/>
                  </a:lnTo>
                  <a:lnTo>
                    <a:pt x="578011" y="701932"/>
                  </a:lnTo>
                  <a:lnTo>
                    <a:pt x="12731" y="701932"/>
                  </a:lnTo>
                  <a:lnTo>
                    <a:pt x="12732" y="127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6" name="任意多边形: 形状 68"/>
            <p:cNvSpPr/>
            <p:nvPr/>
          </p:nvSpPr>
          <p:spPr>
            <a:xfrm>
              <a:off x="7265160" y="2421000"/>
              <a:ext cx="50760" cy="203400"/>
            </a:xfrm>
            <a:custGeom>
              <a:avLst/>
              <a:gdLst>
                <a:gd name="textAreaLeft" fmla="*/ 0 w 50760"/>
                <a:gd name="textAreaRight" fmla="*/ 51120 w 50760"/>
                <a:gd name="textAreaTop" fmla="*/ 0 h 203400"/>
                <a:gd name="textAreaBottom" fmla="*/ 203760 h 203400"/>
              </a:gdLst>
              <a:ahLst/>
              <a:rect l="textAreaLeft" t="textAreaTop" r="textAreaRight" b="textAreaBottom"/>
              <a:pathLst>
                <a:path w="50926" h="203704">
                  <a:moveTo>
                    <a:pt x="12732" y="12732"/>
                  </a:moveTo>
                  <a:lnTo>
                    <a:pt x="51775" y="12732"/>
                  </a:lnTo>
                  <a:lnTo>
                    <a:pt x="51775" y="190973"/>
                  </a:lnTo>
                  <a:lnTo>
                    <a:pt x="12732" y="190973"/>
                  </a:lnTo>
                  <a:lnTo>
                    <a:pt x="12732" y="12732"/>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7" name="任意多边形: 形状 69"/>
            <p:cNvSpPr/>
            <p:nvPr/>
          </p:nvSpPr>
          <p:spPr>
            <a:xfrm>
              <a:off x="7187040" y="2421000"/>
              <a:ext cx="50760" cy="118800"/>
            </a:xfrm>
            <a:custGeom>
              <a:avLst/>
              <a:gdLst>
                <a:gd name="textAreaLeft" fmla="*/ 0 w 50760"/>
                <a:gd name="textAreaRight" fmla="*/ 51120 w 50760"/>
                <a:gd name="textAreaTop" fmla="*/ 0 h 118800"/>
                <a:gd name="textAreaBottom" fmla="*/ 119160 h 118800"/>
              </a:gdLst>
              <a:ahLst/>
              <a:rect l="textAreaLeft" t="textAreaTop" r="textAreaRight" b="textAreaBottom"/>
              <a:pathLst>
                <a:path w="50926" h="118827">
                  <a:moveTo>
                    <a:pt x="12731" y="12732"/>
                  </a:moveTo>
                  <a:lnTo>
                    <a:pt x="51775" y="12732"/>
                  </a:lnTo>
                  <a:lnTo>
                    <a:pt x="51775" y="116281"/>
                  </a:lnTo>
                  <a:lnTo>
                    <a:pt x="12731" y="116281"/>
                  </a:lnTo>
                  <a:lnTo>
                    <a:pt x="12731" y="12732"/>
                  </a:ln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8" name="任意多边形: 形状 70"/>
            <p:cNvSpPr/>
            <p:nvPr/>
          </p:nvSpPr>
          <p:spPr>
            <a:xfrm>
              <a:off x="7110360" y="2421000"/>
              <a:ext cx="50760" cy="254520"/>
            </a:xfrm>
            <a:custGeom>
              <a:avLst/>
              <a:gdLst>
                <a:gd name="textAreaLeft" fmla="*/ 0 w 50760"/>
                <a:gd name="textAreaRight" fmla="*/ 51120 w 50760"/>
                <a:gd name="textAreaTop" fmla="*/ 0 h 254520"/>
                <a:gd name="textAreaBottom" fmla="*/ 254880 h 254520"/>
              </a:gdLst>
              <a:ahLst/>
              <a:rect l="textAreaLeft" t="textAreaTop" r="textAreaRight" b="textAreaBottom"/>
              <a:pathLst>
                <a:path w="50926" h="254630">
                  <a:moveTo>
                    <a:pt x="12731" y="12732"/>
                  </a:moveTo>
                  <a:lnTo>
                    <a:pt x="51775" y="12732"/>
                  </a:lnTo>
                  <a:lnTo>
                    <a:pt x="51775" y="253782"/>
                  </a:lnTo>
                  <a:lnTo>
                    <a:pt x="12731" y="253782"/>
                  </a:lnTo>
                  <a:lnTo>
                    <a:pt x="12731" y="12732"/>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79" name="任意多边形: 形状 71"/>
            <p:cNvSpPr/>
            <p:nvPr/>
          </p:nvSpPr>
          <p:spPr>
            <a:xfrm>
              <a:off x="7032600" y="2421000"/>
              <a:ext cx="50760" cy="186480"/>
            </a:xfrm>
            <a:custGeom>
              <a:avLst/>
              <a:gdLst>
                <a:gd name="textAreaLeft" fmla="*/ 0 w 50760"/>
                <a:gd name="textAreaRight" fmla="*/ 51120 w 50760"/>
                <a:gd name="textAreaTop" fmla="*/ 0 h 186480"/>
                <a:gd name="textAreaBottom" fmla="*/ 186840 h 186480"/>
              </a:gdLst>
              <a:ahLst/>
              <a:rect l="textAreaLeft" t="textAreaTop" r="textAreaRight" b="textAreaBottom"/>
              <a:pathLst>
                <a:path w="50926" h="186729">
                  <a:moveTo>
                    <a:pt x="12732" y="12732"/>
                  </a:moveTo>
                  <a:lnTo>
                    <a:pt x="51775" y="12732"/>
                  </a:lnTo>
                  <a:lnTo>
                    <a:pt x="51775" y="175695"/>
                  </a:lnTo>
                  <a:lnTo>
                    <a:pt x="12732" y="175695"/>
                  </a:lnTo>
                  <a:lnTo>
                    <a:pt x="12732" y="12732"/>
                  </a:lnTo>
                  <a:close/>
                </a:path>
              </a:pathLst>
            </a:custGeom>
            <a:solidFill>
              <a:srgbClr val="8dac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0" name="任意多边形: 形状 72"/>
            <p:cNvSpPr/>
            <p:nvPr/>
          </p:nvSpPr>
          <p:spPr>
            <a:xfrm>
              <a:off x="6955920" y="2421000"/>
              <a:ext cx="50760" cy="254520"/>
            </a:xfrm>
            <a:custGeom>
              <a:avLst/>
              <a:gdLst>
                <a:gd name="textAreaLeft" fmla="*/ 0 w 50760"/>
                <a:gd name="textAreaRight" fmla="*/ 51120 w 50760"/>
                <a:gd name="textAreaTop" fmla="*/ 0 h 254520"/>
                <a:gd name="textAreaBottom" fmla="*/ 254880 h 254520"/>
              </a:gdLst>
              <a:ahLst/>
              <a:rect l="textAreaLeft" t="textAreaTop" r="textAreaRight" b="textAreaBottom"/>
              <a:pathLst>
                <a:path w="50926" h="254630">
                  <a:moveTo>
                    <a:pt x="12732" y="12732"/>
                  </a:moveTo>
                  <a:lnTo>
                    <a:pt x="51775" y="12732"/>
                  </a:lnTo>
                  <a:lnTo>
                    <a:pt x="51775" y="253782"/>
                  </a:lnTo>
                  <a:lnTo>
                    <a:pt x="12732" y="253782"/>
                  </a:lnTo>
                  <a:lnTo>
                    <a:pt x="12732" y="12732"/>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1" name="任意多边形: 形状 73"/>
            <p:cNvSpPr/>
            <p:nvPr/>
          </p:nvSpPr>
          <p:spPr>
            <a:xfrm>
              <a:off x="6923880" y="2405880"/>
              <a:ext cx="424080" cy="16920"/>
            </a:xfrm>
            <a:custGeom>
              <a:avLst/>
              <a:gdLst>
                <a:gd name="textAreaLeft" fmla="*/ 0 w 424080"/>
                <a:gd name="textAreaRight" fmla="*/ 424440 w 424080"/>
                <a:gd name="textAreaTop" fmla="*/ 0 h 16920"/>
                <a:gd name="textAreaBottom" fmla="*/ 17280 h 16920"/>
              </a:gdLst>
              <a:ahLst/>
              <a:rect l="textAreaLeft" t="textAreaTop" r="textAreaRight" b="textAreaBottom"/>
              <a:pathLst>
                <a:path w="424384" h="16975">
                  <a:moveTo>
                    <a:pt x="425233" y="12732"/>
                  </a:moveTo>
                  <a:lnTo>
                    <a:pt x="12732" y="12732"/>
                  </a:lnTo>
                </a:path>
              </a:pathLst>
            </a:custGeom>
            <a:noFill/>
            <a:ln w="9360">
              <a:solidFill>
                <a:srgbClr val="d1d7d1"/>
              </a:solidFill>
              <a:miter/>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982" name="任意多边形: 形状 74"/>
            <p:cNvSpPr/>
            <p:nvPr/>
          </p:nvSpPr>
          <p:spPr>
            <a:xfrm>
              <a:off x="11060640" y="2105280"/>
              <a:ext cx="305280" cy="577080"/>
            </a:xfrm>
            <a:custGeom>
              <a:avLst/>
              <a:gdLst>
                <a:gd name="textAreaLeft" fmla="*/ 0 w 305280"/>
                <a:gd name="textAreaRight" fmla="*/ 305640 w 305280"/>
                <a:gd name="textAreaTop" fmla="*/ 0 h 577080"/>
                <a:gd name="textAreaBottom" fmla="*/ 577440 h 577080"/>
              </a:gdLst>
              <a:ahLst/>
              <a:rect l="textAreaLeft" t="textAreaTop" r="textAreaRight" b="textAreaBottom"/>
              <a:pathLst>
                <a:path w="305556" h="577162">
                  <a:moveTo>
                    <a:pt x="303332" y="187578"/>
                  </a:moveTo>
                  <a:cubicBezTo>
                    <a:pt x="306727" y="214738"/>
                    <a:pt x="320307" y="336961"/>
                    <a:pt x="279566" y="404862"/>
                  </a:cubicBezTo>
                  <a:cubicBezTo>
                    <a:pt x="272776" y="423535"/>
                    <a:pt x="264288" y="438813"/>
                    <a:pt x="250708" y="450696"/>
                  </a:cubicBezTo>
                  <a:cubicBezTo>
                    <a:pt x="242221" y="469369"/>
                    <a:pt x="230338" y="482949"/>
                    <a:pt x="213362" y="491437"/>
                  </a:cubicBezTo>
                  <a:cubicBezTo>
                    <a:pt x="196387" y="499924"/>
                    <a:pt x="179412" y="506715"/>
                    <a:pt x="162436" y="511807"/>
                  </a:cubicBezTo>
                  <a:cubicBezTo>
                    <a:pt x="114905" y="544061"/>
                    <a:pt x="62282" y="564431"/>
                    <a:pt x="52096" y="567826"/>
                  </a:cubicBezTo>
                  <a:cubicBezTo>
                    <a:pt x="36819" y="572919"/>
                    <a:pt x="19843" y="564431"/>
                    <a:pt x="14751" y="549153"/>
                  </a:cubicBezTo>
                  <a:cubicBezTo>
                    <a:pt x="9658" y="535573"/>
                    <a:pt x="16448" y="521992"/>
                    <a:pt x="26633" y="515202"/>
                  </a:cubicBezTo>
                  <a:cubicBezTo>
                    <a:pt x="16448" y="508412"/>
                    <a:pt x="11356" y="498227"/>
                    <a:pt x="13053" y="486344"/>
                  </a:cubicBezTo>
                  <a:cubicBezTo>
                    <a:pt x="16448" y="471066"/>
                    <a:pt x="30029" y="459184"/>
                    <a:pt x="47004" y="462579"/>
                  </a:cubicBezTo>
                  <a:cubicBezTo>
                    <a:pt x="47004" y="462579"/>
                    <a:pt x="69072" y="465974"/>
                    <a:pt x="97930" y="464276"/>
                  </a:cubicBezTo>
                  <a:cubicBezTo>
                    <a:pt x="84349" y="457486"/>
                    <a:pt x="77559" y="450696"/>
                    <a:pt x="75862" y="450696"/>
                  </a:cubicBezTo>
                  <a:cubicBezTo>
                    <a:pt x="63979" y="440511"/>
                    <a:pt x="62282" y="421838"/>
                    <a:pt x="72467" y="409955"/>
                  </a:cubicBezTo>
                  <a:cubicBezTo>
                    <a:pt x="82652" y="398072"/>
                    <a:pt x="101325" y="396375"/>
                    <a:pt x="113208" y="406560"/>
                  </a:cubicBezTo>
                  <a:cubicBezTo>
                    <a:pt x="114905" y="408257"/>
                    <a:pt x="123393" y="413350"/>
                    <a:pt x="135276" y="418443"/>
                  </a:cubicBezTo>
                  <a:cubicBezTo>
                    <a:pt x="128486" y="403165"/>
                    <a:pt x="128486" y="387887"/>
                    <a:pt x="128486" y="384492"/>
                  </a:cubicBezTo>
                  <a:cubicBezTo>
                    <a:pt x="128486" y="369214"/>
                    <a:pt x="142066" y="355634"/>
                    <a:pt x="157344" y="355634"/>
                  </a:cubicBezTo>
                  <a:cubicBezTo>
                    <a:pt x="167529" y="355634"/>
                    <a:pt x="176017" y="360727"/>
                    <a:pt x="181109" y="367517"/>
                  </a:cubicBezTo>
                  <a:cubicBezTo>
                    <a:pt x="181109" y="353936"/>
                    <a:pt x="182807" y="342054"/>
                    <a:pt x="182807" y="330171"/>
                  </a:cubicBezTo>
                  <a:cubicBezTo>
                    <a:pt x="172622" y="303010"/>
                    <a:pt x="147159" y="269060"/>
                    <a:pt x="104720" y="323381"/>
                  </a:cubicBezTo>
                  <a:cubicBezTo>
                    <a:pt x="96232" y="343751"/>
                    <a:pt x="87745" y="362424"/>
                    <a:pt x="82652" y="374307"/>
                  </a:cubicBezTo>
                  <a:cubicBezTo>
                    <a:pt x="75862" y="389585"/>
                    <a:pt x="58886" y="396375"/>
                    <a:pt x="43609" y="389585"/>
                  </a:cubicBezTo>
                  <a:cubicBezTo>
                    <a:pt x="28331" y="382794"/>
                    <a:pt x="21541" y="365819"/>
                    <a:pt x="28331" y="350541"/>
                  </a:cubicBezTo>
                  <a:cubicBezTo>
                    <a:pt x="35121" y="333566"/>
                    <a:pt x="48702" y="304708"/>
                    <a:pt x="62282" y="272455"/>
                  </a:cubicBezTo>
                  <a:cubicBezTo>
                    <a:pt x="79257" y="235109"/>
                    <a:pt x="99628" y="190973"/>
                    <a:pt x="113208" y="158720"/>
                  </a:cubicBezTo>
                  <a:cubicBezTo>
                    <a:pt x="113208" y="77238"/>
                    <a:pt x="155646" y="12732"/>
                    <a:pt x="208270" y="12732"/>
                  </a:cubicBezTo>
                  <a:cubicBezTo>
                    <a:pt x="260894" y="12732"/>
                    <a:pt x="303332" y="78935"/>
                    <a:pt x="303332" y="160417"/>
                  </a:cubicBezTo>
                  <a:cubicBezTo>
                    <a:pt x="305029" y="168905"/>
                    <a:pt x="303332" y="177393"/>
                    <a:pt x="303332" y="187578"/>
                  </a:cubicBezTo>
                  <a:cubicBezTo>
                    <a:pt x="303332" y="185880"/>
                    <a:pt x="303332" y="185880"/>
                    <a:pt x="303332" y="187578"/>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3" name="任意多边形: 形状 75"/>
            <p:cNvSpPr/>
            <p:nvPr/>
          </p:nvSpPr>
          <p:spPr>
            <a:xfrm>
              <a:off x="9771480" y="954000"/>
              <a:ext cx="865440" cy="1256400"/>
            </a:xfrm>
            <a:custGeom>
              <a:avLst/>
              <a:gdLst>
                <a:gd name="textAreaLeft" fmla="*/ 0 w 865440"/>
                <a:gd name="textAreaRight" fmla="*/ 865800 w 865440"/>
                <a:gd name="textAreaTop" fmla="*/ 0 h 1256400"/>
                <a:gd name="textAreaBottom" fmla="*/ 1256760 h 1256400"/>
              </a:gdLst>
              <a:ahLst/>
              <a:rect l="textAreaLeft" t="textAreaTop" r="textAreaRight" b="textAreaBottom"/>
              <a:pathLst>
                <a:path w="865743" h="1256177">
                  <a:moveTo>
                    <a:pt x="89888" y="1245143"/>
                  </a:moveTo>
                  <a:cubicBezTo>
                    <a:pt x="74610" y="1189124"/>
                    <a:pt x="-49310" y="698536"/>
                    <a:pt x="52542" y="454091"/>
                  </a:cubicBezTo>
                  <a:cubicBezTo>
                    <a:pt x="237574" y="14429"/>
                    <a:pt x="838501" y="12732"/>
                    <a:pt x="863964" y="12732"/>
                  </a:cubicBezTo>
                  <a:lnTo>
                    <a:pt x="862267" y="187578"/>
                  </a:lnTo>
                  <a:cubicBezTo>
                    <a:pt x="862267" y="187578"/>
                    <a:pt x="862267" y="187578"/>
                    <a:pt x="862267" y="187578"/>
                  </a:cubicBezTo>
                  <a:cubicBezTo>
                    <a:pt x="853780" y="187578"/>
                    <a:pt x="351309" y="190973"/>
                    <a:pt x="213808" y="521992"/>
                  </a:cubicBezTo>
                  <a:cubicBezTo>
                    <a:pt x="145907" y="683258"/>
                    <a:pt x="223993" y="1066902"/>
                    <a:pt x="259642" y="1201007"/>
                  </a:cubicBezTo>
                  <a:lnTo>
                    <a:pt x="89888" y="1245143"/>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4" name="任意多边形: 形状 76"/>
            <p:cNvSpPr/>
            <p:nvPr/>
          </p:nvSpPr>
          <p:spPr>
            <a:xfrm>
              <a:off x="11074320" y="1050840"/>
              <a:ext cx="525960" cy="1239480"/>
            </a:xfrm>
            <a:custGeom>
              <a:avLst/>
              <a:gdLst>
                <a:gd name="textAreaLeft" fmla="*/ 0 w 525960"/>
                <a:gd name="textAreaRight" fmla="*/ 526320 w 525960"/>
                <a:gd name="textAreaTop" fmla="*/ 0 h 1239480"/>
                <a:gd name="textAreaBottom" fmla="*/ 1239840 h 1239480"/>
              </a:gdLst>
              <a:ahLst/>
              <a:rect l="textAreaLeft" t="textAreaTop" r="textAreaRight" b="textAreaBottom"/>
              <a:pathLst>
                <a:path w="526236" h="1239201">
                  <a:moveTo>
                    <a:pt x="284337" y="1229865"/>
                  </a:moveTo>
                  <a:lnTo>
                    <a:pt x="134954" y="1138198"/>
                  </a:lnTo>
                  <a:cubicBezTo>
                    <a:pt x="230017" y="983722"/>
                    <a:pt x="338659" y="795296"/>
                    <a:pt x="350541" y="757950"/>
                  </a:cubicBezTo>
                  <a:cubicBezTo>
                    <a:pt x="364122" y="701931"/>
                    <a:pt x="377702" y="301313"/>
                    <a:pt x="12732" y="177393"/>
                  </a:cubicBezTo>
                  <a:lnTo>
                    <a:pt x="68751" y="12732"/>
                  </a:lnTo>
                  <a:cubicBezTo>
                    <a:pt x="537270" y="172300"/>
                    <a:pt x="554246" y="678166"/>
                    <a:pt x="516900" y="805481"/>
                  </a:cubicBezTo>
                  <a:cubicBezTo>
                    <a:pt x="498227" y="880173"/>
                    <a:pt x="335263" y="1150081"/>
                    <a:pt x="284337" y="1229865"/>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5" name="任意多边形: 形状 77"/>
            <p:cNvSpPr/>
            <p:nvPr/>
          </p:nvSpPr>
          <p:spPr>
            <a:xfrm>
              <a:off x="9728640" y="925200"/>
              <a:ext cx="916560" cy="1137600"/>
            </a:xfrm>
            <a:custGeom>
              <a:avLst/>
              <a:gdLst>
                <a:gd name="textAreaLeft" fmla="*/ 0 w 916560"/>
                <a:gd name="textAreaRight" fmla="*/ 916920 w 916560"/>
                <a:gd name="textAreaTop" fmla="*/ 0 h 1137600"/>
                <a:gd name="textAreaBottom" fmla="*/ 1137960 h 1137600"/>
              </a:gdLst>
              <a:ahLst/>
              <a:rect l="textAreaLeft" t="textAreaTop" r="textAreaRight" b="textAreaBottom"/>
              <a:pathLst>
                <a:path w="916669" h="1137349">
                  <a:moveTo>
                    <a:pt x="901649" y="12732"/>
                  </a:moveTo>
                  <a:lnTo>
                    <a:pt x="911834" y="245294"/>
                  </a:lnTo>
                  <a:cubicBezTo>
                    <a:pt x="906741" y="245294"/>
                    <a:pt x="404271" y="270757"/>
                    <a:pt x="271863" y="588196"/>
                  </a:cubicBezTo>
                  <a:cubicBezTo>
                    <a:pt x="229424" y="686654"/>
                    <a:pt x="236214" y="873383"/>
                    <a:pt x="288838" y="1071994"/>
                  </a:cubicBezTo>
                  <a:lnTo>
                    <a:pt x="63066" y="1129711"/>
                  </a:lnTo>
                  <a:cubicBezTo>
                    <a:pt x="32510" y="1009185"/>
                    <a:pt x="-30298" y="707024"/>
                    <a:pt x="57973" y="496529"/>
                  </a:cubicBezTo>
                  <a:cubicBezTo>
                    <a:pt x="246400" y="44985"/>
                    <a:pt x="874488" y="14429"/>
                    <a:pt x="901649" y="12732"/>
                  </a:cubicBez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6" name="任意多边形: 形状 78"/>
            <p:cNvSpPr/>
            <p:nvPr/>
          </p:nvSpPr>
          <p:spPr>
            <a:xfrm>
              <a:off x="11054160" y="1028880"/>
              <a:ext cx="577080" cy="1239480"/>
            </a:xfrm>
            <a:custGeom>
              <a:avLst/>
              <a:gdLst>
                <a:gd name="textAreaLeft" fmla="*/ 0 w 577080"/>
                <a:gd name="textAreaRight" fmla="*/ 577440 w 577080"/>
                <a:gd name="textAreaTop" fmla="*/ 0 h 1239480"/>
                <a:gd name="textAreaBottom" fmla="*/ 1239840 h 1239480"/>
              </a:gdLst>
              <a:ahLst/>
              <a:rect l="textAreaLeft" t="textAreaTop" r="textAreaRight" b="textAreaBottom"/>
              <a:pathLst>
                <a:path w="577162" h="1239201">
                  <a:moveTo>
                    <a:pt x="87423" y="12732"/>
                  </a:moveTo>
                  <a:cubicBezTo>
                    <a:pt x="576313" y="179090"/>
                    <a:pt x="603474" y="708722"/>
                    <a:pt x="567826" y="836037"/>
                  </a:cubicBezTo>
                  <a:cubicBezTo>
                    <a:pt x="554246" y="881870"/>
                    <a:pt x="496529" y="983722"/>
                    <a:pt x="372609" y="1195914"/>
                  </a:cubicBezTo>
                  <a:lnTo>
                    <a:pt x="352239" y="1229865"/>
                  </a:lnTo>
                  <a:lnTo>
                    <a:pt x="151929" y="1112735"/>
                  </a:lnTo>
                  <a:lnTo>
                    <a:pt x="172300" y="1078784"/>
                  </a:lnTo>
                  <a:cubicBezTo>
                    <a:pt x="218133" y="1000698"/>
                    <a:pt x="325078" y="819061"/>
                    <a:pt x="343751" y="773228"/>
                  </a:cubicBezTo>
                  <a:cubicBezTo>
                    <a:pt x="347146" y="744370"/>
                    <a:pt x="370911" y="355634"/>
                    <a:pt x="12732" y="233411"/>
                  </a:cubicBezTo>
                  <a:lnTo>
                    <a:pt x="87423" y="12732"/>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7" name="任意多边形: 形状 79"/>
            <p:cNvSpPr/>
            <p:nvPr/>
          </p:nvSpPr>
          <p:spPr>
            <a:xfrm>
              <a:off x="10135800" y="937080"/>
              <a:ext cx="1205280" cy="678960"/>
            </a:xfrm>
            <a:custGeom>
              <a:avLst/>
              <a:gdLst>
                <a:gd name="textAreaLeft" fmla="*/ 0 w 1205280"/>
                <a:gd name="textAreaRight" fmla="*/ 1205640 w 1205280"/>
                <a:gd name="textAreaTop" fmla="*/ 0 h 678960"/>
                <a:gd name="textAreaBottom" fmla="*/ 679320 h 678960"/>
              </a:gdLst>
              <a:ahLst/>
              <a:rect l="textAreaLeft" t="textAreaTop" r="textAreaRight" b="textAreaBottom"/>
              <a:pathLst>
                <a:path w="1205250" h="679014">
                  <a:moveTo>
                    <a:pt x="12732" y="345463"/>
                  </a:moveTo>
                  <a:cubicBezTo>
                    <a:pt x="12732" y="528797"/>
                    <a:pt x="277547" y="678180"/>
                    <a:pt x="603474" y="678180"/>
                  </a:cubicBezTo>
                  <a:cubicBezTo>
                    <a:pt x="929401" y="678180"/>
                    <a:pt x="1194217" y="528797"/>
                    <a:pt x="1194217" y="345463"/>
                  </a:cubicBezTo>
                  <a:cubicBezTo>
                    <a:pt x="1194217" y="162129"/>
                    <a:pt x="929401" y="12746"/>
                    <a:pt x="603474" y="12746"/>
                  </a:cubicBezTo>
                  <a:cubicBezTo>
                    <a:pt x="275850" y="11048"/>
                    <a:pt x="12732" y="160432"/>
                    <a:pt x="12732" y="345463"/>
                  </a:cubicBez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8" name="任意多边形: 形状 80"/>
            <p:cNvSpPr/>
            <p:nvPr/>
          </p:nvSpPr>
          <p:spPr>
            <a:xfrm>
              <a:off x="9849960" y="2024640"/>
              <a:ext cx="356400" cy="509040"/>
            </a:xfrm>
            <a:custGeom>
              <a:avLst/>
              <a:gdLst>
                <a:gd name="textAreaLeft" fmla="*/ 0 w 356400"/>
                <a:gd name="textAreaRight" fmla="*/ 356760 w 356400"/>
                <a:gd name="textAreaTop" fmla="*/ 0 h 509040"/>
                <a:gd name="textAreaBottom" fmla="*/ 509400 h 509040"/>
              </a:gdLst>
              <a:ahLst/>
              <a:rect l="textAreaLeft" t="textAreaTop" r="textAreaRight" b="textAreaBottom"/>
              <a:pathLst>
                <a:path w="356482" h="509260">
                  <a:moveTo>
                    <a:pt x="16473" y="196819"/>
                  </a:moveTo>
                  <a:cubicBezTo>
                    <a:pt x="16473" y="225677"/>
                    <a:pt x="19868" y="346202"/>
                    <a:pt x="72492" y="407314"/>
                  </a:cubicBezTo>
                  <a:cubicBezTo>
                    <a:pt x="80979" y="424289"/>
                    <a:pt x="92862" y="437869"/>
                    <a:pt x="108140" y="448055"/>
                  </a:cubicBezTo>
                  <a:cubicBezTo>
                    <a:pt x="120023" y="465030"/>
                    <a:pt x="133603" y="476913"/>
                    <a:pt x="150578" y="483703"/>
                  </a:cubicBezTo>
                  <a:cubicBezTo>
                    <a:pt x="235455" y="514259"/>
                    <a:pt x="325425" y="487098"/>
                    <a:pt x="328820" y="485400"/>
                  </a:cubicBezTo>
                  <a:cubicBezTo>
                    <a:pt x="344097" y="480308"/>
                    <a:pt x="352585" y="463332"/>
                    <a:pt x="347493" y="448055"/>
                  </a:cubicBezTo>
                  <a:cubicBezTo>
                    <a:pt x="342400" y="432777"/>
                    <a:pt x="325425" y="424289"/>
                    <a:pt x="310147" y="429382"/>
                  </a:cubicBezTo>
                  <a:cubicBezTo>
                    <a:pt x="310147" y="429382"/>
                    <a:pt x="289777" y="436172"/>
                    <a:pt x="259221" y="437869"/>
                  </a:cubicBezTo>
                  <a:cubicBezTo>
                    <a:pt x="271104" y="429382"/>
                    <a:pt x="277894" y="420894"/>
                    <a:pt x="277894" y="420894"/>
                  </a:cubicBezTo>
                  <a:cubicBezTo>
                    <a:pt x="288079" y="409011"/>
                    <a:pt x="286381" y="390338"/>
                    <a:pt x="274499" y="380153"/>
                  </a:cubicBezTo>
                  <a:cubicBezTo>
                    <a:pt x="262616" y="369968"/>
                    <a:pt x="243943" y="371665"/>
                    <a:pt x="233758" y="381851"/>
                  </a:cubicBezTo>
                  <a:cubicBezTo>
                    <a:pt x="232060" y="383548"/>
                    <a:pt x="225270" y="390338"/>
                    <a:pt x="213387" y="397129"/>
                  </a:cubicBezTo>
                  <a:cubicBezTo>
                    <a:pt x="216782" y="380153"/>
                    <a:pt x="215085" y="364875"/>
                    <a:pt x="215085" y="363178"/>
                  </a:cubicBezTo>
                  <a:cubicBezTo>
                    <a:pt x="213387" y="347900"/>
                    <a:pt x="198110" y="336017"/>
                    <a:pt x="182831" y="339412"/>
                  </a:cubicBezTo>
                  <a:cubicBezTo>
                    <a:pt x="182831" y="339412"/>
                    <a:pt x="182831" y="339412"/>
                    <a:pt x="182831" y="339412"/>
                  </a:cubicBezTo>
                  <a:cubicBezTo>
                    <a:pt x="170949" y="341110"/>
                    <a:pt x="162461" y="349598"/>
                    <a:pt x="159066" y="359783"/>
                  </a:cubicBezTo>
                  <a:cubicBezTo>
                    <a:pt x="155671" y="352993"/>
                    <a:pt x="152276" y="346202"/>
                    <a:pt x="150578" y="341110"/>
                  </a:cubicBezTo>
                  <a:cubicBezTo>
                    <a:pt x="150578" y="341110"/>
                    <a:pt x="157368" y="232468"/>
                    <a:pt x="230363" y="300369"/>
                  </a:cubicBezTo>
                  <a:cubicBezTo>
                    <a:pt x="242245" y="319042"/>
                    <a:pt x="252431" y="336017"/>
                    <a:pt x="259221" y="347900"/>
                  </a:cubicBezTo>
                  <a:cubicBezTo>
                    <a:pt x="267708" y="361480"/>
                    <a:pt x="284684" y="366573"/>
                    <a:pt x="299962" y="358085"/>
                  </a:cubicBezTo>
                  <a:cubicBezTo>
                    <a:pt x="313542" y="349598"/>
                    <a:pt x="318634" y="332622"/>
                    <a:pt x="310147" y="317344"/>
                  </a:cubicBezTo>
                  <a:cubicBezTo>
                    <a:pt x="299962" y="302067"/>
                    <a:pt x="282987" y="274906"/>
                    <a:pt x="264314" y="246048"/>
                  </a:cubicBezTo>
                  <a:cubicBezTo>
                    <a:pt x="242245" y="212097"/>
                    <a:pt x="216782" y="171356"/>
                    <a:pt x="198110" y="140801"/>
                  </a:cubicBezTo>
                  <a:cubicBezTo>
                    <a:pt x="150578" y="69504"/>
                    <a:pt x="106442" y="4998"/>
                    <a:pt x="55516" y="13485"/>
                  </a:cubicBezTo>
                  <a:cubicBezTo>
                    <a:pt x="4590" y="20275"/>
                    <a:pt x="16473" y="61016"/>
                    <a:pt x="28356" y="142498"/>
                  </a:cubicBezTo>
                  <a:cubicBezTo>
                    <a:pt x="30053" y="150986"/>
                    <a:pt x="11381" y="169659"/>
                    <a:pt x="13078" y="178146"/>
                  </a:cubicBezTo>
                  <a:cubicBezTo>
                    <a:pt x="11381" y="179844"/>
                    <a:pt x="16473" y="196819"/>
                    <a:pt x="16473" y="196819"/>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89" name="任意多边形: 形状 81"/>
            <p:cNvSpPr/>
            <p:nvPr/>
          </p:nvSpPr>
          <p:spPr>
            <a:xfrm>
              <a:off x="10139040" y="1171440"/>
              <a:ext cx="1171080" cy="492120"/>
            </a:xfrm>
            <a:custGeom>
              <a:avLst/>
              <a:gdLst>
                <a:gd name="textAreaLeft" fmla="*/ 0 w 1171080"/>
                <a:gd name="textAreaRight" fmla="*/ 1171440 w 1171080"/>
                <a:gd name="textAreaTop" fmla="*/ 0 h 492120"/>
                <a:gd name="textAreaBottom" fmla="*/ 492480 h 492120"/>
              </a:gdLst>
              <a:ahLst/>
              <a:rect l="textAreaLeft" t="textAreaTop" r="textAreaRight" b="textAreaBottom"/>
              <a:pathLst>
                <a:path w="1171300" h="492285">
                  <a:moveTo>
                    <a:pt x="1163662" y="219834"/>
                  </a:moveTo>
                  <a:cubicBezTo>
                    <a:pt x="1163662" y="219834"/>
                    <a:pt x="832642" y="649311"/>
                    <a:pt x="635728" y="423539"/>
                  </a:cubicBezTo>
                  <a:cubicBezTo>
                    <a:pt x="635728" y="423539"/>
                    <a:pt x="576314" y="348847"/>
                    <a:pt x="496529" y="423539"/>
                  </a:cubicBezTo>
                  <a:cubicBezTo>
                    <a:pt x="416746" y="498230"/>
                    <a:pt x="143442" y="505021"/>
                    <a:pt x="12732" y="155328"/>
                  </a:cubicBezTo>
                  <a:cubicBezTo>
                    <a:pt x="313196" y="-63654"/>
                    <a:pt x="387887" y="34803"/>
                    <a:pt x="387887" y="34803"/>
                  </a:cubicBezTo>
                  <a:lnTo>
                    <a:pt x="1138199" y="56871"/>
                  </a:lnTo>
                  <a:lnTo>
                    <a:pt x="1163662" y="219834"/>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90" name="任意多边形: 形状 82"/>
            <p:cNvSpPr/>
            <p:nvPr/>
          </p:nvSpPr>
          <p:spPr>
            <a:xfrm>
              <a:off x="10402200" y="867600"/>
              <a:ext cx="662040" cy="695880"/>
            </a:xfrm>
            <a:custGeom>
              <a:avLst/>
              <a:gdLst>
                <a:gd name="textAreaLeft" fmla="*/ 0 w 662040"/>
                <a:gd name="textAreaRight" fmla="*/ 662040 w 662040"/>
                <a:gd name="textAreaTop" fmla="*/ 0 h 695880"/>
                <a:gd name="textAreaBottom" fmla="*/ 696240 h 695880"/>
              </a:gdLst>
              <a:ahLst/>
              <a:rect l="textAreaLeft" t="textAreaTop" r="textAreaRight" b="textAreaBottom"/>
              <a:pathLst>
                <a:path w="662039" h="695989">
                  <a:moveTo>
                    <a:pt x="661191" y="352239"/>
                  </a:moveTo>
                  <a:cubicBezTo>
                    <a:pt x="661191" y="566128"/>
                    <a:pt x="515202" y="691746"/>
                    <a:pt x="336961" y="691746"/>
                  </a:cubicBezTo>
                  <a:cubicBezTo>
                    <a:pt x="158720" y="691746"/>
                    <a:pt x="12732" y="566128"/>
                    <a:pt x="12732" y="352239"/>
                  </a:cubicBezTo>
                  <a:cubicBezTo>
                    <a:pt x="12732" y="138349"/>
                    <a:pt x="158720" y="12732"/>
                    <a:pt x="336961" y="12732"/>
                  </a:cubicBezTo>
                  <a:cubicBezTo>
                    <a:pt x="515202" y="12732"/>
                    <a:pt x="661191" y="138349"/>
                    <a:pt x="661191" y="352239"/>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91" name="任意多边形: 形状 83"/>
            <p:cNvSpPr/>
            <p:nvPr/>
          </p:nvSpPr>
          <p:spPr>
            <a:xfrm>
              <a:off x="10677240" y="1213920"/>
              <a:ext cx="118800" cy="390240"/>
            </a:xfrm>
            <a:custGeom>
              <a:avLst/>
              <a:gdLst>
                <a:gd name="textAreaLeft" fmla="*/ 0 w 118800"/>
                <a:gd name="textAreaRight" fmla="*/ 119160 w 118800"/>
                <a:gd name="textAreaTop" fmla="*/ 0 h 390240"/>
                <a:gd name="textAreaBottom" fmla="*/ 390600 h 390240"/>
              </a:gdLst>
              <a:ahLst/>
              <a:rect l="textAreaLeft" t="textAreaTop" r="textAreaRight" b="textAreaBottom"/>
              <a:pathLst>
                <a:path w="118827" h="390433">
                  <a:moveTo>
                    <a:pt x="111188" y="199461"/>
                  </a:moveTo>
                  <a:cubicBezTo>
                    <a:pt x="111188" y="301313"/>
                    <a:pt x="89121" y="386190"/>
                    <a:pt x="61960" y="386190"/>
                  </a:cubicBezTo>
                  <a:cubicBezTo>
                    <a:pt x="34799" y="386190"/>
                    <a:pt x="12732" y="303010"/>
                    <a:pt x="12732" y="199461"/>
                  </a:cubicBezTo>
                  <a:cubicBezTo>
                    <a:pt x="12732" y="97608"/>
                    <a:pt x="34799" y="12732"/>
                    <a:pt x="61960" y="12732"/>
                  </a:cubicBezTo>
                  <a:cubicBezTo>
                    <a:pt x="89121" y="14429"/>
                    <a:pt x="111188" y="97608"/>
                    <a:pt x="111188" y="199461"/>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92" name="任意多边形: 形状 84"/>
            <p:cNvSpPr/>
            <p:nvPr/>
          </p:nvSpPr>
          <p:spPr>
            <a:xfrm>
              <a:off x="10391400" y="119340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28703" y="97608"/>
                  </a:moveTo>
                  <a:cubicBezTo>
                    <a:pt x="28703" y="97608"/>
                    <a:pt x="-3550" y="58565"/>
                    <a:pt x="23610" y="12732"/>
                  </a:cubicBezTo>
                  <a:cubicBezTo>
                    <a:pt x="23610" y="12732"/>
                    <a:pt x="57561" y="77238"/>
                    <a:pt x="28703" y="97608"/>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93" name="任意多边形: 形状 85"/>
            <p:cNvSpPr/>
            <p:nvPr/>
          </p:nvSpPr>
          <p:spPr>
            <a:xfrm>
              <a:off x="11032560" y="119340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24047" y="97608"/>
                  </a:moveTo>
                  <a:cubicBezTo>
                    <a:pt x="24047" y="97608"/>
                    <a:pt x="56300" y="58565"/>
                    <a:pt x="29140" y="12732"/>
                  </a:cubicBezTo>
                  <a:cubicBezTo>
                    <a:pt x="30837" y="12732"/>
                    <a:pt x="-4811" y="77238"/>
                    <a:pt x="24047" y="97608"/>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94" name="任意多边形: 形状 86"/>
            <p:cNvSpPr/>
            <p:nvPr/>
          </p:nvSpPr>
          <p:spPr>
            <a:xfrm>
              <a:off x="10402200" y="867600"/>
              <a:ext cx="662040" cy="610920"/>
            </a:xfrm>
            <a:custGeom>
              <a:avLst/>
              <a:gdLst>
                <a:gd name="textAreaLeft" fmla="*/ 0 w 662040"/>
                <a:gd name="textAreaRight" fmla="*/ 662040 w 662040"/>
                <a:gd name="textAreaTop" fmla="*/ 0 h 610920"/>
                <a:gd name="textAreaBottom" fmla="*/ 611280 h 610920"/>
              </a:gdLst>
              <a:ahLst/>
              <a:rect l="textAreaLeft" t="textAreaTop" r="textAreaRight" b="textAreaBottom"/>
              <a:pathLst>
                <a:path w="662039" h="611113">
                  <a:moveTo>
                    <a:pt x="12732" y="325078"/>
                  </a:moveTo>
                  <a:cubicBezTo>
                    <a:pt x="12732" y="124769"/>
                    <a:pt x="158720" y="12732"/>
                    <a:pt x="336961" y="12732"/>
                  </a:cubicBezTo>
                  <a:cubicBezTo>
                    <a:pt x="516900" y="12732"/>
                    <a:pt x="661191" y="126466"/>
                    <a:pt x="661191" y="325078"/>
                  </a:cubicBezTo>
                  <a:cubicBezTo>
                    <a:pt x="661191" y="525388"/>
                    <a:pt x="515202" y="613659"/>
                    <a:pt x="336961" y="613659"/>
                  </a:cubicBezTo>
                  <a:cubicBezTo>
                    <a:pt x="157022" y="615357"/>
                    <a:pt x="12732" y="525388"/>
                    <a:pt x="12732" y="325078"/>
                  </a:cubicBezTo>
                  <a:close/>
                </a:path>
              </a:pathLst>
            </a:custGeom>
            <a:solidFill>
              <a:srgbClr val="806c5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95" name="任意多边形: 形状 87"/>
            <p:cNvSpPr/>
            <p:nvPr/>
          </p:nvSpPr>
          <p:spPr>
            <a:xfrm>
              <a:off x="11023560" y="1264680"/>
              <a:ext cx="33840" cy="50760"/>
            </a:xfrm>
            <a:custGeom>
              <a:avLst/>
              <a:gdLst>
                <a:gd name="textAreaLeft" fmla="*/ 0 w 33840"/>
                <a:gd name="textAreaRight" fmla="*/ 34200 w 33840"/>
                <a:gd name="textAreaTop" fmla="*/ 0 h 50760"/>
                <a:gd name="textAreaBottom" fmla="*/ 51120 h 50760"/>
              </a:gdLst>
              <a:ahLst/>
              <a:rect l="textAreaLeft" t="textAreaTop" r="textAreaRight" b="textAreaBottom"/>
              <a:pathLst>
                <a:path w="33950" h="50926">
                  <a:moveTo>
                    <a:pt x="24614" y="12732"/>
                  </a:moveTo>
                  <a:lnTo>
                    <a:pt x="12732" y="-18854"/>
                  </a:lnTo>
                  <a:lnTo>
                    <a:pt x="29707" y="-17156"/>
                  </a:lnTo>
                  <a:cubicBezTo>
                    <a:pt x="31405" y="-23946"/>
                    <a:pt x="-32434" y="-32434"/>
                    <a:pt x="-30736" y="24614"/>
                  </a:cubicBezTo>
                  <a:cubicBezTo>
                    <a:pt x="31405" y="21219"/>
                    <a:pt x="28009" y="16127"/>
                    <a:pt x="24614" y="12732"/>
                  </a:cubicBezTo>
                  <a:close/>
                </a:path>
              </a:pathLst>
            </a:custGeom>
            <a:solidFill>
              <a:srgbClr val="806c59"/>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996" name="任意多边形: 形状 88"/>
            <p:cNvSpPr/>
            <p:nvPr/>
          </p:nvSpPr>
          <p:spPr>
            <a:xfrm>
              <a:off x="10407240" y="1254600"/>
              <a:ext cx="33840" cy="67680"/>
            </a:xfrm>
            <a:custGeom>
              <a:avLst/>
              <a:gdLst>
                <a:gd name="textAreaLeft" fmla="*/ 0 w 33840"/>
                <a:gd name="textAreaRight" fmla="*/ 34200 w 33840"/>
                <a:gd name="textAreaTop" fmla="*/ 0 h 67680"/>
                <a:gd name="textAreaBottom" fmla="*/ 68040 h 67680"/>
              </a:gdLst>
              <a:ahLst/>
              <a:rect l="textAreaLeft" t="textAreaTop" r="textAreaRight" b="textAreaBottom"/>
              <a:pathLst>
                <a:path w="33950" h="67901">
                  <a:moveTo>
                    <a:pt x="12732" y="31404"/>
                  </a:moveTo>
                  <a:cubicBezTo>
                    <a:pt x="14429" y="-23946"/>
                    <a:pt x="16126" y="-15459"/>
                    <a:pt x="17824" y="-5273"/>
                  </a:cubicBezTo>
                  <a:lnTo>
                    <a:pt x="29707" y="-5273"/>
                  </a:lnTo>
                  <a:cubicBezTo>
                    <a:pt x="29707" y="-5273"/>
                    <a:pt x="29707" y="24614"/>
                    <a:pt x="14429" y="12732"/>
                  </a:cubicBezTo>
                  <a:lnTo>
                    <a:pt x="12732" y="31404"/>
                  </a:lnTo>
                  <a:close/>
                </a:path>
              </a:pathLst>
            </a:custGeom>
            <a:solidFill>
              <a:srgbClr val="806c59"/>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997" name="任意多边形: 形状 89"/>
            <p:cNvSpPr/>
            <p:nvPr/>
          </p:nvSpPr>
          <p:spPr>
            <a:xfrm>
              <a:off x="10409400" y="1164600"/>
              <a:ext cx="424080" cy="356400"/>
            </a:xfrm>
            <a:custGeom>
              <a:avLst/>
              <a:gdLst>
                <a:gd name="textAreaLeft" fmla="*/ 0 w 424080"/>
                <a:gd name="textAreaRight" fmla="*/ 424440 w 424080"/>
                <a:gd name="textAreaTop" fmla="*/ 0 h 356400"/>
                <a:gd name="textAreaBottom" fmla="*/ 356760 h 356400"/>
              </a:gdLst>
              <a:ahLst/>
              <a:rect l="textAreaLeft" t="textAreaTop" r="textAreaRight" b="textAreaBottom"/>
              <a:pathLst>
                <a:path w="424384" h="356482">
                  <a:moveTo>
                    <a:pt x="426502" y="308103"/>
                  </a:moveTo>
                  <a:cubicBezTo>
                    <a:pt x="426502" y="308103"/>
                    <a:pt x="251655" y="384492"/>
                    <a:pt x="139618" y="318288"/>
                  </a:cubicBezTo>
                  <a:cubicBezTo>
                    <a:pt x="39463" y="258874"/>
                    <a:pt x="20791" y="173997"/>
                    <a:pt x="14000" y="150232"/>
                  </a:cubicBezTo>
                  <a:cubicBezTo>
                    <a:pt x="8908" y="126466"/>
                    <a:pt x="20791" y="41590"/>
                    <a:pt x="20791" y="41590"/>
                  </a:cubicBezTo>
                  <a:lnTo>
                    <a:pt x="158291" y="12732"/>
                  </a:lnTo>
                  <a:lnTo>
                    <a:pt x="426502" y="308103"/>
                  </a:lnTo>
                  <a:close/>
                </a:path>
              </a:pathLst>
            </a:custGeom>
            <a:solidFill>
              <a:srgbClr val="806c5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98" name="任意多边形: 形状 90"/>
            <p:cNvSpPr/>
            <p:nvPr/>
          </p:nvSpPr>
          <p:spPr>
            <a:xfrm>
              <a:off x="10823040" y="1221840"/>
              <a:ext cx="237600" cy="271440"/>
            </a:xfrm>
            <a:custGeom>
              <a:avLst/>
              <a:gdLst>
                <a:gd name="textAreaLeft" fmla="*/ 0 w 237600"/>
                <a:gd name="textAreaRight" fmla="*/ 237960 w 237600"/>
                <a:gd name="textAreaTop" fmla="*/ 0 h 271440"/>
                <a:gd name="textAreaBottom" fmla="*/ 271800 h 271440"/>
              </a:gdLst>
              <a:ahLst/>
              <a:rect l="textAreaLeft" t="textAreaTop" r="textAreaRight" b="textAreaBottom"/>
              <a:pathLst>
                <a:path w="237655" h="271605">
                  <a:moveTo>
                    <a:pt x="34799" y="195031"/>
                  </a:moveTo>
                  <a:lnTo>
                    <a:pt x="12732" y="249352"/>
                  </a:lnTo>
                  <a:cubicBezTo>
                    <a:pt x="12732" y="249352"/>
                    <a:pt x="68750" y="273118"/>
                    <a:pt x="119676" y="251050"/>
                  </a:cubicBezTo>
                  <a:cubicBezTo>
                    <a:pt x="168905" y="228982"/>
                    <a:pt x="235109" y="157685"/>
                    <a:pt x="233411" y="67716"/>
                  </a:cubicBezTo>
                  <a:cubicBezTo>
                    <a:pt x="233411" y="-22254"/>
                    <a:pt x="48380" y="25277"/>
                    <a:pt x="48380" y="25277"/>
                  </a:cubicBezTo>
                  <a:lnTo>
                    <a:pt x="34799" y="195031"/>
                  </a:lnTo>
                  <a:close/>
                </a:path>
              </a:pathLst>
            </a:custGeom>
            <a:solidFill>
              <a:srgbClr val="806c5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999" name="任意多边形: 形状 91"/>
            <p:cNvSpPr/>
            <p:nvPr/>
          </p:nvSpPr>
          <p:spPr>
            <a:xfrm>
              <a:off x="10643400" y="809640"/>
              <a:ext cx="186480" cy="152640"/>
            </a:xfrm>
            <a:custGeom>
              <a:avLst/>
              <a:gdLst>
                <a:gd name="textAreaLeft" fmla="*/ 0 w 186480"/>
                <a:gd name="textAreaRight" fmla="*/ 186840 w 186480"/>
                <a:gd name="textAreaTop" fmla="*/ 0 h 152640"/>
                <a:gd name="textAreaBottom" fmla="*/ 153000 h 152640"/>
              </a:gdLst>
              <a:ahLst/>
              <a:rect l="textAreaLeft" t="textAreaTop" r="textAreaRight" b="textAreaBottom"/>
              <a:pathLst>
                <a:path w="186729" h="152778">
                  <a:moveTo>
                    <a:pt x="12732" y="84028"/>
                  </a:moveTo>
                  <a:cubicBezTo>
                    <a:pt x="12732" y="44985"/>
                    <a:pt x="50078" y="12732"/>
                    <a:pt x="95911" y="12732"/>
                  </a:cubicBezTo>
                  <a:cubicBezTo>
                    <a:pt x="141744" y="12732"/>
                    <a:pt x="179090" y="44985"/>
                    <a:pt x="179090" y="84028"/>
                  </a:cubicBezTo>
                  <a:cubicBezTo>
                    <a:pt x="179090" y="123071"/>
                    <a:pt x="141744" y="155325"/>
                    <a:pt x="95911" y="155325"/>
                  </a:cubicBezTo>
                  <a:cubicBezTo>
                    <a:pt x="50078" y="155325"/>
                    <a:pt x="12732" y="123071"/>
                    <a:pt x="12732" y="84028"/>
                  </a:cubicBezTo>
                  <a:close/>
                </a:path>
              </a:pathLst>
            </a:custGeom>
            <a:solidFill>
              <a:srgbClr val="806c5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0" name="任意多边形: 形状 92"/>
            <p:cNvSpPr/>
            <p:nvPr/>
          </p:nvSpPr>
          <p:spPr>
            <a:xfrm>
              <a:off x="10622880" y="736920"/>
              <a:ext cx="220680" cy="135720"/>
            </a:xfrm>
            <a:custGeom>
              <a:avLst/>
              <a:gdLst>
                <a:gd name="textAreaLeft" fmla="*/ 0 w 220680"/>
                <a:gd name="textAreaRight" fmla="*/ 221040 w 220680"/>
                <a:gd name="textAreaTop" fmla="*/ 0 h 135720"/>
                <a:gd name="textAreaBottom" fmla="*/ 136080 h 135720"/>
              </a:gdLst>
              <a:ahLst/>
              <a:rect l="textAreaLeft" t="textAreaTop" r="textAreaRight" b="textAreaBottom"/>
              <a:pathLst>
                <a:path w="220679" h="135802">
                  <a:moveTo>
                    <a:pt x="12732" y="70448"/>
                  </a:moveTo>
                  <a:cubicBezTo>
                    <a:pt x="12732" y="102701"/>
                    <a:pt x="58565" y="128164"/>
                    <a:pt x="116281" y="128164"/>
                  </a:cubicBezTo>
                  <a:cubicBezTo>
                    <a:pt x="173998" y="128164"/>
                    <a:pt x="219831" y="102701"/>
                    <a:pt x="219831" y="70448"/>
                  </a:cubicBezTo>
                  <a:cubicBezTo>
                    <a:pt x="219831" y="38195"/>
                    <a:pt x="173998" y="12732"/>
                    <a:pt x="116281" y="12732"/>
                  </a:cubicBezTo>
                  <a:cubicBezTo>
                    <a:pt x="58565" y="12732"/>
                    <a:pt x="12732" y="38195"/>
                    <a:pt x="12732" y="70448"/>
                  </a:cubicBezTo>
                  <a:close/>
                </a:path>
              </a:pathLst>
            </a:custGeom>
            <a:solidFill>
              <a:srgbClr val="806c5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1" name="任意多边形: 形状 93"/>
            <p:cNvSpPr/>
            <p:nvPr/>
          </p:nvSpPr>
          <p:spPr>
            <a:xfrm>
              <a:off x="11185920" y="1328400"/>
              <a:ext cx="186480" cy="203400"/>
            </a:xfrm>
            <a:custGeom>
              <a:avLst/>
              <a:gdLst>
                <a:gd name="textAreaLeft" fmla="*/ 0 w 186480"/>
                <a:gd name="textAreaRight" fmla="*/ 186840 w 186480"/>
                <a:gd name="textAreaTop" fmla="*/ 0 h 203400"/>
                <a:gd name="textAreaBottom" fmla="*/ 203760 h 203400"/>
              </a:gdLst>
              <a:ahLst/>
              <a:rect l="textAreaLeft" t="textAreaTop" r="textAreaRight" b="textAreaBottom"/>
              <a:pathLst>
                <a:path w="186729" h="203704">
                  <a:moveTo>
                    <a:pt x="167584" y="198743"/>
                  </a:moveTo>
                  <a:cubicBezTo>
                    <a:pt x="167584" y="198743"/>
                    <a:pt x="113263" y="79915"/>
                    <a:pt x="45362" y="144421"/>
                  </a:cubicBezTo>
                  <a:cubicBezTo>
                    <a:pt x="-22540" y="208928"/>
                    <a:pt x="36874" y="47662"/>
                    <a:pt x="35176" y="42569"/>
                  </a:cubicBezTo>
                  <a:cubicBezTo>
                    <a:pt x="35176" y="37477"/>
                    <a:pt x="94590" y="6921"/>
                    <a:pt x="103078" y="13711"/>
                  </a:cubicBezTo>
                  <a:cubicBezTo>
                    <a:pt x="111565" y="22199"/>
                    <a:pt x="177770" y="17106"/>
                    <a:pt x="182862" y="44267"/>
                  </a:cubicBezTo>
                  <a:cubicBezTo>
                    <a:pt x="187955" y="73125"/>
                    <a:pt x="167584" y="198743"/>
                    <a:pt x="167584" y="198743"/>
                  </a:cubicBez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2" name="任意多边形: 形状 94"/>
            <p:cNvSpPr/>
            <p:nvPr/>
          </p:nvSpPr>
          <p:spPr>
            <a:xfrm>
              <a:off x="10016280" y="1235880"/>
              <a:ext cx="220680" cy="186480"/>
            </a:xfrm>
            <a:custGeom>
              <a:avLst/>
              <a:gdLst>
                <a:gd name="textAreaLeft" fmla="*/ 0 w 220680"/>
                <a:gd name="textAreaRight" fmla="*/ 221040 w 220680"/>
                <a:gd name="textAreaTop" fmla="*/ 0 h 186480"/>
                <a:gd name="textAreaBottom" fmla="*/ 186840 h 186480"/>
              </a:gdLst>
              <a:ahLst/>
              <a:rect l="textAreaLeft" t="textAreaTop" r="textAreaRight" b="textAreaBottom"/>
              <a:pathLst>
                <a:path w="220679" h="186729">
                  <a:moveTo>
                    <a:pt x="43785" y="177641"/>
                  </a:moveTo>
                  <a:cubicBezTo>
                    <a:pt x="43785" y="177641"/>
                    <a:pt x="133755" y="104647"/>
                    <a:pt x="167705" y="162363"/>
                  </a:cubicBezTo>
                  <a:cubicBezTo>
                    <a:pt x="199959" y="220079"/>
                    <a:pt x="227119" y="79184"/>
                    <a:pt x="208446" y="60511"/>
                  </a:cubicBezTo>
                  <a:cubicBezTo>
                    <a:pt x="191471" y="41838"/>
                    <a:pt x="147335" y="9585"/>
                    <a:pt x="137149" y="12980"/>
                  </a:cubicBezTo>
                  <a:cubicBezTo>
                    <a:pt x="126964" y="16375"/>
                    <a:pt x="82829" y="16375"/>
                    <a:pt x="64156" y="31653"/>
                  </a:cubicBezTo>
                  <a:cubicBezTo>
                    <a:pt x="45483" y="46930"/>
                    <a:pt x="18322" y="40140"/>
                    <a:pt x="13230" y="68998"/>
                  </a:cubicBezTo>
                  <a:cubicBezTo>
                    <a:pt x="8137" y="97856"/>
                    <a:pt x="43785" y="177641"/>
                    <a:pt x="43785" y="177641"/>
                  </a:cubicBez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3" name="任意多边形: 形状 95"/>
            <p:cNvSpPr/>
            <p:nvPr/>
          </p:nvSpPr>
          <p:spPr>
            <a:xfrm>
              <a:off x="10923120" y="2274840"/>
              <a:ext cx="441360" cy="509040"/>
            </a:xfrm>
            <a:custGeom>
              <a:avLst/>
              <a:gdLst>
                <a:gd name="textAreaLeft" fmla="*/ 0 w 441360"/>
                <a:gd name="textAreaRight" fmla="*/ 441720 w 441360"/>
                <a:gd name="textAreaTop" fmla="*/ 0 h 509040"/>
                <a:gd name="textAreaBottom" fmla="*/ 509400 h 509040"/>
              </a:gdLst>
              <a:ahLst/>
              <a:rect l="textAreaLeft" t="textAreaTop" r="textAreaRight" b="textAreaBottom"/>
              <a:pathLst>
                <a:path w="441359" h="509260">
                  <a:moveTo>
                    <a:pt x="18030" y="158926"/>
                  </a:moveTo>
                  <a:cubicBezTo>
                    <a:pt x="7845" y="143648"/>
                    <a:pt x="12938" y="123278"/>
                    <a:pt x="28216" y="113092"/>
                  </a:cubicBezTo>
                  <a:lnTo>
                    <a:pt x="172506" y="18030"/>
                  </a:lnTo>
                  <a:cubicBezTo>
                    <a:pt x="187784" y="7845"/>
                    <a:pt x="208155" y="12938"/>
                    <a:pt x="218340" y="28216"/>
                  </a:cubicBezTo>
                  <a:lnTo>
                    <a:pt x="439020" y="366025"/>
                  </a:lnTo>
                  <a:cubicBezTo>
                    <a:pt x="449205" y="381303"/>
                    <a:pt x="444112" y="401674"/>
                    <a:pt x="428834" y="411859"/>
                  </a:cubicBezTo>
                  <a:lnTo>
                    <a:pt x="284544" y="506921"/>
                  </a:lnTo>
                  <a:cubicBezTo>
                    <a:pt x="269266" y="517106"/>
                    <a:pt x="248895" y="512014"/>
                    <a:pt x="238710" y="496736"/>
                  </a:cubicBezTo>
                  <a:lnTo>
                    <a:pt x="18030" y="158926"/>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4" name="任意多边形: 形状 96"/>
            <p:cNvSpPr/>
            <p:nvPr/>
          </p:nvSpPr>
          <p:spPr>
            <a:xfrm>
              <a:off x="10945080" y="2286720"/>
              <a:ext cx="441360" cy="509040"/>
            </a:xfrm>
            <a:custGeom>
              <a:avLst/>
              <a:gdLst>
                <a:gd name="textAreaLeft" fmla="*/ 0 w 441360"/>
                <a:gd name="textAreaRight" fmla="*/ 441720 w 441360"/>
                <a:gd name="textAreaTop" fmla="*/ 0 h 509040"/>
                <a:gd name="textAreaBottom" fmla="*/ 509400 h 509040"/>
              </a:gdLst>
              <a:ahLst/>
              <a:rect l="textAreaLeft" t="textAreaTop" r="textAreaRight" b="textAreaBottom"/>
              <a:pathLst>
                <a:path w="441359" h="509260">
                  <a:moveTo>
                    <a:pt x="18031" y="158926"/>
                  </a:moveTo>
                  <a:cubicBezTo>
                    <a:pt x="7845" y="143648"/>
                    <a:pt x="12938" y="123278"/>
                    <a:pt x="28216" y="113093"/>
                  </a:cubicBezTo>
                  <a:lnTo>
                    <a:pt x="172507" y="18031"/>
                  </a:lnTo>
                  <a:cubicBezTo>
                    <a:pt x="187784" y="7845"/>
                    <a:pt x="208154" y="12938"/>
                    <a:pt x="218340" y="28216"/>
                  </a:cubicBezTo>
                  <a:lnTo>
                    <a:pt x="439019" y="366026"/>
                  </a:lnTo>
                  <a:cubicBezTo>
                    <a:pt x="449205" y="381303"/>
                    <a:pt x="444112" y="401674"/>
                    <a:pt x="428834" y="411859"/>
                  </a:cubicBezTo>
                  <a:lnTo>
                    <a:pt x="284544" y="506921"/>
                  </a:lnTo>
                  <a:cubicBezTo>
                    <a:pt x="269266" y="517106"/>
                    <a:pt x="248896" y="512014"/>
                    <a:pt x="238710" y="496736"/>
                  </a:cubicBezTo>
                  <a:lnTo>
                    <a:pt x="18031" y="158926"/>
                  </a:ln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5" name="任意多边形: 形状 97"/>
            <p:cNvSpPr/>
            <p:nvPr/>
          </p:nvSpPr>
          <p:spPr>
            <a:xfrm>
              <a:off x="10944000" y="2308680"/>
              <a:ext cx="424080" cy="458280"/>
            </a:xfrm>
            <a:custGeom>
              <a:avLst/>
              <a:gdLst>
                <a:gd name="textAreaLeft" fmla="*/ 0 w 424080"/>
                <a:gd name="textAreaRight" fmla="*/ 424440 w 424080"/>
                <a:gd name="textAreaTop" fmla="*/ 0 h 458280"/>
                <a:gd name="textAreaBottom" fmla="*/ 458640 h 458280"/>
              </a:gdLst>
              <a:ahLst/>
              <a:rect l="textAreaLeft" t="textAreaTop" r="textAreaRight" b="textAreaBottom"/>
              <a:pathLst>
                <a:path w="424384" h="458334">
                  <a:moveTo>
                    <a:pt x="17623" y="137406"/>
                  </a:moveTo>
                  <a:lnTo>
                    <a:pt x="200955" y="17623"/>
                  </a:lnTo>
                  <a:lnTo>
                    <a:pt x="408022" y="334546"/>
                  </a:lnTo>
                  <a:lnTo>
                    <a:pt x="224690" y="454329"/>
                  </a:lnTo>
                  <a:lnTo>
                    <a:pt x="17623" y="137406"/>
                  </a:lnTo>
                  <a:close/>
                </a:path>
              </a:pathLst>
            </a:custGeom>
            <a:solidFill>
              <a:srgbClr val="71b0c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6" name="任意多边形: 形状 98"/>
            <p:cNvSpPr/>
            <p:nvPr/>
          </p:nvSpPr>
          <p:spPr>
            <a:xfrm>
              <a:off x="10944000" y="2308680"/>
              <a:ext cx="424080" cy="458280"/>
            </a:xfrm>
            <a:custGeom>
              <a:avLst/>
              <a:gdLst>
                <a:gd name="textAreaLeft" fmla="*/ 0 w 424080"/>
                <a:gd name="textAreaRight" fmla="*/ 424440 w 424080"/>
                <a:gd name="textAreaTop" fmla="*/ 0 h 458280"/>
                <a:gd name="textAreaBottom" fmla="*/ 458640 h 458280"/>
              </a:gdLst>
              <a:ahLst/>
              <a:rect l="textAreaLeft" t="textAreaTop" r="textAreaRight" b="textAreaBottom"/>
              <a:pathLst>
                <a:path w="424384" h="458334">
                  <a:moveTo>
                    <a:pt x="17623" y="137406"/>
                  </a:moveTo>
                  <a:lnTo>
                    <a:pt x="200955" y="17623"/>
                  </a:lnTo>
                  <a:lnTo>
                    <a:pt x="408022" y="334546"/>
                  </a:lnTo>
                  <a:lnTo>
                    <a:pt x="224690" y="454329"/>
                  </a:lnTo>
                  <a:lnTo>
                    <a:pt x="17623" y="137406"/>
                  </a:lnTo>
                  <a:close/>
                </a:path>
              </a:pathLst>
            </a:custGeom>
            <a:solidFill>
              <a:srgbClr val="d1d1d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7" name="任意多边形: 形状 99"/>
            <p:cNvSpPr/>
            <p:nvPr/>
          </p:nvSpPr>
          <p:spPr>
            <a:xfrm>
              <a:off x="10942560" y="2308680"/>
              <a:ext cx="407160" cy="441360"/>
            </a:xfrm>
            <a:custGeom>
              <a:avLst/>
              <a:gdLst>
                <a:gd name="textAreaLeft" fmla="*/ 0 w 407160"/>
                <a:gd name="textAreaRight" fmla="*/ 407520 w 407160"/>
                <a:gd name="textAreaTop" fmla="*/ 0 h 441360"/>
                <a:gd name="textAreaBottom" fmla="*/ 441720 h 441360"/>
              </a:gdLst>
              <a:ahLst/>
              <a:rect l="textAreaLeft" t="textAreaTop" r="textAreaRight" b="textAreaBottom"/>
              <a:pathLst>
                <a:path w="407408" h="441359">
                  <a:moveTo>
                    <a:pt x="17623" y="137406"/>
                  </a:moveTo>
                  <a:lnTo>
                    <a:pt x="200955" y="17623"/>
                  </a:lnTo>
                  <a:lnTo>
                    <a:pt x="393165" y="311807"/>
                  </a:lnTo>
                  <a:lnTo>
                    <a:pt x="209833" y="431590"/>
                  </a:lnTo>
                  <a:lnTo>
                    <a:pt x="17623" y="13740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8" name="任意多边形: 形状 100"/>
            <p:cNvSpPr/>
            <p:nvPr/>
          </p:nvSpPr>
          <p:spPr>
            <a:xfrm>
              <a:off x="11081520" y="2307240"/>
              <a:ext cx="271440" cy="356400"/>
            </a:xfrm>
            <a:custGeom>
              <a:avLst/>
              <a:gdLst>
                <a:gd name="textAreaLeft" fmla="*/ 0 w 271440"/>
                <a:gd name="textAreaRight" fmla="*/ 271800 w 271440"/>
                <a:gd name="textAreaTop" fmla="*/ 0 h 356400"/>
                <a:gd name="textAreaBottom" fmla="*/ 356760 h 356400"/>
              </a:gdLst>
              <a:ahLst/>
              <a:rect l="textAreaLeft" t="textAreaTop" r="textAreaRight" b="textAreaBottom"/>
              <a:pathLst>
                <a:path w="271605" h="356482">
                  <a:moveTo>
                    <a:pt x="17623" y="47337"/>
                  </a:moveTo>
                  <a:lnTo>
                    <a:pt x="63101" y="17623"/>
                  </a:lnTo>
                  <a:lnTo>
                    <a:pt x="255311" y="311807"/>
                  </a:lnTo>
                  <a:lnTo>
                    <a:pt x="209833" y="341520"/>
                  </a:lnTo>
                  <a:lnTo>
                    <a:pt x="17623" y="47337"/>
                  </a:lnTo>
                  <a:close/>
                </a:path>
              </a:pathLst>
            </a:custGeom>
            <a:solidFill>
              <a:srgbClr val="c7c9e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09" name="任意多边形: 形状 101"/>
            <p:cNvSpPr/>
            <p:nvPr/>
          </p:nvSpPr>
          <p:spPr>
            <a:xfrm>
              <a:off x="11001960" y="2335320"/>
              <a:ext cx="67680" cy="50760"/>
            </a:xfrm>
            <a:custGeom>
              <a:avLst/>
              <a:gdLst>
                <a:gd name="textAreaLeft" fmla="*/ 0 w 67680"/>
                <a:gd name="textAreaRight" fmla="*/ 68040 w 67680"/>
                <a:gd name="textAreaTop" fmla="*/ 0 h 50760"/>
                <a:gd name="textAreaBottom" fmla="*/ 51120 h 50760"/>
              </a:gdLst>
              <a:ahLst/>
              <a:rect l="textAreaLeft" t="textAreaTop" r="textAreaRight" b="textAreaBottom"/>
              <a:pathLst>
                <a:path w="67901" h="50926">
                  <a:moveTo>
                    <a:pt x="13847" y="-22831"/>
                  </a:moveTo>
                  <a:cubicBezTo>
                    <a:pt x="12149" y="-24529"/>
                    <a:pt x="12149" y="-27924"/>
                    <a:pt x="15544" y="-29622"/>
                  </a:cubicBezTo>
                  <a:lnTo>
                    <a:pt x="-16041" y="13847"/>
                  </a:lnTo>
                  <a:cubicBezTo>
                    <a:pt x="-14344" y="12149"/>
                    <a:pt x="-10949" y="12149"/>
                    <a:pt x="-9251" y="15544"/>
                  </a:cubicBezTo>
                  <a:cubicBezTo>
                    <a:pt x="-7554" y="17242"/>
                    <a:pt x="-7554" y="20637"/>
                    <a:pt x="-10949" y="22334"/>
                  </a:cubicBezTo>
                  <a:lnTo>
                    <a:pt x="20637" y="-21134"/>
                  </a:lnTo>
                  <a:cubicBezTo>
                    <a:pt x="18939" y="-19436"/>
                    <a:pt x="15544" y="-19436"/>
                    <a:pt x="13847" y="-22831"/>
                  </a:cubicBez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10" name="任意多边形: 形状 102"/>
            <p:cNvSpPr/>
            <p:nvPr/>
          </p:nvSpPr>
          <p:spPr>
            <a:xfrm>
              <a:off x="11227320" y="2685960"/>
              <a:ext cx="67680" cy="50760"/>
            </a:xfrm>
            <a:custGeom>
              <a:avLst/>
              <a:gdLst>
                <a:gd name="textAreaLeft" fmla="*/ 0 w 67680"/>
                <a:gd name="textAreaRight" fmla="*/ 68040 w 67680"/>
                <a:gd name="textAreaTop" fmla="*/ 0 h 50760"/>
                <a:gd name="textAreaBottom" fmla="*/ 51120 h 50760"/>
              </a:gdLst>
              <a:ahLst/>
              <a:rect l="textAreaLeft" t="textAreaTop" r="textAreaRight" b="textAreaBottom"/>
              <a:pathLst>
                <a:path w="67901" h="50926">
                  <a:moveTo>
                    <a:pt x="12732" y="50077"/>
                  </a:moveTo>
                  <a:cubicBezTo>
                    <a:pt x="12732" y="50077"/>
                    <a:pt x="12732" y="48380"/>
                    <a:pt x="12732" y="48380"/>
                  </a:cubicBezTo>
                  <a:lnTo>
                    <a:pt x="67053" y="12732"/>
                  </a:lnTo>
                  <a:cubicBezTo>
                    <a:pt x="67053" y="12732"/>
                    <a:pt x="68751" y="12732"/>
                    <a:pt x="68751" y="12732"/>
                  </a:cubicBezTo>
                  <a:cubicBezTo>
                    <a:pt x="68751" y="12732"/>
                    <a:pt x="68751" y="14429"/>
                    <a:pt x="68751" y="14429"/>
                  </a:cubicBezTo>
                  <a:lnTo>
                    <a:pt x="14429" y="50077"/>
                  </a:lnTo>
                  <a:cubicBezTo>
                    <a:pt x="14429" y="50077"/>
                    <a:pt x="12732" y="50077"/>
                    <a:pt x="12732" y="50077"/>
                  </a:cubicBez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11" name="任意多边形: 形状 103"/>
            <p:cNvSpPr/>
            <p:nvPr/>
          </p:nvSpPr>
          <p:spPr>
            <a:xfrm>
              <a:off x="11183760" y="2741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33950" h="33950">
                  <a:moveTo>
                    <a:pt x="13847" y="24032"/>
                  </a:moveTo>
                  <a:cubicBezTo>
                    <a:pt x="12149" y="20637"/>
                    <a:pt x="12149" y="17242"/>
                    <a:pt x="15544" y="13847"/>
                  </a:cubicBezTo>
                  <a:cubicBezTo>
                    <a:pt x="18940" y="12149"/>
                    <a:pt x="22334" y="12149"/>
                    <a:pt x="25730" y="15544"/>
                  </a:cubicBezTo>
                  <a:cubicBezTo>
                    <a:pt x="27427" y="18939"/>
                    <a:pt x="27427" y="22334"/>
                    <a:pt x="24032" y="25729"/>
                  </a:cubicBezTo>
                  <a:cubicBezTo>
                    <a:pt x="20637" y="29124"/>
                    <a:pt x="15544" y="27427"/>
                    <a:pt x="13847" y="24032"/>
                  </a:cubicBezTo>
                  <a:close/>
                </a:path>
              </a:pathLst>
            </a:custGeom>
            <a:solidFill>
              <a:srgbClr val="c7c9ea"/>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12" name="任意多边形: 形状 104"/>
            <p:cNvSpPr/>
            <p:nvPr/>
          </p:nvSpPr>
          <p:spPr>
            <a:xfrm>
              <a:off x="11014560" y="24159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19996" y="67053"/>
                  </a:moveTo>
                  <a:cubicBezTo>
                    <a:pt x="31879" y="85726"/>
                    <a:pt x="57342" y="92516"/>
                    <a:pt x="76015" y="80633"/>
                  </a:cubicBezTo>
                  <a:lnTo>
                    <a:pt x="52250" y="44985"/>
                  </a:lnTo>
                  <a:lnTo>
                    <a:pt x="25089" y="12732"/>
                  </a:lnTo>
                  <a:cubicBezTo>
                    <a:pt x="11508" y="28009"/>
                    <a:pt x="8114" y="50077"/>
                    <a:pt x="19996" y="67053"/>
                  </a:cubicBez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13" name="任意多边形: 形状 105"/>
            <p:cNvSpPr/>
            <p:nvPr/>
          </p:nvSpPr>
          <p:spPr>
            <a:xfrm>
              <a:off x="11062440" y="2436480"/>
              <a:ext cx="50760" cy="67680"/>
            </a:xfrm>
            <a:custGeom>
              <a:avLst/>
              <a:gdLst>
                <a:gd name="textAreaLeft" fmla="*/ 0 w 50760"/>
                <a:gd name="textAreaRight" fmla="*/ 51120 w 50760"/>
                <a:gd name="textAreaTop" fmla="*/ 0 h 67680"/>
                <a:gd name="textAreaBottom" fmla="*/ 68040 h 67680"/>
              </a:gdLst>
              <a:ahLst/>
              <a:rect l="textAreaLeft" t="textAreaTop" r="textAreaRight" b="textAreaBottom"/>
              <a:pathLst>
                <a:path w="50926" h="67901">
                  <a:moveTo>
                    <a:pt x="-32434" y="-6971"/>
                  </a:moveTo>
                  <a:cubicBezTo>
                    <a:pt x="-18854" y="-18854"/>
                    <a:pt x="-12064" y="28009"/>
                    <a:pt x="-17157" y="12732"/>
                  </a:cubicBezTo>
                  <a:lnTo>
                    <a:pt x="12732" y="26312"/>
                  </a:lnTo>
                  <a:lnTo>
                    <a:pt x="-32434" y="-6971"/>
                  </a:lnTo>
                  <a:close/>
                </a:path>
              </a:pathLst>
            </a:custGeom>
            <a:solidFill>
              <a:srgbClr val="986666"/>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014" name="任意多边形: 形状 106"/>
            <p:cNvSpPr/>
            <p:nvPr/>
          </p:nvSpPr>
          <p:spPr>
            <a:xfrm>
              <a:off x="11031840" y="2405160"/>
              <a:ext cx="84600" cy="50760"/>
            </a:xfrm>
            <a:custGeom>
              <a:avLst/>
              <a:gdLst>
                <a:gd name="textAreaLeft" fmla="*/ 0 w 84600"/>
                <a:gd name="textAreaRight" fmla="*/ 84960 w 84600"/>
                <a:gd name="textAreaTop" fmla="*/ 0 h 50760"/>
                <a:gd name="textAreaBottom" fmla="*/ 51120 h 50760"/>
              </a:gdLst>
              <a:ahLst/>
              <a:rect l="textAreaLeft" t="textAreaTop" r="textAreaRight" b="textAreaBottom"/>
              <a:pathLst>
                <a:path w="84876" h="50926">
                  <a:moveTo>
                    <a:pt x="75541" y="35589"/>
                  </a:moveTo>
                  <a:cubicBezTo>
                    <a:pt x="75541" y="33891"/>
                    <a:pt x="73843" y="32194"/>
                    <a:pt x="73843" y="32194"/>
                  </a:cubicBezTo>
                  <a:cubicBezTo>
                    <a:pt x="60263" y="11823"/>
                    <a:pt x="34800" y="6731"/>
                    <a:pt x="14429" y="20311"/>
                  </a:cubicBezTo>
                  <a:cubicBezTo>
                    <a:pt x="14429" y="20311"/>
                    <a:pt x="14429" y="20311"/>
                    <a:pt x="12732" y="20311"/>
                  </a:cubicBezTo>
                  <a:lnTo>
                    <a:pt x="38195" y="50866"/>
                  </a:lnTo>
                  <a:lnTo>
                    <a:pt x="75541" y="35589"/>
                  </a:lnTo>
                  <a:close/>
                </a:path>
              </a:pathLst>
            </a:custGeom>
            <a:solidFill>
              <a:srgbClr val="e4d2a2"/>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15" name="任意多边形: 形状 107"/>
            <p:cNvSpPr/>
            <p:nvPr/>
          </p:nvSpPr>
          <p:spPr>
            <a:xfrm>
              <a:off x="11153160" y="27255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33950" h="33950">
                  <a:moveTo>
                    <a:pt x="13847" y="20637"/>
                  </a:moveTo>
                  <a:cubicBezTo>
                    <a:pt x="12149" y="18939"/>
                    <a:pt x="12149" y="15544"/>
                    <a:pt x="15544" y="13846"/>
                  </a:cubicBezTo>
                  <a:cubicBezTo>
                    <a:pt x="17241" y="12149"/>
                    <a:pt x="20637" y="12149"/>
                    <a:pt x="22334" y="15544"/>
                  </a:cubicBezTo>
                  <a:cubicBezTo>
                    <a:pt x="24032" y="17242"/>
                    <a:pt x="24032" y="20637"/>
                    <a:pt x="20637" y="22334"/>
                  </a:cubicBezTo>
                  <a:cubicBezTo>
                    <a:pt x="18939" y="24032"/>
                    <a:pt x="15544" y="24032"/>
                    <a:pt x="13847" y="20637"/>
                  </a:cubicBezTo>
                  <a:close/>
                </a:path>
              </a:pathLst>
            </a:custGeom>
            <a:solidFill>
              <a:srgbClr val="e2846b"/>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16" name="任意多边形: 形状 108"/>
            <p:cNvSpPr/>
            <p:nvPr/>
          </p:nvSpPr>
          <p:spPr>
            <a:xfrm>
              <a:off x="11168280" y="271728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33950" h="33950">
                  <a:moveTo>
                    <a:pt x="13847" y="20637"/>
                  </a:moveTo>
                  <a:cubicBezTo>
                    <a:pt x="12149" y="18939"/>
                    <a:pt x="12149" y="15544"/>
                    <a:pt x="15544" y="13846"/>
                  </a:cubicBezTo>
                  <a:cubicBezTo>
                    <a:pt x="17242" y="12149"/>
                    <a:pt x="20637" y="12149"/>
                    <a:pt x="22334" y="15544"/>
                  </a:cubicBezTo>
                  <a:cubicBezTo>
                    <a:pt x="24032" y="17242"/>
                    <a:pt x="24032" y="20637"/>
                    <a:pt x="20637" y="22334"/>
                  </a:cubicBezTo>
                  <a:cubicBezTo>
                    <a:pt x="18939" y="22334"/>
                    <a:pt x="15544" y="22334"/>
                    <a:pt x="13847" y="20637"/>
                  </a:cubicBezTo>
                  <a:close/>
                </a:path>
              </a:pathLst>
            </a:custGeom>
            <a:solidFill>
              <a:srgbClr val="eec43e"/>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17" name="任意多边形: 形状 109"/>
            <p:cNvSpPr/>
            <p:nvPr/>
          </p:nvSpPr>
          <p:spPr>
            <a:xfrm>
              <a:off x="11183760" y="27068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33950" h="33950">
                  <a:moveTo>
                    <a:pt x="13847" y="20637"/>
                  </a:moveTo>
                  <a:cubicBezTo>
                    <a:pt x="12149" y="18939"/>
                    <a:pt x="12149" y="15544"/>
                    <a:pt x="15544" y="13847"/>
                  </a:cubicBezTo>
                  <a:cubicBezTo>
                    <a:pt x="17242" y="12149"/>
                    <a:pt x="20637" y="12149"/>
                    <a:pt x="22334" y="15544"/>
                  </a:cubicBezTo>
                  <a:cubicBezTo>
                    <a:pt x="24032" y="17242"/>
                    <a:pt x="24032" y="20637"/>
                    <a:pt x="20637" y="22334"/>
                  </a:cubicBezTo>
                  <a:cubicBezTo>
                    <a:pt x="18940" y="22334"/>
                    <a:pt x="15544" y="22334"/>
                    <a:pt x="13847" y="20637"/>
                  </a:cubicBezTo>
                  <a:close/>
                </a:path>
              </a:pathLst>
            </a:custGeom>
            <a:solidFill>
              <a:srgbClr val="6ec29b"/>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18" name="任意多边形: 形状 110"/>
            <p:cNvSpPr/>
            <p:nvPr/>
          </p:nvSpPr>
          <p:spPr>
            <a:xfrm>
              <a:off x="10972440" y="2417760"/>
              <a:ext cx="67680" cy="50760"/>
            </a:xfrm>
            <a:custGeom>
              <a:avLst/>
              <a:gdLst>
                <a:gd name="textAreaLeft" fmla="*/ 0 w 67680"/>
                <a:gd name="textAreaRight" fmla="*/ 68040 w 67680"/>
                <a:gd name="textAreaTop" fmla="*/ 0 h 50760"/>
                <a:gd name="textAreaBottom" fmla="*/ 51120 h 50760"/>
              </a:gdLst>
              <a:ahLst/>
              <a:rect l="textAreaLeft" t="textAreaTop" r="textAreaRight" b="textAreaBottom"/>
              <a:pathLst>
                <a:path w="67901" h="50926">
                  <a:moveTo>
                    <a:pt x="17622" y="-25625"/>
                  </a:moveTo>
                  <a:lnTo>
                    <a:pt x="-13814" y="17622"/>
                  </a:lnTo>
                  <a:lnTo>
                    <a:pt x="-9171" y="24726"/>
                  </a:lnTo>
                  <a:lnTo>
                    <a:pt x="22265" y="-18521"/>
                  </a:lnTo>
                  <a:lnTo>
                    <a:pt x="17622" y="-25625"/>
                  </a:ln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19" name="任意多边形: 形状 111"/>
            <p:cNvSpPr/>
            <p:nvPr/>
          </p:nvSpPr>
          <p:spPr>
            <a:xfrm>
              <a:off x="11044800" y="2368800"/>
              <a:ext cx="67680" cy="50760"/>
            </a:xfrm>
            <a:custGeom>
              <a:avLst/>
              <a:gdLst>
                <a:gd name="textAreaLeft" fmla="*/ 0 w 67680"/>
                <a:gd name="textAreaRight" fmla="*/ 68040 w 67680"/>
                <a:gd name="textAreaTop" fmla="*/ 0 h 50760"/>
                <a:gd name="textAreaBottom" fmla="*/ 51120 h 50760"/>
              </a:gdLst>
              <a:ahLst/>
              <a:rect l="textAreaLeft" t="textAreaTop" r="textAreaRight" b="textAreaBottom"/>
              <a:pathLst>
                <a:path w="67901" h="50926">
                  <a:moveTo>
                    <a:pt x="17622" y="-25633"/>
                  </a:moveTo>
                  <a:lnTo>
                    <a:pt x="-13806" y="17622"/>
                  </a:lnTo>
                  <a:lnTo>
                    <a:pt x="-9164" y="24728"/>
                  </a:lnTo>
                  <a:lnTo>
                    <a:pt x="22264" y="-18527"/>
                  </a:lnTo>
                  <a:lnTo>
                    <a:pt x="17622" y="-25633"/>
                  </a:ln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20" name="任意多边形: 形状 112"/>
            <p:cNvSpPr/>
            <p:nvPr/>
          </p:nvSpPr>
          <p:spPr>
            <a:xfrm>
              <a:off x="11094840" y="2445120"/>
              <a:ext cx="67680" cy="50760"/>
            </a:xfrm>
            <a:custGeom>
              <a:avLst/>
              <a:gdLst>
                <a:gd name="textAreaLeft" fmla="*/ 0 w 67680"/>
                <a:gd name="textAreaRight" fmla="*/ 68040 w 67680"/>
                <a:gd name="textAreaTop" fmla="*/ 0 h 50760"/>
                <a:gd name="textAreaBottom" fmla="*/ 51120 h 50760"/>
              </a:gdLst>
              <a:ahLst/>
              <a:rect l="textAreaLeft" t="textAreaTop" r="textAreaRight" b="textAreaBottom"/>
              <a:pathLst>
                <a:path w="67901" h="50926">
                  <a:moveTo>
                    <a:pt x="17622" y="-25633"/>
                  </a:moveTo>
                  <a:lnTo>
                    <a:pt x="-13806" y="17622"/>
                  </a:lnTo>
                  <a:lnTo>
                    <a:pt x="-9164" y="24728"/>
                  </a:lnTo>
                  <a:lnTo>
                    <a:pt x="22263" y="-18527"/>
                  </a:lnTo>
                  <a:lnTo>
                    <a:pt x="17622" y="-25633"/>
                  </a:ln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21" name="任意多边形: 形状 113"/>
            <p:cNvSpPr/>
            <p:nvPr/>
          </p:nvSpPr>
          <p:spPr>
            <a:xfrm>
              <a:off x="11134800" y="2616120"/>
              <a:ext cx="118800" cy="84600"/>
            </a:xfrm>
            <a:custGeom>
              <a:avLst/>
              <a:gdLst>
                <a:gd name="textAreaLeft" fmla="*/ 0 w 118800"/>
                <a:gd name="textAreaRight" fmla="*/ 119160 w 118800"/>
                <a:gd name="textAreaTop" fmla="*/ 0 h 84600"/>
                <a:gd name="textAreaBottom" fmla="*/ 84960 h 84600"/>
              </a:gdLst>
              <a:ahLst/>
              <a:rect l="textAreaLeft" t="textAreaTop" r="textAreaRight" b="textAreaBottom"/>
              <a:pathLst>
                <a:path w="118827" h="84876">
                  <a:moveTo>
                    <a:pt x="17622" y="75192"/>
                  </a:moveTo>
                  <a:lnTo>
                    <a:pt x="105724" y="17622"/>
                  </a:lnTo>
                  <a:lnTo>
                    <a:pt x="110367" y="24727"/>
                  </a:lnTo>
                  <a:lnTo>
                    <a:pt x="22264" y="82297"/>
                  </a:lnTo>
                  <a:lnTo>
                    <a:pt x="17622" y="75192"/>
                  </a:lnTo>
                  <a:close/>
                </a:path>
              </a:pathLst>
            </a:custGeom>
            <a:solidFill>
              <a:srgbClr val="8dacaf"/>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22" name="任意多边形: 形状 114"/>
            <p:cNvSpPr/>
            <p:nvPr/>
          </p:nvSpPr>
          <p:spPr>
            <a:xfrm>
              <a:off x="11260800" y="257616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622" y="-30275"/>
                  </a:moveTo>
                  <a:lnTo>
                    <a:pt x="-20912" y="17622"/>
                  </a:lnTo>
                  <a:lnTo>
                    <a:pt x="-18127" y="21885"/>
                  </a:lnTo>
                  <a:lnTo>
                    <a:pt x="20407" y="-26011"/>
                  </a:lnTo>
                  <a:lnTo>
                    <a:pt x="17622" y="-30275"/>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23" name="任意多边形: 形状 115"/>
            <p:cNvSpPr/>
            <p:nvPr/>
          </p:nvSpPr>
          <p:spPr>
            <a:xfrm>
              <a:off x="11244240" y="255096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622" y="-30275"/>
                  </a:moveTo>
                  <a:lnTo>
                    <a:pt x="-20912" y="17622"/>
                  </a:lnTo>
                  <a:lnTo>
                    <a:pt x="-18127" y="21885"/>
                  </a:lnTo>
                  <a:lnTo>
                    <a:pt x="20407" y="-26011"/>
                  </a:lnTo>
                  <a:lnTo>
                    <a:pt x="17622" y="-30275"/>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24" name="任意多边形: 形状 116"/>
            <p:cNvSpPr/>
            <p:nvPr/>
          </p:nvSpPr>
          <p:spPr>
            <a:xfrm>
              <a:off x="11227320" y="25246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622" y="-30272"/>
                  </a:moveTo>
                  <a:lnTo>
                    <a:pt x="-20915" y="17622"/>
                  </a:lnTo>
                  <a:lnTo>
                    <a:pt x="-18129" y="21885"/>
                  </a:lnTo>
                  <a:lnTo>
                    <a:pt x="20408" y="-26009"/>
                  </a:lnTo>
                  <a:lnTo>
                    <a:pt x="17622" y="-30272"/>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25" name="任意多边形: 形状 117"/>
            <p:cNvSpPr/>
            <p:nvPr/>
          </p:nvSpPr>
          <p:spPr>
            <a:xfrm>
              <a:off x="11210040" y="24976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622" y="-30275"/>
                  </a:moveTo>
                  <a:lnTo>
                    <a:pt x="-20912" y="17622"/>
                  </a:lnTo>
                  <a:lnTo>
                    <a:pt x="-18127" y="21885"/>
                  </a:lnTo>
                  <a:lnTo>
                    <a:pt x="20407" y="-26012"/>
                  </a:lnTo>
                  <a:lnTo>
                    <a:pt x="17622" y="-30275"/>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26" name="任意多边形: 形状 118"/>
            <p:cNvSpPr/>
            <p:nvPr/>
          </p:nvSpPr>
          <p:spPr>
            <a:xfrm>
              <a:off x="11193480" y="24724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622" y="-30275"/>
                  </a:moveTo>
                  <a:lnTo>
                    <a:pt x="-20912" y="17622"/>
                  </a:lnTo>
                  <a:lnTo>
                    <a:pt x="-18127" y="21885"/>
                  </a:lnTo>
                  <a:lnTo>
                    <a:pt x="20407" y="-26012"/>
                  </a:lnTo>
                  <a:lnTo>
                    <a:pt x="17622" y="-30275"/>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27" name="任意多边形: 形状 119"/>
            <p:cNvSpPr/>
            <p:nvPr/>
          </p:nvSpPr>
          <p:spPr>
            <a:xfrm>
              <a:off x="11175480" y="24454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621" y="-30280"/>
                  </a:moveTo>
                  <a:lnTo>
                    <a:pt x="-20913" y="17620"/>
                  </a:lnTo>
                  <a:lnTo>
                    <a:pt x="-18129" y="21884"/>
                  </a:lnTo>
                  <a:lnTo>
                    <a:pt x="20405" y="-26016"/>
                  </a:lnTo>
                  <a:lnTo>
                    <a:pt x="17621" y="-3028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28" name="任意多边形: 形状 120"/>
            <p:cNvSpPr/>
            <p:nvPr/>
          </p:nvSpPr>
          <p:spPr>
            <a:xfrm>
              <a:off x="11158920" y="241956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622" y="-30269"/>
                  </a:moveTo>
                  <a:lnTo>
                    <a:pt x="-20918" y="17622"/>
                  </a:lnTo>
                  <a:lnTo>
                    <a:pt x="-18132" y="21884"/>
                  </a:lnTo>
                  <a:lnTo>
                    <a:pt x="20408" y="-26006"/>
                  </a:lnTo>
                  <a:lnTo>
                    <a:pt x="17622" y="-30269"/>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29" name="任意多边形: 形状 121"/>
            <p:cNvSpPr/>
            <p:nvPr/>
          </p:nvSpPr>
          <p:spPr>
            <a:xfrm>
              <a:off x="11110680" y="2585520"/>
              <a:ext cx="135720" cy="101520"/>
            </a:xfrm>
            <a:custGeom>
              <a:avLst/>
              <a:gdLst>
                <a:gd name="textAreaLeft" fmla="*/ 0 w 135720"/>
                <a:gd name="textAreaRight" fmla="*/ 136080 w 135720"/>
                <a:gd name="textAreaTop" fmla="*/ 0 h 101520"/>
                <a:gd name="textAreaBottom" fmla="*/ 101880 h 101520"/>
              </a:gdLst>
              <a:ahLst/>
              <a:rect l="textAreaLeft" t="textAreaTop" r="textAreaRight" b="textAreaBottom"/>
              <a:pathLst>
                <a:path w="135802" h="101852">
                  <a:moveTo>
                    <a:pt x="17623" y="82622"/>
                  </a:moveTo>
                  <a:lnTo>
                    <a:pt x="117105" y="17623"/>
                  </a:lnTo>
                  <a:lnTo>
                    <a:pt x="119891" y="21887"/>
                  </a:lnTo>
                  <a:lnTo>
                    <a:pt x="20409" y="86885"/>
                  </a:lnTo>
                  <a:lnTo>
                    <a:pt x="17623" y="82622"/>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30" name="任意多边形: 形状 122"/>
            <p:cNvSpPr/>
            <p:nvPr/>
          </p:nvSpPr>
          <p:spPr>
            <a:xfrm>
              <a:off x="11102400" y="2570040"/>
              <a:ext cx="135720" cy="101520"/>
            </a:xfrm>
            <a:custGeom>
              <a:avLst/>
              <a:gdLst>
                <a:gd name="textAreaLeft" fmla="*/ 0 w 135720"/>
                <a:gd name="textAreaRight" fmla="*/ 136080 w 135720"/>
                <a:gd name="textAreaTop" fmla="*/ 0 h 101520"/>
                <a:gd name="textAreaBottom" fmla="*/ 101880 h 101520"/>
              </a:gdLst>
              <a:ahLst/>
              <a:rect l="textAreaLeft" t="textAreaTop" r="textAreaRight" b="textAreaBottom"/>
              <a:pathLst>
                <a:path w="135802" h="101852">
                  <a:moveTo>
                    <a:pt x="17622" y="88179"/>
                  </a:moveTo>
                  <a:lnTo>
                    <a:pt x="125631" y="17622"/>
                  </a:lnTo>
                  <a:lnTo>
                    <a:pt x="128416" y="21885"/>
                  </a:lnTo>
                  <a:lnTo>
                    <a:pt x="20407" y="92442"/>
                  </a:lnTo>
                  <a:lnTo>
                    <a:pt x="17622" y="88179"/>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31" name="任意多边形: 形状 123"/>
            <p:cNvSpPr/>
            <p:nvPr/>
          </p:nvSpPr>
          <p:spPr>
            <a:xfrm>
              <a:off x="11097000" y="2559240"/>
              <a:ext cx="135720" cy="101520"/>
            </a:xfrm>
            <a:custGeom>
              <a:avLst/>
              <a:gdLst>
                <a:gd name="textAreaLeft" fmla="*/ 0 w 135720"/>
                <a:gd name="textAreaRight" fmla="*/ 136080 w 135720"/>
                <a:gd name="textAreaTop" fmla="*/ 0 h 101520"/>
                <a:gd name="textAreaBottom" fmla="*/ 101880 h 101520"/>
              </a:gdLst>
              <a:ahLst/>
              <a:rect l="textAreaLeft" t="textAreaTop" r="textAreaRight" b="textAreaBottom"/>
              <a:pathLst>
                <a:path w="135802" h="101852">
                  <a:moveTo>
                    <a:pt x="17622" y="88179"/>
                  </a:moveTo>
                  <a:lnTo>
                    <a:pt x="125631" y="17622"/>
                  </a:lnTo>
                  <a:lnTo>
                    <a:pt x="128416" y="21885"/>
                  </a:lnTo>
                  <a:lnTo>
                    <a:pt x="20407" y="92442"/>
                  </a:lnTo>
                  <a:lnTo>
                    <a:pt x="17622" y="88179"/>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32" name="任意多边形: 形状 124"/>
            <p:cNvSpPr/>
            <p:nvPr/>
          </p:nvSpPr>
          <p:spPr>
            <a:xfrm>
              <a:off x="11094840" y="2555280"/>
              <a:ext cx="135720" cy="84600"/>
            </a:xfrm>
            <a:custGeom>
              <a:avLst/>
              <a:gdLst>
                <a:gd name="textAreaLeft" fmla="*/ 0 w 135720"/>
                <a:gd name="textAreaRight" fmla="*/ 136080 w 135720"/>
                <a:gd name="textAreaTop" fmla="*/ 0 h 84600"/>
                <a:gd name="textAreaBottom" fmla="*/ 84960 h 84600"/>
              </a:gdLst>
              <a:ahLst/>
              <a:rect l="textAreaLeft" t="textAreaTop" r="textAreaRight" b="textAreaBottom"/>
              <a:pathLst>
                <a:path w="135802" h="84876">
                  <a:moveTo>
                    <a:pt x="12732" y="84028"/>
                  </a:moveTo>
                  <a:lnTo>
                    <a:pt x="121374" y="12732"/>
                  </a:lnTo>
                  <a:lnTo>
                    <a:pt x="123071" y="16127"/>
                  </a:lnTo>
                  <a:lnTo>
                    <a:pt x="16126" y="87423"/>
                  </a:lnTo>
                  <a:lnTo>
                    <a:pt x="12732" y="84028"/>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33" name="任意多边形: 形状 125"/>
            <p:cNvSpPr/>
            <p:nvPr/>
          </p:nvSpPr>
          <p:spPr>
            <a:xfrm>
              <a:off x="11084400" y="2540520"/>
              <a:ext cx="135720" cy="101520"/>
            </a:xfrm>
            <a:custGeom>
              <a:avLst/>
              <a:gdLst>
                <a:gd name="textAreaLeft" fmla="*/ 0 w 135720"/>
                <a:gd name="textAreaRight" fmla="*/ 136080 w 135720"/>
                <a:gd name="textAreaTop" fmla="*/ 0 h 101520"/>
                <a:gd name="textAreaBottom" fmla="*/ 101880 h 101520"/>
              </a:gdLst>
              <a:ahLst/>
              <a:rect l="textAreaLeft" t="textAreaTop" r="textAreaRight" b="textAreaBottom"/>
              <a:pathLst>
                <a:path w="135802" h="101852">
                  <a:moveTo>
                    <a:pt x="17623" y="88193"/>
                  </a:moveTo>
                  <a:lnTo>
                    <a:pt x="125633" y="17623"/>
                  </a:lnTo>
                  <a:lnTo>
                    <a:pt x="128418" y="21886"/>
                  </a:lnTo>
                  <a:lnTo>
                    <a:pt x="20409" y="92456"/>
                  </a:lnTo>
                  <a:lnTo>
                    <a:pt x="17623" y="88193"/>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34" name="任意多边形: 形状 126"/>
            <p:cNvSpPr/>
            <p:nvPr/>
          </p:nvSpPr>
          <p:spPr>
            <a:xfrm>
              <a:off x="11067120" y="2519640"/>
              <a:ext cx="135720" cy="101520"/>
            </a:xfrm>
            <a:custGeom>
              <a:avLst/>
              <a:gdLst>
                <a:gd name="textAreaLeft" fmla="*/ 0 w 135720"/>
                <a:gd name="textAreaRight" fmla="*/ 136080 w 135720"/>
                <a:gd name="textAreaTop" fmla="*/ 0 h 101520"/>
                <a:gd name="textAreaBottom" fmla="*/ 101880 h 101520"/>
              </a:gdLst>
              <a:ahLst/>
              <a:rect l="textAreaLeft" t="textAreaTop" r="textAreaRight" b="textAreaBottom"/>
              <a:pathLst>
                <a:path w="135802" h="101852">
                  <a:moveTo>
                    <a:pt x="17622" y="82621"/>
                  </a:moveTo>
                  <a:lnTo>
                    <a:pt x="117092" y="17622"/>
                  </a:lnTo>
                  <a:lnTo>
                    <a:pt x="119878" y="21885"/>
                  </a:lnTo>
                  <a:lnTo>
                    <a:pt x="20407" y="86884"/>
                  </a:lnTo>
                  <a:lnTo>
                    <a:pt x="17622" y="82621"/>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35" name="任意多边形: 形状 127"/>
            <p:cNvSpPr/>
            <p:nvPr/>
          </p:nvSpPr>
          <p:spPr>
            <a:xfrm>
              <a:off x="11060280" y="2505960"/>
              <a:ext cx="135720" cy="101520"/>
            </a:xfrm>
            <a:custGeom>
              <a:avLst/>
              <a:gdLst>
                <a:gd name="textAreaLeft" fmla="*/ 0 w 135720"/>
                <a:gd name="textAreaRight" fmla="*/ 136080 w 135720"/>
                <a:gd name="textAreaTop" fmla="*/ 0 h 101520"/>
                <a:gd name="textAreaBottom" fmla="*/ 101880 h 101520"/>
              </a:gdLst>
              <a:ahLst/>
              <a:rect l="textAreaLeft" t="textAreaTop" r="textAreaRight" b="textAreaBottom"/>
              <a:pathLst>
                <a:path w="135802" h="101852">
                  <a:moveTo>
                    <a:pt x="17622" y="88179"/>
                  </a:moveTo>
                  <a:lnTo>
                    <a:pt x="125631" y="17622"/>
                  </a:lnTo>
                  <a:lnTo>
                    <a:pt x="128416" y="21885"/>
                  </a:lnTo>
                  <a:lnTo>
                    <a:pt x="20407" y="92442"/>
                  </a:lnTo>
                  <a:lnTo>
                    <a:pt x="17622" y="88179"/>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36" name="任意多边形: 形状 128"/>
            <p:cNvSpPr/>
            <p:nvPr/>
          </p:nvSpPr>
          <p:spPr>
            <a:xfrm>
              <a:off x="11054880" y="2494800"/>
              <a:ext cx="135720" cy="101520"/>
            </a:xfrm>
            <a:custGeom>
              <a:avLst/>
              <a:gdLst>
                <a:gd name="textAreaLeft" fmla="*/ 0 w 135720"/>
                <a:gd name="textAreaRight" fmla="*/ 136080 w 135720"/>
                <a:gd name="textAreaTop" fmla="*/ 0 h 101520"/>
                <a:gd name="textAreaBottom" fmla="*/ 101880 h 101520"/>
              </a:gdLst>
              <a:ahLst/>
              <a:rect l="textAreaLeft" t="textAreaTop" r="textAreaRight" b="textAreaBottom"/>
              <a:pathLst>
                <a:path w="135802" h="101852">
                  <a:moveTo>
                    <a:pt x="17622" y="88179"/>
                  </a:moveTo>
                  <a:lnTo>
                    <a:pt x="125631" y="17622"/>
                  </a:lnTo>
                  <a:lnTo>
                    <a:pt x="128416" y="21885"/>
                  </a:lnTo>
                  <a:lnTo>
                    <a:pt x="20407" y="92442"/>
                  </a:lnTo>
                  <a:lnTo>
                    <a:pt x="17622" y="88179"/>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37" name="任意多边形: 形状 129"/>
            <p:cNvSpPr/>
            <p:nvPr/>
          </p:nvSpPr>
          <p:spPr>
            <a:xfrm>
              <a:off x="11052360" y="2490840"/>
              <a:ext cx="135720" cy="84600"/>
            </a:xfrm>
            <a:custGeom>
              <a:avLst/>
              <a:gdLst>
                <a:gd name="textAreaLeft" fmla="*/ 0 w 135720"/>
                <a:gd name="textAreaRight" fmla="*/ 136080 w 135720"/>
                <a:gd name="textAreaTop" fmla="*/ 0 h 84600"/>
                <a:gd name="textAreaBottom" fmla="*/ 84960 h 84600"/>
              </a:gdLst>
              <a:ahLst/>
              <a:rect l="textAreaLeft" t="textAreaTop" r="textAreaRight" b="textAreaBottom"/>
              <a:pathLst>
                <a:path w="135802" h="84876">
                  <a:moveTo>
                    <a:pt x="12732" y="82330"/>
                  </a:moveTo>
                  <a:lnTo>
                    <a:pt x="121374" y="12732"/>
                  </a:lnTo>
                  <a:lnTo>
                    <a:pt x="123071" y="16127"/>
                  </a:lnTo>
                  <a:lnTo>
                    <a:pt x="16126" y="87423"/>
                  </a:lnTo>
                  <a:lnTo>
                    <a:pt x="12732" y="8233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38" name="任意多边形: 形状 130"/>
            <p:cNvSpPr/>
            <p:nvPr/>
          </p:nvSpPr>
          <p:spPr>
            <a:xfrm>
              <a:off x="11042280" y="2476080"/>
              <a:ext cx="135720" cy="101520"/>
            </a:xfrm>
            <a:custGeom>
              <a:avLst/>
              <a:gdLst>
                <a:gd name="textAreaLeft" fmla="*/ 0 w 135720"/>
                <a:gd name="textAreaRight" fmla="*/ 136080 w 135720"/>
                <a:gd name="textAreaTop" fmla="*/ 0 h 101520"/>
                <a:gd name="textAreaBottom" fmla="*/ 101880 h 101520"/>
              </a:gdLst>
              <a:ahLst/>
              <a:rect l="textAreaLeft" t="textAreaTop" r="textAreaRight" b="textAreaBottom"/>
              <a:pathLst>
                <a:path w="135802" h="101852">
                  <a:moveTo>
                    <a:pt x="17623" y="88193"/>
                  </a:moveTo>
                  <a:lnTo>
                    <a:pt x="125633" y="17623"/>
                  </a:lnTo>
                  <a:lnTo>
                    <a:pt x="128418" y="21886"/>
                  </a:lnTo>
                  <a:lnTo>
                    <a:pt x="20409" y="92456"/>
                  </a:lnTo>
                  <a:lnTo>
                    <a:pt x="17623" y="88193"/>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39" name="任意多边形: 形状 131"/>
            <p:cNvSpPr/>
            <p:nvPr/>
          </p:nvSpPr>
          <p:spPr>
            <a:xfrm>
              <a:off x="11075760" y="2235960"/>
              <a:ext cx="186480" cy="271440"/>
            </a:xfrm>
            <a:custGeom>
              <a:avLst/>
              <a:gdLst>
                <a:gd name="textAreaLeft" fmla="*/ 0 w 186480"/>
                <a:gd name="textAreaRight" fmla="*/ 186840 w 186480"/>
                <a:gd name="textAreaTop" fmla="*/ 0 h 271440"/>
                <a:gd name="textAreaBottom" fmla="*/ 271800 h 271440"/>
              </a:gdLst>
              <a:ahLst/>
              <a:rect l="textAreaLeft" t="textAreaTop" r="textAreaRight" b="textAreaBottom"/>
              <a:pathLst>
                <a:path w="186729" h="271605">
                  <a:moveTo>
                    <a:pt x="30009" y="257177"/>
                  </a:moveTo>
                  <a:cubicBezTo>
                    <a:pt x="45287" y="263967"/>
                    <a:pt x="62262" y="257177"/>
                    <a:pt x="69052" y="241899"/>
                  </a:cubicBezTo>
                  <a:cubicBezTo>
                    <a:pt x="74145" y="230016"/>
                    <a:pt x="82633" y="211343"/>
                    <a:pt x="91121" y="190973"/>
                  </a:cubicBezTo>
                  <a:cubicBezTo>
                    <a:pt x="118281" y="157022"/>
                    <a:pt x="136954" y="158720"/>
                    <a:pt x="150534" y="170602"/>
                  </a:cubicBezTo>
                  <a:lnTo>
                    <a:pt x="186183" y="70448"/>
                  </a:lnTo>
                  <a:cubicBezTo>
                    <a:pt x="186183" y="70448"/>
                    <a:pt x="135257" y="33102"/>
                    <a:pt x="101306" y="12732"/>
                  </a:cubicBezTo>
                  <a:cubicBezTo>
                    <a:pt x="101306" y="17824"/>
                    <a:pt x="101306" y="22917"/>
                    <a:pt x="101306" y="28009"/>
                  </a:cubicBezTo>
                  <a:cubicBezTo>
                    <a:pt x="87725" y="60263"/>
                    <a:pt x="67355" y="104399"/>
                    <a:pt x="50380" y="141744"/>
                  </a:cubicBezTo>
                  <a:cubicBezTo>
                    <a:pt x="36799" y="173997"/>
                    <a:pt x="23219" y="202856"/>
                    <a:pt x="16429" y="219831"/>
                  </a:cubicBezTo>
                  <a:cubicBezTo>
                    <a:pt x="7941" y="233411"/>
                    <a:pt x="14731" y="250387"/>
                    <a:pt x="30009" y="257177"/>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40" name="任意多边形: 形状 132"/>
            <p:cNvSpPr/>
            <p:nvPr/>
          </p:nvSpPr>
          <p:spPr>
            <a:xfrm>
              <a:off x="10013040" y="2081520"/>
              <a:ext cx="152640" cy="543240"/>
            </a:xfrm>
            <a:custGeom>
              <a:avLst/>
              <a:gdLst>
                <a:gd name="textAreaLeft" fmla="*/ 0 w 152640"/>
                <a:gd name="textAreaRight" fmla="*/ 153000 w 152640"/>
                <a:gd name="textAreaTop" fmla="*/ 0 h 543240"/>
                <a:gd name="textAreaBottom" fmla="*/ 543600 h 543240"/>
              </a:gdLst>
              <a:ahLst/>
              <a:rect l="textAreaLeft" t="textAreaTop" r="textAreaRight" b="textAreaBottom"/>
              <a:pathLst>
                <a:path w="152778" h="543211">
                  <a:moveTo>
                    <a:pt x="24940" y="530480"/>
                  </a:moveTo>
                  <a:cubicBezTo>
                    <a:pt x="33427" y="532178"/>
                    <a:pt x="41915" y="527085"/>
                    <a:pt x="45310" y="518597"/>
                  </a:cubicBezTo>
                  <a:lnTo>
                    <a:pt x="55495" y="476159"/>
                  </a:lnTo>
                  <a:lnTo>
                    <a:pt x="57193" y="471066"/>
                  </a:lnTo>
                  <a:lnTo>
                    <a:pt x="123397" y="190973"/>
                  </a:lnTo>
                  <a:lnTo>
                    <a:pt x="125094" y="185880"/>
                  </a:lnTo>
                  <a:lnTo>
                    <a:pt x="126792" y="177393"/>
                  </a:lnTo>
                  <a:lnTo>
                    <a:pt x="128490" y="172300"/>
                  </a:lnTo>
                  <a:lnTo>
                    <a:pt x="130187" y="163812"/>
                  </a:lnTo>
                  <a:lnTo>
                    <a:pt x="131884" y="158720"/>
                  </a:lnTo>
                  <a:lnTo>
                    <a:pt x="133582" y="150232"/>
                  </a:lnTo>
                  <a:lnTo>
                    <a:pt x="135280" y="145139"/>
                  </a:lnTo>
                  <a:lnTo>
                    <a:pt x="136977" y="136652"/>
                  </a:lnTo>
                  <a:lnTo>
                    <a:pt x="138674" y="131559"/>
                  </a:lnTo>
                  <a:lnTo>
                    <a:pt x="140372" y="123071"/>
                  </a:lnTo>
                  <a:lnTo>
                    <a:pt x="142070" y="117979"/>
                  </a:lnTo>
                  <a:lnTo>
                    <a:pt x="152255" y="77238"/>
                  </a:lnTo>
                  <a:cubicBezTo>
                    <a:pt x="153953" y="68750"/>
                    <a:pt x="157347" y="26312"/>
                    <a:pt x="150557" y="19522"/>
                  </a:cubicBezTo>
                  <a:lnTo>
                    <a:pt x="152255" y="12732"/>
                  </a:lnTo>
                  <a:lnTo>
                    <a:pt x="148860" y="12732"/>
                  </a:lnTo>
                  <a:lnTo>
                    <a:pt x="147162" y="19522"/>
                  </a:lnTo>
                  <a:cubicBezTo>
                    <a:pt x="138674" y="21219"/>
                    <a:pt x="121699" y="61960"/>
                    <a:pt x="120002" y="70448"/>
                  </a:cubicBezTo>
                  <a:lnTo>
                    <a:pt x="109817" y="111189"/>
                  </a:lnTo>
                  <a:lnTo>
                    <a:pt x="108119" y="116281"/>
                  </a:lnTo>
                  <a:lnTo>
                    <a:pt x="106421" y="124769"/>
                  </a:lnTo>
                  <a:lnTo>
                    <a:pt x="104724" y="129862"/>
                  </a:lnTo>
                  <a:lnTo>
                    <a:pt x="103027" y="138349"/>
                  </a:lnTo>
                  <a:lnTo>
                    <a:pt x="101329" y="143442"/>
                  </a:lnTo>
                  <a:lnTo>
                    <a:pt x="99631" y="151929"/>
                  </a:lnTo>
                  <a:lnTo>
                    <a:pt x="97934" y="157022"/>
                  </a:lnTo>
                  <a:lnTo>
                    <a:pt x="96236" y="165510"/>
                  </a:lnTo>
                  <a:lnTo>
                    <a:pt x="94539" y="170602"/>
                  </a:lnTo>
                  <a:lnTo>
                    <a:pt x="92841" y="179090"/>
                  </a:lnTo>
                  <a:lnTo>
                    <a:pt x="91144" y="184183"/>
                  </a:lnTo>
                  <a:lnTo>
                    <a:pt x="24940" y="464276"/>
                  </a:lnTo>
                  <a:lnTo>
                    <a:pt x="23242" y="469369"/>
                  </a:lnTo>
                  <a:lnTo>
                    <a:pt x="13057" y="511807"/>
                  </a:lnTo>
                  <a:cubicBezTo>
                    <a:pt x="11359" y="520295"/>
                    <a:pt x="16452" y="528783"/>
                    <a:pt x="24940" y="530480"/>
                  </a:cubicBez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41" name="任意多边形: 形状 133"/>
            <p:cNvSpPr/>
            <p:nvPr/>
          </p:nvSpPr>
          <p:spPr>
            <a:xfrm>
              <a:off x="10132200" y="2064600"/>
              <a:ext cx="16920" cy="33840"/>
            </a:xfrm>
            <a:custGeom>
              <a:avLst/>
              <a:gdLst>
                <a:gd name="textAreaLeft" fmla="*/ 0 w 16920"/>
                <a:gd name="textAreaRight" fmla="*/ 17280 w 16920"/>
                <a:gd name="textAreaTop" fmla="*/ 0 h 33840"/>
                <a:gd name="textAreaBottom" fmla="*/ 34200 h 33840"/>
              </a:gdLst>
              <a:ahLst/>
              <a:rect l="textAreaLeft" t="textAreaTop" r="textAreaRight" b="textAreaBottom"/>
              <a:pathLst>
                <a:path w="16975" h="33950">
                  <a:moveTo>
                    <a:pt x="16127" y="12732"/>
                  </a:moveTo>
                  <a:lnTo>
                    <a:pt x="19522" y="12732"/>
                  </a:lnTo>
                  <a:lnTo>
                    <a:pt x="16127" y="28009"/>
                  </a:lnTo>
                  <a:lnTo>
                    <a:pt x="12732" y="26312"/>
                  </a:lnTo>
                  <a:lnTo>
                    <a:pt x="16127" y="12732"/>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42" name="任意多边形: 形状 134"/>
            <p:cNvSpPr/>
            <p:nvPr/>
          </p:nvSpPr>
          <p:spPr>
            <a:xfrm>
              <a:off x="9999360" y="2071440"/>
              <a:ext cx="152640" cy="543240"/>
            </a:xfrm>
            <a:custGeom>
              <a:avLst/>
              <a:gdLst>
                <a:gd name="textAreaLeft" fmla="*/ 0 w 152640"/>
                <a:gd name="textAreaRight" fmla="*/ 153000 w 152640"/>
                <a:gd name="textAreaTop" fmla="*/ 0 h 543240"/>
                <a:gd name="textAreaBottom" fmla="*/ 543600 h 543240"/>
              </a:gdLst>
              <a:ahLst/>
              <a:rect l="textAreaLeft" t="textAreaTop" r="textAreaRight" b="textAreaBottom"/>
              <a:pathLst>
                <a:path w="152778" h="543211">
                  <a:moveTo>
                    <a:pt x="120001" y="63705"/>
                  </a:moveTo>
                  <a:cubicBezTo>
                    <a:pt x="121699" y="55218"/>
                    <a:pt x="140372" y="11082"/>
                    <a:pt x="148860" y="12779"/>
                  </a:cubicBezTo>
                  <a:cubicBezTo>
                    <a:pt x="157347" y="14477"/>
                    <a:pt x="153952" y="62008"/>
                    <a:pt x="152255" y="72193"/>
                  </a:cubicBezTo>
                  <a:lnTo>
                    <a:pt x="45310" y="522040"/>
                  </a:lnTo>
                  <a:cubicBezTo>
                    <a:pt x="43612" y="530528"/>
                    <a:pt x="35125" y="535620"/>
                    <a:pt x="24939" y="533923"/>
                  </a:cubicBezTo>
                  <a:cubicBezTo>
                    <a:pt x="16452" y="532225"/>
                    <a:pt x="11359" y="523738"/>
                    <a:pt x="13057" y="513552"/>
                  </a:cubicBezTo>
                  <a:lnTo>
                    <a:pt x="120001" y="63705"/>
                  </a:ln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43" name="任意多边形: 形状 135"/>
            <p:cNvSpPr/>
            <p:nvPr/>
          </p:nvSpPr>
          <p:spPr>
            <a:xfrm>
              <a:off x="10076400" y="2236320"/>
              <a:ext cx="50760" cy="33840"/>
            </a:xfrm>
            <a:custGeom>
              <a:avLst/>
              <a:gdLst>
                <a:gd name="textAreaLeft" fmla="*/ 0 w 50760"/>
                <a:gd name="textAreaRight" fmla="*/ 51120 w 50760"/>
                <a:gd name="textAreaTop" fmla="*/ 0 h 33840"/>
                <a:gd name="textAreaBottom" fmla="*/ 34200 h 33840"/>
              </a:gdLst>
              <a:ahLst/>
              <a:rect l="textAreaLeft" t="textAreaTop" r="textAreaRight" b="textAreaBottom"/>
              <a:pathLst>
                <a:path w="50926" h="33950">
                  <a:moveTo>
                    <a:pt x="15341" y="20295"/>
                  </a:moveTo>
                  <a:lnTo>
                    <a:pt x="16524" y="15342"/>
                  </a:lnTo>
                  <a:lnTo>
                    <a:pt x="-17639" y="22834"/>
                  </a:lnTo>
                  <a:lnTo>
                    <a:pt x="-18822" y="27787"/>
                  </a:lnTo>
                  <a:lnTo>
                    <a:pt x="15341" y="20295"/>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44" name="任意多边形: 形状 136"/>
            <p:cNvSpPr/>
            <p:nvPr/>
          </p:nvSpPr>
          <p:spPr>
            <a:xfrm>
              <a:off x="10006920" y="2522520"/>
              <a:ext cx="50760" cy="33840"/>
            </a:xfrm>
            <a:custGeom>
              <a:avLst/>
              <a:gdLst>
                <a:gd name="textAreaLeft" fmla="*/ 0 w 50760"/>
                <a:gd name="textAreaRight" fmla="*/ 51120 w 50760"/>
                <a:gd name="textAreaTop" fmla="*/ 0 h 33840"/>
                <a:gd name="textAreaBottom" fmla="*/ 34200 h 33840"/>
              </a:gdLst>
              <a:ahLst/>
              <a:rect l="textAreaLeft" t="textAreaTop" r="textAreaRight" b="textAreaBottom"/>
              <a:pathLst>
                <a:path w="50926" h="33950">
                  <a:moveTo>
                    <a:pt x="15336" y="20290"/>
                  </a:moveTo>
                  <a:lnTo>
                    <a:pt x="16517" y="15337"/>
                  </a:lnTo>
                  <a:lnTo>
                    <a:pt x="-17646" y="22816"/>
                  </a:lnTo>
                  <a:lnTo>
                    <a:pt x="-18827" y="27770"/>
                  </a:lnTo>
                  <a:lnTo>
                    <a:pt x="15336" y="20290"/>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45" name="任意多边形: 形状 137"/>
            <p:cNvSpPr/>
            <p:nvPr/>
          </p:nvSpPr>
          <p:spPr>
            <a:xfrm>
              <a:off x="10081440" y="2224080"/>
              <a:ext cx="50760" cy="33840"/>
            </a:xfrm>
            <a:custGeom>
              <a:avLst/>
              <a:gdLst>
                <a:gd name="textAreaLeft" fmla="*/ 0 w 50760"/>
                <a:gd name="textAreaRight" fmla="*/ 51120 w 50760"/>
                <a:gd name="textAreaTop" fmla="*/ 0 h 33840"/>
                <a:gd name="textAreaBottom" fmla="*/ 34200 h 33840"/>
              </a:gdLst>
              <a:ahLst/>
              <a:rect l="textAreaLeft" t="textAreaTop" r="textAreaRight" b="textAreaBottom"/>
              <a:pathLst>
                <a:path w="50926" h="33950">
                  <a:moveTo>
                    <a:pt x="14429" y="12732"/>
                  </a:moveTo>
                  <a:lnTo>
                    <a:pt x="-18854" y="19522"/>
                  </a:lnTo>
                  <a:lnTo>
                    <a:pt x="-20551" y="24614"/>
                  </a:lnTo>
                  <a:lnTo>
                    <a:pt x="12732" y="17824"/>
                  </a:lnTo>
                  <a:lnTo>
                    <a:pt x="14429" y="12732"/>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46" name="任意多边形: 形状 138"/>
            <p:cNvSpPr/>
            <p:nvPr/>
          </p:nvSpPr>
          <p:spPr>
            <a:xfrm>
              <a:off x="10082160" y="2207160"/>
              <a:ext cx="50760" cy="33840"/>
            </a:xfrm>
            <a:custGeom>
              <a:avLst/>
              <a:gdLst>
                <a:gd name="textAreaLeft" fmla="*/ 0 w 50760"/>
                <a:gd name="textAreaRight" fmla="*/ 51120 w 50760"/>
                <a:gd name="textAreaTop" fmla="*/ 0 h 33840"/>
                <a:gd name="textAreaBottom" fmla="*/ 34200 h 33840"/>
              </a:gdLst>
              <a:ahLst/>
              <a:rect l="textAreaLeft" t="textAreaTop" r="textAreaRight" b="textAreaBottom"/>
              <a:pathLst>
                <a:path w="50926" h="33950">
                  <a:moveTo>
                    <a:pt x="15340" y="20293"/>
                  </a:moveTo>
                  <a:lnTo>
                    <a:pt x="16523" y="15341"/>
                  </a:lnTo>
                  <a:lnTo>
                    <a:pt x="-17643" y="22833"/>
                  </a:lnTo>
                  <a:lnTo>
                    <a:pt x="-18826" y="27786"/>
                  </a:lnTo>
                  <a:lnTo>
                    <a:pt x="15340" y="20293"/>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47" name="任意多边形: 形状 139"/>
            <p:cNvSpPr/>
            <p:nvPr/>
          </p:nvSpPr>
          <p:spPr>
            <a:xfrm>
              <a:off x="10085040" y="2192400"/>
              <a:ext cx="50760" cy="33840"/>
            </a:xfrm>
            <a:custGeom>
              <a:avLst/>
              <a:gdLst>
                <a:gd name="textAreaLeft" fmla="*/ 0 w 50760"/>
                <a:gd name="textAreaRight" fmla="*/ 51120 w 50760"/>
                <a:gd name="textAreaTop" fmla="*/ 0 h 33840"/>
                <a:gd name="textAreaBottom" fmla="*/ 34200 h 33840"/>
              </a:gdLst>
              <a:ahLst/>
              <a:rect l="textAreaLeft" t="textAreaTop" r="textAreaRight" b="textAreaBottom"/>
              <a:pathLst>
                <a:path w="50926" h="33950">
                  <a:moveTo>
                    <a:pt x="15342" y="20294"/>
                  </a:moveTo>
                  <a:lnTo>
                    <a:pt x="16525" y="15342"/>
                  </a:lnTo>
                  <a:lnTo>
                    <a:pt x="-17642" y="22837"/>
                  </a:lnTo>
                  <a:lnTo>
                    <a:pt x="-18825" y="27790"/>
                  </a:lnTo>
                  <a:lnTo>
                    <a:pt x="15342" y="20294"/>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48" name="任意多边形: 形状 140"/>
            <p:cNvSpPr/>
            <p:nvPr/>
          </p:nvSpPr>
          <p:spPr>
            <a:xfrm>
              <a:off x="10091520" y="2178360"/>
              <a:ext cx="50760" cy="33840"/>
            </a:xfrm>
            <a:custGeom>
              <a:avLst/>
              <a:gdLst>
                <a:gd name="textAreaLeft" fmla="*/ 0 w 50760"/>
                <a:gd name="textAreaRight" fmla="*/ 51120 w 50760"/>
                <a:gd name="textAreaTop" fmla="*/ 0 h 33840"/>
                <a:gd name="textAreaBottom" fmla="*/ 34200 h 33840"/>
              </a:gdLst>
              <a:ahLst/>
              <a:rect l="textAreaLeft" t="textAreaTop" r="textAreaRight" b="textAreaBottom"/>
              <a:pathLst>
                <a:path w="50926" h="33950">
                  <a:moveTo>
                    <a:pt x="14429" y="12732"/>
                  </a:moveTo>
                  <a:lnTo>
                    <a:pt x="-18854" y="21219"/>
                  </a:lnTo>
                  <a:lnTo>
                    <a:pt x="-20551" y="26312"/>
                  </a:lnTo>
                  <a:lnTo>
                    <a:pt x="12732" y="19522"/>
                  </a:lnTo>
                  <a:lnTo>
                    <a:pt x="14429" y="12732"/>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49" name="任意多边形: 形状 141"/>
            <p:cNvSpPr/>
            <p:nvPr/>
          </p:nvSpPr>
          <p:spPr>
            <a:xfrm>
              <a:off x="10093320" y="2161080"/>
              <a:ext cx="50760" cy="33840"/>
            </a:xfrm>
            <a:custGeom>
              <a:avLst/>
              <a:gdLst>
                <a:gd name="textAreaLeft" fmla="*/ 0 w 50760"/>
                <a:gd name="textAreaRight" fmla="*/ 51120 w 50760"/>
                <a:gd name="textAreaTop" fmla="*/ 0 h 33840"/>
                <a:gd name="textAreaBottom" fmla="*/ 34200 h 33840"/>
              </a:gdLst>
              <a:ahLst/>
              <a:rect l="textAreaLeft" t="textAreaTop" r="textAreaRight" b="textAreaBottom"/>
              <a:pathLst>
                <a:path w="50926" h="33950">
                  <a:moveTo>
                    <a:pt x="15335" y="20289"/>
                  </a:moveTo>
                  <a:lnTo>
                    <a:pt x="16515" y="15335"/>
                  </a:lnTo>
                  <a:lnTo>
                    <a:pt x="-17645" y="22808"/>
                  </a:lnTo>
                  <a:lnTo>
                    <a:pt x="-18825" y="27762"/>
                  </a:lnTo>
                  <a:lnTo>
                    <a:pt x="15335" y="20289"/>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050" name="任意多边形: 形状 142"/>
            <p:cNvSpPr/>
            <p:nvPr/>
          </p:nvSpPr>
          <p:spPr>
            <a:xfrm>
              <a:off x="10045800" y="2210760"/>
              <a:ext cx="84600" cy="169560"/>
            </a:xfrm>
            <a:custGeom>
              <a:avLst/>
              <a:gdLst>
                <a:gd name="textAreaLeft" fmla="*/ 0 w 84600"/>
                <a:gd name="textAreaRight" fmla="*/ 84960 w 84600"/>
                <a:gd name="textAreaTop" fmla="*/ 0 h 169560"/>
                <a:gd name="textAreaBottom" fmla="*/ 169920 h 169560"/>
              </a:gdLst>
              <a:ahLst/>
              <a:rect l="textAreaLeft" t="textAreaTop" r="textAreaRight" b="textAreaBottom"/>
              <a:pathLst>
                <a:path w="84876" h="169753">
                  <a:moveTo>
                    <a:pt x="38195" y="12732"/>
                  </a:moveTo>
                  <a:lnTo>
                    <a:pt x="12732" y="99306"/>
                  </a:lnTo>
                  <a:cubicBezTo>
                    <a:pt x="19522" y="102701"/>
                    <a:pt x="26312" y="107794"/>
                    <a:pt x="34800" y="116281"/>
                  </a:cubicBezTo>
                  <a:cubicBezTo>
                    <a:pt x="46682" y="134954"/>
                    <a:pt x="56868" y="151929"/>
                    <a:pt x="63658" y="163812"/>
                  </a:cubicBezTo>
                  <a:cubicBezTo>
                    <a:pt x="63658" y="165510"/>
                    <a:pt x="65355" y="165510"/>
                    <a:pt x="65355" y="167207"/>
                  </a:cubicBezTo>
                  <a:lnTo>
                    <a:pt x="84028" y="87423"/>
                  </a:lnTo>
                  <a:cubicBezTo>
                    <a:pt x="78936" y="78935"/>
                    <a:pt x="73843" y="70448"/>
                    <a:pt x="67053" y="61960"/>
                  </a:cubicBezTo>
                  <a:cubicBezTo>
                    <a:pt x="58565" y="44985"/>
                    <a:pt x="48380" y="28009"/>
                    <a:pt x="38195" y="12732"/>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1" name="任意多边形: 形状 143"/>
            <p:cNvSpPr/>
            <p:nvPr/>
          </p:nvSpPr>
          <p:spPr>
            <a:xfrm>
              <a:off x="5463720" y="3774600"/>
              <a:ext cx="1357920" cy="730080"/>
            </a:xfrm>
            <a:custGeom>
              <a:avLst/>
              <a:gdLst>
                <a:gd name="textAreaLeft" fmla="*/ 0 w 1357920"/>
                <a:gd name="textAreaRight" fmla="*/ 1358280 w 1357920"/>
                <a:gd name="textAreaTop" fmla="*/ 0 h 730080"/>
                <a:gd name="textAreaBottom" fmla="*/ 730440 h 730080"/>
              </a:gdLst>
              <a:ahLst/>
              <a:rect l="textAreaLeft" t="textAreaTop" r="textAreaRight" b="textAreaBottom"/>
              <a:pathLst>
                <a:path w="1358029" h="729940">
                  <a:moveTo>
                    <a:pt x="1311347" y="12732"/>
                  </a:moveTo>
                  <a:lnTo>
                    <a:pt x="51775" y="12732"/>
                  </a:lnTo>
                  <a:cubicBezTo>
                    <a:pt x="31404" y="12732"/>
                    <a:pt x="12732" y="29707"/>
                    <a:pt x="12732" y="51775"/>
                  </a:cubicBezTo>
                  <a:cubicBezTo>
                    <a:pt x="12732" y="72145"/>
                    <a:pt x="29707" y="90818"/>
                    <a:pt x="51775" y="90818"/>
                  </a:cubicBezTo>
                  <a:lnTo>
                    <a:pt x="141744" y="90818"/>
                  </a:lnTo>
                  <a:cubicBezTo>
                    <a:pt x="104398" y="90818"/>
                    <a:pt x="73843" y="121374"/>
                    <a:pt x="73843" y="158720"/>
                  </a:cubicBezTo>
                  <a:lnTo>
                    <a:pt x="73843" y="656098"/>
                  </a:lnTo>
                  <a:cubicBezTo>
                    <a:pt x="73843" y="693444"/>
                    <a:pt x="104398" y="723999"/>
                    <a:pt x="141744" y="723999"/>
                  </a:cubicBezTo>
                  <a:lnTo>
                    <a:pt x="1223075" y="723999"/>
                  </a:lnTo>
                  <a:cubicBezTo>
                    <a:pt x="1260421" y="723999"/>
                    <a:pt x="1290977" y="693444"/>
                    <a:pt x="1290977" y="656098"/>
                  </a:cubicBezTo>
                  <a:lnTo>
                    <a:pt x="1290977" y="158720"/>
                  </a:lnTo>
                  <a:cubicBezTo>
                    <a:pt x="1290977" y="121374"/>
                    <a:pt x="1260421" y="90818"/>
                    <a:pt x="1223075" y="90818"/>
                  </a:cubicBezTo>
                  <a:lnTo>
                    <a:pt x="1311347" y="90818"/>
                  </a:lnTo>
                  <a:cubicBezTo>
                    <a:pt x="1331717" y="90818"/>
                    <a:pt x="1350390" y="73843"/>
                    <a:pt x="1350390" y="51775"/>
                  </a:cubicBezTo>
                  <a:cubicBezTo>
                    <a:pt x="1350390" y="29707"/>
                    <a:pt x="1333415" y="12732"/>
                    <a:pt x="1311347" y="12732"/>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2" name="任意多边形: 形状 144"/>
            <p:cNvSpPr/>
            <p:nvPr/>
          </p:nvSpPr>
          <p:spPr>
            <a:xfrm>
              <a:off x="10979280" y="4434840"/>
              <a:ext cx="916560" cy="1256400"/>
            </a:xfrm>
            <a:custGeom>
              <a:avLst/>
              <a:gdLst>
                <a:gd name="textAreaLeft" fmla="*/ 0 w 916560"/>
                <a:gd name="textAreaRight" fmla="*/ 916920 w 916560"/>
                <a:gd name="textAreaTop" fmla="*/ 0 h 1256400"/>
                <a:gd name="textAreaBottom" fmla="*/ 1256760 h 1256400"/>
              </a:gdLst>
              <a:ahLst/>
              <a:rect l="textAreaLeft" t="textAreaTop" r="textAreaRight" b="textAreaBottom"/>
              <a:pathLst>
                <a:path w="916669" h="1256177">
                  <a:moveTo>
                    <a:pt x="58565" y="1251933"/>
                  </a:moveTo>
                  <a:cubicBezTo>
                    <a:pt x="33102" y="1251933"/>
                    <a:pt x="17824" y="1251933"/>
                    <a:pt x="12732" y="1250236"/>
                  </a:cubicBezTo>
                  <a:lnTo>
                    <a:pt x="22917" y="1075390"/>
                  </a:lnTo>
                  <a:cubicBezTo>
                    <a:pt x="28010" y="1075390"/>
                    <a:pt x="572919" y="1100853"/>
                    <a:pt x="710419" y="771531"/>
                  </a:cubicBezTo>
                  <a:cubicBezTo>
                    <a:pt x="769833" y="630635"/>
                    <a:pt x="688351" y="263967"/>
                    <a:pt x="623845" y="67053"/>
                  </a:cubicBezTo>
                  <a:lnTo>
                    <a:pt x="790204" y="12732"/>
                  </a:lnTo>
                  <a:cubicBezTo>
                    <a:pt x="808877" y="72145"/>
                    <a:pt x="975235" y="591592"/>
                    <a:pt x="871685" y="839432"/>
                  </a:cubicBezTo>
                  <a:cubicBezTo>
                    <a:pt x="712117" y="1221378"/>
                    <a:pt x="213041" y="1251933"/>
                    <a:pt x="58565" y="1251933"/>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3" name="任意多边形: 形状 145"/>
            <p:cNvSpPr/>
            <p:nvPr/>
          </p:nvSpPr>
          <p:spPr>
            <a:xfrm>
              <a:off x="10012680" y="4640400"/>
              <a:ext cx="899640" cy="967680"/>
            </a:xfrm>
            <a:custGeom>
              <a:avLst/>
              <a:gdLst>
                <a:gd name="textAreaLeft" fmla="*/ 0 w 899640"/>
                <a:gd name="textAreaRight" fmla="*/ 900000 w 899640"/>
                <a:gd name="textAreaTop" fmla="*/ 0 h 967680"/>
                <a:gd name="textAreaBottom" fmla="*/ 968040 h 967680"/>
              </a:gdLst>
              <a:ahLst/>
              <a:rect l="textAreaLeft" t="textAreaTop" r="textAreaRight" b="textAreaBottom"/>
              <a:pathLst>
                <a:path w="899694" h="967595">
                  <a:moveTo>
                    <a:pt x="473593" y="965050"/>
                  </a:moveTo>
                  <a:cubicBezTo>
                    <a:pt x="5073" y="805481"/>
                    <a:pt x="-11903" y="299615"/>
                    <a:pt x="25443" y="172300"/>
                  </a:cubicBezTo>
                  <a:cubicBezTo>
                    <a:pt x="42419" y="111188"/>
                    <a:pt x="62789" y="43287"/>
                    <a:pt x="891187" y="12732"/>
                  </a:cubicBezTo>
                  <a:lnTo>
                    <a:pt x="897977" y="187578"/>
                  </a:lnTo>
                  <a:cubicBezTo>
                    <a:pt x="619581" y="197763"/>
                    <a:pt x="291956" y="224924"/>
                    <a:pt x="188407" y="252084"/>
                  </a:cubicBezTo>
                  <a:cubicBezTo>
                    <a:pt x="179919" y="364121"/>
                    <a:pt x="207079" y="691746"/>
                    <a:pt x="529611" y="802086"/>
                  </a:cubicBezTo>
                  <a:lnTo>
                    <a:pt x="473593" y="965050"/>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4" name="任意多边形: 形状 146"/>
            <p:cNvSpPr/>
            <p:nvPr/>
          </p:nvSpPr>
          <p:spPr>
            <a:xfrm>
              <a:off x="10977840" y="4586040"/>
              <a:ext cx="933480" cy="1120320"/>
            </a:xfrm>
            <a:custGeom>
              <a:avLst/>
              <a:gdLst>
                <a:gd name="textAreaLeft" fmla="*/ 0 w 933480"/>
                <a:gd name="textAreaRight" fmla="*/ 933840 w 933480"/>
                <a:gd name="textAreaTop" fmla="*/ 0 h 1120320"/>
                <a:gd name="textAreaBottom" fmla="*/ 1120680 h 1120320"/>
              </a:gdLst>
              <a:ahLst/>
              <a:rect l="textAreaLeft" t="textAreaTop" r="textAreaRight" b="textAreaBottom"/>
              <a:pathLst>
                <a:path w="933645" h="1120374">
                  <a:moveTo>
                    <a:pt x="58565" y="1121223"/>
                  </a:moveTo>
                  <a:cubicBezTo>
                    <a:pt x="33102" y="1121223"/>
                    <a:pt x="16126" y="1121223"/>
                    <a:pt x="12732" y="1119526"/>
                  </a:cubicBezTo>
                  <a:lnTo>
                    <a:pt x="24614" y="907333"/>
                  </a:lnTo>
                  <a:cubicBezTo>
                    <a:pt x="29707" y="907333"/>
                    <a:pt x="561036" y="932797"/>
                    <a:pt x="693443" y="615357"/>
                  </a:cubicBezTo>
                  <a:cubicBezTo>
                    <a:pt x="730789" y="527085"/>
                    <a:pt x="713814" y="321683"/>
                    <a:pt x="647610" y="67053"/>
                  </a:cubicBezTo>
                  <a:lnTo>
                    <a:pt x="854709" y="12732"/>
                  </a:lnTo>
                  <a:cubicBezTo>
                    <a:pt x="936191" y="328473"/>
                    <a:pt x="949771" y="559339"/>
                    <a:pt x="892055" y="696839"/>
                  </a:cubicBezTo>
                  <a:cubicBezTo>
                    <a:pt x="727394" y="1088970"/>
                    <a:pt x="216436" y="1121223"/>
                    <a:pt x="58565" y="1121223"/>
                  </a:cubicBezTo>
                  <a:close/>
                </a:path>
              </a:pathLst>
            </a:custGeom>
            <a:solidFill>
              <a:srgbClr val="477e8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5" name="任意多边形: 形状 147"/>
            <p:cNvSpPr/>
            <p:nvPr/>
          </p:nvSpPr>
          <p:spPr>
            <a:xfrm>
              <a:off x="9993240" y="4630320"/>
              <a:ext cx="695880" cy="1001520"/>
            </a:xfrm>
            <a:custGeom>
              <a:avLst/>
              <a:gdLst>
                <a:gd name="textAreaLeft" fmla="*/ 0 w 695880"/>
                <a:gd name="textAreaRight" fmla="*/ 696240 w 695880"/>
                <a:gd name="textAreaTop" fmla="*/ 0 h 1001520"/>
                <a:gd name="textAreaBottom" fmla="*/ 1001880 h 1001520"/>
              </a:gdLst>
              <a:ahLst/>
              <a:rect l="textAreaLeft" t="textAreaTop" r="textAreaRight" b="textAreaBottom"/>
              <a:pathLst>
                <a:path w="695990" h="1001546">
                  <a:moveTo>
                    <a:pt x="486032" y="992210"/>
                  </a:moveTo>
                  <a:cubicBezTo>
                    <a:pt x="5629" y="827549"/>
                    <a:pt x="-13044" y="308103"/>
                    <a:pt x="26000" y="175695"/>
                  </a:cubicBezTo>
                  <a:cubicBezTo>
                    <a:pt x="49765" y="92516"/>
                    <a:pt x="134642" y="68750"/>
                    <a:pt x="314581" y="44985"/>
                  </a:cubicBezTo>
                  <a:cubicBezTo>
                    <a:pt x="409643" y="33102"/>
                    <a:pt x="533563" y="21219"/>
                    <a:pt x="682947" y="12732"/>
                  </a:cubicBezTo>
                  <a:lnTo>
                    <a:pt x="696527" y="224924"/>
                  </a:lnTo>
                  <a:cubicBezTo>
                    <a:pt x="407945" y="243597"/>
                    <a:pt x="280630" y="262270"/>
                    <a:pt x="228006" y="274152"/>
                  </a:cubicBezTo>
                  <a:cubicBezTo>
                    <a:pt x="224612" y="384492"/>
                    <a:pt x="248377" y="684956"/>
                    <a:pt x="555631" y="790203"/>
                  </a:cubicBezTo>
                  <a:lnTo>
                    <a:pt x="486032" y="992210"/>
                  </a:lnTo>
                  <a:close/>
                </a:path>
              </a:pathLst>
            </a:custGeom>
            <a:solidFill>
              <a:srgbClr val="477e8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6" name="任意多边形: 形状 148"/>
            <p:cNvSpPr/>
            <p:nvPr/>
          </p:nvSpPr>
          <p:spPr>
            <a:xfrm>
              <a:off x="10234080" y="5025960"/>
              <a:ext cx="1306800" cy="678960"/>
            </a:xfrm>
            <a:custGeom>
              <a:avLst/>
              <a:gdLst>
                <a:gd name="textAreaLeft" fmla="*/ 0 w 1306800"/>
                <a:gd name="textAreaRight" fmla="*/ 1307160 w 1306800"/>
                <a:gd name="textAreaTop" fmla="*/ 0 h 678960"/>
                <a:gd name="textAreaBottom" fmla="*/ 679320 h 678960"/>
              </a:gdLst>
              <a:ahLst/>
              <a:rect l="textAreaLeft" t="textAreaTop" r="textAreaRight" b="textAreaBottom"/>
              <a:pathLst>
                <a:path w="1307103" h="679014">
                  <a:moveTo>
                    <a:pt x="1302859" y="345449"/>
                  </a:moveTo>
                  <a:cubicBezTo>
                    <a:pt x="1302859" y="162115"/>
                    <a:pt x="1014278" y="12732"/>
                    <a:pt x="657795" y="12732"/>
                  </a:cubicBezTo>
                  <a:cubicBezTo>
                    <a:pt x="301313" y="12732"/>
                    <a:pt x="12732" y="162115"/>
                    <a:pt x="12732" y="345449"/>
                  </a:cubicBezTo>
                  <a:cubicBezTo>
                    <a:pt x="12732" y="528783"/>
                    <a:pt x="301313" y="678166"/>
                    <a:pt x="657795" y="678166"/>
                  </a:cubicBezTo>
                  <a:cubicBezTo>
                    <a:pt x="1014278" y="679864"/>
                    <a:pt x="1302859" y="530480"/>
                    <a:pt x="1302859" y="345449"/>
                  </a:cubicBezTo>
                  <a:close/>
                </a:path>
              </a:pathLst>
            </a:custGeom>
            <a:solidFill>
              <a:srgbClr val="477e8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7" name="任意多边形: 形状 149"/>
            <p:cNvSpPr/>
            <p:nvPr/>
          </p:nvSpPr>
          <p:spPr>
            <a:xfrm>
              <a:off x="11475720" y="4080960"/>
              <a:ext cx="339480" cy="492120"/>
            </a:xfrm>
            <a:custGeom>
              <a:avLst/>
              <a:gdLst>
                <a:gd name="textAreaLeft" fmla="*/ 0 w 339480"/>
                <a:gd name="textAreaRight" fmla="*/ 339840 w 339480"/>
                <a:gd name="textAreaTop" fmla="*/ 0 h 492120"/>
                <a:gd name="textAreaBottom" fmla="*/ 492480 h 492120"/>
              </a:gdLst>
              <a:ahLst/>
              <a:rect l="textAreaLeft" t="textAreaTop" r="textAreaRight" b="textAreaBottom"/>
              <a:pathLst>
                <a:path w="339507" h="492285">
                  <a:moveTo>
                    <a:pt x="283505" y="95078"/>
                  </a:moveTo>
                  <a:cubicBezTo>
                    <a:pt x="280110" y="81498"/>
                    <a:pt x="266530" y="74708"/>
                    <a:pt x="252950" y="78103"/>
                  </a:cubicBezTo>
                  <a:cubicBezTo>
                    <a:pt x="239369" y="81498"/>
                    <a:pt x="232579" y="95078"/>
                    <a:pt x="235974" y="108659"/>
                  </a:cubicBezTo>
                  <a:lnTo>
                    <a:pt x="259740" y="203721"/>
                  </a:lnTo>
                  <a:cubicBezTo>
                    <a:pt x="256344" y="202023"/>
                    <a:pt x="252950" y="200326"/>
                    <a:pt x="247857" y="198628"/>
                  </a:cubicBezTo>
                  <a:lnTo>
                    <a:pt x="210511" y="49245"/>
                  </a:lnTo>
                  <a:cubicBezTo>
                    <a:pt x="207116" y="35665"/>
                    <a:pt x="193536" y="28875"/>
                    <a:pt x="179955" y="32270"/>
                  </a:cubicBezTo>
                  <a:cubicBezTo>
                    <a:pt x="166375" y="35665"/>
                    <a:pt x="159585" y="49245"/>
                    <a:pt x="162980" y="62825"/>
                  </a:cubicBezTo>
                  <a:lnTo>
                    <a:pt x="195233" y="188443"/>
                  </a:lnTo>
                  <a:cubicBezTo>
                    <a:pt x="191838" y="188443"/>
                    <a:pt x="188443" y="188443"/>
                    <a:pt x="185048" y="188443"/>
                  </a:cubicBezTo>
                  <a:lnTo>
                    <a:pt x="146004" y="30572"/>
                  </a:lnTo>
                  <a:cubicBezTo>
                    <a:pt x="142610" y="16992"/>
                    <a:pt x="129029" y="10202"/>
                    <a:pt x="115449" y="13597"/>
                  </a:cubicBezTo>
                  <a:cubicBezTo>
                    <a:pt x="101868" y="16992"/>
                    <a:pt x="95078" y="30572"/>
                    <a:pt x="98474" y="44152"/>
                  </a:cubicBezTo>
                  <a:lnTo>
                    <a:pt x="137517" y="200326"/>
                  </a:lnTo>
                  <a:cubicBezTo>
                    <a:pt x="134122" y="202023"/>
                    <a:pt x="130727" y="203721"/>
                    <a:pt x="129029" y="203721"/>
                  </a:cubicBezTo>
                  <a:lnTo>
                    <a:pt x="95078" y="69615"/>
                  </a:lnTo>
                  <a:cubicBezTo>
                    <a:pt x="91684" y="56035"/>
                    <a:pt x="78103" y="49245"/>
                    <a:pt x="64523" y="52640"/>
                  </a:cubicBezTo>
                  <a:cubicBezTo>
                    <a:pt x="50942" y="56035"/>
                    <a:pt x="44152" y="69615"/>
                    <a:pt x="47548" y="83196"/>
                  </a:cubicBezTo>
                  <a:lnTo>
                    <a:pt x="86591" y="237671"/>
                  </a:lnTo>
                  <a:cubicBezTo>
                    <a:pt x="81498" y="242764"/>
                    <a:pt x="76405" y="249554"/>
                    <a:pt x="71313" y="256344"/>
                  </a:cubicBezTo>
                  <a:lnTo>
                    <a:pt x="61128" y="217301"/>
                  </a:lnTo>
                  <a:cubicBezTo>
                    <a:pt x="57733" y="203721"/>
                    <a:pt x="44152" y="196931"/>
                    <a:pt x="30572" y="200326"/>
                  </a:cubicBezTo>
                  <a:cubicBezTo>
                    <a:pt x="16992" y="203721"/>
                    <a:pt x="10202" y="217301"/>
                    <a:pt x="13597" y="230881"/>
                  </a:cubicBezTo>
                  <a:lnTo>
                    <a:pt x="52640" y="385357"/>
                  </a:lnTo>
                  <a:cubicBezTo>
                    <a:pt x="52640" y="387055"/>
                    <a:pt x="54338" y="388752"/>
                    <a:pt x="54338" y="390450"/>
                  </a:cubicBezTo>
                  <a:cubicBezTo>
                    <a:pt x="79801" y="460049"/>
                    <a:pt x="154492" y="500790"/>
                    <a:pt x="229184" y="482117"/>
                  </a:cubicBezTo>
                  <a:cubicBezTo>
                    <a:pt x="307270" y="461746"/>
                    <a:pt x="356499" y="381962"/>
                    <a:pt x="336129" y="303876"/>
                  </a:cubicBezTo>
                  <a:cubicBezTo>
                    <a:pt x="336129" y="303876"/>
                    <a:pt x="336129" y="302178"/>
                    <a:pt x="336129" y="302178"/>
                  </a:cubicBezTo>
                  <a:cubicBezTo>
                    <a:pt x="336129" y="302178"/>
                    <a:pt x="336129" y="302178"/>
                    <a:pt x="336129" y="302178"/>
                  </a:cubicBezTo>
                  <a:lnTo>
                    <a:pt x="283505" y="95078"/>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8" name="任意多边形: 形状 150"/>
            <p:cNvSpPr/>
            <p:nvPr/>
          </p:nvSpPr>
          <p:spPr>
            <a:xfrm>
              <a:off x="10845000" y="4574160"/>
              <a:ext cx="492120" cy="322560"/>
            </a:xfrm>
            <a:custGeom>
              <a:avLst/>
              <a:gdLst>
                <a:gd name="textAreaLeft" fmla="*/ 0 w 492120"/>
                <a:gd name="textAreaRight" fmla="*/ 492480 w 492120"/>
                <a:gd name="textAreaTop" fmla="*/ 0 h 322560"/>
                <a:gd name="textAreaBottom" fmla="*/ 322920 h 322560"/>
              </a:gdLst>
              <a:ahLst/>
              <a:rect l="textAreaLeft" t="textAreaTop" r="textAreaRight" b="textAreaBottom"/>
              <a:pathLst>
                <a:path w="492285" h="322531">
                  <a:moveTo>
                    <a:pt x="369545" y="303010"/>
                  </a:moveTo>
                  <a:cubicBezTo>
                    <a:pt x="383125" y="303010"/>
                    <a:pt x="393310" y="291128"/>
                    <a:pt x="393310" y="277547"/>
                  </a:cubicBezTo>
                  <a:cubicBezTo>
                    <a:pt x="393310" y="263967"/>
                    <a:pt x="381428" y="253782"/>
                    <a:pt x="367847" y="253782"/>
                  </a:cubicBezTo>
                  <a:lnTo>
                    <a:pt x="269390" y="260572"/>
                  </a:lnTo>
                  <a:cubicBezTo>
                    <a:pt x="272786" y="257177"/>
                    <a:pt x="274483" y="253782"/>
                    <a:pt x="276180" y="250387"/>
                  </a:cubicBezTo>
                  <a:lnTo>
                    <a:pt x="428959" y="240202"/>
                  </a:lnTo>
                  <a:cubicBezTo>
                    <a:pt x="442539" y="240202"/>
                    <a:pt x="452724" y="228319"/>
                    <a:pt x="452724" y="214739"/>
                  </a:cubicBezTo>
                  <a:cubicBezTo>
                    <a:pt x="451027" y="201158"/>
                    <a:pt x="440842" y="190973"/>
                    <a:pt x="427261" y="190973"/>
                  </a:cubicBezTo>
                  <a:lnTo>
                    <a:pt x="298249" y="199461"/>
                  </a:lnTo>
                  <a:cubicBezTo>
                    <a:pt x="298249" y="196066"/>
                    <a:pt x="299946" y="192671"/>
                    <a:pt x="299946" y="189275"/>
                  </a:cubicBezTo>
                  <a:lnTo>
                    <a:pt x="461212" y="179090"/>
                  </a:lnTo>
                  <a:cubicBezTo>
                    <a:pt x="474792" y="177393"/>
                    <a:pt x="484978" y="167207"/>
                    <a:pt x="484978" y="153627"/>
                  </a:cubicBezTo>
                  <a:cubicBezTo>
                    <a:pt x="483280" y="140047"/>
                    <a:pt x="473095" y="129862"/>
                    <a:pt x="459515" y="129862"/>
                  </a:cubicBezTo>
                  <a:lnTo>
                    <a:pt x="299946" y="140047"/>
                  </a:lnTo>
                  <a:cubicBezTo>
                    <a:pt x="299946" y="136652"/>
                    <a:pt x="298249" y="133257"/>
                    <a:pt x="298249" y="129862"/>
                  </a:cubicBezTo>
                  <a:lnTo>
                    <a:pt x="437446" y="121374"/>
                  </a:lnTo>
                  <a:cubicBezTo>
                    <a:pt x="451027" y="119676"/>
                    <a:pt x="461212" y="109491"/>
                    <a:pt x="461212" y="95911"/>
                  </a:cubicBezTo>
                  <a:cubicBezTo>
                    <a:pt x="461212" y="82331"/>
                    <a:pt x="449329" y="72145"/>
                    <a:pt x="435749" y="72145"/>
                  </a:cubicBezTo>
                  <a:lnTo>
                    <a:pt x="277878" y="82331"/>
                  </a:lnTo>
                  <a:cubicBezTo>
                    <a:pt x="272786" y="75540"/>
                    <a:pt x="267693" y="68750"/>
                    <a:pt x="262600" y="63658"/>
                  </a:cubicBezTo>
                  <a:lnTo>
                    <a:pt x="301643" y="61960"/>
                  </a:lnTo>
                  <a:cubicBezTo>
                    <a:pt x="315224" y="60263"/>
                    <a:pt x="325409" y="50077"/>
                    <a:pt x="325409" y="36497"/>
                  </a:cubicBezTo>
                  <a:cubicBezTo>
                    <a:pt x="325409" y="22917"/>
                    <a:pt x="313526" y="12732"/>
                    <a:pt x="299946" y="12732"/>
                  </a:cubicBezTo>
                  <a:lnTo>
                    <a:pt x="142075" y="22917"/>
                  </a:lnTo>
                  <a:cubicBezTo>
                    <a:pt x="140377" y="22917"/>
                    <a:pt x="138680" y="22917"/>
                    <a:pt x="135285" y="24614"/>
                  </a:cubicBezTo>
                  <a:cubicBezTo>
                    <a:pt x="62291" y="36497"/>
                    <a:pt x="7970" y="102701"/>
                    <a:pt x="13062" y="179090"/>
                  </a:cubicBezTo>
                  <a:cubicBezTo>
                    <a:pt x="18155" y="260572"/>
                    <a:pt x="87754" y="321683"/>
                    <a:pt x="169236" y="316591"/>
                  </a:cubicBezTo>
                  <a:cubicBezTo>
                    <a:pt x="169236" y="316591"/>
                    <a:pt x="170933" y="316591"/>
                    <a:pt x="170933" y="316591"/>
                  </a:cubicBezTo>
                  <a:cubicBezTo>
                    <a:pt x="170933" y="316591"/>
                    <a:pt x="170933" y="316591"/>
                    <a:pt x="170933" y="316591"/>
                  </a:cubicBezTo>
                  <a:lnTo>
                    <a:pt x="369545" y="303010"/>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59" name="任意多边形: 形状 151"/>
            <p:cNvSpPr/>
            <p:nvPr/>
          </p:nvSpPr>
          <p:spPr>
            <a:xfrm>
              <a:off x="10556640" y="5081760"/>
              <a:ext cx="662040" cy="695880"/>
            </a:xfrm>
            <a:custGeom>
              <a:avLst/>
              <a:gdLst>
                <a:gd name="textAreaLeft" fmla="*/ 0 w 662040"/>
                <a:gd name="textAreaRight" fmla="*/ 662040 w 662040"/>
                <a:gd name="textAreaTop" fmla="*/ 0 h 695880"/>
                <a:gd name="textAreaBottom" fmla="*/ 696240 h 695880"/>
              </a:gdLst>
              <a:ahLst/>
              <a:rect l="textAreaLeft" t="textAreaTop" r="textAreaRight" b="textAreaBottom"/>
              <a:pathLst>
                <a:path w="662039" h="695989">
                  <a:moveTo>
                    <a:pt x="12732" y="352239"/>
                  </a:moveTo>
                  <a:cubicBezTo>
                    <a:pt x="12732" y="138349"/>
                    <a:pt x="158720" y="12732"/>
                    <a:pt x="336961" y="12732"/>
                  </a:cubicBezTo>
                  <a:cubicBezTo>
                    <a:pt x="515202" y="12732"/>
                    <a:pt x="661191" y="138349"/>
                    <a:pt x="661191" y="352239"/>
                  </a:cubicBezTo>
                  <a:cubicBezTo>
                    <a:pt x="661191" y="566129"/>
                    <a:pt x="515202" y="691746"/>
                    <a:pt x="336961" y="691746"/>
                  </a:cubicBezTo>
                  <a:cubicBezTo>
                    <a:pt x="157022" y="691746"/>
                    <a:pt x="12732" y="566129"/>
                    <a:pt x="12732" y="352239"/>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60" name="任意多边形: 形状 152"/>
            <p:cNvSpPr/>
            <p:nvPr/>
          </p:nvSpPr>
          <p:spPr>
            <a:xfrm>
              <a:off x="10831680" y="5041080"/>
              <a:ext cx="118800" cy="390240"/>
            </a:xfrm>
            <a:custGeom>
              <a:avLst/>
              <a:gdLst>
                <a:gd name="textAreaLeft" fmla="*/ 0 w 118800"/>
                <a:gd name="textAreaRight" fmla="*/ 119160 w 118800"/>
                <a:gd name="textAreaTop" fmla="*/ 0 h 390240"/>
                <a:gd name="textAreaBottom" fmla="*/ 390600 h 390240"/>
              </a:gdLst>
              <a:ahLst/>
              <a:rect l="textAreaLeft" t="textAreaTop" r="textAreaRight" b="textAreaBottom"/>
              <a:pathLst>
                <a:path w="118827" h="390433">
                  <a:moveTo>
                    <a:pt x="12732" y="199461"/>
                  </a:moveTo>
                  <a:cubicBezTo>
                    <a:pt x="12732" y="97608"/>
                    <a:pt x="34799" y="12732"/>
                    <a:pt x="61960" y="12732"/>
                  </a:cubicBezTo>
                  <a:cubicBezTo>
                    <a:pt x="89121" y="12732"/>
                    <a:pt x="111188" y="95911"/>
                    <a:pt x="111188" y="199461"/>
                  </a:cubicBezTo>
                  <a:cubicBezTo>
                    <a:pt x="111188" y="301313"/>
                    <a:pt x="89121" y="386190"/>
                    <a:pt x="61960" y="386190"/>
                  </a:cubicBezTo>
                  <a:cubicBezTo>
                    <a:pt x="34799" y="384492"/>
                    <a:pt x="12732" y="301313"/>
                    <a:pt x="12732" y="199461"/>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61" name="任意多边形: 形状 153"/>
            <p:cNvSpPr/>
            <p:nvPr/>
          </p:nvSpPr>
          <p:spPr>
            <a:xfrm>
              <a:off x="11186640" y="535032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24358" y="12732"/>
                  </a:moveTo>
                  <a:cubicBezTo>
                    <a:pt x="24358" y="12732"/>
                    <a:pt x="56611" y="51775"/>
                    <a:pt x="29451" y="97608"/>
                  </a:cubicBezTo>
                  <a:cubicBezTo>
                    <a:pt x="29451" y="97608"/>
                    <a:pt x="-4500" y="31405"/>
                    <a:pt x="24358" y="12732"/>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62" name="任意多边形: 形状 154"/>
            <p:cNvSpPr/>
            <p:nvPr/>
          </p:nvSpPr>
          <p:spPr>
            <a:xfrm>
              <a:off x="10545840" y="535032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28704" y="12732"/>
                  </a:moveTo>
                  <a:cubicBezTo>
                    <a:pt x="28704" y="12732"/>
                    <a:pt x="-3550" y="51775"/>
                    <a:pt x="23611" y="97608"/>
                  </a:cubicBezTo>
                  <a:cubicBezTo>
                    <a:pt x="23611" y="97608"/>
                    <a:pt x="57561" y="31405"/>
                    <a:pt x="28704" y="12732"/>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63" name="任意多边形: 形状 155"/>
            <p:cNvSpPr/>
            <p:nvPr/>
          </p:nvSpPr>
          <p:spPr>
            <a:xfrm>
              <a:off x="10556640" y="5158440"/>
              <a:ext cx="662040" cy="610920"/>
            </a:xfrm>
            <a:custGeom>
              <a:avLst/>
              <a:gdLst>
                <a:gd name="textAreaLeft" fmla="*/ 0 w 662040"/>
                <a:gd name="textAreaRight" fmla="*/ 662040 w 662040"/>
                <a:gd name="textAreaTop" fmla="*/ 0 h 610920"/>
                <a:gd name="textAreaBottom" fmla="*/ 611280 h 610920"/>
              </a:gdLst>
              <a:ahLst/>
              <a:rect l="textAreaLeft" t="textAreaTop" r="textAreaRight" b="textAreaBottom"/>
              <a:pathLst>
                <a:path w="662039" h="611113">
                  <a:moveTo>
                    <a:pt x="661191" y="301313"/>
                  </a:moveTo>
                  <a:cubicBezTo>
                    <a:pt x="661191" y="501622"/>
                    <a:pt x="515202" y="613659"/>
                    <a:pt x="336961" y="613659"/>
                  </a:cubicBezTo>
                  <a:cubicBezTo>
                    <a:pt x="157022" y="613659"/>
                    <a:pt x="12732" y="499924"/>
                    <a:pt x="12732" y="301313"/>
                  </a:cubicBezTo>
                  <a:cubicBezTo>
                    <a:pt x="12732" y="101003"/>
                    <a:pt x="158720" y="12732"/>
                    <a:pt x="336961" y="12732"/>
                  </a:cubicBezTo>
                  <a:cubicBezTo>
                    <a:pt x="515202" y="12732"/>
                    <a:pt x="661191" y="102701"/>
                    <a:pt x="661191" y="301313"/>
                  </a:cubicBez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64" name="任意多边形: 形状 156"/>
            <p:cNvSpPr/>
            <p:nvPr/>
          </p:nvSpPr>
          <p:spPr>
            <a:xfrm>
              <a:off x="10561680" y="5328000"/>
              <a:ext cx="33840" cy="50760"/>
            </a:xfrm>
            <a:custGeom>
              <a:avLst/>
              <a:gdLst>
                <a:gd name="textAreaLeft" fmla="*/ 0 w 33840"/>
                <a:gd name="textAreaRight" fmla="*/ 34200 w 33840"/>
                <a:gd name="textAreaTop" fmla="*/ 0 h 50760"/>
                <a:gd name="textAreaBottom" fmla="*/ 51120 h 50760"/>
              </a:gdLst>
              <a:ahLst/>
              <a:rect l="textAreaLeft" t="textAreaTop" r="textAreaRight" b="textAreaBottom"/>
              <a:pathLst>
                <a:path w="33950" h="50926">
                  <a:moveTo>
                    <a:pt x="22916" y="-17156"/>
                  </a:moveTo>
                  <a:lnTo>
                    <a:pt x="-30737" y="14429"/>
                  </a:lnTo>
                  <a:lnTo>
                    <a:pt x="17824" y="12732"/>
                  </a:lnTo>
                  <a:cubicBezTo>
                    <a:pt x="16126" y="19522"/>
                    <a:pt x="14429" y="28009"/>
                    <a:pt x="12732" y="-29039"/>
                  </a:cubicBezTo>
                  <a:cubicBezTo>
                    <a:pt x="14429" y="-25644"/>
                    <a:pt x="17824" y="-20551"/>
                    <a:pt x="22916" y="-17156"/>
                  </a:cubicBezTo>
                  <a:close/>
                </a:path>
              </a:pathLst>
            </a:custGeom>
            <a:solidFill>
              <a:srgbClr val="36363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065" name="任意多边形: 形状 157"/>
            <p:cNvSpPr/>
            <p:nvPr/>
          </p:nvSpPr>
          <p:spPr>
            <a:xfrm>
              <a:off x="11181240" y="5326560"/>
              <a:ext cx="33840" cy="67680"/>
            </a:xfrm>
            <a:custGeom>
              <a:avLst/>
              <a:gdLst>
                <a:gd name="textAreaLeft" fmla="*/ 0 w 33840"/>
                <a:gd name="textAreaRight" fmla="*/ 34200 w 33840"/>
                <a:gd name="textAreaTop" fmla="*/ 0 h 67680"/>
                <a:gd name="textAreaBottom" fmla="*/ 68040 h 67680"/>
              </a:gdLst>
              <a:ahLst/>
              <a:rect l="textAreaLeft" t="textAreaTop" r="textAreaRight" b="textAreaBottom"/>
              <a:pathLst>
                <a:path w="33950" h="67901">
                  <a:moveTo>
                    <a:pt x="29707" y="-23946"/>
                  </a:moveTo>
                  <a:cubicBezTo>
                    <a:pt x="28009" y="31405"/>
                    <a:pt x="26312" y="22917"/>
                    <a:pt x="24614" y="12732"/>
                  </a:cubicBezTo>
                  <a:lnTo>
                    <a:pt x="12732" y="12732"/>
                  </a:lnTo>
                  <a:cubicBezTo>
                    <a:pt x="12732" y="12732"/>
                    <a:pt x="12732" y="-17156"/>
                    <a:pt x="28009" y="-5274"/>
                  </a:cubicBezTo>
                  <a:lnTo>
                    <a:pt x="29707" y="-23946"/>
                  </a:lnTo>
                  <a:close/>
                </a:path>
              </a:pathLst>
            </a:custGeom>
            <a:solidFill>
              <a:srgbClr val="363636"/>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066" name="任意多边形: 形状 158"/>
            <p:cNvSpPr/>
            <p:nvPr/>
          </p:nvSpPr>
          <p:spPr>
            <a:xfrm>
              <a:off x="11408760" y="5208840"/>
              <a:ext cx="237600" cy="237600"/>
            </a:xfrm>
            <a:custGeom>
              <a:avLst/>
              <a:gdLst>
                <a:gd name="textAreaLeft" fmla="*/ 0 w 237600"/>
                <a:gd name="textAreaRight" fmla="*/ 237960 w 237600"/>
                <a:gd name="textAreaTop" fmla="*/ 0 h 237600"/>
                <a:gd name="textAreaBottom" fmla="*/ 237960 h 237600"/>
              </a:gdLst>
              <a:ahLst/>
              <a:rect l="textAreaLeft" t="textAreaTop" r="textAreaRight" b="textAreaBottom"/>
              <a:pathLst>
                <a:path w="237655" h="237655">
                  <a:moveTo>
                    <a:pt x="223363" y="64012"/>
                  </a:moveTo>
                  <a:cubicBezTo>
                    <a:pt x="223363" y="64012"/>
                    <a:pt x="136789" y="108148"/>
                    <a:pt x="80770" y="36851"/>
                  </a:cubicBezTo>
                  <a:cubicBezTo>
                    <a:pt x="24751" y="-34446"/>
                    <a:pt x="11171" y="74197"/>
                    <a:pt x="12869" y="82685"/>
                  </a:cubicBezTo>
                  <a:cubicBezTo>
                    <a:pt x="14566" y="91173"/>
                    <a:pt x="57005" y="186234"/>
                    <a:pt x="58702" y="198117"/>
                  </a:cubicBezTo>
                  <a:cubicBezTo>
                    <a:pt x="60399" y="208302"/>
                    <a:pt x="179227" y="245648"/>
                    <a:pt x="209783" y="226975"/>
                  </a:cubicBezTo>
                  <a:cubicBezTo>
                    <a:pt x="240338" y="206605"/>
                    <a:pt x="223363" y="64012"/>
                    <a:pt x="223363" y="64012"/>
                  </a:cubicBezTo>
                  <a:close/>
                </a:path>
              </a:pathLst>
            </a:custGeom>
            <a:solidFill>
              <a:srgbClr val="477e8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67" name="任意多边形: 形状 159"/>
            <p:cNvSpPr/>
            <p:nvPr/>
          </p:nvSpPr>
          <p:spPr>
            <a:xfrm>
              <a:off x="10191600" y="5121000"/>
              <a:ext cx="186480" cy="237600"/>
            </a:xfrm>
            <a:custGeom>
              <a:avLst/>
              <a:gdLst>
                <a:gd name="textAreaLeft" fmla="*/ 0 w 186480"/>
                <a:gd name="textAreaRight" fmla="*/ 186840 w 186480"/>
                <a:gd name="textAreaTop" fmla="*/ 0 h 237600"/>
                <a:gd name="textAreaBottom" fmla="*/ 237960 h 237600"/>
              </a:gdLst>
              <a:ahLst/>
              <a:rect l="textAreaLeft" t="textAreaTop" r="textAreaRight" b="textAreaBottom"/>
              <a:pathLst>
                <a:path w="186729" h="237655">
                  <a:moveTo>
                    <a:pt x="185880" y="49895"/>
                  </a:moveTo>
                  <a:cubicBezTo>
                    <a:pt x="185880" y="49895"/>
                    <a:pt x="106096" y="102519"/>
                    <a:pt x="72145" y="31222"/>
                  </a:cubicBezTo>
                  <a:cubicBezTo>
                    <a:pt x="38195" y="-40074"/>
                    <a:pt x="12732" y="117797"/>
                    <a:pt x="12732" y="117797"/>
                  </a:cubicBezTo>
                  <a:cubicBezTo>
                    <a:pt x="12732" y="117797"/>
                    <a:pt x="68751" y="238322"/>
                    <a:pt x="84028" y="236624"/>
                  </a:cubicBezTo>
                  <a:cubicBezTo>
                    <a:pt x="99306" y="234927"/>
                    <a:pt x="133257" y="217951"/>
                    <a:pt x="145140" y="217951"/>
                  </a:cubicBezTo>
                  <a:cubicBezTo>
                    <a:pt x="157022" y="219649"/>
                    <a:pt x="185880" y="49895"/>
                    <a:pt x="185880" y="49895"/>
                  </a:cubicBezTo>
                  <a:close/>
                </a:path>
              </a:pathLst>
            </a:custGeom>
            <a:solidFill>
              <a:srgbClr val="477e8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68" name="任意多边形: 形状 160"/>
            <p:cNvSpPr/>
            <p:nvPr/>
          </p:nvSpPr>
          <p:spPr>
            <a:xfrm>
              <a:off x="11093040" y="4260240"/>
              <a:ext cx="525960" cy="645120"/>
            </a:xfrm>
            <a:custGeom>
              <a:avLst/>
              <a:gdLst>
                <a:gd name="textAreaLeft" fmla="*/ 0 w 525960"/>
                <a:gd name="textAreaRight" fmla="*/ 526320 w 525960"/>
                <a:gd name="textAreaTop" fmla="*/ 0 h 645120"/>
                <a:gd name="textAreaBottom" fmla="*/ 645480 h 645120"/>
              </a:gdLst>
              <a:ahLst/>
              <a:rect l="textAreaLeft" t="textAreaTop" r="textAreaRight" b="textAreaBottom"/>
              <a:pathLst>
                <a:path w="526236" h="645063">
                  <a:moveTo>
                    <a:pt x="12732" y="12731"/>
                  </a:moveTo>
                  <a:lnTo>
                    <a:pt x="523690" y="12731"/>
                  </a:lnTo>
                  <a:lnTo>
                    <a:pt x="523690" y="635727"/>
                  </a:lnTo>
                  <a:lnTo>
                    <a:pt x="12732" y="635727"/>
                  </a:lnTo>
                  <a:lnTo>
                    <a:pt x="12732" y="1273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69" name="任意多边形: 形状 161"/>
            <p:cNvSpPr/>
            <p:nvPr/>
          </p:nvSpPr>
          <p:spPr>
            <a:xfrm>
              <a:off x="11191680" y="4443480"/>
              <a:ext cx="50760" cy="186480"/>
            </a:xfrm>
            <a:custGeom>
              <a:avLst/>
              <a:gdLst>
                <a:gd name="textAreaLeft" fmla="*/ 0 w 50760"/>
                <a:gd name="textAreaRight" fmla="*/ 51120 w 50760"/>
                <a:gd name="textAreaTop" fmla="*/ 0 h 186480"/>
                <a:gd name="textAreaBottom" fmla="*/ 186840 h 186480"/>
              </a:gdLst>
              <a:ahLst/>
              <a:rect l="textAreaLeft" t="textAreaTop" r="textAreaRight" b="textAreaBottom"/>
              <a:pathLst>
                <a:path w="50926" h="186729">
                  <a:moveTo>
                    <a:pt x="12731" y="12732"/>
                  </a:moveTo>
                  <a:lnTo>
                    <a:pt x="48380" y="12732"/>
                  </a:lnTo>
                  <a:lnTo>
                    <a:pt x="48380" y="173997"/>
                  </a:lnTo>
                  <a:lnTo>
                    <a:pt x="12731" y="173997"/>
                  </a:lnTo>
                  <a:lnTo>
                    <a:pt x="12731" y="12732"/>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70" name="任意多边形: 形状 162"/>
            <p:cNvSpPr/>
            <p:nvPr/>
          </p:nvSpPr>
          <p:spPr>
            <a:xfrm>
              <a:off x="11261160" y="4511520"/>
              <a:ext cx="50760" cy="118800"/>
            </a:xfrm>
            <a:custGeom>
              <a:avLst/>
              <a:gdLst>
                <a:gd name="textAreaLeft" fmla="*/ 0 w 50760"/>
                <a:gd name="textAreaRight" fmla="*/ 51120 w 50760"/>
                <a:gd name="textAreaTop" fmla="*/ 0 h 118800"/>
                <a:gd name="textAreaBottom" fmla="*/ 119160 h 118800"/>
              </a:gdLst>
              <a:ahLst/>
              <a:rect l="textAreaLeft" t="textAreaTop" r="textAreaRight" b="textAreaBottom"/>
              <a:pathLst>
                <a:path w="50926" h="118827">
                  <a:moveTo>
                    <a:pt x="12731" y="12732"/>
                  </a:moveTo>
                  <a:lnTo>
                    <a:pt x="48380" y="12732"/>
                  </a:lnTo>
                  <a:lnTo>
                    <a:pt x="48380" y="106096"/>
                  </a:lnTo>
                  <a:lnTo>
                    <a:pt x="12731" y="106096"/>
                  </a:lnTo>
                  <a:lnTo>
                    <a:pt x="12731" y="12732"/>
                  </a:ln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71" name="任意多边形: 形状 163"/>
            <p:cNvSpPr/>
            <p:nvPr/>
          </p:nvSpPr>
          <p:spPr>
            <a:xfrm>
              <a:off x="11330640" y="4387320"/>
              <a:ext cx="50760" cy="237600"/>
            </a:xfrm>
            <a:custGeom>
              <a:avLst/>
              <a:gdLst>
                <a:gd name="textAreaLeft" fmla="*/ 0 w 50760"/>
                <a:gd name="textAreaRight" fmla="*/ 51120 w 50760"/>
                <a:gd name="textAreaTop" fmla="*/ 0 h 237600"/>
                <a:gd name="textAreaBottom" fmla="*/ 237960 h 237600"/>
              </a:gdLst>
              <a:ahLst/>
              <a:rect l="textAreaLeft" t="textAreaTop" r="textAreaRight" b="textAreaBottom"/>
              <a:pathLst>
                <a:path w="50926" h="237655">
                  <a:moveTo>
                    <a:pt x="12732" y="12731"/>
                  </a:moveTo>
                  <a:lnTo>
                    <a:pt x="48380" y="12731"/>
                  </a:lnTo>
                  <a:lnTo>
                    <a:pt x="48380" y="230016"/>
                  </a:lnTo>
                  <a:lnTo>
                    <a:pt x="12732" y="230016"/>
                  </a:lnTo>
                  <a:lnTo>
                    <a:pt x="12732" y="12731"/>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72" name="任意多边形: 形状 164"/>
            <p:cNvSpPr/>
            <p:nvPr/>
          </p:nvSpPr>
          <p:spPr>
            <a:xfrm>
              <a:off x="11400480" y="4457160"/>
              <a:ext cx="50760" cy="169560"/>
            </a:xfrm>
            <a:custGeom>
              <a:avLst/>
              <a:gdLst>
                <a:gd name="textAreaLeft" fmla="*/ 0 w 50760"/>
                <a:gd name="textAreaRight" fmla="*/ 51120 w 50760"/>
                <a:gd name="textAreaTop" fmla="*/ 0 h 169560"/>
                <a:gd name="textAreaBottom" fmla="*/ 169920 h 169560"/>
              </a:gdLst>
              <a:ahLst/>
              <a:rect l="textAreaLeft" t="textAreaTop" r="textAreaRight" b="textAreaBottom"/>
              <a:pathLst>
                <a:path w="50926" h="169753">
                  <a:moveTo>
                    <a:pt x="12732" y="12732"/>
                  </a:moveTo>
                  <a:lnTo>
                    <a:pt x="48380" y="12732"/>
                  </a:lnTo>
                  <a:lnTo>
                    <a:pt x="48380" y="160417"/>
                  </a:lnTo>
                  <a:lnTo>
                    <a:pt x="12732" y="160417"/>
                  </a:lnTo>
                  <a:lnTo>
                    <a:pt x="12732" y="12732"/>
                  </a:lnTo>
                  <a:close/>
                </a:path>
              </a:pathLst>
            </a:custGeom>
            <a:solidFill>
              <a:srgbClr val="8dac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73" name="任意多边形: 形状 165"/>
            <p:cNvSpPr/>
            <p:nvPr/>
          </p:nvSpPr>
          <p:spPr>
            <a:xfrm>
              <a:off x="11469960" y="4387320"/>
              <a:ext cx="50760" cy="237600"/>
            </a:xfrm>
            <a:custGeom>
              <a:avLst/>
              <a:gdLst>
                <a:gd name="textAreaLeft" fmla="*/ 0 w 50760"/>
                <a:gd name="textAreaRight" fmla="*/ 51120 w 50760"/>
                <a:gd name="textAreaTop" fmla="*/ 0 h 237600"/>
                <a:gd name="textAreaBottom" fmla="*/ 237960 h 237600"/>
              </a:gdLst>
              <a:ahLst/>
              <a:rect l="textAreaLeft" t="textAreaTop" r="textAreaRight" b="textAreaBottom"/>
              <a:pathLst>
                <a:path w="50926" h="237655">
                  <a:moveTo>
                    <a:pt x="12732" y="12731"/>
                  </a:moveTo>
                  <a:lnTo>
                    <a:pt x="48380" y="12731"/>
                  </a:lnTo>
                  <a:lnTo>
                    <a:pt x="48380" y="230016"/>
                  </a:lnTo>
                  <a:lnTo>
                    <a:pt x="12732" y="230016"/>
                  </a:lnTo>
                  <a:lnTo>
                    <a:pt x="12732" y="12731"/>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74" name="任意多边形: 形状 166"/>
            <p:cNvSpPr/>
            <p:nvPr/>
          </p:nvSpPr>
          <p:spPr>
            <a:xfrm>
              <a:off x="11162880" y="4618440"/>
              <a:ext cx="390240" cy="16920"/>
            </a:xfrm>
            <a:custGeom>
              <a:avLst/>
              <a:gdLst>
                <a:gd name="textAreaLeft" fmla="*/ 0 w 390240"/>
                <a:gd name="textAreaRight" fmla="*/ 390600 w 390240"/>
                <a:gd name="textAreaTop" fmla="*/ 0 h 16920"/>
                <a:gd name="textAreaBottom" fmla="*/ 17280 h 16920"/>
              </a:gdLst>
              <a:ahLst/>
              <a:rect l="textAreaLeft" t="textAreaTop" r="textAreaRight" b="textAreaBottom"/>
              <a:pathLst>
                <a:path w="390433" h="16975">
                  <a:moveTo>
                    <a:pt x="12732" y="12732"/>
                  </a:moveTo>
                  <a:lnTo>
                    <a:pt x="386190" y="12732"/>
                  </a:lnTo>
                </a:path>
              </a:pathLst>
            </a:custGeom>
            <a:noFill/>
            <a:ln w="9360">
              <a:solidFill>
                <a:srgbClr val="d1d7d1"/>
              </a:solidFill>
              <a:miter/>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075" name="任意多边形: 形状 167"/>
            <p:cNvSpPr/>
            <p:nvPr/>
          </p:nvSpPr>
          <p:spPr>
            <a:xfrm>
              <a:off x="11054160" y="4574160"/>
              <a:ext cx="118800" cy="67680"/>
            </a:xfrm>
            <a:custGeom>
              <a:avLst/>
              <a:gdLst>
                <a:gd name="textAreaLeft" fmla="*/ 0 w 118800"/>
                <a:gd name="textAreaRight" fmla="*/ 119160 w 118800"/>
                <a:gd name="textAreaTop" fmla="*/ 0 h 67680"/>
                <a:gd name="textAreaBottom" fmla="*/ 68040 h 67680"/>
              </a:gdLst>
              <a:ahLst/>
              <a:rect l="textAreaLeft" t="textAreaTop" r="textAreaRight" b="textAreaBottom"/>
              <a:pathLst>
                <a:path w="118827" h="67901">
                  <a:moveTo>
                    <a:pt x="26312" y="63658"/>
                  </a:moveTo>
                  <a:lnTo>
                    <a:pt x="46682" y="63658"/>
                  </a:lnTo>
                  <a:lnTo>
                    <a:pt x="85725" y="61960"/>
                  </a:lnTo>
                  <a:cubicBezTo>
                    <a:pt x="99305" y="60263"/>
                    <a:pt x="109491" y="50077"/>
                    <a:pt x="109491" y="36497"/>
                  </a:cubicBezTo>
                  <a:cubicBezTo>
                    <a:pt x="109491" y="22917"/>
                    <a:pt x="97608" y="12732"/>
                    <a:pt x="84028" y="12732"/>
                  </a:cubicBezTo>
                  <a:lnTo>
                    <a:pt x="12732" y="17824"/>
                  </a:lnTo>
                  <a:cubicBezTo>
                    <a:pt x="19522" y="43287"/>
                    <a:pt x="26312" y="63658"/>
                    <a:pt x="26312" y="63658"/>
                  </a:cubicBezTo>
                  <a:close/>
                </a:path>
              </a:pathLst>
            </a:custGeom>
            <a:solidFill>
              <a:srgbClr val="e4d2a2"/>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076" name="任意多边形: 形状 168"/>
            <p:cNvSpPr/>
            <p:nvPr/>
          </p:nvSpPr>
          <p:spPr>
            <a:xfrm>
              <a:off x="7593480" y="3817440"/>
              <a:ext cx="1408680" cy="1035720"/>
            </a:xfrm>
            <a:custGeom>
              <a:avLst/>
              <a:gdLst>
                <a:gd name="textAreaLeft" fmla="*/ 0 w 1408680"/>
                <a:gd name="textAreaRight" fmla="*/ 1409040 w 1408680"/>
                <a:gd name="textAreaTop" fmla="*/ 0 h 1035720"/>
                <a:gd name="textAreaBottom" fmla="*/ 1036080 h 1035720"/>
              </a:gdLst>
              <a:ahLst/>
              <a:rect l="textAreaLeft" t="textAreaTop" r="textAreaRight" b="textAreaBottom"/>
              <a:pathLst>
                <a:path w="1408955" h="1035497">
                  <a:moveTo>
                    <a:pt x="1385257" y="367117"/>
                  </a:moveTo>
                  <a:lnTo>
                    <a:pt x="176610" y="14029"/>
                  </a:lnTo>
                  <a:cubicBezTo>
                    <a:pt x="156240" y="8937"/>
                    <a:pt x="134172" y="19122"/>
                    <a:pt x="129079" y="39492"/>
                  </a:cubicBezTo>
                  <a:cubicBezTo>
                    <a:pt x="123987" y="59863"/>
                    <a:pt x="134172" y="81931"/>
                    <a:pt x="154542" y="87023"/>
                  </a:cubicBezTo>
                  <a:lnTo>
                    <a:pt x="239419" y="112486"/>
                  </a:lnTo>
                  <a:cubicBezTo>
                    <a:pt x="203771" y="102301"/>
                    <a:pt x="164728" y="122672"/>
                    <a:pt x="154542" y="160018"/>
                  </a:cubicBezTo>
                  <a:lnTo>
                    <a:pt x="15345" y="637025"/>
                  </a:lnTo>
                  <a:cubicBezTo>
                    <a:pt x="5159" y="672674"/>
                    <a:pt x="25530" y="711717"/>
                    <a:pt x="62876" y="721902"/>
                  </a:cubicBezTo>
                  <a:lnTo>
                    <a:pt x="1101768" y="1024064"/>
                  </a:lnTo>
                  <a:cubicBezTo>
                    <a:pt x="1137416" y="1034249"/>
                    <a:pt x="1176459" y="1013878"/>
                    <a:pt x="1186645" y="976532"/>
                  </a:cubicBezTo>
                  <a:lnTo>
                    <a:pt x="1325843" y="499525"/>
                  </a:lnTo>
                  <a:cubicBezTo>
                    <a:pt x="1336028" y="463876"/>
                    <a:pt x="1315658" y="424833"/>
                    <a:pt x="1278312" y="414648"/>
                  </a:cubicBezTo>
                  <a:lnTo>
                    <a:pt x="1363189" y="440111"/>
                  </a:lnTo>
                  <a:cubicBezTo>
                    <a:pt x="1383559" y="445204"/>
                    <a:pt x="1405627" y="435018"/>
                    <a:pt x="1410720" y="414648"/>
                  </a:cubicBezTo>
                  <a:cubicBezTo>
                    <a:pt x="1417510" y="394278"/>
                    <a:pt x="1405627" y="372210"/>
                    <a:pt x="1385257" y="367117"/>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77" name="任意多边形: 形状 169"/>
            <p:cNvSpPr/>
            <p:nvPr/>
          </p:nvSpPr>
          <p:spPr>
            <a:xfrm>
              <a:off x="7561440" y="3914640"/>
              <a:ext cx="1324080" cy="933840"/>
            </a:xfrm>
            <a:custGeom>
              <a:avLst/>
              <a:gdLst>
                <a:gd name="textAreaLeft" fmla="*/ 0 w 1324080"/>
                <a:gd name="textAreaRight" fmla="*/ 1324080 w 1324080"/>
                <a:gd name="textAreaTop" fmla="*/ 0 h 933840"/>
                <a:gd name="textAreaBottom" fmla="*/ 934200 h 933840"/>
              </a:gdLst>
              <a:ahLst/>
              <a:rect l="textAreaLeft" t="textAreaTop" r="textAreaRight" b="textAreaBottom"/>
              <a:pathLst>
                <a:path w="1324078" h="933645">
                  <a:moveTo>
                    <a:pt x="1186523" y="879269"/>
                  </a:moveTo>
                  <a:cubicBezTo>
                    <a:pt x="1176338" y="914917"/>
                    <a:pt x="1137295" y="936985"/>
                    <a:pt x="1101646" y="926800"/>
                  </a:cubicBezTo>
                  <a:lnTo>
                    <a:pt x="62754" y="624638"/>
                  </a:lnTo>
                  <a:cubicBezTo>
                    <a:pt x="27106" y="614453"/>
                    <a:pt x="5038" y="575410"/>
                    <a:pt x="15223" y="539762"/>
                  </a:cubicBezTo>
                  <a:lnTo>
                    <a:pt x="154421" y="62754"/>
                  </a:lnTo>
                  <a:cubicBezTo>
                    <a:pt x="164606" y="27106"/>
                    <a:pt x="203649" y="5038"/>
                    <a:pt x="239298" y="15223"/>
                  </a:cubicBezTo>
                  <a:lnTo>
                    <a:pt x="1278190" y="317384"/>
                  </a:lnTo>
                  <a:cubicBezTo>
                    <a:pt x="1313838" y="327570"/>
                    <a:pt x="1335906" y="366613"/>
                    <a:pt x="1325721" y="402261"/>
                  </a:cubicBezTo>
                  <a:lnTo>
                    <a:pt x="1186523" y="87926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78" name="任意多边形: 形状 170"/>
            <p:cNvSpPr/>
            <p:nvPr/>
          </p:nvSpPr>
          <p:spPr>
            <a:xfrm>
              <a:off x="8001000" y="4413600"/>
              <a:ext cx="356400" cy="271440"/>
            </a:xfrm>
            <a:custGeom>
              <a:avLst/>
              <a:gdLst>
                <a:gd name="textAreaLeft" fmla="*/ 0 w 356400"/>
                <a:gd name="textAreaRight" fmla="*/ 356760 w 356400"/>
                <a:gd name="textAreaTop" fmla="*/ 0 h 271440"/>
                <a:gd name="textAreaBottom" fmla="*/ 271800 h 271440"/>
              </a:gdLst>
              <a:ahLst/>
              <a:rect l="textAreaLeft" t="textAreaTop" r="textAreaRight" b="textAreaBottom"/>
              <a:pathLst>
                <a:path w="356482" h="271605">
                  <a:moveTo>
                    <a:pt x="307289" y="251270"/>
                  </a:moveTo>
                  <a:cubicBezTo>
                    <a:pt x="303894" y="261455"/>
                    <a:pt x="293708" y="268245"/>
                    <a:pt x="283523" y="264850"/>
                  </a:cubicBezTo>
                  <a:lnTo>
                    <a:pt x="27195" y="190158"/>
                  </a:lnTo>
                  <a:cubicBezTo>
                    <a:pt x="17010" y="186763"/>
                    <a:pt x="10220" y="176578"/>
                    <a:pt x="13615" y="166393"/>
                  </a:cubicBezTo>
                  <a:lnTo>
                    <a:pt x="54356" y="27195"/>
                  </a:lnTo>
                  <a:cubicBezTo>
                    <a:pt x="57751" y="17010"/>
                    <a:pt x="67936" y="10220"/>
                    <a:pt x="78121" y="13615"/>
                  </a:cubicBezTo>
                  <a:lnTo>
                    <a:pt x="334449" y="88306"/>
                  </a:lnTo>
                  <a:cubicBezTo>
                    <a:pt x="344634" y="91701"/>
                    <a:pt x="351425" y="101887"/>
                    <a:pt x="348030" y="112072"/>
                  </a:cubicBezTo>
                  <a:lnTo>
                    <a:pt x="307289" y="251270"/>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79" name="任意多边形: 形状 171"/>
            <p:cNvSpPr/>
            <p:nvPr/>
          </p:nvSpPr>
          <p:spPr>
            <a:xfrm>
              <a:off x="7741080" y="39841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19"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0" name="任意多边形: 形状 172"/>
            <p:cNvSpPr/>
            <p:nvPr/>
          </p:nvSpPr>
          <p:spPr>
            <a:xfrm>
              <a:off x="7814160" y="40046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1" name="任意多边形: 形状 173"/>
            <p:cNvSpPr/>
            <p:nvPr/>
          </p:nvSpPr>
          <p:spPr>
            <a:xfrm>
              <a:off x="7885440" y="40266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19"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2" name="任意多边形: 形状 174"/>
            <p:cNvSpPr/>
            <p:nvPr/>
          </p:nvSpPr>
          <p:spPr>
            <a:xfrm>
              <a:off x="7956720" y="40471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3" name="任意多边形: 形状 175"/>
            <p:cNvSpPr/>
            <p:nvPr/>
          </p:nvSpPr>
          <p:spPr>
            <a:xfrm>
              <a:off x="8028000" y="4067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4" name="任意多边形: 形状 176"/>
            <p:cNvSpPr/>
            <p:nvPr/>
          </p:nvSpPr>
          <p:spPr>
            <a:xfrm>
              <a:off x="8101080" y="40892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5" name="任意多边形: 形状 177"/>
            <p:cNvSpPr/>
            <p:nvPr/>
          </p:nvSpPr>
          <p:spPr>
            <a:xfrm>
              <a:off x="8172360" y="4109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6" name="任意多边形: 形状 178"/>
            <p:cNvSpPr/>
            <p:nvPr/>
          </p:nvSpPr>
          <p:spPr>
            <a:xfrm>
              <a:off x="8243640" y="4130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19"/>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7" name="任意多边形: 形状 179"/>
            <p:cNvSpPr/>
            <p:nvPr/>
          </p:nvSpPr>
          <p:spPr>
            <a:xfrm>
              <a:off x="8316720" y="41504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8" name="任意多边形: 形状 180"/>
            <p:cNvSpPr/>
            <p:nvPr/>
          </p:nvSpPr>
          <p:spPr>
            <a:xfrm>
              <a:off x="8388000" y="4172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19"/>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89" name="任意多边形: 形状 181"/>
            <p:cNvSpPr/>
            <p:nvPr/>
          </p:nvSpPr>
          <p:spPr>
            <a:xfrm>
              <a:off x="8459280" y="41947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6238"/>
                  </a:moveTo>
                  <a:cubicBezTo>
                    <a:pt x="71331" y="76424"/>
                    <a:pt x="61146" y="83214"/>
                    <a:pt x="50961" y="79819"/>
                  </a:cubicBezTo>
                  <a:lnTo>
                    <a:pt x="27195" y="73028"/>
                  </a:lnTo>
                  <a:cubicBezTo>
                    <a:pt x="17010" y="69633"/>
                    <a:pt x="10220" y="59448"/>
                    <a:pt x="13615" y="49263"/>
                  </a:cubicBezTo>
                  <a:lnTo>
                    <a:pt x="20405" y="27195"/>
                  </a:lnTo>
                  <a:cubicBezTo>
                    <a:pt x="23800" y="17010"/>
                    <a:pt x="33985" y="10220"/>
                    <a:pt x="44170" y="13615"/>
                  </a:cubicBezTo>
                  <a:lnTo>
                    <a:pt x="67936" y="20405"/>
                  </a:lnTo>
                  <a:cubicBezTo>
                    <a:pt x="78121" y="23800"/>
                    <a:pt x="84911" y="33985"/>
                    <a:pt x="81516" y="44170"/>
                  </a:cubicBezTo>
                  <a:lnTo>
                    <a:pt x="74726" y="66238"/>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90" name="任意多边形: 形状 182"/>
            <p:cNvSpPr/>
            <p:nvPr/>
          </p:nvSpPr>
          <p:spPr>
            <a:xfrm>
              <a:off x="8532360" y="42134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028" y="67936"/>
                  </a:moveTo>
                  <a:cubicBezTo>
                    <a:pt x="69633" y="78121"/>
                    <a:pt x="59448" y="84911"/>
                    <a:pt x="49263"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3028"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91" name="任意多边形: 形状 183"/>
            <p:cNvSpPr/>
            <p:nvPr/>
          </p:nvSpPr>
          <p:spPr>
            <a:xfrm>
              <a:off x="8605080" y="42354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028" y="67936"/>
                  </a:moveTo>
                  <a:cubicBezTo>
                    <a:pt x="69633" y="78121"/>
                    <a:pt x="59448" y="84911"/>
                    <a:pt x="49263"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3028"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92" name="任意多边形: 形状 184"/>
            <p:cNvSpPr/>
            <p:nvPr/>
          </p:nvSpPr>
          <p:spPr>
            <a:xfrm>
              <a:off x="8676360" y="42559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028" y="67936"/>
                  </a:moveTo>
                  <a:cubicBezTo>
                    <a:pt x="69633" y="78121"/>
                    <a:pt x="59448" y="84911"/>
                    <a:pt x="49263" y="81516"/>
                  </a:cubicBezTo>
                  <a:lnTo>
                    <a:pt x="27195" y="74726"/>
                  </a:lnTo>
                  <a:cubicBezTo>
                    <a:pt x="17010" y="71331"/>
                    <a:pt x="10220" y="61146"/>
                    <a:pt x="13615" y="50960"/>
                  </a:cubicBezTo>
                  <a:lnTo>
                    <a:pt x="20405" y="27195"/>
                  </a:lnTo>
                  <a:cubicBezTo>
                    <a:pt x="23800" y="17010"/>
                    <a:pt x="33985" y="10220"/>
                    <a:pt x="44170" y="13615"/>
                  </a:cubicBezTo>
                  <a:lnTo>
                    <a:pt x="66238" y="20405"/>
                  </a:lnTo>
                  <a:cubicBezTo>
                    <a:pt x="76423" y="23800"/>
                    <a:pt x="83214" y="33985"/>
                    <a:pt x="79819" y="44170"/>
                  </a:cubicBezTo>
                  <a:lnTo>
                    <a:pt x="73028"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93" name="任意多边形: 形状 185"/>
            <p:cNvSpPr/>
            <p:nvPr/>
          </p:nvSpPr>
          <p:spPr>
            <a:xfrm>
              <a:off x="8746200" y="42760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94" name="任意多边形: 形状 186"/>
            <p:cNvSpPr/>
            <p:nvPr/>
          </p:nvSpPr>
          <p:spPr>
            <a:xfrm>
              <a:off x="7722360" y="4055400"/>
              <a:ext cx="118800" cy="101520"/>
            </a:xfrm>
            <a:custGeom>
              <a:avLst/>
              <a:gdLst>
                <a:gd name="textAreaLeft" fmla="*/ 0 w 118800"/>
                <a:gd name="textAreaRight" fmla="*/ 119160 w 118800"/>
                <a:gd name="textAreaTop" fmla="*/ 0 h 101520"/>
                <a:gd name="textAreaBottom" fmla="*/ 101880 h 101520"/>
              </a:gdLst>
              <a:ahLst/>
              <a:rect l="textAreaLeft" t="textAreaTop" r="textAreaRight" b="textAreaBottom"/>
              <a:pathLst>
                <a:path w="118827" h="101852">
                  <a:moveTo>
                    <a:pt x="110374" y="76423"/>
                  </a:moveTo>
                  <a:cubicBezTo>
                    <a:pt x="106979" y="86609"/>
                    <a:pt x="96794" y="93399"/>
                    <a:pt x="86609" y="90004"/>
                  </a:cubicBezTo>
                  <a:lnTo>
                    <a:pt x="27195" y="73028"/>
                  </a:lnTo>
                  <a:cubicBezTo>
                    <a:pt x="17010" y="69633"/>
                    <a:pt x="10220" y="59448"/>
                    <a:pt x="13615" y="49263"/>
                  </a:cubicBezTo>
                  <a:lnTo>
                    <a:pt x="20405" y="27195"/>
                  </a:lnTo>
                  <a:cubicBezTo>
                    <a:pt x="23800" y="17010"/>
                    <a:pt x="33985" y="10220"/>
                    <a:pt x="44170" y="13615"/>
                  </a:cubicBezTo>
                  <a:lnTo>
                    <a:pt x="103584" y="30590"/>
                  </a:lnTo>
                  <a:cubicBezTo>
                    <a:pt x="113769" y="33985"/>
                    <a:pt x="120560" y="44170"/>
                    <a:pt x="117165" y="54356"/>
                  </a:cubicBezTo>
                  <a:lnTo>
                    <a:pt x="110374" y="76423"/>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095" name="任意多边形: 形状 187"/>
            <p:cNvSpPr/>
            <p:nvPr/>
          </p:nvSpPr>
          <p:spPr>
            <a:xfrm>
              <a:off x="7829280" y="40860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96" name="任意多边形: 形状 188"/>
            <p:cNvSpPr/>
            <p:nvPr/>
          </p:nvSpPr>
          <p:spPr>
            <a:xfrm>
              <a:off x="7900560" y="41079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6238"/>
                  </a:moveTo>
                  <a:cubicBezTo>
                    <a:pt x="71331" y="76423"/>
                    <a:pt x="61146" y="83214"/>
                    <a:pt x="50960" y="79818"/>
                  </a:cubicBezTo>
                  <a:lnTo>
                    <a:pt x="27195" y="73028"/>
                  </a:lnTo>
                  <a:cubicBezTo>
                    <a:pt x="17010" y="69633"/>
                    <a:pt x="10220" y="59448"/>
                    <a:pt x="13615" y="49263"/>
                  </a:cubicBezTo>
                  <a:lnTo>
                    <a:pt x="20405" y="27195"/>
                  </a:lnTo>
                  <a:cubicBezTo>
                    <a:pt x="23800" y="17010"/>
                    <a:pt x="33985" y="10220"/>
                    <a:pt x="44170" y="13615"/>
                  </a:cubicBezTo>
                  <a:lnTo>
                    <a:pt x="67936" y="20405"/>
                  </a:lnTo>
                  <a:cubicBezTo>
                    <a:pt x="78121" y="23800"/>
                    <a:pt x="84911" y="33985"/>
                    <a:pt x="81516" y="44170"/>
                  </a:cubicBezTo>
                  <a:lnTo>
                    <a:pt x="74726" y="66238"/>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97" name="任意多边形: 形状 189"/>
            <p:cNvSpPr/>
            <p:nvPr/>
          </p:nvSpPr>
          <p:spPr>
            <a:xfrm>
              <a:off x="7972200" y="41284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6238"/>
                  </a:moveTo>
                  <a:cubicBezTo>
                    <a:pt x="71331" y="76423"/>
                    <a:pt x="61146" y="83214"/>
                    <a:pt x="50960" y="79818"/>
                  </a:cubicBezTo>
                  <a:lnTo>
                    <a:pt x="27195" y="73028"/>
                  </a:lnTo>
                  <a:cubicBezTo>
                    <a:pt x="17010" y="69633"/>
                    <a:pt x="10220" y="59448"/>
                    <a:pt x="13615" y="49263"/>
                  </a:cubicBezTo>
                  <a:lnTo>
                    <a:pt x="20405" y="27195"/>
                  </a:lnTo>
                  <a:cubicBezTo>
                    <a:pt x="23800" y="17010"/>
                    <a:pt x="33985" y="10220"/>
                    <a:pt x="44170" y="13615"/>
                  </a:cubicBezTo>
                  <a:lnTo>
                    <a:pt x="67936" y="20405"/>
                  </a:lnTo>
                  <a:cubicBezTo>
                    <a:pt x="78121" y="23800"/>
                    <a:pt x="84911" y="33985"/>
                    <a:pt x="81516" y="44170"/>
                  </a:cubicBezTo>
                  <a:lnTo>
                    <a:pt x="74726" y="66238"/>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98" name="任意多边形: 形状 190"/>
            <p:cNvSpPr/>
            <p:nvPr/>
          </p:nvSpPr>
          <p:spPr>
            <a:xfrm>
              <a:off x="8044920" y="4147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19"/>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099" name="任意多边形: 形状 191"/>
            <p:cNvSpPr/>
            <p:nvPr/>
          </p:nvSpPr>
          <p:spPr>
            <a:xfrm>
              <a:off x="8116200" y="41691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00" name="任意多边形: 形状 192"/>
            <p:cNvSpPr/>
            <p:nvPr/>
          </p:nvSpPr>
          <p:spPr>
            <a:xfrm>
              <a:off x="8187480" y="41896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20" y="61146"/>
                    <a:pt x="13615" y="50961"/>
                  </a:cubicBezTo>
                  <a:lnTo>
                    <a:pt x="20405" y="27195"/>
                  </a:lnTo>
                  <a:cubicBezTo>
                    <a:pt x="23800" y="17010"/>
                    <a:pt x="33985" y="10219"/>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01" name="任意多边形: 形状 193"/>
            <p:cNvSpPr/>
            <p:nvPr/>
          </p:nvSpPr>
          <p:spPr>
            <a:xfrm>
              <a:off x="8258760" y="4209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19"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02" name="任意多边形: 形状 194"/>
            <p:cNvSpPr/>
            <p:nvPr/>
          </p:nvSpPr>
          <p:spPr>
            <a:xfrm>
              <a:off x="8331840" y="42321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20" y="61146"/>
                    <a:pt x="13615" y="50961"/>
                  </a:cubicBezTo>
                  <a:lnTo>
                    <a:pt x="20405" y="27195"/>
                  </a:lnTo>
                  <a:cubicBezTo>
                    <a:pt x="23800" y="17010"/>
                    <a:pt x="33985" y="10219"/>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03" name="任意多边形: 形状 195"/>
            <p:cNvSpPr/>
            <p:nvPr/>
          </p:nvSpPr>
          <p:spPr>
            <a:xfrm>
              <a:off x="8403120" y="42523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19"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04" name="任意多边形: 形状 196"/>
            <p:cNvSpPr/>
            <p:nvPr/>
          </p:nvSpPr>
          <p:spPr>
            <a:xfrm>
              <a:off x="8476200" y="4272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028" y="67936"/>
                  </a:moveTo>
                  <a:cubicBezTo>
                    <a:pt x="69633" y="78121"/>
                    <a:pt x="59448" y="84911"/>
                    <a:pt x="49263"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3028"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05" name="任意多边形: 形状 197"/>
            <p:cNvSpPr/>
            <p:nvPr/>
          </p:nvSpPr>
          <p:spPr>
            <a:xfrm>
              <a:off x="8545680" y="42948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06" name="任意多边形: 形状 198"/>
            <p:cNvSpPr/>
            <p:nvPr/>
          </p:nvSpPr>
          <p:spPr>
            <a:xfrm>
              <a:off x="7702200" y="4121640"/>
              <a:ext cx="152640" cy="101520"/>
            </a:xfrm>
            <a:custGeom>
              <a:avLst/>
              <a:gdLst>
                <a:gd name="textAreaLeft" fmla="*/ 0 w 152640"/>
                <a:gd name="textAreaRight" fmla="*/ 153000 w 152640"/>
                <a:gd name="textAreaTop" fmla="*/ 0 h 101520"/>
                <a:gd name="textAreaBottom" fmla="*/ 101880 h 101520"/>
              </a:gdLst>
              <a:ahLst/>
              <a:rect l="textAreaLeft" t="textAreaTop" r="textAreaRight" b="textAreaBottom"/>
              <a:pathLst>
                <a:path w="152778" h="101852">
                  <a:moveTo>
                    <a:pt x="146023" y="88306"/>
                  </a:moveTo>
                  <a:cubicBezTo>
                    <a:pt x="142627" y="98492"/>
                    <a:pt x="132442" y="105282"/>
                    <a:pt x="122257" y="101887"/>
                  </a:cubicBezTo>
                  <a:lnTo>
                    <a:pt x="27195" y="74726"/>
                  </a:lnTo>
                  <a:cubicBezTo>
                    <a:pt x="17010" y="71331"/>
                    <a:pt x="10220" y="61146"/>
                    <a:pt x="13615" y="50961"/>
                  </a:cubicBezTo>
                  <a:lnTo>
                    <a:pt x="20405" y="27195"/>
                  </a:lnTo>
                  <a:cubicBezTo>
                    <a:pt x="23800" y="17010"/>
                    <a:pt x="33985" y="10219"/>
                    <a:pt x="44170" y="13615"/>
                  </a:cubicBezTo>
                  <a:lnTo>
                    <a:pt x="139232" y="40775"/>
                  </a:lnTo>
                  <a:cubicBezTo>
                    <a:pt x="149418" y="44170"/>
                    <a:pt x="156208" y="54356"/>
                    <a:pt x="152813" y="64541"/>
                  </a:cubicBezTo>
                  <a:lnTo>
                    <a:pt x="146023" y="88306"/>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07" name="任意多边形: 形状 199"/>
            <p:cNvSpPr/>
            <p:nvPr/>
          </p:nvSpPr>
          <p:spPr>
            <a:xfrm>
              <a:off x="7844760" y="41623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08" name="任意多边形: 形状 200"/>
            <p:cNvSpPr/>
            <p:nvPr/>
          </p:nvSpPr>
          <p:spPr>
            <a:xfrm>
              <a:off x="7917840" y="4182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09" name="任意多边形: 形状 201"/>
            <p:cNvSpPr/>
            <p:nvPr/>
          </p:nvSpPr>
          <p:spPr>
            <a:xfrm>
              <a:off x="7989120" y="42048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10" name="任意多边形: 形状 202"/>
            <p:cNvSpPr/>
            <p:nvPr/>
          </p:nvSpPr>
          <p:spPr>
            <a:xfrm>
              <a:off x="8060400" y="42253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11" name="任意多边形: 形状 203"/>
            <p:cNvSpPr/>
            <p:nvPr/>
          </p:nvSpPr>
          <p:spPr>
            <a:xfrm>
              <a:off x="8133120" y="4247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6238"/>
                  </a:moveTo>
                  <a:cubicBezTo>
                    <a:pt x="71331" y="76423"/>
                    <a:pt x="61146" y="83214"/>
                    <a:pt x="50960" y="79818"/>
                  </a:cubicBezTo>
                  <a:lnTo>
                    <a:pt x="27195" y="73028"/>
                  </a:lnTo>
                  <a:cubicBezTo>
                    <a:pt x="17010" y="69633"/>
                    <a:pt x="10220" y="59448"/>
                    <a:pt x="13615" y="49263"/>
                  </a:cubicBezTo>
                  <a:lnTo>
                    <a:pt x="20405" y="27195"/>
                  </a:lnTo>
                  <a:cubicBezTo>
                    <a:pt x="23800" y="17010"/>
                    <a:pt x="33985" y="10220"/>
                    <a:pt x="44170" y="13615"/>
                  </a:cubicBezTo>
                  <a:lnTo>
                    <a:pt x="67936" y="20405"/>
                  </a:lnTo>
                  <a:cubicBezTo>
                    <a:pt x="78121" y="23800"/>
                    <a:pt x="84911" y="33985"/>
                    <a:pt x="81516" y="44170"/>
                  </a:cubicBezTo>
                  <a:lnTo>
                    <a:pt x="74726" y="66238"/>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12" name="任意多边形: 形状 204"/>
            <p:cNvSpPr/>
            <p:nvPr/>
          </p:nvSpPr>
          <p:spPr>
            <a:xfrm>
              <a:off x="8204760" y="42692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6238"/>
                  </a:moveTo>
                  <a:cubicBezTo>
                    <a:pt x="71331" y="76423"/>
                    <a:pt x="61146" y="83214"/>
                    <a:pt x="50961" y="79818"/>
                  </a:cubicBezTo>
                  <a:lnTo>
                    <a:pt x="27195" y="73028"/>
                  </a:lnTo>
                  <a:cubicBezTo>
                    <a:pt x="17010" y="69633"/>
                    <a:pt x="10220" y="59448"/>
                    <a:pt x="13615" y="49263"/>
                  </a:cubicBezTo>
                  <a:lnTo>
                    <a:pt x="20405" y="27195"/>
                  </a:lnTo>
                  <a:cubicBezTo>
                    <a:pt x="23800" y="17010"/>
                    <a:pt x="33985" y="10220"/>
                    <a:pt x="44170" y="13615"/>
                  </a:cubicBezTo>
                  <a:lnTo>
                    <a:pt x="67936" y="20405"/>
                  </a:lnTo>
                  <a:cubicBezTo>
                    <a:pt x="78121" y="23800"/>
                    <a:pt x="84911" y="33985"/>
                    <a:pt x="81516" y="44170"/>
                  </a:cubicBezTo>
                  <a:lnTo>
                    <a:pt x="74726" y="66238"/>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13" name="任意多边形: 形状 205"/>
            <p:cNvSpPr/>
            <p:nvPr/>
          </p:nvSpPr>
          <p:spPr>
            <a:xfrm>
              <a:off x="8276040" y="42879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19" y="61146"/>
                    <a:pt x="13615" y="50961"/>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14" name="任意多边形: 形状 206"/>
            <p:cNvSpPr/>
            <p:nvPr/>
          </p:nvSpPr>
          <p:spPr>
            <a:xfrm>
              <a:off x="8347320" y="43084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19"/>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15" name="任意多边形: 形状 207"/>
            <p:cNvSpPr/>
            <p:nvPr/>
          </p:nvSpPr>
          <p:spPr>
            <a:xfrm>
              <a:off x="8420040" y="43304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19" y="61146"/>
                    <a:pt x="13615" y="50961"/>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16" name="任意多边形: 形状 208"/>
            <p:cNvSpPr/>
            <p:nvPr/>
          </p:nvSpPr>
          <p:spPr>
            <a:xfrm>
              <a:off x="8491320" y="4352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6238"/>
                  </a:moveTo>
                  <a:cubicBezTo>
                    <a:pt x="71331" y="76423"/>
                    <a:pt x="61146" y="83214"/>
                    <a:pt x="50960" y="79819"/>
                  </a:cubicBezTo>
                  <a:lnTo>
                    <a:pt x="27195" y="73028"/>
                  </a:lnTo>
                  <a:cubicBezTo>
                    <a:pt x="17010" y="69633"/>
                    <a:pt x="10220" y="59448"/>
                    <a:pt x="13615" y="49263"/>
                  </a:cubicBezTo>
                  <a:lnTo>
                    <a:pt x="20405" y="27195"/>
                  </a:lnTo>
                  <a:cubicBezTo>
                    <a:pt x="23800" y="17010"/>
                    <a:pt x="33985" y="10220"/>
                    <a:pt x="44170" y="13615"/>
                  </a:cubicBezTo>
                  <a:lnTo>
                    <a:pt x="67936" y="20405"/>
                  </a:lnTo>
                  <a:cubicBezTo>
                    <a:pt x="78121" y="23800"/>
                    <a:pt x="84911" y="33985"/>
                    <a:pt x="81516" y="44170"/>
                  </a:cubicBezTo>
                  <a:lnTo>
                    <a:pt x="74726" y="66238"/>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17" name="任意多边形: 形状 209"/>
            <p:cNvSpPr/>
            <p:nvPr/>
          </p:nvSpPr>
          <p:spPr>
            <a:xfrm>
              <a:off x="8562960" y="43711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18" name="任意多边形: 形状 210"/>
            <p:cNvSpPr/>
            <p:nvPr/>
          </p:nvSpPr>
          <p:spPr>
            <a:xfrm>
              <a:off x="7681680" y="4191120"/>
              <a:ext cx="186480" cy="118800"/>
            </a:xfrm>
            <a:custGeom>
              <a:avLst/>
              <a:gdLst>
                <a:gd name="textAreaLeft" fmla="*/ 0 w 186480"/>
                <a:gd name="textAreaRight" fmla="*/ 186840 w 186480"/>
                <a:gd name="textAreaTop" fmla="*/ 0 h 118800"/>
                <a:gd name="textAreaBottom" fmla="*/ 119160 h 118800"/>
              </a:gdLst>
              <a:ahLst/>
              <a:rect l="textAreaLeft" t="textAreaTop" r="textAreaRight" b="textAreaBottom"/>
              <a:pathLst>
                <a:path w="186729" h="118827">
                  <a:moveTo>
                    <a:pt x="181671" y="98491"/>
                  </a:moveTo>
                  <a:cubicBezTo>
                    <a:pt x="178276" y="108677"/>
                    <a:pt x="168090" y="115467"/>
                    <a:pt x="157905" y="112072"/>
                  </a:cubicBezTo>
                  <a:lnTo>
                    <a:pt x="27195" y="74726"/>
                  </a:lnTo>
                  <a:cubicBezTo>
                    <a:pt x="17010" y="71331"/>
                    <a:pt x="10219" y="61146"/>
                    <a:pt x="13615" y="50960"/>
                  </a:cubicBezTo>
                  <a:lnTo>
                    <a:pt x="20405" y="27195"/>
                  </a:lnTo>
                  <a:cubicBezTo>
                    <a:pt x="23800" y="17010"/>
                    <a:pt x="33985" y="10220"/>
                    <a:pt x="44170" y="13615"/>
                  </a:cubicBezTo>
                  <a:lnTo>
                    <a:pt x="174881" y="50960"/>
                  </a:lnTo>
                  <a:cubicBezTo>
                    <a:pt x="185066" y="54356"/>
                    <a:pt x="191856" y="64541"/>
                    <a:pt x="188461" y="74726"/>
                  </a:cubicBezTo>
                  <a:lnTo>
                    <a:pt x="181671" y="98491"/>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19" name="任意多边形: 形状 211"/>
            <p:cNvSpPr/>
            <p:nvPr/>
          </p:nvSpPr>
          <p:spPr>
            <a:xfrm>
              <a:off x="8690040" y="4337280"/>
              <a:ext cx="118800" cy="101520"/>
            </a:xfrm>
            <a:custGeom>
              <a:avLst/>
              <a:gdLst>
                <a:gd name="textAreaLeft" fmla="*/ 0 w 118800"/>
                <a:gd name="textAreaRight" fmla="*/ 119160 w 118800"/>
                <a:gd name="textAreaTop" fmla="*/ 0 h 101520"/>
                <a:gd name="textAreaBottom" fmla="*/ 101880 h 101520"/>
              </a:gdLst>
              <a:ahLst/>
              <a:rect l="textAreaLeft" t="textAreaTop" r="textAreaRight" b="textAreaBottom"/>
              <a:pathLst>
                <a:path w="118827" h="101852">
                  <a:moveTo>
                    <a:pt x="110374" y="78121"/>
                  </a:moveTo>
                  <a:cubicBezTo>
                    <a:pt x="106979" y="88306"/>
                    <a:pt x="96794" y="95096"/>
                    <a:pt x="86609" y="91701"/>
                  </a:cubicBezTo>
                  <a:lnTo>
                    <a:pt x="27195" y="74726"/>
                  </a:lnTo>
                  <a:cubicBezTo>
                    <a:pt x="17010" y="71331"/>
                    <a:pt x="10220" y="61146"/>
                    <a:pt x="13615" y="50960"/>
                  </a:cubicBezTo>
                  <a:lnTo>
                    <a:pt x="20405" y="27195"/>
                  </a:lnTo>
                  <a:cubicBezTo>
                    <a:pt x="23800" y="17010"/>
                    <a:pt x="33985" y="10220"/>
                    <a:pt x="44170" y="13615"/>
                  </a:cubicBezTo>
                  <a:lnTo>
                    <a:pt x="103584" y="30590"/>
                  </a:lnTo>
                  <a:cubicBezTo>
                    <a:pt x="113769" y="33985"/>
                    <a:pt x="120560" y="44170"/>
                    <a:pt x="117165" y="54355"/>
                  </a:cubicBezTo>
                  <a:lnTo>
                    <a:pt x="110374" y="78121"/>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20" name="任意多边形: 形状 212"/>
            <p:cNvSpPr/>
            <p:nvPr/>
          </p:nvSpPr>
          <p:spPr>
            <a:xfrm>
              <a:off x="8635680" y="4393440"/>
              <a:ext cx="152640" cy="101520"/>
            </a:xfrm>
            <a:custGeom>
              <a:avLst/>
              <a:gdLst>
                <a:gd name="textAreaLeft" fmla="*/ 0 w 152640"/>
                <a:gd name="textAreaRight" fmla="*/ 153000 w 152640"/>
                <a:gd name="textAreaTop" fmla="*/ 0 h 101520"/>
                <a:gd name="textAreaBottom" fmla="*/ 101880 h 101520"/>
              </a:gdLst>
              <a:ahLst/>
              <a:rect l="textAreaLeft" t="textAreaTop" r="textAreaRight" b="textAreaBottom"/>
              <a:pathLst>
                <a:path w="152778" h="101852">
                  <a:moveTo>
                    <a:pt x="146023" y="88306"/>
                  </a:moveTo>
                  <a:cubicBezTo>
                    <a:pt x="142627" y="98492"/>
                    <a:pt x="132442" y="105282"/>
                    <a:pt x="122257" y="101887"/>
                  </a:cubicBezTo>
                  <a:lnTo>
                    <a:pt x="27195" y="74726"/>
                  </a:lnTo>
                  <a:cubicBezTo>
                    <a:pt x="17010" y="71331"/>
                    <a:pt x="10220" y="61146"/>
                    <a:pt x="13615" y="50961"/>
                  </a:cubicBezTo>
                  <a:lnTo>
                    <a:pt x="20405" y="27195"/>
                  </a:lnTo>
                  <a:cubicBezTo>
                    <a:pt x="23800" y="17010"/>
                    <a:pt x="33985" y="10219"/>
                    <a:pt x="44170" y="13615"/>
                  </a:cubicBezTo>
                  <a:lnTo>
                    <a:pt x="139232" y="40775"/>
                  </a:lnTo>
                  <a:cubicBezTo>
                    <a:pt x="149418" y="44170"/>
                    <a:pt x="156208" y="54356"/>
                    <a:pt x="152813" y="64541"/>
                  </a:cubicBezTo>
                  <a:lnTo>
                    <a:pt x="146023" y="88306"/>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21" name="任意多边形: 形状 213"/>
            <p:cNvSpPr/>
            <p:nvPr/>
          </p:nvSpPr>
          <p:spPr>
            <a:xfrm>
              <a:off x="8579880" y="4452840"/>
              <a:ext cx="186480" cy="118800"/>
            </a:xfrm>
            <a:custGeom>
              <a:avLst/>
              <a:gdLst>
                <a:gd name="textAreaLeft" fmla="*/ 0 w 186480"/>
                <a:gd name="textAreaRight" fmla="*/ 186840 w 186480"/>
                <a:gd name="textAreaTop" fmla="*/ 0 h 118800"/>
                <a:gd name="textAreaBottom" fmla="*/ 119160 h 118800"/>
              </a:gdLst>
              <a:ahLst/>
              <a:rect l="textAreaLeft" t="textAreaTop" r="textAreaRight" b="textAreaBottom"/>
              <a:pathLst>
                <a:path w="186729" h="118827">
                  <a:moveTo>
                    <a:pt x="181671" y="98492"/>
                  </a:moveTo>
                  <a:cubicBezTo>
                    <a:pt x="178276" y="108677"/>
                    <a:pt x="168091" y="115467"/>
                    <a:pt x="157905" y="112072"/>
                  </a:cubicBezTo>
                  <a:lnTo>
                    <a:pt x="27195" y="74726"/>
                  </a:lnTo>
                  <a:cubicBezTo>
                    <a:pt x="17010" y="71331"/>
                    <a:pt x="10220" y="61146"/>
                    <a:pt x="13615" y="50961"/>
                  </a:cubicBezTo>
                  <a:lnTo>
                    <a:pt x="20405" y="27195"/>
                  </a:lnTo>
                  <a:cubicBezTo>
                    <a:pt x="23800" y="17010"/>
                    <a:pt x="33985" y="10219"/>
                    <a:pt x="44170" y="13615"/>
                  </a:cubicBezTo>
                  <a:lnTo>
                    <a:pt x="174881" y="50961"/>
                  </a:lnTo>
                  <a:cubicBezTo>
                    <a:pt x="185066" y="54356"/>
                    <a:pt x="191856" y="64541"/>
                    <a:pt x="188461" y="74726"/>
                  </a:cubicBezTo>
                  <a:lnTo>
                    <a:pt x="181671" y="98492"/>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22" name="任意多边形: 形状 214"/>
            <p:cNvSpPr/>
            <p:nvPr/>
          </p:nvSpPr>
          <p:spPr>
            <a:xfrm>
              <a:off x="7861680" y="42422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23" name="任意多边形: 形状 215"/>
            <p:cNvSpPr/>
            <p:nvPr/>
          </p:nvSpPr>
          <p:spPr>
            <a:xfrm>
              <a:off x="7932960" y="4264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24" name="任意多边形: 形状 216"/>
            <p:cNvSpPr/>
            <p:nvPr/>
          </p:nvSpPr>
          <p:spPr>
            <a:xfrm>
              <a:off x="8006040" y="42847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028" y="67936"/>
                  </a:moveTo>
                  <a:cubicBezTo>
                    <a:pt x="69633" y="78121"/>
                    <a:pt x="59448" y="84911"/>
                    <a:pt x="49263" y="81516"/>
                  </a:cubicBezTo>
                  <a:lnTo>
                    <a:pt x="27195" y="74726"/>
                  </a:lnTo>
                  <a:cubicBezTo>
                    <a:pt x="17010" y="71331"/>
                    <a:pt x="10220" y="61146"/>
                    <a:pt x="13615" y="50960"/>
                  </a:cubicBezTo>
                  <a:lnTo>
                    <a:pt x="20405" y="27195"/>
                  </a:lnTo>
                  <a:cubicBezTo>
                    <a:pt x="23800" y="17010"/>
                    <a:pt x="33985" y="10220"/>
                    <a:pt x="44170" y="13615"/>
                  </a:cubicBezTo>
                  <a:lnTo>
                    <a:pt x="66238" y="20405"/>
                  </a:lnTo>
                  <a:cubicBezTo>
                    <a:pt x="76423" y="23800"/>
                    <a:pt x="83214" y="33985"/>
                    <a:pt x="79819" y="44170"/>
                  </a:cubicBezTo>
                  <a:lnTo>
                    <a:pt x="73028"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25" name="任意多边形: 形状 217"/>
            <p:cNvSpPr/>
            <p:nvPr/>
          </p:nvSpPr>
          <p:spPr>
            <a:xfrm>
              <a:off x="8075520" y="43048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26" name="任意多边形: 形状 218"/>
            <p:cNvSpPr/>
            <p:nvPr/>
          </p:nvSpPr>
          <p:spPr>
            <a:xfrm>
              <a:off x="8148600" y="4327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1" y="81516"/>
                  </a:cubicBezTo>
                  <a:lnTo>
                    <a:pt x="27195" y="74726"/>
                  </a:lnTo>
                  <a:cubicBezTo>
                    <a:pt x="17010" y="71331"/>
                    <a:pt x="10219"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27" name="任意多边形: 形状 219"/>
            <p:cNvSpPr/>
            <p:nvPr/>
          </p:nvSpPr>
          <p:spPr>
            <a:xfrm>
              <a:off x="8219880" y="43473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28" name="任意多边形: 形状 220"/>
            <p:cNvSpPr/>
            <p:nvPr/>
          </p:nvSpPr>
          <p:spPr>
            <a:xfrm>
              <a:off x="8291160" y="43696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6238"/>
                  </a:moveTo>
                  <a:cubicBezTo>
                    <a:pt x="71331" y="76423"/>
                    <a:pt x="61146" y="83214"/>
                    <a:pt x="50960" y="79819"/>
                  </a:cubicBezTo>
                  <a:lnTo>
                    <a:pt x="27195" y="73028"/>
                  </a:lnTo>
                  <a:cubicBezTo>
                    <a:pt x="17010" y="69633"/>
                    <a:pt x="10220" y="59448"/>
                    <a:pt x="13615" y="49263"/>
                  </a:cubicBezTo>
                  <a:lnTo>
                    <a:pt x="20405" y="27195"/>
                  </a:lnTo>
                  <a:cubicBezTo>
                    <a:pt x="23800" y="17010"/>
                    <a:pt x="33985" y="10220"/>
                    <a:pt x="44170" y="13615"/>
                  </a:cubicBezTo>
                  <a:lnTo>
                    <a:pt x="67936" y="20405"/>
                  </a:lnTo>
                  <a:cubicBezTo>
                    <a:pt x="78121" y="23800"/>
                    <a:pt x="84911" y="33985"/>
                    <a:pt x="81516" y="44170"/>
                  </a:cubicBezTo>
                  <a:lnTo>
                    <a:pt x="74726" y="66238"/>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29" name="任意多边形: 形状 221"/>
            <p:cNvSpPr/>
            <p:nvPr/>
          </p:nvSpPr>
          <p:spPr>
            <a:xfrm>
              <a:off x="8362440" y="4389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30" name="任意多边形: 形状 222"/>
            <p:cNvSpPr/>
            <p:nvPr/>
          </p:nvSpPr>
          <p:spPr>
            <a:xfrm>
              <a:off x="8435520" y="44103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1"/>
                  </a:cubicBezTo>
                  <a:lnTo>
                    <a:pt x="20405" y="27195"/>
                  </a:lnTo>
                  <a:cubicBezTo>
                    <a:pt x="23800" y="17010"/>
                    <a:pt x="33985" y="10219"/>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31" name="任意多边形: 形状 223"/>
            <p:cNvSpPr/>
            <p:nvPr/>
          </p:nvSpPr>
          <p:spPr>
            <a:xfrm>
              <a:off x="8506800" y="44308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32" name="任意多边形: 形状 224"/>
            <p:cNvSpPr/>
            <p:nvPr/>
          </p:nvSpPr>
          <p:spPr>
            <a:xfrm>
              <a:off x="8618760" y="43153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4726" y="67936"/>
                  </a:moveTo>
                  <a:cubicBezTo>
                    <a:pt x="71331" y="78121"/>
                    <a:pt x="61146" y="84911"/>
                    <a:pt x="50960" y="81516"/>
                  </a:cubicBezTo>
                  <a:lnTo>
                    <a:pt x="27195" y="74726"/>
                  </a:lnTo>
                  <a:cubicBezTo>
                    <a:pt x="17010" y="71331"/>
                    <a:pt x="10220" y="61146"/>
                    <a:pt x="13615" y="50960"/>
                  </a:cubicBezTo>
                  <a:lnTo>
                    <a:pt x="20405" y="27195"/>
                  </a:lnTo>
                  <a:cubicBezTo>
                    <a:pt x="23800" y="17010"/>
                    <a:pt x="33985" y="10220"/>
                    <a:pt x="44170" y="13615"/>
                  </a:cubicBezTo>
                  <a:lnTo>
                    <a:pt x="67936" y="20405"/>
                  </a:lnTo>
                  <a:cubicBezTo>
                    <a:pt x="78121" y="23800"/>
                    <a:pt x="84911" y="33985"/>
                    <a:pt x="81516" y="44170"/>
                  </a:cubicBezTo>
                  <a:lnTo>
                    <a:pt x="74726" y="67936"/>
                  </a:lnTo>
                  <a:close/>
                </a:path>
              </a:pathLst>
            </a:custGeom>
            <a:solidFill>
              <a:srgbClr val="485280"/>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33" name="任意多边形: 形状 225"/>
            <p:cNvSpPr/>
            <p:nvPr/>
          </p:nvSpPr>
          <p:spPr>
            <a:xfrm>
              <a:off x="7675560" y="3816720"/>
              <a:ext cx="1306800" cy="441360"/>
            </a:xfrm>
            <a:custGeom>
              <a:avLst/>
              <a:gdLst>
                <a:gd name="textAreaLeft" fmla="*/ 0 w 1306800"/>
                <a:gd name="textAreaRight" fmla="*/ 1307160 w 1306800"/>
                <a:gd name="textAreaTop" fmla="*/ 0 h 441360"/>
                <a:gd name="textAreaBottom" fmla="*/ 441720 h 441360"/>
              </a:gdLst>
              <a:ahLst/>
              <a:rect l="textAreaLeft" t="textAreaTop" r="textAreaRight" b="textAreaBottom"/>
              <a:pathLst>
                <a:path w="1307103" h="441359">
                  <a:moveTo>
                    <a:pt x="1296290" y="415268"/>
                  </a:moveTo>
                  <a:cubicBezTo>
                    <a:pt x="1291197" y="435639"/>
                    <a:pt x="1269129" y="447521"/>
                    <a:pt x="1248759" y="440731"/>
                  </a:cubicBezTo>
                  <a:lnTo>
                    <a:pt x="40113" y="87644"/>
                  </a:lnTo>
                  <a:cubicBezTo>
                    <a:pt x="19742" y="82551"/>
                    <a:pt x="7859" y="60483"/>
                    <a:pt x="14650" y="40113"/>
                  </a:cubicBezTo>
                  <a:cubicBezTo>
                    <a:pt x="19742" y="19742"/>
                    <a:pt x="41810" y="7860"/>
                    <a:pt x="62181" y="14650"/>
                  </a:cubicBezTo>
                  <a:lnTo>
                    <a:pt x="1270827" y="367737"/>
                  </a:lnTo>
                  <a:cubicBezTo>
                    <a:pt x="1291197" y="372830"/>
                    <a:pt x="1303080" y="394898"/>
                    <a:pt x="1296290" y="415268"/>
                  </a:cubicBez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34" name="任意多边形: 形状 226"/>
            <p:cNvSpPr/>
            <p:nvPr/>
          </p:nvSpPr>
          <p:spPr>
            <a:xfrm>
              <a:off x="5474160" y="3850920"/>
              <a:ext cx="1239120" cy="645120"/>
            </a:xfrm>
            <a:custGeom>
              <a:avLst/>
              <a:gdLst>
                <a:gd name="textAreaLeft" fmla="*/ 0 w 1239120"/>
                <a:gd name="textAreaRight" fmla="*/ 1239480 w 1239120"/>
                <a:gd name="textAreaTop" fmla="*/ 0 h 645120"/>
                <a:gd name="textAreaBottom" fmla="*/ 645480 h 645120"/>
              </a:gdLst>
              <a:ahLst/>
              <a:rect l="textAreaLeft" t="textAreaTop" r="textAreaRight" b="textAreaBottom"/>
              <a:pathLst>
                <a:path w="1239201" h="645063">
                  <a:moveTo>
                    <a:pt x="1231563" y="578011"/>
                  </a:moveTo>
                  <a:cubicBezTo>
                    <a:pt x="1231563" y="615357"/>
                    <a:pt x="1201007" y="645912"/>
                    <a:pt x="1163661" y="645912"/>
                  </a:cubicBezTo>
                  <a:lnTo>
                    <a:pt x="80633" y="645912"/>
                  </a:lnTo>
                  <a:cubicBezTo>
                    <a:pt x="43287" y="645912"/>
                    <a:pt x="12732" y="615357"/>
                    <a:pt x="12732" y="578011"/>
                  </a:cubicBezTo>
                  <a:lnTo>
                    <a:pt x="12732" y="80633"/>
                  </a:lnTo>
                  <a:cubicBezTo>
                    <a:pt x="12732" y="43287"/>
                    <a:pt x="43287" y="12732"/>
                    <a:pt x="80633" y="12732"/>
                  </a:cubicBezTo>
                  <a:lnTo>
                    <a:pt x="1161964" y="12732"/>
                  </a:lnTo>
                  <a:cubicBezTo>
                    <a:pt x="1199310" y="12732"/>
                    <a:pt x="1229865" y="43287"/>
                    <a:pt x="1229865" y="80633"/>
                  </a:cubicBezTo>
                  <a:lnTo>
                    <a:pt x="1229865" y="578011"/>
                  </a:lnTo>
                  <a:lnTo>
                    <a:pt x="1231563" y="578011"/>
                  </a:ln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35" name="任意多边形: 形状 227"/>
            <p:cNvSpPr/>
            <p:nvPr/>
          </p:nvSpPr>
          <p:spPr>
            <a:xfrm>
              <a:off x="5932440" y="4251600"/>
              <a:ext cx="322200" cy="203400"/>
            </a:xfrm>
            <a:custGeom>
              <a:avLst/>
              <a:gdLst>
                <a:gd name="textAreaLeft" fmla="*/ 0 w 322200"/>
                <a:gd name="textAreaRight" fmla="*/ 322560 w 322200"/>
                <a:gd name="textAreaTop" fmla="*/ 0 h 203400"/>
                <a:gd name="textAreaBottom" fmla="*/ 203760 h 203400"/>
              </a:gdLst>
              <a:ahLst/>
              <a:rect l="textAreaLeft" t="textAreaTop" r="textAreaRight" b="textAreaBottom"/>
              <a:pathLst>
                <a:path w="322531" h="203704">
                  <a:moveTo>
                    <a:pt x="316591" y="175695"/>
                  </a:moveTo>
                  <a:cubicBezTo>
                    <a:pt x="316591" y="185880"/>
                    <a:pt x="308103" y="194368"/>
                    <a:pt x="297918" y="194368"/>
                  </a:cubicBezTo>
                  <a:lnTo>
                    <a:pt x="31404" y="194368"/>
                  </a:lnTo>
                  <a:cubicBezTo>
                    <a:pt x="21219" y="194368"/>
                    <a:pt x="12732" y="185880"/>
                    <a:pt x="12732" y="175695"/>
                  </a:cubicBezTo>
                  <a:lnTo>
                    <a:pt x="12732" y="31405"/>
                  </a:lnTo>
                  <a:cubicBezTo>
                    <a:pt x="12732" y="21219"/>
                    <a:pt x="21219" y="12732"/>
                    <a:pt x="31404" y="12732"/>
                  </a:cubicBezTo>
                  <a:lnTo>
                    <a:pt x="297918" y="12732"/>
                  </a:lnTo>
                  <a:cubicBezTo>
                    <a:pt x="308103" y="12732"/>
                    <a:pt x="316591" y="21219"/>
                    <a:pt x="316591" y="31405"/>
                  </a:cubicBezTo>
                  <a:lnTo>
                    <a:pt x="316591" y="175695"/>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36" name="任意多边形: 形状 228"/>
            <p:cNvSpPr/>
            <p:nvPr/>
          </p:nvSpPr>
          <p:spPr>
            <a:xfrm>
              <a:off x="552996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37" name="任意多边形: 形状 229"/>
            <p:cNvSpPr/>
            <p:nvPr/>
          </p:nvSpPr>
          <p:spPr>
            <a:xfrm>
              <a:off x="560484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38" name="任意多边形: 形状 230"/>
            <p:cNvSpPr/>
            <p:nvPr/>
          </p:nvSpPr>
          <p:spPr>
            <a:xfrm>
              <a:off x="567936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39" name="任意多边形: 形状 231"/>
            <p:cNvSpPr/>
            <p:nvPr/>
          </p:nvSpPr>
          <p:spPr>
            <a:xfrm>
              <a:off x="575424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0" name="任意多边形: 形状 232"/>
            <p:cNvSpPr/>
            <p:nvPr/>
          </p:nvSpPr>
          <p:spPr>
            <a:xfrm>
              <a:off x="582876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1" name="任意多边形: 形状 233"/>
            <p:cNvSpPr/>
            <p:nvPr/>
          </p:nvSpPr>
          <p:spPr>
            <a:xfrm>
              <a:off x="590364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2" name="任意多边形: 形状 234"/>
            <p:cNvSpPr/>
            <p:nvPr/>
          </p:nvSpPr>
          <p:spPr>
            <a:xfrm>
              <a:off x="597816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3" name="任意多边形: 形状 235"/>
            <p:cNvSpPr/>
            <p:nvPr/>
          </p:nvSpPr>
          <p:spPr>
            <a:xfrm>
              <a:off x="605304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4" name="任意多边形: 形状 236"/>
            <p:cNvSpPr/>
            <p:nvPr/>
          </p:nvSpPr>
          <p:spPr>
            <a:xfrm>
              <a:off x="612756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5" name="任意多边形: 形状 237"/>
            <p:cNvSpPr/>
            <p:nvPr/>
          </p:nvSpPr>
          <p:spPr>
            <a:xfrm>
              <a:off x="620244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6" name="任意多边形: 形状 238"/>
            <p:cNvSpPr/>
            <p:nvPr/>
          </p:nvSpPr>
          <p:spPr>
            <a:xfrm>
              <a:off x="627876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7" name="任意多边形: 形状 239"/>
            <p:cNvSpPr/>
            <p:nvPr/>
          </p:nvSpPr>
          <p:spPr>
            <a:xfrm>
              <a:off x="635328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8" name="任意多边形: 形状 240"/>
            <p:cNvSpPr/>
            <p:nvPr/>
          </p:nvSpPr>
          <p:spPr>
            <a:xfrm>
              <a:off x="642816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5" y="73843"/>
                  </a:lnTo>
                  <a:cubicBezTo>
                    <a:pt x="21219" y="73843"/>
                    <a:pt x="12732" y="65355"/>
                    <a:pt x="12732" y="55170"/>
                  </a:cubicBezTo>
                  <a:lnTo>
                    <a:pt x="12732" y="31404"/>
                  </a:lnTo>
                  <a:cubicBezTo>
                    <a:pt x="12732" y="21219"/>
                    <a:pt x="21219" y="12732"/>
                    <a:pt x="31405"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49" name="任意多边形: 形状 241"/>
            <p:cNvSpPr/>
            <p:nvPr/>
          </p:nvSpPr>
          <p:spPr>
            <a:xfrm>
              <a:off x="650268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3472" y="12732"/>
                  </a:lnTo>
                  <a:cubicBezTo>
                    <a:pt x="63658" y="12732"/>
                    <a:pt x="72145" y="21219"/>
                    <a:pt x="72145" y="31404"/>
                  </a:cubicBezTo>
                  <a:lnTo>
                    <a:pt x="72145" y="55170"/>
                  </a:ln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0" name="任意多边形: 形状 242"/>
            <p:cNvSpPr/>
            <p:nvPr/>
          </p:nvSpPr>
          <p:spPr>
            <a:xfrm>
              <a:off x="6575760" y="392220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5540" y="55170"/>
                  </a:moveTo>
                  <a:cubicBezTo>
                    <a:pt x="75540" y="65355"/>
                    <a:pt x="67053" y="73843"/>
                    <a:pt x="56867"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lnTo>
                    <a:pt x="75540"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1" name="任意多边形: 形状 243"/>
            <p:cNvSpPr/>
            <p:nvPr/>
          </p:nvSpPr>
          <p:spPr>
            <a:xfrm>
              <a:off x="5529960" y="3995280"/>
              <a:ext cx="118800" cy="84600"/>
            </a:xfrm>
            <a:custGeom>
              <a:avLst/>
              <a:gdLst>
                <a:gd name="textAreaLeft" fmla="*/ 0 w 118800"/>
                <a:gd name="textAreaRight" fmla="*/ 119160 w 118800"/>
                <a:gd name="textAreaTop" fmla="*/ 0 h 84600"/>
                <a:gd name="textAreaBottom" fmla="*/ 84960 h 84600"/>
              </a:gdLst>
              <a:ahLst/>
              <a:rect l="textAreaLeft" t="textAreaTop" r="textAreaRight" b="textAreaBottom"/>
              <a:pathLst>
                <a:path w="118827" h="84876">
                  <a:moveTo>
                    <a:pt x="111189" y="55170"/>
                  </a:moveTo>
                  <a:cubicBezTo>
                    <a:pt x="111189" y="65355"/>
                    <a:pt x="102701" y="73843"/>
                    <a:pt x="92516" y="73843"/>
                  </a:cubicBezTo>
                  <a:lnTo>
                    <a:pt x="31404" y="73843"/>
                  </a:lnTo>
                  <a:cubicBezTo>
                    <a:pt x="21219" y="73843"/>
                    <a:pt x="12732" y="65355"/>
                    <a:pt x="12732" y="55170"/>
                  </a:cubicBezTo>
                  <a:lnTo>
                    <a:pt x="12732" y="31404"/>
                  </a:lnTo>
                  <a:cubicBezTo>
                    <a:pt x="12732" y="21219"/>
                    <a:pt x="21219" y="12732"/>
                    <a:pt x="31404" y="12732"/>
                  </a:cubicBezTo>
                  <a:lnTo>
                    <a:pt x="92516" y="12732"/>
                  </a:lnTo>
                  <a:cubicBezTo>
                    <a:pt x="102701" y="12732"/>
                    <a:pt x="111189" y="21219"/>
                    <a:pt x="111189" y="31404"/>
                  </a:cubicBezTo>
                  <a:lnTo>
                    <a:pt x="111189"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2" name="任意多边形: 形状 244"/>
            <p:cNvSpPr/>
            <p:nvPr/>
          </p:nvSpPr>
          <p:spPr>
            <a:xfrm>
              <a:off x="564192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3" name="任意多边形: 形状 245"/>
            <p:cNvSpPr/>
            <p:nvPr/>
          </p:nvSpPr>
          <p:spPr>
            <a:xfrm>
              <a:off x="571680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4" name="任意多边形: 形状 246"/>
            <p:cNvSpPr/>
            <p:nvPr/>
          </p:nvSpPr>
          <p:spPr>
            <a:xfrm>
              <a:off x="579132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5" name="任意多边形: 形状 247"/>
            <p:cNvSpPr/>
            <p:nvPr/>
          </p:nvSpPr>
          <p:spPr>
            <a:xfrm>
              <a:off x="586620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6" name="任意多边形: 形状 248"/>
            <p:cNvSpPr/>
            <p:nvPr/>
          </p:nvSpPr>
          <p:spPr>
            <a:xfrm>
              <a:off x="594072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7" name="任意多边形: 形状 249"/>
            <p:cNvSpPr/>
            <p:nvPr/>
          </p:nvSpPr>
          <p:spPr>
            <a:xfrm>
              <a:off x="601560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8" name="任意多边形: 形状 250"/>
            <p:cNvSpPr/>
            <p:nvPr/>
          </p:nvSpPr>
          <p:spPr>
            <a:xfrm>
              <a:off x="609012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59" name="任意多边形: 形状 251"/>
            <p:cNvSpPr/>
            <p:nvPr/>
          </p:nvSpPr>
          <p:spPr>
            <a:xfrm>
              <a:off x="616500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5" y="73843"/>
                  </a:lnTo>
                  <a:cubicBezTo>
                    <a:pt x="21219" y="73843"/>
                    <a:pt x="12732" y="65355"/>
                    <a:pt x="12732" y="55170"/>
                  </a:cubicBezTo>
                  <a:lnTo>
                    <a:pt x="12732" y="31404"/>
                  </a:lnTo>
                  <a:cubicBezTo>
                    <a:pt x="12732" y="21219"/>
                    <a:pt x="21219" y="12732"/>
                    <a:pt x="31405"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0" name="任意多边形: 形状 252"/>
            <p:cNvSpPr/>
            <p:nvPr/>
          </p:nvSpPr>
          <p:spPr>
            <a:xfrm>
              <a:off x="623952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1" name="任意多边形: 形状 253"/>
            <p:cNvSpPr/>
            <p:nvPr/>
          </p:nvSpPr>
          <p:spPr>
            <a:xfrm>
              <a:off x="631620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3472" y="12732"/>
                  </a:lnTo>
                  <a:cubicBezTo>
                    <a:pt x="63658" y="12732"/>
                    <a:pt x="72145" y="21219"/>
                    <a:pt x="72145" y="31404"/>
                  </a:cubicBezTo>
                  <a:lnTo>
                    <a:pt x="72145" y="55170"/>
                  </a:ln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2" name="任意多边形: 形状 254"/>
            <p:cNvSpPr/>
            <p:nvPr/>
          </p:nvSpPr>
          <p:spPr>
            <a:xfrm>
              <a:off x="638892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5540" y="55170"/>
                  </a:moveTo>
                  <a:cubicBezTo>
                    <a:pt x="75540" y="65355"/>
                    <a:pt x="67053" y="73843"/>
                    <a:pt x="56867"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lnTo>
                    <a:pt x="75540"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3" name="任意多边形: 形状 255"/>
            <p:cNvSpPr/>
            <p:nvPr/>
          </p:nvSpPr>
          <p:spPr>
            <a:xfrm>
              <a:off x="5529960" y="4064760"/>
              <a:ext cx="152640" cy="84600"/>
            </a:xfrm>
            <a:custGeom>
              <a:avLst/>
              <a:gdLst>
                <a:gd name="textAreaLeft" fmla="*/ 0 w 152640"/>
                <a:gd name="textAreaRight" fmla="*/ 153000 w 152640"/>
                <a:gd name="textAreaTop" fmla="*/ 0 h 84600"/>
                <a:gd name="textAreaBottom" fmla="*/ 84960 h 84600"/>
              </a:gdLst>
              <a:ahLst/>
              <a:rect l="textAreaLeft" t="textAreaTop" r="textAreaRight" b="textAreaBottom"/>
              <a:pathLst>
                <a:path w="152778" h="84876">
                  <a:moveTo>
                    <a:pt x="148534" y="55170"/>
                  </a:moveTo>
                  <a:cubicBezTo>
                    <a:pt x="148534" y="65355"/>
                    <a:pt x="140047" y="73843"/>
                    <a:pt x="129862" y="73843"/>
                  </a:cubicBezTo>
                  <a:lnTo>
                    <a:pt x="31404" y="73843"/>
                  </a:lnTo>
                  <a:cubicBezTo>
                    <a:pt x="21219" y="73843"/>
                    <a:pt x="12732" y="65355"/>
                    <a:pt x="12732" y="55170"/>
                  </a:cubicBezTo>
                  <a:lnTo>
                    <a:pt x="12732" y="31405"/>
                  </a:lnTo>
                  <a:cubicBezTo>
                    <a:pt x="12732" y="21219"/>
                    <a:pt x="21219" y="12732"/>
                    <a:pt x="31404" y="12732"/>
                  </a:cubicBezTo>
                  <a:lnTo>
                    <a:pt x="129862" y="12732"/>
                  </a:lnTo>
                  <a:cubicBezTo>
                    <a:pt x="140047" y="12732"/>
                    <a:pt x="148534" y="21219"/>
                    <a:pt x="148534" y="31405"/>
                  </a:cubicBezTo>
                  <a:lnTo>
                    <a:pt x="148534"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4" name="任意多边形: 形状 256"/>
            <p:cNvSpPr/>
            <p:nvPr/>
          </p:nvSpPr>
          <p:spPr>
            <a:xfrm>
              <a:off x="567936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5" name="任意多边形: 形状 257"/>
            <p:cNvSpPr/>
            <p:nvPr/>
          </p:nvSpPr>
          <p:spPr>
            <a:xfrm>
              <a:off x="575424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6" name="任意多边形: 形状 258"/>
            <p:cNvSpPr/>
            <p:nvPr/>
          </p:nvSpPr>
          <p:spPr>
            <a:xfrm>
              <a:off x="582876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7" name="任意多边形: 形状 259"/>
            <p:cNvSpPr/>
            <p:nvPr/>
          </p:nvSpPr>
          <p:spPr>
            <a:xfrm>
              <a:off x="590364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8" name="任意多边形: 形状 260"/>
            <p:cNvSpPr/>
            <p:nvPr/>
          </p:nvSpPr>
          <p:spPr>
            <a:xfrm>
              <a:off x="597816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69" name="任意多边形: 形状 261"/>
            <p:cNvSpPr/>
            <p:nvPr/>
          </p:nvSpPr>
          <p:spPr>
            <a:xfrm>
              <a:off x="605304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0" name="任意多边形: 形状 262"/>
            <p:cNvSpPr/>
            <p:nvPr/>
          </p:nvSpPr>
          <p:spPr>
            <a:xfrm>
              <a:off x="612756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1" name="任意多边形: 形状 263"/>
            <p:cNvSpPr/>
            <p:nvPr/>
          </p:nvSpPr>
          <p:spPr>
            <a:xfrm>
              <a:off x="620244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2" name="任意多边形: 形状 264"/>
            <p:cNvSpPr/>
            <p:nvPr/>
          </p:nvSpPr>
          <p:spPr>
            <a:xfrm>
              <a:off x="627876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3" name="任意多边形: 形状 265"/>
            <p:cNvSpPr/>
            <p:nvPr/>
          </p:nvSpPr>
          <p:spPr>
            <a:xfrm>
              <a:off x="635328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4" name="任意多边形: 形状 266"/>
            <p:cNvSpPr/>
            <p:nvPr/>
          </p:nvSpPr>
          <p:spPr>
            <a:xfrm>
              <a:off x="6428160" y="4064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5" y="73843"/>
                  </a:lnTo>
                  <a:cubicBezTo>
                    <a:pt x="21219" y="73843"/>
                    <a:pt x="12732" y="65355"/>
                    <a:pt x="12732" y="55170"/>
                  </a:cubicBezTo>
                  <a:lnTo>
                    <a:pt x="12732" y="31405"/>
                  </a:lnTo>
                  <a:cubicBezTo>
                    <a:pt x="12732" y="21219"/>
                    <a:pt x="21219" y="12732"/>
                    <a:pt x="31405"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5" name="任意多边形: 形状 267"/>
            <p:cNvSpPr/>
            <p:nvPr/>
          </p:nvSpPr>
          <p:spPr>
            <a:xfrm>
              <a:off x="5529960" y="4137840"/>
              <a:ext cx="186480" cy="84600"/>
            </a:xfrm>
            <a:custGeom>
              <a:avLst/>
              <a:gdLst>
                <a:gd name="textAreaLeft" fmla="*/ 0 w 186480"/>
                <a:gd name="textAreaRight" fmla="*/ 186840 w 186480"/>
                <a:gd name="textAreaTop" fmla="*/ 0 h 84600"/>
                <a:gd name="textAreaBottom" fmla="*/ 84960 h 84600"/>
              </a:gdLst>
              <a:ahLst/>
              <a:rect l="textAreaLeft" t="textAreaTop" r="textAreaRight" b="textAreaBottom"/>
              <a:pathLst>
                <a:path w="186729" h="84876">
                  <a:moveTo>
                    <a:pt x="185880" y="55170"/>
                  </a:moveTo>
                  <a:cubicBezTo>
                    <a:pt x="185880" y="65355"/>
                    <a:pt x="177393" y="73843"/>
                    <a:pt x="167207" y="73843"/>
                  </a:cubicBezTo>
                  <a:lnTo>
                    <a:pt x="31404" y="73843"/>
                  </a:lnTo>
                  <a:cubicBezTo>
                    <a:pt x="21219" y="73843"/>
                    <a:pt x="12732" y="65355"/>
                    <a:pt x="12732" y="55170"/>
                  </a:cubicBezTo>
                  <a:lnTo>
                    <a:pt x="12732" y="31405"/>
                  </a:lnTo>
                  <a:cubicBezTo>
                    <a:pt x="12732" y="21219"/>
                    <a:pt x="21219" y="12732"/>
                    <a:pt x="31404" y="12732"/>
                  </a:cubicBezTo>
                  <a:lnTo>
                    <a:pt x="167207" y="12732"/>
                  </a:lnTo>
                  <a:cubicBezTo>
                    <a:pt x="177393" y="12732"/>
                    <a:pt x="185880" y="21219"/>
                    <a:pt x="185880" y="31405"/>
                  </a:cubicBezTo>
                  <a:lnTo>
                    <a:pt x="185880"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6" name="任意多边形: 形状 268"/>
            <p:cNvSpPr/>
            <p:nvPr/>
          </p:nvSpPr>
          <p:spPr>
            <a:xfrm>
              <a:off x="6540120" y="3995280"/>
              <a:ext cx="118800" cy="84600"/>
            </a:xfrm>
            <a:custGeom>
              <a:avLst/>
              <a:gdLst>
                <a:gd name="textAreaLeft" fmla="*/ 0 w 118800"/>
                <a:gd name="textAreaRight" fmla="*/ 119160 w 118800"/>
                <a:gd name="textAreaTop" fmla="*/ 0 h 84600"/>
                <a:gd name="textAreaBottom" fmla="*/ 84960 h 84600"/>
              </a:gdLst>
              <a:ahLst/>
              <a:rect l="textAreaLeft" t="textAreaTop" r="textAreaRight" b="textAreaBottom"/>
              <a:pathLst>
                <a:path w="118827" h="84876">
                  <a:moveTo>
                    <a:pt x="111189" y="55170"/>
                  </a:moveTo>
                  <a:cubicBezTo>
                    <a:pt x="111189" y="65355"/>
                    <a:pt x="102701" y="73843"/>
                    <a:pt x="92516" y="73843"/>
                  </a:cubicBezTo>
                  <a:lnTo>
                    <a:pt x="31404" y="73843"/>
                  </a:lnTo>
                  <a:cubicBezTo>
                    <a:pt x="21219" y="73843"/>
                    <a:pt x="12732" y="65355"/>
                    <a:pt x="12732" y="55170"/>
                  </a:cubicBezTo>
                  <a:lnTo>
                    <a:pt x="12732" y="31404"/>
                  </a:lnTo>
                  <a:cubicBezTo>
                    <a:pt x="12732" y="21219"/>
                    <a:pt x="21219" y="12732"/>
                    <a:pt x="31404" y="12732"/>
                  </a:cubicBezTo>
                  <a:lnTo>
                    <a:pt x="92516" y="12732"/>
                  </a:lnTo>
                  <a:cubicBezTo>
                    <a:pt x="102701" y="12732"/>
                    <a:pt x="111189" y="21219"/>
                    <a:pt x="111189" y="31404"/>
                  </a:cubicBezTo>
                  <a:lnTo>
                    <a:pt x="111189"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7" name="任意多边形: 形状 269"/>
            <p:cNvSpPr/>
            <p:nvPr/>
          </p:nvSpPr>
          <p:spPr>
            <a:xfrm>
              <a:off x="6502680" y="4064760"/>
              <a:ext cx="152640" cy="84600"/>
            </a:xfrm>
            <a:custGeom>
              <a:avLst/>
              <a:gdLst>
                <a:gd name="textAreaLeft" fmla="*/ 0 w 152640"/>
                <a:gd name="textAreaRight" fmla="*/ 153000 w 152640"/>
                <a:gd name="textAreaTop" fmla="*/ 0 h 84600"/>
                <a:gd name="textAreaBottom" fmla="*/ 84960 h 84600"/>
              </a:gdLst>
              <a:ahLst/>
              <a:rect l="textAreaLeft" t="textAreaTop" r="textAreaRight" b="textAreaBottom"/>
              <a:pathLst>
                <a:path w="152778" h="84876">
                  <a:moveTo>
                    <a:pt x="148534" y="55170"/>
                  </a:moveTo>
                  <a:cubicBezTo>
                    <a:pt x="148534" y="65355"/>
                    <a:pt x="140047" y="73843"/>
                    <a:pt x="129862" y="73843"/>
                  </a:cubicBezTo>
                  <a:lnTo>
                    <a:pt x="31404" y="73843"/>
                  </a:lnTo>
                  <a:cubicBezTo>
                    <a:pt x="21219" y="73843"/>
                    <a:pt x="12732" y="65355"/>
                    <a:pt x="12732" y="55170"/>
                  </a:cubicBezTo>
                  <a:lnTo>
                    <a:pt x="12732" y="31405"/>
                  </a:lnTo>
                  <a:cubicBezTo>
                    <a:pt x="12732" y="21219"/>
                    <a:pt x="21219" y="12732"/>
                    <a:pt x="31404" y="12732"/>
                  </a:cubicBezTo>
                  <a:lnTo>
                    <a:pt x="129862" y="12732"/>
                  </a:lnTo>
                  <a:cubicBezTo>
                    <a:pt x="140047" y="12732"/>
                    <a:pt x="148534" y="21219"/>
                    <a:pt x="148534" y="31405"/>
                  </a:cubicBezTo>
                  <a:lnTo>
                    <a:pt x="148534"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8" name="任意多边形: 形状 270"/>
            <p:cNvSpPr/>
            <p:nvPr/>
          </p:nvSpPr>
          <p:spPr>
            <a:xfrm>
              <a:off x="6465600" y="4137840"/>
              <a:ext cx="186480" cy="84600"/>
            </a:xfrm>
            <a:custGeom>
              <a:avLst/>
              <a:gdLst>
                <a:gd name="textAreaLeft" fmla="*/ 0 w 186480"/>
                <a:gd name="textAreaRight" fmla="*/ 186840 w 186480"/>
                <a:gd name="textAreaTop" fmla="*/ 0 h 84600"/>
                <a:gd name="textAreaBottom" fmla="*/ 84960 h 84600"/>
              </a:gdLst>
              <a:ahLst/>
              <a:rect l="textAreaLeft" t="textAreaTop" r="textAreaRight" b="textAreaBottom"/>
              <a:pathLst>
                <a:path w="186729" h="84876">
                  <a:moveTo>
                    <a:pt x="185880" y="55170"/>
                  </a:moveTo>
                  <a:cubicBezTo>
                    <a:pt x="185880" y="65355"/>
                    <a:pt x="177393" y="73843"/>
                    <a:pt x="167207" y="73843"/>
                  </a:cubicBezTo>
                  <a:lnTo>
                    <a:pt x="31404" y="73843"/>
                  </a:lnTo>
                  <a:cubicBezTo>
                    <a:pt x="21219" y="73843"/>
                    <a:pt x="12732" y="65355"/>
                    <a:pt x="12732" y="55170"/>
                  </a:cubicBezTo>
                  <a:lnTo>
                    <a:pt x="12732" y="31405"/>
                  </a:lnTo>
                  <a:cubicBezTo>
                    <a:pt x="12732" y="21219"/>
                    <a:pt x="21219" y="12732"/>
                    <a:pt x="31404" y="12732"/>
                  </a:cubicBezTo>
                  <a:lnTo>
                    <a:pt x="167207" y="12732"/>
                  </a:lnTo>
                  <a:cubicBezTo>
                    <a:pt x="177393" y="12732"/>
                    <a:pt x="185880" y="21219"/>
                    <a:pt x="185880" y="31405"/>
                  </a:cubicBezTo>
                  <a:lnTo>
                    <a:pt x="185880"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79" name="任意多边形: 形状 271"/>
            <p:cNvSpPr/>
            <p:nvPr/>
          </p:nvSpPr>
          <p:spPr>
            <a:xfrm>
              <a:off x="571680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0" name="任意多边形: 形状 272"/>
            <p:cNvSpPr/>
            <p:nvPr/>
          </p:nvSpPr>
          <p:spPr>
            <a:xfrm>
              <a:off x="579132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1" name="任意多边形: 形状 273"/>
            <p:cNvSpPr/>
            <p:nvPr/>
          </p:nvSpPr>
          <p:spPr>
            <a:xfrm>
              <a:off x="586620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2" name="任意多边形: 形状 274"/>
            <p:cNvSpPr/>
            <p:nvPr/>
          </p:nvSpPr>
          <p:spPr>
            <a:xfrm>
              <a:off x="594072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3" name="任意多边形: 形状 275"/>
            <p:cNvSpPr/>
            <p:nvPr/>
          </p:nvSpPr>
          <p:spPr>
            <a:xfrm>
              <a:off x="601560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4" name="任意多边形: 形状 276"/>
            <p:cNvSpPr/>
            <p:nvPr/>
          </p:nvSpPr>
          <p:spPr>
            <a:xfrm>
              <a:off x="609012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5" name="任意多边形: 形状 277"/>
            <p:cNvSpPr/>
            <p:nvPr/>
          </p:nvSpPr>
          <p:spPr>
            <a:xfrm>
              <a:off x="616500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5" y="73843"/>
                  </a:lnTo>
                  <a:cubicBezTo>
                    <a:pt x="21219" y="73843"/>
                    <a:pt x="12732" y="65355"/>
                    <a:pt x="12732" y="55170"/>
                  </a:cubicBezTo>
                  <a:lnTo>
                    <a:pt x="12732" y="31405"/>
                  </a:lnTo>
                  <a:cubicBezTo>
                    <a:pt x="12732" y="21219"/>
                    <a:pt x="21219" y="12732"/>
                    <a:pt x="31405"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6" name="任意多边形: 形状 278"/>
            <p:cNvSpPr/>
            <p:nvPr/>
          </p:nvSpPr>
          <p:spPr>
            <a:xfrm>
              <a:off x="623952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7" name="任意多边形: 形状 279"/>
            <p:cNvSpPr/>
            <p:nvPr/>
          </p:nvSpPr>
          <p:spPr>
            <a:xfrm>
              <a:off x="631620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5"/>
                  </a:lnTo>
                  <a:cubicBezTo>
                    <a:pt x="12732" y="21219"/>
                    <a:pt x="21219" y="12732"/>
                    <a:pt x="31404" y="12732"/>
                  </a:cubicBezTo>
                  <a:lnTo>
                    <a:pt x="53472" y="12732"/>
                  </a:lnTo>
                  <a:cubicBezTo>
                    <a:pt x="63658" y="12732"/>
                    <a:pt x="72145" y="21219"/>
                    <a:pt x="72145" y="31405"/>
                  </a:cubicBezTo>
                  <a:lnTo>
                    <a:pt x="72145" y="55170"/>
                  </a:ln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8" name="任意多边形: 形状 280"/>
            <p:cNvSpPr/>
            <p:nvPr/>
          </p:nvSpPr>
          <p:spPr>
            <a:xfrm>
              <a:off x="6388920" y="413784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5540" y="55170"/>
                  </a:moveTo>
                  <a:cubicBezTo>
                    <a:pt x="75540" y="65355"/>
                    <a:pt x="67053" y="73843"/>
                    <a:pt x="56867" y="73843"/>
                  </a:cubicBezTo>
                  <a:lnTo>
                    <a:pt x="31404" y="73843"/>
                  </a:lnTo>
                  <a:cubicBezTo>
                    <a:pt x="21219" y="73843"/>
                    <a:pt x="12732" y="65355"/>
                    <a:pt x="12732" y="55170"/>
                  </a:cubicBezTo>
                  <a:lnTo>
                    <a:pt x="12732" y="31405"/>
                  </a:lnTo>
                  <a:cubicBezTo>
                    <a:pt x="12732" y="21219"/>
                    <a:pt x="21219" y="12732"/>
                    <a:pt x="31404" y="12732"/>
                  </a:cubicBezTo>
                  <a:lnTo>
                    <a:pt x="55170" y="12732"/>
                  </a:lnTo>
                  <a:cubicBezTo>
                    <a:pt x="65355" y="12732"/>
                    <a:pt x="73843" y="21219"/>
                    <a:pt x="73843" y="31405"/>
                  </a:cubicBezTo>
                  <a:lnTo>
                    <a:pt x="73843" y="55170"/>
                  </a:lnTo>
                  <a:lnTo>
                    <a:pt x="75540"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89" name="任意多边形: 形状 281"/>
            <p:cNvSpPr/>
            <p:nvPr/>
          </p:nvSpPr>
          <p:spPr>
            <a:xfrm>
              <a:off x="6465600" y="399528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73843" y="55170"/>
                  </a:moveTo>
                  <a:cubicBezTo>
                    <a:pt x="73843" y="65355"/>
                    <a:pt x="65355" y="73843"/>
                    <a:pt x="55170" y="73843"/>
                  </a:cubicBezTo>
                  <a:lnTo>
                    <a:pt x="31404" y="73843"/>
                  </a:lnTo>
                  <a:cubicBezTo>
                    <a:pt x="21219" y="73843"/>
                    <a:pt x="12732" y="65355"/>
                    <a:pt x="12732" y="55170"/>
                  </a:cubicBezTo>
                  <a:lnTo>
                    <a:pt x="12732" y="31404"/>
                  </a:lnTo>
                  <a:cubicBezTo>
                    <a:pt x="12732" y="21219"/>
                    <a:pt x="21219" y="12732"/>
                    <a:pt x="31404" y="12732"/>
                  </a:cubicBezTo>
                  <a:lnTo>
                    <a:pt x="55170" y="12732"/>
                  </a:lnTo>
                  <a:cubicBezTo>
                    <a:pt x="65355" y="12732"/>
                    <a:pt x="73843" y="21219"/>
                    <a:pt x="73843" y="31404"/>
                  </a:cubicBezTo>
                  <a:lnTo>
                    <a:pt x="73843" y="5517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190" name="任意多边形: 形状 282"/>
            <p:cNvSpPr/>
            <p:nvPr/>
          </p:nvSpPr>
          <p:spPr>
            <a:xfrm>
              <a:off x="5414760" y="3774600"/>
              <a:ext cx="1357920" cy="101520"/>
            </a:xfrm>
            <a:custGeom>
              <a:avLst/>
              <a:gdLst>
                <a:gd name="textAreaLeft" fmla="*/ 0 w 1357920"/>
                <a:gd name="textAreaRight" fmla="*/ 1358280 w 1357920"/>
                <a:gd name="textAreaTop" fmla="*/ 0 h 101520"/>
                <a:gd name="textAreaBottom" fmla="*/ 101880 h 101520"/>
              </a:gdLst>
              <a:ahLst/>
              <a:rect l="textAreaLeft" t="textAreaTop" r="textAreaRight" b="textAreaBottom"/>
              <a:pathLst>
                <a:path w="1358029" h="101852">
                  <a:moveTo>
                    <a:pt x="1350390" y="51775"/>
                  </a:moveTo>
                  <a:cubicBezTo>
                    <a:pt x="1350390" y="72145"/>
                    <a:pt x="1333415" y="90818"/>
                    <a:pt x="1311347" y="90818"/>
                  </a:cubicBezTo>
                  <a:lnTo>
                    <a:pt x="51775" y="90818"/>
                  </a:lnTo>
                  <a:cubicBezTo>
                    <a:pt x="31404" y="90818"/>
                    <a:pt x="12732" y="73843"/>
                    <a:pt x="12732" y="51775"/>
                  </a:cubicBezTo>
                  <a:cubicBezTo>
                    <a:pt x="12732" y="31404"/>
                    <a:pt x="29707" y="12732"/>
                    <a:pt x="51775" y="12732"/>
                  </a:cubicBezTo>
                  <a:lnTo>
                    <a:pt x="1311347" y="12732"/>
                  </a:lnTo>
                  <a:cubicBezTo>
                    <a:pt x="1331717" y="12732"/>
                    <a:pt x="1350390" y="29707"/>
                    <a:pt x="1350390" y="51775"/>
                  </a:cubicBez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1" name="任意多边形: 形状 283"/>
            <p:cNvSpPr/>
            <p:nvPr/>
          </p:nvSpPr>
          <p:spPr>
            <a:xfrm>
              <a:off x="6260040" y="4757760"/>
              <a:ext cx="1001520" cy="1137600"/>
            </a:xfrm>
            <a:custGeom>
              <a:avLst/>
              <a:gdLst>
                <a:gd name="textAreaLeft" fmla="*/ 0 w 1001520"/>
                <a:gd name="textAreaRight" fmla="*/ 1001880 w 1001520"/>
                <a:gd name="textAreaTop" fmla="*/ 0 h 1137600"/>
                <a:gd name="textAreaBottom" fmla="*/ 1137960 h 1137600"/>
              </a:gdLst>
              <a:ahLst/>
              <a:rect l="textAreaLeft" t="textAreaTop" r="textAreaRight" b="textAreaBottom"/>
              <a:pathLst>
                <a:path w="1001546" h="1137349">
                  <a:moveTo>
                    <a:pt x="56867" y="1126316"/>
                  </a:moveTo>
                  <a:cubicBezTo>
                    <a:pt x="31404" y="1122920"/>
                    <a:pt x="16127" y="1119526"/>
                    <a:pt x="12732" y="1117828"/>
                  </a:cubicBezTo>
                  <a:lnTo>
                    <a:pt x="48380" y="946377"/>
                  </a:lnTo>
                  <a:cubicBezTo>
                    <a:pt x="53472" y="948074"/>
                    <a:pt x="588196" y="1055019"/>
                    <a:pt x="774925" y="751160"/>
                  </a:cubicBezTo>
                  <a:cubicBezTo>
                    <a:pt x="854710" y="620449"/>
                    <a:pt x="830944" y="246991"/>
                    <a:pt x="795296" y="41590"/>
                  </a:cubicBezTo>
                  <a:lnTo>
                    <a:pt x="966747" y="12732"/>
                  </a:lnTo>
                  <a:cubicBezTo>
                    <a:pt x="976932" y="73843"/>
                    <a:pt x="1061809" y="613659"/>
                    <a:pt x="922611" y="842827"/>
                  </a:cubicBezTo>
                  <a:cubicBezTo>
                    <a:pt x="707024" y="1194217"/>
                    <a:pt x="209646" y="1148383"/>
                    <a:pt x="56867" y="1126316"/>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2" name="任意多边形: 形状 284"/>
            <p:cNvSpPr/>
            <p:nvPr/>
          </p:nvSpPr>
          <p:spPr>
            <a:xfrm>
              <a:off x="5502240" y="4417920"/>
              <a:ext cx="525960" cy="1290240"/>
            </a:xfrm>
            <a:custGeom>
              <a:avLst/>
              <a:gdLst>
                <a:gd name="textAreaLeft" fmla="*/ 0 w 525960"/>
                <a:gd name="textAreaRight" fmla="*/ 526320 w 525960"/>
                <a:gd name="textAreaTop" fmla="*/ 0 h 1290240"/>
                <a:gd name="textAreaBottom" fmla="*/ 1290600 h 1290240"/>
              </a:gdLst>
              <a:ahLst/>
              <a:rect l="textAreaLeft" t="textAreaTop" r="textAreaRight" b="textAreaBottom"/>
              <a:pathLst>
                <a:path w="526236" h="1290127">
                  <a:moveTo>
                    <a:pt x="285130" y="1280792"/>
                  </a:moveTo>
                  <a:cubicBezTo>
                    <a:pt x="-6846" y="1128013"/>
                    <a:pt x="-67957" y="815666"/>
                    <a:pt x="120469" y="425233"/>
                  </a:cubicBezTo>
                  <a:lnTo>
                    <a:pt x="125562" y="415048"/>
                  </a:lnTo>
                  <a:cubicBezTo>
                    <a:pt x="156118" y="347146"/>
                    <a:pt x="344544" y="68750"/>
                    <a:pt x="381890" y="12732"/>
                  </a:cubicBezTo>
                  <a:lnTo>
                    <a:pt x="526181" y="111189"/>
                  </a:lnTo>
                  <a:cubicBezTo>
                    <a:pt x="436211" y="243597"/>
                    <a:pt x="302106" y="448999"/>
                    <a:pt x="283433" y="488042"/>
                  </a:cubicBezTo>
                  <a:cubicBezTo>
                    <a:pt x="281735" y="491437"/>
                    <a:pt x="280038" y="496529"/>
                    <a:pt x="276643" y="501622"/>
                  </a:cubicBezTo>
                  <a:cubicBezTo>
                    <a:pt x="128957" y="808876"/>
                    <a:pt x="159513" y="1019370"/>
                    <a:pt x="364915" y="1128013"/>
                  </a:cubicBezTo>
                  <a:lnTo>
                    <a:pt x="285130" y="1280792"/>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3" name="任意多边形: 形状 285"/>
            <p:cNvSpPr/>
            <p:nvPr/>
          </p:nvSpPr>
          <p:spPr>
            <a:xfrm>
              <a:off x="5470200" y="4810320"/>
              <a:ext cx="1833120" cy="1120320"/>
            </a:xfrm>
            <a:custGeom>
              <a:avLst/>
              <a:gdLst>
                <a:gd name="textAreaLeft" fmla="*/ 0 w 1833120"/>
                <a:gd name="textAreaRight" fmla="*/ 1833480 w 1833120"/>
                <a:gd name="textAreaTop" fmla="*/ 0 h 1120320"/>
                <a:gd name="textAreaBottom" fmla="*/ 1120680 h 1120320"/>
              </a:gdLst>
              <a:ahLst/>
              <a:rect l="textAreaLeft" t="textAreaTop" r="textAreaRight" b="textAreaBottom"/>
              <a:pathLst>
                <a:path w="1833339" h="1120374">
                  <a:moveTo>
                    <a:pt x="1820993" y="409955"/>
                  </a:moveTo>
                  <a:lnTo>
                    <a:pt x="1588431" y="406560"/>
                  </a:lnTo>
                  <a:cubicBezTo>
                    <a:pt x="1586733" y="583104"/>
                    <a:pt x="1556178" y="656098"/>
                    <a:pt x="1539202" y="684956"/>
                  </a:cubicBezTo>
                  <a:cubicBezTo>
                    <a:pt x="1501856" y="746067"/>
                    <a:pt x="1449233" y="788505"/>
                    <a:pt x="1389819" y="819061"/>
                  </a:cubicBezTo>
                  <a:cubicBezTo>
                    <a:pt x="1396609" y="642518"/>
                    <a:pt x="1140281" y="462579"/>
                    <a:pt x="800774" y="411653"/>
                  </a:cubicBezTo>
                  <a:cubicBezTo>
                    <a:pt x="578397" y="377702"/>
                    <a:pt x="374692" y="406560"/>
                    <a:pt x="245679" y="477856"/>
                  </a:cubicBezTo>
                  <a:cubicBezTo>
                    <a:pt x="238889" y="392980"/>
                    <a:pt x="259260" y="279244"/>
                    <a:pt x="333951" y="123071"/>
                  </a:cubicBezTo>
                  <a:cubicBezTo>
                    <a:pt x="337346" y="117978"/>
                    <a:pt x="339044" y="112886"/>
                    <a:pt x="340741" y="109491"/>
                  </a:cubicBezTo>
                  <a:lnTo>
                    <a:pt x="128549" y="12732"/>
                  </a:lnTo>
                  <a:lnTo>
                    <a:pt x="123457" y="22917"/>
                  </a:lnTo>
                  <a:cubicBezTo>
                    <a:pt x="-46297" y="377702"/>
                    <a:pt x="-19136" y="669678"/>
                    <a:pt x="193056" y="846222"/>
                  </a:cubicBezTo>
                  <a:cubicBezTo>
                    <a:pt x="294908" y="951469"/>
                    <a:pt x="478242" y="1038043"/>
                    <a:pt x="698922" y="1071994"/>
                  </a:cubicBezTo>
                  <a:cubicBezTo>
                    <a:pt x="731175" y="1077087"/>
                    <a:pt x="765126" y="1080482"/>
                    <a:pt x="795681" y="1083877"/>
                  </a:cubicBezTo>
                  <a:lnTo>
                    <a:pt x="792286" y="1097457"/>
                  </a:lnTo>
                  <a:cubicBezTo>
                    <a:pt x="795681" y="1097457"/>
                    <a:pt x="812657" y="1100853"/>
                    <a:pt x="838120" y="1105945"/>
                  </a:cubicBezTo>
                  <a:cubicBezTo>
                    <a:pt x="994293" y="1129710"/>
                    <a:pt x="1510344" y="1177242"/>
                    <a:pt x="1734419" y="810574"/>
                  </a:cubicBezTo>
                  <a:cubicBezTo>
                    <a:pt x="1790438" y="718907"/>
                    <a:pt x="1817598" y="588196"/>
                    <a:pt x="1820993" y="409955"/>
                  </a:cubicBezTo>
                  <a:close/>
                </a:path>
              </a:pathLst>
            </a:custGeom>
            <a:solidFill>
              <a:srgbClr val="e3836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4" name="任意多边形: 形状 286"/>
            <p:cNvSpPr/>
            <p:nvPr/>
          </p:nvSpPr>
          <p:spPr>
            <a:xfrm>
              <a:off x="5805720" y="4200480"/>
              <a:ext cx="407160" cy="441360"/>
            </a:xfrm>
            <a:custGeom>
              <a:avLst/>
              <a:gdLst>
                <a:gd name="textAreaLeft" fmla="*/ 0 w 407160"/>
                <a:gd name="textAreaRight" fmla="*/ 407520 w 407160"/>
                <a:gd name="textAreaTop" fmla="*/ 0 h 441360"/>
                <a:gd name="textAreaBottom" fmla="*/ 441720 h 441360"/>
              </a:gdLst>
              <a:ahLst/>
              <a:rect l="textAreaLeft" t="textAreaTop" r="textAreaRight" b="textAreaBottom"/>
              <a:pathLst>
                <a:path w="407408" h="441359">
                  <a:moveTo>
                    <a:pt x="179987" y="33444"/>
                  </a:moveTo>
                  <a:cubicBezTo>
                    <a:pt x="188475" y="23259"/>
                    <a:pt x="203753" y="21561"/>
                    <a:pt x="213938" y="30049"/>
                  </a:cubicBezTo>
                  <a:cubicBezTo>
                    <a:pt x="224123" y="38536"/>
                    <a:pt x="225821" y="53814"/>
                    <a:pt x="217333" y="63999"/>
                  </a:cubicBezTo>
                  <a:lnTo>
                    <a:pt x="154524" y="140389"/>
                  </a:lnTo>
                  <a:cubicBezTo>
                    <a:pt x="159617" y="140389"/>
                    <a:pt x="163012" y="140389"/>
                    <a:pt x="168105" y="140389"/>
                  </a:cubicBezTo>
                  <a:lnTo>
                    <a:pt x="266562" y="21561"/>
                  </a:lnTo>
                  <a:cubicBezTo>
                    <a:pt x="275050" y="11376"/>
                    <a:pt x="290327" y="9678"/>
                    <a:pt x="300513" y="18166"/>
                  </a:cubicBezTo>
                  <a:cubicBezTo>
                    <a:pt x="310698" y="26654"/>
                    <a:pt x="312395" y="41931"/>
                    <a:pt x="303908" y="52117"/>
                  </a:cubicBezTo>
                  <a:lnTo>
                    <a:pt x="220728" y="152271"/>
                  </a:lnTo>
                  <a:cubicBezTo>
                    <a:pt x="224123" y="153969"/>
                    <a:pt x="227518" y="155667"/>
                    <a:pt x="229216" y="157364"/>
                  </a:cubicBezTo>
                  <a:lnTo>
                    <a:pt x="332766" y="31746"/>
                  </a:lnTo>
                  <a:cubicBezTo>
                    <a:pt x="341253" y="21561"/>
                    <a:pt x="356531" y="19864"/>
                    <a:pt x="366717" y="28351"/>
                  </a:cubicBezTo>
                  <a:cubicBezTo>
                    <a:pt x="376902" y="36839"/>
                    <a:pt x="378599" y="52117"/>
                    <a:pt x="370112" y="62302"/>
                  </a:cubicBezTo>
                  <a:lnTo>
                    <a:pt x="268259" y="186222"/>
                  </a:lnTo>
                  <a:cubicBezTo>
                    <a:pt x="269957" y="187920"/>
                    <a:pt x="273352" y="191315"/>
                    <a:pt x="275050" y="193012"/>
                  </a:cubicBezTo>
                  <a:lnTo>
                    <a:pt x="363321" y="86067"/>
                  </a:lnTo>
                  <a:cubicBezTo>
                    <a:pt x="371809" y="75882"/>
                    <a:pt x="387087" y="74185"/>
                    <a:pt x="397272" y="82672"/>
                  </a:cubicBezTo>
                  <a:cubicBezTo>
                    <a:pt x="407457" y="91160"/>
                    <a:pt x="409155" y="106438"/>
                    <a:pt x="400667" y="116623"/>
                  </a:cubicBezTo>
                  <a:lnTo>
                    <a:pt x="300513" y="238846"/>
                  </a:lnTo>
                  <a:cubicBezTo>
                    <a:pt x="303908" y="247333"/>
                    <a:pt x="305605" y="254123"/>
                    <a:pt x="305605" y="262611"/>
                  </a:cubicBezTo>
                  <a:lnTo>
                    <a:pt x="331068" y="232056"/>
                  </a:lnTo>
                  <a:cubicBezTo>
                    <a:pt x="339556" y="221870"/>
                    <a:pt x="354834" y="220173"/>
                    <a:pt x="365019" y="228660"/>
                  </a:cubicBezTo>
                  <a:cubicBezTo>
                    <a:pt x="375204" y="237148"/>
                    <a:pt x="376902" y="252426"/>
                    <a:pt x="368414" y="262611"/>
                  </a:cubicBezTo>
                  <a:lnTo>
                    <a:pt x="268259" y="384834"/>
                  </a:lnTo>
                  <a:cubicBezTo>
                    <a:pt x="266562" y="386531"/>
                    <a:pt x="264864" y="388229"/>
                    <a:pt x="263167" y="388229"/>
                  </a:cubicBezTo>
                  <a:cubicBezTo>
                    <a:pt x="210543" y="440852"/>
                    <a:pt x="125666" y="444248"/>
                    <a:pt x="66253" y="396717"/>
                  </a:cubicBezTo>
                  <a:cubicBezTo>
                    <a:pt x="3444" y="345791"/>
                    <a:pt x="-5044" y="252426"/>
                    <a:pt x="45882" y="189617"/>
                  </a:cubicBezTo>
                  <a:cubicBezTo>
                    <a:pt x="45882" y="189617"/>
                    <a:pt x="45882" y="189617"/>
                    <a:pt x="47580" y="187920"/>
                  </a:cubicBezTo>
                  <a:cubicBezTo>
                    <a:pt x="47580" y="187920"/>
                    <a:pt x="47580" y="187920"/>
                    <a:pt x="47580" y="187920"/>
                  </a:cubicBezTo>
                  <a:lnTo>
                    <a:pt x="179987" y="33444"/>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5" name="任意多边形: 形状 287"/>
            <p:cNvSpPr/>
            <p:nvPr/>
          </p:nvSpPr>
          <p:spPr>
            <a:xfrm>
              <a:off x="6926760" y="4403520"/>
              <a:ext cx="305280" cy="526320"/>
            </a:xfrm>
            <a:custGeom>
              <a:avLst/>
              <a:gdLst>
                <a:gd name="textAreaLeft" fmla="*/ 0 w 305280"/>
                <a:gd name="textAreaRight" fmla="*/ 305640 w 305280"/>
                <a:gd name="textAreaTop" fmla="*/ 0 h 526320"/>
                <a:gd name="textAreaBottom" fmla="*/ 526680 h 526320"/>
              </a:gdLst>
              <a:ahLst/>
              <a:rect l="textAreaLeft" t="textAreaTop" r="textAreaRight" b="textAreaBottom"/>
              <a:pathLst>
                <a:path w="305556" h="526236">
                  <a:moveTo>
                    <a:pt x="300199" y="349703"/>
                  </a:moveTo>
                  <a:cubicBezTo>
                    <a:pt x="303594" y="322542"/>
                    <a:pt x="318872" y="200320"/>
                    <a:pt x="278131" y="132418"/>
                  </a:cubicBezTo>
                  <a:cubicBezTo>
                    <a:pt x="271340" y="113746"/>
                    <a:pt x="262853" y="98468"/>
                    <a:pt x="249272" y="86585"/>
                  </a:cubicBezTo>
                  <a:cubicBezTo>
                    <a:pt x="240785" y="67912"/>
                    <a:pt x="228902" y="54332"/>
                    <a:pt x="213624" y="44146"/>
                  </a:cubicBezTo>
                  <a:cubicBezTo>
                    <a:pt x="135538" y="10"/>
                    <a:pt x="42173" y="15288"/>
                    <a:pt x="37080" y="15288"/>
                  </a:cubicBezTo>
                  <a:cubicBezTo>
                    <a:pt x="21802" y="16986"/>
                    <a:pt x="9920" y="32264"/>
                    <a:pt x="13315" y="49239"/>
                  </a:cubicBezTo>
                  <a:cubicBezTo>
                    <a:pt x="15012" y="64517"/>
                    <a:pt x="30290" y="76400"/>
                    <a:pt x="47266" y="73005"/>
                  </a:cubicBezTo>
                  <a:cubicBezTo>
                    <a:pt x="47266" y="73005"/>
                    <a:pt x="69334" y="69610"/>
                    <a:pt x="98192" y="71307"/>
                  </a:cubicBezTo>
                  <a:cubicBezTo>
                    <a:pt x="84611" y="78097"/>
                    <a:pt x="77821" y="84887"/>
                    <a:pt x="76124" y="84887"/>
                  </a:cubicBezTo>
                  <a:cubicBezTo>
                    <a:pt x="64241" y="95073"/>
                    <a:pt x="62543" y="113746"/>
                    <a:pt x="72729" y="125628"/>
                  </a:cubicBezTo>
                  <a:cubicBezTo>
                    <a:pt x="82914" y="137511"/>
                    <a:pt x="101587" y="139209"/>
                    <a:pt x="113470" y="129023"/>
                  </a:cubicBezTo>
                  <a:cubicBezTo>
                    <a:pt x="115167" y="127326"/>
                    <a:pt x="123655" y="122233"/>
                    <a:pt x="135538" y="117141"/>
                  </a:cubicBezTo>
                  <a:cubicBezTo>
                    <a:pt x="128747" y="132418"/>
                    <a:pt x="128747" y="147696"/>
                    <a:pt x="128747" y="151091"/>
                  </a:cubicBezTo>
                  <a:cubicBezTo>
                    <a:pt x="128747" y="166369"/>
                    <a:pt x="142328" y="179949"/>
                    <a:pt x="157606" y="179949"/>
                  </a:cubicBezTo>
                  <a:cubicBezTo>
                    <a:pt x="169488" y="179949"/>
                    <a:pt x="179673" y="173159"/>
                    <a:pt x="183069" y="162974"/>
                  </a:cubicBezTo>
                  <a:cubicBezTo>
                    <a:pt x="184766" y="169764"/>
                    <a:pt x="186464" y="176554"/>
                    <a:pt x="189859" y="181647"/>
                  </a:cubicBezTo>
                  <a:cubicBezTo>
                    <a:pt x="189859" y="181647"/>
                    <a:pt x="166093" y="288592"/>
                    <a:pt x="104982" y="210505"/>
                  </a:cubicBezTo>
                  <a:cubicBezTo>
                    <a:pt x="96494" y="190135"/>
                    <a:pt x="88006" y="171462"/>
                    <a:pt x="82914" y="159579"/>
                  </a:cubicBezTo>
                  <a:cubicBezTo>
                    <a:pt x="76124" y="144301"/>
                    <a:pt x="59148" y="137511"/>
                    <a:pt x="45568" y="144301"/>
                  </a:cubicBezTo>
                  <a:cubicBezTo>
                    <a:pt x="30290" y="151091"/>
                    <a:pt x="23500" y="168067"/>
                    <a:pt x="30290" y="181647"/>
                  </a:cubicBezTo>
                  <a:cubicBezTo>
                    <a:pt x="37080" y="198622"/>
                    <a:pt x="50661" y="227480"/>
                    <a:pt x="64241" y="259734"/>
                  </a:cubicBezTo>
                  <a:cubicBezTo>
                    <a:pt x="81216" y="297079"/>
                    <a:pt x="99889" y="341215"/>
                    <a:pt x="113470" y="373468"/>
                  </a:cubicBezTo>
                  <a:cubicBezTo>
                    <a:pt x="149118" y="451555"/>
                    <a:pt x="183069" y="521154"/>
                    <a:pt x="235692" y="521154"/>
                  </a:cubicBezTo>
                  <a:cubicBezTo>
                    <a:pt x="288316" y="521154"/>
                    <a:pt x="281526" y="480414"/>
                    <a:pt x="283223" y="397234"/>
                  </a:cubicBezTo>
                  <a:cubicBezTo>
                    <a:pt x="283223" y="388746"/>
                    <a:pt x="305291" y="371771"/>
                    <a:pt x="303594" y="363283"/>
                  </a:cubicBezTo>
                  <a:cubicBezTo>
                    <a:pt x="301896" y="368376"/>
                    <a:pt x="300199" y="349703"/>
                    <a:pt x="300199" y="349703"/>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6" name="任意多边形: 形状 288"/>
            <p:cNvSpPr/>
            <p:nvPr/>
          </p:nvSpPr>
          <p:spPr>
            <a:xfrm>
              <a:off x="5858640" y="5254200"/>
              <a:ext cx="678960" cy="695880"/>
            </a:xfrm>
            <a:custGeom>
              <a:avLst/>
              <a:gdLst>
                <a:gd name="textAreaLeft" fmla="*/ 0 w 678960"/>
                <a:gd name="textAreaRight" fmla="*/ 679320 w 678960"/>
                <a:gd name="textAreaTop" fmla="*/ 0 h 695880"/>
                <a:gd name="textAreaBottom" fmla="*/ 696240 h 695880"/>
              </a:gdLst>
              <a:ahLst/>
              <a:rect l="textAreaLeft" t="textAreaTop" r="textAreaRight" b="textAreaBottom"/>
              <a:pathLst>
                <a:path w="679014" h="695989">
                  <a:moveTo>
                    <a:pt x="62655" y="197072"/>
                  </a:moveTo>
                  <a:cubicBezTo>
                    <a:pt x="166204" y="10343"/>
                    <a:pt x="354631" y="-30398"/>
                    <a:pt x="510804" y="56176"/>
                  </a:cubicBezTo>
                  <a:cubicBezTo>
                    <a:pt x="666978" y="142751"/>
                    <a:pt x="734879" y="322690"/>
                    <a:pt x="629632" y="509419"/>
                  </a:cubicBezTo>
                  <a:cubicBezTo>
                    <a:pt x="526082" y="696148"/>
                    <a:pt x="337656" y="736889"/>
                    <a:pt x="181482" y="650314"/>
                  </a:cubicBezTo>
                  <a:cubicBezTo>
                    <a:pt x="25309" y="565437"/>
                    <a:pt x="-40895" y="385499"/>
                    <a:pt x="62655" y="197072"/>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7" name="任意多边形: 形状 289"/>
            <p:cNvSpPr/>
            <p:nvPr/>
          </p:nvSpPr>
          <p:spPr>
            <a:xfrm>
              <a:off x="6185880" y="5261760"/>
              <a:ext cx="220680" cy="339480"/>
            </a:xfrm>
            <a:custGeom>
              <a:avLst/>
              <a:gdLst>
                <a:gd name="textAreaLeft" fmla="*/ 0 w 220680"/>
                <a:gd name="textAreaRight" fmla="*/ 221040 w 220680"/>
                <a:gd name="textAreaTop" fmla="*/ 0 h 339480"/>
                <a:gd name="textAreaBottom" fmla="*/ 339840 h 339480"/>
              </a:gdLst>
              <a:ahLst/>
              <a:rect l="textAreaLeft" t="textAreaTop" r="textAreaRight" b="textAreaBottom"/>
              <a:pathLst>
                <a:path w="220679" h="339507">
                  <a:moveTo>
                    <a:pt x="69859" y="153777"/>
                  </a:moveTo>
                  <a:cubicBezTo>
                    <a:pt x="119087" y="63807"/>
                    <a:pt x="178501" y="998"/>
                    <a:pt x="202267" y="14578"/>
                  </a:cubicBezTo>
                  <a:cubicBezTo>
                    <a:pt x="226032" y="28159"/>
                    <a:pt x="205662" y="111338"/>
                    <a:pt x="154736" y="201307"/>
                  </a:cubicBezTo>
                  <a:cubicBezTo>
                    <a:pt x="105507" y="291277"/>
                    <a:pt x="46094" y="354086"/>
                    <a:pt x="22328" y="340506"/>
                  </a:cubicBezTo>
                  <a:cubicBezTo>
                    <a:pt x="-1438" y="326925"/>
                    <a:pt x="20630" y="243746"/>
                    <a:pt x="69859" y="153777"/>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8" name="任意多边形: 形状 290"/>
            <p:cNvSpPr/>
            <p:nvPr/>
          </p:nvSpPr>
          <p:spPr>
            <a:xfrm>
              <a:off x="6469920" y="568800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48811" y="12732"/>
                  </a:moveTo>
                  <a:cubicBezTo>
                    <a:pt x="48811" y="12732"/>
                    <a:pt x="58997" y="61960"/>
                    <a:pt x="13163" y="89121"/>
                  </a:cubicBezTo>
                  <a:cubicBezTo>
                    <a:pt x="11466" y="89121"/>
                    <a:pt x="13163" y="16127"/>
                    <a:pt x="48811" y="12732"/>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199" name="任意多边形: 形状 291"/>
            <p:cNvSpPr/>
            <p:nvPr/>
          </p:nvSpPr>
          <p:spPr>
            <a:xfrm>
              <a:off x="5901840" y="5379120"/>
              <a:ext cx="67680" cy="84600"/>
            </a:xfrm>
            <a:custGeom>
              <a:avLst/>
              <a:gdLst>
                <a:gd name="textAreaLeft" fmla="*/ 0 w 67680"/>
                <a:gd name="textAreaRight" fmla="*/ 68040 w 67680"/>
                <a:gd name="textAreaTop" fmla="*/ 0 h 84600"/>
                <a:gd name="textAreaBottom" fmla="*/ 84960 h 84600"/>
              </a:gdLst>
              <a:ahLst/>
              <a:rect l="textAreaLeft" t="textAreaTop" r="textAreaRight" b="textAreaBottom"/>
              <a:pathLst>
                <a:path w="67901" h="84876">
                  <a:moveTo>
                    <a:pt x="58609" y="12732"/>
                  </a:moveTo>
                  <a:cubicBezTo>
                    <a:pt x="58609" y="12732"/>
                    <a:pt x="11078" y="29707"/>
                    <a:pt x="12776" y="84028"/>
                  </a:cubicBezTo>
                  <a:cubicBezTo>
                    <a:pt x="12776" y="84028"/>
                    <a:pt x="75585" y="44985"/>
                    <a:pt x="58609" y="12732"/>
                  </a:cubicBezTo>
                  <a:close/>
                </a:path>
              </a:pathLst>
            </a:custGeom>
            <a:solidFill>
              <a:srgbClr val="e4d2a2"/>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200" name="任意多边形: 形状 292"/>
            <p:cNvSpPr/>
            <p:nvPr/>
          </p:nvSpPr>
          <p:spPr>
            <a:xfrm>
              <a:off x="5853240" y="5311800"/>
              <a:ext cx="662040" cy="645120"/>
            </a:xfrm>
            <a:custGeom>
              <a:avLst/>
              <a:gdLst>
                <a:gd name="textAreaLeft" fmla="*/ 0 w 662040"/>
                <a:gd name="textAreaRight" fmla="*/ 662040 w 662040"/>
                <a:gd name="textAreaTop" fmla="*/ 0 h 645120"/>
                <a:gd name="textAreaBottom" fmla="*/ 645480 h 645120"/>
              </a:gdLst>
              <a:ahLst/>
              <a:rect l="textAreaLeft" t="textAreaTop" r="textAreaRight" b="textAreaBottom"/>
              <a:pathLst>
                <a:path w="662039" h="645063">
                  <a:moveTo>
                    <a:pt x="623335" y="477236"/>
                  </a:moveTo>
                  <a:cubicBezTo>
                    <a:pt x="526575" y="652083"/>
                    <a:pt x="344938" y="680941"/>
                    <a:pt x="188765" y="594366"/>
                  </a:cubicBezTo>
                  <a:cubicBezTo>
                    <a:pt x="32592" y="507792"/>
                    <a:pt x="-40402" y="338038"/>
                    <a:pt x="56357" y="163192"/>
                  </a:cubicBezTo>
                  <a:cubicBezTo>
                    <a:pt x="153117" y="-11654"/>
                    <a:pt x="322870" y="-20142"/>
                    <a:pt x="480741" y="66432"/>
                  </a:cubicBezTo>
                  <a:cubicBezTo>
                    <a:pt x="635217" y="153007"/>
                    <a:pt x="720094" y="302390"/>
                    <a:pt x="623335" y="477236"/>
                  </a:cubicBezTo>
                  <a:close/>
                </a:path>
              </a:pathLst>
            </a:custGeom>
            <a:solidFill>
              <a:srgbClr val="a6764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01" name="任意多边形: 形状 293"/>
            <p:cNvSpPr/>
            <p:nvPr/>
          </p:nvSpPr>
          <p:spPr>
            <a:xfrm>
              <a:off x="5947560" y="53622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4429" y="-18854"/>
                  </a:moveTo>
                  <a:lnTo>
                    <a:pt x="-23946" y="22917"/>
                  </a:lnTo>
                  <a:lnTo>
                    <a:pt x="28009" y="12732"/>
                  </a:lnTo>
                  <a:cubicBezTo>
                    <a:pt x="22917" y="17824"/>
                    <a:pt x="17824" y="24614"/>
                    <a:pt x="12732" y="31405"/>
                  </a:cubicBezTo>
                  <a:cubicBezTo>
                    <a:pt x="12732" y="-29039"/>
                    <a:pt x="12732" y="-23947"/>
                    <a:pt x="14429" y="-18854"/>
                  </a:cubicBezTo>
                  <a:close/>
                </a:path>
              </a:pathLst>
            </a:custGeom>
            <a:solidFill>
              <a:srgbClr val="a6764b"/>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02" name="任意多边形: 形状 294"/>
            <p:cNvSpPr/>
            <p:nvPr/>
          </p:nvSpPr>
          <p:spPr>
            <a:xfrm>
              <a:off x="6490440" y="5659200"/>
              <a:ext cx="33840" cy="67680"/>
            </a:xfrm>
            <a:custGeom>
              <a:avLst/>
              <a:gdLst>
                <a:gd name="textAreaLeft" fmla="*/ 0 w 33840"/>
                <a:gd name="textAreaRight" fmla="*/ 34200 w 33840"/>
                <a:gd name="textAreaTop" fmla="*/ 0 h 67680"/>
                <a:gd name="textAreaBottom" fmla="*/ 68040 h 67680"/>
              </a:gdLst>
              <a:ahLst/>
              <a:rect l="textAreaLeft" t="textAreaTop" r="textAreaRight" b="textAreaBottom"/>
              <a:pathLst>
                <a:path w="33950" h="67901">
                  <a:moveTo>
                    <a:pt x="26826" y="-20551"/>
                  </a:moveTo>
                  <a:cubicBezTo>
                    <a:pt x="30222" y="-29039"/>
                    <a:pt x="-31919" y="26312"/>
                    <a:pt x="-30222" y="17824"/>
                  </a:cubicBezTo>
                  <a:lnTo>
                    <a:pt x="25129" y="12732"/>
                  </a:lnTo>
                  <a:cubicBezTo>
                    <a:pt x="25129" y="12732"/>
                    <a:pt x="6456" y="-20551"/>
                    <a:pt x="14944" y="-3576"/>
                  </a:cubicBezTo>
                  <a:lnTo>
                    <a:pt x="26826" y="-20551"/>
                  </a:lnTo>
                  <a:close/>
                </a:path>
              </a:pathLst>
            </a:custGeom>
            <a:solidFill>
              <a:srgbClr val="a6764b"/>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03" name="任意多边形: 形状 295"/>
            <p:cNvSpPr/>
            <p:nvPr/>
          </p:nvSpPr>
          <p:spPr>
            <a:xfrm>
              <a:off x="5968440" y="5290200"/>
              <a:ext cx="560160" cy="390240"/>
            </a:xfrm>
            <a:custGeom>
              <a:avLst/>
              <a:gdLst>
                <a:gd name="textAreaLeft" fmla="*/ 0 w 560160"/>
                <a:gd name="textAreaRight" fmla="*/ 560520 w 560160"/>
                <a:gd name="textAreaTop" fmla="*/ 0 h 390240"/>
                <a:gd name="textAreaBottom" fmla="*/ 390600 h 390240"/>
              </a:gdLst>
              <a:ahLst/>
              <a:rect l="textAreaLeft" t="textAreaTop" r="textAreaRight" b="textAreaBottom"/>
              <a:pathLst>
                <a:path w="560187" h="390433">
                  <a:moveTo>
                    <a:pt x="547213" y="381761"/>
                  </a:moveTo>
                  <a:cubicBezTo>
                    <a:pt x="547213" y="381761"/>
                    <a:pt x="559096" y="254446"/>
                    <a:pt x="506472" y="181451"/>
                  </a:cubicBezTo>
                  <a:cubicBezTo>
                    <a:pt x="506472" y="181451"/>
                    <a:pt x="514960" y="196730"/>
                    <a:pt x="508170" y="217100"/>
                  </a:cubicBezTo>
                  <a:cubicBezTo>
                    <a:pt x="508170" y="217100"/>
                    <a:pt x="453849" y="116945"/>
                    <a:pt x="385947" y="72809"/>
                  </a:cubicBezTo>
                  <a:cubicBezTo>
                    <a:pt x="385947" y="72809"/>
                    <a:pt x="406318" y="89785"/>
                    <a:pt x="424990" y="128828"/>
                  </a:cubicBezTo>
                  <a:cubicBezTo>
                    <a:pt x="424990" y="128828"/>
                    <a:pt x="323138" y="30371"/>
                    <a:pt x="228076" y="13395"/>
                  </a:cubicBezTo>
                  <a:cubicBezTo>
                    <a:pt x="228076" y="13395"/>
                    <a:pt x="267119" y="30371"/>
                    <a:pt x="287490" y="54136"/>
                  </a:cubicBezTo>
                  <a:cubicBezTo>
                    <a:pt x="287490" y="54136"/>
                    <a:pt x="216193" y="6605"/>
                    <a:pt x="170360" y="13395"/>
                  </a:cubicBezTo>
                  <a:cubicBezTo>
                    <a:pt x="99063" y="23581"/>
                    <a:pt x="41347" y="59229"/>
                    <a:pt x="17582" y="89785"/>
                  </a:cubicBezTo>
                  <a:cubicBezTo>
                    <a:pt x="-6184" y="118643"/>
                    <a:pt x="65113" y="215402"/>
                    <a:pt x="65113" y="215402"/>
                  </a:cubicBezTo>
                  <a:lnTo>
                    <a:pt x="287490" y="313860"/>
                  </a:lnTo>
                  <a:lnTo>
                    <a:pt x="547213" y="381761"/>
                  </a:lnTo>
                  <a:close/>
                </a:path>
              </a:pathLst>
            </a:custGeom>
            <a:solidFill>
              <a:srgbClr val="a6764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04" name="任意多边形: 形状 296"/>
            <p:cNvSpPr/>
            <p:nvPr/>
          </p:nvSpPr>
          <p:spPr>
            <a:xfrm>
              <a:off x="6500160" y="3855960"/>
              <a:ext cx="865440" cy="916560"/>
            </a:xfrm>
            <a:custGeom>
              <a:avLst/>
              <a:gdLst>
                <a:gd name="textAreaLeft" fmla="*/ 0 w 865440"/>
                <a:gd name="textAreaRight" fmla="*/ 865800 w 865440"/>
                <a:gd name="textAreaTop" fmla="*/ 0 h 916560"/>
                <a:gd name="textAreaBottom" fmla="*/ 916920 h 916560"/>
              </a:gdLst>
              <a:ahLst/>
              <a:rect l="textAreaLeft" t="textAreaTop" r="textAreaRight" b="textAreaBottom"/>
              <a:pathLst>
                <a:path w="865743" h="916669">
                  <a:moveTo>
                    <a:pt x="17502" y="605665"/>
                  </a:moveTo>
                  <a:lnTo>
                    <a:pt x="376782" y="17502"/>
                  </a:lnTo>
                  <a:lnTo>
                    <a:pt x="859192" y="312182"/>
                  </a:lnTo>
                  <a:lnTo>
                    <a:pt x="499912" y="900345"/>
                  </a:lnTo>
                  <a:lnTo>
                    <a:pt x="17502" y="60566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05" name="任意多边形: 形状 297"/>
            <p:cNvSpPr/>
            <p:nvPr/>
          </p:nvSpPr>
          <p:spPr>
            <a:xfrm>
              <a:off x="6753960" y="4085280"/>
              <a:ext cx="152640" cy="203400"/>
            </a:xfrm>
            <a:custGeom>
              <a:avLst/>
              <a:gdLst>
                <a:gd name="textAreaLeft" fmla="*/ 0 w 152640"/>
                <a:gd name="textAreaRight" fmla="*/ 153000 w 152640"/>
                <a:gd name="textAreaTop" fmla="*/ 0 h 203400"/>
                <a:gd name="textAreaBottom" fmla="*/ 203760 h 203400"/>
              </a:gdLst>
              <a:ahLst/>
              <a:rect l="textAreaLeft" t="textAreaTop" r="textAreaRight" b="textAreaBottom"/>
              <a:pathLst>
                <a:path w="152778" h="203704">
                  <a:moveTo>
                    <a:pt x="17502" y="169613"/>
                  </a:moveTo>
                  <a:lnTo>
                    <a:pt x="110419" y="17502"/>
                  </a:lnTo>
                  <a:lnTo>
                    <a:pt x="143739" y="37855"/>
                  </a:lnTo>
                  <a:lnTo>
                    <a:pt x="50822" y="189967"/>
                  </a:lnTo>
                  <a:lnTo>
                    <a:pt x="17502" y="169613"/>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06" name="任意多边形: 形状 298"/>
            <p:cNvSpPr/>
            <p:nvPr/>
          </p:nvSpPr>
          <p:spPr>
            <a:xfrm>
              <a:off x="6819840" y="4189680"/>
              <a:ext cx="118800" cy="135720"/>
            </a:xfrm>
            <a:custGeom>
              <a:avLst/>
              <a:gdLst>
                <a:gd name="textAreaLeft" fmla="*/ 0 w 118800"/>
                <a:gd name="textAreaRight" fmla="*/ 119160 w 118800"/>
                <a:gd name="textAreaTop" fmla="*/ 0 h 135720"/>
                <a:gd name="textAreaBottom" fmla="*/ 136080 h 135720"/>
              </a:gdLst>
              <a:ahLst/>
              <a:rect l="textAreaLeft" t="textAreaTop" r="textAreaRight" b="textAreaBottom"/>
              <a:pathLst>
                <a:path w="118827" h="135802">
                  <a:moveTo>
                    <a:pt x="17501" y="105860"/>
                  </a:moveTo>
                  <a:lnTo>
                    <a:pt x="71481" y="17501"/>
                  </a:lnTo>
                  <a:lnTo>
                    <a:pt x="104797" y="37854"/>
                  </a:lnTo>
                  <a:lnTo>
                    <a:pt x="50816" y="126213"/>
                  </a:lnTo>
                  <a:lnTo>
                    <a:pt x="17501" y="105860"/>
                  </a:ln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07" name="任意多边形: 形状 299"/>
            <p:cNvSpPr/>
            <p:nvPr/>
          </p:nvSpPr>
          <p:spPr>
            <a:xfrm>
              <a:off x="6884640" y="4112640"/>
              <a:ext cx="186480" cy="254520"/>
            </a:xfrm>
            <a:custGeom>
              <a:avLst/>
              <a:gdLst>
                <a:gd name="textAreaLeft" fmla="*/ 0 w 186480"/>
                <a:gd name="textAreaRight" fmla="*/ 186840 w 186480"/>
                <a:gd name="textAreaTop" fmla="*/ 0 h 254520"/>
                <a:gd name="textAreaBottom" fmla="*/ 254880 h 254520"/>
              </a:gdLst>
              <a:ahLst/>
              <a:rect l="textAreaLeft" t="textAreaTop" r="textAreaRight" b="textAreaBottom"/>
              <a:pathLst>
                <a:path w="186729" h="254630">
                  <a:moveTo>
                    <a:pt x="17501" y="223189"/>
                  </a:moveTo>
                  <a:lnTo>
                    <a:pt x="143160" y="17501"/>
                  </a:lnTo>
                  <a:lnTo>
                    <a:pt x="176476" y="37854"/>
                  </a:lnTo>
                  <a:lnTo>
                    <a:pt x="50817" y="243542"/>
                  </a:lnTo>
                  <a:lnTo>
                    <a:pt x="17501" y="223189"/>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08" name="任意多边形: 形状 300"/>
            <p:cNvSpPr/>
            <p:nvPr/>
          </p:nvSpPr>
          <p:spPr>
            <a:xfrm>
              <a:off x="6951240" y="4219200"/>
              <a:ext cx="152640" cy="186480"/>
            </a:xfrm>
            <a:custGeom>
              <a:avLst/>
              <a:gdLst>
                <a:gd name="textAreaLeft" fmla="*/ 0 w 152640"/>
                <a:gd name="textAreaRight" fmla="*/ 153000 w 152640"/>
                <a:gd name="textAreaTop" fmla="*/ 0 h 186480"/>
                <a:gd name="textAreaBottom" fmla="*/ 186840 h 186480"/>
              </a:gdLst>
              <a:ahLst/>
              <a:rect l="textAreaLeft" t="textAreaTop" r="textAreaRight" b="textAreaBottom"/>
              <a:pathLst>
                <a:path w="152778" h="186729">
                  <a:moveTo>
                    <a:pt x="17502" y="156575"/>
                  </a:moveTo>
                  <a:lnTo>
                    <a:pt x="102455" y="17502"/>
                  </a:lnTo>
                  <a:lnTo>
                    <a:pt x="135775" y="37855"/>
                  </a:lnTo>
                  <a:lnTo>
                    <a:pt x="50822" y="176928"/>
                  </a:lnTo>
                  <a:lnTo>
                    <a:pt x="17502" y="156575"/>
                  </a:lnTo>
                  <a:close/>
                </a:path>
              </a:pathLst>
            </a:custGeom>
            <a:solidFill>
              <a:srgbClr val="8dac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09" name="任意多边形: 形状 301"/>
            <p:cNvSpPr/>
            <p:nvPr/>
          </p:nvSpPr>
          <p:spPr>
            <a:xfrm>
              <a:off x="7016760" y="4192200"/>
              <a:ext cx="186480" cy="254520"/>
            </a:xfrm>
            <a:custGeom>
              <a:avLst/>
              <a:gdLst>
                <a:gd name="textAreaLeft" fmla="*/ 0 w 186480"/>
                <a:gd name="textAreaRight" fmla="*/ 186840 w 186480"/>
                <a:gd name="textAreaTop" fmla="*/ 0 h 254520"/>
                <a:gd name="textAreaBottom" fmla="*/ 254880 h 254520"/>
              </a:gdLst>
              <a:ahLst/>
              <a:rect l="textAreaLeft" t="textAreaTop" r="textAreaRight" b="textAreaBottom"/>
              <a:pathLst>
                <a:path w="186729" h="254630">
                  <a:moveTo>
                    <a:pt x="17502" y="223214"/>
                  </a:moveTo>
                  <a:lnTo>
                    <a:pt x="143162" y="17502"/>
                  </a:lnTo>
                  <a:lnTo>
                    <a:pt x="176481" y="37855"/>
                  </a:lnTo>
                  <a:lnTo>
                    <a:pt x="50822" y="243568"/>
                  </a:lnTo>
                  <a:lnTo>
                    <a:pt x="17502" y="223214"/>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0" name="任意多边形: 形状 302"/>
            <p:cNvSpPr/>
            <p:nvPr/>
          </p:nvSpPr>
          <p:spPr>
            <a:xfrm>
              <a:off x="6723360" y="4239720"/>
              <a:ext cx="373320" cy="237600"/>
            </a:xfrm>
            <a:custGeom>
              <a:avLst/>
              <a:gdLst>
                <a:gd name="textAreaLeft" fmla="*/ 0 w 373320"/>
                <a:gd name="textAreaRight" fmla="*/ 373680 w 373320"/>
                <a:gd name="textAreaTop" fmla="*/ 0 h 237600"/>
                <a:gd name="textAreaBottom" fmla="*/ 237960 h 237600"/>
              </a:gdLst>
              <a:ahLst/>
              <a:rect l="textAreaLeft" t="textAreaTop" r="textAreaRight" b="textAreaBottom"/>
              <a:pathLst>
                <a:path w="373458" h="237655">
                  <a:moveTo>
                    <a:pt x="12731" y="12732"/>
                  </a:moveTo>
                  <a:lnTo>
                    <a:pt x="364122" y="226621"/>
                  </a:lnTo>
                </a:path>
              </a:pathLst>
            </a:custGeom>
            <a:noFill/>
            <a:ln w="9360">
              <a:solidFill>
                <a:srgbClr val="d1d7d1"/>
              </a:solidFill>
              <a:miter/>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1" name="任意多边形: 形状 303"/>
            <p:cNvSpPr/>
            <p:nvPr/>
          </p:nvSpPr>
          <p:spPr>
            <a:xfrm>
              <a:off x="6939720" y="4534200"/>
              <a:ext cx="169560" cy="237600"/>
            </a:xfrm>
            <a:custGeom>
              <a:avLst/>
              <a:gdLst>
                <a:gd name="textAreaLeft" fmla="*/ 0 w 169560"/>
                <a:gd name="textAreaRight" fmla="*/ 169920 w 169560"/>
                <a:gd name="textAreaTop" fmla="*/ 0 h 237600"/>
                <a:gd name="textAreaBottom" fmla="*/ 237960 h 237600"/>
              </a:gdLst>
              <a:ahLst/>
              <a:rect l="textAreaLeft" t="textAreaTop" r="textAreaRight" b="textAreaBottom"/>
              <a:pathLst>
                <a:path w="169753" h="237655">
                  <a:moveTo>
                    <a:pt x="127401" y="110426"/>
                  </a:moveTo>
                  <a:cubicBezTo>
                    <a:pt x="117216" y="108728"/>
                    <a:pt x="105333" y="100240"/>
                    <a:pt x="90055" y="81567"/>
                  </a:cubicBezTo>
                  <a:cubicBezTo>
                    <a:pt x="81568" y="61197"/>
                    <a:pt x="73080" y="42524"/>
                    <a:pt x="67987" y="30641"/>
                  </a:cubicBezTo>
                  <a:cubicBezTo>
                    <a:pt x="61197" y="15364"/>
                    <a:pt x="44222" y="8574"/>
                    <a:pt x="30641" y="15364"/>
                  </a:cubicBezTo>
                  <a:cubicBezTo>
                    <a:pt x="15364" y="22154"/>
                    <a:pt x="8573" y="39129"/>
                    <a:pt x="15364" y="52709"/>
                  </a:cubicBezTo>
                  <a:cubicBezTo>
                    <a:pt x="22154" y="69685"/>
                    <a:pt x="35734" y="98543"/>
                    <a:pt x="49314" y="130796"/>
                  </a:cubicBezTo>
                  <a:cubicBezTo>
                    <a:pt x="64592" y="164747"/>
                    <a:pt x="81568" y="203790"/>
                    <a:pt x="95148" y="234346"/>
                  </a:cubicBezTo>
                  <a:lnTo>
                    <a:pt x="169840" y="205488"/>
                  </a:lnTo>
                  <a:lnTo>
                    <a:pt x="127401" y="110426"/>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2" name="任意多边形: 形状 304"/>
            <p:cNvSpPr/>
            <p:nvPr/>
          </p:nvSpPr>
          <p:spPr>
            <a:xfrm>
              <a:off x="9196560" y="4297320"/>
              <a:ext cx="305280" cy="458280"/>
            </a:xfrm>
            <a:custGeom>
              <a:avLst/>
              <a:gdLst>
                <a:gd name="textAreaLeft" fmla="*/ 0 w 305280"/>
                <a:gd name="textAreaRight" fmla="*/ 305640 w 305280"/>
                <a:gd name="textAreaTop" fmla="*/ 0 h 458280"/>
                <a:gd name="textAreaBottom" fmla="*/ 458640 h 458280"/>
              </a:gdLst>
              <a:ahLst/>
              <a:rect l="textAreaLeft" t="textAreaTop" r="textAreaRight" b="textAreaBottom"/>
              <a:pathLst>
                <a:path w="305556" h="458334">
                  <a:moveTo>
                    <a:pt x="299798" y="332051"/>
                  </a:moveTo>
                  <a:cubicBezTo>
                    <a:pt x="309983" y="381279"/>
                    <a:pt x="277730" y="430508"/>
                    <a:pt x="228501" y="440693"/>
                  </a:cubicBezTo>
                  <a:lnTo>
                    <a:pt x="175877" y="452576"/>
                  </a:lnTo>
                  <a:cubicBezTo>
                    <a:pt x="126649" y="462761"/>
                    <a:pt x="77420" y="430508"/>
                    <a:pt x="67235" y="381279"/>
                  </a:cubicBezTo>
                  <a:lnTo>
                    <a:pt x="14611" y="135137"/>
                  </a:lnTo>
                  <a:cubicBezTo>
                    <a:pt x="4426" y="85908"/>
                    <a:pt x="36679" y="36679"/>
                    <a:pt x="85908" y="26494"/>
                  </a:cubicBezTo>
                  <a:lnTo>
                    <a:pt x="138532" y="14611"/>
                  </a:lnTo>
                  <a:cubicBezTo>
                    <a:pt x="187760" y="4426"/>
                    <a:pt x="236989" y="36679"/>
                    <a:pt x="247174" y="85908"/>
                  </a:cubicBezTo>
                  <a:lnTo>
                    <a:pt x="299798" y="332051"/>
                  </a:ln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3" name="任意多边形: 形状 305"/>
            <p:cNvSpPr/>
            <p:nvPr/>
          </p:nvSpPr>
          <p:spPr>
            <a:xfrm>
              <a:off x="9164520" y="4275360"/>
              <a:ext cx="305280" cy="458280"/>
            </a:xfrm>
            <a:custGeom>
              <a:avLst/>
              <a:gdLst>
                <a:gd name="textAreaLeft" fmla="*/ 0 w 305280"/>
                <a:gd name="textAreaRight" fmla="*/ 305640 w 305280"/>
                <a:gd name="textAreaTop" fmla="*/ 0 h 458280"/>
                <a:gd name="textAreaBottom" fmla="*/ 458640 h 458280"/>
              </a:gdLst>
              <a:ahLst/>
              <a:rect l="textAreaLeft" t="textAreaTop" r="textAreaRight" b="textAreaBottom"/>
              <a:pathLst>
                <a:path w="305556" h="458334">
                  <a:moveTo>
                    <a:pt x="299797" y="332051"/>
                  </a:moveTo>
                  <a:cubicBezTo>
                    <a:pt x="309983" y="381279"/>
                    <a:pt x="277730" y="430508"/>
                    <a:pt x="228501" y="440693"/>
                  </a:cubicBezTo>
                  <a:lnTo>
                    <a:pt x="175877" y="452576"/>
                  </a:lnTo>
                  <a:cubicBezTo>
                    <a:pt x="126649" y="462761"/>
                    <a:pt x="77420" y="430508"/>
                    <a:pt x="67235" y="381279"/>
                  </a:cubicBezTo>
                  <a:lnTo>
                    <a:pt x="14611" y="135137"/>
                  </a:lnTo>
                  <a:cubicBezTo>
                    <a:pt x="4426" y="85908"/>
                    <a:pt x="36679" y="36679"/>
                    <a:pt x="85908" y="26494"/>
                  </a:cubicBezTo>
                  <a:lnTo>
                    <a:pt x="138531" y="14611"/>
                  </a:lnTo>
                  <a:cubicBezTo>
                    <a:pt x="187760" y="4426"/>
                    <a:pt x="236989" y="36679"/>
                    <a:pt x="247174" y="85908"/>
                  </a:cubicBezTo>
                  <a:lnTo>
                    <a:pt x="299797" y="332051"/>
                  </a:lnTo>
                  <a:close/>
                </a:path>
              </a:pathLst>
            </a:custGeom>
            <a:solidFill>
              <a:srgbClr val="eaefe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4" name="任意多边形: 形状 306"/>
            <p:cNvSpPr/>
            <p:nvPr/>
          </p:nvSpPr>
          <p:spPr>
            <a:xfrm>
              <a:off x="9256680" y="4279320"/>
              <a:ext cx="67680" cy="186480"/>
            </a:xfrm>
            <a:custGeom>
              <a:avLst/>
              <a:gdLst>
                <a:gd name="textAreaLeft" fmla="*/ 0 w 67680"/>
                <a:gd name="textAreaRight" fmla="*/ 68040 w 67680"/>
                <a:gd name="textAreaTop" fmla="*/ 0 h 186480"/>
                <a:gd name="textAreaBottom" fmla="*/ 186840 h 186480"/>
              </a:gdLst>
              <a:ahLst/>
              <a:rect l="textAreaLeft" t="textAreaTop" r="textAreaRight" b="textAreaBottom"/>
              <a:pathLst>
                <a:path w="67901" h="186729">
                  <a:moveTo>
                    <a:pt x="15086" y="16837"/>
                  </a:moveTo>
                  <a:lnTo>
                    <a:pt x="23391" y="15085"/>
                  </a:lnTo>
                  <a:lnTo>
                    <a:pt x="59129" y="184511"/>
                  </a:lnTo>
                  <a:lnTo>
                    <a:pt x="50823" y="186263"/>
                  </a:lnTo>
                  <a:lnTo>
                    <a:pt x="15086" y="16837"/>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5" name="任意多边形: 形状 307"/>
            <p:cNvSpPr/>
            <p:nvPr/>
          </p:nvSpPr>
          <p:spPr>
            <a:xfrm>
              <a:off x="9178920" y="4419720"/>
              <a:ext cx="254520" cy="84600"/>
            </a:xfrm>
            <a:custGeom>
              <a:avLst/>
              <a:gdLst>
                <a:gd name="textAreaLeft" fmla="*/ 0 w 254520"/>
                <a:gd name="textAreaRight" fmla="*/ 254880 w 254520"/>
                <a:gd name="textAreaTop" fmla="*/ 0 h 84600"/>
                <a:gd name="textAreaBottom" fmla="*/ 84960 h 84600"/>
              </a:gdLst>
              <a:ahLst/>
              <a:rect l="textAreaLeft" t="textAreaTop" r="textAreaRight" b="textAreaBottom"/>
              <a:pathLst>
                <a:path w="254630" h="84876">
                  <a:moveTo>
                    <a:pt x="15087" y="64537"/>
                  </a:moveTo>
                  <a:lnTo>
                    <a:pt x="249269" y="15087"/>
                  </a:lnTo>
                  <a:lnTo>
                    <a:pt x="251023" y="23391"/>
                  </a:lnTo>
                  <a:lnTo>
                    <a:pt x="16840" y="72841"/>
                  </a:lnTo>
                  <a:lnTo>
                    <a:pt x="15087" y="64537"/>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216" name="任意多边形: 形状 308"/>
            <p:cNvSpPr/>
            <p:nvPr/>
          </p:nvSpPr>
          <p:spPr>
            <a:xfrm>
              <a:off x="9257760" y="4310640"/>
              <a:ext cx="67680" cy="135720"/>
            </a:xfrm>
            <a:custGeom>
              <a:avLst/>
              <a:gdLst>
                <a:gd name="textAreaLeft" fmla="*/ 0 w 67680"/>
                <a:gd name="textAreaRight" fmla="*/ 68040 w 67680"/>
                <a:gd name="textAreaTop" fmla="*/ 0 h 135720"/>
                <a:gd name="textAreaBottom" fmla="*/ 136080 h 135720"/>
              </a:gdLst>
              <a:ahLst/>
              <a:rect l="textAreaLeft" t="textAreaTop" r="textAreaRight" b="textAreaBottom"/>
              <a:pathLst>
                <a:path w="67901" h="135802">
                  <a:moveTo>
                    <a:pt x="60588" y="106421"/>
                  </a:moveTo>
                  <a:cubicBezTo>
                    <a:pt x="62285" y="114909"/>
                    <a:pt x="57193" y="123397"/>
                    <a:pt x="48705" y="125094"/>
                  </a:cubicBezTo>
                  <a:cubicBezTo>
                    <a:pt x="40217" y="126792"/>
                    <a:pt x="31730" y="121699"/>
                    <a:pt x="30032" y="113212"/>
                  </a:cubicBezTo>
                  <a:lnTo>
                    <a:pt x="13057" y="31730"/>
                  </a:lnTo>
                  <a:cubicBezTo>
                    <a:pt x="11359" y="23242"/>
                    <a:pt x="16452" y="14754"/>
                    <a:pt x="24940" y="13057"/>
                  </a:cubicBezTo>
                  <a:cubicBezTo>
                    <a:pt x="33427" y="11359"/>
                    <a:pt x="41915" y="16452"/>
                    <a:pt x="43613" y="24939"/>
                  </a:cubicBezTo>
                  <a:lnTo>
                    <a:pt x="60588" y="106421"/>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7" name="任意多边形: 形状 309"/>
            <p:cNvSpPr/>
            <p:nvPr/>
          </p:nvSpPr>
          <p:spPr>
            <a:xfrm>
              <a:off x="9894960" y="4099680"/>
              <a:ext cx="475200" cy="475200"/>
            </a:xfrm>
            <a:custGeom>
              <a:avLst/>
              <a:gdLst>
                <a:gd name="textAreaLeft" fmla="*/ 0 w 475200"/>
                <a:gd name="textAreaRight" fmla="*/ 475560 w 475200"/>
                <a:gd name="textAreaTop" fmla="*/ 0 h 475200"/>
                <a:gd name="textAreaBottom" fmla="*/ 475560 h 475200"/>
              </a:gdLst>
              <a:ahLst/>
              <a:rect l="textAreaLeft" t="textAreaTop" r="textAreaRight" b="textAreaBottom"/>
              <a:pathLst>
                <a:path w="475310" h="475310">
                  <a:moveTo>
                    <a:pt x="385668" y="103367"/>
                  </a:moveTo>
                  <a:lnTo>
                    <a:pt x="370390" y="49046"/>
                  </a:lnTo>
                  <a:cubicBezTo>
                    <a:pt x="363600" y="28675"/>
                    <a:pt x="343230" y="16793"/>
                    <a:pt x="322860" y="21885"/>
                  </a:cubicBezTo>
                  <a:lnTo>
                    <a:pt x="299094" y="28675"/>
                  </a:lnTo>
                  <a:lnTo>
                    <a:pt x="295699" y="16793"/>
                  </a:lnTo>
                  <a:cubicBezTo>
                    <a:pt x="295699" y="13398"/>
                    <a:pt x="292304" y="11700"/>
                    <a:pt x="288909" y="13398"/>
                  </a:cubicBezTo>
                  <a:cubicBezTo>
                    <a:pt x="285514" y="13398"/>
                    <a:pt x="283816" y="16793"/>
                    <a:pt x="285514" y="20188"/>
                  </a:cubicBezTo>
                  <a:lnTo>
                    <a:pt x="288909" y="32070"/>
                  </a:lnTo>
                  <a:lnTo>
                    <a:pt x="187057" y="62626"/>
                  </a:lnTo>
                  <a:lnTo>
                    <a:pt x="183661" y="50743"/>
                  </a:lnTo>
                  <a:cubicBezTo>
                    <a:pt x="183661" y="47348"/>
                    <a:pt x="180266" y="45651"/>
                    <a:pt x="176871" y="47348"/>
                  </a:cubicBezTo>
                  <a:cubicBezTo>
                    <a:pt x="173476" y="47348"/>
                    <a:pt x="171778" y="50743"/>
                    <a:pt x="173476" y="54138"/>
                  </a:cubicBezTo>
                  <a:lnTo>
                    <a:pt x="176871" y="66021"/>
                  </a:lnTo>
                  <a:lnTo>
                    <a:pt x="75019" y="96577"/>
                  </a:lnTo>
                  <a:lnTo>
                    <a:pt x="71624" y="84694"/>
                  </a:lnTo>
                  <a:cubicBezTo>
                    <a:pt x="71624" y="81299"/>
                    <a:pt x="68229" y="79601"/>
                    <a:pt x="64834" y="81299"/>
                  </a:cubicBezTo>
                  <a:cubicBezTo>
                    <a:pt x="61439" y="81299"/>
                    <a:pt x="59741" y="84694"/>
                    <a:pt x="61439" y="88089"/>
                  </a:cubicBezTo>
                  <a:lnTo>
                    <a:pt x="64834" y="99972"/>
                  </a:lnTo>
                  <a:lnTo>
                    <a:pt x="41068" y="106762"/>
                  </a:lnTo>
                  <a:cubicBezTo>
                    <a:pt x="20698" y="113552"/>
                    <a:pt x="8815" y="133922"/>
                    <a:pt x="13908" y="154293"/>
                  </a:cubicBezTo>
                  <a:lnTo>
                    <a:pt x="29185" y="208614"/>
                  </a:lnTo>
                  <a:lnTo>
                    <a:pt x="83507" y="391948"/>
                  </a:lnTo>
                  <a:lnTo>
                    <a:pt x="105575" y="470035"/>
                  </a:lnTo>
                  <a:lnTo>
                    <a:pt x="463755" y="364788"/>
                  </a:lnTo>
                  <a:lnTo>
                    <a:pt x="385668" y="103367"/>
                  </a:lnTo>
                  <a:close/>
                  <a:moveTo>
                    <a:pt x="80112" y="130527"/>
                  </a:moveTo>
                  <a:cubicBezTo>
                    <a:pt x="83507" y="130527"/>
                    <a:pt x="85204" y="127132"/>
                    <a:pt x="83507" y="123737"/>
                  </a:cubicBezTo>
                  <a:lnTo>
                    <a:pt x="80112" y="113552"/>
                  </a:lnTo>
                  <a:cubicBezTo>
                    <a:pt x="85204" y="113552"/>
                    <a:pt x="90297" y="118645"/>
                    <a:pt x="91994" y="123737"/>
                  </a:cubicBezTo>
                  <a:cubicBezTo>
                    <a:pt x="93692" y="130527"/>
                    <a:pt x="90297" y="139015"/>
                    <a:pt x="83507" y="140713"/>
                  </a:cubicBezTo>
                  <a:cubicBezTo>
                    <a:pt x="76717" y="142410"/>
                    <a:pt x="68229" y="139015"/>
                    <a:pt x="66531" y="132225"/>
                  </a:cubicBezTo>
                  <a:cubicBezTo>
                    <a:pt x="64834" y="127132"/>
                    <a:pt x="66531" y="120342"/>
                    <a:pt x="71624" y="116947"/>
                  </a:cubicBezTo>
                  <a:lnTo>
                    <a:pt x="75019" y="127132"/>
                  </a:lnTo>
                  <a:cubicBezTo>
                    <a:pt x="75019" y="130527"/>
                    <a:pt x="78414" y="132225"/>
                    <a:pt x="80112" y="130527"/>
                  </a:cubicBezTo>
                  <a:close/>
                  <a:moveTo>
                    <a:pt x="192149" y="98274"/>
                  </a:moveTo>
                  <a:cubicBezTo>
                    <a:pt x="195544" y="98274"/>
                    <a:pt x="197241" y="94879"/>
                    <a:pt x="195544" y="91484"/>
                  </a:cubicBezTo>
                  <a:lnTo>
                    <a:pt x="192149" y="82996"/>
                  </a:lnTo>
                  <a:cubicBezTo>
                    <a:pt x="197241" y="82996"/>
                    <a:pt x="202334" y="88089"/>
                    <a:pt x="204032" y="93182"/>
                  </a:cubicBezTo>
                  <a:cubicBezTo>
                    <a:pt x="205729" y="99972"/>
                    <a:pt x="202334" y="108459"/>
                    <a:pt x="195544" y="110157"/>
                  </a:cubicBezTo>
                  <a:cubicBezTo>
                    <a:pt x="188754" y="111855"/>
                    <a:pt x="180266" y="108459"/>
                    <a:pt x="178569" y="101669"/>
                  </a:cubicBezTo>
                  <a:cubicBezTo>
                    <a:pt x="176871" y="96577"/>
                    <a:pt x="178569" y="89787"/>
                    <a:pt x="183661" y="86392"/>
                  </a:cubicBezTo>
                  <a:lnTo>
                    <a:pt x="187057" y="96577"/>
                  </a:lnTo>
                  <a:cubicBezTo>
                    <a:pt x="187057" y="98274"/>
                    <a:pt x="190451" y="98274"/>
                    <a:pt x="192149" y="98274"/>
                  </a:cubicBezTo>
                  <a:close/>
                  <a:moveTo>
                    <a:pt x="304187" y="66021"/>
                  </a:moveTo>
                  <a:cubicBezTo>
                    <a:pt x="307581" y="66021"/>
                    <a:pt x="309279" y="62626"/>
                    <a:pt x="307581" y="59231"/>
                  </a:cubicBezTo>
                  <a:lnTo>
                    <a:pt x="304187" y="50743"/>
                  </a:lnTo>
                  <a:cubicBezTo>
                    <a:pt x="309279" y="50743"/>
                    <a:pt x="314372" y="55836"/>
                    <a:pt x="316069" y="60929"/>
                  </a:cubicBezTo>
                  <a:cubicBezTo>
                    <a:pt x="317767" y="67719"/>
                    <a:pt x="314372" y="76206"/>
                    <a:pt x="307581" y="77904"/>
                  </a:cubicBezTo>
                  <a:cubicBezTo>
                    <a:pt x="300791" y="79601"/>
                    <a:pt x="292304" y="76206"/>
                    <a:pt x="290606" y="69416"/>
                  </a:cubicBezTo>
                  <a:cubicBezTo>
                    <a:pt x="288909" y="64324"/>
                    <a:pt x="290606" y="57533"/>
                    <a:pt x="295699" y="54138"/>
                  </a:cubicBezTo>
                  <a:lnTo>
                    <a:pt x="299094" y="64324"/>
                  </a:lnTo>
                  <a:cubicBezTo>
                    <a:pt x="299094" y="64324"/>
                    <a:pt x="300791" y="66021"/>
                    <a:pt x="304187" y="66021"/>
                  </a:cubicBez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8" name="任意多边形: 形状 310"/>
            <p:cNvSpPr/>
            <p:nvPr/>
          </p:nvSpPr>
          <p:spPr>
            <a:xfrm>
              <a:off x="9881640" y="4101120"/>
              <a:ext cx="441360" cy="407160"/>
            </a:xfrm>
            <a:custGeom>
              <a:avLst/>
              <a:gdLst>
                <a:gd name="textAreaLeft" fmla="*/ 0 w 441360"/>
                <a:gd name="textAreaRight" fmla="*/ 441720 w 441360"/>
                <a:gd name="textAreaTop" fmla="*/ 0 h 407160"/>
                <a:gd name="textAreaBottom" fmla="*/ 407520 h 407160"/>
              </a:gdLst>
              <a:ahLst/>
              <a:rect l="textAreaLeft" t="textAreaTop" r="textAreaRight" b="textAreaBottom"/>
              <a:pathLst>
                <a:path w="441359" h="407408">
                  <a:moveTo>
                    <a:pt x="321162" y="13908"/>
                  </a:moveTo>
                  <a:lnTo>
                    <a:pt x="41068" y="95389"/>
                  </a:lnTo>
                  <a:cubicBezTo>
                    <a:pt x="20698" y="102180"/>
                    <a:pt x="8815" y="122550"/>
                    <a:pt x="13908" y="142921"/>
                  </a:cubicBezTo>
                  <a:lnTo>
                    <a:pt x="83506" y="380576"/>
                  </a:lnTo>
                  <a:cubicBezTo>
                    <a:pt x="90297" y="400946"/>
                    <a:pt x="110667" y="412829"/>
                    <a:pt x="131038" y="407736"/>
                  </a:cubicBezTo>
                  <a:lnTo>
                    <a:pt x="411131" y="326255"/>
                  </a:lnTo>
                  <a:cubicBezTo>
                    <a:pt x="431501" y="319464"/>
                    <a:pt x="443384" y="299094"/>
                    <a:pt x="438292" y="278723"/>
                  </a:cubicBezTo>
                  <a:lnTo>
                    <a:pt x="368693" y="41068"/>
                  </a:lnTo>
                  <a:cubicBezTo>
                    <a:pt x="363600" y="20698"/>
                    <a:pt x="341532" y="8815"/>
                    <a:pt x="321162" y="13908"/>
                  </a:cubicBezTo>
                  <a:close/>
                  <a:moveTo>
                    <a:pt x="83506" y="132735"/>
                  </a:moveTo>
                  <a:cubicBezTo>
                    <a:pt x="76716" y="134433"/>
                    <a:pt x="68229" y="131038"/>
                    <a:pt x="66531" y="124248"/>
                  </a:cubicBezTo>
                  <a:cubicBezTo>
                    <a:pt x="64834" y="117458"/>
                    <a:pt x="68229" y="108970"/>
                    <a:pt x="75019" y="107272"/>
                  </a:cubicBezTo>
                  <a:cubicBezTo>
                    <a:pt x="81809" y="105575"/>
                    <a:pt x="90297" y="108970"/>
                    <a:pt x="91994" y="115760"/>
                  </a:cubicBezTo>
                  <a:cubicBezTo>
                    <a:pt x="93692" y="122550"/>
                    <a:pt x="90297" y="131038"/>
                    <a:pt x="83506" y="132735"/>
                  </a:cubicBezTo>
                  <a:close/>
                  <a:moveTo>
                    <a:pt x="193846" y="100482"/>
                  </a:moveTo>
                  <a:cubicBezTo>
                    <a:pt x="187056" y="102180"/>
                    <a:pt x="178569" y="98785"/>
                    <a:pt x="176871" y="91994"/>
                  </a:cubicBezTo>
                  <a:cubicBezTo>
                    <a:pt x="175174" y="85204"/>
                    <a:pt x="178569" y="76717"/>
                    <a:pt x="185359" y="75019"/>
                  </a:cubicBezTo>
                  <a:cubicBezTo>
                    <a:pt x="192149" y="73321"/>
                    <a:pt x="200637" y="76717"/>
                    <a:pt x="202334" y="83507"/>
                  </a:cubicBezTo>
                  <a:cubicBezTo>
                    <a:pt x="205729" y="90297"/>
                    <a:pt x="202334" y="97087"/>
                    <a:pt x="193846" y="100482"/>
                  </a:cubicBezTo>
                  <a:close/>
                  <a:moveTo>
                    <a:pt x="305884" y="68229"/>
                  </a:moveTo>
                  <a:cubicBezTo>
                    <a:pt x="299094" y="69926"/>
                    <a:pt x="290606" y="66531"/>
                    <a:pt x="288908" y="59741"/>
                  </a:cubicBezTo>
                  <a:cubicBezTo>
                    <a:pt x="287211" y="52951"/>
                    <a:pt x="290606" y="44463"/>
                    <a:pt x="297396" y="42766"/>
                  </a:cubicBezTo>
                  <a:cubicBezTo>
                    <a:pt x="304186" y="41068"/>
                    <a:pt x="312674" y="44463"/>
                    <a:pt x="314372" y="51254"/>
                  </a:cubicBezTo>
                  <a:cubicBezTo>
                    <a:pt x="317767" y="58044"/>
                    <a:pt x="312674" y="64834"/>
                    <a:pt x="305884" y="68229"/>
                  </a:cubicBezTo>
                  <a:close/>
                </a:path>
              </a:pathLst>
            </a:custGeom>
            <a:solidFill>
              <a:srgbClr val="e3836e"/>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19" name="任意多边形: 形状 311"/>
            <p:cNvSpPr/>
            <p:nvPr/>
          </p:nvSpPr>
          <p:spPr>
            <a:xfrm>
              <a:off x="9929520" y="41900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27205" y="16452"/>
                  </a:moveTo>
                  <a:cubicBezTo>
                    <a:pt x="-31541" y="14754"/>
                    <a:pt x="-23053" y="18149"/>
                    <a:pt x="-21356" y="24940"/>
                  </a:cubicBezTo>
                  <a:cubicBezTo>
                    <a:pt x="-19658" y="31730"/>
                    <a:pt x="-23053" y="-25319"/>
                    <a:pt x="-29844" y="-23621"/>
                  </a:cubicBezTo>
                  <a:cubicBezTo>
                    <a:pt x="28902" y="-21924"/>
                    <a:pt x="20414" y="-25319"/>
                    <a:pt x="18717" y="-32109"/>
                  </a:cubicBezTo>
                  <a:cubicBezTo>
                    <a:pt x="15322" y="26637"/>
                    <a:pt x="20414" y="19847"/>
                    <a:pt x="27205" y="16452"/>
                  </a:cubicBezTo>
                  <a:moveTo>
                    <a:pt x="25507" y="13057"/>
                  </a:moveTo>
                  <a:cubicBezTo>
                    <a:pt x="17020" y="16452"/>
                    <a:pt x="10229" y="24940"/>
                    <a:pt x="13624" y="-30411"/>
                  </a:cubicBezTo>
                  <a:cubicBezTo>
                    <a:pt x="17020" y="-21924"/>
                    <a:pt x="25507" y="-15133"/>
                    <a:pt x="-29844" y="-18528"/>
                  </a:cubicBezTo>
                  <a:cubicBezTo>
                    <a:pt x="-21356" y="-21924"/>
                    <a:pt x="-14566" y="-30411"/>
                    <a:pt x="-17961" y="24940"/>
                  </a:cubicBezTo>
                  <a:cubicBezTo>
                    <a:pt x="-19658" y="16452"/>
                    <a:pt x="-29844" y="11359"/>
                    <a:pt x="25507" y="13057"/>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20" name="任意多边形: 形状 312"/>
            <p:cNvSpPr/>
            <p:nvPr/>
          </p:nvSpPr>
          <p:spPr>
            <a:xfrm>
              <a:off x="10153440" y="41248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27205" y="17174"/>
                  </a:moveTo>
                  <a:cubicBezTo>
                    <a:pt x="-31541" y="15476"/>
                    <a:pt x="-23054" y="18872"/>
                    <a:pt x="-21356" y="25662"/>
                  </a:cubicBezTo>
                  <a:cubicBezTo>
                    <a:pt x="-19658" y="32452"/>
                    <a:pt x="-23054" y="-24597"/>
                    <a:pt x="-29844" y="-22899"/>
                  </a:cubicBezTo>
                  <a:cubicBezTo>
                    <a:pt x="28902" y="-21201"/>
                    <a:pt x="20415" y="-24597"/>
                    <a:pt x="18717" y="-31387"/>
                  </a:cubicBezTo>
                  <a:cubicBezTo>
                    <a:pt x="15322" y="27359"/>
                    <a:pt x="18717" y="18872"/>
                    <a:pt x="27205" y="17174"/>
                  </a:cubicBezTo>
                  <a:moveTo>
                    <a:pt x="25507" y="13779"/>
                  </a:moveTo>
                  <a:cubicBezTo>
                    <a:pt x="17019" y="17174"/>
                    <a:pt x="10229" y="25662"/>
                    <a:pt x="13624" y="-29689"/>
                  </a:cubicBezTo>
                  <a:cubicBezTo>
                    <a:pt x="17019" y="-21201"/>
                    <a:pt x="25507" y="-14411"/>
                    <a:pt x="-29844" y="-17806"/>
                  </a:cubicBezTo>
                  <a:cubicBezTo>
                    <a:pt x="-21356" y="-21201"/>
                    <a:pt x="-14566" y="-29689"/>
                    <a:pt x="-17961" y="25662"/>
                  </a:cubicBezTo>
                  <a:cubicBezTo>
                    <a:pt x="-21356" y="15476"/>
                    <a:pt x="-31541" y="10384"/>
                    <a:pt x="25507" y="13779"/>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21" name="任意多边形: 形状 313"/>
            <p:cNvSpPr/>
            <p:nvPr/>
          </p:nvSpPr>
          <p:spPr>
            <a:xfrm>
              <a:off x="10041480" y="41572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27205" y="17019"/>
                  </a:moveTo>
                  <a:cubicBezTo>
                    <a:pt x="-31541" y="15322"/>
                    <a:pt x="-23054" y="18717"/>
                    <a:pt x="-21356" y="25507"/>
                  </a:cubicBezTo>
                  <a:cubicBezTo>
                    <a:pt x="-19658" y="32297"/>
                    <a:pt x="-23054" y="-24751"/>
                    <a:pt x="-29844" y="-23054"/>
                  </a:cubicBezTo>
                  <a:cubicBezTo>
                    <a:pt x="28902" y="-21356"/>
                    <a:pt x="20415" y="-24751"/>
                    <a:pt x="18717" y="-31541"/>
                  </a:cubicBezTo>
                  <a:cubicBezTo>
                    <a:pt x="15322" y="27205"/>
                    <a:pt x="20415" y="20415"/>
                    <a:pt x="27205" y="17019"/>
                  </a:cubicBezTo>
                  <a:moveTo>
                    <a:pt x="25507" y="13624"/>
                  </a:moveTo>
                  <a:cubicBezTo>
                    <a:pt x="17019" y="17019"/>
                    <a:pt x="10229" y="25507"/>
                    <a:pt x="13624" y="-29844"/>
                  </a:cubicBezTo>
                  <a:cubicBezTo>
                    <a:pt x="17019" y="-21356"/>
                    <a:pt x="25507" y="-14566"/>
                    <a:pt x="-29844" y="-17961"/>
                  </a:cubicBezTo>
                  <a:cubicBezTo>
                    <a:pt x="-21356" y="-21356"/>
                    <a:pt x="-14566" y="-29844"/>
                    <a:pt x="-17961" y="25507"/>
                  </a:cubicBezTo>
                  <a:cubicBezTo>
                    <a:pt x="-21356" y="17019"/>
                    <a:pt x="-29844" y="10229"/>
                    <a:pt x="25507" y="13624"/>
                  </a:cubicBezTo>
                  <a:close/>
                </a:path>
              </a:pathLst>
            </a:custGeom>
            <a:solidFill>
              <a:srgbClr val="ffffff"/>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22" name="任意多边形: 形状 314"/>
            <p:cNvSpPr/>
            <p:nvPr/>
          </p:nvSpPr>
          <p:spPr>
            <a:xfrm>
              <a:off x="9896400" y="4179960"/>
              <a:ext cx="458280" cy="390240"/>
            </a:xfrm>
            <a:custGeom>
              <a:avLst/>
              <a:gdLst>
                <a:gd name="textAreaLeft" fmla="*/ 0 w 458280"/>
                <a:gd name="textAreaRight" fmla="*/ 458640 w 458280"/>
                <a:gd name="textAreaTop" fmla="*/ 0 h 390240"/>
                <a:gd name="textAreaBottom" fmla="*/ 390600 h 390240"/>
              </a:gdLst>
              <a:ahLst/>
              <a:rect l="textAreaLeft" t="textAreaTop" r="textAreaRight" b="textAreaBottom"/>
              <a:pathLst>
                <a:path w="458334" h="390433">
                  <a:moveTo>
                    <a:pt x="15790" y="119518"/>
                  </a:moveTo>
                  <a:lnTo>
                    <a:pt x="371013" y="15790"/>
                  </a:lnTo>
                  <a:lnTo>
                    <a:pt x="447620" y="278134"/>
                  </a:lnTo>
                  <a:lnTo>
                    <a:pt x="92397" y="381862"/>
                  </a:lnTo>
                  <a:lnTo>
                    <a:pt x="15790" y="119518"/>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23" name="任意多边形: 形状 315"/>
            <p:cNvSpPr/>
            <p:nvPr/>
          </p:nvSpPr>
          <p:spPr>
            <a:xfrm>
              <a:off x="9930240" y="4159800"/>
              <a:ext cx="33840" cy="67680"/>
            </a:xfrm>
            <a:custGeom>
              <a:avLst/>
              <a:gdLst>
                <a:gd name="textAreaLeft" fmla="*/ 0 w 33840"/>
                <a:gd name="textAreaRight" fmla="*/ 34200 w 33840"/>
                <a:gd name="textAreaTop" fmla="*/ 0 h 67680"/>
                <a:gd name="textAreaBottom" fmla="*/ 68040 h 67680"/>
              </a:gdLst>
              <a:ahLst/>
              <a:rect l="textAreaLeft" t="textAreaTop" r="textAreaRight" b="textAreaBottom"/>
              <a:pathLst>
                <a:path w="33950" h="67901">
                  <a:moveTo>
                    <a:pt x="-30737" y="-8669"/>
                  </a:moveTo>
                  <a:cubicBezTo>
                    <a:pt x="-30737" y="-5273"/>
                    <a:pt x="-30737" y="-3576"/>
                    <a:pt x="31405" y="-1878"/>
                  </a:cubicBezTo>
                  <a:cubicBezTo>
                    <a:pt x="28009" y="-1878"/>
                    <a:pt x="26312" y="-1878"/>
                    <a:pt x="24614" y="-5273"/>
                  </a:cubicBezTo>
                  <a:lnTo>
                    <a:pt x="12732" y="19522"/>
                  </a:lnTo>
                  <a:cubicBezTo>
                    <a:pt x="12732" y="16127"/>
                    <a:pt x="12732" y="14429"/>
                    <a:pt x="16127" y="12732"/>
                  </a:cubicBezTo>
                  <a:cubicBezTo>
                    <a:pt x="19522" y="12732"/>
                    <a:pt x="21219" y="12732"/>
                    <a:pt x="22917" y="16127"/>
                  </a:cubicBezTo>
                  <a:lnTo>
                    <a:pt x="-30737" y="-8669"/>
                  </a:lnTo>
                  <a:close/>
                </a:path>
              </a:pathLst>
            </a:custGeom>
            <a:solidFill>
              <a:srgbClr val="5d5d5d"/>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24" name="任意多边形: 形状 316"/>
            <p:cNvSpPr/>
            <p:nvPr/>
          </p:nvSpPr>
          <p:spPr>
            <a:xfrm>
              <a:off x="10042200" y="4127760"/>
              <a:ext cx="33840" cy="67680"/>
            </a:xfrm>
            <a:custGeom>
              <a:avLst/>
              <a:gdLst>
                <a:gd name="textAreaLeft" fmla="*/ 0 w 33840"/>
                <a:gd name="textAreaRight" fmla="*/ 34200 w 33840"/>
                <a:gd name="textAreaTop" fmla="*/ 0 h 67680"/>
                <a:gd name="textAreaBottom" fmla="*/ 68040 h 67680"/>
              </a:gdLst>
              <a:ahLst/>
              <a:rect l="textAreaLeft" t="textAreaTop" r="textAreaRight" b="textAreaBottom"/>
              <a:pathLst>
                <a:path w="33950" h="67901">
                  <a:moveTo>
                    <a:pt x="-30737" y="-8668"/>
                  </a:moveTo>
                  <a:cubicBezTo>
                    <a:pt x="-30737" y="-5273"/>
                    <a:pt x="-30737" y="-3576"/>
                    <a:pt x="31405" y="-1878"/>
                  </a:cubicBezTo>
                  <a:cubicBezTo>
                    <a:pt x="28009" y="-1878"/>
                    <a:pt x="26312" y="-1878"/>
                    <a:pt x="24614" y="-5273"/>
                  </a:cubicBezTo>
                  <a:lnTo>
                    <a:pt x="12732" y="19522"/>
                  </a:lnTo>
                  <a:cubicBezTo>
                    <a:pt x="12732" y="16127"/>
                    <a:pt x="12732" y="14429"/>
                    <a:pt x="16126" y="12732"/>
                  </a:cubicBezTo>
                  <a:cubicBezTo>
                    <a:pt x="19522" y="12732"/>
                    <a:pt x="21219" y="12732"/>
                    <a:pt x="22917" y="16127"/>
                  </a:cubicBezTo>
                  <a:lnTo>
                    <a:pt x="-30737" y="-8668"/>
                  </a:lnTo>
                  <a:close/>
                </a:path>
              </a:pathLst>
            </a:custGeom>
            <a:solidFill>
              <a:srgbClr val="5d5d5d"/>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25" name="任意多边形: 形状 317"/>
            <p:cNvSpPr/>
            <p:nvPr/>
          </p:nvSpPr>
          <p:spPr>
            <a:xfrm>
              <a:off x="10154160" y="4093560"/>
              <a:ext cx="33840" cy="67680"/>
            </a:xfrm>
            <a:custGeom>
              <a:avLst/>
              <a:gdLst>
                <a:gd name="textAreaLeft" fmla="*/ 0 w 33840"/>
                <a:gd name="textAreaRight" fmla="*/ 34200 w 33840"/>
                <a:gd name="textAreaTop" fmla="*/ 0 h 67680"/>
                <a:gd name="textAreaBottom" fmla="*/ 68040 h 67680"/>
              </a:gdLst>
              <a:ahLst/>
              <a:rect l="textAreaLeft" t="textAreaTop" r="textAreaRight" b="textAreaBottom"/>
              <a:pathLst>
                <a:path w="33950" h="67901">
                  <a:moveTo>
                    <a:pt x="-30737" y="-8668"/>
                  </a:moveTo>
                  <a:cubicBezTo>
                    <a:pt x="-30737" y="-5273"/>
                    <a:pt x="-30737" y="-3576"/>
                    <a:pt x="31404" y="-1878"/>
                  </a:cubicBezTo>
                  <a:cubicBezTo>
                    <a:pt x="28009" y="-1878"/>
                    <a:pt x="26312" y="-1878"/>
                    <a:pt x="24614" y="-5273"/>
                  </a:cubicBezTo>
                  <a:lnTo>
                    <a:pt x="12732" y="19522"/>
                  </a:lnTo>
                  <a:cubicBezTo>
                    <a:pt x="12732" y="16127"/>
                    <a:pt x="12732" y="14429"/>
                    <a:pt x="16126" y="12732"/>
                  </a:cubicBezTo>
                  <a:cubicBezTo>
                    <a:pt x="19522" y="12732"/>
                    <a:pt x="21219" y="12732"/>
                    <a:pt x="22916" y="16127"/>
                  </a:cubicBezTo>
                  <a:lnTo>
                    <a:pt x="-30737" y="-8668"/>
                  </a:lnTo>
                  <a:close/>
                </a:path>
              </a:pathLst>
            </a:custGeom>
            <a:solidFill>
              <a:srgbClr val="5d5d5d"/>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26" name="任意多边形: 形状 318"/>
            <p:cNvSpPr/>
            <p:nvPr/>
          </p:nvSpPr>
          <p:spPr>
            <a:xfrm>
              <a:off x="10002600" y="4232520"/>
              <a:ext cx="186480" cy="84600"/>
            </a:xfrm>
            <a:custGeom>
              <a:avLst/>
              <a:gdLst>
                <a:gd name="textAreaLeft" fmla="*/ 0 w 186480"/>
                <a:gd name="textAreaRight" fmla="*/ 186840 w 186480"/>
                <a:gd name="textAreaTop" fmla="*/ 0 h 84600"/>
                <a:gd name="textAreaBottom" fmla="*/ 84960 h 84600"/>
              </a:gdLst>
              <a:ahLst/>
              <a:rect l="textAreaLeft" t="textAreaTop" r="textAreaRight" b="textAreaBottom"/>
              <a:pathLst>
                <a:path w="186729" h="84876">
                  <a:moveTo>
                    <a:pt x="15788" y="61451"/>
                  </a:moveTo>
                  <a:lnTo>
                    <a:pt x="172217" y="15788"/>
                  </a:lnTo>
                  <a:lnTo>
                    <a:pt x="176498" y="30454"/>
                  </a:lnTo>
                  <a:lnTo>
                    <a:pt x="20069" y="76116"/>
                  </a:lnTo>
                  <a:lnTo>
                    <a:pt x="15788" y="61451"/>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227" name="任意多边形: 形状 319"/>
            <p:cNvSpPr/>
            <p:nvPr/>
          </p:nvSpPr>
          <p:spPr>
            <a:xfrm>
              <a:off x="9941760" y="433224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4" y="25323"/>
                  </a:moveTo>
                  <a:lnTo>
                    <a:pt x="-17157" y="15793"/>
                  </a:lnTo>
                  <a:lnTo>
                    <a:pt x="-7627" y="-17157"/>
                  </a:lnTo>
                  <a:lnTo>
                    <a:pt x="25323" y="-7627"/>
                  </a:lnTo>
                  <a:lnTo>
                    <a:pt x="15794" y="25323"/>
                  </a:lnTo>
                  <a:close/>
                </a:path>
              </a:pathLst>
            </a:custGeom>
            <a:solidFill>
              <a:srgbClr val="e3836e"/>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28" name="任意多边形: 形状 320"/>
            <p:cNvSpPr/>
            <p:nvPr/>
          </p:nvSpPr>
          <p:spPr>
            <a:xfrm>
              <a:off x="9986040" y="431964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9" y="25298"/>
                  </a:moveTo>
                  <a:lnTo>
                    <a:pt x="-17155" y="15788"/>
                  </a:lnTo>
                  <a:lnTo>
                    <a:pt x="-7645" y="-17155"/>
                  </a:lnTo>
                  <a:lnTo>
                    <a:pt x="25298" y="-7645"/>
                  </a:lnTo>
                  <a:lnTo>
                    <a:pt x="15789" y="25298"/>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29" name="任意多边形: 形状 321"/>
            <p:cNvSpPr/>
            <p:nvPr/>
          </p:nvSpPr>
          <p:spPr>
            <a:xfrm>
              <a:off x="10031760" y="430704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1" y="-17157"/>
                  </a:lnTo>
                  <a:lnTo>
                    <a:pt x="25306" y="-7641"/>
                  </a:lnTo>
                  <a:lnTo>
                    <a:pt x="15790"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0" name="任意多边形: 形状 322"/>
            <p:cNvSpPr/>
            <p:nvPr/>
          </p:nvSpPr>
          <p:spPr>
            <a:xfrm>
              <a:off x="10075680" y="429336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8" y="25301"/>
                  </a:moveTo>
                  <a:lnTo>
                    <a:pt x="-17158" y="15788"/>
                  </a:lnTo>
                  <a:lnTo>
                    <a:pt x="-7645" y="-17158"/>
                  </a:lnTo>
                  <a:lnTo>
                    <a:pt x="25301" y="-7645"/>
                  </a:lnTo>
                  <a:lnTo>
                    <a:pt x="15788" y="25301"/>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1" name="任意多边形: 形状 323"/>
            <p:cNvSpPr/>
            <p:nvPr/>
          </p:nvSpPr>
          <p:spPr>
            <a:xfrm>
              <a:off x="10120320" y="428040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3"/>
                  </a:moveTo>
                  <a:lnTo>
                    <a:pt x="-17154" y="15790"/>
                  </a:lnTo>
                  <a:lnTo>
                    <a:pt x="-7641" y="-17154"/>
                  </a:lnTo>
                  <a:lnTo>
                    <a:pt x="25303" y="-7641"/>
                  </a:lnTo>
                  <a:lnTo>
                    <a:pt x="15790" y="25303"/>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2" name="任意多边形: 形状 324"/>
            <p:cNvSpPr/>
            <p:nvPr/>
          </p:nvSpPr>
          <p:spPr>
            <a:xfrm>
              <a:off x="10166040" y="426780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9" y="25306"/>
                  </a:moveTo>
                  <a:lnTo>
                    <a:pt x="-17157" y="15790"/>
                  </a:lnTo>
                  <a:lnTo>
                    <a:pt x="-7641" y="-17157"/>
                  </a:lnTo>
                  <a:lnTo>
                    <a:pt x="25306" y="-7641"/>
                  </a:lnTo>
                  <a:lnTo>
                    <a:pt x="15789"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3" name="任意多边形: 形状 325"/>
            <p:cNvSpPr/>
            <p:nvPr/>
          </p:nvSpPr>
          <p:spPr>
            <a:xfrm>
              <a:off x="10209960" y="425448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8" y="25301"/>
                  </a:moveTo>
                  <a:lnTo>
                    <a:pt x="-17158" y="15788"/>
                  </a:lnTo>
                  <a:lnTo>
                    <a:pt x="-7645" y="-17158"/>
                  </a:lnTo>
                  <a:lnTo>
                    <a:pt x="25301" y="-7645"/>
                  </a:lnTo>
                  <a:lnTo>
                    <a:pt x="15788" y="25301"/>
                  </a:lnTo>
                  <a:close/>
                </a:path>
              </a:pathLst>
            </a:custGeom>
            <a:solidFill>
              <a:srgbClr val="e3836e"/>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4" name="任意多边形: 形状 326"/>
            <p:cNvSpPr/>
            <p:nvPr/>
          </p:nvSpPr>
          <p:spPr>
            <a:xfrm>
              <a:off x="9953640" y="437508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9" y="25306"/>
                  </a:moveTo>
                  <a:lnTo>
                    <a:pt x="-17157" y="15790"/>
                  </a:lnTo>
                  <a:lnTo>
                    <a:pt x="-7641" y="-17157"/>
                  </a:lnTo>
                  <a:lnTo>
                    <a:pt x="25306" y="-7641"/>
                  </a:lnTo>
                  <a:lnTo>
                    <a:pt x="15789" y="25306"/>
                  </a:lnTo>
                  <a:close/>
                </a:path>
              </a:pathLst>
            </a:custGeom>
            <a:solidFill>
              <a:srgbClr val="e3836e"/>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5" name="任意多边形: 形状 327"/>
            <p:cNvSpPr/>
            <p:nvPr/>
          </p:nvSpPr>
          <p:spPr>
            <a:xfrm>
              <a:off x="9999720" y="436284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1" y="-17157"/>
                  </a:lnTo>
                  <a:lnTo>
                    <a:pt x="25306" y="-7641"/>
                  </a:lnTo>
                  <a:lnTo>
                    <a:pt x="15790"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6" name="任意多边形: 形状 328"/>
            <p:cNvSpPr/>
            <p:nvPr/>
          </p:nvSpPr>
          <p:spPr>
            <a:xfrm>
              <a:off x="10043640" y="434952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8" y="25301"/>
                  </a:moveTo>
                  <a:lnTo>
                    <a:pt x="-17158" y="15788"/>
                  </a:lnTo>
                  <a:lnTo>
                    <a:pt x="-7645" y="-17158"/>
                  </a:lnTo>
                  <a:lnTo>
                    <a:pt x="25301" y="-7645"/>
                  </a:lnTo>
                  <a:lnTo>
                    <a:pt x="15788" y="25301"/>
                  </a:lnTo>
                  <a:close/>
                </a:path>
              </a:pathLst>
            </a:custGeom>
            <a:solidFill>
              <a:srgbClr val="e3836e"/>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7" name="任意多边形: 形状 329"/>
            <p:cNvSpPr/>
            <p:nvPr/>
          </p:nvSpPr>
          <p:spPr>
            <a:xfrm>
              <a:off x="10087920" y="433620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0" y="-17157"/>
                  </a:lnTo>
                  <a:lnTo>
                    <a:pt x="25306" y="-7641"/>
                  </a:lnTo>
                  <a:lnTo>
                    <a:pt x="15790"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8" name="任意多边形: 形状 330"/>
            <p:cNvSpPr/>
            <p:nvPr/>
          </p:nvSpPr>
          <p:spPr>
            <a:xfrm>
              <a:off x="10134000" y="432396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1" y="-17157"/>
                  </a:lnTo>
                  <a:lnTo>
                    <a:pt x="25306" y="-7641"/>
                  </a:lnTo>
                  <a:lnTo>
                    <a:pt x="15790"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39" name="任意多边形: 形状 331"/>
            <p:cNvSpPr/>
            <p:nvPr/>
          </p:nvSpPr>
          <p:spPr>
            <a:xfrm>
              <a:off x="10177560" y="431100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2" y="25319"/>
                  </a:moveTo>
                  <a:lnTo>
                    <a:pt x="-17158" y="15792"/>
                  </a:lnTo>
                  <a:lnTo>
                    <a:pt x="-7631" y="-17158"/>
                  </a:lnTo>
                  <a:lnTo>
                    <a:pt x="25319" y="-7631"/>
                  </a:lnTo>
                  <a:lnTo>
                    <a:pt x="15792" y="25319"/>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0" name="任意多边形: 形状 332"/>
            <p:cNvSpPr/>
            <p:nvPr/>
          </p:nvSpPr>
          <p:spPr>
            <a:xfrm>
              <a:off x="10223640" y="429696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4" y="25323"/>
                  </a:moveTo>
                  <a:lnTo>
                    <a:pt x="-17156" y="15793"/>
                  </a:lnTo>
                  <a:lnTo>
                    <a:pt x="-7626" y="-17157"/>
                  </a:lnTo>
                  <a:lnTo>
                    <a:pt x="25324" y="-7627"/>
                  </a:lnTo>
                  <a:lnTo>
                    <a:pt x="15794" y="25323"/>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1" name="任意多边形: 形状 333"/>
            <p:cNvSpPr/>
            <p:nvPr/>
          </p:nvSpPr>
          <p:spPr>
            <a:xfrm>
              <a:off x="9967680" y="441936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1" y="25311"/>
                  </a:moveTo>
                  <a:lnTo>
                    <a:pt x="-17156" y="15791"/>
                  </a:lnTo>
                  <a:lnTo>
                    <a:pt x="-7636" y="-17156"/>
                  </a:lnTo>
                  <a:lnTo>
                    <a:pt x="25311" y="-7636"/>
                  </a:lnTo>
                  <a:lnTo>
                    <a:pt x="15791" y="25311"/>
                  </a:lnTo>
                  <a:close/>
                </a:path>
              </a:pathLst>
            </a:custGeom>
            <a:solidFill>
              <a:srgbClr val="e3836e"/>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2" name="任意多边形: 形状 334"/>
            <p:cNvSpPr/>
            <p:nvPr/>
          </p:nvSpPr>
          <p:spPr>
            <a:xfrm>
              <a:off x="10011240" y="440568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9" y="25301"/>
                  </a:moveTo>
                  <a:lnTo>
                    <a:pt x="-17158" y="15788"/>
                  </a:lnTo>
                  <a:lnTo>
                    <a:pt x="-7645" y="-17158"/>
                  </a:lnTo>
                  <a:lnTo>
                    <a:pt x="25302" y="-7645"/>
                  </a:lnTo>
                  <a:lnTo>
                    <a:pt x="15789" y="25301"/>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3" name="任意多边形: 形状 335"/>
            <p:cNvSpPr/>
            <p:nvPr/>
          </p:nvSpPr>
          <p:spPr>
            <a:xfrm>
              <a:off x="10055880" y="439236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6" y="25285"/>
                  </a:moveTo>
                  <a:lnTo>
                    <a:pt x="-17154" y="15786"/>
                  </a:lnTo>
                  <a:lnTo>
                    <a:pt x="-7655" y="-17154"/>
                  </a:lnTo>
                  <a:lnTo>
                    <a:pt x="25285" y="-7655"/>
                  </a:lnTo>
                  <a:lnTo>
                    <a:pt x="15786" y="25285"/>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4" name="任意多边形: 形状 336"/>
            <p:cNvSpPr/>
            <p:nvPr/>
          </p:nvSpPr>
          <p:spPr>
            <a:xfrm>
              <a:off x="10101240" y="437832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1" y="-17157"/>
                  </a:lnTo>
                  <a:lnTo>
                    <a:pt x="25306" y="-7641"/>
                  </a:lnTo>
                  <a:lnTo>
                    <a:pt x="15790"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5" name="任意多边形: 形状 337"/>
            <p:cNvSpPr/>
            <p:nvPr/>
          </p:nvSpPr>
          <p:spPr>
            <a:xfrm>
              <a:off x="10145520" y="436680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8" y="25301"/>
                  </a:moveTo>
                  <a:lnTo>
                    <a:pt x="-17158" y="15788"/>
                  </a:lnTo>
                  <a:lnTo>
                    <a:pt x="-7645" y="-17158"/>
                  </a:lnTo>
                  <a:lnTo>
                    <a:pt x="25301" y="-7645"/>
                  </a:lnTo>
                  <a:lnTo>
                    <a:pt x="15788" y="25301"/>
                  </a:lnTo>
                  <a:close/>
                </a:path>
              </a:pathLst>
            </a:custGeom>
            <a:solidFill>
              <a:srgbClr val="e3836e"/>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6" name="任意多边形: 形状 338"/>
            <p:cNvSpPr/>
            <p:nvPr/>
          </p:nvSpPr>
          <p:spPr>
            <a:xfrm>
              <a:off x="10191600" y="435312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6" y="25285"/>
                  </a:moveTo>
                  <a:lnTo>
                    <a:pt x="-17154" y="15786"/>
                  </a:lnTo>
                  <a:lnTo>
                    <a:pt x="-7655" y="-17154"/>
                  </a:lnTo>
                  <a:lnTo>
                    <a:pt x="25285" y="-7655"/>
                  </a:lnTo>
                  <a:lnTo>
                    <a:pt x="15786" y="25285"/>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7" name="任意多边形: 形状 339"/>
            <p:cNvSpPr/>
            <p:nvPr/>
          </p:nvSpPr>
          <p:spPr>
            <a:xfrm>
              <a:off x="10235160" y="433944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1" y="-17157"/>
                  </a:lnTo>
                  <a:lnTo>
                    <a:pt x="25306" y="-7641"/>
                  </a:lnTo>
                  <a:lnTo>
                    <a:pt x="15790"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8" name="任意多边形: 形状 340"/>
            <p:cNvSpPr/>
            <p:nvPr/>
          </p:nvSpPr>
          <p:spPr>
            <a:xfrm>
              <a:off x="9979200" y="446184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1" y="25311"/>
                  </a:moveTo>
                  <a:lnTo>
                    <a:pt x="-17156" y="15791"/>
                  </a:lnTo>
                  <a:lnTo>
                    <a:pt x="-7636" y="-17156"/>
                  </a:lnTo>
                  <a:lnTo>
                    <a:pt x="25310" y="-7636"/>
                  </a:lnTo>
                  <a:lnTo>
                    <a:pt x="15791" y="25311"/>
                  </a:lnTo>
                  <a:close/>
                </a:path>
              </a:pathLst>
            </a:custGeom>
            <a:solidFill>
              <a:srgbClr val="e3836e"/>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49" name="任意多边形: 形状 341"/>
            <p:cNvSpPr/>
            <p:nvPr/>
          </p:nvSpPr>
          <p:spPr>
            <a:xfrm>
              <a:off x="10023120" y="444816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1" y="-17157"/>
                  </a:lnTo>
                  <a:lnTo>
                    <a:pt x="25306" y="-7641"/>
                  </a:lnTo>
                  <a:lnTo>
                    <a:pt x="15790"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50" name="任意多边形: 形状 342"/>
            <p:cNvSpPr/>
            <p:nvPr/>
          </p:nvSpPr>
          <p:spPr>
            <a:xfrm>
              <a:off x="10069200" y="443484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6" y="25285"/>
                  </a:moveTo>
                  <a:lnTo>
                    <a:pt x="-17154" y="15786"/>
                  </a:lnTo>
                  <a:lnTo>
                    <a:pt x="-7655" y="-17154"/>
                  </a:lnTo>
                  <a:lnTo>
                    <a:pt x="25285" y="-7655"/>
                  </a:lnTo>
                  <a:lnTo>
                    <a:pt x="15786" y="25285"/>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51" name="任意多边形: 形状 343"/>
            <p:cNvSpPr/>
            <p:nvPr/>
          </p:nvSpPr>
          <p:spPr>
            <a:xfrm>
              <a:off x="10113480" y="442260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0" y="-17157"/>
                  </a:lnTo>
                  <a:lnTo>
                    <a:pt x="25306" y="-7641"/>
                  </a:lnTo>
                  <a:lnTo>
                    <a:pt x="15790"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52" name="任意多边形: 形状 344"/>
            <p:cNvSpPr/>
            <p:nvPr/>
          </p:nvSpPr>
          <p:spPr>
            <a:xfrm>
              <a:off x="10159200" y="440856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1" y="-17157"/>
                  </a:lnTo>
                  <a:lnTo>
                    <a:pt x="25306" y="-7641"/>
                  </a:lnTo>
                  <a:lnTo>
                    <a:pt x="15790" y="25306"/>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53" name="任意多边形: 形状 345"/>
            <p:cNvSpPr/>
            <p:nvPr/>
          </p:nvSpPr>
          <p:spPr>
            <a:xfrm>
              <a:off x="10203120" y="439524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90" y="25306"/>
                  </a:moveTo>
                  <a:lnTo>
                    <a:pt x="-17157" y="15790"/>
                  </a:lnTo>
                  <a:lnTo>
                    <a:pt x="-7641" y="-17157"/>
                  </a:lnTo>
                  <a:lnTo>
                    <a:pt x="25306" y="-7641"/>
                  </a:lnTo>
                  <a:lnTo>
                    <a:pt x="15790" y="25306"/>
                  </a:lnTo>
                  <a:close/>
                </a:path>
              </a:pathLst>
            </a:custGeom>
            <a:solidFill>
              <a:srgbClr val="e3836e"/>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54" name="任意多边形: 形状 346"/>
            <p:cNvSpPr/>
            <p:nvPr/>
          </p:nvSpPr>
          <p:spPr>
            <a:xfrm>
              <a:off x="10247400" y="438336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5788" y="25301"/>
                  </a:moveTo>
                  <a:lnTo>
                    <a:pt x="-17158" y="15788"/>
                  </a:lnTo>
                  <a:lnTo>
                    <a:pt x="-7645" y="-17158"/>
                  </a:lnTo>
                  <a:lnTo>
                    <a:pt x="25301" y="-7645"/>
                  </a:lnTo>
                  <a:lnTo>
                    <a:pt x="15788" y="25301"/>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55" name="任意多边形: 形状 347"/>
            <p:cNvSpPr/>
            <p:nvPr/>
          </p:nvSpPr>
          <p:spPr>
            <a:xfrm>
              <a:off x="6022440" y="1981440"/>
              <a:ext cx="509040" cy="678960"/>
            </a:xfrm>
            <a:custGeom>
              <a:avLst/>
              <a:gdLst>
                <a:gd name="textAreaLeft" fmla="*/ 0 w 509040"/>
                <a:gd name="textAreaRight" fmla="*/ 509400 w 509040"/>
                <a:gd name="textAreaTop" fmla="*/ 0 h 678960"/>
                <a:gd name="textAreaBottom" fmla="*/ 679320 h 678960"/>
              </a:gdLst>
              <a:ahLst/>
              <a:rect l="textAreaLeft" t="textAreaTop" r="textAreaRight" b="textAreaBottom"/>
              <a:pathLst>
                <a:path w="509260" h="679014">
                  <a:moveTo>
                    <a:pt x="421838" y="671376"/>
                  </a:moveTo>
                  <a:lnTo>
                    <a:pt x="506715" y="58565"/>
                  </a:lnTo>
                  <a:lnTo>
                    <a:pt x="172300" y="12732"/>
                  </a:lnTo>
                  <a:lnTo>
                    <a:pt x="87423" y="80633"/>
                  </a:lnTo>
                  <a:lnTo>
                    <a:pt x="12732" y="615357"/>
                  </a:lnTo>
                  <a:lnTo>
                    <a:pt x="421838" y="67137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56" name="任意多边形: 形状 348"/>
            <p:cNvSpPr/>
            <p:nvPr/>
          </p:nvSpPr>
          <p:spPr>
            <a:xfrm>
              <a:off x="6096960" y="1981440"/>
              <a:ext cx="101520" cy="101520"/>
            </a:xfrm>
            <a:custGeom>
              <a:avLst/>
              <a:gdLst>
                <a:gd name="textAreaLeft" fmla="*/ 0 w 101520"/>
                <a:gd name="textAreaRight" fmla="*/ 101880 w 101520"/>
                <a:gd name="textAreaTop" fmla="*/ 0 h 101520"/>
                <a:gd name="textAreaBottom" fmla="*/ 101880 h 101520"/>
              </a:gdLst>
              <a:ahLst/>
              <a:rect l="textAreaLeft" t="textAreaTop" r="textAreaRight" b="textAreaBottom"/>
              <a:pathLst>
                <a:path w="101852" h="101852">
                  <a:moveTo>
                    <a:pt x="87423" y="90818"/>
                  </a:moveTo>
                  <a:lnTo>
                    <a:pt x="12732" y="80633"/>
                  </a:lnTo>
                  <a:lnTo>
                    <a:pt x="97608" y="12732"/>
                  </a:lnTo>
                  <a:lnTo>
                    <a:pt x="87423" y="90818"/>
                  </a:lnTo>
                  <a:close/>
                </a:path>
              </a:pathLst>
            </a:custGeom>
            <a:solidFill>
              <a:srgbClr val="f1f1f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57" name="任意多边形: 形状 349"/>
            <p:cNvSpPr/>
            <p:nvPr/>
          </p:nvSpPr>
          <p:spPr>
            <a:xfrm>
              <a:off x="6117480" y="2387160"/>
              <a:ext cx="135720" cy="67680"/>
            </a:xfrm>
            <a:custGeom>
              <a:avLst/>
              <a:gdLst>
                <a:gd name="textAreaLeft" fmla="*/ 0 w 135720"/>
                <a:gd name="textAreaRight" fmla="*/ 136080 w 135720"/>
                <a:gd name="textAreaTop" fmla="*/ 0 h 67680"/>
                <a:gd name="textAreaBottom" fmla="*/ 68040 h 67680"/>
              </a:gdLst>
              <a:ahLst/>
              <a:rect l="textAreaLeft" t="textAreaTop" r="textAreaRight" b="textAreaBottom"/>
              <a:pathLst>
                <a:path w="135802" h="67901">
                  <a:moveTo>
                    <a:pt x="36497" y="58565"/>
                  </a:moveTo>
                  <a:lnTo>
                    <a:pt x="12732" y="63658"/>
                  </a:lnTo>
                  <a:lnTo>
                    <a:pt x="12732" y="65355"/>
                  </a:lnTo>
                  <a:lnTo>
                    <a:pt x="38195" y="61960"/>
                  </a:lnTo>
                  <a:lnTo>
                    <a:pt x="36497" y="60262"/>
                  </a:lnTo>
                  <a:lnTo>
                    <a:pt x="38195" y="61960"/>
                  </a:lnTo>
                  <a:lnTo>
                    <a:pt x="56867" y="46682"/>
                  </a:lnTo>
                  <a:lnTo>
                    <a:pt x="77238" y="56867"/>
                  </a:lnTo>
                  <a:lnTo>
                    <a:pt x="77238" y="55170"/>
                  </a:lnTo>
                  <a:lnTo>
                    <a:pt x="78935" y="56867"/>
                  </a:lnTo>
                  <a:lnTo>
                    <a:pt x="99306" y="41590"/>
                  </a:lnTo>
                  <a:lnTo>
                    <a:pt x="97608" y="39892"/>
                  </a:lnTo>
                  <a:lnTo>
                    <a:pt x="99306" y="41590"/>
                  </a:lnTo>
                  <a:lnTo>
                    <a:pt x="123071" y="14429"/>
                  </a:lnTo>
                  <a:lnTo>
                    <a:pt x="119676" y="12732"/>
                  </a:lnTo>
                  <a:lnTo>
                    <a:pt x="97608" y="39892"/>
                  </a:lnTo>
                  <a:lnTo>
                    <a:pt x="77238" y="53472"/>
                  </a:lnTo>
                  <a:lnTo>
                    <a:pt x="56867" y="44985"/>
                  </a:lnTo>
                  <a:lnTo>
                    <a:pt x="56867" y="46682"/>
                  </a:lnTo>
                  <a:lnTo>
                    <a:pt x="55170" y="44985"/>
                  </a:lnTo>
                  <a:lnTo>
                    <a:pt x="36497" y="58565"/>
                  </a:lnTo>
                  <a:close/>
                </a:path>
              </a:pathLst>
            </a:custGeom>
            <a:solidFill>
              <a:srgbClr val="c7c9ea"/>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258" name="任意多边形: 形状 350"/>
            <p:cNvSpPr/>
            <p:nvPr/>
          </p:nvSpPr>
          <p:spPr>
            <a:xfrm>
              <a:off x="6210720" y="2385360"/>
              <a:ext cx="33840" cy="118800"/>
            </a:xfrm>
            <a:custGeom>
              <a:avLst/>
              <a:gdLst>
                <a:gd name="textAreaLeft" fmla="*/ 0 w 33840"/>
                <a:gd name="textAreaRight" fmla="*/ 34200 w 33840"/>
                <a:gd name="textAreaTop" fmla="*/ 0 h 118800"/>
                <a:gd name="textAreaBottom" fmla="*/ 119160 h 118800"/>
              </a:gdLst>
              <a:ahLst/>
              <a:rect l="textAreaLeft" t="textAreaTop" r="textAreaRight" b="textAreaBottom"/>
              <a:pathLst>
                <a:path w="33950" h="118827">
                  <a:moveTo>
                    <a:pt x="26312" y="12732"/>
                  </a:moveTo>
                  <a:lnTo>
                    <a:pt x="29707" y="14429"/>
                  </a:lnTo>
                  <a:lnTo>
                    <a:pt x="16127" y="112886"/>
                  </a:lnTo>
                  <a:lnTo>
                    <a:pt x="12732" y="111189"/>
                  </a:lnTo>
                  <a:lnTo>
                    <a:pt x="26312" y="12732"/>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59" name="任意多边形: 形状 351"/>
            <p:cNvSpPr/>
            <p:nvPr/>
          </p:nvSpPr>
          <p:spPr>
            <a:xfrm>
              <a:off x="6105960" y="2367000"/>
              <a:ext cx="135720" cy="33840"/>
            </a:xfrm>
            <a:custGeom>
              <a:avLst/>
              <a:gdLst>
                <a:gd name="textAreaLeft" fmla="*/ 0 w 135720"/>
                <a:gd name="textAreaRight" fmla="*/ 136080 w 135720"/>
                <a:gd name="textAreaTop" fmla="*/ 0 h 33840"/>
                <a:gd name="textAreaBottom" fmla="*/ 34200 h 33840"/>
              </a:gdLst>
              <a:ahLst/>
              <a:rect l="textAreaLeft" t="textAreaTop" r="textAreaRight" b="textAreaBottom"/>
              <a:pathLst>
                <a:path w="135802" h="33950">
                  <a:moveTo>
                    <a:pt x="14345" y="17708"/>
                  </a:moveTo>
                  <a:lnTo>
                    <a:pt x="14806" y="14345"/>
                  </a:lnTo>
                  <a:lnTo>
                    <a:pt x="135892" y="30967"/>
                  </a:lnTo>
                  <a:lnTo>
                    <a:pt x="135431" y="34330"/>
                  </a:lnTo>
                  <a:lnTo>
                    <a:pt x="14345" y="17708"/>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60" name="任意多边形: 形状 352"/>
            <p:cNvSpPr/>
            <p:nvPr/>
          </p:nvSpPr>
          <p:spPr>
            <a:xfrm>
              <a:off x="6199920" y="2410920"/>
              <a:ext cx="16920" cy="16920"/>
            </a:xfrm>
            <a:custGeom>
              <a:avLst/>
              <a:gdLst>
                <a:gd name="textAreaLeft" fmla="*/ 0 w 16920"/>
                <a:gd name="textAreaRight" fmla="*/ 17280 w 16920"/>
                <a:gd name="textAreaTop" fmla="*/ 0 h 16920"/>
                <a:gd name="textAreaBottom" fmla="*/ 17280 h 16920"/>
              </a:gdLst>
              <a:ahLst/>
              <a:rect l="textAreaLeft" t="textAreaTop" r="textAreaRight" b="textAreaBottom"/>
              <a:pathLst>
                <a:path w="16975" h="16975">
                  <a:moveTo>
                    <a:pt x="13398" y="16127"/>
                  </a:moveTo>
                  <a:cubicBezTo>
                    <a:pt x="13398" y="14429"/>
                    <a:pt x="15095" y="12732"/>
                    <a:pt x="16793" y="12732"/>
                  </a:cubicBezTo>
                  <a:cubicBezTo>
                    <a:pt x="18490" y="12732"/>
                    <a:pt x="20188" y="14429"/>
                    <a:pt x="20188" y="16127"/>
                  </a:cubicBezTo>
                  <a:cubicBezTo>
                    <a:pt x="20188" y="17824"/>
                    <a:pt x="18490" y="19522"/>
                    <a:pt x="16793" y="19522"/>
                  </a:cubicBezTo>
                  <a:cubicBezTo>
                    <a:pt x="13398" y="19522"/>
                    <a:pt x="11700" y="17824"/>
                    <a:pt x="13398" y="16127"/>
                  </a:cubicBezTo>
                  <a:close/>
                </a:path>
              </a:pathLst>
            </a:custGeom>
            <a:solidFill>
              <a:srgbClr val="6ec29b"/>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261" name="任意多边形: 形状 353"/>
            <p:cNvSpPr/>
            <p:nvPr/>
          </p:nvSpPr>
          <p:spPr>
            <a:xfrm>
              <a:off x="6179400" y="2426400"/>
              <a:ext cx="16920" cy="16920"/>
            </a:xfrm>
            <a:custGeom>
              <a:avLst/>
              <a:gdLst>
                <a:gd name="textAreaLeft" fmla="*/ 0 w 16920"/>
                <a:gd name="textAreaRight" fmla="*/ 17280 w 16920"/>
                <a:gd name="textAreaTop" fmla="*/ 0 h 16920"/>
                <a:gd name="textAreaBottom" fmla="*/ 17280 h 16920"/>
              </a:gdLst>
              <a:ahLst/>
              <a:rect l="textAreaLeft" t="textAreaTop" r="textAreaRight" b="textAreaBottom"/>
              <a:pathLst>
                <a:path w="16975" h="16975">
                  <a:moveTo>
                    <a:pt x="13397" y="16127"/>
                  </a:moveTo>
                  <a:cubicBezTo>
                    <a:pt x="13397" y="14429"/>
                    <a:pt x="15095" y="12732"/>
                    <a:pt x="16793" y="12732"/>
                  </a:cubicBezTo>
                  <a:cubicBezTo>
                    <a:pt x="18490" y="12732"/>
                    <a:pt x="20188" y="14429"/>
                    <a:pt x="20188" y="16127"/>
                  </a:cubicBezTo>
                  <a:cubicBezTo>
                    <a:pt x="20188" y="17824"/>
                    <a:pt x="18490" y="19522"/>
                    <a:pt x="16793" y="19522"/>
                  </a:cubicBezTo>
                  <a:cubicBezTo>
                    <a:pt x="13397" y="19522"/>
                    <a:pt x="11700" y="17824"/>
                    <a:pt x="13397" y="16127"/>
                  </a:cubicBezTo>
                  <a:close/>
                </a:path>
              </a:pathLst>
            </a:custGeom>
            <a:solidFill>
              <a:srgbClr val="eec43e"/>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262" name="任意多边形: 形状 354"/>
            <p:cNvSpPr/>
            <p:nvPr/>
          </p:nvSpPr>
          <p:spPr>
            <a:xfrm>
              <a:off x="6158160" y="2415960"/>
              <a:ext cx="16920" cy="16920"/>
            </a:xfrm>
            <a:custGeom>
              <a:avLst/>
              <a:gdLst>
                <a:gd name="textAreaLeft" fmla="*/ 0 w 16920"/>
                <a:gd name="textAreaRight" fmla="*/ 17280 w 16920"/>
                <a:gd name="textAreaTop" fmla="*/ 0 h 16920"/>
                <a:gd name="textAreaBottom" fmla="*/ 17280 h 16920"/>
              </a:gdLst>
              <a:ahLst/>
              <a:rect l="textAreaLeft" t="textAreaTop" r="textAreaRight" b="textAreaBottom"/>
              <a:pathLst>
                <a:path w="16975" h="16975">
                  <a:moveTo>
                    <a:pt x="12732" y="16127"/>
                  </a:moveTo>
                  <a:cubicBezTo>
                    <a:pt x="12732" y="14429"/>
                    <a:pt x="14429" y="12732"/>
                    <a:pt x="16127" y="12732"/>
                  </a:cubicBezTo>
                  <a:cubicBezTo>
                    <a:pt x="17824" y="12732"/>
                    <a:pt x="19522" y="14429"/>
                    <a:pt x="19522" y="16127"/>
                  </a:cubicBezTo>
                  <a:cubicBezTo>
                    <a:pt x="19522" y="17824"/>
                    <a:pt x="17824" y="19522"/>
                    <a:pt x="16127" y="19522"/>
                  </a:cubicBezTo>
                  <a:cubicBezTo>
                    <a:pt x="12732" y="19522"/>
                    <a:pt x="12732" y="17824"/>
                    <a:pt x="12732" y="16127"/>
                  </a:cubicBezTo>
                  <a:close/>
                </a:path>
              </a:pathLst>
            </a:custGeom>
            <a:solidFill>
              <a:srgbClr val="e2846b"/>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263" name="任意多边形: 形状 355"/>
            <p:cNvSpPr/>
            <p:nvPr/>
          </p:nvSpPr>
          <p:spPr>
            <a:xfrm>
              <a:off x="6138720" y="2431440"/>
              <a:ext cx="16920" cy="16920"/>
            </a:xfrm>
            <a:custGeom>
              <a:avLst/>
              <a:gdLst>
                <a:gd name="textAreaLeft" fmla="*/ 0 w 16920"/>
                <a:gd name="textAreaRight" fmla="*/ 17280 w 16920"/>
                <a:gd name="textAreaTop" fmla="*/ 0 h 16920"/>
                <a:gd name="textAreaBottom" fmla="*/ 17280 h 16920"/>
              </a:gdLst>
              <a:ahLst/>
              <a:rect l="textAreaLeft" t="textAreaTop" r="textAreaRight" b="textAreaBottom"/>
              <a:pathLst>
                <a:path w="16975" h="16975">
                  <a:moveTo>
                    <a:pt x="13397" y="16127"/>
                  </a:moveTo>
                  <a:cubicBezTo>
                    <a:pt x="13397" y="14429"/>
                    <a:pt x="15095" y="12732"/>
                    <a:pt x="16793" y="12732"/>
                  </a:cubicBezTo>
                  <a:cubicBezTo>
                    <a:pt x="18490" y="12732"/>
                    <a:pt x="20188" y="14429"/>
                    <a:pt x="20188" y="16127"/>
                  </a:cubicBezTo>
                  <a:cubicBezTo>
                    <a:pt x="20188" y="17824"/>
                    <a:pt x="18490" y="19522"/>
                    <a:pt x="16793" y="19522"/>
                  </a:cubicBezTo>
                  <a:cubicBezTo>
                    <a:pt x="13397" y="19522"/>
                    <a:pt x="11700" y="17824"/>
                    <a:pt x="13397" y="16127"/>
                  </a:cubicBezTo>
                  <a:close/>
                </a:path>
              </a:pathLst>
            </a:custGeom>
            <a:solidFill>
              <a:srgbClr val="7e85d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264" name="任意多边形: 形状 356"/>
            <p:cNvSpPr/>
            <p:nvPr/>
          </p:nvSpPr>
          <p:spPr>
            <a:xfrm>
              <a:off x="6115680" y="2434680"/>
              <a:ext cx="16920" cy="16920"/>
            </a:xfrm>
            <a:custGeom>
              <a:avLst/>
              <a:gdLst>
                <a:gd name="textAreaLeft" fmla="*/ 0 w 16920"/>
                <a:gd name="textAreaRight" fmla="*/ 17280 w 16920"/>
                <a:gd name="textAreaTop" fmla="*/ 0 h 16920"/>
                <a:gd name="textAreaBottom" fmla="*/ 17280 h 16920"/>
              </a:gdLst>
              <a:ahLst/>
              <a:rect l="textAreaLeft" t="textAreaTop" r="textAreaRight" b="textAreaBottom"/>
              <a:pathLst>
                <a:path w="16975" h="16975">
                  <a:moveTo>
                    <a:pt x="12732" y="16127"/>
                  </a:moveTo>
                  <a:cubicBezTo>
                    <a:pt x="12732" y="14429"/>
                    <a:pt x="14429" y="12732"/>
                    <a:pt x="16127" y="12732"/>
                  </a:cubicBezTo>
                  <a:cubicBezTo>
                    <a:pt x="17824" y="12732"/>
                    <a:pt x="19522" y="14429"/>
                    <a:pt x="19522" y="16127"/>
                  </a:cubicBezTo>
                  <a:cubicBezTo>
                    <a:pt x="19522" y="17824"/>
                    <a:pt x="17824" y="19522"/>
                    <a:pt x="16127" y="19522"/>
                  </a:cubicBezTo>
                  <a:cubicBezTo>
                    <a:pt x="12732" y="19522"/>
                    <a:pt x="12732" y="17824"/>
                    <a:pt x="12732" y="16127"/>
                  </a:cubicBezTo>
                  <a:close/>
                </a:path>
              </a:pathLst>
            </a:custGeom>
            <a:solidFill>
              <a:srgbClr val="b57ac2"/>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265" name="任意多边形: 形状 357"/>
            <p:cNvSpPr/>
            <p:nvPr/>
          </p:nvSpPr>
          <p:spPr>
            <a:xfrm>
              <a:off x="6251760" y="2369880"/>
              <a:ext cx="186480" cy="169560"/>
            </a:xfrm>
            <a:custGeom>
              <a:avLst/>
              <a:gdLst>
                <a:gd name="textAreaLeft" fmla="*/ 0 w 186480"/>
                <a:gd name="textAreaRight" fmla="*/ 186840 w 186480"/>
                <a:gd name="textAreaTop" fmla="*/ 0 h 169560"/>
                <a:gd name="textAreaBottom" fmla="*/ 169920 h 169560"/>
              </a:gdLst>
              <a:ahLst/>
              <a:rect l="textAreaLeft" t="textAreaTop" r="textAreaRight" b="textAreaBottom"/>
              <a:pathLst>
                <a:path w="186729" h="169753">
                  <a:moveTo>
                    <a:pt x="14345" y="138794"/>
                  </a:moveTo>
                  <a:lnTo>
                    <a:pt x="31429" y="14345"/>
                  </a:lnTo>
                  <a:lnTo>
                    <a:pt x="187831" y="35815"/>
                  </a:lnTo>
                  <a:lnTo>
                    <a:pt x="170747" y="160264"/>
                  </a:lnTo>
                  <a:lnTo>
                    <a:pt x="14345" y="138794"/>
                  </a:lnTo>
                  <a:close/>
                </a:path>
              </a:pathLst>
            </a:custGeom>
            <a:solidFill>
              <a:srgbClr val="477e8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266" name="任意多边形: 形状 358"/>
            <p:cNvSpPr/>
            <p:nvPr/>
          </p:nvSpPr>
          <p:spPr>
            <a:xfrm>
              <a:off x="6129720" y="2350080"/>
              <a:ext cx="101520" cy="33840"/>
            </a:xfrm>
            <a:custGeom>
              <a:avLst/>
              <a:gdLst>
                <a:gd name="textAreaLeft" fmla="*/ 0 w 101520"/>
                <a:gd name="textAreaRight" fmla="*/ 101880 w 101520"/>
                <a:gd name="textAreaTop" fmla="*/ 0 h 33840"/>
                <a:gd name="textAreaBottom" fmla="*/ 34200 h 33840"/>
              </a:gdLst>
              <a:ahLst/>
              <a:rect l="textAreaLeft" t="textAreaTop" r="textAreaRight" b="textAreaBottom"/>
              <a:pathLst>
                <a:path w="101852" h="33950">
                  <a:moveTo>
                    <a:pt x="14345" y="17708"/>
                  </a:moveTo>
                  <a:lnTo>
                    <a:pt x="14806" y="14345"/>
                  </a:lnTo>
                  <a:lnTo>
                    <a:pt x="93849" y="25195"/>
                  </a:lnTo>
                  <a:lnTo>
                    <a:pt x="93387" y="28559"/>
                  </a:lnTo>
                  <a:lnTo>
                    <a:pt x="14345" y="17708"/>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67" name="任意多边形: 形状 359"/>
            <p:cNvSpPr/>
            <p:nvPr/>
          </p:nvSpPr>
          <p:spPr>
            <a:xfrm>
              <a:off x="6141600" y="2543760"/>
              <a:ext cx="203400" cy="50760"/>
            </a:xfrm>
            <a:custGeom>
              <a:avLst/>
              <a:gdLst>
                <a:gd name="textAreaLeft" fmla="*/ 0 w 203400"/>
                <a:gd name="textAreaRight" fmla="*/ 203760 w 203400"/>
                <a:gd name="textAreaTop" fmla="*/ 0 h 50760"/>
                <a:gd name="textAreaBottom" fmla="*/ 51120 h 50760"/>
              </a:gdLst>
              <a:ahLst/>
              <a:rect l="textAreaLeft" t="textAreaTop" r="textAreaRight" b="textAreaBottom"/>
              <a:pathLst>
                <a:path w="203704" h="50926">
                  <a:moveTo>
                    <a:pt x="14345" y="21072"/>
                  </a:moveTo>
                  <a:lnTo>
                    <a:pt x="15268" y="14345"/>
                  </a:lnTo>
                  <a:lnTo>
                    <a:pt x="198579" y="39509"/>
                  </a:lnTo>
                  <a:lnTo>
                    <a:pt x="197655" y="46236"/>
                  </a:lnTo>
                  <a:lnTo>
                    <a:pt x="14345" y="21072"/>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68" name="任意多边形: 形状 360"/>
            <p:cNvSpPr/>
            <p:nvPr/>
          </p:nvSpPr>
          <p:spPr>
            <a:xfrm>
              <a:off x="6121440" y="2521080"/>
              <a:ext cx="254520" cy="50760"/>
            </a:xfrm>
            <a:custGeom>
              <a:avLst/>
              <a:gdLst>
                <a:gd name="textAreaLeft" fmla="*/ 0 w 254520"/>
                <a:gd name="textAreaRight" fmla="*/ 254880 w 254520"/>
                <a:gd name="textAreaTop" fmla="*/ 0 h 50760"/>
                <a:gd name="textAreaBottom" fmla="*/ 51120 h 50760"/>
              </a:gdLst>
              <a:ahLst/>
              <a:rect l="textAreaLeft" t="textAreaTop" r="textAreaRight" b="textAreaBottom"/>
              <a:pathLst>
                <a:path w="254630" h="50926">
                  <a:moveTo>
                    <a:pt x="14345" y="21072"/>
                  </a:moveTo>
                  <a:lnTo>
                    <a:pt x="15268" y="14345"/>
                  </a:lnTo>
                  <a:lnTo>
                    <a:pt x="242304" y="45511"/>
                  </a:lnTo>
                  <a:lnTo>
                    <a:pt x="241381" y="52238"/>
                  </a:lnTo>
                  <a:lnTo>
                    <a:pt x="14345" y="21072"/>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69" name="任意多边形: 形状 361"/>
            <p:cNvSpPr/>
            <p:nvPr/>
          </p:nvSpPr>
          <p:spPr>
            <a:xfrm>
              <a:off x="6272280" y="2335320"/>
              <a:ext cx="152640" cy="33840"/>
            </a:xfrm>
            <a:custGeom>
              <a:avLst/>
              <a:gdLst>
                <a:gd name="textAreaLeft" fmla="*/ 0 w 152640"/>
                <a:gd name="textAreaRight" fmla="*/ 153000 w 152640"/>
                <a:gd name="textAreaTop" fmla="*/ 0 h 33840"/>
                <a:gd name="textAreaBottom" fmla="*/ 34200 h 33840"/>
              </a:gdLst>
              <a:ahLst/>
              <a:rect l="textAreaLeft" t="textAreaTop" r="textAreaRight" b="textAreaBottom"/>
              <a:pathLst>
                <a:path w="152778" h="33950">
                  <a:moveTo>
                    <a:pt x="14346" y="19391"/>
                  </a:moveTo>
                  <a:lnTo>
                    <a:pt x="15039" y="14346"/>
                  </a:lnTo>
                  <a:lnTo>
                    <a:pt x="139489" y="31442"/>
                  </a:lnTo>
                  <a:lnTo>
                    <a:pt x="138795" y="36488"/>
                  </a:lnTo>
                  <a:lnTo>
                    <a:pt x="14346" y="19391"/>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70" name="任意多边形: 形状 362"/>
            <p:cNvSpPr/>
            <p:nvPr/>
          </p:nvSpPr>
          <p:spPr>
            <a:xfrm>
              <a:off x="6275520" y="232092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71" name="任意多边形: 形状 363"/>
            <p:cNvSpPr/>
            <p:nvPr/>
          </p:nvSpPr>
          <p:spPr>
            <a:xfrm>
              <a:off x="6276240" y="230688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72" name="任意多边形: 形状 364"/>
            <p:cNvSpPr/>
            <p:nvPr/>
          </p:nvSpPr>
          <p:spPr>
            <a:xfrm>
              <a:off x="6278760" y="229284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73" name="任意多边形: 形状 365"/>
            <p:cNvSpPr/>
            <p:nvPr/>
          </p:nvSpPr>
          <p:spPr>
            <a:xfrm>
              <a:off x="6281280" y="227916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74" name="任意多边形: 形状 366"/>
            <p:cNvSpPr/>
            <p:nvPr/>
          </p:nvSpPr>
          <p:spPr>
            <a:xfrm>
              <a:off x="6282360" y="226476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75" name="任意多边形: 形状 367"/>
            <p:cNvSpPr/>
            <p:nvPr/>
          </p:nvSpPr>
          <p:spPr>
            <a:xfrm>
              <a:off x="6284880" y="225108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76" name="任意多边形: 形状 368"/>
            <p:cNvSpPr/>
            <p:nvPr/>
          </p:nvSpPr>
          <p:spPr>
            <a:xfrm>
              <a:off x="6285600" y="223704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77" name="任意多边形: 形状 369"/>
            <p:cNvSpPr/>
            <p:nvPr/>
          </p:nvSpPr>
          <p:spPr>
            <a:xfrm>
              <a:off x="6103800" y="2312640"/>
              <a:ext cx="152640" cy="33840"/>
            </a:xfrm>
            <a:custGeom>
              <a:avLst/>
              <a:gdLst>
                <a:gd name="textAreaLeft" fmla="*/ 0 w 152640"/>
                <a:gd name="textAreaRight" fmla="*/ 153000 w 152640"/>
                <a:gd name="textAreaTop" fmla="*/ 0 h 33840"/>
                <a:gd name="textAreaBottom" fmla="*/ 34200 h 33840"/>
              </a:gdLst>
              <a:ahLst/>
              <a:rect l="textAreaLeft" t="textAreaTop" r="textAreaRight" b="textAreaBottom"/>
              <a:pathLst>
                <a:path w="152778" h="33950">
                  <a:moveTo>
                    <a:pt x="14343" y="19389"/>
                  </a:moveTo>
                  <a:lnTo>
                    <a:pt x="15035" y="14343"/>
                  </a:lnTo>
                  <a:lnTo>
                    <a:pt x="139485" y="31415"/>
                  </a:lnTo>
                  <a:lnTo>
                    <a:pt x="138793" y="36460"/>
                  </a:lnTo>
                  <a:lnTo>
                    <a:pt x="14343" y="19389"/>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78" name="任意多边形: 形状 370"/>
            <p:cNvSpPr/>
            <p:nvPr/>
          </p:nvSpPr>
          <p:spPr>
            <a:xfrm>
              <a:off x="6105600" y="229824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79" name="任意多边形: 形状 371"/>
            <p:cNvSpPr/>
            <p:nvPr/>
          </p:nvSpPr>
          <p:spPr>
            <a:xfrm>
              <a:off x="6108120" y="228420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80" name="任意多边形: 形状 372"/>
            <p:cNvSpPr/>
            <p:nvPr/>
          </p:nvSpPr>
          <p:spPr>
            <a:xfrm>
              <a:off x="6108840" y="227016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81" name="任意多边形: 形状 373"/>
            <p:cNvSpPr/>
            <p:nvPr/>
          </p:nvSpPr>
          <p:spPr>
            <a:xfrm>
              <a:off x="6111360" y="225612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82" name="任意多边形: 形状 374"/>
            <p:cNvSpPr/>
            <p:nvPr/>
          </p:nvSpPr>
          <p:spPr>
            <a:xfrm>
              <a:off x="6113880" y="224208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83" name="任意多边形: 形状 375"/>
            <p:cNvSpPr/>
            <p:nvPr/>
          </p:nvSpPr>
          <p:spPr>
            <a:xfrm>
              <a:off x="6117480" y="222948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2732" y="12732"/>
                  </a:moveTo>
                  <a:lnTo>
                    <a:pt x="168905" y="34800"/>
                  </a:lnTo>
                  <a:lnTo>
                    <a:pt x="168905" y="38195"/>
                  </a:lnTo>
                  <a:lnTo>
                    <a:pt x="12732" y="17824"/>
                  </a:lnTo>
                  <a:lnTo>
                    <a:pt x="12732" y="12732"/>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84" name="任意多边形: 形状 376"/>
            <p:cNvSpPr/>
            <p:nvPr/>
          </p:nvSpPr>
          <p:spPr>
            <a:xfrm>
              <a:off x="6117840" y="221256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85" name="任意多边形: 形状 377"/>
            <p:cNvSpPr/>
            <p:nvPr/>
          </p:nvSpPr>
          <p:spPr>
            <a:xfrm>
              <a:off x="6290640" y="2207520"/>
              <a:ext cx="152640" cy="33840"/>
            </a:xfrm>
            <a:custGeom>
              <a:avLst/>
              <a:gdLst>
                <a:gd name="textAreaLeft" fmla="*/ 0 w 152640"/>
                <a:gd name="textAreaRight" fmla="*/ 153000 w 152640"/>
                <a:gd name="textAreaTop" fmla="*/ 0 h 33840"/>
                <a:gd name="textAreaBottom" fmla="*/ 34200 h 33840"/>
              </a:gdLst>
              <a:ahLst/>
              <a:rect l="textAreaLeft" t="textAreaTop" r="textAreaRight" b="textAreaBottom"/>
              <a:pathLst>
                <a:path w="152778" h="33950">
                  <a:moveTo>
                    <a:pt x="14345" y="19390"/>
                  </a:moveTo>
                  <a:lnTo>
                    <a:pt x="15037" y="14345"/>
                  </a:lnTo>
                  <a:lnTo>
                    <a:pt x="139487" y="31429"/>
                  </a:lnTo>
                  <a:lnTo>
                    <a:pt x="138794" y="36474"/>
                  </a:lnTo>
                  <a:lnTo>
                    <a:pt x="14345" y="19390"/>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86" name="任意多边形: 形状 378"/>
            <p:cNvSpPr/>
            <p:nvPr/>
          </p:nvSpPr>
          <p:spPr>
            <a:xfrm>
              <a:off x="6292080" y="219312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4"/>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87" name="任意多边形: 形状 379"/>
            <p:cNvSpPr/>
            <p:nvPr/>
          </p:nvSpPr>
          <p:spPr>
            <a:xfrm>
              <a:off x="6295680" y="218160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429" y="12732"/>
                  </a:moveTo>
                  <a:lnTo>
                    <a:pt x="170602" y="33102"/>
                  </a:lnTo>
                  <a:lnTo>
                    <a:pt x="168905" y="38195"/>
                  </a:lnTo>
                  <a:lnTo>
                    <a:pt x="12732" y="16127"/>
                  </a:lnTo>
                  <a:lnTo>
                    <a:pt x="14429" y="12732"/>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88" name="任意多边形: 形状 380"/>
            <p:cNvSpPr/>
            <p:nvPr/>
          </p:nvSpPr>
          <p:spPr>
            <a:xfrm>
              <a:off x="6295320" y="216504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3" y="19389"/>
                  </a:moveTo>
                  <a:lnTo>
                    <a:pt x="15035" y="14343"/>
                  </a:lnTo>
                  <a:lnTo>
                    <a:pt x="171438" y="35798"/>
                  </a:lnTo>
                  <a:lnTo>
                    <a:pt x="170746" y="40843"/>
                  </a:lnTo>
                  <a:lnTo>
                    <a:pt x="14343" y="19389"/>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89" name="任意多边形: 形状 381"/>
            <p:cNvSpPr/>
            <p:nvPr/>
          </p:nvSpPr>
          <p:spPr>
            <a:xfrm>
              <a:off x="6298920" y="215280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429" y="12732"/>
                  </a:moveTo>
                  <a:lnTo>
                    <a:pt x="170602" y="33102"/>
                  </a:lnTo>
                  <a:lnTo>
                    <a:pt x="170602" y="38195"/>
                  </a:lnTo>
                  <a:lnTo>
                    <a:pt x="12732" y="17824"/>
                  </a:lnTo>
                  <a:lnTo>
                    <a:pt x="14429" y="12732"/>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90" name="任意多边形: 形状 382"/>
            <p:cNvSpPr/>
            <p:nvPr/>
          </p:nvSpPr>
          <p:spPr>
            <a:xfrm>
              <a:off x="6300720" y="213732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91" name="任意多边形: 形状 383"/>
            <p:cNvSpPr/>
            <p:nvPr/>
          </p:nvSpPr>
          <p:spPr>
            <a:xfrm>
              <a:off x="6301800" y="212148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92" name="任意多边形: 形状 384"/>
            <p:cNvSpPr/>
            <p:nvPr/>
          </p:nvSpPr>
          <p:spPr>
            <a:xfrm>
              <a:off x="6304320" y="2107800"/>
              <a:ext cx="169560" cy="50760"/>
            </a:xfrm>
            <a:custGeom>
              <a:avLst/>
              <a:gdLst>
                <a:gd name="textAreaLeft" fmla="*/ 0 w 169560"/>
                <a:gd name="textAreaRight" fmla="*/ 169920 w 169560"/>
                <a:gd name="textAreaTop" fmla="*/ 0 h 50760"/>
                <a:gd name="textAreaBottom" fmla="*/ 51120 h 50760"/>
              </a:gdLst>
              <a:ahLst/>
              <a:rect l="textAreaLeft" t="textAreaTop" r="textAreaRight" b="textAreaBottom"/>
              <a:pathLst>
                <a:path w="169753" h="50926">
                  <a:moveTo>
                    <a:pt x="14345" y="19390"/>
                  </a:moveTo>
                  <a:lnTo>
                    <a:pt x="15037" y="14345"/>
                  </a:lnTo>
                  <a:lnTo>
                    <a:pt x="171440" y="35815"/>
                  </a:lnTo>
                  <a:lnTo>
                    <a:pt x="170747" y="40860"/>
                  </a:lnTo>
                  <a:lnTo>
                    <a:pt x="14345" y="19390"/>
                  </a:lnTo>
                  <a:close/>
                </a:path>
              </a:pathLst>
            </a:custGeom>
            <a:solidFill>
              <a:srgbClr val="5d5d5d"/>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293" name="任意多边形: 形状 385"/>
            <p:cNvSpPr/>
            <p:nvPr/>
          </p:nvSpPr>
          <p:spPr>
            <a:xfrm>
              <a:off x="6121800" y="2184120"/>
              <a:ext cx="67680" cy="33840"/>
            </a:xfrm>
            <a:custGeom>
              <a:avLst/>
              <a:gdLst>
                <a:gd name="textAreaLeft" fmla="*/ 0 w 67680"/>
                <a:gd name="textAreaRight" fmla="*/ 68040 w 67680"/>
                <a:gd name="textAreaTop" fmla="*/ 0 h 33840"/>
                <a:gd name="textAreaBottom" fmla="*/ 34200 h 33840"/>
              </a:gdLst>
              <a:ahLst/>
              <a:rect l="textAreaLeft" t="textAreaTop" r="textAreaRight" b="textAreaBottom"/>
              <a:pathLst>
                <a:path w="67901" h="33950">
                  <a:moveTo>
                    <a:pt x="14345" y="19390"/>
                  </a:moveTo>
                  <a:lnTo>
                    <a:pt x="15037" y="14344"/>
                  </a:lnTo>
                  <a:lnTo>
                    <a:pt x="-10137" y="19885"/>
                  </a:lnTo>
                  <a:lnTo>
                    <a:pt x="-10829" y="24931"/>
                  </a:lnTo>
                  <a:lnTo>
                    <a:pt x="14345" y="19390"/>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94" name="任意多边形: 形状 386"/>
            <p:cNvSpPr/>
            <p:nvPr/>
          </p:nvSpPr>
          <p:spPr>
            <a:xfrm>
              <a:off x="6122520" y="2170440"/>
              <a:ext cx="67680" cy="33840"/>
            </a:xfrm>
            <a:custGeom>
              <a:avLst/>
              <a:gdLst>
                <a:gd name="textAreaLeft" fmla="*/ 0 w 67680"/>
                <a:gd name="textAreaRight" fmla="*/ 68040 w 67680"/>
                <a:gd name="textAreaTop" fmla="*/ 0 h 33840"/>
                <a:gd name="textAreaBottom" fmla="*/ 34200 h 33840"/>
              </a:gdLst>
              <a:ahLst/>
              <a:rect l="textAreaLeft" t="textAreaTop" r="textAreaRight" b="textAreaBottom"/>
              <a:pathLst>
                <a:path w="67901" h="33950">
                  <a:moveTo>
                    <a:pt x="14345" y="19390"/>
                  </a:moveTo>
                  <a:lnTo>
                    <a:pt x="15037" y="14345"/>
                  </a:lnTo>
                  <a:lnTo>
                    <a:pt x="67171" y="21501"/>
                  </a:lnTo>
                  <a:lnTo>
                    <a:pt x="66479" y="26547"/>
                  </a:lnTo>
                  <a:lnTo>
                    <a:pt x="14345" y="19390"/>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95" name="任意多边形: 形状 387"/>
            <p:cNvSpPr/>
            <p:nvPr/>
          </p:nvSpPr>
          <p:spPr>
            <a:xfrm>
              <a:off x="6125040" y="2156400"/>
              <a:ext cx="67680" cy="33840"/>
            </a:xfrm>
            <a:custGeom>
              <a:avLst/>
              <a:gdLst>
                <a:gd name="textAreaLeft" fmla="*/ 0 w 67680"/>
                <a:gd name="textAreaRight" fmla="*/ 68040 w 67680"/>
                <a:gd name="textAreaTop" fmla="*/ 0 h 33840"/>
                <a:gd name="textAreaBottom" fmla="*/ 34200 h 33840"/>
              </a:gdLst>
              <a:ahLst/>
              <a:rect l="textAreaLeft" t="textAreaTop" r="textAreaRight" b="textAreaBottom"/>
              <a:pathLst>
                <a:path w="67901" h="33950">
                  <a:moveTo>
                    <a:pt x="14343" y="19389"/>
                  </a:moveTo>
                  <a:lnTo>
                    <a:pt x="15035" y="14343"/>
                  </a:lnTo>
                  <a:lnTo>
                    <a:pt x="67170" y="21495"/>
                  </a:lnTo>
                  <a:lnTo>
                    <a:pt x="66478" y="26540"/>
                  </a:lnTo>
                  <a:lnTo>
                    <a:pt x="14343" y="19389"/>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96" name="任意多边形: 形状 388"/>
            <p:cNvSpPr/>
            <p:nvPr/>
          </p:nvSpPr>
          <p:spPr>
            <a:xfrm>
              <a:off x="6127560" y="2140920"/>
              <a:ext cx="67680" cy="33840"/>
            </a:xfrm>
            <a:custGeom>
              <a:avLst/>
              <a:gdLst>
                <a:gd name="textAreaLeft" fmla="*/ 0 w 67680"/>
                <a:gd name="textAreaRight" fmla="*/ 68040 w 67680"/>
                <a:gd name="textAreaTop" fmla="*/ 0 h 33840"/>
                <a:gd name="textAreaBottom" fmla="*/ 34200 h 33840"/>
              </a:gdLst>
              <a:ahLst/>
              <a:rect l="textAreaLeft" t="textAreaTop" r="textAreaRight" b="textAreaBottom"/>
              <a:pathLst>
                <a:path w="67901" h="33950">
                  <a:moveTo>
                    <a:pt x="14345" y="19390"/>
                  </a:moveTo>
                  <a:lnTo>
                    <a:pt x="15037" y="14345"/>
                  </a:lnTo>
                  <a:lnTo>
                    <a:pt x="67171" y="21501"/>
                  </a:lnTo>
                  <a:lnTo>
                    <a:pt x="66479" y="26547"/>
                  </a:lnTo>
                  <a:lnTo>
                    <a:pt x="14345" y="19390"/>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97" name="任意多边形: 形状 389"/>
            <p:cNvSpPr/>
            <p:nvPr/>
          </p:nvSpPr>
          <p:spPr>
            <a:xfrm>
              <a:off x="6128280" y="2126880"/>
              <a:ext cx="67680" cy="33840"/>
            </a:xfrm>
            <a:custGeom>
              <a:avLst/>
              <a:gdLst>
                <a:gd name="textAreaLeft" fmla="*/ 0 w 67680"/>
                <a:gd name="textAreaRight" fmla="*/ 68040 w 67680"/>
                <a:gd name="textAreaTop" fmla="*/ 0 h 33840"/>
                <a:gd name="textAreaBottom" fmla="*/ 34200 h 33840"/>
              </a:gdLst>
              <a:ahLst/>
              <a:rect l="textAreaLeft" t="textAreaTop" r="textAreaRight" b="textAreaBottom"/>
              <a:pathLst>
                <a:path w="67901" h="33950">
                  <a:moveTo>
                    <a:pt x="14343" y="19389"/>
                  </a:moveTo>
                  <a:lnTo>
                    <a:pt x="15035" y="14343"/>
                  </a:lnTo>
                  <a:lnTo>
                    <a:pt x="67170" y="21495"/>
                  </a:lnTo>
                  <a:lnTo>
                    <a:pt x="66478" y="26540"/>
                  </a:lnTo>
                  <a:lnTo>
                    <a:pt x="14343" y="19389"/>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98" name="任意多边形: 形状 390"/>
            <p:cNvSpPr/>
            <p:nvPr/>
          </p:nvSpPr>
          <p:spPr>
            <a:xfrm>
              <a:off x="6131160" y="2112840"/>
              <a:ext cx="67680" cy="33840"/>
            </a:xfrm>
            <a:custGeom>
              <a:avLst/>
              <a:gdLst>
                <a:gd name="textAreaLeft" fmla="*/ 0 w 67680"/>
                <a:gd name="textAreaRight" fmla="*/ 68040 w 67680"/>
                <a:gd name="textAreaTop" fmla="*/ 0 h 33840"/>
                <a:gd name="textAreaBottom" fmla="*/ 34200 h 33840"/>
              </a:gdLst>
              <a:ahLst/>
              <a:rect l="textAreaLeft" t="textAreaTop" r="textAreaRight" b="textAreaBottom"/>
              <a:pathLst>
                <a:path w="67901" h="33950">
                  <a:moveTo>
                    <a:pt x="14346" y="19391"/>
                  </a:moveTo>
                  <a:lnTo>
                    <a:pt x="15039" y="14346"/>
                  </a:lnTo>
                  <a:lnTo>
                    <a:pt x="67173" y="21508"/>
                  </a:lnTo>
                  <a:lnTo>
                    <a:pt x="66480" y="26553"/>
                  </a:lnTo>
                  <a:lnTo>
                    <a:pt x="14346" y="19391"/>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299" name="任意多边形: 形状 391"/>
            <p:cNvSpPr/>
            <p:nvPr/>
          </p:nvSpPr>
          <p:spPr>
            <a:xfrm>
              <a:off x="6133320" y="2099160"/>
              <a:ext cx="67680" cy="33840"/>
            </a:xfrm>
            <a:custGeom>
              <a:avLst/>
              <a:gdLst>
                <a:gd name="textAreaLeft" fmla="*/ 0 w 67680"/>
                <a:gd name="textAreaRight" fmla="*/ 68040 w 67680"/>
                <a:gd name="textAreaTop" fmla="*/ 0 h 33840"/>
                <a:gd name="textAreaBottom" fmla="*/ 34200 h 33840"/>
              </a:gdLst>
              <a:ahLst/>
              <a:rect l="textAreaLeft" t="textAreaTop" r="textAreaRight" b="textAreaBottom"/>
              <a:pathLst>
                <a:path w="67901" h="33950">
                  <a:moveTo>
                    <a:pt x="14341" y="19386"/>
                  </a:moveTo>
                  <a:lnTo>
                    <a:pt x="15032" y="14341"/>
                  </a:lnTo>
                  <a:lnTo>
                    <a:pt x="67166" y="21482"/>
                  </a:lnTo>
                  <a:lnTo>
                    <a:pt x="66475" y="26527"/>
                  </a:lnTo>
                  <a:lnTo>
                    <a:pt x="14341" y="19386"/>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300" name="任意多边形: 形状 392"/>
            <p:cNvSpPr/>
            <p:nvPr/>
          </p:nvSpPr>
          <p:spPr>
            <a:xfrm>
              <a:off x="6134400" y="2085120"/>
              <a:ext cx="67680" cy="33840"/>
            </a:xfrm>
            <a:custGeom>
              <a:avLst/>
              <a:gdLst>
                <a:gd name="textAreaLeft" fmla="*/ 0 w 67680"/>
                <a:gd name="textAreaRight" fmla="*/ 68040 w 67680"/>
                <a:gd name="textAreaTop" fmla="*/ 0 h 33840"/>
                <a:gd name="textAreaBottom" fmla="*/ 34200 h 33840"/>
              </a:gdLst>
              <a:ahLst/>
              <a:rect l="textAreaLeft" t="textAreaTop" r="textAreaRight" b="textAreaBottom"/>
              <a:pathLst>
                <a:path w="67901" h="33950">
                  <a:moveTo>
                    <a:pt x="14343" y="19389"/>
                  </a:moveTo>
                  <a:lnTo>
                    <a:pt x="15035" y="14343"/>
                  </a:lnTo>
                  <a:lnTo>
                    <a:pt x="67170" y="21495"/>
                  </a:lnTo>
                  <a:lnTo>
                    <a:pt x="66478" y="26540"/>
                  </a:lnTo>
                  <a:lnTo>
                    <a:pt x="14343" y="19389"/>
                  </a:lnTo>
                  <a:close/>
                </a:path>
              </a:pathLst>
            </a:custGeom>
            <a:solidFill>
              <a:srgbClr val="5d5d5d"/>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301" name="任意多边形: 形状 393"/>
            <p:cNvSpPr/>
            <p:nvPr/>
          </p:nvSpPr>
          <p:spPr>
            <a:xfrm>
              <a:off x="6239520" y="2118960"/>
              <a:ext cx="67680" cy="84600"/>
            </a:xfrm>
            <a:custGeom>
              <a:avLst/>
              <a:gdLst>
                <a:gd name="textAreaLeft" fmla="*/ 0 w 67680"/>
                <a:gd name="textAreaRight" fmla="*/ 68040 w 67680"/>
                <a:gd name="textAreaTop" fmla="*/ 0 h 84600"/>
                <a:gd name="textAreaBottom" fmla="*/ 84960 h 84600"/>
              </a:gdLst>
              <a:ahLst/>
              <a:rect l="textAreaLeft" t="textAreaTop" r="textAreaRight" b="textAreaBottom"/>
              <a:pathLst>
                <a:path w="67901" h="84876">
                  <a:moveTo>
                    <a:pt x="43287" y="12732"/>
                  </a:moveTo>
                  <a:lnTo>
                    <a:pt x="17824" y="44985"/>
                  </a:lnTo>
                  <a:lnTo>
                    <a:pt x="12732" y="85726"/>
                  </a:lnTo>
                  <a:cubicBezTo>
                    <a:pt x="33102" y="85726"/>
                    <a:pt x="51775" y="70448"/>
                    <a:pt x="55170" y="48380"/>
                  </a:cubicBezTo>
                  <a:cubicBezTo>
                    <a:pt x="56867" y="34800"/>
                    <a:pt x="51775" y="22917"/>
                    <a:pt x="43287" y="12732"/>
                  </a:cubicBezTo>
                  <a:close/>
                </a:path>
              </a:pathLst>
            </a:custGeom>
            <a:solidFill>
              <a:srgbClr val="7e85d6"/>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302" name="任意多边形: 形状 394"/>
            <p:cNvSpPr/>
            <p:nvPr/>
          </p:nvSpPr>
          <p:spPr>
            <a:xfrm>
              <a:off x="6196680" y="2104920"/>
              <a:ext cx="84600" cy="101520"/>
            </a:xfrm>
            <a:custGeom>
              <a:avLst/>
              <a:gdLst>
                <a:gd name="textAreaLeft" fmla="*/ 0 w 84600"/>
                <a:gd name="textAreaRight" fmla="*/ 84960 w 84600"/>
                <a:gd name="textAreaTop" fmla="*/ 0 h 101520"/>
                <a:gd name="textAreaBottom" fmla="*/ 101880 h 101520"/>
              </a:gdLst>
              <a:ahLst/>
              <a:rect l="textAreaLeft" t="textAreaTop" r="textAreaRight" b="textAreaBottom"/>
              <a:pathLst>
                <a:path w="84876" h="101852">
                  <a:moveTo>
                    <a:pt x="43807" y="98041"/>
                  </a:moveTo>
                  <a:lnTo>
                    <a:pt x="50597" y="53905"/>
                  </a:lnTo>
                  <a:lnTo>
                    <a:pt x="77758" y="18257"/>
                  </a:lnTo>
                  <a:cubicBezTo>
                    <a:pt x="72665" y="14862"/>
                    <a:pt x="67573" y="13164"/>
                    <a:pt x="62480" y="13164"/>
                  </a:cubicBezTo>
                  <a:cubicBezTo>
                    <a:pt x="38714" y="9769"/>
                    <a:pt x="16647" y="26744"/>
                    <a:pt x="13251" y="50510"/>
                  </a:cubicBezTo>
                  <a:cubicBezTo>
                    <a:pt x="9856" y="72578"/>
                    <a:pt x="23437" y="92948"/>
                    <a:pt x="43807" y="98041"/>
                  </a:cubicBezTo>
                  <a:close/>
                </a:path>
              </a:pathLst>
            </a:custGeom>
            <a:solidFill>
              <a:srgbClr val="e2846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03" name="任意多边形: 形状 395"/>
            <p:cNvSpPr/>
            <p:nvPr/>
          </p:nvSpPr>
          <p:spPr>
            <a:xfrm>
              <a:off x="6388200" y="1945800"/>
              <a:ext cx="509040" cy="695880"/>
            </a:xfrm>
            <a:custGeom>
              <a:avLst/>
              <a:gdLst>
                <a:gd name="textAreaLeft" fmla="*/ 0 w 509040"/>
                <a:gd name="textAreaRight" fmla="*/ 509400 w 509040"/>
                <a:gd name="textAreaTop" fmla="*/ 0 h 695880"/>
                <a:gd name="textAreaBottom" fmla="*/ 696240 h 695880"/>
              </a:gdLst>
              <a:ahLst/>
              <a:rect l="textAreaLeft" t="textAreaTop" r="textAreaRight" b="textAreaBottom"/>
              <a:pathLst>
                <a:path w="509260" h="695989">
                  <a:moveTo>
                    <a:pt x="14273" y="67692"/>
                  </a:moveTo>
                  <a:lnTo>
                    <a:pt x="423310" y="14273"/>
                  </a:lnTo>
                  <a:lnTo>
                    <a:pt x="503548" y="628670"/>
                  </a:lnTo>
                  <a:lnTo>
                    <a:pt x="94512" y="682088"/>
                  </a:lnTo>
                  <a:lnTo>
                    <a:pt x="14273" y="67692"/>
                  </a:lnTo>
                  <a:close/>
                </a:path>
              </a:pathLst>
            </a:custGeom>
            <a:solidFill>
              <a:srgbClr val="477e8a"/>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04" name="任意多边形: 形状 396"/>
            <p:cNvSpPr/>
            <p:nvPr/>
          </p:nvSpPr>
          <p:spPr>
            <a:xfrm>
              <a:off x="6412680" y="1940760"/>
              <a:ext cx="542880" cy="712800"/>
            </a:xfrm>
            <a:custGeom>
              <a:avLst/>
              <a:gdLst>
                <a:gd name="textAreaLeft" fmla="*/ 0 w 542880"/>
                <a:gd name="textAreaRight" fmla="*/ 543240 w 542880"/>
                <a:gd name="textAreaTop" fmla="*/ 0 h 712800"/>
                <a:gd name="textAreaBottom" fmla="*/ 713160 h 712800"/>
              </a:gdLst>
              <a:ahLst/>
              <a:rect l="textAreaLeft" t="textAreaTop" r="textAreaRight" b="textAreaBottom"/>
              <a:pathLst>
                <a:path w="543211" h="712965">
                  <a:moveTo>
                    <a:pt x="533875" y="615357"/>
                  </a:moveTo>
                  <a:lnTo>
                    <a:pt x="396375" y="12732"/>
                  </a:lnTo>
                  <a:lnTo>
                    <a:pt x="68750" y="85726"/>
                  </a:lnTo>
                  <a:lnTo>
                    <a:pt x="12732" y="180788"/>
                  </a:lnTo>
                  <a:lnTo>
                    <a:pt x="131559" y="707024"/>
                  </a:lnTo>
                  <a:lnTo>
                    <a:pt x="533875" y="61535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05" name="任意多边形: 形状 397"/>
            <p:cNvSpPr/>
            <p:nvPr/>
          </p:nvSpPr>
          <p:spPr>
            <a:xfrm>
              <a:off x="6412680" y="2013480"/>
              <a:ext cx="84600" cy="118800"/>
            </a:xfrm>
            <a:custGeom>
              <a:avLst/>
              <a:gdLst>
                <a:gd name="textAreaLeft" fmla="*/ 0 w 84600"/>
                <a:gd name="textAreaRight" fmla="*/ 84960 w 84600"/>
                <a:gd name="textAreaTop" fmla="*/ 0 h 118800"/>
                <a:gd name="textAreaBottom" fmla="*/ 119160 h 118800"/>
              </a:gdLst>
              <a:ahLst/>
              <a:rect l="textAreaLeft" t="textAreaTop" r="textAreaRight" b="textAreaBottom"/>
              <a:pathLst>
                <a:path w="84876" h="118827">
                  <a:moveTo>
                    <a:pt x="87423" y="90818"/>
                  </a:moveTo>
                  <a:lnTo>
                    <a:pt x="12732" y="107794"/>
                  </a:lnTo>
                  <a:lnTo>
                    <a:pt x="68750" y="12732"/>
                  </a:lnTo>
                  <a:lnTo>
                    <a:pt x="87423" y="90818"/>
                  </a:lnTo>
                  <a:close/>
                </a:path>
              </a:pathLst>
            </a:custGeom>
            <a:solidFill>
              <a:srgbClr val="f1f1f1"/>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06" name="任意多边形: 形状 398"/>
            <p:cNvSpPr/>
            <p:nvPr/>
          </p:nvSpPr>
          <p:spPr>
            <a:xfrm>
              <a:off x="6561360" y="2147760"/>
              <a:ext cx="118800" cy="186480"/>
            </a:xfrm>
            <a:custGeom>
              <a:avLst/>
              <a:gdLst>
                <a:gd name="textAreaLeft" fmla="*/ 0 w 118800"/>
                <a:gd name="textAreaRight" fmla="*/ 119160 w 118800"/>
                <a:gd name="textAreaTop" fmla="*/ 0 h 186480"/>
                <a:gd name="textAreaBottom" fmla="*/ 186840 h 186480"/>
              </a:gdLst>
              <a:ahLst/>
              <a:rect l="textAreaLeft" t="textAreaTop" r="textAreaRight" b="textAreaBottom"/>
              <a:pathLst>
                <a:path w="118827" h="186729">
                  <a:moveTo>
                    <a:pt x="15090" y="117979"/>
                  </a:moveTo>
                  <a:cubicBezTo>
                    <a:pt x="25276" y="165510"/>
                    <a:pt x="71109" y="196065"/>
                    <a:pt x="118640" y="189275"/>
                  </a:cubicBezTo>
                  <a:lnTo>
                    <a:pt x="98270" y="99306"/>
                  </a:lnTo>
                  <a:lnTo>
                    <a:pt x="67714" y="12732"/>
                  </a:lnTo>
                  <a:cubicBezTo>
                    <a:pt x="28671" y="29707"/>
                    <a:pt x="4905" y="73843"/>
                    <a:pt x="15090" y="117979"/>
                  </a:cubicBez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07" name="任意多边形: 形状 399"/>
            <p:cNvSpPr/>
            <p:nvPr/>
          </p:nvSpPr>
          <p:spPr>
            <a:xfrm>
              <a:off x="6663960" y="2239560"/>
              <a:ext cx="101520" cy="101520"/>
            </a:xfrm>
            <a:custGeom>
              <a:avLst/>
              <a:gdLst>
                <a:gd name="textAreaLeft" fmla="*/ 0 w 101520"/>
                <a:gd name="textAreaRight" fmla="*/ 101880 w 101520"/>
                <a:gd name="textAreaTop" fmla="*/ 0 h 101520"/>
                <a:gd name="textAreaBottom" fmla="*/ 101880 h 101520"/>
              </a:gdLst>
              <a:ahLst/>
              <a:rect l="textAreaLeft" t="textAreaTop" r="textAreaRight" b="textAreaBottom"/>
              <a:pathLst>
                <a:path w="101852" h="101852">
                  <a:moveTo>
                    <a:pt x="31404" y="95911"/>
                  </a:moveTo>
                  <a:cubicBezTo>
                    <a:pt x="68750" y="84028"/>
                    <a:pt x="94213" y="50077"/>
                    <a:pt x="95911" y="12732"/>
                  </a:cubicBezTo>
                  <a:lnTo>
                    <a:pt x="12732" y="14429"/>
                  </a:lnTo>
                  <a:lnTo>
                    <a:pt x="31404" y="95911"/>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08" name="任意多边形: 形状 400"/>
            <p:cNvSpPr/>
            <p:nvPr/>
          </p:nvSpPr>
          <p:spPr>
            <a:xfrm>
              <a:off x="6631920" y="2140200"/>
              <a:ext cx="135720" cy="101520"/>
            </a:xfrm>
            <a:custGeom>
              <a:avLst/>
              <a:gdLst>
                <a:gd name="textAreaLeft" fmla="*/ 0 w 135720"/>
                <a:gd name="textAreaRight" fmla="*/ 136080 w 135720"/>
                <a:gd name="textAreaTop" fmla="*/ 0 h 101520"/>
                <a:gd name="textAreaBottom" fmla="*/ 101880 h 101520"/>
              </a:gdLst>
              <a:ahLst/>
              <a:rect l="textAreaLeft" t="textAreaTop" r="textAreaRight" b="textAreaBottom"/>
              <a:pathLst>
                <a:path w="135802" h="101852">
                  <a:moveTo>
                    <a:pt x="128164" y="95075"/>
                  </a:moveTo>
                  <a:cubicBezTo>
                    <a:pt x="128164" y="91680"/>
                    <a:pt x="126467" y="88285"/>
                    <a:pt x="126467" y="84890"/>
                  </a:cubicBezTo>
                  <a:cubicBezTo>
                    <a:pt x="114584" y="33964"/>
                    <a:pt x="65355" y="3408"/>
                    <a:pt x="14429" y="15291"/>
                  </a:cubicBezTo>
                  <a:cubicBezTo>
                    <a:pt x="12732" y="15291"/>
                    <a:pt x="12732" y="15291"/>
                    <a:pt x="12732" y="15291"/>
                  </a:cubicBezTo>
                  <a:lnTo>
                    <a:pt x="41590" y="98470"/>
                  </a:lnTo>
                  <a:lnTo>
                    <a:pt x="128164" y="95075"/>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09" name="任意多边形: 形状 401"/>
            <p:cNvSpPr/>
            <p:nvPr/>
          </p:nvSpPr>
          <p:spPr>
            <a:xfrm>
              <a:off x="6492600" y="2142720"/>
              <a:ext cx="118800" cy="50760"/>
            </a:xfrm>
            <a:custGeom>
              <a:avLst/>
              <a:gdLst>
                <a:gd name="textAreaLeft" fmla="*/ 0 w 118800"/>
                <a:gd name="textAreaRight" fmla="*/ 119160 w 118800"/>
                <a:gd name="textAreaTop" fmla="*/ 0 h 50760"/>
                <a:gd name="textAreaBottom" fmla="*/ 51120 h 50760"/>
              </a:gdLst>
              <a:ahLst/>
              <a:rect l="textAreaLeft" t="textAreaTop" r="textAreaRight" b="textAreaBottom"/>
              <a:pathLst>
                <a:path w="118827" h="50926">
                  <a:moveTo>
                    <a:pt x="15229" y="34729"/>
                  </a:moveTo>
                  <a:lnTo>
                    <a:pt x="101321" y="15229"/>
                  </a:lnTo>
                  <a:lnTo>
                    <a:pt x="105071" y="31785"/>
                  </a:lnTo>
                  <a:lnTo>
                    <a:pt x="18979" y="51285"/>
                  </a:lnTo>
                  <a:lnTo>
                    <a:pt x="15229" y="34729"/>
                  </a:ln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10" name="任意多边形: 形状 402"/>
            <p:cNvSpPr/>
            <p:nvPr/>
          </p:nvSpPr>
          <p:spPr>
            <a:xfrm>
              <a:off x="6678000" y="2101680"/>
              <a:ext cx="118800" cy="50760"/>
            </a:xfrm>
            <a:custGeom>
              <a:avLst/>
              <a:gdLst>
                <a:gd name="textAreaLeft" fmla="*/ 0 w 118800"/>
                <a:gd name="textAreaRight" fmla="*/ 119160 w 118800"/>
                <a:gd name="textAreaTop" fmla="*/ 0 h 50760"/>
                <a:gd name="textAreaBottom" fmla="*/ 51120 h 50760"/>
              </a:gdLst>
              <a:ahLst/>
              <a:rect l="textAreaLeft" t="textAreaTop" r="textAreaRight" b="textAreaBottom"/>
              <a:pathLst>
                <a:path w="118827" h="50926">
                  <a:moveTo>
                    <a:pt x="15229" y="34729"/>
                  </a:moveTo>
                  <a:lnTo>
                    <a:pt x="101321" y="15230"/>
                  </a:lnTo>
                  <a:lnTo>
                    <a:pt x="105071" y="31786"/>
                  </a:lnTo>
                  <a:lnTo>
                    <a:pt x="18979" y="51285"/>
                  </a:lnTo>
                  <a:lnTo>
                    <a:pt x="15229" y="34729"/>
                  </a:ln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11" name="任意多边形: 形状 403"/>
            <p:cNvSpPr/>
            <p:nvPr/>
          </p:nvSpPr>
          <p:spPr>
            <a:xfrm>
              <a:off x="6720120" y="2292120"/>
              <a:ext cx="118800" cy="50760"/>
            </a:xfrm>
            <a:custGeom>
              <a:avLst/>
              <a:gdLst>
                <a:gd name="textAreaLeft" fmla="*/ 0 w 118800"/>
                <a:gd name="textAreaRight" fmla="*/ 119160 w 118800"/>
                <a:gd name="textAreaTop" fmla="*/ 0 h 50760"/>
                <a:gd name="textAreaBottom" fmla="*/ 51120 h 50760"/>
              </a:gdLst>
              <a:ahLst/>
              <a:rect l="textAreaLeft" t="textAreaTop" r="textAreaRight" b="textAreaBottom"/>
              <a:pathLst>
                <a:path w="118827" h="50926">
                  <a:moveTo>
                    <a:pt x="15229" y="34729"/>
                  </a:moveTo>
                  <a:lnTo>
                    <a:pt x="101321" y="15229"/>
                  </a:lnTo>
                  <a:lnTo>
                    <a:pt x="105071" y="31786"/>
                  </a:lnTo>
                  <a:lnTo>
                    <a:pt x="18979" y="51285"/>
                  </a:lnTo>
                  <a:lnTo>
                    <a:pt x="15229" y="34729"/>
                  </a:ln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12" name="任意多边形: 形状 404"/>
            <p:cNvSpPr/>
            <p:nvPr/>
          </p:nvSpPr>
          <p:spPr>
            <a:xfrm>
              <a:off x="6595920" y="2493720"/>
              <a:ext cx="254520" cy="84600"/>
            </a:xfrm>
            <a:custGeom>
              <a:avLst/>
              <a:gdLst>
                <a:gd name="textAreaLeft" fmla="*/ 0 w 254520"/>
                <a:gd name="textAreaRight" fmla="*/ 254880 w 254520"/>
                <a:gd name="textAreaTop" fmla="*/ 0 h 84600"/>
                <a:gd name="textAreaBottom" fmla="*/ 84960 h 84600"/>
              </a:gdLst>
              <a:ahLst/>
              <a:rect l="textAreaLeft" t="textAreaTop" r="textAreaRight" b="textAreaBottom"/>
              <a:pathLst>
                <a:path w="254630" h="84876">
                  <a:moveTo>
                    <a:pt x="15229" y="66228"/>
                  </a:moveTo>
                  <a:lnTo>
                    <a:pt x="240392" y="15230"/>
                  </a:lnTo>
                  <a:lnTo>
                    <a:pt x="244892" y="35097"/>
                  </a:lnTo>
                  <a:lnTo>
                    <a:pt x="19729" y="86095"/>
                  </a:lnTo>
                  <a:lnTo>
                    <a:pt x="15229" y="66228"/>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313" name="任意多边形: 形状 405"/>
            <p:cNvSpPr/>
            <p:nvPr/>
          </p:nvSpPr>
          <p:spPr>
            <a:xfrm>
              <a:off x="6570360" y="2453040"/>
              <a:ext cx="271440" cy="84600"/>
            </a:xfrm>
            <a:custGeom>
              <a:avLst/>
              <a:gdLst>
                <a:gd name="textAreaLeft" fmla="*/ 0 w 271440"/>
                <a:gd name="textAreaRight" fmla="*/ 271800 w 271440"/>
                <a:gd name="textAreaTop" fmla="*/ 0 h 84600"/>
                <a:gd name="textAreaBottom" fmla="*/ 84960 h 84600"/>
              </a:gdLst>
              <a:ahLst/>
              <a:rect l="textAreaLeft" t="textAreaTop" r="textAreaRight" b="textAreaBottom"/>
              <a:pathLst>
                <a:path w="271605" h="84876">
                  <a:moveTo>
                    <a:pt x="15229" y="72227"/>
                  </a:moveTo>
                  <a:lnTo>
                    <a:pt x="266882" y="15229"/>
                  </a:lnTo>
                  <a:lnTo>
                    <a:pt x="269132" y="25163"/>
                  </a:lnTo>
                  <a:lnTo>
                    <a:pt x="17479" y="82161"/>
                  </a:lnTo>
                  <a:lnTo>
                    <a:pt x="15229" y="72227"/>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314" name="任意多边形: 形状 406"/>
            <p:cNvSpPr/>
            <p:nvPr/>
          </p:nvSpPr>
          <p:spPr>
            <a:xfrm>
              <a:off x="6563880" y="2423520"/>
              <a:ext cx="305280" cy="101520"/>
            </a:xfrm>
            <a:custGeom>
              <a:avLst/>
              <a:gdLst>
                <a:gd name="textAreaLeft" fmla="*/ 0 w 305280"/>
                <a:gd name="textAreaRight" fmla="*/ 305640 w 305280"/>
                <a:gd name="textAreaTop" fmla="*/ 0 h 101520"/>
                <a:gd name="textAreaBottom" fmla="*/ 101880 h 101520"/>
              </a:gdLst>
              <a:ahLst/>
              <a:rect l="textAreaLeft" t="textAreaTop" r="textAreaRight" b="textAreaBottom"/>
              <a:pathLst>
                <a:path w="305556" h="101852">
                  <a:moveTo>
                    <a:pt x="15229" y="77102"/>
                  </a:moveTo>
                  <a:lnTo>
                    <a:pt x="288405" y="15229"/>
                  </a:lnTo>
                  <a:lnTo>
                    <a:pt x="290655" y="25163"/>
                  </a:lnTo>
                  <a:lnTo>
                    <a:pt x="17479" y="87036"/>
                  </a:lnTo>
                  <a:lnTo>
                    <a:pt x="15229" y="77102"/>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15" name="任意多边形: 形状 407"/>
            <p:cNvSpPr/>
            <p:nvPr/>
          </p:nvSpPr>
          <p:spPr>
            <a:xfrm>
              <a:off x="6558480" y="2397960"/>
              <a:ext cx="305280" cy="101520"/>
            </a:xfrm>
            <a:custGeom>
              <a:avLst/>
              <a:gdLst>
                <a:gd name="textAreaLeft" fmla="*/ 0 w 305280"/>
                <a:gd name="textAreaRight" fmla="*/ 305640 w 305280"/>
                <a:gd name="textAreaTop" fmla="*/ 0 h 101520"/>
                <a:gd name="textAreaBottom" fmla="*/ 101880 h 101520"/>
              </a:gdLst>
              <a:ahLst/>
              <a:rect l="textAreaLeft" t="textAreaTop" r="textAreaRight" b="textAreaBottom"/>
              <a:pathLst>
                <a:path w="305556" h="101852">
                  <a:moveTo>
                    <a:pt x="15229" y="77102"/>
                  </a:moveTo>
                  <a:lnTo>
                    <a:pt x="288405" y="15229"/>
                  </a:lnTo>
                  <a:lnTo>
                    <a:pt x="290655" y="25163"/>
                  </a:lnTo>
                  <a:lnTo>
                    <a:pt x="17479" y="87036"/>
                  </a:lnTo>
                  <a:lnTo>
                    <a:pt x="15229" y="77102"/>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16" name="任意多边形: 形状 408"/>
            <p:cNvSpPr/>
            <p:nvPr/>
          </p:nvSpPr>
          <p:spPr>
            <a:xfrm>
              <a:off x="6551640" y="2372760"/>
              <a:ext cx="305280" cy="101520"/>
            </a:xfrm>
            <a:custGeom>
              <a:avLst/>
              <a:gdLst>
                <a:gd name="textAreaLeft" fmla="*/ 0 w 305280"/>
                <a:gd name="textAreaRight" fmla="*/ 305640 w 305280"/>
                <a:gd name="textAreaTop" fmla="*/ 0 h 101520"/>
                <a:gd name="textAreaBottom" fmla="*/ 101880 h 101520"/>
              </a:gdLst>
              <a:ahLst/>
              <a:rect l="textAreaLeft" t="textAreaTop" r="textAreaRight" b="textAreaBottom"/>
              <a:pathLst>
                <a:path w="305556" h="101852">
                  <a:moveTo>
                    <a:pt x="15229" y="77102"/>
                  </a:moveTo>
                  <a:lnTo>
                    <a:pt x="288405" y="15229"/>
                  </a:lnTo>
                  <a:lnTo>
                    <a:pt x="290655" y="25163"/>
                  </a:lnTo>
                  <a:lnTo>
                    <a:pt x="17479" y="87036"/>
                  </a:lnTo>
                  <a:lnTo>
                    <a:pt x="15229" y="77102"/>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17" name="任意多边形: 形状 409"/>
            <p:cNvSpPr/>
            <p:nvPr/>
          </p:nvSpPr>
          <p:spPr>
            <a:xfrm>
              <a:off x="6546960" y="2349000"/>
              <a:ext cx="305280" cy="101520"/>
            </a:xfrm>
            <a:custGeom>
              <a:avLst/>
              <a:gdLst>
                <a:gd name="textAreaLeft" fmla="*/ 0 w 305280"/>
                <a:gd name="textAreaRight" fmla="*/ 305640 w 305280"/>
                <a:gd name="textAreaTop" fmla="*/ 0 h 101520"/>
                <a:gd name="textAreaBottom" fmla="*/ 101880 h 101520"/>
              </a:gdLst>
              <a:ahLst/>
              <a:rect l="textAreaLeft" t="textAreaTop" r="textAreaRight" b="textAreaBottom"/>
              <a:pathLst>
                <a:path w="305556" h="101852">
                  <a:moveTo>
                    <a:pt x="15229" y="77102"/>
                  </a:moveTo>
                  <a:lnTo>
                    <a:pt x="288405" y="15229"/>
                  </a:lnTo>
                  <a:lnTo>
                    <a:pt x="290655" y="25163"/>
                  </a:lnTo>
                  <a:lnTo>
                    <a:pt x="17479" y="87036"/>
                  </a:lnTo>
                  <a:lnTo>
                    <a:pt x="15229" y="77102"/>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18" name="任意多边形: 形状 410"/>
            <p:cNvSpPr/>
            <p:nvPr/>
          </p:nvSpPr>
          <p:spPr>
            <a:xfrm>
              <a:off x="7826760" y="1967760"/>
              <a:ext cx="967320" cy="662040"/>
            </a:xfrm>
            <a:custGeom>
              <a:avLst/>
              <a:gdLst>
                <a:gd name="textAreaLeft" fmla="*/ 0 w 967320"/>
                <a:gd name="textAreaRight" fmla="*/ 967680 w 967320"/>
                <a:gd name="textAreaTop" fmla="*/ 0 h 662040"/>
                <a:gd name="textAreaBottom" fmla="*/ 662040 h 662040"/>
              </a:gdLst>
              <a:ahLst/>
              <a:rect l="textAreaLeft" t="textAreaTop" r="textAreaRight" b="textAreaBottom"/>
              <a:pathLst>
                <a:path w="967595" h="662039">
                  <a:moveTo>
                    <a:pt x="12732" y="12731"/>
                  </a:moveTo>
                  <a:lnTo>
                    <a:pt x="958259" y="12731"/>
                  </a:lnTo>
                  <a:lnTo>
                    <a:pt x="958259" y="656098"/>
                  </a:lnTo>
                  <a:lnTo>
                    <a:pt x="12732" y="656098"/>
                  </a:lnTo>
                  <a:lnTo>
                    <a:pt x="12732" y="12731"/>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19" name="任意多边形: 形状 411"/>
            <p:cNvSpPr/>
            <p:nvPr/>
          </p:nvSpPr>
          <p:spPr>
            <a:xfrm>
              <a:off x="7862400" y="1998360"/>
              <a:ext cx="899640" cy="594000"/>
            </a:xfrm>
            <a:custGeom>
              <a:avLst/>
              <a:gdLst>
                <a:gd name="textAreaLeft" fmla="*/ 0 w 899640"/>
                <a:gd name="textAreaRight" fmla="*/ 900000 w 899640"/>
                <a:gd name="textAreaTop" fmla="*/ 0 h 594000"/>
                <a:gd name="textAreaBottom" fmla="*/ 594360 h 594000"/>
              </a:gdLst>
              <a:ahLst/>
              <a:rect l="textAreaLeft" t="textAreaTop" r="textAreaRight" b="textAreaBottom"/>
              <a:pathLst>
                <a:path w="899694" h="594137">
                  <a:moveTo>
                    <a:pt x="12731" y="12732"/>
                  </a:moveTo>
                  <a:lnTo>
                    <a:pt x="888660" y="12732"/>
                  </a:lnTo>
                  <a:lnTo>
                    <a:pt x="888660" y="594987"/>
                  </a:lnTo>
                  <a:lnTo>
                    <a:pt x="12731" y="594987"/>
                  </a:lnTo>
                  <a:lnTo>
                    <a:pt x="12731" y="12732"/>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0" name="任意多边形: 形状 412"/>
            <p:cNvSpPr/>
            <p:nvPr/>
          </p:nvSpPr>
          <p:spPr>
            <a:xfrm>
              <a:off x="8286840" y="1998360"/>
              <a:ext cx="50760" cy="594000"/>
            </a:xfrm>
            <a:custGeom>
              <a:avLst/>
              <a:gdLst>
                <a:gd name="textAreaLeft" fmla="*/ 0 w 50760"/>
                <a:gd name="textAreaRight" fmla="*/ 51120 w 50760"/>
                <a:gd name="textAreaTop" fmla="*/ 0 h 594000"/>
                <a:gd name="textAreaBottom" fmla="*/ 594360 h 594000"/>
              </a:gdLst>
              <a:ahLst/>
              <a:rect l="textAreaLeft" t="textAreaTop" r="textAreaRight" b="textAreaBottom"/>
              <a:pathLst>
                <a:path w="50926" h="594137">
                  <a:moveTo>
                    <a:pt x="12731" y="12732"/>
                  </a:moveTo>
                  <a:lnTo>
                    <a:pt x="39892" y="12732"/>
                  </a:lnTo>
                  <a:lnTo>
                    <a:pt x="39892" y="594987"/>
                  </a:lnTo>
                  <a:lnTo>
                    <a:pt x="12731" y="594987"/>
                  </a:lnTo>
                  <a:lnTo>
                    <a:pt x="12731" y="12732"/>
                  </a:ln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1" name="任意多边形: 形状 413"/>
            <p:cNvSpPr/>
            <p:nvPr/>
          </p:nvSpPr>
          <p:spPr>
            <a:xfrm>
              <a:off x="7706520" y="933120"/>
              <a:ext cx="916560" cy="1256400"/>
            </a:xfrm>
            <a:custGeom>
              <a:avLst/>
              <a:gdLst>
                <a:gd name="textAreaLeft" fmla="*/ 0 w 916560"/>
                <a:gd name="textAreaRight" fmla="*/ 916920 w 916560"/>
                <a:gd name="textAreaTop" fmla="*/ 0 h 1256400"/>
                <a:gd name="textAreaBottom" fmla="*/ 1256760 h 1256400"/>
              </a:gdLst>
              <a:ahLst/>
              <a:rect l="textAreaLeft" t="textAreaTop" r="textAreaRight" b="textAreaBottom"/>
              <a:pathLst>
                <a:path w="916669" h="1256177">
                  <a:moveTo>
                    <a:pt x="127919" y="1250757"/>
                  </a:moveTo>
                  <a:cubicBezTo>
                    <a:pt x="109246" y="1191343"/>
                    <a:pt x="-57113" y="671897"/>
                    <a:pt x="46437" y="424056"/>
                  </a:cubicBezTo>
                  <a:cubicBezTo>
                    <a:pt x="233166" y="-19001"/>
                    <a:pt x="878230" y="13252"/>
                    <a:pt x="905390" y="13252"/>
                  </a:cubicBezTo>
                  <a:lnTo>
                    <a:pt x="895205" y="188099"/>
                  </a:lnTo>
                  <a:cubicBezTo>
                    <a:pt x="890112" y="188099"/>
                    <a:pt x="345203" y="162636"/>
                    <a:pt x="207703" y="491958"/>
                  </a:cubicBezTo>
                  <a:cubicBezTo>
                    <a:pt x="148289" y="632853"/>
                    <a:pt x="229771" y="999521"/>
                    <a:pt x="294277" y="1196435"/>
                  </a:cubicBezTo>
                  <a:lnTo>
                    <a:pt x="127919" y="1250757"/>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2" name="任意多边形: 形状 414"/>
            <p:cNvSpPr/>
            <p:nvPr/>
          </p:nvSpPr>
          <p:spPr>
            <a:xfrm>
              <a:off x="9043920" y="1037160"/>
              <a:ext cx="424080" cy="1290240"/>
            </a:xfrm>
            <a:custGeom>
              <a:avLst/>
              <a:gdLst>
                <a:gd name="textAreaLeft" fmla="*/ 0 w 424080"/>
                <a:gd name="textAreaRight" fmla="*/ 424440 w 424080"/>
                <a:gd name="textAreaTop" fmla="*/ 0 h 1290240"/>
                <a:gd name="textAreaBottom" fmla="*/ 1290600 h 1290240"/>
              </a:gdLst>
              <a:ahLst/>
              <a:rect l="textAreaLeft" t="textAreaTop" r="textAreaRight" b="textAreaBottom"/>
              <a:pathLst>
                <a:path w="424384" h="1290127">
                  <a:moveTo>
                    <a:pt x="170602" y="1280791"/>
                  </a:moveTo>
                  <a:lnTo>
                    <a:pt x="12732" y="1206100"/>
                  </a:lnTo>
                  <a:cubicBezTo>
                    <a:pt x="80633" y="1061809"/>
                    <a:pt x="182485" y="837734"/>
                    <a:pt x="194368" y="796993"/>
                  </a:cubicBezTo>
                  <a:cubicBezTo>
                    <a:pt x="196066" y="793598"/>
                    <a:pt x="196066" y="788506"/>
                    <a:pt x="197763" y="783413"/>
                  </a:cubicBezTo>
                  <a:cubicBezTo>
                    <a:pt x="296220" y="457486"/>
                    <a:pt x="235109" y="253782"/>
                    <a:pt x="16127" y="177393"/>
                  </a:cubicBezTo>
                  <a:lnTo>
                    <a:pt x="72145" y="12732"/>
                  </a:lnTo>
                  <a:cubicBezTo>
                    <a:pt x="384492" y="119676"/>
                    <a:pt x="491437" y="418443"/>
                    <a:pt x="365819" y="834339"/>
                  </a:cubicBezTo>
                  <a:lnTo>
                    <a:pt x="362424" y="846222"/>
                  </a:lnTo>
                  <a:cubicBezTo>
                    <a:pt x="343751" y="914123"/>
                    <a:pt x="199461" y="1219680"/>
                    <a:pt x="170602" y="1280791"/>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3" name="任意多边形: 形状 415"/>
            <p:cNvSpPr/>
            <p:nvPr/>
          </p:nvSpPr>
          <p:spPr>
            <a:xfrm>
              <a:off x="7677360" y="906480"/>
              <a:ext cx="1816200" cy="984600"/>
            </a:xfrm>
            <a:custGeom>
              <a:avLst/>
              <a:gdLst>
                <a:gd name="textAreaLeft" fmla="*/ 0 w 1816200"/>
                <a:gd name="textAreaRight" fmla="*/ 1816560 w 1816200"/>
                <a:gd name="textAreaTop" fmla="*/ 0 h 984600"/>
                <a:gd name="textAreaBottom" fmla="*/ 984960 h 984600"/>
              </a:gdLst>
              <a:ahLst/>
              <a:rect l="textAreaLeft" t="textAreaTop" r="textAreaRight" b="textAreaBottom"/>
              <a:pathLst>
                <a:path w="1816364" h="984571">
                  <a:moveTo>
                    <a:pt x="26497" y="844524"/>
                  </a:moveTo>
                  <a:lnTo>
                    <a:pt x="257361" y="812271"/>
                  </a:lnTo>
                  <a:cubicBezTo>
                    <a:pt x="233596" y="637425"/>
                    <a:pt x="250571" y="561036"/>
                    <a:pt x="264152" y="530480"/>
                  </a:cubicBezTo>
                  <a:cubicBezTo>
                    <a:pt x="291312" y="464276"/>
                    <a:pt x="337146" y="415048"/>
                    <a:pt x="391467" y="376004"/>
                  </a:cubicBezTo>
                  <a:cubicBezTo>
                    <a:pt x="410140" y="550851"/>
                    <a:pt x="691931" y="690049"/>
                    <a:pt x="1034833" y="690049"/>
                  </a:cubicBezTo>
                  <a:cubicBezTo>
                    <a:pt x="1258908" y="690049"/>
                    <a:pt x="1457520" y="630635"/>
                    <a:pt x="1572952" y="540665"/>
                  </a:cubicBezTo>
                  <a:cubicBezTo>
                    <a:pt x="1593323" y="623845"/>
                    <a:pt x="1589928" y="739277"/>
                    <a:pt x="1539002" y="905636"/>
                  </a:cubicBezTo>
                  <a:cubicBezTo>
                    <a:pt x="1537304" y="910728"/>
                    <a:pt x="1535607" y="915821"/>
                    <a:pt x="1535607" y="919216"/>
                  </a:cubicBezTo>
                  <a:lnTo>
                    <a:pt x="1759682" y="983722"/>
                  </a:lnTo>
                  <a:lnTo>
                    <a:pt x="1763076" y="973537"/>
                  </a:lnTo>
                  <a:cubicBezTo>
                    <a:pt x="1876812" y="598382"/>
                    <a:pt x="1805515" y="313196"/>
                    <a:pt x="1569557" y="170602"/>
                  </a:cubicBezTo>
                  <a:cubicBezTo>
                    <a:pt x="1454125" y="82330"/>
                    <a:pt x="1257211" y="24614"/>
                    <a:pt x="1034833" y="24614"/>
                  </a:cubicBezTo>
                  <a:cubicBezTo>
                    <a:pt x="1000882" y="24614"/>
                    <a:pt x="968629" y="26312"/>
                    <a:pt x="936376" y="28009"/>
                  </a:cubicBezTo>
                  <a:lnTo>
                    <a:pt x="936376" y="14429"/>
                  </a:lnTo>
                  <a:cubicBezTo>
                    <a:pt x="932981" y="14429"/>
                    <a:pt x="916006" y="12732"/>
                    <a:pt x="890543" y="12732"/>
                  </a:cubicBezTo>
                  <a:cubicBezTo>
                    <a:pt x="730974" y="12732"/>
                    <a:pt x="216621" y="44985"/>
                    <a:pt x="48564" y="442208"/>
                  </a:cubicBezTo>
                  <a:cubicBezTo>
                    <a:pt x="9521" y="533875"/>
                    <a:pt x="2731" y="666283"/>
                    <a:pt x="26497" y="8445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4" name="任意多边形: 形状 416"/>
            <p:cNvSpPr/>
            <p:nvPr/>
          </p:nvSpPr>
          <p:spPr>
            <a:xfrm>
              <a:off x="8893080" y="2109960"/>
              <a:ext cx="373320" cy="458280"/>
            </a:xfrm>
            <a:custGeom>
              <a:avLst/>
              <a:gdLst>
                <a:gd name="textAreaLeft" fmla="*/ 0 w 373320"/>
                <a:gd name="textAreaRight" fmla="*/ 373680 w 373320"/>
                <a:gd name="textAreaTop" fmla="*/ 0 h 458280"/>
                <a:gd name="textAreaBottom" fmla="*/ 458640 h 458280"/>
              </a:gdLst>
              <a:ahLst/>
              <a:rect l="textAreaLeft" t="textAreaTop" r="textAreaRight" b="textAreaBottom"/>
              <a:pathLst>
                <a:path w="373458" h="458334">
                  <a:moveTo>
                    <a:pt x="252150" y="417398"/>
                  </a:moveTo>
                  <a:cubicBezTo>
                    <a:pt x="245360" y="429281"/>
                    <a:pt x="230082" y="432676"/>
                    <a:pt x="218199" y="425886"/>
                  </a:cubicBezTo>
                  <a:cubicBezTo>
                    <a:pt x="206316" y="419096"/>
                    <a:pt x="202921" y="403818"/>
                    <a:pt x="209711" y="391935"/>
                  </a:cubicBezTo>
                  <a:lnTo>
                    <a:pt x="258940" y="307059"/>
                  </a:lnTo>
                  <a:cubicBezTo>
                    <a:pt x="255545" y="307059"/>
                    <a:pt x="250452" y="308756"/>
                    <a:pt x="247057" y="308756"/>
                  </a:cubicBezTo>
                  <a:lnTo>
                    <a:pt x="168971" y="441164"/>
                  </a:lnTo>
                  <a:cubicBezTo>
                    <a:pt x="162180" y="453047"/>
                    <a:pt x="146903" y="456442"/>
                    <a:pt x="135020" y="449652"/>
                  </a:cubicBezTo>
                  <a:cubicBezTo>
                    <a:pt x="123137" y="442861"/>
                    <a:pt x="119742" y="427584"/>
                    <a:pt x="126532" y="415701"/>
                  </a:cubicBezTo>
                  <a:lnTo>
                    <a:pt x="192736" y="303663"/>
                  </a:lnTo>
                  <a:cubicBezTo>
                    <a:pt x="189341" y="301966"/>
                    <a:pt x="185946" y="301966"/>
                    <a:pt x="182551" y="300268"/>
                  </a:cubicBezTo>
                  <a:lnTo>
                    <a:pt x="99372" y="439466"/>
                  </a:lnTo>
                  <a:cubicBezTo>
                    <a:pt x="92582" y="451349"/>
                    <a:pt x="77304" y="454744"/>
                    <a:pt x="65421" y="447954"/>
                  </a:cubicBezTo>
                  <a:cubicBezTo>
                    <a:pt x="53538" y="441164"/>
                    <a:pt x="50143" y="425886"/>
                    <a:pt x="56933" y="414003"/>
                  </a:cubicBezTo>
                  <a:lnTo>
                    <a:pt x="138415" y="276503"/>
                  </a:lnTo>
                  <a:cubicBezTo>
                    <a:pt x="135020" y="274805"/>
                    <a:pt x="133322" y="273108"/>
                    <a:pt x="129927" y="269713"/>
                  </a:cubicBezTo>
                  <a:lnTo>
                    <a:pt x="58631" y="388540"/>
                  </a:lnTo>
                  <a:cubicBezTo>
                    <a:pt x="51840" y="400423"/>
                    <a:pt x="36563" y="403818"/>
                    <a:pt x="24680" y="397028"/>
                  </a:cubicBezTo>
                  <a:cubicBezTo>
                    <a:pt x="12797" y="390238"/>
                    <a:pt x="9402" y="374960"/>
                    <a:pt x="16192" y="363077"/>
                  </a:cubicBezTo>
                  <a:lnTo>
                    <a:pt x="97674" y="227274"/>
                  </a:lnTo>
                  <a:cubicBezTo>
                    <a:pt x="94279" y="220484"/>
                    <a:pt x="90884" y="211996"/>
                    <a:pt x="89186" y="205206"/>
                  </a:cubicBezTo>
                  <a:lnTo>
                    <a:pt x="68816" y="239157"/>
                  </a:lnTo>
                  <a:cubicBezTo>
                    <a:pt x="62026" y="251040"/>
                    <a:pt x="46748" y="254435"/>
                    <a:pt x="34865" y="247645"/>
                  </a:cubicBezTo>
                  <a:cubicBezTo>
                    <a:pt x="22982" y="240855"/>
                    <a:pt x="19587" y="225577"/>
                    <a:pt x="26377" y="213694"/>
                  </a:cubicBezTo>
                  <a:lnTo>
                    <a:pt x="107859" y="76194"/>
                  </a:lnTo>
                  <a:cubicBezTo>
                    <a:pt x="109557" y="74496"/>
                    <a:pt x="109557" y="72798"/>
                    <a:pt x="111254" y="71101"/>
                  </a:cubicBezTo>
                  <a:cubicBezTo>
                    <a:pt x="155390" y="11687"/>
                    <a:pt x="238570" y="-5288"/>
                    <a:pt x="304774" y="33755"/>
                  </a:cubicBezTo>
                  <a:cubicBezTo>
                    <a:pt x="374373" y="74496"/>
                    <a:pt x="398138" y="166163"/>
                    <a:pt x="355700" y="235762"/>
                  </a:cubicBezTo>
                  <a:cubicBezTo>
                    <a:pt x="355700" y="235762"/>
                    <a:pt x="355700" y="235762"/>
                    <a:pt x="355700" y="237460"/>
                  </a:cubicBezTo>
                  <a:cubicBezTo>
                    <a:pt x="355700" y="237460"/>
                    <a:pt x="355700" y="237460"/>
                    <a:pt x="355700" y="237460"/>
                  </a:cubicBezTo>
                  <a:lnTo>
                    <a:pt x="252150" y="417398"/>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5" name="任意多边形: 形状 417"/>
            <p:cNvSpPr/>
            <p:nvPr/>
          </p:nvSpPr>
          <p:spPr>
            <a:xfrm>
              <a:off x="7821720" y="2004480"/>
              <a:ext cx="356400" cy="509040"/>
            </a:xfrm>
            <a:custGeom>
              <a:avLst/>
              <a:gdLst>
                <a:gd name="textAreaLeft" fmla="*/ 0 w 356400"/>
                <a:gd name="textAreaRight" fmla="*/ 356760 w 356400"/>
                <a:gd name="textAreaTop" fmla="*/ 0 h 509040"/>
                <a:gd name="textAreaBottom" fmla="*/ 509400 h 509040"/>
              </a:gdLst>
              <a:ahLst/>
              <a:rect l="textAreaLeft" t="textAreaTop" r="textAreaRight" b="textAreaBottom"/>
              <a:pathLst>
                <a:path w="356482" h="509260">
                  <a:moveTo>
                    <a:pt x="16236" y="196819"/>
                  </a:moveTo>
                  <a:cubicBezTo>
                    <a:pt x="16236" y="225677"/>
                    <a:pt x="19631" y="346202"/>
                    <a:pt x="72255" y="407314"/>
                  </a:cubicBezTo>
                  <a:cubicBezTo>
                    <a:pt x="80742" y="424289"/>
                    <a:pt x="92625" y="437869"/>
                    <a:pt x="107903" y="448055"/>
                  </a:cubicBezTo>
                  <a:cubicBezTo>
                    <a:pt x="119786" y="465030"/>
                    <a:pt x="133366" y="476913"/>
                    <a:pt x="150341" y="483703"/>
                  </a:cubicBezTo>
                  <a:cubicBezTo>
                    <a:pt x="235218" y="514259"/>
                    <a:pt x="325187" y="487098"/>
                    <a:pt x="328582" y="485400"/>
                  </a:cubicBezTo>
                  <a:cubicBezTo>
                    <a:pt x="343860" y="480308"/>
                    <a:pt x="352348" y="463332"/>
                    <a:pt x="347255" y="448055"/>
                  </a:cubicBezTo>
                  <a:cubicBezTo>
                    <a:pt x="342163" y="432777"/>
                    <a:pt x="325187" y="424289"/>
                    <a:pt x="309910" y="429382"/>
                  </a:cubicBezTo>
                  <a:cubicBezTo>
                    <a:pt x="309910" y="429382"/>
                    <a:pt x="289539" y="436172"/>
                    <a:pt x="258984" y="437869"/>
                  </a:cubicBezTo>
                  <a:cubicBezTo>
                    <a:pt x="270866" y="429382"/>
                    <a:pt x="277656" y="420894"/>
                    <a:pt x="277656" y="420894"/>
                  </a:cubicBezTo>
                  <a:cubicBezTo>
                    <a:pt x="287842" y="409011"/>
                    <a:pt x="286144" y="390338"/>
                    <a:pt x="274261" y="380153"/>
                  </a:cubicBezTo>
                  <a:cubicBezTo>
                    <a:pt x="262379" y="369968"/>
                    <a:pt x="243706" y="371665"/>
                    <a:pt x="233521" y="381851"/>
                  </a:cubicBezTo>
                  <a:cubicBezTo>
                    <a:pt x="231823" y="383548"/>
                    <a:pt x="225033" y="390338"/>
                    <a:pt x="213150" y="397129"/>
                  </a:cubicBezTo>
                  <a:cubicBezTo>
                    <a:pt x="216545" y="380153"/>
                    <a:pt x="214848" y="364875"/>
                    <a:pt x="214848" y="363178"/>
                  </a:cubicBezTo>
                  <a:cubicBezTo>
                    <a:pt x="213150" y="347900"/>
                    <a:pt x="197872" y="336017"/>
                    <a:pt x="182594" y="339412"/>
                  </a:cubicBezTo>
                  <a:cubicBezTo>
                    <a:pt x="170712" y="341110"/>
                    <a:pt x="162224" y="349597"/>
                    <a:pt x="158829" y="359783"/>
                  </a:cubicBezTo>
                  <a:cubicBezTo>
                    <a:pt x="155434" y="352993"/>
                    <a:pt x="152039" y="346202"/>
                    <a:pt x="150341" y="341110"/>
                  </a:cubicBezTo>
                  <a:cubicBezTo>
                    <a:pt x="150341" y="341110"/>
                    <a:pt x="157131" y="232468"/>
                    <a:pt x="230126" y="300369"/>
                  </a:cubicBezTo>
                  <a:cubicBezTo>
                    <a:pt x="242008" y="319042"/>
                    <a:pt x="252193" y="336017"/>
                    <a:pt x="258984" y="347900"/>
                  </a:cubicBezTo>
                  <a:cubicBezTo>
                    <a:pt x="267471" y="361480"/>
                    <a:pt x="284447" y="366573"/>
                    <a:pt x="299724" y="358085"/>
                  </a:cubicBezTo>
                  <a:cubicBezTo>
                    <a:pt x="313305" y="349597"/>
                    <a:pt x="318397" y="332622"/>
                    <a:pt x="309910" y="317344"/>
                  </a:cubicBezTo>
                  <a:cubicBezTo>
                    <a:pt x="299724" y="302067"/>
                    <a:pt x="282749" y="274906"/>
                    <a:pt x="264076" y="246048"/>
                  </a:cubicBezTo>
                  <a:cubicBezTo>
                    <a:pt x="242008" y="212097"/>
                    <a:pt x="216545" y="171356"/>
                    <a:pt x="197872" y="140801"/>
                  </a:cubicBezTo>
                  <a:cubicBezTo>
                    <a:pt x="150341" y="69504"/>
                    <a:pt x="106205" y="4998"/>
                    <a:pt x="55279" y="13485"/>
                  </a:cubicBezTo>
                  <a:cubicBezTo>
                    <a:pt x="4353" y="20275"/>
                    <a:pt x="16236" y="61016"/>
                    <a:pt x="28119" y="142498"/>
                  </a:cubicBezTo>
                  <a:cubicBezTo>
                    <a:pt x="29816" y="150986"/>
                    <a:pt x="11143" y="169659"/>
                    <a:pt x="12841" y="178146"/>
                  </a:cubicBezTo>
                  <a:cubicBezTo>
                    <a:pt x="12841" y="179844"/>
                    <a:pt x="16236" y="196819"/>
                    <a:pt x="16236" y="196819"/>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6" name="任意多边形: 形状 418"/>
            <p:cNvSpPr/>
            <p:nvPr/>
          </p:nvSpPr>
          <p:spPr>
            <a:xfrm>
              <a:off x="8005320" y="1207080"/>
              <a:ext cx="135720" cy="152640"/>
            </a:xfrm>
            <a:custGeom>
              <a:avLst/>
              <a:gdLst>
                <a:gd name="textAreaLeft" fmla="*/ 0 w 135720"/>
                <a:gd name="textAreaRight" fmla="*/ 136080 w 135720"/>
                <a:gd name="textAreaTop" fmla="*/ 0 h 152640"/>
                <a:gd name="textAreaBottom" fmla="*/ 153000 h 152640"/>
              </a:gdLst>
              <a:ahLst/>
              <a:rect l="textAreaLeft" t="textAreaTop" r="textAreaRight" b="textAreaBottom"/>
              <a:pathLst>
                <a:path w="135802" h="152778">
                  <a:moveTo>
                    <a:pt x="12732" y="116281"/>
                  </a:moveTo>
                  <a:cubicBezTo>
                    <a:pt x="12732" y="116281"/>
                    <a:pt x="55170" y="80633"/>
                    <a:pt x="85725" y="146837"/>
                  </a:cubicBezTo>
                  <a:cubicBezTo>
                    <a:pt x="99306" y="175695"/>
                    <a:pt x="136651" y="104398"/>
                    <a:pt x="136651" y="104398"/>
                  </a:cubicBezTo>
                  <a:lnTo>
                    <a:pt x="136651" y="24614"/>
                  </a:lnTo>
                  <a:lnTo>
                    <a:pt x="38195" y="12732"/>
                  </a:lnTo>
                  <a:lnTo>
                    <a:pt x="12732" y="116281"/>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7" name="任意多边形: 形状 419"/>
            <p:cNvSpPr/>
            <p:nvPr/>
          </p:nvSpPr>
          <p:spPr>
            <a:xfrm>
              <a:off x="9207000" y="14007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84876" h="84876">
                  <a:moveTo>
                    <a:pt x="17824" y="63658"/>
                  </a:moveTo>
                  <a:cubicBezTo>
                    <a:pt x="17824" y="63658"/>
                    <a:pt x="43287" y="51775"/>
                    <a:pt x="48380" y="80633"/>
                  </a:cubicBezTo>
                  <a:cubicBezTo>
                    <a:pt x="53472" y="109491"/>
                    <a:pt x="89121" y="50077"/>
                    <a:pt x="84028" y="41590"/>
                  </a:cubicBezTo>
                  <a:cubicBezTo>
                    <a:pt x="80633" y="33102"/>
                    <a:pt x="53472" y="12732"/>
                    <a:pt x="51775" y="12732"/>
                  </a:cubicBezTo>
                  <a:cubicBezTo>
                    <a:pt x="48380" y="12732"/>
                    <a:pt x="14429" y="17824"/>
                    <a:pt x="12732" y="21219"/>
                  </a:cubicBezTo>
                  <a:cubicBezTo>
                    <a:pt x="12732" y="22917"/>
                    <a:pt x="17824" y="63658"/>
                    <a:pt x="17824" y="63658"/>
                  </a:cubicBezTo>
                  <a:close/>
                </a:path>
              </a:pathLst>
            </a:custGeom>
            <a:solidFill>
              <a:srgbClr val="ffffff"/>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328" name="任意多边形: 形状 420"/>
            <p:cNvSpPr/>
            <p:nvPr/>
          </p:nvSpPr>
          <p:spPr>
            <a:xfrm>
              <a:off x="7676640" y="989640"/>
              <a:ext cx="1816200" cy="899640"/>
            </a:xfrm>
            <a:custGeom>
              <a:avLst/>
              <a:gdLst>
                <a:gd name="textAreaLeft" fmla="*/ 0 w 1816200"/>
                <a:gd name="textAreaRight" fmla="*/ 1816560 w 1816200"/>
                <a:gd name="textAreaTop" fmla="*/ 0 h 899640"/>
                <a:gd name="textAreaBottom" fmla="*/ 900000 h 899640"/>
              </a:gdLst>
              <a:ahLst/>
              <a:rect l="textAreaLeft" t="textAreaTop" r="textAreaRight" b="textAreaBottom"/>
              <a:pathLst>
                <a:path w="1816364" h="899694">
                  <a:moveTo>
                    <a:pt x="1302089" y="257177"/>
                  </a:moveTo>
                  <a:lnTo>
                    <a:pt x="1571997" y="455789"/>
                  </a:lnTo>
                  <a:cubicBezTo>
                    <a:pt x="1592367" y="537270"/>
                    <a:pt x="1588973" y="652703"/>
                    <a:pt x="1539744" y="817364"/>
                  </a:cubicBezTo>
                  <a:lnTo>
                    <a:pt x="1546534" y="839432"/>
                  </a:lnTo>
                  <a:lnTo>
                    <a:pt x="1758726" y="900543"/>
                  </a:lnTo>
                  <a:lnTo>
                    <a:pt x="1762121" y="890358"/>
                  </a:lnTo>
                  <a:cubicBezTo>
                    <a:pt x="1857183" y="579709"/>
                    <a:pt x="1836813" y="275850"/>
                    <a:pt x="1594065" y="104398"/>
                  </a:cubicBezTo>
                  <a:lnTo>
                    <a:pt x="1336039" y="124769"/>
                  </a:lnTo>
                  <a:lnTo>
                    <a:pt x="726624" y="94213"/>
                  </a:lnTo>
                  <a:lnTo>
                    <a:pt x="431252" y="12732"/>
                  </a:lnTo>
                  <a:cubicBezTo>
                    <a:pt x="268289" y="48380"/>
                    <a:pt x="112116" y="209646"/>
                    <a:pt x="49307" y="360726"/>
                  </a:cubicBezTo>
                  <a:cubicBezTo>
                    <a:pt x="10263" y="455789"/>
                    <a:pt x="1776" y="588196"/>
                    <a:pt x="27239" y="764740"/>
                  </a:cubicBezTo>
                  <a:lnTo>
                    <a:pt x="258104" y="732487"/>
                  </a:lnTo>
                  <a:cubicBezTo>
                    <a:pt x="234338" y="557641"/>
                    <a:pt x="251314" y="481252"/>
                    <a:pt x="264894" y="450696"/>
                  </a:cubicBezTo>
                  <a:cubicBezTo>
                    <a:pt x="292054" y="384492"/>
                    <a:pt x="337888" y="335263"/>
                    <a:pt x="392209" y="296220"/>
                  </a:cubicBezTo>
                  <a:lnTo>
                    <a:pt x="711346" y="214738"/>
                  </a:lnTo>
                  <a:lnTo>
                    <a:pt x="1302089" y="257177"/>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29" name="任意多边形: 形状 421"/>
            <p:cNvSpPr/>
            <p:nvPr/>
          </p:nvSpPr>
          <p:spPr>
            <a:xfrm>
              <a:off x="8376480" y="847440"/>
              <a:ext cx="678960" cy="695880"/>
            </a:xfrm>
            <a:custGeom>
              <a:avLst/>
              <a:gdLst>
                <a:gd name="textAreaLeft" fmla="*/ 0 w 678960"/>
                <a:gd name="textAreaRight" fmla="*/ 679320 w 678960"/>
                <a:gd name="textAreaTop" fmla="*/ 0 h 695880"/>
                <a:gd name="textAreaBottom" fmla="*/ 696240 h 695880"/>
              </a:gdLst>
              <a:ahLst/>
              <a:rect l="textAreaLeft" t="textAreaTop" r="textAreaRight" b="textAreaBottom"/>
              <a:pathLst>
                <a:path w="679014" h="695989">
                  <a:moveTo>
                    <a:pt x="646480" y="465572"/>
                  </a:moveTo>
                  <a:cubicBezTo>
                    <a:pt x="571788" y="665881"/>
                    <a:pt x="393547" y="733782"/>
                    <a:pt x="225491" y="672671"/>
                  </a:cubicBezTo>
                  <a:cubicBezTo>
                    <a:pt x="57435" y="611560"/>
                    <a:pt x="-35930" y="443504"/>
                    <a:pt x="38762" y="241497"/>
                  </a:cubicBezTo>
                  <a:cubicBezTo>
                    <a:pt x="113453" y="41187"/>
                    <a:pt x="291695" y="-26714"/>
                    <a:pt x="459751" y="34397"/>
                  </a:cubicBezTo>
                  <a:cubicBezTo>
                    <a:pt x="627807" y="97206"/>
                    <a:pt x="719474" y="265262"/>
                    <a:pt x="646480" y="465572"/>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30" name="任意多边形: 形状 422"/>
            <p:cNvSpPr/>
            <p:nvPr/>
          </p:nvSpPr>
          <p:spPr>
            <a:xfrm>
              <a:off x="8559000" y="1194480"/>
              <a:ext cx="169560" cy="373320"/>
            </a:xfrm>
            <a:custGeom>
              <a:avLst/>
              <a:gdLst>
                <a:gd name="textAreaLeft" fmla="*/ 0 w 169560"/>
                <a:gd name="textAreaRight" fmla="*/ 169920 w 169560"/>
                <a:gd name="textAreaTop" fmla="*/ 0 h 373320"/>
                <a:gd name="textAreaBottom" fmla="*/ 373680 h 373320"/>
              </a:gdLst>
              <a:ahLst/>
              <a:rect l="textAreaLeft" t="textAreaTop" r="textAreaRight" b="textAreaBottom"/>
              <a:pathLst>
                <a:path w="169753" h="373458">
                  <a:moveTo>
                    <a:pt x="137774" y="205253"/>
                  </a:moveTo>
                  <a:cubicBezTo>
                    <a:pt x="102126" y="302013"/>
                    <a:pt x="52897" y="371612"/>
                    <a:pt x="27434" y="363124"/>
                  </a:cubicBezTo>
                  <a:cubicBezTo>
                    <a:pt x="1971" y="352939"/>
                    <a:pt x="10459" y="268062"/>
                    <a:pt x="46107" y="171303"/>
                  </a:cubicBezTo>
                  <a:cubicBezTo>
                    <a:pt x="81755" y="74543"/>
                    <a:pt x="130984" y="4944"/>
                    <a:pt x="156447" y="13432"/>
                  </a:cubicBezTo>
                  <a:cubicBezTo>
                    <a:pt x="181910" y="23617"/>
                    <a:pt x="173422" y="110191"/>
                    <a:pt x="137774" y="205253"/>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31" name="任意多边形: 形状 423"/>
            <p:cNvSpPr/>
            <p:nvPr/>
          </p:nvSpPr>
          <p:spPr>
            <a:xfrm>
              <a:off x="8378640" y="106452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16239" y="94213"/>
                  </a:moveTo>
                  <a:cubicBezTo>
                    <a:pt x="16239" y="94213"/>
                    <a:pt x="-737" y="46682"/>
                    <a:pt x="40004" y="12732"/>
                  </a:cubicBezTo>
                  <a:cubicBezTo>
                    <a:pt x="40004" y="12732"/>
                    <a:pt x="50190" y="85726"/>
                    <a:pt x="16239" y="94213"/>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32" name="任意多边形: 形状 424"/>
            <p:cNvSpPr/>
            <p:nvPr/>
          </p:nvSpPr>
          <p:spPr>
            <a:xfrm>
              <a:off x="8975160" y="128700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17302" y="90818"/>
                  </a:moveTo>
                  <a:cubicBezTo>
                    <a:pt x="17302" y="90818"/>
                    <a:pt x="61438" y="65355"/>
                    <a:pt x="51253" y="12732"/>
                  </a:cubicBezTo>
                  <a:cubicBezTo>
                    <a:pt x="51253" y="14429"/>
                    <a:pt x="-3068" y="63658"/>
                    <a:pt x="17302" y="90818"/>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33" name="任意多边形: 形状 425"/>
            <p:cNvSpPr/>
            <p:nvPr/>
          </p:nvSpPr>
          <p:spPr>
            <a:xfrm>
              <a:off x="8389080" y="846360"/>
              <a:ext cx="662040" cy="628200"/>
            </a:xfrm>
            <a:custGeom>
              <a:avLst/>
              <a:gdLst>
                <a:gd name="textAreaLeft" fmla="*/ 0 w 662040"/>
                <a:gd name="textAreaRight" fmla="*/ 662040 w 662040"/>
                <a:gd name="textAreaTop" fmla="*/ 0 h 628200"/>
                <a:gd name="textAreaBottom" fmla="*/ 628560 h 628200"/>
              </a:gdLst>
              <a:ahLst/>
              <a:rect l="textAreaLeft" t="textAreaTop" r="textAreaRight" b="textAreaBottom"/>
              <a:pathLst>
                <a:path w="662039" h="628088">
                  <a:moveTo>
                    <a:pt x="34474" y="218768"/>
                  </a:moveTo>
                  <a:cubicBezTo>
                    <a:pt x="104073" y="32039"/>
                    <a:pt x="278919" y="-25677"/>
                    <a:pt x="446975" y="37132"/>
                  </a:cubicBezTo>
                  <a:cubicBezTo>
                    <a:pt x="615031" y="98243"/>
                    <a:pt x="711791" y="256114"/>
                    <a:pt x="643889" y="442843"/>
                  </a:cubicBezTo>
                  <a:cubicBezTo>
                    <a:pt x="574291" y="629572"/>
                    <a:pt x="407932" y="663523"/>
                    <a:pt x="239876" y="602412"/>
                  </a:cubicBezTo>
                  <a:cubicBezTo>
                    <a:pt x="70122" y="539603"/>
                    <a:pt x="-35125" y="405497"/>
                    <a:pt x="34474" y="218768"/>
                  </a:cubicBez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34" name="任意多边形: 形状 426"/>
            <p:cNvSpPr/>
            <p:nvPr/>
          </p:nvSpPr>
          <p:spPr>
            <a:xfrm>
              <a:off x="8952480" y="13496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29039" y="12732"/>
                  </a:moveTo>
                  <a:lnTo>
                    <a:pt x="12732" y="-23946"/>
                  </a:lnTo>
                  <a:lnTo>
                    <a:pt x="28010" y="-17156"/>
                  </a:lnTo>
                  <a:cubicBezTo>
                    <a:pt x="31405" y="-23946"/>
                    <a:pt x="-29039" y="-30737"/>
                    <a:pt x="-25644" y="28009"/>
                  </a:cubicBezTo>
                  <a:cubicBezTo>
                    <a:pt x="-25644" y="22917"/>
                    <a:pt x="-27341" y="17824"/>
                    <a:pt x="-29039" y="12732"/>
                  </a:cubicBezTo>
                  <a:close/>
                </a:path>
              </a:pathLst>
            </a:custGeom>
            <a:solidFill>
              <a:srgbClr val="36363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35" name="任意多边形: 形状 427"/>
            <p:cNvSpPr/>
            <p:nvPr/>
          </p:nvSpPr>
          <p:spPr>
            <a:xfrm>
              <a:off x="8378640" y="1123920"/>
              <a:ext cx="33840" cy="67680"/>
            </a:xfrm>
            <a:custGeom>
              <a:avLst/>
              <a:gdLst>
                <a:gd name="textAreaLeft" fmla="*/ 0 w 33840"/>
                <a:gd name="textAreaRight" fmla="*/ 34200 w 33840"/>
                <a:gd name="textAreaTop" fmla="*/ 0 h 67680"/>
                <a:gd name="textAreaBottom" fmla="*/ 68040 h 67680"/>
              </a:gdLst>
              <a:ahLst/>
              <a:rect l="textAreaLeft" t="textAreaTop" r="textAreaRight" b="textAreaBottom"/>
              <a:pathLst>
                <a:path w="33950" h="67901">
                  <a:moveTo>
                    <a:pt x="17824" y="29707"/>
                  </a:moveTo>
                  <a:cubicBezTo>
                    <a:pt x="16127" y="-25644"/>
                    <a:pt x="14429" y="-17156"/>
                    <a:pt x="12732" y="-6971"/>
                  </a:cubicBezTo>
                  <a:lnTo>
                    <a:pt x="22917" y="-3576"/>
                  </a:lnTo>
                  <a:cubicBezTo>
                    <a:pt x="22917" y="-3576"/>
                    <a:pt x="-29039" y="28009"/>
                    <a:pt x="26312" y="12732"/>
                  </a:cubicBezTo>
                  <a:lnTo>
                    <a:pt x="17824" y="29707"/>
                  </a:lnTo>
                  <a:close/>
                </a:path>
              </a:pathLst>
            </a:custGeom>
            <a:solidFill>
              <a:srgbClr val="363636"/>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336" name="任意多边形: 形状 428"/>
            <p:cNvSpPr/>
            <p:nvPr/>
          </p:nvSpPr>
          <p:spPr>
            <a:xfrm>
              <a:off x="8388720" y="1173240"/>
              <a:ext cx="577080" cy="339480"/>
            </a:xfrm>
            <a:custGeom>
              <a:avLst/>
              <a:gdLst>
                <a:gd name="textAreaLeft" fmla="*/ 0 w 577080"/>
                <a:gd name="textAreaRight" fmla="*/ 577440 w 577080"/>
                <a:gd name="textAreaTop" fmla="*/ 0 h 339480"/>
                <a:gd name="textAreaBottom" fmla="*/ 339840 h 339480"/>
              </a:gdLst>
              <a:ahLst/>
              <a:rect l="textAreaLeft" t="textAreaTop" r="textAreaRight" b="textAreaBottom"/>
              <a:pathLst>
                <a:path w="577162" h="339507">
                  <a:moveTo>
                    <a:pt x="12732" y="12732"/>
                  </a:moveTo>
                  <a:cubicBezTo>
                    <a:pt x="12732" y="12732"/>
                    <a:pt x="21219" y="141744"/>
                    <a:pt x="82331" y="204553"/>
                  </a:cubicBezTo>
                  <a:cubicBezTo>
                    <a:pt x="82331" y="204553"/>
                    <a:pt x="72145" y="190973"/>
                    <a:pt x="75540" y="168905"/>
                  </a:cubicBezTo>
                  <a:cubicBezTo>
                    <a:pt x="75540" y="168905"/>
                    <a:pt x="143442" y="260572"/>
                    <a:pt x="218134" y="292825"/>
                  </a:cubicBezTo>
                  <a:cubicBezTo>
                    <a:pt x="218134" y="292825"/>
                    <a:pt x="196066" y="277547"/>
                    <a:pt x="170602" y="243596"/>
                  </a:cubicBezTo>
                  <a:cubicBezTo>
                    <a:pt x="170602" y="243596"/>
                    <a:pt x="286035" y="325078"/>
                    <a:pt x="382795" y="326776"/>
                  </a:cubicBezTo>
                  <a:cubicBezTo>
                    <a:pt x="382795" y="326776"/>
                    <a:pt x="342054" y="314893"/>
                    <a:pt x="318288" y="296220"/>
                  </a:cubicBezTo>
                  <a:cubicBezTo>
                    <a:pt x="318288" y="296220"/>
                    <a:pt x="394677" y="331868"/>
                    <a:pt x="438813" y="318288"/>
                  </a:cubicBezTo>
                  <a:cubicBezTo>
                    <a:pt x="506715" y="297918"/>
                    <a:pt x="559338" y="252084"/>
                    <a:pt x="578011" y="219831"/>
                  </a:cubicBezTo>
                  <a:cubicBezTo>
                    <a:pt x="596684" y="187578"/>
                    <a:pt x="511807" y="102701"/>
                    <a:pt x="511807" y="102701"/>
                  </a:cubicBezTo>
                  <a:lnTo>
                    <a:pt x="277547" y="38195"/>
                  </a:lnTo>
                  <a:lnTo>
                    <a:pt x="12732" y="12732"/>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37" name="任意多边形: 形状 429"/>
            <p:cNvSpPr/>
            <p:nvPr/>
          </p:nvSpPr>
          <p:spPr>
            <a:xfrm>
              <a:off x="7814160" y="2197080"/>
              <a:ext cx="441360" cy="356400"/>
            </a:xfrm>
            <a:custGeom>
              <a:avLst/>
              <a:gdLst>
                <a:gd name="textAreaLeft" fmla="*/ 0 w 441360"/>
                <a:gd name="textAreaRight" fmla="*/ 441720 w 441360"/>
                <a:gd name="textAreaTop" fmla="*/ 0 h 356400"/>
                <a:gd name="textAreaBottom" fmla="*/ 356760 h 356400"/>
              </a:gdLst>
              <a:ahLst/>
              <a:rect l="textAreaLeft" t="textAreaTop" r="textAreaRight" b="textAreaBottom"/>
              <a:pathLst>
                <a:path w="441359" h="356482">
                  <a:moveTo>
                    <a:pt x="17054" y="347146"/>
                  </a:moveTo>
                  <a:cubicBezTo>
                    <a:pt x="22147" y="353936"/>
                    <a:pt x="32332" y="355634"/>
                    <a:pt x="39122" y="350541"/>
                  </a:cubicBezTo>
                  <a:lnTo>
                    <a:pt x="73073" y="323381"/>
                  </a:lnTo>
                  <a:lnTo>
                    <a:pt x="78165" y="319986"/>
                  </a:lnTo>
                  <a:lnTo>
                    <a:pt x="303938" y="140047"/>
                  </a:lnTo>
                  <a:lnTo>
                    <a:pt x="309030" y="136652"/>
                  </a:lnTo>
                  <a:lnTo>
                    <a:pt x="315821" y="131559"/>
                  </a:lnTo>
                  <a:lnTo>
                    <a:pt x="320913" y="128164"/>
                  </a:lnTo>
                  <a:lnTo>
                    <a:pt x="327703" y="121374"/>
                  </a:lnTo>
                  <a:lnTo>
                    <a:pt x="332796" y="117979"/>
                  </a:lnTo>
                  <a:lnTo>
                    <a:pt x="339586" y="112886"/>
                  </a:lnTo>
                  <a:lnTo>
                    <a:pt x="344679" y="109491"/>
                  </a:lnTo>
                  <a:lnTo>
                    <a:pt x="351469" y="104399"/>
                  </a:lnTo>
                  <a:lnTo>
                    <a:pt x="356562" y="101004"/>
                  </a:lnTo>
                  <a:lnTo>
                    <a:pt x="363352" y="95911"/>
                  </a:lnTo>
                  <a:lnTo>
                    <a:pt x="368444" y="92516"/>
                  </a:lnTo>
                  <a:lnTo>
                    <a:pt x="402395" y="65355"/>
                  </a:lnTo>
                  <a:cubicBezTo>
                    <a:pt x="409185" y="60263"/>
                    <a:pt x="438043" y="28009"/>
                    <a:pt x="436346" y="19522"/>
                  </a:cubicBezTo>
                  <a:lnTo>
                    <a:pt x="443136" y="14429"/>
                  </a:lnTo>
                  <a:lnTo>
                    <a:pt x="441438" y="12732"/>
                  </a:lnTo>
                  <a:lnTo>
                    <a:pt x="434648" y="17824"/>
                  </a:lnTo>
                  <a:cubicBezTo>
                    <a:pt x="426160" y="14429"/>
                    <a:pt x="388815" y="36497"/>
                    <a:pt x="382025" y="41590"/>
                  </a:cubicBezTo>
                  <a:lnTo>
                    <a:pt x="348074" y="68750"/>
                  </a:lnTo>
                  <a:lnTo>
                    <a:pt x="342981" y="72145"/>
                  </a:lnTo>
                  <a:lnTo>
                    <a:pt x="336191" y="77238"/>
                  </a:lnTo>
                  <a:lnTo>
                    <a:pt x="331099" y="80633"/>
                  </a:lnTo>
                  <a:lnTo>
                    <a:pt x="324308" y="85726"/>
                  </a:lnTo>
                  <a:lnTo>
                    <a:pt x="319216" y="89121"/>
                  </a:lnTo>
                  <a:lnTo>
                    <a:pt x="312426" y="94213"/>
                  </a:lnTo>
                  <a:lnTo>
                    <a:pt x="307333" y="97608"/>
                  </a:lnTo>
                  <a:lnTo>
                    <a:pt x="300543" y="102701"/>
                  </a:lnTo>
                  <a:lnTo>
                    <a:pt x="295450" y="106096"/>
                  </a:lnTo>
                  <a:lnTo>
                    <a:pt x="288660" y="111189"/>
                  </a:lnTo>
                  <a:lnTo>
                    <a:pt x="283567" y="114584"/>
                  </a:lnTo>
                  <a:lnTo>
                    <a:pt x="57795" y="294523"/>
                  </a:lnTo>
                  <a:lnTo>
                    <a:pt x="52702" y="297918"/>
                  </a:lnTo>
                  <a:lnTo>
                    <a:pt x="18752" y="325078"/>
                  </a:lnTo>
                  <a:cubicBezTo>
                    <a:pt x="11962" y="330171"/>
                    <a:pt x="10264" y="340356"/>
                    <a:pt x="17054" y="347146"/>
                  </a:cubicBez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38" name="任意多边形: 形状 430"/>
            <p:cNvSpPr/>
            <p:nvPr/>
          </p:nvSpPr>
          <p:spPr>
            <a:xfrm>
              <a:off x="8219160" y="217188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33950" h="33950">
                  <a:moveTo>
                    <a:pt x="17892" y="27414"/>
                  </a:moveTo>
                  <a:lnTo>
                    <a:pt x="29839" y="17892"/>
                  </a:lnTo>
                  <a:lnTo>
                    <a:pt x="31955" y="20547"/>
                  </a:lnTo>
                  <a:lnTo>
                    <a:pt x="20008" y="30069"/>
                  </a:lnTo>
                  <a:lnTo>
                    <a:pt x="17892" y="27414"/>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339" name="任意多边形: 形状 431"/>
            <p:cNvSpPr/>
            <p:nvPr/>
          </p:nvSpPr>
          <p:spPr>
            <a:xfrm>
              <a:off x="7809840" y="2182320"/>
              <a:ext cx="441360" cy="356400"/>
            </a:xfrm>
            <a:custGeom>
              <a:avLst/>
              <a:gdLst>
                <a:gd name="textAreaLeft" fmla="*/ 0 w 441360"/>
                <a:gd name="textAreaRight" fmla="*/ 441720 w 441360"/>
                <a:gd name="textAreaTop" fmla="*/ 0 h 356400"/>
                <a:gd name="textAreaBottom" fmla="*/ 356760 h 356400"/>
              </a:gdLst>
              <a:ahLst/>
              <a:rect l="textAreaLeft" t="textAreaTop" r="textAreaRight" b="textAreaBottom"/>
              <a:pathLst>
                <a:path w="441359" h="356482">
                  <a:moveTo>
                    <a:pt x="379480" y="36010"/>
                  </a:moveTo>
                  <a:cubicBezTo>
                    <a:pt x="386270" y="30917"/>
                    <a:pt x="428709" y="7152"/>
                    <a:pt x="433801" y="13942"/>
                  </a:cubicBezTo>
                  <a:cubicBezTo>
                    <a:pt x="438894" y="20732"/>
                    <a:pt x="406640" y="56380"/>
                    <a:pt x="399850" y="61473"/>
                  </a:cubicBezTo>
                  <a:lnTo>
                    <a:pt x="38275" y="348357"/>
                  </a:lnTo>
                  <a:cubicBezTo>
                    <a:pt x="31485" y="353449"/>
                    <a:pt x="21300" y="353449"/>
                    <a:pt x="16207" y="344962"/>
                  </a:cubicBezTo>
                  <a:cubicBezTo>
                    <a:pt x="11114" y="338171"/>
                    <a:pt x="11114" y="327986"/>
                    <a:pt x="19602" y="322893"/>
                  </a:cubicBezTo>
                  <a:lnTo>
                    <a:pt x="379480" y="36010"/>
                  </a:ln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40" name="任意多边形: 形状 432"/>
            <p:cNvSpPr/>
            <p:nvPr/>
          </p:nvSpPr>
          <p:spPr>
            <a:xfrm>
              <a:off x="8074080" y="22759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887" y="21051"/>
                  </a:moveTo>
                  <a:lnTo>
                    <a:pt x="21877" y="17886"/>
                  </a:lnTo>
                  <a:lnTo>
                    <a:pt x="-23620" y="-22376"/>
                  </a:lnTo>
                  <a:lnTo>
                    <a:pt x="-27611" y="-19212"/>
                  </a:lnTo>
                  <a:lnTo>
                    <a:pt x="17887" y="21051"/>
                  </a:lnTo>
                  <a:close/>
                </a:path>
              </a:pathLst>
            </a:custGeom>
            <a:solidFill>
              <a:srgbClr val="46464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41" name="任意多边形: 形状 433"/>
            <p:cNvSpPr/>
            <p:nvPr/>
          </p:nvSpPr>
          <p:spPr>
            <a:xfrm>
              <a:off x="7842600" y="24580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886" y="21050"/>
                  </a:moveTo>
                  <a:lnTo>
                    <a:pt x="21878" y="17887"/>
                  </a:lnTo>
                  <a:lnTo>
                    <a:pt x="-23623" y="-22373"/>
                  </a:lnTo>
                  <a:lnTo>
                    <a:pt x="-27614" y="-19209"/>
                  </a:lnTo>
                  <a:lnTo>
                    <a:pt x="17886" y="21050"/>
                  </a:lnTo>
                  <a:close/>
                </a:path>
              </a:pathLst>
            </a:custGeom>
            <a:solidFill>
              <a:srgbClr val="46464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42" name="任意多边形: 形状 434"/>
            <p:cNvSpPr/>
            <p:nvPr/>
          </p:nvSpPr>
          <p:spPr>
            <a:xfrm>
              <a:off x="8085600" y="22658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886" y="21050"/>
                  </a:moveTo>
                  <a:lnTo>
                    <a:pt x="21878" y="17887"/>
                  </a:lnTo>
                  <a:lnTo>
                    <a:pt x="-23623" y="-22373"/>
                  </a:lnTo>
                  <a:lnTo>
                    <a:pt x="-27614" y="-19209"/>
                  </a:lnTo>
                  <a:lnTo>
                    <a:pt x="17886" y="21050"/>
                  </a:lnTo>
                  <a:close/>
                </a:path>
              </a:pathLst>
            </a:custGeom>
            <a:solidFill>
              <a:srgbClr val="46464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43" name="任意多边形: 形状 435"/>
            <p:cNvSpPr/>
            <p:nvPr/>
          </p:nvSpPr>
          <p:spPr>
            <a:xfrm>
              <a:off x="8098200" y="22568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886" y="21050"/>
                  </a:moveTo>
                  <a:lnTo>
                    <a:pt x="21878" y="17887"/>
                  </a:lnTo>
                  <a:lnTo>
                    <a:pt x="-23623" y="-22373"/>
                  </a:lnTo>
                  <a:lnTo>
                    <a:pt x="-27614" y="-19209"/>
                  </a:lnTo>
                  <a:lnTo>
                    <a:pt x="17886" y="21050"/>
                  </a:lnTo>
                  <a:close/>
                </a:path>
              </a:pathLst>
            </a:custGeom>
            <a:solidFill>
              <a:srgbClr val="46464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44" name="任意多边形: 形状 436"/>
            <p:cNvSpPr/>
            <p:nvPr/>
          </p:nvSpPr>
          <p:spPr>
            <a:xfrm>
              <a:off x="8109360" y="22471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885" y="21048"/>
                  </a:moveTo>
                  <a:lnTo>
                    <a:pt x="21876" y="17885"/>
                  </a:lnTo>
                  <a:lnTo>
                    <a:pt x="-23627" y="-22374"/>
                  </a:lnTo>
                  <a:lnTo>
                    <a:pt x="-27618" y="-19211"/>
                  </a:lnTo>
                  <a:lnTo>
                    <a:pt x="17885" y="21048"/>
                  </a:lnTo>
                  <a:close/>
                </a:path>
              </a:pathLst>
            </a:custGeom>
            <a:solidFill>
              <a:srgbClr val="46464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45" name="任意多边形: 形状 437"/>
            <p:cNvSpPr/>
            <p:nvPr/>
          </p:nvSpPr>
          <p:spPr>
            <a:xfrm>
              <a:off x="8120880" y="22370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887" y="21051"/>
                  </a:moveTo>
                  <a:lnTo>
                    <a:pt x="21877" y="17886"/>
                  </a:lnTo>
                  <a:lnTo>
                    <a:pt x="-23617" y="-22379"/>
                  </a:lnTo>
                  <a:lnTo>
                    <a:pt x="-27607" y="-19215"/>
                  </a:lnTo>
                  <a:lnTo>
                    <a:pt x="17887" y="21051"/>
                  </a:lnTo>
                  <a:close/>
                </a:path>
              </a:pathLst>
            </a:custGeom>
            <a:solidFill>
              <a:srgbClr val="46464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46" name="任意多边形: 形状 438"/>
            <p:cNvSpPr/>
            <p:nvPr/>
          </p:nvSpPr>
          <p:spPr>
            <a:xfrm>
              <a:off x="8133480" y="22284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50926" h="50926">
                  <a:moveTo>
                    <a:pt x="17886" y="21051"/>
                  </a:moveTo>
                  <a:lnTo>
                    <a:pt x="21877" y="17886"/>
                  </a:lnTo>
                  <a:lnTo>
                    <a:pt x="-23617" y="-22379"/>
                  </a:lnTo>
                  <a:lnTo>
                    <a:pt x="-27607" y="-19215"/>
                  </a:lnTo>
                  <a:lnTo>
                    <a:pt x="17886" y="21051"/>
                  </a:lnTo>
                  <a:close/>
                </a:path>
              </a:pathLst>
            </a:custGeom>
            <a:solidFill>
              <a:srgbClr val="464646"/>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47" name="任意多边形: 形状 439"/>
            <p:cNvSpPr/>
            <p:nvPr/>
          </p:nvSpPr>
          <p:spPr>
            <a:xfrm>
              <a:off x="8032320" y="2249640"/>
              <a:ext cx="101520" cy="118800"/>
            </a:xfrm>
            <a:custGeom>
              <a:avLst/>
              <a:gdLst>
                <a:gd name="textAreaLeft" fmla="*/ 0 w 101520"/>
                <a:gd name="textAreaRight" fmla="*/ 101880 w 101520"/>
                <a:gd name="textAreaTop" fmla="*/ 0 h 118800"/>
                <a:gd name="textAreaBottom" fmla="*/ 119160 h 118800"/>
              </a:gdLst>
              <a:ahLst/>
              <a:rect l="textAreaLeft" t="textAreaTop" r="textAreaRight" b="textAreaBottom"/>
              <a:pathLst>
                <a:path w="101852" h="118827">
                  <a:moveTo>
                    <a:pt x="12732" y="50077"/>
                  </a:moveTo>
                  <a:cubicBezTo>
                    <a:pt x="16127" y="51775"/>
                    <a:pt x="17824" y="55170"/>
                    <a:pt x="21219" y="56867"/>
                  </a:cubicBezTo>
                  <a:cubicBezTo>
                    <a:pt x="33102" y="75540"/>
                    <a:pt x="43287" y="92516"/>
                    <a:pt x="50077" y="104398"/>
                  </a:cubicBezTo>
                  <a:cubicBezTo>
                    <a:pt x="58565" y="117979"/>
                    <a:pt x="75540" y="123071"/>
                    <a:pt x="90818" y="114584"/>
                  </a:cubicBezTo>
                  <a:cubicBezTo>
                    <a:pt x="104399" y="106096"/>
                    <a:pt x="109491" y="89121"/>
                    <a:pt x="101003" y="73843"/>
                  </a:cubicBezTo>
                  <a:cubicBezTo>
                    <a:pt x="92516" y="60262"/>
                    <a:pt x="78936" y="38195"/>
                    <a:pt x="61960" y="12732"/>
                  </a:cubicBezTo>
                  <a:lnTo>
                    <a:pt x="12732" y="50077"/>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48" name="任意多边形: 形状 440"/>
            <p:cNvSpPr/>
            <p:nvPr/>
          </p:nvSpPr>
          <p:spPr>
            <a:xfrm>
              <a:off x="9177480" y="4354200"/>
              <a:ext cx="339480" cy="492120"/>
            </a:xfrm>
            <a:custGeom>
              <a:avLst/>
              <a:gdLst>
                <a:gd name="textAreaLeft" fmla="*/ 0 w 339480"/>
                <a:gd name="textAreaRight" fmla="*/ 339840 w 339480"/>
                <a:gd name="textAreaTop" fmla="*/ 0 h 492120"/>
                <a:gd name="textAreaBottom" fmla="*/ 492480 h 492120"/>
              </a:gdLst>
              <a:ahLst/>
              <a:rect l="textAreaLeft" t="textAreaTop" r="textAreaRight" b="textAreaBottom"/>
              <a:pathLst>
                <a:path w="339507" h="492285">
                  <a:moveTo>
                    <a:pt x="285203" y="95078"/>
                  </a:moveTo>
                  <a:cubicBezTo>
                    <a:pt x="281808" y="81498"/>
                    <a:pt x="268227" y="74708"/>
                    <a:pt x="254647" y="78103"/>
                  </a:cubicBezTo>
                  <a:cubicBezTo>
                    <a:pt x="241067" y="81498"/>
                    <a:pt x="234277" y="95078"/>
                    <a:pt x="237671" y="108659"/>
                  </a:cubicBezTo>
                  <a:lnTo>
                    <a:pt x="261437" y="203721"/>
                  </a:lnTo>
                  <a:cubicBezTo>
                    <a:pt x="258042" y="202023"/>
                    <a:pt x="252949" y="200326"/>
                    <a:pt x="249554" y="198628"/>
                  </a:cubicBezTo>
                  <a:lnTo>
                    <a:pt x="212208" y="49245"/>
                  </a:lnTo>
                  <a:cubicBezTo>
                    <a:pt x="208814" y="35665"/>
                    <a:pt x="195233" y="28874"/>
                    <a:pt x="181653" y="32269"/>
                  </a:cubicBezTo>
                  <a:cubicBezTo>
                    <a:pt x="168072" y="35665"/>
                    <a:pt x="161282" y="49245"/>
                    <a:pt x="164678" y="62825"/>
                  </a:cubicBezTo>
                  <a:lnTo>
                    <a:pt x="196931" y="188443"/>
                  </a:lnTo>
                  <a:cubicBezTo>
                    <a:pt x="193535" y="188443"/>
                    <a:pt x="190141" y="188443"/>
                    <a:pt x="186745" y="188443"/>
                  </a:cubicBezTo>
                  <a:lnTo>
                    <a:pt x="147702" y="30572"/>
                  </a:lnTo>
                  <a:cubicBezTo>
                    <a:pt x="144307" y="16992"/>
                    <a:pt x="130727" y="10202"/>
                    <a:pt x="117146" y="13597"/>
                  </a:cubicBezTo>
                  <a:cubicBezTo>
                    <a:pt x="103566" y="16992"/>
                    <a:pt x="96776" y="30572"/>
                    <a:pt x="100171" y="44152"/>
                  </a:cubicBezTo>
                  <a:lnTo>
                    <a:pt x="139215" y="200326"/>
                  </a:lnTo>
                  <a:cubicBezTo>
                    <a:pt x="135819" y="202023"/>
                    <a:pt x="132425" y="203721"/>
                    <a:pt x="130727" y="203721"/>
                  </a:cubicBezTo>
                  <a:lnTo>
                    <a:pt x="96776" y="69615"/>
                  </a:lnTo>
                  <a:cubicBezTo>
                    <a:pt x="93381" y="56035"/>
                    <a:pt x="79801" y="49245"/>
                    <a:pt x="66220" y="52640"/>
                  </a:cubicBezTo>
                  <a:cubicBezTo>
                    <a:pt x="52640" y="56035"/>
                    <a:pt x="45850" y="69615"/>
                    <a:pt x="49245" y="83196"/>
                  </a:cubicBezTo>
                  <a:lnTo>
                    <a:pt x="88288" y="237671"/>
                  </a:lnTo>
                  <a:cubicBezTo>
                    <a:pt x="83196" y="242764"/>
                    <a:pt x="78103" y="249554"/>
                    <a:pt x="73010" y="256344"/>
                  </a:cubicBezTo>
                  <a:lnTo>
                    <a:pt x="61128" y="212208"/>
                  </a:lnTo>
                  <a:cubicBezTo>
                    <a:pt x="57733" y="198628"/>
                    <a:pt x="44152" y="191838"/>
                    <a:pt x="30572" y="195233"/>
                  </a:cubicBezTo>
                  <a:cubicBezTo>
                    <a:pt x="16992" y="198628"/>
                    <a:pt x="10202" y="212208"/>
                    <a:pt x="13597" y="225789"/>
                  </a:cubicBezTo>
                  <a:lnTo>
                    <a:pt x="52640" y="380264"/>
                  </a:lnTo>
                  <a:cubicBezTo>
                    <a:pt x="52640" y="381962"/>
                    <a:pt x="54338" y="383660"/>
                    <a:pt x="54338" y="385357"/>
                  </a:cubicBezTo>
                  <a:cubicBezTo>
                    <a:pt x="79801" y="454956"/>
                    <a:pt x="154492" y="495697"/>
                    <a:pt x="229184" y="477024"/>
                  </a:cubicBezTo>
                  <a:cubicBezTo>
                    <a:pt x="307271" y="456654"/>
                    <a:pt x="356499" y="376869"/>
                    <a:pt x="336129" y="298783"/>
                  </a:cubicBezTo>
                  <a:cubicBezTo>
                    <a:pt x="336129" y="298783"/>
                    <a:pt x="336129" y="297085"/>
                    <a:pt x="336129" y="297085"/>
                  </a:cubicBezTo>
                  <a:cubicBezTo>
                    <a:pt x="336129" y="297085"/>
                    <a:pt x="336129" y="297085"/>
                    <a:pt x="336129" y="297085"/>
                  </a:cubicBezTo>
                  <a:lnTo>
                    <a:pt x="285203" y="95078"/>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49" name="任意多边形: 形状 441"/>
            <p:cNvSpPr/>
            <p:nvPr/>
          </p:nvSpPr>
          <p:spPr>
            <a:xfrm>
              <a:off x="8673840" y="4654080"/>
              <a:ext cx="916560" cy="1256400"/>
            </a:xfrm>
            <a:custGeom>
              <a:avLst/>
              <a:gdLst>
                <a:gd name="textAreaLeft" fmla="*/ 0 w 916560"/>
                <a:gd name="textAreaRight" fmla="*/ 916920 w 916560"/>
                <a:gd name="textAreaTop" fmla="*/ 0 h 1256400"/>
                <a:gd name="textAreaBottom" fmla="*/ 1256760 h 1256400"/>
              </a:gdLst>
              <a:ahLst/>
              <a:rect l="textAreaLeft" t="textAreaTop" r="textAreaRight" b="textAreaBottom"/>
              <a:pathLst>
                <a:path w="916669" h="1256177">
                  <a:moveTo>
                    <a:pt x="58565" y="1251933"/>
                  </a:moveTo>
                  <a:cubicBezTo>
                    <a:pt x="33102" y="1251933"/>
                    <a:pt x="17824" y="1251933"/>
                    <a:pt x="12732" y="1250236"/>
                  </a:cubicBezTo>
                  <a:lnTo>
                    <a:pt x="22917" y="1075390"/>
                  </a:lnTo>
                  <a:cubicBezTo>
                    <a:pt x="28009" y="1075390"/>
                    <a:pt x="572919" y="1100853"/>
                    <a:pt x="710419" y="771531"/>
                  </a:cubicBezTo>
                  <a:cubicBezTo>
                    <a:pt x="769833" y="630635"/>
                    <a:pt x="688351" y="263967"/>
                    <a:pt x="623845" y="67053"/>
                  </a:cubicBezTo>
                  <a:lnTo>
                    <a:pt x="790203" y="12732"/>
                  </a:lnTo>
                  <a:cubicBezTo>
                    <a:pt x="808876" y="72145"/>
                    <a:pt x="975235" y="591592"/>
                    <a:pt x="871685" y="839432"/>
                  </a:cubicBezTo>
                  <a:cubicBezTo>
                    <a:pt x="712117" y="1221378"/>
                    <a:pt x="213041" y="1251933"/>
                    <a:pt x="58565" y="1251933"/>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0" name="任意多边形: 形状 442"/>
            <p:cNvSpPr/>
            <p:nvPr/>
          </p:nvSpPr>
          <p:spPr>
            <a:xfrm>
              <a:off x="7823160" y="4521600"/>
              <a:ext cx="424080" cy="1290240"/>
            </a:xfrm>
            <a:custGeom>
              <a:avLst/>
              <a:gdLst>
                <a:gd name="textAreaLeft" fmla="*/ 0 w 424080"/>
                <a:gd name="textAreaRight" fmla="*/ 424440 w 424080"/>
                <a:gd name="textAreaTop" fmla="*/ 0 h 1290240"/>
                <a:gd name="textAreaBottom" fmla="*/ 1290600 h 1290240"/>
              </a:gdLst>
              <a:ahLst/>
              <a:rect l="textAreaLeft" t="textAreaTop" r="textAreaRight" b="textAreaBottom"/>
              <a:pathLst>
                <a:path w="424384" h="1290127">
                  <a:moveTo>
                    <a:pt x="357842" y="1282489"/>
                  </a:moveTo>
                  <a:cubicBezTo>
                    <a:pt x="45496" y="1175544"/>
                    <a:pt x="-61449" y="876778"/>
                    <a:pt x="64168" y="460881"/>
                  </a:cubicBezTo>
                  <a:lnTo>
                    <a:pt x="67564" y="448998"/>
                  </a:lnTo>
                  <a:cubicBezTo>
                    <a:pt x="87934" y="377702"/>
                    <a:pt x="232225" y="72145"/>
                    <a:pt x="259385" y="12732"/>
                  </a:cubicBezTo>
                  <a:lnTo>
                    <a:pt x="417256" y="87423"/>
                  </a:lnTo>
                  <a:cubicBezTo>
                    <a:pt x="349355" y="231714"/>
                    <a:pt x="247502" y="455789"/>
                    <a:pt x="235620" y="498227"/>
                  </a:cubicBezTo>
                  <a:cubicBezTo>
                    <a:pt x="233922" y="501622"/>
                    <a:pt x="233922" y="506715"/>
                    <a:pt x="232225" y="511807"/>
                  </a:cubicBezTo>
                  <a:cubicBezTo>
                    <a:pt x="133768" y="837734"/>
                    <a:pt x="194879" y="1041439"/>
                    <a:pt x="413861" y="1117828"/>
                  </a:cubicBezTo>
                  <a:lnTo>
                    <a:pt x="357842" y="1282489"/>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1" name="任意多边形: 形状 443"/>
            <p:cNvSpPr/>
            <p:nvPr/>
          </p:nvSpPr>
          <p:spPr>
            <a:xfrm>
              <a:off x="8672400" y="5399280"/>
              <a:ext cx="916560" cy="543240"/>
            </a:xfrm>
            <a:custGeom>
              <a:avLst/>
              <a:gdLst>
                <a:gd name="textAreaLeft" fmla="*/ 0 w 916560"/>
                <a:gd name="textAreaRight" fmla="*/ 916920 w 916560"/>
                <a:gd name="textAreaTop" fmla="*/ 0 h 543240"/>
                <a:gd name="textAreaBottom" fmla="*/ 543600 h 543240"/>
              </a:gdLst>
              <a:ahLst/>
              <a:rect l="textAreaLeft" t="textAreaTop" r="textAreaRight" b="textAreaBottom"/>
              <a:pathLst>
                <a:path w="916669" h="543211">
                  <a:moveTo>
                    <a:pt x="58565" y="545758"/>
                  </a:moveTo>
                  <a:cubicBezTo>
                    <a:pt x="33102" y="545758"/>
                    <a:pt x="16127" y="545758"/>
                    <a:pt x="12732" y="544061"/>
                  </a:cubicBezTo>
                  <a:lnTo>
                    <a:pt x="26312" y="292825"/>
                  </a:lnTo>
                  <a:cubicBezTo>
                    <a:pt x="28010" y="292825"/>
                    <a:pt x="167207" y="299616"/>
                    <a:pt x="321683" y="262270"/>
                  </a:cubicBezTo>
                  <a:cubicBezTo>
                    <a:pt x="506715" y="218134"/>
                    <a:pt x="625542" y="133257"/>
                    <a:pt x="676468" y="12732"/>
                  </a:cubicBezTo>
                  <a:lnTo>
                    <a:pt x="909031" y="111189"/>
                  </a:lnTo>
                  <a:cubicBezTo>
                    <a:pt x="739278" y="513505"/>
                    <a:pt x="218134" y="545758"/>
                    <a:pt x="58565" y="545758"/>
                  </a:cubicBez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2" name="任意多边形: 形状 444"/>
            <p:cNvSpPr/>
            <p:nvPr/>
          </p:nvSpPr>
          <p:spPr>
            <a:xfrm>
              <a:off x="7787880" y="5238000"/>
              <a:ext cx="458280" cy="610920"/>
            </a:xfrm>
            <a:custGeom>
              <a:avLst/>
              <a:gdLst>
                <a:gd name="textAreaLeft" fmla="*/ 0 w 458280"/>
                <a:gd name="textAreaRight" fmla="*/ 458640 w 458280"/>
                <a:gd name="textAreaTop" fmla="*/ 0 h 610920"/>
                <a:gd name="textAreaBottom" fmla="*/ 611280 h 610920"/>
              </a:gdLst>
              <a:ahLst/>
              <a:rect l="textAreaLeft" t="textAreaTop" r="textAreaRight" b="textAreaBottom"/>
              <a:pathLst>
                <a:path w="458334" h="611113">
                  <a:moveTo>
                    <a:pt x="381234" y="601777"/>
                  </a:moveTo>
                  <a:cubicBezTo>
                    <a:pt x="145276" y="521992"/>
                    <a:pt x="7776" y="301313"/>
                    <a:pt x="12868" y="12732"/>
                  </a:cubicBezTo>
                  <a:lnTo>
                    <a:pt x="264104" y="17824"/>
                  </a:lnTo>
                  <a:cubicBezTo>
                    <a:pt x="262406" y="101004"/>
                    <a:pt x="277684" y="301313"/>
                    <a:pt x="461018" y="364122"/>
                  </a:cubicBezTo>
                  <a:lnTo>
                    <a:pt x="381234" y="601777"/>
                  </a:ln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3" name="任意多边形: 形状 445"/>
            <p:cNvSpPr/>
            <p:nvPr/>
          </p:nvSpPr>
          <p:spPr>
            <a:xfrm>
              <a:off x="7928640" y="5244840"/>
              <a:ext cx="1306800" cy="678960"/>
            </a:xfrm>
            <a:custGeom>
              <a:avLst/>
              <a:gdLst>
                <a:gd name="textAreaLeft" fmla="*/ 0 w 1306800"/>
                <a:gd name="textAreaRight" fmla="*/ 1307160 w 1306800"/>
                <a:gd name="textAreaTop" fmla="*/ 0 h 678960"/>
                <a:gd name="textAreaBottom" fmla="*/ 679320 h 678960"/>
              </a:gdLst>
              <a:ahLst/>
              <a:rect l="textAreaLeft" t="textAreaTop" r="textAreaRight" b="textAreaBottom"/>
              <a:pathLst>
                <a:path w="1307103" h="679014">
                  <a:moveTo>
                    <a:pt x="1302859" y="345448"/>
                  </a:moveTo>
                  <a:cubicBezTo>
                    <a:pt x="1302859" y="162115"/>
                    <a:pt x="1014278" y="12732"/>
                    <a:pt x="657795" y="12732"/>
                  </a:cubicBezTo>
                  <a:cubicBezTo>
                    <a:pt x="301313" y="12732"/>
                    <a:pt x="12732" y="162115"/>
                    <a:pt x="12732" y="345448"/>
                  </a:cubicBezTo>
                  <a:cubicBezTo>
                    <a:pt x="12732" y="528783"/>
                    <a:pt x="301313" y="678166"/>
                    <a:pt x="657795" y="678166"/>
                  </a:cubicBezTo>
                  <a:cubicBezTo>
                    <a:pt x="1014278" y="678166"/>
                    <a:pt x="1302859" y="528783"/>
                    <a:pt x="1302859" y="345448"/>
                  </a:cubicBezTo>
                  <a:close/>
                </a:path>
              </a:pathLst>
            </a:custGeom>
            <a:solidFill>
              <a:srgbClr val="36363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4" name="任意多边形: 形状 446"/>
            <p:cNvSpPr/>
            <p:nvPr/>
          </p:nvSpPr>
          <p:spPr>
            <a:xfrm>
              <a:off x="8014680" y="4277160"/>
              <a:ext cx="373320" cy="458280"/>
            </a:xfrm>
            <a:custGeom>
              <a:avLst/>
              <a:gdLst>
                <a:gd name="textAreaLeft" fmla="*/ 0 w 373320"/>
                <a:gd name="textAreaRight" fmla="*/ 373680 w 373320"/>
                <a:gd name="textAreaTop" fmla="*/ 0 h 458280"/>
                <a:gd name="textAreaBottom" fmla="*/ 458640 h 458280"/>
              </a:gdLst>
              <a:ahLst/>
              <a:rect l="textAreaLeft" t="textAreaTop" r="textAreaRight" b="textAreaBottom"/>
              <a:pathLst>
                <a:path w="373458" h="458334">
                  <a:moveTo>
                    <a:pt x="139108" y="48446"/>
                  </a:moveTo>
                  <a:cubicBezTo>
                    <a:pt x="145898" y="36563"/>
                    <a:pt x="161176" y="33168"/>
                    <a:pt x="173059" y="39958"/>
                  </a:cubicBezTo>
                  <a:cubicBezTo>
                    <a:pt x="184941" y="46748"/>
                    <a:pt x="188336" y="62026"/>
                    <a:pt x="181546" y="73909"/>
                  </a:cubicBezTo>
                  <a:lnTo>
                    <a:pt x="130620" y="158785"/>
                  </a:lnTo>
                  <a:cubicBezTo>
                    <a:pt x="134015" y="158785"/>
                    <a:pt x="139108" y="157088"/>
                    <a:pt x="142503" y="157088"/>
                  </a:cubicBezTo>
                  <a:lnTo>
                    <a:pt x="220589" y="24680"/>
                  </a:lnTo>
                  <a:cubicBezTo>
                    <a:pt x="227380" y="12797"/>
                    <a:pt x="242657" y="9402"/>
                    <a:pt x="254540" y="16192"/>
                  </a:cubicBezTo>
                  <a:cubicBezTo>
                    <a:pt x="266423" y="22982"/>
                    <a:pt x="269818" y="38260"/>
                    <a:pt x="263028" y="50143"/>
                  </a:cubicBezTo>
                  <a:lnTo>
                    <a:pt x="196824" y="162180"/>
                  </a:lnTo>
                  <a:cubicBezTo>
                    <a:pt x="200219" y="163878"/>
                    <a:pt x="203614" y="163878"/>
                    <a:pt x="207009" y="165575"/>
                  </a:cubicBezTo>
                  <a:lnTo>
                    <a:pt x="290189" y="26378"/>
                  </a:lnTo>
                  <a:cubicBezTo>
                    <a:pt x="296979" y="14495"/>
                    <a:pt x="312257" y="11100"/>
                    <a:pt x="324139" y="17890"/>
                  </a:cubicBezTo>
                  <a:cubicBezTo>
                    <a:pt x="336022" y="24680"/>
                    <a:pt x="339417" y="39958"/>
                    <a:pt x="332627" y="51841"/>
                  </a:cubicBezTo>
                  <a:lnTo>
                    <a:pt x="251145" y="189341"/>
                  </a:lnTo>
                  <a:cubicBezTo>
                    <a:pt x="254540" y="191039"/>
                    <a:pt x="256238" y="192736"/>
                    <a:pt x="259633" y="196131"/>
                  </a:cubicBezTo>
                  <a:lnTo>
                    <a:pt x="330929" y="77304"/>
                  </a:lnTo>
                  <a:cubicBezTo>
                    <a:pt x="337720" y="65421"/>
                    <a:pt x="352997" y="62026"/>
                    <a:pt x="364880" y="68816"/>
                  </a:cubicBezTo>
                  <a:cubicBezTo>
                    <a:pt x="376763" y="75606"/>
                    <a:pt x="380158" y="90884"/>
                    <a:pt x="373368" y="102767"/>
                  </a:cubicBezTo>
                  <a:lnTo>
                    <a:pt x="291886" y="238570"/>
                  </a:lnTo>
                  <a:cubicBezTo>
                    <a:pt x="295281" y="245360"/>
                    <a:pt x="298676" y="253847"/>
                    <a:pt x="300374" y="260638"/>
                  </a:cubicBezTo>
                  <a:lnTo>
                    <a:pt x="320744" y="226687"/>
                  </a:lnTo>
                  <a:cubicBezTo>
                    <a:pt x="327534" y="214804"/>
                    <a:pt x="342812" y="211409"/>
                    <a:pt x="354695" y="218199"/>
                  </a:cubicBezTo>
                  <a:cubicBezTo>
                    <a:pt x="366578" y="224989"/>
                    <a:pt x="369973" y="240267"/>
                    <a:pt x="363183" y="252150"/>
                  </a:cubicBezTo>
                  <a:lnTo>
                    <a:pt x="281701" y="389650"/>
                  </a:lnTo>
                  <a:cubicBezTo>
                    <a:pt x="280003" y="391348"/>
                    <a:pt x="280003" y="393046"/>
                    <a:pt x="278306" y="394743"/>
                  </a:cubicBezTo>
                  <a:cubicBezTo>
                    <a:pt x="234170" y="454157"/>
                    <a:pt x="150991" y="471132"/>
                    <a:pt x="84787" y="432089"/>
                  </a:cubicBezTo>
                  <a:cubicBezTo>
                    <a:pt x="15188" y="391348"/>
                    <a:pt x="-8578" y="299681"/>
                    <a:pt x="33860" y="230082"/>
                  </a:cubicBezTo>
                  <a:cubicBezTo>
                    <a:pt x="33860" y="230082"/>
                    <a:pt x="33860" y="230082"/>
                    <a:pt x="33860" y="228384"/>
                  </a:cubicBezTo>
                  <a:cubicBezTo>
                    <a:pt x="33860" y="228384"/>
                    <a:pt x="33860" y="228384"/>
                    <a:pt x="33860" y="228384"/>
                  </a:cubicBezTo>
                  <a:lnTo>
                    <a:pt x="139108" y="48446"/>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5" name="任意多边形: 形状 447"/>
            <p:cNvSpPr/>
            <p:nvPr/>
          </p:nvSpPr>
          <p:spPr>
            <a:xfrm>
              <a:off x="8249760" y="5299200"/>
              <a:ext cx="662040" cy="695880"/>
            </a:xfrm>
            <a:custGeom>
              <a:avLst/>
              <a:gdLst>
                <a:gd name="textAreaLeft" fmla="*/ 0 w 662040"/>
                <a:gd name="textAreaRight" fmla="*/ 662040 w 662040"/>
                <a:gd name="textAreaTop" fmla="*/ 0 h 695880"/>
                <a:gd name="textAreaBottom" fmla="*/ 696240 h 695880"/>
              </a:gdLst>
              <a:ahLst/>
              <a:rect l="textAreaLeft" t="textAreaTop" r="textAreaRight" b="textAreaBottom"/>
              <a:pathLst>
                <a:path w="662039" h="695989">
                  <a:moveTo>
                    <a:pt x="12732" y="352239"/>
                  </a:moveTo>
                  <a:cubicBezTo>
                    <a:pt x="12732" y="138349"/>
                    <a:pt x="158720" y="12732"/>
                    <a:pt x="336961" y="12732"/>
                  </a:cubicBezTo>
                  <a:cubicBezTo>
                    <a:pt x="516900" y="12732"/>
                    <a:pt x="661190" y="138349"/>
                    <a:pt x="661190" y="352239"/>
                  </a:cubicBezTo>
                  <a:cubicBezTo>
                    <a:pt x="661190" y="566129"/>
                    <a:pt x="515202" y="691746"/>
                    <a:pt x="336961" y="691746"/>
                  </a:cubicBezTo>
                  <a:cubicBezTo>
                    <a:pt x="158720" y="691746"/>
                    <a:pt x="12732" y="567826"/>
                    <a:pt x="12732" y="352239"/>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6" name="任意多边形: 形状 448"/>
            <p:cNvSpPr/>
            <p:nvPr/>
          </p:nvSpPr>
          <p:spPr>
            <a:xfrm>
              <a:off x="8526240" y="5258520"/>
              <a:ext cx="118800" cy="390240"/>
            </a:xfrm>
            <a:custGeom>
              <a:avLst/>
              <a:gdLst>
                <a:gd name="textAreaLeft" fmla="*/ 0 w 118800"/>
                <a:gd name="textAreaRight" fmla="*/ 119160 w 118800"/>
                <a:gd name="textAreaTop" fmla="*/ 0 h 390240"/>
                <a:gd name="textAreaBottom" fmla="*/ 390600 h 390240"/>
              </a:gdLst>
              <a:ahLst/>
              <a:rect l="textAreaLeft" t="textAreaTop" r="textAreaRight" b="textAreaBottom"/>
              <a:pathLst>
                <a:path w="118827" h="390433">
                  <a:moveTo>
                    <a:pt x="12732" y="199461"/>
                  </a:moveTo>
                  <a:cubicBezTo>
                    <a:pt x="12732" y="97608"/>
                    <a:pt x="34800" y="12732"/>
                    <a:pt x="61960" y="12732"/>
                  </a:cubicBezTo>
                  <a:cubicBezTo>
                    <a:pt x="89121" y="12732"/>
                    <a:pt x="111189" y="95911"/>
                    <a:pt x="111189" y="199461"/>
                  </a:cubicBezTo>
                  <a:cubicBezTo>
                    <a:pt x="111189" y="301313"/>
                    <a:pt x="89121" y="386190"/>
                    <a:pt x="61960" y="386190"/>
                  </a:cubicBezTo>
                  <a:cubicBezTo>
                    <a:pt x="34800" y="386190"/>
                    <a:pt x="12732" y="303010"/>
                    <a:pt x="12732" y="199461"/>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7" name="任意多边形: 形状 449"/>
            <p:cNvSpPr/>
            <p:nvPr/>
          </p:nvSpPr>
          <p:spPr>
            <a:xfrm>
              <a:off x="8881200" y="556920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24358" y="12732"/>
                  </a:moveTo>
                  <a:cubicBezTo>
                    <a:pt x="24358" y="12732"/>
                    <a:pt x="56612" y="51775"/>
                    <a:pt x="29451" y="97608"/>
                  </a:cubicBezTo>
                  <a:cubicBezTo>
                    <a:pt x="29451" y="95911"/>
                    <a:pt x="-4500" y="31405"/>
                    <a:pt x="24358" y="12732"/>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8" name="任意多边形: 形状 450"/>
            <p:cNvSpPr/>
            <p:nvPr/>
          </p:nvSpPr>
          <p:spPr>
            <a:xfrm>
              <a:off x="8240400" y="556920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28703" y="12732"/>
                  </a:moveTo>
                  <a:cubicBezTo>
                    <a:pt x="28703" y="12732"/>
                    <a:pt x="-3550" y="51775"/>
                    <a:pt x="23611" y="97608"/>
                  </a:cubicBezTo>
                  <a:cubicBezTo>
                    <a:pt x="23611" y="95911"/>
                    <a:pt x="57561" y="31405"/>
                    <a:pt x="28703" y="12732"/>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59" name="任意多边形: 形状 451"/>
            <p:cNvSpPr/>
            <p:nvPr/>
          </p:nvSpPr>
          <p:spPr>
            <a:xfrm>
              <a:off x="8251200" y="5377320"/>
              <a:ext cx="662040" cy="610920"/>
            </a:xfrm>
            <a:custGeom>
              <a:avLst/>
              <a:gdLst>
                <a:gd name="textAreaLeft" fmla="*/ 0 w 662040"/>
                <a:gd name="textAreaRight" fmla="*/ 662040 w 662040"/>
                <a:gd name="textAreaTop" fmla="*/ 0 h 610920"/>
                <a:gd name="textAreaBottom" fmla="*/ 611280 h 610920"/>
              </a:gdLst>
              <a:ahLst/>
              <a:rect l="textAreaLeft" t="textAreaTop" r="textAreaRight" b="textAreaBottom"/>
              <a:pathLst>
                <a:path w="662039" h="611113">
                  <a:moveTo>
                    <a:pt x="661190" y="301313"/>
                  </a:moveTo>
                  <a:cubicBezTo>
                    <a:pt x="661190" y="501622"/>
                    <a:pt x="515202" y="613659"/>
                    <a:pt x="336961" y="613659"/>
                  </a:cubicBezTo>
                  <a:cubicBezTo>
                    <a:pt x="157022" y="613659"/>
                    <a:pt x="12732" y="499925"/>
                    <a:pt x="12732" y="301313"/>
                  </a:cubicBezTo>
                  <a:cubicBezTo>
                    <a:pt x="12732" y="101004"/>
                    <a:pt x="158720" y="12732"/>
                    <a:pt x="336961" y="12732"/>
                  </a:cubicBezTo>
                  <a:cubicBezTo>
                    <a:pt x="515202" y="12732"/>
                    <a:pt x="661190" y="101004"/>
                    <a:pt x="661190" y="301313"/>
                  </a:cubicBezTo>
                  <a:close/>
                </a:path>
              </a:pathLst>
            </a:custGeom>
            <a:solidFill>
              <a:srgbClr val="ae6c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60" name="任意多边形: 形状 452"/>
            <p:cNvSpPr/>
            <p:nvPr/>
          </p:nvSpPr>
          <p:spPr>
            <a:xfrm>
              <a:off x="8256240" y="5545440"/>
              <a:ext cx="33840" cy="50760"/>
            </a:xfrm>
            <a:custGeom>
              <a:avLst/>
              <a:gdLst>
                <a:gd name="textAreaLeft" fmla="*/ 0 w 33840"/>
                <a:gd name="textAreaRight" fmla="*/ 34200 w 33840"/>
                <a:gd name="textAreaTop" fmla="*/ 0 h 50760"/>
                <a:gd name="textAreaBottom" fmla="*/ 51120 h 50760"/>
              </a:gdLst>
              <a:ahLst/>
              <a:rect l="textAreaLeft" t="textAreaTop" r="textAreaRight" b="textAreaBottom"/>
              <a:pathLst>
                <a:path w="33950" h="50926">
                  <a:moveTo>
                    <a:pt x="22917" y="-17156"/>
                  </a:moveTo>
                  <a:lnTo>
                    <a:pt x="-30736" y="14429"/>
                  </a:lnTo>
                  <a:lnTo>
                    <a:pt x="17824" y="12732"/>
                  </a:lnTo>
                  <a:cubicBezTo>
                    <a:pt x="16127" y="19522"/>
                    <a:pt x="14429" y="28009"/>
                    <a:pt x="12732" y="-29039"/>
                  </a:cubicBezTo>
                  <a:cubicBezTo>
                    <a:pt x="14429" y="-23946"/>
                    <a:pt x="17824" y="-18854"/>
                    <a:pt x="22917" y="-17156"/>
                  </a:cubicBezTo>
                  <a:close/>
                </a:path>
              </a:pathLst>
            </a:custGeom>
            <a:solidFill>
              <a:srgbClr val="ae6c64"/>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361" name="任意多边形: 形状 453"/>
            <p:cNvSpPr/>
            <p:nvPr/>
          </p:nvSpPr>
          <p:spPr>
            <a:xfrm>
              <a:off x="8876160" y="5543640"/>
              <a:ext cx="33840" cy="67680"/>
            </a:xfrm>
            <a:custGeom>
              <a:avLst/>
              <a:gdLst>
                <a:gd name="textAreaLeft" fmla="*/ 0 w 33840"/>
                <a:gd name="textAreaRight" fmla="*/ 34200 w 33840"/>
                <a:gd name="textAreaTop" fmla="*/ 0 h 67680"/>
                <a:gd name="textAreaBottom" fmla="*/ 68040 h 67680"/>
              </a:gdLst>
              <a:ahLst/>
              <a:rect l="textAreaLeft" t="textAreaTop" r="textAreaRight" b="textAreaBottom"/>
              <a:pathLst>
                <a:path w="33950" h="67901">
                  <a:moveTo>
                    <a:pt x="29707" y="-23946"/>
                  </a:moveTo>
                  <a:cubicBezTo>
                    <a:pt x="28010" y="31405"/>
                    <a:pt x="26312" y="22917"/>
                    <a:pt x="24614" y="12732"/>
                  </a:cubicBezTo>
                  <a:lnTo>
                    <a:pt x="12732" y="12732"/>
                  </a:lnTo>
                  <a:cubicBezTo>
                    <a:pt x="12732" y="12732"/>
                    <a:pt x="12732" y="-17156"/>
                    <a:pt x="28010" y="-5273"/>
                  </a:cubicBezTo>
                  <a:lnTo>
                    <a:pt x="29707" y="-23946"/>
                  </a:lnTo>
                  <a:close/>
                </a:path>
              </a:pathLst>
            </a:custGeom>
            <a:solidFill>
              <a:srgbClr val="ae6c64"/>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362" name="任意多边形: 形状 454"/>
            <p:cNvSpPr/>
            <p:nvPr/>
          </p:nvSpPr>
          <p:spPr>
            <a:xfrm>
              <a:off x="8273160" y="5353560"/>
              <a:ext cx="627840" cy="288360"/>
            </a:xfrm>
            <a:custGeom>
              <a:avLst/>
              <a:gdLst>
                <a:gd name="textAreaLeft" fmla="*/ 0 w 627840"/>
                <a:gd name="textAreaRight" fmla="*/ 628200 w 627840"/>
                <a:gd name="textAreaTop" fmla="*/ 0 h 288360"/>
                <a:gd name="textAreaBottom" fmla="*/ 288720 h 288360"/>
              </a:gdLst>
              <a:ahLst/>
              <a:rect l="textAreaLeft" t="textAreaTop" r="textAreaRight" b="textAreaBottom"/>
              <a:pathLst>
                <a:path w="628088" h="288581">
                  <a:moveTo>
                    <a:pt x="617360" y="204553"/>
                  </a:moveTo>
                  <a:cubicBezTo>
                    <a:pt x="617360" y="204553"/>
                    <a:pt x="566434" y="87423"/>
                    <a:pt x="484952" y="48380"/>
                  </a:cubicBezTo>
                  <a:cubicBezTo>
                    <a:pt x="484952" y="48380"/>
                    <a:pt x="498533" y="56868"/>
                    <a:pt x="503625" y="78935"/>
                  </a:cubicBezTo>
                  <a:cubicBezTo>
                    <a:pt x="503625" y="78935"/>
                    <a:pt x="406866" y="17824"/>
                    <a:pt x="327081" y="12732"/>
                  </a:cubicBezTo>
                  <a:cubicBezTo>
                    <a:pt x="327081" y="12732"/>
                    <a:pt x="352544" y="17824"/>
                    <a:pt x="388193" y="41589"/>
                  </a:cubicBezTo>
                  <a:cubicBezTo>
                    <a:pt x="388193" y="41589"/>
                    <a:pt x="252390" y="4244"/>
                    <a:pt x="160723" y="36497"/>
                  </a:cubicBezTo>
                  <a:cubicBezTo>
                    <a:pt x="160723" y="36497"/>
                    <a:pt x="203161" y="33102"/>
                    <a:pt x="232019" y="43287"/>
                  </a:cubicBezTo>
                  <a:cubicBezTo>
                    <a:pt x="232019" y="43287"/>
                    <a:pt x="147143" y="36497"/>
                    <a:pt x="109797" y="63658"/>
                  </a:cubicBezTo>
                  <a:cubicBezTo>
                    <a:pt x="52080" y="106096"/>
                    <a:pt x="18130" y="167207"/>
                    <a:pt x="13037" y="204553"/>
                  </a:cubicBezTo>
                  <a:cubicBezTo>
                    <a:pt x="6247" y="241899"/>
                    <a:pt x="114889" y="291127"/>
                    <a:pt x="114889" y="291127"/>
                  </a:cubicBezTo>
                  <a:lnTo>
                    <a:pt x="357637" y="270757"/>
                  </a:lnTo>
                  <a:lnTo>
                    <a:pt x="617360" y="204553"/>
                  </a:lnTo>
                  <a:close/>
                </a:path>
              </a:pathLst>
            </a:custGeom>
            <a:solidFill>
              <a:srgbClr val="ae6c64"/>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63" name="任意多边形: 形状 455"/>
            <p:cNvSpPr/>
            <p:nvPr/>
          </p:nvSpPr>
          <p:spPr>
            <a:xfrm>
              <a:off x="10527840" y="4083480"/>
              <a:ext cx="271440" cy="475200"/>
            </a:xfrm>
            <a:custGeom>
              <a:avLst/>
              <a:gdLst>
                <a:gd name="textAreaLeft" fmla="*/ 0 w 271440"/>
                <a:gd name="textAreaRight" fmla="*/ 271800 w 271440"/>
                <a:gd name="textAreaTop" fmla="*/ 0 h 475200"/>
                <a:gd name="textAreaBottom" fmla="*/ 475560 h 475200"/>
              </a:gdLst>
              <a:ahLst/>
              <a:rect l="textAreaLeft" t="textAreaTop" r="textAreaRight" b="textAreaBottom"/>
              <a:pathLst>
                <a:path w="271605" h="475310">
                  <a:moveTo>
                    <a:pt x="263967" y="34800"/>
                  </a:moveTo>
                  <a:lnTo>
                    <a:pt x="263967" y="34800"/>
                  </a:lnTo>
                  <a:cubicBezTo>
                    <a:pt x="262269" y="22917"/>
                    <a:pt x="250387" y="12732"/>
                    <a:pt x="236806" y="12732"/>
                  </a:cubicBezTo>
                  <a:lnTo>
                    <a:pt x="39892" y="12732"/>
                  </a:lnTo>
                  <a:cubicBezTo>
                    <a:pt x="26312" y="12732"/>
                    <a:pt x="16126" y="22917"/>
                    <a:pt x="12732" y="34800"/>
                  </a:cubicBezTo>
                  <a:cubicBezTo>
                    <a:pt x="12732" y="36497"/>
                    <a:pt x="12732" y="38195"/>
                    <a:pt x="12732" y="39892"/>
                  </a:cubicBezTo>
                  <a:lnTo>
                    <a:pt x="12732" y="408258"/>
                  </a:lnTo>
                  <a:lnTo>
                    <a:pt x="12732" y="443906"/>
                  </a:lnTo>
                  <a:cubicBezTo>
                    <a:pt x="12732" y="459184"/>
                    <a:pt x="24614" y="471066"/>
                    <a:pt x="39892" y="471066"/>
                  </a:cubicBezTo>
                  <a:lnTo>
                    <a:pt x="236806" y="471066"/>
                  </a:lnTo>
                  <a:cubicBezTo>
                    <a:pt x="252084" y="471066"/>
                    <a:pt x="263967" y="459184"/>
                    <a:pt x="263967" y="443906"/>
                  </a:cubicBezTo>
                  <a:lnTo>
                    <a:pt x="263967" y="408258"/>
                  </a:lnTo>
                  <a:lnTo>
                    <a:pt x="263967" y="39892"/>
                  </a:lnTo>
                  <a:cubicBezTo>
                    <a:pt x="263967" y="38195"/>
                    <a:pt x="263967" y="36497"/>
                    <a:pt x="263967" y="34800"/>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64" name="任意多边形: 形状 456"/>
            <p:cNvSpPr/>
            <p:nvPr/>
          </p:nvSpPr>
          <p:spPr>
            <a:xfrm>
              <a:off x="10510920" y="4083480"/>
              <a:ext cx="271440" cy="475200"/>
            </a:xfrm>
            <a:custGeom>
              <a:avLst/>
              <a:gdLst>
                <a:gd name="textAreaLeft" fmla="*/ 0 w 271440"/>
                <a:gd name="textAreaRight" fmla="*/ 271800 w 271440"/>
                <a:gd name="textAreaTop" fmla="*/ 0 h 475200"/>
                <a:gd name="textAreaBottom" fmla="*/ 475560 h 475200"/>
              </a:gdLst>
              <a:ahLst/>
              <a:rect l="textAreaLeft" t="textAreaTop" r="textAreaRight" b="textAreaBottom"/>
              <a:pathLst>
                <a:path w="271605" h="475310">
                  <a:moveTo>
                    <a:pt x="263967" y="443906"/>
                  </a:moveTo>
                  <a:cubicBezTo>
                    <a:pt x="263967" y="459184"/>
                    <a:pt x="252084" y="471066"/>
                    <a:pt x="236806" y="471066"/>
                  </a:cubicBezTo>
                  <a:lnTo>
                    <a:pt x="39892" y="471066"/>
                  </a:lnTo>
                  <a:cubicBezTo>
                    <a:pt x="24614" y="471066"/>
                    <a:pt x="12732" y="459184"/>
                    <a:pt x="12732" y="443906"/>
                  </a:cubicBezTo>
                  <a:lnTo>
                    <a:pt x="12732" y="39892"/>
                  </a:lnTo>
                  <a:cubicBezTo>
                    <a:pt x="12732" y="24614"/>
                    <a:pt x="24614" y="12732"/>
                    <a:pt x="39892" y="12732"/>
                  </a:cubicBezTo>
                  <a:lnTo>
                    <a:pt x="238504" y="12732"/>
                  </a:lnTo>
                  <a:cubicBezTo>
                    <a:pt x="253781" y="12732"/>
                    <a:pt x="265664" y="24614"/>
                    <a:pt x="265664" y="39892"/>
                  </a:cubicBezTo>
                  <a:lnTo>
                    <a:pt x="265664" y="443906"/>
                  </a:lnTo>
                  <a:lnTo>
                    <a:pt x="263967" y="443906"/>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65" name="任意多边形: 形状 457"/>
            <p:cNvSpPr/>
            <p:nvPr/>
          </p:nvSpPr>
          <p:spPr>
            <a:xfrm>
              <a:off x="10512360" y="4105440"/>
              <a:ext cx="271440" cy="390240"/>
            </a:xfrm>
            <a:custGeom>
              <a:avLst/>
              <a:gdLst>
                <a:gd name="textAreaLeft" fmla="*/ 0 w 271440"/>
                <a:gd name="textAreaRight" fmla="*/ 271800 w 271440"/>
                <a:gd name="textAreaTop" fmla="*/ 0 h 390240"/>
                <a:gd name="textAreaBottom" fmla="*/ 390600 h 390240"/>
              </a:gdLst>
              <a:ahLst/>
              <a:rect l="textAreaLeft" t="textAreaTop" r="textAreaRight" b="textAreaBottom"/>
              <a:pathLst>
                <a:path w="271605" h="390433">
                  <a:moveTo>
                    <a:pt x="12732" y="17824"/>
                  </a:moveTo>
                  <a:lnTo>
                    <a:pt x="12732" y="386190"/>
                  </a:lnTo>
                  <a:lnTo>
                    <a:pt x="263967" y="386190"/>
                  </a:lnTo>
                  <a:lnTo>
                    <a:pt x="263967" y="17824"/>
                  </a:lnTo>
                  <a:cubicBezTo>
                    <a:pt x="263967" y="16127"/>
                    <a:pt x="263967" y="14429"/>
                    <a:pt x="263967" y="12732"/>
                  </a:cubicBezTo>
                  <a:lnTo>
                    <a:pt x="14429" y="12732"/>
                  </a:lnTo>
                  <a:cubicBezTo>
                    <a:pt x="12732" y="14429"/>
                    <a:pt x="12732" y="16127"/>
                    <a:pt x="12732" y="178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366" name="任意多边形: 形状 458"/>
            <p:cNvSpPr/>
            <p:nvPr/>
          </p:nvSpPr>
          <p:spPr>
            <a:xfrm>
              <a:off x="10541520" y="4147920"/>
              <a:ext cx="203400" cy="16920"/>
            </a:xfrm>
            <a:custGeom>
              <a:avLst/>
              <a:gdLst>
                <a:gd name="textAreaLeft" fmla="*/ 0 w 203400"/>
                <a:gd name="textAreaRight" fmla="*/ 203760 w 203400"/>
                <a:gd name="textAreaTop" fmla="*/ 0 h 16920"/>
                <a:gd name="textAreaBottom" fmla="*/ 17280 h 16920"/>
              </a:gdLst>
              <a:ahLst/>
              <a:rect l="textAreaLeft" t="textAreaTop" r="textAreaRight" b="textAreaBottom"/>
              <a:pathLst>
                <a:path w="203704" h="16975">
                  <a:moveTo>
                    <a:pt x="12732" y="12732"/>
                  </a:moveTo>
                  <a:lnTo>
                    <a:pt x="204553" y="12732"/>
                  </a:lnTo>
                  <a:lnTo>
                    <a:pt x="204553" y="17824"/>
                  </a:lnTo>
                  <a:lnTo>
                    <a:pt x="12732" y="17824"/>
                  </a:lnTo>
                  <a:lnTo>
                    <a:pt x="12732" y="12732"/>
                  </a:lnTo>
                  <a:close/>
                </a:path>
              </a:pathLst>
            </a:custGeom>
            <a:solidFill>
              <a:srgbClr val="98666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67" name="任意多边形: 形状 459"/>
            <p:cNvSpPr/>
            <p:nvPr/>
          </p:nvSpPr>
          <p:spPr>
            <a:xfrm>
              <a:off x="10561680" y="4159800"/>
              <a:ext cx="169560" cy="16920"/>
            </a:xfrm>
            <a:custGeom>
              <a:avLst/>
              <a:gdLst>
                <a:gd name="textAreaLeft" fmla="*/ 0 w 169560"/>
                <a:gd name="textAreaRight" fmla="*/ 169920 w 169560"/>
                <a:gd name="textAreaTop" fmla="*/ 0 h 16920"/>
                <a:gd name="textAreaBottom" fmla="*/ 17280 h 16920"/>
              </a:gdLst>
              <a:ahLst/>
              <a:rect l="textAreaLeft" t="textAreaTop" r="textAreaRight" b="textAreaBottom"/>
              <a:pathLst>
                <a:path w="169753" h="16975">
                  <a:moveTo>
                    <a:pt x="12732" y="12732"/>
                  </a:moveTo>
                  <a:lnTo>
                    <a:pt x="165510" y="12732"/>
                  </a:lnTo>
                  <a:lnTo>
                    <a:pt x="165510" y="17824"/>
                  </a:lnTo>
                  <a:lnTo>
                    <a:pt x="12732" y="17824"/>
                  </a:lnTo>
                  <a:lnTo>
                    <a:pt x="12732" y="12732"/>
                  </a:lnTo>
                  <a:close/>
                </a:path>
              </a:pathLst>
            </a:custGeom>
            <a:solidFill>
              <a:srgbClr val="98666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68" name="任意多边形: 形状 460"/>
            <p:cNvSpPr/>
            <p:nvPr/>
          </p:nvSpPr>
          <p:spPr>
            <a:xfrm>
              <a:off x="10558440" y="4194000"/>
              <a:ext cx="84600" cy="16920"/>
            </a:xfrm>
            <a:custGeom>
              <a:avLst/>
              <a:gdLst>
                <a:gd name="textAreaLeft" fmla="*/ 0 w 84600"/>
                <a:gd name="textAreaRight" fmla="*/ 84960 w 84600"/>
                <a:gd name="textAreaTop" fmla="*/ 0 h 16920"/>
                <a:gd name="textAreaBottom" fmla="*/ 17280 h 16920"/>
              </a:gdLst>
              <a:ahLst/>
              <a:rect l="textAreaLeft" t="textAreaTop" r="textAreaRight" b="textAreaBottom"/>
              <a:pathLst>
                <a:path w="84876" h="16975">
                  <a:moveTo>
                    <a:pt x="12732" y="12732"/>
                  </a:moveTo>
                  <a:lnTo>
                    <a:pt x="87423" y="12732"/>
                  </a:lnTo>
                  <a:lnTo>
                    <a:pt x="87423"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69" name="任意多边形: 形状 461"/>
            <p:cNvSpPr/>
            <p:nvPr/>
          </p:nvSpPr>
          <p:spPr>
            <a:xfrm>
              <a:off x="10542960" y="420408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1"/>
                  </a:moveTo>
                  <a:lnTo>
                    <a:pt x="101004" y="12731"/>
                  </a:lnTo>
                  <a:lnTo>
                    <a:pt x="101004" y="17824"/>
                  </a:lnTo>
                  <a:lnTo>
                    <a:pt x="12732" y="17824"/>
                  </a:lnTo>
                  <a:lnTo>
                    <a:pt x="12732"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0" name="任意多边形: 形状 462"/>
            <p:cNvSpPr/>
            <p:nvPr/>
          </p:nvSpPr>
          <p:spPr>
            <a:xfrm>
              <a:off x="10542960" y="421272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1"/>
                  </a:moveTo>
                  <a:lnTo>
                    <a:pt x="101004" y="12731"/>
                  </a:lnTo>
                  <a:lnTo>
                    <a:pt x="101004" y="17824"/>
                  </a:lnTo>
                  <a:lnTo>
                    <a:pt x="12732" y="17824"/>
                  </a:lnTo>
                  <a:lnTo>
                    <a:pt x="12732"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1" name="任意多边形: 形状 463"/>
            <p:cNvSpPr/>
            <p:nvPr/>
          </p:nvSpPr>
          <p:spPr>
            <a:xfrm>
              <a:off x="10542960" y="422280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2" name="任意多边形: 形状 464"/>
            <p:cNvSpPr/>
            <p:nvPr/>
          </p:nvSpPr>
          <p:spPr>
            <a:xfrm>
              <a:off x="10542960" y="423108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3" name="任意多边形: 形状 465"/>
            <p:cNvSpPr/>
            <p:nvPr/>
          </p:nvSpPr>
          <p:spPr>
            <a:xfrm>
              <a:off x="10542960" y="424152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4" name="任意多边形: 形状 466"/>
            <p:cNvSpPr/>
            <p:nvPr/>
          </p:nvSpPr>
          <p:spPr>
            <a:xfrm>
              <a:off x="10656720" y="4194000"/>
              <a:ext cx="84600" cy="16920"/>
            </a:xfrm>
            <a:custGeom>
              <a:avLst/>
              <a:gdLst>
                <a:gd name="textAreaLeft" fmla="*/ 0 w 84600"/>
                <a:gd name="textAreaRight" fmla="*/ 84960 w 84600"/>
                <a:gd name="textAreaTop" fmla="*/ 0 h 16920"/>
                <a:gd name="textAreaBottom" fmla="*/ 17280 h 16920"/>
              </a:gdLst>
              <a:ahLst/>
              <a:rect l="textAreaLeft" t="textAreaTop" r="textAreaRight" b="textAreaBottom"/>
              <a:pathLst>
                <a:path w="84876" h="16975">
                  <a:moveTo>
                    <a:pt x="12731" y="12732"/>
                  </a:moveTo>
                  <a:lnTo>
                    <a:pt x="87423" y="12732"/>
                  </a:lnTo>
                  <a:lnTo>
                    <a:pt x="87423" y="17824"/>
                  </a:lnTo>
                  <a:lnTo>
                    <a:pt x="12731" y="17824"/>
                  </a:lnTo>
                  <a:lnTo>
                    <a:pt x="12731"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5" name="任意多边形: 形状 467"/>
            <p:cNvSpPr/>
            <p:nvPr/>
          </p:nvSpPr>
          <p:spPr>
            <a:xfrm>
              <a:off x="10643400" y="420408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1"/>
                  </a:moveTo>
                  <a:lnTo>
                    <a:pt x="101004" y="12731"/>
                  </a:lnTo>
                  <a:lnTo>
                    <a:pt x="101004" y="17824"/>
                  </a:lnTo>
                  <a:lnTo>
                    <a:pt x="12732" y="17824"/>
                  </a:lnTo>
                  <a:lnTo>
                    <a:pt x="12732"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6" name="任意多边形: 形状 468"/>
            <p:cNvSpPr/>
            <p:nvPr/>
          </p:nvSpPr>
          <p:spPr>
            <a:xfrm>
              <a:off x="10643400" y="421272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1"/>
                  </a:moveTo>
                  <a:lnTo>
                    <a:pt x="101004" y="12731"/>
                  </a:lnTo>
                  <a:lnTo>
                    <a:pt x="101004" y="17824"/>
                  </a:lnTo>
                  <a:lnTo>
                    <a:pt x="12732" y="17824"/>
                  </a:lnTo>
                  <a:lnTo>
                    <a:pt x="12732"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7" name="任意多边形: 形状 469"/>
            <p:cNvSpPr/>
            <p:nvPr/>
          </p:nvSpPr>
          <p:spPr>
            <a:xfrm>
              <a:off x="10643400" y="422280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8" name="任意多边形: 形状 470"/>
            <p:cNvSpPr/>
            <p:nvPr/>
          </p:nvSpPr>
          <p:spPr>
            <a:xfrm>
              <a:off x="10643400" y="423108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79" name="任意多边形: 形状 471"/>
            <p:cNvSpPr/>
            <p:nvPr/>
          </p:nvSpPr>
          <p:spPr>
            <a:xfrm>
              <a:off x="10643400" y="424152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0" name="任意多边形: 形状 472"/>
            <p:cNvSpPr/>
            <p:nvPr/>
          </p:nvSpPr>
          <p:spPr>
            <a:xfrm>
              <a:off x="10558440" y="4266720"/>
              <a:ext cx="84600" cy="16920"/>
            </a:xfrm>
            <a:custGeom>
              <a:avLst/>
              <a:gdLst>
                <a:gd name="textAreaLeft" fmla="*/ 0 w 84600"/>
                <a:gd name="textAreaRight" fmla="*/ 84960 w 84600"/>
                <a:gd name="textAreaTop" fmla="*/ 0 h 16920"/>
                <a:gd name="textAreaBottom" fmla="*/ 17280 h 16920"/>
              </a:gdLst>
              <a:ahLst/>
              <a:rect l="textAreaLeft" t="textAreaTop" r="textAreaRight" b="textAreaBottom"/>
              <a:pathLst>
                <a:path w="84876" h="16975">
                  <a:moveTo>
                    <a:pt x="12732" y="12732"/>
                  </a:moveTo>
                  <a:lnTo>
                    <a:pt x="87423" y="12732"/>
                  </a:lnTo>
                  <a:lnTo>
                    <a:pt x="87423"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1" name="任意多边形: 形状 473"/>
            <p:cNvSpPr/>
            <p:nvPr/>
          </p:nvSpPr>
          <p:spPr>
            <a:xfrm>
              <a:off x="10542960" y="427536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2" name="任意多边形: 形状 474"/>
            <p:cNvSpPr/>
            <p:nvPr/>
          </p:nvSpPr>
          <p:spPr>
            <a:xfrm>
              <a:off x="10542960" y="428544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1"/>
                  </a:moveTo>
                  <a:lnTo>
                    <a:pt x="101004" y="12731"/>
                  </a:lnTo>
                  <a:lnTo>
                    <a:pt x="101004" y="17824"/>
                  </a:lnTo>
                  <a:lnTo>
                    <a:pt x="12732" y="17824"/>
                  </a:lnTo>
                  <a:lnTo>
                    <a:pt x="12732"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3" name="任意多边形: 形状 475"/>
            <p:cNvSpPr/>
            <p:nvPr/>
          </p:nvSpPr>
          <p:spPr>
            <a:xfrm>
              <a:off x="10542960" y="429588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4" name="任意多边形: 形状 476"/>
            <p:cNvSpPr/>
            <p:nvPr/>
          </p:nvSpPr>
          <p:spPr>
            <a:xfrm>
              <a:off x="10542960" y="430416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5" name="任意多边形: 形状 477"/>
            <p:cNvSpPr/>
            <p:nvPr/>
          </p:nvSpPr>
          <p:spPr>
            <a:xfrm>
              <a:off x="10542960" y="431460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1"/>
                  </a:moveTo>
                  <a:lnTo>
                    <a:pt x="101004" y="12731"/>
                  </a:lnTo>
                  <a:lnTo>
                    <a:pt x="101004" y="17824"/>
                  </a:lnTo>
                  <a:lnTo>
                    <a:pt x="12732" y="17824"/>
                  </a:lnTo>
                  <a:lnTo>
                    <a:pt x="12732"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6" name="任意多边形: 形状 478"/>
            <p:cNvSpPr/>
            <p:nvPr/>
          </p:nvSpPr>
          <p:spPr>
            <a:xfrm>
              <a:off x="10656720" y="4266720"/>
              <a:ext cx="84600" cy="16920"/>
            </a:xfrm>
            <a:custGeom>
              <a:avLst/>
              <a:gdLst>
                <a:gd name="textAreaLeft" fmla="*/ 0 w 84600"/>
                <a:gd name="textAreaRight" fmla="*/ 84960 w 84600"/>
                <a:gd name="textAreaTop" fmla="*/ 0 h 16920"/>
                <a:gd name="textAreaBottom" fmla="*/ 17280 h 16920"/>
              </a:gdLst>
              <a:ahLst/>
              <a:rect l="textAreaLeft" t="textAreaTop" r="textAreaRight" b="textAreaBottom"/>
              <a:pathLst>
                <a:path w="84876" h="16975">
                  <a:moveTo>
                    <a:pt x="12731" y="12732"/>
                  </a:moveTo>
                  <a:lnTo>
                    <a:pt x="87423" y="12732"/>
                  </a:lnTo>
                  <a:lnTo>
                    <a:pt x="87423" y="17824"/>
                  </a:lnTo>
                  <a:lnTo>
                    <a:pt x="12731" y="17824"/>
                  </a:lnTo>
                  <a:lnTo>
                    <a:pt x="12731"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7" name="任意多边形: 形状 479"/>
            <p:cNvSpPr/>
            <p:nvPr/>
          </p:nvSpPr>
          <p:spPr>
            <a:xfrm>
              <a:off x="10643400" y="427536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8" name="任意多边形: 形状 480"/>
            <p:cNvSpPr/>
            <p:nvPr/>
          </p:nvSpPr>
          <p:spPr>
            <a:xfrm>
              <a:off x="10643400" y="428544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1"/>
                  </a:moveTo>
                  <a:lnTo>
                    <a:pt x="101004" y="12731"/>
                  </a:lnTo>
                  <a:lnTo>
                    <a:pt x="101004" y="17824"/>
                  </a:lnTo>
                  <a:lnTo>
                    <a:pt x="12732" y="17824"/>
                  </a:lnTo>
                  <a:lnTo>
                    <a:pt x="12732"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89" name="任意多边形: 形状 481"/>
            <p:cNvSpPr/>
            <p:nvPr/>
          </p:nvSpPr>
          <p:spPr>
            <a:xfrm>
              <a:off x="10643400" y="429588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90" name="任意多边形: 形状 482"/>
            <p:cNvSpPr/>
            <p:nvPr/>
          </p:nvSpPr>
          <p:spPr>
            <a:xfrm>
              <a:off x="10643400" y="430416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2"/>
                  </a:moveTo>
                  <a:lnTo>
                    <a:pt x="101004" y="12732"/>
                  </a:lnTo>
                  <a:lnTo>
                    <a:pt x="101004" y="17824"/>
                  </a:lnTo>
                  <a:lnTo>
                    <a:pt x="12732" y="17824"/>
                  </a:lnTo>
                  <a:lnTo>
                    <a:pt x="12732"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91" name="任意多边形: 形状 483"/>
            <p:cNvSpPr/>
            <p:nvPr/>
          </p:nvSpPr>
          <p:spPr>
            <a:xfrm>
              <a:off x="10643400" y="4314600"/>
              <a:ext cx="101520" cy="16920"/>
            </a:xfrm>
            <a:custGeom>
              <a:avLst/>
              <a:gdLst>
                <a:gd name="textAreaLeft" fmla="*/ 0 w 101520"/>
                <a:gd name="textAreaRight" fmla="*/ 101880 w 101520"/>
                <a:gd name="textAreaTop" fmla="*/ 0 h 16920"/>
                <a:gd name="textAreaBottom" fmla="*/ 17280 h 16920"/>
              </a:gdLst>
              <a:ahLst/>
              <a:rect l="textAreaLeft" t="textAreaTop" r="textAreaRight" b="textAreaBottom"/>
              <a:pathLst>
                <a:path w="101852" h="16975">
                  <a:moveTo>
                    <a:pt x="12732" y="12731"/>
                  </a:moveTo>
                  <a:lnTo>
                    <a:pt x="101004" y="12731"/>
                  </a:lnTo>
                  <a:lnTo>
                    <a:pt x="101004" y="17824"/>
                  </a:lnTo>
                  <a:lnTo>
                    <a:pt x="12732" y="17824"/>
                  </a:lnTo>
                  <a:lnTo>
                    <a:pt x="12732"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92" name="任意多边形: 形状 484"/>
            <p:cNvSpPr/>
            <p:nvPr/>
          </p:nvSpPr>
          <p:spPr>
            <a:xfrm>
              <a:off x="10542960" y="4336560"/>
              <a:ext cx="118800" cy="84600"/>
            </a:xfrm>
            <a:custGeom>
              <a:avLst/>
              <a:gdLst>
                <a:gd name="textAreaLeft" fmla="*/ 0 w 118800"/>
                <a:gd name="textAreaRight" fmla="*/ 119160 w 118800"/>
                <a:gd name="textAreaTop" fmla="*/ 0 h 84600"/>
                <a:gd name="textAreaBottom" fmla="*/ 84960 h 84600"/>
              </a:gdLst>
              <a:ahLst/>
              <a:rect l="textAreaLeft" t="textAreaTop" r="textAreaRight" b="textAreaBottom"/>
              <a:pathLst>
                <a:path w="118827" h="84876">
                  <a:moveTo>
                    <a:pt x="121374" y="61960"/>
                  </a:moveTo>
                  <a:cubicBezTo>
                    <a:pt x="121374" y="72145"/>
                    <a:pt x="112886" y="80633"/>
                    <a:pt x="102701" y="80633"/>
                  </a:cubicBezTo>
                  <a:lnTo>
                    <a:pt x="31405" y="80633"/>
                  </a:lnTo>
                  <a:cubicBezTo>
                    <a:pt x="21219" y="80633"/>
                    <a:pt x="12732" y="72145"/>
                    <a:pt x="12732" y="61960"/>
                  </a:cubicBezTo>
                  <a:lnTo>
                    <a:pt x="12732" y="31405"/>
                  </a:lnTo>
                  <a:cubicBezTo>
                    <a:pt x="12732" y="21219"/>
                    <a:pt x="21219" y="12732"/>
                    <a:pt x="31405" y="12732"/>
                  </a:cubicBezTo>
                  <a:lnTo>
                    <a:pt x="102701" y="12732"/>
                  </a:lnTo>
                  <a:cubicBezTo>
                    <a:pt x="112886" y="12732"/>
                    <a:pt x="121374" y="21219"/>
                    <a:pt x="121374" y="31405"/>
                  </a:cubicBezTo>
                  <a:lnTo>
                    <a:pt x="121374" y="61960"/>
                  </a:lnTo>
                  <a:close/>
                </a:path>
              </a:pathLst>
            </a:custGeom>
            <a:solidFill>
              <a:srgbClr val="5d5d5d"/>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393" name="任意多边形: 形状 485"/>
            <p:cNvSpPr/>
            <p:nvPr/>
          </p:nvSpPr>
          <p:spPr>
            <a:xfrm>
              <a:off x="10677240" y="4339800"/>
              <a:ext cx="67680" cy="16920"/>
            </a:xfrm>
            <a:custGeom>
              <a:avLst/>
              <a:gdLst>
                <a:gd name="textAreaLeft" fmla="*/ 0 w 67680"/>
                <a:gd name="textAreaRight" fmla="*/ 68040 w 67680"/>
                <a:gd name="textAreaTop" fmla="*/ 0 h 16920"/>
                <a:gd name="textAreaBottom" fmla="*/ 17280 h 16920"/>
              </a:gdLst>
              <a:ahLst/>
              <a:rect l="textAreaLeft" t="textAreaTop" r="textAreaRight" b="textAreaBottom"/>
              <a:pathLst>
                <a:path w="67901" h="16975">
                  <a:moveTo>
                    <a:pt x="12732" y="12731"/>
                  </a:moveTo>
                  <a:lnTo>
                    <a:pt x="67053" y="12731"/>
                  </a:lnTo>
                  <a:lnTo>
                    <a:pt x="67053" y="17824"/>
                  </a:lnTo>
                  <a:lnTo>
                    <a:pt x="12732" y="17824"/>
                  </a:lnTo>
                  <a:lnTo>
                    <a:pt x="12732"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94" name="任意多边形: 形状 486"/>
            <p:cNvSpPr/>
            <p:nvPr/>
          </p:nvSpPr>
          <p:spPr>
            <a:xfrm>
              <a:off x="10667160" y="4351680"/>
              <a:ext cx="84600" cy="16920"/>
            </a:xfrm>
            <a:custGeom>
              <a:avLst/>
              <a:gdLst>
                <a:gd name="textAreaLeft" fmla="*/ 0 w 84600"/>
                <a:gd name="textAreaRight" fmla="*/ 84960 w 84600"/>
                <a:gd name="textAreaTop" fmla="*/ 0 h 16920"/>
                <a:gd name="textAreaBottom" fmla="*/ 17280 h 16920"/>
              </a:gdLst>
              <a:ahLst/>
              <a:rect l="textAreaLeft" t="textAreaTop" r="textAreaRight" b="textAreaBottom"/>
              <a:pathLst>
                <a:path w="84876" h="16975">
                  <a:moveTo>
                    <a:pt x="12731" y="12732"/>
                  </a:moveTo>
                  <a:lnTo>
                    <a:pt x="77238" y="12732"/>
                  </a:lnTo>
                  <a:lnTo>
                    <a:pt x="77238" y="17824"/>
                  </a:lnTo>
                  <a:lnTo>
                    <a:pt x="12731" y="17824"/>
                  </a:lnTo>
                  <a:lnTo>
                    <a:pt x="12731"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95" name="任意多边形: 形状 487"/>
            <p:cNvSpPr/>
            <p:nvPr/>
          </p:nvSpPr>
          <p:spPr>
            <a:xfrm>
              <a:off x="10667160" y="4362120"/>
              <a:ext cx="84600" cy="16920"/>
            </a:xfrm>
            <a:custGeom>
              <a:avLst/>
              <a:gdLst>
                <a:gd name="textAreaLeft" fmla="*/ 0 w 84600"/>
                <a:gd name="textAreaRight" fmla="*/ 84960 w 84600"/>
                <a:gd name="textAreaTop" fmla="*/ 0 h 16920"/>
                <a:gd name="textAreaBottom" fmla="*/ 17280 h 16920"/>
              </a:gdLst>
              <a:ahLst/>
              <a:rect l="textAreaLeft" t="textAreaTop" r="textAreaRight" b="textAreaBottom"/>
              <a:pathLst>
                <a:path w="84876" h="16975">
                  <a:moveTo>
                    <a:pt x="12731" y="12731"/>
                  </a:moveTo>
                  <a:lnTo>
                    <a:pt x="77238" y="12731"/>
                  </a:lnTo>
                  <a:lnTo>
                    <a:pt x="77238" y="17824"/>
                  </a:lnTo>
                  <a:lnTo>
                    <a:pt x="12731" y="17824"/>
                  </a:lnTo>
                  <a:lnTo>
                    <a:pt x="12731"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96" name="任意多边形: 形状 488"/>
            <p:cNvSpPr/>
            <p:nvPr/>
          </p:nvSpPr>
          <p:spPr>
            <a:xfrm>
              <a:off x="10667160" y="4374000"/>
              <a:ext cx="84600" cy="16920"/>
            </a:xfrm>
            <a:custGeom>
              <a:avLst/>
              <a:gdLst>
                <a:gd name="textAreaLeft" fmla="*/ 0 w 84600"/>
                <a:gd name="textAreaRight" fmla="*/ 84960 w 84600"/>
                <a:gd name="textAreaTop" fmla="*/ 0 h 16920"/>
                <a:gd name="textAreaBottom" fmla="*/ 17280 h 16920"/>
              </a:gdLst>
              <a:ahLst/>
              <a:rect l="textAreaLeft" t="textAreaTop" r="textAreaRight" b="textAreaBottom"/>
              <a:pathLst>
                <a:path w="84876" h="16975">
                  <a:moveTo>
                    <a:pt x="12731" y="12731"/>
                  </a:moveTo>
                  <a:lnTo>
                    <a:pt x="77238" y="12731"/>
                  </a:lnTo>
                  <a:lnTo>
                    <a:pt x="77238" y="17824"/>
                  </a:lnTo>
                  <a:lnTo>
                    <a:pt x="12731" y="17824"/>
                  </a:lnTo>
                  <a:lnTo>
                    <a:pt x="12731"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97" name="任意多边形: 形状 489"/>
            <p:cNvSpPr/>
            <p:nvPr/>
          </p:nvSpPr>
          <p:spPr>
            <a:xfrm>
              <a:off x="10667160" y="4384080"/>
              <a:ext cx="84600" cy="16920"/>
            </a:xfrm>
            <a:custGeom>
              <a:avLst/>
              <a:gdLst>
                <a:gd name="textAreaLeft" fmla="*/ 0 w 84600"/>
                <a:gd name="textAreaRight" fmla="*/ 84960 w 84600"/>
                <a:gd name="textAreaTop" fmla="*/ 0 h 16920"/>
                <a:gd name="textAreaBottom" fmla="*/ 17280 h 16920"/>
              </a:gdLst>
              <a:ahLst/>
              <a:rect l="textAreaLeft" t="textAreaTop" r="textAreaRight" b="textAreaBottom"/>
              <a:pathLst>
                <a:path w="84876" h="16975">
                  <a:moveTo>
                    <a:pt x="12731" y="12732"/>
                  </a:moveTo>
                  <a:lnTo>
                    <a:pt x="77238" y="12732"/>
                  </a:lnTo>
                  <a:lnTo>
                    <a:pt x="77238" y="17824"/>
                  </a:lnTo>
                  <a:lnTo>
                    <a:pt x="12731" y="17824"/>
                  </a:lnTo>
                  <a:lnTo>
                    <a:pt x="12731" y="12732"/>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98" name="任意多边形: 形状 490"/>
            <p:cNvSpPr/>
            <p:nvPr/>
          </p:nvSpPr>
          <p:spPr>
            <a:xfrm>
              <a:off x="10667160" y="4395960"/>
              <a:ext cx="84600" cy="16920"/>
            </a:xfrm>
            <a:custGeom>
              <a:avLst/>
              <a:gdLst>
                <a:gd name="textAreaLeft" fmla="*/ 0 w 84600"/>
                <a:gd name="textAreaRight" fmla="*/ 84960 w 84600"/>
                <a:gd name="textAreaTop" fmla="*/ 0 h 16920"/>
                <a:gd name="textAreaBottom" fmla="*/ 17280 h 16920"/>
              </a:gdLst>
              <a:ahLst/>
              <a:rect l="textAreaLeft" t="textAreaTop" r="textAreaRight" b="textAreaBottom"/>
              <a:pathLst>
                <a:path w="84876" h="16975">
                  <a:moveTo>
                    <a:pt x="12731" y="12731"/>
                  </a:moveTo>
                  <a:lnTo>
                    <a:pt x="77238" y="12731"/>
                  </a:lnTo>
                  <a:lnTo>
                    <a:pt x="77238" y="17824"/>
                  </a:lnTo>
                  <a:lnTo>
                    <a:pt x="12731" y="17824"/>
                  </a:lnTo>
                  <a:lnTo>
                    <a:pt x="12731" y="12731"/>
                  </a:lnTo>
                  <a:close/>
                </a:path>
              </a:pathLst>
            </a:custGeom>
            <a:solidFill>
              <a:srgbClr val="3f4775"/>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399" name="任意多边形: 形状 491"/>
            <p:cNvSpPr/>
            <p:nvPr/>
          </p:nvSpPr>
          <p:spPr>
            <a:xfrm>
              <a:off x="10517760" y="4105440"/>
              <a:ext cx="16920" cy="390240"/>
            </a:xfrm>
            <a:custGeom>
              <a:avLst/>
              <a:gdLst>
                <a:gd name="textAreaLeft" fmla="*/ 0 w 16920"/>
                <a:gd name="textAreaRight" fmla="*/ 17280 w 16920"/>
                <a:gd name="textAreaTop" fmla="*/ 0 h 390240"/>
                <a:gd name="textAreaBottom" fmla="*/ 390600 h 390240"/>
              </a:gdLst>
              <a:ahLst/>
              <a:rect l="textAreaLeft" t="textAreaTop" r="textAreaRight" b="textAreaBottom"/>
              <a:pathLst>
                <a:path w="16975" h="390433">
                  <a:moveTo>
                    <a:pt x="12732" y="12732"/>
                  </a:moveTo>
                  <a:lnTo>
                    <a:pt x="17824" y="12732"/>
                  </a:lnTo>
                  <a:lnTo>
                    <a:pt x="17824" y="382795"/>
                  </a:lnTo>
                  <a:lnTo>
                    <a:pt x="12732" y="382795"/>
                  </a:lnTo>
                  <a:lnTo>
                    <a:pt x="12732" y="12732"/>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0" name="任意多边形: 形状 492"/>
            <p:cNvSpPr/>
            <p:nvPr/>
          </p:nvSpPr>
          <p:spPr>
            <a:xfrm>
              <a:off x="10744920" y="4105440"/>
              <a:ext cx="16920" cy="390240"/>
            </a:xfrm>
            <a:custGeom>
              <a:avLst/>
              <a:gdLst>
                <a:gd name="textAreaLeft" fmla="*/ 0 w 16920"/>
                <a:gd name="textAreaRight" fmla="*/ 17280 w 16920"/>
                <a:gd name="textAreaTop" fmla="*/ 0 h 390240"/>
                <a:gd name="textAreaBottom" fmla="*/ 390600 h 390240"/>
              </a:gdLst>
              <a:ahLst/>
              <a:rect l="textAreaLeft" t="textAreaTop" r="textAreaRight" b="textAreaBottom"/>
              <a:pathLst>
                <a:path w="16975" h="390433">
                  <a:moveTo>
                    <a:pt x="12732" y="12732"/>
                  </a:moveTo>
                  <a:lnTo>
                    <a:pt x="17824" y="12732"/>
                  </a:lnTo>
                  <a:lnTo>
                    <a:pt x="17824" y="382795"/>
                  </a:lnTo>
                  <a:lnTo>
                    <a:pt x="12732" y="382795"/>
                  </a:lnTo>
                  <a:lnTo>
                    <a:pt x="12732" y="12732"/>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1" name="任意多边形: 形状 493"/>
            <p:cNvSpPr/>
            <p:nvPr/>
          </p:nvSpPr>
          <p:spPr>
            <a:xfrm>
              <a:off x="10627920" y="44996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33950" h="33950">
                  <a:moveTo>
                    <a:pt x="-32434" y="22917"/>
                  </a:moveTo>
                  <a:cubicBezTo>
                    <a:pt x="-32434" y="28009"/>
                    <a:pt x="28009" y="-32434"/>
                    <a:pt x="22917" y="-32434"/>
                  </a:cubicBezTo>
                  <a:cubicBezTo>
                    <a:pt x="17824" y="-32434"/>
                    <a:pt x="12732" y="28009"/>
                    <a:pt x="12732" y="22917"/>
                  </a:cubicBezTo>
                  <a:cubicBezTo>
                    <a:pt x="12732" y="17824"/>
                    <a:pt x="17824" y="12732"/>
                    <a:pt x="22917" y="12732"/>
                  </a:cubicBezTo>
                  <a:cubicBezTo>
                    <a:pt x="28009" y="12732"/>
                    <a:pt x="-32434" y="17824"/>
                    <a:pt x="-32434" y="22917"/>
                  </a:cubicBezTo>
                  <a:close/>
                </a:path>
              </a:pathLst>
            </a:custGeom>
            <a:solidFill>
              <a:srgbClr val="ffffff"/>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402" name="任意多边形: 形状 494"/>
            <p:cNvSpPr/>
            <p:nvPr/>
          </p:nvSpPr>
          <p:spPr>
            <a:xfrm>
              <a:off x="5634000" y="919080"/>
              <a:ext cx="916560" cy="1256400"/>
            </a:xfrm>
            <a:custGeom>
              <a:avLst/>
              <a:gdLst>
                <a:gd name="textAreaLeft" fmla="*/ 0 w 916560"/>
                <a:gd name="textAreaRight" fmla="*/ 916920 w 916560"/>
                <a:gd name="textAreaTop" fmla="*/ 0 h 1256400"/>
                <a:gd name="textAreaBottom" fmla="*/ 1256760 h 1256400"/>
              </a:gdLst>
              <a:ahLst/>
              <a:rect l="textAreaLeft" t="textAreaTop" r="textAreaRight" b="textAreaBottom"/>
              <a:pathLst>
                <a:path w="916669" h="1256177">
                  <a:moveTo>
                    <a:pt x="127919" y="1249662"/>
                  </a:moveTo>
                  <a:cubicBezTo>
                    <a:pt x="109246" y="1190248"/>
                    <a:pt x="-57113" y="670802"/>
                    <a:pt x="46437" y="422961"/>
                  </a:cubicBezTo>
                  <a:cubicBezTo>
                    <a:pt x="231468" y="-20096"/>
                    <a:pt x="878230" y="12158"/>
                    <a:pt x="905390" y="13855"/>
                  </a:cubicBezTo>
                  <a:lnTo>
                    <a:pt x="895205" y="188701"/>
                  </a:lnTo>
                  <a:cubicBezTo>
                    <a:pt x="890112" y="188701"/>
                    <a:pt x="345203" y="163238"/>
                    <a:pt x="207703" y="492560"/>
                  </a:cubicBezTo>
                  <a:cubicBezTo>
                    <a:pt x="148289" y="631759"/>
                    <a:pt x="228073" y="998426"/>
                    <a:pt x="294277" y="1195341"/>
                  </a:cubicBezTo>
                  <a:lnTo>
                    <a:pt x="127919" y="1249662"/>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3" name="任意多边形: 形状 495"/>
            <p:cNvSpPr/>
            <p:nvPr/>
          </p:nvSpPr>
          <p:spPr>
            <a:xfrm>
              <a:off x="6974640" y="1001520"/>
              <a:ext cx="525960" cy="1239480"/>
            </a:xfrm>
            <a:custGeom>
              <a:avLst/>
              <a:gdLst>
                <a:gd name="textAreaLeft" fmla="*/ 0 w 525960"/>
                <a:gd name="textAreaRight" fmla="*/ 526320 w 525960"/>
                <a:gd name="textAreaTop" fmla="*/ 0 h 1239480"/>
                <a:gd name="textAreaBottom" fmla="*/ 1239840 h 1239480"/>
              </a:gdLst>
              <a:ahLst/>
              <a:rect l="textAreaLeft" t="textAreaTop" r="textAreaRight" b="textAreaBottom"/>
              <a:pathLst>
                <a:path w="526236" h="1239201">
                  <a:moveTo>
                    <a:pt x="284337" y="1229865"/>
                  </a:moveTo>
                  <a:lnTo>
                    <a:pt x="134954" y="1138198"/>
                  </a:lnTo>
                  <a:cubicBezTo>
                    <a:pt x="230016" y="983722"/>
                    <a:pt x="338659" y="795296"/>
                    <a:pt x="350541" y="757950"/>
                  </a:cubicBezTo>
                  <a:cubicBezTo>
                    <a:pt x="364122" y="701931"/>
                    <a:pt x="377702" y="301313"/>
                    <a:pt x="12732" y="177393"/>
                  </a:cubicBezTo>
                  <a:lnTo>
                    <a:pt x="68750" y="12732"/>
                  </a:lnTo>
                  <a:cubicBezTo>
                    <a:pt x="537270" y="172300"/>
                    <a:pt x="554246" y="678166"/>
                    <a:pt x="516900" y="805481"/>
                  </a:cubicBezTo>
                  <a:cubicBezTo>
                    <a:pt x="496529" y="880173"/>
                    <a:pt x="333566" y="1150081"/>
                    <a:pt x="284337" y="1229865"/>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4" name="任意多边形: 形状 496"/>
            <p:cNvSpPr/>
            <p:nvPr/>
          </p:nvSpPr>
          <p:spPr>
            <a:xfrm>
              <a:off x="5603400" y="890280"/>
              <a:ext cx="933480" cy="1137600"/>
            </a:xfrm>
            <a:custGeom>
              <a:avLst/>
              <a:gdLst>
                <a:gd name="textAreaLeft" fmla="*/ 0 w 933480"/>
                <a:gd name="textAreaRight" fmla="*/ 933840 w 933480"/>
                <a:gd name="textAreaTop" fmla="*/ 0 h 1137600"/>
                <a:gd name="textAreaBottom" fmla="*/ 1137960 h 1137600"/>
              </a:gdLst>
              <a:ahLst/>
              <a:rect l="textAreaLeft" t="textAreaTop" r="textAreaRight" b="textAreaBottom"/>
              <a:pathLst>
                <a:path w="933645" h="1137349">
                  <a:moveTo>
                    <a:pt x="85513" y="1132478"/>
                  </a:moveTo>
                  <a:cubicBezTo>
                    <a:pt x="2334" y="813342"/>
                    <a:pt x="-9549" y="580779"/>
                    <a:pt x="49865" y="441581"/>
                  </a:cubicBezTo>
                  <a:cubicBezTo>
                    <a:pt x="243384" y="-20149"/>
                    <a:pt x="908819" y="12104"/>
                    <a:pt x="937677" y="13802"/>
                  </a:cubicBezTo>
                  <a:lnTo>
                    <a:pt x="924097" y="246364"/>
                  </a:lnTo>
                  <a:cubicBezTo>
                    <a:pt x="919004" y="246364"/>
                    <a:pt x="394465" y="220901"/>
                    <a:pt x="263755" y="531550"/>
                  </a:cubicBezTo>
                  <a:cubicBezTo>
                    <a:pt x="228106" y="618125"/>
                    <a:pt x="245082" y="820132"/>
                    <a:pt x="311286" y="1073065"/>
                  </a:cubicBezTo>
                  <a:lnTo>
                    <a:pt x="85513" y="1132478"/>
                  </a:lnTo>
                  <a:close/>
                </a:path>
              </a:pathLst>
            </a:custGeom>
            <a:solidFill>
              <a:srgbClr val="1c31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5" name="任意多边形: 形状 497"/>
            <p:cNvSpPr/>
            <p:nvPr/>
          </p:nvSpPr>
          <p:spPr>
            <a:xfrm>
              <a:off x="6966360" y="974520"/>
              <a:ext cx="577080" cy="1239480"/>
            </a:xfrm>
            <a:custGeom>
              <a:avLst/>
              <a:gdLst>
                <a:gd name="textAreaLeft" fmla="*/ 0 w 577080"/>
                <a:gd name="textAreaRight" fmla="*/ 577440 w 577080"/>
                <a:gd name="textAreaTop" fmla="*/ 0 h 1239480"/>
                <a:gd name="textAreaBottom" fmla="*/ 1239840 h 1239480"/>
              </a:gdLst>
              <a:ahLst/>
              <a:rect l="textAreaLeft" t="textAreaTop" r="textAreaRight" b="textAreaBottom"/>
              <a:pathLst>
                <a:path w="577162" h="1239201">
                  <a:moveTo>
                    <a:pt x="340356" y="1233260"/>
                  </a:moveTo>
                  <a:lnTo>
                    <a:pt x="140047" y="1116130"/>
                  </a:lnTo>
                  <a:lnTo>
                    <a:pt x="160417" y="1082180"/>
                  </a:lnTo>
                  <a:cubicBezTo>
                    <a:pt x="206251" y="1002395"/>
                    <a:pt x="314893" y="819061"/>
                    <a:pt x="331868" y="776623"/>
                  </a:cubicBezTo>
                  <a:cubicBezTo>
                    <a:pt x="333566" y="756253"/>
                    <a:pt x="372609" y="355634"/>
                    <a:pt x="12732" y="233411"/>
                  </a:cubicBezTo>
                  <a:lnTo>
                    <a:pt x="73843" y="12732"/>
                  </a:lnTo>
                  <a:cubicBezTo>
                    <a:pt x="561036" y="179090"/>
                    <a:pt x="593289" y="707024"/>
                    <a:pt x="554246" y="841129"/>
                  </a:cubicBezTo>
                  <a:cubicBezTo>
                    <a:pt x="540665" y="886963"/>
                    <a:pt x="482949" y="988815"/>
                    <a:pt x="359029" y="1201007"/>
                  </a:cubicBezTo>
                  <a:lnTo>
                    <a:pt x="340356" y="1233260"/>
                  </a:lnTo>
                  <a:close/>
                </a:path>
              </a:pathLst>
            </a:custGeom>
            <a:solidFill>
              <a:srgbClr val="1c31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6" name="任意多边形: 形状 498"/>
            <p:cNvSpPr/>
            <p:nvPr/>
          </p:nvSpPr>
          <p:spPr>
            <a:xfrm>
              <a:off x="5979960" y="901440"/>
              <a:ext cx="1306800" cy="678960"/>
            </a:xfrm>
            <a:custGeom>
              <a:avLst/>
              <a:gdLst>
                <a:gd name="textAreaLeft" fmla="*/ 0 w 1306800"/>
                <a:gd name="textAreaRight" fmla="*/ 1307160 w 1306800"/>
                <a:gd name="textAreaTop" fmla="*/ 0 h 678960"/>
                <a:gd name="textAreaBottom" fmla="*/ 679320 h 678960"/>
              </a:gdLst>
              <a:ahLst/>
              <a:rect l="textAreaLeft" t="textAreaTop" r="textAreaRight" b="textAreaBottom"/>
              <a:pathLst>
                <a:path w="1307103" h="679014">
                  <a:moveTo>
                    <a:pt x="12732" y="345449"/>
                  </a:moveTo>
                  <a:cubicBezTo>
                    <a:pt x="12732" y="528783"/>
                    <a:pt x="301313" y="678166"/>
                    <a:pt x="657796" y="678166"/>
                  </a:cubicBezTo>
                  <a:cubicBezTo>
                    <a:pt x="1014278" y="678166"/>
                    <a:pt x="1302859" y="528783"/>
                    <a:pt x="1302859" y="345449"/>
                  </a:cubicBezTo>
                  <a:cubicBezTo>
                    <a:pt x="1302859" y="162115"/>
                    <a:pt x="1014278" y="12732"/>
                    <a:pt x="657796" y="12732"/>
                  </a:cubicBezTo>
                  <a:cubicBezTo>
                    <a:pt x="301313" y="12732"/>
                    <a:pt x="12732" y="162115"/>
                    <a:pt x="12732" y="345449"/>
                  </a:cubicBezTo>
                  <a:close/>
                </a:path>
              </a:pathLst>
            </a:custGeom>
            <a:solidFill>
              <a:srgbClr val="1c31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7" name="任意多边形: 形状 499"/>
            <p:cNvSpPr/>
            <p:nvPr/>
          </p:nvSpPr>
          <p:spPr>
            <a:xfrm>
              <a:off x="6894720" y="2123280"/>
              <a:ext cx="373320" cy="458280"/>
            </a:xfrm>
            <a:custGeom>
              <a:avLst/>
              <a:gdLst>
                <a:gd name="textAreaLeft" fmla="*/ 0 w 373320"/>
                <a:gd name="textAreaRight" fmla="*/ 373680 w 373320"/>
                <a:gd name="textAreaTop" fmla="*/ 0 h 458280"/>
                <a:gd name="textAreaBottom" fmla="*/ 458640 h 458280"/>
              </a:gdLst>
              <a:ahLst/>
              <a:rect l="textAreaLeft" t="textAreaTop" r="textAreaRight" b="textAreaBottom"/>
              <a:pathLst>
                <a:path w="373458" h="458334">
                  <a:moveTo>
                    <a:pt x="250452" y="417398"/>
                  </a:moveTo>
                  <a:cubicBezTo>
                    <a:pt x="243662" y="429281"/>
                    <a:pt x="228384" y="432676"/>
                    <a:pt x="216502" y="425886"/>
                  </a:cubicBezTo>
                  <a:cubicBezTo>
                    <a:pt x="204619" y="419096"/>
                    <a:pt x="201224" y="403818"/>
                    <a:pt x="208014" y="391935"/>
                  </a:cubicBezTo>
                  <a:lnTo>
                    <a:pt x="258940" y="307058"/>
                  </a:lnTo>
                  <a:cubicBezTo>
                    <a:pt x="255545" y="308756"/>
                    <a:pt x="250452" y="308756"/>
                    <a:pt x="247057" y="308756"/>
                  </a:cubicBezTo>
                  <a:lnTo>
                    <a:pt x="168971" y="441164"/>
                  </a:lnTo>
                  <a:cubicBezTo>
                    <a:pt x="162180" y="453047"/>
                    <a:pt x="146903" y="456442"/>
                    <a:pt x="135020" y="449651"/>
                  </a:cubicBezTo>
                  <a:cubicBezTo>
                    <a:pt x="123137" y="442861"/>
                    <a:pt x="119742" y="427584"/>
                    <a:pt x="126532" y="415701"/>
                  </a:cubicBezTo>
                  <a:lnTo>
                    <a:pt x="192736" y="303663"/>
                  </a:lnTo>
                  <a:cubicBezTo>
                    <a:pt x="189341" y="301966"/>
                    <a:pt x="185946" y="301966"/>
                    <a:pt x="182551" y="300268"/>
                  </a:cubicBezTo>
                  <a:lnTo>
                    <a:pt x="99372" y="439466"/>
                  </a:lnTo>
                  <a:cubicBezTo>
                    <a:pt x="92581" y="451349"/>
                    <a:pt x="77304" y="454744"/>
                    <a:pt x="65421" y="447954"/>
                  </a:cubicBezTo>
                  <a:cubicBezTo>
                    <a:pt x="53538" y="441164"/>
                    <a:pt x="50143" y="425886"/>
                    <a:pt x="56933" y="414003"/>
                  </a:cubicBezTo>
                  <a:lnTo>
                    <a:pt x="138415" y="276503"/>
                  </a:lnTo>
                  <a:cubicBezTo>
                    <a:pt x="135020" y="274805"/>
                    <a:pt x="133322" y="273108"/>
                    <a:pt x="129927" y="269713"/>
                  </a:cubicBezTo>
                  <a:lnTo>
                    <a:pt x="58631" y="388540"/>
                  </a:lnTo>
                  <a:cubicBezTo>
                    <a:pt x="51841" y="400423"/>
                    <a:pt x="36563" y="403818"/>
                    <a:pt x="24680" y="397028"/>
                  </a:cubicBezTo>
                  <a:cubicBezTo>
                    <a:pt x="12797" y="390238"/>
                    <a:pt x="9402" y="374960"/>
                    <a:pt x="16192" y="363077"/>
                  </a:cubicBezTo>
                  <a:lnTo>
                    <a:pt x="97674" y="227274"/>
                  </a:lnTo>
                  <a:cubicBezTo>
                    <a:pt x="94279" y="220484"/>
                    <a:pt x="90884" y="211996"/>
                    <a:pt x="89186" y="205206"/>
                  </a:cubicBezTo>
                  <a:lnTo>
                    <a:pt x="68816" y="239157"/>
                  </a:lnTo>
                  <a:cubicBezTo>
                    <a:pt x="62026" y="251040"/>
                    <a:pt x="46748" y="254435"/>
                    <a:pt x="34865" y="247645"/>
                  </a:cubicBezTo>
                  <a:cubicBezTo>
                    <a:pt x="22982" y="240855"/>
                    <a:pt x="19587" y="225577"/>
                    <a:pt x="26377" y="213694"/>
                  </a:cubicBezTo>
                  <a:lnTo>
                    <a:pt x="107859" y="76193"/>
                  </a:lnTo>
                  <a:cubicBezTo>
                    <a:pt x="109557" y="74496"/>
                    <a:pt x="109557" y="72798"/>
                    <a:pt x="111254" y="71101"/>
                  </a:cubicBezTo>
                  <a:cubicBezTo>
                    <a:pt x="155390" y="11687"/>
                    <a:pt x="238570" y="-5288"/>
                    <a:pt x="304773" y="33755"/>
                  </a:cubicBezTo>
                  <a:cubicBezTo>
                    <a:pt x="374372" y="74496"/>
                    <a:pt x="398138" y="166163"/>
                    <a:pt x="355699" y="235762"/>
                  </a:cubicBezTo>
                  <a:cubicBezTo>
                    <a:pt x="355699" y="235762"/>
                    <a:pt x="355699" y="235762"/>
                    <a:pt x="355699" y="237459"/>
                  </a:cubicBezTo>
                  <a:cubicBezTo>
                    <a:pt x="355699" y="237459"/>
                    <a:pt x="355699" y="237459"/>
                    <a:pt x="355699" y="237459"/>
                  </a:cubicBezTo>
                  <a:lnTo>
                    <a:pt x="250452" y="417398"/>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8" name="任意多边形: 形状 500"/>
            <p:cNvSpPr/>
            <p:nvPr/>
          </p:nvSpPr>
          <p:spPr>
            <a:xfrm>
              <a:off x="6300720" y="831960"/>
              <a:ext cx="662040" cy="695880"/>
            </a:xfrm>
            <a:custGeom>
              <a:avLst/>
              <a:gdLst>
                <a:gd name="textAreaLeft" fmla="*/ 0 w 662040"/>
                <a:gd name="textAreaRight" fmla="*/ 662040 w 662040"/>
                <a:gd name="textAreaTop" fmla="*/ 0 h 695880"/>
                <a:gd name="textAreaBottom" fmla="*/ 696240 h 695880"/>
              </a:gdLst>
              <a:ahLst/>
              <a:rect l="textAreaLeft" t="textAreaTop" r="textAreaRight" b="textAreaBottom"/>
              <a:pathLst>
                <a:path w="662039" h="695989">
                  <a:moveTo>
                    <a:pt x="661191" y="352239"/>
                  </a:moveTo>
                  <a:cubicBezTo>
                    <a:pt x="661191" y="566128"/>
                    <a:pt x="515202" y="691746"/>
                    <a:pt x="336961" y="691746"/>
                  </a:cubicBezTo>
                  <a:cubicBezTo>
                    <a:pt x="158720" y="691746"/>
                    <a:pt x="12732" y="566128"/>
                    <a:pt x="12732" y="352239"/>
                  </a:cubicBezTo>
                  <a:cubicBezTo>
                    <a:pt x="12732" y="138349"/>
                    <a:pt x="158720" y="12732"/>
                    <a:pt x="336961" y="12732"/>
                  </a:cubicBezTo>
                  <a:cubicBezTo>
                    <a:pt x="516900" y="12732"/>
                    <a:pt x="661191" y="138349"/>
                    <a:pt x="661191" y="352239"/>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09" name="任意多边形: 形状 501"/>
            <p:cNvSpPr/>
            <p:nvPr/>
          </p:nvSpPr>
          <p:spPr>
            <a:xfrm>
              <a:off x="6575760" y="1180080"/>
              <a:ext cx="118800" cy="390240"/>
            </a:xfrm>
            <a:custGeom>
              <a:avLst/>
              <a:gdLst>
                <a:gd name="textAreaLeft" fmla="*/ 0 w 118800"/>
                <a:gd name="textAreaRight" fmla="*/ 119160 w 118800"/>
                <a:gd name="textAreaTop" fmla="*/ 0 h 390240"/>
                <a:gd name="textAreaBottom" fmla="*/ 390600 h 390240"/>
              </a:gdLst>
              <a:ahLst/>
              <a:rect l="textAreaLeft" t="textAreaTop" r="textAreaRight" b="textAreaBottom"/>
              <a:pathLst>
                <a:path w="118827" h="390433">
                  <a:moveTo>
                    <a:pt x="111189" y="199461"/>
                  </a:moveTo>
                  <a:cubicBezTo>
                    <a:pt x="111189" y="301313"/>
                    <a:pt x="89121" y="386190"/>
                    <a:pt x="61960" y="386190"/>
                  </a:cubicBezTo>
                  <a:cubicBezTo>
                    <a:pt x="34799" y="386190"/>
                    <a:pt x="12732" y="303010"/>
                    <a:pt x="12732" y="199461"/>
                  </a:cubicBezTo>
                  <a:cubicBezTo>
                    <a:pt x="12732" y="97608"/>
                    <a:pt x="34799" y="12732"/>
                    <a:pt x="61960" y="12732"/>
                  </a:cubicBezTo>
                  <a:cubicBezTo>
                    <a:pt x="89121" y="12732"/>
                    <a:pt x="111189" y="95911"/>
                    <a:pt x="111189" y="199461"/>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10" name="任意多边形: 形状 502"/>
            <p:cNvSpPr/>
            <p:nvPr/>
          </p:nvSpPr>
          <p:spPr>
            <a:xfrm>
              <a:off x="6289920" y="115776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28703" y="97608"/>
                  </a:moveTo>
                  <a:cubicBezTo>
                    <a:pt x="28703" y="97608"/>
                    <a:pt x="-3550" y="58565"/>
                    <a:pt x="23611" y="12732"/>
                  </a:cubicBezTo>
                  <a:cubicBezTo>
                    <a:pt x="23611" y="12732"/>
                    <a:pt x="57561" y="78935"/>
                    <a:pt x="28703" y="97608"/>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11" name="任意多边形: 形状 503"/>
            <p:cNvSpPr/>
            <p:nvPr/>
          </p:nvSpPr>
          <p:spPr>
            <a:xfrm>
              <a:off x="6932520" y="1157760"/>
              <a:ext cx="50760" cy="101520"/>
            </a:xfrm>
            <a:custGeom>
              <a:avLst/>
              <a:gdLst>
                <a:gd name="textAreaLeft" fmla="*/ 0 w 50760"/>
                <a:gd name="textAreaRight" fmla="*/ 51120 w 50760"/>
                <a:gd name="textAreaTop" fmla="*/ 0 h 101520"/>
                <a:gd name="textAreaBottom" fmla="*/ 101880 h 101520"/>
              </a:gdLst>
              <a:ahLst/>
              <a:rect l="textAreaLeft" t="textAreaTop" r="textAreaRight" b="textAreaBottom"/>
              <a:pathLst>
                <a:path w="50926" h="101852">
                  <a:moveTo>
                    <a:pt x="24358" y="97608"/>
                  </a:moveTo>
                  <a:cubicBezTo>
                    <a:pt x="24358" y="97608"/>
                    <a:pt x="56611" y="58565"/>
                    <a:pt x="29451" y="12732"/>
                  </a:cubicBezTo>
                  <a:cubicBezTo>
                    <a:pt x="29451" y="12732"/>
                    <a:pt x="-4500" y="78935"/>
                    <a:pt x="24358" y="97608"/>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12" name="任意多边形: 形状 504"/>
            <p:cNvSpPr/>
            <p:nvPr/>
          </p:nvSpPr>
          <p:spPr>
            <a:xfrm>
              <a:off x="6300720" y="833400"/>
              <a:ext cx="662040" cy="610920"/>
            </a:xfrm>
            <a:custGeom>
              <a:avLst/>
              <a:gdLst>
                <a:gd name="textAreaLeft" fmla="*/ 0 w 662040"/>
                <a:gd name="textAreaRight" fmla="*/ 662040 w 662040"/>
                <a:gd name="textAreaTop" fmla="*/ 0 h 610920"/>
                <a:gd name="textAreaBottom" fmla="*/ 611280 h 610920"/>
              </a:gdLst>
              <a:ahLst/>
              <a:rect l="textAreaLeft" t="textAreaTop" r="textAreaRight" b="textAreaBottom"/>
              <a:pathLst>
                <a:path w="662039" h="611113">
                  <a:moveTo>
                    <a:pt x="12732" y="325078"/>
                  </a:moveTo>
                  <a:cubicBezTo>
                    <a:pt x="12732" y="124769"/>
                    <a:pt x="158720" y="12732"/>
                    <a:pt x="336961" y="12732"/>
                  </a:cubicBezTo>
                  <a:cubicBezTo>
                    <a:pt x="516900" y="12732"/>
                    <a:pt x="661191" y="126466"/>
                    <a:pt x="661191" y="325078"/>
                  </a:cubicBezTo>
                  <a:cubicBezTo>
                    <a:pt x="661191" y="525388"/>
                    <a:pt x="515202" y="613659"/>
                    <a:pt x="336961" y="613659"/>
                  </a:cubicBezTo>
                  <a:cubicBezTo>
                    <a:pt x="158720" y="613659"/>
                    <a:pt x="12732" y="525388"/>
                    <a:pt x="12732" y="325078"/>
                  </a:cubicBezTo>
                  <a:close/>
                </a:path>
              </a:pathLst>
            </a:custGeom>
            <a:solidFill>
              <a:srgbClr val="806c5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13" name="任意多边形: 形状 505"/>
            <p:cNvSpPr/>
            <p:nvPr/>
          </p:nvSpPr>
          <p:spPr>
            <a:xfrm>
              <a:off x="6922080" y="1230840"/>
              <a:ext cx="33840" cy="50760"/>
            </a:xfrm>
            <a:custGeom>
              <a:avLst/>
              <a:gdLst>
                <a:gd name="textAreaLeft" fmla="*/ 0 w 33840"/>
                <a:gd name="textAreaRight" fmla="*/ 34200 w 33840"/>
                <a:gd name="textAreaTop" fmla="*/ 0 h 50760"/>
                <a:gd name="textAreaBottom" fmla="*/ 51120 h 50760"/>
              </a:gdLst>
              <a:ahLst/>
              <a:rect l="textAreaLeft" t="textAreaTop" r="textAreaRight" b="textAreaBottom"/>
              <a:pathLst>
                <a:path w="33950" h="50926">
                  <a:moveTo>
                    <a:pt x="24614" y="12732"/>
                  </a:moveTo>
                  <a:lnTo>
                    <a:pt x="12732" y="-18854"/>
                  </a:lnTo>
                  <a:lnTo>
                    <a:pt x="29707" y="-17156"/>
                  </a:lnTo>
                  <a:cubicBezTo>
                    <a:pt x="31404" y="-23946"/>
                    <a:pt x="-32434" y="-32434"/>
                    <a:pt x="-30737" y="24614"/>
                  </a:cubicBezTo>
                  <a:cubicBezTo>
                    <a:pt x="31404" y="19522"/>
                    <a:pt x="29707" y="14429"/>
                    <a:pt x="24614" y="12732"/>
                  </a:cubicBezTo>
                  <a:close/>
                </a:path>
              </a:pathLst>
            </a:custGeom>
            <a:solidFill>
              <a:srgbClr val="806c59"/>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414" name="任意多边形: 形状 506"/>
            <p:cNvSpPr/>
            <p:nvPr/>
          </p:nvSpPr>
          <p:spPr>
            <a:xfrm>
              <a:off x="6305760" y="1220760"/>
              <a:ext cx="33840" cy="67680"/>
            </a:xfrm>
            <a:custGeom>
              <a:avLst/>
              <a:gdLst>
                <a:gd name="textAreaLeft" fmla="*/ 0 w 33840"/>
                <a:gd name="textAreaRight" fmla="*/ 34200 w 33840"/>
                <a:gd name="textAreaTop" fmla="*/ 0 h 67680"/>
                <a:gd name="textAreaBottom" fmla="*/ 68040 h 67680"/>
              </a:gdLst>
              <a:ahLst/>
              <a:rect l="textAreaLeft" t="textAreaTop" r="textAreaRight" b="textAreaBottom"/>
              <a:pathLst>
                <a:path w="33950" h="67901">
                  <a:moveTo>
                    <a:pt x="12732" y="31404"/>
                  </a:moveTo>
                  <a:cubicBezTo>
                    <a:pt x="14429" y="-23946"/>
                    <a:pt x="16127" y="-15459"/>
                    <a:pt x="17824" y="-5273"/>
                  </a:cubicBezTo>
                  <a:lnTo>
                    <a:pt x="29707" y="-5273"/>
                  </a:lnTo>
                  <a:cubicBezTo>
                    <a:pt x="29707" y="-5273"/>
                    <a:pt x="29707" y="24614"/>
                    <a:pt x="14429" y="12732"/>
                  </a:cubicBezTo>
                  <a:lnTo>
                    <a:pt x="12732" y="31404"/>
                  </a:lnTo>
                  <a:close/>
                </a:path>
              </a:pathLst>
            </a:custGeom>
            <a:solidFill>
              <a:srgbClr val="806c59"/>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415" name="任意多边形: 形状 507"/>
            <p:cNvSpPr/>
            <p:nvPr/>
          </p:nvSpPr>
          <p:spPr>
            <a:xfrm>
              <a:off x="5748840" y="1990800"/>
              <a:ext cx="356400" cy="509040"/>
            </a:xfrm>
            <a:custGeom>
              <a:avLst/>
              <a:gdLst>
                <a:gd name="textAreaLeft" fmla="*/ 0 w 356400"/>
                <a:gd name="textAreaRight" fmla="*/ 356760 w 356400"/>
                <a:gd name="textAreaTop" fmla="*/ 0 h 509040"/>
                <a:gd name="textAreaBottom" fmla="*/ 509400 h 509040"/>
              </a:gdLst>
              <a:ahLst/>
              <a:rect l="textAreaLeft" t="textAreaTop" r="textAreaRight" b="textAreaBottom"/>
              <a:pathLst>
                <a:path w="356482" h="509260">
                  <a:moveTo>
                    <a:pt x="16236" y="196819"/>
                  </a:moveTo>
                  <a:cubicBezTo>
                    <a:pt x="16236" y="225677"/>
                    <a:pt x="19631" y="346202"/>
                    <a:pt x="72255" y="407314"/>
                  </a:cubicBezTo>
                  <a:cubicBezTo>
                    <a:pt x="80742" y="424289"/>
                    <a:pt x="92625" y="437869"/>
                    <a:pt x="107903" y="448055"/>
                  </a:cubicBezTo>
                  <a:cubicBezTo>
                    <a:pt x="119786" y="465030"/>
                    <a:pt x="133366" y="476913"/>
                    <a:pt x="150341" y="483703"/>
                  </a:cubicBezTo>
                  <a:cubicBezTo>
                    <a:pt x="235218" y="514259"/>
                    <a:pt x="325187" y="487098"/>
                    <a:pt x="328583" y="485400"/>
                  </a:cubicBezTo>
                  <a:cubicBezTo>
                    <a:pt x="343860" y="480308"/>
                    <a:pt x="352348" y="463332"/>
                    <a:pt x="347256" y="448055"/>
                  </a:cubicBezTo>
                  <a:cubicBezTo>
                    <a:pt x="342163" y="432777"/>
                    <a:pt x="325187" y="424289"/>
                    <a:pt x="309910" y="429382"/>
                  </a:cubicBezTo>
                  <a:cubicBezTo>
                    <a:pt x="309910" y="429382"/>
                    <a:pt x="289539" y="436172"/>
                    <a:pt x="258984" y="437869"/>
                  </a:cubicBezTo>
                  <a:cubicBezTo>
                    <a:pt x="270866" y="429382"/>
                    <a:pt x="277657" y="420894"/>
                    <a:pt x="277657" y="420894"/>
                  </a:cubicBezTo>
                  <a:cubicBezTo>
                    <a:pt x="287842" y="409011"/>
                    <a:pt x="286144" y="390338"/>
                    <a:pt x="274261" y="380153"/>
                  </a:cubicBezTo>
                  <a:cubicBezTo>
                    <a:pt x="262379" y="369968"/>
                    <a:pt x="243706" y="369968"/>
                    <a:pt x="233521" y="381851"/>
                  </a:cubicBezTo>
                  <a:cubicBezTo>
                    <a:pt x="231823" y="383548"/>
                    <a:pt x="225033" y="390338"/>
                    <a:pt x="213150" y="397129"/>
                  </a:cubicBezTo>
                  <a:cubicBezTo>
                    <a:pt x="216545" y="380153"/>
                    <a:pt x="214848" y="364875"/>
                    <a:pt x="214848" y="363178"/>
                  </a:cubicBezTo>
                  <a:cubicBezTo>
                    <a:pt x="213150" y="347900"/>
                    <a:pt x="197872" y="336017"/>
                    <a:pt x="182594" y="339412"/>
                  </a:cubicBezTo>
                  <a:cubicBezTo>
                    <a:pt x="170712" y="341110"/>
                    <a:pt x="162224" y="349598"/>
                    <a:pt x="158829" y="359783"/>
                  </a:cubicBezTo>
                  <a:cubicBezTo>
                    <a:pt x="155434" y="352993"/>
                    <a:pt x="152039" y="346202"/>
                    <a:pt x="150341" y="341110"/>
                  </a:cubicBezTo>
                  <a:cubicBezTo>
                    <a:pt x="150341" y="341110"/>
                    <a:pt x="157131" y="232468"/>
                    <a:pt x="230125" y="300369"/>
                  </a:cubicBezTo>
                  <a:cubicBezTo>
                    <a:pt x="242008" y="319042"/>
                    <a:pt x="252193" y="336017"/>
                    <a:pt x="258984" y="347900"/>
                  </a:cubicBezTo>
                  <a:cubicBezTo>
                    <a:pt x="267471" y="361480"/>
                    <a:pt x="284447" y="366573"/>
                    <a:pt x="299724" y="358085"/>
                  </a:cubicBezTo>
                  <a:cubicBezTo>
                    <a:pt x="313305" y="349598"/>
                    <a:pt x="318397" y="332622"/>
                    <a:pt x="309910" y="317344"/>
                  </a:cubicBezTo>
                  <a:cubicBezTo>
                    <a:pt x="299724" y="302067"/>
                    <a:pt x="282749" y="274906"/>
                    <a:pt x="264076" y="246048"/>
                  </a:cubicBezTo>
                  <a:cubicBezTo>
                    <a:pt x="242008" y="212097"/>
                    <a:pt x="216545" y="171356"/>
                    <a:pt x="197872" y="140801"/>
                  </a:cubicBezTo>
                  <a:cubicBezTo>
                    <a:pt x="150341" y="69504"/>
                    <a:pt x="106205" y="4998"/>
                    <a:pt x="55279" y="13485"/>
                  </a:cubicBezTo>
                  <a:cubicBezTo>
                    <a:pt x="4353" y="20275"/>
                    <a:pt x="16236" y="61016"/>
                    <a:pt x="28119" y="142498"/>
                  </a:cubicBezTo>
                  <a:cubicBezTo>
                    <a:pt x="29816" y="150986"/>
                    <a:pt x="11143" y="169659"/>
                    <a:pt x="12841" y="178146"/>
                  </a:cubicBezTo>
                  <a:cubicBezTo>
                    <a:pt x="12841" y="178146"/>
                    <a:pt x="16236" y="195122"/>
                    <a:pt x="16236" y="196819"/>
                  </a:cubicBez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16" name="任意多边形: 形状 508"/>
            <p:cNvSpPr/>
            <p:nvPr/>
          </p:nvSpPr>
          <p:spPr>
            <a:xfrm>
              <a:off x="5843880" y="1168200"/>
              <a:ext cx="305280" cy="220680"/>
            </a:xfrm>
            <a:custGeom>
              <a:avLst/>
              <a:gdLst>
                <a:gd name="textAreaLeft" fmla="*/ 0 w 305280"/>
                <a:gd name="textAreaRight" fmla="*/ 305640 w 305280"/>
                <a:gd name="textAreaTop" fmla="*/ 0 h 220680"/>
                <a:gd name="textAreaBottom" fmla="*/ 221040 h 220680"/>
              </a:gdLst>
              <a:ahLst/>
              <a:rect l="textAreaLeft" t="textAreaTop" r="textAreaRight" b="textAreaBottom"/>
              <a:pathLst>
                <a:path w="305556" h="220679">
                  <a:moveTo>
                    <a:pt x="177534" y="177134"/>
                  </a:moveTo>
                  <a:cubicBezTo>
                    <a:pt x="177534" y="177134"/>
                    <a:pt x="85867" y="136393"/>
                    <a:pt x="55311" y="195807"/>
                  </a:cubicBezTo>
                  <a:cubicBezTo>
                    <a:pt x="24755" y="253523"/>
                    <a:pt x="11175" y="97350"/>
                    <a:pt x="12873" y="88862"/>
                  </a:cubicBezTo>
                  <a:cubicBezTo>
                    <a:pt x="14570" y="80374"/>
                    <a:pt x="187719" y="17566"/>
                    <a:pt x="187719" y="17566"/>
                  </a:cubicBezTo>
                  <a:cubicBezTo>
                    <a:pt x="187719" y="17566"/>
                    <a:pt x="286176" y="2288"/>
                    <a:pt x="292966" y="26053"/>
                  </a:cubicBezTo>
                  <a:cubicBezTo>
                    <a:pt x="301454" y="48121"/>
                    <a:pt x="177534" y="177134"/>
                    <a:pt x="177534" y="177134"/>
                  </a:cubicBezTo>
                  <a:close/>
                </a:path>
              </a:pathLst>
            </a:custGeom>
            <a:solidFill>
              <a:srgbClr val="1c31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17" name="任意多边形: 形状 509"/>
            <p:cNvSpPr/>
            <p:nvPr/>
          </p:nvSpPr>
          <p:spPr>
            <a:xfrm>
              <a:off x="7105680" y="1276200"/>
              <a:ext cx="203400" cy="220680"/>
            </a:xfrm>
            <a:custGeom>
              <a:avLst/>
              <a:gdLst>
                <a:gd name="textAreaLeft" fmla="*/ 0 w 203400"/>
                <a:gd name="textAreaRight" fmla="*/ 203760 w 203400"/>
                <a:gd name="textAreaTop" fmla="*/ 0 h 220680"/>
                <a:gd name="textAreaBottom" fmla="*/ 221040 h 220680"/>
              </a:gdLst>
              <a:ahLst/>
              <a:rect l="textAreaLeft" t="textAreaTop" r="textAreaRight" b="textAreaBottom"/>
              <a:pathLst>
                <a:path w="203704" h="220679">
                  <a:moveTo>
                    <a:pt x="46563" y="171128"/>
                  </a:moveTo>
                  <a:cubicBezTo>
                    <a:pt x="46563" y="171128"/>
                    <a:pt x="119557" y="101529"/>
                    <a:pt x="148415" y="186405"/>
                  </a:cubicBezTo>
                  <a:cubicBezTo>
                    <a:pt x="175576" y="271282"/>
                    <a:pt x="197644" y="103226"/>
                    <a:pt x="197644" y="103226"/>
                  </a:cubicBezTo>
                  <a:cubicBezTo>
                    <a:pt x="197644" y="103226"/>
                    <a:pt x="90699" y="20047"/>
                    <a:pt x="75421" y="16652"/>
                  </a:cubicBezTo>
                  <a:cubicBezTo>
                    <a:pt x="58446" y="13257"/>
                    <a:pt x="24495" y="9862"/>
                    <a:pt x="14310" y="16652"/>
                  </a:cubicBezTo>
                  <a:cubicBezTo>
                    <a:pt x="4125" y="23442"/>
                    <a:pt x="46563" y="171128"/>
                    <a:pt x="46563" y="171128"/>
                  </a:cubicBezTo>
                  <a:close/>
                </a:path>
              </a:pathLst>
            </a:custGeom>
            <a:solidFill>
              <a:srgbClr val="1c3149"/>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18" name="任意多边形: 形状 510"/>
            <p:cNvSpPr/>
            <p:nvPr/>
          </p:nvSpPr>
          <p:spPr>
            <a:xfrm>
              <a:off x="5864760" y="2034360"/>
              <a:ext cx="780840" cy="645120"/>
            </a:xfrm>
            <a:custGeom>
              <a:avLst/>
              <a:gdLst>
                <a:gd name="textAreaLeft" fmla="*/ 0 w 780840"/>
                <a:gd name="textAreaRight" fmla="*/ 781200 w 780840"/>
                <a:gd name="textAreaTop" fmla="*/ 0 h 645120"/>
                <a:gd name="textAreaBottom" fmla="*/ 645480 h 645120"/>
              </a:gdLst>
              <a:ahLst/>
              <a:rect l="textAreaLeft" t="textAreaTop" r="textAreaRight" b="textAreaBottom"/>
              <a:pathLst>
                <a:path w="780866" h="645063">
                  <a:moveTo>
                    <a:pt x="662658" y="620220"/>
                  </a:moveTo>
                  <a:cubicBezTo>
                    <a:pt x="657566" y="637195"/>
                    <a:pt x="640590" y="645683"/>
                    <a:pt x="623615" y="640590"/>
                  </a:cubicBezTo>
                  <a:lnTo>
                    <a:pt x="34570" y="462349"/>
                  </a:lnTo>
                  <a:cubicBezTo>
                    <a:pt x="17594" y="457256"/>
                    <a:pt x="9107" y="440281"/>
                    <a:pt x="14199" y="423306"/>
                  </a:cubicBezTo>
                  <a:lnTo>
                    <a:pt x="131329" y="34570"/>
                  </a:lnTo>
                  <a:cubicBezTo>
                    <a:pt x="136422" y="17594"/>
                    <a:pt x="153397" y="9107"/>
                    <a:pt x="170373" y="14199"/>
                  </a:cubicBezTo>
                  <a:lnTo>
                    <a:pt x="759418" y="192441"/>
                  </a:lnTo>
                  <a:cubicBezTo>
                    <a:pt x="776393" y="197533"/>
                    <a:pt x="784881" y="214509"/>
                    <a:pt x="779788" y="231484"/>
                  </a:cubicBezTo>
                  <a:lnTo>
                    <a:pt x="662658" y="620220"/>
                  </a:lnTo>
                  <a:close/>
                </a:path>
              </a:pathLst>
            </a:custGeom>
            <a:solidFill>
              <a:srgbClr val="5d5d5d"/>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19" name="任意多边形: 形状 511"/>
            <p:cNvSpPr/>
            <p:nvPr/>
          </p:nvSpPr>
          <p:spPr>
            <a:xfrm>
              <a:off x="5880600" y="2073600"/>
              <a:ext cx="746640" cy="594000"/>
            </a:xfrm>
            <a:custGeom>
              <a:avLst/>
              <a:gdLst>
                <a:gd name="textAreaLeft" fmla="*/ 0 w 746640"/>
                <a:gd name="textAreaRight" fmla="*/ 747000 w 746640"/>
                <a:gd name="textAreaTop" fmla="*/ 0 h 594000"/>
                <a:gd name="textAreaBottom" fmla="*/ 594360 h 594000"/>
              </a:gdLst>
              <a:ahLst/>
              <a:rect l="textAreaLeft" t="textAreaTop" r="textAreaRight" b="textAreaBottom"/>
              <a:pathLst>
                <a:path w="746916" h="594137">
                  <a:moveTo>
                    <a:pt x="15877" y="400894"/>
                  </a:moveTo>
                  <a:lnTo>
                    <a:pt x="132589" y="15878"/>
                  </a:lnTo>
                  <a:lnTo>
                    <a:pt x="740168" y="200056"/>
                  </a:lnTo>
                  <a:lnTo>
                    <a:pt x="623456" y="585072"/>
                  </a:lnTo>
                  <a:lnTo>
                    <a:pt x="15877" y="40089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20" name="任意多边形: 形状 512"/>
            <p:cNvSpPr/>
            <p:nvPr/>
          </p:nvSpPr>
          <p:spPr>
            <a:xfrm>
              <a:off x="6435360" y="2414880"/>
              <a:ext cx="84600" cy="169560"/>
            </a:xfrm>
            <a:custGeom>
              <a:avLst/>
              <a:gdLst>
                <a:gd name="textAreaLeft" fmla="*/ 0 w 84600"/>
                <a:gd name="textAreaRight" fmla="*/ 84960 w 84600"/>
                <a:gd name="textAreaTop" fmla="*/ 0 h 169560"/>
                <a:gd name="textAreaBottom" fmla="*/ 169920 h 169560"/>
              </a:gdLst>
              <a:ahLst/>
              <a:rect l="textAreaLeft" t="textAreaTop" r="textAreaRight" b="textAreaBottom"/>
              <a:pathLst>
                <a:path w="84876" h="169753">
                  <a:moveTo>
                    <a:pt x="15875" y="147477"/>
                  </a:moveTo>
                  <a:lnTo>
                    <a:pt x="55723" y="15875"/>
                  </a:lnTo>
                  <a:lnTo>
                    <a:pt x="84967" y="24730"/>
                  </a:lnTo>
                  <a:lnTo>
                    <a:pt x="45120" y="156332"/>
                  </a:lnTo>
                  <a:lnTo>
                    <a:pt x="15875" y="147477"/>
                  </a:lnTo>
                  <a:close/>
                </a:path>
              </a:pathLst>
            </a:custGeom>
            <a:solidFill>
              <a:srgbClr val="98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21" name="任意多边形: 形状 513"/>
            <p:cNvSpPr/>
            <p:nvPr/>
          </p:nvSpPr>
          <p:spPr>
            <a:xfrm>
              <a:off x="6396480" y="2396880"/>
              <a:ext cx="67680" cy="101520"/>
            </a:xfrm>
            <a:custGeom>
              <a:avLst/>
              <a:gdLst>
                <a:gd name="textAreaLeft" fmla="*/ 0 w 67680"/>
                <a:gd name="textAreaRight" fmla="*/ 68040 w 67680"/>
                <a:gd name="textAreaTop" fmla="*/ 0 h 101520"/>
                <a:gd name="textAreaBottom" fmla="*/ 101880 h 101520"/>
              </a:gdLst>
              <a:ahLst/>
              <a:rect l="textAreaLeft" t="textAreaTop" r="textAreaRight" b="textAreaBottom"/>
              <a:pathLst>
                <a:path w="67901" h="101852">
                  <a:moveTo>
                    <a:pt x="15878" y="92231"/>
                  </a:moveTo>
                  <a:lnTo>
                    <a:pt x="39023" y="15878"/>
                  </a:lnTo>
                  <a:lnTo>
                    <a:pt x="68265" y="24742"/>
                  </a:lnTo>
                  <a:lnTo>
                    <a:pt x="45119" y="101095"/>
                  </a:lnTo>
                  <a:lnTo>
                    <a:pt x="15878" y="92231"/>
                  </a:ln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22" name="任意多边形: 形状 514"/>
            <p:cNvSpPr/>
            <p:nvPr/>
          </p:nvSpPr>
          <p:spPr>
            <a:xfrm>
              <a:off x="6309360" y="2381040"/>
              <a:ext cx="101520" cy="203400"/>
            </a:xfrm>
            <a:custGeom>
              <a:avLst/>
              <a:gdLst>
                <a:gd name="textAreaLeft" fmla="*/ 0 w 101520"/>
                <a:gd name="textAreaRight" fmla="*/ 101880 w 101520"/>
                <a:gd name="textAreaTop" fmla="*/ 0 h 203400"/>
                <a:gd name="textAreaBottom" fmla="*/ 203760 h 203400"/>
              </a:gdLst>
              <a:ahLst/>
              <a:rect l="textAreaLeft" t="textAreaTop" r="textAreaRight" b="textAreaBottom"/>
              <a:pathLst>
                <a:path w="101852" h="203704">
                  <a:moveTo>
                    <a:pt x="15876" y="192951"/>
                  </a:moveTo>
                  <a:lnTo>
                    <a:pt x="69535" y="15876"/>
                  </a:lnTo>
                  <a:lnTo>
                    <a:pt x="98777" y="24737"/>
                  </a:lnTo>
                  <a:lnTo>
                    <a:pt x="45118" y="201812"/>
                  </a:lnTo>
                  <a:lnTo>
                    <a:pt x="15876" y="192951"/>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23" name="任意多边形: 形状 515"/>
            <p:cNvSpPr/>
            <p:nvPr/>
          </p:nvSpPr>
          <p:spPr>
            <a:xfrm>
              <a:off x="6269400" y="2363760"/>
              <a:ext cx="84600" cy="152640"/>
            </a:xfrm>
            <a:custGeom>
              <a:avLst/>
              <a:gdLst>
                <a:gd name="textAreaLeft" fmla="*/ 0 w 84600"/>
                <a:gd name="textAreaRight" fmla="*/ 84960 w 84600"/>
                <a:gd name="textAreaTop" fmla="*/ 0 h 152640"/>
                <a:gd name="textAreaBottom" fmla="*/ 153000 h 152640"/>
              </a:gdLst>
              <a:ahLst/>
              <a:rect l="textAreaLeft" t="textAreaTop" r="textAreaRight" b="textAreaBottom"/>
              <a:pathLst>
                <a:path w="84876" h="152778">
                  <a:moveTo>
                    <a:pt x="15879" y="136082"/>
                  </a:moveTo>
                  <a:lnTo>
                    <a:pt x="52346" y="15879"/>
                  </a:lnTo>
                  <a:lnTo>
                    <a:pt x="81584" y="24749"/>
                  </a:lnTo>
                  <a:lnTo>
                    <a:pt x="45117" y="144953"/>
                  </a:lnTo>
                  <a:lnTo>
                    <a:pt x="15879" y="136082"/>
                  </a:lnTo>
                  <a:close/>
                </a:path>
              </a:pathLst>
            </a:custGeom>
            <a:solidFill>
              <a:srgbClr val="8daca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24" name="任意多边形: 形状 516"/>
            <p:cNvSpPr/>
            <p:nvPr/>
          </p:nvSpPr>
          <p:spPr>
            <a:xfrm>
              <a:off x="6194520" y="2346120"/>
              <a:ext cx="101520" cy="203400"/>
            </a:xfrm>
            <a:custGeom>
              <a:avLst/>
              <a:gdLst>
                <a:gd name="textAreaLeft" fmla="*/ 0 w 101520"/>
                <a:gd name="textAreaRight" fmla="*/ 101880 w 101520"/>
                <a:gd name="textAreaTop" fmla="*/ 0 h 203400"/>
                <a:gd name="textAreaBottom" fmla="*/ 203760 h 203400"/>
              </a:gdLst>
              <a:ahLst/>
              <a:rect l="textAreaLeft" t="textAreaTop" r="textAreaRight" b="textAreaBottom"/>
              <a:pathLst>
                <a:path w="101852" h="203704">
                  <a:moveTo>
                    <a:pt x="15876" y="192951"/>
                  </a:moveTo>
                  <a:lnTo>
                    <a:pt x="69535" y="15876"/>
                  </a:lnTo>
                  <a:lnTo>
                    <a:pt x="98777" y="24737"/>
                  </a:lnTo>
                  <a:lnTo>
                    <a:pt x="45118" y="201813"/>
                  </a:lnTo>
                  <a:lnTo>
                    <a:pt x="15876" y="192951"/>
                  </a:ln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25" name="任意多边形: 形状 517"/>
            <p:cNvSpPr/>
            <p:nvPr/>
          </p:nvSpPr>
          <p:spPr>
            <a:xfrm>
              <a:off x="6033600" y="2221920"/>
              <a:ext cx="84600" cy="118800"/>
            </a:xfrm>
            <a:custGeom>
              <a:avLst/>
              <a:gdLst>
                <a:gd name="textAreaLeft" fmla="*/ 0 w 84600"/>
                <a:gd name="textAreaRight" fmla="*/ 84960 w 84600"/>
                <a:gd name="textAreaTop" fmla="*/ 0 h 118800"/>
                <a:gd name="textAreaBottom" fmla="*/ 119160 h 118800"/>
              </a:gdLst>
              <a:ahLst/>
              <a:rect l="textAreaLeft" t="textAreaTop" r="textAreaRight" b="textAreaBottom"/>
              <a:pathLst>
                <a:path w="84876" h="118827">
                  <a:moveTo>
                    <a:pt x="15089" y="50547"/>
                  </a:moveTo>
                  <a:cubicBezTo>
                    <a:pt x="6601" y="77708"/>
                    <a:pt x="21879" y="106566"/>
                    <a:pt x="47342" y="116751"/>
                  </a:cubicBezTo>
                  <a:lnTo>
                    <a:pt x="62620" y="65825"/>
                  </a:lnTo>
                  <a:lnTo>
                    <a:pt x="72805" y="13201"/>
                  </a:lnTo>
                  <a:cubicBezTo>
                    <a:pt x="47342" y="9806"/>
                    <a:pt x="21879" y="25084"/>
                    <a:pt x="15089" y="50547"/>
                  </a:cubicBezTo>
                  <a:close/>
                </a:path>
              </a:pathLst>
            </a:custGeom>
            <a:solidFill>
              <a:srgbClr val="485280"/>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26" name="任意多边形: 形状 518"/>
            <p:cNvSpPr/>
            <p:nvPr/>
          </p:nvSpPr>
          <p:spPr>
            <a:xfrm>
              <a:off x="6075000" y="228204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67901" h="67901">
                  <a:moveTo>
                    <a:pt x="12732" y="60263"/>
                  </a:moveTo>
                  <a:cubicBezTo>
                    <a:pt x="34799" y="65355"/>
                    <a:pt x="58565" y="55170"/>
                    <a:pt x="70448" y="36497"/>
                  </a:cubicBezTo>
                  <a:lnTo>
                    <a:pt x="28009" y="12732"/>
                  </a:lnTo>
                  <a:lnTo>
                    <a:pt x="12732" y="60263"/>
                  </a:lnTo>
                  <a:close/>
                </a:path>
              </a:pathLst>
            </a:custGeom>
            <a:solidFill>
              <a:srgbClr val="986666"/>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427" name="任意多边形: 形状 519"/>
            <p:cNvSpPr/>
            <p:nvPr/>
          </p:nvSpPr>
          <p:spPr>
            <a:xfrm>
              <a:off x="6091920" y="2224080"/>
              <a:ext cx="67680" cy="84600"/>
            </a:xfrm>
            <a:custGeom>
              <a:avLst/>
              <a:gdLst>
                <a:gd name="textAreaLeft" fmla="*/ 0 w 67680"/>
                <a:gd name="textAreaRight" fmla="*/ 68040 w 67680"/>
                <a:gd name="textAreaTop" fmla="*/ 0 h 84600"/>
                <a:gd name="textAreaBottom" fmla="*/ 84960 h 84600"/>
              </a:gdLst>
              <a:ahLst/>
              <a:rect l="textAreaLeft" t="textAreaTop" r="textAreaRight" b="textAreaBottom"/>
              <a:pathLst>
                <a:path w="67901" h="84876">
                  <a:moveTo>
                    <a:pt x="58565" y="85726"/>
                  </a:moveTo>
                  <a:cubicBezTo>
                    <a:pt x="58565" y="84028"/>
                    <a:pt x="60262" y="82330"/>
                    <a:pt x="60262" y="80633"/>
                  </a:cubicBezTo>
                  <a:cubicBezTo>
                    <a:pt x="68750" y="51775"/>
                    <a:pt x="53472" y="21219"/>
                    <a:pt x="24614" y="12732"/>
                  </a:cubicBezTo>
                  <a:cubicBezTo>
                    <a:pt x="24614" y="12732"/>
                    <a:pt x="22917" y="12732"/>
                    <a:pt x="22917" y="12732"/>
                  </a:cubicBezTo>
                  <a:lnTo>
                    <a:pt x="12732" y="61960"/>
                  </a:lnTo>
                  <a:lnTo>
                    <a:pt x="58565" y="85726"/>
                  </a:lnTo>
                  <a:close/>
                </a:path>
              </a:pathLst>
            </a:custGeom>
            <a:solidFill>
              <a:srgbClr val="e4d2a2"/>
            </a:solidFill>
            <a:ln w="0">
              <a:noFill/>
            </a:ln>
          </p:spPr>
          <p:style>
            <a:lnRef idx="0"/>
            <a:fillRef idx="0"/>
            <a:effectRef idx="0"/>
            <a:fontRef idx="minor"/>
          </p:style>
          <p:txBody>
            <a:bodyPr lIns="90000" rIns="90000" tIns="38160" bIns="38160" anchor="ctr">
              <a:noAutofit/>
            </a:bodyPr>
            <a:p>
              <a:endParaRPr b="0" lang="en-US" sz="1800" spc="-1" strike="noStrike">
                <a:solidFill>
                  <a:srgbClr val="262626"/>
                </a:solidFill>
                <a:latin typeface="Arial"/>
              </a:endParaRPr>
            </a:p>
          </p:txBody>
        </p:sp>
        <p:sp>
          <p:nvSpPr>
            <p:cNvPr id="1428" name="任意多边形: 形状 520"/>
            <p:cNvSpPr/>
            <p:nvPr/>
          </p:nvSpPr>
          <p:spPr>
            <a:xfrm>
              <a:off x="6020280" y="2190960"/>
              <a:ext cx="84600" cy="50760"/>
            </a:xfrm>
            <a:custGeom>
              <a:avLst/>
              <a:gdLst>
                <a:gd name="textAreaLeft" fmla="*/ 0 w 84600"/>
                <a:gd name="textAreaRight" fmla="*/ 84960 w 84600"/>
                <a:gd name="textAreaTop" fmla="*/ 0 h 50760"/>
                <a:gd name="textAreaBottom" fmla="*/ 51120 h 50760"/>
              </a:gdLst>
              <a:ahLst/>
              <a:rect l="textAreaLeft" t="textAreaTop" r="textAreaRight" b="textAreaBottom"/>
              <a:pathLst>
                <a:path w="84876" h="50926">
                  <a:moveTo>
                    <a:pt x="15888" y="25632"/>
                  </a:moveTo>
                  <a:lnTo>
                    <a:pt x="18854" y="15888"/>
                  </a:lnTo>
                  <a:lnTo>
                    <a:pt x="69199" y="31212"/>
                  </a:lnTo>
                  <a:lnTo>
                    <a:pt x="66233" y="40956"/>
                  </a:lnTo>
                  <a:lnTo>
                    <a:pt x="15888" y="25632"/>
                  </a:ln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429" name="任意多边形: 形状 521"/>
            <p:cNvSpPr/>
            <p:nvPr/>
          </p:nvSpPr>
          <p:spPr>
            <a:xfrm>
              <a:off x="6126120" y="2224080"/>
              <a:ext cx="84600" cy="50760"/>
            </a:xfrm>
            <a:custGeom>
              <a:avLst/>
              <a:gdLst>
                <a:gd name="textAreaLeft" fmla="*/ 0 w 84600"/>
                <a:gd name="textAreaRight" fmla="*/ 84960 w 84600"/>
                <a:gd name="textAreaTop" fmla="*/ 0 h 50760"/>
                <a:gd name="textAreaBottom" fmla="*/ 51120 h 50760"/>
              </a:gdLst>
              <a:ahLst/>
              <a:rect l="textAreaLeft" t="textAreaTop" r="textAreaRight" b="textAreaBottom"/>
              <a:pathLst>
                <a:path w="84876" h="50926">
                  <a:moveTo>
                    <a:pt x="15881" y="25626"/>
                  </a:moveTo>
                  <a:lnTo>
                    <a:pt x="18841" y="15881"/>
                  </a:lnTo>
                  <a:lnTo>
                    <a:pt x="69191" y="31174"/>
                  </a:lnTo>
                  <a:lnTo>
                    <a:pt x="66232" y="40919"/>
                  </a:lnTo>
                  <a:lnTo>
                    <a:pt x="15881" y="25626"/>
                  </a:ln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430" name="任意多边形: 形状 522"/>
            <p:cNvSpPr/>
            <p:nvPr/>
          </p:nvSpPr>
          <p:spPr>
            <a:xfrm>
              <a:off x="6092640" y="2332440"/>
              <a:ext cx="84600" cy="50760"/>
            </a:xfrm>
            <a:custGeom>
              <a:avLst/>
              <a:gdLst>
                <a:gd name="textAreaLeft" fmla="*/ 0 w 84600"/>
                <a:gd name="textAreaRight" fmla="*/ 84960 w 84600"/>
                <a:gd name="textAreaTop" fmla="*/ 0 h 50760"/>
                <a:gd name="textAreaBottom" fmla="*/ 51120 h 50760"/>
              </a:gdLst>
              <a:ahLst/>
              <a:rect l="textAreaLeft" t="textAreaTop" r="textAreaRight" b="textAreaBottom"/>
              <a:pathLst>
                <a:path w="84876" h="50926">
                  <a:moveTo>
                    <a:pt x="15884" y="25628"/>
                  </a:moveTo>
                  <a:lnTo>
                    <a:pt x="18847" y="15884"/>
                  </a:lnTo>
                  <a:lnTo>
                    <a:pt x="69192" y="31192"/>
                  </a:lnTo>
                  <a:lnTo>
                    <a:pt x="66229" y="40936"/>
                  </a:lnTo>
                  <a:lnTo>
                    <a:pt x="15884" y="25628"/>
                  </a:lnTo>
                  <a:close/>
                </a:path>
              </a:pathLst>
            </a:custGeom>
            <a:solidFill>
              <a:srgbClr val="c7c9ea"/>
            </a:solidFill>
            <a:ln w="0">
              <a:noFill/>
            </a:ln>
          </p:spPr>
          <p:style>
            <a:lnRef idx="0"/>
            <a:fillRef idx="0"/>
            <a:effectRef idx="0"/>
            <a:fontRef idx="minor"/>
          </p:style>
          <p:txBody>
            <a:bodyPr lIns="90000" rIns="90000" tIns="4320" bIns="4320" anchor="ctr">
              <a:noAutofit/>
            </a:bodyPr>
            <a:p>
              <a:endParaRPr b="0" lang="en-US" sz="1800" spc="-1" strike="noStrike">
                <a:solidFill>
                  <a:srgbClr val="262626"/>
                </a:solidFill>
                <a:latin typeface="Arial"/>
              </a:endParaRPr>
            </a:p>
          </p:txBody>
        </p:sp>
        <p:sp>
          <p:nvSpPr>
            <p:cNvPr id="1431" name="任意多边形: 形状 523"/>
            <p:cNvSpPr/>
            <p:nvPr/>
          </p:nvSpPr>
          <p:spPr>
            <a:xfrm>
              <a:off x="5962320" y="2414880"/>
              <a:ext cx="152640" cy="67680"/>
            </a:xfrm>
            <a:custGeom>
              <a:avLst/>
              <a:gdLst>
                <a:gd name="textAreaLeft" fmla="*/ 0 w 152640"/>
                <a:gd name="textAreaRight" fmla="*/ 153000 w 152640"/>
                <a:gd name="textAreaTop" fmla="*/ 0 h 67680"/>
                <a:gd name="textAreaBottom" fmla="*/ 68040 h 67680"/>
              </a:gdLst>
              <a:ahLst/>
              <a:rect l="textAreaLeft" t="textAreaTop" r="textAreaRight" b="textAreaBottom"/>
              <a:pathLst>
                <a:path w="152778" h="67901">
                  <a:moveTo>
                    <a:pt x="15883" y="27252"/>
                  </a:moveTo>
                  <a:lnTo>
                    <a:pt x="19337" y="15883"/>
                  </a:lnTo>
                  <a:lnTo>
                    <a:pt x="147649" y="54867"/>
                  </a:lnTo>
                  <a:lnTo>
                    <a:pt x="144195" y="66236"/>
                  </a:lnTo>
                  <a:lnTo>
                    <a:pt x="15883" y="27252"/>
                  </a:lnTo>
                  <a:close/>
                </a:path>
              </a:pathLst>
            </a:custGeom>
            <a:solidFill>
              <a:srgbClr val="5d5d5d"/>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432" name="任意多边形: 形状 524"/>
            <p:cNvSpPr/>
            <p:nvPr/>
          </p:nvSpPr>
          <p:spPr>
            <a:xfrm>
              <a:off x="5959800" y="2391480"/>
              <a:ext cx="169560" cy="67680"/>
            </a:xfrm>
            <a:custGeom>
              <a:avLst/>
              <a:gdLst>
                <a:gd name="textAreaLeft" fmla="*/ 0 w 169560"/>
                <a:gd name="textAreaRight" fmla="*/ 169920 w 169560"/>
                <a:gd name="textAreaTop" fmla="*/ 0 h 67680"/>
                <a:gd name="textAreaBottom" fmla="*/ 68040 h 67680"/>
              </a:gdLst>
              <a:ahLst/>
              <a:rect l="textAreaLeft" t="textAreaTop" r="textAreaRight" b="textAreaBottom"/>
              <a:pathLst>
                <a:path w="169753" h="67901">
                  <a:moveTo>
                    <a:pt x="15883" y="20755"/>
                  </a:moveTo>
                  <a:lnTo>
                    <a:pt x="17363" y="15883"/>
                  </a:lnTo>
                  <a:lnTo>
                    <a:pt x="161917" y="59802"/>
                  </a:lnTo>
                  <a:lnTo>
                    <a:pt x="160437" y="64674"/>
                  </a:lnTo>
                  <a:lnTo>
                    <a:pt x="15883" y="20755"/>
                  </a:lnTo>
                  <a:close/>
                </a:path>
              </a:pathLst>
            </a:custGeom>
            <a:solidFill>
              <a:srgbClr val="5d5d5d"/>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433" name="任意多边形: 形状 525"/>
            <p:cNvSpPr/>
            <p:nvPr/>
          </p:nvSpPr>
          <p:spPr>
            <a:xfrm>
              <a:off x="5964120" y="2377440"/>
              <a:ext cx="186480" cy="67680"/>
            </a:xfrm>
            <a:custGeom>
              <a:avLst/>
              <a:gdLst>
                <a:gd name="textAreaLeft" fmla="*/ 0 w 186480"/>
                <a:gd name="textAreaRight" fmla="*/ 186840 w 186480"/>
                <a:gd name="textAreaTop" fmla="*/ 0 h 67680"/>
                <a:gd name="textAreaBottom" fmla="*/ 68040 h 67680"/>
              </a:gdLst>
              <a:ahLst/>
              <a:rect l="textAreaLeft" t="textAreaTop" r="textAreaRight" b="textAreaBottom"/>
              <a:pathLst>
                <a:path w="186729" h="67901">
                  <a:moveTo>
                    <a:pt x="15883" y="20755"/>
                  </a:moveTo>
                  <a:lnTo>
                    <a:pt x="17363" y="15883"/>
                  </a:lnTo>
                  <a:lnTo>
                    <a:pt x="173286" y="63256"/>
                  </a:lnTo>
                  <a:lnTo>
                    <a:pt x="171806" y="68129"/>
                  </a:lnTo>
                  <a:lnTo>
                    <a:pt x="15883" y="20755"/>
                  </a:lnTo>
                  <a:close/>
                </a:path>
              </a:pathLst>
            </a:custGeom>
            <a:solidFill>
              <a:srgbClr val="5d5d5d"/>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434" name="任意多边形: 形状 526"/>
            <p:cNvSpPr/>
            <p:nvPr/>
          </p:nvSpPr>
          <p:spPr>
            <a:xfrm>
              <a:off x="5968080" y="2362320"/>
              <a:ext cx="186480" cy="67680"/>
            </a:xfrm>
            <a:custGeom>
              <a:avLst/>
              <a:gdLst>
                <a:gd name="textAreaLeft" fmla="*/ 0 w 186480"/>
                <a:gd name="textAreaRight" fmla="*/ 186840 w 186480"/>
                <a:gd name="textAreaTop" fmla="*/ 0 h 67680"/>
                <a:gd name="textAreaBottom" fmla="*/ 68040 h 67680"/>
              </a:gdLst>
              <a:ahLst/>
              <a:rect l="textAreaLeft" t="textAreaTop" r="textAreaRight" b="textAreaBottom"/>
              <a:pathLst>
                <a:path w="186729" h="67901">
                  <a:moveTo>
                    <a:pt x="15883" y="20755"/>
                  </a:moveTo>
                  <a:lnTo>
                    <a:pt x="17363" y="15882"/>
                  </a:lnTo>
                  <a:lnTo>
                    <a:pt x="173287" y="63256"/>
                  </a:lnTo>
                  <a:lnTo>
                    <a:pt x="171806" y="68129"/>
                  </a:lnTo>
                  <a:lnTo>
                    <a:pt x="15883" y="20755"/>
                  </a:lnTo>
                  <a:close/>
                </a:path>
              </a:pathLst>
            </a:custGeom>
            <a:solidFill>
              <a:srgbClr val="5d5d5d"/>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435" name="任意多边形: 形状 527"/>
            <p:cNvSpPr/>
            <p:nvPr/>
          </p:nvSpPr>
          <p:spPr>
            <a:xfrm>
              <a:off x="5972760" y="2349000"/>
              <a:ext cx="186480" cy="67680"/>
            </a:xfrm>
            <a:custGeom>
              <a:avLst/>
              <a:gdLst>
                <a:gd name="textAreaLeft" fmla="*/ 0 w 186480"/>
                <a:gd name="textAreaRight" fmla="*/ 186840 w 186480"/>
                <a:gd name="textAreaTop" fmla="*/ 0 h 67680"/>
                <a:gd name="textAreaBottom" fmla="*/ 68040 h 67680"/>
              </a:gdLst>
              <a:ahLst/>
              <a:rect l="textAreaLeft" t="textAreaTop" r="textAreaRight" b="textAreaBottom"/>
              <a:pathLst>
                <a:path w="186729" h="67901">
                  <a:moveTo>
                    <a:pt x="15883" y="20755"/>
                  </a:moveTo>
                  <a:lnTo>
                    <a:pt x="17363" y="15883"/>
                  </a:lnTo>
                  <a:lnTo>
                    <a:pt x="173286" y="63256"/>
                  </a:lnTo>
                  <a:lnTo>
                    <a:pt x="171806" y="68129"/>
                  </a:lnTo>
                  <a:lnTo>
                    <a:pt x="15883" y="20755"/>
                  </a:lnTo>
                  <a:close/>
                </a:path>
              </a:pathLst>
            </a:custGeom>
            <a:solidFill>
              <a:srgbClr val="5d5d5d"/>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436" name="任意多边形: 形状 528"/>
            <p:cNvSpPr/>
            <p:nvPr/>
          </p:nvSpPr>
          <p:spPr>
            <a:xfrm>
              <a:off x="5979960" y="2336400"/>
              <a:ext cx="169560" cy="67680"/>
            </a:xfrm>
            <a:custGeom>
              <a:avLst/>
              <a:gdLst>
                <a:gd name="textAreaLeft" fmla="*/ 0 w 169560"/>
                <a:gd name="textAreaRight" fmla="*/ 169920 w 169560"/>
                <a:gd name="textAreaTop" fmla="*/ 0 h 67680"/>
                <a:gd name="textAreaBottom" fmla="*/ 68040 h 67680"/>
              </a:gdLst>
              <a:ahLst/>
              <a:rect l="textAreaLeft" t="textAreaTop" r="textAreaRight" b="textAreaBottom"/>
              <a:pathLst>
                <a:path w="169753" h="67901">
                  <a:moveTo>
                    <a:pt x="14429" y="12732"/>
                  </a:moveTo>
                  <a:lnTo>
                    <a:pt x="170602" y="60262"/>
                  </a:lnTo>
                  <a:lnTo>
                    <a:pt x="168905" y="65355"/>
                  </a:lnTo>
                  <a:lnTo>
                    <a:pt x="12732" y="17824"/>
                  </a:lnTo>
                  <a:lnTo>
                    <a:pt x="14429" y="12732"/>
                  </a:lnTo>
                  <a:close/>
                </a:path>
              </a:pathLst>
            </a:custGeom>
            <a:solidFill>
              <a:srgbClr val="5d5d5d"/>
            </a:solidFill>
            <a:ln w="0">
              <a:noFill/>
            </a:ln>
          </p:spPr>
          <p:style>
            <a:lnRef idx="0"/>
            <a:fillRef idx="0"/>
            <a:effectRef idx="0"/>
            <a:fontRef idx="minor"/>
          </p:style>
          <p:txBody>
            <a:bodyPr lIns="90000" rIns="90000" tIns="21240" bIns="21240" anchor="ctr">
              <a:noAutofit/>
            </a:bodyPr>
            <a:p>
              <a:endParaRPr b="0" lang="en-US" sz="1800" spc="-1" strike="noStrike">
                <a:solidFill>
                  <a:srgbClr val="262626"/>
                </a:solidFill>
                <a:latin typeface="Arial"/>
              </a:endParaRPr>
            </a:p>
          </p:txBody>
        </p:sp>
        <p:sp>
          <p:nvSpPr>
            <p:cNvPr id="1437" name="任意多边形: 形状 529"/>
            <p:cNvSpPr/>
            <p:nvPr/>
          </p:nvSpPr>
          <p:spPr>
            <a:xfrm>
              <a:off x="5895000" y="2137680"/>
              <a:ext cx="169560" cy="220680"/>
            </a:xfrm>
            <a:custGeom>
              <a:avLst/>
              <a:gdLst>
                <a:gd name="textAreaLeft" fmla="*/ 0 w 169560"/>
                <a:gd name="textAreaRight" fmla="*/ 169920 w 169560"/>
                <a:gd name="textAreaTop" fmla="*/ 0 h 220680"/>
                <a:gd name="textAreaBottom" fmla="*/ 221040 h 220680"/>
              </a:gdLst>
              <a:ahLst/>
              <a:rect l="textAreaLeft" t="textAreaTop" r="textAreaRight" b="textAreaBottom"/>
              <a:pathLst>
                <a:path w="169753" h="220679">
                  <a:moveTo>
                    <a:pt x="12732" y="158720"/>
                  </a:moveTo>
                  <a:cubicBezTo>
                    <a:pt x="22917" y="134954"/>
                    <a:pt x="41590" y="114584"/>
                    <a:pt x="84028" y="153627"/>
                  </a:cubicBezTo>
                  <a:cubicBezTo>
                    <a:pt x="95911" y="172300"/>
                    <a:pt x="106096" y="189275"/>
                    <a:pt x="112886" y="201158"/>
                  </a:cubicBezTo>
                  <a:cubicBezTo>
                    <a:pt x="121374" y="214738"/>
                    <a:pt x="138349" y="219831"/>
                    <a:pt x="153627" y="211343"/>
                  </a:cubicBezTo>
                  <a:cubicBezTo>
                    <a:pt x="167207" y="202856"/>
                    <a:pt x="172300" y="185880"/>
                    <a:pt x="163812" y="170602"/>
                  </a:cubicBezTo>
                  <a:cubicBezTo>
                    <a:pt x="153627" y="155325"/>
                    <a:pt x="136652" y="128164"/>
                    <a:pt x="117979" y="99306"/>
                  </a:cubicBezTo>
                  <a:cubicBezTo>
                    <a:pt x="99306" y="70448"/>
                    <a:pt x="80633" y="39892"/>
                    <a:pt x="63658" y="12732"/>
                  </a:cubicBezTo>
                  <a:lnTo>
                    <a:pt x="12732" y="158720"/>
                  </a:lnTo>
                  <a:close/>
                </a:path>
              </a:pathLst>
            </a:custGeom>
            <a:solidFill>
              <a:srgbClr val="e4d2a2"/>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38" name="任意多边形: 形状 530"/>
            <p:cNvSpPr/>
            <p:nvPr/>
          </p:nvSpPr>
          <p:spPr>
            <a:xfrm>
              <a:off x="5570640" y="2239560"/>
              <a:ext cx="50760" cy="560160"/>
            </a:xfrm>
            <a:custGeom>
              <a:avLst/>
              <a:gdLst>
                <a:gd name="textAreaLeft" fmla="*/ 0 w 50760"/>
                <a:gd name="textAreaRight" fmla="*/ 51120 w 50760"/>
                <a:gd name="textAreaTop" fmla="*/ 0 h 560160"/>
                <a:gd name="textAreaBottom" fmla="*/ 560520 h 560160"/>
              </a:gdLst>
              <a:ahLst/>
              <a:rect l="textAreaLeft" t="textAreaTop" r="textAreaRight" b="textAreaBottom"/>
              <a:pathLst>
                <a:path w="50926" h="560187">
                  <a:moveTo>
                    <a:pt x="33102" y="555943"/>
                  </a:moveTo>
                  <a:cubicBezTo>
                    <a:pt x="41590" y="555943"/>
                    <a:pt x="50077" y="549153"/>
                    <a:pt x="48380" y="538968"/>
                  </a:cubicBezTo>
                  <a:lnTo>
                    <a:pt x="48380" y="494832"/>
                  </a:lnTo>
                  <a:lnTo>
                    <a:pt x="48380" y="489739"/>
                  </a:lnTo>
                  <a:lnTo>
                    <a:pt x="44985" y="201158"/>
                  </a:lnTo>
                  <a:lnTo>
                    <a:pt x="44985" y="196066"/>
                  </a:lnTo>
                  <a:lnTo>
                    <a:pt x="44985" y="185880"/>
                  </a:lnTo>
                  <a:lnTo>
                    <a:pt x="44985" y="180788"/>
                  </a:lnTo>
                  <a:lnTo>
                    <a:pt x="44985" y="170602"/>
                  </a:lnTo>
                  <a:lnTo>
                    <a:pt x="44985" y="165510"/>
                  </a:lnTo>
                  <a:lnTo>
                    <a:pt x="44985" y="155325"/>
                  </a:lnTo>
                  <a:lnTo>
                    <a:pt x="44985" y="150232"/>
                  </a:lnTo>
                  <a:lnTo>
                    <a:pt x="44985" y="140047"/>
                  </a:lnTo>
                  <a:lnTo>
                    <a:pt x="44985" y="134954"/>
                  </a:lnTo>
                  <a:lnTo>
                    <a:pt x="44985" y="124769"/>
                  </a:lnTo>
                  <a:lnTo>
                    <a:pt x="44985" y="119676"/>
                  </a:lnTo>
                  <a:lnTo>
                    <a:pt x="44985" y="77238"/>
                  </a:lnTo>
                  <a:cubicBezTo>
                    <a:pt x="44985" y="68750"/>
                    <a:pt x="38195" y="26312"/>
                    <a:pt x="29707" y="21219"/>
                  </a:cubicBezTo>
                  <a:lnTo>
                    <a:pt x="29707" y="12732"/>
                  </a:lnTo>
                  <a:lnTo>
                    <a:pt x="26312" y="12732"/>
                  </a:lnTo>
                  <a:lnTo>
                    <a:pt x="26312" y="21219"/>
                  </a:lnTo>
                  <a:cubicBezTo>
                    <a:pt x="17824" y="26312"/>
                    <a:pt x="12732" y="68750"/>
                    <a:pt x="12732" y="77238"/>
                  </a:cubicBezTo>
                  <a:lnTo>
                    <a:pt x="12732" y="119676"/>
                  </a:lnTo>
                  <a:lnTo>
                    <a:pt x="12732" y="124769"/>
                  </a:lnTo>
                  <a:lnTo>
                    <a:pt x="12732" y="134954"/>
                  </a:lnTo>
                  <a:lnTo>
                    <a:pt x="12732" y="140047"/>
                  </a:lnTo>
                  <a:lnTo>
                    <a:pt x="12732" y="150232"/>
                  </a:lnTo>
                  <a:lnTo>
                    <a:pt x="12732" y="155325"/>
                  </a:lnTo>
                  <a:lnTo>
                    <a:pt x="12732" y="165510"/>
                  </a:lnTo>
                  <a:lnTo>
                    <a:pt x="12732" y="170602"/>
                  </a:lnTo>
                  <a:lnTo>
                    <a:pt x="12732" y="180788"/>
                  </a:lnTo>
                  <a:lnTo>
                    <a:pt x="12732" y="185880"/>
                  </a:lnTo>
                  <a:lnTo>
                    <a:pt x="12732" y="196066"/>
                  </a:lnTo>
                  <a:lnTo>
                    <a:pt x="12732" y="201158"/>
                  </a:lnTo>
                  <a:lnTo>
                    <a:pt x="16127" y="489739"/>
                  </a:lnTo>
                  <a:lnTo>
                    <a:pt x="16127" y="494832"/>
                  </a:lnTo>
                  <a:lnTo>
                    <a:pt x="16127" y="538968"/>
                  </a:lnTo>
                  <a:cubicBezTo>
                    <a:pt x="16127" y="547456"/>
                    <a:pt x="24614" y="555943"/>
                    <a:pt x="33102" y="555943"/>
                  </a:cubicBezTo>
                  <a:close/>
                </a:path>
              </a:pathLst>
            </a:custGeom>
            <a:solidFill>
              <a:srgbClr val="ebebe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39" name="任意多边形: 形状 531"/>
            <p:cNvSpPr/>
            <p:nvPr/>
          </p:nvSpPr>
          <p:spPr>
            <a:xfrm>
              <a:off x="5568840" y="2234160"/>
              <a:ext cx="16920" cy="33840"/>
            </a:xfrm>
            <a:custGeom>
              <a:avLst/>
              <a:gdLst>
                <a:gd name="textAreaLeft" fmla="*/ 0 w 16920"/>
                <a:gd name="textAreaRight" fmla="*/ 17280 w 16920"/>
                <a:gd name="textAreaTop" fmla="*/ 0 h 33840"/>
                <a:gd name="textAreaBottom" fmla="*/ 34200 h 33840"/>
              </a:gdLst>
              <a:ahLst/>
              <a:rect l="textAreaLeft" t="textAreaTop" r="textAreaRight" b="textAreaBottom"/>
              <a:pathLst>
                <a:path w="16975" h="33950">
                  <a:moveTo>
                    <a:pt x="12904" y="12950"/>
                  </a:moveTo>
                  <a:lnTo>
                    <a:pt x="16299" y="12904"/>
                  </a:lnTo>
                  <a:lnTo>
                    <a:pt x="16507" y="28180"/>
                  </a:lnTo>
                  <a:lnTo>
                    <a:pt x="13112" y="28226"/>
                  </a:lnTo>
                  <a:lnTo>
                    <a:pt x="12904" y="12950"/>
                  </a:lnTo>
                  <a:close/>
                </a:path>
              </a:pathLst>
            </a:custGeom>
            <a:solidFill>
              <a:srgbClr val="464646"/>
            </a:solidFill>
            <a:ln w="0">
              <a:noFill/>
            </a:ln>
          </p:spPr>
          <p:style>
            <a:lnRef idx="0"/>
            <a:fillRef idx="0"/>
            <a:effectRef idx="0"/>
            <a:fontRef idx="minor"/>
          </p:style>
          <p:txBody>
            <a:bodyPr lIns="90000" rIns="90000" tIns="-12600" bIns="-12600" anchor="ctr">
              <a:noAutofit/>
            </a:bodyPr>
            <a:p>
              <a:endParaRPr b="0" lang="en-US" sz="1800" spc="-1" strike="noStrike">
                <a:solidFill>
                  <a:srgbClr val="262626"/>
                </a:solidFill>
                <a:latin typeface="Arial"/>
              </a:endParaRPr>
            </a:p>
          </p:txBody>
        </p:sp>
        <p:sp>
          <p:nvSpPr>
            <p:cNvPr id="1440" name="任意多边形: 形状 532"/>
            <p:cNvSpPr/>
            <p:nvPr/>
          </p:nvSpPr>
          <p:spPr>
            <a:xfrm>
              <a:off x="5553720" y="2242800"/>
              <a:ext cx="50760" cy="543240"/>
            </a:xfrm>
            <a:custGeom>
              <a:avLst/>
              <a:gdLst>
                <a:gd name="textAreaLeft" fmla="*/ 0 w 50760"/>
                <a:gd name="textAreaRight" fmla="*/ 51120 w 50760"/>
                <a:gd name="textAreaTop" fmla="*/ 0 h 543240"/>
                <a:gd name="textAreaBottom" fmla="*/ 543600 h 543240"/>
              </a:gdLst>
              <a:ahLst/>
              <a:rect l="textAreaLeft" t="textAreaTop" r="textAreaRight" b="textAreaBottom"/>
              <a:pathLst>
                <a:path w="50926" h="543211">
                  <a:moveTo>
                    <a:pt x="12732" y="68750"/>
                  </a:moveTo>
                  <a:cubicBezTo>
                    <a:pt x="12732" y="60262"/>
                    <a:pt x="19522" y="12732"/>
                    <a:pt x="28009" y="12732"/>
                  </a:cubicBezTo>
                  <a:cubicBezTo>
                    <a:pt x="36497" y="12732"/>
                    <a:pt x="44985" y="60262"/>
                    <a:pt x="44985" y="68750"/>
                  </a:cubicBezTo>
                  <a:lnTo>
                    <a:pt x="50077" y="530480"/>
                  </a:lnTo>
                  <a:cubicBezTo>
                    <a:pt x="50077" y="538968"/>
                    <a:pt x="43287" y="547455"/>
                    <a:pt x="34799" y="547455"/>
                  </a:cubicBezTo>
                  <a:cubicBezTo>
                    <a:pt x="26312" y="547455"/>
                    <a:pt x="17824" y="540665"/>
                    <a:pt x="17824" y="532178"/>
                  </a:cubicBezTo>
                  <a:lnTo>
                    <a:pt x="12732" y="68750"/>
                  </a:lnTo>
                  <a:close/>
                </a:path>
              </a:pathLst>
            </a:custGeom>
            <a:solidFill>
              <a:srgbClr val="666666"/>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41" name="任意多边形: 形状 533"/>
            <p:cNvSpPr/>
            <p:nvPr/>
          </p:nvSpPr>
          <p:spPr>
            <a:xfrm>
              <a:off x="5555160" y="2417400"/>
              <a:ext cx="50760" cy="16920"/>
            </a:xfrm>
            <a:custGeom>
              <a:avLst/>
              <a:gdLst>
                <a:gd name="textAreaLeft" fmla="*/ 0 w 50760"/>
                <a:gd name="textAreaRight" fmla="*/ 51120 w 50760"/>
                <a:gd name="textAreaTop" fmla="*/ 0 h 16920"/>
                <a:gd name="textAreaBottom" fmla="*/ 17280 h 16920"/>
              </a:gdLst>
              <a:ahLst/>
              <a:rect l="textAreaLeft" t="textAreaTop" r="textAreaRight" b="textAreaBottom"/>
              <a:pathLst>
                <a:path w="50926" h="16975">
                  <a:moveTo>
                    <a:pt x="12873" y="13235"/>
                  </a:moveTo>
                  <a:lnTo>
                    <a:pt x="-20413" y="12873"/>
                  </a:lnTo>
                  <a:lnTo>
                    <a:pt x="-20356" y="17965"/>
                  </a:lnTo>
                  <a:lnTo>
                    <a:pt x="12930" y="18327"/>
                  </a:lnTo>
                  <a:lnTo>
                    <a:pt x="12873" y="13235"/>
                  </a:lnTo>
                  <a:close/>
                </a:path>
              </a:pathLst>
            </a:custGeom>
            <a:solidFill>
              <a:srgbClr val="46464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442" name="任意多边形: 形状 534"/>
            <p:cNvSpPr/>
            <p:nvPr/>
          </p:nvSpPr>
          <p:spPr>
            <a:xfrm>
              <a:off x="5558760" y="2711160"/>
              <a:ext cx="50760" cy="16920"/>
            </a:xfrm>
            <a:custGeom>
              <a:avLst/>
              <a:gdLst>
                <a:gd name="textAreaLeft" fmla="*/ 0 w 50760"/>
                <a:gd name="textAreaRight" fmla="*/ 51120 w 50760"/>
                <a:gd name="textAreaTop" fmla="*/ 0 h 16920"/>
                <a:gd name="textAreaBottom" fmla="*/ 17280 h 16920"/>
              </a:gdLst>
              <a:ahLst/>
              <a:rect l="textAreaLeft" t="textAreaTop" r="textAreaRight" b="textAreaBottom"/>
              <a:pathLst>
                <a:path w="50926" h="16975">
                  <a:moveTo>
                    <a:pt x="12876" y="13247"/>
                  </a:moveTo>
                  <a:lnTo>
                    <a:pt x="-20410" y="12876"/>
                  </a:lnTo>
                  <a:lnTo>
                    <a:pt x="-20351" y="17969"/>
                  </a:lnTo>
                  <a:lnTo>
                    <a:pt x="12935" y="18339"/>
                  </a:lnTo>
                  <a:lnTo>
                    <a:pt x="12876" y="13247"/>
                  </a:lnTo>
                  <a:close/>
                </a:path>
              </a:pathLst>
            </a:custGeom>
            <a:solidFill>
              <a:srgbClr val="46464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443" name="任意多边形: 形状 535"/>
            <p:cNvSpPr/>
            <p:nvPr/>
          </p:nvSpPr>
          <p:spPr>
            <a:xfrm>
              <a:off x="5555160" y="2402280"/>
              <a:ext cx="50760" cy="16920"/>
            </a:xfrm>
            <a:custGeom>
              <a:avLst/>
              <a:gdLst>
                <a:gd name="textAreaLeft" fmla="*/ 0 w 50760"/>
                <a:gd name="textAreaRight" fmla="*/ 51120 w 50760"/>
                <a:gd name="textAreaTop" fmla="*/ 0 h 16920"/>
                <a:gd name="textAreaBottom" fmla="*/ 17280 h 16920"/>
              </a:gdLst>
              <a:ahLst/>
              <a:rect l="textAreaLeft" t="textAreaTop" r="textAreaRight" b="textAreaBottom"/>
              <a:pathLst>
                <a:path w="50926" h="16975">
                  <a:moveTo>
                    <a:pt x="12872" y="13230"/>
                  </a:moveTo>
                  <a:lnTo>
                    <a:pt x="-20414" y="12872"/>
                  </a:lnTo>
                  <a:lnTo>
                    <a:pt x="-20358" y="17964"/>
                  </a:lnTo>
                  <a:lnTo>
                    <a:pt x="12928" y="18322"/>
                  </a:lnTo>
                  <a:lnTo>
                    <a:pt x="12872" y="13230"/>
                  </a:lnTo>
                  <a:close/>
                </a:path>
              </a:pathLst>
            </a:custGeom>
            <a:solidFill>
              <a:srgbClr val="46464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444" name="任意多边形: 形状 536"/>
            <p:cNvSpPr/>
            <p:nvPr/>
          </p:nvSpPr>
          <p:spPr>
            <a:xfrm>
              <a:off x="5555520" y="2387160"/>
              <a:ext cx="50760" cy="16920"/>
            </a:xfrm>
            <a:custGeom>
              <a:avLst/>
              <a:gdLst>
                <a:gd name="textAreaLeft" fmla="*/ 0 w 50760"/>
                <a:gd name="textAreaRight" fmla="*/ 51120 w 50760"/>
                <a:gd name="textAreaTop" fmla="*/ 0 h 16920"/>
                <a:gd name="textAreaBottom" fmla="*/ 17280 h 16920"/>
              </a:gdLst>
              <a:ahLst/>
              <a:rect l="textAreaLeft" t="textAreaTop" r="textAreaRight" b="textAreaBottom"/>
              <a:pathLst>
                <a:path w="50926" h="16975">
                  <a:moveTo>
                    <a:pt x="12732" y="12732"/>
                  </a:moveTo>
                  <a:lnTo>
                    <a:pt x="-20551" y="12732"/>
                  </a:lnTo>
                  <a:lnTo>
                    <a:pt x="-20551" y="17824"/>
                  </a:lnTo>
                  <a:lnTo>
                    <a:pt x="12732" y="19522"/>
                  </a:lnTo>
                  <a:lnTo>
                    <a:pt x="12732" y="12732"/>
                  </a:lnTo>
                  <a:close/>
                </a:path>
              </a:pathLst>
            </a:custGeom>
            <a:solidFill>
              <a:srgbClr val="46464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445" name="任意多边形: 形状 537"/>
            <p:cNvSpPr/>
            <p:nvPr/>
          </p:nvSpPr>
          <p:spPr>
            <a:xfrm>
              <a:off x="5555520" y="2372040"/>
              <a:ext cx="50760" cy="16920"/>
            </a:xfrm>
            <a:custGeom>
              <a:avLst/>
              <a:gdLst>
                <a:gd name="textAreaLeft" fmla="*/ 0 w 50760"/>
                <a:gd name="textAreaRight" fmla="*/ 51120 w 50760"/>
                <a:gd name="textAreaTop" fmla="*/ 0 h 16920"/>
                <a:gd name="textAreaBottom" fmla="*/ 17280 h 16920"/>
              </a:gdLst>
              <a:ahLst/>
              <a:rect l="textAreaLeft" t="textAreaTop" r="textAreaRight" b="textAreaBottom"/>
              <a:pathLst>
                <a:path w="50926" h="16975">
                  <a:moveTo>
                    <a:pt x="12732" y="12732"/>
                  </a:moveTo>
                  <a:lnTo>
                    <a:pt x="-20551" y="12732"/>
                  </a:lnTo>
                  <a:lnTo>
                    <a:pt x="-20551" y="17824"/>
                  </a:lnTo>
                  <a:lnTo>
                    <a:pt x="12732" y="19522"/>
                  </a:lnTo>
                  <a:lnTo>
                    <a:pt x="12732" y="12732"/>
                  </a:lnTo>
                  <a:close/>
                </a:path>
              </a:pathLst>
            </a:custGeom>
            <a:solidFill>
              <a:srgbClr val="46464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446" name="任意多边形: 形状 538"/>
            <p:cNvSpPr/>
            <p:nvPr/>
          </p:nvSpPr>
          <p:spPr>
            <a:xfrm>
              <a:off x="5555520" y="2356560"/>
              <a:ext cx="50760" cy="16920"/>
            </a:xfrm>
            <a:custGeom>
              <a:avLst/>
              <a:gdLst>
                <a:gd name="textAreaLeft" fmla="*/ 0 w 50760"/>
                <a:gd name="textAreaRight" fmla="*/ 51120 w 50760"/>
                <a:gd name="textAreaTop" fmla="*/ 0 h 16920"/>
                <a:gd name="textAreaBottom" fmla="*/ 17280 h 16920"/>
              </a:gdLst>
              <a:ahLst/>
              <a:rect l="textAreaLeft" t="textAreaTop" r="textAreaRight" b="textAreaBottom"/>
              <a:pathLst>
                <a:path w="50926" h="16975">
                  <a:moveTo>
                    <a:pt x="12732" y="12732"/>
                  </a:moveTo>
                  <a:lnTo>
                    <a:pt x="-20551" y="12732"/>
                  </a:lnTo>
                  <a:lnTo>
                    <a:pt x="-20551" y="17824"/>
                  </a:lnTo>
                  <a:lnTo>
                    <a:pt x="12732" y="19522"/>
                  </a:lnTo>
                  <a:lnTo>
                    <a:pt x="12732" y="12732"/>
                  </a:lnTo>
                  <a:close/>
                </a:path>
              </a:pathLst>
            </a:custGeom>
            <a:solidFill>
              <a:srgbClr val="46464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447" name="任意多边形: 形状 539"/>
            <p:cNvSpPr/>
            <p:nvPr/>
          </p:nvSpPr>
          <p:spPr>
            <a:xfrm>
              <a:off x="5553720" y="2341440"/>
              <a:ext cx="50760" cy="16920"/>
            </a:xfrm>
            <a:custGeom>
              <a:avLst/>
              <a:gdLst>
                <a:gd name="textAreaLeft" fmla="*/ 0 w 50760"/>
                <a:gd name="textAreaRight" fmla="*/ 51120 w 50760"/>
                <a:gd name="textAreaTop" fmla="*/ 0 h 16920"/>
                <a:gd name="textAreaBottom" fmla="*/ 17280 h 16920"/>
              </a:gdLst>
              <a:ahLst/>
              <a:rect l="textAreaLeft" t="textAreaTop" r="textAreaRight" b="textAreaBottom"/>
              <a:pathLst>
                <a:path w="50926" h="16975">
                  <a:moveTo>
                    <a:pt x="12732" y="12732"/>
                  </a:moveTo>
                  <a:lnTo>
                    <a:pt x="-18854" y="12732"/>
                  </a:lnTo>
                  <a:lnTo>
                    <a:pt x="-18854" y="17824"/>
                  </a:lnTo>
                  <a:lnTo>
                    <a:pt x="14429" y="19522"/>
                  </a:lnTo>
                  <a:lnTo>
                    <a:pt x="12732" y="12732"/>
                  </a:lnTo>
                  <a:close/>
                </a:path>
              </a:pathLst>
            </a:custGeom>
            <a:solidFill>
              <a:srgbClr val="464646"/>
            </a:solidFill>
            <a:ln w="0">
              <a:noFill/>
            </a:ln>
          </p:spPr>
          <p:style>
            <a:lnRef idx="0"/>
            <a:fillRef idx="0"/>
            <a:effectRef idx="0"/>
            <a:fontRef idx="minor"/>
          </p:style>
          <p:txBody>
            <a:bodyPr lIns="90000" rIns="90000" tIns="-29520" bIns="-29520" anchor="ctr">
              <a:noAutofit/>
            </a:bodyPr>
            <a:p>
              <a:endParaRPr b="0" lang="en-US" sz="1800" spc="-1" strike="noStrike">
                <a:solidFill>
                  <a:srgbClr val="262626"/>
                </a:solidFill>
                <a:latin typeface="Arial"/>
              </a:endParaRPr>
            </a:p>
          </p:txBody>
        </p:sp>
        <p:sp>
          <p:nvSpPr>
            <p:cNvPr id="1448" name="任意多边形: 形状 540"/>
            <p:cNvSpPr/>
            <p:nvPr/>
          </p:nvSpPr>
          <p:spPr>
            <a:xfrm>
              <a:off x="5316120" y="2353320"/>
              <a:ext cx="237600" cy="271440"/>
            </a:xfrm>
            <a:custGeom>
              <a:avLst/>
              <a:gdLst>
                <a:gd name="textAreaLeft" fmla="*/ 0 w 237600"/>
                <a:gd name="textAreaRight" fmla="*/ 237960 w 237600"/>
                <a:gd name="textAreaTop" fmla="*/ 0 h 271440"/>
                <a:gd name="textAreaBottom" fmla="*/ 271800 h 271440"/>
              </a:gdLst>
              <a:ahLst/>
              <a:rect l="textAreaLeft" t="textAreaTop" r="textAreaRight" b="textAreaBottom"/>
              <a:pathLst>
                <a:path w="237655" h="271605">
                  <a:moveTo>
                    <a:pt x="134954" y="46682"/>
                  </a:moveTo>
                  <a:lnTo>
                    <a:pt x="134954" y="26312"/>
                  </a:lnTo>
                  <a:cubicBezTo>
                    <a:pt x="134954" y="17824"/>
                    <a:pt x="128164" y="12732"/>
                    <a:pt x="121374" y="12732"/>
                  </a:cubicBezTo>
                  <a:cubicBezTo>
                    <a:pt x="112886" y="12732"/>
                    <a:pt x="107794" y="19522"/>
                    <a:pt x="107794" y="26312"/>
                  </a:cubicBezTo>
                  <a:lnTo>
                    <a:pt x="107794" y="46682"/>
                  </a:lnTo>
                  <a:cubicBezTo>
                    <a:pt x="55170" y="53472"/>
                    <a:pt x="12732" y="99306"/>
                    <a:pt x="12732" y="155325"/>
                  </a:cubicBezTo>
                  <a:cubicBezTo>
                    <a:pt x="12732" y="214738"/>
                    <a:pt x="61960" y="263967"/>
                    <a:pt x="121374" y="263967"/>
                  </a:cubicBezTo>
                  <a:cubicBezTo>
                    <a:pt x="180788" y="263967"/>
                    <a:pt x="230016" y="214738"/>
                    <a:pt x="230016" y="155325"/>
                  </a:cubicBezTo>
                  <a:cubicBezTo>
                    <a:pt x="230016" y="99306"/>
                    <a:pt x="187578" y="53472"/>
                    <a:pt x="134954" y="46682"/>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49" name="任意多边形: 形状 541"/>
            <p:cNvSpPr/>
            <p:nvPr/>
          </p:nvSpPr>
          <p:spPr>
            <a:xfrm>
              <a:off x="5299200" y="2353320"/>
              <a:ext cx="237600" cy="271440"/>
            </a:xfrm>
            <a:custGeom>
              <a:avLst/>
              <a:gdLst>
                <a:gd name="textAreaLeft" fmla="*/ 0 w 237600"/>
                <a:gd name="textAreaRight" fmla="*/ 237960 w 237600"/>
                <a:gd name="textAreaTop" fmla="*/ 0 h 271440"/>
                <a:gd name="textAreaBottom" fmla="*/ 271800 h 271440"/>
              </a:gdLst>
              <a:ahLst/>
              <a:rect l="textAreaLeft" t="textAreaTop" r="textAreaRight" b="textAreaBottom"/>
              <a:pathLst>
                <a:path w="237655" h="271605">
                  <a:moveTo>
                    <a:pt x="134954" y="46682"/>
                  </a:moveTo>
                  <a:lnTo>
                    <a:pt x="134954" y="26312"/>
                  </a:lnTo>
                  <a:cubicBezTo>
                    <a:pt x="134954" y="17824"/>
                    <a:pt x="128164" y="12732"/>
                    <a:pt x="121374" y="12732"/>
                  </a:cubicBezTo>
                  <a:cubicBezTo>
                    <a:pt x="112886" y="12732"/>
                    <a:pt x="107794" y="19522"/>
                    <a:pt x="107794" y="26312"/>
                  </a:cubicBezTo>
                  <a:lnTo>
                    <a:pt x="107794" y="46682"/>
                  </a:lnTo>
                  <a:cubicBezTo>
                    <a:pt x="55170" y="53472"/>
                    <a:pt x="12732" y="99306"/>
                    <a:pt x="12732" y="155325"/>
                  </a:cubicBezTo>
                  <a:cubicBezTo>
                    <a:pt x="12732" y="214738"/>
                    <a:pt x="61960" y="263967"/>
                    <a:pt x="121374" y="263967"/>
                  </a:cubicBezTo>
                  <a:cubicBezTo>
                    <a:pt x="180788" y="263967"/>
                    <a:pt x="230016" y="214738"/>
                    <a:pt x="230016" y="155325"/>
                  </a:cubicBezTo>
                  <a:cubicBezTo>
                    <a:pt x="230016" y="99306"/>
                    <a:pt x="189275" y="53472"/>
                    <a:pt x="134954" y="4668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0" name="任意多边形: 形状 542"/>
            <p:cNvSpPr/>
            <p:nvPr/>
          </p:nvSpPr>
          <p:spPr>
            <a:xfrm>
              <a:off x="5321160" y="2407680"/>
              <a:ext cx="186480" cy="186480"/>
            </a:xfrm>
            <a:custGeom>
              <a:avLst/>
              <a:gdLst>
                <a:gd name="textAreaLeft" fmla="*/ 0 w 186480"/>
                <a:gd name="textAreaRight" fmla="*/ 186840 w 186480"/>
                <a:gd name="textAreaTop" fmla="*/ 0 h 186480"/>
                <a:gd name="textAreaBottom" fmla="*/ 186840 h 186480"/>
              </a:gdLst>
              <a:ahLst/>
              <a:rect l="textAreaLeft" t="textAreaTop" r="textAreaRight" b="textAreaBottom"/>
              <a:pathLst>
                <a:path w="186729" h="186729">
                  <a:moveTo>
                    <a:pt x="185880" y="99306"/>
                  </a:moveTo>
                  <a:cubicBezTo>
                    <a:pt x="185880" y="146837"/>
                    <a:pt x="146837" y="185880"/>
                    <a:pt x="99306" y="185880"/>
                  </a:cubicBezTo>
                  <a:cubicBezTo>
                    <a:pt x="51775" y="185880"/>
                    <a:pt x="12732" y="146837"/>
                    <a:pt x="12732" y="99306"/>
                  </a:cubicBezTo>
                  <a:cubicBezTo>
                    <a:pt x="12732" y="51775"/>
                    <a:pt x="51775" y="12732"/>
                    <a:pt x="99306" y="12732"/>
                  </a:cubicBezTo>
                  <a:cubicBezTo>
                    <a:pt x="146837" y="12732"/>
                    <a:pt x="185880" y="51775"/>
                    <a:pt x="185880" y="99306"/>
                  </a:cubicBez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1" name="任意多边形: 形状 543"/>
            <p:cNvSpPr/>
            <p:nvPr/>
          </p:nvSpPr>
          <p:spPr>
            <a:xfrm>
              <a:off x="5319720" y="2407680"/>
              <a:ext cx="118800" cy="186480"/>
            </a:xfrm>
            <a:custGeom>
              <a:avLst/>
              <a:gdLst>
                <a:gd name="textAreaLeft" fmla="*/ 0 w 118800"/>
                <a:gd name="textAreaRight" fmla="*/ 119160 w 118800"/>
                <a:gd name="textAreaTop" fmla="*/ 0 h 186480"/>
                <a:gd name="textAreaBottom" fmla="*/ 186840 h 186480"/>
              </a:gdLst>
              <a:ahLst/>
              <a:rect l="textAreaLeft" t="textAreaTop" r="textAreaRight" b="textAreaBottom"/>
              <a:pathLst>
                <a:path w="118827" h="186729">
                  <a:moveTo>
                    <a:pt x="29707" y="99306"/>
                  </a:moveTo>
                  <a:cubicBezTo>
                    <a:pt x="29707" y="53472"/>
                    <a:pt x="63658" y="17824"/>
                    <a:pt x="107794" y="12732"/>
                  </a:cubicBezTo>
                  <a:cubicBezTo>
                    <a:pt x="104398" y="12732"/>
                    <a:pt x="102701" y="12732"/>
                    <a:pt x="99306" y="12732"/>
                  </a:cubicBezTo>
                  <a:cubicBezTo>
                    <a:pt x="51775" y="12732"/>
                    <a:pt x="12732" y="51775"/>
                    <a:pt x="12732" y="99306"/>
                  </a:cubicBezTo>
                  <a:cubicBezTo>
                    <a:pt x="12732" y="146837"/>
                    <a:pt x="51775" y="185880"/>
                    <a:pt x="99306" y="185880"/>
                  </a:cubicBezTo>
                  <a:cubicBezTo>
                    <a:pt x="102701" y="185880"/>
                    <a:pt x="104398" y="185880"/>
                    <a:pt x="107794" y="185880"/>
                  </a:cubicBezTo>
                  <a:cubicBezTo>
                    <a:pt x="65355" y="180788"/>
                    <a:pt x="29707" y="145139"/>
                    <a:pt x="29707" y="99306"/>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2" name="任意多边形: 形状 544"/>
            <p:cNvSpPr/>
            <p:nvPr/>
          </p:nvSpPr>
          <p:spPr>
            <a:xfrm>
              <a:off x="7511040" y="2728440"/>
              <a:ext cx="237600" cy="271440"/>
            </a:xfrm>
            <a:custGeom>
              <a:avLst/>
              <a:gdLst>
                <a:gd name="textAreaLeft" fmla="*/ 0 w 237600"/>
                <a:gd name="textAreaRight" fmla="*/ 237960 w 237600"/>
                <a:gd name="textAreaTop" fmla="*/ 0 h 271440"/>
                <a:gd name="textAreaBottom" fmla="*/ 271800 h 271440"/>
              </a:gdLst>
              <a:ahLst/>
              <a:rect l="textAreaLeft" t="textAreaTop" r="textAreaRight" b="textAreaBottom"/>
              <a:pathLst>
                <a:path w="237655" h="271605">
                  <a:moveTo>
                    <a:pt x="134954" y="46682"/>
                  </a:moveTo>
                  <a:lnTo>
                    <a:pt x="134954" y="26312"/>
                  </a:lnTo>
                  <a:cubicBezTo>
                    <a:pt x="134954" y="17824"/>
                    <a:pt x="128164" y="12732"/>
                    <a:pt x="121374" y="12732"/>
                  </a:cubicBezTo>
                  <a:cubicBezTo>
                    <a:pt x="112886" y="12732"/>
                    <a:pt x="107794" y="19522"/>
                    <a:pt x="107794" y="26312"/>
                  </a:cubicBezTo>
                  <a:lnTo>
                    <a:pt x="107794" y="46682"/>
                  </a:lnTo>
                  <a:cubicBezTo>
                    <a:pt x="55170" y="53472"/>
                    <a:pt x="12732" y="99306"/>
                    <a:pt x="12732" y="155324"/>
                  </a:cubicBezTo>
                  <a:cubicBezTo>
                    <a:pt x="12732" y="214738"/>
                    <a:pt x="61960" y="263967"/>
                    <a:pt x="121374" y="263967"/>
                  </a:cubicBezTo>
                  <a:cubicBezTo>
                    <a:pt x="180788" y="263967"/>
                    <a:pt x="230016" y="214738"/>
                    <a:pt x="230016" y="155324"/>
                  </a:cubicBezTo>
                  <a:cubicBezTo>
                    <a:pt x="228319" y="99306"/>
                    <a:pt x="187578" y="53472"/>
                    <a:pt x="134954" y="46682"/>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3" name="任意多边形: 形状 545"/>
            <p:cNvSpPr/>
            <p:nvPr/>
          </p:nvSpPr>
          <p:spPr>
            <a:xfrm>
              <a:off x="7494120" y="2728440"/>
              <a:ext cx="237600" cy="271440"/>
            </a:xfrm>
            <a:custGeom>
              <a:avLst/>
              <a:gdLst>
                <a:gd name="textAreaLeft" fmla="*/ 0 w 237600"/>
                <a:gd name="textAreaRight" fmla="*/ 237960 w 237600"/>
                <a:gd name="textAreaTop" fmla="*/ 0 h 271440"/>
                <a:gd name="textAreaBottom" fmla="*/ 271800 h 271440"/>
              </a:gdLst>
              <a:ahLst/>
              <a:rect l="textAreaLeft" t="textAreaTop" r="textAreaRight" b="textAreaBottom"/>
              <a:pathLst>
                <a:path w="237655" h="271605">
                  <a:moveTo>
                    <a:pt x="134954" y="46682"/>
                  </a:moveTo>
                  <a:lnTo>
                    <a:pt x="134954" y="26312"/>
                  </a:lnTo>
                  <a:cubicBezTo>
                    <a:pt x="134954" y="17824"/>
                    <a:pt x="128164" y="12732"/>
                    <a:pt x="121374" y="12732"/>
                  </a:cubicBezTo>
                  <a:cubicBezTo>
                    <a:pt x="112886" y="12732"/>
                    <a:pt x="107794" y="19522"/>
                    <a:pt x="107794" y="26312"/>
                  </a:cubicBezTo>
                  <a:lnTo>
                    <a:pt x="107794" y="46682"/>
                  </a:lnTo>
                  <a:cubicBezTo>
                    <a:pt x="55170" y="53472"/>
                    <a:pt x="12732" y="99306"/>
                    <a:pt x="12732" y="155324"/>
                  </a:cubicBezTo>
                  <a:cubicBezTo>
                    <a:pt x="12732" y="214738"/>
                    <a:pt x="61960" y="263967"/>
                    <a:pt x="121374" y="263967"/>
                  </a:cubicBezTo>
                  <a:cubicBezTo>
                    <a:pt x="180788" y="263967"/>
                    <a:pt x="230016" y="214738"/>
                    <a:pt x="230016" y="155324"/>
                  </a:cubicBezTo>
                  <a:cubicBezTo>
                    <a:pt x="230016" y="99306"/>
                    <a:pt x="187578" y="53472"/>
                    <a:pt x="134954" y="4668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4" name="任意多边形: 形状 546"/>
            <p:cNvSpPr/>
            <p:nvPr/>
          </p:nvSpPr>
          <p:spPr>
            <a:xfrm>
              <a:off x="7516080" y="2784600"/>
              <a:ext cx="186480" cy="186480"/>
            </a:xfrm>
            <a:custGeom>
              <a:avLst/>
              <a:gdLst>
                <a:gd name="textAreaLeft" fmla="*/ 0 w 186480"/>
                <a:gd name="textAreaRight" fmla="*/ 186840 w 186480"/>
                <a:gd name="textAreaTop" fmla="*/ 0 h 186480"/>
                <a:gd name="textAreaBottom" fmla="*/ 186840 h 186480"/>
              </a:gdLst>
              <a:ahLst/>
              <a:rect l="textAreaLeft" t="textAreaTop" r="textAreaRight" b="textAreaBottom"/>
              <a:pathLst>
                <a:path w="186729" h="186729">
                  <a:moveTo>
                    <a:pt x="185880" y="99306"/>
                  </a:moveTo>
                  <a:cubicBezTo>
                    <a:pt x="185880" y="146837"/>
                    <a:pt x="146837" y="185880"/>
                    <a:pt x="99306" y="185880"/>
                  </a:cubicBezTo>
                  <a:cubicBezTo>
                    <a:pt x="51775" y="185880"/>
                    <a:pt x="12732" y="146837"/>
                    <a:pt x="12732" y="99306"/>
                  </a:cubicBezTo>
                  <a:cubicBezTo>
                    <a:pt x="12732" y="51775"/>
                    <a:pt x="51775" y="12732"/>
                    <a:pt x="99306" y="12732"/>
                  </a:cubicBezTo>
                  <a:cubicBezTo>
                    <a:pt x="146837" y="12732"/>
                    <a:pt x="185880" y="51775"/>
                    <a:pt x="185880" y="99306"/>
                  </a:cubicBez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5" name="任意多边形: 形状 547"/>
            <p:cNvSpPr/>
            <p:nvPr/>
          </p:nvSpPr>
          <p:spPr>
            <a:xfrm>
              <a:off x="7514640" y="2784600"/>
              <a:ext cx="118800" cy="186480"/>
            </a:xfrm>
            <a:custGeom>
              <a:avLst/>
              <a:gdLst>
                <a:gd name="textAreaLeft" fmla="*/ 0 w 118800"/>
                <a:gd name="textAreaRight" fmla="*/ 119160 w 118800"/>
                <a:gd name="textAreaTop" fmla="*/ 0 h 186480"/>
                <a:gd name="textAreaBottom" fmla="*/ 186840 h 186480"/>
              </a:gdLst>
              <a:ahLst/>
              <a:rect l="textAreaLeft" t="textAreaTop" r="textAreaRight" b="textAreaBottom"/>
              <a:pathLst>
                <a:path w="118827" h="186729">
                  <a:moveTo>
                    <a:pt x="29707" y="99306"/>
                  </a:moveTo>
                  <a:cubicBezTo>
                    <a:pt x="29707" y="53472"/>
                    <a:pt x="63658" y="17824"/>
                    <a:pt x="107794" y="12732"/>
                  </a:cubicBezTo>
                  <a:cubicBezTo>
                    <a:pt x="104399" y="12732"/>
                    <a:pt x="102701" y="12732"/>
                    <a:pt x="99306" y="12732"/>
                  </a:cubicBezTo>
                  <a:cubicBezTo>
                    <a:pt x="51775" y="12732"/>
                    <a:pt x="12732" y="51775"/>
                    <a:pt x="12732" y="99306"/>
                  </a:cubicBezTo>
                  <a:cubicBezTo>
                    <a:pt x="12732" y="146837"/>
                    <a:pt x="51775" y="185880"/>
                    <a:pt x="99306" y="185880"/>
                  </a:cubicBezTo>
                  <a:cubicBezTo>
                    <a:pt x="102701" y="185880"/>
                    <a:pt x="104399" y="185880"/>
                    <a:pt x="107794" y="185880"/>
                  </a:cubicBezTo>
                  <a:cubicBezTo>
                    <a:pt x="63658" y="180788"/>
                    <a:pt x="29707" y="145139"/>
                    <a:pt x="29707" y="99306"/>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6" name="任意多边形: 形状 548"/>
            <p:cNvSpPr/>
            <p:nvPr/>
          </p:nvSpPr>
          <p:spPr>
            <a:xfrm>
              <a:off x="9743400" y="2555280"/>
              <a:ext cx="237600" cy="271440"/>
            </a:xfrm>
            <a:custGeom>
              <a:avLst/>
              <a:gdLst>
                <a:gd name="textAreaLeft" fmla="*/ 0 w 237600"/>
                <a:gd name="textAreaRight" fmla="*/ 237960 w 237600"/>
                <a:gd name="textAreaTop" fmla="*/ 0 h 271440"/>
                <a:gd name="textAreaBottom" fmla="*/ 271800 h 271440"/>
              </a:gdLst>
              <a:ahLst/>
              <a:rect l="textAreaLeft" t="textAreaTop" r="textAreaRight" b="textAreaBottom"/>
              <a:pathLst>
                <a:path w="237655" h="271605">
                  <a:moveTo>
                    <a:pt x="134954" y="48380"/>
                  </a:moveTo>
                  <a:lnTo>
                    <a:pt x="134954" y="26312"/>
                  </a:lnTo>
                  <a:cubicBezTo>
                    <a:pt x="134954" y="17824"/>
                    <a:pt x="128164" y="12732"/>
                    <a:pt x="121374" y="12732"/>
                  </a:cubicBezTo>
                  <a:cubicBezTo>
                    <a:pt x="112886" y="12732"/>
                    <a:pt x="107794" y="19522"/>
                    <a:pt x="107794" y="26312"/>
                  </a:cubicBezTo>
                  <a:lnTo>
                    <a:pt x="107794" y="48380"/>
                  </a:lnTo>
                  <a:cubicBezTo>
                    <a:pt x="55170" y="55170"/>
                    <a:pt x="12732" y="101003"/>
                    <a:pt x="12732" y="157022"/>
                  </a:cubicBezTo>
                  <a:cubicBezTo>
                    <a:pt x="12732" y="216436"/>
                    <a:pt x="61960" y="265664"/>
                    <a:pt x="121374" y="265664"/>
                  </a:cubicBezTo>
                  <a:cubicBezTo>
                    <a:pt x="180788" y="265664"/>
                    <a:pt x="230016" y="216436"/>
                    <a:pt x="230016" y="157022"/>
                  </a:cubicBezTo>
                  <a:cubicBezTo>
                    <a:pt x="230016" y="101003"/>
                    <a:pt x="189275" y="55170"/>
                    <a:pt x="134954" y="48380"/>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7" name="任意多边形: 形状 549"/>
            <p:cNvSpPr/>
            <p:nvPr/>
          </p:nvSpPr>
          <p:spPr>
            <a:xfrm>
              <a:off x="9728280" y="2555280"/>
              <a:ext cx="237600" cy="271440"/>
            </a:xfrm>
            <a:custGeom>
              <a:avLst/>
              <a:gdLst>
                <a:gd name="textAreaLeft" fmla="*/ 0 w 237600"/>
                <a:gd name="textAreaRight" fmla="*/ 237960 w 237600"/>
                <a:gd name="textAreaTop" fmla="*/ 0 h 271440"/>
                <a:gd name="textAreaBottom" fmla="*/ 271800 h 271440"/>
              </a:gdLst>
              <a:ahLst/>
              <a:rect l="textAreaLeft" t="textAreaTop" r="textAreaRight" b="textAreaBottom"/>
              <a:pathLst>
                <a:path w="237655" h="271605">
                  <a:moveTo>
                    <a:pt x="134954" y="48380"/>
                  </a:moveTo>
                  <a:lnTo>
                    <a:pt x="134954" y="26312"/>
                  </a:lnTo>
                  <a:cubicBezTo>
                    <a:pt x="134954" y="17824"/>
                    <a:pt x="128164" y="12732"/>
                    <a:pt x="121374" y="12732"/>
                  </a:cubicBezTo>
                  <a:cubicBezTo>
                    <a:pt x="112886" y="12732"/>
                    <a:pt x="107794" y="19522"/>
                    <a:pt x="107794" y="26312"/>
                  </a:cubicBezTo>
                  <a:lnTo>
                    <a:pt x="107794" y="48380"/>
                  </a:lnTo>
                  <a:cubicBezTo>
                    <a:pt x="55170" y="55170"/>
                    <a:pt x="12732" y="101003"/>
                    <a:pt x="12732" y="157022"/>
                  </a:cubicBezTo>
                  <a:cubicBezTo>
                    <a:pt x="12732" y="216436"/>
                    <a:pt x="61960" y="265664"/>
                    <a:pt x="121374" y="265664"/>
                  </a:cubicBezTo>
                  <a:cubicBezTo>
                    <a:pt x="180788" y="265664"/>
                    <a:pt x="230016" y="216436"/>
                    <a:pt x="230016" y="157022"/>
                  </a:cubicBezTo>
                  <a:cubicBezTo>
                    <a:pt x="228318" y="101003"/>
                    <a:pt x="187578" y="55170"/>
                    <a:pt x="134954" y="483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8" name="任意多边形: 形状 550"/>
            <p:cNvSpPr/>
            <p:nvPr/>
          </p:nvSpPr>
          <p:spPr>
            <a:xfrm>
              <a:off x="9748440" y="2612880"/>
              <a:ext cx="186480" cy="186480"/>
            </a:xfrm>
            <a:custGeom>
              <a:avLst/>
              <a:gdLst>
                <a:gd name="textAreaLeft" fmla="*/ 0 w 186480"/>
                <a:gd name="textAreaRight" fmla="*/ 186840 w 186480"/>
                <a:gd name="textAreaTop" fmla="*/ 0 h 186480"/>
                <a:gd name="textAreaBottom" fmla="*/ 186840 h 186480"/>
              </a:gdLst>
              <a:ahLst/>
              <a:rect l="textAreaLeft" t="textAreaTop" r="textAreaRight" b="textAreaBottom"/>
              <a:pathLst>
                <a:path w="186729" h="186729">
                  <a:moveTo>
                    <a:pt x="185880" y="99306"/>
                  </a:moveTo>
                  <a:cubicBezTo>
                    <a:pt x="185880" y="146837"/>
                    <a:pt x="146837" y="185880"/>
                    <a:pt x="99306" y="185880"/>
                  </a:cubicBezTo>
                  <a:cubicBezTo>
                    <a:pt x="51775" y="185880"/>
                    <a:pt x="12732" y="146837"/>
                    <a:pt x="12732" y="99306"/>
                  </a:cubicBezTo>
                  <a:cubicBezTo>
                    <a:pt x="12732" y="51775"/>
                    <a:pt x="51775" y="12732"/>
                    <a:pt x="99306" y="12732"/>
                  </a:cubicBezTo>
                  <a:cubicBezTo>
                    <a:pt x="146837" y="12732"/>
                    <a:pt x="185880" y="51775"/>
                    <a:pt x="185880" y="99306"/>
                  </a:cubicBez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59" name="任意多边形: 形状 551"/>
            <p:cNvSpPr/>
            <p:nvPr/>
          </p:nvSpPr>
          <p:spPr>
            <a:xfrm>
              <a:off x="9748440" y="2612880"/>
              <a:ext cx="118800" cy="186480"/>
            </a:xfrm>
            <a:custGeom>
              <a:avLst/>
              <a:gdLst>
                <a:gd name="textAreaLeft" fmla="*/ 0 w 118800"/>
                <a:gd name="textAreaRight" fmla="*/ 119160 w 118800"/>
                <a:gd name="textAreaTop" fmla="*/ 0 h 186480"/>
                <a:gd name="textAreaBottom" fmla="*/ 186840 h 186480"/>
              </a:gdLst>
              <a:ahLst/>
              <a:rect l="textAreaLeft" t="textAreaTop" r="textAreaRight" b="textAreaBottom"/>
              <a:pathLst>
                <a:path w="118827" h="186729">
                  <a:moveTo>
                    <a:pt x="29707" y="99306"/>
                  </a:moveTo>
                  <a:cubicBezTo>
                    <a:pt x="29707" y="53473"/>
                    <a:pt x="63658" y="17824"/>
                    <a:pt x="107794" y="12732"/>
                  </a:cubicBezTo>
                  <a:cubicBezTo>
                    <a:pt x="104399" y="12732"/>
                    <a:pt x="102701" y="12732"/>
                    <a:pt x="99306" y="12732"/>
                  </a:cubicBezTo>
                  <a:cubicBezTo>
                    <a:pt x="51775" y="12732"/>
                    <a:pt x="12732" y="51775"/>
                    <a:pt x="12732" y="99306"/>
                  </a:cubicBezTo>
                  <a:cubicBezTo>
                    <a:pt x="12732" y="146837"/>
                    <a:pt x="51775" y="185880"/>
                    <a:pt x="99306" y="185880"/>
                  </a:cubicBezTo>
                  <a:cubicBezTo>
                    <a:pt x="102701" y="185880"/>
                    <a:pt x="104399" y="185880"/>
                    <a:pt x="107794" y="185880"/>
                  </a:cubicBezTo>
                  <a:cubicBezTo>
                    <a:pt x="63658" y="180788"/>
                    <a:pt x="29707" y="143442"/>
                    <a:pt x="29707" y="99306"/>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0" name="任意多边形: 形状 552"/>
            <p:cNvSpPr/>
            <p:nvPr/>
          </p:nvSpPr>
          <p:spPr>
            <a:xfrm>
              <a:off x="11028600" y="3795120"/>
              <a:ext cx="237600" cy="237600"/>
            </a:xfrm>
            <a:custGeom>
              <a:avLst/>
              <a:gdLst>
                <a:gd name="textAreaLeft" fmla="*/ 0 w 237600"/>
                <a:gd name="textAreaRight" fmla="*/ 237960 w 237600"/>
                <a:gd name="textAreaTop" fmla="*/ 0 h 237600"/>
                <a:gd name="textAreaBottom" fmla="*/ 237960 h 237600"/>
              </a:gdLst>
              <a:ahLst/>
              <a:rect l="textAreaLeft" t="textAreaTop" r="textAreaRight" b="textAreaBottom"/>
              <a:pathLst>
                <a:path w="237655" h="237655">
                  <a:moveTo>
                    <a:pt x="175569" y="214613"/>
                  </a:moveTo>
                  <a:lnTo>
                    <a:pt x="189150" y="231588"/>
                  </a:lnTo>
                  <a:cubicBezTo>
                    <a:pt x="194242" y="238378"/>
                    <a:pt x="202730" y="238378"/>
                    <a:pt x="209520" y="234983"/>
                  </a:cubicBezTo>
                  <a:cubicBezTo>
                    <a:pt x="216311" y="229891"/>
                    <a:pt x="216311" y="221403"/>
                    <a:pt x="212915" y="214613"/>
                  </a:cubicBezTo>
                  <a:lnTo>
                    <a:pt x="199335" y="197637"/>
                  </a:lnTo>
                  <a:cubicBezTo>
                    <a:pt x="236681" y="158594"/>
                    <a:pt x="241774" y="97483"/>
                    <a:pt x="207823" y="55044"/>
                  </a:cubicBezTo>
                  <a:cubicBezTo>
                    <a:pt x="170477" y="7513"/>
                    <a:pt x="102575" y="-974"/>
                    <a:pt x="55045" y="34674"/>
                  </a:cubicBezTo>
                  <a:cubicBezTo>
                    <a:pt x="7513" y="72020"/>
                    <a:pt x="-974" y="139921"/>
                    <a:pt x="34674" y="187452"/>
                  </a:cubicBezTo>
                  <a:cubicBezTo>
                    <a:pt x="68625" y="229891"/>
                    <a:pt x="129736" y="241773"/>
                    <a:pt x="175569" y="214613"/>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1" name="任意多边形: 形状 553"/>
            <p:cNvSpPr/>
            <p:nvPr/>
          </p:nvSpPr>
          <p:spPr>
            <a:xfrm>
              <a:off x="11008440" y="3795120"/>
              <a:ext cx="237600" cy="237600"/>
            </a:xfrm>
            <a:custGeom>
              <a:avLst/>
              <a:gdLst>
                <a:gd name="textAreaLeft" fmla="*/ 0 w 237600"/>
                <a:gd name="textAreaRight" fmla="*/ 237960 w 237600"/>
                <a:gd name="textAreaTop" fmla="*/ 0 h 237600"/>
                <a:gd name="textAreaBottom" fmla="*/ 237960 h 237600"/>
              </a:gdLst>
              <a:ahLst/>
              <a:rect l="textAreaLeft" t="textAreaTop" r="textAreaRight" b="textAreaBottom"/>
              <a:pathLst>
                <a:path w="237655" h="237655">
                  <a:moveTo>
                    <a:pt x="175569" y="214613"/>
                  </a:moveTo>
                  <a:lnTo>
                    <a:pt x="189149" y="231588"/>
                  </a:lnTo>
                  <a:cubicBezTo>
                    <a:pt x="194242" y="238378"/>
                    <a:pt x="202730" y="238378"/>
                    <a:pt x="209520" y="234983"/>
                  </a:cubicBezTo>
                  <a:cubicBezTo>
                    <a:pt x="216310" y="229891"/>
                    <a:pt x="216310" y="221403"/>
                    <a:pt x="212915" y="214613"/>
                  </a:cubicBezTo>
                  <a:lnTo>
                    <a:pt x="199335" y="197637"/>
                  </a:lnTo>
                  <a:cubicBezTo>
                    <a:pt x="236681" y="158594"/>
                    <a:pt x="241773" y="97483"/>
                    <a:pt x="207822" y="55044"/>
                  </a:cubicBezTo>
                  <a:cubicBezTo>
                    <a:pt x="170476" y="7513"/>
                    <a:pt x="102575" y="-974"/>
                    <a:pt x="55044" y="34674"/>
                  </a:cubicBezTo>
                  <a:cubicBezTo>
                    <a:pt x="7513" y="72020"/>
                    <a:pt x="-974" y="139921"/>
                    <a:pt x="34674" y="187452"/>
                  </a:cubicBezTo>
                  <a:cubicBezTo>
                    <a:pt x="68624" y="229891"/>
                    <a:pt x="129736" y="241773"/>
                    <a:pt x="175569" y="21461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2" name="任意多边形: 形状 554"/>
            <p:cNvSpPr/>
            <p:nvPr/>
          </p:nvSpPr>
          <p:spPr>
            <a:xfrm>
              <a:off x="11029320" y="3816000"/>
              <a:ext cx="186480" cy="186480"/>
            </a:xfrm>
            <a:custGeom>
              <a:avLst/>
              <a:gdLst>
                <a:gd name="textAreaLeft" fmla="*/ 0 w 186480"/>
                <a:gd name="textAreaRight" fmla="*/ 186840 w 186480"/>
                <a:gd name="textAreaTop" fmla="*/ 0 h 186480"/>
                <a:gd name="textAreaBottom" fmla="*/ 186840 h 186480"/>
              </a:gdLst>
              <a:ahLst/>
              <a:rect l="textAreaLeft" t="textAreaTop" r="textAreaRight" b="textAreaBottom"/>
              <a:pathLst>
                <a:path w="186729" h="186729">
                  <a:moveTo>
                    <a:pt x="30606" y="152828"/>
                  </a:moveTo>
                  <a:cubicBezTo>
                    <a:pt x="1748" y="115483"/>
                    <a:pt x="8538" y="59464"/>
                    <a:pt x="45884" y="30606"/>
                  </a:cubicBezTo>
                  <a:cubicBezTo>
                    <a:pt x="83229" y="1748"/>
                    <a:pt x="139248" y="8538"/>
                    <a:pt x="168106" y="45884"/>
                  </a:cubicBezTo>
                  <a:cubicBezTo>
                    <a:pt x="196964" y="83229"/>
                    <a:pt x="190174" y="139248"/>
                    <a:pt x="152828" y="168106"/>
                  </a:cubicBezTo>
                  <a:cubicBezTo>
                    <a:pt x="115482" y="196964"/>
                    <a:pt x="61162" y="190174"/>
                    <a:pt x="30606" y="152828"/>
                  </a:cubicBez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3" name="任意多边形: 形状 555"/>
            <p:cNvSpPr/>
            <p:nvPr/>
          </p:nvSpPr>
          <p:spPr>
            <a:xfrm>
              <a:off x="11055600" y="3815280"/>
              <a:ext cx="169560" cy="169560"/>
            </a:xfrm>
            <a:custGeom>
              <a:avLst/>
              <a:gdLst>
                <a:gd name="textAreaLeft" fmla="*/ 0 w 169560"/>
                <a:gd name="textAreaRight" fmla="*/ 169920 w 169560"/>
                <a:gd name="textAreaTop" fmla="*/ 0 h 169560"/>
                <a:gd name="textAreaBottom" fmla="*/ 169920 h 169560"/>
              </a:gdLst>
              <a:ahLst/>
              <a:rect l="textAreaLeft" t="textAreaTop" r="textAreaRight" b="textAreaBottom"/>
              <a:pathLst>
                <a:path w="169753" h="169753">
                  <a:moveTo>
                    <a:pt x="129862" y="56792"/>
                  </a:moveTo>
                  <a:cubicBezTo>
                    <a:pt x="157022" y="92440"/>
                    <a:pt x="151930" y="143366"/>
                    <a:pt x="119677" y="173922"/>
                  </a:cubicBezTo>
                  <a:cubicBezTo>
                    <a:pt x="121374" y="172224"/>
                    <a:pt x="124769" y="170527"/>
                    <a:pt x="126467" y="168829"/>
                  </a:cubicBezTo>
                  <a:cubicBezTo>
                    <a:pt x="163813" y="139971"/>
                    <a:pt x="172300" y="85650"/>
                    <a:pt x="141744" y="46607"/>
                  </a:cubicBezTo>
                  <a:cubicBezTo>
                    <a:pt x="112887" y="9261"/>
                    <a:pt x="58565" y="773"/>
                    <a:pt x="19522" y="31329"/>
                  </a:cubicBezTo>
                  <a:cubicBezTo>
                    <a:pt x="17824" y="33026"/>
                    <a:pt x="16127" y="34724"/>
                    <a:pt x="12732" y="36421"/>
                  </a:cubicBezTo>
                  <a:cubicBezTo>
                    <a:pt x="51775" y="12656"/>
                    <a:pt x="102701" y="21143"/>
                    <a:pt x="129862" y="56792"/>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4" name="任意多边形: 形状 556"/>
            <p:cNvSpPr/>
            <p:nvPr/>
          </p:nvSpPr>
          <p:spPr>
            <a:xfrm>
              <a:off x="9471960" y="3966480"/>
              <a:ext cx="237600" cy="237600"/>
            </a:xfrm>
            <a:custGeom>
              <a:avLst/>
              <a:gdLst>
                <a:gd name="textAreaLeft" fmla="*/ 0 w 237600"/>
                <a:gd name="textAreaRight" fmla="*/ 237960 w 237600"/>
                <a:gd name="textAreaTop" fmla="*/ 0 h 237600"/>
                <a:gd name="textAreaBottom" fmla="*/ 237960 h 237600"/>
              </a:gdLst>
              <a:ahLst/>
              <a:rect l="textAreaLeft" t="textAreaTop" r="textAreaRight" b="textAreaBottom"/>
              <a:pathLst>
                <a:path w="237655" h="237655">
                  <a:moveTo>
                    <a:pt x="175569" y="214613"/>
                  </a:moveTo>
                  <a:lnTo>
                    <a:pt x="189149" y="231588"/>
                  </a:lnTo>
                  <a:cubicBezTo>
                    <a:pt x="194242" y="238378"/>
                    <a:pt x="202730" y="238378"/>
                    <a:pt x="209520" y="234983"/>
                  </a:cubicBezTo>
                  <a:cubicBezTo>
                    <a:pt x="216310" y="229890"/>
                    <a:pt x="216310" y="221403"/>
                    <a:pt x="212915" y="214613"/>
                  </a:cubicBezTo>
                  <a:lnTo>
                    <a:pt x="199335" y="197637"/>
                  </a:lnTo>
                  <a:cubicBezTo>
                    <a:pt x="236681" y="158594"/>
                    <a:pt x="241773" y="97483"/>
                    <a:pt x="207822" y="55044"/>
                  </a:cubicBezTo>
                  <a:cubicBezTo>
                    <a:pt x="170476" y="7513"/>
                    <a:pt x="102575" y="-974"/>
                    <a:pt x="55044" y="34674"/>
                  </a:cubicBezTo>
                  <a:cubicBezTo>
                    <a:pt x="7513" y="72020"/>
                    <a:pt x="-974" y="139921"/>
                    <a:pt x="34674" y="187452"/>
                  </a:cubicBezTo>
                  <a:cubicBezTo>
                    <a:pt x="68624" y="229890"/>
                    <a:pt x="129736" y="241773"/>
                    <a:pt x="175569" y="214613"/>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5" name="任意多边形: 形状 557"/>
            <p:cNvSpPr/>
            <p:nvPr/>
          </p:nvSpPr>
          <p:spPr>
            <a:xfrm>
              <a:off x="9453240" y="3966480"/>
              <a:ext cx="237600" cy="237600"/>
            </a:xfrm>
            <a:custGeom>
              <a:avLst/>
              <a:gdLst>
                <a:gd name="textAreaLeft" fmla="*/ 0 w 237600"/>
                <a:gd name="textAreaRight" fmla="*/ 237960 w 237600"/>
                <a:gd name="textAreaTop" fmla="*/ 0 h 237600"/>
                <a:gd name="textAreaBottom" fmla="*/ 237960 h 237600"/>
              </a:gdLst>
              <a:ahLst/>
              <a:rect l="textAreaLeft" t="textAreaTop" r="textAreaRight" b="textAreaBottom"/>
              <a:pathLst>
                <a:path w="237655" h="237655">
                  <a:moveTo>
                    <a:pt x="175569" y="214613"/>
                  </a:moveTo>
                  <a:lnTo>
                    <a:pt x="189149" y="231588"/>
                  </a:lnTo>
                  <a:cubicBezTo>
                    <a:pt x="194242" y="238378"/>
                    <a:pt x="202730" y="238378"/>
                    <a:pt x="209520" y="234983"/>
                  </a:cubicBezTo>
                  <a:cubicBezTo>
                    <a:pt x="216310" y="229890"/>
                    <a:pt x="216310" y="221403"/>
                    <a:pt x="212915" y="214613"/>
                  </a:cubicBezTo>
                  <a:lnTo>
                    <a:pt x="199335" y="197637"/>
                  </a:lnTo>
                  <a:cubicBezTo>
                    <a:pt x="236681" y="158594"/>
                    <a:pt x="241773" y="97483"/>
                    <a:pt x="207822" y="55044"/>
                  </a:cubicBezTo>
                  <a:cubicBezTo>
                    <a:pt x="170477" y="7513"/>
                    <a:pt x="102575" y="-974"/>
                    <a:pt x="55044" y="34674"/>
                  </a:cubicBezTo>
                  <a:cubicBezTo>
                    <a:pt x="7513" y="72020"/>
                    <a:pt x="-974" y="139921"/>
                    <a:pt x="34674" y="187452"/>
                  </a:cubicBezTo>
                  <a:cubicBezTo>
                    <a:pt x="68625" y="229890"/>
                    <a:pt x="128038" y="241773"/>
                    <a:pt x="175569" y="21461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6" name="任意多边形: 形状 558"/>
            <p:cNvSpPr/>
            <p:nvPr/>
          </p:nvSpPr>
          <p:spPr>
            <a:xfrm>
              <a:off x="9474480" y="3985920"/>
              <a:ext cx="186480" cy="186480"/>
            </a:xfrm>
            <a:custGeom>
              <a:avLst/>
              <a:gdLst>
                <a:gd name="textAreaLeft" fmla="*/ 0 w 186480"/>
                <a:gd name="textAreaRight" fmla="*/ 186840 w 186480"/>
                <a:gd name="textAreaTop" fmla="*/ 0 h 186480"/>
                <a:gd name="textAreaBottom" fmla="*/ 186840 h 186480"/>
              </a:gdLst>
              <a:ahLst/>
              <a:rect l="textAreaLeft" t="textAreaTop" r="textAreaRight" b="textAreaBottom"/>
              <a:pathLst>
                <a:path w="186729" h="186729">
                  <a:moveTo>
                    <a:pt x="30606" y="152828"/>
                  </a:moveTo>
                  <a:cubicBezTo>
                    <a:pt x="1748" y="115483"/>
                    <a:pt x="8538" y="59464"/>
                    <a:pt x="45884" y="30606"/>
                  </a:cubicBezTo>
                  <a:cubicBezTo>
                    <a:pt x="83229" y="1748"/>
                    <a:pt x="139248" y="8538"/>
                    <a:pt x="168106" y="45884"/>
                  </a:cubicBezTo>
                  <a:cubicBezTo>
                    <a:pt x="196964" y="83229"/>
                    <a:pt x="190174" y="139248"/>
                    <a:pt x="152828" y="168106"/>
                  </a:cubicBezTo>
                  <a:cubicBezTo>
                    <a:pt x="113785" y="198662"/>
                    <a:pt x="59464" y="191872"/>
                    <a:pt x="30606" y="152828"/>
                  </a:cubicBez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7" name="任意多边形: 形状 559"/>
            <p:cNvSpPr/>
            <p:nvPr/>
          </p:nvSpPr>
          <p:spPr>
            <a:xfrm>
              <a:off x="9498960" y="3986640"/>
              <a:ext cx="169560" cy="169560"/>
            </a:xfrm>
            <a:custGeom>
              <a:avLst/>
              <a:gdLst>
                <a:gd name="textAreaLeft" fmla="*/ 0 w 169560"/>
                <a:gd name="textAreaRight" fmla="*/ 169920 w 169560"/>
                <a:gd name="textAreaTop" fmla="*/ 0 h 169560"/>
                <a:gd name="textAreaBottom" fmla="*/ 169920 h 169560"/>
              </a:gdLst>
              <a:ahLst/>
              <a:rect l="textAreaLeft" t="textAreaTop" r="textAreaRight" b="textAreaBottom"/>
              <a:pathLst>
                <a:path w="169753" h="169753">
                  <a:moveTo>
                    <a:pt x="129861" y="56792"/>
                  </a:moveTo>
                  <a:cubicBezTo>
                    <a:pt x="157022" y="92440"/>
                    <a:pt x="151929" y="143366"/>
                    <a:pt x="119676" y="173922"/>
                  </a:cubicBezTo>
                  <a:cubicBezTo>
                    <a:pt x="121374" y="172224"/>
                    <a:pt x="124769" y="170527"/>
                    <a:pt x="126466" y="168829"/>
                  </a:cubicBezTo>
                  <a:cubicBezTo>
                    <a:pt x="163812" y="139971"/>
                    <a:pt x="172300" y="85650"/>
                    <a:pt x="141744" y="46607"/>
                  </a:cubicBezTo>
                  <a:cubicBezTo>
                    <a:pt x="112886" y="9261"/>
                    <a:pt x="58565" y="773"/>
                    <a:pt x="19522" y="31329"/>
                  </a:cubicBezTo>
                  <a:cubicBezTo>
                    <a:pt x="17824" y="33026"/>
                    <a:pt x="16126" y="34724"/>
                    <a:pt x="12732" y="36421"/>
                  </a:cubicBezTo>
                  <a:cubicBezTo>
                    <a:pt x="53472" y="12656"/>
                    <a:pt x="102701" y="21144"/>
                    <a:pt x="129861" y="56792"/>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8" name="任意多边形: 形状 560"/>
            <p:cNvSpPr/>
            <p:nvPr/>
          </p:nvSpPr>
          <p:spPr>
            <a:xfrm>
              <a:off x="6840720" y="3550320"/>
              <a:ext cx="237600" cy="237600"/>
            </a:xfrm>
            <a:custGeom>
              <a:avLst/>
              <a:gdLst>
                <a:gd name="textAreaLeft" fmla="*/ 0 w 237600"/>
                <a:gd name="textAreaRight" fmla="*/ 237960 w 237600"/>
                <a:gd name="textAreaTop" fmla="*/ 0 h 237600"/>
                <a:gd name="textAreaBottom" fmla="*/ 237960 h 237600"/>
              </a:gdLst>
              <a:ahLst/>
              <a:rect l="textAreaLeft" t="textAreaTop" r="textAreaRight" b="textAreaBottom"/>
              <a:pathLst>
                <a:path w="237655" h="237655">
                  <a:moveTo>
                    <a:pt x="175569" y="214613"/>
                  </a:moveTo>
                  <a:lnTo>
                    <a:pt x="189150" y="231588"/>
                  </a:lnTo>
                  <a:cubicBezTo>
                    <a:pt x="194242" y="238378"/>
                    <a:pt x="202730" y="238378"/>
                    <a:pt x="209520" y="234983"/>
                  </a:cubicBezTo>
                  <a:cubicBezTo>
                    <a:pt x="216310" y="229890"/>
                    <a:pt x="216310" y="221403"/>
                    <a:pt x="212915" y="214613"/>
                  </a:cubicBezTo>
                  <a:lnTo>
                    <a:pt x="199335" y="197637"/>
                  </a:lnTo>
                  <a:cubicBezTo>
                    <a:pt x="236681" y="158594"/>
                    <a:pt x="241773" y="97483"/>
                    <a:pt x="207823" y="55044"/>
                  </a:cubicBezTo>
                  <a:cubicBezTo>
                    <a:pt x="170477" y="7513"/>
                    <a:pt x="102575" y="-974"/>
                    <a:pt x="55044" y="34674"/>
                  </a:cubicBezTo>
                  <a:cubicBezTo>
                    <a:pt x="7513" y="72020"/>
                    <a:pt x="-974" y="139921"/>
                    <a:pt x="34674" y="187452"/>
                  </a:cubicBezTo>
                  <a:cubicBezTo>
                    <a:pt x="68625" y="229890"/>
                    <a:pt x="129736" y="241773"/>
                    <a:pt x="175569" y="214613"/>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69" name="任意多边形: 形状 561"/>
            <p:cNvSpPr/>
            <p:nvPr/>
          </p:nvSpPr>
          <p:spPr>
            <a:xfrm>
              <a:off x="6822000" y="3550320"/>
              <a:ext cx="237600" cy="237600"/>
            </a:xfrm>
            <a:custGeom>
              <a:avLst/>
              <a:gdLst>
                <a:gd name="textAreaLeft" fmla="*/ 0 w 237600"/>
                <a:gd name="textAreaRight" fmla="*/ 237960 w 237600"/>
                <a:gd name="textAreaTop" fmla="*/ 0 h 237600"/>
                <a:gd name="textAreaBottom" fmla="*/ 237960 h 237600"/>
              </a:gdLst>
              <a:ahLst/>
              <a:rect l="textAreaLeft" t="textAreaTop" r="textAreaRight" b="textAreaBottom"/>
              <a:pathLst>
                <a:path w="237655" h="237655">
                  <a:moveTo>
                    <a:pt x="175569" y="214613"/>
                  </a:moveTo>
                  <a:lnTo>
                    <a:pt x="189150" y="231588"/>
                  </a:lnTo>
                  <a:cubicBezTo>
                    <a:pt x="194242" y="238378"/>
                    <a:pt x="202730" y="238378"/>
                    <a:pt x="209520" y="234983"/>
                  </a:cubicBezTo>
                  <a:cubicBezTo>
                    <a:pt x="216310" y="229890"/>
                    <a:pt x="216310" y="221403"/>
                    <a:pt x="212915" y="214613"/>
                  </a:cubicBezTo>
                  <a:lnTo>
                    <a:pt x="199335" y="197637"/>
                  </a:lnTo>
                  <a:cubicBezTo>
                    <a:pt x="236681" y="158594"/>
                    <a:pt x="241773" y="97483"/>
                    <a:pt x="207823" y="55044"/>
                  </a:cubicBezTo>
                  <a:cubicBezTo>
                    <a:pt x="170477" y="7513"/>
                    <a:pt x="102575" y="-974"/>
                    <a:pt x="55044" y="34674"/>
                  </a:cubicBezTo>
                  <a:cubicBezTo>
                    <a:pt x="7513" y="72020"/>
                    <a:pt x="-974" y="139921"/>
                    <a:pt x="34674" y="187452"/>
                  </a:cubicBezTo>
                  <a:cubicBezTo>
                    <a:pt x="68625" y="229890"/>
                    <a:pt x="128038" y="241773"/>
                    <a:pt x="175569" y="21461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70" name="任意多边形: 形状 562"/>
            <p:cNvSpPr/>
            <p:nvPr/>
          </p:nvSpPr>
          <p:spPr>
            <a:xfrm>
              <a:off x="6843240" y="3571560"/>
              <a:ext cx="186480" cy="186480"/>
            </a:xfrm>
            <a:custGeom>
              <a:avLst/>
              <a:gdLst>
                <a:gd name="textAreaLeft" fmla="*/ 0 w 186480"/>
                <a:gd name="textAreaRight" fmla="*/ 186840 w 186480"/>
                <a:gd name="textAreaTop" fmla="*/ 0 h 186480"/>
                <a:gd name="textAreaBottom" fmla="*/ 186840 h 186480"/>
              </a:gdLst>
              <a:ahLst/>
              <a:rect l="textAreaLeft" t="textAreaTop" r="textAreaRight" b="textAreaBottom"/>
              <a:pathLst>
                <a:path w="186729" h="186729">
                  <a:moveTo>
                    <a:pt x="30606" y="152828"/>
                  </a:moveTo>
                  <a:cubicBezTo>
                    <a:pt x="1748" y="115483"/>
                    <a:pt x="8538" y="59464"/>
                    <a:pt x="45884" y="30606"/>
                  </a:cubicBezTo>
                  <a:cubicBezTo>
                    <a:pt x="83229" y="1748"/>
                    <a:pt x="139248" y="8538"/>
                    <a:pt x="168106" y="45884"/>
                  </a:cubicBezTo>
                  <a:cubicBezTo>
                    <a:pt x="196964" y="83230"/>
                    <a:pt x="190174" y="139248"/>
                    <a:pt x="152828" y="168106"/>
                  </a:cubicBezTo>
                  <a:cubicBezTo>
                    <a:pt x="113785" y="196964"/>
                    <a:pt x="59464" y="190174"/>
                    <a:pt x="30606" y="152828"/>
                  </a:cubicBezTo>
                  <a:close/>
                </a:path>
              </a:pathLst>
            </a:custGeom>
            <a:solidFill>
              <a:srgbClr val="b6936c"/>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471" name="任意多边形: 形状 563"/>
            <p:cNvSpPr/>
            <p:nvPr/>
          </p:nvSpPr>
          <p:spPr>
            <a:xfrm>
              <a:off x="6867720" y="3570840"/>
              <a:ext cx="169560" cy="169560"/>
            </a:xfrm>
            <a:custGeom>
              <a:avLst/>
              <a:gdLst>
                <a:gd name="textAreaLeft" fmla="*/ 0 w 169560"/>
                <a:gd name="textAreaRight" fmla="*/ 169920 w 169560"/>
                <a:gd name="textAreaTop" fmla="*/ 0 h 169560"/>
                <a:gd name="textAreaBottom" fmla="*/ 169920 h 169560"/>
              </a:gdLst>
              <a:ahLst/>
              <a:rect l="textAreaLeft" t="textAreaTop" r="textAreaRight" b="textAreaBottom"/>
              <a:pathLst>
                <a:path w="169753" h="169753">
                  <a:moveTo>
                    <a:pt x="129862" y="56792"/>
                  </a:moveTo>
                  <a:cubicBezTo>
                    <a:pt x="157022" y="92440"/>
                    <a:pt x="151930" y="143366"/>
                    <a:pt x="119676" y="173922"/>
                  </a:cubicBezTo>
                  <a:cubicBezTo>
                    <a:pt x="121374" y="172224"/>
                    <a:pt x="124769" y="170527"/>
                    <a:pt x="126467" y="168829"/>
                  </a:cubicBezTo>
                  <a:cubicBezTo>
                    <a:pt x="163812" y="139971"/>
                    <a:pt x="172300" y="85650"/>
                    <a:pt x="141744" y="46607"/>
                  </a:cubicBezTo>
                  <a:cubicBezTo>
                    <a:pt x="112886" y="9261"/>
                    <a:pt x="58565" y="773"/>
                    <a:pt x="19522" y="31329"/>
                  </a:cubicBezTo>
                  <a:cubicBezTo>
                    <a:pt x="17824" y="33026"/>
                    <a:pt x="16127" y="34724"/>
                    <a:pt x="12732" y="36421"/>
                  </a:cubicBezTo>
                  <a:cubicBezTo>
                    <a:pt x="53472" y="12656"/>
                    <a:pt x="102701" y="21144"/>
                    <a:pt x="129862" y="56792"/>
                  </a:cubicBezTo>
                  <a:close/>
                </a:path>
              </a:pathLst>
            </a:custGeom>
            <a:solidFill>
              <a:srgbClr val="dbdbdb"/>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grpSp>
      <p:grpSp>
        <p:nvGrpSpPr>
          <p:cNvPr id="1472" name="组合 564"/>
          <p:cNvGrpSpPr/>
          <p:nvPr/>
        </p:nvGrpSpPr>
        <p:grpSpPr>
          <a:xfrm>
            <a:off x="550800" y="1030320"/>
            <a:ext cx="3805200" cy="1047600"/>
            <a:chOff x="550800" y="1030320"/>
            <a:chExt cx="3805200" cy="1047600"/>
          </a:xfrm>
        </p:grpSpPr>
        <p:grpSp>
          <p:nvGrpSpPr>
            <p:cNvPr id="1473" name="组合 565"/>
            <p:cNvGrpSpPr/>
            <p:nvPr/>
          </p:nvGrpSpPr>
          <p:grpSpPr>
            <a:xfrm>
              <a:off x="550800" y="1030320"/>
              <a:ext cx="3805200" cy="1047600"/>
              <a:chOff x="550800" y="1030320"/>
              <a:chExt cx="3805200" cy="1047600"/>
            </a:xfrm>
          </p:grpSpPr>
          <p:sp>
            <p:nvSpPr>
              <p:cNvPr id="1474" name="矩形 567"/>
              <p:cNvSpPr/>
              <p:nvPr/>
            </p:nvSpPr>
            <p:spPr>
              <a:xfrm>
                <a:off x="550800" y="1738440"/>
                <a:ext cx="3805200" cy="3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75" name="矩形 568"/>
              <p:cNvSpPr/>
              <p:nvPr/>
            </p:nvSpPr>
            <p:spPr>
              <a:xfrm>
                <a:off x="1339560" y="1030320"/>
                <a:ext cx="183960" cy="70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grpSp>
        <p:sp>
          <p:nvSpPr>
            <p:cNvPr id="1476" name="矩形 566"/>
            <p:cNvSpPr/>
            <p:nvPr/>
          </p:nvSpPr>
          <p:spPr>
            <a:xfrm>
              <a:off x="2159640" y="1107360"/>
              <a:ext cx="184680" cy="554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grpSp>
    </p:spTree>
  </p:cSld>
  <p:transition spd="slow">
    <p:random/>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0">
                                  <p:stCondLst>
                                    <p:cond delay="0"/>
                                  </p:stCondLst>
                                  <p:childTnLst>
                                    <p:set>
                                      <p:cBhvr>
                                        <p:cTn id="114" dur="1" fill="hold">
                                          <p:stCondLst>
                                            <p:cond delay="0"/>
                                          </p:stCondLst>
                                        </p:cTn>
                                        <p:tgtEl>
                                          <p:spTgt spid="1472"/>
                                        </p:tgtEl>
                                        <p:attrNameLst>
                                          <p:attrName>style.visibility</p:attrName>
                                        </p:attrNameLst>
                                      </p:cBhvr>
                                      <p:to>
                                        <p:strVal val="visible"/>
                                      </p:to>
                                    </p:set>
                                    <p:animEffect filter="fade" transition="in">
                                      <p:cBhvr additive="repl">
                                        <p:cTn id="115" dur="500"/>
                                        <p:tgtEl>
                                          <p:spTgt spid="1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7" name="图片 1" descr=""/>
          <p:cNvPicPr/>
          <p:nvPr/>
        </p:nvPicPr>
        <p:blipFill>
          <a:blip r:embed="rId1"/>
          <a:stretch/>
        </p:blipFill>
        <p:spPr>
          <a:xfrm>
            <a:off x="4981680" y="266760"/>
            <a:ext cx="1749240" cy="1326960"/>
          </a:xfrm>
          <a:prstGeom prst="rect">
            <a:avLst/>
          </a:prstGeom>
          <a:ln w="0">
            <a:noFill/>
          </a:ln>
        </p:spPr>
      </p:pic>
      <p:pic>
        <p:nvPicPr>
          <p:cNvPr id="1478" name="图片 2" descr=""/>
          <p:cNvPicPr/>
          <p:nvPr/>
        </p:nvPicPr>
        <p:blipFill>
          <a:blip r:embed="rId2"/>
          <a:stretch/>
        </p:blipFill>
        <p:spPr>
          <a:xfrm>
            <a:off x="4651200" y="1976400"/>
            <a:ext cx="3071880" cy="4546800"/>
          </a:xfrm>
          <a:prstGeom prst="rect">
            <a:avLst/>
          </a:prstGeom>
          <a:ln w="0">
            <a:noFill/>
          </a:ln>
        </p:spPr>
      </p:pic>
      <p:sp>
        <p:nvSpPr>
          <p:cNvPr id="1479" name="PA_库_文本框 60"/>
          <p:cNvSpPr/>
          <p:nvPr/>
        </p:nvSpPr>
        <p:spPr>
          <a:xfrm>
            <a:off x="1456920" y="1952640"/>
            <a:ext cx="1834200" cy="22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d7d7d"/>
                </a:solidFill>
                <a:latin typeface="华文新魏"/>
                <a:ea typeface="华文新魏"/>
              </a:rPr>
              <a:t>（</a:t>
            </a:r>
            <a:r>
              <a:rPr b="1" lang="en-US" sz="2800" spc="-1" strike="noStrike">
                <a:solidFill>
                  <a:srgbClr val="7d7d7d"/>
                </a:solidFill>
                <a:latin typeface="华文新魏"/>
                <a:ea typeface="华文新魏"/>
              </a:rPr>
              <a:t>1</a:t>
            </a:r>
            <a:r>
              <a:rPr b="1" lang="zh-CN" sz="2800" spc="-1" strike="noStrike">
                <a:solidFill>
                  <a:srgbClr val="7d7d7d"/>
                </a:solidFill>
                <a:latin typeface="华文新魏"/>
                <a:ea typeface="华文新魏"/>
              </a:rPr>
              <a:t>）子女教育</a:t>
            </a:r>
            <a:endParaRPr b="0" lang="en-US" sz="2800" spc="-1" strike="noStrike">
              <a:solidFill>
                <a:srgbClr val="26262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7d"/>
                </a:solidFill>
                <a:latin typeface="华文新魏"/>
                <a:ea typeface="华文新魏"/>
              </a:rPr>
              <a:t>（</a:t>
            </a:r>
            <a:r>
              <a:rPr b="1" lang="en-US" sz="2800" spc="-1" strike="noStrike">
                <a:solidFill>
                  <a:srgbClr val="7d7d7d"/>
                </a:solidFill>
                <a:latin typeface="华文新魏"/>
                <a:ea typeface="华文新魏"/>
              </a:rPr>
              <a:t>2</a:t>
            </a:r>
            <a:r>
              <a:rPr b="1" lang="zh-CN" sz="2800" spc="-1" strike="noStrike">
                <a:solidFill>
                  <a:srgbClr val="7d7d7d"/>
                </a:solidFill>
                <a:latin typeface="华文新魏"/>
                <a:ea typeface="华文新魏"/>
              </a:rPr>
              <a:t>）继续教育</a:t>
            </a:r>
            <a:endParaRPr b="0" lang="en-US" sz="2800" spc="-1" strike="noStrike">
              <a:solidFill>
                <a:srgbClr val="26262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7d"/>
                </a:solidFill>
                <a:latin typeface="华文新魏"/>
                <a:ea typeface="华文新魏"/>
              </a:rPr>
              <a:t>（</a:t>
            </a:r>
            <a:r>
              <a:rPr b="1" lang="en-US" sz="2800" spc="-1" strike="noStrike">
                <a:solidFill>
                  <a:srgbClr val="7d7d7d"/>
                </a:solidFill>
                <a:latin typeface="华文新魏"/>
                <a:ea typeface="华文新魏"/>
              </a:rPr>
              <a:t>3</a:t>
            </a:r>
            <a:r>
              <a:rPr b="1" lang="zh-CN" sz="2800" spc="-1" strike="noStrike">
                <a:solidFill>
                  <a:srgbClr val="7d7d7d"/>
                </a:solidFill>
                <a:latin typeface="华文新魏"/>
                <a:ea typeface="华文新魏"/>
              </a:rPr>
              <a:t>）大病医疗</a:t>
            </a:r>
            <a:endParaRPr b="0" lang="en-US" sz="2800" spc="-1" strike="noStrike">
              <a:solidFill>
                <a:srgbClr val="262626"/>
              </a:solidFill>
              <a:latin typeface="Arial"/>
            </a:endParaRPr>
          </a:p>
        </p:txBody>
      </p:sp>
      <p:sp>
        <p:nvSpPr>
          <p:cNvPr id="1480" name="PA_库_形状 2632"/>
          <p:cNvSpPr/>
          <p:nvPr/>
        </p:nvSpPr>
        <p:spPr>
          <a:xfrm>
            <a:off x="2254320" y="1371600"/>
            <a:ext cx="484200" cy="593640"/>
          </a:xfrm>
          <a:custGeom>
            <a:avLst/>
            <a:gdLst/>
            <a:ahLst/>
            <a:rect l="l" t="t" r="r" b="b"/>
            <a:pathLst>
              <a:path w="21600" h="21600">
                <a:moveTo>
                  <a:pt x="10800" y="17673"/>
                </a:moveTo>
                <a:cubicBezTo>
                  <a:pt x="4588" y="17673"/>
                  <a:pt x="1200" y="16051"/>
                  <a:pt x="1200" y="15218"/>
                </a:cubicBezTo>
                <a:cubicBezTo>
                  <a:pt x="1200" y="14690"/>
                  <a:pt x="1355" y="14275"/>
                  <a:pt x="1611" y="13896"/>
                </a:cubicBezTo>
                <a:cubicBezTo>
                  <a:pt x="3255" y="14967"/>
                  <a:pt x="6746" y="15709"/>
                  <a:pt x="10800" y="15709"/>
                </a:cubicBezTo>
                <a:cubicBezTo>
                  <a:pt x="14856" y="15709"/>
                  <a:pt x="18345" y="14966"/>
                  <a:pt x="19987" y="13894"/>
                </a:cubicBezTo>
                <a:cubicBezTo>
                  <a:pt x="20244" y="14273"/>
                  <a:pt x="20400" y="14689"/>
                  <a:pt x="20400" y="15218"/>
                </a:cubicBezTo>
                <a:cubicBezTo>
                  <a:pt x="20400" y="16051"/>
                  <a:pt x="17011" y="17673"/>
                  <a:pt x="10800" y="17673"/>
                </a:cubicBezTo>
                <a:moveTo>
                  <a:pt x="10800" y="20618"/>
                </a:moveTo>
                <a:cubicBezTo>
                  <a:pt x="9475" y="20618"/>
                  <a:pt x="8400" y="19739"/>
                  <a:pt x="8400" y="18655"/>
                </a:cubicBezTo>
                <a:cubicBezTo>
                  <a:pt x="8400" y="18625"/>
                  <a:pt x="8408" y="18597"/>
                  <a:pt x="8409" y="18567"/>
                </a:cubicBezTo>
                <a:cubicBezTo>
                  <a:pt x="9179" y="18623"/>
                  <a:pt x="9977" y="18655"/>
                  <a:pt x="10800" y="18655"/>
                </a:cubicBezTo>
                <a:cubicBezTo>
                  <a:pt x="11623" y="18655"/>
                  <a:pt x="12421" y="18623"/>
                  <a:pt x="13191" y="18567"/>
                </a:cubicBezTo>
                <a:cubicBezTo>
                  <a:pt x="13192" y="18597"/>
                  <a:pt x="13200" y="18625"/>
                  <a:pt x="13200" y="18655"/>
                </a:cubicBezTo>
                <a:cubicBezTo>
                  <a:pt x="13200" y="19739"/>
                  <a:pt x="12125" y="20618"/>
                  <a:pt x="10800" y="20618"/>
                </a:cubicBezTo>
                <a:moveTo>
                  <a:pt x="2948" y="12551"/>
                </a:moveTo>
                <a:cubicBezTo>
                  <a:pt x="4308" y="11388"/>
                  <a:pt x="6000" y="9939"/>
                  <a:pt x="6000" y="6873"/>
                </a:cubicBezTo>
                <a:cubicBezTo>
                  <a:pt x="6000" y="5232"/>
                  <a:pt x="7238" y="3825"/>
                  <a:pt x="8988" y="3239"/>
                </a:cubicBezTo>
                <a:cubicBezTo>
                  <a:pt x="9428" y="3657"/>
                  <a:pt x="10072" y="3927"/>
                  <a:pt x="10800" y="3927"/>
                </a:cubicBezTo>
                <a:cubicBezTo>
                  <a:pt x="11528" y="3927"/>
                  <a:pt x="12172" y="3657"/>
                  <a:pt x="12611" y="3239"/>
                </a:cubicBezTo>
                <a:cubicBezTo>
                  <a:pt x="14362" y="3825"/>
                  <a:pt x="15600" y="5232"/>
                  <a:pt x="15600" y="6873"/>
                </a:cubicBezTo>
                <a:cubicBezTo>
                  <a:pt x="15600" y="9939"/>
                  <a:pt x="17292" y="11388"/>
                  <a:pt x="18652" y="12551"/>
                </a:cubicBezTo>
                <a:cubicBezTo>
                  <a:pt x="18911" y="12773"/>
                  <a:pt x="19152" y="12979"/>
                  <a:pt x="19366" y="13183"/>
                </a:cubicBezTo>
                <a:cubicBezTo>
                  <a:pt x="18217" y="14077"/>
                  <a:pt x="14825" y="14727"/>
                  <a:pt x="10800" y="14727"/>
                </a:cubicBezTo>
                <a:cubicBezTo>
                  <a:pt x="6779" y="14727"/>
                  <a:pt x="3383" y="14079"/>
                  <a:pt x="2230" y="13186"/>
                </a:cubicBezTo>
                <a:cubicBezTo>
                  <a:pt x="2446" y="12981"/>
                  <a:pt x="2687" y="12774"/>
                  <a:pt x="2948" y="12551"/>
                </a:cubicBezTo>
                <a:moveTo>
                  <a:pt x="10800" y="982"/>
                </a:moveTo>
                <a:cubicBezTo>
                  <a:pt x="11462" y="982"/>
                  <a:pt x="12000" y="1422"/>
                  <a:pt x="12000" y="1964"/>
                </a:cubicBezTo>
                <a:cubicBezTo>
                  <a:pt x="12000" y="2506"/>
                  <a:pt x="11462" y="2945"/>
                  <a:pt x="10800" y="2945"/>
                </a:cubicBezTo>
                <a:cubicBezTo>
                  <a:pt x="10138" y="2945"/>
                  <a:pt x="9600" y="2506"/>
                  <a:pt x="9600" y="1964"/>
                </a:cubicBezTo>
                <a:cubicBezTo>
                  <a:pt x="9600" y="1422"/>
                  <a:pt x="10138" y="982"/>
                  <a:pt x="10800" y="982"/>
                </a:cubicBezTo>
                <a:moveTo>
                  <a:pt x="21600" y="15218"/>
                </a:moveTo>
                <a:cubicBezTo>
                  <a:pt x="21600" y="11782"/>
                  <a:pt x="16800" y="11782"/>
                  <a:pt x="16800" y="6873"/>
                </a:cubicBezTo>
                <a:cubicBezTo>
                  <a:pt x="16800" y="4845"/>
                  <a:pt x="15296" y="3105"/>
                  <a:pt x="13152" y="2356"/>
                </a:cubicBezTo>
                <a:cubicBezTo>
                  <a:pt x="13183" y="2229"/>
                  <a:pt x="13200" y="2098"/>
                  <a:pt x="13200" y="1964"/>
                </a:cubicBezTo>
                <a:cubicBezTo>
                  <a:pt x="13200" y="879"/>
                  <a:pt x="12125" y="0"/>
                  <a:pt x="10800" y="0"/>
                </a:cubicBezTo>
                <a:cubicBezTo>
                  <a:pt x="9475" y="0"/>
                  <a:pt x="8400" y="879"/>
                  <a:pt x="8400" y="1964"/>
                </a:cubicBezTo>
                <a:cubicBezTo>
                  <a:pt x="8400" y="2098"/>
                  <a:pt x="8417" y="2229"/>
                  <a:pt x="8448" y="2356"/>
                </a:cubicBezTo>
                <a:cubicBezTo>
                  <a:pt x="6304" y="3105"/>
                  <a:pt x="4800" y="4845"/>
                  <a:pt x="4800" y="6873"/>
                </a:cubicBezTo>
                <a:cubicBezTo>
                  <a:pt x="4800" y="11782"/>
                  <a:pt x="0" y="11782"/>
                  <a:pt x="0" y="15218"/>
                </a:cubicBezTo>
                <a:cubicBezTo>
                  <a:pt x="0" y="16716"/>
                  <a:pt x="3016" y="17986"/>
                  <a:pt x="7217" y="18457"/>
                </a:cubicBezTo>
                <a:cubicBezTo>
                  <a:pt x="7211" y="18523"/>
                  <a:pt x="7200" y="18587"/>
                  <a:pt x="7200" y="18655"/>
                </a:cubicBezTo>
                <a:cubicBezTo>
                  <a:pt x="7200" y="20282"/>
                  <a:pt x="8812" y="21600"/>
                  <a:pt x="10800" y="21600"/>
                </a:cubicBezTo>
                <a:cubicBezTo>
                  <a:pt x="12788" y="21600"/>
                  <a:pt x="14400" y="20282"/>
                  <a:pt x="14400" y="18655"/>
                </a:cubicBezTo>
                <a:cubicBezTo>
                  <a:pt x="14400" y="18587"/>
                  <a:pt x="14389" y="18523"/>
                  <a:pt x="14383" y="18457"/>
                </a:cubicBezTo>
                <a:cubicBezTo>
                  <a:pt x="18584" y="17986"/>
                  <a:pt x="21600" y="16716"/>
                  <a:pt x="21600" y="15218"/>
                </a:cubicBezTo>
              </a:path>
            </a:pathLst>
          </a:custGeom>
          <a:solidFill>
            <a:srgbClr val="75cfd9"/>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481" name="PA_库_形状 2588"/>
          <p:cNvSpPr/>
          <p:nvPr/>
        </p:nvSpPr>
        <p:spPr>
          <a:xfrm>
            <a:off x="2222640" y="4465800"/>
            <a:ext cx="593640" cy="537840"/>
          </a:xfrm>
          <a:custGeom>
            <a:avLst/>
            <a:gdLst/>
            <a:ahLst/>
            <a:rect l="l" t="t" r="r" b="b"/>
            <a:pathLst>
              <a:path w="21600" h="21600">
                <a:moveTo>
                  <a:pt x="17182" y="12420"/>
                </a:moveTo>
                <a:cubicBezTo>
                  <a:pt x="16368" y="12420"/>
                  <a:pt x="15709" y="11694"/>
                  <a:pt x="15709" y="10800"/>
                </a:cubicBezTo>
                <a:cubicBezTo>
                  <a:pt x="15709" y="9906"/>
                  <a:pt x="16368" y="9180"/>
                  <a:pt x="17182" y="9180"/>
                </a:cubicBezTo>
                <a:cubicBezTo>
                  <a:pt x="17995" y="9180"/>
                  <a:pt x="18655" y="9906"/>
                  <a:pt x="18655" y="10800"/>
                </a:cubicBezTo>
                <a:cubicBezTo>
                  <a:pt x="18655" y="11694"/>
                  <a:pt x="17995" y="12420"/>
                  <a:pt x="17182" y="12420"/>
                </a:cubicBezTo>
                <a:moveTo>
                  <a:pt x="21109" y="10260"/>
                </a:moveTo>
                <a:lnTo>
                  <a:pt x="19587" y="10260"/>
                </a:lnTo>
                <a:cubicBezTo>
                  <a:pt x="19360" y="9028"/>
                  <a:pt x="18369" y="8100"/>
                  <a:pt x="17182" y="8100"/>
                </a:cubicBezTo>
                <a:cubicBezTo>
                  <a:pt x="15994" y="8100"/>
                  <a:pt x="15004" y="9028"/>
                  <a:pt x="14777" y="10260"/>
                </a:cubicBezTo>
                <a:lnTo>
                  <a:pt x="491" y="10260"/>
                </a:lnTo>
                <a:cubicBezTo>
                  <a:pt x="220" y="10260"/>
                  <a:pt x="0" y="10502"/>
                  <a:pt x="0" y="10800"/>
                </a:cubicBezTo>
                <a:cubicBezTo>
                  <a:pt x="0" y="11098"/>
                  <a:pt x="220" y="11340"/>
                  <a:pt x="491" y="11340"/>
                </a:cubicBezTo>
                <a:lnTo>
                  <a:pt x="14777" y="11340"/>
                </a:lnTo>
                <a:cubicBezTo>
                  <a:pt x="15004" y="12572"/>
                  <a:pt x="15994" y="13500"/>
                  <a:pt x="17182" y="13500"/>
                </a:cubicBezTo>
                <a:cubicBezTo>
                  <a:pt x="18369" y="13500"/>
                  <a:pt x="19360" y="12572"/>
                  <a:pt x="19587" y="11340"/>
                </a:cubicBezTo>
                <a:lnTo>
                  <a:pt x="21109" y="11340"/>
                </a:lnTo>
                <a:cubicBezTo>
                  <a:pt x="21380" y="11340"/>
                  <a:pt x="21600" y="11098"/>
                  <a:pt x="21600" y="10800"/>
                </a:cubicBezTo>
                <a:cubicBezTo>
                  <a:pt x="21600" y="10502"/>
                  <a:pt x="21380" y="10260"/>
                  <a:pt x="21109" y="10260"/>
                </a:cubicBezTo>
                <a:moveTo>
                  <a:pt x="5400" y="1080"/>
                </a:moveTo>
                <a:cubicBezTo>
                  <a:pt x="6214" y="1080"/>
                  <a:pt x="6873" y="1806"/>
                  <a:pt x="6873" y="2700"/>
                </a:cubicBezTo>
                <a:cubicBezTo>
                  <a:pt x="6873" y="3595"/>
                  <a:pt x="6214" y="4320"/>
                  <a:pt x="5400" y="4320"/>
                </a:cubicBezTo>
                <a:cubicBezTo>
                  <a:pt x="4586" y="4320"/>
                  <a:pt x="3927" y="3595"/>
                  <a:pt x="3927" y="2700"/>
                </a:cubicBezTo>
                <a:cubicBezTo>
                  <a:pt x="3927" y="1806"/>
                  <a:pt x="4586" y="1080"/>
                  <a:pt x="5400" y="1080"/>
                </a:cubicBezTo>
                <a:moveTo>
                  <a:pt x="491" y="3240"/>
                </a:moveTo>
                <a:lnTo>
                  <a:pt x="2995" y="3240"/>
                </a:lnTo>
                <a:cubicBezTo>
                  <a:pt x="3222" y="4472"/>
                  <a:pt x="4213" y="5400"/>
                  <a:pt x="5400" y="5400"/>
                </a:cubicBezTo>
                <a:cubicBezTo>
                  <a:pt x="6587" y="5400"/>
                  <a:pt x="7578" y="4472"/>
                  <a:pt x="7805" y="3240"/>
                </a:cubicBezTo>
                <a:lnTo>
                  <a:pt x="21109" y="3240"/>
                </a:lnTo>
                <a:cubicBezTo>
                  <a:pt x="21380" y="3240"/>
                  <a:pt x="21600" y="2999"/>
                  <a:pt x="21600" y="2700"/>
                </a:cubicBezTo>
                <a:cubicBezTo>
                  <a:pt x="21600" y="2402"/>
                  <a:pt x="21380" y="2160"/>
                  <a:pt x="21109" y="2160"/>
                </a:cubicBezTo>
                <a:lnTo>
                  <a:pt x="7805" y="2160"/>
                </a:lnTo>
                <a:cubicBezTo>
                  <a:pt x="7578" y="928"/>
                  <a:pt x="6587" y="0"/>
                  <a:pt x="5400" y="0"/>
                </a:cubicBezTo>
                <a:cubicBezTo>
                  <a:pt x="4213" y="0"/>
                  <a:pt x="3222" y="928"/>
                  <a:pt x="2995" y="2160"/>
                </a:cubicBezTo>
                <a:lnTo>
                  <a:pt x="491" y="2160"/>
                </a:lnTo>
                <a:cubicBezTo>
                  <a:pt x="220" y="2160"/>
                  <a:pt x="0" y="2402"/>
                  <a:pt x="0" y="2700"/>
                </a:cubicBezTo>
                <a:cubicBezTo>
                  <a:pt x="0" y="2999"/>
                  <a:pt x="220" y="3240"/>
                  <a:pt x="491" y="3240"/>
                </a:cubicBezTo>
                <a:moveTo>
                  <a:pt x="9327" y="20519"/>
                </a:moveTo>
                <a:cubicBezTo>
                  <a:pt x="8514" y="20519"/>
                  <a:pt x="7855" y="19794"/>
                  <a:pt x="7855" y="18899"/>
                </a:cubicBezTo>
                <a:cubicBezTo>
                  <a:pt x="7855" y="18005"/>
                  <a:pt x="8514" y="17279"/>
                  <a:pt x="9327" y="17279"/>
                </a:cubicBezTo>
                <a:cubicBezTo>
                  <a:pt x="10141" y="17279"/>
                  <a:pt x="10800" y="18005"/>
                  <a:pt x="10800" y="18899"/>
                </a:cubicBezTo>
                <a:cubicBezTo>
                  <a:pt x="10800" y="19794"/>
                  <a:pt x="10141" y="20519"/>
                  <a:pt x="9327" y="20519"/>
                </a:cubicBezTo>
                <a:moveTo>
                  <a:pt x="21109" y="18359"/>
                </a:moveTo>
                <a:lnTo>
                  <a:pt x="11732" y="18359"/>
                </a:lnTo>
                <a:cubicBezTo>
                  <a:pt x="11505" y="17127"/>
                  <a:pt x="10515" y="16199"/>
                  <a:pt x="9327" y="16199"/>
                </a:cubicBezTo>
                <a:cubicBezTo>
                  <a:pt x="8140" y="16199"/>
                  <a:pt x="7150" y="17127"/>
                  <a:pt x="6922" y="18359"/>
                </a:cubicBezTo>
                <a:lnTo>
                  <a:pt x="491" y="18359"/>
                </a:lnTo>
                <a:cubicBezTo>
                  <a:pt x="220" y="18359"/>
                  <a:pt x="0" y="18601"/>
                  <a:pt x="0" y="18899"/>
                </a:cubicBezTo>
                <a:cubicBezTo>
                  <a:pt x="0" y="19198"/>
                  <a:pt x="220" y="19439"/>
                  <a:pt x="491" y="19439"/>
                </a:cubicBezTo>
                <a:lnTo>
                  <a:pt x="6922" y="19439"/>
                </a:lnTo>
                <a:cubicBezTo>
                  <a:pt x="7150" y="20672"/>
                  <a:pt x="8140" y="21600"/>
                  <a:pt x="9327" y="21600"/>
                </a:cubicBezTo>
                <a:cubicBezTo>
                  <a:pt x="10515" y="21600"/>
                  <a:pt x="11505" y="20672"/>
                  <a:pt x="11732" y="19439"/>
                </a:cubicBezTo>
                <a:lnTo>
                  <a:pt x="21109" y="19439"/>
                </a:lnTo>
                <a:cubicBezTo>
                  <a:pt x="21380" y="19439"/>
                  <a:pt x="21600" y="19198"/>
                  <a:pt x="21600" y="18899"/>
                </a:cubicBezTo>
                <a:cubicBezTo>
                  <a:pt x="21600" y="18601"/>
                  <a:pt x="21380" y="18359"/>
                  <a:pt x="21109" y="18359"/>
                </a:cubicBezTo>
              </a:path>
            </a:pathLst>
          </a:custGeom>
          <a:solidFill>
            <a:srgbClr val="5ab1a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482" name="PA_库_文本框 65"/>
          <p:cNvSpPr/>
          <p:nvPr/>
        </p:nvSpPr>
        <p:spPr>
          <a:xfrm>
            <a:off x="7489800" y="1957320"/>
            <a:ext cx="398160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7d"/>
                </a:solidFill>
                <a:latin typeface="华文新魏"/>
                <a:ea typeface="华文新魏"/>
              </a:rPr>
              <a:t>（</a:t>
            </a:r>
            <a:r>
              <a:rPr b="1" lang="en-US" sz="2800" spc="-1" strike="noStrike">
                <a:solidFill>
                  <a:srgbClr val="7d7d7d"/>
                </a:solidFill>
                <a:latin typeface="华文新魏"/>
                <a:ea typeface="华文新魏"/>
              </a:rPr>
              <a:t>4</a:t>
            </a:r>
            <a:r>
              <a:rPr b="1" lang="zh-CN" sz="2800" spc="-1" strike="noStrike">
                <a:solidFill>
                  <a:srgbClr val="7d7d7d"/>
                </a:solidFill>
                <a:latin typeface="华文新魏"/>
                <a:ea typeface="华文新魏"/>
              </a:rPr>
              <a:t>）住房贷款利息或者</a:t>
            </a:r>
            <a:endParaRPr b="0" lang="en-US" sz="2800" spc="-1" strike="noStrike">
              <a:solidFill>
                <a:srgbClr val="26262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7d"/>
                </a:solidFill>
                <a:latin typeface="华文新魏"/>
                <a:ea typeface="华文新魏"/>
              </a:rPr>
              <a:t>住房租金</a:t>
            </a:r>
            <a:endParaRPr b="0" lang="en-US" sz="2800" spc="-1" strike="noStrike">
              <a:solidFill>
                <a:srgbClr val="26262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7d"/>
                </a:solidFill>
                <a:latin typeface="华文新魏"/>
                <a:ea typeface="华文新魏"/>
              </a:rPr>
              <a:t>（</a:t>
            </a:r>
            <a:r>
              <a:rPr b="1" lang="en-US" sz="2800" spc="-1" strike="noStrike">
                <a:solidFill>
                  <a:srgbClr val="7d7d7d"/>
                </a:solidFill>
                <a:latin typeface="华文新魏"/>
                <a:ea typeface="华文新魏"/>
              </a:rPr>
              <a:t>5</a:t>
            </a:r>
            <a:r>
              <a:rPr b="1" lang="zh-CN" sz="2800" spc="-1" strike="noStrike">
                <a:solidFill>
                  <a:srgbClr val="7d7d7d"/>
                </a:solidFill>
                <a:latin typeface="华文新魏"/>
                <a:ea typeface="华文新魏"/>
              </a:rPr>
              <a:t>）赡养老人等支出</a:t>
            </a:r>
            <a:endParaRPr b="0" lang="en-US" sz="2800" spc="-1" strike="noStrike">
              <a:solidFill>
                <a:srgbClr val="262626"/>
              </a:solidFill>
              <a:latin typeface="Arial"/>
            </a:endParaRPr>
          </a:p>
        </p:txBody>
      </p:sp>
      <p:sp>
        <p:nvSpPr>
          <p:cNvPr id="1483" name="PA_库_形状 2618"/>
          <p:cNvSpPr/>
          <p:nvPr/>
        </p:nvSpPr>
        <p:spPr>
          <a:xfrm>
            <a:off x="9105840" y="1158840"/>
            <a:ext cx="592200" cy="592200"/>
          </a:xfrm>
          <a:custGeom>
            <a:avLst/>
            <a:gdLst/>
            <a:ahLst/>
            <a:rect l="l" t="t" r="r" b="b"/>
            <a:pathLst>
              <a:path w="21278" h="21600">
                <a:moveTo>
                  <a:pt x="2560" y="18308"/>
                </a:moveTo>
                <a:cubicBezTo>
                  <a:pt x="2472" y="18397"/>
                  <a:pt x="2418" y="18520"/>
                  <a:pt x="2418" y="18655"/>
                </a:cubicBezTo>
                <a:cubicBezTo>
                  <a:pt x="2418" y="18926"/>
                  <a:pt x="2635" y="19146"/>
                  <a:pt x="2902" y="19146"/>
                </a:cubicBezTo>
                <a:cubicBezTo>
                  <a:pt x="3169" y="19146"/>
                  <a:pt x="3385" y="18926"/>
                  <a:pt x="3385" y="18655"/>
                </a:cubicBezTo>
                <a:cubicBezTo>
                  <a:pt x="3385" y="18384"/>
                  <a:pt x="3169" y="18164"/>
                  <a:pt x="2902" y="18164"/>
                </a:cubicBezTo>
                <a:cubicBezTo>
                  <a:pt x="2768" y="18164"/>
                  <a:pt x="2647" y="18219"/>
                  <a:pt x="2560" y="18308"/>
                </a:cubicBezTo>
                <a:moveTo>
                  <a:pt x="20499" y="4279"/>
                </a:moveTo>
                <a:lnTo>
                  <a:pt x="20091" y="4692"/>
                </a:lnTo>
                <a:lnTo>
                  <a:pt x="20088" y="4688"/>
                </a:lnTo>
                <a:lnTo>
                  <a:pt x="17670" y="7143"/>
                </a:lnTo>
                <a:lnTo>
                  <a:pt x="17664" y="7137"/>
                </a:lnTo>
                <a:cubicBezTo>
                  <a:pt x="17227" y="7580"/>
                  <a:pt x="16624" y="7853"/>
                  <a:pt x="15958" y="7853"/>
                </a:cubicBezTo>
                <a:cubicBezTo>
                  <a:pt x="14624" y="7853"/>
                  <a:pt x="13543" y="6755"/>
                  <a:pt x="13543" y="5401"/>
                </a:cubicBezTo>
                <a:cubicBezTo>
                  <a:pt x="13543" y="4725"/>
                  <a:pt x="13813" y="4113"/>
                  <a:pt x="14248" y="3670"/>
                </a:cubicBezTo>
                <a:lnTo>
                  <a:pt x="13563" y="2975"/>
                </a:lnTo>
                <a:cubicBezTo>
                  <a:pt x="12951" y="3596"/>
                  <a:pt x="12571" y="4452"/>
                  <a:pt x="12571" y="5401"/>
                </a:cubicBezTo>
                <a:cubicBezTo>
                  <a:pt x="12571" y="7300"/>
                  <a:pt x="14087" y="8840"/>
                  <a:pt x="15958" y="8840"/>
                </a:cubicBezTo>
                <a:cubicBezTo>
                  <a:pt x="16893" y="8840"/>
                  <a:pt x="17737" y="8454"/>
                  <a:pt x="18348" y="7832"/>
                </a:cubicBezTo>
                <a:lnTo>
                  <a:pt x="18353" y="7837"/>
                </a:lnTo>
                <a:lnTo>
                  <a:pt x="20152" y="6011"/>
                </a:lnTo>
                <a:cubicBezTo>
                  <a:pt x="20516" y="7368"/>
                  <a:pt x="20343" y="8670"/>
                  <a:pt x="19540" y="9505"/>
                </a:cubicBezTo>
                <a:lnTo>
                  <a:pt x="16947" y="12198"/>
                </a:lnTo>
                <a:cubicBezTo>
                  <a:pt x="16605" y="12553"/>
                  <a:pt x="16104" y="12766"/>
                  <a:pt x="15610" y="12766"/>
                </a:cubicBezTo>
                <a:cubicBezTo>
                  <a:pt x="15590" y="12765"/>
                  <a:pt x="13953" y="12652"/>
                  <a:pt x="12318" y="11611"/>
                </a:cubicBezTo>
                <a:lnTo>
                  <a:pt x="12314" y="11620"/>
                </a:lnTo>
                <a:cubicBezTo>
                  <a:pt x="12239" y="11572"/>
                  <a:pt x="12155" y="11537"/>
                  <a:pt x="12060" y="11537"/>
                </a:cubicBezTo>
                <a:cubicBezTo>
                  <a:pt x="11897" y="11537"/>
                  <a:pt x="11759" y="11625"/>
                  <a:pt x="11671" y="11753"/>
                </a:cubicBezTo>
                <a:lnTo>
                  <a:pt x="11654" y="11742"/>
                </a:lnTo>
                <a:lnTo>
                  <a:pt x="4270" y="20043"/>
                </a:lnTo>
                <a:cubicBezTo>
                  <a:pt x="3919" y="20399"/>
                  <a:pt x="3436" y="20618"/>
                  <a:pt x="2902" y="20618"/>
                </a:cubicBezTo>
                <a:cubicBezTo>
                  <a:pt x="1833" y="20618"/>
                  <a:pt x="967" y="19740"/>
                  <a:pt x="967" y="18655"/>
                </a:cubicBezTo>
                <a:cubicBezTo>
                  <a:pt x="967" y="18113"/>
                  <a:pt x="1184" y="17622"/>
                  <a:pt x="1534" y="17267"/>
                </a:cubicBezTo>
                <a:lnTo>
                  <a:pt x="9684" y="9801"/>
                </a:lnTo>
                <a:lnTo>
                  <a:pt x="9671" y="9786"/>
                </a:lnTo>
                <a:cubicBezTo>
                  <a:pt x="9796" y="9698"/>
                  <a:pt x="9884" y="9557"/>
                  <a:pt x="9884" y="9389"/>
                </a:cubicBezTo>
                <a:cubicBezTo>
                  <a:pt x="9884" y="9283"/>
                  <a:pt x="9844" y="9190"/>
                  <a:pt x="9787" y="9110"/>
                </a:cubicBezTo>
                <a:lnTo>
                  <a:pt x="9790" y="9107"/>
                </a:lnTo>
                <a:cubicBezTo>
                  <a:pt x="8390" y="7219"/>
                  <a:pt x="8340" y="5816"/>
                  <a:pt x="9546" y="4488"/>
                </a:cubicBezTo>
                <a:lnTo>
                  <a:pt x="12130" y="1805"/>
                </a:lnTo>
                <a:cubicBezTo>
                  <a:pt x="12785" y="1125"/>
                  <a:pt x="13641" y="982"/>
                  <a:pt x="14244" y="982"/>
                </a:cubicBezTo>
                <a:lnTo>
                  <a:pt x="14246" y="982"/>
                </a:lnTo>
                <a:cubicBezTo>
                  <a:pt x="14611" y="982"/>
                  <a:pt x="14988" y="1037"/>
                  <a:pt x="15366" y="1136"/>
                </a:cubicBezTo>
                <a:lnTo>
                  <a:pt x="13559" y="2970"/>
                </a:lnTo>
                <a:lnTo>
                  <a:pt x="14243" y="3664"/>
                </a:lnTo>
                <a:lnTo>
                  <a:pt x="16661" y="1210"/>
                </a:lnTo>
                <a:lnTo>
                  <a:pt x="16657" y="1206"/>
                </a:lnTo>
                <a:lnTo>
                  <a:pt x="17082" y="775"/>
                </a:lnTo>
                <a:cubicBezTo>
                  <a:pt x="16139" y="269"/>
                  <a:pt x="15160" y="0"/>
                  <a:pt x="14246" y="0"/>
                </a:cubicBezTo>
                <a:lnTo>
                  <a:pt x="14244" y="0"/>
                </a:lnTo>
                <a:cubicBezTo>
                  <a:pt x="13167" y="0"/>
                  <a:pt x="12182" y="361"/>
                  <a:pt x="11460" y="1111"/>
                </a:cubicBezTo>
                <a:lnTo>
                  <a:pt x="8867" y="3804"/>
                </a:lnTo>
                <a:cubicBezTo>
                  <a:pt x="7163" y="5672"/>
                  <a:pt x="7613" y="7584"/>
                  <a:pt x="8769" y="9315"/>
                </a:cubicBezTo>
                <a:lnTo>
                  <a:pt x="850" y="16572"/>
                </a:lnTo>
                <a:cubicBezTo>
                  <a:pt x="325" y="17106"/>
                  <a:pt x="0" y="17842"/>
                  <a:pt x="0" y="18655"/>
                </a:cubicBezTo>
                <a:cubicBezTo>
                  <a:pt x="0" y="20282"/>
                  <a:pt x="1299" y="21600"/>
                  <a:pt x="2902" y="21600"/>
                </a:cubicBezTo>
                <a:cubicBezTo>
                  <a:pt x="3703" y="21600"/>
                  <a:pt x="4429" y="21271"/>
                  <a:pt x="4954" y="20738"/>
                </a:cubicBezTo>
                <a:lnTo>
                  <a:pt x="12160" y="12652"/>
                </a:lnTo>
                <a:cubicBezTo>
                  <a:pt x="13800" y="13590"/>
                  <a:pt x="15363" y="13747"/>
                  <a:pt x="15606" y="13747"/>
                </a:cubicBezTo>
                <a:cubicBezTo>
                  <a:pt x="16313" y="13747"/>
                  <a:pt x="17067" y="13463"/>
                  <a:pt x="17617" y="12892"/>
                </a:cubicBezTo>
                <a:lnTo>
                  <a:pt x="20209" y="10198"/>
                </a:lnTo>
                <a:cubicBezTo>
                  <a:pt x="21560" y="8795"/>
                  <a:pt x="21600" y="6433"/>
                  <a:pt x="20499" y="4279"/>
                </a:cubicBezTo>
              </a:path>
            </a:pathLst>
          </a:custGeom>
          <a:solidFill>
            <a:srgbClr val="75cfd9"/>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484" name="PA_库_形状 2562"/>
          <p:cNvSpPr/>
          <p:nvPr/>
        </p:nvSpPr>
        <p:spPr>
          <a:xfrm>
            <a:off x="9194760" y="4017960"/>
            <a:ext cx="593640" cy="593640"/>
          </a:xfrm>
          <a:custGeom>
            <a:avLst/>
            <a:gdLst/>
            <a:ahLst/>
            <a:rect l="l" t="t" r="r" b="b"/>
            <a:pathLst>
              <a:path w="21600" h="21600">
                <a:moveTo>
                  <a:pt x="20618" y="19636"/>
                </a:moveTo>
                <a:cubicBezTo>
                  <a:pt x="20618" y="20179"/>
                  <a:pt x="20178" y="20619"/>
                  <a:pt x="19636" y="20619"/>
                </a:cubicBezTo>
                <a:lnTo>
                  <a:pt x="1964" y="20619"/>
                </a:lnTo>
                <a:cubicBezTo>
                  <a:pt x="1421" y="20619"/>
                  <a:pt x="982" y="20179"/>
                  <a:pt x="982" y="19636"/>
                </a:cubicBezTo>
                <a:lnTo>
                  <a:pt x="982" y="1964"/>
                </a:lnTo>
                <a:cubicBezTo>
                  <a:pt x="982" y="1422"/>
                  <a:pt x="1421" y="982"/>
                  <a:pt x="1964" y="982"/>
                </a:cubicBezTo>
                <a:lnTo>
                  <a:pt x="19636" y="982"/>
                </a:lnTo>
                <a:cubicBezTo>
                  <a:pt x="20178" y="982"/>
                  <a:pt x="20618" y="1422"/>
                  <a:pt x="20618" y="1964"/>
                </a:cubicBezTo>
                <a:cubicBezTo>
                  <a:pt x="20618" y="1964"/>
                  <a:pt x="20618" y="19636"/>
                  <a:pt x="20618" y="19636"/>
                </a:cubicBezTo>
                <a:close/>
                <a:moveTo>
                  <a:pt x="19636" y="0"/>
                </a:moveTo>
                <a:lnTo>
                  <a:pt x="1964" y="0"/>
                </a:lnTo>
                <a:cubicBezTo>
                  <a:pt x="879" y="0"/>
                  <a:pt x="0" y="879"/>
                  <a:pt x="0" y="1964"/>
                </a:cubicBezTo>
                <a:lnTo>
                  <a:pt x="0" y="19636"/>
                </a:lnTo>
                <a:cubicBezTo>
                  <a:pt x="0" y="20721"/>
                  <a:pt x="879" y="21600"/>
                  <a:pt x="1964" y="21600"/>
                </a:cubicBezTo>
                <a:lnTo>
                  <a:pt x="19636" y="21600"/>
                </a:lnTo>
                <a:cubicBezTo>
                  <a:pt x="20721" y="21600"/>
                  <a:pt x="21600" y="20721"/>
                  <a:pt x="21600" y="19636"/>
                </a:cubicBezTo>
                <a:lnTo>
                  <a:pt x="21600" y="1964"/>
                </a:lnTo>
                <a:cubicBezTo>
                  <a:pt x="21600" y="879"/>
                  <a:pt x="20721" y="0"/>
                  <a:pt x="19636" y="0"/>
                </a:cubicBezTo>
                <a:moveTo>
                  <a:pt x="4294" y="17673"/>
                </a:moveTo>
                <a:lnTo>
                  <a:pt x="8376" y="10732"/>
                </a:lnTo>
                <a:lnTo>
                  <a:pt x="10838" y="14425"/>
                </a:lnTo>
                <a:cubicBezTo>
                  <a:pt x="10862" y="14484"/>
                  <a:pt x="10898" y="14536"/>
                  <a:pt x="10942" y="14581"/>
                </a:cubicBezTo>
                <a:lnTo>
                  <a:pt x="10944" y="14583"/>
                </a:lnTo>
                <a:cubicBezTo>
                  <a:pt x="11033" y="14673"/>
                  <a:pt x="11155" y="14727"/>
                  <a:pt x="11291" y="14727"/>
                </a:cubicBezTo>
                <a:cubicBezTo>
                  <a:pt x="11427" y="14727"/>
                  <a:pt x="11549" y="14673"/>
                  <a:pt x="11638" y="14583"/>
                </a:cubicBezTo>
                <a:lnTo>
                  <a:pt x="13686" y="12536"/>
                </a:lnTo>
                <a:lnTo>
                  <a:pt x="17242" y="17673"/>
                </a:lnTo>
                <a:cubicBezTo>
                  <a:pt x="17242" y="17673"/>
                  <a:pt x="4294" y="17673"/>
                  <a:pt x="4294" y="17673"/>
                </a:cubicBezTo>
                <a:close/>
                <a:moveTo>
                  <a:pt x="18620" y="17982"/>
                </a:moveTo>
                <a:lnTo>
                  <a:pt x="18617" y="17978"/>
                </a:lnTo>
                <a:cubicBezTo>
                  <a:pt x="18590" y="17913"/>
                  <a:pt x="18551" y="17858"/>
                  <a:pt x="18501" y="17810"/>
                </a:cubicBezTo>
                <a:lnTo>
                  <a:pt x="14201" y="11600"/>
                </a:lnTo>
                <a:lnTo>
                  <a:pt x="14200" y="11601"/>
                </a:lnTo>
                <a:cubicBezTo>
                  <a:pt x="14127" y="11420"/>
                  <a:pt x="13952" y="11291"/>
                  <a:pt x="13745" y="11291"/>
                </a:cubicBezTo>
                <a:cubicBezTo>
                  <a:pt x="13610" y="11291"/>
                  <a:pt x="13488" y="11346"/>
                  <a:pt x="13398" y="11435"/>
                </a:cubicBezTo>
                <a:lnTo>
                  <a:pt x="11360" y="13473"/>
                </a:lnTo>
                <a:lnTo>
                  <a:pt x="8798" y="9630"/>
                </a:lnTo>
                <a:cubicBezTo>
                  <a:pt x="8724" y="9453"/>
                  <a:pt x="8550" y="9327"/>
                  <a:pt x="8345" y="9327"/>
                </a:cubicBezTo>
                <a:cubicBezTo>
                  <a:pt x="8175" y="9327"/>
                  <a:pt x="8033" y="9420"/>
                  <a:pt x="7945" y="9551"/>
                </a:cubicBezTo>
                <a:lnTo>
                  <a:pt x="7937" y="9546"/>
                </a:lnTo>
                <a:lnTo>
                  <a:pt x="3028" y="17891"/>
                </a:lnTo>
                <a:lnTo>
                  <a:pt x="3036" y="17897"/>
                </a:lnTo>
                <a:cubicBezTo>
                  <a:pt x="2983" y="17974"/>
                  <a:pt x="2945" y="18063"/>
                  <a:pt x="2945" y="18164"/>
                </a:cubicBezTo>
                <a:cubicBezTo>
                  <a:pt x="2945" y="18435"/>
                  <a:pt x="3165" y="18655"/>
                  <a:pt x="3436" y="18655"/>
                </a:cubicBezTo>
                <a:lnTo>
                  <a:pt x="18164" y="18655"/>
                </a:lnTo>
                <a:cubicBezTo>
                  <a:pt x="18435" y="18655"/>
                  <a:pt x="18655" y="18435"/>
                  <a:pt x="18655" y="18164"/>
                </a:cubicBezTo>
                <a:cubicBezTo>
                  <a:pt x="18655" y="18099"/>
                  <a:pt x="18640" y="18039"/>
                  <a:pt x="18618" y="17983"/>
                </a:cubicBezTo>
                <a:cubicBezTo>
                  <a:pt x="18618" y="17983"/>
                  <a:pt x="18620" y="17982"/>
                  <a:pt x="18620" y="17982"/>
                </a:cubicBezTo>
                <a:close/>
                <a:moveTo>
                  <a:pt x="5400" y="3927"/>
                </a:moveTo>
                <a:cubicBezTo>
                  <a:pt x="6213" y="3927"/>
                  <a:pt x="6873" y="4587"/>
                  <a:pt x="6873" y="5400"/>
                </a:cubicBezTo>
                <a:cubicBezTo>
                  <a:pt x="6873" y="6214"/>
                  <a:pt x="6213" y="6873"/>
                  <a:pt x="5400" y="6873"/>
                </a:cubicBezTo>
                <a:cubicBezTo>
                  <a:pt x="4587" y="6873"/>
                  <a:pt x="3927" y="6214"/>
                  <a:pt x="3927" y="5400"/>
                </a:cubicBezTo>
                <a:cubicBezTo>
                  <a:pt x="3927" y="4587"/>
                  <a:pt x="4587" y="3927"/>
                  <a:pt x="5400" y="3927"/>
                </a:cubicBezTo>
                <a:moveTo>
                  <a:pt x="5400" y="7855"/>
                </a:moveTo>
                <a:cubicBezTo>
                  <a:pt x="6756" y="7855"/>
                  <a:pt x="7855" y="6756"/>
                  <a:pt x="7855" y="5400"/>
                </a:cubicBezTo>
                <a:cubicBezTo>
                  <a:pt x="7855" y="4045"/>
                  <a:pt x="6756" y="2945"/>
                  <a:pt x="5400" y="2945"/>
                </a:cubicBezTo>
                <a:cubicBezTo>
                  <a:pt x="4044" y="2945"/>
                  <a:pt x="2945" y="4045"/>
                  <a:pt x="2945" y="5400"/>
                </a:cubicBezTo>
                <a:cubicBezTo>
                  <a:pt x="2945" y="6756"/>
                  <a:pt x="4044" y="7855"/>
                  <a:pt x="5400" y="7855"/>
                </a:cubicBezTo>
              </a:path>
            </a:pathLst>
          </a:custGeom>
          <a:solidFill>
            <a:srgbClr val="75cfd9"/>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pic>
        <p:nvPicPr>
          <p:cNvPr id="1485" name="矩形 15" descr=""/>
          <p:cNvPicPr/>
          <p:nvPr/>
        </p:nvPicPr>
        <p:blipFill>
          <a:blip r:embed="rId3"/>
          <a:stretch/>
        </p:blipFill>
        <p:spPr>
          <a:xfrm>
            <a:off x="2786040" y="1378080"/>
            <a:ext cx="7143840" cy="706320"/>
          </a:xfrm>
          <a:prstGeom prst="rect">
            <a:avLst/>
          </a:prstGeom>
          <a:ln w="0">
            <a:noFill/>
          </a:ln>
        </p:spPr>
      </p:pic>
    </p:spTree>
  </p:cSld>
  <p:transition spd="slow">
    <p:random/>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2" presetSubtype="8">
                                  <p:stCondLst>
                                    <p:cond delay="0"/>
                                  </p:stCondLst>
                                  <p:childTnLst>
                                    <p:set>
                                      <p:cBhvr>
                                        <p:cTn id="121" dur="1" fill="hold">
                                          <p:stCondLst>
                                            <p:cond delay="0"/>
                                          </p:stCondLst>
                                        </p:cTn>
                                        <p:tgtEl>
                                          <p:spTgt spid="1477"/>
                                        </p:tgtEl>
                                        <p:attrNameLst>
                                          <p:attrName>style.visibility</p:attrName>
                                        </p:attrNameLst>
                                      </p:cBhvr>
                                      <p:to>
                                        <p:strVal val="visible"/>
                                      </p:to>
                                    </p:set>
                                    <p:anim calcmode="lin" valueType="num">
                                      <p:cBhvr additive="base">
                                        <p:cTn id="122" dur="500" fill="hold"/>
                                        <p:tgtEl>
                                          <p:spTgt spid="1477"/>
                                        </p:tgtEl>
                                        <p:attrNameLst>
                                          <p:attrName>ppt_x</p:attrName>
                                        </p:attrNameLst>
                                      </p:cBhvr>
                                      <p:tavLst>
                                        <p:tav tm="0">
                                          <p:val>
                                            <p:strVal val="0-#ppt_w/2"/>
                                          </p:val>
                                        </p:tav>
                                        <p:tav tm="100000">
                                          <p:val>
                                            <p:strVal val="#ppt_x"/>
                                          </p:val>
                                        </p:tav>
                                      </p:tavLst>
                                    </p:anim>
                                    <p:anim calcmode="lin" valueType="num">
                                      <p:cBhvr additive="base">
                                        <p:cTn id="123" dur="500" fill="hold"/>
                                        <p:tgtEl>
                                          <p:spTgt spid="1477"/>
                                        </p:tgtEl>
                                        <p:attrNameLst>
                                          <p:attrName>ppt_y</p:attrName>
                                        </p:attrNameLst>
                                      </p:cBhvr>
                                      <p:tavLst>
                                        <p:tav tm="0">
                                          <p:val>
                                            <p:strVal val="#ppt_y"/>
                                          </p:val>
                                        </p:tav>
                                        <p:tav tm="100000">
                                          <p:val>
                                            <p:strVal val="#ppt_y"/>
                                          </p:val>
                                        </p:tav>
                                      </p:tavLst>
                                    </p:anim>
                                  </p:childTnLst>
                                </p:cTn>
                              </p:par>
                              <p:par>
                                <p:cTn id="124" nodeType="withEffect" fill="hold" presetClass="entr" presetID="53" presetSubtype="16">
                                  <p:stCondLst>
                                    <p:cond delay="1500"/>
                                  </p:stCondLst>
                                  <p:childTnLst>
                                    <p:set>
                                      <p:cBhvr>
                                        <p:cTn id="125" dur="1" fill="hold">
                                          <p:stCondLst>
                                            <p:cond delay="0"/>
                                          </p:stCondLst>
                                        </p:cTn>
                                        <p:tgtEl>
                                          <p:spTgt spid="1479"/>
                                        </p:tgtEl>
                                        <p:attrNameLst>
                                          <p:attrName>style.visibility</p:attrName>
                                        </p:attrNameLst>
                                      </p:cBhvr>
                                      <p:to>
                                        <p:strVal val="visible"/>
                                      </p:to>
                                    </p:set>
                                    <p:anim calcmode="lin" valueType="num">
                                      <p:cBhvr additive="repl">
                                        <p:cTn id="126" dur="500" fill="hold"/>
                                        <p:tgtEl>
                                          <p:spTgt spid="1479"/>
                                        </p:tgtEl>
                                        <p:attrNameLst>
                                          <p:attrName>ppt_w</p:attrName>
                                        </p:attrNameLst>
                                      </p:cBhvr>
                                      <p:tavLst>
                                        <p:tav tm="0">
                                          <p:val>
                                            <p:fltVal val="0"/>
                                          </p:val>
                                        </p:tav>
                                        <p:tav tm="100000">
                                          <p:val>
                                            <p:strVal val="#ppt_w"/>
                                          </p:val>
                                        </p:tav>
                                      </p:tavLst>
                                    </p:anim>
                                    <p:anim calcmode="lin" valueType="num">
                                      <p:cBhvr additive="repl">
                                        <p:cTn id="127" dur="500" fill="hold"/>
                                        <p:tgtEl>
                                          <p:spTgt spid="1479"/>
                                        </p:tgtEl>
                                        <p:attrNameLst>
                                          <p:attrName>ppt_h</p:attrName>
                                        </p:attrNameLst>
                                      </p:cBhvr>
                                      <p:tavLst>
                                        <p:tav tm="0">
                                          <p:val>
                                            <p:fltVal val="0"/>
                                          </p:val>
                                        </p:tav>
                                        <p:tav tm="100000">
                                          <p:val>
                                            <p:strVal val="#ppt_h"/>
                                          </p:val>
                                        </p:tav>
                                      </p:tavLst>
                                    </p:anim>
                                    <p:animEffect filter="fade" transition="in">
                                      <p:cBhvr additive="repl">
                                        <p:cTn id="128" dur="500"/>
                                        <p:tgtEl>
                                          <p:spTgt spid="1479"/>
                                        </p:tgtEl>
                                      </p:cBhvr>
                                    </p:animEffect>
                                  </p:childTnLst>
                                </p:cTn>
                              </p:par>
                              <p:par>
                                <p:cTn id="129" nodeType="withEffect" fill="hold" presetClass="entr" presetID="53" presetSubtype="16">
                                  <p:stCondLst>
                                    <p:cond delay="1500"/>
                                  </p:stCondLst>
                                  <p:childTnLst>
                                    <p:set>
                                      <p:cBhvr>
                                        <p:cTn id="130" dur="1" fill="hold">
                                          <p:stCondLst>
                                            <p:cond delay="0"/>
                                          </p:stCondLst>
                                        </p:cTn>
                                        <p:tgtEl>
                                          <p:spTgt spid="1482"/>
                                        </p:tgtEl>
                                        <p:attrNameLst>
                                          <p:attrName>style.visibility</p:attrName>
                                        </p:attrNameLst>
                                      </p:cBhvr>
                                      <p:to>
                                        <p:strVal val="visible"/>
                                      </p:to>
                                    </p:set>
                                    <p:anim calcmode="lin" valueType="num">
                                      <p:cBhvr additive="repl">
                                        <p:cTn id="131" dur="500" fill="hold"/>
                                        <p:tgtEl>
                                          <p:spTgt spid="1482"/>
                                        </p:tgtEl>
                                        <p:attrNameLst>
                                          <p:attrName>ppt_w</p:attrName>
                                        </p:attrNameLst>
                                      </p:cBhvr>
                                      <p:tavLst>
                                        <p:tav tm="0">
                                          <p:val>
                                            <p:fltVal val="0"/>
                                          </p:val>
                                        </p:tav>
                                        <p:tav tm="100000">
                                          <p:val>
                                            <p:strVal val="#ppt_w"/>
                                          </p:val>
                                        </p:tav>
                                      </p:tavLst>
                                    </p:anim>
                                    <p:anim calcmode="lin" valueType="num">
                                      <p:cBhvr additive="repl">
                                        <p:cTn id="132" dur="500" fill="hold"/>
                                        <p:tgtEl>
                                          <p:spTgt spid="1482"/>
                                        </p:tgtEl>
                                        <p:attrNameLst>
                                          <p:attrName>ppt_h</p:attrName>
                                        </p:attrNameLst>
                                      </p:cBhvr>
                                      <p:tavLst>
                                        <p:tav tm="0">
                                          <p:val>
                                            <p:fltVal val="0"/>
                                          </p:val>
                                        </p:tav>
                                        <p:tav tm="100000">
                                          <p:val>
                                            <p:strVal val="#ppt_h"/>
                                          </p:val>
                                        </p:tav>
                                      </p:tavLst>
                                    </p:anim>
                                    <p:animEffect filter="fade" transition="in">
                                      <p:cBhvr additive="repl">
                                        <p:cTn id="133" dur="500"/>
                                        <p:tgtEl>
                                          <p:spTgt spid="1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A_库_椭圆 23"/>
          <p:cNvSpPr/>
          <p:nvPr/>
        </p:nvSpPr>
        <p:spPr>
          <a:xfrm>
            <a:off x="665280" y="4073400"/>
            <a:ext cx="561960" cy="561960"/>
          </a:xfrm>
          <a:prstGeom prst="ellipse">
            <a:avLst/>
          </a:prstGeom>
          <a:solidFill>
            <a:srgbClr val="bad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87" name="PA_库_副标题 2"/>
          <p:cNvSpPr/>
          <p:nvPr/>
        </p:nvSpPr>
        <p:spPr>
          <a:xfrm>
            <a:off x="1236600" y="1990800"/>
            <a:ext cx="6443640" cy="4753800"/>
          </a:xfrm>
          <a:prstGeom prst="rect">
            <a:avLst/>
          </a:prstGeom>
          <a:noFill/>
          <a:ln w="0">
            <a:noFill/>
          </a:ln>
        </p:spPr>
        <p:style>
          <a:lnRef idx="0"/>
          <a:fillRef idx="0"/>
          <a:effectRef idx="0"/>
          <a:fontRef idx="minor"/>
        </p:style>
        <p:txBody>
          <a:bodyPr lIns="108720" rIns="108720" tIns="54360" bIns="54360" anchor="t">
            <a:spAutoFit/>
          </a:bodyPr>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400" spc="-1" strike="noStrike">
                <a:solidFill>
                  <a:srgbClr val="ff0000"/>
                </a:solidFill>
                <a:latin typeface="等线"/>
                <a:ea typeface="宋体"/>
              </a:rPr>
              <a:t>1</a:t>
            </a:r>
            <a:r>
              <a:rPr b="0" lang="zh-CN" sz="2400" spc="-1" strike="noStrike">
                <a:solidFill>
                  <a:srgbClr val="ff0000"/>
                </a:solidFill>
                <a:latin typeface="等线"/>
                <a:ea typeface="等线"/>
              </a:rPr>
              <a:t>、扣除范围和标准：</a:t>
            </a: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1</a:t>
            </a:r>
            <a:r>
              <a:rPr b="0" lang="zh-CN" sz="2400" spc="-1" strike="noStrike">
                <a:solidFill>
                  <a:srgbClr val="7030a0"/>
                </a:solidFill>
                <a:latin typeface="等线"/>
                <a:ea typeface="等线"/>
              </a:rPr>
              <a:t>）扣除范围</a:t>
            </a: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纳税人的子女接受学前教育和学历教育的相关支出。</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1307b1"/>
                </a:solidFill>
                <a:latin typeface="等线"/>
                <a:ea typeface="等线"/>
              </a:rPr>
              <a:t>学前教育</a:t>
            </a:r>
            <a:r>
              <a:rPr b="0" lang="zh-CN" sz="2000" spc="-1" strike="noStrike">
                <a:solidFill>
                  <a:srgbClr val="262626"/>
                </a:solidFill>
                <a:latin typeface="等线"/>
                <a:ea typeface="等线"/>
              </a:rPr>
              <a:t>包括年满</a:t>
            </a:r>
            <a:r>
              <a:rPr b="0" lang="en-US" sz="2000" spc="-1" strike="noStrike">
                <a:solidFill>
                  <a:srgbClr val="262626"/>
                </a:solidFill>
                <a:latin typeface="等线"/>
                <a:ea typeface="等线"/>
              </a:rPr>
              <a:t>3</a:t>
            </a:r>
            <a:r>
              <a:rPr b="0" lang="zh-CN" sz="2000" spc="-1" strike="noStrike">
                <a:solidFill>
                  <a:srgbClr val="262626"/>
                </a:solidFill>
                <a:latin typeface="等线"/>
                <a:ea typeface="等线"/>
              </a:rPr>
              <a:t>岁至小学入学前教育。</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1307b1"/>
                </a:solidFill>
                <a:latin typeface="等线"/>
                <a:ea typeface="等线"/>
              </a:rPr>
              <a:t>学历教育</a:t>
            </a:r>
            <a:r>
              <a:rPr b="0" lang="zh-CN" sz="2000" spc="-1" strike="noStrike">
                <a:solidFill>
                  <a:srgbClr val="262626"/>
                </a:solidFill>
                <a:latin typeface="等线"/>
                <a:ea typeface="等线"/>
              </a:rPr>
              <a:t>包括义务教育（小学和初中教育）、高中阶段</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教育（普通高中、中等职业教育）、高等教育（大学专</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科、大学本科、硕士研究生、博士研究生教育）。</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a:t>
            </a:r>
            <a:r>
              <a:rPr b="0" lang="en-US" sz="2400" spc="-1" strike="noStrike">
                <a:solidFill>
                  <a:srgbClr val="7030a0"/>
                </a:solidFill>
                <a:latin typeface="等线"/>
                <a:ea typeface="等线"/>
              </a:rPr>
              <a:t>2</a:t>
            </a:r>
            <a:r>
              <a:rPr b="0" lang="zh-CN" sz="2400" spc="-1" strike="noStrike">
                <a:solidFill>
                  <a:srgbClr val="7030a0"/>
                </a:solidFill>
                <a:latin typeface="等线"/>
                <a:ea typeface="等线"/>
              </a:rPr>
              <a:t>）扣除标准和方法</a:t>
            </a: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45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1800" spc="-1" strike="noStrike">
                <a:solidFill>
                  <a:srgbClr val="262626"/>
                </a:solidFill>
                <a:latin typeface="等线"/>
                <a:ea typeface="等线"/>
              </a:rPr>
              <a:t>按照每个子女每年</a:t>
            </a:r>
            <a:r>
              <a:rPr b="0" lang="en-US" sz="1800" spc="-1" strike="noStrike">
                <a:solidFill>
                  <a:srgbClr val="262626"/>
                </a:solidFill>
                <a:latin typeface="等线"/>
                <a:ea typeface="等线"/>
              </a:rPr>
              <a:t>12000</a:t>
            </a:r>
            <a:r>
              <a:rPr b="0" lang="zh-CN" sz="1800" spc="-1" strike="noStrike">
                <a:solidFill>
                  <a:srgbClr val="262626"/>
                </a:solidFill>
                <a:latin typeface="等线"/>
                <a:ea typeface="等线"/>
              </a:rPr>
              <a:t>元（每月</a:t>
            </a:r>
            <a:r>
              <a:rPr b="0" lang="en-US" sz="1800" spc="-1" strike="noStrike">
                <a:solidFill>
                  <a:srgbClr val="262626"/>
                </a:solidFill>
                <a:latin typeface="等线"/>
                <a:ea typeface="等线"/>
              </a:rPr>
              <a:t>1000</a:t>
            </a:r>
            <a:r>
              <a:rPr b="0" lang="zh-CN" sz="1800" spc="-1" strike="noStrike">
                <a:solidFill>
                  <a:srgbClr val="262626"/>
                </a:solidFill>
                <a:latin typeface="等线"/>
                <a:ea typeface="等线"/>
              </a:rPr>
              <a:t>元）的标准定额扣除。</a:t>
            </a:r>
            <a:endParaRPr b="0" lang="en-US" sz="1800" spc="-1" strike="noStrike">
              <a:solidFill>
                <a:srgbClr val="262626"/>
              </a:solidFill>
              <a:latin typeface="Arial"/>
            </a:endParaRPr>
          </a:p>
          <a:p>
            <a:pPr>
              <a:lnSpc>
                <a:spcPts val="1324"/>
              </a:lnSpc>
              <a:spcBef>
                <a:spcPts val="45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8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p:txBody>
      </p:sp>
      <p:sp>
        <p:nvSpPr>
          <p:cNvPr id="1488" name="PA_库_文本框 25"/>
          <p:cNvSpPr/>
          <p:nvPr/>
        </p:nvSpPr>
        <p:spPr>
          <a:xfrm>
            <a:off x="2033640" y="1276920"/>
            <a:ext cx="5160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造字工房尚雅（非商用）常规体"/>
                <a:ea typeface="造字工房尚雅（非商用）常规体"/>
              </a:rPr>
              <a:t>（一）子女教育专项附加扣除</a:t>
            </a:r>
            <a:endParaRPr b="0" lang="en-US" sz="2800" spc="-1" strike="noStrike">
              <a:solidFill>
                <a:srgbClr val="262626"/>
              </a:solidFill>
              <a:latin typeface="Arial"/>
            </a:endParaRPr>
          </a:p>
        </p:txBody>
      </p:sp>
      <p:sp>
        <p:nvSpPr>
          <p:cNvPr id="1489" name="PA_库_椭圆 26"/>
          <p:cNvSpPr/>
          <p:nvPr/>
        </p:nvSpPr>
        <p:spPr>
          <a:xfrm>
            <a:off x="633240" y="1457280"/>
            <a:ext cx="560520" cy="560520"/>
          </a:xfrm>
          <a:prstGeom prst="ellipse">
            <a:avLst/>
          </a:prstGeom>
          <a:solidFill>
            <a:srgbClr val="75cf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90" name="PA_库_形状 2629"/>
          <p:cNvSpPr/>
          <p:nvPr/>
        </p:nvSpPr>
        <p:spPr>
          <a:xfrm>
            <a:off x="768240" y="1609560"/>
            <a:ext cx="279360" cy="279720"/>
          </a:xfrm>
          <a:custGeom>
            <a:avLst/>
            <a:gdLst/>
            <a:ahLst/>
            <a:rect l="l" t="t" r="r" b="b"/>
            <a:pathLst>
              <a:path w="21600" h="21600">
                <a:moveTo>
                  <a:pt x="16441" y="20618"/>
                </a:moveTo>
                <a:cubicBezTo>
                  <a:pt x="15826" y="20618"/>
                  <a:pt x="15226" y="20482"/>
                  <a:pt x="14660" y="20214"/>
                </a:cubicBezTo>
                <a:cubicBezTo>
                  <a:pt x="14607" y="20189"/>
                  <a:pt x="14552" y="20170"/>
                  <a:pt x="14497" y="20155"/>
                </a:cubicBezTo>
                <a:cubicBezTo>
                  <a:pt x="8918" y="17308"/>
                  <a:pt x="4295" y="12685"/>
                  <a:pt x="1448" y="7105"/>
                </a:cubicBezTo>
                <a:cubicBezTo>
                  <a:pt x="1432" y="7048"/>
                  <a:pt x="1412" y="6991"/>
                  <a:pt x="1386" y="6936"/>
                </a:cubicBezTo>
                <a:cubicBezTo>
                  <a:pt x="1117" y="6369"/>
                  <a:pt x="982" y="5770"/>
                  <a:pt x="982" y="5155"/>
                </a:cubicBezTo>
                <a:cubicBezTo>
                  <a:pt x="982" y="2774"/>
                  <a:pt x="3066" y="982"/>
                  <a:pt x="4417" y="982"/>
                </a:cubicBezTo>
                <a:cubicBezTo>
                  <a:pt x="4594" y="982"/>
                  <a:pt x="4711" y="1072"/>
                  <a:pt x="4764" y="1126"/>
                </a:cubicBezTo>
                <a:cubicBezTo>
                  <a:pt x="4776" y="1139"/>
                  <a:pt x="4798" y="1164"/>
                  <a:pt x="4831" y="1216"/>
                </a:cubicBezTo>
                <a:cubicBezTo>
                  <a:pt x="4848" y="1244"/>
                  <a:pt x="4867" y="1271"/>
                  <a:pt x="4887" y="1297"/>
                </a:cubicBezTo>
                <a:lnTo>
                  <a:pt x="8118" y="5453"/>
                </a:lnTo>
                <a:cubicBezTo>
                  <a:pt x="8143" y="5485"/>
                  <a:pt x="8170" y="5515"/>
                  <a:pt x="8199" y="5544"/>
                </a:cubicBezTo>
                <a:cubicBezTo>
                  <a:pt x="8253" y="5598"/>
                  <a:pt x="8343" y="5715"/>
                  <a:pt x="8343" y="5891"/>
                </a:cubicBezTo>
                <a:cubicBezTo>
                  <a:pt x="8343" y="5978"/>
                  <a:pt x="8319" y="6060"/>
                  <a:pt x="8272" y="6135"/>
                </a:cubicBezTo>
                <a:lnTo>
                  <a:pt x="7178" y="7221"/>
                </a:lnTo>
                <a:cubicBezTo>
                  <a:pt x="7173" y="7226"/>
                  <a:pt x="7168" y="7231"/>
                  <a:pt x="7163" y="7236"/>
                </a:cubicBezTo>
                <a:cubicBezTo>
                  <a:pt x="6767" y="7609"/>
                  <a:pt x="6541" y="8126"/>
                  <a:pt x="6541" y="8668"/>
                </a:cubicBezTo>
                <a:cubicBezTo>
                  <a:pt x="6541" y="9175"/>
                  <a:pt x="6738" y="9658"/>
                  <a:pt x="7080" y="10020"/>
                </a:cubicBezTo>
                <a:cubicBezTo>
                  <a:pt x="7092" y="10040"/>
                  <a:pt x="7105" y="10059"/>
                  <a:pt x="7119" y="10078"/>
                </a:cubicBezTo>
                <a:cubicBezTo>
                  <a:pt x="8325" y="11745"/>
                  <a:pt x="9807" y="13222"/>
                  <a:pt x="11525" y="14469"/>
                </a:cubicBezTo>
                <a:cubicBezTo>
                  <a:pt x="11538" y="14478"/>
                  <a:pt x="11551" y="14487"/>
                  <a:pt x="11565" y="14496"/>
                </a:cubicBezTo>
                <a:cubicBezTo>
                  <a:pt x="11928" y="14844"/>
                  <a:pt x="12414" y="15045"/>
                  <a:pt x="12924" y="15045"/>
                </a:cubicBezTo>
                <a:cubicBezTo>
                  <a:pt x="13436" y="15045"/>
                  <a:pt x="13930" y="14840"/>
                  <a:pt x="14297" y="14479"/>
                </a:cubicBezTo>
                <a:cubicBezTo>
                  <a:pt x="14316" y="14463"/>
                  <a:pt x="14335" y="14446"/>
                  <a:pt x="14352" y="14427"/>
                </a:cubicBezTo>
                <a:lnTo>
                  <a:pt x="15451" y="13320"/>
                </a:lnTo>
                <a:cubicBezTo>
                  <a:pt x="15529" y="13271"/>
                  <a:pt x="15611" y="13247"/>
                  <a:pt x="15697" y="13247"/>
                </a:cubicBezTo>
                <a:cubicBezTo>
                  <a:pt x="15874" y="13247"/>
                  <a:pt x="15990" y="13337"/>
                  <a:pt x="16044" y="13391"/>
                </a:cubicBezTo>
                <a:cubicBezTo>
                  <a:pt x="16073" y="13420"/>
                  <a:pt x="16103" y="13447"/>
                  <a:pt x="16135" y="13472"/>
                </a:cubicBezTo>
                <a:lnTo>
                  <a:pt x="20291" y="16704"/>
                </a:lnTo>
                <a:cubicBezTo>
                  <a:pt x="20317" y="16725"/>
                  <a:pt x="20345" y="16744"/>
                  <a:pt x="20374" y="16762"/>
                </a:cubicBezTo>
                <a:cubicBezTo>
                  <a:pt x="20426" y="16795"/>
                  <a:pt x="20449" y="16816"/>
                  <a:pt x="20461" y="16827"/>
                </a:cubicBezTo>
                <a:cubicBezTo>
                  <a:pt x="20515" y="16881"/>
                  <a:pt x="20605" y="16997"/>
                  <a:pt x="20605" y="17174"/>
                </a:cubicBezTo>
                <a:cubicBezTo>
                  <a:pt x="20605" y="17207"/>
                  <a:pt x="20606" y="17240"/>
                  <a:pt x="20610" y="17273"/>
                </a:cubicBezTo>
                <a:cubicBezTo>
                  <a:pt x="20533" y="18625"/>
                  <a:pt x="18769" y="20618"/>
                  <a:pt x="16441" y="20618"/>
                </a:cubicBezTo>
                <a:moveTo>
                  <a:pt x="21586" y="17174"/>
                </a:moveTo>
                <a:cubicBezTo>
                  <a:pt x="21586" y="16768"/>
                  <a:pt x="21421" y="16399"/>
                  <a:pt x="21155" y="16133"/>
                </a:cubicBezTo>
                <a:cubicBezTo>
                  <a:pt x="21077" y="16054"/>
                  <a:pt x="20988" y="15988"/>
                  <a:pt x="20893" y="15929"/>
                </a:cubicBezTo>
                <a:lnTo>
                  <a:pt x="16738" y="12697"/>
                </a:lnTo>
                <a:cubicBezTo>
                  <a:pt x="16471" y="12430"/>
                  <a:pt x="16104" y="12265"/>
                  <a:pt x="15697" y="12265"/>
                </a:cubicBezTo>
                <a:cubicBezTo>
                  <a:pt x="15364" y="12265"/>
                  <a:pt x="15060" y="12380"/>
                  <a:pt x="14815" y="12567"/>
                </a:cubicBezTo>
                <a:lnTo>
                  <a:pt x="13655" y="13736"/>
                </a:lnTo>
                <a:lnTo>
                  <a:pt x="13652" y="13733"/>
                </a:lnTo>
                <a:cubicBezTo>
                  <a:pt x="13473" y="13934"/>
                  <a:pt x="13214" y="14063"/>
                  <a:pt x="12924" y="14063"/>
                </a:cubicBezTo>
                <a:cubicBezTo>
                  <a:pt x="12592" y="14063"/>
                  <a:pt x="12300" y="13897"/>
                  <a:pt x="12122" y="13645"/>
                </a:cubicBezTo>
                <a:cubicBezTo>
                  <a:pt x="12116" y="13654"/>
                  <a:pt x="12107" y="13663"/>
                  <a:pt x="12101" y="13674"/>
                </a:cubicBezTo>
                <a:cubicBezTo>
                  <a:pt x="10497" y="12510"/>
                  <a:pt x="9076" y="11108"/>
                  <a:pt x="7914" y="9502"/>
                </a:cubicBezTo>
                <a:cubicBezTo>
                  <a:pt x="7925" y="9495"/>
                  <a:pt x="7935" y="9486"/>
                  <a:pt x="7947" y="9479"/>
                </a:cubicBezTo>
                <a:cubicBezTo>
                  <a:pt x="7691" y="9299"/>
                  <a:pt x="7523" y="9004"/>
                  <a:pt x="7523" y="8668"/>
                </a:cubicBezTo>
                <a:cubicBezTo>
                  <a:pt x="7523" y="8367"/>
                  <a:pt x="7659" y="8101"/>
                  <a:pt x="7871" y="7920"/>
                </a:cubicBezTo>
                <a:lnTo>
                  <a:pt x="7870" y="7918"/>
                </a:lnTo>
                <a:lnTo>
                  <a:pt x="9023" y="6773"/>
                </a:lnTo>
                <a:cubicBezTo>
                  <a:pt x="9211" y="6528"/>
                  <a:pt x="9325" y="6224"/>
                  <a:pt x="9325" y="5891"/>
                </a:cubicBezTo>
                <a:cubicBezTo>
                  <a:pt x="9325" y="5485"/>
                  <a:pt x="9160" y="5116"/>
                  <a:pt x="8893" y="4850"/>
                </a:cubicBezTo>
                <a:lnTo>
                  <a:pt x="5662" y="693"/>
                </a:lnTo>
                <a:cubicBezTo>
                  <a:pt x="5603" y="599"/>
                  <a:pt x="5537" y="510"/>
                  <a:pt x="5458" y="432"/>
                </a:cubicBezTo>
                <a:cubicBezTo>
                  <a:pt x="5191" y="165"/>
                  <a:pt x="4823" y="0"/>
                  <a:pt x="4417" y="0"/>
                </a:cubicBezTo>
                <a:cubicBezTo>
                  <a:pt x="2454" y="0"/>
                  <a:pt x="0" y="2308"/>
                  <a:pt x="0" y="5155"/>
                </a:cubicBezTo>
                <a:cubicBezTo>
                  <a:pt x="0" y="5943"/>
                  <a:pt x="183" y="6688"/>
                  <a:pt x="499" y="7356"/>
                </a:cubicBezTo>
                <a:lnTo>
                  <a:pt x="482" y="7373"/>
                </a:lnTo>
                <a:cubicBezTo>
                  <a:pt x="3435" y="13255"/>
                  <a:pt x="8343" y="18164"/>
                  <a:pt x="14224" y="21117"/>
                </a:cubicBezTo>
                <a:lnTo>
                  <a:pt x="14240" y="21101"/>
                </a:lnTo>
                <a:cubicBezTo>
                  <a:pt x="14908" y="21418"/>
                  <a:pt x="15652" y="21600"/>
                  <a:pt x="16441" y="21600"/>
                </a:cubicBezTo>
                <a:cubicBezTo>
                  <a:pt x="19287" y="21600"/>
                  <a:pt x="21594" y="19145"/>
                  <a:pt x="21594" y="17182"/>
                </a:cubicBezTo>
                <a:cubicBezTo>
                  <a:pt x="21594" y="17179"/>
                  <a:pt x="21594" y="17177"/>
                  <a:pt x="21594" y="17174"/>
                </a:cubicBezTo>
                <a:cubicBezTo>
                  <a:pt x="21594" y="17174"/>
                  <a:pt x="21586" y="17174"/>
                  <a:pt x="21586" y="17174"/>
                </a:cubicBezTo>
                <a:close/>
                <a:moveTo>
                  <a:pt x="11785" y="10800"/>
                </a:moveTo>
                <a:cubicBezTo>
                  <a:pt x="12326" y="10800"/>
                  <a:pt x="12766" y="10360"/>
                  <a:pt x="12766" y="9819"/>
                </a:cubicBezTo>
                <a:cubicBezTo>
                  <a:pt x="12766" y="9276"/>
                  <a:pt x="12326" y="8836"/>
                  <a:pt x="11785" y="8836"/>
                </a:cubicBezTo>
                <a:cubicBezTo>
                  <a:pt x="11242" y="8836"/>
                  <a:pt x="10803" y="9276"/>
                  <a:pt x="10803" y="9819"/>
                </a:cubicBezTo>
                <a:cubicBezTo>
                  <a:pt x="10803" y="10360"/>
                  <a:pt x="11242" y="10800"/>
                  <a:pt x="11785" y="10800"/>
                </a:cubicBezTo>
                <a:moveTo>
                  <a:pt x="11785" y="5891"/>
                </a:moveTo>
                <a:cubicBezTo>
                  <a:pt x="13953" y="5891"/>
                  <a:pt x="15711" y="7649"/>
                  <a:pt x="15711" y="9819"/>
                </a:cubicBezTo>
                <a:cubicBezTo>
                  <a:pt x="15711" y="10090"/>
                  <a:pt x="15930" y="10309"/>
                  <a:pt x="16201" y="10309"/>
                </a:cubicBezTo>
                <a:cubicBezTo>
                  <a:pt x="16472" y="10309"/>
                  <a:pt x="16692" y="10090"/>
                  <a:pt x="16692" y="9819"/>
                </a:cubicBezTo>
                <a:cubicBezTo>
                  <a:pt x="16692" y="7107"/>
                  <a:pt x="14495" y="4909"/>
                  <a:pt x="11785" y="4909"/>
                </a:cubicBezTo>
                <a:cubicBezTo>
                  <a:pt x="11513" y="4909"/>
                  <a:pt x="11294" y="5129"/>
                  <a:pt x="11294" y="5400"/>
                </a:cubicBezTo>
                <a:cubicBezTo>
                  <a:pt x="11294" y="5672"/>
                  <a:pt x="11513" y="5891"/>
                  <a:pt x="11785" y="5891"/>
                </a:cubicBezTo>
                <a:moveTo>
                  <a:pt x="11785" y="982"/>
                </a:moveTo>
                <a:cubicBezTo>
                  <a:pt x="16663" y="982"/>
                  <a:pt x="20618" y="4939"/>
                  <a:pt x="20618" y="9819"/>
                </a:cubicBezTo>
                <a:cubicBezTo>
                  <a:pt x="20618" y="10090"/>
                  <a:pt x="20838" y="10309"/>
                  <a:pt x="21109" y="10309"/>
                </a:cubicBezTo>
                <a:cubicBezTo>
                  <a:pt x="21380" y="10309"/>
                  <a:pt x="21600" y="10090"/>
                  <a:pt x="21600" y="9819"/>
                </a:cubicBezTo>
                <a:cubicBezTo>
                  <a:pt x="21600" y="4396"/>
                  <a:pt x="17206" y="0"/>
                  <a:pt x="11785" y="0"/>
                </a:cubicBezTo>
                <a:cubicBezTo>
                  <a:pt x="11513" y="0"/>
                  <a:pt x="11294" y="220"/>
                  <a:pt x="11294" y="491"/>
                </a:cubicBezTo>
                <a:cubicBezTo>
                  <a:pt x="11294" y="762"/>
                  <a:pt x="11513" y="982"/>
                  <a:pt x="11785" y="982"/>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491" name="PA_库_形状 2840"/>
          <p:cNvSpPr/>
          <p:nvPr/>
        </p:nvSpPr>
        <p:spPr>
          <a:xfrm>
            <a:off x="817560" y="419580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492" name="PA_库_椭圆 41"/>
          <p:cNvSpPr/>
          <p:nvPr/>
        </p:nvSpPr>
        <p:spPr>
          <a:xfrm>
            <a:off x="601560" y="2760840"/>
            <a:ext cx="560520" cy="561960"/>
          </a:xfrm>
          <a:prstGeom prst="ellipse">
            <a:avLst/>
          </a:prstGeom>
          <a:solidFill>
            <a:srgbClr val="5ab1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93" name="PA_库_形状 2840"/>
          <p:cNvSpPr/>
          <p:nvPr/>
        </p:nvSpPr>
        <p:spPr>
          <a:xfrm>
            <a:off x="741240" y="289260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494" name="PA_库_椭圆 41"/>
          <p:cNvSpPr/>
          <p:nvPr/>
        </p:nvSpPr>
        <p:spPr>
          <a:xfrm>
            <a:off x="633240" y="5365800"/>
            <a:ext cx="560520" cy="560160"/>
          </a:xfrm>
          <a:prstGeom prst="ellipse">
            <a:avLst/>
          </a:prstGeom>
          <a:solidFill>
            <a:srgbClr val="5ab1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95" name="PA_库_形状 2840"/>
          <p:cNvSpPr/>
          <p:nvPr/>
        </p:nvSpPr>
        <p:spPr>
          <a:xfrm>
            <a:off x="795240" y="549756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pic>
        <p:nvPicPr>
          <p:cNvPr id="1496" name="图片 19" descr=""/>
          <p:cNvPicPr/>
          <p:nvPr/>
        </p:nvPicPr>
        <p:blipFill>
          <a:blip r:embed="rId1"/>
          <a:stretch/>
        </p:blipFill>
        <p:spPr>
          <a:xfrm>
            <a:off x="7229520" y="1244520"/>
            <a:ext cx="4962600" cy="4878360"/>
          </a:xfrm>
          <a:prstGeom prst="rect">
            <a:avLst/>
          </a:prstGeom>
          <a:ln w="0">
            <a:noFill/>
          </a:ln>
        </p:spPr>
      </p:pic>
      <p:pic>
        <p:nvPicPr>
          <p:cNvPr id="1497" name="图片 20" descr=""/>
          <p:cNvPicPr/>
          <p:nvPr/>
        </p:nvPicPr>
        <p:blipFill>
          <a:blip r:embed="rId2"/>
          <a:stretch/>
        </p:blipFill>
        <p:spPr>
          <a:xfrm>
            <a:off x="4981680" y="266760"/>
            <a:ext cx="1749240" cy="1326960"/>
          </a:xfrm>
          <a:prstGeom prst="rect">
            <a:avLst/>
          </a:prstGeom>
          <a:ln w="0">
            <a:noFill/>
          </a:ln>
        </p:spPr>
      </p:pic>
    </p:spTree>
  </p:cSld>
  <p:transition spd="slow">
    <p:random/>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2" presetSubtype="8">
                                  <p:stCondLst>
                                    <p:cond delay="250"/>
                                  </p:stCondLst>
                                  <p:endCondLst>
                                    <p:cond evt="begin"/>
                                  </p:endCondLst>
                                  <p:childTnLst>
                                    <p:set>
                                      <p:cBhvr>
                                        <p:cTn id="139" dur="1" fill="hold">
                                          <p:stCondLst>
                                            <p:cond delay="0"/>
                                          </p:stCondLst>
                                        </p:cTn>
                                        <p:tgtEl>
                                          <p:spTgt spid="1486"/>
                                        </p:tgtEl>
                                        <p:attrNameLst>
                                          <p:attrName>style.visibility</p:attrName>
                                        </p:attrNameLst>
                                      </p:cBhvr>
                                      <p:to>
                                        <p:strVal val="visible"/>
                                      </p:to>
                                    </p:set>
                                    <p:anim calcmode="lin" valueType="num">
                                      <p:cBhvr additive="base">
                                        <p:cTn id="140" dur="1500" fill="hold"/>
                                        <p:tgtEl>
                                          <p:spTgt spid="1486"/>
                                        </p:tgtEl>
                                        <p:attrNameLst>
                                          <p:attrName>ppt_x</p:attrName>
                                        </p:attrNameLst>
                                      </p:cBhvr>
                                      <p:tavLst>
                                        <p:tav tm="0">
                                          <p:val>
                                            <p:strVal val="0-#ppt_w/2"/>
                                          </p:val>
                                        </p:tav>
                                        <p:tav tm="100000">
                                          <p:val>
                                            <p:strVal val="#ppt_x"/>
                                          </p:val>
                                        </p:tav>
                                      </p:tavLst>
                                    </p:anim>
                                    <p:anim calcmode="lin" valueType="num">
                                      <p:cBhvr additive="base">
                                        <p:cTn id="141" dur="1500" fill="hold"/>
                                        <p:tgtEl>
                                          <p:spTgt spid="1486"/>
                                        </p:tgtEl>
                                        <p:attrNameLst>
                                          <p:attrName>ppt_y</p:attrName>
                                        </p:attrNameLst>
                                      </p:cBhvr>
                                      <p:tavLst>
                                        <p:tav tm="0">
                                          <p:val>
                                            <p:strVal val="#ppt_y"/>
                                          </p:val>
                                        </p:tav>
                                        <p:tav tm="100000">
                                          <p:val>
                                            <p:strVal val="#ppt_y"/>
                                          </p:val>
                                        </p:tav>
                                      </p:tavLst>
                                    </p:anim>
                                    <p:set>
                                      <p:cBhvr>
                                        <p:cTn id="142" dur="1" fill="hold">
                                          <p:stCondLst>
                                            <p:cond delay="0"/>
                                          </p:stCondLst>
                                        </p:cTn>
                                        <p:tgtEl>
                                          <p:spTgt spid="1486"/>
                                        </p:tgtEl>
                                        <p:attrNameLst>
                                          <p:attrName>style.visibility</p:attrName>
                                        </p:attrNameLst>
                                      </p:cBhvr>
                                      <p:to>
                                        <p:strVal val="visible"/>
                                      </p:to>
                                    </p:set>
                                    <p:anim calcmode="lin" valueType="num">
                                      <p:cBhvr additive="repl">
                                        <p:cTn id="143" dur="1500" fill="hold">
                                          <p:stCondLst>
                                            <p:cond delay="0"/>
                                          </p:stCondLst>
                                        </p:cTn>
                                        <p:tgtEl>
                                          <p:spTgt spid="1486"/>
                                        </p:tgtEl>
                                        <p:attrNameLst>
                                          <p:attrName>ppt_w</p:attrName>
                                        </p:attrNameLst>
                                      </p:cBhvr>
                                      <p:tavLst>
                                        <p:tav tm="0">
                                          <p:val>
                                            <p:strVal val="0"/>
                                          </p:val>
                                        </p:tav>
                                        <p:tav tm="100000">
                                          <p:val>
                                            <p:strVal val="#ppt_w"/>
                                          </p:val>
                                        </p:tav>
                                      </p:tavLst>
                                      <p:to>
                                        <p:strVal val=""/>
                                      </p:to>
                                    </p:anim>
                                    <p:anim calcmode="lin" valueType="num">
                                      <p:cBhvr additive="repl">
                                        <p:cTn id="144" dur="1500" fill="hold">
                                          <p:stCondLst>
                                            <p:cond delay="0"/>
                                          </p:stCondLst>
                                        </p:cTn>
                                        <p:tgtEl>
                                          <p:spTgt spid="1486"/>
                                        </p:tgtEl>
                                        <p:attrNameLst>
                                          <p:attrName>ppt_h</p:attrName>
                                        </p:attrNameLst>
                                      </p:cBhvr>
                                      <p:tavLst>
                                        <p:tav tm="0">
                                          <p:val>
                                            <p:strVal val="0"/>
                                          </p:val>
                                        </p:tav>
                                        <p:tav tm="100000">
                                          <p:val>
                                            <p:strVal val="#ppt_h"/>
                                          </p:val>
                                        </p:tav>
                                      </p:tavLst>
                                      <p:to>
                                        <p:strVal val=""/>
                                      </p:to>
                                    </p:anim>
                                    <p:animEffect filter="fade" transition="in">
                                      <p:cBhvr additive="repl">
                                        <p:cTn id="145" dur="1500">
                                          <p:stCondLst>
                                            <p:cond delay="0"/>
                                          </p:stCondLst>
                                        </p:cTn>
                                        <p:tgtEl>
                                          <p:spTgt spid="1486"/>
                                        </p:tgtEl>
                                      </p:cBhvr>
                                    </p:animEffect>
                                  </p:childTnLst>
                                </p:cTn>
                              </p:par>
                              <p:par>
                                <p:cTn id="146" nodeType="withEffect" fill="hold" presetClass="entr" presetID="2" presetSubtype="8">
                                  <p:stCondLst>
                                    <p:cond delay="250"/>
                                  </p:stCondLst>
                                  <p:childTnLst>
                                    <p:set>
                                      <p:cBhvr>
                                        <p:cTn id="147" dur="1" fill="hold">
                                          <p:stCondLst>
                                            <p:cond delay="0"/>
                                          </p:stCondLst>
                                        </p:cTn>
                                        <p:tgtEl>
                                          <p:spTgt spid="1487"/>
                                        </p:tgtEl>
                                        <p:attrNameLst>
                                          <p:attrName>style.visibility</p:attrName>
                                        </p:attrNameLst>
                                      </p:cBhvr>
                                      <p:to>
                                        <p:strVal val="visible"/>
                                      </p:to>
                                    </p:set>
                                    <p:anim calcmode="lin" valueType="num">
                                      <p:cBhvr additive="base">
                                        <p:cTn id="148" dur="1500" fill="hold"/>
                                        <p:tgtEl>
                                          <p:spTgt spid="1487"/>
                                        </p:tgtEl>
                                        <p:attrNameLst>
                                          <p:attrName>ppt_x</p:attrName>
                                        </p:attrNameLst>
                                      </p:cBhvr>
                                      <p:tavLst>
                                        <p:tav tm="0">
                                          <p:val>
                                            <p:strVal val="0-#ppt_w/2"/>
                                          </p:val>
                                        </p:tav>
                                        <p:tav tm="100000">
                                          <p:val>
                                            <p:strVal val="#ppt_x"/>
                                          </p:val>
                                        </p:tav>
                                      </p:tavLst>
                                    </p:anim>
                                    <p:anim calcmode="lin" valueType="num">
                                      <p:cBhvr additive="base">
                                        <p:cTn id="149" dur="1500" fill="hold"/>
                                        <p:tgtEl>
                                          <p:spTgt spid="1487"/>
                                        </p:tgtEl>
                                        <p:attrNameLst>
                                          <p:attrName>ppt_y</p:attrName>
                                        </p:attrNameLst>
                                      </p:cBhvr>
                                      <p:tavLst>
                                        <p:tav tm="0">
                                          <p:val>
                                            <p:strVal val="#ppt_y"/>
                                          </p:val>
                                        </p:tav>
                                        <p:tav tm="100000">
                                          <p:val>
                                            <p:strVal val="#ppt_y"/>
                                          </p:val>
                                        </p:tav>
                                      </p:tavLst>
                                    </p:anim>
                                    <p:set>
                                      <p:cBhvr>
                                        <p:cTn id="150" dur="1" fill="hold">
                                          <p:stCondLst>
                                            <p:cond delay="0"/>
                                          </p:stCondLst>
                                        </p:cTn>
                                        <p:tgtEl>
                                          <p:spTgt spid="1487"/>
                                        </p:tgtEl>
                                        <p:attrNameLst>
                                          <p:attrName>style.visibility</p:attrName>
                                        </p:attrNameLst>
                                      </p:cBhvr>
                                      <p:to>
                                        <p:strVal val="visible"/>
                                      </p:to>
                                    </p:set>
                                    <p:anim calcmode="lin" valueType="num">
                                      <p:cBhvr additive="repl">
                                        <p:cTn id="151" dur="1500" fill="hold">
                                          <p:stCondLst>
                                            <p:cond delay="0"/>
                                          </p:stCondLst>
                                        </p:cTn>
                                        <p:tgtEl>
                                          <p:spTgt spid="1487"/>
                                        </p:tgtEl>
                                        <p:attrNameLst>
                                          <p:attrName>ppt_w</p:attrName>
                                        </p:attrNameLst>
                                      </p:cBhvr>
                                      <p:tavLst>
                                        <p:tav tm="0">
                                          <p:val>
                                            <p:strVal val="0"/>
                                          </p:val>
                                        </p:tav>
                                        <p:tav tm="100000">
                                          <p:val>
                                            <p:strVal val="#ppt_w"/>
                                          </p:val>
                                        </p:tav>
                                      </p:tavLst>
                                      <p:to>
                                        <p:strVal val=""/>
                                      </p:to>
                                    </p:anim>
                                    <p:anim calcmode="lin" valueType="num">
                                      <p:cBhvr additive="repl">
                                        <p:cTn id="152" dur="1500" fill="hold">
                                          <p:stCondLst>
                                            <p:cond delay="0"/>
                                          </p:stCondLst>
                                        </p:cTn>
                                        <p:tgtEl>
                                          <p:spTgt spid="1487"/>
                                        </p:tgtEl>
                                        <p:attrNameLst>
                                          <p:attrName>ppt_h</p:attrName>
                                        </p:attrNameLst>
                                      </p:cBhvr>
                                      <p:tavLst>
                                        <p:tav tm="0">
                                          <p:val>
                                            <p:strVal val="0"/>
                                          </p:val>
                                        </p:tav>
                                        <p:tav tm="100000">
                                          <p:val>
                                            <p:strVal val="#ppt_h"/>
                                          </p:val>
                                        </p:tav>
                                      </p:tavLst>
                                      <p:to>
                                        <p:strVal val=""/>
                                      </p:to>
                                    </p:anim>
                                    <p:animEffect filter="fade" transition="in">
                                      <p:cBhvr additive="repl">
                                        <p:cTn id="153" dur="1500">
                                          <p:stCondLst>
                                            <p:cond delay="0"/>
                                          </p:stCondLst>
                                        </p:cTn>
                                        <p:tgtEl>
                                          <p:spTgt spid="1487"/>
                                        </p:tgtEl>
                                      </p:cBhvr>
                                    </p:animEffect>
                                  </p:childTnLst>
                                </p:cTn>
                              </p:par>
                              <p:par>
                                <p:cTn id="154" nodeType="withEffect" fill="hold" presetClass="entr" presetID="2" presetSubtype="8">
                                  <p:stCondLst>
                                    <p:cond delay="250"/>
                                  </p:stCondLst>
                                  <p:childTnLst>
                                    <p:set>
                                      <p:cBhvr>
                                        <p:cTn id="155" dur="1" fill="hold">
                                          <p:stCondLst>
                                            <p:cond delay="0"/>
                                          </p:stCondLst>
                                        </p:cTn>
                                        <p:tgtEl>
                                          <p:spTgt spid="1488"/>
                                        </p:tgtEl>
                                        <p:attrNameLst>
                                          <p:attrName>style.visibility</p:attrName>
                                        </p:attrNameLst>
                                      </p:cBhvr>
                                      <p:to>
                                        <p:strVal val="visible"/>
                                      </p:to>
                                    </p:set>
                                    <p:anim calcmode="lin" valueType="num">
                                      <p:cBhvr additive="base">
                                        <p:cTn id="156" dur="1500" fill="hold"/>
                                        <p:tgtEl>
                                          <p:spTgt spid="1488"/>
                                        </p:tgtEl>
                                        <p:attrNameLst>
                                          <p:attrName>ppt_x</p:attrName>
                                        </p:attrNameLst>
                                      </p:cBhvr>
                                      <p:tavLst>
                                        <p:tav tm="0">
                                          <p:val>
                                            <p:strVal val="0-#ppt_w/2"/>
                                          </p:val>
                                        </p:tav>
                                        <p:tav tm="100000">
                                          <p:val>
                                            <p:strVal val="#ppt_x"/>
                                          </p:val>
                                        </p:tav>
                                      </p:tavLst>
                                    </p:anim>
                                    <p:anim calcmode="lin" valueType="num">
                                      <p:cBhvr additive="base">
                                        <p:cTn id="157" dur="1500" fill="hold"/>
                                        <p:tgtEl>
                                          <p:spTgt spid="1488"/>
                                        </p:tgtEl>
                                        <p:attrNameLst>
                                          <p:attrName>ppt_y</p:attrName>
                                        </p:attrNameLst>
                                      </p:cBhvr>
                                      <p:tavLst>
                                        <p:tav tm="0">
                                          <p:val>
                                            <p:strVal val="#ppt_y"/>
                                          </p:val>
                                        </p:tav>
                                        <p:tav tm="100000">
                                          <p:val>
                                            <p:strVal val="#ppt_y"/>
                                          </p:val>
                                        </p:tav>
                                      </p:tavLst>
                                    </p:anim>
                                    <p:set>
                                      <p:cBhvr>
                                        <p:cTn id="158" dur="1" fill="hold">
                                          <p:stCondLst>
                                            <p:cond delay="0"/>
                                          </p:stCondLst>
                                        </p:cTn>
                                        <p:tgtEl>
                                          <p:spTgt spid="1488"/>
                                        </p:tgtEl>
                                        <p:attrNameLst>
                                          <p:attrName>style.visibility</p:attrName>
                                        </p:attrNameLst>
                                      </p:cBhvr>
                                      <p:to>
                                        <p:strVal val="visible"/>
                                      </p:to>
                                    </p:set>
                                    <p:anim calcmode="lin" valueType="num">
                                      <p:cBhvr additive="repl">
                                        <p:cTn id="159" dur="1500" fill="hold">
                                          <p:stCondLst>
                                            <p:cond delay="0"/>
                                          </p:stCondLst>
                                        </p:cTn>
                                        <p:tgtEl>
                                          <p:spTgt spid="1488"/>
                                        </p:tgtEl>
                                        <p:attrNameLst>
                                          <p:attrName>ppt_w</p:attrName>
                                        </p:attrNameLst>
                                      </p:cBhvr>
                                      <p:tavLst>
                                        <p:tav tm="0">
                                          <p:val>
                                            <p:strVal val="0"/>
                                          </p:val>
                                        </p:tav>
                                        <p:tav tm="100000">
                                          <p:val>
                                            <p:strVal val="#ppt_w"/>
                                          </p:val>
                                        </p:tav>
                                      </p:tavLst>
                                      <p:to>
                                        <p:strVal val=""/>
                                      </p:to>
                                    </p:anim>
                                    <p:anim calcmode="lin" valueType="num">
                                      <p:cBhvr additive="repl">
                                        <p:cTn id="160" dur="1500" fill="hold">
                                          <p:stCondLst>
                                            <p:cond delay="0"/>
                                          </p:stCondLst>
                                        </p:cTn>
                                        <p:tgtEl>
                                          <p:spTgt spid="1488"/>
                                        </p:tgtEl>
                                        <p:attrNameLst>
                                          <p:attrName>ppt_h</p:attrName>
                                        </p:attrNameLst>
                                      </p:cBhvr>
                                      <p:tavLst>
                                        <p:tav tm="0">
                                          <p:val>
                                            <p:strVal val="0"/>
                                          </p:val>
                                        </p:tav>
                                        <p:tav tm="100000">
                                          <p:val>
                                            <p:strVal val="#ppt_h"/>
                                          </p:val>
                                        </p:tav>
                                      </p:tavLst>
                                      <p:to>
                                        <p:strVal val=""/>
                                      </p:to>
                                    </p:anim>
                                    <p:animEffect filter="fade" transition="in">
                                      <p:cBhvr additive="repl">
                                        <p:cTn id="161" dur="1500">
                                          <p:stCondLst>
                                            <p:cond delay="0"/>
                                          </p:stCondLst>
                                        </p:cTn>
                                        <p:tgtEl>
                                          <p:spTgt spid="1488"/>
                                        </p:tgtEl>
                                      </p:cBhvr>
                                    </p:animEffect>
                                  </p:childTnLst>
                                </p:cTn>
                              </p:par>
                              <p:par>
                                <p:cTn id="162" nodeType="withEffect" fill="hold" presetClass="entr" presetID="2" presetSubtype="8">
                                  <p:stCondLst>
                                    <p:cond delay="250"/>
                                  </p:stCondLst>
                                  <p:endCondLst>
                                    <p:cond evt="begin"/>
                                  </p:endCondLst>
                                  <p:childTnLst>
                                    <p:set>
                                      <p:cBhvr>
                                        <p:cTn id="163" dur="1" fill="hold">
                                          <p:stCondLst>
                                            <p:cond delay="0"/>
                                          </p:stCondLst>
                                        </p:cTn>
                                        <p:tgtEl>
                                          <p:spTgt spid="1489"/>
                                        </p:tgtEl>
                                        <p:attrNameLst>
                                          <p:attrName>style.visibility</p:attrName>
                                        </p:attrNameLst>
                                      </p:cBhvr>
                                      <p:to>
                                        <p:strVal val="visible"/>
                                      </p:to>
                                    </p:set>
                                    <p:anim calcmode="lin" valueType="num">
                                      <p:cBhvr additive="base">
                                        <p:cTn id="164" dur="1500" fill="hold"/>
                                        <p:tgtEl>
                                          <p:spTgt spid="1489"/>
                                        </p:tgtEl>
                                        <p:attrNameLst>
                                          <p:attrName>ppt_x</p:attrName>
                                        </p:attrNameLst>
                                      </p:cBhvr>
                                      <p:tavLst>
                                        <p:tav tm="0">
                                          <p:val>
                                            <p:strVal val="0-#ppt_w/2"/>
                                          </p:val>
                                        </p:tav>
                                        <p:tav tm="100000">
                                          <p:val>
                                            <p:strVal val="#ppt_x"/>
                                          </p:val>
                                        </p:tav>
                                      </p:tavLst>
                                    </p:anim>
                                    <p:anim calcmode="lin" valueType="num">
                                      <p:cBhvr additive="base">
                                        <p:cTn id="165" dur="1500" fill="hold"/>
                                        <p:tgtEl>
                                          <p:spTgt spid="1489"/>
                                        </p:tgtEl>
                                        <p:attrNameLst>
                                          <p:attrName>ppt_y</p:attrName>
                                        </p:attrNameLst>
                                      </p:cBhvr>
                                      <p:tavLst>
                                        <p:tav tm="0">
                                          <p:val>
                                            <p:strVal val="#ppt_y"/>
                                          </p:val>
                                        </p:tav>
                                        <p:tav tm="100000">
                                          <p:val>
                                            <p:strVal val="#ppt_y"/>
                                          </p:val>
                                        </p:tav>
                                      </p:tavLst>
                                    </p:anim>
                                    <p:set>
                                      <p:cBhvr>
                                        <p:cTn id="166" dur="1" fill="hold">
                                          <p:stCondLst>
                                            <p:cond delay="0"/>
                                          </p:stCondLst>
                                        </p:cTn>
                                        <p:tgtEl>
                                          <p:spTgt spid="1489"/>
                                        </p:tgtEl>
                                        <p:attrNameLst>
                                          <p:attrName>style.visibility</p:attrName>
                                        </p:attrNameLst>
                                      </p:cBhvr>
                                      <p:to>
                                        <p:strVal val="visible"/>
                                      </p:to>
                                    </p:set>
                                    <p:anim calcmode="lin" valueType="num">
                                      <p:cBhvr additive="repl">
                                        <p:cTn id="167" dur="1500" fill="hold">
                                          <p:stCondLst>
                                            <p:cond delay="0"/>
                                          </p:stCondLst>
                                        </p:cTn>
                                        <p:tgtEl>
                                          <p:spTgt spid="1489"/>
                                        </p:tgtEl>
                                        <p:attrNameLst>
                                          <p:attrName>ppt_w</p:attrName>
                                        </p:attrNameLst>
                                      </p:cBhvr>
                                      <p:tavLst>
                                        <p:tav tm="0">
                                          <p:val>
                                            <p:strVal val="0"/>
                                          </p:val>
                                        </p:tav>
                                        <p:tav tm="100000">
                                          <p:val>
                                            <p:strVal val="#ppt_w"/>
                                          </p:val>
                                        </p:tav>
                                      </p:tavLst>
                                      <p:to>
                                        <p:strVal val=""/>
                                      </p:to>
                                    </p:anim>
                                    <p:anim calcmode="lin" valueType="num">
                                      <p:cBhvr additive="repl">
                                        <p:cTn id="168" dur="1500" fill="hold">
                                          <p:stCondLst>
                                            <p:cond delay="0"/>
                                          </p:stCondLst>
                                        </p:cTn>
                                        <p:tgtEl>
                                          <p:spTgt spid="1489"/>
                                        </p:tgtEl>
                                        <p:attrNameLst>
                                          <p:attrName>ppt_h</p:attrName>
                                        </p:attrNameLst>
                                      </p:cBhvr>
                                      <p:tavLst>
                                        <p:tav tm="0">
                                          <p:val>
                                            <p:strVal val="0"/>
                                          </p:val>
                                        </p:tav>
                                        <p:tav tm="100000">
                                          <p:val>
                                            <p:strVal val="#ppt_h"/>
                                          </p:val>
                                        </p:tav>
                                      </p:tavLst>
                                      <p:to>
                                        <p:strVal val=""/>
                                      </p:to>
                                    </p:anim>
                                    <p:animEffect filter="fade" transition="in">
                                      <p:cBhvr additive="repl">
                                        <p:cTn id="169" dur="1500">
                                          <p:stCondLst>
                                            <p:cond delay="0"/>
                                          </p:stCondLst>
                                        </p:cTn>
                                        <p:tgtEl>
                                          <p:spTgt spid="1489"/>
                                        </p:tgtEl>
                                      </p:cBhvr>
                                    </p:animEffect>
                                  </p:childTnLst>
                                </p:cTn>
                              </p:par>
                              <p:par>
                                <p:cTn id="170" nodeType="withEffect" fill="hold" presetClass="entr" presetID="2" presetSubtype="8">
                                  <p:stCondLst>
                                    <p:cond delay="250"/>
                                  </p:stCondLst>
                                  <p:endCondLst>
                                    <p:cond evt="begin"/>
                                  </p:endCondLst>
                                  <p:childTnLst>
                                    <p:set>
                                      <p:cBhvr>
                                        <p:cTn id="171" dur="1" fill="hold">
                                          <p:stCondLst>
                                            <p:cond delay="0"/>
                                          </p:stCondLst>
                                        </p:cTn>
                                        <p:tgtEl>
                                          <p:spTgt spid="1492"/>
                                        </p:tgtEl>
                                        <p:attrNameLst>
                                          <p:attrName>style.visibility</p:attrName>
                                        </p:attrNameLst>
                                      </p:cBhvr>
                                      <p:to>
                                        <p:strVal val="visible"/>
                                      </p:to>
                                    </p:set>
                                    <p:anim calcmode="lin" valueType="num">
                                      <p:cBhvr additive="base">
                                        <p:cTn id="172" dur="1500" fill="hold"/>
                                        <p:tgtEl>
                                          <p:spTgt spid="1492"/>
                                        </p:tgtEl>
                                        <p:attrNameLst>
                                          <p:attrName>ppt_x</p:attrName>
                                        </p:attrNameLst>
                                      </p:cBhvr>
                                      <p:tavLst>
                                        <p:tav tm="0">
                                          <p:val>
                                            <p:strVal val="0-#ppt_w/2"/>
                                          </p:val>
                                        </p:tav>
                                        <p:tav tm="100000">
                                          <p:val>
                                            <p:strVal val="#ppt_x"/>
                                          </p:val>
                                        </p:tav>
                                      </p:tavLst>
                                    </p:anim>
                                    <p:anim calcmode="lin" valueType="num">
                                      <p:cBhvr additive="base">
                                        <p:cTn id="173" dur="1500" fill="hold"/>
                                        <p:tgtEl>
                                          <p:spTgt spid="1492"/>
                                        </p:tgtEl>
                                        <p:attrNameLst>
                                          <p:attrName>ppt_y</p:attrName>
                                        </p:attrNameLst>
                                      </p:cBhvr>
                                      <p:tavLst>
                                        <p:tav tm="0">
                                          <p:val>
                                            <p:strVal val="#ppt_y"/>
                                          </p:val>
                                        </p:tav>
                                        <p:tav tm="100000">
                                          <p:val>
                                            <p:strVal val="#ppt_y"/>
                                          </p:val>
                                        </p:tav>
                                      </p:tavLst>
                                    </p:anim>
                                    <p:set>
                                      <p:cBhvr>
                                        <p:cTn id="174" dur="1" fill="hold">
                                          <p:stCondLst>
                                            <p:cond delay="0"/>
                                          </p:stCondLst>
                                        </p:cTn>
                                        <p:tgtEl>
                                          <p:spTgt spid="1492"/>
                                        </p:tgtEl>
                                        <p:attrNameLst>
                                          <p:attrName>style.visibility</p:attrName>
                                        </p:attrNameLst>
                                      </p:cBhvr>
                                      <p:to>
                                        <p:strVal val="visible"/>
                                      </p:to>
                                    </p:set>
                                    <p:anim calcmode="lin" valueType="num">
                                      <p:cBhvr additive="repl">
                                        <p:cTn id="175" dur="1500" fill="hold">
                                          <p:stCondLst>
                                            <p:cond delay="0"/>
                                          </p:stCondLst>
                                        </p:cTn>
                                        <p:tgtEl>
                                          <p:spTgt spid="1492"/>
                                        </p:tgtEl>
                                        <p:attrNameLst>
                                          <p:attrName>ppt_w</p:attrName>
                                        </p:attrNameLst>
                                      </p:cBhvr>
                                      <p:tavLst>
                                        <p:tav tm="0">
                                          <p:val>
                                            <p:strVal val="0"/>
                                          </p:val>
                                        </p:tav>
                                        <p:tav tm="100000">
                                          <p:val>
                                            <p:strVal val="#ppt_w"/>
                                          </p:val>
                                        </p:tav>
                                      </p:tavLst>
                                      <p:to>
                                        <p:strVal val=""/>
                                      </p:to>
                                    </p:anim>
                                    <p:anim calcmode="lin" valueType="num">
                                      <p:cBhvr additive="repl">
                                        <p:cTn id="176" dur="1500" fill="hold">
                                          <p:stCondLst>
                                            <p:cond delay="0"/>
                                          </p:stCondLst>
                                        </p:cTn>
                                        <p:tgtEl>
                                          <p:spTgt spid="1492"/>
                                        </p:tgtEl>
                                        <p:attrNameLst>
                                          <p:attrName>ppt_h</p:attrName>
                                        </p:attrNameLst>
                                      </p:cBhvr>
                                      <p:tavLst>
                                        <p:tav tm="0">
                                          <p:val>
                                            <p:strVal val="0"/>
                                          </p:val>
                                        </p:tav>
                                        <p:tav tm="100000">
                                          <p:val>
                                            <p:strVal val="#ppt_h"/>
                                          </p:val>
                                        </p:tav>
                                      </p:tavLst>
                                      <p:to>
                                        <p:strVal val=""/>
                                      </p:to>
                                    </p:anim>
                                    <p:animEffect filter="fade" transition="in">
                                      <p:cBhvr additive="repl">
                                        <p:cTn id="177" dur="1500">
                                          <p:stCondLst>
                                            <p:cond delay="0"/>
                                          </p:stCondLst>
                                        </p:cTn>
                                        <p:tgtEl>
                                          <p:spTgt spid="1492"/>
                                        </p:tgtEl>
                                      </p:cBhvr>
                                    </p:animEffect>
                                  </p:childTnLst>
                                </p:cTn>
                              </p:par>
                              <p:par>
                                <p:cTn id="178" nodeType="withEffect" fill="hold" presetClass="entr" presetID="2" presetSubtype="8">
                                  <p:stCondLst>
                                    <p:cond delay="250"/>
                                  </p:stCondLst>
                                  <p:endCondLst>
                                    <p:cond evt="begin"/>
                                  </p:endCondLst>
                                  <p:childTnLst>
                                    <p:set>
                                      <p:cBhvr>
                                        <p:cTn id="179" dur="1" fill="hold">
                                          <p:stCondLst>
                                            <p:cond delay="0"/>
                                          </p:stCondLst>
                                        </p:cTn>
                                        <p:tgtEl>
                                          <p:spTgt spid="1494"/>
                                        </p:tgtEl>
                                        <p:attrNameLst>
                                          <p:attrName>style.visibility</p:attrName>
                                        </p:attrNameLst>
                                      </p:cBhvr>
                                      <p:to>
                                        <p:strVal val="visible"/>
                                      </p:to>
                                    </p:set>
                                    <p:anim calcmode="lin" valueType="num">
                                      <p:cBhvr additive="base">
                                        <p:cTn id="180" dur="1500" fill="hold"/>
                                        <p:tgtEl>
                                          <p:spTgt spid="1494"/>
                                        </p:tgtEl>
                                        <p:attrNameLst>
                                          <p:attrName>ppt_x</p:attrName>
                                        </p:attrNameLst>
                                      </p:cBhvr>
                                      <p:tavLst>
                                        <p:tav tm="0">
                                          <p:val>
                                            <p:strVal val="0-#ppt_w/2"/>
                                          </p:val>
                                        </p:tav>
                                        <p:tav tm="100000">
                                          <p:val>
                                            <p:strVal val="#ppt_x"/>
                                          </p:val>
                                        </p:tav>
                                      </p:tavLst>
                                    </p:anim>
                                    <p:anim calcmode="lin" valueType="num">
                                      <p:cBhvr additive="base">
                                        <p:cTn id="181" dur="1500" fill="hold"/>
                                        <p:tgtEl>
                                          <p:spTgt spid="1494"/>
                                        </p:tgtEl>
                                        <p:attrNameLst>
                                          <p:attrName>ppt_y</p:attrName>
                                        </p:attrNameLst>
                                      </p:cBhvr>
                                      <p:tavLst>
                                        <p:tav tm="0">
                                          <p:val>
                                            <p:strVal val="#ppt_y"/>
                                          </p:val>
                                        </p:tav>
                                        <p:tav tm="100000">
                                          <p:val>
                                            <p:strVal val="#ppt_y"/>
                                          </p:val>
                                        </p:tav>
                                      </p:tavLst>
                                    </p:anim>
                                    <p:set>
                                      <p:cBhvr>
                                        <p:cTn id="182" dur="1" fill="hold">
                                          <p:stCondLst>
                                            <p:cond delay="0"/>
                                          </p:stCondLst>
                                        </p:cTn>
                                        <p:tgtEl>
                                          <p:spTgt spid="1494"/>
                                        </p:tgtEl>
                                        <p:attrNameLst>
                                          <p:attrName>style.visibility</p:attrName>
                                        </p:attrNameLst>
                                      </p:cBhvr>
                                      <p:to>
                                        <p:strVal val="visible"/>
                                      </p:to>
                                    </p:set>
                                    <p:anim calcmode="lin" valueType="num">
                                      <p:cBhvr additive="repl">
                                        <p:cTn id="183" dur="1500" fill="hold">
                                          <p:stCondLst>
                                            <p:cond delay="0"/>
                                          </p:stCondLst>
                                        </p:cTn>
                                        <p:tgtEl>
                                          <p:spTgt spid="1494"/>
                                        </p:tgtEl>
                                        <p:attrNameLst>
                                          <p:attrName>ppt_w</p:attrName>
                                        </p:attrNameLst>
                                      </p:cBhvr>
                                      <p:tavLst>
                                        <p:tav tm="0">
                                          <p:val>
                                            <p:strVal val="0"/>
                                          </p:val>
                                        </p:tav>
                                        <p:tav tm="100000">
                                          <p:val>
                                            <p:strVal val="#ppt_w"/>
                                          </p:val>
                                        </p:tav>
                                      </p:tavLst>
                                      <p:to>
                                        <p:strVal val=""/>
                                      </p:to>
                                    </p:anim>
                                    <p:anim calcmode="lin" valueType="num">
                                      <p:cBhvr additive="repl">
                                        <p:cTn id="184" dur="1500" fill="hold">
                                          <p:stCondLst>
                                            <p:cond delay="0"/>
                                          </p:stCondLst>
                                        </p:cTn>
                                        <p:tgtEl>
                                          <p:spTgt spid="1494"/>
                                        </p:tgtEl>
                                        <p:attrNameLst>
                                          <p:attrName>ppt_h</p:attrName>
                                        </p:attrNameLst>
                                      </p:cBhvr>
                                      <p:tavLst>
                                        <p:tav tm="0">
                                          <p:val>
                                            <p:strVal val="0"/>
                                          </p:val>
                                        </p:tav>
                                        <p:tav tm="100000">
                                          <p:val>
                                            <p:strVal val="#ppt_h"/>
                                          </p:val>
                                        </p:tav>
                                      </p:tavLst>
                                      <p:to>
                                        <p:strVal val=""/>
                                      </p:to>
                                    </p:anim>
                                    <p:animEffect filter="fade" transition="in">
                                      <p:cBhvr additive="repl">
                                        <p:cTn id="185" dur="1500">
                                          <p:stCondLst>
                                            <p:cond delay="0"/>
                                          </p:stCondLst>
                                        </p:cTn>
                                        <p:tgtEl>
                                          <p:spTgt spid="1494"/>
                                        </p:tgtEl>
                                      </p:cBhvr>
                                    </p:animEffect>
                                  </p:childTnLst>
                                </p:cTn>
                              </p:par>
                              <p:par>
                                <p:cTn id="186" nodeType="withEffect" fill="hold" presetClass="entr" presetID="2" presetSubtype="8">
                                  <p:stCondLst>
                                    <p:cond delay="0"/>
                                  </p:stCondLst>
                                  <p:childTnLst>
                                    <p:set>
                                      <p:cBhvr>
                                        <p:cTn id="187" dur="1" fill="hold">
                                          <p:stCondLst>
                                            <p:cond delay="0"/>
                                          </p:stCondLst>
                                        </p:cTn>
                                        <p:tgtEl>
                                          <p:spTgt spid="1497"/>
                                        </p:tgtEl>
                                        <p:attrNameLst>
                                          <p:attrName>style.visibility</p:attrName>
                                        </p:attrNameLst>
                                      </p:cBhvr>
                                      <p:to>
                                        <p:strVal val="visible"/>
                                      </p:to>
                                    </p:set>
                                    <p:anim calcmode="lin" valueType="num">
                                      <p:cBhvr additive="base">
                                        <p:cTn id="188" dur="500" fill="hold"/>
                                        <p:tgtEl>
                                          <p:spTgt spid="1497"/>
                                        </p:tgtEl>
                                        <p:attrNameLst>
                                          <p:attrName>ppt_x</p:attrName>
                                        </p:attrNameLst>
                                      </p:cBhvr>
                                      <p:tavLst>
                                        <p:tav tm="0">
                                          <p:val>
                                            <p:strVal val="0-#ppt_w/2"/>
                                          </p:val>
                                        </p:tav>
                                        <p:tav tm="100000">
                                          <p:val>
                                            <p:strVal val="#ppt_x"/>
                                          </p:val>
                                        </p:tav>
                                      </p:tavLst>
                                    </p:anim>
                                    <p:anim calcmode="lin" valueType="num">
                                      <p:cBhvr additive="base">
                                        <p:cTn id="189" dur="500" fill="hold"/>
                                        <p:tgtEl>
                                          <p:spTgt spid="1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A_库_椭圆 23"/>
          <p:cNvSpPr/>
          <p:nvPr/>
        </p:nvSpPr>
        <p:spPr>
          <a:xfrm>
            <a:off x="665280" y="4073400"/>
            <a:ext cx="561960" cy="561960"/>
          </a:xfrm>
          <a:prstGeom prst="ellipse">
            <a:avLst/>
          </a:prstGeom>
          <a:solidFill>
            <a:srgbClr val="badb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99" name="PA_库_副标题 2"/>
          <p:cNvSpPr/>
          <p:nvPr/>
        </p:nvSpPr>
        <p:spPr>
          <a:xfrm>
            <a:off x="1236600" y="1990800"/>
            <a:ext cx="6443640" cy="5679000"/>
          </a:xfrm>
          <a:prstGeom prst="rect">
            <a:avLst/>
          </a:prstGeom>
          <a:noFill/>
          <a:ln w="0">
            <a:noFill/>
          </a:ln>
        </p:spPr>
        <p:style>
          <a:lnRef idx="0"/>
          <a:fillRef idx="0"/>
          <a:effectRef idx="0"/>
          <a:fontRef idx="minor"/>
        </p:style>
        <p:txBody>
          <a:bodyPr lIns="108720" rIns="108720" tIns="54360" bIns="54360" anchor="t">
            <a:spAutoFit/>
          </a:bodyPr>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400" spc="-1" strike="noStrike">
                <a:solidFill>
                  <a:srgbClr val="ff0000"/>
                </a:solidFill>
                <a:latin typeface="等线"/>
                <a:ea typeface="宋体"/>
              </a:rPr>
              <a:t>2</a:t>
            </a:r>
            <a:r>
              <a:rPr b="0" lang="zh-CN" sz="2400" spc="-1" strike="noStrike">
                <a:solidFill>
                  <a:srgbClr val="ff0000"/>
                </a:solidFill>
                <a:latin typeface="等线"/>
                <a:ea typeface="等线"/>
              </a:rPr>
              <a:t>、扣除方式：</a:t>
            </a: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受教育子女的父母分别按照扣除标准的</a:t>
            </a:r>
            <a:r>
              <a:rPr b="0" lang="en-US" sz="2000" spc="-1" strike="noStrike">
                <a:solidFill>
                  <a:srgbClr val="262626"/>
                </a:solidFill>
                <a:latin typeface="等线"/>
                <a:ea typeface="等线"/>
              </a:rPr>
              <a:t>50%</a:t>
            </a:r>
            <a:r>
              <a:rPr b="0" lang="zh-CN" sz="2000" spc="-1" strike="noStrike">
                <a:solidFill>
                  <a:srgbClr val="262626"/>
                </a:solidFill>
                <a:latin typeface="等线"/>
                <a:ea typeface="等线"/>
              </a:rPr>
              <a:t>扣除；经父</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母约定，也可以选择由其中一方按扣除标准</a:t>
            </a:r>
            <a:r>
              <a:rPr b="0" lang="en-US" sz="2000" spc="-1" strike="noStrike">
                <a:solidFill>
                  <a:srgbClr val="262626"/>
                </a:solidFill>
                <a:latin typeface="等线"/>
                <a:ea typeface="等线"/>
              </a:rPr>
              <a:t>100%</a:t>
            </a:r>
            <a:r>
              <a:rPr b="0" lang="zh-CN" sz="2000" spc="-1" strike="noStrike">
                <a:solidFill>
                  <a:srgbClr val="262626"/>
                </a:solidFill>
                <a:latin typeface="等线"/>
                <a:ea typeface="等线"/>
              </a:rPr>
              <a:t>扣除。</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具体扣除方式在一个纳税年度内不得变更。</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父母：生父母、继父母、养父母。</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子女：婚生子女、非婚生子女、继子女、养子女。父母</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之外的其他人担任未成年人的监护人的，比照本办法规</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定执行。</a:t>
            </a:r>
            <a:endParaRPr b="0" lang="en-US" sz="20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400" spc="-1" strike="noStrike">
                <a:solidFill>
                  <a:srgbClr val="ff0000"/>
                </a:solidFill>
                <a:latin typeface="Open Sans Light"/>
                <a:ea typeface="等线"/>
              </a:rPr>
              <a:t> </a:t>
            </a:r>
            <a:r>
              <a:rPr b="0" lang="en-US" sz="2400" spc="-1" strike="noStrike">
                <a:solidFill>
                  <a:srgbClr val="ff0000"/>
                </a:solidFill>
                <a:latin typeface="Open Sans Light"/>
                <a:ea typeface="等线"/>
              </a:rPr>
              <a:t>3</a:t>
            </a:r>
            <a:r>
              <a:rPr b="0" lang="zh-CN" sz="2400" spc="-1" strike="noStrike">
                <a:solidFill>
                  <a:srgbClr val="ff0000"/>
                </a:solidFill>
                <a:latin typeface="Open Sans Light"/>
                <a:ea typeface="等线"/>
              </a:rPr>
              <a:t>、扣除凭证：</a:t>
            </a: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r>
              <a:rPr b="0" lang="zh-CN" sz="2000" spc="-1" strike="noStrike">
                <a:solidFill>
                  <a:srgbClr val="262626"/>
                </a:solidFill>
                <a:latin typeface="等线"/>
                <a:ea typeface="等线"/>
              </a:rPr>
              <a:t>扣除时，不需要另行提供资料。</a:t>
            </a: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499"/>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0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a:p>
            <a:pPr>
              <a:lnSpc>
                <a:spcPts val="1324"/>
              </a:lnSpc>
              <a:spcBef>
                <a:spcPts val="601"/>
              </a:spcBef>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400" spc="-1" strike="noStrike">
              <a:solidFill>
                <a:srgbClr val="262626"/>
              </a:solidFill>
              <a:latin typeface="Arial"/>
            </a:endParaRPr>
          </a:p>
        </p:txBody>
      </p:sp>
      <p:sp>
        <p:nvSpPr>
          <p:cNvPr id="1500" name="PA_库_文本框 25"/>
          <p:cNvSpPr/>
          <p:nvPr/>
        </p:nvSpPr>
        <p:spPr>
          <a:xfrm>
            <a:off x="1162080" y="1276920"/>
            <a:ext cx="6032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造字工房尚雅（非商用）常规体"/>
                <a:ea typeface="造字工房尚雅（非商用）常规体"/>
              </a:rPr>
              <a:t>（一）子女教育专项附加扣除</a:t>
            </a:r>
            <a:endParaRPr b="0" lang="en-US" sz="2800" spc="-1" strike="noStrike">
              <a:solidFill>
                <a:srgbClr val="262626"/>
              </a:solidFill>
              <a:latin typeface="Arial"/>
            </a:endParaRPr>
          </a:p>
        </p:txBody>
      </p:sp>
      <p:sp>
        <p:nvSpPr>
          <p:cNvPr id="1501" name="PA_库_椭圆 26"/>
          <p:cNvSpPr/>
          <p:nvPr/>
        </p:nvSpPr>
        <p:spPr>
          <a:xfrm>
            <a:off x="633240" y="1457280"/>
            <a:ext cx="560520" cy="560520"/>
          </a:xfrm>
          <a:prstGeom prst="ellipse">
            <a:avLst/>
          </a:prstGeom>
          <a:solidFill>
            <a:srgbClr val="75cf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502" name="PA_库_形状 2629"/>
          <p:cNvSpPr/>
          <p:nvPr/>
        </p:nvSpPr>
        <p:spPr>
          <a:xfrm>
            <a:off x="768240" y="1609560"/>
            <a:ext cx="279360" cy="279720"/>
          </a:xfrm>
          <a:custGeom>
            <a:avLst/>
            <a:gdLst/>
            <a:ahLst/>
            <a:rect l="l" t="t" r="r" b="b"/>
            <a:pathLst>
              <a:path w="21600" h="21600">
                <a:moveTo>
                  <a:pt x="16441" y="20618"/>
                </a:moveTo>
                <a:cubicBezTo>
                  <a:pt x="15826" y="20618"/>
                  <a:pt x="15226" y="20482"/>
                  <a:pt x="14660" y="20214"/>
                </a:cubicBezTo>
                <a:cubicBezTo>
                  <a:pt x="14607" y="20189"/>
                  <a:pt x="14552" y="20170"/>
                  <a:pt x="14497" y="20155"/>
                </a:cubicBezTo>
                <a:cubicBezTo>
                  <a:pt x="8918" y="17308"/>
                  <a:pt x="4295" y="12685"/>
                  <a:pt x="1448" y="7105"/>
                </a:cubicBezTo>
                <a:cubicBezTo>
                  <a:pt x="1432" y="7048"/>
                  <a:pt x="1412" y="6991"/>
                  <a:pt x="1386" y="6936"/>
                </a:cubicBezTo>
                <a:cubicBezTo>
                  <a:pt x="1117" y="6369"/>
                  <a:pt x="982" y="5770"/>
                  <a:pt x="982" y="5155"/>
                </a:cubicBezTo>
                <a:cubicBezTo>
                  <a:pt x="982" y="2774"/>
                  <a:pt x="3066" y="982"/>
                  <a:pt x="4417" y="982"/>
                </a:cubicBezTo>
                <a:cubicBezTo>
                  <a:pt x="4594" y="982"/>
                  <a:pt x="4711" y="1072"/>
                  <a:pt x="4764" y="1126"/>
                </a:cubicBezTo>
                <a:cubicBezTo>
                  <a:pt x="4776" y="1139"/>
                  <a:pt x="4798" y="1164"/>
                  <a:pt x="4831" y="1216"/>
                </a:cubicBezTo>
                <a:cubicBezTo>
                  <a:pt x="4848" y="1244"/>
                  <a:pt x="4867" y="1271"/>
                  <a:pt x="4887" y="1297"/>
                </a:cubicBezTo>
                <a:lnTo>
                  <a:pt x="8118" y="5453"/>
                </a:lnTo>
                <a:cubicBezTo>
                  <a:pt x="8143" y="5485"/>
                  <a:pt x="8170" y="5515"/>
                  <a:pt x="8199" y="5544"/>
                </a:cubicBezTo>
                <a:cubicBezTo>
                  <a:pt x="8253" y="5598"/>
                  <a:pt x="8343" y="5715"/>
                  <a:pt x="8343" y="5891"/>
                </a:cubicBezTo>
                <a:cubicBezTo>
                  <a:pt x="8343" y="5978"/>
                  <a:pt x="8319" y="6060"/>
                  <a:pt x="8272" y="6135"/>
                </a:cubicBezTo>
                <a:lnTo>
                  <a:pt x="7178" y="7221"/>
                </a:lnTo>
                <a:cubicBezTo>
                  <a:pt x="7173" y="7226"/>
                  <a:pt x="7168" y="7231"/>
                  <a:pt x="7163" y="7236"/>
                </a:cubicBezTo>
                <a:cubicBezTo>
                  <a:pt x="6767" y="7609"/>
                  <a:pt x="6541" y="8126"/>
                  <a:pt x="6541" y="8668"/>
                </a:cubicBezTo>
                <a:cubicBezTo>
                  <a:pt x="6541" y="9175"/>
                  <a:pt x="6738" y="9658"/>
                  <a:pt x="7080" y="10020"/>
                </a:cubicBezTo>
                <a:cubicBezTo>
                  <a:pt x="7092" y="10040"/>
                  <a:pt x="7105" y="10059"/>
                  <a:pt x="7119" y="10078"/>
                </a:cubicBezTo>
                <a:cubicBezTo>
                  <a:pt x="8325" y="11745"/>
                  <a:pt x="9807" y="13222"/>
                  <a:pt x="11525" y="14469"/>
                </a:cubicBezTo>
                <a:cubicBezTo>
                  <a:pt x="11538" y="14478"/>
                  <a:pt x="11551" y="14487"/>
                  <a:pt x="11565" y="14496"/>
                </a:cubicBezTo>
                <a:cubicBezTo>
                  <a:pt x="11928" y="14844"/>
                  <a:pt x="12414" y="15045"/>
                  <a:pt x="12924" y="15045"/>
                </a:cubicBezTo>
                <a:cubicBezTo>
                  <a:pt x="13436" y="15045"/>
                  <a:pt x="13930" y="14840"/>
                  <a:pt x="14297" y="14479"/>
                </a:cubicBezTo>
                <a:cubicBezTo>
                  <a:pt x="14316" y="14463"/>
                  <a:pt x="14335" y="14446"/>
                  <a:pt x="14352" y="14427"/>
                </a:cubicBezTo>
                <a:lnTo>
                  <a:pt x="15451" y="13320"/>
                </a:lnTo>
                <a:cubicBezTo>
                  <a:pt x="15529" y="13271"/>
                  <a:pt x="15611" y="13247"/>
                  <a:pt x="15697" y="13247"/>
                </a:cubicBezTo>
                <a:cubicBezTo>
                  <a:pt x="15874" y="13247"/>
                  <a:pt x="15990" y="13337"/>
                  <a:pt x="16044" y="13391"/>
                </a:cubicBezTo>
                <a:cubicBezTo>
                  <a:pt x="16073" y="13420"/>
                  <a:pt x="16103" y="13447"/>
                  <a:pt x="16135" y="13472"/>
                </a:cubicBezTo>
                <a:lnTo>
                  <a:pt x="20291" y="16704"/>
                </a:lnTo>
                <a:cubicBezTo>
                  <a:pt x="20317" y="16725"/>
                  <a:pt x="20345" y="16744"/>
                  <a:pt x="20374" y="16762"/>
                </a:cubicBezTo>
                <a:cubicBezTo>
                  <a:pt x="20426" y="16795"/>
                  <a:pt x="20449" y="16816"/>
                  <a:pt x="20461" y="16827"/>
                </a:cubicBezTo>
                <a:cubicBezTo>
                  <a:pt x="20515" y="16881"/>
                  <a:pt x="20605" y="16997"/>
                  <a:pt x="20605" y="17174"/>
                </a:cubicBezTo>
                <a:cubicBezTo>
                  <a:pt x="20605" y="17207"/>
                  <a:pt x="20606" y="17240"/>
                  <a:pt x="20610" y="17273"/>
                </a:cubicBezTo>
                <a:cubicBezTo>
                  <a:pt x="20533" y="18625"/>
                  <a:pt x="18769" y="20618"/>
                  <a:pt x="16441" y="20618"/>
                </a:cubicBezTo>
                <a:moveTo>
                  <a:pt x="21586" y="17174"/>
                </a:moveTo>
                <a:cubicBezTo>
                  <a:pt x="21586" y="16768"/>
                  <a:pt x="21421" y="16399"/>
                  <a:pt x="21155" y="16133"/>
                </a:cubicBezTo>
                <a:cubicBezTo>
                  <a:pt x="21077" y="16054"/>
                  <a:pt x="20988" y="15988"/>
                  <a:pt x="20893" y="15929"/>
                </a:cubicBezTo>
                <a:lnTo>
                  <a:pt x="16738" y="12697"/>
                </a:lnTo>
                <a:cubicBezTo>
                  <a:pt x="16471" y="12430"/>
                  <a:pt x="16104" y="12265"/>
                  <a:pt x="15697" y="12265"/>
                </a:cubicBezTo>
                <a:cubicBezTo>
                  <a:pt x="15364" y="12265"/>
                  <a:pt x="15060" y="12380"/>
                  <a:pt x="14815" y="12567"/>
                </a:cubicBezTo>
                <a:lnTo>
                  <a:pt x="13655" y="13736"/>
                </a:lnTo>
                <a:lnTo>
                  <a:pt x="13652" y="13733"/>
                </a:lnTo>
                <a:cubicBezTo>
                  <a:pt x="13473" y="13934"/>
                  <a:pt x="13214" y="14063"/>
                  <a:pt x="12924" y="14063"/>
                </a:cubicBezTo>
                <a:cubicBezTo>
                  <a:pt x="12592" y="14063"/>
                  <a:pt x="12300" y="13897"/>
                  <a:pt x="12122" y="13645"/>
                </a:cubicBezTo>
                <a:cubicBezTo>
                  <a:pt x="12116" y="13654"/>
                  <a:pt x="12107" y="13663"/>
                  <a:pt x="12101" y="13674"/>
                </a:cubicBezTo>
                <a:cubicBezTo>
                  <a:pt x="10497" y="12510"/>
                  <a:pt x="9076" y="11108"/>
                  <a:pt x="7914" y="9502"/>
                </a:cubicBezTo>
                <a:cubicBezTo>
                  <a:pt x="7925" y="9495"/>
                  <a:pt x="7935" y="9486"/>
                  <a:pt x="7947" y="9479"/>
                </a:cubicBezTo>
                <a:cubicBezTo>
                  <a:pt x="7691" y="9299"/>
                  <a:pt x="7523" y="9004"/>
                  <a:pt x="7523" y="8668"/>
                </a:cubicBezTo>
                <a:cubicBezTo>
                  <a:pt x="7523" y="8367"/>
                  <a:pt x="7659" y="8101"/>
                  <a:pt x="7871" y="7920"/>
                </a:cubicBezTo>
                <a:lnTo>
                  <a:pt x="7870" y="7918"/>
                </a:lnTo>
                <a:lnTo>
                  <a:pt x="9023" y="6773"/>
                </a:lnTo>
                <a:cubicBezTo>
                  <a:pt x="9211" y="6528"/>
                  <a:pt x="9325" y="6224"/>
                  <a:pt x="9325" y="5891"/>
                </a:cubicBezTo>
                <a:cubicBezTo>
                  <a:pt x="9325" y="5485"/>
                  <a:pt x="9160" y="5116"/>
                  <a:pt x="8893" y="4850"/>
                </a:cubicBezTo>
                <a:lnTo>
                  <a:pt x="5662" y="693"/>
                </a:lnTo>
                <a:cubicBezTo>
                  <a:pt x="5603" y="599"/>
                  <a:pt x="5537" y="510"/>
                  <a:pt x="5458" y="432"/>
                </a:cubicBezTo>
                <a:cubicBezTo>
                  <a:pt x="5191" y="165"/>
                  <a:pt x="4823" y="0"/>
                  <a:pt x="4417" y="0"/>
                </a:cubicBezTo>
                <a:cubicBezTo>
                  <a:pt x="2454" y="0"/>
                  <a:pt x="0" y="2308"/>
                  <a:pt x="0" y="5155"/>
                </a:cubicBezTo>
                <a:cubicBezTo>
                  <a:pt x="0" y="5943"/>
                  <a:pt x="183" y="6688"/>
                  <a:pt x="499" y="7356"/>
                </a:cubicBezTo>
                <a:lnTo>
                  <a:pt x="482" y="7373"/>
                </a:lnTo>
                <a:cubicBezTo>
                  <a:pt x="3435" y="13255"/>
                  <a:pt x="8343" y="18164"/>
                  <a:pt x="14224" y="21117"/>
                </a:cubicBezTo>
                <a:lnTo>
                  <a:pt x="14240" y="21101"/>
                </a:lnTo>
                <a:cubicBezTo>
                  <a:pt x="14908" y="21418"/>
                  <a:pt x="15652" y="21600"/>
                  <a:pt x="16441" y="21600"/>
                </a:cubicBezTo>
                <a:cubicBezTo>
                  <a:pt x="19287" y="21600"/>
                  <a:pt x="21594" y="19145"/>
                  <a:pt x="21594" y="17182"/>
                </a:cubicBezTo>
                <a:cubicBezTo>
                  <a:pt x="21594" y="17179"/>
                  <a:pt x="21594" y="17177"/>
                  <a:pt x="21594" y="17174"/>
                </a:cubicBezTo>
                <a:cubicBezTo>
                  <a:pt x="21594" y="17174"/>
                  <a:pt x="21586" y="17174"/>
                  <a:pt x="21586" y="17174"/>
                </a:cubicBezTo>
                <a:close/>
                <a:moveTo>
                  <a:pt x="11785" y="10800"/>
                </a:moveTo>
                <a:cubicBezTo>
                  <a:pt x="12326" y="10800"/>
                  <a:pt x="12766" y="10360"/>
                  <a:pt x="12766" y="9819"/>
                </a:cubicBezTo>
                <a:cubicBezTo>
                  <a:pt x="12766" y="9276"/>
                  <a:pt x="12326" y="8836"/>
                  <a:pt x="11785" y="8836"/>
                </a:cubicBezTo>
                <a:cubicBezTo>
                  <a:pt x="11242" y="8836"/>
                  <a:pt x="10803" y="9276"/>
                  <a:pt x="10803" y="9819"/>
                </a:cubicBezTo>
                <a:cubicBezTo>
                  <a:pt x="10803" y="10360"/>
                  <a:pt x="11242" y="10800"/>
                  <a:pt x="11785" y="10800"/>
                </a:cubicBezTo>
                <a:moveTo>
                  <a:pt x="11785" y="5891"/>
                </a:moveTo>
                <a:cubicBezTo>
                  <a:pt x="13953" y="5891"/>
                  <a:pt x="15711" y="7649"/>
                  <a:pt x="15711" y="9819"/>
                </a:cubicBezTo>
                <a:cubicBezTo>
                  <a:pt x="15711" y="10090"/>
                  <a:pt x="15930" y="10309"/>
                  <a:pt x="16201" y="10309"/>
                </a:cubicBezTo>
                <a:cubicBezTo>
                  <a:pt x="16472" y="10309"/>
                  <a:pt x="16692" y="10090"/>
                  <a:pt x="16692" y="9819"/>
                </a:cubicBezTo>
                <a:cubicBezTo>
                  <a:pt x="16692" y="7107"/>
                  <a:pt x="14495" y="4909"/>
                  <a:pt x="11785" y="4909"/>
                </a:cubicBezTo>
                <a:cubicBezTo>
                  <a:pt x="11513" y="4909"/>
                  <a:pt x="11294" y="5129"/>
                  <a:pt x="11294" y="5400"/>
                </a:cubicBezTo>
                <a:cubicBezTo>
                  <a:pt x="11294" y="5672"/>
                  <a:pt x="11513" y="5891"/>
                  <a:pt x="11785" y="5891"/>
                </a:cubicBezTo>
                <a:moveTo>
                  <a:pt x="11785" y="982"/>
                </a:moveTo>
                <a:cubicBezTo>
                  <a:pt x="16663" y="982"/>
                  <a:pt x="20618" y="4939"/>
                  <a:pt x="20618" y="9819"/>
                </a:cubicBezTo>
                <a:cubicBezTo>
                  <a:pt x="20618" y="10090"/>
                  <a:pt x="20838" y="10309"/>
                  <a:pt x="21109" y="10309"/>
                </a:cubicBezTo>
                <a:cubicBezTo>
                  <a:pt x="21380" y="10309"/>
                  <a:pt x="21600" y="10090"/>
                  <a:pt x="21600" y="9819"/>
                </a:cubicBezTo>
                <a:cubicBezTo>
                  <a:pt x="21600" y="4396"/>
                  <a:pt x="17206" y="0"/>
                  <a:pt x="11785" y="0"/>
                </a:cubicBezTo>
                <a:cubicBezTo>
                  <a:pt x="11513" y="0"/>
                  <a:pt x="11294" y="220"/>
                  <a:pt x="11294" y="491"/>
                </a:cubicBezTo>
                <a:cubicBezTo>
                  <a:pt x="11294" y="762"/>
                  <a:pt x="11513" y="982"/>
                  <a:pt x="11785" y="982"/>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503" name="PA_库_形状 2840"/>
          <p:cNvSpPr/>
          <p:nvPr/>
        </p:nvSpPr>
        <p:spPr>
          <a:xfrm>
            <a:off x="817560" y="419580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504" name="PA_库_椭圆 41"/>
          <p:cNvSpPr/>
          <p:nvPr/>
        </p:nvSpPr>
        <p:spPr>
          <a:xfrm>
            <a:off x="601560" y="2760840"/>
            <a:ext cx="560520" cy="561960"/>
          </a:xfrm>
          <a:prstGeom prst="ellipse">
            <a:avLst/>
          </a:prstGeom>
          <a:solidFill>
            <a:srgbClr val="5ab1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505" name="PA_库_形状 2840"/>
          <p:cNvSpPr/>
          <p:nvPr/>
        </p:nvSpPr>
        <p:spPr>
          <a:xfrm>
            <a:off x="741240" y="289260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sp>
        <p:nvSpPr>
          <p:cNvPr id="1506" name="PA_库_椭圆 41"/>
          <p:cNvSpPr/>
          <p:nvPr/>
        </p:nvSpPr>
        <p:spPr>
          <a:xfrm>
            <a:off x="633240" y="5365800"/>
            <a:ext cx="560520" cy="560160"/>
          </a:xfrm>
          <a:prstGeom prst="ellipse">
            <a:avLst/>
          </a:prstGeom>
          <a:solidFill>
            <a:srgbClr val="5ab1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507" name="PA_库_形状 2840"/>
          <p:cNvSpPr/>
          <p:nvPr/>
        </p:nvSpPr>
        <p:spPr>
          <a:xfrm>
            <a:off x="795240" y="5497560"/>
            <a:ext cx="279360" cy="253800"/>
          </a:xfrm>
          <a:custGeom>
            <a:avLst/>
            <a:gdLst/>
            <a:ahLst/>
            <a:rect l="l" t="t" r="r" b="b"/>
            <a:pathLst>
              <a:path w="21600" h="21600">
                <a:moveTo>
                  <a:pt x="20618" y="20520"/>
                </a:moveTo>
                <a:lnTo>
                  <a:pt x="982" y="20520"/>
                </a:lnTo>
                <a:lnTo>
                  <a:pt x="982" y="14040"/>
                </a:lnTo>
                <a:lnTo>
                  <a:pt x="6907" y="14040"/>
                </a:lnTo>
                <a:cubicBezTo>
                  <a:pt x="7149" y="16170"/>
                  <a:pt x="8798" y="17820"/>
                  <a:pt x="10800" y="17820"/>
                </a:cubicBezTo>
                <a:cubicBezTo>
                  <a:pt x="12802" y="17820"/>
                  <a:pt x="14451" y="16170"/>
                  <a:pt x="14693" y="14040"/>
                </a:cubicBezTo>
                <a:lnTo>
                  <a:pt x="20618" y="14040"/>
                </a:lnTo>
                <a:cubicBezTo>
                  <a:pt x="20618" y="14040"/>
                  <a:pt x="20618" y="20520"/>
                  <a:pt x="20618" y="20520"/>
                </a:cubicBezTo>
                <a:close/>
                <a:moveTo>
                  <a:pt x="21544" y="13261"/>
                </a:moveTo>
                <a:lnTo>
                  <a:pt x="21548" y="13259"/>
                </a:lnTo>
                <a:lnTo>
                  <a:pt x="16639" y="2459"/>
                </a:lnTo>
                <a:lnTo>
                  <a:pt x="16635" y="2461"/>
                </a:lnTo>
                <a:cubicBezTo>
                  <a:pt x="16554" y="2284"/>
                  <a:pt x="16392" y="2160"/>
                  <a:pt x="16200" y="2160"/>
                </a:cubicBezTo>
                <a:lnTo>
                  <a:pt x="15709" y="2160"/>
                </a:lnTo>
                <a:cubicBezTo>
                  <a:pt x="15438" y="2160"/>
                  <a:pt x="15218" y="2402"/>
                  <a:pt x="15218" y="2700"/>
                </a:cubicBezTo>
                <a:cubicBezTo>
                  <a:pt x="15218" y="2999"/>
                  <a:pt x="15438" y="3240"/>
                  <a:pt x="15709" y="3240"/>
                </a:cubicBezTo>
                <a:lnTo>
                  <a:pt x="15897" y="3240"/>
                </a:lnTo>
                <a:lnTo>
                  <a:pt x="20315" y="12960"/>
                </a:lnTo>
                <a:lnTo>
                  <a:pt x="14236" y="12960"/>
                </a:lnTo>
                <a:cubicBezTo>
                  <a:pt x="13965" y="12960"/>
                  <a:pt x="13745" y="13202"/>
                  <a:pt x="13745" y="13500"/>
                </a:cubicBezTo>
                <a:cubicBezTo>
                  <a:pt x="13745" y="15290"/>
                  <a:pt x="12426" y="16740"/>
                  <a:pt x="10800" y="16740"/>
                </a:cubicBezTo>
                <a:cubicBezTo>
                  <a:pt x="9173" y="16740"/>
                  <a:pt x="7855" y="15290"/>
                  <a:pt x="7855" y="13500"/>
                </a:cubicBezTo>
                <a:cubicBezTo>
                  <a:pt x="7855" y="13202"/>
                  <a:pt x="7635" y="12960"/>
                  <a:pt x="7364" y="12960"/>
                </a:cubicBezTo>
                <a:lnTo>
                  <a:pt x="1285" y="12960"/>
                </a:lnTo>
                <a:lnTo>
                  <a:pt x="5703" y="3240"/>
                </a:lnTo>
                <a:lnTo>
                  <a:pt x="5891" y="3240"/>
                </a:lnTo>
                <a:cubicBezTo>
                  <a:pt x="6162" y="3240"/>
                  <a:pt x="6382" y="2999"/>
                  <a:pt x="6382" y="2700"/>
                </a:cubicBezTo>
                <a:cubicBezTo>
                  <a:pt x="6382" y="2402"/>
                  <a:pt x="6162" y="2160"/>
                  <a:pt x="5891" y="2160"/>
                </a:cubicBezTo>
                <a:lnTo>
                  <a:pt x="5400" y="2160"/>
                </a:lnTo>
                <a:cubicBezTo>
                  <a:pt x="5208" y="2160"/>
                  <a:pt x="5046" y="2284"/>
                  <a:pt x="4966" y="2461"/>
                </a:cubicBezTo>
                <a:lnTo>
                  <a:pt x="4961" y="2459"/>
                </a:lnTo>
                <a:lnTo>
                  <a:pt x="52" y="13259"/>
                </a:lnTo>
                <a:lnTo>
                  <a:pt x="57" y="13261"/>
                </a:lnTo>
                <a:cubicBezTo>
                  <a:pt x="23" y="13334"/>
                  <a:pt x="0" y="13413"/>
                  <a:pt x="0" y="13500"/>
                </a:cubicBezTo>
                <a:lnTo>
                  <a:pt x="0" y="21060"/>
                </a:lnTo>
                <a:cubicBezTo>
                  <a:pt x="0" y="21359"/>
                  <a:pt x="220" y="21600"/>
                  <a:pt x="491" y="21600"/>
                </a:cubicBezTo>
                <a:lnTo>
                  <a:pt x="21109" y="21600"/>
                </a:lnTo>
                <a:cubicBezTo>
                  <a:pt x="21380" y="21600"/>
                  <a:pt x="21600" y="21359"/>
                  <a:pt x="21600" y="21060"/>
                </a:cubicBezTo>
                <a:lnTo>
                  <a:pt x="21600" y="13500"/>
                </a:lnTo>
                <a:cubicBezTo>
                  <a:pt x="21600" y="13413"/>
                  <a:pt x="21577" y="13334"/>
                  <a:pt x="21544" y="13261"/>
                </a:cubicBezTo>
                <a:moveTo>
                  <a:pt x="7855" y="4320"/>
                </a:moveTo>
                <a:cubicBezTo>
                  <a:pt x="7990" y="4320"/>
                  <a:pt x="8113" y="4260"/>
                  <a:pt x="8202" y="4162"/>
                </a:cubicBezTo>
                <a:lnTo>
                  <a:pt x="10309" y="1844"/>
                </a:lnTo>
                <a:lnTo>
                  <a:pt x="10309" y="12420"/>
                </a:lnTo>
                <a:cubicBezTo>
                  <a:pt x="10309" y="12719"/>
                  <a:pt x="10529" y="12960"/>
                  <a:pt x="10800" y="12960"/>
                </a:cubicBezTo>
                <a:cubicBezTo>
                  <a:pt x="11071" y="12960"/>
                  <a:pt x="11291" y="12719"/>
                  <a:pt x="11291" y="12420"/>
                </a:cubicBezTo>
                <a:lnTo>
                  <a:pt x="11291" y="1844"/>
                </a:lnTo>
                <a:lnTo>
                  <a:pt x="13398" y="4162"/>
                </a:lnTo>
                <a:cubicBezTo>
                  <a:pt x="13487" y="4260"/>
                  <a:pt x="13610" y="4320"/>
                  <a:pt x="13745" y="4320"/>
                </a:cubicBezTo>
                <a:cubicBezTo>
                  <a:pt x="14017" y="4320"/>
                  <a:pt x="14236" y="4079"/>
                  <a:pt x="14236" y="3780"/>
                </a:cubicBezTo>
                <a:cubicBezTo>
                  <a:pt x="14236" y="3631"/>
                  <a:pt x="14181" y="3497"/>
                  <a:pt x="14093" y="3398"/>
                </a:cubicBezTo>
                <a:lnTo>
                  <a:pt x="11147" y="158"/>
                </a:lnTo>
                <a:cubicBezTo>
                  <a:pt x="11058" y="61"/>
                  <a:pt x="10936" y="0"/>
                  <a:pt x="10800" y="0"/>
                </a:cubicBezTo>
                <a:cubicBezTo>
                  <a:pt x="10664" y="0"/>
                  <a:pt x="10542" y="61"/>
                  <a:pt x="10453" y="158"/>
                </a:cubicBezTo>
                <a:lnTo>
                  <a:pt x="7507" y="3398"/>
                </a:lnTo>
                <a:cubicBezTo>
                  <a:pt x="7419" y="3497"/>
                  <a:pt x="7364" y="3631"/>
                  <a:pt x="7364" y="3780"/>
                </a:cubicBezTo>
                <a:cubicBezTo>
                  <a:pt x="7364" y="4079"/>
                  <a:pt x="7583" y="4320"/>
                  <a:pt x="7855" y="4320"/>
                </a:cubicBezTo>
              </a:path>
            </a:pathLst>
          </a:custGeom>
          <a:solidFill>
            <a:srgbClr val="ffffff"/>
          </a:solidFill>
          <a:ln w="0">
            <a:noFill/>
          </a:ln>
        </p:spPr>
        <p:style>
          <a:lnRef idx="0"/>
          <a:fillRef idx="0"/>
          <a:effectRef idx="0"/>
          <a:fontRef idx="minor"/>
        </p:style>
        <p:txBody>
          <a:bodyPr lIns="18720" rIns="18720" tIns="18720" bIns="18720" anchor="ctr">
            <a:noAutofit/>
          </a:bodyPr>
          <a:p>
            <a:endParaRPr b="0" lang="en-US" sz="1800" spc="-1" strike="noStrike">
              <a:solidFill>
                <a:srgbClr val="262626"/>
              </a:solidFill>
              <a:latin typeface="Arial"/>
            </a:endParaRPr>
          </a:p>
        </p:txBody>
      </p:sp>
      <p:pic>
        <p:nvPicPr>
          <p:cNvPr id="1508" name="图片 20" descr=""/>
          <p:cNvPicPr/>
          <p:nvPr/>
        </p:nvPicPr>
        <p:blipFill>
          <a:blip r:embed="rId1"/>
          <a:stretch/>
        </p:blipFill>
        <p:spPr>
          <a:xfrm>
            <a:off x="4981680" y="266760"/>
            <a:ext cx="1749240" cy="1326960"/>
          </a:xfrm>
          <a:prstGeom prst="rect">
            <a:avLst/>
          </a:prstGeom>
          <a:ln w="0">
            <a:noFill/>
          </a:ln>
        </p:spPr>
      </p:pic>
      <p:pic>
        <p:nvPicPr>
          <p:cNvPr id="1509" name="图片 13" descr=""/>
          <p:cNvPicPr/>
          <p:nvPr/>
        </p:nvPicPr>
        <p:blipFill>
          <a:blip r:embed="rId2"/>
          <a:stretch/>
        </p:blipFill>
        <p:spPr>
          <a:xfrm>
            <a:off x="8010360" y="1617840"/>
            <a:ext cx="3505320" cy="4078080"/>
          </a:xfrm>
          <a:prstGeom prst="rect">
            <a:avLst/>
          </a:prstGeom>
          <a:ln w="0">
            <a:noFill/>
          </a:ln>
        </p:spPr>
      </p:pic>
    </p:spTree>
  </p:cSld>
  <p:transition spd="slow">
    <p:random/>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withEffect" fill="hold" presetClass="entr" presetID="2" presetSubtype="8">
                                  <p:stCondLst>
                                    <p:cond delay="250"/>
                                  </p:stCondLst>
                                  <p:endCondLst>
                                    <p:cond evt="begin"/>
                                  </p:endCondLst>
                                  <p:childTnLst>
                                    <p:set>
                                      <p:cBhvr>
                                        <p:cTn id="195" dur="1" fill="hold">
                                          <p:stCondLst>
                                            <p:cond delay="0"/>
                                          </p:stCondLst>
                                        </p:cTn>
                                        <p:tgtEl>
                                          <p:spTgt spid="1498"/>
                                        </p:tgtEl>
                                        <p:attrNameLst>
                                          <p:attrName>style.visibility</p:attrName>
                                        </p:attrNameLst>
                                      </p:cBhvr>
                                      <p:to>
                                        <p:strVal val="visible"/>
                                      </p:to>
                                    </p:set>
                                    <p:anim calcmode="lin" valueType="num">
                                      <p:cBhvr additive="base">
                                        <p:cTn id="196" dur="1500" fill="hold"/>
                                        <p:tgtEl>
                                          <p:spTgt spid="1498"/>
                                        </p:tgtEl>
                                        <p:attrNameLst>
                                          <p:attrName>ppt_x</p:attrName>
                                        </p:attrNameLst>
                                      </p:cBhvr>
                                      <p:tavLst>
                                        <p:tav tm="0">
                                          <p:val>
                                            <p:strVal val="0-#ppt_w/2"/>
                                          </p:val>
                                        </p:tav>
                                        <p:tav tm="100000">
                                          <p:val>
                                            <p:strVal val="#ppt_x"/>
                                          </p:val>
                                        </p:tav>
                                      </p:tavLst>
                                    </p:anim>
                                    <p:anim calcmode="lin" valueType="num">
                                      <p:cBhvr additive="base">
                                        <p:cTn id="197" dur="1500" fill="hold"/>
                                        <p:tgtEl>
                                          <p:spTgt spid="1498"/>
                                        </p:tgtEl>
                                        <p:attrNameLst>
                                          <p:attrName>ppt_y</p:attrName>
                                        </p:attrNameLst>
                                      </p:cBhvr>
                                      <p:tavLst>
                                        <p:tav tm="0">
                                          <p:val>
                                            <p:strVal val="#ppt_y"/>
                                          </p:val>
                                        </p:tav>
                                        <p:tav tm="100000">
                                          <p:val>
                                            <p:strVal val="#ppt_y"/>
                                          </p:val>
                                        </p:tav>
                                      </p:tavLst>
                                    </p:anim>
                                    <p:set>
                                      <p:cBhvr>
                                        <p:cTn id="198" dur="1" fill="hold">
                                          <p:stCondLst>
                                            <p:cond delay="0"/>
                                          </p:stCondLst>
                                        </p:cTn>
                                        <p:tgtEl>
                                          <p:spTgt spid="1498"/>
                                        </p:tgtEl>
                                        <p:attrNameLst>
                                          <p:attrName>style.visibility</p:attrName>
                                        </p:attrNameLst>
                                      </p:cBhvr>
                                      <p:to>
                                        <p:strVal val="visible"/>
                                      </p:to>
                                    </p:set>
                                    <p:anim calcmode="lin" valueType="num">
                                      <p:cBhvr additive="repl">
                                        <p:cTn id="199" dur="1500" fill="hold">
                                          <p:stCondLst>
                                            <p:cond delay="0"/>
                                          </p:stCondLst>
                                        </p:cTn>
                                        <p:tgtEl>
                                          <p:spTgt spid="1498"/>
                                        </p:tgtEl>
                                        <p:attrNameLst>
                                          <p:attrName>ppt_w</p:attrName>
                                        </p:attrNameLst>
                                      </p:cBhvr>
                                      <p:tavLst>
                                        <p:tav tm="0">
                                          <p:val>
                                            <p:strVal val="0"/>
                                          </p:val>
                                        </p:tav>
                                        <p:tav tm="100000">
                                          <p:val>
                                            <p:strVal val="#ppt_w"/>
                                          </p:val>
                                        </p:tav>
                                      </p:tavLst>
                                      <p:to>
                                        <p:strVal val=""/>
                                      </p:to>
                                    </p:anim>
                                    <p:anim calcmode="lin" valueType="num">
                                      <p:cBhvr additive="repl">
                                        <p:cTn id="200" dur="1500" fill="hold">
                                          <p:stCondLst>
                                            <p:cond delay="0"/>
                                          </p:stCondLst>
                                        </p:cTn>
                                        <p:tgtEl>
                                          <p:spTgt spid="1498"/>
                                        </p:tgtEl>
                                        <p:attrNameLst>
                                          <p:attrName>ppt_h</p:attrName>
                                        </p:attrNameLst>
                                      </p:cBhvr>
                                      <p:tavLst>
                                        <p:tav tm="0">
                                          <p:val>
                                            <p:strVal val="0"/>
                                          </p:val>
                                        </p:tav>
                                        <p:tav tm="100000">
                                          <p:val>
                                            <p:strVal val="#ppt_h"/>
                                          </p:val>
                                        </p:tav>
                                      </p:tavLst>
                                      <p:to>
                                        <p:strVal val=""/>
                                      </p:to>
                                    </p:anim>
                                    <p:animEffect filter="fade" transition="in">
                                      <p:cBhvr additive="repl">
                                        <p:cTn id="201" dur="1500">
                                          <p:stCondLst>
                                            <p:cond delay="0"/>
                                          </p:stCondLst>
                                        </p:cTn>
                                        <p:tgtEl>
                                          <p:spTgt spid="1498"/>
                                        </p:tgtEl>
                                      </p:cBhvr>
                                    </p:animEffect>
                                  </p:childTnLst>
                                </p:cTn>
                              </p:par>
                              <p:par>
                                <p:cTn id="202" nodeType="withEffect" fill="hold" presetClass="entr" presetID="2" presetSubtype="8">
                                  <p:stCondLst>
                                    <p:cond delay="250"/>
                                  </p:stCondLst>
                                  <p:childTnLst>
                                    <p:set>
                                      <p:cBhvr>
                                        <p:cTn id="203" dur="1" fill="hold">
                                          <p:stCondLst>
                                            <p:cond delay="0"/>
                                          </p:stCondLst>
                                        </p:cTn>
                                        <p:tgtEl>
                                          <p:spTgt spid="1499"/>
                                        </p:tgtEl>
                                        <p:attrNameLst>
                                          <p:attrName>style.visibility</p:attrName>
                                        </p:attrNameLst>
                                      </p:cBhvr>
                                      <p:to>
                                        <p:strVal val="visible"/>
                                      </p:to>
                                    </p:set>
                                    <p:anim calcmode="lin" valueType="num">
                                      <p:cBhvr additive="base">
                                        <p:cTn id="204" dur="1500" fill="hold"/>
                                        <p:tgtEl>
                                          <p:spTgt spid="1499"/>
                                        </p:tgtEl>
                                        <p:attrNameLst>
                                          <p:attrName>ppt_x</p:attrName>
                                        </p:attrNameLst>
                                      </p:cBhvr>
                                      <p:tavLst>
                                        <p:tav tm="0">
                                          <p:val>
                                            <p:strVal val="0-#ppt_w/2"/>
                                          </p:val>
                                        </p:tav>
                                        <p:tav tm="100000">
                                          <p:val>
                                            <p:strVal val="#ppt_x"/>
                                          </p:val>
                                        </p:tav>
                                      </p:tavLst>
                                    </p:anim>
                                    <p:anim calcmode="lin" valueType="num">
                                      <p:cBhvr additive="base">
                                        <p:cTn id="205" dur="1500" fill="hold"/>
                                        <p:tgtEl>
                                          <p:spTgt spid="1499"/>
                                        </p:tgtEl>
                                        <p:attrNameLst>
                                          <p:attrName>ppt_y</p:attrName>
                                        </p:attrNameLst>
                                      </p:cBhvr>
                                      <p:tavLst>
                                        <p:tav tm="0">
                                          <p:val>
                                            <p:strVal val="#ppt_y"/>
                                          </p:val>
                                        </p:tav>
                                        <p:tav tm="100000">
                                          <p:val>
                                            <p:strVal val="#ppt_y"/>
                                          </p:val>
                                        </p:tav>
                                      </p:tavLst>
                                    </p:anim>
                                    <p:set>
                                      <p:cBhvr>
                                        <p:cTn id="206" dur="1" fill="hold">
                                          <p:stCondLst>
                                            <p:cond delay="0"/>
                                          </p:stCondLst>
                                        </p:cTn>
                                        <p:tgtEl>
                                          <p:spTgt spid="1499"/>
                                        </p:tgtEl>
                                        <p:attrNameLst>
                                          <p:attrName>style.visibility</p:attrName>
                                        </p:attrNameLst>
                                      </p:cBhvr>
                                      <p:to>
                                        <p:strVal val="visible"/>
                                      </p:to>
                                    </p:set>
                                    <p:anim calcmode="lin" valueType="num">
                                      <p:cBhvr additive="repl">
                                        <p:cTn id="207" dur="1500" fill="hold">
                                          <p:stCondLst>
                                            <p:cond delay="0"/>
                                          </p:stCondLst>
                                        </p:cTn>
                                        <p:tgtEl>
                                          <p:spTgt spid="1499"/>
                                        </p:tgtEl>
                                        <p:attrNameLst>
                                          <p:attrName>ppt_w</p:attrName>
                                        </p:attrNameLst>
                                      </p:cBhvr>
                                      <p:tavLst>
                                        <p:tav tm="0">
                                          <p:val>
                                            <p:strVal val="0"/>
                                          </p:val>
                                        </p:tav>
                                        <p:tav tm="100000">
                                          <p:val>
                                            <p:strVal val="#ppt_w"/>
                                          </p:val>
                                        </p:tav>
                                      </p:tavLst>
                                      <p:to>
                                        <p:strVal val=""/>
                                      </p:to>
                                    </p:anim>
                                    <p:anim calcmode="lin" valueType="num">
                                      <p:cBhvr additive="repl">
                                        <p:cTn id="208" dur="1500" fill="hold">
                                          <p:stCondLst>
                                            <p:cond delay="0"/>
                                          </p:stCondLst>
                                        </p:cTn>
                                        <p:tgtEl>
                                          <p:spTgt spid="1499"/>
                                        </p:tgtEl>
                                        <p:attrNameLst>
                                          <p:attrName>ppt_h</p:attrName>
                                        </p:attrNameLst>
                                      </p:cBhvr>
                                      <p:tavLst>
                                        <p:tav tm="0">
                                          <p:val>
                                            <p:strVal val="0"/>
                                          </p:val>
                                        </p:tav>
                                        <p:tav tm="100000">
                                          <p:val>
                                            <p:strVal val="#ppt_h"/>
                                          </p:val>
                                        </p:tav>
                                      </p:tavLst>
                                      <p:to>
                                        <p:strVal val=""/>
                                      </p:to>
                                    </p:anim>
                                    <p:animEffect filter="fade" transition="in">
                                      <p:cBhvr additive="repl">
                                        <p:cTn id="209" dur="1500">
                                          <p:stCondLst>
                                            <p:cond delay="0"/>
                                          </p:stCondLst>
                                        </p:cTn>
                                        <p:tgtEl>
                                          <p:spTgt spid="1499"/>
                                        </p:tgtEl>
                                      </p:cBhvr>
                                    </p:animEffect>
                                  </p:childTnLst>
                                </p:cTn>
                              </p:par>
                              <p:par>
                                <p:cTn id="210" nodeType="withEffect" fill="hold" presetClass="entr" presetID="2" presetSubtype="8">
                                  <p:stCondLst>
                                    <p:cond delay="250"/>
                                  </p:stCondLst>
                                  <p:childTnLst>
                                    <p:set>
                                      <p:cBhvr>
                                        <p:cTn id="211" dur="1" fill="hold">
                                          <p:stCondLst>
                                            <p:cond delay="0"/>
                                          </p:stCondLst>
                                        </p:cTn>
                                        <p:tgtEl>
                                          <p:spTgt spid="1500"/>
                                        </p:tgtEl>
                                        <p:attrNameLst>
                                          <p:attrName>style.visibility</p:attrName>
                                        </p:attrNameLst>
                                      </p:cBhvr>
                                      <p:to>
                                        <p:strVal val="visible"/>
                                      </p:to>
                                    </p:set>
                                    <p:anim calcmode="lin" valueType="num">
                                      <p:cBhvr additive="base">
                                        <p:cTn id="212" dur="1500" fill="hold"/>
                                        <p:tgtEl>
                                          <p:spTgt spid="1500"/>
                                        </p:tgtEl>
                                        <p:attrNameLst>
                                          <p:attrName>ppt_x</p:attrName>
                                        </p:attrNameLst>
                                      </p:cBhvr>
                                      <p:tavLst>
                                        <p:tav tm="0">
                                          <p:val>
                                            <p:strVal val="0-#ppt_w/2"/>
                                          </p:val>
                                        </p:tav>
                                        <p:tav tm="100000">
                                          <p:val>
                                            <p:strVal val="#ppt_x"/>
                                          </p:val>
                                        </p:tav>
                                      </p:tavLst>
                                    </p:anim>
                                    <p:anim calcmode="lin" valueType="num">
                                      <p:cBhvr additive="base">
                                        <p:cTn id="213" dur="1500" fill="hold"/>
                                        <p:tgtEl>
                                          <p:spTgt spid="1500"/>
                                        </p:tgtEl>
                                        <p:attrNameLst>
                                          <p:attrName>ppt_y</p:attrName>
                                        </p:attrNameLst>
                                      </p:cBhvr>
                                      <p:tavLst>
                                        <p:tav tm="0">
                                          <p:val>
                                            <p:strVal val="#ppt_y"/>
                                          </p:val>
                                        </p:tav>
                                        <p:tav tm="100000">
                                          <p:val>
                                            <p:strVal val="#ppt_y"/>
                                          </p:val>
                                        </p:tav>
                                      </p:tavLst>
                                    </p:anim>
                                    <p:set>
                                      <p:cBhvr>
                                        <p:cTn id="214" dur="1" fill="hold">
                                          <p:stCondLst>
                                            <p:cond delay="0"/>
                                          </p:stCondLst>
                                        </p:cTn>
                                        <p:tgtEl>
                                          <p:spTgt spid="1500"/>
                                        </p:tgtEl>
                                        <p:attrNameLst>
                                          <p:attrName>style.visibility</p:attrName>
                                        </p:attrNameLst>
                                      </p:cBhvr>
                                      <p:to>
                                        <p:strVal val="visible"/>
                                      </p:to>
                                    </p:set>
                                    <p:anim calcmode="lin" valueType="num">
                                      <p:cBhvr additive="repl">
                                        <p:cTn id="215" dur="1500" fill="hold">
                                          <p:stCondLst>
                                            <p:cond delay="0"/>
                                          </p:stCondLst>
                                        </p:cTn>
                                        <p:tgtEl>
                                          <p:spTgt spid="1500"/>
                                        </p:tgtEl>
                                        <p:attrNameLst>
                                          <p:attrName>ppt_w</p:attrName>
                                        </p:attrNameLst>
                                      </p:cBhvr>
                                      <p:tavLst>
                                        <p:tav tm="0">
                                          <p:val>
                                            <p:strVal val="0"/>
                                          </p:val>
                                        </p:tav>
                                        <p:tav tm="100000">
                                          <p:val>
                                            <p:strVal val="#ppt_w"/>
                                          </p:val>
                                        </p:tav>
                                      </p:tavLst>
                                      <p:to>
                                        <p:strVal val=""/>
                                      </p:to>
                                    </p:anim>
                                    <p:anim calcmode="lin" valueType="num">
                                      <p:cBhvr additive="repl">
                                        <p:cTn id="216" dur="1500" fill="hold">
                                          <p:stCondLst>
                                            <p:cond delay="0"/>
                                          </p:stCondLst>
                                        </p:cTn>
                                        <p:tgtEl>
                                          <p:spTgt spid="1500"/>
                                        </p:tgtEl>
                                        <p:attrNameLst>
                                          <p:attrName>ppt_h</p:attrName>
                                        </p:attrNameLst>
                                      </p:cBhvr>
                                      <p:tavLst>
                                        <p:tav tm="0">
                                          <p:val>
                                            <p:strVal val="0"/>
                                          </p:val>
                                        </p:tav>
                                        <p:tav tm="100000">
                                          <p:val>
                                            <p:strVal val="#ppt_h"/>
                                          </p:val>
                                        </p:tav>
                                      </p:tavLst>
                                      <p:to>
                                        <p:strVal val=""/>
                                      </p:to>
                                    </p:anim>
                                    <p:animEffect filter="fade" transition="in">
                                      <p:cBhvr additive="repl">
                                        <p:cTn id="217" dur="1500">
                                          <p:stCondLst>
                                            <p:cond delay="0"/>
                                          </p:stCondLst>
                                        </p:cTn>
                                        <p:tgtEl>
                                          <p:spTgt spid="1500"/>
                                        </p:tgtEl>
                                      </p:cBhvr>
                                    </p:animEffect>
                                  </p:childTnLst>
                                </p:cTn>
                              </p:par>
                              <p:par>
                                <p:cTn id="218" nodeType="withEffect" fill="hold" presetClass="entr" presetID="2" presetSubtype="8">
                                  <p:stCondLst>
                                    <p:cond delay="250"/>
                                  </p:stCondLst>
                                  <p:endCondLst>
                                    <p:cond evt="begin"/>
                                  </p:endCondLst>
                                  <p:childTnLst>
                                    <p:set>
                                      <p:cBhvr>
                                        <p:cTn id="219" dur="1" fill="hold">
                                          <p:stCondLst>
                                            <p:cond delay="0"/>
                                          </p:stCondLst>
                                        </p:cTn>
                                        <p:tgtEl>
                                          <p:spTgt spid="1501"/>
                                        </p:tgtEl>
                                        <p:attrNameLst>
                                          <p:attrName>style.visibility</p:attrName>
                                        </p:attrNameLst>
                                      </p:cBhvr>
                                      <p:to>
                                        <p:strVal val="visible"/>
                                      </p:to>
                                    </p:set>
                                    <p:anim calcmode="lin" valueType="num">
                                      <p:cBhvr additive="base">
                                        <p:cTn id="220" dur="1500" fill="hold"/>
                                        <p:tgtEl>
                                          <p:spTgt spid="1501"/>
                                        </p:tgtEl>
                                        <p:attrNameLst>
                                          <p:attrName>ppt_x</p:attrName>
                                        </p:attrNameLst>
                                      </p:cBhvr>
                                      <p:tavLst>
                                        <p:tav tm="0">
                                          <p:val>
                                            <p:strVal val="0-#ppt_w/2"/>
                                          </p:val>
                                        </p:tav>
                                        <p:tav tm="100000">
                                          <p:val>
                                            <p:strVal val="#ppt_x"/>
                                          </p:val>
                                        </p:tav>
                                      </p:tavLst>
                                    </p:anim>
                                    <p:anim calcmode="lin" valueType="num">
                                      <p:cBhvr additive="base">
                                        <p:cTn id="221" dur="1500" fill="hold"/>
                                        <p:tgtEl>
                                          <p:spTgt spid="1501"/>
                                        </p:tgtEl>
                                        <p:attrNameLst>
                                          <p:attrName>ppt_y</p:attrName>
                                        </p:attrNameLst>
                                      </p:cBhvr>
                                      <p:tavLst>
                                        <p:tav tm="0">
                                          <p:val>
                                            <p:strVal val="#ppt_y"/>
                                          </p:val>
                                        </p:tav>
                                        <p:tav tm="100000">
                                          <p:val>
                                            <p:strVal val="#ppt_y"/>
                                          </p:val>
                                        </p:tav>
                                      </p:tavLst>
                                    </p:anim>
                                    <p:set>
                                      <p:cBhvr>
                                        <p:cTn id="222" dur="1" fill="hold">
                                          <p:stCondLst>
                                            <p:cond delay="0"/>
                                          </p:stCondLst>
                                        </p:cTn>
                                        <p:tgtEl>
                                          <p:spTgt spid="1501"/>
                                        </p:tgtEl>
                                        <p:attrNameLst>
                                          <p:attrName>style.visibility</p:attrName>
                                        </p:attrNameLst>
                                      </p:cBhvr>
                                      <p:to>
                                        <p:strVal val="visible"/>
                                      </p:to>
                                    </p:set>
                                    <p:anim calcmode="lin" valueType="num">
                                      <p:cBhvr additive="repl">
                                        <p:cTn id="223" dur="1500" fill="hold">
                                          <p:stCondLst>
                                            <p:cond delay="0"/>
                                          </p:stCondLst>
                                        </p:cTn>
                                        <p:tgtEl>
                                          <p:spTgt spid="1501"/>
                                        </p:tgtEl>
                                        <p:attrNameLst>
                                          <p:attrName>ppt_w</p:attrName>
                                        </p:attrNameLst>
                                      </p:cBhvr>
                                      <p:tavLst>
                                        <p:tav tm="0">
                                          <p:val>
                                            <p:strVal val="0"/>
                                          </p:val>
                                        </p:tav>
                                        <p:tav tm="100000">
                                          <p:val>
                                            <p:strVal val="#ppt_w"/>
                                          </p:val>
                                        </p:tav>
                                      </p:tavLst>
                                      <p:to>
                                        <p:strVal val=""/>
                                      </p:to>
                                    </p:anim>
                                    <p:anim calcmode="lin" valueType="num">
                                      <p:cBhvr additive="repl">
                                        <p:cTn id="224" dur="1500" fill="hold">
                                          <p:stCondLst>
                                            <p:cond delay="0"/>
                                          </p:stCondLst>
                                        </p:cTn>
                                        <p:tgtEl>
                                          <p:spTgt spid="1501"/>
                                        </p:tgtEl>
                                        <p:attrNameLst>
                                          <p:attrName>ppt_h</p:attrName>
                                        </p:attrNameLst>
                                      </p:cBhvr>
                                      <p:tavLst>
                                        <p:tav tm="0">
                                          <p:val>
                                            <p:strVal val="0"/>
                                          </p:val>
                                        </p:tav>
                                        <p:tav tm="100000">
                                          <p:val>
                                            <p:strVal val="#ppt_h"/>
                                          </p:val>
                                        </p:tav>
                                      </p:tavLst>
                                      <p:to>
                                        <p:strVal val=""/>
                                      </p:to>
                                    </p:anim>
                                    <p:animEffect filter="fade" transition="in">
                                      <p:cBhvr additive="repl">
                                        <p:cTn id="225" dur="1500">
                                          <p:stCondLst>
                                            <p:cond delay="0"/>
                                          </p:stCondLst>
                                        </p:cTn>
                                        <p:tgtEl>
                                          <p:spTgt spid="1501"/>
                                        </p:tgtEl>
                                      </p:cBhvr>
                                    </p:animEffect>
                                  </p:childTnLst>
                                </p:cTn>
                              </p:par>
                              <p:par>
                                <p:cTn id="226" nodeType="withEffect" fill="hold" presetClass="entr" presetID="2" presetSubtype="8">
                                  <p:stCondLst>
                                    <p:cond delay="250"/>
                                  </p:stCondLst>
                                  <p:endCondLst>
                                    <p:cond evt="begin"/>
                                  </p:endCondLst>
                                  <p:childTnLst>
                                    <p:set>
                                      <p:cBhvr>
                                        <p:cTn id="227" dur="1" fill="hold">
                                          <p:stCondLst>
                                            <p:cond delay="0"/>
                                          </p:stCondLst>
                                        </p:cTn>
                                        <p:tgtEl>
                                          <p:spTgt spid="1504"/>
                                        </p:tgtEl>
                                        <p:attrNameLst>
                                          <p:attrName>style.visibility</p:attrName>
                                        </p:attrNameLst>
                                      </p:cBhvr>
                                      <p:to>
                                        <p:strVal val="visible"/>
                                      </p:to>
                                    </p:set>
                                    <p:anim calcmode="lin" valueType="num">
                                      <p:cBhvr additive="base">
                                        <p:cTn id="228" dur="1500" fill="hold"/>
                                        <p:tgtEl>
                                          <p:spTgt spid="1504"/>
                                        </p:tgtEl>
                                        <p:attrNameLst>
                                          <p:attrName>ppt_x</p:attrName>
                                        </p:attrNameLst>
                                      </p:cBhvr>
                                      <p:tavLst>
                                        <p:tav tm="0">
                                          <p:val>
                                            <p:strVal val="0-#ppt_w/2"/>
                                          </p:val>
                                        </p:tav>
                                        <p:tav tm="100000">
                                          <p:val>
                                            <p:strVal val="#ppt_x"/>
                                          </p:val>
                                        </p:tav>
                                      </p:tavLst>
                                    </p:anim>
                                    <p:anim calcmode="lin" valueType="num">
                                      <p:cBhvr additive="base">
                                        <p:cTn id="229" dur="1500" fill="hold"/>
                                        <p:tgtEl>
                                          <p:spTgt spid="1504"/>
                                        </p:tgtEl>
                                        <p:attrNameLst>
                                          <p:attrName>ppt_y</p:attrName>
                                        </p:attrNameLst>
                                      </p:cBhvr>
                                      <p:tavLst>
                                        <p:tav tm="0">
                                          <p:val>
                                            <p:strVal val="#ppt_y"/>
                                          </p:val>
                                        </p:tav>
                                        <p:tav tm="100000">
                                          <p:val>
                                            <p:strVal val="#ppt_y"/>
                                          </p:val>
                                        </p:tav>
                                      </p:tavLst>
                                    </p:anim>
                                    <p:set>
                                      <p:cBhvr>
                                        <p:cTn id="230" dur="1" fill="hold">
                                          <p:stCondLst>
                                            <p:cond delay="0"/>
                                          </p:stCondLst>
                                        </p:cTn>
                                        <p:tgtEl>
                                          <p:spTgt spid="1504"/>
                                        </p:tgtEl>
                                        <p:attrNameLst>
                                          <p:attrName>style.visibility</p:attrName>
                                        </p:attrNameLst>
                                      </p:cBhvr>
                                      <p:to>
                                        <p:strVal val="visible"/>
                                      </p:to>
                                    </p:set>
                                    <p:anim calcmode="lin" valueType="num">
                                      <p:cBhvr additive="repl">
                                        <p:cTn id="231" dur="1500" fill="hold">
                                          <p:stCondLst>
                                            <p:cond delay="0"/>
                                          </p:stCondLst>
                                        </p:cTn>
                                        <p:tgtEl>
                                          <p:spTgt spid="1504"/>
                                        </p:tgtEl>
                                        <p:attrNameLst>
                                          <p:attrName>ppt_w</p:attrName>
                                        </p:attrNameLst>
                                      </p:cBhvr>
                                      <p:tavLst>
                                        <p:tav tm="0">
                                          <p:val>
                                            <p:strVal val="0"/>
                                          </p:val>
                                        </p:tav>
                                        <p:tav tm="100000">
                                          <p:val>
                                            <p:strVal val="#ppt_w"/>
                                          </p:val>
                                        </p:tav>
                                      </p:tavLst>
                                      <p:to>
                                        <p:strVal val=""/>
                                      </p:to>
                                    </p:anim>
                                    <p:anim calcmode="lin" valueType="num">
                                      <p:cBhvr additive="repl">
                                        <p:cTn id="232" dur="1500" fill="hold">
                                          <p:stCondLst>
                                            <p:cond delay="0"/>
                                          </p:stCondLst>
                                        </p:cTn>
                                        <p:tgtEl>
                                          <p:spTgt spid="1504"/>
                                        </p:tgtEl>
                                        <p:attrNameLst>
                                          <p:attrName>ppt_h</p:attrName>
                                        </p:attrNameLst>
                                      </p:cBhvr>
                                      <p:tavLst>
                                        <p:tav tm="0">
                                          <p:val>
                                            <p:strVal val="0"/>
                                          </p:val>
                                        </p:tav>
                                        <p:tav tm="100000">
                                          <p:val>
                                            <p:strVal val="#ppt_h"/>
                                          </p:val>
                                        </p:tav>
                                      </p:tavLst>
                                      <p:to>
                                        <p:strVal val=""/>
                                      </p:to>
                                    </p:anim>
                                    <p:animEffect filter="fade" transition="in">
                                      <p:cBhvr additive="repl">
                                        <p:cTn id="233" dur="1500">
                                          <p:stCondLst>
                                            <p:cond delay="0"/>
                                          </p:stCondLst>
                                        </p:cTn>
                                        <p:tgtEl>
                                          <p:spTgt spid="1504"/>
                                        </p:tgtEl>
                                      </p:cBhvr>
                                    </p:animEffect>
                                  </p:childTnLst>
                                </p:cTn>
                              </p:par>
                              <p:par>
                                <p:cTn id="234" nodeType="withEffect" fill="hold" presetClass="entr" presetID="2" presetSubtype="8">
                                  <p:stCondLst>
                                    <p:cond delay="250"/>
                                  </p:stCondLst>
                                  <p:endCondLst>
                                    <p:cond evt="begin"/>
                                  </p:endCondLst>
                                  <p:childTnLst>
                                    <p:set>
                                      <p:cBhvr>
                                        <p:cTn id="235" dur="1" fill="hold">
                                          <p:stCondLst>
                                            <p:cond delay="0"/>
                                          </p:stCondLst>
                                        </p:cTn>
                                        <p:tgtEl>
                                          <p:spTgt spid="1506"/>
                                        </p:tgtEl>
                                        <p:attrNameLst>
                                          <p:attrName>style.visibility</p:attrName>
                                        </p:attrNameLst>
                                      </p:cBhvr>
                                      <p:to>
                                        <p:strVal val="visible"/>
                                      </p:to>
                                    </p:set>
                                    <p:anim calcmode="lin" valueType="num">
                                      <p:cBhvr additive="base">
                                        <p:cTn id="236" dur="1500" fill="hold"/>
                                        <p:tgtEl>
                                          <p:spTgt spid="1506"/>
                                        </p:tgtEl>
                                        <p:attrNameLst>
                                          <p:attrName>ppt_x</p:attrName>
                                        </p:attrNameLst>
                                      </p:cBhvr>
                                      <p:tavLst>
                                        <p:tav tm="0">
                                          <p:val>
                                            <p:strVal val="0-#ppt_w/2"/>
                                          </p:val>
                                        </p:tav>
                                        <p:tav tm="100000">
                                          <p:val>
                                            <p:strVal val="#ppt_x"/>
                                          </p:val>
                                        </p:tav>
                                      </p:tavLst>
                                    </p:anim>
                                    <p:anim calcmode="lin" valueType="num">
                                      <p:cBhvr additive="base">
                                        <p:cTn id="237" dur="1500" fill="hold"/>
                                        <p:tgtEl>
                                          <p:spTgt spid="1506"/>
                                        </p:tgtEl>
                                        <p:attrNameLst>
                                          <p:attrName>ppt_y</p:attrName>
                                        </p:attrNameLst>
                                      </p:cBhvr>
                                      <p:tavLst>
                                        <p:tav tm="0">
                                          <p:val>
                                            <p:strVal val="#ppt_y"/>
                                          </p:val>
                                        </p:tav>
                                        <p:tav tm="100000">
                                          <p:val>
                                            <p:strVal val="#ppt_y"/>
                                          </p:val>
                                        </p:tav>
                                      </p:tavLst>
                                    </p:anim>
                                    <p:set>
                                      <p:cBhvr>
                                        <p:cTn id="238" dur="1" fill="hold">
                                          <p:stCondLst>
                                            <p:cond delay="0"/>
                                          </p:stCondLst>
                                        </p:cTn>
                                        <p:tgtEl>
                                          <p:spTgt spid="1506"/>
                                        </p:tgtEl>
                                        <p:attrNameLst>
                                          <p:attrName>style.visibility</p:attrName>
                                        </p:attrNameLst>
                                      </p:cBhvr>
                                      <p:to>
                                        <p:strVal val="visible"/>
                                      </p:to>
                                    </p:set>
                                    <p:anim calcmode="lin" valueType="num">
                                      <p:cBhvr additive="repl">
                                        <p:cTn id="239" dur="1500" fill="hold">
                                          <p:stCondLst>
                                            <p:cond delay="0"/>
                                          </p:stCondLst>
                                        </p:cTn>
                                        <p:tgtEl>
                                          <p:spTgt spid="1506"/>
                                        </p:tgtEl>
                                        <p:attrNameLst>
                                          <p:attrName>ppt_w</p:attrName>
                                        </p:attrNameLst>
                                      </p:cBhvr>
                                      <p:tavLst>
                                        <p:tav tm="0">
                                          <p:val>
                                            <p:strVal val="0"/>
                                          </p:val>
                                        </p:tav>
                                        <p:tav tm="100000">
                                          <p:val>
                                            <p:strVal val="#ppt_w"/>
                                          </p:val>
                                        </p:tav>
                                      </p:tavLst>
                                      <p:to>
                                        <p:strVal val=""/>
                                      </p:to>
                                    </p:anim>
                                    <p:anim calcmode="lin" valueType="num">
                                      <p:cBhvr additive="repl">
                                        <p:cTn id="240" dur="1500" fill="hold">
                                          <p:stCondLst>
                                            <p:cond delay="0"/>
                                          </p:stCondLst>
                                        </p:cTn>
                                        <p:tgtEl>
                                          <p:spTgt spid="1506"/>
                                        </p:tgtEl>
                                        <p:attrNameLst>
                                          <p:attrName>ppt_h</p:attrName>
                                        </p:attrNameLst>
                                      </p:cBhvr>
                                      <p:tavLst>
                                        <p:tav tm="0">
                                          <p:val>
                                            <p:strVal val="0"/>
                                          </p:val>
                                        </p:tav>
                                        <p:tav tm="100000">
                                          <p:val>
                                            <p:strVal val="#ppt_h"/>
                                          </p:val>
                                        </p:tav>
                                      </p:tavLst>
                                      <p:to>
                                        <p:strVal val=""/>
                                      </p:to>
                                    </p:anim>
                                    <p:animEffect filter="fade" transition="in">
                                      <p:cBhvr additive="repl">
                                        <p:cTn id="241" dur="1500">
                                          <p:stCondLst>
                                            <p:cond delay="0"/>
                                          </p:stCondLst>
                                        </p:cTn>
                                        <p:tgtEl>
                                          <p:spTgt spid="1506"/>
                                        </p:tgtEl>
                                      </p:cBhvr>
                                    </p:animEffect>
                                  </p:childTnLst>
                                </p:cTn>
                              </p:par>
                              <p:par>
                                <p:cTn id="242" nodeType="withEffect" fill="hold" presetClass="entr" presetID="2" presetSubtype="8">
                                  <p:stCondLst>
                                    <p:cond delay="0"/>
                                  </p:stCondLst>
                                  <p:childTnLst>
                                    <p:set>
                                      <p:cBhvr>
                                        <p:cTn id="243" dur="1" fill="hold">
                                          <p:stCondLst>
                                            <p:cond delay="0"/>
                                          </p:stCondLst>
                                        </p:cTn>
                                        <p:tgtEl>
                                          <p:spTgt spid="1508"/>
                                        </p:tgtEl>
                                        <p:attrNameLst>
                                          <p:attrName>style.visibility</p:attrName>
                                        </p:attrNameLst>
                                      </p:cBhvr>
                                      <p:to>
                                        <p:strVal val="visible"/>
                                      </p:to>
                                    </p:set>
                                    <p:anim calcmode="lin" valueType="num">
                                      <p:cBhvr additive="base">
                                        <p:cTn id="244" dur="500" fill="hold"/>
                                        <p:tgtEl>
                                          <p:spTgt spid="1508"/>
                                        </p:tgtEl>
                                        <p:attrNameLst>
                                          <p:attrName>ppt_x</p:attrName>
                                        </p:attrNameLst>
                                      </p:cBhvr>
                                      <p:tavLst>
                                        <p:tav tm="0">
                                          <p:val>
                                            <p:strVal val="0-#ppt_w/2"/>
                                          </p:val>
                                        </p:tav>
                                        <p:tav tm="100000">
                                          <p:val>
                                            <p:strVal val="#ppt_x"/>
                                          </p:val>
                                        </p:tav>
                                      </p:tavLst>
                                    </p:anim>
                                    <p:anim calcmode="lin" valueType="num">
                                      <p:cBhvr additive="base">
                                        <p:cTn id="245" dur="500" fill="hold"/>
                                        <p:tgtEl>
                                          <p:spTgt spid="15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0" name="图片 2" descr=""/>
          <p:cNvPicPr/>
          <p:nvPr/>
        </p:nvPicPr>
        <p:blipFill>
          <a:blip r:embed="rId1"/>
          <a:stretch/>
        </p:blipFill>
        <p:spPr>
          <a:xfrm>
            <a:off x="1073160" y="1338120"/>
            <a:ext cx="3908520" cy="4711680"/>
          </a:xfrm>
          <a:prstGeom prst="rect">
            <a:avLst/>
          </a:prstGeom>
          <a:ln w="0">
            <a:noFill/>
          </a:ln>
        </p:spPr>
      </p:pic>
      <p:sp>
        <p:nvSpPr>
          <p:cNvPr id="1511" name="Freeform 171"/>
          <p:cNvSpPr/>
          <p:nvPr/>
        </p:nvSpPr>
        <p:spPr>
          <a:xfrm>
            <a:off x="4967280" y="2050920"/>
            <a:ext cx="488880" cy="419400"/>
          </a:xfrm>
          <a:custGeom>
            <a:avLst/>
            <a:gdLst/>
            <a:ahLst/>
            <a:rect l="l" t="t" r="r" b="b"/>
            <a:pathLst>
              <a:path w="169" h="145">
                <a:moveTo>
                  <a:pt x="169" y="40"/>
                </a:moveTo>
                <a:cubicBezTo>
                  <a:pt x="169" y="76"/>
                  <a:pt x="169" y="76"/>
                  <a:pt x="169" y="76"/>
                </a:cubicBezTo>
                <a:cubicBezTo>
                  <a:pt x="0" y="76"/>
                  <a:pt x="0" y="76"/>
                  <a:pt x="0" y="76"/>
                </a:cubicBezTo>
                <a:cubicBezTo>
                  <a:pt x="0" y="40"/>
                  <a:pt x="0" y="40"/>
                  <a:pt x="0" y="40"/>
                </a:cubicBezTo>
                <a:cubicBezTo>
                  <a:pt x="0" y="35"/>
                  <a:pt x="1" y="32"/>
                  <a:pt x="4" y="29"/>
                </a:cubicBezTo>
                <a:cubicBezTo>
                  <a:pt x="7" y="26"/>
                  <a:pt x="11" y="24"/>
                  <a:pt x="15" y="24"/>
                </a:cubicBezTo>
                <a:cubicBezTo>
                  <a:pt x="48" y="24"/>
                  <a:pt x="48" y="24"/>
                  <a:pt x="48" y="24"/>
                </a:cubicBezTo>
                <a:cubicBezTo>
                  <a:pt x="48" y="9"/>
                  <a:pt x="48" y="9"/>
                  <a:pt x="48" y="9"/>
                </a:cubicBezTo>
                <a:cubicBezTo>
                  <a:pt x="48" y="7"/>
                  <a:pt x="49" y="5"/>
                  <a:pt x="51" y="3"/>
                </a:cubicBezTo>
                <a:cubicBezTo>
                  <a:pt x="53" y="1"/>
                  <a:pt x="55" y="0"/>
                  <a:pt x="57" y="0"/>
                </a:cubicBezTo>
                <a:cubicBezTo>
                  <a:pt x="112" y="0"/>
                  <a:pt x="112" y="0"/>
                  <a:pt x="112" y="0"/>
                </a:cubicBezTo>
                <a:cubicBezTo>
                  <a:pt x="114" y="0"/>
                  <a:pt x="116" y="1"/>
                  <a:pt x="118" y="3"/>
                </a:cubicBezTo>
                <a:cubicBezTo>
                  <a:pt x="120" y="5"/>
                  <a:pt x="121" y="7"/>
                  <a:pt x="121" y="9"/>
                </a:cubicBezTo>
                <a:cubicBezTo>
                  <a:pt x="121" y="24"/>
                  <a:pt x="121" y="24"/>
                  <a:pt x="121" y="24"/>
                </a:cubicBezTo>
                <a:cubicBezTo>
                  <a:pt x="154" y="24"/>
                  <a:pt x="154" y="24"/>
                  <a:pt x="154" y="24"/>
                </a:cubicBezTo>
                <a:cubicBezTo>
                  <a:pt x="158" y="24"/>
                  <a:pt x="162" y="26"/>
                  <a:pt x="165" y="29"/>
                </a:cubicBezTo>
                <a:cubicBezTo>
                  <a:pt x="168" y="32"/>
                  <a:pt x="169" y="35"/>
                  <a:pt x="169" y="40"/>
                </a:cubicBezTo>
                <a:close/>
                <a:moveTo>
                  <a:pt x="169" y="85"/>
                </a:moveTo>
                <a:cubicBezTo>
                  <a:pt x="169" y="130"/>
                  <a:pt x="169" y="130"/>
                  <a:pt x="169" y="130"/>
                </a:cubicBezTo>
                <a:cubicBezTo>
                  <a:pt x="169" y="134"/>
                  <a:pt x="168" y="138"/>
                  <a:pt x="165" y="141"/>
                </a:cubicBezTo>
                <a:cubicBezTo>
                  <a:pt x="162" y="144"/>
                  <a:pt x="158" y="145"/>
                  <a:pt x="154" y="145"/>
                </a:cubicBezTo>
                <a:cubicBezTo>
                  <a:pt x="15" y="145"/>
                  <a:pt x="15" y="145"/>
                  <a:pt x="15" y="145"/>
                </a:cubicBezTo>
                <a:cubicBezTo>
                  <a:pt x="11" y="145"/>
                  <a:pt x="7" y="144"/>
                  <a:pt x="4" y="141"/>
                </a:cubicBezTo>
                <a:cubicBezTo>
                  <a:pt x="1" y="138"/>
                  <a:pt x="0" y="134"/>
                  <a:pt x="0" y="130"/>
                </a:cubicBezTo>
                <a:cubicBezTo>
                  <a:pt x="0" y="85"/>
                  <a:pt x="0" y="85"/>
                  <a:pt x="0" y="85"/>
                </a:cubicBezTo>
                <a:cubicBezTo>
                  <a:pt x="63" y="85"/>
                  <a:pt x="63" y="85"/>
                  <a:pt x="63" y="85"/>
                </a:cubicBezTo>
                <a:cubicBezTo>
                  <a:pt x="63" y="100"/>
                  <a:pt x="63" y="100"/>
                  <a:pt x="63" y="100"/>
                </a:cubicBezTo>
                <a:cubicBezTo>
                  <a:pt x="63" y="102"/>
                  <a:pt x="64" y="103"/>
                  <a:pt x="65" y="104"/>
                </a:cubicBezTo>
                <a:cubicBezTo>
                  <a:pt x="66" y="106"/>
                  <a:pt x="68" y="106"/>
                  <a:pt x="69" y="106"/>
                </a:cubicBezTo>
                <a:cubicBezTo>
                  <a:pt x="100" y="106"/>
                  <a:pt x="100" y="106"/>
                  <a:pt x="100" y="106"/>
                </a:cubicBezTo>
                <a:cubicBezTo>
                  <a:pt x="101" y="106"/>
                  <a:pt x="103" y="106"/>
                  <a:pt x="104" y="104"/>
                </a:cubicBezTo>
                <a:cubicBezTo>
                  <a:pt x="105" y="103"/>
                  <a:pt x="106" y="102"/>
                  <a:pt x="106" y="100"/>
                </a:cubicBezTo>
                <a:cubicBezTo>
                  <a:pt x="106" y="85"/>
                  <a:pt x="106" y="85"/>
                  <a:pt x="106" y="85"/>
                </a:cubicBezTo>
                <a:lnTo>
                  <a:pt x="169" y="85"/>
                </a:lnTo>
                <a:close/>
                <a:moveTo>
                  <a:pt x="60" y="24"/>
                </a:moveTo>
                <a:cubicBezTo>
                  <a:pt x="109" y="24"/>
                  <a:pt x="109" y="24"/>
                  <a:pt x="109" y="24"/>
                </a:cubicBezTo>
                <a:cubicBezTo>
                  <a:pt x="109" y="12"/>
                  <a:pt x="109" y="12"/>
                  <a:pt x="109" y="12"/>
                </a:cubicBezTo>
                <a:cubicBezTo>
                  <a:pt x="60" y="12"/>
                  <a:pt x="60" y="12"/>
                  <a:pt x="60" y="12"/>
                </a:cubicBezTo>
                <a:lnTo>
                  <a:pt x="60" y="24"/>
                </a:lnTo>
                <a:close/>
                <a:moveTo>
                  <a:pt x="97" y="85"/>
                </a:moveTo>
                <a:cubicBezTo>
                  <a:pt x="97" y="97"/>
                  <a:pt x="97" y="97"/>
                  <a:pt x="97" y="97"/>
                </a:cubicBezTo>
                <a:cubicBezTo>
                  <a:pt x="72" y="97"/>
                  <a:pt x="72" y="97"/>
                  <a:pt x="72" y="97"/>
                </a:cubicBezTo>
                <a:cubicBezTo>
                  <a:pt x="72" y="85"/>
                  <a:pt x="72" y="85"/>
                  <a:pt x="72" y="85"/>
                </a:cubicBezTo>
                <a:lnTo>
                  <a:pt x="97" y="85"/>
                </a:lnTo>
                <a:close/>
              </a:path>
            </a:pathLst>
          </a:custGeom>
          <a:solidFill>
            <a:srgbClr val="75cfd9"/>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12" name="TextBox 23"/>
          <p:cNvSpPr/>
          <p:nvPr/>
        </p:nvSpPr>
        <p:spPr>
          <a:xfrm>
            <a:off x="5006880" y="784080"/>
            <a:ext cx="79329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造字工房尚雅（非商用）常规体"/>
                <a:ea typeface="造字工房尚雅（非商用）常规体"/>
              </a:rPr>
              <a:t>（二）继续教育专项附加扣除</a:t>
            </a:r>
            <a:endParaRPr b="0" lang="en-US" sz="2800" spc="-1" strike="noStrike">
              <a:solidFill>
                <a:srgbClr val="262626"/>
              </a:solidFill>
              <a:latin typeface="Arial"/>
            </a:endParaRPr>
          </a:p>
        </p:txBody>
      </p:sp>
      <p:sp>
        <p:nvSpPr>
          <p:cNvPr id="1513" name="Rectangle 25"/>
          <p:cNvSpPr/>
          <p:nvPr/>
        </p:nvSpPr>
        <p:spPr>
          <a:xfrm>
            <a:off x="5432400" y="1387440"/>
            <a:ext cx="5211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造字工房尚雅（非商用）常规体"/>
                <a:ea typeface="造字工房尚雅（非商用）常规体"/>
              </a:rPr>
              <a:t>1</a:t>
            </a:r>
            <a:r>
              <a:rPr b="0" lang="zh-CN" sz="2400" spc="-1" strike="noStrike">
                <a:solidFill>
                  <a:srgbClr val="ff0000"/>
                </a:solidFill>
                <a:latin typeface="造字工房尚雅（非商用）常规体"/>
                <a:ea typeface="造字工房尚雅（非商用）常规体"/>
              </a:rPr>
              <a:t>、扣除范围和标准</a:t>
            </a:r>
            <a:endParaRPr b="0" lang="en-US" sz="2400" spc="-1" strike="noStrike">
              <a:solidFill>
                <a:srgbClr val="26262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514" name="Freeform 173"/>
          <p:cNvSpPr/>
          <p:nvPr/>
        </p:nvSpPr>
        <p:spPr>
          <a:xfrm>
            <a:off x="5095800" y="4226040"/>
            <a:ext cx="447840" cy="419040"/>
          </a:xfrm>
          <a:custGeom>
            <a:avLst/>
            <a:gdLst/>
            <a:ahLst/>
            <a:rect l="l" t="t" r="r" b="b"/>
            <a:pathLst>
              <a:path w="182" h="170">
                <a:moveTo>
                  <a:pt x="56" y="85"/>
                </a:moveTo>
                <a:cubicBezTo>
                  <a:pt x="46" y="85"/>
                  <a:pt x="37" y="89"/>
                  <a:pt x="31" y="97"/>
                </a:cubicBezTo>
                <a:cubicBezTo>
                  <a:pt x="18" y="97"/>
                  <a:pt x="18" y="97"/>
                  <a:pt x="18" y="97"/>
                </a:cubicBezTo>
                <a:cubicBezTo>
                  <a:pt x="13" y="97"/>
                  <a:pt x="9" y="96"/>
                  <a:pt x="5" y="93"/>
                </a:cubicBezTo>
                <a:cubicBezTo>
                  <a:pt x="2" y="91"/>
                  <a:pt x="0" y="87"/>
                  <a:pt x="0" y="82"/>
                </a:cubicBezTo>
                <a:cubicBezTo>
                  <a:pt x="0" y="60"/>
                  <a:pt x="4" y="49"/>
                  <a:pt x="12" y="49"/>
                </a:cubicBezTo>
                <a:cubicBezTo>
                  <a:pt x="12" y="49"/>
                  <a:pt x="13" y="49"/>
                  <a:pt x="16" y="51"/>
                </a:cubicBezTo>
                <a:cubicBezTo>
                  <a:pt x="18" y="52"/>
                  <a:pt x="21" y="53"/>
                  <a:pt x="25" y="55"/>
                </a:cubicBezTo>
                <a:cubicBezTo>
                  <a:pt x="29" y="56"/>
                  <a:pt x="33" y="57"/>
                  <a:pt x="36" y="57"/>
                </a:cubicBezTo>
                <a:cubicBezTo>
                  <a:pt x="41" y="57"/>
                  <a:pt x="45" y="56"/>
                  <a:pt x="49" y="54"/>
                </a:cubicBezTo>
                <a:cubicBezTo>
                  <a:pt x="49" y="57"/>
                  <a:pt x="48" y="59"/>
                  <a:pt x="48" y="61"/>
                </a:cubicBezTo>
                <a:cubicBezTo>
                  <a:pt x="48" y="69"/>
                  <a:pt x="51" y="78"/>
                  <a:pt x="56" y="85"/>
                </a:cubicBezTo>
                <a:close/>
                <a:moveTo>
                  <a:pt x="53" y="7"/>
                </a:moveTo>
                <a:cubicBezTo>
                  <a:pt x="58" y="12"/>
                  <a:pt x="61" y="18"/>
                  <a:pt x="61" y="24"/>
                </a:cubicBezTo>
                <a:cubicBezTo>
                  <a:pt x="61" y="31"/>
                  <a:pt x="58" y="37"/>
                  <a:pt x="53" y="42"/>
                </a:cubicBezTo>
                <a:cubicBezTo>
                  <a:pt x="49" y="46"/>
                  <a:pt x="43" y="49"/>
                  <a:pt x="36" y="49"/>
                </a:cubicBezTo>
                <a:cubicBezTo>
                  <a:pt x="30" y="49"/>
                  <a:pt x="24" y="46"/>
                  <a:pt x="19" y="42"/>
                </a:cubicBezTo>
                <a:cubicBezTo>
                  <a:pt x="14" y="37"/>
                  <a:pt x="12" y="31"/>
                  <a:pt x="12" y="24"/>
                </a:cubicBezTo>
                <a:cubicBezTo>
                  <a:pt x="12" y="18"/>
                  <a:pt x="14" y="12"/>
                  <a:pt x="19" y="7"/>
                </a:cubicBezTo>
                <a:cubicBezTo>
                  <a:pt x="24" y="3"/>
                  <a:pt x="30" y="0"/>
                  <a:pt x="36" y="0"/>
                </a:cubicBezTo>
                <a:cubicBezTo>
                  <a:pt x="43" y="0"/>
                  <a:pt x="49" y="3"/>
                  <a:pt x="53" y="7"/>
                </a:cubicBezTo>
                <a:close/>
                <a:moveTo>
                  <a:pt x="157" y="145"/>
                </a:moveTo>
                <a:cubicBezTo>
                  <a:pt x="157" y="153"/>
                  <a:pt x="155" y="159"/>
                  <a:pt x="150" y="163"/>
                </a:cubicBezTo>
                <a:cubicBezTo>
                  <a:pt x="146" y="167"/>
                  <a:pt x="140" y="170"/>
                  <a:pt x="132" y="170"/>
                </a:cubicBezTo>
                <a:cubicBezTo>
                  <a:pt x="49" y="170"/>
                  <a:pt x="49" y="170"/>
                  <a:pt x="49" y="170"/>
                </a:cubicBezTo>
                <a:cubicBezTo>
                  <a:pt x="42" y="170"/>
                  <a:pt x="36" y="167"/>
                  <a:pt x="31" y="163"/>
                </a:cubicBezTo>
                <a:cubicBezTo>
                  <a:pt x="26" y="159"/>
                  <a:pt x="24" y="153"/>
                  <a:pt x="24" y="145"/>
                </a:cubicBezTo>
                <a:cubicBezTo>
                  <a:pt x="24" y="142"/>
                  <a:pt x="24" y="139"/>
                  <a:pt x="25" y="135"/>
                </a:cubicBezTo>
                <a:cubicBezTo>
                  <a:pt x="25" y="132"/>
                  <a:pt x="25" y="129"/>
                  <a:pt x="26" y="125"/>
                </a:cubicBezTo>
                <a:cubicBezTo>
                  <a:pt x="27" y="121"/>
                  <a:pt x="27" y="118"/>
                  <a:pt x="28" y="115"/>
                </a:cubicBezTo>
                <a:cubicBezTo>
                  <a:pt x="29" y="112"/>
                  <a:pt x="31" y="109"/>
                  <a:pt x="32" y="106"/>
                </a:cubicBezTo>
                <a:cubicBezTo>
                  <a:pt x="34" y="103"/>
                  <a:pt x="36" y="100"/>
                  <a:pt x="38" y="98"/>
                </a:cubicBezTo>
                <a:cubicBezTo>
                  <a:pt x="40" y="96"/>
                  <a:pt x="43" y="94"/>
                  <a:pt x="46" y="93"/>
                </a:cubicBezTo>
                <a:cubicBezTo>
                  <a:pt x="50" y="92"/>
                  <a:pt x="53" y="91"/>
                  <a:pt x="57" y="91"/>
                </a:cubicBezTo>
                <a:cubicBezTo>
                  <a:pt x="58" y="91"/>
                  <a:pt x="59" y="92"/>
                  <a:pt x="61" y="93"/>
                </a:cubicBezTo>
                <a:cubicBezTo>
                  <a:pt x="63" y="94"/>
                  <a:pt x="65" y="96"/>
                  <a:pt x="68" y="98"/>
                </a:cubicBezTo>
                <a:cubicBezTo>
                  <a:pt x="70" y="99"/>
                  <a:pt x="74" y="101"/>
                  <a:pt x="78" y="102"/>
                </a:cubicBezTo>
                <a:cubicBezTo>
                  <a:pt x="82" y="103"/>
                  <a:pt x="86" y="104"/>
                  <a:pt x="91" y="104"/>
                </a:cubicBezTo>
                <a:cubicBezTo>
                  <a:pt x="95" y="104"/>
                  <a:pt x="99" y="103"/>
                  <a:pt x="104" y="102"/>
                </a:cubicBezTo>
                <a:cubicBezTo>
                  <a:pt x="108" y="101"/>
                  <a:pt x="111" y="99"/>
                  <a:pt x="114" y="98"/>
                </a:cubicBezTo>
                <a:cubicBezTo>
                  <a:pt x="116" y="96"/>
                  <a:pt x="118" y="94"/>
                  <a:pt x="121" y="93"/>
                </a:cubicBezTo>
                <a:cubicBezTo>
                  <a:pt x="123" y="92"/>
                  <a:pt x="124" y="91"/>
                  <a:pt x="125" y="91"/>
                </a:cubicBezTo>
                <a:cubicBezTo>
                  <a:pt x="128" y="91"/>
                  <a:pt x="132" y="92"/>
                  <a:pt x="135" y="93"/>
                </a:cubicBezTo>
                <a:cubicBezTo>
                  <a:pt x="138" y="94"/>
                  <a:pt x="141" y="96"/>
                  <a:pt x="143" y="98"/>
                </a:cubicBezTo>
                <a:cubicBezTo>
                  <a:pt x="145" y="100"/>
                  <a:pt x="147" y="103"/>
                  <a:pt x="149" y="106"/>
                </a:cubicBezTo>
                <a:cubicBezTo>
                  <a:pt x="151" y="109"/>
                  <a:pt x="152" y="112"/>
                  <a:pt x="153" y="115"/>
                </a:cubicBezTo>
                <a:cubicBezTo>
                  <a:pt x="154" y="118"/>
                  <a:pt x="155" y="121"/>
                  <a:pt x="156" y="125"/>
                </a:cubicBezTo>
                <a:cubicBezTo>
                  <a:pt x="156" y="129"/>
                  <a:pt x="157" y="132"/>
                  <a:pt x="157" y="135"/>
                </a:cubicBezTo>
                <a:cubicBezTo>
                  <a:pt x="157" y="139"/>
                  <a:pt x="157" y="142"/>
                  <a:pt x="157" y="145"/>
                </a:cubicBezTo>
                <a:close/>
                <a:moveTo>
                  <a:pt x="116" y="35"/>
                </a:moveTo>
                <a:cubicBezTo>
                  <a:pt x="124" y="42"/>
                  <a:pt x="127" y="51"/>
                  <a:pt x="127" y="61"/>
                </a:cubicBezTo>
                <a:cubicBezTo>
                  <a:pt x="127" y="71"/>
                  <a:pt x="124" y="79"/>
                  <a:pt x="116" y="86"/>
                </a:cubicBezTo>
                <a:cubicBezTo>
                  <a:pt x="109" y="93"/>
                  <a:pt x="101" y="97"/>
                  <a:pt x="91" y="97"/>
                </a:cubicBezTo>
                <a:cubicBezTo>
                  <a:pt x="81" y="97"/>
                  <a:pt x="72" y="93"/>
                  <a:pt x="65" y="86"/>
                </a:cubicBezTo>
                <a:cubicBezTo>
                  <a:pt x="58" y="79"/>
                  <a:pt x="54" y="71"/>
                  <a:pt x="54" y="61"/>
                </a:cubicBezTo>
                <a:cubicBezTo>
                  <a:pt x="54" y="51"/>
                  <a:pt x="58" y="42"/>
                  <a:pt x="65" y="35"/>
                </a:cubicBezTo>
                <a:cubicBezTo>
                  <a:pt x="72" y="28"/>
                  <a:pt x="81" y="24"/>
                  <a:pt x="91" y="24"/>
                </a:cubicBezTo>
                <a:cubicBezTo>
                  <a:pt x="101" y="24"/>
                  <a:pt x="109" y="28"/>
                  <a:pt x="116" y="35"/>
                </a:cubicBezTo>
                <a:close/>
                <a:moveTo>
                  <a:pt x="162" y="7"/>
                </a:moveTo>
                <a:cubicBezTo>
                  <a:pt x="167" y="12"/>
                  <a:pt x="169" y="18"/>
                  <a:pt x="169" y="24"/>
                </a:cubicBezTo>
                <a:cubicBezTo>
                  <a:pt x="169" y="31"/>
                  <a:pt x="167" y="37"/>
                  <a:pt x="162" y="42"/>
                </a:cubicBezTo>
                <a:cubicBezTo>
                  <a:pt x="158" y="46"/>
                  <a:pt x="152" y="49"/>
                  <a:pt x="145" y="49"/>
                </a:cubicBezTo>
                <a:cubicBezTo>
                  <a:pt x="139" y="49"/>
                  <a:pt x="133" y="46"/>
                  <a:pt x="128" y="42"/>
                </a:cubicBezTo>
                <a:cubicBezTo>
                  <a:pt x="123" y="37"/>
                  <a:pt x="121" y="31"/>
                  <a:pt x="121" y="24"/>
                </a:cubicBezTo>
                <a:cubicBezTo>
                  <a:pt x="121" y="18"/>
                  <a:pt x="123" y="12"/>
                  <a:pt x="128" y="7"/>
                </a:cubicBezTo>
                <a:cubicBezTo>
                  <a:pt x="133" y="3"/>
                  <a:pt x="139" y="0"/>
                  <a:pt x="145" y="0"/>
                </a:cubicBezTo>
                <a:cubicBezTo>
                  <a:pt x="152" y="0"/>
                  <a:pt x="158" y="3"/>
                  <a:pt x="162" y="7"/>
                </a:cubicBezTo>
                <a:close/>
                <a:moveTo>
                  <a:pt x="182" y="82"/>
                </a:moveTo>
                <a:cubicBezTo>
                  <a:pt x="182" y="87"/>
                  <a:pt x="180" y="91"/>
                  <a:pt x="176" y="93"/>
                </a:cubicBezTo>
                <a:cubicBezTo>
                  <a:pt x="173" y="96"/>
                  <a:pt x="168" y="97"/>
                  <a:pt x="163" y="97"/>
                </a:cubicBezTo>
                <a:cubicBezTo>
                  <a:pt x="151" y="97"/>
                  <a:pt x="151" y="97"/>
                  <a:pt x="151" y="97"/>
                </a:cubicBezTo>
                <a:cubicBezTo>
                  <a:pt x="144" y="89"/>
                  <a:pt x="136" y="85"/>
                  <a:pt x="125" y="85"/>
                </a:cubicBezTo>
                <a:cubicBezTo>
                  <a:pt x="131" y="78"/>
                  <a:pt x="133" y="69"/>
                  <a:pt x="133" y="61"/>
                </a:cubicBezTo>
                <a:cubicBezTo>
                  <a:pt x="133" y="59"/>
                  <a:pt x="133" y="57"/>
                  <a:pt x="133" y="54"/>
                </a:cubicBezTo>
                <a:cubicBezTo>
                  <a:pt x="137" y="56"/>
                  <a:pt x="141" y="57"/>
                  <a:pt x="145" y="57"/>
                </a:cubicBezTo>
                <a:cubicBezTo>
                  <a:pt x="149" y="57"/>
                  <a:pt x="153" y="56"/>
                  <a:pt x="156" y="55"/>
                </a:cubicBezTo>
                <a:cubicBezTo>
                  <a:pt x="160" y="53"/>
                  <a:pt x="163" y="52"/>
                  <a:pt x="166" y="51"/>
                </a:cubicBezTo>
                <a:cubicBezTo>
                  <a:pt x="168" y="49"/>
                  <a:pt x="169" y="49"/>
                  <a:pt x="170" y="49"/>
                </a:cubicBezTo>
                <a:cubicBezTo>
                  <a:pt x="178" y="49"/>
                  <a:pt x="182" y="60"/>
                  <a:pt x="182" y="82"/>
                </a:cubicBezTo>
                <a:close/>
              </a:path>
            </a:pathLst>
          </a:custGeom>
          <a:solidFill>
            <a:srgbClr val="4ec1c2"/>
          </a:solidFill>
          <a:ln w="0">
            <a:noFill/>
          </a:ln>
          <a:effectLst>
            <a:outerShdw dist="266777" dir="81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sp>
        <p:nvSpPr>
          <p:cNvPr id="1515" name="Freeform 130"/>
          <p:cNvSpPr/>
          <p:nvPr/>
        </p:nvSpPr>
        <p:spPr>
          <a:xfrm>
            <a:off x="5160960" y="5541840"/>
            <a:ext cx="455760" cy="419400"/>
          </a:xfrm>
          <a:custGeom>
            <a:avLst/>
            <a:gdLst/>
            <a:ahLst/>
            <a:rect l="l" t="t" r="r" b="b"/>
            <a:pathLst>
              <a:path w="181" h="166">
                <a:moveTo>
                  <a:pt x="121" y="74"/>
                </a:moveTo>
                <a:cubicBezTo>
                  <a:pt x="121" y="92"/>
                  <a:pt x="121" y="92"/>
                  <a:pt x="121" y="92"/>
                </a:cubicBezTo>
                <a:cubicBezTo>
                  <a:pt x="121" y="92"/>
                  <a:pt x="120" y="93"/>
                  <a:pt x="120" y="94"/>
                </a:cubicBezTo>
                <a:cubicBezTo>
                  <a:pt x="120" y="94"/>
                  <a:pt x="119" y="95"/>
                  <a:pt x="118" y="95"/>
                </a:cubicBezTo>
                <a:cubicBezTo>
                  <a:pt x="104" y="97"/>
                  <a:pt x="104" y="97"/>
                  <a:pt x="104" y="97"/>
                </a:cubicBezTo>
                <a:cubicBezTo>
                  <a:pt x="103" y="99"/>
                  <a:pt x="102" y="102"/>
                  <a:pt x="101" y="104"/>
                </a:cubicBezTo>
                <a:cubicBezTo>
                  <a:pt x="103" y="107"/>
                  <a:pt x="106" y="111"/>
                  <a:pt x="109" y="115"/>
                </a:cubicBezTo>
                <a:cubicBezTo>
                  <a:pt x="110" y="116"/>
                  <a:pt x="110" y="116"/>
                  <a:pt x="110" y="117"/>
                </a:cubicBezTo>
                <a:cubicBezTo>
                  <a:pt x="110" y="118"/>
                  <a:pt x="110" y="118"/>
                  <a:pt x="109" y="119"/>
                </a:cubicBezTo>
                <a:cubicBezTo>
                  <a:pt x="108" y="121"/>
                  <a:pt x="105" y="123"/>
                  <a:pt x="101" y="127"/>
                </a:cubicBezTo>
                <a:cubicBezTo>
                  <a:pt x="98" y="131"/>
                  <a:pt x="95" y="133"/>
                  <a:pt x="94" y="133"/>
                </a:cubicBezTo>
                <a:cubicBezTo>
                  <a:pt x="93" y="133"/>
                  <a:pt x="93" y="133"/>
                  <a:pt x="92" y="132"/>
                </a:cubicBezTo>
                <a:cubicBezTo>
                  <a:pt x="81" y="124"/>
                  <a:pt x="81" y="124"/>
                  <a:pt x="81" y="124"/>
                </a:cubicBezTo>
                <a:cubicBezTo>
                  <a:pt x="79" y="125"/>
                  <a:pt x="76" y="126"/>
                  <a:pt x="74" y="127"/>
                </a:cubicBezTo>
                <a:cubicBezTo>
                  <a:pt x="73" y="133"/>
                  <a:pt x="72" y="138"/>
                  <a:pt x="72" y="141"/>
                </a:cubicBezTo>
                <a:cubicBezTo>
                  <a:pt x="71" y="143"/>
                  <a:pt x="70" y="143"/>
                  <a:pt x="69" y="143"/>
                </a:cubicBezTo>
                <a:cubicBezTo>
                  <a:pt x="51" y="143"/>
                  <a:pt x="51" y="143"/>
                  <a:pt x="51" y="143"/>
                </a:cubicBezTo>
                <a:cubicBezTo>
                  <a:pt x="51" y="143"/>
                  <a:pt x="50" y="143"/>
                  <a:pt x="49" y="143"/>
                </a:cubicBezTo>
                <a:cubicBezTo>
                  <a:pt x="49" y="142"/>
                  <a:pt x="49" y="142"/>
                  <a:pt x="48" y="141"/>
                </a:cubicBezTo>
                <a:cubicBezTo>
                  <a:pt x="46" y="127"/>
                  <a:pt x="46" y="127"/>
                  <a:pt x="46" y="127"/>
                </a:cubicBezTo>
                <a:cubicBezTo>
                  <a:pt x="44" y="126"/>
                  <a:pt x="42" y="125"/>
                  <a:pt x="39" y="124"/>
                </a:cubicBezTo>
                <a:cubicBezTo>
                  <a:pt x="28" y="132"/>
                  <a:pt x="28" y="132"/>
                  <a:pt x="28" y="132"/>
                </a:cubicBezTo>
                <a:cubicBezTo>
                  <a:pt x="28" y="133"/>
                  <a:pt x="27" y="133"/>
                  <a:pt x="26" y="133"/>
                </a:cubicBezTo>
                <a:cubicBezTo>
                  <a:pt x="25" y="133"/>
                  <a:pt x="25" y="133"/>
                  <a:pt x="24" y="132"/>
                </a:cubicBezTo>
                <a:cubicBezTo>
                  <a:pt x="15" y="124"/>
                  <a:pt x="11" y="119"/>
                  <a:pt x="11" y="117"/>
                </a:cubicBezTo>
                <a:cubicBezTo>
                  <a:pt x="11" y="116"/>
                  <a:pt x="11" y="116"/>
                  <a:pt x="11" y="115"/>
                </a:cubicBezTo>
                <a:cubicBezTo>
                  <a:pt x="12" y="114"/>
                  <a:pt x="13" y="113"/>
                  <a:pt x="15" y="110"/>
                </a:cubicBezTo>
                <a:cubicBezTo>
                  <a:pt x="17" y="108"/>
                  <a:pt x="19" y="106"/>
                  <a:pt x="20" y="104"/>
                </a:cubicBezTo>
                <a:cubicBezTo>
                  <a:pt x="18" y="102"/>
                  <a:pt x="17" y="99"/>
                  <a:pt x="16" y="97"/>
                </a:cubicBezTo>
                <a:cubicBezTo>
                  <a:pt x="2" y="94"/>
                  <a:pt x="2" y="94"/>
                  <a:pt x="2" y="94"/>
                </a:cubicBezTo>
                <a:cubicBezTo>
                  <a:pt x="1" y="94"/>
                  <a:pt x="1" y="94"/>
                  <a:pt x="0" y="93"/>
                </a:cubicBezTo>
                <a:cubicBezTo>
                  <a:pt x="0" y="93"/>
                  <a:pt x="0" y="92"/>
                  <a:pt x="0" y="92"/>
                </a:cubicBezTo>
                <a:cubicBezTo>
                  <a:pt x="0" y="74"/>
                  <a:pt x="0" y="74"/>
                  <a:pt x="0" y="74"/>
                </a:cubicBezTo>
                <a:cubicBezTo>
                  <a:pt x="0" y="73"/>
                  <a:pt x="0" y="73"/>
                  <a:pt x="0" y="72"/>
                </a:cubicBezTo>
                <a:cubicBezTo>
                  <a:pt x="1" y="72"/>
                  <a:pt x="1" y="71"/>
                  <a:pt x="2" y="71"/>
                </a:cubicBezTo>
                <a:cubicBezTo>
                  <a:pt x="16" y="69"/>
                  <a:pt x="16" y="69"/>
                  <a:pt x="16" y="69"/>
                </a:cubicBezTo>
                <a:cubicBezTo>
                  <a:pt x="17" y="67"/>
                  <a:pt x="18" y="64"/>
                  <a:pt x="19" y="62"/>
                </a:cubicBezTo>
                <a:cubicBezTo>
                  <a:pt x="17" y="59"/>
                  <a:pt x="14" y="55"/>
                  <a:pt x="11" y="51"/>
                </a:cubicBezTo>
                <a:cubicBezTo>
                  <a:pt x="10" y="50"/>
                  <a:pt x="10" y="50"/>
                  <a:pt x="10" y="49"/>
                </a:cubicBezTo>
                <a:cubicBezTo>
                  <a:pt x="10" y="48"/>
                  <a:pt x="10" y="48"/>
                  <a:pt x="11" y="47"/>
                </a:cubicBezTo>
                <a:cubicBezTo>
                  <a:pt x="12" y="45"/>
                  <a:pt x="15" y="42"/>
                  <a:pt x="19" y="39"/>
                </a:cubicBezTo>
                <a:cubicBezTo>
                  <a:pt x="22" y="35"/>
                  <a:pt x="25" y="33"/>
                  <a:pt x="26" y="33"/>
                </a:cubicBezTo>
                <a:cubicBezTo>
                  <a:pt x="27" y="33"/>
                  <a:pt x="28" y="33"/>
                  <a:pt x="28" y="34"/>
                </a:cubicBezTo>
                <a:cubicBezTo>
                  <a:pt x="39" y="42"/>
                  <a:pt x="39" y="42"/>
                  <a:pt x="39" y="42"/>
                </a:cubicBezTo>
                <a:cubicBezTo>
                  <a:pt x="41" y="41"/>
                  <a:pt x="44" y="40"/>
                  <a:pt x="46" y="39"/>
                </a:cubicBezTo>
                <a:cubicBezTo>
                  <a:pt x="47" y="32"/>
                  <a:pt x="48" y="28"/>
                  <a:pt x="48" y="25"/>
                </a:cubicBezTo>
                <a:cubicBezTo>
                  <a:pt x="49" y="23"/>
                  <a:pt x="50" y="22"/>
                  <a:pt x="51" y="22"/>
                </a:cubicBezTo>
                <a:cubicBezTo>
                  <a:pt x="69" y="22"/>
                  <a:pt x="69" y="22"/>
                  <a:pt x="69" y="22"/>
                </a:cubicBezTo>
                <a:cubicBezTo>
                  <a:pt x="70" y="22"/>
                  <a:pt x="70" y="23"/>
                  <a:pt x="71" y="23"/>
                </a:cubicBezTo>
                <a:cubicBezTo>
                  <a:pt x="71" y="24"/>
                  <a:pt x="72" y="24"/>
                  <a:pt x="72" y="25"/>
                </a:cubicBezTo>
                <a:cubicBezTo>
                  <a:pt x="74" y="39"/>
                  <a:pt x="74" y="39"/>
                  <a:pt x="74" y="39"/>
                </a:cubicBezTo>
                <a:cubicBezTo>
                  <a:pt x="76" y="40"/>
                  <a:pt x="78" y="41"/>
                  <a:pt x="81" y="42"/>
                </a:cubicBezTo>
                <a:cubicBezTo>
                  <a:pt x="92" y="34"/>
                  <a:pt x="92" y="34"/>
                  <a:pt x="92" y="34"/>
                </a:cubicBezTo>
                <a:cubicBezTo>
                  <a:pt x="93" y="33"/>
                  <a:pt x="93" y="33"/>
                  <a:pt x="94" y="33"/>
                </a:cubicBezTo>
                <a:cubicBezTo>
                  <a:pt x="95" y="33"/>
                  <a:pt x="95" y="33"/>
                  <a:pt x="96" y="34"/>
                </a:cubicBezTo>
                <a:cubicBezTo>
                  <a:pt x="105" y="42"/>
                  <a:pt x="110" y="47"/>
                  <a:pt x="110" y="49"/>
                </a:cubicBezTo>
                <a:cubicBezTo>
                  <a:pt x="110" y="50"/>
                  <a:pt x="109" y="50"/>
                  <a:pt x="109" y="51"/>
                </a:cubicBezTo>
                <a:cubicBezTo>
                  <a:pt x="108" y="52"/>
                  <a:pt x="107" y="54"/>
                  <a:pt x="105" y="56"/>
                </a:cubicBezTo>
                <a:cubicBezTo>
                  <a:pt x="103" y="58"/>
                  <a:pt x="102" y="60"/>
                  <a:pt x="101" y="62"/>
                </a:cubicBezTo>
                <a:cubicBezTo>
                  <a:pt x="102" y="65"/>
                  <a:pt x="103" y="67"/>
                  <a:pt x="104" y="69"/>
                </a:cubicBezTo>
                <a:cubicBezTo>
                  <a:pt x="118" y="72"/>
                  <a:pt x="118" y="72"/>
                  <a:pt x="118" y="72"/>
                </a:cubicBezTo>
                <a:cubicBezTo>
                  <a:pt x="119" y="72"/>
                  <a:pt x="120" y="72"/>
                  <a:pt x="120" y="73"/>
                </a:cubicBezTo>
                <a:cubicBezTo>
                  <a:pt x="120" y="73"/>
                  <a:pt x="121" y="74"/>
                  <a:pt x="121" y="74"/>
                </a:cubicBezTo>
                <a:close/>
                <a:moveTo>
                  <a:pt x="77" y="100"/>
                </a:moveTo>
                <a:cubicBezTo>
                  <a:pt x="82" y="95"/>
                  <a:pt x="84" y="90"/>
                  <a:pt x="84" y="83"/>
                </a:cubicBezTo>
                <a:cubicBezTo>
                  <a:pt x="84" y="76"/>
                  <a:pt x="82" y="71"/>
                  <a:pt x="77" y="66"/>
                </a:cubicBezTo>
                <a:cubicBezTo>
                  <a:pt x="72" y="61"/>
                  <a:pt x="67" y="59"/>
                  <a:pt x="60" y="59"/>
                </a:cubicBezTo>
                <a:cubicBezTo>
                  <a:pt x="53" y="59"/>
                  <a:pt x="48" y="61"/>
                  <a:pt x="43" y="66"/>
                </a:cubicBezTo>
                <a:cubicBezTo>
                  <a:pt x="38" y="71"/>
                  <a:pt x="36" y="76"/>
                  <a:pt x="36" y="83"/>
                </a:cubicBezTo>
                <a:cubicBezTo>
                  <a:pt x="36" y="90"/>
                  <a:pt x="38" y="95"/>
                  <a:pt x="43" y="100"/>
                </a:cubicBezTo>
                <a:cubicBezTo>
                  <a:pt x="48" y="105"/>
                  <a:pt x="53" y="107"/>
                  <a:pt x="60" y="107"/>
                </a:cubicBezTo>
                <a:cubicBezTo>
                  <a:pt x="67" y="107"/>
                  <a:pt x="72" y="105"/>
                  <a:pt x="77" y="100"/>
                </a:cubicBezTo>
                <a:close/>
                <a:moveTo>
                  <a:pt x="181" y="28"/>
                </a:moveTo>
                <a:cubicBezTo>
                  <a:pt x="181" y="41"/>
                  <a:pt x="181" y="41"/>
                  <a:pt x="181" y="41"/>
                </a:cubicBezTo>
                <a:cubicBezTo>
                  <a:pt x="181" y="42"/>
                  <a:pt x="176" y="43"/>
                  <a:pt x="167" y="44"/>
                </a:cubicBezTo>
                <a:cubicBezTo>
                  <a:pt x="166" y="46"/>
                  <a:pt x="165" y="47"/>
                  <a:pt x="164" y="49"/>
                </a:cubicBezTo>
                <a:cubicBezTo>
                  <a:pt x="167" y="56"/>
                  <a:pt x="169" y="60"/>
                  <a:pt x="169" y="62"/>
                </a:cubicBezTo>
                <a:cubicBezTo>
                  <a:pt x="169" y="62"/>
                  <a:pt x="169" y="63"/>
                  <a:pt x="169" y="63"/>
                </a:cubicBezTo>
                <a:cubicBezTo>
                  <a:pt x="161" y="67"/>
                  <a:pt x="157" y="69"/>
                  <a:pt x="157" y="69"/>
                </a:cubicBezTo>
                <a:cubicBezTo>
                  <a:pt x="156" y="69"/>
                  <a:pt x="155" y="68"/>
                  <a:pt x="153" y="65"/>
                </a:cubicBezTo>
                <a:cubicBezTo>
                  <a:pt x="150" y="62"/>
                  <a:pt x="149" y="60"/>
                  <a:pt x="148" y="59"/>
                </a:cubicBezTo>
                <a:cubicBezTo>
                  <a:pt x="146" y="59"/>
                  <a:pt x="145" y="59"/>
                  <a:pt x="145" y="59"/>
                </a:cubicBezTo>
                <a:cubicBezTo>
                  <a:pt x="144" y="59"/>
                  <a:pt x="143" y="59"/>
                  <a:pt x="142" y="59"/>
                </a:cubicBezTo>
                <a:cubicBezTo>
                  <a:pt x="141" y="60"/>
                  <a:pt x="139" y="62"/>
                  <a:pt x="137" y="65"/>
                </a:cubicBezTo>
                <a:cubicBezTo>
                  <a:pt x="135" y="68"/>
                  <a:pt x="133" y="69"/>
                  <a:pt x="133" y="69"/>
                </a:cubicBezTo>
                <a:cubicBezTo>
                  <a:pt x="133" y="69"/>
                  <a:pt x="129" y="67"/>
                  <a:pt x="121" y="63"/>
                </a:cubicBezTo>
                <a:cubicBezTo>
                  <a:pt x="121" y="63"/>
                  <a:pt x="121" y="62"/>
                  <a:pt x="121" y="62"/>
                </a:cubicBezTo>
                <a:cubicBezTo>
                  <a:pt x="121" y="60"/>
                  <a:pt x="122" y="56"/>
                  <a:pt x="125" y="49"/>
                </a:cubicBezTo>
                <a:cubicBezTo>
                  <a:pt x="124" y="47"/>
                  <a:pt x="123" y="46"/>
                  <a:pt x="123" y="44"/>
                </a:cubicBezTo>
                <a:cubicBezTo>
                  <a:pt x="113" y="43"/>
                  <a:pt x="109" y="42"/>
                  <a:pt x="109" y="41"/>
                </a:cubicBezTo>
                <a:cubicBezTo>
                  <a:pt x="109" y="28"/>
                  <a:pt x="109" y="28"/>
                  <a:pt x="109" y="28"/>
                </a:cubicBezTo>
                <a:cubicBezTo>
                  <a:pt x="109" y="27"/>
                  <a:pt x="113" y="26"/>
                  <a:pt x="123" y="25"/>
                </a:cubicBezTo>
                <a:cubicBezTo>
                  <a:pt x="123" y="23"/>
                  <a:pt x="124" y="22"/>
                  <a:pt x="125" y="20"/>
                </a:cubicBezTo>
                <a:cubicBezTo>
                  <a:pt x="122" y="13"/>
                  <a:pt x="121" y="9"/>
                  <a:pt x="121" y="7"/>
                </a:cubicBezTo>
                <a:cubicBezTo>
                  <a:pt x="121" y="7"/>
                  <a:pt x="121" y="7"/>
                  <a:pt x="121" y="6"/>
                </a:cubicBezTo>
                <a:cubicBezTo>
                  <a:pt x="121" y="6"/>
                  <a:pt x="122" y="6"/>
                  <a:pt x="124" y="4"/>
                </a:cubicBezTo>
                <a:cubicBezTo>
                  <a:pt x="126" y="3"/>
                  <a:pt x="128" y="2"/>
                  <a:pt x="130" y="1"/>
                </a:cubicBezTo>
                <a:cubicBezTo>
                  <a:pt x="132" y="0"/>
                  <a:pt x="133" y="0"/>
                  <a:pt x="133" y="0"/>
                </a:cubicBezTo>
                <a:cubicBezTo>
                  <a:pt x="133" y="0"/>
                  <a:pt x="135" y="1"/>
                  <a:pt x="137" y="4"/>
                </a:cubicBezTo>
                <a:cubicBezTo>
                  <a:pt x="139" y="7"/>
                  <a:pt x="141" y="9"/>
                  <a:pt x="142" y="11"/>
                </a:cubicBezTo>
                <a:cubicBezTo>
                  <a:pt x="143" y="10"/>
                  <a:pt x="144" y="10"/>
                  <a:pt x="145" y="10"/>
                </a:cubicBezTo>
                <a:cubicBezTo>
                  <a:pt x="145" y="10"/>
                  <a:pt x="146" y="10"/>
                  <a:pt x="148" y="11"/>
                </a:cubicBezTo>
                <a:cubicBezTo>
                  <a:pt x="151" y="6"/>
                  <a:pt x="154" y="3"/>
                  <a:pt x="156" y="0"/>
                </a:cubicBezTo>
                <a:cubicBezTo>
                  <a:pt x="157" y="0"/>
                  <a:pt x="157" y="0"/>
                  <a:pt x="157" y="0"/>
                </a:cubicBezTo>
                <a:cubicBezTo>
                  <a:pt x="157" y="0"/>
                  <a:pt x="161" y="2"/>
                  <a:pt x="169" y="6"/>
                </a:cubicBezTo>
                <a:cubicBezTo>
                  <a:pt x="169" y="7"/>
                  <a:pt x="169" y="7"/>
                  <a:pt x="169" y="7"/>
                </a:cubicBezTo>
                <a:cubicBezTo>
                  <a:pt x="169" y="9"/>
                  <a:pt x="167" y="13"/>
                  <a:pt x="164" y="20"/>
                </a:cubicBezTo>
                <a:cubicBezTo>
                  <a:pt x="165" y="22"/>
                  <a:pt x="166" y="23"/>
                  <a:pt x="167" y="25"/>
                </a:cubicBezTo>
                <a:cubicBezTo>
                  <a:pt x="176" y="26"/>
                  <a:pt x="181" y="27"/>
                  <a:pt x="181" y="28"/>
                </a:cubicBezTo>
                <a:close/>
                <a:moveTo>
                  <a:pt x="181" y="125"/>
                </a:moveTo>
                <a:cubicBezTo>
                  <a:pt x="181" y="138"/>
                  <a:pt x="181" y="138"/>
                  <a:pt x="181" y="138"/>
                </a:cubicBezTo>
                <a:cubicBezTo>
                  <a:pt x="181" y="139"/>
                  <a:pt x="176" y="140"/>
                  <a:pt x="167" y="141"/>
                </a:cubicBezTo>
                <a:cubicBezTo>
                  <a:pt x="166" y="143"/>
                  <a:pt x="165" y="144"/>
                  <a:pt x="164" y="146"/>
                </a:cubicBezTo>
                <a:cubicBezTo>
                  <a:pt x="167" y="153"/>
                  <a:pt x="169" y="157"/>
                  <a:pt x="169" y="159"/>
                </a:cubicBezTo>
                <a:cubicBezTo>
                  <a:pt x="169" y="159"/>
                  <a:pt x="169" y="159"/>
                  <a:pt x="169" y="160"/>
                </a:cubicBezTo>
                <a:cubicBezTo>
                  <a:pt x="161" y="164"/>
                  <a:pt x="157" y="166"/>
                  <a:pt x="157" y="166"/>
                </a:cubicBezTo>
                <a:cubicBezTo>
                  <a:pt x="156" y="166"/>
                  <a:pt x="155" y="165"/>
                  <a:pt x="153" y="162"/>
                </a:cubicBezTo>
                <a:cubicBezTo>
                  <a:pt x="150" y="159"/>
                  <a:pt x="149" y="157"/>
                  <a:pt x="148" y="155"/>
                </a:cubicBezTo>
                <a:cubicBezTo>
                  <a:pt x="146" y="155"/>
                  <a:pt x="145" y="156"/>
                  <a:pt x="145" y="156"/>
                </a:cubicBezTo>
                <a:cubicBezTo>
                  <a:pt x="144" y="156"/>
                  <a:pt x="143" y="155"/>
                  <a:pt x="142" y="155"/>
                </a:cubicBezTo>
                <a:cubicBezTo>
                  <a:pt x="141" y="157"/>
                  <a:pt x="139" y="159"/>
                  <a:pt x="137" y="162"/>
                </a:cubicBezTo>
                <a:cubicBezTo>
                  <a:pt x="135" y="165"/>
                  <a:pt x="133" y="166"/>
                  <a:pt x="133" y="166"/>
                </a:cubicBezTo>
                <a:cubicBezTo>
                  <a:pt x="133" y="166"/>
                  <a:pt x="129" y="164"/>
                  <a:pt x="121" y="160"/>
                </a:cubicBezTo>
                <a:cubicBezTo>
                  <a:pt x="121" y="159"/>
                  <a:pt x="121" y="159"/>
                  <a:pt x="121" y="159"/>
                </a:cubicBezTo>
                <a:cubicBezTo>
                  <a:pt x="121" y="157"/>
                  <a:pt x="122" y="153"/>
                  <a:pt x="125" y="146"/>
                </a:cubicBezTo>
                <a:cubicBezTo>
                  <a:pt x="124" y="144"/>
                  <a:pt x="123" y="143"/>
                  <a:pt x="123" y="141"/>
                </a:cubicBezTo>
                <a:cubicBezTo>
                  <a:pt x="113" y="140"/>
                  <a:pt x="109" y="139"/>
                  <a:pt x="109" y="138"/>
                </a:cubicBezTo>
                <a:cubicBezTo>
                  <a:pt x="109" y="125"/>
                  <a:pt x="109" y="125"/>
                  <a:pt x="109" y="125"/>
                </a:cubicBezTo>
                <a:cubicBezTo>
                  <a:pt x="109" y="124"/>
                  <a:pt x="113" y="123"/>
                  <a:pt x="123" y="122"/>
                </a:cubicBezTo>
                <a:cubicBezTo>
                  <a:pt x="123" y="120"/>
                  <a:pt x="124" y="118"/>
                  <a:pt x="125" y="117"/>
                </a:cubicBezTo>
                <a:cubicBezTo>
                  <a:pt x="122" y="110"/>
                  <a:pt x="121" y="105"/>
                  <a:pt x="121" y="104"/>
                </a:cubicBezTo>
                <a:cubicBezTo>
                  <a:pt x="121" y="104"/>
                  <a:pt x="121" y="103"/>
                  <a:pt x="121" y="103"/>
                </a:cubicBezTo>
                <a:cubicBezTo>
                  <a:pt x="121" y="103"/>
                  <a:pt x="122" y="102"/>
                  <a:pt x="124" y="101"/>
                </a:cubicBezTo>
                <a:cubicBezTo>
                  <a:pt x="126" y="100"/>
                  <a:pt x="128" y="99"/>
                  <a:pt x="130" y="98"/>
                </a:cubicBezTo>
                <a:cubicBezTo>
                  <a:pt x="132" y="97"/>
                  <a:pt x="133" y="97"/>
                  <a:pt x="133" y="97"/>
                </a:cubicBezTo>
                <a:cubicBezTo>
                  <a:pt x="133" y="97"/>
                  <a:pt x="135" y="98"/>
                  <a:pt x="137" y="101"/>
                </a:cubicBezTo>
                <a:cubicBezTo>
                  <a:pt x="139" y="104"/>
                  <a:pt x="141" y="106"/>
                  <a:pt x="142" y="107"/>
                </a:cubicBezTo>
                <a:cubicBezTo>
                  <a:pt x="143" y="107"/>
                  <a:pt x="144" y="107"/>
                  <a:pt x="145" y="107"/>
                </a:cubicBezTo>
                <a:cubicBezTo>
                  <a:pt x="145" y="107"/>
                  <a:pt x="146" y="107"/>
                  <a:pt x="148" y="107"/>
                </a:cubicBezTo>
                <a:cubicBezTo>
                  <a:pt x="151" y="103"/>
                  <a:pt x="154" y="99"/>
                  <a:pt x="156" y="97"/>
                </a:cubicBezTo>
                <a:cubicBezTo>
                  <a:pt x="157" y="97"/>
                  <a:pt x="157" y="97"/>
                  <a:pt x="157" y="97"/>
                </a:cubicBezTo>
                <a:cubicBezTo>
                  <a:pt x="157" y="97"/>
                  <a:pt x="161" y="99"/>
                  <a:pt x="169" y="103"/>
                </a:cubicBezTo>
                <a:cubicBezTo>
                  <a:pt x="169" y="103"/>
                  <a:pt x="169" y="104"/>
                  <a:pt x="169" y="104"/>
                </a:cubicBezTo>
                <a:cubicBezTo>
                  <a:pt x="169" y="105"/>
                  <a:pt x="167" y="110"/>
                  <a:pt x="164" y="117"/>
                </a:cubicBezTo>
                <a:cubicBezTo>
                  <a:pt x="165" y="118"/>
                  <a:pt x="166" y="120"/>
                  <a:pt x="167" y="122"/>
                </a:cubicBezTo>
                <a:cubicBezTo>
                  <a:pt x="176" y="123"/>
                  <a:pt x="181" y="124"/>
                  <a:pt x="181" y="125"/>
                </a:cubicBezTo>
                <a:close/>
                <a:moveTo>
                  <a:pt x="157" y="35"/>
                </a:moveTo>
                <a:cubicBezTo>
                  <a:pt x="157" y="31"/>
                  <a:pt x="156" y="28"/>
                  <a:pt x="153" y="26"/>
                </a:cubicBezTo>
                <a:cubicBezTo>
                  <a:pt x="151" y="24"/>
                  <a:pt x="148" y="22"/>
                  <a:pt x="145" y="22"/>
                </a:cubicBezTo>
                <a:cubicBezTo>
                  <a:pt x="142" y="22"/>
                  <a:pt x="139" y="24"/>
                  <a:pt x="136" y="26"/>
                </a:cubicBezTo>
                <a:cubicBezTo>
                  <a:pt x="134" y="28"/>
                  <a:pt x="133" y="31"/>
                  <a:pt x="133" y="35"/>
                </a:cubicBezTo>
                <a:cubicBezTo>
                  <a:pt x="133" y="38"/>
                  <a:pt x="134" y="41"/>
                  <a:pt x="136" y="43"/>
                </a:cubicBezTo>
                <a:cubicBezTo>
                  <a:pt x="139" y="45"/>
                  <a:pt x="141" y="47"/>
                  <a:pt x="145" y="47"/>
                </a:cubicBezTo>
                <a:cubicBezTo>
                  <a:pt x="148" y="47"/>
                  <a:pt x="151" y="45"/>
                  <a:pt x="153" y="43"/>
                </a:cubicBezTo>
                <a:cubicBezTo>
                  <a:pt x="156" y="41"/>
                  <a:pt x="157" y="38"/>
                  <a:pt x="157" y="35"/>
                </a:cubicBezTo>
                <a:close/>
                <a:moveTo>
                  <a:pt x="157" y="131"/>
                </a:moveTo>
                <a:cubicBezTo>
                  <a:pt x="157" y="128"/>
                  <a:pt x="156" y="125"/>
                  <a:pt x="153" y="123"/>
                </a:cubicBezTo>
                <a:cubicBezTo>
                  <a:pt x="151" y="120"/>
                  <a:pt x="148" y="119"/>
                  <a:pt x="145" y="119"/>
                </a:cubicBezTo>
                <a:cubicBezTo>
                  <a:pt x="142" y="119"/>
                  <a:pt x="139" y="120"/>
                  <a:pt x="136" y="123"/>
                </a:cubicBezTo>
                <a:cubicBezTo>
                  <a:pt x="134" y="125"/>
                  <a:pt x="133" y="128"/>
                  <a:pt x="133" y="131"/>
                </a:cubicBezTo>
                <a:cubicBezTo>
                  <a:pt x="133" y="135"/>
                  <a:pt x="134" y="138"/>
                  <a:pt x="136" y="140"/>
                </a:cubicBezTo>
                <a:cubicBezTo>
                  <a:pt x="139" y="142"/>
                  <a:pt x="141" y="143"/>
                  <a:pt x="145" y="143"/>
                </a:cubicBezTo>
                <a:cubicBezTo>
                  <a:pt x="148" y="143"/>
                  <a:pt x="151" y="142"/>
                  <a:pt x="153" y="140"/>
                </a:cubicBezTo>
                <a:cubicBezTo>
                  <a:pt x="156" y="138"/>
                  <a:pt x="157" y="135"/>
                  <a:pt x="157" y="131"/>
                </a:cubicBezTo>
                <a:close/>
              </a:path>
            </a:pathLst>
          </a:custGeom>
          <a:solidFill>
            <a:srgbClr val="75cfd9"/>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262626"/>
              </a:solidFill>
              <a:latin typeface="Arial"/>
            </a:endParaRPr>
          </a:p>
        </p:txBody>
      </p:sp>
      <p:pic>
        <p:nvPicPr>
          <p:cNvPr id="1516" name="图片 12" descr=""/>
          <p:cNvPicPr/>
          <p:nvPr/>
        </p:nvPicPr>
        <p:blipFill>
          <a:blip r:embed="rId2"/>
          <a:stretch/>
        </p:blipFill>
        <p:spPr>
          <a:xfrm>
            <a:off x="3273480" y="430200"/>
            <a:ext cx="1749240" cy="1325520"/>
          </a:xfrm>
          <a:prstGeom prst="rect">
            <a:avLst/>
          </a:prstGeom>
          <a:ln w="0">
            <a:noFill/>
          </a:ln>
        </p:spPr>
      </p:pic>
      <p:sp>
        <p:nvSpPr>
          <p:cNvPr id="1517" name="矩形 14"/>
          <p:cNvSpPr/>
          <p:nvPr/>
        </p:nvSpPr>
        <p:spPr>
          <a:xfrm>
            <a:off x="5365800" y="2033640"/>
            <a:ext cx="6219720" cy="26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1</a:t>
            </a:r>
            <a:r>
              <a:rPr b="0" lang="zh-CN" sz="2400" spc="-1" strike="noStrike">
                <a:solidFill>
                  <a:srgbClr val="7030a0"/>
                </a:solidFill>
                <a:latin typeface="等线"/>
                <a:ea typeface="等线"/>
              </a:rPr>
              <a:t>）扣除范围</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等线"/>
                <a:ea typeface="等线"/>
              </a:rPr>
              <a:t>      </a:t>
            </a:r>
            <a:r>
              <a:rPr b="0" lang="zh-CN" sz="2000" spc="-1" strike="noStrike">
                <a:solidFill>
                  <a:srgbClr val="262626"/>
                </a:solidFill>
                <a:latin typeface="等线"/>
                <a:ea typeface="等线"/>
              </a:rPr>
              <a:t>纳税人接受学历继续教育的支出。在学历教育期间按照每年</a:t>
            </a:r>
            <a:r>
              <a:rPr b="0" lang="en-US" sz="2000" spc="-1" strike="noStrike">
                <a:solidFill>
                  <a:srgbClr val="262626"/>
                </a:solidFill>
                <a:latin typeface="等线"/>
                <a:ea typeface="等线"/>
              </a:rPr>
              <a:t>4800</a:t>
            </a:r>
            <a:r>
              <a:rPr b="0" lang="zh-CN" sz="2000" spc="-1" strike="noStrike">
                <a:solidFill>
                  <a:srgbClr val="262626"/>
                </a:solidFill>
                <a:latin typeface="等线"/>
                <a:ea typeface="等线"/>
              </a:rPr>
              <a:t>元（每月</a:t>
            </a:r>
            <a:r>
              <a:rPr b="0" lang="en-US" sz="2000" spc="-1" strike="noStrike">
                <a:solidFill>
                  <a:srgbClr val="262626"/>
                </a:solidFill>
                <a:latin typeface="等线"/>
                <a:ea typeface="等线"/>
              </a:rPr>
              <a:t>400</a:t>
            </a:r>
            <a:r>
              <a:rPr b="0" lang="zh-CN" sz="2000" spc="-1" strike="noStrike">
                <a:solidFill>
                  <a:srgbClr val="262626"/>
                </a:solidFill>
                <a:latin typeface="等线"/>
                <a:ea typeface="等线"/>
              </a:rPr>
              <a:t>元）定额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等线"/>
                <a:ea typeface="等线"/>
              </a:rPr>
              <a:t>     </a:t>
            </a:r>
            <a:r>
              <a:rPr b="0" lang="zh-CN" sz="2000" spc="-1" strike="noStrike">
                <a:solidFill>
                  <a:srgbClr val="262626"/>
                </a:solidFill>
                <a:latin typeface="等线"/>
                <a:ea typeface="等线"/>
              </a:rPr>
              <a:t>纳税人接受技能人员职业资格继续教育、专业技术人员职业资格继续教育支出，在取得相关证书的年度，按照每年</a:t>
            </a:r>
            <a:r>
              <a:rPr b="0" lang="en-US" sz="2000" spc="-1" strike="noStrike">
                <a:solidFill>
                  <a:srgbClr val="262626"/>
                </a:solidFill>
                <a:latin typeface="等线"/>
                <a:ea typeface="等线"/>
              </a:rPr>
              <a:t>3600</a:t>
            </a:r>
            <a:r>
              <a:rPr b="0" lang="zh-CN" sz="2000" spc="-1" strike="noStrike">
                <a:solidFill>
                  <a:srgbClr val="262626"/>
                </a:solidFill>
                <a:latin typeface="等线"/>
                <a:ea typeface="等线"/>
              </a:rPr>
              <a:t>元定额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等线"/>
                <a:ea typeface="等线"/>
              </a:rPr>
              <a:t>（</a:t>
            </a:r>
            <a:r>
              <a:rPr b="0" lang="en-US" sz="2400" spc="-1" strike="noStrike">
                <a:solidFill>
                  <a:srgbClr val="7030a0"/>
                </a:solidFill>
                <a:latin typeface="等线"/>
                <a:ea typeface="等线"/>
              </a:rPr>
              <a:t>2</a:t>
            </a:r>
            <a:r>
              <a:rPr b="0" lang="zh-CN" sz="2400" spc="-1" strike="noStrike">
                <a:solidFill>
                  <a:srgbClr val="7030a0"/>
                </a:solidFill>
                <a:latin typeface="等线"/>
                <a:ea typeface="等线"/>
              </a:rPr>
              <a:t>）扣除标准</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等线"/>
                <a:ea typeface="等线"/>
              </a:rPr>
              <a:t>    </a:t>
            </a:r>
            <a:r>
              <a:rPr b="0" lang="zh-CN" sz="2000" spc="-1" strike="noStrike">
                <a:solidFill>
                  <a:srgbClr val="262626"/>
                </a:solidFill>
                <a:latin typeface="等线"/>
                <a:ea typeface="等线"/>
              </a:rPr>
              <a:t>在学历教育期间按照每年</a:t>
            </a:r>
            <a:r>
              <a:rPr b="0" lang="en-US" sz="2000" spc="-1" strike="noStrike">
                <a:solidFill>
                  <a:srgbClr val="262626"/>
                </a:solidFill>
                <a:latin typeface="等线"/>
                <a:ea typeface="等线"/>
              </a:rPr>
              <a:t>4800</a:t>
            </a:r>
            <a:r>
              <a:rPr b="0" lang="zh-CN" sz="2000" spc="-1" strike="noStrike">
                <a:solidFill>
                  <a:srgbClr val="262626"/>
                </a:solidFill>
                <a:latin typeface="等线"/>
                <a:ea typeface="等线"/>
              </a:rPr>
              <a:t>元（每月</a:t>
            </a:r>
            <a:r>
              <a:rPr b="0" lang="en-US" sz="2000" spc="-1" strike="noStrike">
                <a:solidFill>
                  <a:srgbClr val="262626"/>
                </a:solidFill>
                <a:latin typeface="等线"/>
                <a:ea typeface="等线"/>
              </a:rPr>
              <a:t>400</a:t>
            </a:r>
            <a:r>
              <a:rPr b="0" lang="zh-CN" sz="2000" spc="-1" strike="noStrike">
                <a:solidFill>
                  <a:srgbClr val="262626"/>
                </a:solidFill>
                <a:latin typeface="等线"/>
                <a:ea typeface="等线"/>
              </a:rPr>
              <a:t>元）定额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等线"/>
                <a:ea typeface="等线"/>
              </a:rPr>
              <a:t>    </a:t>
            </a:r>
            <a:r>
              <a:rPr b="0" lang="zh-CN" sz="2000" spc="-1" strike="noStrike">
                <a:solidFill>
                  <a:srgbClr val="262626"/>
                </a:solidFill>
                <a:latin typeface="等线"/>
                <a:ea typeface="等线"/>
              </a:rPr>
              <a:t>纳税人接受技能人员职业资格继续教育、专业技术人员职业资格继续教育支出，在取得相关证书的年度，按照每年</a:t>
            </a:r>
            <a:r>
              <a:rPr b="0" lang="en-US" sz="2000" spc="-1" strike="noStrike">
                <a:solidFill>
                  <a:srgbClr val="262626"/>
                </a:solidFill>
                <a:latin typeface="等线"/>
                <a:ea typeface="等线"/>
              </a:rPr>
              <a:t>3600</a:t>
            </a:r>
            <a:r>
              <a:rPr b="0" lang="zh-CN" sz="2000" spc="-1" strike="noStrike">
                <a:solidFill>
                  <a:srgbClr val="262626"/>
                </a:solidFill>
                <a:latin typeface="等线"/>
                <a:ea typeface="等线"/>
              </a:rPr>
              <a:t>元定额扣除。</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spTree>
  </p:cSld>
  <p:transition spd="slow">
    <p:random/>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53" presetSubtype="16">
                                  <p:stCondLst>
                                    <p:cond delay="0"/>
                                  </p:stCondLst>
                                  <p:childTnLst>
                                    <p:set>
                                      <p:cBhvr>
                                        <p:cTn id="251" dur="1" fill="hold">
                                          <p:stCondLst>
                                            <p:cond delay="0"/>
                                          </p:stCondLst>
                                        </p:cTn>
                                        <p:tgtEl>
                                          <p:spTgt spid="1511"/>
                                        </p:tgtEl>
                                        <p:attrNameLst>
                                          <p:attrName>style.visibility</p:attrName>
                                        </p:attrNameLst>
                                      </p:cBhvr>
                                      <p:to>
                                        <p:strVal val="visible"/>
                                      </p:to>
                                    </p:set>
                                    <p:anim calcmode="lin" valueType="num">
                                      <p:cBhvr additive="repl">
                                        <p:cTn id="252" dur="500" fill="hold"/>
                                        <p:tgtEl>
                                          <p:spTgt spid="1511"/>
                                        </p:tgtEl>
                                        <p:attrNameLst>
                                          <p:attrName>ppt_w</p:attrName>
                                        </p:attrNameLst>
                                      </p:cBhvr>
                                      <p:tavLst>
                                        <p:tav tm="0">
                                          <p:val>
                                            <p:fltVal val="0"/>
                                          </p:val>
                                        </p:tav>
                                        <p:tav tm="100000">
                                          <p:val>
                                            <p:strVal val="#ppt_w"/>
                                          </p:val>
                                        </p:tav>
                                      </p:tavLst>
                                    </p:anim>
                                    <p:anim calcmode="lin" valueType="num">
                                      <p:cBhvr additive="repl">
                                        <p:cTn id="253" dur="500" fill="hold"/>
                                        <p:tgtEl>
                                          <p:spTgt spid="1511"/>
                                        </p:tgtEl>
                                        <p:attrNameLst>
                                          <p:attrName>ppt_h</p:attrName>
                                        </p:attrNameLst>
                                      </p:cBhvr>
                                      <p:tavLst>
                                        <p:tav tm="0">
                                          <p:val>
                                            <p:fltVal val="0"/>
                                          </p:val>
                                        </p:tav>
                                        <p:tav tm="100000">
                                          <p:val>
                                            <p:strVal val="#ppt_h"/>
                                          </p:val>
                                        </p:tav>
                                      </p:tavLst>
                                    </p:anim>
                                    <p:animEffect filter="fade" transition="in">
                                      <p:cBhvr additive="repl">
                                        <p:cTn id="254" dur="500"/>
                                        <p:tgtEl>
                                          <p:spTgt spid="1511"/>
                                        </p:tgtEl>
                                      </p:cBhvr>
                                    </p:animEffect>
                                  </p:childTnLst>
                                </p:cTn>
                              </p:par>
                            </p:childTnLst>
                          </p:cTn>
                        </p:par>
                        <p:par>
                          <p:cTn id="255" nodeType="afterEffect" fill="hold">
                            <p:stCondLst>
                              <p:cond delay="500"/>
                            </p:stCondLst>
                            <p:childTnLst>
                              <p:par>
                                <p:cTn id="256" nodeType="afterEffect" fill="hold" presetClass="entr" presetID="22" presetSubtype="1">
                                  <p:stCondLst>
                                    <p:cond delay="0"/>
                                  </p:stCondLst>
                                  <p:childTnLst>
                                    <p:set>
                                      <p:cBhvr>
                                        <p:cTn id="257" dur="1" fill="hold">
                                          <p:stCondLst>
                                            <p:cond delay="0"/>
                                          </p:stCondLst>
                                        </p:cTn>
                                        <p:tgtEl>
                                          <p:spTgt spid="1512"/>
                                        </p:tgtEl>
                                        <p:attrNameLst>
                                          <p:attrName>style.visibility</p:attrName>
                                        </p:attrNameLst>
                                      </p:cBhvr>
                                      <p:to>
                                        <p:strVal val="visible"/>
                                      </p:to>
                                    </p:set>
                                    <p:animEffect filter="wipe(up)" transition="in">
                                      <p:cBhvr additive="repl">
                                        <p:cTn id="258" dur="500"/>
                                        <p:tgtEl>
                                          <p:spTgt spid="1512"/>
                                        </p:tgtEl>
                                      </p:cBhvr>
                                    </p:animEffect>
                                  </p:childTnLst>
                                </p:cTn>
                              </p:par>
                            </p:childTnLst>
                          </p:cTn>
                        </p:par>
                        <p:par>
                          <p:cTn id="259" nodeType="afterEffect" fill="hold">
                            <p:stCondLst>
                              <p:cond delay="1000"/>
                            </p:stCondLst>
                            <p:childTnLst>
                              <p:par>
                                <p:cTn id="260" nodeType="afterEffect" fill="hold" presetClass="entr" presetID="22" presetSubtype="1">
                                  <p:stCondLst>
                                    <p:cond delay="0"/>
                                  </p:stCondLst>
                                  <p:childTnLst>
                                    <p:set>
                                      <p:cBhvr>
                                        <p:cTn id="261" dur="1" fill="hold">
                                          <p:stCondLst>
                                            <p:cond delay="0"/>
                                          </p:stCondLst>
                                        </p:cTn>
                                        <p:tgtEl>
                                          <p:spTgt spid="1513"/>
                                        </p:tgtEl>
                                        <p:attrNameLst>
                                          <p:attrName>style.visibility</p:attrName>
                                        </p:attrNameLst>
                                      </p:cBhvr>
                                      <p:to>
                                        <p:strVal val="visible"/>
                                      </p:to>
                                    </p:set>
                                    <p:animEffect filter="wipe(up)" transition="in">
                                      <p:cBhvr additive="repl">
                                        <p:cTn id="262" dur="500"/>
                                        <p:tgtEl>
                                          <p:spTgt spid="1513"/>
                                        </p:tgtEl>
                                      </p:cBhvr>
                                    </p:animEffect>
                                  </p:childTnLst>
                                </p:cTn>
                              </p:par>
                            </p:childTnLst>
                          </p:cTn>
                        </p:par>
                        <p:par>
                          <p:cTn id="263" nodeType="afterEffect" fill="hold">
                            <p:stCondLst>
                              <p:cond delay="1500"/>
                            </p:stCondLst>
                            <p:childTnLst>
                              <p:par>
                                <p:cTn id="264" nodeType="afterEffect" fill="hold" presetClass="entr" presetID="53" presetSubtype="16">
                                  <p:stCondLst>
                                    <p:cond delay="0"/>
                                  </p:stCondLst>
                                  <p:childTnLst>
                                    <p:set>
                                      <p:cBhvr>
                                        <p:cTn id="265" dur="1" fill="hold">
                                          <p:stCondLst>
                                            <p:cond delay="0"/>
                                          </p:stCondLst>
                                        </p:cTn>
                                        <p:tgtEl>
                                          <p:spTgt spid="1514"/>
                                        </p:tgtEl>
                                        <p:attrNameLst>
                                          <p:attrName>style.visibility</p:attrName>
                                        </p:attrNameLst>
                                      </p:cBhvr>
                                      <p:to>
                                        <p:strVal val="visible"/>
                                      </p:to>
                                    </p:set>
                                    <p:anim calcmode="lin" valueType="num">
                                      <p:cBhvr additive="repl">
                                        <p:cTn id="266" dur="500" fill="hold"/>
                                        <p:tgtEl>
                                          <p:spTgt spid="1514"/>
                                        </p:tgtEl>
                                        <p:attrNameLst>
                                          <p:attrName>ppt_w</p:attrName>
                                        </p:attrNameLst>
                                      </p:cBhvr>
                                      <p:tavLst>
                                        <p:tav tm="0">
                                          <p:val>
                                            <p:fltVal val="0"/>
                                          </p:val>
                                        </p:tav>
                                        <p:tav tm="100000">
                                          <p:val>
                                            <p:strVal val="#ppt_w"/>
                                          </p:val>
                                        </p:tav>
                                      </p:tavLst>
                                    </p:anim>
                                    <p:anim calcmode="lin" valueType="num">
                                      <p:cBhvr additive="repl">
                                        <p:cTn id="267" dur="500" fill="hold"/>
                                        <p:tgtEl>
                                          <p:spTgt spid="1514"/>
                                        </p:tgtEl>
                                        <p:attrNameLst>
                                          <p:attrName>ppt_h</p:attrName>
                                        </p:attrNameLst>
                                      </p:cBhvr>
                                      <p:tavLst>
                                        <p:tav tm="0">
                                          <p:val>
                                            <p:fltVal val="0"/>
                                          </p:val>
                                        </p:tav>
                                        <p:tav tm="100000">
                                          <p:val>
                                            <p:strVal val="#ppt_h"/>
                                          </p:val>
                                        </p:tav>
                                      </p:tavLst>
                                    </p:anim>
                                    <p:animEffect filter="fade" transition="in">
                                      <p:cBhvr additive="repl">
                                        <p:cTn id="268" dur="500"/>
                                        <p:tgtEl>
                                          <p:spTgt spid="1514"/>
                                        </p:tgtEl>
                                      </p:cBhvr>
                                    </p:animEffect>
                                  </p:childTnLst>
                                </p:cTn>
                              </p:par>
                            </p:childTnLst>
                          </p:cTn>
                        </p:par>
                        <p:par>
                          <p:cTn id="269" nodeType="afterEffect" fill="hold">
                            <p:stCondLst>
                              <p:cond delay="2000"/>
                            </p:stCondLst>
                            <p:childTnLst>
                              <p:par>
                                <p:cTn id="270" nodeType="afterEffect" fill="hold" presetClass="entr" presetID="53" presetSubtype="16">
                                  <p:stCondLst>
                                    <p:cond delay="0"/>
                                  </p:stCondLst>
                                  <p:childTnLst>
                                    <p:set>
                                      <p:cBhvr>
                                        <p:cTn id="271" dur="1" fill="hold">
                                          <p:stCondLst>
                                            <p:cond delay="0"/>
                                          </p:stCondLst>
                                        </p:cTn>
                                        <p:tgtEl>
                                          <p:spTgt spid="1515"/>
                                        </p:tgtEl>
                                        <p:attrNameLst>
                                          <p:attrName>style.visibility</p:attrName>
                                        </p:attrNameLst>
                                      </p:cBhvr>
                                      <p:to>
                                        <p:strVal val="visible"/>
                                      </p:to>
                                    </p:set>
                                    <p:anim calcmode="lin" valueType="num">
                                      <p:cBhvr additive="repl">
                                        <p:cTn id="272" dur="500" fill="hold"/>
                                        <p:tgtEl>
                                          <p:spTgt spid="1515"/>
                                        </p:tgtEl>
                                        <p:attrNameLst>
                                          <p:attrName>ppt_w</p:attrName>
                                        </p:attrNameLst>
                                      </p:cBhvr>
                                      <p:tavLst>
                                        <p:tav tm="0">
                                          <p:val>
                                            <p:fltVal val="0"/>
                                          </p:val>
                                        </p:tav>
                                        <p:tav tm="100000">
                                          <p:val>
                                            <p:strVal val="#ppt_w"/>
                                          </p:val>
                                        </p:tav>
                                      </p:tavLst>
                                    </p:anim>
                                    <p:anim calcmode="lin" valueType="num">
                                      <p:cBhvr additive="repl">
                                        <p:cTn id="273" dur="500" fill="hold"/>
                                        <p:tgtEl>
                                          <p:spTgt spid="1515"/>
                                        </p:tgtEl>
                                        <p:attrNameLst>
                                          <p:attrName>ppt_h</p:attrName>
                                        </p:attrNameLst>
                                      </p:cBhvr>
                                      <p:tavLst>
                                        <p:tav tm="0">
                                          <p:val>
                                            <p:fltVal val="0"/>
                                          </p:val>
                                        </p:tav>
                                        <p:tav tm="100000">
                                          <p:val>
                                            <p:strVal val="#ppt_h"/>
                                          </p:val>
                                        </p:tav>
                                      </p:tavLst>
                                    </p:anim>
                                    <p:animEffect filter="fade" transition="in">
                                      <p:cBhvr additive="repl">
                                        <p:cTn id="274" dur="500"/>
                                        <p:tgtEl>
                                          <p:spTgt spid="1515"/>
                                        </p:tgtEl>
                                      </p:cBhvr>
                                    </p:animEffect>
                                  </p:childTnLst>
                                </p:cTn>
                              </p:par>
                              <p:par>
                                <p:cTn id="275" nodeType="withEffect" fill="hold" presetClass="entr" presetID="2" presetSubtype="8">
                                  <p:stCondLst>
                                    <p:cond delay="0"/>
                                  </p:stCondLst>
                                  <p:childTnLst>
                                    <p:set>
                                      <p:cBhvr>
                                        <p:cTn id="276" dur="1" fill="hold">
                                          <p:stCondLst>
                                            <p:cond delay="0"/>
                                          </p:stCondLst>
                                        </p:cTn>
                                        <p:tgtEl>
                                          <p:spTgt spid="1516"/>
                                        </p:tgtEl>
                                        <p:attrNameLst>
                                          <p:attrName>style.visibility</p:attrName>
                                        </p:attrNameLst>
                                      </p:cBhvr>
                                      <p:to>
                                        <p:strVal val="visible"/>
                                      </p:to>
                                    </p:set>
                                    <p:anim calcmode="lin" valueType="num">
                                      <p:cBhvr additive="base">
                                        <p:cTn id="277" dur="500" fill="hold"/>
                                        <p:tgtEl>
                                          <p:spTgt spid="1516"/>
                                        </p:tgtEl>
                                        <p:attrNameLst>
                                          <p:attrName>ppt_x</p:attrName>
                                        </p:attrNameLst>
                                      </p:cBhvr>
                                      <p:tavLst>
                                        <p:tav tm="0">
                                          <p:val>
                                            <p:strVal val="0-#ppt_w/2"/>
                                          </p:val>
                                        </p:tav>
                                        <p:tav tm="100000">
                                          <p:val>
                                            <p:strVal val="#ppt_x"/>
                                          </p:val>
                                        </p:tav>
                                      </p:tavLst>
                                    </p:anim>
                                    <p:anim calcmode="lin" valueType="num">
                                      <p:cBhvr additive="base">
                                        <p:cTn id="278" dur="500" fill="hold"/>
                                        <p:tgtEl>
                                          <p:spTgt spid="15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05T09:02:50Z</dcterms:created>
  <dc:creator>第一PPT</dc:creator>
  <dc:description>www.1ppt.com</dc:description>
  <cp:keywords>www.1ppt.com</cp:keywords>
  <dc:language>en-US</dc:language>
  <cp:lastModifiedBy>luobo chen</cp:lastModifiedBy>
  <dcterms:modified xsi:type="dcterms:W3CDTF">2018-12-24T14:32:37Z</dcterms:modified>
  <cp:revision>130</cp:revision>
  <dc:subject/>
  <dc:title>团队建设</dc:title>
</cp:coreProperties>
</file>